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289080" y="6246720"/>
            <a:ext cx="2532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igham Young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125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127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130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134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137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147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149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156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159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171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173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180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183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197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199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202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209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225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227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234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237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255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257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260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264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267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135080" y="785880"/>
            <a:ext cx="2427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ele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286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288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291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298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35080" y="785880"/>
            <a:ext cx="2506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Ele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330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332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335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339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342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759120" y="5432400"/>
            <a:ext cx="3740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Profil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374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376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379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383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386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759120" y="5432400"/>
            <a:ext cx="3740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Profil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118360" y="49942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421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423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430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433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118360" y="49942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8109000" y="529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27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ff0101"/>
                </a:solidFill>
                <a:latin typeface="Times New Roman"/>
                <a:ea typeface="Times New Roman"/>
              </a:rPr>
              <a:t>Ore Vein Outcro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470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472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475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479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482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118360" y="49942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8109000" y="529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8099280" y="55944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522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524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527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531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534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118360" y="49942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109000" y="529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8099280" y="55944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109000" y="5918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90800" y="60548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577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579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582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586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589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90600" y="2900520"/>
            <a:ext cx="27511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Precis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e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8118360" y="49942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109000" y="529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8099280" y="55944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8109000" y="5918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790800" y="60548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633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635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638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642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645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661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664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667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657840" y="2744640"/>
            <a:ext cx="222480" cy="209520"/>
            <a:chOff x="6657840" y="2744640"/>
            <a:chExt cx="222480" cy="209520"/>
          </a:xfrm>
        </p:grpSpPr>
        <p:sp>
          <p:nvSpPr>
            <p:cNvPr id="677" name=""/>
            <p:cNvSpPr/>
            <p:nvPr/>
          </p:nvSpPr>
          <p:spPr>
            <a:xfrm>
              <a:off x="6762600" y="27446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57840" y="284796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703920" y="2789280"/>
              <a:ext cx="117360" cy="117360"/>
            </a:xfrm>
            <a:prstGeom prst="ellipse">
              <a:avLst/>
            </a:prstGeom>
            <a:solidFill>
              <a:srgbClr val="ff010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90600" y="2900520"/>
            <a:ext cx="27511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Precis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e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962680" y="4392720"/>
            <a:ext cx="222120" cy="209520"/>
            <a:chOff x="5962680" y="4392720"/>
            <a:chExt cx="222120" cy="209520"/>
          </a:xfrm>
        </p:grpSpPr>
        <p:sp>
          <p:nvSpPr>
            <p:cNvPr id="697" name=""/>
            <p:cNvSpPr/>
            <p:nvPr/>
          </p:nvSpPr>
          <p:spPr>
            <a:xfrm>
              <a:off x="6067440" y="439272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962680" y="4495680"/>
              <a:ext cx="222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08760" y="4437000"/>
              <a:ext cx="117360" cy="117360"/>
            </a:xfrm>
            <a:prstGeom prst="ellipse">
              <a:avLst/>
            </a:prstGeom>
            <a:solidFill>
              <a:srgbClr val="ff010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4781520" y="3230640"/>
            <a:ext cx="222120" cy="209520"/>
            <a:chOff x="4781520" y="3230640"/>
            <a:chExt cx="222120" cy="209520"/>
          </a:xfrm>
        </p:grpSpPr>
        <p:sp>
          <p:nvSpPr>
            <p:cNvPr id="701" name=""/>
            <p:cNvSpPr/>
            <p:nvPr/>
          </p:nvSpPr>
          <p:spPr>
            <a:xfrm>
              <a:off x="4886280" y="32306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81520" y="3333600"/>
              <a:ext cx="222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27600" y="3274920"/>
              <a:ext cx="117360" cy="117360"/>
            </a:xfrm>
            <a:prstGeom prst="ellipse">
              <a:avLst/>
            </a:prstGeom>
            <a:solidFill>
              <a:srgbClr val="ff010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029360" y="3525840"/>
            <a:ext cx="222480" cy="209520"/>
            <a:chOff x="7029360" y="3525840"/>
            <a:chExt cx="222480" cy="209520"/>
          </a:xfrm>
        </p:grpSpPr>
        <p:sp>
          <p:nvSpPr>
            <p:cNvPr id="705" name=""/>
            <p:cNvSpPr/>
            <p:nvPr/>
          </p:nvSpPr>
          <p:spPr>
            <a:xfrm>
              <a:off x="7134120" y="35258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29360" y="362916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75440" y="3570120"/>
              <a:ext cx="117360" cy="117360"/>
            </a:xfrm>
            <a:prstGeom prst="ellipse">
              <a:avLst/>
            </a:prstGeom>
            <a:solidFill>
              <a:srgbClr val="ff010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"/>
          <p:cNvSpPr txBox="1"/>
          <p:nvPr/>
        </p:nvSpPr>
        <p:spPr>
          <a:xfrm>
            <a:off x="8118360" y="49942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8109000" y="529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8099280" y="55944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8109000" y="5918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790800" y="60548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714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716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719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723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726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749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ff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ff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752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ff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ff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755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ff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ff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758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ff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ff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90600" y="2900520"/>
            <a:ext cx="27511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Precis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e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6657840" y="2744640"/>
            <a:ext cx="222480" cy="209520"/>
            <a:chOff x="6657840" y="2744640"/>
            <a:chExt cx="222480" cy="209520"/>
          </a:xfrm>
        </p:grpSpPr>
        <p:sp>
          <p:nvSpPr>
            <p:cNvPr id="777" name=""/>
            <p:cNvSpPr/>
            <p:nvPr/>
          </p:nvSpPr>
          <p:spPr>
            <a:xfrm>
              <a:off x="6762600" y="27446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57840" y="284796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03920" y="2789280"/>
              <a:ext cx="117360" cy="117360"/>
            </a:xfrm>
            <a:prstGeom prst="ellipse">
              <a:avLst/>
            </a:prstGeom>
            <a:solidFill>
              <a:srgbClr val="ff010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5962680" y="4392720"/>
            <a:ext cx="222120" cy="209520"/>
            <a:chOff x="5962680" y="4392720"/>
            <a:chExt cx="222120" cy="209520"/>
          </a:xfrm>
        </p:grpSpPr>
        <p:sp>
          <p:nvSpPr>
            <p:cNvPr id="781" name=""/>
            <p:cNvSpPr/>
            <p:nvPr/>
          </p:nvSpPr>
          <p:spPr>
            <a:xfrm>
              <a:off x="6067440" y="439272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62680" y="4495680"/>
              <a:ext cx="222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08760" y="4437000"/>
              <a:ext cx="117360" cy="117360"/>
            </a:xfrm>
            <a:prstGeom prst="ellipse">
              <a:avLst/>
            </a:prstGeom>
            <a:solidFill>
              <a:srgbClr val="ff010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781520" y="3230640"/>
            <a:ext cx="222120" cy="209520"/>
            <a:chOff x="4781520" y="3230640"/>
            <a:chExt cx="222120" cy="209520"/>
          </a:xfrm>
        </p:grpSpPr>
        <p:sp>
          <p:nvSpPr>
            <p:cNvPr id="785" name=""/>
            <p:cNvSpPr/>
            <p:nvPr/>
          </p:nvSpPr>
          <p:spPr>
            <a:xfrm>
              <a:off x="4886280" y="32306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781520" y="3333600"/>
              <a:ext cx="222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827600" y="3274920"/>
              <a:ext cx="117360" cy="117360"/>
            </a:xfrm>
            <a:prstGeom prst="ellipse">
              <a:avLst/>
            </a:prstGeom>
            <a:solidFill>
              <a:srgbClr val="ff010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7029360" y="3525840"/>
            <a:ext cx="222480" cy="209520"/>
            <a:chOff x="7029360" y="3525840"/>
            <a:chExt cx="222480" cy="209520"/>
          </a:xfrm>
        </p:grpSpPr>
        <p:sp>
          <p:nvSpPr>
            <p:cNvPr id="789" name=""/>
            <p:cNvSpPr/>
            <p:nvPr/>
          </p:nvSpPr>
          <p:spPr>
            <a:xfrm>
              <a:off x="7134120" y="35258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29360" y="362916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075440" y="3570120"/>
              <a:ext cx="117360" cy="117360"/>
            </a:xfrm>
            <a:prstGeom prst="ellipse">
              <a:avLst/>
            </a:prstGeom>
            <a:solidFill>
              <a:srgbClr val="ff010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793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794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800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802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805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812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835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ff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ff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838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ff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ff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841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ff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ff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7164360" y="521496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851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ff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ff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390600" y="2900520"/>
            <a:ext cx="27511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Precis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e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6657840" y="2744640"/>
            <a:ext cx="222480" cy="209520"/>
            <a:chOff x="6657840" y="2744640"/>
            <a:chExt cx="222480" cy="209520"/>
          </a:xfrm>
        </p:grpSpPr>
        <p:sp>
          <p:nvSpPr>
            <p:cNvPr id="871" name=""/>
            <p:cNvSpPr/>
            <p:nvPr/>
          </p:nvSpPr>
          <p:spPr>
            <a:xfrm>
              <a:off x="6762600" y="27446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657840" y="284796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3920" y="2789280"/>
              <a:ext cx="117360" cy="117360"/>
            </a:xfrm>
            <a:prstGeom prst="ellipse">
              <a:avLst/>
            </a:prstGeom>
            <a:solidFill>
              <a:srgbClr val="ff010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5962680" y="4392720"/>
            <a:ext cx="222120" cy="209520"/>
            <a:chOff x="5962680" y="4392720"/>
            <a:chExt cx="222120" cy="209520"/>
          </a:xfrm>
        </p:grpSpPr>
        <p:sp>
          <p:nvSpPr>
            <p:cNvPr id="875" name=""/>
            <p:cNvSpPr/>
            <p:nvPr/>
          </p:nvSpPr>
          <p:spPr>
            <a:xfrm>
              <a:off x="6067440" y="439272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962680" y="4495680"/>
              <a:ext cx="222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08760" y="4437000"/>
              <a:ext cx="117360" cy="117360"/>
            </a:xfrm>
            <a:prstGeom prst="ellipse">
              <a:avLst/>
            </a:prstGeom>
            <a:solidFill>
              <a:srgbClr val="ff010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4781520" y="3230640"/>
            <a:ext cx="222120" cy="209520"/>
            <a:chOff x="4781520" y="3230640"/>
            <a:chExt cx="222120" cy="209520"/>
          </a:xfrm>
        </p:grpSpPr>
        <p:sp>
          <p:nvSpPr>
            <p:cNvPr id="879" name=""/>
            <p:cNvSpPr/>
            <p:nvPr/>
          </p:nvSpPr>
          <p:spPr>
            <a:xfrm>
              <a:off x="4886280" y="32306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81520" y="3333600"/>
              <a:ext cx="222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827600" y="3274920"/>
              <a:ext cx="117360" cy="117360"/>
            </a:xfrm>
            <a:prstGeom prst="ellipse">
              <a:avLst/>
            </a:prstGeom>
            <a:solidFill>
              <a:srgbClr val="ff010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7029360" y="3525840"/>
            <a:ext cx="222480" cy="209520"/>
            <a:chOff x="7029360" y="3525840"/>
            <a:chExt cx="222480" cy="209520"/>
          </a:xfrm>
        </p:grpSpPr>
        <p:sp>
          <p:nvSpPr>
            <p:cNvPr id="883" name=""/>
            <p:cNvSpPr/>
            <p:nvPr/>
          </p:nvSpPr>
          <p:spPr>
            <a:xfrm>
              <a:off x="7134120" y="35258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29360" y="362916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75440" y="3570120"/>
              <a:ext cx="117360" cy="117360"/>
            </a:xfrm>
            <a:prstGeom prst="ellipse">
              <a:avLst/>
            </a:prstGeom>
            <a:solidFill>
              <a:srgbClr val="ff010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887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888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2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894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896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899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903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906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9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922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925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928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938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941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944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950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6757920" y="302904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7164360" y="521496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961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980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981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987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989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992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996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999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2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1015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1018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1021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1031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1034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1037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1043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6757920" y="3029040"/>
            <a:ext cx="0" cy="224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7164360" y="521496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1054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6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390600" y="3713040"/>
            <a:ext cx="28400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U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e of 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1074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1075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1081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1083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1086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1090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1093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1109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1112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1115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1125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1128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1131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1137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6757920" y="3029040"/>
            <a:ext cx="0" cy="224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7164360" y="521496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1150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390600" y="3713040"/>
            <a:ext cx="28400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U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e of 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1170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1171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1177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8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1179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1182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1186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1189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1205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1208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1211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1221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1224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1227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1233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5" name=""/>
          <p:cNvSpPr/>
          <p:nvPr/>
        </p:nvSpPr>
        <p:spPr>
          <a:xfrm>
            <a:off x="6757920" y="3029040"/>
            <a:ext cx="0" cy="223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7164360" y="521496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1248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0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90600" y="3713040"/>
            <a:ext cx="28400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U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e of 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1268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1269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087560" y="119844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190520" y="860400"/>
            <a:ext cx="6813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e Vein Outcropp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69960" y="2063880"/>
            <a:ext cx="758196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on the upper plane of a str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ore and point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n the lower plane.  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ea where the vein outcrops on the surfa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ing that the vein is continu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1275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6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1277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1280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1284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1287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0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1303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1306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1309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1319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1322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1325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1331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6757920" y="3029040"/>
            <a:ext cx="0" cy="2233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7164360" y="521496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1348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0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390600" y="3713040"/>
            <a:ext cx="28400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U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e of 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1368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1369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3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4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1375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1377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1380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1384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1387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0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1403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1406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1409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1419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1422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1425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7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1431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"/>
          <p:cNvSpPr/>
          <p:nvPr/>
        </p:nvSpPr>
        <p:spPr>
          <a:xfrm>
            <a:off x="6757920" y="3029040"/>
            <a:ext cx="0" cy="224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7164360" y="521496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1448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20760" y="4154400"/>
            <a:ext cx="29782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 [Leve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in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1468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1469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3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4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1475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1477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1480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1484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1487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0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1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1503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1506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1509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1519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1522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1525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7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1531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6757920" y="3029040"/>
            <a:ext cx="0" cy="224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7164360" y="521496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1549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20760" y="4154400"/>
            <a:ext cx="29782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 [Leve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in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1569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1570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4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5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1576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7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1578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1581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4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1585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1588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1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3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1604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6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1607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1610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2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1620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1623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1626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8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1632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6757920" y="3029040"/>
            <a:ext cx="0" cy="22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7164360" y="521496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1650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414360" y="3665520"/>
            <a:ext cx="30686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Leve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Horizont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1670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1671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1677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8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1679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1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1682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1686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1689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2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3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1705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1708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1711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3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1721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1724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1727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9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1733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57920" y="3029040"/>
            <a:ext cx="0" cy="22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 txBox="1"/>
          <p:nvPr/>
        </p:nvSpPr>
        <p:spPr>
          <a:xfrm>
            <a:off x="7164360" y="521496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1752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4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414360" y="3665520"/>
            <a:ext cx="30686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Leve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Horizont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1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1772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1773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7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8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1779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0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1781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1784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7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1788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0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1791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4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6835680" y="606600"/>
            <a:ext cx="902160" cy="2665800"/>
          </a:xfrm>
          <a:custGeom>
            <a:avLst/>
            <a:gdLst/>
            <a:ahLst/>
            <a:rect l="0" t="0" r="r" b="b"/>
            <a:pathLst>
              <a:path fill="none" w="2506" h="7405">
                <a:moveTo>
                  <a:pt x="0" y="0"/>
                </a:moveTo>
                <a:lnTo>
                  <a:pt x="271" y="749"/>
                </a:lnTo>
                <a:lnTo>
                  <a:pt x="379" y="1226"/>
                </a:lnTo>
                <a:lnTo>
                  <a:pt x="354" y="1594"/>
                </a:lnTo>
                <a:lnTo>
                  <a:pt x="340" y="2015"/>
                </a:lnTo>
                <a:lnTo>
                  <a:pt x="458" y="2206"/>
                </a:lnTo>
                <a:lnTo>
                  <a:pt x="404" y="2418"/>
                </a:lnTo>
                <a:lnTo>
                  <a:pt x="266" y="2648"/>
                </a:lnTo>
                <a:lnTo>
                  <a:pt x="266" y="2838"/>
                </a:lnTo>
                <a:lnTo>
                  <a:pt x="266" y="3029"/>
                </a:lnTo>
                <a:lnTo>
                  <a:pt x="340" y="3219"/>
                </a:lnTo>
                <a:lnTo>
                  <a:pt x="557" y="3345"/>
                </a:lnTo>
                <a:lnTo>
                  <a:pt x="632" y="3536"/>
                </a:lnTo>
                <a:lnTo>
                  <a:pt x="632" y="3791"/>
                </a:lnTo>
                <a:lnTo>
                  <a:pt x="632" y="4043"/>
                </a:lnTo>
                <a:lnTo>
                  <a:pt x="632" y="4233"/>
                </a:lnTo>
                <a:lnTo>
                  <a:pt x="849" y="4424"/>
                </a:lnTo>
                <a:lnTo>
                  <a:pt x="1135" y="4614"/>
                </a:lnTo>
                <a:lnTo>
                  <a:pt x="1135" y="4805"/>
                </a:lnTo>
                <a:lnTo>
                  <a:pt x="1135" y="4996"/>
                </a:lnTo>
                <a:lnTo>
                  <a:pt x="1351" y="5312"/>
                </a:lnTo>
                <a:lnTo>
                  <a:pt x="1854" y="5503"/>
                </a:lnTo>
                <a:lnTo>
                  <a:pt x="2003" y="5755"/>
                </a:lnTo>
                <a:lnTo>
                  <a:pt x="2003" y="5945"/>
                </a:lnTo>
                <a:lnTo>
                  <a:pt x="2003" y="6136"/>
                </a:lnTo>
                <a:lnTo>
                  <a:pt x="2146" y="6392"/>
                </a:lnTo>
                <a:lnTo>
                  <a:pt x="2289" y="6643"/>
                </a:lnTo>
                <a:lnTo>
                  <a:pt x="2289" y="6834"/>
                </a:lnTo>
                <a:lnTo>
                  <a:pt x="2363" y="7024"/>
                </a:lnTo>
                <a:lnTo>
                  <a:pt x="2506" y="7215"/>
                </a:lnTo>
                <a:lnTo>
                  <a:pt x="2506" y="740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486480" y="380880"/>
            <a:ext cx="1251360" cy="3345120"/>
          </a:xfrm>
          <a:custGeom>
            <a:avLst/>
            <a:gdLst/>
            <a:ahLst/>
            <a:rect l="0" t="0" r="r" b="b"/>
            <a:pathLst>
              <a:path fill="none" w="3476" h="9292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1"/>
                </a:lnTo>
                <a:lnTo>
                  <a:pt x="374" y="2630"/>
                </a:lnTo>
                <a:lnTo>
                  <a:pt x="448" y="2829"/>
                </a:lnTo>
                <a:lnTo>
                  <a:pt x="502" y="3016"/>
                </a:lnTo>
                <a:lnTo>
                  <a:pt x="399" y="3202"/>
                </a:lnTo>
                <a:lnTo>
                  <a:pt x="300" y="3393"/>
                </a:lnTo>
                <a:lnTo>
                  <a:pt x="300" y="3583"/>
                </a:lnTo>
                <a:lnTo>
                  <a:pt x="300" y="3835"/>
                </a:lnTo>
                <a:lnTo>
                  <a:pt x="374" y="4025"/>
                </a:lnTo>
                <a:lnTo>
                  <a:pt x="517" y="4216"/>
                </a:lnTo>
                <a:lnTo>
                  <a:pt x="660" y="4407"/>
                </a:lnTo>
                <a:lnTo>
                  <a:pt x="660" y="4597"/>
                </a:lnTo>
                <a:lnTo>
                  <a:pt x="734" y="4789"/>
                </a:lnTo>
                <a:lnTo>
                  <a:pt x="878" y="5041"/>
                </a:lnTo>
                <a:lnTo>
                  <a:pt x="1026" y="5231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3"/>
                </a:lnTo>
                <a:lnTo>
                  <a:pt x="1528" y="5994"/>
                </a:lnTo>
                <a:lnTo>
                  <a:pt x="1671" y="6185"/>
                </a:lnTo>
                <a:lnTo>
                  <a:pt x="1888" y="6310"/>
                </a:lnTo>
                <a:lnTo>
                  <a:pt x="2031" y="6501"/>
                </a:lnTo>
                <a:lnTo>
                  <a:pt x="2248" y="6692"/>
                </a:lnTo>
                <a:lnTo>
                  <a:pt x="2396" y="6882"/>
                </a:lnTo>
                <a:lnTo>
                  <a:pt x="2539" y="7450"/>
                </a:lnTo>
                <a:lnTo>
                  <a:pt x="2683" y="7706"/>
                </a:lnTo>
                <a:lnTo>
                  <a:pt x="2757" y="7896"/>
                </a:lnTo>
                <a:lnTo>
                  <a:pt x="2974" y="8087"/>
                </a:lnTo>
                <a:lnTo>
                  <a:pt x="3117" y="8338"/>
                </a:lnTo>
                <a:lnTo>
                  <a:pt x="3190" y="8529"/>
                </a:lnTo>
                <a:lnTo>
                  <a:pt x="3190" y="8720"/>
                </a:lnTo>
                <a:lnTo>
                  <a:pt x="3259" y="8971"/>
                </a:lnTo>
                <a:lnTo>
                  <a:pt x="3259" y="9162"/>
                </a:lnTo>
                <a:lnTo>
                  <a:pt x="3476" y="9292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5505480" y="228600"/>
            <a:ext cx="2440440" cy="4524840"/>
          </a:xfrm>
          <a:custGeom>
            <a:avLst/>
            <a:gdLst/>
            <a:ahLst/>
            <a:rect l="0" t="0" r="r" b="b"/>
            <a:pathLst>
              <a:path fill="none" w="6779" h="12569">
                <a:moveTo>
                  <a:pt x="752" y="0"/>
                </a:moveTo>
                <a:lnTo>
                  <a:pt x="556" y="214"/>
                </a:lnTo>
                <a:lnTo>
                  <a:pt x="392" y="415"/>
                </a:lnTo>
                <a:lnTo>
                  <a:pt x="392" y="616"/>
                </a:lnTo>
                <a:lnTo>
                  <a:pt x="392" y="816"/>
                </a:lnTo>
                <a:lnTo>
                  <a:pt x="316" y="1218"/>
                </a:lnTo>
                <a:lnTo>
                  <a:pt x="261" y="1350"/>
                </a:lnTo>
                <a:lnTo>
                  <a:pt x="158" y="1483"/>
                </a:lnTo>
                <a:lnTo>
                  <a:pt x="158" y="1683"/>
                </a:lnTo>
                <a:lnTo>
                  <a:pt x="158" y="1884"/>
                </a:lnTo>
                <a:lnTo>
                  <a:pt x="0" y="2117"/>
                </a:lnTo>
                <a:lnTo>
                  <a:pt x="27" y="2354"/>
                </a:lnTo>
                <a:lnTo>
                  <a:pt x="81" y="2564"/>
                </a:lnTo>
                <a:lnTo>
                  <a:pt x="158" y="2751"/>
                </a:lnTo>
                <a:lnTo>
                  <a:pt x="267" y="3016"/>
                </a:lnTo>
                <a:lnTo>
                  <a:pt x="239" y="3254"/>
                </a:lnTo>
                <a:lnTo>
                  <a:pt x="158" y="3355"/>
                </a:lnTo>
                <a:lnTo>
                  <a:pt x="158" y="3555"/>
                </a:lnTo>
                <a:lnTo>
                  <a:pt x="158" y="3820"/>
                </a:lnTo>
                <a:lnTo>
                  <a:pt x="158" y="4021"/>
                </a:lnTo>
                <a:lnTo>
                  <a:pt x="234" y="4222"/>
                </a:lnTo>
                <a:lnTo>
                  <a:pt x="392" y="4422"/>
                </a:lnTo>
                <a:lnTo>
                  <a:pt x="556" y="4623"/>
                </a:lnTo>
                <a:lnTo>
                  <a:pt x="632" y="4824"/>
                </a:lnTo>
                <a:lnTo>
                  <a:pt x="632" y="5089"/>
                </a:lnTo>
                <a:lnTo>
                  <a:pt x="632" y="5290"/>
                </a:lnTo>
                <a:lnTo>
                  <a:pt x="714" y="5490"/>
                </a:lnTo>
                <a:lnTo>
                  <a:pt x="796" y="5691"/>
                </a:lnTo>
                <a:lnTo>
                  <a:pt x="1036" y="5892"/>
                </a:lnTo>
                <a:lnTo>
                  <a:pt x="1112" y="6093"/>
                </a:lnTo>
                <a:lnTo>
                  <a:pt x="1270" y="6293"/>
                </a:lnTo>
                <a:lnTo>
                  <a:pt x="1510" y="6558"/>
                </a:lnTo>
                <a:lnTo>
                  <a:pt x="1673" y="6759"/>
                </a:lnTo>
                <a:lnTo>
                  <a:pt x="1991" y="6891"/>
                </a:lnTo>
                <a:lnTo>
                  <a:pt x="2149" y="7092"/>
                </a:lnTo>
                <a:lnTo>
                  <a:pt x="2312" y="7361"/>
                </a:lnTo>
                <a:lnTo>
                  <a:pt x="2471" y="7626"/>
                </a:lnTo>
                <a:lnTo>
                  <a:pt x="2552" y="7895"/>
                </a:lnTo>
                <a:lnTo>
                  <a:pt x="2711" y="8096"/>
                </a:lnTo>
                <a:lnTo>
                  <a:pt x="2787" y="8297"/>
                </a:lnTo>
                <a:lnTo>
                  <a:pt x="2950" y="8562"/>
                </a:lnTo>
                <a:lnTo>
                  <a:pt x="3109" y="8762"/>
                </a:lnTo>
                <a:lnTo>
                  <a:pt x="3348" y="8963"/>
                </a:lnTo>
                <a:lnTo>
                  <a:pt x="3588" y="9164"/>
                </a:lnTo>
                <a:lnTo>
                  <a:pt x="3747" y="9365"/>
                </a:lnTo>
                <a:lnTo>
                  <a:pt x="3828" y="9566"/>
                </a:lnTo>
                <a:lnTo>
                  <a:pt x="4068" y="9699"/>
                </a:lnTo>
                <a:lnTo>
                  <a:pt x="4308" y="9831"/>
                </a:lnTo>
                <a:lnTo>
                  <a:pt x="4624" y="9831"/>
                </a:lnTo>
                <a:lnTo>
                  <a:pt x="4864" y="10032"/>
                </a:lnTo>
                <a:lnTo>
                  <a:pt x="5105" y="10164"/>
                </a:lnTo>
                <a:lnTo>
                  <a:pt x="5263" y="10365"/>
                </a:lnTo>
                <a:lnTo>
                  <a:pt x="5503" y="10434"/>
                </a:lnTo>
                <a:lnTo>
                  <a:pt x="5661" y="10634"/>
                </a:lnTo>
                <a:lnTo>
                  <a:pt x="5825" y="10835"/>
                </a:lnTo>
                <a:lnTo>
                  <a:pt x="6299" y="11501"/>
                </a:lnTo>
                <a:lnTo>
                  <a:pt x="6779" y="12168"/>
                </a:lnTo>
                <a:lnTo>
                  <a:pt x="6779" y="1256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689280" y="533520"/>
            <a:ext cx="806760" cy="2713320"/>
          </a:xfrm>
          <a:custGeom>
            <a:avLst/>
            <a:gdLst/>
            <a:ahLst/>
            <a:rect l="0" t="0" r="r" b="b"/>
            <a:pathLst>
              <a:path fill="none" w="2241" h="7537">
                <a:moveTo>
                  <a:pt x="2241" y="0"/>
                </a:moveTo>
                <a:lnTo>
                  <a:pt x="1936" y="1468"/>
                </a:lnTo>
                <a:lnTo>
                  <a:pt x="1936" y="1662"/>
                </a:lnTo>
                <a:lnTo>
                  <a:pt x="1936" y="1856"/>
                </a:lnTo>
                <a:lnTo>
                  <a:pt x="1936" y="2050"/>
                </a:lnTo>
                <a:lnTo>
                  <a:pt x="1936" y="2244"/>
                </a:lnTo>
                <a:lnTo>
                  <a:pt x="2003" y="2438"/>
                </a:lnTo>
                <a:lnTo>
                  <a:pt x="2003" y="2694"/>
                </a:lnTo>
                <a:lnTo>
                  <a:pt x="2003" y="2888"/>
                </a:lnTo>
                <a:lnTo>
                  <a:pt x="2003" y="3082"/>
                </a:lnTo>
                <a:lnTo>
                  <a:pt x="1936" y="3276"/>
                </a:lnTo>
                <a:lnTo>
                  <a:pt x="1742" y="3404"/>
                </a:lnTo>
                <a:lnTo>
                  <a:pt x="1676" y="3598"/>
                </a:lnTo>
                <a:lnTo>
                  <a:pt x="1676" y="3859"/>
                </a:lnTo>
                <a:lnTo>
                  <a:pt x="1676" y="4115"/>
                </a:lnTo>
                <a:lnTo>
                  <a:pt x="1676" y="4309"/>
                </a:lnTo>
                <a:lnTo>
                  <a:pt x="1482" y="4503"/>
                </a:lnTo>
                <a:lnTo>
                  <a:pt x="1226" y="4697"/>
                </a:lnTo>
                <a:lnTo>
                  <a:pt x="1226" y="4891"/>
                </a:lnTo>
                <a:lnTo>
                  <a:pt x="1226" y="5085"/>
                </a:lnTo>
                <a:lnTo>
                  <a:pt x="1031" y="5407"/>
                </a:lnTo>
                <a:lnTo>
                  <a:pt x="582" y="5601"/>
                </a:lnTo>
                <a:lnTo>
                  <a:pt x="449" y="5857"/>
                </a:lnTo>
                <a:lnTo>
                  <a:pt x="449" y="6051"/>
                </a:lnTo>
                <a:lnTo>
                  <a:pt x="449" y="6245"/>
                </a:lnTo>
                <a:lnTo>
                  <a:pt x="321" y="6505"/>
                </a:lnTo>
                <a:lnTo>
                  <a:pt x="194" y="6761"/>
                </a:lnTo>
                <a:lnTo>
                  <a:pt x="194" y="6955"/>
                </a:lnTo>
                <a:lnTo>
                  <a:pt x="127" y="7149"/>
                </a:lnTo>
                <a:lnTo>
                  <a:pt x="0" y="7343"/>
                </a:lnTo>
                <a:lnTo>
                  <a:pt x="0" y="753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3689280" y="304920"/>
            <a:ext cx="1121040" cy="3403800"/>
          </a:xfrm>
          <a:custGeom>
            <a:avLst/>
            <a:gdLst/>
            <a:ahLst/>
            <a:rect l="0" t="0" r="r" b="b"/>
            <a:pathLst>
              <a:path fill="none" w="3114" h="9455">
                <a:moveTo>
                  <a:pt x="2876" y="0"/>
                </a:moveTo>
                <a:lnTo>
                  <a:pt x="2902" y="224"/>
                </a:lnTo>
                <a:lnTo>
                  <a:pt x="2902" y="418"/>
                </a:lnTo>
                <a:lnTo>
                  <a:pt x="3087" y="608"/>
                </a:lnTo>
                <a:lnTo>
                  <a:pt x="3114" y="793"/>
                </a:lnTo>
                <a:lnTo>
                  <a:pt x="2981" y="1031"/>
                </a:lnTo>
                <a:lnTo>
                  <a:pt x="2840" y="1256"/>
                </a:lnTo>
                <a:lnTo>
                  <a:pt x="2840" y="1450"/>
                </a:lnTo>
                <a:lnTo>
                  <a:pt x="2840" y="1644"/>
                </a:lnTo>
                <a:lnTo>
                  <a:pt x="2611" y="1905"/>
                </a:lnTo>
                <a:lnTo>
                  <a:pt x="2611" y="2090"/>
                </a:lnTo>
                <a:lnTo>
                  <a:pt x="2690" y="2275"/>
                </a:lnTo>
                <a:lnTo>
                  <a:pt x="2774" y="2482"/>
                </a:lnTo>
                <a:lnTo>
                  <a:pt x="2774" y="2676"/>
                </a:lnTo>
                <a:lnTo>
                  <a:pt x="2840" y="2870"/>
                </a:lnTo>
                <a:lnTo>
                  <a:pt x="2840" y="3064"/>
                </a:lnTo>
                <a:lnTo>
                  <a:pt x="2664" y="3254"/>
                </a:lnTo>
                <a:lnTo>
                  <a:pt x="2638" y="3466"/>
                </a:lnTo>
                <a:lnTo>
                  <a:pt x="2770" y="3677"/>
                </a:lnTo>
                <a:lnTo>
                  <a:pt x="2840" y="3902"/>
                </a:lnTo>
                <a:lnTo>
                  <a:pt x="2774" y="4096"/>
                </a:lnTo>
                <a:lnTo>
                  <a:pt x="2646" y="4290"/>
                </a:lnTo>
                <a:lnTo>
                  <a:pt x="2518" y="4484"/>
                </a:lnTo>
                <a:lnTo>
                  <a:pt x="2518" y="4678"/>
                </a:lnTo>
                <a:lnTo>
                  <a:pt x="2452" y="4873"/>
                </a:lnTo>
                <a:lnTo>
                  <a:pt x="2324" y="5129"/>
                </a:lnTo>
                <a:lnTo>
                  <a:pt x="2192" y="5323"/>
                </a:lnTo>
                <a:lnTo>
                  <a:pt x="2130" y="5517"/>
                </a:lnTo>
                <a:lnTo>
                  <a:pt x="2003" y="5711"/>
                </a:lnTo>
                <a:lnTo>
                  <a:pt x="1808" y="5905"/>
                </a:lnTo>
                <a:lnTo>
                  <a:pt x="1742" y="6099"/>
                </a:lnTo>
                <a:lnTo>
                  <a:pt x="1614" y="6293"/>
                </a:lnTo>
                <a:lnTo>
                  <a:pt x="1419" y="6421"/>
                </a:lnTo>
                <a:lnTo>
                  <a:pt x="1292" y="6615"/>
                </a:lnTo>
                <a:lnTo>
                  <a:pt x="1098" y="6809"/>
                </a:lnTo>
                <a:lnTo>
                  <a:pt x="965" y="7003"/>
                </a:lnTo>
                <a:lnTo>
                  <a:pt x="837" y="7581"/>
                </a:lnTo>
                <a:lnTo>
                  <a:pt x="709" y="7841"/>
                </a:lnTo>
                <a:lnTo>
                  <a:pt x="643" y="8035"/>
                </a:lnTo>
                <a:lnTo>
                  <a:pt x="449" y="8229"/>
                </a:lnTo>
                <a:lnTo>
                  <a:pt x="321" y="8485"/>
                </a:lnTo>
                <a:lnTo>
                  <a:pt x="255" y="8679"/>
                </a:lnTo>
                <a:lnTo>
                  <a:pt x="255" y="8873"/>
                </a:lnTo>
                <a:lnTo>
                  <a:pt x="194" y="9129"/>
                </a:lnTo>
                <a:lnTo>
                  <a:pt x="194" y="9323"/>
                </a:lnTo>
                <a:lnTo>
                  <a:pt x="0" y="945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6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1807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1810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1813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1823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5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1826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1829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1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4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1835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5329080" y="3625920"/>
            <a:ext cx="1795680" cy="13176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 txBox="1"/>
          <p:nvPr/>
        </p:nvSpPr>
        <p:spPr>
          <a:xfrm>
            <a:off x="7164360" y="521496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4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1855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 txBox="1"/>
          <p:nvPr/>
        </p:nvSpPr>
        <p:spPr>
          <a:xfrm>
            <a:off x="414360" y="3665520"/>
            <a:ext cx="30686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Leve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Horizont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4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1875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1876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0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1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1882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3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1884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1887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1891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3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1894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7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8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1912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4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1915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7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1918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0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7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1928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0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1931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1934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9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1940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1943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390600" y="4386240"/>
            <a:ext cx="28702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the St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Level]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>
            <a:off x="5329080" y="3625920"/>
            <a:ext cx="1795680" cy="13176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1978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1979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3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4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1985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1987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9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1990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3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1994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1997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0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1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4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2015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2018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2021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3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2031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2034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6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2037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9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2043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2046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8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390600" y="4386240"/>
            <a:ext cx="28702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the St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Level]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2081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2082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6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7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2088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9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2090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2093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6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2097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9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2100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3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4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2118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2121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2124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3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2134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6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2137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9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2140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5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2146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2149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1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 txBox="1"/>
          <p:nvPr/>
        </p:nvSpPr>
        <p:spPr>
          <a:xfrm>
            <a:off x="995400" y="947880"/>
            <a:ext cx="27907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all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Parallel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ik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3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2184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2185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9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0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2191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2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2193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5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2196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9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2200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2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2203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6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2221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2224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2227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9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6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2237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2240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2243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5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8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2249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2252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4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995400" y="947880"/>
            <a:ext cx="27907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all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Parallel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ik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9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2290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2291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5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7560" y="119844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90520" y="860400"/>
            <a:ext cx="6813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e Vein Outcropp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69960" y="2063880"/>
            <a:ext cx="7819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on the upper plane of a str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ore and point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n the lower plane.  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ea where the vein outcrops on the surfa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ing that the vein is continu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inding the strike, dip, and slope angle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ential steps in coming to a successful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is prob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6520" y="3986280"/>
            <a:ext cx="8037360" cy="1812960"/>
          </a:xfrm>
          <a:prstGeom prst="roundRect">
            <a:avLst/>
          </a:prstGeom>
          <a:noFill/>
          <a:ln w="76320">
            <a:solidFill>
              <a:srgbClr val="ff0101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6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2297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8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2299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1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2302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5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2306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8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2309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2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3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6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2327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2330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2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2333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5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2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2343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2346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8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2349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1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4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2355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2358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0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 txBox="1"/>
          <p:nvPr/>
        </p:nvSpPr>
        <p:spPr>
          <a:xfrm>
            <a:off x="320760" y="88920"/>
            <a:ext cx="3967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Perpend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5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2396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2397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1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2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2403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4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2405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7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2408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1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2412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4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2415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8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2433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2436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2439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1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8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2449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2452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2455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7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0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2461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2464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6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2206800" y="2957400"/>
            <a:ext cx="209520" cy="209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"/>
          <p:cNvSpPr txBox="1"/>
          <p:nvPr/>
        </p:nvSpPr>
        <p:spPr>
          <a:xfrm>
            <a:off x="320760" y="88920"/>
            <a:ext cx="3967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Perpend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3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2504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2505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9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0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2511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2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2513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5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2516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9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2520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2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2523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6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7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0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2541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3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2544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6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2547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9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6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2557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9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2560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2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2563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5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2569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2572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4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 txBox="1"/>
          <p:nvPr/>
        </p:nvSpPr>
        <p:spPr>
          <a:xfrm>
            <a:off x="600120" y="65160"/>
            <a:ext cx="3403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Vertical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2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2613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2614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8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9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2620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1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2622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4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2625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8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2629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1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2632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5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6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9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2650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2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2653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5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2656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8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5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2666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8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2669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1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2672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4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7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2678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0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2681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3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 txBox="1"/>
          <p:nvPr/>
        </p:nvSpPr>
        <p:spPr>
          <a:xfrm>
            <a:off x="600120" y="65160"/>
            <a:ext cx="3403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Vertical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4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2725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2726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0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1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2732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3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2734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6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2737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0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2741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3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2744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7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1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2762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4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2765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2768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0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7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2778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2781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2784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6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9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2790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2793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5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 txBox="1"/>
          <p:nvPr/>
        </p:nvSpPr>
        <p:spPr>
          <a:xfrm>
            <a:off x="600120" y="65160"/>
            <a:ext cx="3403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Vertical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9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2840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2841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5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6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2847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8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2849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1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2852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5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2856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8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2859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2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3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6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2877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2880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2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2883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5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2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2893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5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2896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8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2899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1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4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2905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7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2908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0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 txBox="1"/>
          <p:nvPr/>
        </p:nvSpPr>
        <p:spPr>
          <a:xfrm>
            <a:off x="600120" y="65160"/>
            <a:ext cx="3403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Vertical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7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2958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2959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3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4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2965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6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2967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9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2970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3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2974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6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2977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0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1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4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2995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7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2998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0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3001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3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0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3011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3014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6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3017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9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2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3023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5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3026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8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 txBox="1"/>
          <p:nvPr/>
        </p:nvSpPr>
        <p:spPr>
          <a:xfrm>
            <a:off x="576360" y="135000"/>
            <a:ext cx="268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 Dep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5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3076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3077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1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2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3083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4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3085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7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3088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1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3092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4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3095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8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9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2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3113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5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3116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8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3119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1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8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3129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1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3132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4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3135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7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0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3141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3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3144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6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7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3168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0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3171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3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3174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6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3177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9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 txBox="1"/>
          <p:nvPr/>
        </p:nvSpPr>
        <p:spPr>
          <a:xfrm>
            <a:off x="576360" y="135000"/>
            <a:ext cx="268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 Dep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5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3206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3207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1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2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3213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4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3215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7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3218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1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3222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4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3225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8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9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2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3243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5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3246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8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3249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1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8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3259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3262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4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3265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7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0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3271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3274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1886040" y="2849400"/>
            <a:ext cx="4743360" cy="35244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3298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0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3301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3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3304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6" name=""/>
          <p:cNvGrpSpPr/>
          <p:nvPr/>
        </p:nvGrpSpPr>
        <p:grpSpPr>
          <a:xfrm>
            <a:off x="2049480" y="3471840"/>
            <a:ext cx="133200" cy="133200"/>
            <a:chOff x="2049480" y="3471840"/>
            <a:chExt cx="133200" cy="133200"/>
          </a:xfrm>
        </p:grpSpPr>
        <p:sp>
          <p:nvSpPr>
            <p:cNvPr id="3307" name=""/>
            <p:cNvSpPr/>
            <p:nvPr/>
          </p:nvSpPr>
          <p:spPr>
            <a:xfrm>
              <a:off x="2116080" y="34718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049480" y="353844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9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 txBox="1"/>
          <p:nvPr/>
        </p:nvSpPr>
        <p:spPr>
          <a:xfrm>
            <a:off x="576360" y="135000"/>
            <a:ext cx="268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 Dep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9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3340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3341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5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6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3347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8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3349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1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3352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5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3356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8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3359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2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3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6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3377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9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3380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2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3383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5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2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3393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5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3396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8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3399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1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4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3405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7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3408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0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1" name=""/>
          <p:cNvGrpSpPr/>
          <p:nvPr/>
        </p:nvGrpSpPr>
        <p:grpSpPr>
          <a:xfrm>
            <a:off x="1897200" y="3932280"/>
            <a:ext cx="133200" cy="133200"/>
            <a:chOff x="1897200" y="3932280"/>
            <a:chExt cx="133200" cy="133200"/>
          </a:xfrm>
        </p:grpSpPr>
        <p:sp>
          <p:nvSpPr>
            <p:cNvPr id="3432" name=""/>
            <p:cNvSpPr/>
            <p:nvPr/>
          </p:nvSpPr>
          <p:spPr>
            <a:xfrm>
              <a:off x="1963800" y="393228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1897200" y="399888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4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3435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7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3438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0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3441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3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 txBox="1"/>
          <p:nvPr/>
        </p:nvSpPr>
        <p:spPr>
          <a:xfrm>
            <a:off x="600120" y="65160"/>
            <a:ext cx="3424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Edg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3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3474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3475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9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135080" y="831960"/>
            <a:ext cx="3087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North 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0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3481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2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3483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5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3486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9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3490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2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3493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6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7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0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3511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3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3514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6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3517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9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6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3527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9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3530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2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3533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5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8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3539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1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3542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4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5" name=""/>
          <p:cNvGrpSpPr/>
          <p:nvPr/>
        </p:nvGrpSpPr>
        <p:grpSpPr>
          <a:xfrm>
            <a:off x="1897200" y="3932280"/>
            <a:ext cx="133200" cy="133200"/>
            <a:chOff x="1897200" y="3932280"/>
            <a:chExt cx="133200" cy="133200"/>
          </a:xfrm>
        </p:grpSpPr>
        <p:sp>
          <p:nvSpPr>
            <p:cNvPr id="3566" name=""/>
            <p:cNvSpPr/>
            <p:nvPr/>
          </p:nvSpPr>
          <p:spPr>
            <a:xfrm>
              <a:off x="1963800" y="393228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897200" y="399888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8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3569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1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3572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4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3575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7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 flipH="1">
            <a:off x="1676520" y="3533760"/>
            <a:ext cx="433440" cy="1352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 txBox="1"/>
          <p:nvPr/>
        </p:nvSpPr>
        <p:spPr>
          <a:xfrm>
            <a:off x="600120" y="65160"/>
            <a:ext cx="3424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Edg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8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3609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3610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4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5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3616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7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3618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0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3621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4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3625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7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3628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1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2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5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3646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8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3649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1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3652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4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1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3662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4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3665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7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3668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0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3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3674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6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3677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9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0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3701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3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3704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6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3707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9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3710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2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 flipH="1">
            <a:off x="1676520" y="3533760"/>
            <a:ext cx="433440" cy="1352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 txBox="1"/>
          <p:nvPr/>
        </p:nvSpPr>
        <p:spPr>
          <a:xfrm>
            <a:off x="600120" y="111240"/>
            <a:ext cx="3008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Edg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3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3744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3745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9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0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3751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2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3753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5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3756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9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3760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2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3763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6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7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0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3781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3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3784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6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3787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9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6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3797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9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3800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2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3803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5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8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3809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1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3812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4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5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3836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8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3839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1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3842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4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3845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7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 flipH="1">
            <a:off x="1676520" y="3533760"/>
            <a:ext cx="433440" cy="1352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 txBox="1"/>
          <p:nvPr/>
        </p:nvSpPr>
        <p:spPr>
          <a:xfrm>
            <a:off x="600120" y="111240"/>
            <a:ext cx="3008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Edg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9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3880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3881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5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6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3887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8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3889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1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3892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5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3896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8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3899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2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3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6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3917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9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3920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2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3923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5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2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3933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3936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8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3939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1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4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3945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3948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0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1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3972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4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3975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7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3978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0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3981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3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 flipH="1">
            <a:off x="1676520" y="3533760"/>
            <a:ext cx="433440" cy="1352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 txBox="1"/>
          <p:nvPr/>
        </p:nvSpPr>
        <p:spPr>
          <a:xfrm>
            <a:off x="669960" y="158760"/>
            <a:ext cx="3719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Lower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5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4016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4017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1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2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4023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4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4025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7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4028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1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4032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4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4035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8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9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2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4053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4056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8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4059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1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8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4069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1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4072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4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4075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7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0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4081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3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4084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6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7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4108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0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4111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3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4114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6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4117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9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 flipV="1">
            <a:off x="1260360" y="153036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"/>
          <p:cNvSpPr/>
          <p:nvPr/>
        </p:nvSpPr>
        <p:spPr>
          <a:xfrm flipH="1">
            <a:off x="1676520" y="3533760"/>
            <a:ext cx="433440" cy="1352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 txBox="1"/>
          <p:nvPr/>
        </p:nvSpPr>
        <p:spPr>
          <a:xfrm>
            <a:off x="669960" y="158760"/>
            <a:ext cx="3719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Lower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2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4153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4154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6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8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9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4160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1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4162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4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4165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8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4169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1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4172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5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6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9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4190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2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4193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5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4196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8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5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4206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8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4209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1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4212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4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7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4218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0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4221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3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4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4245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7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4248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0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4251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3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4254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6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 flipV="1">
            <a:off x="1260360" y="153036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1359000" y="2044800"/>
            <a:ext cx="864000" cy="3518280"/>
          </a:xfrm>
          <a:custGeom>
            <a:avLst/>
            <a:gdLst/>
            <a:ahLst/>
            <a:rect l="0" t="0" r="r" b="b"/>
            <a:pathLst>
              <a:path fill="none" w="2400" h="9773">
                <a:moveTo>
                  <a:pt x="246" y="9773"/>
                </a:moveTo>
                <a:lnTo>
                  <a:pt x="0" y="6668"/>
                </a:lnTo>
                <a:lnTo>
                  <a:pt x="2118" y="0"/>
                </a:lnTo>
                <a:lnTo>
                  <a:pt x="2400" y="3140"/>
                </a:lnTo>
                <a:lnTo>
                  <a:pt x="246" y="97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 flipH="1">
            <a:off x="1676520" y="3533760"/>
            <a:ext cx="433440" cy="1352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 txBox="1"/>
          <p:nvPr/>
        </p:nvSpPr>
        <p:spPr>
          <a:xfrm>
            <a:off x="669960" y="158760"/>
            <a:ext cx="3719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Lower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0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4291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4292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6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7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4298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9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4300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2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4303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6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4307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9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4310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3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4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7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4328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0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4331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3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4334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6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3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4344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6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4347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9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4350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2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4356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8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4359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1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2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4383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5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4386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8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4389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1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4392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4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 flipV="1">
            <a:off x="1260360" y="153036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>
            <a:off x="1359000" y="2044800"/>
            <a:ext cx="864000" cy="3518280"/>
          </a:xfrm>
          <a:custGeom>
            <a:avLst/>
            <a:gdLst/>
            <a:ahLst/>
            <a:rect l="0" t="0" r="r" b="b"/>
            <a:pathLst>
              <a:path fill="none" w="2400" h="9773">
                <a:moveTo>
                  <a:pt x="246" y="9773"/>
                </a:moveTo>
                <a:lnTo>
                  <a:pt x="0" y="6668"/>
                </a:lnTo>
                <a:lnTo>
                  <a:pt x="2118" y="0"/>
                </a:lnTo>
                <a:lnTo>
                  <a:pt x="2400" y="3140"/>
                </a:lnTo>
                <a:lnTo>
                  <a:pt x="246" y="97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 flipH="1">
            <a:off x="1676520" y="3533760"/>
            <a:ext cx="433440" cy="1352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"/>
          <p:cNvSpPr txBox="1"/>
          <p:nvPr/>
        </p:nvSpPr>
        <p:spPr>
          <a:xfrm>
            <a:off x="739800" y="111240"/>
            <a:ext cx="3333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Inter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8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4429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4430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4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5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4436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7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4438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0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4441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4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4445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7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4448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1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2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5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4466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8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4469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1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4472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4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1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4482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4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4485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7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4488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0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3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4494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6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4497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9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0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4521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3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4524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6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4527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9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4530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2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 flipV="1">
            <a:off x="1260360" y="153036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1359000" y="2044800"/>
            <a:ext cx="864000" cy="3518280"/>
          </a:xfrm>
          <a:custGeom>
            <a:avLst/>
            <a:gdLst/>
            <a:ahLst/>
            <a:rect l="0" t="0" r="r" b="b"/>
            <a:pathLst>
              <a:path fill="none" w="2400" h="9773">
                <a:moveTo>
                  <a:pt x="246" y="9773"/>
                </a:moveTo>
                <a:lnTo>
                  <a:pt x="0" y="6668"/>
                </a:lnTo>
                <a:lnTo>
                  <a:pt x="2118" y="0"/>
                </a:lnTo>
                <a:lnTo>
                  <a:pt x="2400" y="3140"/>
                </a:lnTo>
                <a:lnTo>
                  <a:pt x="246" y="97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 flipH="1">
            <a:off x="1065240" y="1940040"/>
            <a:ext cx="6676920" cy="4982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"/>
          <p:cNvSpPr/>
          <p:nvPr/>
        </p:nvSpPr>
        <p:spPr>
          <a:xfrm>
            <a:off x="5257800" y="208296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"/>
          <p:cNvSpPr/>
          <p:nvPr/>
        </p:nvSpPr>
        <p:spPr>
          <a:xfrm>
            <a:off x="5689440" y="205092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 flipH="1">
            <a:off x="1676520" y="3533760"/>
            <a:ext cx="433440" cy="1352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"/>
          <p:cNvSpPr/>
          <p:nvPr/>
        </p:nvSpPr>
        <p:spPr>
          <a:xfrm>
            <a:off x="1960560" y="2327400"/>
            <a:ext cx="92160" cy="92160"/>
          </a:xfrm>
          <a:prstGeom prst="ellipse">
            <a:avLst/>
          </a:prstGeom>
          <a:solidFill>
            <a:srgbClr val="ff0101"/>
          </a:solidFill>
          <a:ln w="12600">
            <a:solidFill>
              <a:srgbClr val="919191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"/>
          <p:cNvSpPr txBox="1"/>
          <p:nvPr/>
        </p:nvSpPr>
        <p:spPr>
          <a:xfrm>
            <a:off x="739800" y="111240"/>
            <a:ext cx="3333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Inter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0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4571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4572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6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7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4578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9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4580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2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4583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6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4587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9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4590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3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4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7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4608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0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4611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4614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6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3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4624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6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4627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9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4630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2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5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4636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8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4639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1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2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4663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5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4666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8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4669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1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4672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4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"/>
          <p:cNvSpPr/>
          <p:nvPr/>
        </p:nvSpPr>
        <p:spPr>
          <a:xfrm flipV="1">
            <a:off x="1260360" y="153036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"/>
          <p:cNvSpPr/>
          <p:nvPr/>
        </p:nvSpPr>
        <p:spPr>
          <a:xfrm>
            <a:off x="1359000" y="2044800"/>
            <a:ext cx="864000" cy="3518280"/>
          </a:xfrm>
          <a:custGeom>
            <a:avLst/>
            <a:gdLst/>
            <a:ahLst/>
            <a:rect l="0" t="0" r="r" b="b"/>
            <a:pathLst>
              <a:path fill="none" w="2400" h="9773">
                <a:moveTo>
                  <a:pt x="246" y="9773"/>
                </a:moveTo>
                <a:lnTo>
                  <a:pt x="0" y="6668"/>
                </a:lnTo>
                <a:lnTo>
                  <a:pt x="2118" y="0"/>
                </a:lnTo>
                <a:lnTo>
                  <a:pt x="2400" y="3140"/>
                </a:lnTo>
                <a:lnTo>
                  <a:pt x="246" y="97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"/>
          <p:cNvSpPr/>
          <p:nvPr/>
        </p:nvSpPr>
        <p:spPr>
          <a:xfrm flipH="1">
            <a:off x="1065240" y="2287440"/>
            <a:ext cx="6676920" cy="49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>
            <a:off x="4778280" y="24670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"/>
          <p:cNvSpPr/>
          <p:nvPr/>
        </p:nvSpPr>
        <p:spPr>
          <a:xfrm>
            <a:off x="6442200" y="234000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"/>
          <p:cNvSpPr/>
          <p:nvPr/>
        </p:nvSpPr>
        <p:spPr>
          <a:xfrm flipH="1">
            <a:off x="1676520" y="3533760"/>
            <a:ext cx="433440" cy="1352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>
            <a:off x="5257800" y="208296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"/>
          <p:cNvSpPr/>
          <p:nvPr/>
        </p:nvSpPr>
        <p:spPr>
          <a:xfrm>
            <a:off x="5689440" y="205092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>
            <a:off x="1865160" y="2670120"/>
            <a:ext cx="92160" cy="92160"/>
          </a:xfrm>
          <a:prstGeom prst="ellipse">
            <a:avLst/>
          </a:prstGeom>
          <a:solidFill>
            <a:srgbClr val="ff0101"/>
          </a:solidFill>
          <a:ln w="12600">
            <a:solidFill>
              <a:srgbClr val="919191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 txBox="1"/>
          <p:nvPr/>
        </p:nvSpPr>
        <p:spPr>
          <a:xfrm>
            <a:off x="739800" y="111240"/>
            <a:ext cx="3333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Inter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4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4715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4716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0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1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4722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3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4724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6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4727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0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4731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3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4734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7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8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1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4752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4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4755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4758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0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7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4768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0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4771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3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4774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6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9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4780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2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4783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5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6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4807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9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4810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2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4813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5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4816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8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"/>
          <p:cNvSpPr/>
          <p:nvPr/>
        </p:nvSpPr>
        <p:spPr>
          <a:xfrm flipV="1">
            <a:off x="1260360" y="153036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"/>
          <p:cNvSpPr/>
          <p:nvPr/>
        </p:nvSpPr>
        <p:spPr>
          <a:xfrm>
            <a:off x="1359000" y="2044800"/>
            <a:ext cx="864000" cy="3518280"/>
          </a:xfrm>
          <a:custGeom>
            <a:avLst/>
            <a:gdLst/>
            <a:ahLst/>
            <a:rect l="0" t="0" r="r" b="b"/>
            <a:pathLst>
              <a:path fill="none" w="2400" h="9773">
                <a:moveTo>
                  <a:pt x="246" y="9773"/>
                </a:moveTo>
                <a:lnTo>
                  <a:pt x="0" y="6668"/>
                </a:lnTo>
                <a:lnTo>
                  <a:pt x="2118" y="0"/>
                </a:lnTo>
                <a:lnTo>
                  <a:pt x="2400" y="3140"/>
                </a:lnTo>
                <a:lnTo>
                  <a:pt x="246" y="97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/>
          <p:nvPr/>
        </p:nvSpPr>
        <p:spPr>
          <a:xfrm flipH="1">
            <a:off x="1065240" y="2633760"/>
            <a:ext cx="6676920" cy="4982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"/>
          <p:cNvSpPr/>
          <p:nvPr/>
        </p:nvSpPr>
        <p:spPr>
          <a:xfrm flipH="1">
            <a:off x="1676520" y="3533760"/>
            <a:ext cx="433440" cy="1352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"/>
          <p:cNvSpPr/>
          <p:nvPr/>
        </p:nvSpPr>
        <p:spPr>
          <a:xfrm>
            <a:off x="7128000" y="26319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"/>
          <p:cNvSpPr/>
          <p:nvPr/>
        </p:nvSpPr>
        <p:spPr>
          <a:xfrm>
            <a:off x="3990960" y="28605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1758960" y="3027240"/>
            <a:ext cx="92160" cy="92160"/>
          </a:xfrm>
          <a:prstGeom prst="ellipse">
            <a:avLst/>
          </a:prstGeom>
          <a:solidFill>
            <a:srgbClr val="ff0101"/>
          </a:solidFill>
          <a:ln w="12600">
            <a:solidFill>
              <a:srgbClr val="919191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"/>
          <p:cNvSpPr/>
          <p:nvPr/>
        </p:nvSpPr>
        <p:spPr>
          <a:xfrm>
            <a:off x="4778280" y="24670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"/>
          <p:cNvSpPr/>
          <p:nvPr/>
        </p:nvSpPr>
        <p:spPr>
          <a:xfrm>
            <a:off x="6442200" y="234000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"/>
          <p:cNvSpPr/>
          <p:nvPr/>
        </p:nvSpPr>
        <p:spPr>
          <a:xfrm>
            <a:off x="5257800" y="208296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"/>
          <p:cNvSpPr/>
          <p:nvPr/>
        </p:nvSpPr>
        <p:spPr>
          <a:xfrm>
            <a:off x="5689440" y="205092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"/>
          <p:cNvSpPr txBox="1"/>
          <p:nvPr/>
        </p:nvSpPr>
        <p:spPr>
          <a:xfrm>
            <a:off x="739800" y="111240"/>
            <a:ext cx="3333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Inter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0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4861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4862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6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49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51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54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61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1135080" y="831960"/>
            <a:ext cx="3087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North 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7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4868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9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4870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2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4873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6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4877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9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4880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3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4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7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4898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0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4901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3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4904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6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3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4914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6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4917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9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4920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2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5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4926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8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4929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1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2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4953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5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4956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8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4959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1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4962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4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"/>
          <p:cNvSpPr/>
          <p:nvPr/>
        </p:nvSpPr>
        <p:spPr>
          <a:xfrm flipV="1">
            <a:off x="1260360" y="153036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"/>
          <p:cNvSpPr/>
          <p:nvPr/>
        </p:nvSpPr>
        <p:spPr>
          <a:xfrm>
            <a:off x="1359000" y="2044800"/>
            <a:ext cx="864000" cy="3518280"/>
          </a:xfrm>
          <a:custGeom>
            <a:avLst/>
            <a:gdLst/>
            <a:ahLst/>
            <a:rect l="0" t="0" r="r" b="b"/>
            <a:pathLst>
              <a:path fill="none" w="2400" h="9773">
                <a:moveTo>
                  <a:pt x="246" y="9773"/>
                </a:moveTo>
                <a:lnTo>
                  <a:pt x="0" y="6668"/>
                </a:lnTo>
                <a:lnTo>
                  <a:pt x="2118" y="0"/>
                </a:lnTo>
                <a:lnTo>
                  <a:pt x="2400" y="3140"/>
                </a:lnTo>
                <a:lnTo>
                  <a:pt x="246" y="97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7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1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3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"/>
          <p:cNvSpPr/>
          <p:nvPr/>
        </p:nvSpPr>
        <p:spPr>
          <a:xfrm flipH="1">
            <a:off x="1065240" y="2773440"/>
            <a:ext cx="6676920" cy="4982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"/>
          <p:cNvSpPr/>
          <p:nvPr/>
        </p:nvSpPr>
        <p:spPr>
          <a:xfrm flipH="1">
            <a:off x="1676520" y="3533760"/>
            <a:ext cx="433440" cy="1352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0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1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2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5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7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"/>
          <p:cNvSpPr/>
          <p:nvPr/>
        </p:nvSpPr>
        <p:spPr>
          <a:xfrm>
            <a:off x="2174760" y="3135240"/>
            <a:ext cx="92160" cy="92160"/>
          </a:xfrm>
          <a:prstGeom prst="ellipse">
            <a:avLst/>
          </a:prstGeom>
          <a:solidFill>
            <a:srgbClr val="ff0101"/>
          </a:solidFill>
          <a:ln w="12600">
            <a:solidFill>
              <a:srgbClr val="919191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9" name=""/>
          <p:cNvSpPr/>
          <p:nvPr/>
        </p:nvSpPr>
        <p:spPr>
          <a:xfrm>
            <a:off x="7128000" y="26319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"/>
          <p:cNvSpPr/>
          <p:nvPr/>
        </p:nvSpPr>
        <p:spPr>
          <a:xfrm>
            <a:off x="3990960" y="28605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"/>
          <p:cNvSpPr/>
          <p:nvPr/>
        </p:nvSpPr>
        <p:spPr>
          <a:xfrm>
            <a:off x="4778280" y="24670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2" name=""/>
          <p:cNvSpPr/>
          <p:nvPr/>
        </p:nvSpPr>
        <p:spPr>
          <a:xfrm>
            <a:off x="6442200" y="234000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3" name=""/>
          <p:cNvSpPr/>
          <p:nvPr/>
        </p:nvSpPr>
        <p:spPr>
          <a:xfrm>
            <a:off x="5257800" y="208296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4" name=""/>
          <p:cNvSpPr/>
          <p:nvPr/>
        </p:nvSpPr>
        <p:spPr>
          <a:xfrm>
            <a:off x="5689440" y="205092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"/>
          <p:cNvSpPr/>
          <p:nvPr/>
        </p:nvSpPr>
        <p:spPr>
          <a:xfrm>
            <a:off x="5083200" y="29242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"/>
          <p:cNvSpPr/>
          <p:nvPr/>
        </p:nvSpPr>
        <p:spPr>
          <a:xfrm>
            <a:off x="6010200" y="28479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"/>
          <p:cNvSpPr txBox="1"/>
          <p:nvPr/>
        </p:nvSpPr>
        <p:spPr>
          <a:xfrm>
            <a:off x="739800" y="111240"/>
            <a:ext cx="3333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Inter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8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5009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5010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4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5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5016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7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5018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0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5021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4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5025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7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5028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1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2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7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8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9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0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1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2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3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5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5046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8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5049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1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5052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4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6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7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8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9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0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1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5062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5065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7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5068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0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3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5074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6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5077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9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1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2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3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0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5101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3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5104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6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5107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5110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2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3" name=""/>
          <p:cNvSpPr/>
          <p:nvPr/>
        </p:nvSpPr>
        <p:spPr>
          <a:xfrm flipV="1">
            <a:off x="1260360" y="153036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4" name=""/>
          <p:cNvSpPr/>
          <p:nvPr/>
        </p:nvSpPr>
        <p:spPr>
          <a:xfrm>
            <a:off x="1359000" y="2044800"/>
            <a:ext cx="864000" cy="3518280"/>
          </a:xfrm>
          <a:custGeom>
            <a:avLst/>
            <a:gdLst/>
            <a:ahLst/>
            <a:rect l="0" t="0" r="r" b="b"/>
            <a:pathLst>
              <a:path fill="none" w="2400" h="9773">
                <a:moveTo>
                  <a:pt x="246" y="9773"/>
                </a:moveTo>
                <a:lnTo>
                  <a:pt x="0" y="6668"/>
                </a:lnTo>
                <a:lnTo>
                  <a:pt x="2118" y="0"/>
                </a:lnTo>
                <a:lnTo>
                  <a:pt x="2400" y="3140"/>
                </a:lnTo>
                <a:lnTo>
                  <a:pt x="246" y="97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5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7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8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4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"/>
          <p:cNvSpPr/>
          <p:nvPr/>
        </p:nvSpPr>
        <p:spPr>
          <a:xfrm flipH="1">
            <a:off x="1065240" y="3119400"/>
            <a:ext cx="6676920" cy="49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"/>
          <p:cNvSpPr/>
          <p:nvPr/>
        </p:nvSpPr>
        <p:spPr>
          <a:xfrm flipH="1">
            <a:off x="1676520" y="3533760"/>
            <a:ext cx="433440" cy="1352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"/>
          <p:cNvSpPr/>
          <p:nvPr/>
        </p:nvSpPr>
        <p:spPr>
          <a:xfrm>
            <a:off x="6480000" y="31780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"/>
          <p:cNvSpPr/>
          <p:nvPr/>
        </p:nvSpPr>
        <p:spPr>
          <a:xfrm>
            <a:off x="4587840" y="33177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6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"/>
          <p:cNvSpPr/>
          <p:nvPr/>
        </p:nvSpPr>
        <p:spPr>
          <a:xfrm>
            <a:off x="2066760" y="3492360"/>
            <a:ext cx="92160" cy="92160"/>
          </a:xfrm>
          <a:prstGeom prst="ellipse">
            <a:avLst/>
          </a:prstGeom>
          <a:solidFill>
            <a:srgbClr val="ff0101"/>
          </a:solidFill>
          <a:ln w="12600">
            <a:solidFill>
              <a:srgbClr val="919191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9" name=""/>
          <p:cNvSpPr/>
          <p:nvPr/>
        </p:nvSpPr>
        <p:spPr>
          <a:xfrm>
            <a:off x="7128000" y="26319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0" name=""/>
          <p:cNvSpPr/>
          <p:nvPr/>
        </p:nvSpPr>
        <p:spPr>
          <a:xfrm>
            <a:off x="3990960" y="28605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1" name=""/>
          <p:cNvSpPr/>
          <p:nvPr/>
        </p:nvSpPr>
        <p:spPr>
          <a:xfrm>
            <a:off x="4778280" y="24670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"/>
          <p:cNvSpPr/>
          <p:nvPr/>
        </p:nvSpPr>
        <p:spPr>
          <a:xfrm>
            <a:off x="6442200" y="234000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"/>
          <p:cNvSpPr/>
          <p:nvPr/>
        </p:nvSpPr>
        <p:spPr>
          <a:xfrm>
            <a:off x="5257800" y="208296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"/>
          <p:cNvSpPr/>
          <p:nvPr/>
        </p:nvSpPr>
        <p:spPr>
          <a:xfrm>
            <a:off x="5689440" y="205092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"/>
          <p:cNvSpPr/>
          <p:nvPr/>
        </p:nvSpPr>
        <p:spPr>
          <a:xfrm>
            <a:off x="5083200" y="29242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"/>
          <p:cNvSpPr/>
          <p:nvPr/>
        </p:nvSpPr>
        <p:spPr>
          <a:xfrm>
            <a:off x="6010200" y="28479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"/>
          <p:cNvSpPr txBox="1"/>
          <p:nvPr/>
        </p:nvSpPr>
        <p:spPr>
          <a:xfrm>
            <a:off x="739800" y="111240"/>
            <a:ext cx="3333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Inter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8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5159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5160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1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4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5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5166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7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5168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0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5171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4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5175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7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5178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1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2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1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4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5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5196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8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5199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1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5202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4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0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1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5212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4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5215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7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5218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0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3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5224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6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5227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9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0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1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2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3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4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5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6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7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8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0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1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2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3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4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5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6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7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8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9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0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5251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3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5254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6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5257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9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5260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2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3" name=""/>
          <p:cNvSpPr/>
          <p:nvPr/>
        </p:nvSpPr>
        <p:spPr>
          <a:xfrm flipV="1">
            <a:off x="1260360" y="153036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4" name=""/>
          <p:cNvSpPr/>
          <p:nvPr/>
        </p:nvSpPr>
        <p:spPr>
          <a:xfrm>
            <a:off x="1359000" y="2044800"/>
            <a:ext cx="864000" cy="3518280"/>
          </a:xfrm>
          <a:custGeom>
            <a:avLst/>
            <a:gdLst/>
            <a:ahLst/>
            <a:rect l="0" t="0" r="r" b="b"/>
            <a:pathLst>
              <a:path fill="none" w="2400" h="9773">
                <a:moveTo>
                  <a:pt x="246" y="9773"/>
                </a:moveTo>
                <a:lnTo>
                  <a:pt x="0" y="6668"/>
                </a:lnTo>
                <a:lnTo>
                  <a:pt x="2118" y="0"/>
                </a:lnTo>
                <a:lnTo>
                  <a:pt x="2400" y="3140"/>
                </a:lnTo>
                <a:lnTo>
                  <a:pt x="246" y="97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5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6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7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8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4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9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0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"/>
          <p:cNvSpPr/>
          <p:nvPr/>
        </p:nvSpPr>
        <p:spPr>
          <a:xfrm flipH="1">
            <a:off x="1065240" y="3298680"/>
            <a:ext cx="6676920" cy="49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"/>
          <p:cNvSpPr/>
          <p:nvPr/>
        </p:nvSpPr>
        <p:spPr>
          <a:xfrm flipH="1">
            <a:off x="1676520" y="3533760"/>
            <a:ext cx="433440" cy="1352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"/>
          <p:cNvSpPr/>
          <p:nvPr/>
        </p:nvSpPr>
        <p:spPr>
          <a:xfrm>
            <a:off x="3432240" y="357192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"/>
          <p:cNvSpPr/>
          <p:nvPr/>
        </p:nvSpPr>
        <p:spPr>
          <a:xfrm>
            <a:off x="7724880" y="326700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"/>
          <p:cNvSpPr/>
          <p:nvPr/>
        </p:nvSpPr>
        <p:spPr>
          <a:xfrm>
            <a:off x="1533600" y="3720960"/>
            <a:ext cx="92160" cy="92160"/>
          </a:xfrm>
          <a:prstGeom prst="ellipse">
            <a:avLst/>
          </a:prstGeom>
          <a:solidFill>
            <a:srgbClr val="ff0101"/>
          </a:solidFill>
          <a:ln w="12600">
            <a:solidFill>
              <a:srgbClr val="919191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"/>
          <p:cNvSpPr/>
          <p:nvPr/>
        </p:nvSpPr>
        <p:spPr>
          <a:xfrm>
            <a:off x="6480000" y="31780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"/>
          <p:cNvSpPr/>
          <p:nvPr/>
        </p:nvSpPr>
        <p:spPr>
          <a:xfrm>
            <a:off x="4587840" y="33177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1" name=""/>
          <p:cNvSpPr/>
          <p:nvPr/>
        </p:nvSpPr>
        <p:spPr>
          <a:xfrm>
            <a:off x="7128000" y="26319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2" name=""/>
          <p:cNvSpPr/>
          <p:nvPr/>
        </p:nvSpPr>
        <p:spPr>
          <a:xfrm>
            <a:off x="3990960" y="28605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3" name=""/>
          <p:cNvSpPr/>
          <p:nvPr/>
        </p:nvSpPr>
        <p:spPr>
          <a:xfrm>
            <a:off x="4778280" y="24670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"/>
          <p:cNvSpPr/>
          <p:nvPr/>
        </p:nvSpPr>
        <p:spPr>
          <a:xfrm>
            <a:off x="6442200" y="234000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"/>
          <p:cNvSpPr/>
          <p:nvPr/>
        </p:nvSpPr>
        <p:spPr>
          <a:xfrm>
            <a:off x="5257800" y="208296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6" name=""/>
          <p:cNvSpPr/>
          <p:nvPr/>
        </p:nvSpPr>
        <p:spPr>
          <a:xfrm>
            <a:off x="5689440" y="205092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7" name=""/>
          <p:cNvSpPr/>
          <p:nvPr/>
        </p:nvSpPr>
        <p:spPr>
          <a:xfrm>
            <a:off x="5083200" y="29242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8" name=""/>
          <p:cNvSpPr/>
          <p:nvPr/>
        </p:nvSpPr>
        <p:spPr>
          <a:xfrm>
            <a:off x="6010200" y="28479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9" name=""/>
          <p:cNvSpPr txBox="1"/>
          <p:nvPr/>
        </p:nvSpPr>
        <p:spPr>
          <a:xfrm>
            <a:off x="739800" y="111240"/>
            <a:ext cx="3333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Inter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0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5311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5312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3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6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7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5318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9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5320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2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5323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6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5327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9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5330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3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4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7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8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9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0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2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3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4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7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5348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0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5351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3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5354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6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3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5364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6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5367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9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5370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2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5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5376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8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5379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1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8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9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0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1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3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4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6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7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8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2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5403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5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5406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8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5409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5412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4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"/>
          <p:cNvSpPr/>
          <p:nvPr/>
        </p:nvSpPr>
        <p:spPr>
          <a:xfrm flipV="1">
            <a:off x="1260360" y="153036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"/>
          <p:cNvSpPr/>
          <p:nvPr/>
        </p:nvSpPr>
        <p:spPr>
          <a:xfrm>
            <a:off x="1359000" y="2044800"/>
            <a:ext cx="864000" cy="3518280"/>
          </a:xfrm>
          <a:custGeom>
            <a:avLst/>
            <a:gdLst/>
            <a:ahLst/>
            <a:rect l="0" t="0" r="r" b="b"/>
            <a:pathLst>
              <a:path fill="none" w="2400" h="9773">
                <a:moveTo>
                  <a:pt x="246" y="9773"/>
                </a:moveTo>
                <a:lnTo>
                  <a:pt x="0" y="6668"/>
                </a:lnTo>
                <a:lnTo>
                  <a:pt x="2118" y="0"/>
                </a:lnTo>
                <a:lnTo>
                  <a:pt x="2400" y="3140"/>
                </a:lnTo>
                <a:lnTo>
                  <a:pt x="246" y="97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7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8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9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0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2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4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0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"/>
          <p:cNvSpPr/>
          <p:nvPr/>
        </p:nvSpPr>
        <p:spPr>
          <a:xfrm flipH="1">
            <a:off x="1065240" y="3425760"/>
            <a:ext cx="6676920" cy="49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"/>
          <p:cNvSpPr/>
          <p:nvPr/>
        </p:nvSpPr>
        <p:spPr>
          <a:xfrm flipH="1">
            <a:off x="1676520" y="3533760"/>
            <a:ext cx="433440" cy="1352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"/>
          <p:cNvSpPr/>
          <p:nvPr/>
        </p:nvSpPr>
        <p:spPr>
          <a:xfrm>
            <a:off x="7307280" y="341640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5" name=""/>
          <p:cNvSpPr/>
          <p:nvPr/>
        </p:nvSpPr>
        <p:spPr>
          <a:xfrm>
            <a:off x="3432240" y="357192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6" name=""/>
          <p:cNvSpPr/>
          <p:nvPr/>
        </p:nvSpPr>
        <p:spPr>
          <a:xfrm>
            <a:off x="3914640" y="367344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"/>
          <p:cNvSpPr/>
          <p:nvPr/>
        </p:nvSpPr>
        <p:spPr>
          <a:xfrm>
            <a:off x="7724880" y="326700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"/>
          <p:cNvSpPr/>
          <p:nvPr/>
        </p:nvSpPr>
        <p:spPr>
          <a:xfrm>
            <a:off x="1952640" y="3797280"/>
            <a:ext cx="92160" cy="92160"/>
          </a:xfrm>
          <a:prstGeom prst="ellipse">
            <a:avLst/>
          </a:prstGeom>
          <a:solidFill>
            <a:srgbClr val="ff0101"/>
          </a:solidFill>
          <a:ln w="12600">
            <a:solidFill>
              <a:srgbClr val="919191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3" name=""/>
          <p:cNvSpPr/>
          <p:nvPr/>
        </p:nvSpPr>
        <p:spPr>
          <a:xfrm>
            <a:off x="6480000" y="31780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4" name=""/>
          <p:cNvSpPr/>
          <p:nvPr/>
        </p:nvSpPr>
        <p:spPr>
          <a:xfrm>
            <a:off x="4587840" y="33177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5" name=""/>
          <p:cNvSpPr/>
          <p:nvPr/>
        </p:nvSpPr>
        <p:spPr>
          <a:xfrm>
            <a:off x="7128000" y="26319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6" name=""/>
          <p:cNvSpPr/>
          <p:nvPr/>
        </p:nvSpPr>
        <p:spPr>
          <a:xfrm>
            <a:off x="3990960" y="28605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"/>
          <p:cNvSpPr/>
          <p:nvPr/>
        </p:nvSpPr>
        <p:spPr>
          <a:xfrm>
            <a:off x="4778280" y="24670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8" name=""/>
          <p:cNvSpPr/>
          <p:nvPr/>
        </p:nvSpPr>
        <p:spPr>
          <a:xfrm>
            <a:off x="6442200" y="234000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9" name=""/>
          <p:cNvSpPr/>
          <p:nvPr/>
        </p:nvSpPr>
        <p:spPr>
          <a:xfrm>
            <a:off x="5257800" y="208296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0" name=""/>
          <p:cNvSpPr/>
          <p:nvPr/>
        </p:nvSpPr>
        <p:spPr>
          <a:xfrm>
            <a:off x="5689440" y="205092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1" name=""/>
          <p:cNvSpPr/>
          <p:nvPr/>
        </p:nvSpPr>
        <p:spPr>
          <a:xfrm>
            <a:off x="5083200" y="29242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2" name=""/>
          <p:cNvSpPr/>
          <p:nvPr/>
        </p:nvSpPr>
        <p:spPr>
          <a:xfrm>
            <a:off x="6010200" y="28479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3" name=""/>
          <p:cNvSpPr txBox="1"/>
          <p:nvPr/>
        </p:nvSpPr>
        <p:spPr>
          <a:xfrm>
            <a:off x="739800" y="111240"/>
            <a:ext cx="3333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Inter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4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5465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5466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0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1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5472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3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5474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6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5477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0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5481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3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5484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7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8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9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0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1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2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3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1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5502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4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5505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7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5508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0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3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4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5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7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5518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0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5521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3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5524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6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9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5530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2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5533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5" name=""/>
          <p:cNvSpPr/>
          <p:nvPr/>
        </p:nvSpPr>
        <p:spPr>
          <a:xfrm>
            <a:off x="6757920" y="302904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7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8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0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1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2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3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4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5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6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7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8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9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0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1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2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3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4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5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6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5557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9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5560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2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5563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5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5566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8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"/>
          <p:cNvSpPr/>
          <p:nvPr/>
        </p:nvSpPr>
        <p:spPr>
          <a:xfrm flipV="1">
            <a:off x="1260360" y="153036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"/>
          <p:cNvSpPr/>
          <p:nvPr/>
        </p:nvSpPr>
        <p:spPr>
          <a:xfrm>
            <a:off x="1359000" y="2044800"/>
            <a:ext cx="864000" cy="3518280"/>
          </a:xfrm>
          <a:custGeom>
            <a:avLst/>
            <a:gdLst/>
            <a:ahLst/>
            <a:rect l="0" t="0" r="r" b="b"/>
            <a:pathLst>
              <a:path fill="none" w="2400" h="9773">
                <a:moveTo>
                  <a:pt x="246" y="9773"/>
                </a:moveTo>
                <a:lnTo>
                  <a:pt x="0" y="6668"/>
                </a:lnTo>
                <a:lnTo>
                  <a:pt x="2118" y="0"/>
                </a:lnTo>
                <a:lnTo>
                  <a:pt x="2400" y="3140"/>
                </a:lnTo>
                <a:lnTo>
                  <a:pt x="246" y="97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2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3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4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7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8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9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1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2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3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4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5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6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7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8" name=""/>
          <p:cNvSpPr/>
          <p:nvPr/>
        </p:nvSpPr>
        <p:spPr>
          <a:xfrm flipH="1">
            <a:off x="1065240" y="3794040"/>
            <a:ext cx="6676920" cy="49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9" name=""/>
          <p:cNvSpPr/>
          <p:nvPr/>
        </p:nvSpPr>
        <p:spPr>
          <a:xfrm flipH="1">
            <a:off x="1676520" y="3533760"/>
            <a:ext cx="433440" cy="1352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0" name=""/>
          <p:cNvSpPr txBox="1"/>
          <p:nvPr/>
        </p:nvSpPr>
        <p:spPr>
          <a:xfrm>
            <a:off x="4653000" y="33098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1" name=""/>
          <p:cNvSpPr txBox="1"/>
          <p:nvPr/>
        </p:nvSpPr>
        <p:spPr>
          <a:xfrm>
            <a:off x="6797520" y="27036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2" name=""/>
          <p:cNvSpPr txBox="1"/>
          <p:nvPr/>
        </p:nvSpPr>
        <p:spPr>
          <a:xfrm>
            <a:off x="7164360" y="35258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3" name=""/>
          <p:cNvSpPr txBox="1"/>
          <p:nvPr/>
        </p:nvSpPr>
        <p:spPr>
          <a:xfrm>
            <a:off x="5778360" y="44355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4" name=""/>
          <p:cNvSpPr txBox="1"/>
          <p:nvPr/>
        </p:nvSpPr>
        <p:spPr>
          <a:xfrm>
            <a:off x="7164360" y="52196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5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6" name=""/>
          <p:cNvSpPr txBox="1"/>
          <p:nvPr/>
        </p:nvSpPr>
        <p:spPr>
          <a:xfrm>
            <a:off x="5821200" y="566892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7" name=""/>
          <p:cNvSpPr txBox="1"/>
          <p:nvPr/>
        </p:nvSpPr>
        <p:spPr>
          <a:xfrm>
            <a:off x="4610160" y="508320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"/>
          <p:cNvSpPr/>
          <p:nvPr/>
        </p:nvSpPr>
        <p:spPr>
          <a:xfrm>
            <a:off x="3292560" y="40798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"/>
          <p:cNvSpPr/>
          <p:nvPr/>
        </p:nvSpPr>
        <p:spPr>
          <a:xfrm>
            <a:off x="7775640" y="37497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0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1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2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3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"/>
          <p:cNvSpPr/>
          <p:nvPr/>
        </p:nvSpPr>
        <p:spPr>
          <a:xfrm>
            <a:off x="1838160" y="4178160"/>
            <a:ext cx="92160" cy="92160"/>
          </a:xfrm>
          <a:prstGeom prst="ellipse">
            <a:avLst/>
          </a:prstGeom>
          <a:solidFill>
            <a:srgbClr val="ff0101"/>
          </a:solidFill>
          <a:ln w="12600">
            <a:solidFill>
              <a:srgbClr val="919191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"/>
          <p:cNvSpPr/>
          <p:nvPr/>
        </p:nvSpPr>
        <p:spPr>
          <a:xfrm>
            <a:off x="3432240" y="357192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6" name=""/>
          <p:cNvSpPr/>
          <p:nvPr/>
        </p:nvSpPr>
        <p:spPr>
          <a:xfrm>
            <a:off x="7724880" y="326700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7" name=""/>
          <p:cNvSpPr/>
          <p:nvPr/>
        </p:nvSpPr>
        <p:spPr>
          <a:xfrm>
            <a:off x="6480000" y="31780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"/>
          <p:cNvSpPr/>
          <p:nvPr/>
        </p:nvSpPr>
        <p:spPr>
          <a:xfrm>
            <a:off x="4587840" y="33177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"/>
          <p:cNvSpPr/>
          <p:nvPr/>
        </p:nvSpPr>
        <p:spPr>
          <a:xfrm>
            <a:off x="7128000" y="26319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"/>
          <p:cNvSpPr/>
          <p:nvPr/>
        </p:nvSpPr>
        <p:spPr>
          <a:xfrm>
            <a:off x="3990960" y="28605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"/>
          <p:cNvSpPr/>
          <p:nvPr/>
        </p:nvSpPr>
        <p:spPr>
          <a:xfrm>
            <a:off x="4778280" y="24670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"/>
          <p:cNvSpPr/>
          <p:nvPr/>
        </p:nvSpPr>
        <p:spPr>
          <a:xfrm>
            <a:off x="6442200" y="234000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3" name=""/>
          <p:cNvSpPr/>
          <p:nvPr/>
        </p:nvSpPr>
        <p:spPr>
          <a:xfrm>
            <a:off x="5257800" y="208296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4" name=""/>
          <p:cNvSpPr/>
          <p:nvPr/>
        </p:nvSpPr>
        <p:spPr>
          <a:xfrm>
            <a:off x="5689440" y="2050920"/>
            <a:ext cx="7632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"/>
          <p:cNvSpPr/>
          <p:nvPr/>
        </p:nvSpPr>
        <p:spPr>
          <a:xfrm>
            <a:off x="5083200" y="292428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"/>
          <p:cNvSpPr/>
          <p:nvPr/>
        </p:nvSpPr>
        <p:spPr>
          <a:xfrm>
            <a:off x="6010200" y="284796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"/>
          <p:cNvSpPr/>
          <p:nvPr/>
        </p:nvSpPr>
        <p:spPr>
          <a:xfrm>
            <a:off x="7307280" y="341640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"/>
          <p:cNvSpPr/>
          <p:nvPr/>
        </p:nvSpPr>
        <p:spPr>
          <a:xfrm>
            <a:off x="3914640" y="3673440"/>
            <a:ext cx="71280" cy="7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"/>
          <p:cNvSpPr txBox="1"/>
          <p:nvPr/>
        </p:nvSpPr>
        <p:spPr>
          <a:xfrm>
            <a:off x="739800" y="111240"/>
            <a:ext cx="3333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Inter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0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5621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5622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6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7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5628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9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5630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2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5633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6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5637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9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5640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3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4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8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9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0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2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4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5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6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7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5658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0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5661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3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5664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6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7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8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9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0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2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3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5674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6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5677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9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5680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2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5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5686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8" name=""/>
          <p:cNvSpPr/>
          <p:nvPr/>
        </p:nvSpPr>
        <p:spPr>
          <a:xfrm>
            <a:off x="6757920" y="3029040"/>
            <a:ext cx="0" cy="223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1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2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4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7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8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9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5710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2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5713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5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5716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8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5719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1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"/>
          <p:cNvSpPr/>
          <p:nvPr/>
        </p:nvSpPr>
        <p:spPr>
          <a:xfrm flipV="1">
            <a:off x="1260360" y="153036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3" name=""/>
          <p:cNvSpPr/>
          <p:nvPr/>
        </p:nvSpPr>
        <p:spPr>
          <a:xfrm>
            <a:off x="1359000" y="2044800"/>
            <a:ext cx="864000" cy="3518280"/>
          </a:xfrm>
          <a:custGeom>
            <a:avLst/>
            <a:gdLst/>
            <a:ahLst/>
            <a:rect l="0" t="0" r="r" b="b"/>
            <a:pathLst>
              <a:path fill="none" w="2400" h="9773">
                <a:moveTo>
                  <a:pt x="246" y="9773"/>
                </a:moveTo>
                <a:lnTo>
                  <a:pt x="0" y="6668"/>
                </a:lnTo>
                <a:lnTo>
                  <a:pt x="2118" y="0"/>
                </a:lnTo>
                <a:lnTo>
                  <a:pt x="2400" y="3140"/>
                </a:lnTo>
                <a:lnTo>
                  <a:pt x="246" y="97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4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6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7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9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0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2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3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4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5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5270400" y="208296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>
            <a:off x="5702400" y="204480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"/>
          <p:cNvSpPr/>
          <p:nvPr/>
        </p:nvSpPr>
        <p:spPr>
          <a:xfrm>
            <a:off x="5092560" y="293364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/>
          <p:nvPr/>
        </p:nvSpPr>
        <p:spPr>
          <a:xfrm>
            <a:off x="6019920" y="285768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5" name=""/>
          <p:cNvSpPr/>
          <p:nvPr/>
        </p:nvSpPr>
        <p:spPr>
          <a:xfrm>
            <a:off x="4788000" y="247644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6" name=""/>
          <p:cNvSpPr/>
          <p:nvPr/>
        </p:nvSpPr>
        <p:spPr>
          <a:xfrm>
            <a:off x="6451560" y="234936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7" name=""/>
          <p:cNvSpPr/>
          <p:nvPr/>
        </p:nvSpPr>
        <p:spPr>
          <a:xfrm>
            <a:off x="7289640" y="340344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8" name=""/>
          <p:cNvSpPr/>
          <p:nvPr/>
        </p:nvSpPr>
        <p:spPr>
          <a:xfrm>
            <a:off x="6489720" y="318780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9" name=""/>
          <p:cNvSpPr/>
          <p:nvPr/>
        </p:nvSpPr>
        <p:spPr>
          <a:xfrm>
            <a:off x="4597560" y="332748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0" name=""/>
          <p:cNvSpPr/>
          <p:nvPr/>
        </p:nvSpPr>
        <p:spPr>
          <a:xfrm>
            <a:off x="3924360" y="367020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1" name=""/>
          <p:cNvSpPr/>
          <p:nvPr/>
        </p:nvSpPr>
        <p:spPr>
          <a:xfrm>
            <a:off x="3441600" y="358128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2" name=""/>
          <p:cNvSpPr/>
          <p:nvPr/>
        </p:nvSpPr>
        <p:spPr>
          <a:xfrm>
            <a:off x="7696080" y="323856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3" name=""/>
          <p:cNvSpPr/>
          <p:nvPr/>
        </p:nvSpPr>
        <p:spPr>
          <a:xfrm>
            <a:off x="3301920" y="408924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"/>
          <p:cNvSpPr/>
          <p:nvPr/>
        </p:nvSpPr>
        <p:spPr>
          <a:xfrm>
            <a:off x="7785000" y="375912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"/>
          <p:cNvSpPr/>
          <p:nvPr/>
        </p:nvSpPr>
        <p:spPr>
          <a:xfrm>
            <a:off x="7137360" y="264168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"/>
          <p:cNvSpPr/>
          <p:nvPr/>
        </p:nvSpPr>
        <p:spPr>
          <a:xfrm>
            <a:off x="4000680" y="287028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"/>
          <p:cNvSpPr/>
          <p:nvPr/>
        </p:nvSpPr>
        <p:spPr>
          <a:xfrm>
            <a:off x="7772400" y="3271680"/>
            <a:ext cx="133560" cy="528840"/>
          </a:xfrm>
          <a:custGeom>
            <a:avLst/>
            <a:gdLst/>
            <a:ahLst/>
            <a:rect l="0" t="0" r="r" b="b"/>
            <a:pathLst>
              <a:path w="371" h="1469">
                <a:moveTo>
                  <a:pt x="13" y="0"/>
                </a:moveTo>
                <a:lnTo>
                  <a:pt x="52" y="13"/>
                </a:lnTo>
                <a:lnTo>
                  <a:pt x="105" y="13"/>
                </a:lnTo>
                <a:lnTo>
                  <a:pt x="132" y="52"/>
                </a:lnTo>
                <a:lnTo>
                  <a:pt x="132" y="92"/>
                </a:lnTo>
                <a:lnTo>
                  <a:pt x="132" y="132"/>
                </a:lnTo>
                <a:lnTo>
                  <a:pt x="132" y="171"/>
                </a:lnTo>
                <a:lnTo>
                  <a:pt x="132" y="211"/>
                </a:lnTo>
                <a:lnTo>
                  <a:pt x="158" y="264"/>
                </a:lnTo>
                <a:lnTo>
                  <a:pt x="171" y="304"/>
                </a:lnTo>
                <a:lnTo>
                  <a:pt x="186" y="343"/>
                </a:lnTo>
                <a:lnTo>
                  <a:pt x="225" y="383"/>
                </a:lnTo>
                <a:lnTo>
                  <a:pt x="225" y="423"/>
                </a:lnTo>
                <a:lnTo>
                  <a:pt x="331" y="449"/>
                </a:lnTo>
                <a:lnTo>
                  <a:pt x="344" y="489"/>
                </a:lnTo>
                <a:lnTo>
                  <a:pt x="344" y="529"/>
                </a:lnTo>
                <a:lnTo>
                  <a:pt x="344" y="568"/>
                </a:lnTo>
                <a:lnTo>
                  <a:pt x="344" y="608"/>
                </a:lnTo>
                <a:lnTo>
                  <a:pt x="344" y="648"/>
                </a:lnTo>
                <a:lnTo>
                  <a:pt x="344" y="687"/>
                </a:lnTo>
                <a:lnTo>
                  <a:pt x="344" y="727"/>
                </a:lnTo>
                <a:lnTo>
                  <a:pt x="344" y="768"/>
                </a:lnTo>
                <a:lnTo>
                  <a:pt x="344" y="807"/>
                </a:lnTo>
                <a:lnTo>
                  <a:pt x="344" y="860"/>
                </a:lnTo>
                <a:lnTo>
                  <a:pt x="358" y="900"/>
                </a:lnTo>
                <a:lnTo>
                  <a:pt x="358" y="940"/>
                </a:lnTo>
                <a:lnTo>
                  <a:pt x="358" y="993"/>
                </a:lnTo>
                <a:lnTo>
                  <a:pt x="371" y="1072"/>
                </a:lnTo>
                <a:lnTo>
                  <a:pt x="371" y="1112"/>
                </a:lnTo>
                <a:lnTo>
                  <a:pt x="371" y="1151"/>
                </a:lnTo>
                <a:lnTo>
                  <a:pt x="371" y="1191"/>
                </a:lnTo>
                <a:lnTo>
                  <a:pt x="371" y="1231"/>
                </a:lnTo>
                <a:lnTo>
                  <a:pt x="371" y="1271"/>
                </a:lnTo>
                <a:lnTo>
                  <a:pt x="371" y="1310"/>
                </a:lnTo>
                <a:lnTo>
                  <a:pt x="371" y="1350"/>
                </a:lnTo>
                <a:lnTo>
                  <a:pt x="371" y="1390"/>
                </a:lnTo>
                <a:lnTo>
                  <a:pt x="371" y="1429"/>
                </a:lnTo>
                <a:lnTo>
                  <a:pt x="344" y="1469"/>
                </a:lnTo>
                <a:lnTo>
                  <a:pt x="305" y="1469"/>
                </a:lnTo>
                <a:lnTo>
                  <a:pt x="265" y="1469"/>
                </a:lnTo>
                <a:lnTo>
                  <a:pt x="225" y="1469"/>
                </a:lnTo>
                <a:lnTo>
                  <a:pt x="186" y="1456"/>
                </a:lnTo>
                <a:lnTo>
                  <a:pt x="186" y="1416"/>
                </a:lnTo>
                <a:lnTo>
                  <a:pt x="186" y="1376"/>
                </a:lnTo>
                <a:lnTo>
                  <a:pt x="186" y="1337"/>
                </a:lnTo>
                <a:lnTo>
                  <a:pt x="186" y="1297"/>
                </a:lnTo>
                <a:lnTo>
                  <a:pt x="186" y="1257"/>
                </a:lnTo>
                <a:lnTo>
                  <a:pt x="186" y="1218"/>
                </a:lnTo>
                <a:lnTo>
                  <a:pt x="186" y="1178"/>
                </a:lnTo>
                <a:lnTo>
                  <a:pt x="186" y="1138"/>
                </a:lnTo>
                <a:lnTo>
                  <a:pt x="186" y="1099"/>
                </a:lnTo>
                <a:lnTo>
                  <a:pt x="186" y="1059"/>
                </a:lnTo>
                <a:lnTo>
                  <a:pt x="186" y="1019"/>
                </a:lnTo>
                <a:lnTo>
                  <a:pt x="186" y="979"/>
                </a:lnTo>
                <a:lnTo>
                  <a:pt x="186" y="940"/>
                </a:lnTo>
                <a:lnTo>
                  <a:pt x="171" y="900"/>
                </a:lnTo>
                <a:lnTo>
                  <a:pt x="158" y="860"/>
                </a:lnTo>
                <a:lnTo>
                  <a:pt x="158" y="821"/>
                </a:lnTo>
                <a:lnTo>
                  <a:pt x="145" y="768"/>
                </a:lnTo>
                <a:lnTo>
                  <a:pt x="145" y="727"/>
                </a:lnTo>
                <a:lnTo>
                  <a:pt x="132" y="687"/>
                </a:lnTo>
                <a:lnTo>
                  <a:pt x="105" y="648"/>
                </a:lnTo>
                <a:lnTo>
                  <a:pt x="92" y="608"/>
                </a:lnTo>
                <a:lnTo>
                  <a:pt x="79" y="568"/>
                </a:lnTo>
                <a:lnTo>
                  <a:pt x="39" y="555"/>
                </a:lnTo>
                <a:lnTo>
                  <a:pt x="13" y="515"/>
                </a:lnTo>
                <a:lnTo>
                  <a:pt x="13" y="476"/>
                </a:lnTo>
                <a:lnTo>
                  <a:pt x="0" y="436"/>
                </a:lnTo>
                <a:lnTo>
                  <a:pt x="0" y="396"/>
                </a:lnTo>
                <a:lnTo>
                  <a:pt x="0" y="357"/>
                </a:lnTo>
                <a:lnTo>
                  <a:pt x="0" y="317"/>
                </a:lnTo>
                <a:lnTo>
                  <a:pt x="0" y="277"/>
                </a:lnTo>
                <a:lnTo>
                  <a:pt x="0" y="238"/>
                </a:lnTo>
                <a:lnTo>
                  <a:pt x="0" y="198"/>
                </a:lnTo>
                <a:lnTo>
                  <a:pt x="0" y="158"/>
                </a:lnTo>
                <a:lnTo>
                  <a:pt x="0" y="119"/>
                </a:lnTo>
                <a:lnTo>
                  <a:pt x="0" y="79"/>
                </a:lnTo>
                <a:lnTo>
                  <a:pt x="13" y="39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"/>
          <p:cNvSpPr/>
          <p:nvPr/>
        </p:nvSpPr>
        <p:spPr>
          <a:xfrm>
            <a:off x="3309840" y="3624120"/>
            <a:ext cx="167040" cy="448200"/>
          </a:xfrm>
          <a:custGeom>
            <a:avLst/>
            <a:gdLst/>
            <a:ahLst/>
            <a:rect l="0" t="0" r="r" b="b"/>
            <a:pathLst>
              <a:path w="464" h="1245">
                <a:moveTo>
                  <a:pt x="371" y="92"/>
                </a:moveTo>
                <a:lnTo>
                  <a:pt x="371" y="52"/>
                </a:lnTo>
                <a:lnTo>
                  <a:pt x="411" y="52"/>
                </a:lnTo>
                <a:lnTo>
                  <a:pt x="450" y="39"/>
                </a:lnTo>
                <a:lnTo>
                  <a:pt x="450" y="0"/>
                </a:lnTo>
                <a:lnTo>
                  <a:pt x="464" y="39"/>
                </a:lnTo>
                <a:lnTo>
                  <a:pt x="464" y="79"/>
                </a:lnTo>
                <a:lnTo>
                  <a:pt x="464" y="119"/>
                </a:lnTo>
                <a:lnTo>
                  <a:pt x="464" y="158"/>
                </a:lnTo>
                <a:lnTo>
                  <a:pt x="464" y="198"/>
                </a:lnTo>
                <a:lnTo>
                  <a:pt x="464" y="238"/>
                </a:lnTo>
                <a:lnTo>
                  <a:pt x="464" y="277"/>
                </a:lnTo>
                <a:lnTo>
                  <a:pt x="464" y="318"/>
                </a:lnTo>
                <a:lnTo>
                  <a:pt x="464" y="358"/>
                </a:lnTo>
                <a:lnTo>
                  <a:pt x="437" y="397"/>
                </a:lnTo>
                <a:lnTo>
                  <a:pt x="411" y="437"/>
                </a:lnTo>
                <a:lnTo>
                  <a:pt x="371" y="464"/>
                </a:lnTo>
                <a:lnTo>
                  <a:pt x="358" y="503"/>
                </a:lnTo>
                <a:lnTo>
                  <a:pt x="331" y="543"/>
                </a:lnTo>
                <a:lnTo>
                  <a:pt x="318" y="583"/>
                </a:lnTo>
                <a:lnTo>
                  <a:pt x="318" y="622"/>
                </a:lnTo>
                <a:lnTo>
                  <a:pt x="305" y="662"/>
                </a:lnTo>
                <a:lnTo>
                  <a:pt x="292" y="715"/>
                </a:lnTo>
                <a:lnTo>
                  <a:pt x="278" y="755"/>
                </a:lnTo>
                <a:lnTo>
                  <a:pt x="278" y="794"/>
                </a:lnTo>
                <a:lnTo>
                  <a:pt x="278" y="834"/>
                </a:lnTo>
                <a:lnTo>
                  <a:pt x="265" y="874"/>
                </a:lnTo>
                <a:lnTo>
                  <a:pt x="265" y="913"/>
                </a:lnTo>
                <a:lnTo>
                  <a:pt x="239" y="967"/>
                </a:lnTo>
                <a:lnTo>
                  <a:pt x="211" y="1007"/>
                </a:lnTo>
                <a:lnTo>
                  <a:pt x="198" y="1047"/>
                </a:lnTo>
                <a:lnTo>
                  <a:pt x="185" y="1086"/>
                </a:lnTo>
                <a:lnTo>
                  <a:pt x="158" y="1126"/>
                </a:lnTo>
                <a:lnTo>
                  <a:pt x="119" y="1139"/>
                </a:lnTo>
                <a:lnTo>
                  <a:pt x="119" y="1179"/>
                </a:lnTo>
                <a:lnTo>
                  <a:pt x="105" y="1219"/>
                </a:lnTo>
                <a:lnTo>
                  <a:pt x="66" y="1245"/>
                </a:lnTo>
                <a:lnTo>
                  <a:pt x="13" y="1245"/>
                </a:lnTo>
                <a:lnTo>
                  <a:pt x="0" y="1205"/>
                </a:lnTo>
                <a:lnTo>
                  <a:pt x="0" y="1166"/>
                </a:lnTo>
                <a:lnTo>
                  <a:pt x="0" y="1126"/>
                </a:lnTo>
                <a:lnTo>
                  <a:pt x="0" y="1086"/>
                </a:lnTo>
                <a:lnTo>
                  <a:pt x="0" y="1047"/>
                </a:lnTo>
                <a:lnTo>
                  <a:pt x="13" y="1007"/>
                </a:lnTo>
                <a:lnTo>
                  <a:pt x="13" y="967"/>
                </a:lnTo>
                <a:lnTo>
                  <a:pt x="26" y="927"/>
                </a:lnTo>
                <a:lnTo>
                  <a:pt x="66" y="900"/>
                </a:lnTo>
                <a:lnTo>
                  <a:pt x="79" y="860"/>
                </a:lnTo>
                <a:lnTo>
                  <a:pt x="119" y="847"/>
                </a:lnTo>
                <a:lnTo>
                  <a:pt x="132" y="807"/>
                </a:lnTo>
                <a:lnTo>
                  <a:pt x="171" y="807"/>
                </a:lnTo>
                <a:lnTo>
                  <a:pt x="171" y="768"/>
                </a:lnTo>
                <a:lnTo>
                  <a:pt x="171" y="728"/>
                </a:lnTo>
                <a:lnTo>
                  <a:pt x="171" y="688"/>
                </a:lnTo>
                <a:lnTo>
                  <a:pt x="171" y="636"/>
                </a:lnTo>
                <a:lnTo>
                  <a:pt x="185" y="596"/>
                </a:lnTo>
                <a:lnTo>
                  <a:pt x="198" y="543"/>
                </a:lnTo>
                <a:lnTo>
                  <a:pt x="278" y="530"/>
                </a:lnTo>
                <a:lnTo>
                  <a:pt x="318" y="477"/>
                </a:lnTo>
                <a:lnTo>
                  <a:pt x="318" y="437"/>
                </a:lnTo>
                <a:lnTo>
                  <a:pt x="318" y="397"/>
                </a:lnTo>
                <a:lnTo>
                  <a:pt x="278" y="424"/>
                </a:lnTo>
                <a:lnTo>
                  <a:pt x="239" y="530"/>
                </a:lnTo>
                <a:lnTo>
                  <a:pt x="198" y="583"/>
                </a:lnTo>
                <a:lnTo>
                  <a:pt x="171" y="622"/>
                </a:lnTo>
                <a:lnTo>
                  <a:pt x="211" y="596"/>
                </a:lnTo>
                <a:lnTo>
                  <a:pt x="211" y="556"/>
                </a:lnTo>
                <a:lnTo>
                  <a:pt x="211" y="516"/>
                </a:lnTo>
                <a:lnTo>
                  <a:pt x="224" y="464"/>
                </a:lnTo>
                <a:lnTo>
                  <a:pt x="224" y="424"/>
                </a:lnTo>
                <a:lnTo>
                  <a:pt x="224" y="384"/>
                </a:lnTo>
                <a:lnTo>
                  <a:pt x="224" y="344"/>
                </a:lnTo>
                <a:lnTo>
                  <a:pt x="224" y="304"/>
                </a:lnTo>
                <a:lnTo>
                  <a:pt x="224" y="264"/>
                </a:lnTo>
                <a:lnTo>
                  <a:pt x="224" y="224"/>
                </a:lnTo>
                <a:lnTo>
                  <a:pt x="265" y="224"/>
                </a:lnTo>
                <a:lnTo>
                  <a:pt x="305" y="224"/>
                </a:lnTo>
                <a:lnTo>
                  <a:pt x="358" y="224"/>
                </a:lnTo>
                <a:lnTo>
                  <a:pt x="305" y="224"/>
                </a:lnTo>
                <a:lnTo>
                  <a:pt x="265" y="211"/>
                </a:lnTo>
                <a:lnTo>
                  <a:pt x="292" y="171"/>
                </a:lnTo>
                <a:lnTo>
                  <a:pt x="331" y="158"/>
                </a:lnTo>
                <a:lnTo>
                  <a:pt x="344" y="119"/>
                </a:lnTo>
                <a:lnTo>
                  <a:pt x="371" y="79"/>
                </a:lnTo>
                <a:lnTo>
                  <a:pt x="371" y="9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"/>
          <p:cNvSpPr/>
          <p:nvPr/>
        </p:nvSpPr>
        <p:spPr>
          <a:xfrm>
            <a:off x="3400560" y="3646440"/>
            <a:ext cx="78120" cy="47880"/>
          </a:xfrm>
          <a:custGeom>
            <a:avLst/>
            <a:gdLst/>
            <a:ahLst/>
            <a:rect l="0" t="0" r="r" b="b"/>
            <a:pathLst>
              <a:path w="217" h="133">
                <a:moveTo>
                  <a:pt x="108" y="133"/>
                </a:moveTo>
                <a:lnTo>
                  <a:pt x="217" y="67"/>
                </a:lnTo>
                <a:lnTo>
                  <a:pt x="108" y="0"/>
                </a:lnTo>
                <a:lnTo>
                  <a:pt x="0" y="67"/>
                </a:lnTo>
                <a:lnTo>
                  <a:pt x="108" y="1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0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5761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3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4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5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6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7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"/>
          <p:cNvSpPr txBox="1"/>
          <p:nvPr/>
        </p:nvSpPr>
        <p:spPr>
          <a:xfrm>
            <a:off x="112680" y="111240"/>
            <a:ext cx="4254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 Contour Inter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9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5770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5771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2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3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4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5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6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5777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8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5779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1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5782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5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5786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8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5789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2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3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4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5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6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7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8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9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0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1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3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4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5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6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5807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9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5810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2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5813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5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7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8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9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0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1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2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5823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5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5826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8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5829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1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2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3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4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5835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7" name=""/>
          <p:cNvSpPr/>
          <p:nvPr/>
        </p:nvSpPr>
        <p:spPr>
          <a:xfrm>
            <a:off x="6757920" y="3029040"/>
            <a:ext cx="0" cy="223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8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9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0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1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2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3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4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5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6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7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8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9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0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1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2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3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4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5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6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7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8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5859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1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5862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4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5865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7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5868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0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1" name=""/>
          <p:cNvSpPr/>
          <p:nvPr/>
        </p:nvSpPr>
        <p:spPr>
          <a:xfrm flipV="1">
            <a:off x="1260360" y="153036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2" name=""/>
          <p:cNvSpPr/>
          <p:nvPr/>
        </p:nvSpPr>
        <p:spPr>
          <a:xfrm>
            <a:off x="1359000" y="2044800"/>
            <a:ext cx="864000" cy="3518280"/>
          </a:xfrm>
          <a:custGeom>
            <a:avLst/>
            <a:gdLst/>
            <a:ahLst/>
            <a:rect l="0" t="0" r="r" b="b"/>
            <a:pathLst>
              <a:path fill="none" w="2400" h="9773">
                <a:moveTo>
                  <a:pt x="246" y="9773"/>
                </a:moveTo>
                <a:lnTo>
                  <a:pt x="0" y="6668"/>
                </a:lnTo>
                <a:lnTo>
                  <a:pt x="2118" y="0"/>
                </a:lnTo>
                <a:lnTo>
                  <a:pt x="2400" y="3140"/>
                </a:lnTo>
                <a:lnTo>
                  <a:pt x="246" y="97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3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4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5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6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7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8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9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0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1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2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3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4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5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6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7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8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9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0" name=""/>
          <p:cNvSpPr/>
          <p:nvPr/>
        </p:nvSpPr>
        <p:spPr>
          <a:xfrm>
            <a:off x="5270400" y="208296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1" name=""/>
          <p:cNvSpPr/>
          <p:nvPr/>
        </p:nvSpPr>
        <p:spPr>
          <a:xfrm>
            <a:off x="5702400" y="204480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2" name=""/>
          <p:cNvSpPr/>
          <p:nvPr/>
        </p:nvSpPr>
        <p:spPr>
          <a:xfrm>
            <a:off x="5092560" y="293364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3" name=""/>
          <p:cNvSpPr/>
          <p:nvPr/>
        </p:nvSpPr>
        <p:spPr>
          <a:xfrm>
            <a:off x="6019920" y="285768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4" name=""/>
          <p:cNvSpPr/>
          <p:nvPr/>
        </p:nvSpPr>
        <p:spPr>
          <a:xfrm>
            <a:off x="4788000" y="247644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5" name=""/>
          <p:cNvSpPr/>
          <p:nvPr/>
        </p:nvSpPr>
        <p:spPr>
          <a:xfrm>
            <a:off x="6451560" y="234936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6" name=""/>
          <p:cNvSpPr/>
          <p:nvPr/>
        </p:nvSpPr>
        <p:spPr>
          <a:xfrm>
            <a:off x="7289640" y="340344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7" name=""/>
          <p:cNvSpPr/>
          <p:nvPr/>
        </p:nvSpPr>
        <p:spPr>
          <a:xfrm>
            <a:off x="6489720" y="318780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8" name=""/>
          <p:cNvSpPr/>
          <p:nvPr/>
        </p:nvSpPr>
        <p:spPr>
          <a:xfrm>
            <a:off x="4597560" y="332748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9" name=""/>
          <p:cNvSpPr/>
          <p:nvPr/>
        </p:nvSpPr>
        <p:spPr>
          <a:xfrm>
            <a:off x="3924360" y="367020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0" name=""/>
          <p:cNvSpPr/>
          <p:nvPr/>
        </p:nvSpPr>
        <p:spPr>
          <a:xfrm>
            <a:off x="3441600" y="358128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1" name=""/>
          <p:cNvSpPr/>
          <p:nvPr/>
        </p:nvSpPr>
        <p:spPr>
          <a:xfrm>
            <a:off x="7696080" y="323856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2" name=""/>
          <p:cNvSpPr/>
          <p:nvPr/>
        </p:nvSpPr>
        <p:spPr>
          <a:xfrm>
            <a:off x="3301920" y="408924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3" name=""/>
          <p:cNvSpPr/>
          <p:nvPr/>
        </p:nvSpPr>
        <p:spPr>
          <a:xfrm>
            <a:off x="7785000" y="375912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4" name=""/>
          <p:cNvSpPr/>
          <p:nvPr/>
        </p:nvSpPr>
        <p:spPr>
          <a:xfrm>
            <a:off x="7137360" y="264168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5" name=""/>
          <p:cNvSpPr/>
          <p:nvPr/>
        </p:nvSpPr>
        <p:spPr>
          <a:xfrm>
            <a:off x="4000680" y="287028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6" name=""/>
          <p:cNvSpPr/>
          <p:nvPr/>
        </p:nvSpPr>
        <p:spPr>
          <a:xfrm>
            <a:off x="3324240" y="1962000"/>
            <a:ext cx="4553280" cy="2153160"/>
          </a:xfrm>
          <a:custGeom>
            <a:avLst/>
            <a:gdLst/>
            <a:ahLst/>
            <a:rect l="0" t="0" r="r" b="b"/>
            <a:pathLst>
              <a:path fill="none" w="12648" h="5981">
                <a:moveTo>
                  <a:pt x="0" y="5981"/>
                </a:moveTo>
                <a:lnTo>
                  <a:pt x="238" y="5011"/>
                </a:lnTo>
                <a:lnTo>
                  <a:pt x="295" y="4667"/>
                </a:lnTo>
                <a:lnTo>
                  <a:pt x="343" y="4588"/>
                </a:lnTo>
                <a:lnTo>
                  <a:pt x="476" y="4419"/>
                </a:lnTo>
                <a:lnTo>
                  <a:pt x="529" y="4340"/>
                </a:lnTo>
                <a:lnTo>
                  <a:pt x="635" y="4260"/>
                </a:lnTo>
                <a:lnTo>
                  <a:pt x="714" y="4207"/>
                </a:lnTo>
                <a:lnTo>
                  <a:pt x="714" y="4128"/>
                </a:lnTo>
                <a:lnTo>
                  <a:pt x="793" y="4075"/>
                </a:lnTo>
                <a:lnTo>
                  <a:pt x="873" y="4022"/>
                </a:lnTo>
                <a:lnTo>
                  <a:pt x="899" y="3943"/>
                </a:lnTo>
                <a:lnTo>
                  <a:pt x="1058" y="3863"/>
                </a:lnTo>
                <a:lnTo>
                  <a:pt x="1111" y="3784"/>
                </a:lnTo>
                <a:lnTo>
                  <a:pt x="1111" y="3705"/>
                </a:lnTo>
                <a:lnTo>
                  <a:pt x="1111" y="3625"/>
                </a:lnTo>
                <a:lnTo>
                  <a:pt x="1111" y="3546"/>
                </a:lnTo>
                <a:lnTo>
                  <a:pt x="1111" y="3467"/>
                </a:lnTo>
                <a:lnTo>
                  <a:pt x="1190" y="3414"/>
                </a:lnTo>
                <a:lnTo>
                  <a:pt x="1217" y="3334"/>
                </a:lnTo>
                <a:lnTo>
                  <a:pt x="1296" y="3308"/>
                </a:lnTo>
                <a:lnTo>
                  <a:pt x="1375" y="3281"/>
                </a:lnTo>
                <a:lnTo>
                  <a:pt x="1455" y="3228"/>
                </a:lnTo>
                <a:lnTo>
                  <a:pt x="1534" y="3176"/>
                </a:lnTo>
                <a:lnTo>
                  <a:pt x="1613" y="3123"/>
                </a:lnTo>
                <a:lnTo>
                  <a:pt x="1613" y="3043"/>
                </a:lnTo>
                <a:lnTo>
                  <a:pt x="1675" y="2964"/>
                </a:lnTo>
                <a:lnTo>
                  <a:pt x="1640" y="3017"/>
                </a:lnTo>
                <a:lnTo>
                  <a:pt x="1640" y="2990"/>
                </a:lnTo>
                <a:lnTo>
                  <a:pt x="1799" y="2911"/>
                </a:lnTo>
                <a:lnTo>
                  <a:pt x="1684" y="2955"/>
                </a:lnTo>
                <a:lnTo>
                  <a:pt x="1710" y="2937"/>
                </a:lnTo>
                <a:lnTo>
                  <a:pt x="1799" y="2911"/>
                </a:lnTo>
                <a:lnTo>
                  <a:pt x="1807" y="2867"/>
                </a:lnTo>
                <a:lnTo>
                  <a:pt x="1755" y="2911"/>
                </a:lnTo>
                <a:lnTo>
                  <a:pt x="1852" y="2832"/>
                </a:lnTo>
                <a:lnTo>
                  <a:pt x="1931" y="2699"/>
                </a:lnTo>
                <a:lnTo>
                  <a:pt x="1931" y="2593"/>
                </a:lnTo>
                <a:lnTo>
                  <a:pt x="2028" y="2523"/>
                </a:lnTo>
                <a:lnTo>
                  <a:pt x="2081" y="2496"/>
                </a:lnTo>
                <a:lnTo>
                  <a:pt x="2116" y="2488"/>
                </a:lnTo>
                <a:lnTo>
                  <a:pt x="2196" y="2488"/>
                </a:lnTo>
                <a:lnTo>
                  <a:pt x="2275" y="2488"/>
                </a:lnTo>
                <a:lnTo>
                  <a:pt x="2354" y="2488"/>
                </a:lnTo>
                <a:lnTo>
                  <a:pt x="2434" y="2435"/>
                </a:lnTo>
                <a:lnTo>
                  <a:pt x="2460" y="2355"/>
                </a:lnTo>
                <a:lnTo>
                  <a:pt x="2540" y="2329"/>
                </a:lnTo>
                <a:lnTo>
                  <a:pt x="2619" y="2276"/>
                </a:lnTo>
                <a:lnTo>
                  <a:pt x="2698" y="2249"/>
                </a:lnTo>
                <a:lnTo>
                  <a:pt x="2778" y="2249"/>
                </a:lnTo>
                <a:lnTo>
                  <a:pt x="2857" y="2223"/>
                </a:lnTo>
                <a:lnTo>
                  <a:pt x="2936" y="2170"/>
                </a:lnTo>
                <a:lnTo>
                  <a:pt x="3016" y="2144"/>
                </a:lnTo>
                <a:lnTo>
                  <a:pt x="3095" y="2144"/>
                </a:lnTo>
                <a:lnTo>
                  <a:pt x="3175" y="2144"/>
                </a:lnTo>
                <a:lnTo>
                  <a:pt x="3254" y="2144"/>
                </a:lnTo>
                <a:lnTo>
                  <a:pt x="3289" y="2108"/>
                </a:lnTo>
                <a:lnTo>
                  <a:pt x="3360" y="2064"/>
                </a:lnTo>
                <a:lnTo>
                  <a:pt x="3386" y="1985"/>
                </a:lnTo>
                <a:lnTo>
                  <a:pt x="3466" y="1906"/>
                </a:lnTo>
                <a:lnTo>
                  <a:pt x="3545" y="1853"/>
                </a:lnTo>
                <a:lnTo>
                  <a:pt x="3651" y="1773"/>
                </a:lnTo>
                <a:lnTo>
                  <a:pt x="3730" y="1667"/>
                </a:lnTo>
                <a:lnTo>
                  <a:pt x="3810" y="1641"/>
                </a:lnTo>
                <a:lnTo>
                  <a:pt x="3889" y="1614"/>
                </a:lnTo>
                <a:lnTo>
                  <a:pt x="3968" y="1509"/>
                </a:lnTo>
                <a:lnTo>
                  <a:pt x="4118" y="1500"/>
                </a:lnTo>
                <a:lnTo>
                  <a:pt x="4189" y="1464"/>
                </a:lnTo>
                <a:lnTo>
                  <a:pt x="4198" y="1437"/>
                </a:lnTo>
                <a:lnTo>
                  <a:pt x="4233" y="1428"/>
                </a:lnTo>
                <a:lnTo>
                  <a:pt x="4356" y="1411"/>
                </a:lnTo>
                <a:lnTo>
                  <a:pt x="4453" y="1446"/>
                </a:lnTo>
                <a:lnTo>
                  <a:pt x="4550" y="1437"/>
                </a:lnTo>
                <a:lnTo>
                  <a:pt x="4656" y="1402"/>
                </a:lnTo>
                <a:lnTo>
                  <a:pt x="4762" y="1322"/>
                </a:lnTo>
                <a:lnTo>
                  <a:pt x="4841" y="1270"/>
                </a:lnTo>
                <a:lnTo>
                  <a:pt x="4921" y="1217"/>
                </a:lnTo>
                <a:lnTo>
                  <a:pt x="5000" y="1164"/>
                </a:lnTo>
                <a:lnTo>
                  <a:pt x="5106" y="1084"/>
                </a:lnTo>
                <a:lnTo>
                  <a:pt x="5132" y="1005"/>
                </a:lnTo>
                <a:lnTo>
                  <a:pt x="5212" y="820"/>
                </a:lnTo>
                <a:lnTo>
                  <a:pt x="5238" y="740"/>
                </a:lnTo>
                <a:lnTo>
                  <a:pt x="5318" y="687"/>
                </a:lnTo>
                <a:lnTo>
                  <a:pt x="5371" y="608"/>
                </a:lnTo>
                <a:lnTo>
                  <a:pt x="5450" y="502"/>
                </a:lnTo>
                <a:lnTo>
                  <a:pt x="5468" y="414"/>
                </a:lnTo>
                <a:lnTo>
                  <a:pt x="5556" y="370"/>
                </a:lnTo>
                <a:lnTo>
                  <a:pt x="5582" y="317"/>
                </a:lnTo>
                <a:lnTo>
                  <a:pt x="5662" y="264"/>
                </a:lnTo>
                <a:lnTo>
                  <a:pt x="6111" y="26"/>
                </a:lnTo>
                <a:lnTo>
                  <a:pt x="5979" y="105"/>
                </a:lnTo>
                <a:lnTo>
                  <a:pt x="5767" y="202"/>
                </a:lnTo>
                <a:lnTo>
                  <a:pt x="5997" y="97"/>
                </a:lnTo>
                <a:lnTo>
                  <a:pt x="6058" y="52"/>
                </a:lnTo>
                <a:lnTo>
                  <a:pt x="6164" y="0"/>
                </a:lnTo>
                <a:lnTo>
                  <a:pt x="6244" y="26"/>
                </a:lnTo>
                <a:lnTo>
                  <a:pt x="6351" y="79"/>
                </a:lnTo>
                <a:lnTo>
                  <a:pt x="6430" y="79"/>
                </a:lnTo>
                <a:lnTo>
                  <a:pt x="6483" y="158"/>
                </a:lnTo>
                <a:lnTo>
                  <a:pt x="6562" y="185"/>
                </a:lnTo>
                <a:lnTo>
                  <a:pt x="6615" y="264"/>
                </a:lnTo>
                <a:lnTo>
                  <a:pt x="6694" y="317"/>
                </a:lnTo>
                <a:lnTo>
                  <a:pt x="6774" y="370"/>
                </a:lnTo>
                <a:lnTo>
                  <a:pt x="6853" y="370"/>
                </a:lnTo>
                <a:lnTo>
                  <a:pt x="6933" y="449"/>
                </a:lnTo>
                <a:lnTo>
                  <a:pt x="6986" y="529"/>
                </a:lnTo>
                <a:lnTo>
                  <a:pt x="6986" y="608"/>
                </a:lnTo>
                <a:lnTo>
                  <a:pt x="7065" y="661"/>
                </a:lnTo>
                <a:lnTo>
                  <a:pt x="7144" y="661"/>
                </a:lnTo>
                <a:lnTo>
                  <a:pt x="7224" y="661"/>
                </a:lnTo>
                <a:lnTo>
                  <a:pt x="7303" y="661"/>
                </a:lnTo>
                <a:lnTo>
                  <a:pt x="7409" y="661"/>
                </a:lnTo>
                <a:lnTo>
                  <a:pt x="7488" y="661"/>
                </a:lnTo>
                <a:lnTo>
                  <a:pt x="7568" y="661"/>
                </a:lnTo>
                <a:lnTo>
                  <a:pt x="7673" y="661"/>
                </a:lnTo>
                <a:lnTo>
                  <a:pt x="7753" y="687"/>
                </a:lnTo>
                <a:lnTo>
                  <a:pt x="7832" y="740"/>
                </a:lnTo>
                <a:lnTo>
                  <a:pt x="7912" y="767"/>
                </a:lnTo>
                <a:lnTo>
                  <a:pt x="7991" y="767"/>
                </a:lnTo>
                <a:lnTo>
                  <a:pt x="8070" y="793"/>
                </a:lnTo>
                <a:lnTo>
                  <a:pt x="8150" y="846"/>
                </a:lnTo>
                <a:lnTo>
                  <a:pt x="8203" y="926"/>
                </a:lnTo>
                <a:lnTo>
                  <a:pt x="8282" y="978"/>
                </a:lnTo>
                <a:lnTo>
                  <a:pt x="8308" y="1058"/>
                </a:lnTo>
                <a:lnTo>
                  <a:pt x="8414" y="1111"/>
                </a:lnTo>
                <a:lnTo>
                  <a:pt x="8494" y="1111"/>
                </a:lnTo>
                <a:lnTo>
                  <a:pt x="8573" y="1111"/>
                </a:lnTo>
                <a:lnTo>
                  <a:pt x="8785" y="1164"/>
                </a:lnTo>
                <a:lnTo>
                  <a:pt x="8943" y="1190"/>
                </a:lnTo>
                <a:lnTo>
                  <a:pt x="9234" y="1190"/>
                </a:lnTo>
                <a:lnTo>
                  <a:pt x="9287" y="1190"/>
                </a:lnTo>
                <a:lnTo>
                  <a:pt x="9367" y="1270"/>
                </a:lnTo>
                <a:lnTo>
                  <a:pt x="9420" y="1349"/>
                </a:lnTo>
                <a:lnTo>
                  <a:pt x="9499" y="1402"/>
                </a:lnTo>
                <a:lnTo>
                  <a:pt x="9578" y="1428"/>
                </a:lnTo>
                <a:lnTo>
                  <a:pt x="9658" y="1455"/>
                </a:lnTo>
                <a:lnTo>
                  <a:pt x="9737" y="1509"/>
                </a:lnTo>
                <a:lnTo>
                  <a:pt x="9817" y="1535"/>
                </a:lnTo>
                <a:lnTo>
                  <a:pt x="9896" y="1535"/>
                </a:lnTo>
                <a:lnTo>
                  <a:pt x="9975" y="1588"/>
                </a:lnTo>
                <a:lnTo>
                  <a:pt x="10055" y="1614"/>
                </a:lnTo>
                <a:lnTo>
                  <a:pt x="10108" y="1694"/>
                </a:lnTo>
                <a:lnTo>
                  <a:pt x="10213" y="1747"/>
                </a:lnTo>
                <a:lnTo>
                  <a:pt x="10293" y="1773"/>
                </a:lnTo>
                <a:lnTo>
                  <a:pt x="10346" y="1853"/>
                </a:lnTo>
                <a:lnTo>
                  <a:pt x="10425" y="1879"/>
                </a:lnTo>
                <a:lnTo>
                  <a:pt x="10531" y="1906"/>
                </a:lnTo>
                <a:lnTo>
                  <a:pt x="10663" y="1985"/>
                </a:lnTo>
                <a:lnTo>
                  <a:pt x="10690" y="2038"/>
                </a:lnTo>
                <a:lnTo>
                  <a:pt x="10796" y="2091"/>
                </a:lnTo>
                <a:lnTo>
                  <a:pt x="10848" y="2170"/>
                </a:lnTo>
                <a:lnTo>
                  <a:pt x="10901" y="2249"/>
                </a:lnTo>
                <a:lnTo>
                  <a:pt x="11113" y="2329"/>
                </a:lnTo>
                <a:lnTo>
                  <a:pt x="11139" y="2408"/>
                </a:lnTo>
                <a:lnTo>
                  <a:pt x="11192" y="2488"/>
                </a:lnTo>
                <a:lnTo>
                  <a:pt x="11272" y="2567"/>
                </a:lnTo>
                <a:lnTo>
                  <a:pt x="11351" y="2646"/>
                </a:lnTo>
                <a:lnTo>
                  <a:pt x="11351" y="2726"/>
                </a:lnTo>
                <a:lnTo>
                  <a:pt x="11351" y="2805"/>
                </a:lnTo>
                <a:lnTo>
                  <a:pt x="11431" y="2884"/>
                </a:lnTo>
                <a:lnTo>
                  <a:pt x="11510" y="2990"/>
                </a:lnTo>
                <a:lnTo>
                  <a:pt x="11616" y="3070"/>
                </a:lnTo>
                <a:lnTo>
                  <a:pt x="11695" y="3123"/>
                </a:lnTo>
                <a:lnTo>
                  <a:pt x="11774" y="3202"/>
                </a:lnTo>
                <a:lnTo>
                  <a:pt x="11827" y="3281"/>
                </a:lnTo>
                <a:lnTo>
                  <a:pt x="11933" y="3361"/>
                </a:lnTo>
                <a:lnTo>
                  <a:pt x="12013" y="3414"/>
                </a:lnTo>
                <a:lnTo>
                  <a:pt x="12092" y="3440"/>
                </a:lnTo>
                <a:lnTo>
                  <a:pt x="12145" y="3519"/>
                </a:lnTo>
                <a:lnTo>
                  <a:pt x="12409" y="3599"/>
                </a:lnTo>
                <a:lnTo>
                  <a:pt x="12409" y="3678"/>
                </a:lnTo>
                <a:lnTo>
                  <a:pt x="12409" y="3758"/>
                </a:lnTo>
                <a:lnTo>
                  <a:pt x="12409" y="3837"/>
                </a:lnTo>
                <a:lnTo>
                  <a:pt x="12409" y="3916"/>
                </a:lnTo>
                <a:lnTo>
                  <a:pt x="12409" y="3996"/>
                </a:lnTo>
                <a:lnTo>
                  <a:pt x="12409" y="4075"/>
                </a:lnTo>
                <a:lnTo>
                  <a:pt x="12568" y="4287"/>
                </a:lnTo>
                <a:lnTo>
                  <a:pt x="12595" y="4499"/>
                </a:lnTo>
                <a:lnTo>
                  <a:pt x="12568" y="4579"/>
                </a:lnTo>
                <a:lnTo>
                  <a:pt x="12568" y="4658"/>
                </a:lnTo>
                <a:lnTo>
                  <a:pt x="12621" y="4658"/>
                </a:lnTo>
                <a:lnTo>
                  <a:pt x="12621" y="4790"/>
                </a:lnTo>
                <a:lnTo>
                  <a:pt x="12648" y="4870"/>
                </a:lnTo>
                <a:lnTo>
                  <a:pt x="12621" y="4949"/>
                </a:lnTo>
                <a:lnTo>
                  <a:pt x="12621" y="5029"/>
                </a:lnTo>
                <a:lnTo>
                  <a:pt x="12621" y="5108"/>
                </a:lnTo>
                <a:lnTo>
                  <a:pt x="12542" y="5134"/>
                </a:lnTo>
                <a:lnTo>
                  <a:pt x="12462" y="5134"/>
                </a:lnTo>
                <a:lnTo>
                  <a:pt x="12383" y="5108"/>
                </a:lnTo>
                <a:lnTo>
                  <a:pt x="12304" y="5081"/>
                </a:lnTo>
                <a:lnTo>
                  <a:pt x="12224" y="5055"/>
                </a:lnTo>
                <a:lnTo>
                  <a:pt x="12145" y="5002"/>
                </a:lnTo>
                <a:lnTo>
                  <a:pt x="12066" y="4976"/>
                </a:lnTo>
                <a:lnTo>
                  <a:pt x="12013" y="4870"/>
                </a:lnTo>
                <a:lnTo>
                  <a:pt x="11986" y="4764"/>
                </a:lnTo>
                <a:lnTo>
                  <a:pt x="11960" y="4685"/>
                </a:lnTo>
                <a:lnTo>
                  <a:pt x="11880" y="4605"/>
                </a:lnTo>
                <a:lnTo>
                  <a:pt x="11801" y="4552"/>
                </a:lnTo>
                <a:lnTo>
                  <a:pt x="11722" y="4499"/>
                </a:lnTo>
                <a:lnTo>
                  <a:pt x="11642" y="4446"/>
                </a:lnTo>
                <a:lnTo>
                  <a:pt x="11563" y="4419"/>
                </a:lnTo>
                <a:lnTo>
                  <a:pt x="11483" y="4340"/>
                </a:lnTo>
                <a:lnTo>
                  <a:pt x="11404" y="4287"/>
                </a:lnTo>
                <a:lnTo>
                  <a:pt x="11325" y="4287"/>
                </a:lnTo>
                <a:lnTo>
                  <a:pt x="11272" y="4207"/>
                </a:lnTo>
                <a:lnTo>
                  <a:pt x="11192" y="4207"/>
                </a:lnTo>
                <a:lnTo>
                  <a:pt x="11139" y="4128"/>
                </a:lnTo>
                <a:lnTo>
                  <a:pt x="11060" y="4102"/>
                </a:lnTo>
                <a:lnTo>
                  <a:pt x="10981" y="4075"/>
                </a:lnTo>
                <a:lnTo>
                  <a:pt x="10928" y="3996"/>
                </a:lnTo>
                <a:lnTo>
                  <a:pt x="10848" y="3996"/>
                </a:lnTo>
                <a:lnTo>
                  <a:pt x="10743" y="3969"/>
                </a:lnTo>
                <a:lnTo>
                  <a:pt x="10637" y="3916"/>
                </a:lnTo>
                <a:lnTo>
                  <a:pt x="10557" y="3916"/>
                </a:lnTo>
                <a:lnTo>
                  <a:pt x="10478" y="3916"/>
                </a:lnTo>
                <a:lnTo>
                  <a:pt x="10399" y="3916"/>
                </a:lnTo>
                <a:lnTo>
                  <a:pt x="10319" y="3916"/>
                </a:lnTo>
                <a:lnTo>
                  <a:pt x="10240" y="3916"/>
                </a:lnTo>
                <a:lnTo>
                  <a:pt x="10134" y="3916"/>
                </a:lnTo>
                <a:lnTo>
                  <a:pt x="9975" y="3890"/>
                </a:lnTo>
                <a:lnTo>
                  <a:pt x="9817" y="3890"/>
                </a:lnTo>
                <a:lnTo>
                  <a:pt x="9711" y="3863"/>
                </a:lnTo>
                <a:lnTo>
                  <a:pt x="9605" y="3837"/>
                </a:lnTo>
                <a:lnTo>
                  <a:pt x="9499" y="3784"/>
                </a:lnTo>
                <a:lnTo>
                  <a:pt x="9420" y="3784"/>
                </a:lnTo>
                <a:lnTo>
                  <a:pt x="9340" y="3784"/>
                </a:lnTo>
                <a:lnTo>
                  <a:pt x="9261" y="3758"/>
                </a:lnTo>
                <a:lnTo>
                  <a:pt x="9155" y="3705"/>
                </a:lnTo>
                <a:lnTo>
                  <a:pt x="9076" y="3678"/>
                </a:lnTo>
                <a:lnTo>
                  <a:pt x="8996" y="3678"/>
                </a:lnTo>
                <a:lnTo>
                  <a:pt x="8943" y="3652"/>
                </a:lnTo>
                <a:lnTo>
                  <a:pt x="8943" y="3625"/>
                </a:lnTo>
                <a:lnTo>
                  <a:pt x="8917" y="3546"/>
                </a:lnTo>
                <a:lnTo>
                  <a:pt x="8838" y="3519"/>
                </a:lnTo>
                <a:lnTo>
                  <a:pt x="8838" y="3440"/>
                </a:lnTo>
                <a:lnTo>
                  <a:pt x="8811" y="3361"/>
                </a:lnTo>
                <a:lnTo>
                  <a:pt x="8732" y="3308"/>
                </a:lnTo>
                <a:lnTo>
                  <a:pt x="8652" y="3228"/>
                </a:lnTo>
                <a:lnTo>
                  <a:pt x="8599" y="3149"/>
                </a:lnTo>
                <a:lnTo>
                  <a:pt x="8520" y="3096"/>
                </a:lnTo>
                <a:lnTo>
                  <a:pt x="8441" y="3070"/>
                </a:lnTo>
                <a:lnTo>
                  <a:pt x="8361" y="3043"/>
                </a:lnTo>
                <a:lnTo>
                  <a:pt x="8282" y="2990"/>
                </a:lnTo>
                <a:lnTo>
                  <a:pt x="8203" y="2937"/>
                </a:lnTo>
                <a:lnTo>
                  <a:pt x="8123" y="2911"/>
                </a:lnTo>
                <a:lnTo>
                  <a:pt x="8044" y="2858"/>
                </a:lnTo>
                <a:lnTo>
                  <a:pt x="7964" y="2805"/>
                </a:lnTo>
                <a:lnTo>
                  <a:pt x="7912" y="2726"/>
                </a:lnTo>
                <a:lnTo>
                  <a:pt x="7832" y="2699"/>
                </a:lnTo>
                <a:lnTo>
                  <a:pt x="7753" y="2673"/>
                </a:lnTo>
                <a:lnTo>
                  <a:pt x="7647" y="2620"/>
                </a:lnTo>
                <a:lnTo>
                  <a:pt x="7568" y="2593"/>
                </a:lnTo>
                <a:lnTo>
                  <a:pt x="7488" y="2593"/>
                </a:lnTo>
                <a:lnTo>
                  <a:pt x="7409" y="2541"/>
                </a:lnTo>
                <a:lnTo>
                  <a:pt x="7329" y="2514"/>
                </a:lnTo>
                <a:lnTo>
                  <a:pt x="7277" y="2435"/>
                </a:lnTo>
                <a:lnTo>
                  <a:pt x="7197" y="2408"/>
                </a:lnTo>
                <a:lnTo>
                  <a:pt x="7118" y="2408"/>
                </a:lnTo>
                <a:lnTo>
                  <a:pt x="7038" y="2408"/>
                </a:lnTo>
                <a:lnTo>
                  <a:pt x="6959" y="2408"/>
                </a:lnTo>
                <a:lnTo>
                  <a:pt x="6880" y="2408"/>
                </a:lnTo>
                <a:lnTo>
                  <a:pt x="6800" y="2408"/>
                </a:lnTo>
                <a:lnTo>
                  <a:pt x="6721" y="2408"/>
                </a:lnTo>
                <a:lnTo>
                  <a:pt x="6642" y="2408"/>
                </a:lnTo>
                <a:lnTo>
                  <a:pt x="6615" y="2329"/>
                </a:lnTo>
                <a:lnTo>
                  <a:pt x="6589" y="2249"/>
                </a:lnTo>
                <a:lnTo>
                  <a:pt x="6509" y="2197"/>
                </a:lnTo>
                <a:lnTo>
                  <a:pt x="6465" y="2179"/>
                </a:lnTo>
                <a:lnTo>
                  <a:pt x="6430" y="2117"/>
                </a:lnTo>
                <a:lnTo>
                  <a:pt x="6377" y="2038"/>
                </a:lnTo>
                <a:lnTo>
                  <a:pt x="6270" y="1985"/>
                </a:lnTo>
                <a:lnTo>
                  <a:pt x="6217" y="1888"/>
                </a:lnTo>
                <a:lnTo>
                  <a:pt x="6094" y="1870"/>
                </a:lnTo>
                <a:lnTo>
                  <a:pt x="6006" y="1932"/>
                </a:lnTo>
                <a:lnTo>
                  <a:pt x="5926" y="1985"/>
                </a:lnTo>
                <a:lnTo>
                  <a:pt x="5873" y="2064"/>
                </a:lnTo>
                <a:lnTo>
                  <a:pt x="5794" y="2091"/>
                </a:lnTo>
                <a:lnTo>
                  <a:pt x="5767" y="2170"/>
                </a:lnTo>
                <a:lnTo>
                  <a:pt x="5688" y="2197"/>
                </a:lnTo>
                <a:lnTo>
                  <a:pt x="5662" y="2276"/>
                </a:lnTo>
                <a:lnTo>
                  <a:pt x="5582" y="2302"/>
                </a:lnTo>
                <a:lnTo>
                  <a:pt x="5503" y="2408"/>
                </a:lnTo>
                <a:lnTo>
                  <a:pt x="5476" y="2514"/>
                </a:lnTo>
                <a:lnTo>
                  <a:pt x="5397" y="2593"/>
                </a:lnTo>
                <a:lnTo>
                  <a:pt x="5291" y="2699"/>
                </a:lnTo>
                <a:lnTo>
                  <a:pt x="5238" y="2699"/>
                </a:lnTo>
                <a:lnTo>
                  <a:pt x="5159" y="2673"/>
                </a:lnTo>
                <a:lnTo>
                  <a:pt x="5080" y="2699"/>
                </a:lnTo>
                <a:lnTo>
                  <a:pt x="5000" y="2726"/>
                </a:lnTo>
                <a:lnTo>
                  <a:pt x="4894" y="2805"/>
                </a:lnTo>
                <a:lnTo>
                  <a:pt x="4815" y="2805"/>
                </a:lnTo>
                <a:lnTo>
                  <a:pt x="4762" y="2884"/>
                </a:lnTo>
                <a:lnTo>
                  <a:pt x="4683" y="2964"/>
                </a:lnTo>
                <a:lnTo>
                  <a:pt x="4603" y="3017"/>
                </a:lnTo>
                <a:lnTo>
                  <a:pt x="4524" y="3096"/>
                </a:lnTo>
                <a:lnTo>
                  <a:pt x="4445" y="3123"/>
                </a:lnTo>
                <a:lnTo>
                  <a:pt x="4365" y="3202"/>
                </a:lnTo>
                <a:lnTo>
                  <a:pt x="4286" y="3308"/>
                </a:lnTo>
                <a:lnTo>
                  <a:pt x="4233" y="3387"/>
                </a:lnTo>
                <a:lnTo>
                  <a:pt x="4180" y="3467"/>
                </a:lnTo>
                <a:lnTo>
                  <a:pt x="4101" y="3519"/>
                </a:lnTo>
                <a:lnTo>
                  <a:pt x="4021" y="3519"/>
                </a:lnTo>
                <a:lnTo>
                  <a:pt x="3942" y="3546"/>
                </a:lnTo>
                <a:lnTo>
                  <a:pt x="3889" y="3625"/>
                </a:lnTo>
                <a:lnTo>
                  <a:pt x="3810" y="3652"/>
                </a:lnTo>
                <a:lnTo>
                  <a:pt x="3730" y="3731"/>
                </a:lnTo>
                <a:lnTo>
                  <a:pt x="3651" y="3819"/>
                </a:lnTo>
                <a:lnTo>
                  <a:pt x="3607" y="3863"/>
                </a:lnTo>
                <a:lnTo>
                  <a:pt x="3554" y="3881"/>
                </a:lnTo>
                <a:lnTo>
                  <a:pt x="3466" y="4022"/>
                </a:lnTo>
                <a:lnTo>
                  <a:pt x="3386" y="4075"/>
                </a:lnTo>
                <a:lnTo>
                  <a:pt x="3360" y="4154"/>
                </a:lnTo>
                <a:lnTo>
                  <a:pt x="3280" y="4154"/>
                </a:lnTo>
                <a:lnTo>
                  <a:pt x="3201" y="4154"/>
                </a:lnTo>
                <a:lnTo>
                  <a:pt x="3122" y="4154"/>
                </a:lnTo>
                <a:lnTo>
                  <a:pt x="3042" y="4154"/>
                </a:lnTo>
                <a:lnTo>
                  <a:pt x="2963" y="4154"/>
                </a:lnTo>
                <a:lnTo>
                  <a:pt x="2883" y="4154"/>
                </a:lnTo>
                <a:lnTo>
                  <a:pt x="2804" y="4154"/>
                </a:lnTo>
                <a:lnTo>
                  <a:pt x="2725" y="4207"/>
                </a:lnTo>
                <a:lnTo>
                  <a:pt x="2645" y="4260"/>
                </a:lnTo>
                <a:lnTo>
                  <a:pt x="2566" y="4313"/>
                </a:lnTo>
                <a:lnTo>
                  <a:pt x="2487" y="4366"/>
                </a:lnTo>
                <a:lnTo>
                  <a:pt x="2407" y="4446"/>
                </a:lnTo>
                <a:lnTo>
                  <a:pt x="2328" y="4499"/>
                </a:lnTo>
                <a:lnTo>
                  <a:pt x="2248" y="4552"/>
                </a:lnTo>
                <a:lnTo>
                  <a:pt x="2169" y="4579"/>
                </a:lnTo>
                <a:lnTo>
                  <a:pt x="2090" y="4605"/>
                </a:lnTo>
                <a:lnTo>
                  <a:pt x="2010" y="4658"/>
                </a:lnTo>
                <a:lnTo>
                  <a:pt x="1931" y="4685"/>
                </a:lnTo>
                <a:lnTo>
                  <a:pt x="1852" y="4746"/>
                </a:lnTo>
                <a:lnTo>
                  <a:pt x="1772" y="4799"/>
                </a:lnTo>
                <a:lnTo>
                  <a:pt x="1710" y="4826"/>
                </a:lnTo>
                <a:lnTo>
                  <a:pt x="1613" y="4870"/>
                </a:lnTo>
                <a:lnTo>
                  <a:pt x="1534" y="4923"/>
                </a:lnTo>
                <a:lnTo>
                  <a:pt x="1481" y="5002"/>
                </a:lnTo>
                <a:lnTo>
                  <a:pt x="1402" y="5029"/>
                </a:lnTo>
                <a:lnTo>
                  <a:pt x="1349" y="5108"/>
                </a:lnTo>
                <a:lnTo>
                  <a:pt x="1270" y="5161"/>
                </a:lnTo>
                <a:lnTo>
                  <a:pt x="1217" y="5240"/>
                </a:lnTo>
                <a:lnTo>
                  <a:pt x="1137" y="5293"/>
                </a:lnTo>
                <a:lnTo>
                  <a:pt x="1058" y="5293"/>
                </a:lnTo>
                <a:lnTo>
                  <a:pt x="978" y="5293"/>
                </a:lnTo>
                <a:lnTo>
                  <a:pt x="899" y="5320"/>
                </a:lnTo>
                <a:lnTo>
                  <a:pt x="820" y="5373"/>
                </a:lnTo>
                <a:lnTo>
                  <a:pt x="714" y="5452"/>
                </a:lnTo>
                <a:lnTo>
                  <a:pt x="635" y="5505"/>
                </a:lnTo>
                <a:lnTo>
                  <a:pt x="555" y="5531"/>
                </a:lnTo>
                <a:lnTo>
                  <a:pt x="476" y="5584"/>
                </a:lnTo>
                <a:lnTo>
                  <a:pt x="396" y="5637"/>
                </a:lnTo>
                <a:lnTo>
                  <a:pt x="291" y="5716"/>
                </a:lnTo>
                <a:lnTo>
                  <a:pt x="211" y="5743"/>
                </a:lnTo>
                <a:lnTo>
                  <a:pt x="132" y="5796"/>
                </a:lnTo>
                <a:lnTo>
                  <a:pt x="79" y="5875"/>
                </a:lnTo>
                <a:lnTo>
                  <a:pt x="52" y="595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7" name=""/>
          <p:cNvSpPr/>
          <p:nvPr/>
        </p:nvSpPr>
        <p:spPr>
          <a:xfrm>
            <a:off x="7772400" y="3271680"/>
            <a:ext cx="133560" cy="528840"/>
          </a:xfrm>
          <a:custGeom>
            <a:avLst/>
            <a:gdLst/>
            <a:ahLst/>
            <a:rect l="0" t="0" r="r" b="b"/>
            <a:pathLst>
              <a:path w="371" h="1469">
                <a:moveTo>
                  <a:pt x="13" y="0"/>
                </a:moveTo>
                <a:lnTo>
                  <a:pt x="52" y="13"/>
                </a:lnTo>
                <a:lnTo>
                  <a:pt x="105" y="13"/>
                </a:lnTo>
                <a:lnTo>
                  <a:pt x="132" y="52"/>
                </a:lnTo>
                <a:lnTo>
                  <a:pt x="132" y="92"/>
                </a:lnTo>
                <a:lnTo>
                  <a:pt x="132" y="132"/>
                </a:lnTo>
                <a:lnTo>
                  <a:pt x="132" y="171"/>
                </a:lnTo>
                <a:lnTo>
                  <a:pt x="132" y="211"/>
                </a:lnTo>
                <a:lnTo>
                  <a:pt x="158" y="264"/>
                </a:lnTo>
                <a:lnTo>
                  <a:pt x="171" y="304"/>
                </a:lnTo>
                <a:lnTo>
                  <a:pt x="186" y="343"/>
                </a:lnTo>
                <a:lnTo>
                  <a:pt x="225" y="383"/>
                </a:lnTo>
                <a:lnTo>
                  <a:pt x="225" y="423"/>
                </a:lnTo>
                <a:lnTo>
                  <a:pt x="331" y="449"/>
                </a:lnTo>
                <a:lnTo>
                  <a:pt x="344" y="489"/>
                </a:lnTo>
                <a:lnTo>
                  <a:pt x="344" y="529"/>
                </a:lnTo>
                <a:lnTo>
                  <a:pt x="344" y="568"/>
                </a:lnTo>
                <a:lnTo>
                  <a:pt x="344" y="608"/>
                </a:lnTo>
                <a:lnTo>
                  <a:pt x="344" y="648"/>
                </a:lnTo>
                <a:lnTo>
                  <a:pt x="344" y="687"/>
                </a:lnTo>
                <a:lnTo>
                  <a:pt x="344" y="727"/>
                </a:lnTo>
                <a:lnTo>
                  <a:pt x="344" y="768"/>
                </a:lnTo>
                <a:lnTo>
                  <a:pt x="344" y="807"/>
                </a:lnTo>
                <a:lnTo>
                  <a:pt x="344" y="860"/>
                </a:lnTo>
                <a:lnTo>
                  <a:pt x="358" y="900"/>
                </a:lnTo>
                <a:lnTo>
                  <a:pt x="358" y="940"/>
                </a:lnTo>
                <a:lnTo>
                  <a:pt x="358" y="993"/>
                </a:lnTo>
                <a:lnTo>
                  <a:pt x="371" y="1072"/>
                </a:lnTo>
                <a:lnTo>
                  <a:pt x="371" y="1112"/>
                </a:lnTo>
                <a:lnTo>
                  <a:pt x="371" y="1151"/>
                </a:lnTo>
                <a:lnTo>
                  <a:pt x="371" y="1191"/>
                </a:lnTo>
                <a:lnTo>
                  <a:pt x="371" y="1231"/>
                </a:lnTo>
                <a:lnTo>
                  <a:pt x="371" y="1271"/>
                </a:lnTo>
                <a:lnTo>
                  <a:pt x="371" y="1310"/>
                </a:lnTo>
                <a:lnTo>
                  <a:pt x="371" y="1350"/>
                </a:lnTo>
                <a:lnTo>
                  <a:pt x="371" y="1390"/>
                </a:lnTo>
                <a:lnTo>
                  <a:pt x="371" y="1429"/>
                </a:lnTo>
                <a:lnTo>
                  <a:pt x="344" y="1469"/>
                </a:lnTo>
                <a:lnTo>
                  <a:pt x="305" y="1469"/>
                </a:lnTo>
                <a:lnTo>
                  <a:pt x="265" y="1469"/>
                </a:lnTo>
                <a:lnTo>
                  <a:pt x="225" y="1469"/>
                </a:lnTo>
                <a:lnTo>
                  <a:pt x="186" y="1456"/>
                </a:lnTo>
                <a:lnTo>
                  <a:pt x="186" y="1416"/>
                </a:lnTo>
                <a:lnTo>
                  <a:pt x="186" y="1376"/>
                </a:lnTo>
                <a:lnTo>
                  <a:pt x="186" y="1337"/>
                </a:lnTo>
                <a:lnTo>
                  <a:pt x="186" y="1297"/>
                </a:lnTo>
                <a:lnTo>
                  <a:pt x="186" y="1257"/>
                </a:lnTo>
                <a:lnTo>
                  <a:pt x="186" y="1218"/>
                </a:lnTo>
                <a:lnTo>
                  <a:pt x="186" y="1178"/>
                </a:lnTo>
                <a:lnTo>
                  <a:pt x="186" y="1138"/>
                </a:lnTo>
                <a:lnTo>
                  <a:pt x="186" y="1099"/>
                </a:lnTo>
                <a:lnTo>
                  <a:pt x="186" y="1059"/>
                </a:lnTo>
                <a:lnTo>
                  <a:pt x="186" y="1019"/>
                </a:lnTo>
                <a:lnTo>
                  <a:pt x="186" y="979"/>
                </a:lnTo>
                <a:lnTo>
                  <a:pt x="186" y="940"/>
                </a:lnTo>
                <a:lnTo>
                  <a:pt x="171" y="900"/>
                </a:lnTo>
                <a:lnTo>
                  <a:pt x="158" y="860"/>
                </a:lnTo>
                <a:lnTo>
                  <a:pt x="158" y="821"/>
                </a:lnTo>
                <a:lnTo>
                  <a:pt x="145" y="768"/>
                </a:lnTo>
                <a:lnTo>
                  <a:pt x="145" y="727"/>
                </a:lnTo>
                <a:lnTo>
                  <a:pt x="132" y="687"/>
                </a:lnTo>
                <a:lnTo>
                  <a:pt x="105" y="648"/>
                </a:lnTo>
                <a:lnTo>
                  <a:pt x="92" y="608"/>
                </a:lnTo>
                <a:lnTo>
                  <a:pt x="79" y="568"/>
                </a:lnTo>
                <a:lnTo>
                  <a:pt x="39" y="555"/>
                </a:lnTo>
                <a:lnTo>
                  <a:pt x="13" y="515"/>
                </a:lnTo>
                <a:lnTo>
                  <a:pt x="13" y="476"/>
                </a:lnTo>
                <a:lnTo>
                  <a:pt x="0" y="436"/>
                </a:lnTo>
                <a:lnTo>
                  <a:pt x="0" y="396"/>
                </a:lnTo>
                <a:lnTo>
                  <a:pt x="0" y="357"/>
                </a:lnTo>
                <a:lnTo>
                  <a:pt x="0" y="317"/>
                </a:lnTo>
                <a:lnTo>
                  <a:pt x="0" y="277"/>
                </a:lnTo>
                <a:lnTo>
                  <a:pt x="0" y="238"/>
                </a:lnTo>
                <a:lnTo>
                  <a:pt x="0" y="198"/>
                </a:lnTo>
                <a:lnTo>
                  <a:pt x="0" y="158"/>
                </a:lnTo>
                <a:lnTo>
                  <a:pt x="0" y="119"/>
                </a:lnTo>
                <a:lnTo>
                  <a:pt x="0" y="79"/>
                </a:lnTo>
                <a:lnTo>
                  <a:pt x="13" y="39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8" name=""/>
          <p:cNvSpPr/>
          <p:nvPr/>
        </p:nvSpPr>
        <p:spPr>
          <a:xfrm>
            <a:off x="3309840" y="3624120"/>
            <a:ext cx="167040" cy="448200"/>
          </a:xfrm>
          <a:custGeom>
            <a:avLst/>
            <a:gdLst/>
            <a:ahLst/>
            <a:rect l="0" t="0" r="r" b="b"/>
            <a:pathLst>
              <a:path w="464" h="1245">
                <a:moveTo>
                  <a:pt x="371" y="92"/>
                </a:moveTo>
                <a:lnTo>
                  <a:pt x="371" y="52"/>
                </a:lnTo>
                <a:lnTo>
                  <a:pt x="411" y="52"/>
                </a:lnTo>
                <a:lnTo>
                  <a:pt x="450" y="39"/>
                </a:lnTo>
                <a:lnTo>
                  <a:pt x="450" y="0"/>
                </a:lnTo>
                <a:lnTo>
                  <a:pt x="464" y="39"/>
                </a:lnTo>
                <a:lnTo>
                  <a:pt x="464" y="79"/>
                </a:lnTo>
                <a:lnTo>
                  <a:pt x="464" y="119"/>
                </a:lnTo>
                <a:lnTo>
                  <a:pt x="464" y="158"/>
                </a:lnTo>
                <a:lnTo>
                  <a:pt x="464" y="198"/>
                </a:lnTo>
                <a:lnTo>
                  <a:pt x="464" y="238"/>
                </a:lnTo>
                <a:lnTo>
                  <a:pt x="464" y="277"/>
                </a:lnTo>
                <a:lnTo>
                  <a:pt x="464" y="318"/>
                </a:lnTo>
                <a:lnTo>
                  <a:pt x="464" y="358"/>
                </a:lnTo>
                <a:lnTo>
                  <a:pt x="437" y="397"/>
                </a:lnTo>
                <a:lnTo>
                  <a:pt x="411" y="437"/>
                </a:lnTo>
                <a:lnTo>
                  <a:pt x="371" y="464"/>
                </a:lnTo>
                <a:lnTo>
                  <a:pt x="358" y="503"/>
                </a:lnTo>
                <a:lnTo>
                  <a:pt x="331" y="543"/>
                </a:lnTo>
                <a:lnTo>
                  <a:pt x="318" y="583"/>
                </a:lnTo>
                <a:lnTo>
                  <a:pt x="318" y="622"/>
                </a:lnTo>
                <a:lnTo>
                  <a:pt x="305" y="662"/>
                </a:lnTo>
                <a:lnTo>
                  <a:pt x="292" y="715"/>
                </a:lnTo>
                <a:lnTo>
                  <a:pt x="278" y="755"/>
                </a:lnTo>
                <a:lnTo>
                  <a:pt x="278" y="794"/>
                </a:lnTo>
                <a:lnTo>
                  <a:pt x="278" y="834"/>
                </a:lnTo>
                <a:lnTo>
                  <a:pt x="265" y="874"/>
                </a:lnTo>
                <a:lnTo>
                  <a:pt x="265" y="913"/>
                </a:lnTo>
                <a:lnTo>
                  <a:pt x="239" y="967"/>
                </a:lnTo>
                <a:lnTo>
                  <a:pt x="211" y="1007"/>
                </a:lnTo>
                <a:lnTo>
                  <a:pt x="198" y="1047"/>
                </a:lnTo>
                <a:lnTo>
                  <a:pt x="185" y="1086"/>
                </a:lnTo>
                <a:lnTo>
                  <a:pt x="158" y="1126"/>
                </a:lnTo>
                <a:lnTo>
                  <a:pt x="119" y="1139"/>
                </a:lnTo>
                <a:lnTo>
                  <a:pt x="119" y="1179"/>
                </a:lnTo>
                <a:lnTo>
                  <a:pt x="105" y="1219"/>
                </a:lnTo>
                <a:lnTo>
                  <a:pt x="66" y="1245"/>
                </a:lnTo>
                <a:lnTo>
                  <a:pt x="13" y="1245"/>
                </a:lnTo>
                <a:lnTo>
                  <a:pt x="0" y="1205"/>
                </a:lnTo>
                <a:lnTo>
                  <a:pt x="0" y="1166"/>
                </a:lnTo>
                <a:lnTo>
                  <a:pt x="0" y="1126"/>
                </a:lnTo>
                <a:lnTo>
                  <a:pt x="0" y="1086"/>
                </a:lnTo>
                <a:lnTo>
                  <a:pt x="0" y="1047"/>
                </a:lnTo>
                <a:lnTo>
                  <a:pt x="13" y="1007"/>
                </a:lnTo>
                <a:lnTo>
                  <a:pt x="13" y="967"/>
                </a:lnTo>
                <a:lnTo>
                  <a:pt x="26" y="927"/>
                </a:lnTo>
                <a:lnTo>
                  <a:pt x="66" y="900"/>
                </a:lnTo>
                <a:lnTo>
                  <a:pt x="79" y="860"/>
                </a:lnTo>
                <a:lnTo>
                  <a:pt x="119" y="847"/>
                </a:lnTo>
                <a:lnTo>
                  <a:pt x="132" y="807"/>
                </a:lnTo>
                <a:lnTo>
                  <a:pt x="171" y="807"/>
                </a:lnTo>
                <a:lnTo>
                  <a:pt x="171" y="768"/>
                </a:lnTo>
                <a:lnTo>
                  <a:pt x="171" y="728"/>
                </a:lnTo>
                <a:lnTo>
                  <a:pt x="171" y="688"/>
                </a:lnTo>
                <a:lnTo>
                  <a:pt x="171" y="636"/>
                </a:lnTo>
                <a:lnTo>
                  <a:pt x="185" y="596"/>
                </a:lnTo>
                <a:lnTo>
                  <a:pt x="198" y="543"/>
                </a:lnTo>
                <a:lnTo>
                  <a:pt x="278" y="530"/>
                </a:lnTo>
                <a:lnTo>
                  <a:pt x="318" y="477"/>
                </a:lnTo>
                <a:lnTo>
                  <a:pt x="318" y="437"/>
                </a:lnTo>
                <a:lnTo>
                  <a:pt x="318" y="397"/>
                </a:lnTo>
                <a:lnTo>
                  <a:pt x="278" y="424"/>
                </a:lnTo>
                <a:lnTo>
                  <a:pt x="239" y="530"/>
                </a:lnTo>
                <a:lnTo>
                  <a:pt x="198" y="583"/>
                </a:lnTo>
                <a:lnTo>
                  <a:pt x="171" y="622"/>
                </a:lnTo>
                <a:lnTo>
                  <a:pt x="211" y="596"/>
                </a:lnTo>
                <a:lnTo>
                  <a:pt x="211" y="556"/>
                </a:lnTo>
                <a:lnTo>
                  <a:pt x="211" y="516"/>
                </a:lnTo>
                <a:lnTo>
                  <a:pt x="224" y="464"/>
                </a:lnTo>
                <a:lnTo>
                  <a:pt x="224" y="424"/>
                </a:lnTo>
                <a:lnTo>
                  <a:pt x="224" y="384"/>
                </a:lnTo>
                <a:lnTo>
                  <a:pt x="224" y="344"/>
                </a:lnTo>
                <a:lnTo>
                  <a:pt x="224" y="304"/>
                </a:lnTo>
                <a:lnTo>
                  <a:pt x="224" y="264"/>
                </a:lnTo>
                <a:lnTo>
                  <a:pt x="224" y="224"/>
                </a:lnTo>
                <a:lnTo>
                  <a:pt x="265" y="224"/>
                </a:lnTo>
                <a:lnTo>
                  <a:pt x="305" y="224"/>
                </a:lnTo>
                <a:lnTo>
                  <a:pt x="358" y="224"/>
                </a:lnTo>
                <a:lnTo>
                  <a:pt x="305" y="224"/>
                </a:lnTo>
                <a:lnTo>
                  <a:pt x="265" y="211"/>
                </a:lnTo>
                <a:lnTo>
                  <a:pt x="292" y="171"/>
                </a:lnTo>
                <a:lnTo>
                  <a:pt x="331" y="158"/>
                </a:lnTo>
                <a:lnTo>
                  <a:pt x="344" y="119"/>
                </a:lnTo>
                <a:lnTo>
                  <a:pt x="371" y="79"/>
                </a:lnTo>
                <a:lnTo>
                  <a:pt x="371" y="9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9" name=""/>
          <p:cNvSpPr/>
          <p:nvPr/>
        </p:nvSpPr>
        <p:spPr>
          <a:xfrm>
            <a:off x="3400560" y="3646440"/>
            <a:ext cx="78120" cy="47880"/>
          </a:xfrm>
          <a:custGeom>
            <a:avLst/>
            <a:gdLst/>
            <a:ahLst/>
            <a:rect l="0" t="0" r="r" b="b"/>
            <a:pathLst>
              <a:path w="217" h="133">
                <a:moveTo>
                  <a:pt x="108" y="133"/>
                </a:moveTo>
                <a:lnTo>
                  <a:pt x="217" y="67"/>
                </a:lnTo>
                <a:lnTo>
                  <a:pt x="108" y="0"/>
                </a:lnTo>
                <a:lnTo>
                  <a:pt x="0" y="67"/>
                </a:lnTo>
                <a:lnTo>
                  <a:pt x="108" y="1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0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5911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3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4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5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6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7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8" name=""/>
          <p:cNvSpPr txBox="1"/>
          <p:nvPr/>
        </p:nvSpPr>
        <p:spPr>
          <a:xfrm>
            <a:off x="112680" y="111240"/>
            <a:ext cx="4254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 Contour Inter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9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5920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5921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2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3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4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5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6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5927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8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5929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1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5932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5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5936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8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5939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2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3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4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5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6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7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8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9" name=""/>
          <p:cNvSpPr/>
          <p:nvPr/>
        </p:nvSpPr>
        <p:spPr>
          <a:xfrm>
            <a:off x="3276720" y="304920"/>
            <a:ext cx="1533960" cy="3873960"/>
          </a:xfrm>
          <a:custGeom>
            <a:avLst/>
            <a:gdLst/>
            <a:ahLst/>
            <a:rect l="0" t="0" r="r" b="b"/>
            <a:pathLst>
              <a:path fill="none" w="4261" h="10761">
                <a:moveTo>
                  <a:pt x="4023" y="0"/>
                </a:moveTo>
                <a:lnTo>
                  <a:pt x="4050" y="224"/>
                </a:lnTo>
                <a:lnTo>
                  <a:pt x="4050" y="418"/>
                </a:lnTo>
                <a:lnTo>
                  <a:pt x="4235" y="608"/>
                </a:lnTo>
                <a:lnTo>
                  <a:pt x="4261" y="793"/>
                </a:lnTo>
                <a:lnTo>
                  <a:pt x="4129" y="1031"/>
                </a:lnTo>
                <a:lnTo>
                  <a:pt x="3988" y="1256"/>
                </a:lnTo>
                <a:lnTo>
                  <a:pt x="3988" y="1450"/>
                </a:lnTo>
                <a:lnTo>
                  <a:pt x="3988" y="1644"/>
                </a:lnTo>
                <a:lnTo>
                  <a:pt x="3759" y="1905"/>
                </a:lnTo>
                <a:lnTo>
                  <a:pt x="3759" y="2090"/>
                </a:lnTo>
                <a:lnTo>
                  <a:pt x="3838" y="2275"/>
                </a:lnTo>
                <a:lnTo>
                  <a:pt x="3922" y="2482"/>
                </a:lnTo>
                <a:lnTo>
                  <a:pt x="3922" y="2676"/>
                </a:lnTo>
                <a:lnTo>
                  <a:pt x="3988" y="2871"/>
                </a:lnTo>
                <a:lnTo>
                  <a:pt x="3988" y="3065"/>
                </a:lnTo>
                <a:lnTo>
                  <a:pt x="3811" y="3255"/>
                </a:lnTo>
                <a:lnTo>
                  <a:pt x="3785" y="3467"/>
                </a:lnTo>
                <a:lnTo>
                  <a:pt x="3917" y="3678"/>
                </a:lnTo>
                <a:lnTo>
                  <a:pt x="3988" y="3903"/>
                </a:lnTo>
                <a:lnTo>
                  <a:pt x="3922" y="4097"/>
                </a:lnTo>
                <a:lnTo>
                  <a:pt x="3794" y="4291"/>
                </a:lnTo>
                <a:lnTo>
                  <a:pt x="3666" y="4485"/>
                </a:lnTo>
                <a:lnTo>
                  <a:pt x="3666" y="4679"/>
                </a:lnTo>
                <a:lnTo>
                  <a:pt x="3600" y="4873"/>
                </a:lnTo>
                <a:lnTo>
                  <a:pt x="3472" y="5129"/>
                </a:lnTo>
                <a:lnTo>
                  <a:pt x="3340" y="5323"/>
                </a:lnTo>
                <a:lnTo>
                  <a:pt x="3278" y="5517"/>
                </a:lnTo>
                <a:lnTo>
                  <a:pt x="3149" y="5711"/>
                </a:lnTo>
                <a:lnTo>
                  <a:pt x="2955" y="5905"/>
                </a:lnTo>
                <a:lnTo>
                  <a:pt x="2889" y="6099"/>
                </a:lnTo>
                <a:lnTo>
                  <a:pt x="2761" y="6293"/>
                </a:lnTo>
                <a:lnTo>
                  <a:pt x="2567" y="6421"/>
                </a:lnTo>
                <a:lnTo>
                  <a:pt x="2439" y="6615"/>
                </a:lnTo>
                <a:lnTo>
                  <a:pt x="2245" y="6809"/>
                </a:lnTo>
                <a:lnTo>
                  <a:pt x="2113" y="7003"/>
                </a:lnTo>
                <a:lnTo>
                  <a:pt x="1985" y="7581"/>
                </a:lnTo>
                <a:lnTo>
                  <a:pt x="1857" y="7841"/>
                </a:lnTo>
                <a:lnTo>
                  <a:pt x="1791" y="8035"/>
                </a:lnTo>
                <a:lnTo>
                  <a:pt x="1597" y="8230"/>
                </a:lnTo>
                <a:lnTo>
                  <a:pt x="1469" y="8486"/>
                </a:lnTo>
                <a:lnTo>
                  <a:pt x="1403" y="8680"/>
                </a:lnTo>
                <a:lnTo>
                  <a:pt x="1403" y="8874"/>
                </a:lnTo>
                <a:lnTo>
                  <a:pt x="1058" y="9597"/>
                </a:lnTo>
                <a:lnTo>
                  <a:pt x="317" y="10338"/>
                </a:lnTo>
                <a:lnTo>
                  <a:pt x="0" y="10761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0" name=""/>
          <p:cNvSpPr/>
          <p:nvPr/>
        </p:nvSpPr>
        <p:spPr>
          <a:xfrm>
            <a:off x="3595680" y="304920"/>
            <a:ext cx="1538640" cy="3681720"/>
          </a:xfrm>
          <a:custGeom>
            <a:avLst/>
            <a:gdLst/>
            <a:ahLst/>
            <a:rect l="0" t="0" r="r" b="b"/>
            <a:pathLst>
              <a:path fill="none" w="4274" h="10227">
                <a:moveTo>
                  <a:pt x="3771" y="0"/>
                </a:moveTo>
                <a:lnTo>
                  <a:pt x="3872" y="224"/>
                </a:lnTo>
                <a:lnTo>
                  <a:pt x="3872" y="418"/>
                </a:lnTo>
                <a:lnTo>
                  <a:pt x="4035" y="635"/>
                </a:lnTo>
                <a:lnTo>
                  <a:pt x="4221" y="899"/>
                </a:lnTo>
                <a:lnTo>
                  <a:pt x="4221" y="1058"/>
                </a:lnTo>
                <a:lnTo>
                  <a:pt x="4141" y="1375"/>
                </a:lnTo>
                <a:lnTo>
                  <a:pt x="4009" y="1534"/>
                </a:lnTo>
                <a:lnTo>
                  <a:pt x="3872" y="1644"/>
                </a:lnTo>
                <a:lnTo>
                  <a:pt x="3872" y="1838"/>
                </a:lnTo>
                <a:lnTo>
                  <a:pt x="3872" y="2032"/>
                </a:lnTo>
                <a:lnTo>
                  <a:pt x="3938" y="2226"/>
                </a:lnTo>
                <a:lnTo>
                  <a:pt x="4005" y="2482"/>
                </a:lnTo>
                <a:lnTo>
                  <a:pt x="4005" y="2676"/>
                </a:lnTo>
                <a:lnTo>
                  <a:pt x="4132" y="2870"/>
                </a:lnTo>
                <a:lnTo>
                  <a:pt x="4132" y="3064"/>
                </a:lnTo>
                <a:lnTo>
                  <a:pt x="3982" y="3280"/>
                </a:lnTo>
                <a:lnTo>
                  <a:pt x="3850" y="3466"/>
                </a:lnTo>
                <a:lnTo>
                  <a:pt x="3877" y="3783"/>
                </a:lnTo>
                <a:lnTo>
                  <a:pt x="3956" y="3915"/>
                </a:lnTo>
                <a:lnTo>
                  <a:pt x="4035" y="4127"/>
                </a:lnTo>
                <a:lnTo>
                  <a:pt x="4132" y="4290"/>
                </a:lnTo>
                <a:lnTo>
                  <a:pt x="4274" y="4524"/>
                </a:lnTo>
                <a:lnTo>
                  <a:pt x="4274" y="4762"/>
                </a:lnTo>
                <a:lnTo>
                  <a:pt x="4132" y="4934"/>
                </a:lnTo>
                <a:lnTo>
                  <a:pt x="4132" y="5129"/>
                </a:lnTo>
                <a:lnTo>
                  <a:pt x="4005" y="5323"/>
                </a:lnTo>
                <a:lnTo>
                  <a:pt x="3811" y="5451"/>
                </a:lnTo>
                <a:lnTo>
                  <a:pt x="3616" y="5645"/>
                </a:lnTo>
                <a:lnTo>
                  <a:pt x="3489" y="5839"/>
                </a:lnTo>
                <a:lnTo>
                  <a:pt x="3422" y="6033"/>
                </a:lnTo>
                <a:lnTo>
                  <a:pt x="3295" y="6227"/>
                </a:lnTo>
                <a:lnTo>
                  <a:pt x="3228" y="6421"/>
                </a:lnTo>
                <a:lnTo>
                  <a:pt x="3034" y="6615"/>
                </a:lnTo>
                <a:lnTo>
                  <a:pt x="2907" y="6809"/>
                </a:lnTo>
                <a:lnTo>
                  <a:pt x="2779" y="7003"/>
                </a:lnTo>
                <a:lnTo>
                  <a:pt x="2585" y="7193"/>
                </a:lnTo>
                <a:lnTo>
                  <a:pt x="2452" y="7387"/>
                </a:lnTo>
                <a:lnTo>
                  <a:pt x="2263" y="7581"/>
                </a:lnTo>
                <a:lnTo>
                  <a:pt x="2068" y="7647"/>
                </a:lnTo>
                <a:lnTo>
                  <a:pt x="1935" y="7841"/>
                </a:lnTo>
                <a:lnTo>
                  <a:pt x="1680" y="8035"/>
                </a:lnTo>
                <a:lnTo>
                  <a:pt x="1613" y="8419"/>
                </a:lnTo>
                <a:lnTo>
                  <a:pt x="1486" y="8613"/>
                </a:lnTo>
                <a:lnTo>
                  <a:pt x="1486" y="8807"/>
                </a:lnTo>
                <a:lnTo>
                  <a:pt x="1292" y="9001"/>
                </a:lnTo>
                <a:lnTo>
                  <a:pt x="1098" y="9261"/>
                </a:lnTo>
                <a:lnTo>
                  <a:pt x="903" y="9517"/>
                </a:lnTo>
                <a:lnTo>
                  <a:pt x="842" y="9711"/>
                </a:lnTo>
                <a:lnTo>
                  <a:pt x="648" y="9711"/>
                </a:lnTo>
                <a:lnTo>
                  <a:pt x="582" y="9905"/>
                </a:lnTo>
                <a:lnTo>
                  <a:pt x="388" y="10033"/>
                </a:lnTo>
                <a:lnTo>
                  <a:pt x="194" y="10165"/>
                </a:lnTo>
                <a:lnTo>
                  <a:pt x="0" y="1022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1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2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3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4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5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6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5957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9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5960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2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5963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5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6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7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8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9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0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1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2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5973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5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5976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8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5979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1" name=""/>
          <p:cNvSpPr/>
          <p:nvPr/>
        </p:nvSpPr>
        <p:spPr>
          <a:xfrm>
            <a:off x="4886280" y="3471840"/>
            <a:ext cx="0" cy="15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"/>
          <p:cNvSpPr/>
          <p:nvPr/>
        </p:nvSpPr>
        <p:spPr>
          <a:xfrm>
            <a:off x="7126200" y="3754440"/>
            <a:ext cx="3240" cy="147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"/>
          <p:cNvSpPr/>
          <p:nvPr/>
        </p:nvSpPr>
        <p:spPr>
          <a:xfrm>
            <a:off x="6058080" y="461484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4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5985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7" name=""/>
          <p:cNvSpPr/>
          <p:nvPr/>
        </p:nvSpPr>
        <p:spPr>
          <a:xfrm>
            <a:off x="6757920" y="3029040"/>
            <a:ext cx="0" cy="223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"/>
          <p:cNvSpPr/>
          <p:nvPr/>
        </p:nvSpPr>
        <p:spPr>
          <a:xfrm flipH="1">
            <a:off x="5329080" y="5372280"/>
            <a:ext cx="17859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"/>
          <p:cNvSpPr/>
          <p:nvPr/>
        </p:nvSpPr>
        <p:spPr>
          <a:xfrm flipV="1">
            <a:off x="5329080" y="3772080"/>
            <a:ext cx="0" cy="1600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"/>
          <p:cNvSpPr/>
          <p:nvPr/>
        </p:nvSpPr>
        <p:spPr>
          <a:xfrm flipH="1">
            <a:off x="2125800" y="3625920"/>
            <a:ext cx="4998960" cy="366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"/>
          <p:cNvSpPr/>
          <p:nvPr/>
        </p:nvSpPr>
        <p:spPr>
          <a:xfrm flipH="1">
            <a:off x="2298600" y="3351240"/>
            <a:ext cx="2446560" cy="174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"/>
          <p:cNvSpPr/>
          <p:nvPr/>
        </p:nvSpPr>
        <p:spPr>
          <a:xfrm flipH="1">
            <a:off x="1822320" y="4494240"/>
            <a:ext cx="4106880" cy="3855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"/>
          <p:cNvSpPr/>
          <p:nvPr/>
        </p:nvSpPr>
        <p:spPr>
          <a:xfrm flipH="1">
            <a:off x="1476360" y="2849400"/>
            <a:ext cx="5153040" cy="3844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8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6009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1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6012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4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6015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7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6018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0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1" name=""/>
          <p:cNvSpPr/>
          <p:nvPr/>
        </p:nvSpPr>
        <p:spPr>
          <a:xfrm flipV="1">
            <a:off x="1260360" y="153036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2" name=""/>
          <p:cNvSpPr/>
          <p:nvPr/>
        </p:nvSpPr>
        <p:spPr>
          <a:xfrm>
            <a:off x="1359000" y="2044800"/>
            <a:ext cx="864000" cy="3518280"/>
          </a:xfrm>
          <a:custGeom>
            <a:avLst/>
            <a:gdLst/>
            <a:ahLst/>
            <a:rect l="0" t="0" r="r" b="b"/>
            <a:pathLst>
              <a:path fill="none" w="2400" h="9773">
                <a:moveTo>
                  <a:pt x="246" y="9773"/>
                </a:moveTo>
                <a:lnTo>
                  <a:pt x="0" y="6668"/>
                </a:lnTo>
                <a:lnTo>
                  <a:pt x="2118" y="0"/>
                </a:lnTo>
                <a:lnTo>
                  <a:pt x="2400" y="3140"/>
                </a:lnTo>
                <a:lnTo>
                  <a:pt x="246" y="97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3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4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5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6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7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8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0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2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3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4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5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6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7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8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9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0" name=""/>
          <p:cNvSpPr/>
          <p:nvPr/>
        </p:nvSpPr>
        <p:spPr>
          <a:xfrm>
            <a:off x="5270400" y="208296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1" name=""/>
          <p:cNvSpPr/>
          <p:nvPr/>
        </p:nvSpPr>
        <p:spPr>
          <a:xfrm>
            <a:off x="5702400" y="204480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2" name=""/>
          <p:cNvSpPr/>
          <p:nvPr/>
        </p:nvSpPr>
        <p:spPr>
          <a:xfrm>
            <a:off x="5092560" y="293364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3" name=""/>
          <p:cNvSpPr/>
          <p:nvPr/>
        </p:nvSpPr>
        <p:spPr>
          <a:xfrm>
            <a:off x="6019920" y="285768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4" name=""/>
          <p:cNvSpPr/>
          <p:nvPr/>
        </p:nvSpPr>
        <p:spPr>
          <a:xfrm>
            <a:off x="4788000" y="247644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5" name=""/>
          <p:cNvSpPr/>
          <p:nvPr/>
        </p:nvSpPr>
        <p:spPr>
          <a:xfrm>
            <a:off x="6451560" y="234936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6" name=""/>
          <p:cNvSpPr/>
          <p:nvPr/>
        </p:nvSpPr>
        <p:spPr>
          <a:xfrm>
            <a:off x="7289640" y="340344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7" name=""/>
          <p:cNvSpPr/>
          <p:nvPr/>
        </p:nvSpPr>
        <p:spPr>
          <a:xfrm>
            <a:off x="6489720" y="318780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8" name=""/>
          <p:cNvSpPr/>
          <p:nvPr/>
        </p:nvSpPr>
        <p:spPr>
          <a:xfrm>
            <a:off x="4597560" y="332748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9" name=""/>
          <p:cNvSpPr/>
          <p:nvPr/>
        </p:nvSpPr>
        <p:spPr>
          <a:xfrm>
            <a:off x="3924360" y="367020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0" name=""/>
          <p:cNvSpPr/>
          <p:nvPr/>
        </p:nvSpPr>
        <p:spPr>
          <a:xfrm>
            <a:off x="3441600" y="358128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1" name=""/>
          <p:cNvSpPr/>
          <p:nvPr/>
        </p:nvSpPr>
        <p:spPr>
          <a:xfrm>
            <a:off x="7696080" y="323856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2" name=""/>
          <p:cNvSpPr/>
          <p:nvPr/>
        </p:nvSpPr>
        <p:spPr>
          <a:xfrm>
            <a:off x="3301920" y="408924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3" name=""/>
          <p:cNvSpPr/>
          <p:nvPr/>
        </p:nvSpPr>
        <p:spPr>
          <a:xfrm>
            <a:off x="7785000" y="375912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4" name=""/>
          <p:cNvSpPr/>
          <p:nvPr/>
        </p:nvSpPr>
        <p:spPr>
          <a:xfrm>
            <a:off x="7137360" y="264168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5" name=""/>
          <p:cNvSpPr/>
          <p:nvPr/>
        </p:nvSpPr>
        <p:spPr>
          <a:xfrm>
            <a:off x="4000680" y="287028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6" name=""/>
          <p:cNvSpPr/>
          <p:nvPr/>
        </p:nvSpPr>
        <p:spPr>
          <a:xfrm>
            <a:off x="3324240" y="1962000"/>
            <a:ext cx="4553280" cy="2153160"/>
          </a:xfrm>
          <a:custGeom>
            <a:avLst/>
            <a:gdLst/>
            <a:ahLst/>
            <a:rect l="0" t="0" r="r" b="b"/>
            <a:pathLst>
              <a:path fill="none" w="12648" h="5981">
                <a:moveTo>
                  <a:pt x="0" y="5981"/>
                </a:moveTo>
                <a:lnTo>
                  <a:pt x="238" y="5011"/>
                </a:lnTo>
                <a:lnTo>
                  <a:pt x="295" y="4667"/>
                </a:lnTo>
                <a:lnTo>
                  <a:pt x="343" y="4588"/>
                </a:lnTo>
                <a:lnTo>
                  <a:pt x="476" y="4419"/>
                </a:lnTo>
                <a:lnTo>
                  <a:pt x="529" y="4340"/>
                </a:lnTo>
                <a:lnTo>
                  <a:pt x="635" y="4260"/>
                </a:lnTo>
                <a:lnTo>
                  <a:pt x="714" y="4207"/>
                </a:lnTo>
                <a:lnTo>
                  <a:pt x="714" y="4128"/>
                </a:lnTo>
                <a:lnTo>
                  <a:pt x="793" y="4075"/>
                </a:lnTo>
                <a:lnTo>
                  <a:pt x="873" y="4022"/>
                </a:lnTo>
                <a:lnTo>
                  <a:pt x="899" y="3943"/>
                </a:lnTo>
                <a:lnTo>
                  <a:pt x="1058" y="3863"/>
                </a:lnTo>
                <a:lnTo>
                  <a:pt x="1111" y="3784"/>
                </a:lnTo>
                <a:lnTo>
                  <a:pt x="1111" y="3705"/>
                </a:lnTo>
                <a:lnTo>
                  <a:pt x="1111" y="3625"/>
                </a:lnTo>
                <a:lnTo>
                  <a:pt x="1111" y="3546"/>
                </a:lnTo>
                <a:lnTo>
                  <a:pt x="1111" y="3467"/>
                </a:lnTo>
                <a:lnTo>
                  <a:pt x="1190" y="3414"/>
                </a:lnTo>
                <a:lnTo>
                  <a:pt x="1217" y="3334"/>
                </a:lnTo>
                <a:lnTo>
                  <a:pt x="1296" y="3308"/>
                </a:lnTo>
                <a:lnTo>
                  <a:pt x="1375" y="3281"/>
                </a:lnTo>
                <a:lnTo>
                  <a:pt x="1455" y="3228"/>
                </a:lnTo>
                <a:lnTo>
                  <a:pt x="1534" y="3176"/>
                </a:lnTo>
                <a:lnTo>
                  <a:pt x="1613" y="3123"/>
                </a:lnTo>
                <a:lnTo>
                  <a:pt x="1613" y="3043"/>
                </a:lnTo>
                <a:lnTo>
                  <a:pt x="1675" y="2964"/>
                </a:lnTo>
                <a:lnTo>
                  <a:pt x="1640" y="3017"/>
                </a:lnTo>
                <a:lnTo>
                  <a:pt x="1640" y="2990"/>
                </a:lnTo>
                <a:lnTo>
                  <a:pt x="1799" y="2911"/>
                </a:lnTo>
                <a:lnTo>
                  <a:pt x="1684" y="2955"/>
                </a:lnTo>
                <a:lnTo>
                  <a:pt x="1710" y="2937"/>
                </a:lnTo>
                <a:lnTo>
                  <a:pt x="1799" y="2911"/>
                </a:lnTo>
                <a:lnTo>
                  <a:pt x="1807" y="2867"/>
                </a:lnTo>
                <a:lnTo>
                  <a:pt x="1755" y="2911"/>
                </a:lnTo>
                <a:lnTo>
                  <a:pt x="1852" y="2832"/>
                </a:lnTo>
                <a:lnTo>
                  <a:pt x="1931" y="2699"/>
                </a:lnTo>
                <a:lnTo>
                  <a:pt x="1931" y="2593"/>
                </a:lnTo>
                <a:lnTo>
                  <a:pt x="2028" y="2523"/>
                </a:lnTo>
                <a:lnTo>
                  <a:pt x="2081" y="2496"/>
                </a:lnTo>
                <a:lnTo>
                  <a:pt x="2116" y="2488"/>
                </a:lnTo>
                <a:lnTo>
                  <a:pt x="2196" y="2488"/>
                </a:lnTo>
                <a:lnTo>
                  <a:pt x="2275" y="2488"/>
                </a:lnTo>
                <a:lnTo>
                  <a:pt x="2354" y="2488"/>
                </a:lnTo>
                <a:lnTo>
                  <a:pt x="2434" y="2435"/>
                </a:lnTo>
                <a:lnTo>
                  <a:pt x="2460" y="2355"/>
                </a:lnTo>
                <a:lnTo>
                  <a:pt x="2540" y="2329"/>
                </a:lnTo>
                <a:lnTo>
                  <a:pt x="2619" y="2276"/>
                </a:lnTo>
                <a:lnTo>
                  <a:pt x="2698" y="2249"/>
                </a:lnTo>
                <a:lnTo>
                  <a:pt x="2778" y="2249"/>
                </a:lnTo>
                <a:lnTo>
                  <a:pt x="2857" y="2223"/>
                </a:lnTo>
                <a:lnTo>
                  <a:pt x="2936" y="2170"/>
                </a:lnTo>
                <a:lnTo>
                  <a:pt x="3016" y="2144"/>
                </a:lnTo>
                <a:lnTo>
                  <a:pt x="3095" y="2144"/>
                </a:lnTo>
                <a:lnTo>
                  <a:pt x="3175" y="2144"/>
                </a:lnTo>
                <a:lnTo>
                  <a:pt x="3254" y="2144"/>
                </a:lnTo>
                <a:lnTo>
                  <a:pt x="3289" y="2108"/>
                </a:lnTo>
                <a:lnTo>
                  <a:pt x="3360" y="2064"/>
                </a:lnTo>
                <a:lnTo>
                  <a:pt x="3386" y="1985"/>
                </a:lnTo>
                <a:lnTo>
                  <a:pt x="3466" y="1906"/>
                </a:lnTo>
                <a:lnTo>
                  <a:pt x="3545" y="1853"/>
                </a:lnTo>
                <a:lnTo>
                  <a:pt x="3651" y="1773"/>
                </a:lnTo>
                <a:lnTo>
                  <a:pt x="3730" y="1667"/>
                </a:lnTo>
                <a:lnTo>
                  <a:pt x="3810" y="1641"/>
                </a:lnTo>
                <a:lnTo>
                  <a:pt x="3889" y="1614"/>
                </a:lnTo>
                <a:lnTo>
                  <a:pt x="3968" y="1509"/>
                </a:lnTo>
                <a:lnTo>
                  <a:pt x="4118" y="1500"/>
                </a:lnTo>
                <a:lnTo>
                  <a:pt x="4189" y="1464"/>
                </a:lnTo>
                <a:lnTo>
                  <a:pt x="4198" y="1437"/>
                </a:lnTo>
                <a:lnTo>
                  <a:pt x="4233" y="1428"/>
                </a:lnTo>
                <a:lnTo>
                  <a:pt x="4356" y="1411"/>
                </a:lnTo>
                <a:lnTo>
                  <a:pt x="4453" y="1446"/>
                </a:lnTo>
                <a:lnTo>
                  <a:pt x="4550" y="1437"/>
                </a:lnTo>
                <a:lnTo>
                  <a:pt x="4656" y="1402"/>
                </a:lnTo>
                <a:lnTo>
                  <a:pt x="4762" y="1322"/>
                </a:lnTo>
                <a:lnTo>
                  <a:pt x="4841" y="1270"/>
                </a:lnTo>
                <a:lnTo>
                  <a:pt x="4921" y="1217"/>
                </a:lnTo>
                <a:lnTo>
                  <a:pt x="5000" y="1164"/>
                </a:lnTo>
                <a:lnTo>
                  <a:pt x="5106" y="1084"/>
                </a:lnTo>
                <a:lnTo>
                  <a:pt x="5132" y="1005"/>
                </a:lnTo>
                <a:lnTo>
                  <a:pt x="5212" y="820"/>
                </a:lnTo>
                <a:lnTo>
                  <a:pt x="5238" y="740"/>
                </a:lnTo>
                <a:lnTo>
                  <a:pt x="5318" y="687"/>
                </a:lnTo>
                <a:lnTo>
                  <a:pt x="5371" y="608"/>
                </a:lnTo>
                <a:lnTo>
                  <a:pt x="5450" y="502"/>
                </a:lnTo>
                <a:lnTo>
                  <a:pt x="5468" y="414"/>
                </a:lnTo>
                <a:lnTo>
                  <a:pt x="5556" y="370"/>
                </a:lnTo>
                <a:lnTo>
                  <a:pt x="5582" y="317"/>
                </a:lnTo>
                <a:lnTo>
                  <a:pt x="5662" y="264"/>
                </a:lnTo>
                <a:lnTo>
                  <a:pt x="6111" y="26"/>
                </a:lnTo>
                <a:lnTo>
                  <a:pt x="5979" y="105"/>
                </a:lnTo>
                <a:lnTo>
                  <a:pt x="5767" y="202"/>
                </a:lnTo>
                <a:lnTo>
                  <a:pt x="5997" y="97"/>
                </a:lnTo>
                <a:lnTo>
                  <a:pt x="6058" y="52"/>
                </a:lnTo>
                <a:lnTo>
                  <a:pt x="6164" y="0"/>
                </a:lnTo>
                <a:lnTo>
                  <a:pt x="6244" y="26"/>
                </a:lnTo>
                <a:lnTo>
                  <a:pt x="6351" y="79"/>
                </a:lnTo>
                <a:lnTo>
                  <a:pt x="6430" y="79"/>
                </a:lnTo>
                <a:lnTo>
                  <a:pt x="6483" y="158"/>
                </a:lnTo>
                <a:lnTo>
                  <a:pt x="6562" y="185"/>
                </a:lnTo>
                <a:lnTo>
                  <a:pt x="6615" y="264"/>
                </a:lnTo>
                <a:lnTo>
                  <a:pt x="6694" y="317"/>
                </a:lnTo>
                <a:lnTo>
                  <a:pt x="6774" y="370"/>
                </a:lnTo>
                <a:lnTo>
                  <a:pt x="6853" y="370"/>
                </a:lnTo>
                <a:lnTo>
                  <a:pt x="6933" y="449"/>
                </a:lnTo>
                <a:lnTo>
                  <a:pt x="6986" y="529"/>
                </a:lnTo>
                <a:lnTo>
                  <a:pt x="6986" y="608"/>
                </a:lnTo>
                <a:lnTo>
                  <a:pt x="7065" y="661"/>
                </a:lnTo>
                <a:lnTo>
                  <a:pt x="7144" y="661"/>
                </a:lnTo>
                <a:lnTo>
                  <a:pt x="7224" y="661"/>
                </a:lnTo>
                <a:lnTo>
                  <a:pt x="7303" y="661"/>
                </a:lnTo>
                <a:lnTo>
                  <a:pt x="7409" y="661"/>
                </a:lnTo>
                <a:lnTo>
                  <a:pt x="7488" y="661"/>
                </a:lnTo>
                <a:lnTo>
                  <a:pt x="7568" y="661"/>
                </a:lnTo>
                <a:lnTo>
                  <a:pt x="7673" y="661"/>
                </a:lnTo>
                <a:lnTo>
                  <a:pt x="7753" y="687"/>
                </a:lnTo>
                <a:lnTo>
                  <a:pt x="7832" y="740"/>
                </a:lnTo>
                <a:lnTo>
                  <a:pt x="7912" y="767"/>
                </a:lnTo>
                <a:lnTo>
                  <a:pt x="7991" y="767"/>
                </a:lnTo>
                <a:lnTo>
                  <a:pt x="8070" y="793"/>
                </a:lnTo>
                <a:lnTo>
                  <a:pt x="8150" y="846"/>
                </a:lnTo>
                <a:lnTo>
                  <a:pt x="8203" y="926"/>
                </a:lnTo>
                <a:lnTo>
                  <a:pt x="8282" y="978"/>
                </a:lnTo>
                <a:lnTo>
                  <a:pt x="8308" y="1058"/>
                </a:lnTo>
                <a:lnTo>
                  <a:pt x="8414" y="1111"/>
                </a:lnTo>
                <a:lnTo>
                  <a:pt x="8494" y="1111"/>
                </a:lnTo>
                <a:lnTo>
                  <a:pt x="8573" y="1111"/>
                </a:lnTo>
                <a:lnTo>
                  <a:pt x="8785" y="1164"/>
                </a:lnTo>
                <a:lnTo>
                  <a:pt x="8943" y="1190"/>
                </a:lnTo>
                <a:lnTo>
                  <a:pt x="9234" y="1190"/>
                </a:lnTo>
                <a:lnTo>
                  <a:pt x="9287" y="1190"/>
                </a:lnTo>
                <a:lnTo>
                  <a:pt x="9367" y="1270"/>
                </a:lnTo>
                <a:lnTo>
                  <a:pt x="9420" y="1349"/>
                </a:lnTo>
                <a:lnTo>
                  <a:pt x="9499" y="1402"/>
                </a:lnTo>
                <a:lnTo>
                  <a:pt x="9578" y="1428"/>
                </a:lnTo>
                <a:lnTo>
                  <a:pt x="9658" y="1455"/>
                </a:lnTo>
                <a:lnTo>
                  <a:pt x="9737" y="1509"/>
                </a:lnTo>
                <a:lnTo>
                  <a:pt x="9817" y="1535"/>
                </a:lnTo>
                <a:lnTo>
                  <a:pt x="9896" y="1535"/>
                </a:lnTo>
                <a:lnTo>
                  <a:pt x="9975" y="1588"/>
                </a:lnTo>
                <a:lnTo>
                  <a:pt x="10055" y="1614"/>
                </a:lnTo>
                <a:lnTo>
                  <a:pt x="10108" y="1694"/>
                </a:lnTo>
                <a:lnTo>
                  <a:pt x="10213" y="1747"/>
                </a:lnTo>
                <a:lnTo>
                  <a:pt x="10293" y="1773"/>
                </a:lnTo>
                <a:lnTo>
                  <a:pt x="10346" y="1853"/>
                </a:lnTo>
                <a:lnTo>
                  <a:pt x="10425" y="1879"/>
                </a:lnTo>
                <a:lnTo>
                  <a:pt x="10531" y="1906"/>
                </a:lnTo>
                <a:lnTo>
                  <a:pt x="10663" y="1985"/>
                </a:lnTo>
                <a:lnTo>
                  <a:pt x="10690" y="2038"/>
                </a:lnTo>
                <a:lnTo>
                  <a:pt x="10796" y="2091"/>
                </a:lnTo>
                <a:lnTo>
                  <a:pt x="10848" y="2170"/>
                </a:lnTo>
                <a:lnTo>
                  <a:pt x="10901" y="2249"/>
                </a:lnTo>
                <a:lnTo>
                  <a:pt x="11113" y="2329"/>
                </a:lnTo>
                <a:lnTo>
                  <a:pt x="11139" y="2408"/>
                </a:lnTo>
                <a:lnTo>
                  <a:pt x="11192" y="2488"/>
                </a:lnTo>
                <a:lnTo>
                  <a:pt x="11272" y="2567"/>
                </a:lnTo>
                <a:lnTo>
                  <a:pt x="11351" y="2646"/>
                </a:lnTo>
                <a:lnTo>
                  <a:pt x="11351" y="2726"/>
                </a:lnTo>
                <a:lnTo>
                  <a:pt x="11351" y="2805"/>
                </a:lnTo>
                <a:lnTo>
                  <a:pt x="11431" y="2884"/>
                </a:lnTo>
                <a:lnTo>
                  <a:pt x="11510" y="2990"/>
                </a:lnTo>
                <a:lnTo>
                  <a:pt x="11616" y="3070"/>
                </a:lnTo>
                <a:lnTo>
                  <a:pt x="11695" y="3123"/>
                </a:lnTo>
                <a:lnTo>
                  <a:pt x="11774" y="3202"/>
                </a:lnTo>
                <a:lnTo>
                  <a:pt x="11827" y="3281"/>
                </a:lnTo>
                <a:lnTo>
                  <a:pt x="11933" y="3361"/>
                </a:lnTo>
                <a:lnTo>
                  <a:pt x="12013" y="3414"/>
                </a:lnTo>
                <a:lnTo>
                  <a:pt x="12092" y="3440"/>
                </a:lnTo>
                <a:lnTo>
                  <a:pt x="12145" y="3519"/>
                </a:lnTo>
                <a:lnTo>
                  <a:pt x="12409" y="3599"/>
                </a:lnTo>
                <a:lnTo>
                  <a:pt x="12409" y="3678"/>
                </a:lnTo>
                <a:lnTo>
                  <a:pt x="12409" y="3758"/>
                </a:lnTo>
                <a:lnTo>
                  <a:pt x="12409" y="3837"/>
                </a:lnTo>
                <a:lnTo>
                  <a:pt x="12409" y="3916"/>
                </a:lnTo>
                <a:lnTo>
                  <a:pt x="12409" y="3996"/>
                </a:lnTo>
                <a:lnTo>
                  <a:pt x="12409" y="4075"/>
                </a:lnTo>
                <a:lnTo>
                  <a:pt x="12568" y="4287"/>
                </a:lnTo>
                <a:lnTo>
                  <a:pt x="12595" y="4499"/>
                </a:lnTo>
                <a:lnTo>
                  <a:pt x="12568" y="4579"/>
                </a:lnTo>
                <a:lnTo>
                  <a:pt x="12568" y="4658"/>
                </a:lnTo>
                <a:lnTo>
                  <a:pt x="12621" y="4658"/>
                </a:lnTo>
                <a:lnTo>
                  <a:pt x="12621" y="4790"/>
                </a:lnTo>
                <a:lnTo>
                  <a:pt x="12648" y="4870"/>
                </a:lnTo>
                <a:lnTo>
                  <a:pt x="12621" y="4949"/>
                </a:lnTo>
                <a:lnTo>
                  <a:pt x="12621" y="5029"/>
                </a:lnTo>
                <a:lnTo>
                  <a:pt x="12621" y="5108"/>
                </a:lnTo>
                <a:lnTo>
                  <a:pt x="12542" y="5134"/>
                </a:lnTo>
                <a:lnTo>
                  <a:pt x="12462" y="5134"/>
                </a:lnTo>
                <a:lnTo>
                  <a:pt x="12383" y="5108"/>
                </a:lnTo>
                <a:lnTo>
                  <a:pt x="12304" y="5081"/>
                </a:lnTo>
                <a:lnTo>
                  <a:pt x="12224" y="5055"/>
                </a:lnTo>
                <a:lnTo>
                  <a:pt x="12145" y="5002"/>
                </a:lnTo>
                <a:lnTo>
                  <a:pt x="12066" y="4976"/>
                </a:lnTo>
                <a:lnTo>
                  <a:pt x="12013" y="4870"/>
                </a:lnTo>
                <a:lnTo>
                  <a:pt x="11986" y="4764"/>
                </a:lnTo>
                <a:lnTo>
                  <a:pt x="11960" y="4685"/>
                </a:lnTo>
                <a:lnTo>
                  <a:pt x="11880" y="4605"/>
                </a:lnTo>
                <a:lnTo>
                  <a:pt x="11801" y="4552"/>
                </a:lnTo>
                <a:lnTo>
                  <a:pt x="11722" y="4499"/>
                </a:lnTo>
                <a:lnTo>
                  <a:pt x="11642" y="4446"/>
                </a:lnTo>
                <a:lnTo>
                  <a:pt x="11563" y="4419"/>
                </a:lnTo>
                <a:lnTo>
                  <a:pt x="11483" y="4340"/>
                </a:lnTo>
                <a:lnTo>
                  <a:pt x="11404" y="4287"/>
                </a:lnTo>
                <a:lnTo>
                  <a:pt x="11325" y="4287"/>
                </a:lnTo>
                <a:lnTo>
                  <a:pt x="11272" y="4207"/>
                </a:lnTo>
                <a:lnTo>
                  <a:pt x="11192" y="4207"/>
                </a:lnTo>
                <a:lnTo>
                  <a:pt x="11139" y="4128"/>
                </a:lnTo>
                <a:lnTo>
                  <a:pt x="11060" y="4102"/>
                </a:lnTo>
                <a:lnTo>
                  <a:pt x="10981" y="4075"/>
                </a:lnTo>
                <a:lnTo>
                  <a:pt x="10928" y="3996"/>
                </a:lnTo>
                <a:lnTo>
                  <a:pt x="10848" y="3996"/>
                </a:lnTo>
                <a:lnTo>
                  <a:pt x="10743" y="3969"/>
                </a:lnTo>
                <a:lnTo>
                  <a:pt x="10637" y="3916"/>
                </a:lnTo>
                <a:lnTo>
                  <a:pt x="10557" y="3916"/>
                </a:lnTo>
                <a:lnTo>
                  <a:pt x="10478" y="3916"/>
                </a:lnTo>
                <a:lnTo>
                  <a:pt x="10399" y="3916"/>
                </a:lnTo>
                <a:lnTo>
                  <a:pt x="10319" y="3916"/>
                </a:lnTo>
                <a:lnTo>
                  <a:pt x="10240" y="3916"/>
                </a:lnTo>
                <a:lnTo>
                  <a:pt x="10134" y="3916"/>
                </a:lnTo>
                <a:lnTo>
                  <a:pt x="9975" y="3890"/>
                </a:lnTo>
                <a:lnTo>
                  <a:pt x="9817" y="3890"/>
                </a:lnTo>
                <a:lnTo>
                  <a:pt x="9711" y="3863"/>
                </a:lnTo>
                <a:lnTo>
                  <a:pt x="9605" y="3837"/>
                </a:lnTo>
                <a:lnTo>
                  <a:pt x="9499" y="3784"/>
                </a:lnTo>
                <a:lnTo>
                  <a:pt x="9420" y="3784"/>
                </a:lnTo>
                <a:lnTo>
                  <a:pt x="9340" y="3784"/>
                </a:lnTo>
                <a:lnTo>
                  <a:pt x="9261" y="3758"/>
                </a:lnTo>
                <a:lnTo>
                  <a:pt x="9155" y="3705"/>
                </a:lnTo>
                <a:lnTo>
                  <a:pt x="9076" y="3678"/>
                </a:lnTo>
                <a:lnTo>
                  <a:pt x="8996" y="3678"/>
                </a:lnTo>
                <a:lnTo>
                  <a:pt x="8943" y="3652"/>
                </a:lnTo>
                <a:lnTo>
                  <a:pt x="8943" y="3625"/>
                </a:lnTo>
                <a:lnTo>
                  <a:pt x="8917" y="3546"/>
                </a:lnTo>
                <a:lnTo>
                  <a:pt x="8838" y="3519"/>
                </a:lnTo>
                <a:lnTo>
                  <a:pt x="8838" y="3440"/>
                </a:lnTo>
                <a:lnTo>
                  <a:pt x="8811" y="3361"/>
                </a:lnTo>
                <a:lnTo>
                  <a:pt x="8732" y="3308"/>
                </a:lnTo>
                <a:lnTo>
                  <a:pt x="8652" y="3228"/>
                </a:lnTo>
                <a:lnTo>
                  <a:pt x="8599" y="3149"/>
                </a:lnTo>
                <a:lnTo>
                  <a:pt x="8520" y="3096"/>
                </a:lnTo>
                <a:lnTo>
                  <a:pt x="8441" y="3070"/>
                </a:lnTo>
                <a:lnTo>
                  <a:pt x="8361" y="3043"/>
                </a:lnTo>
                <a:lnTo>
                  <a:pt x="8282" y="2990"/>
                </a:lnTo>
                <a:lnTo>
                  <a:pt x="8203" y="2937"/>
                </a:lnTo>
                <a:lnTo>
                  <a:pt x="8123" y="2911"/>
                </a:lnTo>
                <a:lnTo>
                  <a:pt x="8044" y="2858"/>
                </a:lnTo>
                <a:lnTo>
                  <a:pt x="7964" y="2805"/>
                </a:lnTo>
                <a:lnTo>
                  <a:pt x="7912" y="2726"/>
                </a:lnTo>
                <a:lnTo>
                  <a:pt x="7832" y="2699"/>
                </a:lnTo>
                <a:lnTo>
                  <a:pt x="7753" y="2673"/>
                </a:lnTo>
                <a:lnTo>
                  <a:pt x="7647" y="2620"/>
                </a:lnTo>
                <a:lnTo>
                  <a:pt x="7568" y="2593"/>
                </a:lnTo>
                <a:lnTo>
                  <a:pt x="7488" y="2593"/>
                </a:lnTo>
                <a:lnTo>
                  <a:pt x="7409" y="2541"/>
                </a:lnTo>
                <a:lnTo>
                  <a:pt x="7329" y="2514"/>
                </a:lnTo>
                <a:lnTo>
                  <a:pt x="7277" y="2435"/>
                </a:lnTo>
                <a:lnTo>
                  <a:pt x="7197" y="2408"/>
                </a:lnTo>
                <a:lnTo>
                  <a:pt x="7118" y="2408"/>
                </a:lnTo>
                <a:lnTo>
                  <a:pt x="7038" y="2408"/>
                </a:lnTo>
                <a:lnTo>
                  <a:pt x="6959" y="2408"/>
                </a:lnTo>
                <a:lnTo>
                  <a:pt x="6880" y="2408"/>
                </a:lnTo>
                <a:lnTo>
                  <a:pt x="6800" y="2408"/>
                </a:lnTo>
                <a:lnTo>
                  <a:pt x="6721" y="2408"/>
                </a:lnTo>
                <a:lnTo>
                  <a:pt x="6642" y="2408"/>
                </a:lnTo>
                <a:lnTo>
                  <a:pt x="6615" y="2329"/>
                </a:lnTo>
                <a:lnTo>
                  <a:pt x="6589" y="2249"/>
                </a:lnTo>
                <a:lnTo>
                  <a:pt x="6509" y="2197"/>
                </a:lnTo>
                <a:lnTo>
                  <a:pt x="6465" y="2179"/>
                </a:lnTo>
                <a:lnTo>
                  <a:pt x="6430" y="2117"/>
                </a:lnTo>
                <a:lnTo>
                  <a:pt x="6377" y="2038"/>
                </a:lnTo>
                <a:lnTo>
                  <a:pt x="6270" y="1985"/>
                </a:lnTo>
                <a:lnTo>
                  <a:pt x="6217" y="1888"/>
                </a:lnTo>
                <a:lnTo>
                  <a:pt x="6094" y="1870"/>
                </a:lnTo>
                <a:lnTo>
                  <a:pt x="6006" y="1932"/>
                </a:lnTo>
                <a:lnTo>
                  <a:pt x="5926" y="1985"/>
                </a:lnTo>
                <a:lnTo>
                  <a:pt x="5873" y="2064"/>
                </a:lnTo>
                <a:lnTo>
                  <a:pt x="5794" y="2091"/>
                </a:lnTo>
                <a:lnTo>
                  <a:pt x="5767" y="2170"/>
                </a:lnTo>
                <a:lnTo>
                  <a:pt x="5688" y="2197"/>
                </a:lnTo>
                <a:lnTo>
                  <a:pt x="5662" y="2276"/>
                </a:lnTo>
                <a:lnTo>
                  <a:pt x="5582" y="2302"/>
                </a:lnTo>
                <a:lnTo>
                  <a:pt x="5503" y="2408"/>
                </a:lnTo>
                <a:lnTo>
                  <a:pt x="5476" y="2514"/>
                </a:lnTo>
                <a:lnTo>
                  <a:pt x="5397" y="2593"/>
                </a:lnTo>
                <a:lnTo>
                  <a:pt x="5291" y="2699"/>
                </a:lnTo>
                <a:lnTo>
                  <a:pt x="5238" y="2699"/>
                </a:lnTo>
                <a:lnTo>
                  <a:pt x="5159" y="2673"/>
                </a:lnTo>
                <a:lnTo>
                  <a:pt x="5080" y="2699"/>
                </a:lnTo>
                <a:lnTo>
                  <a:pt x="5000" y="2726"/>
                </a:lnTo>
                <a:lnTo>
                  <a:pt x="4894" y="2805"/>
                </a:lnTo>
                <a:lnTo>
                  <a:pt x="4815" y="2805"/>
                </a:lnTo>
                <a:lnTo>
                  <a:pt x="4762" y="2884"/>
                </a:lnTo>
                <a:lnTo>
                  <a:pt x="4683" y="2964"/>
                </a:lnTo>
                <a:lnTo>
                  <a:pt x="4603" y="3017"/>
                </a:lnTo>
                <a:lnTo>
                  <a:pt x="4524" y="3096"/>
                </a:lnTo>
                <a:lnTo>
                  <a:pt x="4445" y="3123"/>
                </a:lnTo>
                <a:lnTo>
                  <a:pt x="4365" y="3202"/>
                </a:lnTo>
                <a:lnTo>
                  <a:pt x="4286" y="3308"/>
                </a:lnTo>
                <a:lnTo>
                  <a:pt x="4233" y="3387"/>
                </a:lnTo>
                <a:lnTo>
                  <a:pt x="4180" y="3467"/>
                </a:lnTo>
                <a:lnTo>
                  <a:pt x="4101" y="3519"/>
                </a:lnTo>
                <a:lnTo>
                  <a:pt x="4021" y="3519"/>
                </a:lnTo>
                <a:lnTo>
                  <a:pt x="3942" y="3546"/>
                </a:lnTo>
                <a:lnTo>
                  <a:pt x="3889" y="3625"/>
                </a:lnTo>
                <a:lnTo>
                  <a:pt x="3810" y="3652"/>
                </a:lnTo>
                <a:lnTo>
                  <a:pt x="3730" y="3731"/>
                </a:lnTo>
                <a:lnTo>
                  <a:pt x="3651" y="3819"/>
                </a:lnTo>
                <a:lnTo>
                  <a:pt x="3607" y="3863"/>
                </a:lnTo>
                <a:lnTo>
                  <a:pt x="3554" y="3881"/>
                </a:lnTo>
                <a:lnTo>
                  <a:pt x="3466" y="4022"/>
                </a:lnTo>
                <a:lnTo>
                  <a:pt x="3386" y="4075"/>
                </a:lnTo>
                <a:lnTo>
                  <a:pt x="3360" y="4154"/>
                </a:lnTo>
                <a:lnTo>
                  <a:pt x="3280" y="4154"/>
                </a:lnTo>
                <a:lnTo>
                  <a:pt x="3201" y="4154"/>
                </a:lnTo>
                <a:lnTo>
                  <a:pt x="3122" y="4154"/>
                </a:lnTo>
                <a:lnTo>
                  <a:pt x="3042" y="4154"/>
                </a:lnTo>
                <a:lnTo>
                  <a:pt x="2963" y="4154"/>
                </a:lnTo>
                <a:lnTo>
                  <a:pt x="2883" y="4154"/>
                </a:lnTo>
                <a:lnTo>
                  <a:pt x="2804" y="4154"/>
                </a:lnTo>
                <a:lnTo>
                  <a:pt x="2725" y="4207"/>
                </a:lnTo>
                <a:lnTo>
                  <a:pt x="2645" y="4260"/>
                </a:lnTo>
                <a:lnTo>
                  <a:pt x="2566" y="4313"/>
                </a:lnTo>
                <a:lnTo>
                  <a:pt x="2487" y="4366"/>
                </a:lnTo>
                <a:lnTo>
                  <a:pt x="2407" y="4446"/>
                </a:lnTo>
                <a:lnTo>
                  <a:pt x="2328" y="4499"/>
                </a:lnTo>
                <a:lnTo>
                  <a:pt x="2248" y="4552"/>
                </a:lnTo>
                <a:lnTo>
                  <a:pt x="2169" y="4579"/>
                </a:lnTo>
                <a:lnTo>
                  <a:pt x="2090" y="4605"/>
                </a:lnTo>
                <a:lnTo>
                  <a:pt x="2010" y="4658"/>
                </a:lnTo>
                <a:lnTo>
                  <a:pt x="1931" y="4685"/>
                </a:lnTo>
                <a:lnTo>
                  <a:pt x="1852" y="4746"/>
                </a:lnTo>
                <a:lnTo>
                  <a:pt x="1772" y="4799"/>
                </a:lnTo>
                <a:lnTo>
                  <a:pt x="1710" y="4826"/>
                </a:lnTo>
                <a:lnTo>
                  <a:pt x="1613" y="4870"/>
                </a:lnTo>
                <a:lnTo>
                  <a:pt x="1534" y="4923"/>
                </a:lnTo>
                <a:lnTo>
                  <a:pt x="1481" y="5002"/>
                </a:lnTo>
                <a:lnTo>
                  <a:pt x="1402" y="5029"/>
                </a:lnTo>
                <a:lnTo>
                  <a:pt x="1349" y="5108"/>
                </a:lnTo>
                <a:lnTo>
                  <a:pt x="1270" y="5161"/>
                </a:lnTo>
                <a:lnTo>
                  <a:pt x="1217" y="5240"/>
                </a:lnTo>
                <a:lnTo>
                  <a:pt x="1137" y="5293"/>
                </a:lnTo>
                <a:lnTo>
                  <a:pt x="1058" y="5293"/>
                </a:lnTo>
                <a:lnTo>
                  <a:pt x="978" y="5293"/>
                </a:lnTo>
                <a:lnTo>
                  <a:pt x="899" y="5320"/>
                </a:lnTo>
                <a:lnTo>
                  <a:pt x="820" y="5373"/>
                </a:lnTo>
                <a:lnTo>
                  <a:pt x="714" y="5452"/>
                </a:lnTo>
                <a:lnTo>
                  <a:pt x="635" y="5505"/>
                </a:lnTo>
                <a:lnTo>
                  <a:pt x="555" y="5531"/>
                </a:lnTo>
                <a:lnTo>
                  <a:pt x="476" y="5584"/>
                </a:lnTo>
                <a:lnTo>
                  <a:pt x="396" y="5637"/>
                </a:lnTo>
                <a:lnTo>
                  <a:pt x="291" y="5716"/>
                </a:lnTo>
                <a:lnTo>
                  <a:pt x="211" y="5743"/>
                </a:lnTo>
                <a:lnTo>
                  <a:pt x="132" y="5796"/>
                </a:lnTo>
                <a:lnTo>
                  <a:pt x="79" y="5875"/>
                </a:lnTo>
                <a:lnTo>
                  <a:pt x="52" y="595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7" name=""/>
          <p:cNvSpPr/>
          <p:nvPr/>
        </p:nvSpPr>
        <p:spPr>
          <a:xfrm>
            <a:off x="7772400" y="3271680"/>
            <a:ext cx="133560" cy="528840"/>
          </a:xfrm>
          <a:custGeom>
            <a:avLst/>
            <a:gdLst/>
            <a:ahLst/>
            <a:rect l="0" t="0" r="r" b="b"/>
            <a:pathLst>
              <a:path w="371" h="1469">
                <a:moveTo>
                  <a:pt x="13" y="0"/>
                </a:moveTo>
                <a:lnTo>
                  <a:pt x="52" y="13"/>
                </a:lnTo>
                <a:lnTo>
                  <a:pt x="105" y="13"/>
                </a:lnTo>
                <a:lnTo>
                  <a:pt x="132" y="52"/>
                </a:lnTo>
                <a:lnTo>
                  <a:pt x="132" y="92"/>
                </a:lnTo>
                <a:lnTo>
                  <a:pt x="132" y="132"/>
                </a:lnTo>
                <a:lnTo>
                  <a:pt x="132" y="171"/>
                </a:lnTo>
                <a:lnTo>
                  <a:pt x="132" y="211"/>
                </a:lnTo>
                <a:lnTo>
                  <a:pt x="158" y="264"/>
                </a:lnTo>
                <a:lnTo>
                  <a:pt x="171" y="304"/>
                </a:lnTo>
                <a:lnTo>
                  <a:pt x="186" y="343"/>
                </a:lnTo>
                <a:lnTo>
                  <a:pt x="225" y="383"/>
                </a:lnTo>
                <a:lnTo>
                  <a:pt x="225" y="423"/>
                </a:lnTo>
                <a:lnTo>
                  <a:pt x="331" y="449"/>
                </a:lnTo>
                <a:lnTo>
                  <a:pt x="344" y="489"/>
                </a:lnTo>
                <a:lnTo>
                  <a:pt x="344" y="529"/>
                </a:lnTo>
                <a:lnTo>
                  <a:pt x="344" y="568"/>
                </a:lnTo>
                <a:lnTo>
                  <a:pt x="344" y="608"/>
                </a:lnTo>
                <a:lnTo>
                  <a:pt x="344" y="648"/>
                </a:lnTo>
                <a:lnTo>
                  <a:pt x="344" y="687"/>
                </a:lnTo>
                <a:lnTo>
                  <a:pt x="344" y="727"/>
                </a:lnTo>
                <a:lnTo>
                  <a:pt x="344" y="768"/>
                </a:lnTo>
                <a:lnTo>
                  <a:pt x="344" y="807"/>
                </a:lnTo>
                <a:lnTo>
                  <a:pt x="344" y="860"/>
                </a:lnTo>
                <a:lnTo>
                  <a:pt x="358" y="900"/>
                </a:lnTo>
                <a:lnTo>
                  <a:pt x="358" y="940"/>
                </a:lnTo>
                <a:lnTo>
                  <a:pt x="358" y="993"/>
                </a:lnTo>
                <a:lnTo>
                  <a:pt x="371" y="1072"/>
                </a:lnTo>
                <a:lnTo>
                  <a:pt x="371" y="1112"/>
                </a:lnTo>
                <a:lnTo>
                  <a:pt x="371" y="1151"/>
                </a:lnTo>
                <a:lnTo>
                  <a:pt x="371" y="1191"/>
                </a:lnTo>
                <a:lnTo>
                  <a:pt x="371" y="1231"/>
                </a:lnTo>
                <a:lnTo>
                  <a:pt x="371" y="1271"/>
                </a:lnTo>
                <a:lnTo>
                  <a:pt x="371" y="1310"/>
                </a:lnTo>
                <a:lnTo>
                  <a:pt x="371" y="1350"/>
                </a:lnTo>
                <a:lnTo>
                  <a:pt x="371" y="1390"/>
                </a:lnTo>
                <a:lnTo>
                  <a:pt x="371" y="1429"/>
                </a:lnTo>
                <a:lnTo>
                  <a:pt x="344" y="1469"/>
                </a:lnTo>
                <a:lnTo>
                  <a:pt x="305" y="1469"/>
                </a:lnTo>
                <a:lnTo>
                  <a:pt x="265" y="1469"/>
                </a:lnTo>
                <a:lnTo>
                  <a:pt x="225" y="1469"/>
                </a:lnTo>
                <a:lnTo>
                  <a:pt x="186" y="1456"/>
                </a:lnTo>
                <a:lnTo>
                  <a:pt x="186" y="1416"/>
                </a:lnTo>
                <a:lnTo>
                  <a:pt x="186" y="1376"/>
                </a:lnTo>
                <a:lnTo>
                  <a:pt x="186" y="1337"/>
                </a:lnTo>
                <a:lnTo>
                  <a:pt x="186" y="1297"/>
                </a:lnTo>
                <a:lnTo>
                  <a:pt x="186" y="1257"/>
                </a:lnTo>
                <a:lnTo>
                  <a:pt x="186" y="1218"/>
                </a:lnTo>
                <a:lnTo>
                  <a:pt x="186" y="1178"/>
                </a:lnTo>
                <a:lnTo>
                  <a:pt x="186" y="1138"/>
                </a:lnTo>
                <a:lnTo>
                  <a:pt x="186" y="1099"/>
                </a:lnTo>
                <a:lnTo>
                  <a:pt x="186" y="1059"/>
                </a:lnTo>
                <a:lnTo>
                  <a:pt x="186" y="1019"/>
                </a:lnTo>
                <a:lnTo>
                  <a:pt x="186" y="979"/>
                </a:lnTo>
                <a:lnTo>
                  <a:pt x="186" y="940"/>
                </a:lnTo>
                <a:lnTo>
                  <a:pt x="171" y="900"/>
                </a:lnTo>
                <a:lnTo>
                  <a:pt x="158" y="860"/>
                </a:lnTo>
                <a:lnTo>
                  <a:pt x="158" y="821"/>
                </a:lnTo>
                <a:lnTo>
                  <a:pt x="145" y="768"/>
                </a:lnTo>
                <a:lnTo>
                  <a:pt x="145" y="727"/>
                </a:lnTo>
                <a:lnTo>
                  <a:pt x="132" y="687"/>
                </a:lnTo>
                <a:lnTo>
                  <a:pt x="105" y="648"/>
                </a:lnTo>
                <a:lnTo>
                  <a:pt x="92" y="608"/>
                </a:lnTo>
                <a:lnTo>
                  <a:pt x="79" y="568"/>
                </a:lnTo>
                <a:lnTo>
                  <a:pt x="39" y="555"/>
                </a:lnTo>
                <a:lnTo>
                  <a:pt x="13" y="515"/>
                </a:lnTo>
                <a:lnTo>
                  <a:pt x="13" y="476"/>
                </a:lnTo>
                <a:lnTo>
                  <a:pt x="0" y="436"/>
                </a:lnTo>
                <a:lnTo>
                  <a:pt x="0" y="396"/>
                </a:lnTo>
                <a:lnTo>
                  <a:pt x="0" y="357"/>
                </a:lnTo>
                <a:lnTo>
                  <a:pt x="0" y="317"/>
                </a:lnTo>
                <a:lnTo>
                  <a:pt x="0" y="277"/>
                </a:lnTo>
                <a:lnTo>
                  <a:pt x="0" y="238"/>
                </a:lnTo>
                <a:lnTo>
                  <a:pt x="0" y="198"/>
                </a:lnTo>
                <a:lnTo>
                  <a:pt x="0" y="158"/>
                </a:lnTo>
                <a:lnTo>
                  <a:pt x="0" y="119"/>
                </a:lnTo>
                <a:lnTo>
                  <a:pt x="0" y="79"/>
                </a:lnTo>
                <a:lnTo>
                  <a:pt x="13" y="39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"/>
          <p:cNvSpPr/>
          <p:nvPr/>
        </p:nvSpPr>
        <p:spPr>
          <a:xfrm>
            <a:off x="3309840" y="3624120"/>
            <a:ext cx="167040" cy="448200"/>
          </a:xfrm>
          <a:custGeom>
            <a:avLst/>
            <a:gdLst/>
            <a:ahLst/>
            <a:rect l="0" t="0" r="r" b="b"/>
            <a:pathLst>
              <a:path w="464" h="1245">
                <a:moveTo>
                  <a:pt x="371" y="92"/>
                </a:moveTo>
                <a:lnTo>
                  <a:pt x="371" y="52"/>
                </a:lnTo>
                <a:lnTo>
                  <a:pt x="411" y="52"/>
                </a:lnTo>
                <a:lnTo>
                  <a:pt x="450" y="39"/>
                </a:lnTo>
                <a:lnTo>
                  <a:pt x="450" y="0"/>
                </a:lnTo>
                <a:lnTo>
                  <a:pt x="464" y="39"/>
                </a:lnTo>
                <a:lnTo>
                  <a:pt x="464" y="79"/>
                </a:lnTo>
                <a:lnTo>
                  <a:pt x="464" y="119"/>
                </a:lnTo>
                <a:lnTo>
                  <a:pt x="464" y="158"/>
                </a:lnTo>
                <a:lnTo>
                  <a:pt x="464" y="198"/>
                </a:lnTo>
                <a:lnTo>
                  <a:pt x="464" y="238"/>
                </a:lnTo>
                <a:lnTo>
                  <a:pt x="464" y="277"/>
                </a:lnTo>
                <a:lnTo>
                  <a:pt x="464" y="318"/>
                </a:lnTo>
                <a:lnTo>
                  <a:pt x="464" y="358"/>
                </a:lnTo>
                <a:lnTo>
                  <a:pt x="437" y="397"/>
                </a:lnTo>
                <a:lnTo>
                  <a:pt x="411" y="437"/>
                </a:lnTo>
                <a:lnTo>
                  <a:pt x="371" y="464"/>
                </a:lnTo>
                <a:lnTo>
                  <a:pt x="358" y="503"/>
                </a:lnTo>
                <a:lnTo>
                  <a:pt x="331" y="543"/>
                </a:lnTo>
                <a:lnTo>
                  <a:pt x="318" y="583"/>
                </a:lnTo>
                <a:lnTo>
                  <a:pt x="318" y="622"/>
                </a:lnTo>
                <a:lnTo>
                  <a:pt x="305" y="662"/>
                </a:lnTo>
                <a:lnTo>
                  <a:pt x="292" y="715"/>
                </a:lnTo>
                <a:lnTo>
                  <a:pt x="278" y="755"/>
                </a:lnTo>
                <a:lnTo>
                  <a:pt x="278" y="794"/>
                </a:lnTo>
                <a:lnTo>
                  <a:pt x="278" y="834"/>
                </a:lnTo>
                <a:lnTo>
                  <a:pt x="265" y="874"/>
                </a:lnTo>
                <a:lnTo>
                  <a:pt x="265" y="913"/>
                </a:lnTo>
                <a:lnTo>
                  <a:pt x="239" y="967"/>
                </a:lnTo>
                <a:lnTo>
                  <a:pt x="211" y="1007"/>
                </a:lnTo>
                <a:lnTo>
                  <a:pt x="198" y="1047"/>
                </a:lnTo>
                <a:lnTo>
                  <a:pt x="185" y="1086"/>
                </a:lnTo>
                <a:lnTo>
                  <a:pt x="158" y="1126"/>
                </a:lnTo>
                <a:lnTo>
                  <a:pt x="119" y="1139"/>
                </a:lnTo>
                <a:lnTo>
                  <a:pt x="119" y="1179"/>
                </a:lnTo>
                <a:lnTo>
                  <a:pt x="105" y="1219"/>
                </a:lnTo>
                <a:lnTo>
                  <a:pt x="66" y="1245"/>
                </a:lnTo>
                <a:lnTo>
                  <a:pt x="13" y="1245"/>
                </a:lnTo>
                <a:lnTo>
                  <a:pt x="0" y="1205"/>
                </a:lnTo>
                <a:lnTo>
                  <a:pt x="0" y="1166"/>
                </a:lnTo>
                <a:lnTo>
                  <a:pt x="0" y="1126"/>
                </a:lnTo>
                <a:lnTo>
                  <a:pt x="0" y="1086"/>
                </a:lnTo>
                <a:lnTo>
                  <a:pt x="0" y="1047"/>
                </a:lnTo>
                <a:lnTo>
                  <a:pt x="13" y="1007"/>
                </a:lnTo>
                <a:lnTo>
                  <a:pt x="13" y="967"/>
                </a:lnTo>
                <a:lnTo>
                  <a:pt x="26" y="927"/>
                </a:lnTo>
                <a:lnTo>
                  <a:pt x="66" y="900"/>
                </a:lnTo>
                <a:lnTo>
                  <a:pt x="79" y="860"/>
                </a:lnTo>
                <a:lnTo>
                  <a:pt x="119" y="847"/>
                </a:lnTo>
                <a:lnTo>
                  <a:pt x="132" y="807"/>
                </a:lnTo>
                <a:lnTo>
                  <a:pt x="171" y="807"/>
                </a:lnTo>
                <a:lnTo>
                  <a:pt x="171" y="768"/>
                </a:lnTo>
                <a:lnTo>
                  <a:pt x="171" y="728"/>
                </a:lnTo>
                <a:lnTo>
                  <a:pt x="171" y="688"/>
                </a:lnTo>
                <a:lnTo>
                  <a:pt x="171" y="636"/>
                </a:lnTo>
                <a:lnTo>
                  <a:pt x="185" y="596"/>
                </a:lnTo>
                <a:lnTo>
                  <a:pt x="198" y="543"/>
                </a:lnTo>
                <a:lnTo>
                  <a:pt x="278" y="530"/>
                </a:lnTo>
                <a:lnTo>
                  <a:pt x="318" y="477"/>
                </a:lnTo>
                <a:lnTo>
                  <a:pt x="318" y="437"/>
                </a:lnTo>
                <a:lnTo>
                  <a:pt x="318" y="397"/>
                </a:lnTo>
                <a:lnTo>
                  <a:pt x="278" y="424"/>
                </a:lnTo>
                <a:lnTo>
                  <a:pt x="239" y="530"/>
                </a:lnTo>
                <a:lnTo>
                  <a:pt x="198" y="583"/>
                </a:lnTo>
                <a:lnTo>
                  <a:pt x="171" y="622"/>
                </a:lnTo>
                <a:lnTo>
                  <a:pt x="211" y="596"/>
                </a:lnTo>
                <a:lnTo>
                  <a:pt x="211" y="556"/>
                </a:lnTo>
                <a:lnTo>
                  <a:pt x="211" y="516"/>
                </a:lnTo>
                <a:lnTo>
                  <a:pt x="224" y="464"/>
                </a:lnTo>
                <a:lnTo>
                  <a:pt x="224" y="424"/>
                </a:lnTo>
                <a:lnTo>
                  <a:pt x="224" y="384"/>
                </a:lnTo>
                <a:lnTo>
                  <a:pt x="224" y="344"/>
                </a:lnTo>
                <a:lnTo>
                  <a:pt x="224" y="304"/>
                </a:lnTo>
                <a:lnTo>
                  <a:pt x="224" y="264"/>
                </a:lnTo>
                <a:lnTo>
                  <a:pt x="224" y="224"/>
                </a:lnTo>
                <a:lnTo>
                  <a:pt x="265" y="224"/>
                </a:lnTo>
                <a:lnTo>
                  <a:pt x="305" y="224"/>
                </a:lnTo>
                <a:lnTo>
                  <a:pt x="358" y="224"/>
                </a:lnTo>
                <a:lnTo>
                  <a:pt x="305" y="224"/>
                </a:lnTo>
                <a:lnTo>
                  <a:pt x="265" y="211"/>
                </a:lnTo>
                <a:lnTo>
                  <a:pt x="292" y="171"/>
                </a:lnTo>
                <a:lnTo>
                  <a:pt x="331" y="158"/>
                </a:lnTo>
                <a:lnTo>
                  <a:pt x="344" y="119"/>
                </a:lnTo>
                <a:lnTo>
                  <a:pt x="371" y="79"/>
                </a:lnTo>
                <a:lnTo>
                  <a:pt x="371" y="9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"/>
          <p:cNvSpPr/>
          <p:nvPr/>
        </p:nvSpPr>
        <p:spPr>
          <a:xfrm>
            <a:off x="3400560" y="3646440"/>
            <a:ext cx="78120" cy="47880"/>
          </a:xfrm>
          <a:custGeom>
            <a:avLst/>
            <a:gdLst/>
            <a:ahLst/>
            <a:rect l="0" t="0" r="r" b="b"/>
            <a:pathLst>
              <a:path w="217" h="133">
                <a:moveTo>
                  <a:pt x="108" y="133"/>
                </a:moveTo>
                <a:lnTo>
                  <a:pt x="217" y="67"/>
                </a:lnTo>
                <a:lnTo>
                  <a:pt x="108" y="0"/>
                </a:lnTo>
                <a:lnTo>
                  <a:pt x="0" y="67"/>
                </a:lnTo>
                <a:lnTo>
                  <a:pt x="108" y="1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0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6061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3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"/>
          <p:cNvSpPr txBox="1"/>
          <p:nvPr/>
        </p:nvSpPr>
        <p:spPr>
          <a:xfrm>
            <a:off x="2055960" y="346536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5" name=""/>
          <p:cNvSpPr txBox="1"/>
          <p:nvPr/>
        </p:nvSpPr>
        <p:spPr>
          <a:xfrm>
            <a:off x="1755720" y="310824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6" name=""/>
          <p:cNvSpPr txBox="1"/>
          <p:nvPr/>
        </p:nvSpPr>
        <p:spPr>
          <a:xfrm>
            <a:off x="1965240" y="391788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"/>
          <p:cNvSpPr txBox="1"/>
          <p:nvPr/>
        </p:nvSpPr>
        <p:spPr>
          <a:xfrm>
            <a:off x="1622520" y="4789440"/>
            <a:ext cx="26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8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6069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6070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1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2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4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5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6076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7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6078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0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6081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4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6085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7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6088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1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2" name=""/>
          <p:cNvSpPr/>
          <p:nvPr/>
        </p:nvSpPr>
        <p:spPr>
          <a:xfrm>
            <a:off x="7115040" y="590400"/>
            <a:ext cx="649800" cy="2108520"/>
          </a:xfrm>
          <a:custGeom>
            <a:avLst/>
            <a:gdLst/>
            <a:ahLst/>
            <a:rect l="0" t="0" r="r" b="b"/>
            <a:pathLst>
              <a:path fill="none" w="1805" h="5857">
                <a:moveTo>
                  <a:pt x="158" y="0"/>
                </a:moveTo>
                <a:lnTo>
                  <a:pt x="291" y="632"/>
                </a:lnTo>
                <a:lnTo>
                  <a:pt x="316" y="1087"/>
                </a:lnTo>
                <a:lnTo>
                  <a:pt x="340" y="1270"/>
                </a:lnTo>
                <a:lnTo>
                  <a:pt x="340" y="1482"/>
                </a:lnTo>
                <a:lnTo>
                  <a:pt x="212" y="1794"/>
                </a:lnTo>
                <a:lnTo>
                  <a:pt x="212" y="1985"/>
                </a:lnTo>
                <a:lnTo>
                  <a:pt x="212" y="2175"/>
                </a:lnTo>
                <a:lnTo>
                  <a:pt x="103" y="2358"/>
                </a:lnTo>
                <a:lnTo>
                  <a:pt x="0" y="2540"/>
                </a:lnTo>
                <a:lnTo>
                  <a:pt x="54" y="2752"/>
                </a:lnTo>
                <a:lnTo>
                  <a:pt x="79" y="3043"/>
                </a:lnTo>
                <a:lnTo>
                  <a:pt x="212" y="3256"/>
                </a:lnTo>
                <a:lnTo>
                  <a:pt x="355" y="3512"/>
                </a:lnTo>
                <a:lnTo>
                  <a:pt x="648" y="3702"/>
                </a:lnTo>
                <a:lnTo>
                  <a:pt x="860" y="4019"/>
                </a:lnTo>
                <a:lnTo>
                  <a:pt x="860" y="4209"/>
                </a:lnTo>
                <a:lnTo>
                  <a:pt x="860" y="4526"/>
                </a:lnTo>
                <a:lnTo>
                  <a:pt x="860" y="4717"/>
                </a:lnTo>
                <a:lnTo>
                  <a:pt x="1009" y="4907"/>
                </a:lnTo>
                <a:lnTo>
                  <a:pt x="1295" y="5159"/>
                </a:lnTo>
                <a:lnTo>
                  <a:pt x="1370" y="5349"/>
                </a:lnTo>
                <a:lnTo>
                  <a:pt x="1588" y="5475"/>
                </a:lnTo>
                <a:lnTo>
                  <a:pt x="1657" y="5666"/>
                </a:lnTo>
                <a:lnTo>
                  <a:pt x="1805" y="585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"/>
          <p:cNvSpPr/>
          <p:nvPr/>
        </p:nvSpPr>
        <p:spPr>
          <a:xfrm>
            <a:off x="6905520" y="628560"/>
            <a:ext cx="832320" cy="2643480"/>
          </a:xfrm>
          <a:custGeom>
            <a:avLst/>
            <a:gdLst/>
            <a:ahLst/>
            <a:rect l="0" t="0" r="r" b="b"/>
            <a:pathLst>
              <a:path fill="none" w="2312" h="7343">
                <a:moveTo>
                  <a:pt x="0" y="0"/>
                </a:moveTo>
                <a:lnTo>
                  <a:pt x="78" y="688"/>
                </a:lnTo>
                <a:lnTo>
                  <a:pt x="187" y="1165"/>
                </a:lnTo>
                <a:lnTo>
                  <a:pt x="162" y="1533"/>
                </a:lnTo>
                <a:lnTo>
                  <a:pt x="147" y="1953"/>
                </a:lnTo>
                <a:lnTo>
                  <a:pt x="266" y="2144"/>
                </a:lnTo>
                <a:lnTo>
                  <a:pt x="211" y="2356"/>
                </a:lnTo>
                <a:lnTo>
                  <a:pt x="73" y="2586"/>
                </a:lnTo>
                <a:lnTo>
                  <a:pt x="73" y="2776"/>
                </a:lnTo>
                <a:lnTo>
                  <a:pt x="73" y="2967"/>
                </a:lnTo>
                <a:lnTo>
                  <a:pt x="147" y="3157"/>
                </a:lnTo>
                <a:lnTo>
                  <a:pt x="364" y="3283"/>
                </a:lnTo>
                <a:lnTo>
                  <a:pt x="438" y="3474"/>
                </a:lnTo>
                <a:lnTo>
                  <a:pt x="438" y="3730"/>
                </a:lnTo>
                <a:lnTo>
                  <a:pt x="438" y="3981"/>
                </a:lnTo>
                <a:lnTo>
                  <a:pt x="438" y="4172"/>
                </a:lnTo>
                <a:lnTo>
                  <a:pt x="656" y="4362"/>
                </a:lnTo>
                <a:lnTo>
                  <a:pt x="942" y="4553"/>
                </a:lnTo>
                <a:lnTo>
                  <a:pt x="942" y="4744"/>
                </a:lnTo>
                <a:lnTo>
                  <a:pt x="942" y="4934"/>
                </a:lnTo>
                <a:lnTo>
                  <a:pt x="1158" y="5250"/>
                </a:lnTo>
                <a:lnTo>
                  <a:pt x="1661" y="5441"/>
                </a:lnTo>
                <a:lnTo>
                  <a:pt x="1810" y="5692"/>
                </a:lnTo>
                <a:lnTo>
                  <a:pt x="1810" y="5883"/>
                </a:lnTo>
                <a:lnTo>
                  <a:pt x="1810" y="6074"/>
                </a:lnTo>
                <a:lnTo>
                  <a:pt x="1953" y="6329"/>
                </a:lnTo>
                <a:lnTo>
                  <a:pt x="2095" y="6580"/>
                </a:lnTo>
                <a:lnTo>
                  <a:pt x="2095" y="6771"/>
                </a:lnTo>
                <a:lnTo>
                  <a:pt x="2169" y="6962"/>
                </a:lnTo>
                <a:lnTo>
                  <a:pt x="2312" y="7152"/>
                </a:lnTo>
                <a:lnTo>
                  <a:pt x="2312" y="734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"/>
          <p:cNvSpPr/>
          <p:nvPr/>
        </p:nvSpPr>
        <p:spPr>
          <a:xfrm>
            <a:off x="6486480" y="380880"/>
            <a:ext cx="1400760" cy="3454920"/>
          </a:xfrm>
          <a:custGeom>
            <a:avLst/>
            <a:gdLst/>
            <a:ahLst/>
            <a:rect l="0" t="0" r="r" b="b"/>
            <a:pathLst>
              <a:path fill="none" w="3891" h="9597">
                <a:moveTo>
                  <a:pt x="261" y="0"/>
                </a:moveTo>
                <a:lnTo>
                  <a:pt x="231" y="221"/>
                </a:lnTo>
                <a:lnTo>
                  <a:pt x="231" y="411"/>
                </a:lnTo>
                <a:lnTo>
                  <a:pt x="231" y="602"/>
                </a:lnTo>
                <a:lnTo>
                  <a:pt x="300" y="793"/>
                </a:lnTo>
                <a:lnTo>
                  <a:pt x="300" y="983"/>
                </a:lnTo>
                <a:lnTo>
                  <a:pt x="157" y="1139"/>
                </a:lnTo>
                <a:lnTo>
                  <a:pt x="24" y="1404"/>
                </a:lnTo>
                <a:lnTo>
                  <a:pt x="0" y="1642"/>
                </a:lnTo>
                <a:lnTo>
                  <a:pt x="78" y="1798"/>
                </a:lnTo>
                <a:lnTo>
                  <a:pt x="187" y="1984"/>
                </a:lnTo>
                <a:lnTo>
                  <a:pt x="187" y="2223"/>
                </a:lnTo>
                <a:lnTo>
                  <a:pt x="266" y="2462"/>
                </a:lnTo>
                <a:lnTo>
                  <a:pt x="374" y="2631"/>
                </a:lnTo>
                <a:lnTo>
                  <a:pt x="448" y="2831"/>
                </a:lnTo>
                <a:lnTo>
                  <a:pt x="502" y="3017"/>
                </a:lnTo>
                <a:lnTo>
                  <a:pt x="399" y="3203"/>
                </a:lnTo>
                <a:lnTo>
                  <a:pt x="300" y="3394"/>
                </a:lnTo>
                <a:lnTo>
                  <a:pt x="300" y="3585"/>
                </a:lnTo>
                <a:lnTo>
                  <a:pt x="300" y="3836"/>
                </a:lnTo>
                <a:lnTo>
                  <a:pt x="374" y="4027"/>
                </a:lnTo>
                <a:lnTo>
                  <a:pt x="517" y="4218"/>
                </a:lnTo>
                <a:lnTo>
                  <a:pt x="660" y="4408"/>
                </a:lnTo>
                <a:lnTo>
                  <a:pt x="660" y="4599"/>
                </a:lnTo>
                <a:lnTo>
                  <a:pt x="734" y="4790"/>
                </a:lnTo>
                <a:lnTo>
                  <a:pt x="877" y="5041"/>
                </a:lnTo>
                <a:lnTo>
                  <a:pt x="1026" y="5232"/>
                </a:lnTo>
                <a:lnTo>
                  <a:pt x="1095" y="5422"/>
                </a:lnTo>
                <a:lnTo>
                  <a:pt x="1238" y="5613"/>
                </a:lnTo>
                <a:lnTo>
                  <a:pt x="1455" y="5804"/>
                </a:lnTo>
                <a:lnTo>
                  <a:pt x="1529" y="5994"/>
                </a:lnTo>
                <a:lnTo>
                  <a:pt x="1672" y="6185"/>
                </a:lnTo>
                <a:lnTo>
                  <a:pt x="1888" y="6311"/>
                </a:lnTo>
                <a:lnTo>
                  <a:pt x="2031" y="6502"/>
                </a:lnTo>
                <a:lnTo>
                  <a:pt x="2248" y="6692"/>
                </a:lnTo>
                <a:lnTo>
                  <a:pt x="2396" y="6883"/>
                </a:lnTo>
                <a:lnTo>
                  <a:pt x="2539" y="7452"/>
                </a:lnTo>
                <a:lnTo>
                  <a:pt x="2682" y="7707"/>
                </a:lnTo>
                <a:lnTo>
                  <a:pt x="2756" y="7898"/>
                </a:lnTo>
                <a:lnTo>
                  <a:pt x="2974" y="8089"/>
                </a:lnTo>
                <a:lnTo>
                  <a:pt x="3117" y="8340"/>
                </a:lnTo>
                <a:lnTo>
                  <a:pt x="3191" y="8531"/>
                </a:lnTo>
                <a:lnTo>
                  <a:pt x="3191" y="8722"/>
                </a:lnTo>
                <a:lnTo>
                  <a:pt x="3260" y="8973"/>
                </a:lnTo>
                <a:lnTo>
                  <a:pt x="3260" y="9164"/>
                </a:lnTo>
                <a:lnTo>
                  <a:pt x="3891" y="95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"/>
          <p:cNvSpPr/>
          <p:nvPr/>
        </p:nvSpPr>
        <p:spPr>
          <a:xfrm>
            <a:off x="5505480" y="379440"/>
            <a:ext cx="2440440" cy="4231080"/>
          </a:xfrm>
          <a:custGeom>
            <a:avLst/>
            <a:gdLst/>
            <a:ahLst/>
            <a:rect l="0" t="0" r="r" b="b"/>
            <a:pathLst>
              <a:path fill="none" w="6779" h="11753">
                <a:moveTo>
                  <a:pt x="398" y="4"/>
                </a:moveTo>
                <a:lnTo>
                  <a:pt x="398" y="191"/>
                </a:lnTo>
                <a:lnTo>
                  <a:pt x="392" y="0"/>
                </a:lnTo>
                <a:lnTo>
                  <a:pt x="392" y="200"/>
                </a:lnTo>
                <a:lnTo>
                  <a:pt x="392" y="401"/>
                </a:lnTo>
                <a:lnTo>
                  <a:pt x="316" y="802"/>
                </a:lnTo>
                <a:lnTo>
                  <a:pt x="261" y="935"/>
                </a:lnTo>
                <a:lnTo>
                  <a:pt x="158" y="1067"/>
                </a:lnTo>
                <a:lnTo>
                  <a:pt x="158" y="1268"/>
                </a:lnTo>
                <a:lnTo>
                  <a:pt x="158" y="1468"/>
                </a:lnTo>
                <a:lnTo>
                  <a:pt x="0" y="1701"/>
                </a:lnTo>
                <a:lnTo>
                  <a:pt x="27" y="1938"/>
                </a:lnTo>
                <a:lnTo>
                  <a:pt x="81" y="2148"/>
                </a:lnTo>
                <a:lnTo>
                  <a:pt x="158" y="2335"/>
                </a:lnTo>
                <a:lnTo>
                  <a:pt x="267" y="2600"/>
                </a:lnTo>
                <a:lnTo>
                  <a:pt x="239" y="2837"/>
                </a:lnTo>
                <a:lnTo>
                  <a:pt x="158" y="2937"/>
                </a:lnTo>
                <a:lnTo>
                  <a:pt x="158" y="3139"/>
                </a:lnTo>
                <a:lnTo>
                  <a:pt x="158" y="3404"/>
                </a:lnTo>
                <a:lnTo>
                  <a:pt x="158" y="3605"/>
                </a:lnTo>
                <a:lnTo>
                  <a:pt x="234" y="3805"/>
                </a:lnTo>
                <a:lnTo>
                  <a:pt x="392" y="4006"/>
                </a:lnTo>
                <a:lnTo>
                  <a:pt x="556" y="4207"/>
                </a:lnTo>
                <a:lnTo>
                  <a:pt x="632" y="4407"/>
                </a:lnTo>
                <a:lnTo>
                  <a:pt x="632" y="4672"/>
                </a:lnTo>
                <a:lnTo>
                  <a:pt x="632" y="4873"/>
                </a:lnTo>
                <a:lnTo>
                  <a:pt x="714" y="5074"/>
                </a:lnTo>
                <a:lnTo>
                  <a:pt x="796" y="5274"/>
                </a:lnTo>
                <a:lnTo>
                  <a:pt x="1036" y="5475"/>
                </a:lnTo>
                <a:lnTo>
                  <a:pt x="1112" y="5676"/>
                </a:lnTo>
                <a:lnTo>
                  <a:pt x="1270" y="5876"/>
                </a:lnTo>
                <a:lnTo>
                  <a:pt x="1510" y="6141"/>
                </a:lnTo>
                <a:lnTo>
                  <a:pt x="1673" y="6342"/>
                </a:lnTo>
                <a:lnTo>
                  <a:pt x="1991" y="6474"/>
                </a:lnTo>
                <a:lnTo>
                  <a:pt x="2149" y="6675"/>
                </a:lnTo>
                <a:lnTo>
                  <a:pt x="2312" y="6944"/>
                </a:lnTo>
                <a:lnTo>
                  <a:pt x="2471" y="7209"/>
                </a:lnTo>
                <a:lnTo>
                  <a:pt x="2552" y="7478"/>
                </a:lnTo>
                <a:lnTo>
                  <a:pt x="2711" y="7678"/>
                </a:lnTo>
                <a:lnTo>
                  <a:pt x="2787" y="7879"/>
                </a:lnTo>
                <a:lnTo>
                  <a:pt x="2950" y="8144"/>
                </a:lnTo>
                <a:lnTo>
                  <a:pt x="3109" y="8345"/>
                </a:lnTo>
                <a:lnTo>
                  <a:pt x="3348" y="8545"/>
                </a:lnTo>
                <a:lnTo>
                  <a:pt x="3588" y="8746"/>
                </a:lnTo>
                <a:lnTo>
                  <a:pt x="3747" y="8948"/>
                </a:lnTo>
                <a:lnTo>
                  <a:pt x="3828" y="9148"/>
                </a:lnTo>
                <a:lnTo>
                  <a:pt x="4068" y="9281"/>
                </a:lnTo>
                <a:lnTo>
                  <a:pt x="4308" y="9413"/>
                </a:lnTo>
                <a:lnTo>
                  <a:pt x="4624" y="9413"/>
                </a:lnTo>
                <a:lnTo>
                  <a:pt x="4864" y="9614"/>
                </a:lnTo>
                <a:lnTo>
                  <a:pt x="5105" y="9746"/>
                </a:lnTo>
                <a:lnTo>
                  <a:pt x="5263" y="9947"/>
                </a:lnTo>
                <a:lnTo>
                  <a:pt x="5503" y="10015"/>
                </a:lnTo>
                <a:lnTo>
                  <a:pt x="5661" y="10216"/>
                </a:lnTo>
                <a:lnTo>
                  <a:pt x="5825" y="10417"/>
                </a:lnTo>
                <a:lnTo>
                  <a:pt x="6299" y="11083"/>
                </a:lnTo>
                <a:lnTo>
                  <a:pt x="6779" y="11749"/>
                </a:lnTo>
                <a:lnTo>
                  <a:pt x="6774" y="1175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6" name=""/>
          <p:cNvSpPr/>
          <p:nvPr/>
        </p:nvSpPr>
        <p:spPr>
          <a:xfrm>
            <a:off x="3665520" y="762120"/>
            <a:ext cx="601920" cy="1900440"/>
          </a:xfrm>
          <a:custGeom>
            <a:avLst/>
            <a:gdLst/>
            <a:ahLst/>
            <a:rect l="0" t="0" r="r" b="b"/>
            <a:pathLst>
              <a:path fill="none" w="1672" h="5279">
                <a:moveTo>
                  <a:pt x="1460" y="0"/>
                </a:moveTo>
                <a:lnTo>
                  <a:pt x="1420" y="246"/>
                </a:lnTo>
                <a:lnTo>
                  <a:pt x="1301" y="476"/>
                </a:lnTo>
                <a:lnTo>
                  <a:pt x="1275" y="714"/>
                </a:lnTo>
                <a:lnTo>
                  <a:pt x="1275" y="926"/>
                </a:lnTo>
                <a:lnTo>
                  <a:pt x="1381" y="1137"/>
                </a:lnTo>
                <a:lnTo>
                  <a:pt x="1420" y="1340"/>
                </a:lnTo>
                <a:lnTo>
                  <a:pt x="1420" y="1534"/>
                </a:lnTo>
                <a:lnTo>
                  <a:pt x="1592" y="1772"/>
                </a:lnTo>
                <a:lnTo>
                  <a:pt x="1672" y="2010"/>
                </a:lnTo>
                <a:lnTo>
                  <a:pt x="1592" y="2143"/>
                </a:lnTo>
                <a:lnTo>
                  <a:pt x="1592" y="2434"/>
                </a:lnTo>
                <a:lnTo>
                  <a:pt x="1420" y="2632"/>
                </a:lnTo>
                <a:lnTo>
                  <a:pt x="1293" y="2893"/>
                </a:lnTo>
                <a:lnTo>
                  <a:pt x="1032" y="3087"/>
                </a:lnTo>
                <a:lnTo>
                  <a:pt x="843" y="3409"/>
                </a:lnTo>
                <a:lnTo>
                  <a:pt x="843" y="3603"/>
                </a:lnTo>
                <a:lnTo>
                  <a:pt x="843" y="3925"/>
                </a:lnTo>
                <a:lnTo>
                  <a:pt x="843" y="4119"/>
                </a:lnTo>
                <a:lnTo>
                  <a:pt x="709" y="4313"/>
                </a:lnTo>
                <a:lnTo>
                  <a:pt x="454" y="4569"/>
                </a:lnTo>
                <a:lnTo>
                  <a:pt x="388" y="4763"/>
                </a:lnTo>
                <a:lnTo>
                  <a:pt x="194" y="4891"/>
                </a:lnTo>
                <a:lnTo>
                  <a:pt x="132" y="5085"/>
                </a:lnTo>
                <a:lnTo>
                  <a:pt x="0" y="5279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7" name=""/>
          <p:cNvSpPr/>
          <p:nvPr/>
        </p:nvSpPr>
        <p:spPr>
          <a:xfrm>
            <a:off x="3403440" y="533520"/>
            <a:ext cx="1092600" cy="3137400"/>
          </a:xfrm>
          <a:custGeom>
            <a:avLst/>
            <a:gdLst/>
            <a:ahLst/>
            <a:rect l="0" t="0" r="r" b="b"/>
            <a:pathLst>
              <a:path fill="none" w="3035" h="8715">
                <a:moveTo>
                  <a:pt x="3035" y="0"/>
                </a:moveTo>
                <a:lnTo>
                  <a:pt x="2731" y="1468"/>
                </a:lnTo>
                <a:lnTo>
                  <a:pt x="2731" y="1662"/>
                </a:lnTo>
                <a:lnTo>
                  <a:pt x="2731" y="1856"/>
                </a:lnTo>
                <a:lnTo>
                  <a:pt x="2731" y="2050"/>
                </a:lnTo>
                <a:lnTo>
                  <a:pt x="2731" y="2245"/>
                </a:lnTo>
                <a:lnTo>
                  <a:pt x="2797" y="2439"/>
                </a:lnTo>
                <a:lnTo>
                  <a:pt x="2797" y="2695"/>
                </a:lnTo>
                <a:lnTo>
                  <a:pt x="2797" y="2889"/>
                </a:lnTo>
                <a:lnTo>
                  <a:pt x="2797" y="3083"/>
                </a:lnTo>
                <a:lnTo>
                  <a:pt x="2731" y="3277"/>
                </a:lnTo>
                <a:lnTo>
                  <a:pt x="2537" y="3405"/>
                </a:lnTo>
                <a:lnTo>
                  <a:pt x="2471" y="3599"/>
                </a:lnTo>
                <a:lnTo>
                  <a:pt x="2471" y="3859"/>
                </a:lnTo>
                <a:lnTo>
                  <a:pt x="2471" y="4115"/>
                </a:lnTo>
                <a:lnTo>
                  <a:pt x="2471" y="4309"/>
                </a:lnTo>
                <a:lnTo>
                  <a:pt x="2277" y="4503"/>
                </a:lnTo>
                <a:lnTo>
                  <a:pt x="2020" y="4697"/>
                </a:lnTo>
                <a:lnTo>
                  <a:pt x="2020" y="4891"/>
                </a:lnTo>
                <a:lnTo>
                  <a:pt x="2020" y="5085"/>
                </a:lnTo>
                <a:lnTo>
                  <a:pt x="1826" y="5407"/>
                </a:lnTo>
                <a:lnTo>
                  <a:pt x="1376" y="5601"/>
                </a:lnTo>
                <a:lnTo>
                  <a:pt x="1244" y="5857"/>
                </a:lnTo>
                <a:lnTo>
                  <a:pt x="1244" y="6051"/>
                </a:lnTo>
                <a:lnTo>
                  <a:pt x="1244" y="6245"/>
                </a:lnTo>
                <a:lnTo>
                  <a:pt x="1116" y="6505"/>
                </a:lnTo>
                <a:lnTo>
                  <a:pt x="988" y="6762"/>
                </a:lnTo>
                <a:lnTo>
                  <a:pt x="918" y="7269"/>
                </a:lnTo>
                <a:lnTo>
                  <a:pt x="599" y="7763"/>
                </a:lnTo>
                <a:lnTo>
                  <a:pt x="352" y="8292"/>
                </a:lnTo>
                <a:lnTo>
                  <a:pt x="0" y="871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"/>
          <p:cNvSpPr/>
          <p:nvPr/>
        </p:nvSpPr>
        <p:spPr>
          <a:xfrm>
            <a:off x="3330720" y="304920"/>
            <a:ext cx="1479960" cy="3804120"/>
          </a:xfrm>
          <a:custGeom>
            <a:avLst/>
            <a:gdLst/>
            <a:ahLst/>
            <a:rect l="0" t="0" r="r" b="b"/>
            <a:pathLst>
              <a:path fill="none" w="4111" h="10567">
                <a:moveTo>
                  <a:pt x="3873" y="0"/>
                </a:moveTo>
                <a:lnTo>
                  <a:pt x="3900" y="224"/>
                </a:lnTo>
                <a:lnTo>
                  <a:pt x="3900" y="418"/>
                </a:lnTo>
                <a:lnTo>
                  <a:pt x="4085" y="608"/>
                </a:lnTo>
                <a:lnTo>
                  <a:pt x="4111" y="793"/>
                </a:lnTo>
                <a:lnTo>
                  <a:pt x="3979" y="1031"/>
                </a:lnTo>
                <a:lnTo>
                  <a:pt x="3838" y="1256"/>
                </a:lnTo>
                <a:lnTo>
                  <a:pt x="3838" y="1450"/>
                </a:lnTo>
                <a:lnTo>
                  <a:pt x="3838" y="1644"/>
                </a:lnTo>
                <a:lnTo>
                  <a:pt x="3609" y="1905"/>
                </a:lnTo>
                <a:lnTo>
                  <a:pt x="3609" y="2090"/>
                </a:lnTo>
                <a:lnTo>
                  <a:pt x="3688" y="2275"/>
                </a:lnTo>
                <a:lnTo>
                  <a:pt x="3772" y="2482"/>
                </a:lnTo>
                <a:lnTo>
                  <a:pt x="3772" y="2677"/>
                </a:lnTo>
                <a:lnTo>
                  <a:pt x="3838" y="2871"/>
                </a:lnTo>
                <a:lnTo>
                  <a:pt x="3838" y="3065"/>
                </a:lnTo>
                <a:lnTo>
                  <a:pt x="3662" y="3255"/>
                </a:lnTo>
                <a:lnTo>
                  <a:pt x="3635" y="3467"/>
                </a:lnTo>
                <a:lnTo>
                  <a:pt x="3767" y="3678"/>
                </a:lnTo>
                <a:lnTo>
                  <a:pt x="3838" y="3903"/>
                </a:lnTo>
                <a:lnTo>
                  <a:pt x="3772" y="4097"/>
                </a:lnTo>
                <a:lnTo>
                  <a:pt x="3644" y="4291"/>
                </a:lnTo>
                <a:lnTo>
                  <a:pt x="3516" y="4485"/>
                </a:lnTo>
                <a:lnTo>
                  <a:pt x="3516" y="4679"/>
                </a:lnTo>
                <a:lnTo>
                  <a:pt x="3450" y="4873"/>
                </a:lnTo>
                <a:lnTo>
                  <a:pt x="3322" y="5129"/>
                </a:lnTo>
                <a:lnTo>
                  <a:pt x="3190" y="5323"/>
                </a:lnTo>
                <a:lnTo>
                  <a:pt x="3128" y="5517"/>
                </a:lnTo>
                <a:lnTo>
                  <a:pt x="2999" y="5711"/>
                </a:lnTo>
                <a:lnTo>
                  <a:pt x="2805" y="5905"/>
                </a:lnTo>
                <a:lnTo>
                  <a:pt x="2739" y="6099"/>
                </a:lnTo>
                <a:lnTo>
                  <a:pt x="2611" y="6293"/>
                </a:lnTo>
                <a:lnTo>
                  <a:pt x="2417" y="6421"/>
                </a:lnTo>
                <a:lnTo>
                  <a:pt x="2289" y="6615"/>
                </a:lnTo>
                <a:lnTo>
                  <a:pt x="2095" y="6809"/>
                </a:lnTo>
                <a:lnTo>
                  <a:pt x="1963" y="7003"/>
                </a:lnTo>
                <a:lnTo>
                  <a:pt x="1835" y="7581"/>
                </a:lnTo>
                <a:lnTo>
                  <a:pt x="1707" y="7841"/>
                </a:lnTo>
                <a:lnTo>
                  <a:pt x="1641" y="8036"/>
                </a:lnTo>
                <a:lnTo>
                  <a:pt x="1447" y="8230"/>
                </a:lnTo>
                <a:lnTo>
                  <a:pt x="1319" y="8486"/>
                </a:lnTo>
                <a:lnTo>
                  <a:pt x="1253" y="8680"/>
                </a:lnTo>
                <a:lnTo>
                  <a:pt x="1253" y="8874"/>
                </a:lnTo>
                <a:lnTo>
                  <a:pt x="908" y="9597"/>
                </a:lnTo>
                <a:lnTo>
                  <a:pt x="167" y="10338"/>
                </a:lnTo>
                <a:lnTo>
                  <a:pt x="0" y="1056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9" name=""/>
          <p:cNvSpPr/>
          <p:nvPr/>
        </p:nvSpPr>
        <p:spPr>
          <a:xfrm>
            <a:off x="3543120" y="304920"/>
            <a:ext cx="1591200" cy="3772080"/>
          </a:xfrm>
          <a:custGeom>
            <a:avLst/>
            <a:gdLst/>
            <a:ahLst/>
            <a:rect l="0" t="0" r="r" b="b"/>
            <a:pathLst>
              <a:path fill="none" w="4420" h="10478">
                <a:moveTo>
                  <a:pt x="3917" y="0"/>
                </a:moveTo>
                <a:lnTo>
                  <a:pt x="4019" y="224"/>
                </a:lnTo>
                <a:lnTo>
                  <a:pt x="4019" y="418"/>
                </a:lnTo>
                <a:lnTo>
                  <a:pt x="4182" y="635"/>
                </a:lnTo>
                <a:lnTo>
                  <a:pt x="4367" y="899"/>
                </a:lnTo>
                <a:lnTo>
                  <a:pt x="4367" y="1058"/>
                </a:lnTo>
                <a:lnTo>
                  <a:pt x="4288" y="1375"/>
                </a:lnTo>
                <a:lnTo>
                  <a:pt x="4155" y="1534"/>
                </a:lnTo>
                <a:lnTo>
                  <a:pt x="4019" y="1644"/>
                </a:lnTo>
                <a:lnTo>
                  <a:pt x="4019" y="1838"/>
                </a:lnTo>
                <a:lnTo>
                  <a:pt x="4019" y="2032"/>
                </a:lnTo>
                <a:lnTo>
                  <a:pt x="4085" y="2226"/>
                </a:lnTo>
                <a:lnTo>
                  <a:pt x="4151" y="2482"/>
                </a:lnTo>
                <a:lnTo>
                  <a:pt x="4151" y="2676"/>
                </a:lnTo>
                <a:lnTo>
                  <a:pt x="4279" y="2870"/>
                </a:lnTo>
                <a:lnTo>
                  <a:pt x="4279" y="3064"/>
                </a:lnTo>
                <a:lnTo>
                  <a:pt x="4129" y="3280"/>
                </a:lnTo>
                <a:lnTo>
                  <a:pt x="3997" y="3466"/>
                </a:lnTo>
                <a:lnTo>
                  <a:pt x="4023" y="3783"/>
                </a:lnTo>
                <a:lnTo>
                  <a:pt x="4103" y="3915"/>
                </a:lnTo>
                <a:lnTo>
                  <a:pt x="4182" y="4127"/>
                </a:lnTo>
                <a:lnTo>
                  <a:pt x="4279" y="4290"/>
                </a:lnTo>
                <a:lnTo>
                  <a:pt x="4420" y="4524"/>
                </a:lnTo>
                <a:lnTo>
                  <a:pt x="4420" y="4762"/>
                </a:lnTo>
                <a:lnTo>
                  <a:pt x="4279" y="4934"/>
                </a:lnTo>
                <a:lnTo>
                  <a:pt x="4279" y="5128"/>
                </a:lnTo>
                <a:lnTo>
                  <a:pt x="4151" y="5323"/>
                </a:lnTo>
                <a:lnTo>
                  <a:pt x="3957" y="5451"/>
                </a:lnTo>
                <a:lnTo>
                  <a:pt x="3763" y="5645"/>
                </a:lnTo>
                <a:lnTo>
                  <a:pt x="3635" y="5839"/>
                </a:lnTo>
                <a:lnTo>
                  <a:pt x="3569" y="6033"/>
                </a:lnTo>
                <a:lnTo>
                  <a:pt x="3441" y="6227"/>
                </a:lnTo>
                <a:lnTo>
                  <a:pt x="3375" y="6421"/>
                </a:lnTo>
                <a:lnTo>
                  <a:pt x="3180" y="6615"/>
                </a:lnTo>
                <a:lnTo>
                  <a:pt x="3052" y="6809"/>
                </a:lnTo>
                <a:lnTo>
                  <a:pt x="2924" y="7003"/>
                </a:lnTo>
                <a:lnTo>
                  <a:pt x="2730" y="7193"/>
                </a:lnTo>
                <a:lnTo>
                  <a:pt x="2598" y="7387"/>
                </a:lnTo>
                <a:lnTo>
                  <a:pt x="2408" y="7581"/>
                </a:lnTo>
                <a:lnTo>
                  <a:pt x="2214" y="7647"/>
                </a:lnTo>
                <a:lnTo>
                  <a:pt x="2082" y="7841"/>
                </a:lnTo>
                <a:lnTo>
                  <a:pt x="1826" y="8035"/>
                </a:lnTo>
                <a:lnTo>
                  <a:pt x="1760" y="8419"/>
                </a:lnTo>
                <a:lnTo>
                  <a:pt x="1632" y="8613"/>
                </a:lnTo>
                <a:lnTo>
                  <a:pt x="1632" y="8807"/>
                </a:lnTo>
                <a:lnTo>
                  <a:pt x="1438" y="9001"/>
                </a:lnTo>
                <a:lnTo>
                  <a:pt x="1244" y="9261"/>
                </a:lnTo>
                <a:lnTo>
                  <a:pt x="1049" y="9517"/>
                </a:lnTo>
                <a:lnTo>
                  <a:pt x="987" y="9711"/>
                </a:lnTo>
                <a:lnTo>
                  <a:pt x="820" y="9869"/>
                </a:lnTo>
                <a:lnTo>
                  <a:pt x="727" y="9905"/>
                </a:lnTo>
                <a:lnTo>
                  <a:pt x="533" y="10033"/>
                </a:lnTo>
                <a:lnTo>
                  <a:pt x="339" y="10165"/>
                </a:lnTo>
                <a:lnTo>
                  <a:pt x="0" y="10478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0" name=""/>
          <p:cNvSpPr/>
          <p:nvPr/>
        </p:nvSpPr>
        <p:spPr>
          <a:xfrm>
            <a:off x="3503520" y="380880"/>
            <a:ext cx="1927440" cy="4372200"/>
          </a:xfrm>
          <a:custGeom>
            <a:avLst/>
            <a:gdLst/>
            <a:ahLst/>
            <a:rect l="0" t="0" r="r" b="b"/>
            <a:pathLst>
              <a:path fill="none" w="5354" h="12145">
                <a:moveTo>
                  <a:pt x="4873" y="0"/>
                </a:moveTo>
                <a:lnTo>
                  <a:pt x="5032" y="207"/>
                </a:lnTo>
                <a:lnTo>
                  <a:pt x="5164" y="401"/>
                </a:lnTo>
                <a:lnTo>
                  <a:pt x="5164" y="595"/>
                </a:lnTo>
                <a:lnTo>
                  <a:pt x="5164" y="789"/>
                </a:lnTo>
                <a:lnTo>
                  <a:pt x="5085" y="1058"/>
                </a:lnTo>
                <a:lnTo>
                  <a:pt x="4953" y="1269"/>
                </a:lnTo>
                <a:lnTo>
                  <a:pt x="4926" y="1455"/>
                </a:lnTo>
                <a:lnTo>
                  <a:pt x="5032" y="1613"/>
                </a:lnTo>
                <a:lnTo>
                  <a:pt x="5138" y="1825"/>
                </a:lnTo>
                <a:lnTo>
                  <a:pt x="5191" y="2037"/>
                </a:lnTo>
                <a:lnTo>
                  <a:pt x="5354" y="2271"/>
                </a:lnTo>
                <a:lnTo>
                  <a:pt x="5354" y="2465"/>
                </a:lnTo>
                <a:lnTo>
                  <a:pt x="5354" y="2659"/>
                </a:lnTo>
                <a:lnTo>
                  <a:pt x="5270" y="2883"/>
                </a:lnTo>
                <a:lnTo>
                  <a:pt x="5270" y="2936"/>
                </a:lnTo>
                <a:lnTo>
                  <a:pt x="5217" y="3254"/>
                </a:lnTo>
                <a:lnTo>
                  <a:pt x="5354" y="3435"/>
                </a:lnTo>
                <a:lnTo>
                  <a:pt x="5354" y="3690"/>
                </a:lnTo>
                <a:lnTo>
                  <a:pt x="5354" y="3884"/>
                </a:lnTo>
                <a:lnTo>
                  <a:pt x="5292" y="4078"/>
                </a:lnTo>
                <a:lnTo>
                  <a:pt x="5164" y="4273"/>
                </a:lnTo>
                <a:lnTo>
                  <a:pt x="5032" y="4467"/>
                </a:lnTo>
                <a:lnTo>
                  <a:pt x="4970" y="4661"/>
                </a:lnTo>
                <a:lnTo>
                  <a:pt x="4970" y="4916"/>
                </a:lnTo>
                <a:lnTo>
                  <a:pt x="4970" y="5110"/>
                </a:lnTo>
                <a:lnTo>
                  <a:pt x="4904" y="5304"/>
                </a:lnTo>
                <a:lnTo>
                  <a:pt x="4838" y="5498"/>
                </a:lnTo>
                <a:lnTo>
                  <a:pt x="4644" y="5692"/>
                </a:lnTo>
                <a:lnTo>
                  <a:pt x="4582" y="5886"/>
                </a:lnTo>
                <a:lnTo>
                  <a:pt x="4454" y="6082"/>
                </a:lnTo>
                <a:lnTo>
                  <a:pt x="4260" y="6337"/>
                </a:lnTo>
                <a:lnTo>
                  <a:pt x="4128" y="6531"/>
                </a:lnTo>
                <a:lnTo>
                  <a:pt x="3872" y="6659"/>
                </a:lnTo>
                <a:lnTo>
                  <a:pt x="3744" y="6853"/>
                </a:lnTo>
                <a:lnTo>
                  <a:pt x="3612" y="7113"/>
                </a:lnTo>
                <a:lnTo>
                  <a:pt x="3484" y="7369"/>
                </a:lnTo>
                <a:lnTo>
                  <a:pt x="3418" y="7629"/>
                </a:lnTo>
                <a:lnTo>
                  <a:pt x="3290" y="7823"/>
                </a:lnTo>
                <a:lnTo>
                  <a:pt x="3228" y="8017"/>
                </a:lnTo>
                <a:lnTo>
                  <a:pt x="3096" y="8273"/>
                </a:lnTo>
                <a:lnTo>
                  <a:pt x="2968" y="8467"/>
                </a:lnTo>
                <a:lnTo>
                  <a:pt x="2774" y="8661"/>
                </a:lnTo>
                <a:lnTo>
                  <a:pt x="2579" y="8855"/>
                </a:lnTo>
                <a:lnTo>
                  <a:pt x="2451" y="9049"/>
                </a:lnTo>
                <a:lnTo>
                  <a:pt x="2385" y="9243"/>
                </a:lnTo>
                <a:lnTo>
                  <a:pt x="2191" y="9371"/>
                </a:lnTo>
                <a:lnTo>
                  <a:pt x="1997" y="9499"/>
                </a:lnTo>
                <a:lnTo>
                  <a:pt x="1741" y="9499"/>
                </a:lnTo>
                <a:lnTo>
                  <a:pt x="1547" y="9693"/>
                </a:lnTo>
                <a:lnTo>
                  <a:pt x="1353" y="9821"/>
                </a:lnTo>
                <a:lnTo>
                  <a:pt x="1225" y="10015"/>
                </a:lnTo>
                <a:lnTo>
                  <a:pt x="1031" y="10081"/>
                </a:lnTo>
                <a:lnTo>
                  <a:pt x="903" y="10275"/>
                </a:lnTo>
                <a:lnTo>
                  <a:pt x="771" y="10469"/>
                </a:lnTo>
                <a:lnTo>
                  <a:pt x="388" y="11113"/>
                </a:lnTo>
                <a:lnTo>
                  <a:pt x="0" y="11757"/>
                </a:lnTo>
                <a:lnTo>
                  <a:pt x="0" y="12145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1" name=""/>
          <p:cNvSpPr/>
          <p:nvPr/>
        </p:nvSpPr>
        <p:spPr>
          <a:xfrm>
            <a:off x="5952960" y="457200"/>
            <a:ext cx="1987920" cy="3553200"/>
          </a:xfrm>
          <a:custGeom>
            <a:avLst/>
            <a:gdLst/>
            <a:ahLst/>
            <a:rect l="0" t="0" r="r" b="b"/>
            <a:pathLst>
              <a:path fill="none" w="5522" h="9870">
                <a:moveTo>
                  <a:pt x="185" y="0"/>
                </a:moveTo>
                <a:lnTo>
                  <a:pt x="101" y="251"/>
                </a:lnTo>
                <a:lnTo>
                  <a:pt x="101" y="445"/>
                </a:lnTo>
                <a:lnTo>
                  <a:pt x="163" y="639"/>
                </a:lnTo>
                <a:lnTo>
                  <a:pt x="158" y="820"/>
                </a:lnTo>
                <a:lnTo>
                  <a:pt x="291" y="1084"/>
                </a:lnTo>
                <a:lnTo>
                  <a:pt x="291" y="1190"/>
                </a:lnTo>
                <a:lnTo>
                  <a:pt x="105" y="1349"/>
                </a:lnTo>
                <a:lnTo>
                  <a:pt x="0" y="1534"/>
                </a:lnTo>
                <a:lnTo>
                  <a:pt x="105" y="1746"/>
                </a:lnTo>
                <a:lnTo>
                  <a:pt x="211" y="1905"/>
                </a:lnTo>
                <a:lnTo>
                  <a:pt x="343" y="2037"/>
                </a:lnTo>
                <a:lnTo>
                  <a:pt x="396" y="2354"/>
                </a:lnTo>
                <a:lnTo>
                  <a:pt x="449" y="2514"/>
                </a:lnTo>
                <a:lnTo>
                  <a:pt x="617" y="2770"/>
                </a:lnTo>
                <a:lnTo>
                  <a:pt x="617" y="3030"/>
                </a:lnTo>
                <a:lnTo>
                  <a:pt x="617" y="3224"/>
                </a:lnTo>
                <a:lnTo>
                  <a:pt x="1005" y="3480"/>
                </a:lnTo>
                <a:lnTo>
                  <a:pt x="1133" y="3674"/>
                </a:lnTo>
                <a:lnTo>
                  <a:pt x="1133" y="3868"/>
                </a:lnTo>
                <a:lnTo>
                  <a:pt x="1133" y="4062"/>
                </a:lnTo>
                <a:lnTo>
                  <a:pt x="1133" y="4256"/>
                </a:lnTo>
                <a:lnTo>
                  <a:pt x="1133" y="4450"/>
                </a:lnTo>
                <a:lnTo>
                  <a:pt x="1327" y="4706"/>
                </a:lnTo>
                <a:lnTo>
                  <a:pt x="1456" y="4900"/>
                </a:lnTo>
                <a:lnTo>
                  <a:pt x="1456" y="5288"/>
                </a:lnTo>
                <a:lnTo>
                  <a:pt x="1584" y="5932"/>
                </a:lnTo>
                <a:lnTo>
                  <a:pt x="1584" y="6448"/>
                </a:lnTo>
                <a:lnTo>
                  <a:pt x="1584" y="6642"/>
                </a:lnTo>
                <a:lnTo>
                  <a:pt x="1720" y="6827"/>
                </a:lnTo>
                <a:lnTo>
                  <a:pt x="1932" y="6986"/>
                </a:lnTo>
                <a:lnTo>
                  <a:pt x="2011" y="7118"/>
                </a:lnTo>
                <a:lnTo>
                  <a:pt x="2232" y="7285"/>
                </a:lnTo>
                <a:lnTo>
                  <a:pt x="2294" y="7480"/>
                </a:lnTo>
                <a:lnTo>
                  <a:pt x="2488" y="7480"/>
                </a:lnTo>
                <a:lnTo>
                  <a:pt x="2682" y="7480"/>
                </a:lnTo>
                <a:lnTo>
                  <a:pt x="3070" y="7569"/>
                </a:lnTo>
                <a:lnTo>
                  <a:pt x="3255" y="7807"/>
                </a:lnTo>
                <a:lnTo>
                  <a:pt x="3458" y="7935"/>
                </a:lnTo>
                <a:lnTo>
                  <a:pt x="3586" y="8129"/>
                </a:lnTo>
                <a:lnTo>
                  <a:pt x="3841" y="8257"/>
                </a:lnTo>
                <a:lnTo>
                  <a:pt x="4022" y="8495"/>
                </a:lnTo>
                <a:lnTo>
                  <a:pt x="4208" y="8653"/>
                </a:lnTo>
                <a:lnTo>
                  <a:pt x="4420" y="8839"/>
                </a:lnTo>
                <a:lnTo>
                  <a:pt x="4526" y="9024"/>
                </a:lnTo>
                <a:lnTo>
                  <a:pt x="4618" y="9227"/>
                </a:lnTo>
                <a:lnTo>
                  <a:pt x="4813" y="9355"/>
                </a:lnTo>
                <a:lnTo>
                  <a:pt x="5007" y="9482"/>
                </a:lnTo>
                <a:lnTo>
                  <a:pt x="5134" y="9676"/>
                </a:lnTo>
                <a:lnTo>
                  <a:pt x="5328" y="9743"/>
                </a:lnTo>
                <a:lnTo>
                  <a:pt x="5522" y="9870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2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5" name=""/>
          <p:cNvGrpSpPr/>
          <p:nvPr/>
        </p:nvGrpSpPr>
        <p:grpSpPr>
          <a:xfrm>
            <a:off x="5997600" y="4425840"/>
            <a:ext cx="133200" cy="133560"/>
            <a:chOff x="5997600" y="4425840"/>
            <a:chExt cx="133200" cy="133560"/>
          </a:xfrm>
        </p:grpSpPr>
        <p:sp>
          <p:nvSpPr>
            <p:cNvPr id="6106" name=""/>
            <p:cNvSpPr/>
            <p:nvPr/>
          </p:nvSpPr>
          <p:spPr>
            <a:xfrm>
              <a:off x="6064200" y="44258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5997600" y="4492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8" name=""/>
          <p:cNvGrpSpPr/>
          <p:nvPr/>
        </p:nvGrpSpPr>
        <p:grpSpPr>
          <a:xfrm>
            <a:off x="7056360" y="3560760"/>
            <a:ext cx="133560" cy="133200"/>
            <a:chOff x="7056360" y="3560760"/>
            <a:chExt cx="133560" cy="133200"/>
          </a:xfrm>
        </p:grpSpPr>
        <p:sp>
          <p:nvSpPr>
            <p:cNvPr id="6109" name=""/>
            <p:cNvSpPr/>
            <p:nvPr/>
          </p:nvSpPr>
          <p:spPr>
            <a:xfrm>
              <a:off x="7122960" y="3560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7056360" y="3627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1" name=""/>
          <p:cNvGrpSpPr/>
          <p:nvPr/>
        </p:nvGrpSpPr>
        <p:grpSpPr>
          <a:xfrm>
            <a:off x="4818240" y="3267000"/>
            <a:ext cx="133200" cy="133560"/>
            <a:chOff x="4818240" y="3267000"/>
            <a:chExt cx="133200" cy="133560"/>
          </a:xfrm>
        </p:grpSpPr>
        <p:sp>
          <p:nvSpPr>
            <p:cNvPr id="6112" name=""/>
            <p:cNvSpPr/>
            <p:nvPr/>
          </p:nvSpPr>
          <p:spPr>
            <a:xfrm>
              <a:off x="4884840" y="3267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4818240" y="33336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4" name=""/>
          <p:cNvSpPr/>
          <p:nvPr/>
        </p:nvSpPr>
        <p:spPr>
          <a:xfrm>
            <a:off x="3790800" y="49878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5" name=""/>
          <p:cNvSpPr/>
          <p:nvPr/>
        </p:nvSpPr>
        <p:spPr>
          <a:xfrm>
            <a:off x="3790800" y="51404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6" name=""/>
          <p:cNvSpPr/>
          <p:nvPr/>
        </p:nvSpPr>
        <p:spPr>
          <a:xfrm>
            <a:off x="3790800" y="52927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7" name=""/>
          <p:cNvSpPr/>
          <p:nvPr/>
        </p:nvSpPr>
        <p:spPr>
          <a:xfrm>
            <a:off x="3781440" y="544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8" name=""/>
          <p:cNvSpPr/>
          <p:nvPr/>
        </p:nvSpPr>
        <p:spPr>
          <a:xfrm>
            <a:off x="3790800" y="559764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9" name=""/>
          <p:cNvSpPr/>
          <p:nvPr/>
        </p:nvSpPr>
        <p:spPr>
          <a:xfrm>
            <a:off x="3790800" y="574992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0" name=""/>
          <p:cNvSpPr/>
          <p:nvPr/>
        </p:nvSpPr>
        <p:spPr>
          <a:xfrm>
            <a:off x="3790800" y="5902200"/>
            <a:ext cx="433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1" name=""/>
          <p:cNvGrpSpPr/>
          <p:nvPr/>
        </p:nvGrpSpPr>
        <p:grpSpPr>
          <a:xfrm>
            <a:off x="5992920" y="5678640"/>
            <a:ext cx="133200" cy="133200"/>
            <a:chOff x="5992920" y="5678640"/>
            <a:chExt cx="133200" cy="133200"/>
          </a:xfrm>
        </p:grpSpPr>
        <p:sp>
          <p:nvSpPr>
            <p:cNvPr id="6122" name=""/>
            <p:cNvSpPr/>
            <p:nvPr/>
          </p:nvSpPr>
          <p:spPr>
            <a:xfrm>
              <a:off x="6059520" y="56786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5992920" y="57452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4" name=""/>
          <p:cNvGrpSpPr/>
          <p:nvPr/>
        </p:nvGrpSpPr>
        <p:grpSpPr>
          <a:xfrm>
            <a:off x="7064280" y="5302080"/>
            <a:ext cx="133560" cy="133560"/>
            <a:chOff x="7064280" y="5302080"/>
            <a:chExt cx="133560" cy="133560"/>
          </a:xfrm>
        </p:grpSpPr>
        <p:sp>
          <p:nvSpPr>
            <p:cNvPr id="6125" name=""/>
            <p:cNvSpPr/>
            <p:nvPr/>
          </p:nvSpPr>
          <p:spPr>
            <a:xfrm>
              <a:off x="7130880" y="53020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7064280" y="536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7" name=""/>
          <p:cNvGrpSpPr/>
          <p:nvPr/>
        </p:nvGrpSpPr>
        <p:grpSpPr>
          <a:xfrm>
            <a:off x="4816440" y="5087880"/>
            <a:ext cx="133560" cy="133560"/>
            <a:chOff x="4816440" y="5087880"/>
            <a:chExt cx="133560" cy="133560"/>
          </a:xfrm>
        </p:grpSpPr>
        <p:sp>
          <p:nvSpPr>
            <p:cNvPr id="6128" name=""/>
            <p:cNvSpPr/>
            <p:nvPr/>
          </p:nvSpPr>
          <p:spPr>
            <a:xfrm>
              <a:off x="4883040" y="508788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4816440" y="515448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0" name=""/>
          <p:cNvGrpSpPr/>
          <p:nvPr/>
        </p:nvGrpSpPr>
        <p:grpSpPr>
          <a:xfrm>
            <a:off x="6696000" y="2781360"/>
            <a:ext cx="133560" cy="133200"/>
            <a:chOff x="6696000" y="2781360"/>
            <a:chExt cx="133560" cy="133200"/>
          </a:xfrm>
        </p:grpSpPr>
        <p:sp>
          <p:nvSpPr>
            <p:cNvPr id="6131" name=""/>
            <p:cNvSpPr/>
            <p:nvPr/>
          </p:nvSpPr>
          <p:spPr>
            <a:xfrm>
              <a:off x="6762600" y="27813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6696000" y="28479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3" name=""/>
          <p:cNvSpPr/>
          <p:nvPr/>
        </p:nvSpPr>
        <p:spPr>
          <a:xfrm flipH="1" flipV="1">
            <a:off x="4883040" y="3327480"/>
            <a:ext cx="1181160" cy="1168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"/>
          <p:cNvSpPr/>
          <p:nvPr/>
        </p:nvSpPr>
        <p:spPr>
          <a:xfrm>
            <a:off x="4886280" y="5143680"/>
            <a:ext cx="2243160" cy="2286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5" name=""/>
          <p:cNvSpPr/>
          <p:nvPr/>
        </p:nvSpPr>
        <p:spPr>
          <a:xfrm flipH="1">
            <a:off x="6058080" y="5372280"/>
            <a:ext cx="1071360" cy="3711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6" name=""/>
          <p:cNvSpPr/>
          <p:nvPr/>
        </p:nvSpPr>
        <p:spPr>
          <a:xfrm flipH="1" flipV="1">
            <a:off x="4886280" y="5143680"/>
            <a:ext cx="1171800" cy="59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"/>
          <p:cNvSpPr/>
          <p:nvPr/>
        </p:nvSpPr>
        <p:spPr>
          <a:xfrm>
            <a:off x="4876920" y="3327480"/>
            <a:ext cx="2241360" cy="298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"/>
          <p:cNvSpPr/>
          <p:nvPr/>
        </p:nvSpPr>
        <p:spPr>
          <a:xfrm flipH="1">
            <a:off x="6058080" y="3625920"/>
            <a:ext cx="1060200" cy="8697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9" name=""/>
          <p:cNvSpPr/>
          <p:nvPr/>
        </p:nvSpPr>
        <p:spPr>
          <a:xfrm>
            <a:off x="1073160" y="1198440"/>
            <a:ext cx="425520" cy="486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"/>
          <p:cNvSpPr/>
          <p:nvPr/>
        </p:nvSpPr>
        <p:spPr>
          <a:xfrm>
            <a:off x="1228680" y="1389240"/>
            <a:ext cx="407880" cy="4659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1" name=""/>
          <p:cNvSpPr/>
          <p:nvPr/>
        </p:nvSpPr>
        <p:spPr>
          <a:xfrm>
            <a:off x="1341360" y="1090440"/>
            <a:ext cx="424080" cy="482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2" name=""/>
          <p:cNvSpPr/>
          <p:nvPr/>
        </p:nvSpPr>
        <p:spPr>
          <a:xfrm>
            <a:off x="1504800" y="1352520"/>
            <a:ext cx="395280" cy="452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3" name=""/>
          <p:cNvSpPr/>
          <p:nvPr/>
        </p:nvSpPr>
        <p:spPr>
          <a:xfrm>
            <a:off x="1614600" y="1025640"/>
            <a:ext cx="417240" cy="476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4" name=""/>
          <p:cNvSpPr/>
          <p:nvPr/>
        </p:nvSpPr>
        <p:spPr>
          <a:xfrm>
            <a:off x="1771560" y="1233360"/>
            <a:ext cx="397080" cy="454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5" name=""/>
          <p:cNvSpPr/>
          <p:nvPr/>
        </p:nvSpPr>
        <p:spPr>
          <a:xfrm>
            <a:off x="1884240" y="939960"/>
            <a:ext cx="414360" cy="4735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6" name=""/>
          <p:cNvSpPr/>
          <p:nvPr/>
        </p:nvSpPr>
        <p:spPr>
          <a:xfrm>
            <a:off x="2043000" y="1152360"/>
            <a:ext cx="392400" cy="447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7" name=""/>
          <p:cNvGrpSpPr/>
          <p:nvPr/>
        </p:nvGrpSpPr>
        <p:grpSpPr>
          <a:xfrm>
            <a:off x="1882800" y="3936960"/>
            <a:ext cx="133200" cy="133560"/>
            <a:chOff x="1882800" y="3936960"/>
            <a:chExt cx="133200" cy="133560"/>
          </a:xfrm>
        </p:grpSpPr>
        <p:sp>
          <p:nvSpPr>
            <p:cNvPr id="6148" name=""/>
            <p:cNvSpPr/>
            <p:nvPr/>
          </p:nvSpPr>
          <p:spPr>
            <a:xfrm>
              <a:off x="1949400" y="393696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1882800" y="400356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0" name=""/>
          <p:cNvGrpSpPr/>
          <p:nvPr/>
        </p:nvGrpSpPr>
        <p:grpSpPr>
          <a:xfrm>
            <a:off x="1679400" y="3149640"/>
            <a:ext cx="133560" cy="133200"/>
            <a:chOff x="1679400" y="3149640"/>
            <a:chExt cx="133560" cy="133200"/>
          </a:xfrm>
        </p:grpSpPr>
        <p:sp>
          <p:nvSpPr>
            <p:cNvPr id="6151" name=""/>
            <p:cNvSpPr/>
            <p:nvPr/>
          </p:nvSpPr>
          <p:spPr>
            <a:xfrm>
              <a:off x="1746360" y="314964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1679400" y="321624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3" name=""/>
          <p:cNvGrpSpPr/>
          <p:nvPr/>
        </p:nvGrpSpPr>
        <p:grpSpPr>
          <a:xfrm>
            <a:off x="1603440" y="4813200"/>
            <a:ext cx="133200" cy="133560"/>
            <a:chOff x="1603440" y="4813200"/>
            <a:chExt cx="133200" cy="133560"/>
          </a:xfrm>
        </p:grpSpPr>
        <p:sp>
          <p:nvSpPr>
            <p:cNvPr id="6154" name=""/>
            <p:cNvSpPr/>
            <p:nvPr/>
          </p:nvSpPr>
          <p:spPr>
            <a:xfrm>
              <a:off x="1670040" y="4813200"/>
              <a:ext cx="0" cy="133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1603440" y="4879800"/>
              <a:ext cx="1332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6" name=""/>
          <p:cNvGrpSpPr/>
          <p:nvPr/>
        </p:nvGrpSpPr>
        <p:grpSpPr>
          <a:xfrm>
            <a:off x="2035080" y="3467160"/>
            <a:ext cx="133560" cy="133200"/>
            <a:chOff x="2035080" y="3467160"/>
            <a:chExt cx="133560" cy="133200"/>
          </a:xfrm>
        </p:grpSpPr>
        <p:sp>
          <p:nvSpPr>
            <p:cNvPr id="6157" name=""/>
            <p:cNvSpPr/>
            <p:nvPr/>
          </p:nvSpPr>
          <p:spPr>
            <a:xfrm>
              <a:off x="2101680" y="3467160"/>
              <a:ext cx="0" cy="1332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2035080" y="3533760"/>
              <a:ext cx="133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9" name=""/>
          <p:cNvSpPr/>
          <p:nvPr/>
        </p:nvSpPr>
        <p:spPr>
          <a:xfrm flipV="1">
            <a:off x="1374840" y="260352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0" name=""/>
          <p:cNvSpPr/>
          <p:nvPr/>
        </p:nvSpPr>
        <p:spPr>
          <a:xfrm flipV="1">
            <a:off x="1260360" y="1530360"/>
            <a:ext cx="1025640" cy="322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1" name=""/>
          <p:cNvSpPr/>
          <p:nvPr/>
        </p:nvSpPr>
        <p:spPr>
          <a:xfrm>
            <a:off x="1359000" y="2044800"/>
            <a:ext cx="864000" cy="3518280"/>
          </a:xfrm>
          <a:custGeom>
            <a:avLst/>
            <a:gdLst/>
            <a:ahLst/>
            <a:rect l="0" t="0" r="r" b="b"/>
            <a:pathLst>
              <a:path w="2400" h="9773">
                <a:moveTo>
                  <a:pt x="246" y="9773"/>
                </a:moveTo>
                <a:lnTo>
                  <a:pt x="0" y="6668"/>
                </a:lnTo>
                <a:lnTo>
                  <a:pt x="2118" y="0"/>
                </a:lnTo>
                <a:lnTo>
                  <a:pt x="2400" y="3140"/>
                </a:lnTo>
                <a:lnTo>
                  <a:pt x="246" y="9773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2" name=""/>
          <p:cNvSpPr txBox="1"/>
          <p:nvPr/>
        </p:nvSpPr>
        <p:spPr>
          <a:xfrm>
            <a:off x="1725480" y="662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3" name=""/>
          <p:cNvSpPr txBox="1"/>
          <p:nvPr/>
        </p:nvSpPr>
        <p:spPr>
          <a:xfrm>
            <a:off x="1440000" y="738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4" name=""/>
          <p:cNvSpPr txBox="1"/>
          <p:nvPr/>
        </p:nvSpPr>
        <p:spPr>
          <a:xfrm>
            <a:off x="1146240" y="836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5" name=""/>
          <p:cNvSpPr txBox="1"/>
          <p:nvPr/>
        </p:nvSpPr>
        <p:spPr>
          <a:xfrm>
            <a:off x="878040" y="9255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6" name=""/>
          <p:cNvSpPr txBox="1"/>
          <p:nvPr/>
        </p:nvSpPr>
        <p:spPr>
          <a:xfrm>
            <a:off x="6039000" y="465120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7" name=""/>
          <p:cNvSpPr txBox="1"/>
          <p:nvPr/>
        </p:nvSpPr>
        <p:spPr>
          <a:xfrm>
            <a:off x="6699240" y="460368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8" name=""/>
          <p:cNvSpPr txBox="1"/>
          <p:nvPr/>
        </p:nvSpPr>
        <p:spPr>
          <a:xfrm>
            <a:off x="7308720" y="4594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"/>
          <p:cNvSpPr txBox="1"/>
          <p:nvPr/>
        </p:nvSpPr>
        <p:spPr>
          <a:xfrm>
            <a:off x="5470560" y="1173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"/>
          <p:cNvSpPr txBox="1"/>
          <p:nvPr/>
        </p:nvSpPr>
        <p:spPr>
          <a:xfrm>
            <a:off x="585144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1" name=""/>
          <p:cNvSpPr txBox="1"/>
          <p:nvPr/>
        </p:nvSpPr>
        <p:spPr>
          <a:xfrm>
            <a:off x="6394320" y="1270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2" name=""/>
          <p:cNvSpPr txBox="1"/>
          <p:nvPr/>
        </p:nvSpPr>
        <p:spPr>
          <a:xfrm>
            <a:off x="6727680" y="3747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3" name=""/>
          <p:cNvSpPr txBox="1"/>
          <p:nvPr/>
        </p:nvSpPr>
        <p:spPr>
          <a:xfrm>
            <a:off x="7013520" y="36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4" name=""/>
          <p:cNvSpPr txBox="1"/>
          <p:nvPr/>
        </p:nvSpPr>
        <p:spPr>
          <a:xfrm>
            <a:off x="5108400" y="136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"/>
          <p:cNvSpPr txBox="1"/>
          <p:nvPr/>
        </p:nvSpPr>
        <p:spPr>
          <a:xfrm>
            <a:off x="4775040" y="69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"/>
          <p:cNvSpPr txBox="1"/>
          <p:nvPr/>
        </p:nvSpPr>
        <p:spPr>
          <a:xfrm>
            <a:off x="4527720" y="792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"/>
          <p:cNvSpPr txBox="1"/>
          <p:nvPr/>
        </p:nvSpPr>
        <p:spPr>
          <a:xfrm>
            <a:off x="4308480" y="317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"/>
          <p:cNvSpPr txBox="1"/>
          <p:nvPr/>
        </p:nvSpPr>
        <p:spPr>
          <a:xfrm>
            <a:off x="4003560" y="51768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9" name=""/>
          <p:cNvSpPr/>
          <p:nvPr/>
        </p:nvSpPr>
        <p:spPr>
          <a:xfrm>
            <a:off x="6019920" y="285768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0" name=""/>
          <p:cNvSpPr/>
          <p:nvPr/>
        </p:nvSpPr>
        <p:spPr>
          <a:xfrm>
            <a:off x="7696080" y="323856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1" name=""/>
          <p:cNvSpPr/>
          <p:nvPr/>
        </p:nvSpPr>
        <p:spPr>
          <a:xfrm>
            <a:off x="7785000" y="3759120"/>
            <a:ext cx="50760" cy="5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2" name=""/>
          <p:cNvSpPr/>
          <p:nvPr/>
        </p:nvSpPr>
        <p:spPr>
          <a:xfrm>
            <a:off x="3324240" y="1962000"/>
            <a:ext cx="4553280" cy="2153160"/>
          </a:xfrm>
          <a:custGeom>
            <a:avLst/>
            <a:gdLst/>
            <a:ahLst/>
            <a:rect l="0" t="0" r="r" b="b"/>
            <a:pathLst>
              <a:path w="12648" h="5981">
                <a:moveTo>
                  <a:pt x="0" y="5981"/>
                </a:moveTo>
                <a:lnTo>
                  <a:pt x="238" y="5011"/>
                </a:lnTo>
                <a:lnTo>
                  <a:pt x="295" y="4667"/>
                </a:lnTo>
                <a:lnTo>
                  <a:pt x="343" y="4588"/>
                </a:lnTo>
                <a:lnTo>
                  <a:pt x="476" y="4419"/>
                </a:lnTo>
                <a:lnTo>
                  <a:pt x="529" y="4340"/>
                </a:lnTo>
                <a:lnTo>
                  <a:pt x="635" y="4260"/>
                </a:lnTo>
                <a:lnTo>
                  <a:pt x="714" y="4207"/>
                </a:lnTo>
                <a:lnTo>
                  <a:pt x="714" y="4128"/>
                </a:lnTo>
                <a:lnTo>
                  <a:pt x="793" y="4075"/>
                </a:lnTo>
                <a:lnTo>
                  <a:pt x="873" y="4022"/>
                </a:lnTo>
                <a:lnTo>
                  <a:pt x="899" y="3943"/>
                </a:lnTo>
                <a:lnTo>
                  <a:pt x="1058" y="3863"/>
                </a:lnTo>
                <a:lnTo>
                  <a:pt x="1111" y="3784"/>
                </a:lnTo>
                <a:lnTo>
                  <a:pt x="1111" y="3705"/>
                </a:lnTo>
                <a:lnTo>
                  <a:pt x="1111" y="3625"/>
                </a:lnTo>
                <a:lnTo>
                  <a:pt x="1111" y="3546"/>
                </a:lnTo>
                <a:lnTo>
                  <a:pt x="1111" y="3467"/>
                </a:lnTo>
                <a:lnTo>
                  <a:pt x="1190" y="3414"/>
                </a:lnTo>
                <a:lnTo>
                  <a:pt x="1217" y="3334"/>
                </a:lnTo>
                <a:lnTo>
                  <a:pt x="1296" y="3308"/>
                </a:lnTo>
                <a:lnTo>
                  <a:pt x="1375" y="3281"/>
                </a:lnTo>
                <a:lnTo>
                  <a:pt x="1455" y="3228"/>
                </a:lnTo>
                <a:lnTo>
                  <a:pt x="1534" y="3176"/>
                </a:lnTo>
                <a:lnTo>
                  <a:pt x="1613" y="3123"/>
                </a:lnTo>
                <a:lnTo>
                  <a:pt x="1613" y="3043"/>
                </a:lnTo>
                <a:lnTo>
                  <a:pt x="1675" y="2964"/>
                </a:lnTo>
                <a:lnTo>
                  <a:pt x="1640" y="3017"/>
                </a:lnTo>
                <a:lnTo>
                  <a:pt x="1640" y="2990"/>
                </a:lnTo>
                <a:lnTo>
                  <a:pt x="1799" y="2911"/>
                </a:lnTo>
                <a:lnTo>
                  <a:pt x="1684" y="2955"/>
                </a:lnTo>
                <a:lnTo>
                  <a:pt x="1710" y="2937"/>
                </a:lnTo>
                <a:lnTo>
                  <a:pt x="1799" y="2911"/>
                </a:lnTo>
                <a:lnTo>
                  <a:pt x="1807" y="2867"/>
                </a:lnTo>
                <a:lnTo>
                  <a:pt x="1755" y="2911"/>
                </a:lnTo>
                <a:lnTo>
                  <a:pt x="1852" y="2832"/>
                </a:lnTo>
                <a:lnTo>
                  <a:pt x="1931" y="2699"/>
                </a:lnTo>
                <a:lnTo>
                  <a:pt x="1931" y="2593"/>
                </a:lnTo>
                <a:lnTo>
                  <a:pt x="2028" y="2523"/>
                </a:lnTo>
                <a:lnTo>
                  <a:pt x="2081" y="2496"/>
                </a:lnTo>
                <a:lnTo>
                  <a:pt x="2116" y="2488"/>
                </a:lnTo>
                <a:lnTo>
                  <a:pt x="2196" y="2488"/>
                </a:lnTo>
                <a:lnTo>
                  <a:pt x="2275" y="2488"/>
                </a:lnTo>
                <a:lnTo>
                  <a:pt x="2354" y="2488"/>
                </a:lnTo>
                <a:lnTo>
                  <a:pt x="2434" y="2435"/>
                </a:lnTo>
                <a:lnTo>
                  <a:pt x="2460" y="2355"/>
                </a:lnTo>
                <a:lnTo>
                  <a:pt x="2540" y="2329"/>
                </a:lnTo>
                <a:lnTo>
                  <a:pt x="2619" y="2276"/>
                </a:lnTo>
                <a:lnTo>
                  <a:pt x="2698" y="2249"/>
                </a:lnTo>
                <a:lnTo>
                  <a:pt x="2778" y="2249"/>
                </a:lnTo>
                <a:lnTo>
                  <a:pt x="2857" y="2223"/>
                </a:lnTo>
                <a:lnTo>
                  <a:pt x="2936" y="2170"/>
                </a:lnTo>
                <a:lnTo>
                  <a:pt x="3016" y="2144"/>
                </a:lnTo>
                <a:lnTo>
                  <a:pt x="3095" y="2144"/>
                </a:lnTo>
                <a:lnTo>
                  <a:pt x="3175" y="2144"/>
                </a:lnTo>
                <a:lnTo>
                  <a:pt x="3254" y="2144"/>
                </a:lnTo>
                <a:lnTo>
                  <a:pt x="3289" y="2108"/>
                </a:lnTo>
                <a:lnTo>
                  <a:pt x="3360" y="2064"/>
                </a:lnTo>
                <a:lnTo>
                  <a:pt x="3386" y="1985"/>
                </a:lnTo>
                <a:lnTo>
                  <a:pt x="3466" y="1906"/>
                </a:lnTo>
                <a:lnTo>
                  <a:pt x="3545" y="1853"/>
                </a:lnTo>
                <a:lnTo>
                  <a:pt x="3651" y="1773"/>
                </a:lnTo>
                <a:lnTo>
                  <a:pt x="3730" y="1667"/>
                </a:lnTo>
                <a:lnTo>
                  <a:pt x="3810" y="1641"/>
                </a:lnTo>
                <a:lnTo>
                  <a:pt x="3889" y="1614"/>
                </a:lnTo>
                <a:lnTo>
                  <a:pt x="3968" y="1509"/>
                </a:lnTo>
                <a:lnTo>
                  <a:pt x="4118" y="1500"/>
                </a:lnTo>
                <a:lnTo>
                  <a:pt x="4189" y="1464"/>
                </a:lnTo>
                <a:lnTo>
                  <a:pt x="4198" y="1437"/>
                </a:lnTo>
                <a:lnTo>
                  <a:pt x="4233" y="1428"/>
                </a:lnTo>
                <a:lnTo>
                  <a:pt x="4356" y="1411"/>
                </a:lnTo>
                <a:lnTo>
                  <a:pt x="4453" y="1446"/>
                </a:lnTo>
                <a:lnTo>
                  <a:pt x="4550" y="1437"/>
                </a:lnTo>
                <a:lnTo>
                  <a:pt x="4656" y="1402"/>
                </a:lnTo>
                <a:lnTo>
                  <a:pt x="4762" y="1322"/>
                </a:lnTo>
                <a:lnTo>
                  <a:pt x="4841" y="1270"/>
                </a:lnTo>
                <a:lnTo>
                  <a:pt x="4921" y="1217"/>
                </a:lnTo>
                <a:lnTo>
                  <a:pt x="5000" y="1164"/>
                </a:lnTo>
                <a:lnTo>
                  <a:pt x="5106" y="1084"/>
                </a:lnTo>
                <a:lnTo>
                  <a:pt x="5132" y="1005"/>
                </a:lnTo>
                <a:lnTo>
                  <a:pt x="5212" y="820"/>
                </a:lnTo>
                <a:lnTo>
                  <a:pt x="5238" y="740"/>
                </a:lnTo>
                <a:lnTo>
                  <a:pt x="5318" y="687"/>
                </a:lnTo>
                <a:lnTo>
                  <a:pt x="5371" y="608"/>
                </a:lnTo>
                <a:lnTo>
                  <a:pt x="5450" y="502"/>
                </a:lnTo>
                <a:lnTo>
                  <a:pt x="5468" y="414"/>
                </a:lnTo>
                <a:lnTo>
                  <a:pt x="5556" y="370"/>
                </a:lnTo>
                <a:lnTo>
                  <a:pt x="5582" y="317"/>
                </a:lnTo>
                <a:lnTo>
                  <a:pt x="5662" y="264"/>
                </a:lnTo>
                <a:lnTo>
                  <a:pt x="6111" y="26"/>
                </a:lnTo>
                <a:lnTo>
                  <a:pt x="5979" y="105"/>
                </a:lnTo>
                <a:lnTo>
                  <a:pt x="5767" y="202"/>
                </a:lnTo>
                <a:lnTo>
                  <a:pt x="5997" y="97"/>
                </a:lnTo>
                <a:lnTo>
                  <a:pt x="6058" y="52"/>
                </a:lnTo>
                <a:lnTo>
                  <a:pt x="6164" y="0"/>
                </a:lnTo>
                <a:lnTo>
                  <a:pt x="6244" y="26"/>
                </a:lnTo>
                <a:lnTo>
                  <a:pt x="6351" y="79"/>
                </a:lnTo>
                <a:lnTo>
                  <a:pt x="6430" y="79"/>
                </a:lnTo>
                <a:lnTo>
                  <a:pt x="6483" y="158"/>
                </a:lnTo>
                <a:lnTo>
                  <a:pt x="6562" y="185"/>
                </a:lnTo>
                <a:lnTo>
                  <a:pt x="6615" y="264"/>
                </a:lnTo>
                <a:lnTo>
                  <a:pt x="6694" y="317"/>
                </a:lnTo>
                <a:lnTo>
                  <a:pt x="6774" y="370"/>
                </a:lnTo>
                <a:lnTo>
                  <a:pt x="6853" y="370"/>
                </a:lnTo>
                <a:lnTo>
                  <a:pt x="6933" y="449"/>
                </a:lnTo>
                <a:lnTo>
                  <a:pt x="6986" y="529"/>
                </a:lnTo>
                <a:lnTo>
                  <a:pt x="6986" y="608"/>
                </a:lnTo>
                <a:lnTo>
                  <a:pt x="7065" y="661"/>
                </a:lnTo>
                <a:lnTo>
                  <a:pt x="7144" y="661"/>
                </a:lnTo>
                <a:lnTo>
                  <a:pt x="7224" y="661"/>
                </a:lnTo>
                <a:lnTo>
                  <a:pt x="7303" y="661"/>
                </a:lnTo>
                <a:lnTo>
                  <a:pt x="7409" y="661"/>
                </a:lnTo>
                <a:lnTo>
                  <a:pt x="7488" y="661"/>
                </a:lnTo>
                <a:lnTo>
                  <a:pt x="7568" y="661"/>
                </a:lnTo>
                <a:lnTo>
                  <a:pt x="7673" y="661"/>
                </a:lnTo>
                <a:lnTo>
                  <a:pt x="7753" y="687"/>
                </a:lnTo>
                <a:lnTo>
                  <a:pt x="7832" y="740"/>
                </a:lnTo>
                <a:lnTo>
                  <a:pt x="7912" y="767"/>
                </a:lnTo>
                <a:lnTo>
                  <a:pt x="7991" y="767"/>
                </a:lnTo>
                <a:lnTo>
                  <a:pt x="8070" y="793"/>
                </a:lnTo>
                <a:lnTo>
                  <a:pt x="8150" y="846"/>
                </a:lnTo>
                <a:lnTo>
                  <a:pt x="8203" y="926"/>
                </a:lnTo>
                <a:lnTo>
                  <a:pt x="8282" y="978"/>
                </a:lnTo>
                <a:lnTo>
                  <a:pt x="8308" y="1058"/>
                </a:lnTo>
                <a:lnTo>
                  <a:pt x="8414" y="1111"/>
                </a:lnTo>
                <a:lnTo>
                  <a:pt x="8494" y="1111"/>
                </a:lnTo>
                <a:lnTo>
                  <a:pt x="8573" y="1111"/>
                </a:lnTo>
                <a:lnTo>
                  <a:pt x="8785" y="1164"/>
                </a:lnTo>
                <a:lnTo>
                  <a:pt x="8943" y="1190"/>
                </a:lnTo>
                <a:lnTo>
                  <a:pt x="9234" y="1190"/>
                </a:lnTo>
                <a:lnTo>
                  <a:pt x="9287" y="1190"/>
                </a:lnTo>
                <a:lnTo>
                  <a:pt x="9367" y="1270"/>
                </a:lnTo>
                <a:lnTo>
                  <a:pt x="9420" y="1349"/>
                </a:lnTo>
                <a:lnTo>
                  <a:pt x="9499" y="1402"/>
                </a:lnTo>
                <a:lnTo>
                  <a:pt x="9578" y="1428"/>
                </a:lnTo>
                <a:lnTo>
                  <a:pt x="9658" y="1455"/>
                </a:lnTo>
                <a:lnTo>
                  <a:pt x="9737" y="1509"/>
                </a:lnTo>
                <a:lnTo>
                  <a:pt x="9817" y="1535"/>
                </a:lnTo>
                <a:lnTo>
                  <a:pt x="9896" y="1535"/>
                </a:lnTo>
                <a:lnTo>
                  <a:pt x="9975" y="1588"/>
                </a:lnTo>
                <a:lnTo>
                  <a:pt x="10055" y="1614"/>
                </a:lnTo>
                <a:lnTo>
                  <a:pt x="10108" y="1694"/>
                </a:lnTo>
                <a:lnTo>
                  <a:pt x="10213" y="1747"/>
                </a:lnTo>
                <a:lnTo>
                  <a:pt x="10293" y="1773"/>
                </a:lnTo>
                <a:lnTo>
                  <a:pt x="10346" y="1853"/>
                </a:lnTo>
                <a:lnTo>
                  <a:pt x="10425" y="1879"/>
                </a:lnTo>
                <a:lnTo>
                  <a:pt x="10531" y="1906"/>
                </a:lnTo>
                <a:lnTo>
                  <a:pt x="10663" y="1985"/>
                </a:lnTo>
                <a:lnTo>
                  <a:pt x="10690" y="2038"/>
                </a:lnTo>
                <a:lnTo>
                  <a:pt x="10796" y="2091"/>
                </a:lnTo>
                <a:lnTo>
                  <a:pt x="10848" y="2170"/>
                </a:lnTo>
                <a:lnTo>
                  <a:pt x="10901" y="2249"/>
                </a:lnTo>
                <a:lnTo>
                  <a:pt x="11113" y="2329"/>
                </a:lnTo>
                <a:lnTo>
                  <a:pt x="11139" y="2408"/>
                </a:lnTo>
                <a:lnTo>
                  <a:pt x="11192" y="2488"/>
                </a:lnTo>
                <a:lnTo>
                  <a:pt x="11272" y="2567"/>
                </a:lnTo>
                <a:lnTo>
                  <a:pt x="11351" y="2646"/>
                </a:lnTo>
                <a:lnTo>
                  <a:pt x="11351" y="2726"/>
                </a:lnTo>
                <a:lnTo>
                  <a:pt x="11351" y="2805"/>
                </a:lnTo>
                <a:lnTo>
                  <a:pt x="11431" y="2884"/>
                </a:lnTo>
                <a:lnTo>
                  <a:pt x="11510" y="2990"/>
                </a:lnTo>
                <a:lnTo>
                  <a:pt x="11616" y="3070"/>
                </a:lnTo>
                <a:lnTo>
                  <a:pt x="11695" y="3123"/>
                </a:lnTo>
                <a:lnTo>
                  <a:pt x="11774" y="3202"/>
                </a:lnTo>
                <a:lnTo>
                  <a:pt x="11827" y="3281"/>
                </a:lnTo>
                <a:lnTo>
                  <a:pt x="11933" y="3361"/>
                </a:lnTo>
                <a:lnTo>
                  <a:pt x="12013" y="3414"/>
                </a:lnTo>
                <a:lnTo>
                  <a:pt x="12092" y="3440"/>
                </a:lnTo>
                <a:lnTo>
                  <a:pt x="12145" y="3519"/>
                </a:lnTo>
                <a:lnTo>
                  <a:pt x="12409" y="3599"/>
                </a:lnTo>
                <a:lnTo>
                  <a:pt x="12409" y="3678"/>
                </a:lnTo>
                <a:lnTo>
                  <a:pt x="12409" y="3758"/>
                </a:lnTo>
                <a:lnTo>
                  <a:pt x="12409" y="3837"/>
                </a:lnTo>
                <a:lnTo>
                  <a:pt x="12409" y="3916"/>
                </a:lnTo>
                <a:lnTo>
                  <a:pt x="12409" y="3996"/>
                </a:lnTo>
                <a:lnTo>
                  <a:pt x="12409" y="4075"/>
                </a:lnTo>
                <a:lnTo>
                  <a:pt x="12568" y="4287"/>
                </a:lnTo>
                <a:lnTo>
                  <a:pt x="12595" y="4499"/>
                </a:lnTo>
                <a:lnTo>
                  <a:pt x="12568" y="4579"/>
                </a:lnTo>
                <a:lnTo>
                  <a:pt x="12568" y="4658"/>
                </a:lnTo>
                <a:lnTo>
                  <a:pt x="12621" y="4658"/>
                </a:lnTo>
                <a:lnTo>
                  <a:pt x="12621" y="4790"/>
                </a:lnTo>
                <a:lnTo>
                  <a:pt x="12648" y="4870"/>
                </a:lnTo>
                <a:lnTo>
                  <a:pt x="12621" y="4949"/>
                </a:lnTo>
                <a:lnTo>
                  <a:pt x="12621" y="5029"/>
                </a:lnTo>
                <a:lnTo>
                  <a:pt x="12621" y="5108"/>
                </a:lnTo>
                <a:lnTo>
                  <a:pt x="12542" y="5134"/>
                </a:lnTo>
                <a:lnTo>
                  <a:pt x="12462" y="5134"/>
                </a:lnTo>
                <a:lnTo>
                  <a:pt x="12383" y="5108"/>
                </a:lnTo>
                <a:lnTo>
                  <a:pt x="12304" y="5081"/>
                </a:lnTo>
                <a:lnTo>
                  <a:pt x="12224" y="5055"/>
                </a:lnTo>
                <a:lnTo>
                  <a:pt x="12145" y="5002"/>
                </a:lnTo>
                <a:lnTo>
                  <a:pt x="12066" y="4976"/>
                </a:lnTo>
                <a:lnTo>
                  <a:pt x="12013" y="4870"/>
                </a:lnTo>
                <a:lnTo>
                  <a:pt x="11986" y="4764"/>
                </a:lnTo>
                <a:lnTo>
                  <a:pt x="11960" y="4685"/>
                </a:lnTo>
                <a:lnTo>
                  <a:pt x="11880" y="4605"/>
                </a:lnTo>
                <a:lnTo>
                  <a:pt x="11801" y="4552"/>
                </a:lnTo>
                <a:lnTo>
                  <a:pt x="11722" y="4499"/>
                </a:lnTo>
                <a:lnTo>
                  <a:pt x="11642" y="4446"/>
                </a:lnTo>
                <a:lnTo>
                  <a:pt x="11563" y="4419"/>
                </a:lnTo>
                <a:lnTo>
                  <a:pt x="11483" y="4340"/>
                </a:lnTo>
                <a:lnTo>
                  <a:pt x="11404" y="4287"/>
                </a:lnTo>
                <a:lnTo>
                  <a:pt x="11325" y="4287"/>
                </a:lnTo>
                <a:lnTo>
                  <a:pt x="11272" y="4207"/>
                </a:lnTo>
                <a:lnTo>
                  <a:pt x="11192" y="4207"/>
                </a:lnTo>
                <a:lnTo>
                  <a:pt x="11139" y="4128"/>
                </a:lnTo>
                <a:lnTo>
                  <a:pt x="11060" y="4102"/>
                </a:lnTo>
                <a:lnTo>
                  <a:pt x="10981" y="4075"/>
                </a:lnTo>
                <a:lnTo>
                  <a:pt x="10928" y="3996"/>
                </a:lnTo>
                <a:lnTo>
                  <a:pt x="10848" y="3996"/>
                </a:lnTo>
                <a:lnTo>
                  <a:pt x="10743" y="3969"/>
                </a:lnTo>
                <a:lnTo>
                  <a:pt x="10637" y="3916"/>
                </a:lnTo>
                <a:lnTo>
                  <a:pt x="10557" y="3916"/>
                </a:lnTo>
                <a:lnTo>
                  <a:pt x="10478" y="3916"/>
                </a:lnTo>
                <a:lnTo>
                  <a:pt x="10399" y="3916"/>
                </a:lnTo>
                <a:lnTo>
                  <a:pt x="10319" y="3916"/>
                </a:lnTo>
                <a:lnTo>
                  <a:pt x="10240" y="3916"/>
                </a:lnTo>
                <a:lnTo>
                  <a:pt x="10134" y="3916"/>
                </a:lnTo>
                <a:lnTo>
                  <a:pt x="9975" y="3890"/>
                </a:lnTo>
                <a:lnTo>
                  <a:pt x="9817" y="3890"/>
                </a:lnTo>
                <a:lnTo>
                  <a:pt x="9711" y="3863"/>
                </a:lnTo>
                <a:lnTo>
                  <a:pt x="9605" y="3837"/>
                </a:lnTo>
                <a:lnTo>
                  <a:pt x="9499" y="3784"/>
                </a:lnTo>
                <a:lnTo>
                  <a:pt x="9420" y="3784"/>
                </a:lnTo>
                <a:lnTo>
                  <a:pt x="9340" y="3784"/>
                </a:lnTo>
                <a:lnTo>
                  <a:pt x="9261" y="3758"/>
                </a:lnTo>
                <a:lnTo>
                  <a:pt x="9155" y="3705"/>
                </a:lnTo>
                <a:lnTo>
                  <a:pt x="9076" y="3678"/>
                </a:lnTo>
                <a:lnTo>
                  <a:pt x="8996" y="3678"/>
                </a:lnTo>
                <a:lnTo>
                  <a:pt x="8943" y="3652"/>
                </a:lnTo>
                <a:lnTo>
                  <a:pt x="8943" y="3625"/>
                </a:lnTo>
                <a:lnTo>
                  <a:pt x="8917" y="3546"/>
                </a:lnTo>
                <a:lnTo>
                  <a:pt x="8838" y="3519"/>
                </a:lnTo>
                <a:lnTo>
                  <a:pt x="8838" y="3440"/>
                </a:lnTo>
                <a:lnTo>
                  <a:pt x="8811" y="3361"/>
                </a:lnTo>
                <a:lnTo>
                  <a:pt x="8732" y="3308"/>
                </a:lnTo>
                <a:lnTo>
                  <a:pt x="8652" y="3228"/>
                </a:lnTo>
                <a:lnTo>
                  <a:pt x="8599" y="3149"/>
                </a:lnTo>
                <a:lnTo>
                  <a:pt x="8520" y="3096"/>
                </a:lnTo>
                <a:lnTo>
                  <a:pt x="8441" y="3070"/>
                </a:lnTo>
                <a:lnTo>
                  <a:pt x="8361" y="3043"/>
                </a:lnTo>
                <a:lnTo>
                  <a:pt x="8282" y="2990"/>
                </a:lnTo>
                <a:lnTo>
                  <a:pt x="8203" y="2937"/>
                </a:lnTo>
                <a:lnTo>
                  <a:pt x="8123" y="2911"/>
                </a:lnTo>
                <a:lnTo>
                  <a:pt x="8044" y="2858"/>
                </a:lnTo>
                <a:lnTo>
                  <a:pt x="7964" y="2805"/>
                </a:lnTo>
                <a:lnTo>
                  <a:pt x="7912" y="2726"/>
                </a:lnTo>
                <a:lnTo>
                  <a:pt x="7832" y="2699"/>
                </a:lnTo>
                <a:lnTo>
                  <a:pt x="7753" y="2673"/>
                </a:lnTo>
                <a:lnTo>
                  <a:pt x="7647" y="2620"/>
                </a:lnTo>
                <a:lnTo>
                  <a:pt x="7568" y="2593"/>
                </a:lnTo>
                <a:lnTo>
                  <a:pt x="7488" y="2593"/>
                </a:lnTo>
                <a:lnTo>
                  <a:pt x="7409" y="2541"/>
                </a:lnTo>
                <a:lnTo>
                  <a:pt x="7329" y="2514"/>
                </a:lnTo>
                <a:lnTo>
                  <a:pt x="7277" y="2435"/>
                </a:lnTo>
                <a:lnTo>
                  <a:pt x="7197" y="2408"/>
                </a:lnTo>
                <a:lnTo>
                  <a:pt x="7118" y="2408"/>
                </a:lnTo>
                <a:lnTo>
                  <a:pt x="7038" y="2408"/>
                </a:lnTo>
                <a:lnTo>
                  <a:pt x="6959" y="2408"/>
                </a:lnTo>
                <a:lnTo>
                  <a:pt x="6880" y="2408"/>
                </a:lnTo>
                <a:lnTo>
                  <a:pt x="6800" y="2408"/>
                </a:lnTo>
                <a:lnTo>
                  <a:pt x="6721" y="2408"/>
                </a:lnTo>
                <a:lnTo>
                  <a:pt x="6642" y="2408"/>
                </a:lnTo>
                <a:lnTo>
                  <a:pt x="6615" y="2329"/>
                </a:lnTo>
                <a:lnTo>
                  <a:pt x="6589" y="2249"/>
                </a:lnTo>
                <a:lnTo>
                  <a:pt x="6509" y="2197"/>
                </a:lnTo>
                <a:lnTo>
                  <a:pt x="6465" y="2179"/>
                </a:lnTo>
                <a:lnTo>
                  <a:pt x="6430" y="2117"/>
                </a:lnTo>
                <a:lnTo>
                  <a:pt x="6377" y="2038"/>
                </a:lnTo>
                <a:lnTo>
                  <a:pt x="6270" y="1985"/>
                </a:lnTo>
                <a:lnTo>
                  <a:pt x="6217" y="1888"/>
                </a:lnTo>
                <a:lnTo>
                  <a:pt x="6094" y="1870"/>
                </a:lnTo>
                <a:lnTo>
                  <a:pt x="6006" y="1932"/>
                </a:lnTo>
                <a:lnTo>
                  <a:pt x="5926" y="1985"/>
                </a:lnTo>
                <a:lnTo>
                  <a:pt x="5873" y="2064"/>
                </a:lnTo>
                <a:lnTo>
                  <a:pt x="5794" y="2091"/>
                </a:lnTo>
                <a:lnTo>
                  <a:pt x="5767" y="2170"/>
                </a:lnTo>
                <a:lnTo>
                  <a:pt x="5688" y="2197"/>
                </a:lnTo>
                <a:lnTo>
                  <a:pt x="5662" y="2276"/>
                </a:lnTo>
                <a:lnTo>
                  <a:pt x="5582" y="2302"/>
                </a:lnTo>
                <a:lnTo>
                  <a:pt x="5503" y="2408"/>
                </a:lnTo>
                <a:lnTo>
                  <a:pt x="5476" y="2514"/>
                </a:lnTo>
                <a:lnTo>
                  <a:pt x="5397" y="2593"/>
                </a:lnTo>
                <a:lnTo>
                  <a:pt x="5291" y="2699"/>
                </a:lnTo>
                <a:lnTo>
                  <a:pt x="5238" y="2699"/>
                </a:lnTo>
                <a:lnTo>
                  <a:pt x="5159" y="2673"/>
                </a:lnTo>
                <a:lnTo>
                  <a:pt x="5080" y="2699"/>
                </a:lnTo>
                <a:lnTo>
                  <a:pt x="5000" y="2726"/>
                </a:lnTo>
                <a:lnTo>
                  <a:pt x="4894" y="2805"/>
                </a:lnTo>
                <a:lnTo>
                  <a:pt x="4815" y="2805"/>
                </a:lnTo>
                <a:lnTo>
                  <a:pt x="4762" y="2884"/>
                </a:lnTo>
                <a:lnTo>
                  <a:pt x="4683" y="2964"/>
                </a:lnTo>
                <a:lnTo>
                  <a:pt x="4603" y="3017"/>
                </a:lnTo>
                <a:lnTo>
                  <a:pt x="4524" y="3096"/>
                </a:lnTo>
                <a:lnTo>
                  <a:pt x="4445" y="3123"/>
                </a:lnTo>
                <a:lnTo>
                  <a:pt x="4365" y="3202"/>
                </a:lnTo>
                <a:lnTo>
                  <a:pt x="4286" y="3308"/>
                </a:lnTo>
                <a:lnTo>
                  <a:pt x="4233" y="3387"/>
                </a:lnTo>
                <a:lnTo>
                  <a:pt x="4180" y="3467"/>
                </a:lnTo>
                <a:lnTo>
                  <a:pt x="4101" y="3519"/>
                </a:lnTo>
                <a:lnTo>
                  <a:pt x="4021" y="3519"/>
                </a:lnTo>
                <a:lnTo>
                  <a:pt x="3942" y="3546"/>
                </a:lnTo>
                <a:lnTo>
                  <a:pt x="3889" y="3625"/>
                </a:lnTo>
                <a:lnTo>
                  <a:pt x="3810" y="3652"/>
                </a:lnTo>
                <a:lnTo>
                  <a:pt x="3730" y="3731"/>
                </a:lnTo>
                <a:lnTo>
                  <a:pt x="3651" y="3819"/>
                </a:lnTo>
                <a:lnTo>
                  <a:pt x="3607" y="3863"/>
                </a:lnTo>
                <a:lnTo>
                  <a:pt x="3554" y="3881"/>
                </a:lnTo>
                <a:lnTo>
                  <a:pt x="3466" y="4022"/>
                </a:lnTo>
                <a:lnTo>
                  <a:pt x="3386" y="4075"/>
                </a:lnTo>
                <a:lnTo>
                  <a:pt x="3360" y="4154"/>
                </a:lnTo>
                <a:lnTo>
                  <a:pt x="3280" y="4154"/>
                </a:lnTo>
                <a:lnTo>
                  <a:pt x="3201" y="4154"/>
                </a:lnTo>
                <a:lnTo>
                  <a:pt x="3122" y="4154"/>
                </a:lnTo>
                <a:lnTo>
                  <a:pt x="3042" y="4154"/>
                </a:lnTo>
                <a:lnTo>
                  <a:pt x="2963" y="4154"/>
                </a:lnTo>
                <a:lnTo>
                  <a:pt x="2883" y="4154"/>
                </a:lnTo>
                <a:lnTo>
                  <a:pt x="2804" y="4154"/>
                </a:lnTo>
                <a:lnTo>
                  <a:pt x="2725" y="4207"/>
                </a:lnTo>
                <a:lnTo>
                  <a:pt x="2645" y="4260"/>
                </a:lnTo>
                <a:lnTo>
                  <a:pt x="2566" y="4313"/>
                </a:lnTo>
                <a:lnTo>
                  <a:pt x="2487" y="4366"/>
                </a:lnTo>
                <a:lnTo>
                  <a:pt x="2407" y="4446"/>
                </a:lnTo>
                <a:lnTo>
                  <a:pt x="2328" y="4499"/>
                </a:lnTo>
                <a:lnTo>
                  <a:pt x="2248" y="4552"/>
                </a:lnTo>
                <a:lnTo>
                  <a:pt x="2169" y="4579"/>
                </a:lnTo>
                <a:lnTo>
                  <a:pt x="2090" y="4605"/>
                </a:lnTo>
                <a:lnTo>
                  <a:pt x="2010" y="4658"/>
                </a:lnTo>
                <a:lnTo>
                  <a:pt x="1931" y="4685"/>
                </a:lnTo>
                <a:lnTo>
                  <a:pt x="1852" y="4746"/>
                </a:lnTo>
                <a:lnTo>
                  <a:pt x="1772" y="4799"/>
                </a:lnTo>
                <a:lnTo>
                  <a:pt x="1710" y="4826"/>
                </a:lnTo>
                <a:lnTo>
                  <a:pt x="1613" y="4870"/>
                </a:lnTo>
                <a:lnTo>
                  <a:pt x="1534" y="4923"/>
                </a:lnTo>
                <a:lnTo>
                  <a:pt x="1481" y="5002"/>
                </a:lnTo>
                <a:lnTo>
                  <a:pt x="1402" y="5029"/>
                </a:lnTo>
                <a:lnTo>
                  <a:pt x="1349" y="5108"/>
                </a:lnTo>
                <a:lnTo>
                  <a:pt x="1270" y="5161"/>
                </a:lnTo>
                <a:lnTo>
                  <a:pt x="1217" y="5240"/>
                </a:lnTo>
                <a:lnTo>
                  <a:pt x="1137" y="5293"/>
                </a:lnTo>
                <a:lnTo>
                  <a:pt x="1058" y="5293"/>
                </a:lnTo>
                <a:lnTo>
                  <a:pt x="978" y="5293"/>
                </a:lnTo>
                <a:lnTo>
                  <a:pt x="899" y="5320"/>
                </a:lnTo>
                <a:lnTo>
                  <a:pt x="820" y="5373"/>
                </a:lnTo>
                <a:lnTo>
                  <a:pt x="714" y="5452"/>
                </a:lnTo>
                <a:lnTo>
                  <a:pt x="635" y="5505"/>
                </a:lnTo>
                <a:lnTo>
                  <a:pt x="555" y="5531"/>
                </a:lnTo>
                <a:lnTo>
                  <a:pt x="476" y="5584"/>
                </a:lnTo>
                <a:lnTo>
                  <a:pt x="396" y="5637"/>
                </a:lnTo>
                <a:lnTo>
                  <a:pt x="291" y="5716"/>
                </a:lnTo>
                <a:lnTo>
                  <a:pt x="211" y="5743"/>
                </a:lnTo>
                <a:lnTo>
                  <a:pt x="132" y="5796"/>
                </a:lnTo>
                <a:lnTo>
                  <a:pt x="79" y="5875"/>
                </a:lnTo>
                <a:lnTo>
                  <a:pt x="52" y="5955"/>
                </a:lnTo>
                <a:lnTo>
                  <a:pt x="0" y="5981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3" name=""/>
          <p:cNvSpPr/>
          <p:nvPr/>
        </p:nvSpPr>
        <p:spPr>
          <a:xfrm>
            <a:off x="7772400" y="3271680"/>
            <a:ext cx="133560" cy="528840"/>
          </a:xfrm>
          <a:custGeom>
            <a:avLst/>
            <a:gdLst/>
            <a:ahLst/>
            <a:rect l="0" t="0" r="r" b="b"/>
            <a:pathLst>
              <a:path w="371" h="1469">
                <a:moveTo>
                  <a:pt x="13" y="0"/>
                </a:moveTo>
                <a:lnTo>
                  <a:pt x="52" y="13"/>
                </a:lnTo>
                <a:lnTo>
                  <a:pt x="105" y="13"/>
                </a:lnTo>
                <a:lnTo>
                  <a:pt x="132" y="52"/>
                </a:lnTo>
                <a:lnTo>
                  <a:pt x="132" y="92"/>
                </a:lnTo>
                <a:lnTo>
                  <a:pt x="132" y="132"/>
                </a:lnTo>
                <a:lnTo>
                  <a:pt x="132" y="171"/>
                </a:lnTo>
                <a:lnTo>
                  <a:pt x="132" y="211"/>
                </a:lnTo>
                <a:lnTo>
                  <a:pt x="158" y="264"/>
                </a:lnTo>
                <a:lnTo>
                  <a:pt x="171" y="304"/>
                </a:lnTo>
                <a:lnTo>
                  <a:pt x="186" y="343"/>
                </a:lnTo>
                <a:lnTo>
                  <a:pt x="225" y="383"/>
                </a:lnTo>
                <a:lnTo>
                  <a:pt x="225" y="423"/>
                </a:lnTo>
                <a:lnTo>
                  <a:pt x="331" y="449"/>
                </a:lnTo>
                <a:lnTo>
                  <a:pt x="344" y="489"/>
                </a:lnTo>
                <a:lnTo>
                  <a:pt x="344" y="529"/>
                </a:lnTo>
                <a:lnTo>
                  <a:pt x="344" y="568"/>
                </a:lnTo>
                <a:lnTo>
                  <a:pt x="344" y="608"/>
                </a:lnTo>
                <a:lnTo>
                  <a:pt x="344" y="648"/>
                </a:lnTo>
                <a:lnTo>
                  <a:pt x="344" y="687"/>
                </a:lnTo>
                <a:lnTo>
                  <a:pt x="344" y="727"/>
                </a:lnTo>
                <a:lnTo>
                  <a:pt x="344" y="768"/>
                </a:lnTo>
                <a:lnTo>
                  <a:pt x="344" y="807"/>
                </a:lnTo>
                <a:lnTo>
                  <a:pt x="344" y="860"/>
                </a:lnTo>
                <a:lnTo>
                  <a:pt x="358" y="900"/>
                </a:lnTo>
                <a:lnTo>
                  <a:pt x="358" y="940"/>
                </a:lnTo>
                <a:lnTo>
                  <a:pt x="358" y="993"/>
                </a:lnTo>
                <a:lnTo>
                  <a:pt x="371" y="1072"/>
                </a:lnTo>
                <a:lnTo>
                  <a:pt x="371" y="1112"/>
                </a:lnTo>
                <a:lnTo>
                  <a:pt x="371" y="1151"/>
                </a:lnTo>
                <a:lnTo>
                  <a:pt x="371" y="1191"/>
                </a:lnTo>
                <a:lnTo>
                  <a:pt x="371" y="1231"/>
                </a:lnTo>
                <a:lnTo>
                  <a:pt x="371" y="1271"/>
                </a:lnTo>
                <a:lnTo>
                  <a:pt x="371" y="1310"/>
                </a:lnTo>
                <a:lnTo>
                  <a:pt x="371" y="1350"/>
                </a:lnTo>
                <a:lnTo>
                  <a:pt x="371" y="1390"/>
                </a:lnTo>
                <a:lnTo>
                  <a:pt x="371" y="1429"/>
                </a:lnTo>
                <a:lnTo>
                  <a:pt x="344" y="1469"/>
                </a:lnTo>
                <a:lnTo>
                  <a:pt x="305" y="1469"/>
                </a:lnTo>
                <a:lnTo>
                  <a:pt x="265" y="1469"/>
                </a:lnTo>
                <a:lnTo>
                  <a:pt x="225" y="1469"/>
                </a:lnTo>
                <a:lnTo>
                  <a:pt x="186" y="1456"/>
                </a:lnTo>
                <a:lnTo>
                  <a:pt x="186" y="1416"/>
                </a:lnTo>
                <a:lnTo>
                  <a:pt x="186" y="1376"/>
                </a:lnTo>
                <a:lnTo>
                  <a:pt x="186" y="1337"/>
                </a:lnTo>
                <a:lnTo>
                  <a:pt x="186" y="1297"/>
                </a:lnTo>
                <a:lnTo>
                  <a:pt x="186" y="1257"/>
                </a:lnTo>
                <a:lnTo>
                  <a:pt x="186" y="1218"/>
                </a:lnTo>
                <a:lnTo>
                  <a:pt x="186" y="1178"/>
                </a:lnTo>
                <a:lnTo>
                  <a:pt x="186" y="1138"/>
                </a:lnTo>
                <a:lnTo>
                  <a:pt x="186" y="1099"/>
                </a:lnTo>
                <a:lnTo>
                  <a:pt x="186" y="1059"/>
                </a:lnTo>
                <a:lnTo>
                  <a:pt x="186" y="1019"/>
                </a:lnTo>
                <a:lnTo>
                  <a:pt x="186" y="979"/>
                </a:lnTo>
                <a:lnTo>
                  <a:pt x="186" y="940"/>
                </a:lnTo>
                <a:lnTo>
                  <a:pt x="171" y="900"/>
                </a:lnTo>
                <a:lnTo>
                  <a:pt x="158" y="860"/>
                </a:lnTo>
                <a:lnTo>
                  <a:pt x="158" y="821"/>
                </a:lnTo>
                <a:lnTo>
                  <a:pt x="145" y="768"/>
                </a:lnTo>
                <a:lnTo>
                  <a:pt x="145" y="727"/>
                </a:lnTo>
                <a:lnTo>
                  <a:pt x="132" y="687"/>
                </a:lnTo>
                <a:lnTo>
                  <a:pt x="105" y="648"/>
                </a:lnTo>
                <a:lnTo>
                  <a:pt x="92" y="608"/>
                </a:lnTo>
                <a:lnTo>
                  <a:pt x="79" y="568"/>
                </a:lnTo>
                <a:lnTo>
                  <a:pt x="39" y="555"/>
                </a:lnTo>
                <a:lnTo>
                  <a:pt x="13" y="515"/>
                </a:lnTo>
                <a:lnTo>
                  <a:pt x="13" y="476"/>
                </a:lnTo>
                <a:lnTo>
                  <a:pt x="0" y="436"/>
                </a:lnTo>
                <a:lnTo>
                  <a:pt x="0" y="396"/>
                </a:lnTo>
                <a:lnTo>
                  <a:pt x="0" y="357"/>
                </a:lnTo>
                <a:lnTo>
                  <a:pt x="0" y="317"/>
                </a:lnTo>
                <a:lnTo>
                  <a:pt x="0" y="277"/>
                </a:lnTo>
                <a:lnTo>
                  <a:pt x="0" y="238"/>
                </a:lnTo>
                <a:lnTo>
                  <a:pt x="0" y="198"/>
                </a:lnTo>
                <a:lnTo>
                  <a:pt x="0" y="158"/>
                </a:lnTo>
                <a:lnTo>
                  <a:pt x="0" y="119"/>
                </a:lnTo>
                <a:lnTo>
                  <a:pt x="0" y="79"/>
                </a:lnTo>
                <a:lnTo>
                  <a:pt x="13" y="39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4" name=""/>
          <p:cNvSpPr/>
          <p:nvPr/>
        </p:nvSpPr>
        <p:spPr>
          <a:xfrm>
            <a:off x="3309840" y="3624120"/>
            <a:ext cx="167040" cy="448200"/>
          </a:xfrm>
          <a:custGeom>
            <a:avLst/>
            <a:gdLst/>
            <a:ahLst/>
            <a:rect l="0" t="0" r="r" b="b"/>
            <a:pathLst>
              <a:path w="464" h="1245">
                <a:moveTo>
                  <a:pt x="371" y="92"/>
                </a:moveTo>
                <a:lnTo>
                  <a:pt x="371" y="52"/>
                </a:lnTo>
                <a:lnTo>
                  <a:pt x="411" y="52"/>
                </a:lnTo>
                <a:lnTo>
                  <a:pt x="450" y="39"/>
                </a:lnTo>
                <a:lnTo>
                  <a:pt x="450" y="0"/>
                </a:lnTo>
                <a:lnTo>
                  <a:pt x="464" y="39"/>
                </a:lnTo>
                <a:lnTo>
                  <a:pt x="464" y="79"/>
                </a:lnTo>
                <a:lnTo>
                  <a:pt x="464" y="119"/>
                </a:lnTo>
                <a:lnTo>
                  <a:pt x="464" y="158"/>
                </a:lnTo>
                <a:lnTo>
                  <a:pt x="464" y="198"/>
                </a:lnTo>
                <a:lnTo>
                  <a:pt x="464" y="238"/>
                </a:lnTo>
                <a:lnTo>
                  <a:pt x="464" y="277"/>
                </a:lnTo>
                <a:lnTo>
                  <a:pt x="464" y="318"/>
                </a:lnTo>
                <a:lnTo>
                  <a:pt x="464" y="358"/>
                </a:lnTo>
                <a:lnTo>
                  <a:pt x="437" y="397"/>
                </a:lnTo>
                <a:lnTo>
                  <a:pt x="411" y="437"/>
                </a:lnTo>
                <a:lnTo>
                  <a:pt x="371" y="464"/>
                </a:lnTo>
                <a:lnTo>
                  <a:pt x="358" y="503"/>
                </a:lnTo>
                <a:lnTo>
                  <a:pt x="331" y="543"/>
                </a:lnTo>
                <a:lnTo>
                  <a:pt x="318" y="583"/>
                </a:lnTo>
                <a:lnTo>
                  <a:pt x="318" y="622"/>
                </a:lnTo>
                <a:lnTo>
                  <a:pt x="305" y="662"/>
                </a:lnTo>
                <a:lnTo>
                  <a:pt x="292" y="715"/>
                </a:lnTo>
                <a:lnTo>
                  <a:pt x="278" y="755"/>
                </a:lnTo>
                <a:lnTo>
                  <a:pt x="278" y="794"/>
                </a:lnTo>
                <a:lnTo>
                  <a:pt x="278" y="834"/>
                </a:lnTo>
                <a:lnTo>
                  <a:pt x="265" y="874"/>
                </a:lnTo>
                <a:lnTo>
                  <a:pt x="265" y="913"/>
                </a:lnTo>
                <a:lnTo>
                  <a:pt x="239" y="967"/>
                </a:lnTo>
                <a:lnTo>
                  <a:pt x="211" y="1007"/>
                </a:lnTo>
                <a:lnTo>
                  <a:pt x="198" y="1047"/>
                </a:lnTo>
                <a:lnTo>
                  <a:pt x="185" y="1086"/>
                </a:lnTo>
                <a:lnTo>
                  <a:pt x="158" y="1126"/>
                </a:lnTo>
                <a:lnTo>
                  <a:pt x="119" y="1139"/>
                </a:lnTo>
                <a:lnTo>
                  <a:pt x="119" y="1179"/>
                </a:lnTo>
                <a:lnTo>
                  <a:pt x="105" y="1219"/>
                </a:lnTo>
                <a:lnTo>
                  <a:pt x="66" y="1245"/>
                </a:lnTo>
                <a:lnTo>
                  <a:pt x="13" y="1245"/>
                </a:lnTo>
                <a:lnTo>
                  <a:pt x="0" y="1205"/>
                </a:lnTo>
                <a:lnTo>
                  <a:pt x="0" y="1166"/>
                </a:lnTo>
                <a:lnTo>
                  <a:pt x="0" y="1126"/>
                </a:lnTo>
                <a:lnTo>
                  <a:pt x="0" y="1086"/>
                </a:lnTo>
                <a:lnTo>
                  <a:pt x="0" y="1047"/>
                </a:lnTo>
                <a:lnTo>
                  <a:pt x="13" y="1007"/>
                </a:lnTo>
                <a:lnTo>
                  <a:pt x="13" y="967"/>
                </a:lnTo>
                <a:lnTo>
                  <a:pt x="26" y="927"/>
                </a:lnTo>
                <a:lnTo>
                  <a:pt x="66" y="900"/>
                </a:lnTo>
                <a:lnTo>
                  <a:pt x="79" y="860"/>
                </a:lnTo>
                <a:lnTo>
                  <a:pt x="119" y="847"/>
                </a:lnTo>
                <a:lnTo>
                  <a:pt x="132" y="807"/>
                </a:lnTo>
                <a:lnTo>
                  <a:pt x="171" y="807"/>
                </a:lnTo>
                <a:lnTo>
                  <a:pt x="171" y="768"/>
                </a:lnTo>
                <a:lnTo>
                  <a:pt x="171" y="728"/>
                </a:lnTo>
                <a:lnTo>
                  <a:pt x="171" y="688"/>
                </a:lnTo>
                <a:lnTo>
                  <a:pt x="171" y="636"/>
                </a:lnTo>
                <a:lnTo>
                  <a:pt x="185" y="596"/>
                </a:lnTo>
                <a:lnTo>
                  <a:pt x="198" y="543"/>
                </a:lnTo>
                <a:lnTo>
                  <a:pt x="278" y="530"/>
                </a:lnTo>
                <a:lnTo>
                  <a:pt x="318" y="477"/>
                </a:lnTo>
                <a:lnTo>
                  <a:pt x="318" y="437"/>
                </a:lnTo>
                <a:lnTo>
                  <a:pt x="318" y="397"/>
                </a:lnTo>
                <a:lnTo>
                  <a:pt x="278" y="424"/>
                </a:lnTo>
                <a:lnTo>
                  <a:pt x="239" y="530"/>
                </a:lnTo>
                <a:lnTo>
                  <a:pt x="198" y="583"/>
                </a:lnTo>
                <a:lnTo>
                  <a:pt x="171" y="622"/>
                </a:lnTo>
                <a:lnTo>
                  <a:pt x="211" y="596"/>
                </a:lnTo>
                <a:lnTo>
                  <a:pt x="211" y="556"/>
                </a:lnTo>
                <a:lnTo>
                  <a:pt x="211" y="516"/>
                </a:lnTo>
                <a:lnTo>
                  <a:pt x="224" y="464"/>
                </a:lnTo>
                <a:lnTo>
                  <a:pt x="224" y="424"/>
                </a:lnTo>
                <a:lnTo>
                  <a:pt x="224" y="384"/>
                </a:lnTo>
                <a:lnTo>
                  <a:pt x="224" y="344"/>
                </a:lnTo>
                <a:lnTo>
                  <a:pt x="224" y="304"/>
                </a:lnTo>
                <a:lnTo>
                  <a:pt x="224" y="264"/>
                </a:lnTo>
                <a:lnTo>
                  <a:pt x="224" y="224"/>
                </a:lnTo>
                <a:lnTo>
                  <a:pt x="265" y="224"/>
                </a:lnTo>
                <a:lnTo>
                  <a:pt x="305" y="224"/>
                </a:lnTo>
                <a:lnTo>
                  <a:pt x="358" y="224"/>
                </a:lnTo>
                <a:lnTo>
                  <a:pt x="305" y="224"/>
                </a:lnTo>
                <a:lnTo>
                  <a:pt x="265" y="211"/>
                </a:lnTo>
                <a:lnTo>
                  <a:pt x="292" y="171"/>
                </a:lnTo>
                <a:lnTo>
                  <a:pt x="331" y="158"/>
                </a:lnTo>
                <a:lnTo>
                  <a:pt x="344" y="119"/>
                </a:lnTo>
                <a:lnTo>
                  <a:pt x="371" y="79"/>
                </a:lnTo>
                <a:lnTo>
                  <a:pt x="371" y="9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"/>
          <p:cNvSpPr/>
          <p:nvPr/>
        </p:nvSpPr>
        <p:spPr>
          <a:xfrm>
            <a:off x="3295800" y="4075200"/>
            <a:ext cx="90360" cy="5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6" name=""/>
          <p:cNvSpPr/>
          <p:nvPr/>
        </p:nvSpPr>
        <p:spPr>
          <a:xfrm>
            <a:off x="3400560" y="3646440"/>
            <a:ext cx="78120" cy="47880"/>
          </a:xfrm>
          <a:custGeom>
            <a:avLst/>
            <a:gdLst/>
            <a:ahLst/>
            <a:rect l="0" t="0" r="r" b="b"/>
            <a:pathLst>
              <a:path w="217" h="133">
                <a:moveTo>
                  <a:pt x="108" y="133"/>
                </a:moveTo>
                <a:lnTo>
                  <a:pt x="217" y="67"/>
                </a:lnTo>
                <a:lnTo>
                  <a:pt x="108" y="0"/>
                </a:lnTo>
                <a:lnTo>
                  <a:pt x="0" y="67"/>
                </a:lnTo>
                <a:lnTo>
                  <a:pt x="108" y="1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7" name=""/>
          <p:cNvSpPr/>
          <p:nvPr/>
        </p:nvSpPr>
        <p:spPr>
          <a:xfrm flipH="1">
            <a:off x="1676520" y="3533760"/>
            <a:ext cx="433440" cy="1352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8" name=""/>
          <p:cNvGrpSpPr/>
          <p:nvPr/>
        </p:nvGrpSpPr>
        <p:grpSpPr>
          <a:xfrm>
            <a:off x="6686640" y="5438880"/>
            <a:ext cx="133200" cy="133200"/>
            <a:chOff x="6686640" y="5438880"/>
            <a:chExt cx="133200" cy="133200"/>
          </a:xfrm>
        </p:grpSpPr>
        <p:sp>
          <p:nvSpPr>
            <p:cNvPr id="6189" name=""/>
            <p:cNvSpPr/>
            <p:nvPr/>
          </p:nvSpPr>
          <p:spPr>
            <a:xfrm>
              <a:off x="6753240" y="54388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6686640" y="5505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1" name=""/>
          <p:cNvSpPr txBox="1"/>
          <p:nvPr/>
        </p:nvSpPr>
        <p:spPr>
          <a:xfrm>
            <a:off x="6838920" y="5378400"/>
            <a:ext cx="27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2" name=""/>
          <p:cNvSpPr txBox="1"/>
          <p:nvPr/>
        </p:nvSpPr>
        <p:spPr>
          <a:xfrm>
            <a:off x="693720" y="135000"/>
            <a:ext cx="3276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hatch Outc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3" name=""/>
          <p:cNvGrpSpPr/>
          <p:nvPr/>
        </p:nvGrpSpPr>
        <p:grpSpPr>
          <a:xfrm>
            <a:off x="3790800" y="4994280"/>
            <a:ext cx="4689360" cy="1228680"/>
            <a:chOff x="3790800" y="4994280"/>
            <a:chExt cx="4689360" cy="1228680"/>
          </a:xfrm>
        </p:grpSpPr>
        <p:grpSp>
          <p:nvGrpSpPr>
            <p:cNvPr id="6194" name=""/>
            <p:cNvGrpSpPr/>
            <p:nvPr/>
          </p:nvGrpSpPr>
          <p:grpSpPr>
            <a:xfrm>
              <a:off x="8099280" y="4994280"/>
              <a:ext cx="380880" cy="1228680"/>
              <a:chOff x="8099280" y="4994280"/>
              <a:chExt cx="380880" cy="1228680"/>
            </a:xfrm>
          </p:grpSpPr>
          <p:sp>
            <p:nvSpPr>
              <p:cNvPr id="6195" name=""/>
              <p:cNvSpPr txBox="1"/>
              <p:nvPr/>
            </p:nvSpPr>
            <p:spPr>
              <a:xfrm>
                <a:off x="8118360" y="499428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"/>
              <p:cNvSpPr txBox="1"/>
              <p:nvPr/>
            </p:nvSpPr>
            <p:spPr>
              <a:xfrm>
                <a:off x="8109000" y="52992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7" name=""/>
              <p:cNvSpPr txBox="1"/>
              <p:nvPr/>
            </p:nvSpPr>
            <p:spPr>
              <a:xfrm>
                <a:off x="8099280" y="559440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8" name=""/>
              <p:cNvSpPr txBox="1"/>
              <p:nvPr/>
            </p:nvSpPr>
            <p:spPr>
              <a:xfrm>
                <a:off x="8109000" y="5918040"/>
                <a:ext cx="3618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9" name=""/>
            <p:cNvSpPr/>
            <p:nvPr/>
          </p:nvSpPr>
          <p:spPr>
            <a:xfrm>
              <a:off x="3790800" y="6054840"/>
              <a:ext cx="433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67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69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79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390680" y="1947960"/>
            <a:ext cx="3363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 Contour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87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89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92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96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99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08080" y="428760"/>
            <a:ext cx="412920" cy="2139840"/>
            <a:chOff x="208080" y="428760"/>
            <a:chExt cx="412920" cy="2139840"/>
          </a:xfrm>
        </p:grpSpPr>
        <p:sp>
          <p:nvSpPr>
            <p:cNvPr id="105" name=""/>
            <p:cNvSpPr/>
            <p:nvPr/>
          </p:nvSpPr>
          <p:spPr>
            <a:xfrm>
              <a:off x="422280" y="851040"/>
              <a:ext cx="0" cy="171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422280" y="431640"/>
              <a:ext cx="58680" cy="446400"/>
              <a:chOff x="422280" y="431640"/>
              <a:chExt cx="58680" cy="446400"/>
            </a:xfrm>
          </p:grpSpPr>
          <p:sp>
            <p:nvSpPr>
              <p:cNvPr id="107" name=""/>
              <p:cNvSpPr/>
              <p:nvPr/>
            </p:nvSpPr>
            <p:spPr>
              <a:xfrm>
                <a:off x="425520" y="431640"/>
                <a:ext cx="55440" cy="44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422280" y="853920"/>
                <a:ext cx="58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68280" y="2066760"/>
              <a:ext cx="54000" cy="501840"/>
              <a:chOff x="368280" y="2066760"/>
              <a:chExt cx="54000" cy="501840"/>
            </a:xfrm>
          </p:grpSpPr>
          <p:sp>
            <p:nvSpPr>
              <p:cNvPr id="110" name=""/>
              <p:cNvSpPr/>
              <p:nvPr/>
            </p:nvSpPr>
            <p:spPr>
              <a:xfrm flipH="1">
                <a:off x="368280" y="2066760"/>
                <a:ext cx="5400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68280" y="217800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368280" y="2476440"/>
                <a:ext cx="540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66840" y="428760"/>
              <a:ext cx="58680" cy="447480"/>
              <a:chOff x="366840" y="428760"/>
              <a:chExt cx="58680" cy="4474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366840" y="428760"/>
                <a:ext cx="554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66840" y="851040"/>
                <a:ext cx="5868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22280" y="2063880"/>
              <a:ext cx="55440" cy="501480"/>
              <a:chOff x="422280" y="2063880"/>
              <a:chExt cx="55440" cy="501480"/>
            </a:xfrm>
          </p:grpSpPr>
          <p:sp>
            <p:nvSpPr>
              <p:cNvPr id="117" name=""/>
              <p:cNvSpPr/>
              <p:nvPr/>
            </p:nvSpPr>
            <p:spPr>
              <a:xfrm>
                <a:off x="422280" y="2063880"/>
                <a:ext cx="554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7720" y="217656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flipV="1">
                <a:off x="422280" y="2473200"/>
                <a:ext cx="55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 txBox="1"/>
            <p:nvPr/>
          </p:nvSpPr>
          <p:spPr>
            <a:xfrm>
              <a:off x="208080" y="114948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09960" y="3689280"/>
            <a:ext cx="1435320" cy="1054440"/>
          </a:xfrm>
          <a:custGeom>
            <a:avLst/>
            <a:gdLst/>
            <a:ahLst/>
            <a:rect l="0" t="0" r="r" b="b"/>
            <a:pathLst>
              <a:path fill="none" w="3987" h="2929">
                <a:moveTo>
                  <a:pt x="0" y="2929"/>
                </a:moveTo>
                <a:lnTo>
                  <a:pt x="79" y="2399"/>
                </a:lnTo>
                <a:lnTo>
                  <a:pt x="242" y="2245"/>
                </a:lnTo>
                <a:lnTo>
                  <a:pt x="317" y="2082"/>
                </a:lnTo>
                <a:lnTo>
                  <a:pt x="449" y="1923"/>
                </a:lnTo>
                <a:lnTo>
                  <a:pt x="498" y="1795"/>
                </a:lnTo>
                <a:lnTo>
                  <a:pt x="582" y="1659"/>
                </a:lnTo>
                <a:lnTo>
                  <a:pt x="692" y="1535"/>
                </a:lnTo>
                <a:lnTo>
                  <a:pt x="793" y="1367"/>
                </a:lnTo>
                <a:lnTo>
                  <a:pt x="952" y="1102"/>
                </a:lnTo>
                <a:lnTo>
                  <a:pt x="1274" y="890"/>
                </a:lnTo>
                <a:lnTo>
                  <a:pt x="1662" y="824"/>
                </a:lnTo>
                <a:lnTo>
                  <a:pt x="1790" y="630"/>
                </a:lnTo>
                <a:lnTo>
                  <a:pt x="1790" y="436"/>
                </a:lnTo>
                <a:lnTo>
                  <a:pt x="1984" y="246"/>
                </a:lnTo>
                <a:lnTo>
                  <a:pt x="2113" y="52"/>
                </a:lnTo>
                <a:lnTo>
                  <a:pt x="2232" y="0"/>
                </a:lnTo>
                <a:lnTo>
                  <a:pt x="2435" y="246"/>
                </a:lnTo>
                <a:lnTo>
                  <a:pt x="2567" y="502"/>
                </a:lnTo>
                <a:lnTo>
                  <a:pt x="2695" y="696"/>
                </a:lnTo>
                <a:lnTo>
                  <a:pt x="2695" y="890"/>
                </a:lnTo>
                <a:lnTo>
                  <a:pt x="2889" y="1084"/>
                </a:lnTo>
                <a:lnTo>
                  <a:pt x="2955" y="1278"/>
                </a:lnTo>
                <a:lnTo>
                  <a:pt x="3211" y="1406"/>
                </a:lnTo>
                <a:lnTo>
                  <a:pt x="3277" y="1601"/>
                </a:lnTo>
                <a:lnTo>
                  <a:pt x="3661" y="1729"/>
                </a:lnTo>
                <a:lnTo>
                  <a:pt x="3855" y="1795"/>
                </a:lnTo>
                <a:lnTo>
                  <a:pt x="3921" y="1989"/>
                </a:lnTo>
                <a:lnTo>
                  <a:pt x="3921" y="2183"/>
                </a:lnTo>
                <a:lnTo>
                  <a:pt x="3921" y="2439"/>
                </a:lnTo>
                <a:lnTo>
                  <a:pt x="3921" y="2633"/>
                </a:lnTo>
                <a:lnTo>
                  <a:pt x="3987" y="2893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76640" y="2181240"/>
            <a:ext cx="3438720" cy="2438640"/>
          </a:xfrm>
          <a:custGeom>
            <a:avLst/>
            <a:gdLst/>
            <a:ahLst/>
            <a:rect l="0" t="0" r="r" b="b"/>
            <a:pathLst>
              <a:path fill="none" w="9552" h="6774">
                <a:moveTo>
                  <a:pt x="0" y="6668"/>
                </a:moveTo>
                <a:lnTo>
                  <a:pt x="277" y="6205"/>
                </a:lnTo>
                <a:lnTo>
                  <a:pt x="277" y="6011"/>
                </a:lnTo>
                <a:lnTo>
                  <a:pt x="277" y="5817"/>
                </a:lnTo>
                <a:lnTo>
                  <a:pt x="343" y="5561"/>
                </a:lnTo>
                <a:lnTo>
                  <a:pt x="537" y="5301"/>
                </a:lnTo>
                <a:lnTo>
                  <a:pt x="599" y="5107"/>
                </a:lnTo>
                <a:lnTo>
                  <a:pt x="1053" y="4851"/>
                </a:lnTo>
                <a:lnTo>
                  <a:pt x="1181" y="4657"/>
                </a:lnTo>
                <a:lnTo>
                  <a:pt x="1309" y="4463"/>
                </a:lnTo>
                <a:lnTo>
                  <a:pt x="1309" y="4203"/>
                </a:lnTo>
                <a:lnTo>
                  <a:pt x="1441" y="3881"/>
                </a:lnTo>
                <a:lnTo>
                  <a:pt x="1569" y="3687"/>
                </a:lnTo>
                <a:lnTo>
                  <a:pt x="1569" y="3493"/>
                </a:lnTo>
                <a:lnTo>
                  <a:pt x="1763" y="3431"/>
                </a:lnTo>
                <a:lnTo>
                  <a:pt x="1825" y="3236"/>
                </a:lnTo>
                <a:lnTo>
                  <a:pt x="1825" y="2976"/>
                </a:lnTo>
                <a:lnTo>
                  <a:pt x="1957" y="2782"/>
                </a:lnTo>
                <a:lnTo>
                  <a:pt x="2151" y="2720"/>
                </a:lnTo>
                <a:lnTo>
                  <a:pt x="2328" y="2592"/>
                </a:lnTo>
                <a:lnTo>
                  <a:pt x="2460" y="2487"/>
                </a:lnTo>
                <a:lnTo>
                  <a:pt x="2672" y="2407"/>
                </a:lnTo>
                <a:lnTo>
                  <a:pt x="2672" y="2407"/>
                </a:lnTo>
                <a:lnTo>
                  <a:pt x="2861" y="2204"/>
                </a:lnTo>
                <a:lnTo>
                  <a:pt x="2861" y="2010"/>
                </a:lnTo>
                <a:lnTo>
                  <a:pt x="2861" y="1816"/>
                </a:lnTo>
                <a:lnTo>
                  <a:pt x="2989" y="1772"/>
                </a:lnTo>
                <a:lnTo>
                  <a:pt x="3245" y="1622"/>
                </a:lnTo>
                <a:lnTo>
                  <a:pt x="3311" y="1428"/>
                </a:lnTo>
                <a:lnTo>
                  <a:pt x="3311" y="1234"/>
                </a:lnTo>
                <a:lnTo>
                  <a:pt x="3677" y="582"/>
                </a:lnTo>
                <a:lnTo>
                  <a:pt x="3915" y="79"/>
                </a:lnTo>
                <a:lnTo>
                  <a:pt x="4048" y="0"/>
                </a:lnTo>
                <a:lnTo>
                  <a:pt x="4392" y="423"/>
                </a:lnTo>
                <a:lnTo>
                  <a:pt x="4798" y="1234"/>
                </a:lnTo>
                <a:lnTo>
                  <a:pt x="4926" y="1428"/>
                </a:lnTo>
                <a:lnTo>
                  <a:pt x="5120" y="1622"/>
                </a:lnTo>
                <a:lnTo>
                  <a:pt x="5160" y="1719"/>
                </a:lnTo>
                <a:lnTo>
                  <a:pt x="5376" y="1882"/>
                </a:lnTo>
                <a:lnTo>
                  <a:pt x="5663" y="2169"/>
                </a:lnTo>
                <a:lnTo>
                  <a:pt x="5821" y="2407"/>
                </a:lnTo>
                <a:lnTo>
                  <a:pt x="6033" y="2619"/>
                </a:lnTo>
                <a:lnTo>
                  <a:pt x="6139" y="2804"/>
                </a:lnTo>
                <a:lnTo>
                  <a:pt x="6192" y="2936"/>
                </a:lnTo>
                <a:lnTo>
                  <a:pt x="6346" y="3042"/>
                </a:lnTo>
                <a:lnTo>
                  <a:pt x="6346" y="3236"/>
                </a:lnTo>
                <a:lnTo>
                  <a:pt x="6509" y="3360"/>
                </a:lnTo>
                <a:lnTo>
                  <a:pt x="6796" y="3493"/>
                </a:lnTo>
                <a:lnTo>
                  <a:pt x="6990" y="3625"/>
                </a:lnTo>
                <a:lnTo>
                  <a:pt x="7056" y="3819"/>
                </a:lnTo>
                <a:lnTo>
                  <a:pt x="7197" y="3969"/>
                </a:lnTo>
                <a:lnTo>
                  <a:pt x="7312" y="4141"/>
                </a:lnTo>
                <a:lnTo>
                  <a:pt x="7506" y="4269"/>
                </a:lnTo>
                <a:lnTo>
                  <a:pt x="7700" y="4397"/>
                </a:lnTo>
                <a:lnTo>
                  <a:pt x="7938" y="4737"/>
                </a:lnTo>
                <a:lnTo>
                  <a:pt x="8150" y="5160"/>
                </a:lnTo>
                <a:lnTo>
                  <a:pt x="8573" y="5372"/>
                </a:lnTo>
                <a:lnTo>
                  <a:pt x="8573" y="5372"/>
                </a:lnTo>
                <a:lnTo>
                  <a:pt x="8361" y="5266"/>
                </a:lnTo>
                <a:lnTo>
                  <a:pt x="8573" y="5372"/>
                </a:lnTo>
                <a:lnTo>
                  <a:pt x="8838" y="5610"/>
                </a:lnTo>
                <a:lnTo>
                  <a:pt x="8891" y="5821"/>
                </a:lnTo>
                <a:lnTo>
                  <a:pt x="9023" y="6033"/>
                </a:lnTo>
                <a:lnTo>
                  <a:pt x="9049" y="6086"/>
                </a:lnTo>
                <a:lnTo>
                  <a:pt x="9182" y="6298"/>
                </a:lnTo>
                <a:lnTo>
                  <a:pt x="9248" y="6465"/>
                </a:lnTo>
                <a:lnTo>
                  <a:pt x="9499" y="6668"/>
                </a:lnTo>
                <a:lnTo>
                  <a:pt x="9499" y="6668"/>
                </a:lnTo>
                <a:lnTo>
                  <a:pt x="9420" y="6615"/>
                </a:lnTo>
                <a:lnTo>
                  <a:pt x="9552" y="6774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62480" y="2771640"/>
            <a:ext cx="2457720" cy="1972080"/>
          </a:xfrm>
          <a:custGeom>
            <a:avLst/>
            <a:gdLst/>
            <a:ahLst/>
            <a:rect l="0" t="0" r="r" b="b"/>
            <a:pathLst>
              <a:path fill="none" w="6827" h="5478">
                <a:moveTo>
                  <a:pt x="0" y="5478"/>
                </a:moveTo>
                <a:lnTo>
                  <a:pt x="370" y="4643"/>
                </a:lnTo>
                <a:lnTo>
                  <a:pt x="370" y="4407"/>
                </a:lnTo>
                <a:lnTo>
                  <a:pt x="370" y="4227"/>
                </a:lnTo>
                <a:lnTo>
                  <a:pt x="435" y="3986"/>
                </a:lnTo>
                <a:lnTo>
                  <a:pt x="435" y="3807"/>
                </a:lnTo>
                <a:lnTo>
                  <a:pt x="945" y="3570"/>
                </a:lnTo>
                <a:lnTo>
                  <a:pt x="897" y="3371"/>
                </a:lnTo>
                <a:lnTo>
                  <a:pt x="1176" y="3175"/>
                </a:lnTo>
                <a:lnTo>
                  <a:pt x="1254" y="2935"/>
                </a:lnTo>
                <a:lnTo>
                  <a:pt x="1215" y="2894"/>
                </a:lnTo>
                <a:lnTo>
                  <a:pt x="1337" y="2739"/>
                </a:lnTo>
                <a:lnTo>
                  <a:pt x="1389" y="2494"/>
                </a:lnTo>
                <a:lnTo>
                  <a:pt x="1520" y="2140"/>
                </a:lnTo>
                <a:lnTo>
                  <a:pt x="1899" y="1781"/>
                </a:lnTo>
                <a:lnTo>
                  <a:pt x="2030" y="1602"/>
                </a:lnTo>
                <a:lnTo>
                  <a:pt x="2030" y="1423"/>
                </a:lnTo>
                <a:lnTo>
                  <a:pt x="2256" y="1206"/>
                </a:lnTo>
                <a:lnTo>
                  <a:pt x="2748" y="680"/>
                </a:lnTo>
                <a:lnTo>
                  <a:pt x="3136" y="8"/>
                </a:lnTo>
                <a:lnTo>
                  <a:pt x="3358" y="0"/>
                </a:lnTo>
                <a:lnTo>
                  <a:pt x="3599" y="317"/>
                </a:lnTo>
                <a:lnTo>
                  <a:pt x="3917" y="912"/>
                </a:lnTo>
                <a:lnTo>
                  <a:pt x="4161" y="1083"/>
                </a:lnTo>
                <a:lnTo>
                  <a:pt x="4339" y="1386"/>
                </a:lnTo>
                <a:lnTo>
                  <a:pt x="4453" y="1663"/>
                </a:lnTo>
                <a:lnTo>
                  <a:pt x="4453" y="1842"/>
                </a:lnTo>
                <a:lnTo>
                  <a:pt x="4705" y="2079"/>
                </a:lnTo>
                <a:lnTo>
                  <a:pt x="4705" y="2258"/>
                </a:lnTo>
                <a:lnTo>
                  <a:pt x="4836" y="2437"/>
                </a:lnTo>
                <a:lnTo>
                  <a:pt x="5089" y="2617"/>
                </a:lnTo>
                <a:lnTo>
                  <a:pt x="5215" y="2796"/>
                </a:lnTo>
                <a:lnTo>
                  <a:pt x="5280" y="2975"/>
                </a:lnTo>
                <a:lnTo>
                  <a:pt x="5472" y="3032"/>
                </a:lnTo>
                <a:lnTo>
                  <a:pt x="5725" y="3212"/>
                </a:lnTo>
                <a:lnTo>
                  <a:pt x="5855" y="3452"/>
                </a:lnTo>
                <a:lnTo>
                  <a:pt x="5982" y="3631"/>
                </a:lnTo>
                <a:lnTo>
                  <a:pt x="6173" y="3868"/>
                </a:lnTo>
                <a:lnTo>
                  <a:pt x="6365" y="4047"/>
                </a:lnTo>
                <a:lnTo>
                  <a:pt x="6618" y="4227"/>
                </a:lnTo>
                <a:lnTo>
                  <a:pt x="6748" y="4407"/>
                </a:lnTo>
                <a:lnTo>
                  <a:pt x="6748" y="4822"/>
                </a:lnTo>
                <a:lnTo>
                  <a:pt x="6822" y="5213"/>
                </a:lnTo>
                <a:lnTo>
                  <a:pt x="6822" y="5213"/>
                </a:lnTo>
                <a:lnTo>
                  <a:pt x="6809" y="5189"/>
                </a:lnTo>
                <a:lnTo>
                  <a:pt x="6818" y="5197"/>
                </a:lnTo>
                <a:lnTo>
                  <a:pt x="6827" y="5189"/>
                </a:lnTo>
                <a:lnTo>
                  <a:pt x="6809" y="5205"/>
                </a:lnTo>
                <a:lnTo>
                  <a:pt x="6809" y="5197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Max Raisor</dc:creator>
  <dc:description/>
  <dc:language>en-US</dc:language>
  <cp:lastModifiedBy>E. Max Raisor</cp:lastModifiedBy>
  <cp:revision>0</cp:revision>
  <dc:subject/>
  <dc:title>Ore Vein Outcropping</dc:title>
</cp:coreProperties>
</file>