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184880" y="6593040"/>
            <a:ext cx="157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156280" y="4429080"/>
            <a:ext cx="367668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 is establish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 cutting plane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of the roadway. 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ing section (right side)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drawn to a scale tha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quately represent the con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vations in the sectio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156280" y="4683240"/>
            <a:ext cx="380988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 extents of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G to create a right side (se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, and select an appropriate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present the contour ele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section view (arrows in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of sigh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81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85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3840" y="1312920"/>
            <a:ext cx="336600" cy="12938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156280" y="4683240"/>
            <a:ext cx="380988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 extents of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G to create a right side (se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, and select an appropriate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present the contour ele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section view (arrows in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of sigh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37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41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3840" y="1335240"/>
            <a:ext cx="336600" cy="1271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33880" y="4697280"/>
            <a:ext cx="36957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contour (profile) lin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ight side (section) view. 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vations should correspon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evations of the contour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or horizonta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9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9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10200" y="4881600"/>
            <a:ext cx="3276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ection of the high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s at 330 feet and progr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70 fe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5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6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110200" y="4881600"/>
            <a:ext cx="3276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ection of the high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s at 330 feet and progr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70 fe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521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525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03840" y="1324080"/>
            <a:ext cx="336600" cy="128268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73360" y="5065560"/>
            <a:ext cx="3352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loc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sections to be taken. 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label the cutting pl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58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59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03840" y="1335240"/>
            <a:ext cx="336600" cy="1271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654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65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66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730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73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73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74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741920" y="3141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31720" y="2000160"/>
            <a:ext cx="8080200" cy="2013120"/>
          </a:xfrm>
          <a:prstGeom prst="rect">
            <a:avLst/>
          </a:prstGeom>
          <a:noFill/>
          <a:ln w="203040">
            <a:solidFill>
              <a:srgbClr val="063de8"/>
            </a:solidFill>
            <a:round/>
          </a:ln>
        </p:spPr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71400" y="244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S AND FI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812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816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820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824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03840" y="1424160"/>
            <a:ext cx="336600" cy="1182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896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900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904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908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175360" y="4878360"/>
            <a:ext cx="3327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 the Roadway to 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ew where the indicat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s can be constru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406600" y="6516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435400" y="4087800"/>
            <a:ext cx="200520" cy="216360"/>
          </a:xfrm>
          <a:custGeom>
            <a:avLst/>
            <a:gdLst/>
            <a:ahLst/>
            <a:rect l="0" t="0" r="r" b="b"/>
            <a:pathLst>
              <a:path w="557" h="601">
                <a:moveTo>
                  <a:pt x="557" y="200"/>
                </a:moveTo>
                <a:lnTo>
                  <a:pt x="557" y="400"/>
                </a:lnTo>
                <a:lnTo>
                  <a:pt x="167" y="400"/>
                </a:lnTo>
                <a:lnTo>
                  <a:pt x="167" y="601"/>
                </a:lnTo>
                <a:lnTo>
                  <a:pt x="0" y="300"/>
                </a:lnTo>
                <a:lnTo>
                  <a:pt x="167" y="0"/>
                </a:lnTo>
                <a:lnTo>
                  <a:pt x="167" y="200"/>
                </a:lnTo>
                <a:lnTo>
                  <a:pt x="557" y="2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981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985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989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993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5578560" y="5005440"/>
            <a:ext cx="30798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horizontal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to represent th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the map contour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A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1069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073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077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081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692680" y="4943520"/>
            <a:ext cx="3041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 angle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l angle are both 45 degr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is cas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80068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581652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1160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16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16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17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5678640" y="5113440"/>
            <a:ext cx="2952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the roadb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0 feet (the elevation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), and add the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gree cut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580068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581652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1251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255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259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263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3025800" y="4344840"/>
            <a:ext cx="460440" cy="46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5464080" y="5079960"/>
            <a:ext cx="3213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ertain the elev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file at Section A-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onstruct the surface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from the data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nd vertical section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1345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34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35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35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025800" y="4344840"/>
            <a:ext cx="460440" cy="46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3497400" y="463680"/>
            <a:ext cx="0" cy="3763800"/>
          </a:xfrm>
          <a:prstGeom prst="line">
            <a:avLst/>
          </a:prstGeom>
          <a:ln w="12600">
            <a:solidFill>
              <a:srgbClr val="c0fe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2128680" y="479520"/>
            <a:ext cx="0" cy="3747960"/>
          </a:xfrm>
          <a:prstGeom prst="line">
            <a:avLst/>
          </a:prstGeom>
          <a:ln w="12600">
            <a:solidFill>
              <a:srgbClr val="c0fe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3443400" y="331920"/>
            <a:ext cx="109440" cy="110880"/>
            <a:chOff x="3443400" y="331920"/>
            <a:chExt cx="109440" cy="110880"/>
          </a:xfrm>
        </p:grpSpPr>
        <p:sp>
          <p:nvSpPr>
            <p:cNvPr id="1402" name=""/>
            <p:cNvSpPr/>
            <p:nvPr/>
          </p:nvSpPr>
          <p:spPr>
            <a:xfrm>
              <a:off x="3497400" y="331920"/>
              <a:ext cx="0" cy="11088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43400" y="387360"/>
              <a:ext cx="109440" cy="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2073240" y="330120"/>
            <a:ext cx="109440" cy="111240"/>
            <a:chOff x="2073240" y="330120"/>
            <a:chExt cx="109440" cy="111240"/>
          </a:xfrm>
        </p:grpSpPr>
        <p:sp>
          <p:nvSpPr>
            <p:cNvPr id="1405" name=""/>
            <p:cNvSpPr/>
            <p:nvPr/>
          </p:nvSpPr>
          <p:spPr>
            <a:xfrm>
              <a:off x="2127240" y="330120"/>
              <a:ext cx="0" cy="11124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73240" y="385920"/>
              <a:ext cx="109440" cy="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"/>
          <p:cNvSpPr txBox="1"/>
          <p:nvPr/>
        </p:nvSpPr>
        <p:spPr>
          <a:xfrm>
            <a:off x="5464080" y="5079960"/>
            <a:ext cx="3213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ertain the elev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file at Section A-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onstruct the surface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from the data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nd vertical section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1447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451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455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459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025800" y="4344840"/>
            <a:ext cx="460440" cy="46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3497400" y="463680"/>
            <a:ext cx="0" cy="3763800"/>
          </a:xfrm>
          <a:prstGeom prst="line">
            <a:avLst/>
          </a:prstGeom>
          <a:ln w="12600">
            <a:solidFill>
              <a:srgbClr val="c0fe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28680" y="479520"/>
            <a:ext cx="0" cy="3747960"/>
          </a:xfrm>
          <a:prstGeom prst="line">
            <a:avLst/>
          </a:prstGeom>
          <a:ln w="12600">
            <a:solidFill>
              <a:srgbClr val="c0fe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3443400" y="331920"/>
            <a:ext cx="109440" cy="110880"/>
            <a:chOff x="3443400" y="331920"/>
            <a:chExt cx="109440" cy="110880"/>
          </a:xfrm>
        </p:grpSpPr>
        <p:sp>
          <p:nvSpPr>
            <p:cNvPr id="1502" name=""/>
            <p:cNvSpPr/>
            <p:nvPr/>
          </p:nvSpPr>
          <p:spPr>
            <a:xfrm>
              <a:off x="3497400" y="331920"/>
              <a:ext cx="0" cy="11088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443400" y="387360"/>
              <a:ext cx="109440" cy="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2073240" y="330120"/>
            <a:ext cx="109440" cy="111240"/>
            <a:chOff x="2073240" y="330120"/>
            <a:chExt cx="109440" cy="111240"/>
          </a:xfrm>
        </p:grpSpPr>
        <p:sp>
          <p:nvSpPr>
            <p:cNvPr id="1505" name=""/>
            <p:cNvSpPr/>
            <p:nvPr/>
          </p:nvSpPr>
          <p:spPr>
            <a:xfrm>
              <a:off x="2127240" y="330120"/>
              <a:ext cx="0" cy="11124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073240" y="385920"/>
              <a:ext cx="109440" cy="0"/>
            </a:xfrm>
            <a:prstGeom prst="line">
              <a:avLst/>
            </a:prstGeom>
            <a:ln w="12600">
              <a:solidFill>
                <a:srgbClr val="c0fe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6539040" y="4681440"/>
            <a:ext cx="22478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5464080" y="5079960"/>
            <a:ext cx="3213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ertain the eleva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file at Section A-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onstruct the surface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from the data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nd vertical section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122880" y="1327320"/>
            <a:ext cx="2289240" cy="0"/>
            <a:chOff x="6122880" y="1327320"/>
            <a:chExt cx="2289240" cy="0"/>
          </a:xfrm>
        </p:grpSpPr>
        <p:sp>
          <p:nvSpPr>
            <p:cNvPr id="1552" name=""/>
            <p:cNvSpPr/>
            <p:nvPr/>
          </p:nvSpPr>
          <p:spPr>
            <a:xfrm>
              <a:off x="6122880" y="1327320"/>
              <a:ext cx="33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523200" y="132732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53240" y="132732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556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560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564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3025800" y="4386240"/>
            <a:ext cx="419040" cy="41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5492880" y="5127480"/>
            <a:ext cx="3346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the horizontal pro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our for Section B-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1648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652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65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66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803840" y="1413000"/>
            <a:ext cx="336600" cy="11937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1720" y="2000160"/>
            <a:ext cx="8080200" cy="2013120"/>
          </a:xfrm>
          <a:prstGeom prst="rect">
            <a:avLst/>
          </a:prstGeom>
          <a:noFill/>
          <a:ln w="203040">
            <a:solidFill>
              <a:srgbClr val="063de8"/>
            </a:solidFill>
            <a:round/>
          </a:ln>
        </p:spPr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71400" y="244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S AND FI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03560" y="4616280"/>
            <a:ext cx="2825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 1996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Right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4437000"/>
            <a:ext cx="3322800" cy="1328760"/>
          </a:xfrm>
          <a:prstGeom prst="rect">
            <a:avLst/>
          </a:prstGeom>
          <a:noFill/>
          <a:ln w="50760">
            <a:solidFill>
              <a:srgbClr val="063de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1746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750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754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758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3159000" y="5518080"/>
            <a:ext cx="5759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 is cut where the elevation of the highway is 360 feet. Add the road-bed level to determine any cut or fill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184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84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85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85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159000" y="5518080"/>
            <a:ext cx="5759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 is cut where the elevation of the highway is 360 feet. Add the road-bed level to determine any cut or fill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194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194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195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195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5446800" y="5619600"/>
            <a:ext cx="3257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cont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plan view to comp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046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050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054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058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5446800" y="5619600"/>
            <a:ext cx="3257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cont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plan view to comp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148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152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15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16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3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6308640" y="5495760"/>
            <a:ext cx="2635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profile lines that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d with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7275600" y="401760"/>
            <a:ext cx="600120" cy="3547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250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25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25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26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5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2467080" y="47941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H="1" flipV="1">
            <a:off x="2111400" y="4429080"/>
            <a:ext cx="369720" cy="37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533520" y="5425920"/>
            <a:ext cx="5740200" cy="881280"/>
            <a:chOff x="533520" y="5425920"/>
            <a:chExt cx="5740200" cy="881280"/>
          </a:xfrm>
        </p:grpSpPr>
        <p:sp>
          <p:nvSpPr>
            <p:cNvPr id="2313" name=""/>
            <p:cNvSpPr/>
            <p:nvPr/>
          </p:nvSpPr>
          <p:spPr>
            <a:xfrm>
              <a:off x="533520" y="556884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33520" y="572148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33520" y="587376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33520" y="602280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 txBox="1"/>
            <p:nvPr/>
          </p:nvSpPr>
          <p:spPr>
            <a:xfrm>
              <a:off x="5808600" y="542592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 txBox="1"/>
            <p:nvPr/>
          </p:nvSpPr>
          <p:spPr>
            <a:xfrm>
              <a:off x="5823000" y="572616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41440" y="616428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 txBox="1"/>
            <p:nvPr/>
          </p:nvSpPr>
          <p:spPr>
            <a:xfrm>
              <a:off x="5808600" y="600228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1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6308640" y="5495760"/>
            <a:ext cx="2635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profile lines that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d with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275600" y="401760"/>
            <a:ext cx="600120" cy="3547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362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366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370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374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7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467080" y="47941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H="1" flipV="1">
            <a:off x="2111400" y="4429080"/>
            <a:ext cx="369720" cy="37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803840" y="1390680"/>
            <a:ext cx="336600" cy="121608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6384960" y="4621320"/>
            <a:ext cx="242568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 is taken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ighway elev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 feet.  At that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l will be requir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road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ll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5" name=""/>
          <p:cNvGrpSpPr/>
          <p:nvPr/>
        </p:nvGrpSpPr>
        <p:grpSpPr>
          <a:xfrm>
            <a:off x="533520" y="5425920"/>
            <a:ext cx="5740200" cy="881280"/>
            <a:chOff x="533520" y="5425920"/>
            <a:chExt cx="5740200" cy="881280"/>
          </a:xfrm>
        </p:grpSpPr>
        <p:sp>
          <p:nvSpPr>
            <p:cNvPr id="2426" name=""/>
            <p:cNvSpPr/>
            <p:nvPr/>
          </p:nvSpPr>
          <p:spPr>
            <a:xfrm>
              <a:off x="533520" y="556884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33520" y="572148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33520" y="587376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33520" y="602280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 txBox="1"/>
            <p:nvPr/>
          </p:nvSpPr>
          <p:spPr>
            <a:xfrm>
              <a:off x="5808600" y="542592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 txBox="1"/>
            <p:nvPr/>
          </p:nvSpPr>
          <p:spPr>
            <a:xfrm>
              <a:off x="5823000" y="572616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41440" y="6164280"/>
              <a:ext cx="525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 txBox="1"/>
            <p:nvPr/>
          </p:nvSpPr>
          <p:spPr>
            <a:xfrm>
              <a:off x="5808600" y="600228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4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474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478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482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486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 txBox="1"/>
          <p:nvPr/>
        </p:nvSpPr>
        <p:spPr>
          <a:xfrm>
            <a:off x="3297240" y="47880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6404040" y="4635360"/>
            <a:ext cx="2577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section C-C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ing the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from the 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035160" y="5567400"/>
            <a:ext cx="608040" cy="6080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flipH="1">
            <a:off x="1836720" y="5575320"/>
            <a:ext cx="635040" cy="6350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588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592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59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60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3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 txBox="1"/>
          <p:nvPr/>
        </p:nvSpPr>
        <p:spPr>
          <a:xfrm>
            <a:off x="329724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2661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"/>
          <p:cNvSpPr txBox="1"/>
          <p:nvPr/>
        </p:nvSpPr>
        <p:spPr>
          <a:xfrm>
            <a:off x="6404040" y="4635360"/>
            <a:ext cx="2577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section C-C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ing the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from the 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3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704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708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712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716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9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4803840" y="1357200"/>
            <a:ext cx="336600" cy="12492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329724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 txBox="1"/>
          <p:nvPr/>
        </p:nvSpPr>
        <p:spPr>
          <a:xfrm>
            <a:off x="6446880" y="4697280"/>
            <a:ext cx="2482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horizontal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to show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ction D-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2778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a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 Highway on a G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9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820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82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82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83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5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329724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2896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9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 txBox="1"/>
          <p:nvPr/>
        </p:nvSpPr>
        <p:spPr>
          <a:xfrm>
            <a:off x="6446880" y="4697280"/>
            <a:ext cx="2482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horizontal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to show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ction D-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9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2940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294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294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295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5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4803840" y="1357200"/>
            <a:ext cx="336600" cy="12492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 txBox="1"/>
          <p:nvPr/>
        </p:nvSpPr>
        <p:spPr>
          <a:xfrm>
            <a:off x="329724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 txBox="1"/>
          <p:nvPr/>
        </p:nvSpPr>
        <p:spPr>
          <a:xfrm>
            <a:off x="6415200" y="4621320"/>
            <a:ext cx="25401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high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vation from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s.  The road,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 has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vation of 330 fe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6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017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9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060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06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06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07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5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2471760" y="6434280"/>
            <a:ext cx="5572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 txBox="1"/>
          <p:nvPr/>
        </p:nvSpPr>
        <p:spPr>
          <a:xfrm>
            <a:off x="329724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 txBox="1"/>
          <p:nvPr/>
        </p:nvSpPr>
        <p:spPr>
          <a:xfrm>
            <a:off x="6507000" y="4727520"/>
            <a:ext cx="23875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the s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by sketching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roximate 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nd at 330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029040" y="6434280"/>
            <a:ext cx="180720" cy="180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2228760" y="6419880"/>
            <a:ext cx="243000" cy="243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141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183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187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191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195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8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29724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6507000" y="4727520"/>
            <a:ext cx="23875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the s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by sketching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roximate 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nd at 330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261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3265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7275600" y="41904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308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312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31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32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2467080" y="479736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 flipH="1" flipV="1">
            <a:off x="2111400" y="4433760"/>
            <a:ext cx="369720" cy="37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4803840" y="1357200"/>
            <a:ext cx="336600" cy="12492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 txBox="1"/>
          <p:nvPr/>
        </p:nvSpPr>
        <p:spPr>
          <a:xfrm>
            <a:off x="6291360" y="4835520"/>
            <a:ext cx="26542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elevat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 views, constru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ve contou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s and fill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1343160" y="6075360"/>
            <a:ext cx="2719800" cy="78120"/>
          </a:xfrm>
          <a:custGeom>
            <a:avLst/>
            <a:gdLst/>
            <a:ahLst/>
            <a:rect l="0" t="0" r="r" b="b"/>
            <a:pathLst>
              <a:path fill="none" w="7555" h="217">
                <a:moveTo>
                  <a:pt x="7555" y="124"/>
                </a:moveTo>
                <a:lnTo>
                  <a:pt x="7463" y="124"/>
                </a:lnTo>
                <a:lnTo>
                  <a:pt x="7370" y="124"/>
                </a:lnTo>
                <a:lnTo>
                  <a:pt x="7247" y="155"/>
                </a:lnTo>
                <a:lnTo>
                  <a:pt x="7154" y="155"/>
                </a:lnTo>
                <a:lnTo>
                  <a:pt x="7061" y="155"/>
                </a:lnTo>
                <a:lnTo>
                  <a:pt x="6912" y="186"/>
                </a:lnTo>
                <a:lnTo>
                  <a:pt x="6819" y="217"/>
                </a:lnTo>
                <a:lnTo>
                  <a:pt x="6726" y="217"/>
                </a:lnTo>
                <a:lnTo>
                  <a:pt x="6572" y="217"/>
                </a:lnTo>
                <a:lnTo>
                  <a:pt x="6449" y="217"/>
                </a:lnTo>
                <a:lnTo>
                  <a:pt x="6356" y="217"/>
                </a:lnTo>
                <a:lnTo>
                  <a:pt x="6202" y="186"/>
                </a:lnTo>
                <a:lnTo>
                  <a:pt x="5831" y="186"/>
                </a:lnTo>
                <a:lnTo>
                  <a:pt x="5739" y="186"/>
                </a:lnTo>
                <a:lnTo>
                  <a:pt x="5526" y="186"/>
                </a:lnTo>
                <a:lnTo>
                  <a:pt x="5433" y="186"/>
                </a:lnTo>
                <a:lnTo>
                  <a:pt x="5341" y="186"/>
                </a:lnTo>
                <a:lnTo>
                  <a:pt x="5248" y="186"/>
                </a:lnTo>
                <a:lnTo>
                  <a:pt x="5155" y="155"/>
                </a:lnTo>
                <a:lnTo>
                  <a:pt x="5001" y="155"/>
                </a:lnTo>
                <a:lnTo>
                  <a:pt x="4785" y="155"/>
                </a:lnTo>
                <a:lnTo>
                  <a:pt x="4631" y="155"/>
                </a:lnTo>
                <a:lnTo>
                  <a:pt x="4415" y="155"/>
                </a:lnTo>
                <a:lnTo>
                  <a:pt x="4234" y="124"/>
                </a:lnTo>
                <a:lnTo>
                  <a:pt x="4141" y="124"/>
                </a:lnTo>
                <a:lnTo>
                  <a:pt x="3987" y="124"/>
                </a:lnTo>
                <a:lnTo>
                  <a:pt x="3863" y="92"/>
                </a:lnTo>
                <a:lnTo>
                  <a:pt x="3771" y="92"/>
                </a:lnTo>
                <a:lnTo>
                  <a:pt x="3647" y="92"/>
                </a:lnTo>
                <a:lnTo>
                  <a:pt x="3555" y="92"/>
                </a:lnTo>
                <a:lnTo>
                  <a:pt x="3431" y="92"/>
                </a:lnTo>
                <a:lnTo>
                  <a:pt x="3339" y="92"/>
                </a:lnTo>
                <a:lnTo>
                  <a:pt x="3123" y="92"/>
                </a:lnTo>
                <a:lnTo>
                  <a:pt x="3030" y="92"/>
                </a:lnTo>
                <a:lnTo>
                  <a:pt x="2911" y="92"/>
                </a:lnTo>
                <a:lnTo>
                  <a:pt x="2787" y="92"/>
                </a:lnTo>
                <a:lnTo>
                  <a:pt x="2695" y="92"/>
                </a:lnTo>
                <a:lnTo>
                  <a:pt x="2448" y="61"/>
                </a:lnTo>
                <a:lnTo>
                  <a:pt x="2294" y="61"/>
                </a:lnTo>
                <a:lnTo>
                  <a:pt x="2170" y="30"/>
                </a:lnTo>
                <a:lnTo>
                  <a:pt x="2077" y="30"/>
                </a:lnTo>
                <a:lnTo>
                  <a:pt x="1892" y="30"/>
                </a:lnTo>
                <a:lnTo>
                  <a:pt x="1803" y="70"/>
                </a:lnTo>
                <a:lnTo>
                  <a:pt x="1591" y="39"/>
                </a:lnTo>
                <a:lnTo>
                  <a:pt x="1441" y="30"/>
                </a:lnTo>
                <a:lnTo>
                  <a:pt x="1340" y="0"/>
                </a:lnTo>
                <a:lnTo>
                  <a:pt x="1230" y="39"/>
                </a:lnTo>
                <a:lnTo>
                  <a:pt x="1049" y="39"/>
                </a:lnTo>
                <a:lnTo>
                  <a:pt x="793" y="0"/>
                </a:lnTo>
                <a:lnTo>
                  <a:pt x="599" y="0"/>
                </a:lnTo>
                <a:lnTo>
                  <a:pt x="476" y="17"/>
                </a:lnTo>
                <a:lnTo>
                  <a:pt x="304" y="13"/>
                </a:lnTo>
                <a:lnTo>
                  <a:pt x="0" y="1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035160" y="5567400"/>
            <a:ext cx="574920" cy="5745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1947960" y="5575320"/>
            <a:ext cx="523800" cy="523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9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3400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4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44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44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45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45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1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522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5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3526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0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 txBox="1"/>
          <p:nvPr/>
        </p:nvSpPr>
        <p:spPr>
          <a:xfrm>
            <a:off x="6291360" y="4835520"/>
            <a:ext cx="26542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elevat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 views, constru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ve contou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s and fill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0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571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575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8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579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2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583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6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5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646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3650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4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 txBox="1"/>
          <p:nvPr/>
        </p:nvSpPr>
        <p:spPr>
          <a:xfrm>
            <a:off x="6291360" y="4835520"/>
            <a:ext cx="26542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elevat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 views, constru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ve contou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s and fill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698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702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70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71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4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775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3779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3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 txBox="1"/>
          <p:nvPr/>
        </p:nvSpPr>
        <p:spPr>
          <a:xfrm>
            <a:off x="6291360" y="4835520"/>
            <a:ext cx="26542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elevat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 views, constru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ve contou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s and fill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5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826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9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830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834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838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1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2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3903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6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3907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1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 txBox="1"/>
          <p:nvPr/>
        </p:nvSpPr>
        <p:spPr>
          <a:xfrm>
            <a:off x="6291360" y="4835520"/>
            <a:ext cx="26542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elevat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 views, construc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ve contou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s and fill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395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395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396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396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 txBox="1"/>
          <p:nvPr/>
        </p:nvSpPr>
        <p:spPr>
          <a:xfrm>
            <a:off x="6400800" y="4989600"/>
            <a:ext cx="2577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data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vertical section G-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ight side) view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033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6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037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1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uts and F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41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ways cannot always be level.  The following problem is an example of a road that requires cuts and fills to complete its construction on a grade.  The following steps explain how the completed contour map view can be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3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084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088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1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092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096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9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4803840" y="1335240"/>
            <a:ext cx="336600" cy="1271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161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165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9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 txBox="1"/>
          <p:nvPr/>
        </p:nvSpPr>
        <p:spPr>
          <a:xfrm>
            <a:off x="6400800" y="4989600"/>
            <a:ext cx="2577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data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vertical section G-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ight side) view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3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214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7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218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222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5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226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9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 txBox="1"/>
          <p:nvPr/>
        </p:nvSpPr>
        <p:spPr>
          <a:xfrm>
            <a:off x="7089840" y="18252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 txBox="1"/>
          <p:nvPr/>
        </p:nvSpPr>
        <p:spPr>
          <a:xfrm>
            <a:off x="7688160" y="3929040"/>
            <a:ext cx="3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291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4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295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9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 txBox="1"/>
          <p:nvPr/>
        </p:nvSpPr>
        <p:spPr>
          <a:xfrm>
            <a:off x="6400800" y="4989600"/>
            <a:ext cx="2577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data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vertical section G-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ight side) view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34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34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35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35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9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420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424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 txBox="1"/>
          <p:nvPr/>
        </p:nvSpPr>
        <p:spPr>
          <a:xfrm>
            <a:off x="6400800" y="4989600"/>
            <a:ext cx="2577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data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vertical section G-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ight side) view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47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47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48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48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550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3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554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8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6384960" y="4897440"/>
            <a:ext cx="2540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all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ifferent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uts and fills.  Al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graphics 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the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patt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60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60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61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61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 txBox="1"/>
          <p:nvPr/>
        </p:nvSpPr>
        <p:spPr>
          <a:xfrm>
            <a:off x="6384960" y="4897440"/>
            <a:ext cx="2540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all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ifferent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uts and fills.  Al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graphics 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the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patt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1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682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686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0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73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73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74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74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 txBox="1"/>
          <p:nvPr/>
        </p:nvSpPr>
        <p:spPr>
          <a:xfrm>
            <a:off x="6384960" y="4897440"/>
            <a:ext cx="2540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all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ifferent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uts and fills.  Al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graphics 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the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patt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1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812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5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816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0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4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4865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8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4869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2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4873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6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4877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0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4803840" y="1390680"/>
            <a:ext cx="336600" cy="121608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 txBox="1"/>
          <p:nvPr/>
        </p:nvSpPr>
        <p:spPr>
          <a:xfrm>
            <a:off x="6384960" y="4897440"/>
            <a:ext cx="2540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all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ifferent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uts and fills.  Al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graphics 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the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patt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1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4942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4946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0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2116080" y="4375080"/>
            <a:ext cx="1319400" cy="411480"/>
          </a:xfrm>
          <a:custGeom>
            <a:avLst/>
            <a:gdLst/>
            <a:ahLst/>
            <a:rect l="0" t="0" r="r" b="b"/>
            <a:pathLst>
              <a:path w="3665" h="1143">
                <a:moveTo>
                  <a:pt x="3665" y="44"/>
                </a:moveTo>
                <a:lnTo>
                  <a:pt x="2567" y="1143"/>
                </a:lnTo>
                <a:lnTo>
                  <a:pt x="1001" y="1143"/>
                </a:lnTo>
                <a:lnTo>
                  <a:pt x="22" y="163"/>
                </a:lnTo>
                <a:lnTo>
                  <a:pt x="0" y="163"/>
                </a:lnTo>
                <a:lnTo>
                  <a:pt x="39" y="163"/>
                </a:lnTo>
                <a:lnTo>
                  <a:pt x="61" y="171"/>
                </a:lnTo>
                <a:lnTo>
                  <a:pt x="92" y="171"/>
                </a:lnTo>
                <a:lnTo>
                  <a:pt x="127" y="171"/>
                </a:lnTo>
                <a:lnTo>
                  <a:pt x="154" y="171"/>
                </a:lnTo>
                <a:lnTo>
                  <a:pt x="180" y="163"/>
                </a:lnTo>
                <a:lnTo>
                  <a:pt x="207" y="158"/>
                </a:lnTo>
                <a:lnTo>
                  <a:pt x="233" y="158"/>
                </a:lnTo>
                <a:lnTo>
                  <a:pt x="273" y="158"/>
                </a:lnTo>
                <a:lnTo>
                  <a:pt x="299" y="149"/>
                </a:lnTo>
                <a:lnTo>
                  <a:pt x="326" y="149"/>
                </a:lnTo>
                <a:lnTo>
                  <a:pt x="366" y="149"/>
                </a:lnTo>
                <a:lnTo>
                  <a:pt x="392" y="149"/>
                </a:lnTo>
                <a:lnTo>
                  <a:pt x="418" y="149"/>
                </a:lnTo>
                <a:lnTo>
                  <a:pt x="445" y="149"/>
                </a:lnTo>
                <a:lnTo>
                  <a:pt x="485" y="158"/>
                </a:lnTo>
                <a:lnTo>
                  <a:pt x="511" y="149"/>
                </a:lnTo>
                <a:lnTo>
                  <a:pt x="537" y="149"/>
                </a:lnTo>
                <a:lnTo>
                  <a:pt x="564" y="136"/>
                </a:lnTo>
                <a:lnTo>
                  <a:pt x="590" y="119"/>
                </a:lnTo>
                <a:lnTo>
                  <a:pt x="621" y="110"/>
                </a:lnTo>
                <a:lnTo>
                  <a:pt x="648" y="105"/>
                </a:lnTo>
                <a:lnTo>
                  <a:pt x="674" y="97"/>
                </a:lnTo>
                <a:lnTo>
                  <a:pt x="696" y="92"/>
                </a:lnTo>
                <a:lnTo>
                  <a:pt x="736" y="92"/>
                </a:lnTo>
                <a:lnTo>
                  <a:pt x="762" y="92"/>
                </a:lnTo>
                <a:lnTo>
                  <a:pt x="802" y="92"/>
                </a:lnTo>
                <a:lnTo>
                  <a:pt x="846" y="97"/>
                </a:lnTo>
                <a:lnTo>
                  <a:pt x="873" y="97"/>
                </a:lnTo>
                <a:lnTo>
                  <a:pt x="899" y="97"/>
                </a:lnTo>
                <a:lnTo>
                  <a:pt x="921" y="92"/>
                </a:lnTo>
                <a:lnTo>
                  <a:pt x="948" y="83"/>
                </a:lnTo>
                <a:lnTo>
                  <a:pt x="978" y="83"/>
                </a:lnTo>
                <a:lnTo>
                  <a:pt x="1001" y="83"/>
                </a:lnTo>
                <a:lnTo>
                  <a:pt x="1031" y="83"/>
                </a:lnTo>
                <a:lnTo>
                  <a:pt x="1053" y="83"/>
                </a:lnTo>
                <a:lnTo>
                  <a:pt x="1093" y="83"/>
                </a:lnTo>
                <a:lnTo>
                  <a:pt x="1120" y="83"/>
                </a:lnTo>
                <a:lnTo>
                  <a:pt x="1159" y="83"/>
                </a:lnTo>
                <a:lnTo>
                  <a:pt x="1186" y="83"/>
                </a:lnTo>
                <a:lnTo>
                  <a:pt x="1212" y="83"/>
                </a:lnTo>
                <a:lnTo>
                  <a:pt x="1239" y="83"/>
                </a:lnTo>
                <a:lnTo>
                  <a:pt x="1270" y="79"/>
                </a:lnTo>
                <a:lnTo>
                  <a:pt x="1305" y="79"/>
                </a:lnTo>
                <a:lnTo>
                  <a:pt x="1331" y="70"/>
                </a:lnTo>
                <a:lnTo>
                  <a:pt x="1371" y="57"/>
                </a:lnTo>
                <a:lnTo>
                  <a:pt x="1397" y="52"/>
                </a:lnTo>
                <a:lnTo>
                  <a:pt x="1437" y="52"/>
                </a:lnTo>
                <a:lnTo>
                  <a:pt x="1464" y="44"/>
                </a:lnTo>
                <a:lnTo>
                  <a:pt x="1490" y="39"/>
                </a:lnTo>
                <a:lnTo>
                  <a:pt x="1516" y="39"/>
                </a:lnTo>
                <a:lnTo>
                  <a:pt x="1543" y="30"/>
                </a:lnTo>
                <a:lnTo>
                  <a:pt x="1600" y="26"/>
                </a:lnTo>
                <a:lnTo>
                  <a:pt x="1636" y="26"/>
                </a:lnTo>
                <a:lnTo>
                  <a:pt x="1662" y="17"/>
                </a:lnTo>
                <a:lnTo>
                  <a:pt x="1688" y="13"/>
                </a:lnTo>
                <a:lnTo>
                  <a:pt x="1715" y="13"/>
                </a:lnTo>
                <a:lnTo>
                  <a:pt x="1741" y="4"/>
                </a:lnTo>
                <a:lnTo>
                  <a:pt x="1768" y="4"/>
                </a:lnTo>
                <a:lnTo>
                  <a:pt x="1807" y="4"/>
                </a:lnTo>
                <a:lnTo>
                  <a:pt x="1835" y="0"/>
                </a:lnTo>
                <a:lnTo>
                  <a:pt x="1861" y="0"/>
                </a:lnTo>
                <a:lnTo>
                  <a:pt x="1892" y="0"/>
                </a:lnTo>
                <a:lnTo>
                  <a:pt x="1914" y="0"/>
                </a:lnTo>
                <a:lnTo>
                  <a:pt x="1941" y="0"/>
                </a:lnTo>
                <a:lnTo>
                  <a:pt x="1967" y="13"/>
                </a:lnTo>
                <a:lnTo>
                  <a:pt x="1994" y="17"/>
                </a:lnTo>
                <a:lnTo>
                  <a:pt x="2020" y="26"/>
                </a:lnTo>
                <a:lnTo>
                  <a:pt x="2047" y="26"/>
                </a:lnTo>
                <a:lnTo>
                  <a:pt x="2073" y="26"/>
                </a:lnTo>
                <a:lnTo>
                  <a:pt x="2113" y="26"/>
                </a:lnTo>
                <a:lnTo>
                  <a:pt x="2157" y="26"/>
                </a:lnTo>
                <a:lnTo>
                  <a:pt x="2179" y="26"/>
                </a:lnTo>
                <a:lnTo>
                  <a:pt x="2219" y="17"/>
                </a:lnTo>
                <a:lnTo>
                  <a:pt x="2245" y="13"/>
                </a:lnTo>
                <a:lnTo>
                  <a:pt x="2272" y="4"/>
                </a:lnTo>
                <a:lnTo>
                  <a:pt x="2298" y="0"/>
                </a:lnTo>
                <a:lnTo>
                  <a:pt x="2324" y="0"/>
                </a:lnTo>
                <a:lnTo>
                  <a:pt x="2351" y="0"/>
                </a:lnTo>
                <a:lnTo>
                  <a:pt x="2391" y="0"/>
                </a:lnTo>
                <a:lnTo>
                  <a:pt x="2417" y="0"/>
                </a:lnTo>
                <a:lnTo>
                  <a:pt x="2443" y="4"/>
                </a:lnTo>
                <a:lnTo>
                  <a:pt x="2470" y="17"/>
                </a:lnTo>
                <a:lnTo>
                  <a:pt x="2496" y="26"/>
                </a:lnTo>
                <a:lnTo>
                  <a:pt x="2527" y="30"/>
                </a:lnTo>
                <a:lnTo>
                  <a:pt x="2563" y="39"/>
                </a:lnTo>
                <a:lnTo>
                  <a:pt x="2607" y="44"/>
                </a:lnTo>
                <a:lnTo>
                  <a:pt x="2642" y="44"/>
                </a:lnTo>
                <a:lnTo>
                  <a:pt x="2668" y="52"/>
                </a:lnTo>
                <a:lnTo>
                  <a:pt x="2695" y="52"/>
                </a:lnTo>
                <a:lnTo>
                  <a:pt x="2712" y="30"/>
                </a:lnTo>
                <a:lnTo>
                  <a:pt x="2735" y="26"/>
                </a:lnTo>
                <a:lnTo>
                  <a:pt x="2761" y="17"/>
                </a:lnTo>
                <a:lnTo>
                  <a:pt x="2787" y="13"/>
                </a:lnTo>
                <a:lnTo>
                  <a:pt x="2814" y="13"/>
                </a:lnTo>
                <a:lnTo>
                  <a:pt x="2867" y="13"/>
                </a:lnTo>
                <a:lnTo>
                  <a:pt x="2893" y="13"/>
                </a:lnTo>
                <a:lnTo>
                  <a:pt x="2920" y="17"/>
                </a:lnTo>
                <a:lnTo>
                  <a:pt x="2951" y="26"/>
                </a:lnTo>
                <a:lnTo>
                  <a:pt x="2973" y="26"/>
                </a:lnTo>
                <a:lnTo>
                  <a:pt x="3017" y="39"/>
                </a:lnTo>
                <a:lnTo>
                  <a:pt x="3052" y="39"/>
                </a:lnTo>
                <a:lnTo>
                  <a:pt x="3092" y="44"/>
                </a:lnTo>
                <a:lnTo>
                  <a:pt x="3118" y="52"/>
                </a:lnTo>
                <a:lnTo>
                  <a:pt x="3145" y="66"/>
                </a:lnTo>
                <a:lnTo>
                  <a:pt x="3171" y="70"/>
                </a:lnTo>
                <a:lnTo>
                  <a:pt x="3211" y="79"/>
                </a:lnTo>
                <a:lnTo>
                  <a:pt x="3250" y="83"/>
                </a:lnTo>
                <a:lnTo>
                  <a:pt x="3277" y="83"/>
                </a:lnTo>
                <a:lnTo>
                  <a:pt x="3303" y="83"/>
                </a:lnTo>
                <a:lnTo>
                  <a:pt x="3330" y="79"/>
                </a:lnTo>
                <a:lnTo>
                  <a:pt x="3356" y="66"/>
                </a:lnTo>
                <a:lnTo>
                  <a:pt x="3383" y="52"/>
                </a:lnTo>
                <a:lnTo>
                  <a:pt x="3409" y="52"/>
                </a:lnTo>
                <a:lnTo>
                  <a:pt x="3449" y="44"/>
                </a:lnTo>
                <a:lnTo>
                  <a:pt x="3475" y="30"/>
                </a:lnTo>
                <a:lnTo>
                  <a:pt x="3502" y="26"/>
                </a:lnTo>
                <a:lnTo>
                  <a:pt x="3528" y="13"/>
                </a:lnTo>
                <a:lnTo>
                  <a:pt x="3555" y="17"/>
                </a:lnTo>
                <a:lnTo>
                  <a:pt x="3572" y="39"/>
                </a:lnTo>
                <a:lnTo>
                  <a:pt x="3594" y="44"/>
                </a:lnTo>
                <a:lnTo>
                  <a:pt x="3621" y="44"/>
                </a:lnTo>
                <a:lnTo>
                  <a:pt x="3652" y="52"/>
                </a:lnTo>
                <a:lnTo>
                  <a:pt x="3665" y="44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"/>
          <p:cNvSpPr/>
          <p:nvPr/>
        </p:nvSpPr>
        <p:spPr>
          <a:xfrm>
            <a:off x="2467080" y="6442200"/>
            <a:ext cx="5652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9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5000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5004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5008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1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5012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5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>
            <a:off x="4803840" y="1379520"/>
            <a:ext cx="336600" cy="12272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"/>
          <p:cNvSpPr txBox="1"/>
          <p:nvPr/>
        </p:nvSpPr>
        <p:spPr>
          <a:xfrm>
            <a:off x="6384960" y="4897440"/>
            <a:ext cx="2540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all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ifferent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uts and fills.  Al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graphics 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the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patt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5077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0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5081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5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1952640" y="5570640"/>
            <a:ext cx="1663920" cy="581400"/>
          </a:xfrm>
          <a:custGeom>
            <a:avLst/>
            <a:gdLst/>
            <a:ahLst/>
            <a:rect l="0" t="0" r="r" b="b"/>
            <a:pathLst>
              <a:path w="4622" h="1615">
                <a:moveTo>
                  <a:pt x="4622" y="1615"/>
                </a:moveTo>
                <a:lnTo>
                  <a:pt x="3008" y="0"/>
                </a:lnTo>
                <a:lnTo>
                  <a:pt x="1468" y="0"/>
                </a:lnTo>
                <a:lnTo>
                  <a:pt x="22" y="1448"/>
                </a:lnTo>
                <a:lnTo>
                  <a:pt x="0" y="1448"/>
                </a:lnTo>
                <a:lnTo>
                  <a:pt x="26" y="1457"/>
                </a:lnTo>
                <a:lnTo>
                  <a:pt x="44" y="1483"/>
                </a:lnTo>
                <a:lnTo>
                  <a:pt x="66" y="1483"/>
                </a:lnTo>
                <a:lnTo>
                  <a:pt x="92" y="1496"/>
                </a:lnTo>
                <a:lnTo>
                  <a:pt x="119" y="1488"/>
                </a:lnTo>
                <a:lnTo>
                  <a:pt x="149" y="1474"/>
                </a:lnTo>
                <a:lnTo>
                  <a:pt x="171" y="1457"/>
                </a:lnTo>
                <a:lnTo>
                  <a:pt x="198" y="1448"/>
                </a:lnTo>
                <a:lnTo>
                  <a:pt x="251" y="1448"/>
                </a:lnTo>
                <a:lnTo>
                  <a:pt x="291" y="1457"/>
                </a:lnTo>
                <a:lnTo>
                  <a:pt x="321" y="1457"/>
                </a:lnTo>
                <a:lnTo>
                  <a:pt x="343" y="1457"/>
                </a:lnTo>
                <a:lnTo>
                  <a:pt x="374" y="1448"/>
                </a:lnTo>
                <a:lnTo>
                  <a:pt x="396" y="1448"/>
                </a:lnTo>
                <a:lnTo>
                  <a:pt x="423" y="1448"/>
                </a:lnTo>
                <a:lnTo>
                  <a:pt x="449" y="1457"/>
                </a:lnTo>
                <a:lnTo>
                  <a:pt x="476" y="1457"/>
                </a:lnTo>
                <a:lnTo>
                  <a:pt x="502" y="1470"/>
                </a:lnTo>
                <a:lnTo>
                  <a:pt x="533" y="1470"/>
                </a:lnTo>
                <a:lnTo>
                  <a:pt x="568" y="1470"/>
                </a:lnTo>
                <a:lnTo>
                  <a:pt x="599" y="1470"/>
                </a:lnTo>
                <a:lnTo>
                  <a:pt x="626" y="1474"/>
                </a:lnTo>
                <a:lnTo>
                  <a:pt x="648" y="1474"/>
                </a:lnTo>
                <a:lnTo>
                  <a:pt x="687" y="1474"/>
                </a:lnTo>
                <a:lnTo>
                  <a:pt x="714" y="1474"/>
                </a:lnTo>
                <a:lnTo>
                  <a:pt x="740" y="1483"/>
                </a:lnTo>
                <a:lnTo>
                  <a:pt x="767" y="1488"/>
                </a:lnTo>
                <a:lnTo>
                  <a:pt x="793" y="1496"/>
                </a:lnTo>
                <a:lnTo>
                  <a:pt x="820" y="1496"/>
                </a:lnTo>
                <a:lnTo>
                  <a:pt x="846" y="1496"/>
                </a:lnTo>
                <a:lnTo>
                  <a:pt x="877" y="1496"/>
                </a:lnTo>
                <a:lnTo>
                  <a:pt x="899" y="1496"/>
                </a:lnTo>
                <a:lnTo>
                  <a:pt x="926" y="1496"/>
                </a:lnTo>
                <a:lnTo>
                  <a:pt x="952" y="1501"/>
                </a:lnTo>
                <a:lnTo>
                  <a:pt x="992" y="1510"/>
                </a:lnTo>
                <a:lnTo>
                  <a:pt x="1023" y="1514"/>
                </a:lnTo>
                <a:lnTo>
                  <a:pt x="1045" y="1514"/>
                </a:lnTo>
                <a:lnTo>
                  <a:pt x="1075" y="1523"/>
                </a:lnTo>
                <a:lnTo>
                  <a:pt x="1098" y="1523"/>
                </a:lnTo>
                <a:lnTo>
                  <a:pt x="1128" y="1523"/>
                </a:lnTo>
                <a:lnTo>
                  <a:pt x="1150" y="1523"/>
                </a:lnTo>
                <a:lnTo>
                  <a:pt x="1181" y="1523"/>
                </a:lnTo>
                <a:lnTo>
                  <a:pt x="1208" y="1514"/>
                </a:lnTo>
                <a:lnTo>
                  <a:pt x="1243" y="1510"/>
                </a:lnTo>
                <a:lnTo>
                  <a:pt x="1274" y="1510"/>
                </a:lnTo>
                <a:lnTo>
                  <a:pt x="1314" y="1501"/>
                </a:lnTo>
                <a:lnTo>
                  <a:pt x="1336" y="1496"/>
                </a:lnTo>
                <a:lnTo>
                  <a:pt x="1362" y="1496"/>
                </a:lnTo>
                <a:lnTo>
                  <a:pt x="1389" y="1496"/>
                </a:lnTo>
                <a:lnTo>
                  <a:pt x="1419" y="1501"/>
                </a:lnTo>
                <a:lnTo>
                  <a:pt x="1441" y="1510"/>
                </a:lnTo>
                <a:lnTo>
                  <a:pt x="1468" y="1510"/>
                </a:lnTo>
                <a:lnTo>
                  <a:pt x="1494" y="1510"/>
                </a:lnTo>
                <a:lnTo>
                  <a:pt x="1538" y="1514"/>
                </a:lnTo>
                <a:lnTo>
                  <a:pt x="1565" y="1514"/>
                </a:lnTo>
                <a:lnTo>
                  <a:pt x="1591" y="1523"/>
                </a:lnTo>
                <a:lnTo>
                  <a:pt x="1618" y="1523"/>
                </a:lnTo>
                <a:lnTo>
                  <a:pt x="1644" y="1523"/>
                </a:lnTo>
                <a:lnTo>
                  <a:pt x="1666" y="1523"/>
                </a:lnTo>
                <a:lnTo>
                  <a:pt x="1697" y="1523"/>
                </a:lnTo>
                <a:lnTo>
                  <a:pt x="1759" y="1523"/>
                </a:lnTo>
                <a:lnTo>
                  <a:pt x="1799" y="1523"/>
                </a:lnTo>
                <a:lnTo>
                  <a:pt x="1830" y="1523"/>
                </a:lnTo>
                <a:lnTo>
                  <a:pt x="1878" y="1514"/>
                </a:lnTo>
                <a:lnTo>
                  <a:pt x="1905" y="1510"/>
                </a:lnTo>
                <a:lnTo>
                  <a:pt x="1931" y="1510"/>
                </a:lnTo>
                <a:lnTo>
                  <a:pt x="1957" y="1510"/>
                </a:lnTo>
                <a:lnTo>
                  <a:pt x="1984" y="1510"/>
                </a:lnTo>
                <a:lnTo>
                  <a:pt x="2015" y="1510"/>
                </a:lnTo>
                <a:lnTo>
                  <a:pt x="2037" y="1510"/>
                </a:lnTo>
                <a:lnTo>
                  <a:pt x="2063" y="1510"/>
                </a:lnTo>
                <a:lnTo>
                  <a:pt x="2090" y="1510"/>
                </a:lnTo>
                <a:lnTo>
                  <a:pt x="2121" y="1510"/>
                </a:lnTo>
                <a:lnTo>
                  <a:pt x="2143" y="1510"/>
                </a:lnTo>
                <a:lnTo>
                  <a:pt x="2187" y="1510"/>
                </a:lnTo>
                <a:lnTo>
                  <a:pt x="2209" y="1510"/>
                </a:lnTo>
                <a:lnTo>
                  <a:pt x="2235" y="1523"/>
                </a:lnTo>
                <a:lnTo>
                  <a:pt x="2262" y="1527"/>
                </a:lnTo>
                <a:lnTo>
                  <a:pt x="2288" y="1536"/>
                </a:lnTo>
                <a:lnTo>
                  <a:pt x="2316" y="1540"/>
                </a:lnTo>
                <a:lnTo>
                  <a:pt x="2342" y="1549"/>
                </a:lnTo>
                <a:lnTo>
                  <a:pt x="2369" y="1549"/>
                </a:lnTo>
                <a:lnTo>
                  <a:pt x="2421" y="1549"/>
                </a:lnTo>
                <a:lnTo>
                  <a:pt x="2448" y="1549"/>
                </a:lnTo>
                <a:lnTo>
                  <a:pt x="2488" y="1549"/>
                </a:lnTo>
                <a:lnTo>
                  <a:pt x="2518" y="1549"/>
                </a:lnTo>
                <a:lnTo>
                  <a:pt x="2541" y="1549"/>
                </a:lnTo>
                <a:lnTo>
                  <a:pt x="2567" y="1549"/>
                </a:lnTo>
                <a:lnTo>
                  <a:pt x="2607" y="1549"/>
                </a:lnTo>
                <a:lnTo>
                  <a:pt x="2633" y="1554"/>
                </a:lnTo>
                <a:lnTo>
                  <a:pt x="2660" y="1563"/>
                </a:lnTo>
                <a:lnTo>
                  <a:pt x="2686" y="1563"/>
                </a:lnTo>
                <a:lnTo>
                  <a:pt x="2730" y="1567"/>
                </a:lnTo>
                <a:lnTo>
                  <a:pt x="2757" y="1576"/>
                </a:lnTo>
                <a:lnTo>
                  <a:pt x="2779" y="1576"/>
                </a:lnTo>
                <a:lnTo>
                  <a:pt x="2805" y="1576"/>
                </a:lnTo>
                <a:lnTo>
                  <a:pt x="2836" y="1576"/>
                </a:lnTo>
                <a:lnTo>
                  <a:pt x="2858" y="1576"/>
                </a:lnTo>
                <a:lnTo>
                  <a:pt x="2898" y="1576"/>
                </a:lnTo>
                <a:lnTo>
                  <a:pt x="2924" y="1567"/>
                </a:lnTo>
                <a:lnTo>
                  <a:pt x="2951" y="1567"/>
                </a:lnTo>
                <a:lnTo>
                  <a:pt x="2990" y="1567"/>
                </a:lnTo>
                <a:lnTo>
                  <a:pt x="3034" y="1567"/>
                </a:lnTo>
                <a:lnTo>
                  <a:pt x="3056" y="1567"/>
                </a:lnTo>
                <a:lnTo>
                  <a:pt x="3127" y="1576"/>
                </a:lnTo>
                <a:lnTo>
                  <a:pt x="3392" y="1593"/>
                </a:lnTo>
                <a:lnTo>
                  <a:pt x="3427" y="1602"/>
                </a:lnTo>
                <a:lnTo>
                  <a:pt x="3467" y="1593"/>
                </a:lnTo>
                <a:lnTo>
                  <a:pt x="3493" y="1593"/>
                </a:lnTo>
                <a:lnTo>
                  <a:pt x="3533" y="1593"/>
                </a:lnTo>
                <a:lnTo>
                  <a:pt x="3572" y="1593"/>
                </a:lnTo>
                <a:lnTo>
                  <a:pt x="3612" y="1593"/>
                </a:lnTo>
                <a:lnTo>
                  <a:pt x="3639" y="1593"/>
                </a:lnTo>
                <a:lnTo>
                  <a:pt x="3683" y="1589"/>
                </a:lnTo>
                <a:lnTo>
                  <a:pt x="3718" y="1589"/>
                </a:lnTo>
                <a:lnTo>
                  <a:pt x="3744" y="1589"/>
                </a:lnTo>
                <a:lnTo>
                  <a:pt x="3788" y="1589"/>
                </a:lnTo>
                <a:lnTo>
                  <a:pt x="3811" y="1589"/>
                </a:lnTo>
                <a:lnTo>
                  <a:pt x="3841" y="1589"/>
                </a:lnTo>
                <a:lnTo>
                  <a:pt x="3863" y="1589"/>
                </a:lnTo>
                <a:lnTo>
                  <a:pt x="3890" y="1589"/>
                </a:lnTo>
                <a:lnTo>
                  <a:pt x="3934" y="1589"/>
                </a:lnTo>
                <a:lnTo>
                  <a:pt x="3956" y="1589"/>
                </a:lnTo>
                <a:lnTo>
                  <a:pt x="3996" y="1589"/>
                </a:lnTo>
                <a:lnTo>
                  <a:pt x="4022" y="1593"/>
                </a:lnTo>
                <a:lnTo>
                  <a:pt x="4075" y="1593"/>
                </a:lnTo>
                <a:lnTo>
                  <a:pt x="4119" y="1593"/>
                </a:lnTo>
                <a:lnTo>
                  <a:pt x="4146" y="1593"/>
                </a:lnTo>
                <a:lnTo>
                  <a:pt x="4172" y="1602"/>
                </a:lnTo>
                <a:lnTo>
                  <a:pt x="4194" y="1602"/>
                </a:lnTo>
                <a:lnTo>
                  <a:pt x="4221" y="1602"/>
                </a:lnTo>
                <a:lnTo>
                  <a:pt x="4247" y="1602"/>
                </a:lnTo>
                <a:lnTo>
                  <a:pt x="4274" y="1602"/>
                </a:lnTo>
                <a:lnTo>
                  <a:pt x="4300" y="1602"/>
                </a:lnTo>
                <a:lnTo>
                  <a:pt x="4326" y="1602"/>
                </a:lnTo>
                <a:lnTo>
                  <a:pt x="4353" y="1602"/>
                </a:lnTo>
                <a:lnTo>
                  <a:pt x="4379" y="1602"/>
                </a:lnTo>
                <a:lnTo>
                  <a:pt x="4410" y="1602"/>
                </a:lnTo>
                <a:lnTo>
                  <a:pt x="4432" y="1602"/>
                </a:lnTo>
                <a:lnTo>
                  <a:pt x="4459" y="1602"/>
                </a:lnTo>
                <a:lnTo>
                  <a:pt x="4485" y="1602"/>
                </a:lnTo>
                <a:lnTo>
                  <a:pt x="4512" y="1602"/>
                </a:lnTo>
                <a:lnTo>
                  <a:pt x="4538" y="1602"/>
                </a:lnTo>
                <a:lnTo>
                  <a:pt x="4565" y="1602"/>
                </a:lnTo>
                <a:lnTo>
                  <a:pt x="4604" y="1602"/>
                </a:lnTo>
                <a:lnTo>
                  <a:pt x="4622" y="1615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2116080" y="4375080"/>
            <a:ext cx="1319400" cy="411480"/>
          </a:xfrm>
          <a:custGeom>
            <a:avLst/>
            <a:gdLst/>
            <a:ahLst/>
            <a:rect l="0" t="0" r="r" b="b"/>
            <a:pathLst>
              <a:path w="3665" h="1143">
                <a:moveTo>
                  <a:pt x="3665" y="44"/>
                </a:moveTo>
                <a:lnTo>
                  <a:pt x="2567" y="1143"/>
                </a:lnTo>
                <a:lnTo>
                  <a:pt x="1001" y="1143"/>
                </a:lnTo>
                <a:lnTo>
                  <a:pt x="22" y="163"/>
                </a:lnTo>
                <a:lnTo>
                  <a:pt x="0" y="163"/>
                </a:lnTo>
                <a:lnTo>
                  <a:pt x="39" y="163"/>
                </a:lnTo>
                <a:lnTo>
                  <a:pt x="61" y="171"/>
                </a:lnTo>
                <a:lnTo>
                  <a:pt x="92" y="171"/>
                </a:lnTo>
                <a:lnTo>
                  <a:pt x="127" y="171"/>
                </a:lnTo>
                <a:lnTo>
                  <a:pt x="154" y="171"/>
                </a:lnTo>
                <a:lnTo>
                  <a:pt x="180" y="163"/>
                </a:lnTo>
                <a:lnTo>
                  <a:pt x="207" y="158"/>
                </a:lnTo>
                <a:lnTo>
                  <a:pt x="233" y="158"/>
                </a:lnTo>
                <a:lnTo>
                  <a:pt x="273" y="158"/>
                </a:lnTo>
                <a:lnTo>
                  <a:pt x="299" y="149"/>
                </a:lnTo>
                <a:lnTo>
                  <a:pt x="326" y="149"/>
                </a:lnTo>
                <a:lnTo>
                  <a:pt x="366" y="149"/>
                </a:lnTo>
                <a:lnTo>
                  <a:pt x="392" y="149"/>
                </a:lnTo>
                <a:lnTo>
                  <a:pt x="418" y="149"/>
                </a:lnTo>
                <a:lnTo>
                  <a:pt x="445" y="149"/>
                </a:lnTo>
                <a:lnTo>
                  <a:pt x="485" y="158"/>
                </a:lnTo>
                <a:lnTo>
                  <a:pt x="511" y="149"/>
                </a:lnTo>
                <a:lnTo>
                  <a:pt x="537" y="149"/>
                </a:lnTo>
                <a:lnTo>
                  <a:pt x="564" y="136"/>
                </a:lnTo>
                <a:lnTo>
                  <a:pt x="590" y="119"/>
                </a:lnTo>
                <a:lnTo>
                  <a:pt x="621" y="110"/>
                </a:lnTo>
                <a:lnTo>
                  <a:pt x="648" y="105"/>
                </a:lnTo>
                <a:lnTo>
                  <a:pt x="674" y="97"/>
                </a:lnTo>
                <a:lnTo>
                  <a:pt x="696" y="92"/>
                </a:lnTo>
                <a:lnTo>
                  <a:pt x="736" y="92"/>
                </a:lnTo>
                <a:lnTo>
                  <a:pt x="762" y="92"/>
                </a:lnTo>
                <a:lnTo>
                  <a:pt x="802" y="92"/>
                </a:lnTo>
                <a:lnTo>
                  <a:pt x="846" y="97"/>
                </a:lnTo>
                <a:lnTo>
                  <a:pt x="873" y="97"/>
                </a:lnTo>
                <a:lnTo>
                  <a:pt x="899" y="97"/>
                </a:lnTo>
                <a:lnTo>
                  <a:pt x="921" y="92"/>
                </a:lnTo>
                <a:lnTo>
                  <a:pt x="948" y="83"/>
                </a:lnTo>
                <a:lnTo>
                  <a:pt x="978" y="83"/>
                </a:lnTo>
                <a:lnTo>
                  <a:pt x="1001" y="83"/>
                </a:lnTo>
                <a:lnTo>
                  <a:pt x="1031" y="83"/>
                </a:lnTo>
                <a:lnTo>
                  <a:pt x="1053" y="83"/>
                </a:lnTo>
                <a:lnTo>
                  <a:pt x="1093" y="83"/>
                </a:lnTo>
                <a:lnTo>
                  <a:pt x="1120" y="83"/>
                </a:lnTo>
                <a:lnTo>
                  <a:pt x="1159" y="83"/>
                </a:lnTo>
                <a:lnTo>
                  <a:pt x="1186" y="83"/>
                </a:lnTo>
                <a:lnTo>
                  <a:pt x="1212" y="83"/>
                </a:lnTo>
                <a:lnTo>
                  <a:pt x="1239" y="83"/>
                </a:lnTo>
                <a:lnTo>
                  <a:pt x="1270" y="79"/>
                </a:lnTo>
                <a:lnTo>
                  <a:pt x="1305" y="79"/>
                </a:lnTo>
                <a:lnTo>
                  <a:pt x="1331" y="70"/>
                </a:lnTo>
                <a:lnTo>
                  <a:pt x="1371" y="57"/>
                </a:lnTo>
                <a:lnTo>
                  <a:pt x="1397" y="52"/>
                </a:lnTo>
                <a:lnTo>
                  <a:pt x="1437" y="52"/>
                </a:lnTo>
                <a:lnTo>
                  <a:pt x="1464" y="44"/>
                </a:lnTo>
                <a:lnTo>
                  <a:pt x="1490" y="39"/>
                </a:lnTo>
                <a:lnTo>
                  <a:pt x="1516" y="39"/>
                </a:lnTo>
                <a:lnTo>
                  <a:pt x="1543" y="30"/>
                </a:lnTo>
                <a:lnTo>
                  <a:pt x="1600" y="26"/>
                </a:lnTo>
                <a:lnTo>
                  <a:pt x="1636" y="26"/>
                </a:lnTo>
                <a:lnTo>
                  <a:pt x="1662" y="17"/>
                </a:lnTo>
                <a:lnTo>
                  <a:pt x="1688" y="13"/>
                </a:lnTo>
                <a:lnTo>
                  <a:pt x="1715" y="13"/>
                </a:lnTo>
                <a:lnTo>
                  <a:pt x="1741" y="4"/>
                </a:lnTo>
                <a:lnTo>
                  <a:pt x="1768" y="4"/>
                </a:lnTo>
                <a:lnTo>
                  <a:pt x="1807" y="4"/>
                </a:lnTo>
                <a:lnTo>
                  <a:pt x="1835" y="0"/>
                </a:lnTo>
                <a:lnTo>
                  <a:pt x="1861" y="0"/>
                </a:lnTo>
                <a:lnTo>
                  <a:pt x="1892" y="0"/>
                </a:lnTo>
                <a:lnTo>
                  <a:pt x="1914" y="0"/>
                </a:lnTo>
                <a:lnTo>
                  <a:pt x="1941" y="0"/>
                </a:lnTo>
                <a:lnTo>
                  <a:pt x="1967" y="13"/>
                </a:lnTo>
                <a:lnTo>
                  <a:pt x="1994" y="17"/>
                </a:lnTo>
                <a:lnTo>
                  <a:pt x="2020" y="26"/>
                </a:lnTo>
                <a:lnTo>
                  <a:pt x="2047" y="26"/>
                </a:lnTo>
                <a:lnTo>
                  <a:pt x="2073" y="26"/>
                </a:lnTo>
                <a:lnTo>
                  <a:pt x="2113" y="26"/>
                </a:lnTo>
                <a:lnTo>
                  <a:pt x="2157" y="26"/>
                </a:lnTo>
                <a:lnTo>
                  <a:pt x="2179" y="26"/>
                </a:lnTo>
                <a:lnTo>
                  <a:pt x="2219" y="17"/>
                </a:lnTo>
                <a:lnTo>
                  <a:pt x="2245" y="13"/>
                </a:lnTo>
                <a:lnTo>
                  <a:pt x="2272" y="4"/>
                </a:lnTo>
                <a:lnTo>
                  <a:pt x="2298" y="0"/>
                </a:lnTo>
                <a:lnTo>
                  <a:pt x="2324" y="0"/>
                </a:lnTo>
                <a:lnTo>
                  <a:pt x="2351" y="0"/>
                </a:lnTo>
                <a:lnTo>
                  <a:pt x="2391" y="0"/>
                </a:lnTo>
                <a:lnTo>
                  <a:pt x="2417" y="0"/>
                </a:lnTo>
                <a:lnTo>
                  <a:pt x="2443" y="4"/>
                </a:lnTo>
                <a:lnTo>
                  <a:pt x="2470" y="17"/>
                </a:lnTo>
                <a:lnTo>
                  <a:pt x="2496" y="26"/>
                </a:lnTo>
                <a:lnTo>
                  <a:pt x="2527" y="30"/>
                </a:lnTo>
                <a:lnTo>
                  <a:pt x="2563" y="39"/>
                </a:lnTo>
                <a:lnTo>
                  <a:pt x="2607" y="44"/>
                </a:lnTo>
                <a:lnTo>
                  <a:pt x="2642" y="44"/>
                </a:lnTo>
                <a:lnTo>
                  <a:pt x="2668" y="52"/>
                </a:lnTo>
                <a:lnTo>
                  <a:pt x="2695" y="52"/>
                </a:lnTo>
                <a:lnTo>
                  <a:pt x="2712" y="30"/>
                </a:lnTo>
                <a:lnTo>
                  <a:pt x="2735" y="26"/>
                </a:lnTo>
                <a:lnTo>
                  <a:pt x="2761" y="17"/>
                </a:lnTo>
                <a:lnTo>
                  <a:pt x="2787" y="13"/>
                </a:lnTo>
                <a:lnTo>
                  <a:pt x="2814" y="13"/>
                </a:lnTo>
                <a:lnTo>
                  <a:pt x="2867" y="13"/>
                </a:lnTo>
                <a:lnTo>
                  <a:pt x="2893" y="13"/>
                </a:lnTo>
                <a:lnTo>
                  <a:pt x="2920" y="17"/>
                </a:lnTo>
                <a:lnTo>
                  <a:pt x="2951" y="26"/>
                </a:lnTo>
                <a:lnTo>
                  <a:pt x="2973" y="26"/>
                </a:lnTo>
                <a:lnTo>
                  <a:pt x="3017" y="39"/>
                </a:lnTo>
                <a:lnTo>
                  <a:pt x="3052" y="39"/>
                </a:lnTo>
                <a:lnTo>
                  <a:pt x="3092" y="44"/>
                </a:lnTo>
                <a:lnTo>
                  <a:pt x="3118" y="52"/>
                </a:lnTo>
                <a:lnTo>
                  <a:pt x="3145" y="66"/>
                </a:lnTo>
                <a:lnTo>
                  <a:pt x="3171" y="70"/>
                </a:lnTo>
                <a:lnTo>
                  <a:pt x="3211" y="79"/>
                </a:lnTo>
                <a:lnTo>
                  <a:pt x="3250" y="83"/>
                </a:lnTo>
                <a:lnTo>
                  <a:pt x="3277" y="83"/>
                </a:lnTo>
                <a:lnTo>
                  <a:pt x="3303" y="83"/>
                </a:lnTo>
                <a:lnTo>
                  <a:pt x="3330" y="79"/>
                </a:lnTo>
                <a:lnTo>
                  <a:pt x="3356" y="66"/>
                </a:lnTo>
                <a:lnTo>
                  <a:pt x="3383" y="52"/>
                </a:lnTo>
                <a:lnTo>
                  <a:pt x="3409" y="52"/>
                </a:lnTo>
                <a:lnTo>
                  <a:pt x="3449" y="44"/>
                </a:lnTo>
                <a:lnTo>
                  <a:pt x="3475" y="30"/>
                </a:lnTo>
                <a:lnTo>
                  <a:pt x="3502" y="26"/>
                </a:lnTo>
                <a:lnTo>
                  <a:pt x="3528" y="13"/>
                </a:lnTo>
                <a:lnTo>
                  <a:pt x="3555" y="17"/>
                </a:lnTo>
                <a:lnTo>
                  <a:pt x="3572" y="39"/>
                </a:lnTo>
                <a:lnTo>
                  <a:pt x="3594" y="44"/>
                </a:lnTo>
                <a:lnTo>
                  <a:pt x="3621" y="44"/>
                </a:lnTo>
                <a:lnTo>
                  <a:pt x="3652" y="52"/>
                </a:lnTo>
                <a:lnTo>
                  <a:pt x="3665" y="44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/>
          <p:nvPr/>
        </p:nvSpPr>
        <p:spPr>
          <a:xfrm>
            <a:off x="2467080" y="6442200"/>
            <a:ext cx="5652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5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5136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9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5140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3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5144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7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5148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1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"/>
          <p:cNvSpPr/>
          <p:nvPr/>
        </p:nvSpPr>
        <p:spPr>
          <a:xfrm>
            <a:off x="4803840" y="1368360"/>
            <a:ext cx="336600" cy="12384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6384960" y="4897440"/>
            <a:ext cx="2540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all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ifferent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uts and fills.  Al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graphics 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the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hatch patt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2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5213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6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5217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1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"/>
          <p:cNvSpPr/>
          <p:nvPr/>
        </p:nvSpPr>
        <p:spPr>
          <a:xfrm>
            <a:off x="1952640" y="5570640"/>
            <a:ext cx="1663920" cy="581400"/>
          </a:xfrm>
          <a:custGeom>
            <a:avLst/>
            <a:gdLst/>
            <a:ahLst/>
            <a:rect l="0" t="0" r="r" b="b"/>
            <a:pathLst>
              <a:path w="4622" h="1615">
                <a:moveTo>
                  <a:pt x="4622" y="1615"/>
                </a:moveTo>
                <a:lnTo>
                  <a:pt x="3008" y="0"/>
                </a:lnTo>
                <a:lnTo>
                  <a:pt x="1468" y="0"/>
                </a:lnTo>
                <a:lnTo>
                  <a:pt x="22" y="1448"/>
                </a:lnTo>
                <a:lnTo>
                  <a:pt x="0" y="1448"/>
                </a:lnTo>
                <a:lnTo>
                  <a:pt x="26" y="1457"/>
                </a:lnTo>
                <a:lnTo>
                  <a:pt x="44" y="1483"/>
                </a:lnTo>
                <a:lnTo>
                  <a:pt x="66" y="1483"/>
                </a:lnTo>
                <a:lnTo>
                  <a:pt x="92" y="1496"/>
                </a:lnTo>
                <a:lnTo>
                  <a:pt x="119" y="1488"/>
                </a:lnTo>
                <a:lnTo>
                  <a:pt x="149" y="1474"/>
                </a:lnTo>
                <a:lnTo>
                  <a:pt x="171" y="1457"/>
                </a:lnTo>
                <a:lnTo>
                  <a:pt x="198" y="1448"/>
                </a:lnTo>
                <a:lnTo>
                  <a:pt x="251" y="1448"/>
                </a:lnTo>
                <a:lnTo>
                  <a:pt x="291" y="1457"/>
                </a:lnTo>
                <a:lnTo>
                  <a:pt x="321" y="1457"/>
                </a:lnTo>
                <a:lnTo>
                  <a:pt x="343" y="1457"/>
                </a:lnTo>
                <a:lnTo>
                  <a:pt x="374" y="1448"/>
                </a:lnTo>
                <a:lnTo>
                  <a:pt x="396" y="1448"/>
                </a:lnTo>
                <a:lnTo>
                  <a:pt x="423" y="1448"/>
                </a:lnTo>
                <a:lnTo>
                  <a:pt x="449" y="1457"/>
                </a:lnTo>
                <a:lnTo>
                  <a:pt x="476" y="1457"/>
                </a:lnTo>
                <a:lnTo>
                  <a:pt x="502" y="1470"/>
                </a:lnTo>
                <a:lnTo>
                  <a:pt x="533" y="1470"/>
                </a:lnTo>
                <a:lnTo>
                  <a:pt x="568" y="1470"/>
                </a:lnTo>
                <a:lnTo>
                  <a:pt x="599" y="1470"/>
                </a:lnTo>
                <a:lnTo>
                  <a:pt x="626" y="1474"/>
                </a:lnTo>
                <a:lnTo>
                  <a:pt x="648" y="1474"/>
                </a:lnTo>
                <a:lnTo>
                  <a:pt x="687" y="1474"/>
                </a:lnTo>
                <a:lnTo>
                  <a:pt x="714" y="1474"/>
                </a:lnTo>
                <a:lnTo>
                  <a:pt x="740" y="1483"/>
                </a:lnTo>
                <a:lnTo>
                  <a:pt x="767" y="1488"/>
                </a:lnTo>
                <a:lnTo>
                  <a:pt x="793" y="1496"/>
                </a:lnTo>
                <a:lnTo>
                  <a:pt x="820" y="1496"/>
                </a:lnTo>
                <a:lnTo>
                  <a:pt x="846" y="1496"/>
                </a:lnTo>
                <a:lnTo>
                  <a:pt x="877" y="1496"/>
                </a:lnTo>
                <a:lnTo>
                  <a:pt x="899" y="1496"/>
                </a:lnTo>
                <a:lnTo>
                  <a:pt x="926" y="1496"/>
                </a:lnTo>
                <a:lnTo>
                  <a:pt x="952" y="1501"/>
                </a:lnTo>
                <a:lnTo>
                  <a:pt x="992" y="1510"/>
                </a:lnTo>
                <a:lnTo>
                  <a:pt x="1023" y="1514"/>
                </a:lnTo>
                <a:lnTo>
                  <a:pt x="1045" y="1514"/>
                </a:lnTo>
                <a:lnTo>
                  <a:pt x="1075" y="1523"/>
                </a:lnTo>
                <a:lnTo>
                  <a:pt x="1098" y="1523"/>
                </a:lnTo>
                <a:lnTo>
                  <a:pt x="1128" y="1523"/>
                </a:lnTo>
                <a:lnTo>
                  <a:pt x="1150" y="1523"/>
                </a:lnTo>
                <a:lnTo>
                  <a:pt x="1181" y="1523"/>
                </a:lnTo>
                <a:lnTo>
                  <a:pt x="1208" y="1514"/>
                </a:lnTo>
                <a:lnTo>
                  <a:pt x="1243" y="1510"/>
                </a:lnTo>
                <a:lnTo>
                  <a:pt x="1274" y="1510"/>
                </a:lnTo>
                <a:lnTo>
                  <a:pt x="1314" y="1501"/>
                </a:lnTo>
                <a:lnTo>
                  <a:pt x="1336" y="1496"/>
                </a:lnTo>
                <a:lnTo>
                  <a:pt x="1362" y="1496"/>
                </a:lnTo>
                <a:lnTo>
                  <a:pt x="1389" y="1496"/>
                </a:lnTo>
                <a:lnTo>
                  <a:pt x="1419" y="1501"/>
                </a:lnTo>
                <a:lnTo>
                  <a:pt x="1441" y="1510"/>
                </a:lnTo>
                <a:lnTo>
                  <a:pt x="1468" y="1510"/>
                </a:lnTo>
                <a:lnTo>
                  <a:pt x="1494" y="1510"/>
                </a:lnTo>
                <a:lnTo>
                  <a:pt x="1538" y="1514"/>
                </a:lnTo>
                <a:lnTo>
                  <a:pt x="1565" y="1514"/>
                </a:lnTo>
                <a:lnTo>
                  <a:pt x="1591" y="1523"/>
                </a:lnTo>
                <a:lnTo>
                  <a:pt x="1618" y="1523"/>
                </a:lnTo>
                <a:lnTo>
                  <a:pt x="1644" y="1523"/>
                </a:lnTo>
                <a:lnTo>
                  <a:pt x="1666" y="1523"/>
                </a:lnTo>
                <a:lnTo>
                  <a:pt x="1697" y="1523"/>
                </a:lnTo>
                <a:lnTo>
                  <a:pt x="1759" y="1523"/>
                </a:lnTo>
                <a:lnTo>
                  <a:pt x="1799" y="1523"/>
                </a:lnTo>
                <a:lnTo>
                  <a:pt x="1830" y="1523"/>
                </a:lnTo>
                <a:lnTo>
                  <a:pt x="1878" y="1514"/>
                </a:lnTo>
                <a:lnTo>
                  <a:pt x="1905" y="1510"/>
                </a:lnTo>
                <a:lnTo>
                  <a:pt x="1931" y="1510"/>
                </a:lnTo>
                <a:lnTo>
                  <a:pt x="1957" y="1510"/>
                </a:lnTo>
                <a:lnTo>
                  <a:pt x="1984" y="1510"/>
                </a:lnTo>
                <a:lnTo>
                  <a:pt x="2015" y="1510"/>
                </a:lnTo>
                <a:lnTo>
                  <a:pt x="2037" y="1510"/>
                </a:lnTo>
                <a:lnTo>
                  <a:pt x="2063" y="1510"/>
                </a:lnTo>
                <a:lnTo>
                  <a:pt x="2090" y="1510"/>
                </a:lnTo>
                <a:lnTo>
                  <a:pt x="2121" y="1510"/>
                </a:lnTo>
                <a:lnTo>
                  <a:pt x="2143" y="1510"/>
                </a:lnTo>
                <a:lnTo>
                  <a:pt x="2187" y="1510"/>
                </a:lnTo>
                <a:lnTo>
                  <a:pt x="2209" y="1510"/>
                </a:lnTo>
                <a:lnTo>
                  <a:pt x="2235" y="1523"/>
                </a:lnTo>
                <a:lnTo>
                  <a:pt x="2262" y="1527"/>
                </a:lnTo>
                <a:lnTo>
                  <a:pt x="2288" y="1536"/>
                </a:lnTo>
                <a:lnTo>
                  <a:pt x="2316" y="1540"/>
                </a:lnTo>
                <a:lnTo>
                  <a:pt x="2342" y="1549"/>
                </a:lnTo>
                <a:lnTo>
                  <a:pt x="2369" y="1549"/>
                </a:lnTo>
                <a:lnTo>
                  <a:pt x="2421" y="1549"/>
                </a:lnTo>
                <a:lnTo>
                  <a:pt x="2448" y="1549"/>
                </a:lnTo>
                <a:lnTo>
                  <a:pt x="2488" y="1549"/>
                </a:lnTo>
                <a:lnTo>
                  <a:pt x="2518" y="1549"/>
                </a:lnTo>
                <a:lnTo>
                  <a:pt x="2541" y="1549"/>
                </a:lnTo>
                <a:lnTo>
                  <a:pt x="2567" y="1549"/>
                </a:lnTo>
                <a:lnTo>
                  <a:pt x="2607" y="1549"/>
                </a:lnTo>
                <a:lnTo>
                  <a:pt x="2633" y="1554"/>
                </a:lnTo>
                <a:lnTo>
                  <a:pt x="2660" y="1563"/>
                </a:lnTo>
                <a:lnTo>
                  <a:pt x="2686" y="1563"/>
                </a:lnTo>
                <a:lnTo>
                  <a:pt x="2730" y="1567"/>
                </a:lnTo>
                <a:lnTo>
                  <a:pt x="2757" y="1576"/>
                </a:lnTo>
                <a:lnTo>
                  <a:pt x="2779" y="1576"/>
                </a:lnTo>
                <a:lnTo>
                  <a:pt x="2805" y="1576"/>
                </a:lnTo>
                <a:lnTo>
                  <a:pt x="2836" y="1576"/>
                </a:lnTo>
                <a:lnTo>
                  <a:pt x="2858" y="1576"/>
                </a:lnTo>
                <a:lnTo>
                  <a:pt x="2898" y="1576"/>
                </a:lnTo>
                <a:lnTo>
                  <a:pt x="2924" y="1567"/>
                </a:lnTo>
                <a:lnTo>
                  <a:pt x="2951" y="1567"/>
                </a:lnTo>
                <a:lnTo>
                  <a:pt x="2990" y="1567"/>
                </a:lnTo>
                <a:lnTo>
                  <a:pt x="3034" y="1567"/>
                </a:lnTo>
                <a:lnTo>
                  <a:pt x="3056" y="1567"/>
                </a:lnTo>
                <a:lnTo>
                  <a:pt x="3127" y="1576"/>
                </a:lnTo>
                <a:lnTo>
                  <a:pt x="3392" y="1593"/>
                </a:lnTo>
                <a:lnTo>
                  <a:pt x="3427" y="1602"/>
                </a:lnTo>
                <a:lnTo>
                  <a:pt x="3467" y="1593"/>
                </a:lnTo>
                <a:lnTo>
                  <a:pt x="3493" y="1593"/>
                </a:lnTo>
                <a:lnTo>
                  <a:pt x="3533" y="1593"/>
                </a:lnTo>
                <a:lnTo>
                  <a:pt x="3572" y="1593"/>
                </a:lnTo>
                <a:lnTo>
                  <a:pt x="3612" y="1593"/>
                </a:lnTo>
                <a:lnTo>
                  <a:pt x="3639" y="1593"/>
                </a:lnTo>
                <a:lnTo>
                  <a:pt x="3683" y="1589"/>
                </a:lnTo>
                <a:lnTo>
                  <a:pt x="3718" y="1589"/>
                </a:lnTo>
                <a:lnTo>
                  <a:pt x="3744" y="1589"/>
                </a:lnTo>
                <a:lnTo>
                  <a:pt x="3788" y="1589"/>
                </a:lnTo>
                <a:lnTo>
                  <a:pt x="3811" y="1589"/>
                </a:lnTo>
                <a:lnTo>
                  <a:pt x="3841" y="1589"/>
                </a:lnTo>
                <a:lnTo>
                  <a:pt x="3863" y="1589"/>
                </a:lnTo>
                <a:lnTo>
                  <a:pt x="3890" y="1589"/>
                </a:lnTo>
                <a:lnTo>
                  <a:pt x="3934" y="1589"/>
                </a:lnTo>
                <a:lnTo>
                  <a:pt x="3956" y="1589"/>
                </a:lnTo>
                <a:lnTo>
                  <a:pt x="3996" y="1589"/>
                </a:lnTo>
                <a:lnTo>
                  <a:pt x="4022" y="1593"/>
                </a:lnTo>
                <a:lnTo>
                  <a:pt x="4075" y="1593"/>
                </a:lnTo>
                <a:lnTo>
                  <a:pt x="4119" y="1593"/>
                </a:lnTo>
                <a:lnTo>
                  <a:pt x="4146" y="1593"/>
                </a:lnTo>
                <a:lnTo>
                  <a:pt x="4172" y="1602"/>
                </a:lnTo>
                <a:lnTo>
                  <a:pt x="4194" y="1602"/>
                </a:lnTo>
                <a:lnTo>
                  <a:pt x="4221" y="1602"/>
                </a:lnTo>
                <a:lnTo>
                  <a:pt x="4247" y="1602"/>
                </a:lnTo>
                <a:lnTo>
                  <a:pt x="4274" y="1602"/>
                </a:lnTo>
                <a:lnTo>
                  <a:pt x="4300" y="1602"/>
                </a:lnTo>
                <a:lnTo>
                  <a:pt x="4326" y="1602"/>
                </a:lnTo>
                <a:lnTo>
                  <a:pt x="4353" y="1602"/>
                </a:lnTo>
                <a:lnTo>
                  <a:pt x="4379" y="1602"/>
                </a:lnTo>
                <a:lnTo>
                  <a:pt x="4410" y="1602"/>
                </a:lnTo>
                <a:lnTo>
                  <a:pt x="4432" y="1602"/>
                </a:lnTo>
                <a:lnTo>
                  <a:pt x="4459" y="1602"/>
                </a:lnTo>
                <a:lnTo>
                  <a:pt x="4485" y="1602"/>
                </a:lnTo>
                <a:lnTo>
                  <a:pt x="4512" y="1602"/>
                </a:lnTo>
                <a:lnTo>
                  <a:pt x="4538" y="1602"/>
                </a:lnTo>
                <a:lnTo>
                  <a:pt x="4565" y="1602"/>
                </a:lnTo>
                <a:lnTo>
                  <a:pt x="4604" y="1602"/>
                </a:lnTo>
                <a:lnTo>
                  <a:pt x="4622" y="1615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"/>
          <p:cNvSpPr/>
          <p:nvPr/>
        </p:nvSpPr>
        <p:spPr>
          <a:xfrm>
            <a:off x="2116080" y="4375080"/>
            <a:ext cx="1319400" cy="411480"/>
          </a:xfrm>
          <a:custGeom>
            <a:avLst/>
            <a:gdLst/>
            <a:ahLst/>
            <a:rect l="0" t="0" r="r" b="b"/>
            <a:pathLst>
              <a:path w="3665" h="1143">
                <a:moveTo>
                  <a:pt x="3665" y="44"/>
                </a:moveTo>
                <a:lnTo>
                  <a:pt x="2567" y="1143"/>
                </a:lnTo>
                <a:lnTo>
                  <a:pt x="1001" y="1143"/>
                </a:lnTo>
                <a:lnTo>
                  <a:pt x="22" y="163"/>
                </a:lnTo>
                <a:lnTo>
                  <a:pt x="0" y="163"/>
                </a:lnTo>
                <a:lnTo>
                  <a:pt x="39" y="163"/>
                </a:lnTo>
                <a:lnTo>
                  <a:pt x="61" y="171"/>
                </a:lnTo>
                <a:lnTo>
                  <a:pt x="92" y="171"/>
                </a:lnTo>
                <a:lnTo>
                  <a:pt x="127" y="171"/>
                </a:lnTo>
                <a:lnTo>
                  <a:pt x="154" y="171"/>
                </a:lnTo>
                <a:lnTo>
                  <a:pt x="180" y="163"/>
                </a:lnTo>
                <a:lnTo>
                  <a:pt x="207" y="158"/>
                </a:lnTo>
                <a:lnTo>
                  <a:pt x="233" y="158"/>
                </a:lnTo>
                <a:lnTo>
                  <a:pt x="273" y="158"/>
                </a:lnTo>
                <a:lnTo>
                  <a:pt x="299" y="149"/>
                </a:lnTo>
                <a:lnTo>
                  <a:pt x="326" y="149"/>
                </a:lnTo>
                <a:lnTo>
                  <a:pt x="366" y="149"/>
                </a:lnTo>
                <a:lnTo>
                  <a:pt x="392" y="149"/>
                </a:lnTo>
                <a:lnTo>
                  <a:pt x="418" y="149"/>
                </a:lnTo>
                <a:lnTo>
                  <a:pt x="445" y="149"/>
                </a:lnTo>
                <a:lnTo>
                  <a:pt x="485" y="158"/>
                </a:lnTo>
                <a:lnTo>
                  <a:pt x="511" y="149"/>
                </a:lnTo>
                <a:lnTo>
                  <a:pt x="537" y="149"/>
                </a:lnTo>
                <a:lnTo>
                  <a:pt x="564" y="136"/>
                </a:lnTo>
                <a:lnTo>
                  <a:pt x="590" y="119"/>
                </a:lnTo>
                <a:lnTo>
                  <a:pt x="621" y="110"/>
                </a:lnTo>
                <a:lnTo>
                  <a:pt x="648" y="105"/>
                </a:lnTo>
                <a:lnTo>
                  <a:pt x="674" y="97"/>
                </a:lnTo>
                <a:lnTo>
                  <a:pt x="696" y="92"/>
                </a:lnTo>
                <a:lnTo>
                  <a:pt x="736" y="92"/>
                </a:lnTo>
                <a:lnTo>
                  <a:pt x="762" y="92"/>
                </a:lnTo>
                <a:lnTo>
                  <a:pt x="802" y="92"/>
                </a:lnTo>
                <a:lnTo>
                  <a:pt x="846" y="97"/>
                </a:lnTo>
                <a:lnTo>
                  <a:pt x="873" y="97"/>
                </a:lnTo>
                <a:lnTo>
                  <a:pt x="899" y="97"/>
                </a:lnTo>
                <a:lnTo>
                  <a:pt x="921" y="92"/>
                </a:lnTo>
                <a:lnTo>
                  <a:pt x="948" y="83"/>
                </a:lnTo>
                <a:lnTo>
                  <a:pt x="978" y="83"/>
                </a:lnTo>
                <a:lnTo>
                  <a:pt x="1001" y="83"/>
                </a:lnTo>
                <a:lnTo>
                  <a:pt x="1031" y="83"/>
                </a:lnTo>
                <a:lnTo>
                  <a:pt x="1053" y="83"/>
                </a:lnTo>
                <a:lnTo>
                  <a:pt x="1093" y="83"/>
                </a:lnTo>
                <a:lnTo>
                  <a:pt x="1120" y="83"/>
                </a:lnTo>
                <a:lnTo>
                  <a:pt x="1159" y="83"/>
                </a:lnTo>
                <a:lnTo>
                  <a:pt x="1186" y="83"/>
                </a:lnTo>
                <a:lnTo>
                  <a:pt x="1212" y="83"/>
                </a:lnTo>
                <a:lnTo>
                  <a:pt x="1239" y="83"/>
                </a:lnTo>
                <a:lnTo>
                  <a:pt x="1270" y="79"/>
                </a:lnTo>
                <a:lnTo>
                  <a:pt x="1305" y="79"/>
                </a:lnTo>
                <a:lnTo>
                  <a:pt x="1331" y="70"/>
                </a:lnTo>
                <a:lnTo>
                  <a:pt x="1371" y="57"/>
                </a:lnTo>
                <a:lnTo>
                  <a:pt x="1397" y="52"/>
                </a:lnTo>
                <a:lnTo>
                  <a:pt x="1437" y="52"/>
                </a:lnTo>
                <a:lnTo>
                  <a:pt x="1464" y="44"/>
                </a:lnTo>
                <a:lnTo>
                  <a:pt x="1490" y="39"/>
                </a:lnTo>
                <a:lnTo>
                  <a:pt x="1516" y="39"/>
                </a:lnTo>
                <a:lnTo>
                  <a:pt x="1543" y="30"/>
                </a:lnTo>
                <a:lnTo>
                  <a:pt x="1600" y="26"/>
                </a:lnTo>
                <a:lnTo>
                  <a:pt x="1636" y="26"/>
                </a:lnTo>
                <a:lnTo>
                  <a:pt x="1662" y="17"/>
                </a:lnTo>
                <a:lnTo>
                  <a:pt x="1688" y="13"/>
                </a:lnTo>
                <a:lnTo>
                  <a:pt x="1715" y="13"/>
                </a:lnTo>
                <a:lnTo>
                  <a:pt x="1741" y="4"/>
                </a:lnTo>
                <a:lnTo>
                  <a:pt x="1768" y="4"/>
                </a:lnTo>
                <a:lnTo>
                  <a:pt x="1807" y="4"/>
                </a:lnTo>
                <a:lnTo>
                  <a:pt x="1835" y="0"/>
                </a:lnTo>
                <a:lnTo>
                  <a:pt x="1861" y="0"/>
                </a:lnTo>
                <a:lnTo>
                  <a:pt x="1892" y="0"/>
                </a:lnTo>
                <a:lnTo>
                  <a:pt x="1914" y="0"/>
                </a:lnTo>
                <a:lnTo>
                  <a:pt x="1941" y="0"/>
                </a:lnTo>
                <a:lnTo>
                  <a:pt x="1967" y="13"/>
                </a:lnTo>
                <a:lnTo>
                  <a:pt x="1994" y="17"/>
                </a:lnTo>
                <a:lnTo>
                  <a:pt x="2020" y="26"/>
                </a:lnTo>
                <a:lnTo>
                  <a:pt x="2047" y="26"/>
                </a:lnTo>
                <a:lnTo>
                  <a:pt x="2073" y="26"/>
                </a:lnTo>
                <a:lnTo>
                  <a:pt x="2113" y="26"/>
                </a:lnTo>
                <a:lnTo>
                  <a:pt x="2157" y="26"/>
                </a:lnTo>
                <a:lnTo>
                  <a:pt x="2179" y="26"/>
                </a:lnTo>
                <a:lnTo>
                  <a:pt x="2219" y="17"/>
                </a:lnTo>
                <a:lnTo>
                  <a:pt x="2245" y="13"/>
                </a:lnTo>
                <a:lnTo>
                  <a:pt x="2272" y="4"/>
                </a:lnTo>
                <a:lnTo>
                  <a:pt x="2298" y="0"/>
                </a:lnTo>
                <a:lnTo>
                  <a:pt x="2324" y="0"/>
                </a:lnTo>
                <a:lnTo>
                  <a:pt x="2351" y="0"/>
                </a:lnTo>
                <a:lnTo>
                  <a:pt x="2391" y="0"/>
                </a:lnTo>
                <a:lnTo>
                  <a:pt x="2417" y="0"/>
                </a:lnTo>
                <a:lnTo>
                  <a:pt x="2443" y="4"/>
                </a:lnTo>
                <a:lnTo>
                  <a:pt x="2470" y="17"/>
                </a:lnTo>
                <a:lnTo>
                  <a:pt x="2496" y="26"/>
                </a:lnTo>
                <a:lnTo>
                  <a:pt x="2527" y="30"/>
                </a:lnTo>
                <a:lnTo>
                  <a:pt x="2563" y="39"/>
                </a:lnTo>
                <a:lnTo>
                  <a:pt x="2607" y="44"/>
                </a:lnTo>
                <a:lnTo>
                  <a:pt x="2642" y="44"/>
                </a:lnTo>
                <a:lnTo>
                  <a:pt x="2668" y="52"/>
                </a:lnTo>
                <a:lnTo>
                  <a:pt x="2695" y="52"/>
                </a:lnTo>
                <a:lnTo>
                  <a:pt x="2712" y="30"/>
                </a:lnTo>
                <a:lnTo>
                  <a:pt x="2735" y="26"/>
                </a:lnTo>
                <a:lnTo>
                  <a:pt x="2761" y="17"/>
                </a:lnTo>
                <a:lnTo>
                  <a:pt x="2787" y="13"/>
                </a:lnTo>
                <a:lnTo>
                  <a:pt x="2814" y="13"/>
                </a:lnTo>
                <a:lnTo>
                  <a:pt x="2867" y="13"/>
                </a:lnTo>
                <a:lnTo>
                  <a:pt x="2893" y="13"/>
                </a:lnTo>
                <a:lnTo>
                  <a:pt x="2920" y="17"/>
                </a:lnTo>
                <a:lnTo>
                  <a:pt x="2951" y="26"/>
                </a:lnTo>
                <a:lnTo>
                  <a:pt x="2973" y="26"/>
                </a:lnTo>
                <a:lnTo>
                  <a:pt x="3017" y="39"/>
                </a:lnTo>
                <a:lnTo>
                  <a:pt x="3052" y="39"/>
                </a:lnTo>
                <a:lnTo>
                  <a:pt x="3092" y="44"/>
                </a:lnTo>
                <a:lnTo>
                  <a:pt x="3118" y="52"/>
                </a:lnTo>
                <a:lnTo>
                  <a:pt x="3145" y="66"/>
                </a:lnTo>
                <a:lnTo>
                  <a:pt x="3171" y="70"/>
                </a:lnTo>
                <a:lnTo>
                  <a:pt x="3211" y="79"/>
                </a:lnTo>
                <a:lnTo>
                  <a:pt x="3250" y="83"/>
                </a:lnTo>
                <a:lnTo>
                  <a:pt x="3277" y="83"/>
                </a:lnTo>
                <a:lnTo>
                  <a:pt x="3303" y="83"/>
                </a:lnTo>
                <a:lnTo>
                  <a:pt x="3330" y="79"/>
                </a:lnTo>
                <a:lnTo>
                  <a:pt x="3356" y="66"/>
                </a:lnTo>
                <a:lnTo>
                  <a:pt x="3383" y="52"/>
                </a:lnTo>
                <a:lnTo>
                  <a:pt x="3409" y="52"/>
                </a:lnTo>
                <a:lnTo>
                  <a:pt x="3449" y="44"/>
                </a:lnTo>
                <a:lnTo>
                  <a:pt x="3475" y="30"/>
                </a:lnTo>
                <a:lnTo>
                  <a:pt x="3502" y="26"/>
                </a:lnTo>
                <a:lnTo>
                  <a:pt x="3528" y="13"/>
                </a:lnTo>
                <a:lnTo>
                  <a:pt x="3555" y="17"/>
                </a:lnTo>
                <a:lnTo>
                  <a:pt x="3572" y="39"/>
                </a:lnTo>
                <a:lnTo>
                  <a:pt x="3594" y="44"/>
                </a:lnTo>
                <a:lnTo>
                  <a:pt x="3621" y="44"/>
                </a:lnTo>
                <a:lnTo>
                  <a:pt x="3652" y="52"/>
                </a:lnTo>
                <a:lnTo>
                  <a:pt x="3665" y="44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"/>
          <p:cNvSpPr/>
          <p:nvPr/>
        </p:nvSpPr>
        <p:spPr>
          <a:xfrm>
            <a:off x="2438280" y="6437160"/>
            <a:ext cx="729000" cy="144720"/>
          </a:xfrm>
          <a:custGeom>
            <a:avLst/>
            <a:gdLst/>
            <a:ahLst/>
            <a:rect l="0" t="0" r="r" b="b"/>
            <a:pathLst>
              <a:path w="2025" h="402">
                <a:moveTo>
                  <a:pt x="2025" y="375"/>
                </a:moveTo>
                <a:lnTo>
                  <a:pt x="1650" y="0"/>
                </a:lnTo>
                <a:lnTo>
                  <a:pt x="70" y="0"/>
                </a:lnTo>
                <a:lnTo>
                  <a:pt x="0" y="70"/>
                </a:lnTo>
                <a:lnTo>
                  <a:pt x="26" y="79"/>
                </a:lnTo>
                <a:lnTo>
                  <a:pt x="52" y="92"/>
                </a:lnTo>
                <a:lnTo>
                  <a:pt x="79" y="105"/>
                </a:lnTo>
                <a:lnTo>
                  <a:pt x="105" y="105"/>
                </a:lnTo>
                <a:lnTo>
                  <a:pt x="132" y="105"/>
                </a:lnTo>
                <a:lnTo>
                  <a:pt x="163" y="105"/>
                </a:lnTo>
                <a:lnTo>
                  <a:pt x="185" y="119"/>
                </a:lnTo>
                <a:lnTo>
                  <a:pt x="211" y="123"/>
                </a:lnTo>
                <a:lnTo>
                  <a:pt x="238" y="132"/>
                </a:lnTo>
                <a:lnTo>
                  <a:pt x="264" y="136"/>
                </a:lnTo>
                <a:lnTo>
                  <a:pt x="291" y="136"/>
                </a:lnTo>
                <a:lnTo>
                  <a:pt x="321" y="149"/>
                </a:lnTo>
                <a:lnTo>
                  <a:pt x="343" y="149"/>
                </a:lnTo>
                <a:lnTo>
                  <a:pt x="370" y="158"/>
                </a:lnTo>
                <a:lnTo>
                  <a:pt x="396" y="171"/>
                </a:lnTo>
                <a:lnTo>
                  <a:pt x="427" y="176"/>
                </a:lnTo>
                <a:lnTo>
                  <a:pt x="449" y="185"/>
                </a:lnTo>
                <a:lnTo>
                  <a:pt x="476" y="189"/>
                </a:lnTo>
                <a:lnTo>
                  <a:pt x="515" y="189"/>
                </a:lnTo>
                <a:lnTo>
                  <a:pt x="542" y="189"/>
                </a:lnTo>
                <a:lnTo>
                  <a:pt x="568" y="212"/>
                </a:lnTo>
                <a:lnTo>
                  <a:pt x="595" y="217"/>
                </a:lnTo>
                <a:lnTo>
                  <a:pt x="621" y="217"/>
                </a:lnTo>
                <a:lnTo>
                  <a:pt x="661" y="217"/>
                </a:lnTo>
                <a:lnTo>
                  <a:pt x="687" y="217"/>
                </a:lnTo>
                <a:lnTo>
                  <a:pt x="714" y="230"/>
                </a:lnTo>
                <a:lnTo>
                  <a:pt x="740" y="230"/>
                </a:lnTo>
                <a:lnTo>
                  <a:pt x="767" y="239"/>
                </a:lnTo>
                <a:lnTo>
                  <a:pt x="793" y="239"/>
                </a:lnTo>
                <a:lnTo>
                  <a:pt x="820" y="239"/>
                </a:lnTo>
                <a:lnTo>
                  <a:pt x="846" y="239"/>
                </a:lnTo>
                <a:lnTo>
                  <a:pt x="873" y="256"/>
                </a:lnTo>
                <a:lnTo>
                  <a:pt x="899" y="269"/>
                </a:lnTo>
                <a:lnTo>
                  <a:pt x="939" y="269"/>
                </a:lnTo>
                <a:lnTo>
                  <a:pt x="965" y="269"/>
                </a:lnTo>
                <a:lnTo>
                  <a:pt x="996" y="283"/>
                </a:lnTo>
                <a:lnTo>
                  <a:pt x="1019" y="296"/>
                </a:lnTo>
                <a:lnTo>
                  <a:pt x="1046" y="305"/>
                </a:lnTo>
                <a:lnTo>
                  <a:pt x="1085" y="318"/>
                </a:lnTo>
                <a:lnTo>
                  <a:pt x="1112" y="336"/>
                </a:lnTo>
                <a:lnTo>
                  <a:pt x="1138" y="344"/>
                </a:lnTo>
                <a:lnTo>
                  <a:pt x="1165" y="349"/>
                </a:lnTo>
                <a:lnTo>
                  <a:pt x="1204" y="349"/>
                </a:lnTo>
                <a:lnTo>
                  <a:pt x="1235" y="344"/>
                </a:lnTo>
                <a:lnTo>
                  <a:pt x="1257" y="331"/>
                </a:lnTo>
                <a:lnTo>
                  <a:pt x="1297" y="322"/>
                </a:lnTo>
                <a:lnTo>
                  <a:pt x="1323" y="331"/>
                </a:lnTo>
                <a:lnTo>
                  <a:pt x="1337" y="358"/>
                </a:lnTo>
                <a:lnTo>
                  <a:pt x="1363" y="362"/>
                </a:lnTo>
                <a:lnTo>
                  <a:pt x="1390" y="362"/>
                </a:lnTo>
                <a:lnTo>
                  <a:pt x="1416" y="371"/>
                </a:lnTo>
                <a:lnTo>
                  <a:pt x="1442" y="371"/>
                </a:lnTo>
                <a:lnTo>
                  <a:pt x="1469" y="371"/>
                </a:lnTo>
                <a:lnTo>
                  <a:pt x="1495" y="371"/>
                </a:lnTo>
                <a:lnTo>
                  <a:pt x="1526" y="375"/>
                </a:lnTo>
                <a:lnTo>
                  <a:pt x="1548" y="384"/>
                </a:lnTo>
                <a:lnTo>
                  <a:pt x="1575" y="389"/>
                </a:lnTo>
                <a:lnTo>
                  <a:pt x="1601" y="389"/>
                </a:lnTo>
                <a:lnTo>
                  <a:pt x="1632" y="389"/>
                </a:lnTo>
                <a:lnTo>
                  <a:pt x="1654" y="389"/>
                </a:lnTo>
                <a:lnTo>
                  <a:pt x="1681" y="389"/>
                </a:lnTo>
                <a:lnTo>
                  <a:pt x="1707" y="397"/>
                </a:lnTo>
                <a:lnTo>
                  <a:pt x="1734" y="402"/>
                </a:lnTo>
                <a:lnTo>
                  <a:pt x="1760" y="402"/>
                </a:lnTo>
                <a:lnTo>
                  <a:pt x="1786" y="402"/>
                </a:lnTo>
                <a:lnTo>
                  <a:pt x="1826" y="402"/>
                </a:lnTo>
                <a:lnTo>
                  <a:pt x="1853" y="397"/>
                </a:lnTo>
                <a:lnTo>
                  <a:pt x="1883" y="397"/>
                </a:lnTo>
                <a:lnTo>
                  <a:pt x="1906" y="397"/>
                </a:lnTo>
                <a:lnTo>
                  <a:pt x="1945" y="397"/>
                </a:lnTo>
                <a:lnTo>
                  <a:pt x="1972" y="397"/>
                </a:lnTo>
                <a:lnTo>
                  <a:pt x="1998" y="389"/>
                </a:lnTo>
                <a:lnTo>
                  <a:pt x="2025" y="375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"/>
          <p:cNvSpPr/>
          <p:nvPr/>
        </p:nvSpPr>
        <p:spPr>
          <a:xfrm>
            <a:off x="2467080" y="6442200"/>
            <a:ext cx="5652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1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5272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5276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9" name=""/>
          <p:cNvSpPr/>
          <p:nvPr/>
        </p:nvSpPr>
        <p:spPr>
          <a:xfrm>
            <a:off x="2467080" y="405936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"/>
          <p:cNvSpPr/>
          <p:nvPr/>
        </p:nvSpPr>
        <p:spPr>
          <a:xfrm>
            <a:off x="3035160" y="4043520"/>
            <a:ext cx="0" cy="26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"/>
          <p:cNvSpPr/>
          <p:nvPr/>
        </p:nvSpPr>
        <p:spPr>
          <a:xfrm>
            <a:off x="4803840" y="1357200"/>
            <a:ext cx="336600" cy="12492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 txBox="1"/>
          <p:nvPr/>
        </p:nvSpPr>
        <p:spPr>
          <a:xfrm>
            <a:off x="4741920" y="3137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2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5313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5317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0" name=""/>
          <p:cNvSpPr/>
          <p:nvPr/>
        </p:nvSpPr>
        <p:spPr>
          <a:xfrm>
            <a:off x="6958080" y="5889600"/>
            <a:ext cx="568440" cy="3063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"/>
          <p:cNvSpPr/>
          <p:nvPr/>
        </p:nvSpPr>
        <p:spPr>
          <a:xfrm>
            <a:off x="6953400" y="5265720"/>
            <a:ext cx="568440" cy="30636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"/>
          <p:cNvSpPr txBox="1"/>
          <p:nvPr/>
        </p:nvSpPr>
        <p:spPr>
          <a:xfrm>
            <a:off x="7597800" y="5284800"/>
            <a:ext cx="469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 txBox="1"/>
          <p:nvPr/>
        </p:nvSpPr>
        <p:spPr>
          <a:xfrm>
            <a:off x="7588080" y="589752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"/>
          <p:cNvSpPr/>
          <p:nvPr/>
        </p:nvSpPr>
        <p:spPr>
          <a:xfrm>
            <a:off x="1952640" y="5570640"/>
            <a:ext cx="1663920" cy="581400"/>
          </a:xfrm>
          <a:custGeom>
            <a:avLst/>
            <a:gdLst/>
            <a:ahLst/>
            <a:rect l="0" t="0" r="r" b="b"/>
            <a:pathLst>
              <a:path w="4622" h="1615">
                <a:moveTo>
                  <a:pt x="4622" y="1615"/>
                </a:moveTo>
                <a:lnTo>
                  <a:pt x="3008" y="0"/>
                </a:lnTo>
                <a:lnTo>
                  <a:pt x="1468" y="0"/>
                </a:lnTo>
                <a:lnTo>
                  <a:pt x="22" y="1448"/>
                </a:lnTo>
                <a:lnTo>
                  <a:pt x="0" y="1448"/>
                </a:lnTo>
                <a:lnTo>
                  <a:pt x="26" y="1457"/>
                </a:lnTo>
                <a:lnTo>
                  <a:pt x="44" y="1483"/>
                </a:lnTo>
                <a:lnTo>
                  <a:pt x="66" y="1483"/>
                </a:lnTo>
                <a:lnTo>
                  <a:pt x="92" y="1496"/>
                </a:lnTo>
                <a:lnTo>
                  <a:pt x="119" y="1488"/>
                </a:lnTo>
                <a:lnTo>
                  <a:pt x="149" y="1474"/>
                </a:lnTo>
                <a:lnTo>
                  <a:pt x="171" y="1457"/>
                </a:lnTo>
                <a:lnTo>
                  <a:pt x="198" y="1448"/>
                </a:lnTo>
                <a:lnTo>
                  <a:pt x="251" y="1448"/>
                </a:lnTo>
                <a:lnTo>
                  <a:pt x="291" y="1457"/>
                </a:lnTo>
                <a:lnTo>
                  <a:pt x="321" y="1457"/>
                </a:lnTo>
                <a:lnTo>
                  <a:pt x="343" y="1457"/>
                </a:lnTo>
                <a:lnTo>
                  <a:pt x="374" y="1448"/>
                </a:lnTo>
                <a:lnTo>
                  <a:pt x="396" y="1448"/>
                </a:lnTo>
                <a:lnTo>
                  <a:pt x="423" y="1448"/>
                </a:lnTo>
                <a:lnTo>
                  <a:pt x="449" y="1457"/>
                </a:lnTo>
                <a:lnTo>
                  <a:pt x="476" y="1457"/>
                </a:lnTo>
                <a:lnTo>
                  <a:pt x="502" y="1470"/>
                </a:lnTo>
                <a:lnTo>
                  <a:pt x="533" y="1470"/>
                </a:lnTo>
                <a:lnTo>
                  <a:pt x="568" y="1470"/>
                </a:lnTo>
                <a:lnTo>
                  <a:pt x="599" y="1470"/>
                </a:lnTo>
                <a:lnTo>
                  <a:pt x="626" y="1474"/>
                </a:lnTo>
                <a:lnTo>
                  <a:pt x="648" y="1474"/>
                </a:lnTo>
                <a:lnTo>
                  <a:pt x="687" y="1474"/>
                </a:lnTo>
                <a:lnTo>
                  <a:pt x="714" y="1474"/>
                </a:lnTo>
                <a:lnTo>
                  <a:pt x="740" y="1483"/>
                </a:lnTo>
                <a:lnTo>
                  <a:pt x="767" y="1488"/>
                </a:lnTo>
                <a:lnTo>
                  <a:pt x="793" y="1496"/>
                </a:lnTo>
                <a:lnTo>
                  <a:pt x="820" y="1496"/>
                </a:lnTo>
                <a:lnTo>
                  <a:pt x="846" y="1496"/>
                </a:lnTo>
                <a:lnTo>
                  <a:pt x="877" y="1496"/>
                </a:lnTo>
                <a:lnTo>
                  <a:pt x="899" y="1496"/>
                </a:lnTo>
                <a:lnTo>
                  <a:pt x="926" y="1496"/>
                </a:lnTo>
                <a:lnTo>
                  <a:pt x="952" y="1501"/>
                </a:lnTo>
                <a:lnTo>
                  <a:pt x="992" y="1510"/>
                </a:lnTo>
                <a:lnTo>
                  <a:pt x="1023" y="1514"/>
                </a:lnTo>
                <a:lnTo>
                  <a:pt x="1045" y="1514"/>
                </a:lnTo>
                <a:lnTo>
                  <a:pt x="1075" y="1523"/>
                </a:lnTo>
                <a:lnTo>
                  <a:pt x="1098" y="1523"/>
                </a:lnTo>
                <a:lnTo>
                  <a:pt x="1128" y="1523"/>
                </a:lnTo>
                <a:lnTo>
                  <a:pt x="1150" y="1523"/>
                </a:lnTo>
                <a:lnTo>
                  <a:pt x="1181" y="1523"/>
                </a:lnTo>
                <a:lnTo>
                  <a:pt x="1208" y="1514"/>
                </a:lnTo>
                <a:lnTo>
                  <a:pt x="1243" y="1510"/>
                </a:lnTo>
                <a:lnTo>
                  <a:pt x="1274" y="1510"/>
                </a:lnTo>
                <a:lnTo>
                  <a:pt x="1314" y="1501"/>
                </a:lnTo>
                <a:lnTo>
                  <a:pt x="1336" y="1496"/>
                </a:lnTo>
                <a:lnTo>
                  <a:pt x="1362" y="1496"/>
                </a:lnTo>
                <a:lnTo>
                  <a:pt x="1389" y="1496"/>
                </a:lnTo>
                <a:lnTo>
                  <a:pt x="1419" y="1501"/>
                </a:lnTo>
                <a:lnTo>
                  <a:pt x="1441" y="1510"/>
                </a:lnTo>
                <a:lnTo>
                  <a:pt x="1468" y="1510"/>
                </a:lnTo>
                <a:lnTo>
                  <a:pt x="1494" y="1510"/>
                </a:lnTo>
                <a:lnTo>
                  <a:pt x="1538" y="1514"/>
                </a:lnTo>
                <a:lnTo>
                  <a:pt x="1565" y="1514"/>
                </a:lnTo>
                <a:lnTo>
                  <a:pt x="1591" y="1523"/>
                </a:lnTo>
                <a:lnTo>
                  <a:pt x="1618" y="1523"/>
                </a:lnTo>
                <a:lnTo>
                  <a:pt x="1644" y="1523"/>
                </a:lnTo>
                <a:lnTo>
                  <a:pt x="1666" y="1523"/>
                </a:lnTo>
                <a:lnTo>
                  <a:pt x="1697" y="1523"/>
                </a:lnTo>
                <a:lnTo>
                  <a:pt x="1759" y="1523"/>
                </a:lnTo>
                <a:lnTo>
                  <a:pt x="1799" y="1523"/>
                </a:lnTo>
                <a:lnTo>
                  <a:pt x="1830" y="1523"/>
                </a:lnTo>
                <a:lnTo>
                  <a:pt x="1878" y="1514"/>
                </a:lnTo>
                <a:lnTo>
                  <a:pt x="1905" y="1510"/>
                </a:lnTo>
                <a:lnTo>
                  <a:pt x="1931" y="1510"/>
                </a:lnTo>
                <a:lnTo>
                  <a:pt x="1957" y="1510"/>
                </a:lnTo>
                <a:lnTo>
                  <a:pt x="1984" y="1510"/>
                </a:lnTo>
                <a:lnTo>
                  <a:pt x="2015" y="1510"/>
                </a:lnTo>
                <a:lnTo>
                  <a:pt x="2037" y="1510"/>
                </a:lnTo>
                <a:lnTo>
                  <a:pt x="2063" y="1510"/>
                </a:lnTo>
                <a:lnTo>
                  <a:pt x="2090" y="1510"/>
                </a:lnTo>
                <a:lnTo>
                  <a:pt x="2121" y="1510"/>
                </a:lnTo>
                <a:lnTo>
                  <a:pt x="2143" y="1510"/>
                </a:lnTo>
                <a:lnTo>
                  <a:pt x="2187" y="1510"/>
                </a:lnTo>
                <a:lnTo>
                  <a:pt x="2209" y="1510"/>
                </a:lnTo>
                <a:lnTo>
                  <a:pt x="2235" y="1523"/>
                </a:lnTo>
                <a:lnTo>
                  <a:pt x="2262" y="1527"/>
                </a:lnTo>
                <a:lnTo>
                  <a:pt x="2288" y="1536"/>
                </a:lnTo>
                <a:lnTo>
                  <a:pt x="2316" y="1540"/>
                </a:lnTo>
                <a:lnTo>
                  <a:pt x="2342" y="1549"/>
                </a:lnTo>
                <a:lnTo>
                  <a:pt x="2369" y="1549"/>
                </a:lnTo>
                <a:lnTo>
                  <a:pt x="2421" y="1549"/>
                </a:lnTo>
                <a:lnTo>
                  <a:pt x="2448" y="1549"/>
                </a:lnTo>
                <a:lnTo>
                  <a:pt x="2488" y="1549"/>
                </a:lnTo>
                <a:lnTo>
                  <a:pt x="2518" y="1549"/>
                </a:lnTo>
                <a:lnTo>
                  <a:pt x="2541" y="1549"/>
                </a:lnTo>
                <a:lnTo>
                  <a:pt x="2567" y="1549"/>
                </a:lnTo>
                <a:lnTo>
                  <a:pt x="2607" y="1549"/>
                </a:lnTo>
                <a:lnTo>
                  <a:pt x="2633" y="1554"/>
                </a:lnTo>
                <a:lnTo>
                  <a:pt x="2660" y="1563"/>
                </a:lnTo>
                <a:lnTo>
                  <a:pt x="2686" y="1563"/>
                </a:lnTo>
                <a:lnTo>
                  <a:pt x="2730" y="1567"/>
                </a:lnTo>
                <a:lnTo>
                  <a:pt x="2757" y="1576"/>
                </a:lnTo>
                <a:lnTo>
                  <a:pt x="2779" y="1576"/>
                </a:lnTo>
                <a:lnTo>
                  <a:pt x="2805" y="1576"/>
                </a:lnTo>
                <a:lnTo>
                  <a:pt x="2836" y="1576"/>
                </a:lnTo>
                <a:lnTo>
                  <a:pt x="2858" y="1576"/>
                </a:lnTo>
                <a:lnTo>
                  <a:pt x="2898" y="1576"/>
                </a:lnTo>
                <a:lnTo>
                  <a:pt x="2924" y="1567"/>
                </a:lnTo>
                <a:lnTo>
                  <a:pt x="2951" y="1567"/>
                </a:lnTo>
                <a:lnTo>
                  <a:pt x="2990" y="1567"/>
                </a:lnTo>
                <a:lnTo>
                  <a:pt x="3034" y="1567"/>
                </a:lnTo>
                <a:lnTo>
                  <a:pt x="3056" y="1567"/>
                </a:lnTo>
                <a:lnTo>
                  <a:pt x="3127" y="1576"/>
                </a:lnTo>
                <a:lnTo>
                  <a:pt x="3392" y="1593"/>
                </a:lnTo>
                <a:lnTo>
                  <a:pt x="3427" y="1602"/>
                </a:lnTo>
                <a:lnTo>
                  <a:pt x="3467" y="1593"/>
                </a:lnTo>
                <a:lnTo>
                  <a:pt x="3493" y="1593"/>
                </a:lnTo>
                <a:lnTo>
                  <a:pt x="3533" y="1593"/>
                </a:lnTo>
                <a:lnTo>
                  <a:pt x="3572" y="1593"/>
                </a:lnTo>
                <a:lnTo>
                  <a:pt x="3612" y="1593"/>
                </a:lnTo>
                <a:lnTo>
                  <a:pt x="3639" y="1593"/>
                </a:lnTo>
                <a:lnTo>
                  <a:pt x="3683" y="1589"/>
                </a:lnTo>
                <a:lnTo>
                  <a:pt x="3718" y="1589"/>
                </a:lnTo>
                <a:lnTo>
                  <a:pt x="3744" y="1589"/>
                </a:lnTo>
                <a:lnTo>
                  <a:pt x="3788" y="1589"/>
                </a:lnTo>
                <a:lnTo>
                  <a:pt x="3811" y="1589"/>
                </a:lnTo>
                <a:lnTo>
                  <a:pt x="3841" y="1589"/>
                </a:lnTo>
                <a:lnTo>
                  <a:pt x="3863" y="1589"/>
                </a:lnTo>
                <a:lnTo>
                  <a:pt x="3890" y="1589"/>
                </a:lnTo>
                <a:lnTo>
                  <a:pt x="3934" y="1589"/>
                </a:lnTo>
                <a:lnTo>
                  <a:pt x="3956" y="1589"/>
                </a:lnTo>
                <a:lnTo>
                  <a:pt x="3996" y="1589"/>
                </a:lnTo>
                <a:lnTo>
                  <a:pt x="4022" y="1593"/>
                </a:lnTo>
                <a:lnTo>
                  <a:pt x="4075" y="1593"/>
                </a:lnTo>
                <a:lnTo>
                  <a:pt x="4119" y="1593"/>
                </a:lnTo>
                <a:lnTo>
                  <a:pt x="4146" y="1593"/>
                </a:lnTo>
                <a:lnTo>
                  <a:pt x="4172" y="1602"/>
                </a:lnTo>
                <a:lnTo>
                  <a:pt x="4194" y="1602"/>
                </a:lnTo>
                <a:lnTo>
                  <a:pt x="4221" y="1602"/>
                </a:lnTo>
                <a:lnTo>
                  <a:pt x="4247" y="1602"/>
                </a:lnTo>
                <a:lnTo>
                  <a:pt x="4274" y="1602"/>
                </a:lnTo>
                <a:lnTo>
                  <a:pt x="4300" y="1602"/>
                </a:lnTo>
                <a:lnTo>
                  <a:pt x="4326" y="1602"/>
                </a:lnTo>
                <a:lnTo>
                  <a:pt x="4353" y="1602"/>
                </a:lnTo>
                <a:lnTo>
                  <a:pt x="4379" y="1602"/>
                </a:lnTo>
                <a:lnTo>
                  <a:pt x="4410" y="1602"/>
                </a:lnTo>
                <a:lnTo>
                  <a:pt x="4432" y="1602"/>
                </a:lnTo>
                <a:lnTo>
                  <a:pt x="4459" y="1602"/>
                </a:lnTo>
                <a:lnTo>
                  <a:pt x="4485" y="1602"/>
                </a:lnTo>
                <a:lnTo>
                  <a:pt x="4512" y="1602"/>
                </a:lnTo>
                <a:lnTo>
                  <a:pt x="4538" y="1602"/>
                </a:lnTo>
                <a:lnTo>
                  <a:pt x="4565" y="1602"/>
                </a:lnTo>
                <a:lnTo>
                  <a:pt x="4604" y="1602"/>
                </a:lnTo>
                <a:lnTo>
                  <a:pt x="4622" y="1615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1" name=""/>
          <p:cNvGrpSpPr/>
          <p:nvPr/>
        </p:nvGrpSpPr>
        <p:grpSpPr>
          <a:xfrm>
            <a:off x="1343160" y="5567400"/>
            <a:ext cx="2719800" cy="586080"/>
            <a:chOff x="1343160" y="5567400"/>
            <a:chExt cx="2719800" cy="586080"/>
          </a:xfrm>
        </p:grpSpPr>
        <p:sp>
          <p:nvSpPr>
            <p:cNvPr id="5352" name=""/>
            <p:cNvSpPr/>
            <p:nvPr/>
          </p:nvSpPr>
          <p:spPr>
            <a:xfrm>
              <a:off x="3035160" y="5567400"/>
              <a:ext cx="574920" cy="574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H="1">
              <a:off x="1947960" y="5575320"/>
              <a:ext cx="523800" cy="523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343160" y="6075360"/>
              <a:ext cx="2719800" cy="78120"/>
            </a:xfrm>
            <a:custGeom>
              <a:avLst/>
              <a:gdLst/>
              <a:ahLst/>
              <a:rect l="0" t="0" r="r" b="b"/>
              <a:pathLst>
                <a:path fill="none" w="7555" h="217">
                  <a:moveTo>
                    <a:pt x="7555" y="124"/>
                  </a:moveTo>
                  <a:lnTo>
                    <a:pt x="7463" y="124"/>
                  </a:lnTo>
                  <a:lnTo>
                    <a:pt x="7370" y="124"/>
                  </a:lnTo>
                  <a:lnTo>
                    <a:pt x="7247" y="155"/>
                  </a:lnTo>
                  <a:lnTo>
                    <a:pt x="7154" y="155"/>
                  </a:lnTo>
                  <a:lnTo>
                    <a:pt x="7061" y="155"/>
                  </a:lnTo>
                  <a:lnTo>
                    <a:pt x="6912" y="186"/>
                  </a:lnTo>
                  <a:lnTo>
                    <a:pt x="6819" y="217"/>
                  </a:lnTo>
                  <a:lnTo>
                    <a:pt x="6726" y="217"/>
                  </a:lnTo>
                  <a:lnTo>
                    <a:pt x="6572" y="217"/>
                  </a:lnTo>
                  <a:lnTo>
                    <a:pt x="6449" y="217"/>
                  </a:lnTo>
                  <a:lnTo>
                    <a:pt x="6356" y="217"/>
                  </a:lnTo>
                  <a:lnTo>
                    <a:pt x="6202" y="186"/>
                  </a:lnTo>
                  <a:lnTo>
                    <a:pt x="5831" y="186"/>
                  </a:lnTo>
                  <a:lnTo>
                    <a:pt x="5739" y="186"/>
                  </a:lnTo>
                  <a:lnTo>
                    <a:pt x="5526" y="186"/>
                  </a:lnTo>
                  <a:lnTo>
                    <a:pt x="5433" y="186"/>
                  </a:lnTo>
                  <a:lnTo>
                    <a:pt x="5341" y="186"/>
                  </a:lnTo>
                  <a:lnTo>
                    <a:pt x="5248" y="186"/>
                  </a:lnTo>
                  <a:lnTo>
                    <a:pt x="5155" y="155"/>
                  </a:lnTo>
                  <a:lnTo>
                    <a:pt x="5001" y="155"/>
                  </a:lnTo>
                  <a:lnTo>
                    <a:pt x="4785" y="155"/>
                  </a:lnTo>
                  <a:lnTo>
                    <a:pt x="4631" y="155"/>
                  </a:lnTo>
                  <a:lnTo>
                    <a:pt x="4415" y="155"/>
                  </a:lnTo>
                  <a:lnTo>
                    <a:pt x="4234" y="124"/>
                  </a:lnTo>
                  <a:lnTo>
                    <a:pt x="4141" y="124"/>
                  </a:lnTo>
                  <a:lnTo>
                    <a:pt x="3987" y="124"/>
                  </a:lnTo>
                  <a:lnTo>
                    <a:pt x="3863" y="92"/>
                  </a:lnTo>
                  <a:lnTo>
                    <a:pt x="3771" y="92"/>
                  </a:lnTo>
                  <a:lnTo>
                    <a:pt x="3647" y="92"/>
                  </a:lnTo>
                  <a:lnTo>
                    <a:pt x="3555" y="92"/>
                  </a:lnTo>
                  <a:lnTo>
                    <a:pt x="3431" y="92"/>
                  </a:lnTo>
                  <a:lnTo>
                    <a:pt x="3339" y="92"/>
                  </a:lnTo>
                  <a:lnTo>
                    <a:pt x="3123" y="92"/>
                  </a:lnTo>
                  <a:lnTo>
                    <a:pt x="3030" y="92"/>
                  </a:lnTo>
                  <a:lnTo>
                    <a:pt x="2911" y="92"/>
                  </a:lnTo>
                  <a:lnTo>
                    <a:pt x="2787" y="92"/>
                  </a:lnTo>
                  <a:lnTo>
                    <a:pt x="2695" y="92"/>
                  </a:lnTo>
                  <a:lnTo>
                    <a:pt x="2448" y="61"/>
                  </a:lnTo>
                  <a:lnTo>
                    <a:pt x="2294" y="61"/>
                  </a:lnTo>
                  <a:lnTo>
                    <a:pt x="2170" y="30"/>
                  </a:lnTo>
                  <a:lnTo>
                    <a:pt x="2077" y="30"/>
                  </a:lnTo>
                  <a:lnTo>
                    <a:pt x="1892" y="30"/>
                  </a:lnTo>
                  <a:lnTo>
                    <a:pt x="1803" y="70"/>
                  </a:lnTo>
                  <a:lnTo>
                    <a:pt x="1591" y="39"/>
                  </a:lnTo>
                  <a:lnTo>
                    <a:pt x="1441" y="30"/>
                  </a:lnTo>
                  <a:lnTo>
                    <a:pt x="1340" y="0"/>
                  </a:lnTo>
                  <a:lnTo>
                    <a:pt x="1230" y="39"/>
                  </a:lnTo>
                  <a:lnTo>
                    <a:pt x="1049" y="39"/>
                  </a:lnTo>
                  <a:lnTo>
                    <a:pt x="793" y="0"/>
                  </a:lnTo>
                  <a:lnTo>
                    <a:pt x="599" y="0"/>
                  </a:lnTo>
                  <a:lnTo>
                    <a:pt x="476" y="17"/>
                  </a:lnTo>
                  <a:lnTo>
                    <a:pt x="304" y="1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1887480" y="6413400"/>
            <a:ext cx="1721160" cy="160560"/>
          </a:xfrm>
          <a:custGeom>
            <a:avLst/>
            <a:gdLst/>
            <a:ahLst/>
            <a:rect l="0" t="0" r="r" b="b"/>
            <a:pathLst>
              <a:path fill="none" w="4781" h="446">
                <a:moveTo>
                  <a:pt x="4781" y="353"/>
                </a:moveTo>
                <a:lnTo>
                  <a:pt x="4688" y="384"/>
                </a:lnTo>
                <a:lnTo>
                  <a:pt x="4595" y="384"/>
                </a:lnTo>
                <a:lnTo>
                  <a:pt x="4441" y="384"/>
                </a:lnTo>
                <a:lnTo>
                  <a:pt x="4348" y="353"/>
                </a:lnTo>
                <a:lnTo>
                  <a:pt x="4256" y="353"/>
                </a:lnTo>
                <a:lnTo>
                  <a:pt x="4075" y="384"/>
                </a:lnTo>
                <a:lnTo>
                  <a:pt x="3982" y="384"/>
                </a:lnTo>
                <a:lnTo>
                  <a:pt x="3890" y="415"/>
                </a:lnTo>
                <a:lnTo>
                  <a:pt x="3766" y="446"/>
                </a:lnTo>
                <a:lnTo>
                  <a:pt x="3674" y="446"/>
                </a:lnTo>
                <a:lnTo>
                  <a:pt x="3519" y="446"/>
                </a:lnTo>
                <a:lnTo>
                  <a:pt x="3427" y="446"/>
                </a:lnTo>
                <a:lnTo>
                  <a:pt x="3334" y="446"/>
                </a:lnTo>
                <a:lnTo>
                  <a:pt x="3242" y="446"/>
                </a:lnTo>
                <a:lnTo>
                  <a:pt x="3149" y="446"/>
                </a:lnTo>
                <a:lnTo>
                  <a:pt x="3065" y="424"/>
                </a:lnTo>
                <a:lnTo>
                  <a:pt x="2924" y="424"/>
                </a:lnTo>
                <a:lnTo>
                  <a:pt x="2805" y="375"/>
                </a:lnTo>
                <a:lnTo>
                  <a:pt x="2682" y="402"/>
                </a:lnTo>
                <a:lnTo>
                  <a:pt x="2615" y="358"/>
                </a:lnTo>
                <a:lnTo>
                  <a:pt x="2496" y="322"/>
                </a:lnTo>
                <a:lnTo>
                  <a:pt x="2421" y="318"/>
                </a:lnTo>
                <a:lnTo>
                  <a:pt x="2328" y="278"/>
                </a:lnTo>
                <a:lnTo>
                  <a:pt x="2222" y="278"/>
                </a:lnTo>
                <a:lnTo>
                  <a:pt x="2103" y="265"/>
                </a:lnTo>
                <a:lnTo>
                  <a:pt x="1984" y="225"/>
                </a:lnTo>
                <a:lnTo>
                  <a:pt x="1993" y="230"/>
                </a:lnTo>
                <a:lnTo>
                  <a:pt x="1860" y="202"/>
                </a:lnTo>
                <a:lnTo>
                  <a:pt x="1755" y="185"/>
                </a:lnTo>
                <a:lnTo>
                  <a:pt x="1680" y="171"/>
                </a:lnTo>
                <a:lnTo>
                  <a:pt x="1336" y="145"/>
                </a:lnTo>
                <a:lnTo>
                  <a:pt x="1093" y="145"/>
                </a:lnTo>
                <a:lnTo>
                  <a:pt x="987" y="119"/>
                </a:lnTo>
                <a:lnTo>
                  <a:pt x="820" y="110"/>
                </a:lnTo>
                <a:lnTo>
                  <a:pt x="727" y="52"/>
                </a:lnTo>
                <a:lnTo>
                  <a:pt x="555" y="66"/>
                </a:lnTo>
                <a:lnTo>
                  <a:pt x="418" y="44"/>
                </a:lnTo>
                <a:lnTo>
                  <a:pt x="273" y="44"/>
                </a:lnTo>
                <a:lnTo>
                  <a:pt x="132" y="0"/>
                </a:lnTo>
                <a:lnTo>
                  <a:pt x="0" y="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"/>
          <p:cNvSpPr/>
          <p:nvPr/>
        </p:nvSpPr>
        <p:spPr>
          <a:xfrm>
            <a:off x="2116080" y="4375080"/>
            <a:ext cx="1319400" cy="411480"/>
          </a:xfrm>
          <a:custGeom>
            <a:avLst/>
            <a:gdLst/>
            <a:ahLst/>
            <a:rect l="0" t="0" r="r" b="b"/>
            <a:pathLst>
              <a:path w="3665" h="1143">
                <a:moveTo>
                  <a:pt x="3665" y="44"/>
                </a:moveTo>
                <a:lnTo>
                  <a:pt x="2567" y="1143"/>
                </a:lnTo>
                <a:lnTo>
                  <a:pt x="1001" y="1143"/>
                </a:lnTo>
                <a:lnTo>
                  <a:pt x="22" y="163"/>
                </a:lnTo>
                <a:lnTo>
                  <a:pt x="0" y="163"/>
                </a:lnTo>
                <a:lnTo>
                  <a:pt x="39" y="163"/>
                </a:lnTo>
                <a:lnTo>
                  <a:pt x="61" y="171"/>
                </a:lnTo>
                <a:lnTo>
                  <a:pt x="92" y="171"/>
                </a:lnTo>
                <a:lnTo>
                  <a:pt x="127" y="171"/>
                </a:lnTo>
                <a:lnTo>
                  <a:pt x="154" y="171"/>
                </a:lnTo>
                <a:lnTo>
                  <a:pt x="180" y="163"/>
                </a:lnTo>
                <a:lnTo>
                  <a:pt x="207" y="158"/>
                </a:lnTo>
                <a:lnTo>
                  <a:pt x="233" y="158"/>
                </a:lnTo>
                <a:lnTo>
                  <a:pt x="273" y="158"/>
                </a:lnTo>
                <a:lnTo>
                  <a:pt x="299" y="149"/>
                </a:lnTo>
                <a:lnTo>
                  <a:pt x="326" y="149"/>
                </a:lnTo>
                <a:lnTo>
                  <a:pt x="366" y="149"/>
                </a:lnTo>
                <a:lnTo>
                  <a:pt x="392" y="149"/>
                </a:lnTo>
                <a:lnTo>
                  <a:pt x="418" y="149"/>
                </a:lnTo>
                <a:lnTo>
                  <a:pt x="445" y="149"/>
                </a:lnTo>
                <a:lnTo>
                  <a:pt x="485" y="158"/>
                </a:lnTo>
                <a:lnTo>
                  <a:pt x="511" y="149"/>
                </a:lnTo>
                <a:lnTo>
                  <a:pt x="537" y="149"/>
                </a:lnTo>
                <a:lnTo>
                  <a:pt x="564" y="136"/>
                </a:lnTo>
                <a:lnTo>
                  <a:pt x="590" y="119"/>
                </a:lnTo>
                <a:lnTo>
                  <a:pt x="621" y="110"/>
                </a:lnTo>
                <a:lnTo>
                  <a:pt x="648" y="105"/>
                </a:lnTo>
                <a:lnTo>
                  <a:pt x="674" y="97"/>
                </a:lnTo>
                <a:lnTo>
                  <a:pt x="696" y="92"/>
                </a:lnTo>
                <a:lnTo>
                  <a:pt x="736" y="92"/>
                </a:lnTo>
                <a:lnTo>
                  <a:pt x="762" y="92"/>
                </a:lnTo>
                <a:lnTo>
                  <a:pt x="802" y="92"/>
                </a:lnTo>
                <a:lnTo>
                  <a:pt x="846" y="97"/>
                </a:lnTo>
                <a:lnTo>
                  <a:pt x="873" y="97"/>
                </a:lnTo>
                <a:lnTo>
                  <a:pt x="899" y="97"/>
                </a:lnTo>
                <a:lnTo>
                  <a:pt x="921" y="92"/>
                </a:lnTo>
                <a:lnTo>
                  <a:pt x="948" y="83"/>
                </a:lnTo>
                <a:lnTo>
                  <a:pt x="978" y="83"/>
                </a:lnTo>
                <a:lnTo>
                  <a:pt x="1001" y="83"/>
                </a:lnTo>
                <a:lnTo>
                  <a:pt x="1031" y="83"/>
                </a:lnTo>
                <a:lnTo>
                  <a:pt x="1053" y="83"/>
                </a:lnTo>
                <a:lnTo>
                  <a:pt x="1093" y="83"/>
                </a:lnTo>
                <a:lnTo>
                  <a:pt x="1120" y="83"/>
                </a:lnTo>
                <a:lnTo>
                  <a:pt x="1159" y="83"/>
                </a:lnTo>
                <a:lnTo>
                  <a:pt x="1186" y="83"/>
                </a:lnTo>
                <a:lnTo>
                  <a:pt x="1212" y="83"/>
                </a:lnTo>
                <a:lnTo>
                  <a:pt x="1239" y="83"/>
                </a:lnTo>
                <a:lnTo>
                  <a:pt x="1270" y="79"/>
                </a:lnTo>
                <a:lnTo>
                  <a:pt x="1305" y="79"/>
                </a:lnTo>
                <a:lnTo>
                  <a:pt x="1331" y="70"/>
                </a:lnTo>
                <a:lnTo>
                  <a:pt x="1371" y="57"/>
                </a:lnTo>
                <a:lnTo>
                  <a:pt x="1397" y="52"/>
                </a:lnTo>
                <a:lnTo>
                  <a:pt x="1437" y="52"/>
                </a:lnTo>
                <a:lnTo>
                  <a:pt x="1464" y="44"/>
                </a:lnTo>
                <a:lnTo>
                  <a:pt x="1490" y="39"/>
                </a:lnTo>
                <a:lnTo>
                  <a:pt x="1516" y="39"/>
                </a:lnTo>
                <a:lnTo>
                  <a:pt x="1543" y="30"/>
                </a:lnTo>
                <a:lnTo>
                  <a:pt x="1600" y="26"/>
                </a:lnTo>
                <a:lnTo>
                  <a:pt x="1636" y="26"/>
                </a:lnTo>
                <a:lnTo>
                  <a:pt x="1662" y="17"/>
                </a:lnTo>
                <a:lnTo>
                  <a:pt x="1688" y="13"/>
                </a:lnTo>
                <a:lnTo>
                  <a:pt x="1715" y="13"/>
                </a:lnTo>
                <a:lnTo>
                  <a:pt x="1741" y="4"/>
                </a:lnTo>
                <a:lnTo>
                  <a:pt x="1768" y="4"/>
                </a:lnTo>
                <a:lnTo>
                  <a:pt x="1807" y="4"/>
                </a:lnTo>
                <a:lnTo>
                  <a:pt x="1835" y="0"/>
                </a:lnTo>
                <a:lnTo>
                  <a:pt x="1861" y="0"/>
                </a:lnTo>
                <a:lnTo>
                  <a:pt x="1892" y="0"/>
                </a:lnTo>
                <a:lnTo>
                  <a:pt x="1914" y="0"/>
                </a:lnTo>
                <a:lnTo>
                  <a:pt x="1941" y="0"/>
                </a:lnTo>
                <a:lnTo>
                  <a:pt x="1967" y="13"/>
                </a:lnTo>
                <a:lnTo>
                  <a:pt x="1994" y="17"/>
                </a:lnTo>
                <a:lnTo>
                  <a:pt x="2020" y="26"/>
                </a:lnTo>
                <a:lnTo>
                  <a:pt x="2047" y="26"/>
                </a:lnTo>
                <a:lnTo>
                  <a:pt x="2073" y="26"/>
                </a:lnTo>
                <a:lnTo>
                  <a:pt x="2113" y="26"/>
                </a:lnTo>
                <a:lnTo>
                  <a:pt x="2157" y="26"/>
                </a:lnTo>
                <a:lnTo>
                  <a:pt x="2179" y="26"/>
                </a:lnTo>
                <a:lnTo>
                  <a:pt x="2219" y="17"/>
                </a:lnTo>
                <a:lnTo>
                  <a:pt x="2245" y="13"/>
                </a:lnTo>
                <a:lnTo>
                  <a:pt x="2272" y="4"/>
                </a:lnTo>
                <a:lnTo>
                  <a:pt x="2298" y="0"/>
                </a:lnTo>
                <a:lnTo>
                  <a:pt x="2324" y="0"/>
                </a:lnTo>
                <a:lnTo>
                  <a:pt x="2351" y="0"/>
                </a:lnTo>
                <a:lnTo>
                  <a:pt x="2391" y="0"/>
                </a:lnTo>
                <a:lnTo>
                  <a:pt x="2417" y="0"/>
                </a:lnTo>
                <a:lnTo>
                  <a:pt x="2443" y="4"/>
                </a:lnTo>
                <a:lnTo>
                  <a:pt x="2470" y="17"/>
                </a:lnTo>
                <a:lnTo>
                  <a:pt x="2496" y="26"/>
                </a:lnTo>
                <a:lnTo>
                  <a:pt x="2527" y="30"/>
                </a:lnTo>
                <a:lnTo>
                  <a:pt x="2563" y="39"/>
                </a:lnTo>
                <a:lnTo>
                  <a:pt x="2607" y="44"/>
                </a:lnTo>
                <a:lnTo>
                  <a:pt x="2642" y="44"/>
                </a:lnTo>
                <a:lnTo>
                  <a:pt x="2668" y="52"/>
                </a:lnTo>
                <a:lnTo>
                  <a:pt x="2695" y="52"/>
                </a:lnTo>
                <a:lnTo>
                  <a:pt x="2712" y="30"/>
                </a:lnTo>
                <a:lnTo>
                  <a:pt x="2735" y="26"/>
                </a:lnTo>
                <a:lnTo>
                  <a:pt x="2761" y="17"/>
                </a:lnTo>
                <a:lnTo>
                  <a:pt x="2787" y="13"/>
                </a:lnTo>
                <a:lnTo>
                  <a:pt x="2814" y="13"/>
                </a:lnTo>
                <a:lnTo>
                  <a:pt x="2867" y="13"/>
                </a:lnTo>
                <a:lnTo>
                  <a:pt x="2893" y="13"/>
                </a:lnTo>
                <a:lnTo>
                  <a:pt x="2920" y="17"/>
                </a:lnTo>
                <a:lnTo>
                  <a:pt x="2951" y="26"/>
                </a:lnTo>
                <a:lnTo>
                  <a:pt x="2973" y="26"/>
                </a:lnTo>
                <a:lnTo>
                  <a:pt x="3017" y="39"/>
                </a:lnTo>
                <a:lnTo>
                  <a:pt x="3052" y="39"/>
                </a:lnTo>
                <a:lnTo>
                  <a:pt x="3092" y="44"/>
                </a:lnTo>
                <a:lnTo>
                  <a:pt x="3118" y="52"/>
                </a:lnTo>
                <a:lnTo>
                  <a:pt x="3145" y="66"/>
                </a:lnTo>
                <a:lnTo>
                  <a:pt x="3171" y="70"/>
                </a:lnTo>
                <a:lnTo>
                  <a:pt x="3211" y="79"/>
                </a:lnTo>
                <a:lnTo>
                  <a:pt x="3250" y="83"/>
                </a:lnTo>
                <a:lnTo>
                  <a:pt x="3277" y="83"/>
                </a:lnTo>
                <a:lnTo>
                  <a:pt x="3303" y="83"/>
                </a:lnTo>
                <a:lnTo>
                  <a:pt x="3330" y="79"/>
                </a:lnTo>
                <a:lnTo>
                  <a:pt x="3356" y="66"/>
                </a:lnTo>
                <a:lnTo>
                  <a:pt x="3383" y="52"/>
                </a:lnTo>
                <a:lnTo>
                  <a:pt x="3409" y="52"/>
                </a:lnTo>
                <a:lnTo>
                  <a:pt x="3449" y="44"/>
                </a:lnTo>
                <a:lnTo>
                  <a:pt x="3475" y="30"/>
                </a:lnTo>
                <a:lnTo>
                  <a:pt x="3502" y="26"/>
                </a:lnTo>
                <a:lnTo>
                  <a:pt x="3528" y="13"/>
                </a:lnTo>
                <a:lnTo>
                  <a:pt x="3555" y="17"/>
                </a:lnTo>
                <a:lnTo>
                  <a:pt x="3572" y="39"/>
                </a:lnTo>
                <a:lnTo>
                  <a:pt x="3594" y="44"/>
                </a:lnTo>
                <a:lnTo>
                  <a:pt x="3621" y="44"/>
                </a:lnTo>
                <a:lnTo>
                  <a:pt x="3652" y="52"/>
                </a:lnTo>
                <a:lnTo>
                  <a:pt x="3665" y="44"/>
                </a:lnTo>
                <a:close/>
              </a:path>
            </a:pathLst>
          </a:custGeom>
          <a:blipFill rotWithShape="0">
            <a:blip r:embed="rId10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"/>
          <p:cNvSpPr/>
          <p:nvPr/>
        </p:nvSpPr>
        <p:spPr>
          <a:xfrm>
            <a:off x="2438280" y="6437160"/>
            <a:ext cx="729000" cy="144720"/>
          </a:xfrm>
          <a:custGeom>
            <a:avLst/>
            <a:gdLst/>
            <a:ahLst/>
            <a:rect l="0" t="0" r="r" b="b"/>
            <a:pathLst>
              <a:path w="2025" h="402">
                <a:moveTo>
                  <a:pt x="2025" y="375"/>
                </a:moveTo>
                <a:lnTo>
                  <a:pt x="1650" y="0"/>
                </a:lnTo>
                <a:lnTo>
                  <a:pt x="70" y="0"/>
                </a:lnTo>
                <a:lnTo>
                  <a:pt x="0" y="70"/>
                </a:lnTo>
                <a:lnTo>
                  <a:pt x="26" y="79"/>
                </a:lnTo>
                <a:lnTo>
                  <a:pt x="52" y="92"/>
                </a:lnTo>
                <a:lnTo>
                  <a:pt x="79" y="105"/>
                </a:lnTo>
                <a:lnTo>
                  <a:pt x="105" y="105"/>
                </a:lnTo>
                <a:lnTo>
                  <a:pt x="132" y="105"/>
                </a:lnTo>
                <a:lnTo>
                  <a:pt x="163" y="105"/>
                </a:lnTo>
                <a:lnTo>
                  <a:pt x="185" y="119"/>
                </a:lnTo>
                <a:lnTo>
                  <a:pt x="211" y="123"/>
                </a:lnTo>
                <a:lnTo>
                  <a:pt x="238" y="132"/>
                </a:lnTo>
                <a:lnTo>
                  <a:pt x="264" y="136"/>
                </a:lnTo>
                <a:lnTo>
                  <a:pt x="291" y="136"/>
                </a:lnTo>
                <a:lnTo>
                  <a:pt x="321" y="149"/>
                </a:lnTo>
                <a:lnTo>
                  <a:pt x="343" y="149"/>
                </a:lnTo>
                <a:lnTo>
                  <a:pt x="370" y="158"/>
                </a:lnTo>
                <a:lnTo>
                  <a:pt x="396" y="171"/>
                </a:lnTo>
                <a:lnTo>
                  <a:pt x="427" y="176"/>
                </a:lnTo>
                <a:lnTo>
                  <a:pt x="449" y="185"/>
                </a:lnTo>
                <a:lnTo>
                  <a:pt x="476" y="189"/>
                </a:lnTo>
                <a:lnTo>
                  <a:pt x="515" y="189"/>
                </a:lnTo>
                <a:lnTo>
                  <a:pt x="542" y="189"/>
                </a:lnTo>
                <a:lnTo>
                  <a:pt x="568" y="212"/>
                </a:lnTo>
                <a:lnTo>
                  <a:pt x="595" y="217"/>
                </a:lnTo>
                <a:lnTo>
                  <a:pt x="621" y="217"/>
                </a:lnTo>
                <a:lnTo>
                  <a:pt x="661" y="217"/>
                </a:lnTo>
                <a:lnTo>
                  <a:pt x="687" y="217"/>
                </a:lnTo>
                <a:lnTo>
                  <a:pt x="714" y="230"/>
                </a:lnTo>
                <a:lnTo>
                  <a:pt x="740" y="230"/>
                </a:lnTo>
                <a:lnTo>
                  <a:pt x="767" y="239"/>
                </a:lnTo>
                <a:lnTo>
                  <a:pt x="793" y="239"/>
                </a:lnTo>
                <a:lnTo>
                  <a:pt x="820" y="239"/>
                </a:lnTo>
                <a:lnTo>
                  <a:pt x="846" y="239"/>
                </a:lnTo>
                <a:lnTo>
                  <a:pt x="873" y="256"/>
                </a:lnTo>
                <a:lnTo>
                  <a:pt x="899" y="269"/>
                </a:lnTo>
                <a:lnTo>
                  <a:pt x="939" y="269"/>
                </a:lnTo>
                <a:lnTo>
                  <a:pt x="965" y="269"/>
                </a:lnTo>
                <a:lnTo>
                  <a:pt x="996" y="283"/>
                </a:lnTo>
                <a:lnTo>
                  <a:pt x="1019" y="296"/>
                </a:lnTo>
                <a:lnTo>
                  <a:pt x="1046" y="305"/>
                </a:lnTo>
                <a:lnTo>
                  <a:pt x="1085" y="318"/>
                </a:lnTo>
                <a:lnTo>
                  <a:pt x="1112" y="336"/>
                </a:lnTo>
                <a:lnTo>
                  <a:pt x="1138" y="344"/>
                </a:lnTo>
                <a:lnTo>
                  <a:pt x="1165" y="349"/>
                </a:lnTo>
                <a:lnTo>
                  <a:pt x="1204" y="349"/>
                </a:lnTo>
                <a:lnTo>
                  <a:pt x="1235" y="344"/>
                </a:lnTo>
                <a:lnTo>
                  <a:pt x="1257" y="331"/>
                </a:lnTo>
                <a:lnTo>
                  <a:pt x="1297" y="322"/>
                </a:lnTo>
                <a:lnTo>
                  <a:pt x="1323" y="331"/>
                </a:lnTo>
                <a:lnTo>
                  <a:pt x="1337" y="358"/>
                </a:lnTo>
                <a:lnTo>
                  <a:pt x="1363" y="362"/>
                </a:lnTo>
                <a:lnTo>
                  <a:pt x="1390" y="362"/>
                </a:lnTo>
                <a:lnTo>
                  <a:pt x="1416" y="371"/>
                </a:lnTo>
                <a:lnTo>
                  <a:pt x="1442" y="371"/>
                </a:lnTo>
                <a:lnTo>
                  <a:pt x="1469" y="371"/>
                </a:lnTo>
                <a:lnTo>
                  <a:pt x="1495" y="371"/>
                </a:lnTo>
                <a:lnTo>
                  <a:pt x="1526" y="375"/>
                </a:lnTo>
                <a:lnTo>
                  <a:pt x="1548" y="384"/>
                </a:lnTo>
                <a:lnTo>
                  <a:pt x="1575" y="389"/>
                </a:lnTo>
                <a:lnTo>
                  <a:pt x="1601" y="389"/>
                </a:lnTo>
                <a:lnTo>
                  <a:pt x="1632" y="389"/>
                </a:lnTo>
                <a:lnTo>
                  <a:pt x="1654" y="389"/>
                </a:lnTo>
                <a:lnTo>
                  <a:pt x="1681" y="389"/>
                </a:lnTo>
                <a:lnTo>
                  <a:pt x="1707" y="397"/>
                </a:lnTo>
                <a:lnTo>
                  <a:pt x="1734" y="402"/>
                </a:lnTo>
                <a:lnTo>
                  <a:pt x="1760" y="402"/>
                </a:lnTo>
                <a:lnTo>
                  <a:pt x="1786" y="402"/>
                </a:lnTo>
                <a:lnTo>
                  <a:pt x="1826" y="402"/>
                </a:lnTo>
                <a:lnTo>
                  <a:pt x="1853" y="397"/>
                </a:lnTo>
                <a:lnTo>
                  <a:pt x="1883" y="397"/>
                </a:lnTo>
                <a:lnTo>
                  <a:pt x="1906" y="397"/>
                </a:lnTo>
                <a:lnTo>
                  <a:pt x="1945" y="397"/>
                </a:lnTo>
                <a:lnTo>
                  <a:pt x="1972" y="397"/>
                </a:lnTo>
                <a:lnTo>
                  <a:pt x="1998" y="389"/>
                </a:lnTo>
                <a:lnTo>
                  <a:pt x="2025" y="375"/>
                </a:lnTo>
                <a:close/>
              </a:path>
            </a:pathLst>
          </a:custGeom>
          <a:blipFill rotWithShape="0">
            <a:blip r:embed="rId1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/>
          <p:nvPr/>
        </p:nvSpPr>
        <p:spPr>
          <a:xfrm>
            <a:off x="3029040" y="6434280"/>
            <a:ext cx="137880" cy="137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"/>
          <p:cNvSpPr/>
          <p:nvPr/>
        </p:nvSpPr>
        <p:spPr>
          <a:xfrm flipH="1">
            <a:off x="2425680" y="6426360"/>
            <a:ext cx="46080" cy="45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"/>
          <p:cNvSpPr/>
          <p:nvPr/>
        </p:nvSpPr>
        <p:spPr>
          <a:xfrm>
            <a:off x="2467080" y="6442200"/>
            <a:ext cx="5652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3840" y="1324080"/>
            <a:ext cx="336600" cy="128268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911840" y="4757760"/>
            <a:ext cx="3575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ea displayed is a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 of the section where the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o go.  The center line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of the hig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279360"/>
            <a:ext cx="0" cy="3787920"/>
            <a:chOff x="2749680" y="279360"/>
            <a:chExt cx="0" cy="3787920"/>
          </a:xfrm>
        </p:grpSpPr>
        <p:sp>
          <p:nvSpPr>
            <p:cNvPr id="74" name=""/>
            <p:cNvSpPr/>
            <p:nvPr/>
          </p:nvSpPr>
          <p:spPr>
            <a:xfrm>
              <a:off x="2749680" y="279360"/>
              <a:ext cx="0" cy="743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49680" y="1106640"/>
              <a:ext cx="0" cy="99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9680" y="1324080"/>
              <a:ext cx="0" cy="717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49680" y="2125800"/>
              <a:ext cx="0" cy="99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680" y="2325600"/>
              <a:ext cx="0" cy="803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680" y="3195720"/>
              <a:ext cx="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680" y="3378240"/>
              <a:ext cx="0" cy="689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"/>
          <p:cNvSpPr/>
          <p:nvPr/>
        </p:nvSpPr>
        <p:spPr>
          <a:xfrm>
            <a:off x="533520" y="44863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533520" y="46386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>
            <a:off x="533520" y="479124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6815160" y="406440"/>
            <a:ext cx="0" cy="366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6967440" y="406440"/>
            <a:ext cx="0" cy="354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7120080" y="40644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>
            <a:off x="7272360" y="406440"/>
            <a:ext cx="0" cy="354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>
            <a:off x="7424640" y="40644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>
            <a:off x="7577280" y="406440"/>
            <a:ext cx="0" cy="354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>
            <a:off x="7729560" y="40644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>
            <a:off x="7881840" y="406440"/>
            <a:ext cx="0" cy="354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>
            <a:off x="8034480" y="40644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>
            <a:off x="8186760" y="406440"/>
            <a:ext cx="0" cy="354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>
            <a:off x="444600" y="131904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>
            <a:off x="3035160" y="1319040"/>
            <a:ext cx="285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"/>
          <p:cNvSpPr/>
          <p:nvPr/>
        </p:nvSpPr>
        <p:spPr>
          <a:xfrm>
            <a:off x="7275600" y="403200"/>
            <a:ext cx="600120" cy="354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5" name=""/>
          <p:cNvGrpSpPr/>
          <p:nvPr/>
        </p:nvGrpSpPr>
        <p:grpSpPr>
          <a:xfrm>
            <a:off x="6137280" y="387360"/>
            <a:ext cx="2289240" cy="0"/>
            <a:chOff x="6137280" y="387360"/>
            <a:chExt cx="2289240" cy="0"/>
          </a:xfrm>
        </p:grpSpPr>
        <p:sp>
          <p:nvSpPr>
            <p:cNvPr id="5406" name=""/>
            <p:cNvSpPr/>
            <p:nvPr/>
          </p:nvSpPr>
          <p:spPr>
            <a:xfrm>
              <a:off x="6137280" y="38736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537240" y="38736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767640" y="387360"/>
              <a:ext cx="165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9" name=""/>
          <p:cNvGrpSpPr/>
          <p:nvPr/>
        </p:nvGrpSpPr>
        <p:grpSpPr>
          <a:xfrm>
            <a:off x="6089760" y="3965400"/>
            <a:ext cx="2289240" cy="0"/>
            <a:chOff x="6089760" y="3965400"/>
            <a:chExt cx="2289240" cy="0"/>
          </a:xfrm>
        </p:grpSpPr>
        <p:sp>
          <p:nvSpPr>
            <p:cNvPr id="5410" name=""/>
            <p:cNvSpPr/>
            <p:nvPr/>
          </p:nvSpPr>
          <p:spPr>
            <a:xfrm>
              <a:off x="6089760" y="396540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489720" y="3965400"/>
              <a:ext cx="12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719760" y="3965400"/>
              <a:ext cx="16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3" name=""/>
          <p:cNvSpPr/>
          <p:nvPr/>
        </p:nvSpPr>
        <p:spPr>
          <a:xfrm>
            <a:off x="2467080" y="4795920"/>
            <a:ext cx="56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 txBox="1"/>
          <p:nvPr/>
        </p:nvSpPr>
        <p:spPr>
          <a:xfrm>
            <a:off x="658512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 txBox="1"/>
          <p:nvPr/>
        </p:nvSpPr>
        <p:spPr>
          <a:xfrm>
            <a:off x="68770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 txBox="1"/>
          <p:nvPr/>
        </p:nvSpPr>
        <p:spPr>
          <a:xfrm>
            <a:off x="7199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 txBox="1"/>
          <p:nvPr/>
        </p:nvSpPr>
        <p:spPr>
          <a:xfrm>
            <a:off x="752328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 txBox="1"/>
          <p:nvPr/>
        </p:nvSpPr>
        <p:spPr>
          <a:xfrm>
            <a:off x="77979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/>
          <p:nvPr/>
        </p:nvSpPr>
        <p:spPr>
          <a:xfrm>
            <a:off x="8339040" y="40644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 txBox="1"/>
          <p:nvPr/>
        </p:nvSpPr>
        <p:spPr>
          <a:xfrm>
            <a:off x="8091360" y="41450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>
            <a:off x="531720" y="433224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 txBox="1"/>
          <p:nvPr/>
        </p:nvSpPr>
        <p:spPr>
          <a:xfrm>
            <a:off x="5786280" y="44830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 txBox="1"/>
          <p:nvPr/>
        </p:nvSpPr>
        <p:spPr>
          <a:xfrm>
            <a:off x="5803920" y="4191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 flipH="1" flipV="1">
            <a:off x="2111400" y="4430880"/>
            <a:ext cx="369720" cy="36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>
            <a:off x="4738680" y="1368360"/>
            <a:ext cx="442800" cy="12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 txBox="1"/>
          <p:nvPr/>
        </p:nvSpPr>
        <p:spPr>
          <a:xfrm>
            <a:off x="239760" y="2109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 txBox="1"/>
          <p:nvPr/>
        </p:nvSpPr>
        <p:spPr>
          <a:xfrm>
            <a:off x="5819760" y="2127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 txBox="1"/>
          <p:nvPr/>
        </p:nvSpPr>
        <p:spPr>
          <a:xfrm>
            <a:off x="2541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 txBox="1"/>
          <p:nvPr/>
        </p:nvSpPr>
        <p:spPr>
          <a:xfrm>
            <a:off x="5832360" y="11476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 txBox="1"/>
          <p:nvPr/>
        </p:nvSpPr>
        <p:spPr>
          <a:xfrm>
            <a:off x="25560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 txBox="1"/>
          <p:nvPr/>
        </p:nvSpPr>
        <p:spPr>
          <a:xfrm>
            <a:off x="5800680" y="2916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 txBox="1"/>
          <p:nvPr/>
        </p:nvSpPr>
        <p:spPr>
          <a:xfrm>
            <a:off x="255600" y="3762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 txBox="1"/>
          <p:nvPr/>
        </p:nvSpPr>
        <p:spPr>
          <a:xfrm>
            <a:off x="5832360" y="377820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5" name=""/>
          <p:cNvGrpSpPr/>
          <p:nvPr/>
        </p:nvGrpSpPr>
        <p:grpSpPr>
          <a:xfrm>
            <a:off x="6118200" y="1332000"/>
            <a:ext cx="2289240" cy="0"/>
            <a:chOff x="6118200" y="1332000"/>
            <a:chExt cx="2289240" cy="0"/>
          </a:xfrm>
        </p:grpSpPr>
        <p:sp>
          <p:nvSpPr>
            <p:cNvPr id="5446" name=""/>
            <p:cNvSpPr/>
            <p:nvPr/>
          </p:nvSpPr>
          <p:spPr>
            <a:xfrm>
              <a:off x="6118200" y="133200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518160" y="133200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748560" y="1332000"/>
              <a:ext cx="1658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9" name=""/>
          <p:cNvSpPr txBox="1"/>
          <p:nvPr/>
        </p:nvSpPr>
        <p:spPr>
          <a:xfrm>
            <a:off x="3281400" y="477216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A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 txBox="1"/>
          <p:nvPr/>
        </p:nvSpPr>
        <p:spPr>
          <a:xfrm>
            <a:off x="2575080" y="6660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 txBox="1"/>
          <p:nvPr/>
        </p:nvSpPr>
        <p:spPr>
          <a:xfrm>
            <a:off x="2590920" y="4043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 txBox="1"/>
          <p:nvPr/>
        </p:nvSpPr>
        <p:spPr>
          <a:xfrm>
            <a:off x="6937200" y="445932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G-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/>
          <p:nvPr/>
        </p:nvSpPr>
        <p:spPr>
          <a:xfrm flipV="1">
            <a:off x="3025800" y="4394160"/>
            <a:ext cx="411120" cy="41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/>
          <p:nvPr/>
        </p:nvSpPr>
        <p:spPr>
          <a:xfrm>
            <a:off x="1604880" y="4235400"/>
            <a:ext cx="2805480" cy="260640"/>
          </a:xfrm>
          <a:custGeom>
            <a:avLst/>
            <a:gdLst/>
            <a:ahLst/>
            <a:rect l="0" t="0" r="r" b="b"/>
            <a:pathLst>
              <a:path fill="none" w="7793" h="724">
                <a:moveTo>
                  <a:pt x="7793" y="8"/>
                </a:moveTo>
                <a:lnTo>
                  <a:pt x="7552" y="35"/>
                </a:lnTo>
                <a:lnTo>
                  <a:pt x="7368" y="26"/>
                </a:lnTo>
                <a:lnTo>
                  <a:pt x="7183" y="0"/>
                </a:lnTo>
                <a:lnTo>
                  <a:pt x="7039" y="61"/>
                </a:lnTo>
                <a:lnTo>
                  <a:pt x="6906" y="105"/>
                </a:lnTo>
                <a:lnTo>
                  <a:pt x="6706" y="132"/>
                </a:lnTo>
                <a:lnTo>
                  <a:pt x="6537" y="88"/>
                </a:lnTo>
                <a:lnTo>
                  <a:pt x="6419" y="132"/>
                </a:lnTo>
                <a:lnTo>
                  <a:pt x="6326" y="114"/>
                </a:lnTo>
                <a:lnTo>
                  <a:pt x="6167" y="141"/>
                </a:lnTo>
                <a:lnTo>
                  <a:pt x="6008" y="194"/>
                </a:lnTo>
                <a:lnTo>
                  <a:pt x="5807" y="194"/>
                </a:lnTo>
                <a:lnTo>
                  <a:pt x="5689" y="220"/>
                </a:lnTo>
                <a:lnTo>
                  <a:pt x="5515" y="246"/>
                </a:lnTo>
                <a:lnTo>
                  <a:pt x="5310" y="291"/>
                </a:lnTo>
                <a:lnTo>
                  <a:pt x="5069" y="433"/>
                </a:lnTo>
                <a:lnTo>
                  <a:pt x="4935" y="380"/>
                </a:lnTo>
                <a:lnTo>
                  <a:pt x="4725" y="459"/>
                </a:lnTo>
                <a:lnTo>
                  <a:pt x="4607" y="459"/>
                </a:lnTo>
                <a:lnTo>
                  <a:pt x="4443" y="415"/>
                </a:lnTo>
                <a:lnTo>
                  <a:pt x="4284" y="380"/>
                </a:lnTo>
                <a:lnTo>
                  <a:pt x="4068" y="441"/>
                </a:lnTo>
                <a:lnTo>
                  <a:pt x="3807" y="380"/>
                </a:lnTo>
                <a:lnTo>
                  <a:pt x="3663" y="371"/>
                </a:lnTo>
                <a:lnTo>
                  <a:pt x="3489" y="397"/>
                </a:lnTo>
                <a:lnTo>
                  <a:pt x="3325" y="380"/>
                </a:lnTo>
                <a:lnTo>
                  <a:pt x="3130" y="380"/>
                </a:lnTo>
                <a:lnTo>
                  <a:pt x="2632" y="468"/>
                </a:lnTo>
                <a:lnTo>
                  <a:pt x="2483" y="468"/>
                </a:lnTo>
                <a:lnTo>
                  <a:pt x="2335" y="468"/>
                </a:lnTo>
                <a:lnTo>
                  <a:pt x="2083" y="468"/>
                </a:lnTo>
                <a:lnTo>
                  <a:pt x="1887" y="547"/>
                </a:lnTo>
                <a:lnTo>
                  <a:pt x="1749" y="521"/>
                </a:lnTo>
                <a:lnTo>
                  <a:pt x="1523" y="538"/>
                </a:lnTo>
                <a:lnTo>
                  <a:pt x="1000" y="600"/>
                </a:lnTo>
                <a:lnTo>
                  <a:pt x="728" y="556"/>
                </a:lnTo>
                <a:lnTo>
                  <a:pt x="595" y="583"/>
                </a:lnTo>
                <a:lnTo>
                  <a:pt x="436" y="644"/>
                </a:lnTo>
                <a:lnTo>
                  <a:pt x="277" y="688"/>
                </a:lnTo>
                <a:lnTo>
                  <a:pt x="148" y="724"/>
                </a:lnTo>
                <a:lnTo>
                  <a:pt x="0" y="7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 txBox="1"/>
          <p:nvPr/>
        </p:nvSpPr>
        <p:spPr>
          <a:xfrm>
            <a:off x="3327480" y="5214960"/>
            <a:ext cx="1077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B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"/>
          <p:cNvSpPr/>
          <p:nvPr/>
        </p:nvSpPr>
        <p:spPr>
          <a:xfrm>
            <a:off x="533520" y="5210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"/>
          <p:cNvSpPr/>
          <p:nvPr/>
        </p:nvSpPr>
        <p:spPr>
          <a:xfrm>
            <a:off x="2463840" y="52149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"/>
          <p:cNvSpPr txBox="1"/>
          <p:nvPr/>
        </p:nvSpPr>
        <p:spPr>
          <a:xfrm>
            <a:off x="5808600" y="505944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"/>
          <p:cNvSpPr/>
          <p:nvPr/>
        </p:nvSpPr>
        <p:spPr>
          <a:xfrm flipV="1">
            <a:off x="3043080" y="5181480"/>
            <a:ext cx="27000" cy="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"/>
          <p:cNvSpPr/>
          <p:nvPr/>
        </p:nvSpPr>
        <p:spPr>
          <a:xfrm>
            <a:off x="1903320" y="5167440"/>
            <a:ext cx="2014920" cy="111600"/>
          </a:xfrm>
          <a:custGeom>
            <a:avLst/>
            <a:gdLst/>
            <a:ahLst/>
            <a:rect l="0" t="0" r="r" b="b"/>
            <a:pathLst>
              <a:path fill="none" w="5597" h="310">
                <a:moveTo>
                  <a:pt x="5597" y="30"/>
                </a:moveTo>
                <a:lnTo>
                  <a:pt x="5505" y="61"/>
                </a:lnTo>
                <a:lnTo>
                  <a:pt x="5443" y="155"/>
                </a:lnTo>
                <a:lnTo>
                  <a:pt x="5324" y="186"/>
                </a:lnTo>
                <a:lnTo>
                  <a:pt x="5227" y="190"/>
                </a:lnTo>
                <a:lnTo>
                  <a:pt x="5148" y="146"/>
                </a:lnTo>
                <a:lnTo>
                  <a:pt x="5033" y="120"/>
                </a:lnTo>
                <a:lnTo>
                  <a:pt x="4883" y="84"/>
                </a:lnTo>
                <a:lnTo>
                  <a:pt x="4786" y="74"/>
                </a:lnTo>
                <a:lnTo>
                  <a:pt x="4618" y="66"/>
                </a:lnTo>
                <a:lnTo>
                  <a:pt x="4429" y="30"/>
                </a:lnTo>
                <a:lnTo>
                  <a:pt x="4336" y="0"/>
                </a:lnTo>
                <a:lnTo>
                  <a:pt x="4244" y="0"/>
                </a:lnTo>
                <a:lnTo>
                  <a:pt x="4093" y="61"/>
                </a:lnTo>
                <a:lnTo>
                  <a:pt x="4000" y="61"/>
                </a:lnTo>
                <a:lnTo>
                  <a:pt x="3846" y="61"/>
                </a:lnTo>
                <a:lnTo>
                  <a:pt x="3630" y="30"/>
                </a:lnTo>
                <a:lnTo>
                  <a:pt x="3537" y="30"/>
                </a:lnTo>
                <a:lnTo>
                  <a:pt x="3321" y="30"/>
                </a:lnTo>
                <a:lnTo>
                  <a:pt x="3228" y="30"/>
                </a:lnTo>
                <a:lnTo>
                  <a:pt x="3105" y="30"/>
                </a:lnTo>
                <a:lnTo>
                  <a:pt x="3012" y="61"/>
                </a:lnTo>
                <a:lnTo>
                  <a:pt x="2770" y="93"/>
                </a:lnTo>
                <a:lnTo>
                  <a:pt x="2646" y="93"/>
                </a:lnTo>
                <a:lnTo>
                  <a:pt x="2430" y="93"/>
                </a:lnTo>
                <a:lnTo>
                  <a:pt x="2214" y="93"/>
                </a:lnTo>
                <a:lnTo>
                  <a:pt x="2113" y="93"/>
                </a:lnTo>
                <a:lnTo>
                  <a:pt x="1963" y="111"/>
                </a:lnTo>
                <a:lnTo>
                  <a:pt x="1813" y="128"/>
                </a:lnTo>
                <a:lnTo>
                  <a:pt x="1725" y="128"/>
                </a:lnTo>
                <a:lnTo>
                  <a:pt x="1628" y="155"/>
                </a:lnTo>
                <a:lnTo>
                  <a:pt x="1504" y="155"/>
                </a:lnTo>
                <a:lnTo>
                  <a:pt x="1230" y="155"/>
                </a:lnTo>
                <a:lnTo>
                  <a:pt x="952" y="155"/>
                </a:lnTo>
                <a:lnTo>
                  <a:pt x="859" y="186"/>
                </a:lnTo>
                <a:lnTo>
                  <a:pt x="520" y="186"/>
                </a:lnTo>
                <a:lnTo>
                  <a:pt x="427" y="217"/>
                </a:lnTo>
                <a:lnTo>
                  <a:pt x="273" y="248"/>
                </a:lnTo>
                <a:lnTo>
                  <a:pt x="123" y="279"/>
                </a:lnTo>
                <a:lnTo>
                  <a:pt x="0" y="31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"/>
          <p:cNvSpPr/>
          <p:nvPr/>
        </p:nvSpPr>
        <p:spPr>
          <a:xfrm>
            <a:off x="533520" y="64450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/>
          <p:nvPr/>
        </p:nvSpPr>
        <p:spPr>
          <a:xfrm>
            <a:off x="533520" y="65977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 txBox="1"/>
          <p:nvPr/>
        </p:nvSpPr>
        <p:spPr>
          <a:xfrm>
            <a:off x="5823000" y="64818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"/>
          <p:cNvSpPr/>
          <p:nvPr/>
        </p:nvSpPr>
        <p:spPr>
          <a:xfrm>
            <a:off x="2467080" y="5573880"/>
            <a:ext cx="56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"/>
          <p:cNvSpPr/>
          <p:nvPr/>
        </p:nvSpPr>
        <p:spPr>
          <a:xfrm>
            <a:off x="533520" y="556884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"/>
          <p:cNvSpPr/>
          <p:nvPr/>
        </p:nvSpPr>
        <p:spPr>
          <a:xfrm>
            <a:off x="533520" y="57214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"/>
          <p:cNvSpPr/>
          <p:nvPr/>
        </p:nvSpPr>
        <p:spPr>
          <a:xfrm>
            <a:off x="533520" y="587376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"/>
          <p:cNvSpPr/>
          <p:nvPr/>
        </p:nvSpPr>
        <p:spPr>
          <a:xfrm>
            <a:off x="533520" y="60228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"/>
          <p:cNvSpPr txBox="1"/>
          <p:nvPr/>
        </p:nvSpPr>
        <p:spPr>
          <a:xfrm>
            <a:off x="5808600" y="54259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"/>
          <p:cNvSpPr txBox="1"/>
          <p:nvPr/>
        </p:nvSpPr>
        <p:spPr>
          <a:xfrm>
            <a:off x="5823000" y="572616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"/>
          <p:cNvSpPr/>
          <p:nvPr/>
        </p:nvSpPr>
        <p:spPr>
          <a:xfrm>
            <a:off x="541440" y="6164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 txBox="1"/>
          <p:nvPr/>
        </p:nvSpPr>
        <p:spPr>
          <a:xfrm>
            <a:off x="5808600" y="60022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 txBox="1"/>
          <p:nvPr/>
        </p:nvSpPr>
        <p:spPr>
          <a:xfrm>
            <a:off x="3313080" y="613260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 txBox="1"/>
          <p:nvPr/>
        </p:nvSpPr>
        <p:spPr>
          <a:xfrm>
            <a:off x="3281400" y="6524640"/>
            <a:ext cx="109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D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"/>
          <p:cNvSpPr/>
          <p:nvPr/>
        </p:nvSpPr>
        <p:spPr>
          <a:xfrm>
            <a:off x="3035160" y="5567400"/>
            <a:ext cx="574920" cy="57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/>
          <p:nvPr/>
        </p:nvSpPr>
        <p:spPr>
          <a:xfrm flipH="1">
            <a:off x="1947960" y="5575320"/>
            <a:ext cx="52380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"/>
          <p:cNvSpPr/>
          <p:nvPr/>
        </p:nvSpPr>
        <p:spPr>
          <a:xfrm>
            <a:off x="1343160" y="6075360"/>
            <a:ext cx="2719800" cy="78120"/>
          </a:xfrm>
          <a:custGeom>
            <a:avLst/>
            <a:gdLst/>
            <a:ahLst/>
            <a:rect l="0" t="0" r="r" b="b"/>
            <a:pathLst>
              <a:path fill="none" w="7555" h="217">
                <a:moveTo>
                  <a:pt x="7555" y="124"/>
                </a:moveTo>
                <a:lnTo>
                  <a:pt x="7463" y="124"/>
                </a:lnTo>
                <a:lnTo>
                  <a:pt x="7370" y="124"/>
                </a:lnTo>
                <a:lnTo>
                  <a:pt x="7247" y="155"/>
                </a:lnTo>
                <a:lnTo>
                  <a:pt x="7154" y="155"/>
                </a:lnTo>
                <a:lnTo>
                  <a:pt x="7061" y="155"/>
                </a:lnTo>
                <a:lnTo>
                  <a:pt x="6912" y="186"/>
                </a:lnTo>
                <a:lnTo>
                  <a:pt x="6819" y="217"/>
                </a:lnTo>
                <a:lnTo>
                  <a:pt x="6726" y="217"/>
                </a:lnTo>
                <a:lnTo>
                  <a:pt x="6572" y="217"/>
                </a:lnTo>
                <a:lnTo>
                  <a:pt x="6449" y="217"/>
                </a:lnTo>
                <a:lnTo>
                  <a:pt x="6356" y="217"/>
                </a:lnTo>
                <a:lnTo>
                  <a:pt x="6202" y="186"/>
                </a:lnTo>
                <a:lnTo>
                  <a:pt x="5831" y="186"/>
                </a:lnTo>
                <a:lnTo>
                  <a:pt x="5739" y="186"/>
                </a:lnTo>
                <a:lnTo>
                  <a:pt x="5526" y="186"/>
                </a:lnTo>
                <a:lnTo>
                  <a:pt x="5433" y="186"/>
                </a:lnTo>
                <a:lnTo>
                  <a:pt x="5341" y="186"/>
                </a:lnTo>
                <a:lnTo>
                  <a:pt x="5248" y="186"/>
                </a:lnTo>
                <a:lnTo>
                  <a:pt x="5155" y="155"/>
                </a:lnTo>
                <a:lnTo>
                  <a:pt x="5001" y="155"/>
                </a:lnTo>
                <a:lnTo>
                  <a:pt x="4785" y="155"/>
                </a:lnTo>
                <a:lnTo>
                  <a:pt x="4631" y="155"/>
                </a:lnTo>
                <a:lnTo>
                  <a:pt x="4415" y="155"/>
                </a:lnTo>
                <a:lnTo>
                  <a:pt x="4234" y="124"/>
                </a:lnTo>
                <a:lnTo>
                  <a:pt x="4141" y="124"/>
                </a:lnTo>
                <a:lnTo>
                  <a:pt x="3987" y="124"/>
                </a:lnTo>
                <a:lnTo>
                  <a:pt x="3863" y="92"/>
                </a:lnTo>
                <a:lnTo>
                  <a:pt x="3771" y="92"/>
                </a:lnTo>
                <a:lnTo>
                  <a:pt x="3647" y="92"/>
                </a:lnTo>
                <a:lnTo>
                  <a:pt x="3555" y="92"/>
                </a:lnTo>
                <a:lnTo>
                  <a:pt x="3431" y="92"/>
                </a:lnTo>
                <a:lnTo>
                  <a:pt x="3339" y="92"/>
                </a:lnTo>
                <a:lnTo>
                  <a:pt x="3123" y="92"/>
                </a:lnTo>
                <a:lnTo>
                  <a:pt x="3030" y="92"/>
                </a:lnTo>
                <a:lnTo>
                  <a:pt x="2911" y="92"/>
                </a:lnTo>
                <a:lnTo>
                  <a:pt x="2787" y="92"/>
                </a:lnTo>
                <a:lnTo>
                  <a:pt x="2695" y="92"/>
                </a:lnTo>
                <a:lnTo>
                  <a:pt x="2448" y="61"/>
                </a:lnTo>
                <a:lnTo>
                  <a:pt x="2294" y="61"/>
                </a:lnTo>
                <a:lnTo>
                  <a:pt x="2170" y="30"/>
                </a:lnTo>
                <a:lnTo>
                  <a:pt x="2077" y="30"/>
                </a:lnTo>
                <a:lnTo>
                  <a:pt x="1892" y="30"/>
                </a:lnTo>
                <a:lnTo>
                  <a:pt x="1803" y="70"/>
                </a:lnTo>
                <a:lnTo>
                  <a:pt x="1591" y="39"/>
                </a:lnTo>
                <a:lnTo>
                  <a:pt x="1441" y="30"/>
                </a:lnTo>
                <a:lnTo>
                  <a:pt x="1340" y="0"/>
                </a:lnTo>
                <a:lnTo>
                  <a:pt x="1230" y="39"/>
                </a:lnTo>
                <a:lnTo>
                  <a:pt x="1049" y="39"/>
                </a:lnTo>
                <a:lnTo>
                  <a:pt x="793" y="0"/>
                </a:lnTo>
                <a:lnTo>
                  <a:pt x="599" y="0"/>
                </a:lnTo>
                <a:lnTo>
                  <a:pt x="476" y="17"/>
                </a:lnTo>
                <a:lnTo>
                  <a:pt x="304" y="13"/>
                </a:lnTo>
                <a:lnTo>
                  <a:pt x="0" y="1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8" name=""/>
          <p:cNvGrpSpPr/>
          <p:nvPr/>
        </p:nvGrpSpPr>
        <p:grpSpPr>
          <a:xfrm>
            <a:off x="1887480" y="6413400"/>
            <a:ext cx="1721160" cy="160560"/>
            <a:chOff x="1887480" y="6413400"/>
            <a:chExt cx="1721160" cy="160560"/>
          </a:xfrm>
        </p:grpSpPr>
        <p:sp>
          <p:nvSpPr>
            <p:cNvPr id="5479" name=""/>
            <p:cNvSpPr/>
            <p:nvPr/>
          </p:nvSpPr>
          <p:spPr>
            <a:xfrm>
              <a:off x="3029040" y="6434280"/>
              <a:ext cx="137880" cy="13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H="1">
              <a:off x="2425680" y="6426360"/>
              <a:ext cx="4608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467080" y="6442200"/>
              <a:ext cx="565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1887480" y="6413400"/>
              <a:ext cx="1721160" cy="160560"/>
            </a:xfrm>
            <a:custGeom>
              <a:avLst/>
              <a:gdLst/>
              <a:ahLst/>
              <a:rect l="0" t="0" r="r" b="b"/>
              <a:pathLst>
                <a:path fill="none" w="4781" h="446">
                  <a:moveTo>
                    <a:pt x="4781" y="353"/>
                  </a:moveTo>
                  <a:lnTo>
                    <a:pt x="4688" y="384"/>
                  </a:lnTo>
                  <a:lnTo>
                    <a:pt x="4595" y="384"/>
                  </a:lnTo>
                  <a:lnTo>
                    <a:pt x="4441" y="384"/>
                  </a:lnTo>
                  <a:lnTo>
                    <a:pt x="4348" y="353"/>
                  </a:lnTo>
                  <a:lnTo>
                    <a:pt x="4256" y="353"/>
                  </a:lnTo>
                  <a:lnTo>
                    <a:pt x="4075" y="384"/>
                  </a:lnTo>
                  <a:lnTo>
                    <a:pt x="3982" y="384"/>
                  </a:lnTo>
                  <a:lnTo>
                    <a:pt x="3890" y="415"/>
                  </a:lnTo>
                  <a:lnTo>
                    <a:pt x="3766" y="446"/>
                  </a:lnTo>
                  <a:lnTo>
                    <a:pt x="3674" y="446"/>
                  </a:lnTo>
                  <a:lnTo>
                    <a:pt x="3519" y="446"/>
                  </a:lnTo>
                  <a:lnTo>
                    <a:pt x="3427" y="446"/>
                  </a:lnTo>
                  <a:lnTo>
                    <a:pt x="3334" y="446"/>
                  </a:lnTo>
                  <a:lnTo>
                    <a:pt x="3242" y="446"/>
                  </a:lnTo>
                  <a:lnTo>
                    <a:pt x="3149" y="446"/>
                  </a:lnTo>
                  <a:lnTo>
                    <a:pt x="3065" y="424"/>
                  </a:lnTo>
                  <a:lnTo>
                    <a:pt x="2924" y="424"/>
                  </a:lnTo>
                  <a:lnTo>
                    <a:pt x="2805" y="375"/>
                  </a:lnTo>
                  <a:lnTo>
                    <a:pt x="2682" y="402"/>
                  </a:lnTo>
                  <a:lnTo>
                    <a:pt x="2615" y="358"/>
                  </a:lnTo>
                  <a:lnTo>
                    <a:pt x="2496" y="322"/>
                  </a:lnTo>
                  <a:lnTo>
                    <a:pt x="2421" y="318"/>
                  </a:lnTo>
                  <a:lnTo>
                    <a:pt x="2328" y="278"/>
                  </a:lnTo>
                  <a:lnTo>
                    <a:pt x="2222" y="278"/>
                  </a:lnTo>
                  <a:lnTo>
                    <a:pt x="2103" y="265"/>
                  </a:lnTo>
                  <a:lnTo>
                    <a:pt x="1984" y="225"/>
                  </a:lnTo>
                  <a:lnTo>
                    <a:pt x="1993" y="230"/>
                  </a:lnTo>
                  <a:lnTo>
                    <a:pt x="1860" y="202"/>
                  </a:lnTo>
                  <a:lnTo>
                    <a:pt x="1755" y="185"/>
                  </a:lnTo>
                  <a:lnTo>
                    <a:pt x="1680" y="171"/>
                  </a:lnTo>
                  <a:lnTo>
                    <a:pt x="1336" y="145"/>
                  </a:lnTo>
                  <a:lnTo>
                    <a:pt x="1093" y="145"/>
                  </a:lnTo>
                  <a:lnTo>
                    <a:pt x="987" y="119"/>
                  </a:lnTo>
                  <a:lnTo>
                    <a:pt x="820" y="110"/>
                  </a:lnTo>
                  <a:lnTo>
                    <a:pt x="727" y="52"/>
                  </a:lnTo>
                  <a:lnTo>
                    <a:pt x="555" y="66"/>
                  </a:lnTo>
                  <a:lnTo>
                    <a:pt x="418" y="44"/>
                  </a:lnTo>
                  <a:lnTo>
                    <a:pt x="273" y="44"/>
                  </a:lnTo>
                  <a:lnTo>
                    <a:pt x="132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3" name=""/>
          <p:cNvSpPr/>
          <p:nvPr/>
        </p:nvSpPr>
        <p:spPr>
          <a:xfrm>
            <a:off x="2125800" y="382680"/>
            <a:ext cx="346320" cy="943200"/>
          </a:xfrm>
          <a:custGeom>
            <a:avLst/>
            <a:gdLst/>
            <a:ahLst/>
            <a:rect l="0" t="0" r="r" b="b"/>
            <a:pathLst>
              <a:path w="962" h="2620">
                <a:moveTo>
                  <a:pt x="962" y="2620"/>
                </a:moveTo>
                <a:lnTo>
                  <a:pt x="962" y="0"/>
                </a:lnTo>
                <a:lnTo>
                  <a:pt x="0" y="0"/>
                </a:lnTo>
                <a:lnTo>
                  <a:pt x="0" y="22"/>
                </a:lnTo>
                <a:lnTo>
                  <a:pt x="0" y="48"/>
                </a:lnTo>
                <a:lnTo>
                  <a:pt x="8" y="74"/>
                </a:lnTo>
                <a:lnTo>
                  <a:pt x="13" y="101"/>
                </a:lnTo>
                <a:lnTo>
                  <a:pt x="26" y="127"/>
                </a:lnTo>
                <a:lnTo>
                  <a:pt x="48" y="154"/>
                </a:lnTo>
                <a:lnTo>
                  <a:pt x="52" y="180"/>
                </a:lnTo>
                <a:lnTo>
                  <a:pt x="74" y="207"/>
                </a:lnTo>
                <a:lnTo>
                  <a:pt x="92" y="233"/>
                </a:lnTo>
                <a:lnTo>
                  <a:pt x="105" y="264"/>
                </a:lnTo>
                <a:lnTo>
                  <a:pt x="132" y="291"/>
                </a:lnTo>
                <a:lnTo>
                  <a:pt x="145" y="313"/>
                </a:lnTo>
                <a:lnTo>
                  <a:pt x="167" y="330"/>
                </a:lnTo>
                <a:lnTo>
                  <a:pt x="194" y="352"/>
                </a:lnTo>
                <a:lnTo>
                  <a:pt x="211" y="379"/>
                </a:lnTo>
                <a:lnTo>
                  <a:pt x="233" y="405"/>
                </a:lnTo>
                <a:lnTo>
                  <a:pt x="277" y="423"/>
                </a:lnTo>
                <a:lnTo>
                  <a:pt x="304" y="445"/>
                </a:lnTo>
                <a:lnTo>
                  <a:pt x="326" y="471"/>
                </a:lnTo>
                <a:lnTo>
                  <a:pt x="352" y="498"/>
                </a:lnTo>
                <a:lnTo>
                  <a:pt x="357" y="524"/>
                </a:lnTo>
                <a:lnTo>
                  <a:pt x="366" y="551"/>
                </a:lnTo>
                <a:lnTo>
                  <a:pt x="366" y="577"/>
                </a:lnTo>
                <a:lnTo>
                  <a:pt x="366" y="604"/>
                </a:lnTo>
                <a:lnTo>
                  <a:pt x="379" y="630"/>
                </a:lnTo>
                <a:lnTo>
                  <a:pt x="392" y="657"/>
                </a:lnTo>
                <a:lnTo>
                  <a:pt x="396" y="687"/>
                </a:lnTo>
                <a:lnTo>
                  <a:pt x="405" y="709"/>
                </a:lnTo>
                <a:lnTo>
                  <a:pt x="405" y="749"/>
                </a:lnTo>
                <a:lnTo>
                  <a:pt x="410" y="776"/>
                </a:lnTo>
                <a:lnTo>
                  <a:pt x="418" y="815"/>
                </a:lnTo>
                <a:lnTo>
                  <a:pt x="432" y="842"/>
                </a:lnTo>
                <a:lnTo>
                  <a:pt x="436" y="881"/>
                </a:lnTo>
                <a:lnTo>
                  <a:pt x="445" y="912"/>
                </a:lnTo>
                <a:lnTo>
                  <a:pt x="449" y="934"/>
                </a:lnTo>
                <a:lnTo>
                  <a:pt x="471" y="961"/>
                </a:lnTo>
                <a:lnTo>
                  <a:pt x="486" y="987"/>
                </a:lnTo>
                <a:lnTo>
                  <a:pt x="490" y="1014"/>
                </a:lnTo>
                <a:lnTo>
                  <a:pt x="503" y="1040"/>
                </a:lnTo>
                <a:lnTo>
                  <a:pt x="512" y="1067"/>
                </a:lnTo>
                <a:lnTo>
                  <a:pt x="516" y="1106"/>
                </a:lnTo>
                <a:lnTo>
                  <a:pt x="525" y="1133"/>
                </a:lnTo>
                <a:lnTo>
                  <a:pt x="525" y="1172"/>
                </a:lnTo>
                <a:lnTo>
                  <a:pt x="538" y="1199"/>
                </a:lnTo>
                <a:lnTo>
                  <a:pt x="556" y="1252"/>
                </a:lnTo>
                <a:lnTo>
                  <a:pt x="565" y="1283"/>
                </a:lnTo>
                <a:lnTo>
                  <a:pt x="583" y="1305"/>
                </a:lnTo>
                <a:lnTo>
                  <a:pt x="591" y="1350"/>
                </a:lnTo>
                <a:lnTo>
                  <a:pt x="596" y="1376"/>
                </a:lnTo>
                <a:lnTo>
                  <a:pt x="596" y="1412"/>
                </a:lnTo>
                <a:lnTo>
                  <a:pt x="596" y="1456"/>
                </a:lnTo>
                <a:lnTo>
                  <a:pt x="596" y="1478"/>
                </a:lnTo>
                <a:lnTo>
                  <a:pt x="596" y="1509"/>
                </a:lnTo>
                <a:lnTo>
                  <a:pt x="596" y="1544"/>
                </a:lnTo>
                <a:lnTo>
                  <a:pt x="596" y="1584"/>
                </a:lnTo>
                <a:lnTo>
                  <a:pt x="605" y="1628"/>
                </a:lnTo>
                <a:lnTo>
                  <a:pt x="605" y="1654"/>
                </a:lnTo>
                <a:lnTo>
                  <a:pt x="609" y="1676"/>
                </a:lnTo>
                <a:lnTo>
                  <a:pt x="609" y="1707"/>
                </a:lnTo>
                <a:lnTo>
                  <a:pt x="622" y="1742"/>
                </a:lnTo>
                <a:lnTo>
                  <a:pt x="658" y="1800"/>
                </a:lnTo>
                <a:lnTo>
                  <a:pt x="658" y="1822"/>
                </a:lnTo>
                <a:lnTo>
                  <a:pt x="675" y="1848"/>
                </a:lnTo>
                <a:lnTo>
                  <a:pt x="684" y="1875"/>
                </a:lnTo>
                <a:lnTo>
                  <a:pt x="688" y="1901"/>
                </a:lnTo>
                <a:lnTo>
                  <a:pt x="688" y="1928"/>
                </a:lnTo>
                <a:lnTo>
                  <a:pt x="697" y="1954"/>
                </a:lnTo>
                <a:lnTo>
                  <a:pt x="710" y="1980"/>
                </a:lnTo>
                <a:lnTo>
                  <a:pt x="715" y="2007"/>
                </a:lnTo>
                <a:lnTo>
                  <a:pt x="724" y="2038"/>
                </a:lnTo>
                <a:lnTo>
                  <a:pt x="737" y="2077"/>
                </a:lnTo>
                <a:lnTo>
                  <a:pt x="768" y="2144"/>
                </a:lnTo>
                <a:lnTo>
                  <a:pt x="781" y="2166"/>
                </a:lnTo>
                <a:lnTo>
                  <a:pt x="803" y="2210"/>
                </a:lnTo>
                <a:lnTo>
                  <a:pt x="860" y="2298"/>
                </a:lnTo>
                <a:lnTo>
                  <a:pt x="869" y="2324"/>
                </a:lnTo>
                <a:lnTo>
                  <a:pt x="874" y="2355"/>
                </a:lnTo>
                <a:lnTo>
                  <a:pt x="874" y="2377"/>
                </a:lnTo>
                <a:lnTo>
                  <a:pt x="882" y="2404"/>
                </a:lnTo>
                <a:lnTo>
                  <a:pt x="882" y="2430"/>
                </a:lnTo>
                <a:lnTo>
                  <a:pt x="887" y="2457"/>
                </a:lnTo>
                <a:lnTo>
                  <a:pt x="896" y="2483"/>
                </a:lnTo>
                <a:lnTo>
                  <a:pt x="896" y="2510"/>
                </a:lnTo>
                <a:lnTo>
                  <a:pt x="909" y="2549"/>
                </a:lnTo>
                <a:lnTo>
                  <a:pt x="935" y="2567"/>
                </a:lnTo>
                <a:lnTo>
                  <a:pt x="940" y="2589"/>
                </a:lnTo>
                <a:lnTo>
                  <a:pt x="953" y="2615"/>
                </a:lnTo>
                <a:lnTo>
                  <a:pt x="962" y="262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"/>
          <p:cNvSpPr/>
          <p:nvPr/>
        </p:nvSpPr>
        <p:spPr>
          <a:xfrm>
            <a:off x="3030480" y="382680"/>
            <a:ext cx="400320" cy="989280"/>
          </a:xfrm>
          <a:custGeom>
            <a:avLst/>
            <a:gdLst/>
            <a:ahLst/>
            <a:rect l="0" t="0" r="r" b="b"/>
            <a:pathLst>
              <a:path w="1112" h="2748">
                <a:moveTo>
                  <a:pt x="0" y="2748"/>
                </a:moveTo>
                <a:lnTo>
                  <a:pt x="0" y="8"/>
                </a:lnTo>
                <a:lnTo>
                  <a:pt x="1112" y="8"/>
                </a:lnTo>
                <a:lnTo>
                  <a:pt x="1112" y="0"/>
                </a:lnTo>
                <a:lnTo>
                  <a:pt x="1112" y="22"/>
                </a:lnTo>
                <a:lnTo>
                  <a:pt x="1112" y="48"/>
                </a:lnTo>
                <a:lnTo>
                  <a:pt x="1099" y="74"/>
                </a:lnTo>
                <a:lnTo>
                  <a:pt x="1085" y="101"/>
                </a:lnTo>
                <a:lnTo>
                  <a:pt x="1085" y="127"/>
                </a:lnTo>
                <a:lnTo>
                  <a:pt x="1085" y="154"/>
                </a:lnTo>
                <a:lnTo>
                  <a:pt x="1081" y="180"/>
                </a:lnTo>
                <a:lnTo>
                  <a:pt x="1072" y="207"/>
                </a:lnTo>
                <a:lnTo>
                  <a:pt x="1059" y="233"/>
                </a:lnTo>
                <a:lnTo>
                  <a:pt x="1046" y="264"/>
                </a:lnTo>
                <a:lnTo>
                  <a:pt x="1041" y="286"/>
                </a:lnTo>
                <a:lnTo>
                  <a:pt x="1028" y="313"/>
                </a:lnTo>
                <a:lnTo>
                  <a:pt x="1006" y="352"/>
                </a:lnTo>
                <a:lnTo>
                  <a:pt x="988" y="392"/>
                </a:lnTo>
                <a:lnTo>
                  <a:pt x="975" y="418"/>
                </a:lnTo>
                <a:lnTo>
                  <a:pt x="949" y="445"/>
                </a:lnTo>
                <a:lnTo>
                  <a:pt x="927" y="471"/>
                </a:lnTo>
                <a:lnTo>
                  <a:pt x="909" y="511"/>
                </a:lnTo>
                <a:lnTo>
                  <a:pt x="882" y="555"/>
                </a:lnTo>
                <a:lnTo>
                  <a:pt x="860" y="590"/>
                </a:lnTo>
                <a:lnTo>
                  <a:pt x="847" y="617"/>
                </a:lnTo>
                <a:lnTo>
                  <a:pt x="843" y="643"/>
                </a:lnTo>
                <a:lnTo>
                  <a:pt x="830" y="670"/>
                </a:lnTo>
                <a:lnTo>
                  <a:pt x="821" y="696"/>
                </a:lnTo>
                <a:lnTo>
                  <a:pt x="816" y="723"/>
                </a:lnTo>
                <a:lnTo>
                  <a:pt x="803" y="762"/>
                </a:lnTo>
                <a:lnTo>
                  <a:pt x="781" y="789"/>
                </a:lnTo>
                <a:lnTo>
                  <a:pt x="755" y="815"/>
                </a:lnTo>
                <a:lnTo>
                  <a:pt x="737" y="846"/>
                </a:lnTo>
                <a:lnTo>
                  <a:pt x="715" y="873"/>
                </a:lnTo>
                <a:lnTo>
                  <a:pt x="697" y="895"/>
                </a:lnTo>
                <a:lnTo>
                  <a:pt x="671" y="921"/>
                </a:lnTo>
                <a:lnTo>
                  <a:pt x="658" y="948"/>
                </a:lnTo>
                <a:lnTo>
                  <a:pt x="644" y="978"/>
                </a:lnTo>
                <a:lnTo>
                  <a:pt x="631" y="1001"/>
                </a:lnTo>
                <a:lnTo>
                  <a:pt x="609" y="1018"/>
                </a:lnTo>
                <a:lnTo>
                  <a:pt x="578" y="1053"/>
                </a:lnTo>
                <a:lnTo>
                  <a:pt x="555" y="1071"/>
                </a:lnTo>
                <a:lnTo>
                  <a:pt x="555" y="1093"/>
                </a:lnTo>
                <a:lnTo>
                  <a:pt x="542" y="1124"/>
                </a:lnTo>
                <a:lnTo>
                  <a:pt x="542" y="1146"/>
                </a:lnTo>
                <a:lnTo>
                  <a:pt x="542" y="1172"/>
                </a:lnTo>
                <a:lnTo>
                  <a:pt x="529" y="1199"/>
                </a:lnTo>
                <a:lnTo>
                  <a:pt x="524" y="1225"/>
                </a:lnTo>
                <a:lnTo>
                  <a:pt x="511" y="1252"/>
                </a:lnTo>
                <a:lnTo>
                  <a:pt x="489" y="1265"/>
                </a:lnTo>
                <a:lnTo>
                  <a:pt x="471" y="1292"/>
                </a:lnTo>
                <a:lnTo>
                  <a:pt x="458" y="1318"/>
                </a:lnTo>
                <a:lnTo>
                  <a:pt x="445" y="1344"/>
                </a:lnTo>
                <a:lnTo>
                  <a:pt x="436" y="1371"/>
                </a:lnTo>
                <a:lnTo>
                  <a:pt x="432" y="1398"/>
                </a:lnTo>
                <a:lnTo>
                  <a:pt x="423" y="1442"/>
                </a:lnTo>
                <a:lnTo>
                  <a:pt x="410" y="1469"/>
                </a:lnTo>
                <a:lnTo>
                  <a:pt x="405" y="1495"/>
                </a:lnTo>
                <a:lnTo>
                  <a:pt x="396" y="1517"/>
                </a:lnTo>
                <a:lnTo>
                  <a:pt x="383" y="1544"/>
                </a:lnTo>
                <a:lnTo>
                  <a:pt x="379" y="1584"/>
                </a:lnTo>
                <a:lnTo>
                  <a:pt x="370" y="1610"/>
                </a:lnTo>
                <a:lnTo>
                  <a:pt x="366" y="1654"/>
                </a:lnTo>
                <a:lnTo>
                  <a:pt x="366" y="1676"/>
                </a:lnTo>
                <a:lnTo>
                  <a:pt x="357" y="1707"/>
                </a:lnTo>
                <a:lnTo>
                  <a:pt x="352" y="1729"/>
                </a:lnTo>
                <a:lnTo>
                  <a:pt x="343" y="1756"/>
                </a:lnTo>
                <a:lnTo>
                  <a:pt x="339" y="1808"/>
                </a:lnTo>
                <a:lnTo>
                  <a:pt x="330" y="1866"/>
                </a:lnTo>
                <a:lnTo>
                  <a:pt x="326" y="1888"/>
                </a:lnTo>
                <a:lnTo>
                  <a:pt x="317" y="1914"/>
                </a:lnTo>
                <a:lnTo>
                  <a:pt x="313" y="1941"/>
                </a:lnTo>
                <a:lnTo>
                  <a:pt x="304" y="1985"/>
                </a:lnTo>
                <a:lnTo>
                  <a:pt x="304" y="2011"/>
                </a:lnTo>
                <a:lnTo>
                  <a:pt x="299" y="2033"/>
                </a:lnTo>
                <a:lnTo>
                  <a:pt x="291" y="2060"/>
                </a:lnTo>
                <a:lnTo>
                  <a:pt x="286" y="2086"/>
                </a:lnTo>
                <a:lnTo>
                  <a:pt x="277" y="2117"/>
                </a:lnTo>
                <a:lnTo>
                  <a:pt x="277" y="2157"/>
                </a:lnTo>
                <a:lnTo>
                  <a:pt x="273" y="2192"/>
                </a:lnTo>
                <a:lnTo>
                  <a:pt x="260" y="2219"/>
                </a:lnTo>
                <a:lnTo>
                  <a:pt x="246" y="2245"/>
                </a:lnTo>
                <a:lnTo>
                  <a:pt x="238" y="2272"/>
                </a:lnTo>
                <a:lnTo>
                  <a:pt x="220" y="2316"/>
                </a:lnTo>
                <a:lnTo>
                  <a:pt x="211" y="2338"/>
                </a:lnTo>
                <a:lnTo>
                  <a:pt x="198" y="2364"/>
                </a:lnTo>
                <a:lnTo>
                  <a:pt x="194" y="2391"/>
                </a:lnTo>
                <a:lnTo>
                  <a:pt x="185" y="2435"/>
                </a:lnTo>
                <a:lnTo>
                  <a:pt x="171" y="2457"/>
                </a:lnTo>
                <a:lnTo>
                  <a:pt x="167" y="2488"/>
                </a:lnTo>
                <a:lnTo>
                  <a:pt x="158" y="2510"/>
                </a:lnTo>
                <a:lnTo>
                  <a:pt x="154" y="2536"/>
                </a:lnTo>
                <a:lnTo>
                  <a:pt x="145" y="2563"/>
                </a:lnTo>
                <a:lnTo>
                  <a:pt x="132" y="2589"/>
                </a:lnTo>
                <a:lnTo>
                  <a:pt x="119" y="2620"/>
                </a:lnTo>
                <a:lnTo>
                  <a:pt x="101" y="2642"/>
                </a:lnTo>
                <a:lnTo>
                  <a:pt x="74" y="2695"/>
                </a:lnTo>
                <a:lnTo>
                  <a:pt x="48" y="2735"/>
                </a:lnTo>
                <a:lnTo>
                  <a:pt x="26" y="2735"/>
                </a:lnTo>
                <a:lnTo>
                  <a:pt x="0" y="2748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"/>
          <p:cNvSpPr/>
          <p:nvPr/>
        </p:nvSpPr>
        <p:spPr>
          <a:xfrm>
            <a:off x="3035160" y="1371600"/>
            <a:ext cx="584640" cy="2584800"/>
          </a:xfrm>
          <a:custGeom>
            <a:avLst/>
            <a:gdLst/>
            <a:ahLst/>
            <a:rect l="0" t="0" r="r" b="b"/>
            <a:pathLst>
              <a:path w="1624" h="7180">
                <a:moveTo>
                  <a:pt x="388" y="7180"/>
                </a:moveTo>
                <a:lnTo>
                  <a:pt x="0" y="7180"/>
                </a:lnTo>
                <a:lnTo>
                  <a:pt x="0" y="0"/>
                </a:lnTo>
                <a:lnTo>
                  <a:pt x="17" y="52"/>
                </a:lnTo>
                <a:lnTo>
                  <a:pt x="35" y="105"/>
                </a:lnTo>
                <a:lnTo>
                  <a:pt x="52" y="158"/>
                </a:lnTo>
                <a:lnTo>
                  <a:pt x="70" y="211"/>
                </a:lnTo>
                <a:lnTo>
                  <a:pt x="88" y="264"/>
                </a:lnTo>
                <a:lnTo>
                  <a:pt x="88" y="317"/>
                </a:lnTo>
                <a:lnTo>
                  <a:pt x="123" y="370"/>
                </a:lnTo>
                <a:lnTo>
                  <a:pt x="158" y="423"/>
                </a:lnTo>
                <a:lnTo>
                  <a:pt x="194" y="476"/>
                </a:lnTo>
                <a:lnTo>
                  <a:pt x="229" y="529"/>
                </a:lnTo>
                <a:lnTo>
                  <a:pt x="246" y="582"/>
                </a:lnTo>
                <a:lnTo>
                  <a:pt x="264" y="635"/>
                </a:lnTo>
                <a:lnTo>
                  <a:pt x="282" y="687"/>
                </a:lnTo>
                <a:lnTo>
                  <a:pt x="282" y="740"/>
                </a:lnTo>
                <a:lnTo>
                  <a:pt x="299" y="793"/>
                </a:lnTo>
                <a:lnTo>
                  <a:pt x="317" y="846"/>
                </a:lnTo>
                <a:lnTo>
                  <a:pt x="352" y="899"/>
                </a:lnTo>
                <a:lnTo>
                  <a:pt x="388" y="952"/>
                </a:lnTo>
                <a:lnTo>
                  <a:pt x="405" y="1005"/>
                </a:lnTo>
                <a:lnTo>
                  <a:pt x="424" y="1058"/>
                </a:lnTo>
                <a:lnTo>
                  <a:pt x="441" y="1111"/>
                </a:lnTo>
                <a:lnTo>
                  <a:pt x="459" y="1164"/>
                </a:lnTo>
                <a:lnTo>
                  <a:pt x="494" y="1217"/>
                </a:lnTo>
                <a:lnTo>
                  <a:pt x="512" y="1270"/>
                </a:lnTo>
                <a:lnTo>
                  <a:pt x="530" y="1322"/>
                </a:lnTo>
                <a:lnTo>
                  <a:pt x="565" y="1411"/>
                </a:lnTo>
                <a:lnTo>
                  <a:pt x="600" y="1464"/>
                </a:lnTo>
                <a:lnTo>
                  <a:pt x="636" y="1552"/>
                </a:lnTo>
                <a:lnTo>
                  <a:pt x="653" y="1605"/>
                </a:lnTo>
                <a:lnTo>
                  <a:pt x="653" y="1658"/>
                </a:lnTo>
                <a:lnTo>
                  <a:pt x="671" y="1746"/>
                </a:lnTo>
                <a:lnTo>
                  <a:pt x="688" y="1816"/>
                </a:lnTo>
                <a:lnTo>
                  <a:pt x="706" y="1869"/>
                </a:lnTo>
                <a:lnTo>
                  <a:pt x="706" y="1957"/>
                </a:lnTo>
                <a:lnTo>
                  <a:pt x="724" y="2028"/>
                </a:lnTo>
                <a:lnTo>
                  <a:pt x="724" y="2081"/>
                </a:lnTo>
                <a:lnTo>
                  <a:pt x="759" y="2134"/>
                </a:lnTo>
                <a:lnTo>
                  <a:pt x="777" y="2187"/>
                </a:lnTo>
                <a:lnTo>
                  <a:pt x="777" y="2240"/>
                </a:lnTo>
                <a:lnTo>
                  <a:pt x="794" y="2293"/>
                </a:lnTo>
                <a:lnTo>
                  <a:pt x="794" y="2345"/>
                </a:lnTo>
                <a:lnTo>
                  <a:pt x="812" y="2416"/>
                </a:lnTo>
                <a:lnTo>
                  <a:pt x="812" y="2469"/>
                </a:lnTo>
                <a:lnTo>
                  <a:pt x="847" y="2522"/>
                </a:lnTo>
                <a:lnTo>
                  <a:pt x="882" y="2610"/>
                </a:lnTo>
                <a:lnTo>
                  <a:pt x="918" y="2663"/>
                </a:lnTo>
                <a:lnTo>
                  <a:pt x="935" y="2716"/>
                </a:lnTo>
                <a:lnTo>
                  <a:pt x="953" y="2786"/>
                </a:lnTo>
                <a:lnTo>
                  <a:pt x="1006" y="2875"/>
                </a:lnTo>
                <a:lnTo>
                  <a:pt x="1006" y="2928"/>
                </a:lnTo>
                <a:lnTo>
                  <a:pt x="1024" y="2980"/>
                </a:lnTo>
                <a:lnTo>
                  <a:pt x="1041" y="3033"/>
                </a:lnTo>
                <a:lnTo>
                  <a:pt x="1059" y="3086"/>
                </a:lnTo>
                <a:lnTo>
                  <a:pt x="1076" y="3139"/>
                </a:lnTo>
                <a:lnTo>
                  <a:pt x="1094" y="3227"/>
                </a:lnTo>
                <a:lnTo>
                  <a:pt x="1147" y="3316"/>
                </a:lnTo>
                <a:lnTo>
                  <a:pt x="1219" y="3421"/>
                </a:lnTo>
                <a:lnTo>
                  <a:pt x="1236" y="3474"/>
                </a:lnTo>
                <a:lnTo>
                  <a:pt x="1254" y="3527"/>
                </a:lnTo>
                <a:lnTo>
                  <a:pt x="1272" y="3580"/>
                </a:lnTo>
                <a:lnTo>
                  <a:pt x="1289" y="3652"/>
                </a:lnTo>
                <a:lnTo>
                  <a:pt x="1307" y="3705"/>
                </a:lnTo>
                <a:lnTo>
                  <a:pt x="1342" y="3793"/>
                </a:lnTo>
                <a:lnTo>
                  <a:pt x="1360" y="3846"/>
                </a:lnTo>
                <a:lnTo>
                  <a:pt x="1413" y="3916"/>
                </a:lnTo>
                <a:lnTo>
                  <a:pt x="1430" y="4005"/>
                </a:lnTo>
                <a:lnTo>
                  <a:pt x="1430" y="4075"/>
                </a:lnTo>
                <a:lnTo>
                  <a:pt x="1448" y="4146"/>
                </a:lnTo>
                <a:lnTo>
                  <a:pt x="1448" y="4199"/>
                </a:lnTo>
                <a:lnTo>
                  <a:pt x="1466" y="4287"/>
                </a:lnTo>
                <a:lnTo>
                  <a:pt x="1483" y="4340"/>
                </a:lnTo>
                <a:lnTo>
                  <a:pt x="1518" y="4428"/>
                </a:lnTo>
                <a:lnTo>
                  <a:pt x="1518" y="4481"/>
                </a:lnTo>
                <a:lnTo>
                  <a:pt x="1536" y="4534"/>
                </a:lnTo>
                <a:lnTo>
                  <a:pt x="1536" y="4587"/>
                </a:lnTo>
                <a:lnTo>
                  <a:pt x="1536" y="4640"/>
                </a:lnTo>
                <a:lnTo>
                  <a:pt x="1536" y="4692"/>
                </a:lnTo>
                <a:lnTo>
                  <a:pt x="1536" y="4745"/>
                </a:lnTo>
                <a:lnTo>
                  <a:pt x="1554" y="4798"/>
                </a:lnTo>
                <a:lnTo>
                  <a:pt x="1571" y="4851"/>
                </a:lnTo>
                <a:lnTo>
                  <a:pt x="1607" y="4904"/>
                </a:lnTo>
                <a:lnTo>
                  <a:pt x="1624" y="4957"/>
                </a:lnTo>
                <a:lnTo>
                  <a:pt x="1589" y="5019"/>
                </a:lnTo>
                <a:lnTo>
                  <a:pt x="1563" y="5072"/>
                </a:lnTo>
                <a:lnTo>
                  <a:pt x="1563" y="5120"/>
                </a:lnTo>
                <a:lnTo>
                  <a:pt x="1549" y="5164"/>
                </a:lnTo>
                <a:lnTo>
                  <a:pt x="1536" y="5217"/>
                </a:lnTo>
                <a:lnTo>
                  <a:pt x="1496" y="5292"/>
                </a:lnTo>
                <a:lnTo>
                  <a:pt x="1470" y="5332"/>
                </a:lnTo>
                <a:lnTo>
                  <a:pt x="1443" y="5385"/>
                </a:lnTo>
                <a:lnTo>
                  <a:pt x="1404" y="5438"/>
                </a:lnTo>
                <a:lnTo>
                  <a:pt x="1360" y="5482"/>
                </a:lnTo>
                <a:lnTo>
                  <a:pt x="1324" y="5548"/>
                </a:lnTo>
                <a:lnTo>
                  <a:pt x="1307" y="5596"/>
                </a:lnTo>
                <a:lnTo>
                  <a:pt x="1280" y="5663"/>
                </a:lnTo>
                <a:lnTo>
                  <a:pt x="1232" y="5729"/>
                </a:lnTo>
                <a:lnTo>
                  <a:pt x="1219" y="5733"/>
                </a:lnTo>
                <a:lnTo>
                  <a:pt x="1191" y="5755"/>
                </a:lnTo>
                <a:lnTo>
                  <a:pt x="1178" y="5755"/>
                </a:lnTo>
                <a:lnTo>
                  <a:pt x="1151" y="5764"/>
                </a:lnTo>
                <a:lnTo>
                  <a:pt x="1182" y="5733"/>
                </a:lnTo>
                <a:lnTo>
                  <a:pt x="1134" y="5808"/>
                </a:lnTo>
                <a:lnTo>
                  <a:pt x="1094" y="5874"/>
                </a:lnTo>
                <a:lnTo>
                  <a:pt x="1059" y="5980"/>
                </a:lnTo>
                <a:lnTo>
                  <a:pt x="1024" y="6015"/>
                </a:lnTo>
                <a:lnTo>
                  <a:pt x="1006" y="6121"/>
                </a:lnTo>
                <a:lnTo>
                  <a:pt x="953" y="6156"/>
                </a:lnTo>
                <a:lnTo>
                  <a:pt x="900" y="6209"/>
                </a:lnTo>
                <a:lnTo>
                  <a:pt x="882" y="6262"/>
                </a:lnTo>
                <a:lnTo>
                  <a:pt x="847" y="6315"/>
                </a:lnTo>
                <a:lnTo>
                  <a:pt x="794" y="6333"/>
                </a:lnTo>
                <a:lnTo>
                  <a:pt x="741" y="6386"/>
                </a:lnTo>
                <a:lnTo>
                  <a:pt x="706" y="6456"/>
                </a:lnTo>
                <a:lnTo>
                  <a:pt x="688" y="6509"/>
                </a:lnTo>
                <a:lnTo>
                  <a:pt x="671" y="6571"/>
                </a:lnTo>
                <a:lnTo>
                  <a:pt x="649" y="6642"/>
                </a:lnTo>
                <a:lnTo>
                  <a:pt x="600" y="6668"/>
                </a:lnTo>
                <a:lnTo>
                  <a:pt x="596" y="6717"/>
                </a:lnTo>
                <a:lnTo>
                  <a:pt x="565" y="6783"/>
                </a:lnTo>
                <a:lnTo>
                  <a:pt x="494" y="6844"/>
                </a:lnTo>
                <a:lnTo>
                  <a:pt x="477" y="6897"/>
                </a:lnTo>
                <a:lnTo>
                  <a:pt x="459" y="6968"/>
                </a:lnTo>
                <a:lnTo>
                  <a:pt x="441" y="7021"/>
                </a:lnTo>
                <a:lnTo>
                  <a:pt x="441" y="7091"/>
                </a:lnTo>
                <a:lnTo>
                  <a:pt x="388" y="7153"/>
                </a:lnTo>
                <a:lnTo>
                  <a:pt x="388" y="718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"/>
          <p:cNvSpPr/>
          <p:nvPr/>
        </p:nvSpPr>
        <p:spPr>
          <a:xfrm>
            <a:off x="1955880" y="1324080"/>
            <a:ext cx="522720" cy="2637360"/>
          </a:xfrm>
          <a:custGeom>
            <a:avLst/>
            <a:gdLst/>
            <a:ahLst/>
            <a:rect l="0" t="0" r="r" b="b"/>
            <a:pathLst>
              <a:path w="1452" h="7326">
                <a:moveTo>
                  <a:pt x="1302" y="7326"/>
                </a:moveTo>
                <a:lnTo>
                  <a:pt x="1302" y="7326"/>
                </a:lnTo>
                <a:lnTo>
                  <a:pt x="1452" y="7326"/>
                </a:lnTo>
                <a:lnTo>
                  <a:pt x="1452" y="0"/>
                </a:lnTo>
                <a:lnTo>
                  <a:pt x="1421" y="0"/>
                </a:lnTo>
                <a:lnTo>
                  <a:pt x="1360" y="79"/>
                </a:lnTo>
                <a:lnTo>
                  <a:pt x="1289" y="158"/>
                </a:lnTo>
                <a:lnTo>
                  <a:pt x="1263" y="255"/>
                </a:lnTo>
                <a:lnTo>
                  <a:pt x="1210" y="339"/>
                </a:lnTo>
                <a:lnTo>
                  <a:pt x="1210" y="432"/>
                </a:lnTo>
                <a:lnTo>
                  <a:pt x="1179" y="524"/>
                </a:lnTo>
                <a:lnTo>
                  <a:pt x="1179" y="617"/>
                </a:lnTo>
                <a:lnTo>
                  <a:pt x="1148" y="709"/>
                </a:lnTo>
                <a:lnTo>
                  <a:pt x="1117" y="802"/>
                </a:lnTo>
                <a:lnTo>
                  <a:pt x="1117" y="926"/>
                </a:lnTo>
                <a:lnTo>
                  <a:pt x="1117" y="1018"/>
                </a:lnTo>
                <a:lnTo>
                  <a:pt x="1085" y="1111"/>
                </a:lnTo>
                <a:lnTo>
                  <a:pt x="1054" y="1203"/>
                </a:lnTo>
                <a:lnTo>
                  <a:pt x="993" y="1322"/>
                </a:lnTo>
                <a:lnTo>
                  <a:pt x="900" y="1415"/>
                </a:lnTo>
                <a:lnTo>
                  <a:pt x="869" y="1508"/>
                </a:lnTo>
                <a:lnTo>
                  <a:pt x="838" y="1600"/>
                </a:lnTo>
                <a:lnTo>
                  <a:pt x="807" y="1724"/>
                </a:lnTo>
                <a:lnTo>
                  <a:pt x="807" y="1816"/>
                </a:lnTo>
                <a:lnTo>
                  <a:pt x="777" y="1910"/>
                </a:lnTo>
                <a:lnTo>
                  <a:pt x="746" y="2003"/>
                </a:lnTo>
                <a:lnTo>
                  <a:pt x="715" y="2095"/>
                </a:lnTo>
                <a:lnTo>
                  <a:pt x="636" y="2179"/>
                </a:lnTo>
                <a:lnTo>
                  <a:pt x="574" y="2276"/>
                </a:lnTo>
                <a:lnTo>
                  <a:pt x="556" y="2382"/>
                </a:lnTo>
                <a:lnTo>
                  <a:pt x="512" y="2461"/>
                </a:lnTo>
                <a:lnTo>
                  <a:pt x="499" y="2646"/>
                </a:lnTo>
                <a:lnTo>
                  <a:pt x="499" y="2739"/>
                </a:lnTo>
                <a:lnTo>
                  <a:pt x="468" y="2862"/>
                </a:lnTo>
                <a:lnTo>
                  <a:pt x="468" y="2955"/>
                </a:lnTo>
                <a:lnTo>
                  <a:pt x="437" y="3109"/>
                </a:lnTo>
                <a:lnTo>
                  <a:pt x="437" y="3264"/>
                </a:lnTo>
                <a:lnTo>
                  <a:pt x="406" y="3356"/>
                </a:lnTo>
                <a:lnTo>
                  <a:pt x="375" y="3449"/>
                </a:lnTo>
                <a:lnTo>
                  <a:pt x="343" y="3603"/>
                </a:lnTo>
                <a:lnTo>
                  <a:pt x="313" y="3696"/>
                </a:lnTo>
                <a:lnTo>
                  <a:pt x="282" y="3819"/>
                </a:lnTo>
                <a:lnTo>
                  <a:pt x="251" y="3938"/>
                </a:lnTo>
                <a:lnTo>
                  <a:pt x="220" y="4093"/>
                </a:lnTo>
                <a:lnTo>
                  <a:pt x="189" y="4185"/>
                </a:lnTo>
                <a:lnTo>
                  <a:pt x="158" y="4278"/>
                </a:lnTo>
                <a:lnTo>
                  <a:pt x="127" y="4371"/>
                </a:lnTo>
                <a:lnTo>
                  <a:pt x="97" y="4463"/>
                </a:lnTo>
                <a:lnTo>
                  <a:pt x="66" y="4556"/>
                </a:lnTo>
                <a:lnTo>
                  <a:pt x="35" y="4648"/>
                </a:lnTo>
                <a:lnTo>
                  <a:pt x="35" y="4648"/>
                </a:lnTo>
                <a:lnTo>
                  <a:pt x="0" y="4737"/>
                </a:lnTo>
                <a:lnTo>
                  <a:pt x="44" y="4895"/>
                </a:lnTo>
                <a:lnTo>
                  <a:pt x="97" y="4988"/>
                </a:lnTo>
                <a:lnTo>
                  <a:pt x="127" y="5080"/>
                </a:lnTo>
                <a:lnTo>
                  <a:pt x="158" y="5173"/>
                </a:lnTo>
                <a:lnTo>
                  <a:pt x="189" y="5292"/>
                </a:lnTo>
                <a:lnTo>
                  <a:pt x="220" y="5385"/>
                </a:lnTo>
                <a:lnTo>
                  <a:pt x="251" y="5477"/>
                </a:lnTo>
                <a:lnTo>
                  <a:pt x="313" y="5571"/>
                </a:lnTo>
                <a:lnTo>
                  <a:pt x="343" y="5694"/>
                </a:lnTo>
                <a:lnTo>
                  <a:pt x="406" y="5787"/>
                </a:lnTo>
                <a:lnTo>
                  <a:pt x="450" y="5884"/>
                </a:lnTo>
                <a:lnTo>
                  <a:pt x="441" y="5884"/>
                </a:lnTo>
                <a:lnTo>
                  <a:pt x="477" y="5955"/>
                </a:lnTo>
                <a:lnTo>
                  <a:pt x="486" y="5937"/>
                </a:lnTo>
                <a:lnTo>
                  <a:pt x="486" y="5990"/>
                </a:lnTo>
                <a:lnTo>
                  <a:pt x="503" y="6105"/>
                </a:lnTo>
                <a:lnTo>
                  <a:pt x="636" y="6184"/>
                </a:lnTo>
                <a:lnTo>
                  <a:pt x="794" y="6352"/>
                </a:lnTo>
                <a:lnTo>
                  <a:pt x="874" y="6493"/>
                </a:lnTo>
                <a:lnTo>
                  <a:pt x="962" y="6678"/>
                </a:lnTo>
                <a:lnTo>
                  <a:pt x="988" y="6740"/>
                </a:lnTo>
                <a:lnTo>
                  <a:pt x="1054" y="6801"/>
                </a:lnTo>
                <a:lnTo>
                  <a:pt x="1085" y="6894"/>
                </a:lnTo>
                <a:lnTo>
                  <a:pt x="1179" y="6956"/>
                </a:lnTo>
                <a:lnTo>
                  <a:pt x="1192" y="7048"/>
                </a:lnTo>
                <a:lnTo>
                  <a:pt x="1236" y="7110"/>
                </a:lnTo>
                <a:lnTo>
                  <a:pt x="1307" y="7167"/>
                </a:lnTo>
                <a:lnTo>
                  <a:pt x="1373" y="7304"/>
                </a:lnTo>
                <a:lnTo>
                  <a:pt x="1302" y="7326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"/>
          <p:cNvSpPr/>
          <p:nvPr/>
        </p:nvSpPr>
        <p:spPr>
          <a:xfrm>
            <a:off x="6853320" y="390600"/>
            <a:ext cx="576720" cy="967320"/>
          </a:xfrm>
          <a:custGeom>
            <a:avLst/>
            <a:gdLst/>
            <a:ahLst/>
            <a:rect l="0" t="0" r="r" b="b"/>
            <a:pathLst>
              <a:path w="1602" h="2687">
                <a:moveTo>
                  <a:pt x="1602" y="2625"/>
                </a:moveTo>
                <a:lnTo>
                  <a:pt x="1173" y="0"/>
                </a:lnTo>
                <a:lnTo>
                  <a:pt x="0" y="0"/>
                </a:lnTo>
                <a:lnTo>
                  <a:pt x="30" y="39"/>
                </a:lnTo>
                <a:lnTo>
                  <a:pt x="92" y="132"/>
                </a:lnTo>
                <a:lnTo>
                  <a:pt x="92" y="224"/>
                </a:lnTo>
                <a:lnTo>
                  <a:pt x="123" y="317"/>
                </a:lnTo>
                <a:lnTo>
                  <a:pt x="154" y="410"/>
                </a:lnTo>
                <a:lnTo>
                  <a:pt x="246" y="471"/>
                </a:lnTo>
                <a:lnTo>
                  <a:pt x="277" y="564"/>
                </a:lnTo>
                <a:lnTo>
                  <a:pt x="339" y="657"/>
                </a:lnTo>
                <a:lnTo>
                  <a:pt x="402" y="750"/>
                </a:lnTo>
                <a:lnTo>
                  <a:pt x="494" y="812"/>
                </a:lnTo>
                <a:lnTo>
                  <a:pt x="556" y="904"/>
                </a:lnTo>
                <a:lnTo>
                  <a:pt x="649" y="966"/>
                </a:lnTo>
                <a:lnTo>
                  <a:pt x="741" y="1063"/>
                </a:lnTo>
                <a:lnTo>
                  <a:pt x="803" y="1178"/>
                </a:lnTo>
                <a:lnTo>
                  <a:pt x="834" y="1271"/>
                </a:lnTo>
                <a:lnTo>
                  <a:pt x="896" y="1363"/>
                </a:lnTo>
                <a:lnTo>
                  <a:pt x="966" y="1447"/>
                </a:lnTo>
                <a:lnTo>
                  <a:pt x="1015" y="1535"/>
                </a:lnTo>
                <a:lnTo>
                  <a:pt x="1054" y="1619"/>
                </a:lnTo>
                <a:lnTo>
                  <a:pt x="1107" y="1703"/>
                </a:lnTo>
                <a:lnTo>
                  <a:pt x="1160" y="1791"/>
                </a:lnTo>
                <a:lnTo>
                  <a:pt x="1258" y="1897"/>
                </a:lnTo>
                <a:lnTo>
                  <a:pt x="1258" y="1989"/>
                </a:lnTo>
                <a:lnTo>
                  <a:pt x="1333" y="2083"/>
                </a:lnTo>
                <a:lnTo>
                  <a:pt x="1360" y="2162"/>
                </a:lnTo>
                <a:lnTo>
                  <a:pt x="1391" y="2250"/>
                </a:lnTo>
                <a:lnTo>
                  <a:pt x="1448" y="2383"/>
                </a:lnTo>
                <a:lnTo>
                  <a:pt x="1510" y="2475"/>
                </a:lnTo>
                <a:lnTo>
                  <a:pt x="1602" y="2594"/>
                </a:lnTo>
                <a:lnTo>
                  <a:pt x="1602" y="2687"/>
                </a:lnTo>
                <a:lnTo>
                  <a:pt x="1602" y="2625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"/>
          <p:cNvSpPr/>
          <p:nvPr/>
        </p:nvSpPr>
        <p:spPr>
          <a:xfrm>
            <a:off x="7429680" y="1328760"/>
            <a:ext cx="910080" cy="2638800"/>
          </a:xfrm>
          <a:custGeom>
            <a:avLst/>
            <a:gdLst/>
            <a:ahLst/>
            <a:rect l="0" t="0" r="r" b="b"/>
            <a:pathLst>
              <a:path w="2528" h="7330">
                <a:moveTo>
                  <a:pt x="1257" y="7330"/>
                </a:moveTo>
                <a:lnTo>
                  <a:pt x="0" y="0"/>
                </a:lnTo>
                <a:lnTo>
                  <a:pt x="35" y="44"/>
                </a:lnTo>
                <a:lnTo>
                  <a:pt x="35" y="79"/>
                </a:lnTo>
                <a:lnTo>
                  <a:pt x="66" y="110"/>
                </a:lnTo>
                <a:lnTo>
                  <a:pt x="92" y="123"/>
                </a:lnTo>
                <a:lnTo>
                  <a:pt x="132" y="171"/>
                </a:lnTo>
                <a:lnTo>
                  <a:pt x="132" y="176"/>
                </a:lnTo>
                <a:lnTo>
                  <a:pt x="154" y="229"/>
                </a:lnTo>
                <a:lnTo>
                  <a:pt x="167" y="255"/>
                </a:lnTo>
                <a:lnTo>
                  <a:pt x="185" y="304"/>
                </a:lnTo>
                <a:lnTo>
                  <a:pt x="198" y="357"/>
                </a:lnTo>
                <a:lnTo>
                  <a:pt x="238" y="370"/>
                </a:lnTo>
                <a:lnTo>
                  <a:pt x="304" y="436"/>
                </a:lnTo>
                <a:lnTo>
                  <a:pt x="317" y="476"/>
                </a:lnTo>
                <a:lnTo>
                  <a:pt x="357" y="502"/>
                </a:lnTo>
                <a:lnTo>
                  <a:pt x="396" y="529"/>
                </a:lnTo>
                <a:lnTo>
                  <a:pt x="436" y="529"/>
                </a:lnTo>
                <a:lnTo>
                  <a:pt x="463" y="568"/>
                </a:lnTo>
                <a:lnTo>
                  <a:pt x="502" y="582"/>
                </a:lnTo>
                <a:lnTo>
                  <a:pt x="511" y="639"/>
                </a:lnTo>
                <a:lnTo>
                  <a:pt x="577" y="679"/>
                </a:lnTo>
                <a:lnTo>
                  <a:pt x="595" y="727"/>
                </a:lnTo>
                <a:lnTo>
                  <a:pt x="662" y="780"/>
                </a:lnTo>
                <a:lnTo>
                  <a:pt x="688" y="811"/>
                </a:lnTo>
                <a:lnTo>
                  <a:pt x="724" y="846"/>
                </a:lnTo>
                <a:lnTo>
                  <a:pt x="755" y="873"/>
                </a:lnTo>
                <a:lnTo>
                  <a:pt x="768" y="912"/>
                </a:lnTo>
                <a:lnTo>
                  <a:pt x="794" y="952"/>
                </a:lnTo>
                <a:lnTo>
                  <a:pt x="834" y="1018"/>
                </a:lnTo>
                <a:lnTo>
                  <a:pt x="860" y="1058"/>
                </a:lnTo>
                <a:lnTo>
                  <a:pt x="874" y="1098"/>
                </a:lnTo>
                <a:lnTo>
                  <a:pt x="900" y="1137"/>
                </a:lnTo>
                <a:lnTo>
                  <a:pt x="927" y="1190"/>
                </a:lnTo>
                <a:lnTo>
                  <a:pt x="993" y="1283"/>
                </a:lnTo>
                <a:lnTo>
                  <a:pt x="1019" y="1322"/>
                </a:lnTo>
                <a:lnTo>
                  <a:pt x="1059" y="1362"/>
                </a:lnTo>
                <a:lnTo>
                  <a:pt x="1085" y="1402"/>
                </a:lnTo>
                <a:lnTo>
                  <a:pt x="1099" y="1441"/>
                </a:lnTo>
                <a:lnTo>
                  <a:pt x="1191" y="1534"/>
                </a:lnTo>
                <a:lnTo>
                  <a:pt x="1231" y="1574"/>
                </a:lnTo>
                <a:lnTo>
                  <a:pt x="1257" y="1613"/>
                </a:lnTo>
                <a:lnTo>
                  <a:pt x="1284" y="1693"/>
                </a:lnTo>
                <a:lnTo>
                  <a:pt x="1310" y="1746"/>
                </a:lnTo>
                <a:lnTo>
                  <a:pt x="1337" y="1785"/>
                </a:lnTo>
                <a:lnTo>
                  <a:pt x="1376" y="1825"/>
                </a:lnTo>
                <a:lnTo>
                  <a:pt x="1403" y="1879"/>
                </a:lnTo>
                <a:lnTo>
                  <a:pt x="1456" y="1945"/>
                </a:lnTo>
                <a:lnTo>
                  <a:pt x="1469" y="1985"/>
                </a:lnTo>
                <a:lnTo>
                  <a:pt x="1495" y="2038"/>
                </a:lnTo>
                <a:lnTo>
                  <a:pt x="1535" y="2077"/>
                </a:lnTo>
                <a:lnTo>
                  <a:pt x="1535" y="2117"/>
                </a:lnTo>
                <a:lnTo>
                  <a:pt x="1575" y="2157"/>
                </a:lnTo>
                <a:lnTo>
                  <a:pt x="1601" y="2223"/>
                </a:lnTo>
                <a:lnTo>
                  <a:pt x="1628" y="2263"/>
                </a:lnTo>
                <a:lnTo>
                  <a:pt x="1654" y="2302"/>
                </a:lnTo>
                <a:lnTo>
                  <a:pt x="1667" y="2342"/>
                </a:lnTo>
                <a:lnTo>
                  <a:pt x="1681" y="2382"/>
                </a:lnTo>
                <a:lnTo>
                  <a:pt x="1707" y="2448"/>
                </a:lnTo>
                <a:lnTo>
                  <a:pt x="1760" y="2514"/>
                </a:lnTo>
                <a:lnTo>
                  <a:pt x="1773" y="2554"/>
                </a:lnTo>
                <a:lnTo>
                  <a:pt x="1786" y="2607"/>
                </a:lnTo>
                <a:lnTo>
                  <a:pt x="1813" y="2726"/>
                </a:lnTo>
                <a:lnTo>
                  <a:pt x="1826" y="2765"/>
                </a:lnTo>
                <a:lnTo>
                  <a:pt x="1839" y="2858"/>
                </a:lnTo>
                <a:lnTo>
                  <a:pt x="1839" y="2898"/>
                </a:lnTo>
                <a:lnTo>
                  <a:pt x="1839" y="3004"/>
                </a:lnTo>
                <a:lnTo>
                  <a:pt x="1853" y="3043"/>
                </a:lnTo>
                <a:lnTo>
                  <a:pt x="1866" y="3109"/>
                </a:lnTo>
                <a:lnTo>
                  <a:pt x="1879" y="3202"/>
                </a:lnTo>
                <a:lnTo>
                  <a:pt x="1892" y="3255"/>
                </a:lnTo>
                <a:lnTo>
                  <a:pt x="1920" y="3308"/>
                </a:lnTo>
                <a:lnTo>
                  <a:pt x="1946" y="3374"/>
                </a:lnTo>
                <a:lnTo>
                  <a:pt x="2012" y="3467"/>
                </a:lnTo>
                <a:lnTo>
                  <a:pt x="2052" y="3480"/>
                </a:lnTo>
                <a:lnTo>
                  <a:pt x="2065" y="3546"/>
                </a:lnTo>
                <a:lnTo>
                  <a:pt x="2078" y="3586"/>
                </a:lnTo>
                <a:lnTo>
                  <a:pt x="2078" y="3625"/>
                </a:lnTo>
                <a:lnTo>
                  <a:pt x="2118" y="3718"/>
                </a:lnTo>
                <a:lnTo>
                  <a:pt x="2118" y="3771"/>
                </a:lnTo>
                <a:lnTo>
                  <a:pt x="2145" y="3811"/>
                </a:lnTo>
                <a:lnTo>
                  <a:pt x="2184" y="3877"/>
                </a:lnTo>
                <a:lnTo>
                  <a:pt x="2224" y="3943"/>
                </a:lnTo>
                <a:lnTo>
                  <a:pt x="2303" y="4075"/>
                </a:lnTo>
                <a:lnTo>
                  <a:pt x="2317" y="4141"/>
                </a:lnTo>
                <a:lnTo>
                  <a:pt x="2343" y="4207"/>
                </a:lnTo>
                <a:lnTo>
                  <a:pt x="2383" y="4300"/>
                </a:lnTo>
                <a:lnTo>
                  <a:pt x="2378" y="4366"/>
                </a:lnTo>
                <a:lnTo>
                  <a:pt x="2418" y="4423"/>
                </a:lnTo>
                <a:lnTo>
                  <a:pt x="2422" y="4459"/>
                </a:lnTo>
                <a:lnTo>
                  <a:pt x="2444" y="4512"/>
                </a:lnTo>
                <a:lnTo>
                  <a:pt x="2436" y="4565"/>
                </a:lnTo>
                <a:lnTo>
                  <a:pt x="2444" y="4609"/>
                </a:lnTo>
                <a:lnTo>
                  <a:pt x="2449" y="4622"/>
                </a:lnTo>
                <a:lnTo>
                  <a:pt x="2449" y="4670"/>
                </a:lnTo>
                <a:lnTo>
                  <a:pt x="2449" y="4737"/>
                </a:lnTo>
                <a:lnTo>
                  <a:pt x="2444" y="4741"/>
                </a:lnTo>
                <a:lnTo>
                  <a:pt x="2458" y="4816"/>
                </a:lnTo>
                <a:lnTo>
                  <a:pt x="2475" y="4860"/>
                </a:lnTo>
                <a:lnTo>
                  <a:pt x="2497" y="4909"/>
                </a:lnTo>
                <a:lnTo>
                  <a:pt x="2502" y="4948"/>
                </a:lnTo>
                <a:lnTo>
                  <a:pt x="2528" y="4975"/>
                </a:lnTo>
                <a:lnTo>
                  <a:pt x="2515" y="5041"/>
                </a:lnTo>
                <a:lnTo>
                  <a:pt x="2489" y="5081"/>
                </a:lnTo>
                <a:lnTo>
                  <a:pt x="2449" y="5133"/>
                </a:lnTo>
                <a:lnTo>
                  <a:pt x="2436" y="5173"/>
                </a:lnTo>
                <a:lnTo>
                  <a:pt x="2422" y="5213"/>
                </a:lnTo>
                <a:lnTo>
                  <a:pt x="2383" y="5279"/>
                </a:lnTo>
                <a:lnTo>
                  <a:pt x="2370" y="5319"/>
                </a:lnTo>
                <a:lnTo>
                  <a:pt x="2356" y="5385"/>
                </a:lnTo>
                <a:lnTo>
                  <a:pt x="2343" y="5424"/>
                </a:lnTo>
                <a:lnTo>
                  <a:pt x="2317" y="5464"/>
                </a:lnTo>
                <a:lnTo>
                  <a:pt x="2277" y="5545"/>
                </a:lnTo>
                <a:lnTo>
                  <a:pt x="2250" y="5584"/>
                </a:lnTo>
                <a:lnTo>
                  <a:pt x="2250" y="5624"/>
                </a:lnTo>
                <a:lnTo>
                  <a:pt x="2237" y="5664"/>
                </a:lnTo>
                <a:lnTo>
                  <a:pt x="2224" y="5756"/>
                </a:lnTo>
                <a:lnTo>
                  <a:pt x="2184" y="5796"/>
                </a:lnTo>
                <a:lnTo>
                  <a:pt x="2171" y="5836"/>
                </a:lnTo>
                <a:lnTo>
                  <a:pt x="2145" y="5875"/>
                </a:lnTo>
                <a:lnTo>
                  <a:pt x="2092" y="5955"/>
                </a:lnTo>
                <a:lnTo>
                  <a:pt x="2065" y="6021"/>
                </a:lnTo>
                <a:lnTo>
                  <a:pt x="2012" y="6047"/>
                </a:lnTo>
                <a:lnTo>
                  <a:pt x="1999" y="6087"/>
                </a:lnTo>
                <a:lnTo>
                  <a:pt x="1986" y="6127"/>
                </a:lnTo>
                <a:lnTo>
                  <a:pt x="1946" y="6166"/>
                </a:lnTo>
                <a:lnTo>
                  <a:pt x="1907" y="6206"/>
                </a:lnTo>
                <a:lnTo>
                  <a:pt x="1853" y="6285"/>
                </a:lnTo>
                <a:lnTo>
                  <a:pt x="1826" y="6325"/>
                </a:lnTo>
                <a:lnTo>
                  <a:pt x="1813" y="6365"/>
                </a:lnTo>
                <a:lnTo>
                  <a:pt x="1800" y="6404"/>
                </a:lnTo>
                <a:lnTo>
                  <a:pt x="1786" y="6444"/>
                </a:lnTo>
                <a:lnTo>
                  <a:pt x="1773" y="6497"/>
                </a:lnTo>
                <a:lnTo>
                  <a:pt x="1734" y="6629"/>
                </a:lnTo>
                <a:lnTo>
                  <a:pt x="1707" y="6669"/>
                </a:lnTo>
                <a:lnTo>
                  <a:pt x="1707" y="6709"/>
                </a:lnTo>
                <a:lnTo>
                  <a:pt x="1681" y="6775"/>
                </a:lnTo>
                <a:lnTo>
                  <a:pt x="1667" y="6815"/>
                </a:lnTo>
                <a:lnTo>
                  <a:pt x="1654" y="6854"/>
                </a:lnTo>
                <a:lnTo>
                  <a:pt x="1641" y="6920"/>
                </a:lnTo>
                <a:lnTo>
                  <a:pt x="1614" y="6960"/>
                </a:lnTo>
                <a:lnTo>
                  <a:pt x="1562" y="7013"/>
                </a:lnTo>
                <a:lnTo>
                  <a:pt x="1517" y="7106"/>
                </a:lnTo>
                <a:lnTo>
                  <a:pt x="1495" y="7141"/>
                </a:lnTo>
                <a:lnTo>
                  <a:pt x="1482" y="7172"/>
                </a:lnTo>
                <a:lnTo>
                  <a:pt x="1469" y="7207"/>
                </a:lnTo>
                <a:lnTo>
                  <a:pt x="1451" y="7225"/>
                </a:lnTo>
                <a:lnTo>
                  <a:pt x="1442" y="7273"/>
                </a:lnTo>
                <a:lnTo>
                  <a:pt x="1416" y="7330"/>
                </a:lnTo>
                <a:lnTo>
                  <a:pt x="1257" y="733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9" name=""/>
          <p:cNvGrpSpPr/>
          <p:nvPr/>
        </p:nvGrpSpPr>
        <p:grpSpPr>
          <a:xfrm>
            <a:off x="6105600" y="3122640"/>
            <a:ext cx="2289240" cy="0"/>
            <a:chOff x="6105600" y="3122640"/>
            <a:chExt cx="2289240" cy="0"/>
          </a:xfrm>
        </p:grpSpPr>
        <p:sp>
          <p:nvSpPr>
            <p:cNvPr id="5490" name=""/>
            <p:cNvSpPr/>
            <p:nvPr/>
          </p:nvSpPr>
          <p:spPr>
            <a:xfrm>
              <a:off x="6105600" y="312264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505560" y="31226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735600" y="3122640"/>
              <a:ext cx="16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3" name=""/>
          <p:cNvSpPr/>
          <p:nvPr/>
        </p:nvSpPr>
        <p:spPr>
          <a:xfrm>
            <a:off x="444600" y="312408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3035160" y="3124080"/>
            <a:ext cx="285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2116080" y="4375080"/>
            <a:ext cx="1319400" cy="411480"/>
          </a:xfrm>
          <a:custGeom>
            <a:avLst/>
            <a:gdLst/>
            <a:ahLst/>
            <a:rect l="0" t="0" r="r" b="b"/>
            <a:pathLst>
              <a:path w="3665" h="1143">
                <a:moveTo>
                  <a:pt x="3665" y="44"/>
                </a:moveTo>
                <a:lnTo>
                  <a:pt x="2567" y="1143"/>
                </a:lnTo>
                <a:lnTo>
                  <a:pt x="1001" y="1143"/>
                </a:lnTo>
                <a:lnTo>
                  <a:pt x="22" y="163"/>
                </a:lnTo>
                <a:lnTo>
                  <a:pt x="0" y="163"/>
                </a:lnTo>
                <a:lnTo>
                  <a:pt x="39" y="163"/>
                </a:lnTo>
                <a:lnTo>
                  <a:pt x="61" y="171"/>
                </a:lnTo>
                <a:lnTo>
                  <a:pt x="92" y="171"/>
                </a:lnTo>
                <a:lnTo>
                  <a:pt x="127" y="171"/>
                </a:lnTo>
                <a:lnTo>
                  <a:pt x="154" y="171"/>
                </a:lnTo>
                <a:lnTo>
                  <a:pt x="180" y="163"/>
                </a:lnTo>
                <a:lnTo>
                  <a:pt x="207" y="158"/>
                </a:lnTo>
                <a:lnTo>
                  <a:pt x="233" y="158"/>
                </a:lnTo>
                <a:lnTo>
                  <a:pt x="273" y="158"/>
                </a:lnTo>
                <a:lnTo>
                  <a:pt x="299" y="149"/>
                </a:lnTo>
                <a:lnTo>
                  <a:pt x="326" y="149"/>
                </a:lnTo>
                <a:lnTo>
                  <a:pt x="366" y="149"/>
                </a:lnTo>
                <a:lnTo>
                  <a:pt x="392" y="149"/>
                </a:lnTo>
                <a:lnTo>
                  <a:pt x="418" y="149"/>
                </a:lnTo>
                <a:lnTo>
                  <a:pt x="445" y="149"/>
                </a:lnTo>
                <a:lnTo>
                  <a:pt x="485" y="158"/>
                </a:lnTo>
                <a:lnTo>
                  <a:pt x="511" y="149"/>
                </a:lnTo>
                <a:lnTo>
                  <a:pt x="537" y="149"/>
                </a:lnTo>
                <a:lnTo>
                  <a:pt x="564" y="136"/>
                </a:lnTo>
                <a:lnTo>
                  <a:pt x="590" y="119"/>
                </a:lnTo>
                <a:lnTo>
                  <a:pt x="621" y="110"/>
                </a:lnTo>
                <a:lnTo>
                  <a:pt x="648" y="105"/>
                </a:lnTo>
                <a:lnTo>
                  <a:pt x="674" y="97"/>
                </a:lnTo>
                <a:lnTo>
                  <a:pt x="696" y="92"/>
                </a:lnTo>
                <a:lnTo>
                  <a:pt x="736" y="92"/>
                </a:lnTo>
                <a:lnTo>
                  <a:pt x="762" y="92"/>
                </a:lnTo>
                <a:lnTo>
                  <a:pt x="802" y="92"/>
                </a:lnTo>
                <a:lnTo>
                  <a:pt x="846" y="97"/>
                </a:lnTo>
                <a:lnTo>
                  <a:pt x="873" y="97"/>
                </a:lnTo>
                <a:lnTo>
                  <a:pt x="899" y="97"/>
                </a:lnTo>
                <a:lnTo>
                  <a:pt x="921" y="92"/>
                </a:lnTo>
                <a:lnTo>
                  <a:pt x="948" y="83"/>
                </a:lnTo>
                <a:lnTo>
                  <a:pt x="978" y="83"/>
                </a:lnTo>
                <a:lnTo>
                  <a:pt x="1001" y="83"/>
                </a:lnTo>
                <a:lnTo>
                  <a:pt x="1031" y="83"/>
                </a:lnTo>
                <a:lnTo>
                  <a:pt x="1053" y="83"/>
                </a:lnTo>
                <a:lnTo>
                  <a:pt x="1093" y="83"/>
                </a:lnTo>
                <a:lnTo>
                  <a:pt x="1120" y="83"/>
                </a:lnTo>
                <a:lnTo>
                  <a:pt x="1159" y="83"/>
                </a:lnTo>
                <a:lnTo>
                  <a:pt x="1186" y="83"/>
                </a:lnTo>
                <a:lnTo>
                  <a:pt x="1212" y="83"/>
                </a:lnTo>
                <a:lnTo>
                  <a:pt x="1239" y="83"/>
                </a:lnTo>
                <a:lnTo>
                  <a:pt x="1270" y="79"/>
                </a:lnTo>
                <a:lnTo>
                  <a:pt x="1305" y="79"/>
                </a:lnTo>
                <a:lnTo>
                  <a:pt x="1331" y="70"/>
                </a:lnTo>
                <a:lnTo>
                  <a:pt x="1371" y="57"/>
                </a:lnTo>
                <a:lnTo>
                  <a:pt x="1397" y="52"/>
                </a:lnTo>
                <a:lnTo>
                  <a:pt x="1437" y="52"/>
                </a:lnTo>
                <a:lnTo>
                  <a:pt x="1464" y="44"/>
                </a:lnTo>
                <a:lnTo>
                  <a:pt x="1490" y="39"/>
                </a:lnTo>
                <a:lnTo>
                  <a:pt x="1516" y="39"/>
                </a:lnTo>
                <a:lnTo>
                  <a:pt x="1543" y="30"/>
                </a:lnTo>
                <a:lnTo>
                  <a:pt x="1600" y="26"/>
                </a:lnTo>
                <a:lnTo>
                  <a:pt x="1636" y="26"/>
                </a:lnTo>
                <a:lnTo>
                  <a:pt x="1662" y="17"/>
                </a:lnTo>
                <a:lnTo>
                  <a:pt x="1688" y="13"/>
                </a:lnTo>
                <a:lnTo>
                  <a:pt x="1715" y="13"/>
                </a:lnTo>
                <a:lnTo>
                  <a:pt x="1741" y="4"/>
                </a:lnTo>
                <a:lnTo>
                  <a:pt x="1768" y="4"/>
                </a:lnTo>
                <a:lnTo>
                  <a:pt x="1807" y="4"/>
                </a:lnTo>
                <a:lnTo>
                  <a:pt x="1835" y="0"/>
                </a:lnTo>
                <a:lnTo>
                  <a:pt x="1861" y="0"/>
                </a:lnTo>
                <a:lnTo>
                  <a:pt x="1892" y="0"/>
                </a:lnTo>
                <a:lnTo>
                  <a:pt x="1914" y="0"/>
                </a:lnTo>
                <a:lnTo>
                  <a:pt x="1941" y="0"/>
                </a:lnTo>
                <a:lnTo>
                  <a:pt x="1967" y="13"/>
                </a:lnTo>
                <a:lnTo>
                  <a:pt x="1994" y="17"/>
                </a:lnTo>
                <a:lnTo>
                  <a:pt x="2020" y="26"/>
                </a:lnTo>
                <a:lnTo>
                  <a:pt x="2047" y="26"/>
                </a:lnTo>
                <a:lnTo>
                  <a:pt x="2073" y="26"/>
                </a:lnTo>
                <a:lnTo>
                  <a:pt x="2113" y="26"/>
                </a:lnTo>
                <a:lnTo>
                  <a:pt x="2157" y="26"/>
                </a:lnTo>
                <a:lnTo>
                  <a:pt x="2179" y="26"/>
                </a:lnTo>
                <a:lnTo>
                  <a:pt x="2219" y="17"/>
                </a:lnTo>
                <a:lnTo>
                  <a:pt x="2245" y="13"/>
                </a:lnTo>
                <a:lnTo>
                  <a:pt x="2272" y="4"/>
                </a:lnTo>
                <a:lnTo>
                  <a:pt x="2298" y="0"/>
                </a:lnTo>
                <a:lnTo>
                  <a:pt x="2324" y="0"/>
                </a:lnTo>
                <a:lnTo>
                  <a:pt x="2351" y="0"/>
                </a:lnTo>
                <a:lnTo>
                  <a:pt x="2391" y="0"/>
                </a:lnTo>
                <a:lnTo>
                  <a:pt x="2417" y="0"/>
                </a:lnTo>
                <a:lnTo>
                  <a:pt x="2443" y="4"/>
                </a:lnTo>
                <a:lnTo>
                  <a:pt x="2470" y="17"/>
                </a:lnTo>
                <a:lnTo>
                  <a:pt x="2496" y="26"/>
                </a:lnTo>
                <a:lnTo>
                  <a:pt x="2527" y="30"/>
                </a:lnTo>
                <a:lnTo>
                  <a:pt x="2563" y="39"/>
                </a:lnTo>
                <a:lnTo>
                  <a:pt x="2607" y="44"/>
                </a:lnTo>
                <a:lnTo>
                  <a:pt x="2642" y="44"/>
                </a:lnTo>
                <a:lnTo>
                  <a:pt x="2668" y="52"/>
                </a:lnTo>
                <a:lnTo>
                  <a:pt x="2695" y="52"/>
                </a:lnTo>
                <a:lnTo>
                  <a:pt x="2712" y="30"/>
                </a:lnTo>
                <a:lnTo>
                  <a:pt x="2735" y="26"/>
                </a:lnTo>
                <a:lnTo>
                  <a:pt x="2761" y="17"/>
                </a:lnTo>
                <a:lnTo>
                  <a:pt x="2787" y="13"/>
                </a:lnTo>
                <a:lnTo>
                  <a:pt x="2814" y="13"/>
                </a:lnTo>
                <a:lnTo>
                  <a:pt x="2867" y="13"/>
                </a:lnTo>
                <a:lnTo>
                  <a:pt x="2893" y="13"/>
                </a:lnTo>
                <a:lnTo>
                  <a:pt x="2920" y="17"/>
                </a:lnTo>
                <a:lnTo>
                  <a:pt x="2951" y="26"/>
                </a:lnTo>
                <a:lnTo>
                  <a:pt x="2973" y="26"/>
                </a:lnTo>
                <a:lnTo>
                  <a:pt x="3017" y="39"/>
                </a:lnTo>
                <a:lnTo>
                  <a:pt x="3052" y="39"/>
                </a:lnTo>
                <a:lnTo>
                  <a:pt x="3092" y="44"/>
                </a:lnTo>
                <a:lnTo>
                  <a:pt x="3118" y="52"/>
                </a:lnTo>
                <a:lnTo>
                  <a:pt x="3145" y="66"/>
                </a:lnTo>
                <a:lnTo>
                  <a:pt x="3171" y="70"/>
                </a:lnTo>
                <a:lnTo>
                  <a:pt x="3211" y="79"/>
                </a:lnTo>
                <a:lnTo>
                  <a:pt x="3250" y="83"/>
                </a:lnTo>
                <a:lnTo>
                  <a:pt x="3277" y="83"/>
                </a:lnTo>
                <a:lnTo>
                  <a:pt x="3303" y="83"/>
                </a:lnTo>
                <a:lnTo>
                  <a:pt x="3330" y="79"/>
                </a:lnTo>
                <a:lnTo>
                  <a:pt x="3356" y="66"/>
                </a:lnTo>
                <a:lnTo>
                  <a:pt x="3383" y="52"/>
                </a:lnTo>
                <a:lnTo>
                  <a:pt x="3409" y="52"/>
                </a:lnTo>
                <a:lnTo>
                  <a:pt x="3449" y="44"/>
                </a:lnTo>
                <a:lnTo>
                  <a:pt x="3475" y="30"/>
                </a:lnTo>
                <a:lnTo>
                  <a:pt x="3502" y="26"/>
                </a:lnTo>
                <a:lnTo>
                  <a:pt x="3528" y="13"/>
                </a:lnTo>
                <a:lnTo>
                  <a:pt x="3555" y="17"/>
                </a:lnTo>
                <a:lnTo>
                  <a:pt x="3572" y="39"/>
                </a:lnTo>
                <a:lnTo>
                  <a:pt x="3594" y="44"/>
                </a:lnTo>
                <a:lnTo>
                  <a:pt x="3621" y="44"/>
                </a:lnTo>
                <a:lnTo>
                  <a:pt x="3652" y="52"/>
                </a:lnTo>
                <a:lnTo>
                  <a:pt x="3665" y="44"/>
                </a:lnTo>
                <a:close/>
              </a:path>
            </a:pathLst>
          </a:cu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1952640" y="5570640"/>
            <a:ext cx="1663920" cy="581400"/>
          </a:xfrm>
          <a:custGeom>
            <a:avLst/>
            <a:gdLst/>
            <a:ahLst/>
            <a:rect l="0" t="0" r="r" b="b"/>
            <a:pathLst>
              <a:path w="4622" h="1615">
                <a:moveTo>
                  <a:pt x="4622" y="1615"/>
                </a:moveTo>
                <a:lnTo>
                  <a:pt x="3008" y="0"/>
                </a:lnTo>
                <a:lnTo>
                  <a:pt x="1468" y="0"/>
                </a:lnTo>
                <a:lnTo>
                  <a:pt x="22" y="1448"/>
                </a:lnTo>
                <a:lnTo>
                  <a:pt x="0" y="1448"/>
                </a:lnTo>
                <a:lnTo>
                  <a:pt x="26" y="1457"/>
                </a:lnTo>
                <a:lnTo>
                  <a:pt x="44" y="1483"/>
                </a:lnTo>
                <a:lnTo>
                  <a:pt x="66" y="1483"/>
                </a:lnTo>
                <a:lnTo>
                  <a:pt x="92" y="1496"/>
                </a:lnTo>
                <a:lnTo>
                  <a:pt x="119" y="1488"/>
                </a:lnTo>
                <a:lnTo>
                  <a:pt x="149" y="1474"/>
                </a:lnTo>
                <a:lnTo>
                  <a:pt x="171" y="1457"/>
                </a:lnTo>
                <a:lnTo>
                  <a:pt x="198" y="1448"/>
                </a:lnTo>
                <a:lnTo>
                  <a:pt x="251" y="1448"/>
                </a:lnTo>
                <a:lnTo>
                  <a:pt x="291" y="1457"/>
                </a:lnTo>
                <a:lnTo>
                  <a:pt x="321" y="1457"/>
                </a:lnTo>
                <a:lnTo>
                  <a:pt x="343" y="1457"/>
                </a:lnTo>
                <a:lnTo>
                  <a:pt x="374" y="1448"/>
                </a:lnTo>
                <a:lnTo>
                  <a:pt x="396" y="1448"/>
                </a:lnTo>
                <a:lnTo>
                  <a:pt x="423" y="1448"/>
                </a:lnTo>
                <a:lnTo>
                  <a:pt x="449" y="1457"/>
                </a:lnTo>
                <a:lnTo>
                  <a:pt x="476" y="1457"/>
                </a:lnTo>
                <a:lnTo>
                  <a:pt x="502" y="1470"/>
                </a:lnTo>
                <a:lnTo>
                  <a:pt x="533" y="1470"/>
                </a:lnTo>
                <a:lnTo>
                  <a:pt x="568" y="1470"/>
                </a:lnTo>
                <a:lnTo>
                  <a:pt x="599" y="1470"/>
                </a:lnTo>
                <a:lnTo>
                  <a:pt x="626" y="1474"/>
                </a:lnTo>
                <a:lnTo>
                  <a:pt x="648" y="1474"/>
                </a:lnTo>
                <a:lnTo>
                  <a:pt x="687" y="1474"/>
                </a:lnTo>
                <a:lnTo>
                  <a:pt x="714" y="1474"/>
                </a:lnTo>
                <a:lnTo>
                  <a:pt x="740" y="1483"/>
                </a:lnTo>
                <a:lnTo>
                  <a:pt x="767" y="1488"/>
                </a:lnTo>
                <a:lnTo>
                  <a:pt x="793" y="1496"/>
                </a:lnTo>
                <a:lnTo>
                  <a:pt x="820" y="1496"/>
                </a:lnTo>
                <a:lnTo>
                  <a:pt x="846" y="1496"/>
                </a:lnTo>
                <a:lnTo>
                  <a:pt x="877" y="1496"/>
                </a:lnTo>
                <a:lnTo>
                  <a:pt x="899" y="1496"/>
                </a:lnTo>
                <a:lnTo>
                  <a:pt x="926" y="1496"/>
                </a:lnTo>
                <a:lnTo>
                  <a:pt x="952" y="1501"/>
                </a:lnTo>
                <a:lnTo>
                  <a:pt x="992" y="1510"/>
                </a:lnTo>
                <a:lnTo>
                  <a:pt x="1023" y="1514"/>
                </a:lnTo>
                <a:lnTo>
                  <a:pt x="1045" y="1514"/>
                </a:lnTo>
                <a:lnTo>
                  <a:pt x="1075" y="1523"/>
                </a:lnTo>
                <a:lnTo>
                  <a:pt x="1098" y="1523"/>
                </a:lnTo>
                <a:lnTo>
                  <a:pt x="1128" y="1523"/>
                </a:lnTo>
                <a:lnTo>
                  <a:pt x="1150" y="1523"/>
                </a:lnTo>
                <a:lnTo>
                  <a:pt x="1181" y="1523"/>
                </a:lnTo>
                <a:lnTo>
                  <a:pt x="1208" y="1514"/>
                </a:lnTo>
                <a:lnTo>
                  <a:pt x="1243" y="1510"/>
                </a:lnTo>
                <a:lnTo>
                  <a:pt x="1274" y="1510"/>
                </a:lnTo>
                <a:lnTo>
                  <a:pt x="1314" y="1501"/>
                </a:lnTo>
                <a:lnTo>
                  <a:pt x="1336" y="1496"/>
                </a:lnTo>
                <a:lnTo>
                  <a:pt x="1362" y="1496"/>
                </a:lnTo>
                <a:lnTo>
                  <a:pt x="1389" y="1496"/>
                </a:lnTo>
                <a:lnTo>
                  <a:pt x="1419" y="1501"/>
                </a:lnTo>
                <a:lnTo>
                  <a:pt x="1441" y="1510"/>
                </a:lnTo>
                <a:lnTo>
                  <a:pt x="1468" y="1510"/>
                </a:lnTo>
                <a:lnTo>
                  <a:pt x="1494" y="1510"/>
                </a:lnTo>
                <a:lnTo>
                  <a:pt x="1538" y="1514"/>
                </a:lnTo>
                <a:lnTo>
                  <a:pt x="1565" y="1514"/>
                </a:lnTo>
                <a:lnTo>
                  <a:pt x="1591" y="1523"/>
                </a:lnTo>
                <a:lnTo>
                  <a:pt x="1618" y="1523"/>
                </a:lnTo>
                <a:lnTo>
                  <a:pt x="1644" y="1523"/>
                </a:lnTo>
                <a:lnTo>
                  <a:pt x="1666" y="1523"/>
                </a:lnTo>
                <a:lnTo>
                  <a:pt x="1697" y="1523"/>
                </a:lnTo>
                <a:lnTo>
                  <a:pt x="1759" y="1523"/>
                </a:lnTo>
                <a:lnTo>
                  <a:pt x="1799" y="1523"/>
                </a:lnTo>
                <a:lnTo>
                  <a:pt x="1830" y="1523"/>
                </a:lnTo>
                <a:lnTo>
                  <a:pt x="1878" y="1514"/>
                </a:lnTo>
                <a:lnTo>
                  <a:pt x="1905" y="1510"/>
                </a:lnTo>
                <a:lnTo>
                  <a:pt x="1931" y="1510"/>
                </a:lnTo>
                <a:lnTo>
                  <a:pt x="1957" y="1510"/>
                </a:lnTo>
                <a:lnTo>
                  <a:pt x="1984" y="1510"/>
                </a:lnTo>
                <a:lnTo>
                  <a:pt x="2015" y="1510"/>
                </a:lnTo>
                <a:lnTo>
                  <a:pt x="2037" y="1510"/>
                </a:lnTo>
                <a:lnTo>
                  <a:pt x="2063" y="1510"/>
                </a:lnTo>
                <a:lnTo>
                  <a:pt x="2090" y="1510"/>
                </a:lnTo>
                <a:lnTo>
                  <a:pt x="2121" y="1510"/>
                </a:lnTo>
                <a:lnTo>
                  <a:pt x="2143" y="1510"/>
                </a:lnTo>
                <a:lnTo>
                  <a:pt x="2187" y="1510"/>
                </a:lnTo>
                <a:lnTo>
                  <a:pt x="2209" y="1510"/>
                </a:lnTo>
                <a:lnTo>
                  <a:pt x="2235" y="1523"/>
                </a:lnTo>
                <a:lnTo>
                  <a:pt x="2262" y="1527"/>
                </a:lnTo>
                <a:lnTo>
                  <a:pt x="2288" y="1536"/>
                </a:lnTo>
                <a:lnTo>
                  <a:pt x="2316" y="1540"/>
                </a:lnTo>
                <a:lnTo>
                  <a:pt x="2342" y="1549"/>
                </a:lnTo>
                <a:lnTo>
                  <a:pt x="2369" y="1549"/>
                </a:lnTo>
                <a:lnTo>
                  <a:pt x="2421" y="1549"/>
                </a:lnTo>
                <a:lnTo>
                  <a:pt x="2448" y="1549"/>
                </a:lnTo>
                <a:lnTo>
                  <a:pt x="2488" y="1549"/>
                </a:lnTo>
                <a:lnTo>
                  <a:pt x="2518" y="1549"/>
                </a:lnTo>
                <a:lnTo>
                  <a:pt x="2541" y="1549"/>
                </a:lnTo>
                <a:lnTo>
                  <a:pt x="2567" y="1549"/>
                </a:lnTo>
                <a:lnTo>
                  <a:pt x="2607" y="1549"/>
                </a:lnTo>
                <a:lnTo>
                  <a:pt x="2633" y="1554"/>
                </a:lnTo>
                <a:lnTo>
                  <a:pt x="2660" y="1563"/>
                </a:lnTo>
                <a:lnTo>
                  <a:pt x="2686" y="1563"/>
                </a:lnTo>
                <a:lnTo>
                  <a:pt x="2730" y="1567"/>
                </a:lnTo>
                <a:lnTo>
                  <a:pt x="2757" y="1576"/>
                </a:lnTo>
                <a:lnTo>
                  <a:pt x="2779" y="1576"/>
                </a:lnTo>
                <a:lnTo>
                  <a:pt x="2805" y="1576"/>
                </a:lnTo>
                <a:lnTo>
                  <a:pt x="2836" y="1576"/>
                </a:lnTo>
                <a:lnTo>
                  <a:pt x="2858" y="1576"/>
                </a:lnTo>
                <a:lnTo>
                  <a:pt x="2898" y="1576"/>
                </a:lnTo>
                <a:lnTo>
                  <a:pt x="2924" y="1567"/>
                </a:lnTo>
                <a:lnTo>
                  <a:pt x="2951" y="1567"/>
                </a:lnTo>
                <a:lnTo>
                  <a:pt x="2990" y="1567"/>
                </a:lnTo>
                <a:lnTo>
                  <a:pt x="3034" y="1567"/>
                </a:lnTo>
                <a:lnTo>
                  <a:pt x="3056" y="1567"/>
                </a:lnTo>
                <a:lnTo>
                  <a:pt x="3127" y="1576"/>
                </a:lnTo>
                <a:lnTo>
                  <a:pt x="3392" y="1593"/>
                </a:lnTo>
                <a:lnTo>
                  <a:pt x="3427" y="1602"/>
                </a:lnTo>
                <a:lnTo>
                  <a:pt x="3467" y="1593"/>
                </a:lnTo>
                <a:lnTo>
                  <a:pt x="3493" y="1593"/>
                </a:lnTo>
                <a:lnTo>
                  <a:pt x="3533" y="1593"/>
                </a:lnTo>
                <a:lnTo>
                  <a:pt x="3572" y="1593"/>
                </a:lnTo>
                <a:lnTo>
                  <a:pt x="3612" y="1593"/>
                </a:lnTo>
                <a:lnTo>
                  <a:pt x="3639" y="1593"/>
                </a:lnTo>
                <a:lnTo>
                  <a:pt x="3683" y="1589"/>
                </a:lnTo>
                <a:lnTo>
                  <a:pt x="3718" y="1589"/>
                </a:lnTo>
                <a:lnTo>
                  <a:pt x="3744" y="1589"/>
                </a:lnTo>
                <a:lnTo>
                  <a:pt x="3788" y="1589"/>
                </a:lnTo>
                <a:lnTo>
                  <a:pt x="3811" y="1589"/>
                </a:lnTo>
                <a:lnTo>
                  <a:pt x="3841" y="1589"/>
                </a:lnTo>
                <a:lnTo>
                  <a:pt x="3863" y="1589"/>
                </a:lnTo>
                <a:lnTo>
                  <a:pt x="3890" y="1589"/>
                </a:lnTo>
                <a:lnTo>
                  <a:pt x="3934" y="1589"/>
                </a:lnTo>
                <a:lnTo>
                  <a:pt x="3956" y="1589"/>
                </a:lnTo>
                <a:lnTo>
                  <a:pt x="3996" y="1589"/>
                </a:lnTo>
                <a:lnTo>
                  <a:pt x="4022" y="1593"/>
                </a:lnTo>
                <a:lnTo>
                  <a:pt x="4075" y="1593"/>
                </a:lnTo>
                <a:lnTo>
                  <a:pt x="4119" y="1593"/>
                </a:lnTo>
                <a:lnTo>
                  <a:pt x="4146" y="1593"/>
                </a:lnTo>
                <a:lnTo>
                  <a:pt x="4172" y="1602"/>
                </a:lnTo>
                <a:lnTo>
                  <a:pt x="4194" y="1602"/>
                </a:lnTo>
                <a:lnTo>
                  <a:pt x="4221" y="1602"/>
                </a:lnTo>
                <a:lnTo>
                  <a:pt x="4247" y="1602"/>
                </a:lnTo>
                <a:lnTo>
                  <a:pt x="4274" y="1602"/>
                </a:lnTo>
                <a:lnTo>
                  <a:pt x="4300" y="1602"/>
                </a:lnTo>
                <a:lnTo>
                  <a:pt x="4326" y="1602"/>
                </a:lnTo>
                <a:lnTo>
                  <a:pt x="4353" y="1602"/>
                </a:lnTo>
                <a:lnTo>
                  <a:pt x="4379" y="1602"/>
                </a:lnTo>
                <a:lnTo>
                  <a:pt x="4410" y="1602"/>
                </a:lnTo>
                <a:lnTo>
                  <a:pt x="4432" y="1602"/>
                </a:lnTo>
                <a:lnTo>
                  <a:pt x="4459" y="1602"/>
                </a:lnTo>
                <a:lnTo>
                  <a:pt x="4485" y="1602"/>
                </a:lnTo>
                <a:lnTo>
                  <a:pt x="4512" y="1602"/>
                </a:lnTo>
                <a:lnTo>
                  <a:pt x="4538" y="1602"/>
                </a:lnTo>
                <a:lnTo>
                  <a:pt x="4565" y="1602"/>
                </a:lnTo>
                <a:lnTo>
                  <a:pt x="4604" y="1602"/>
                </a:lnTo>
                <a:lnTo>
                  <a:pt x="4622" y="1615"/>
                </a:lnTo>
                <a:close/>
              </a:path>
            </a:pathLst>
          </a:cu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>
            <a:off x="2438280" y="6437160"/>
            <a:ext cx="729000" cy="144720"/>
          </a:xfrm>
          <a:custGeom>
            <a:avLst/>
            <a:gdLst/>
            <a:ahLst/>
            <a:rect l="0" t="0" r="r" b="b"/>
            <a:pathLst>
              <a:path w="2025" h="402">
                <a:moveTo>
                  <a:pt x="2025" y="375"/>
                </a:moveTo>
                <a:lnTo>
                  <a:pt x="1650" y="0"/>
                </a:lnTo>
                <a:lnTo>
                  <a:pt x="70" y="0"/>
                </a:lnTo>
                <a:lnTo>
                  <a:pt x="0" y="70"/>
                </a:lnTo>
                <a:lnTo>
                  <a:pt x="26" y="79"/>
                </a:lnTo>
                <a:lnTo>
                  <a:pt x="52" y="92"/>
                </a:lnTo>
                <a:lnTo>
                  <a:pt x="79" y="105"/>
                </a:lnTo>
                <a:lnTo>
                  <a:pt x="105" y="105"/>
                </a:lnTo>
                <a:lnTo>
                  <a:pt x="132" y="105"/>
                </a:lnTo>
                <a:lnTo>
                  <a:pt x="163" y="105"/>
                </a:lnTo>
                <a:lnTo>
                  <a:pt x="185" y="119"/>
                </a:lnTo>
                <a:lnTo>
                  <a:pt x="211" y="123"/>
                </a:lnTo>
                <a:lnTo>
                  <a:pt x="238" y="132"/>
                </a:lnTo>
                <a:lnTo>
                  <a:pt x="264" y="136"/>
                </a:lnTo>
                <a:lnTo>
                  <a:pt x="291" y="136"/>
                </a:lnTo>
                <a:lnTo>
                  <a:pt x="321" y="149"/>
                </a:lnTo>
                <a:lnTo>
                  <a:pt x="343" y="149"/>
                </a:lnTo>
                <a:lnTo>
                  <a:pt x="370" y="158"/>
                </a:lnTo>
                <a:lnTo>
                  <a:pt x="396" y="171"/>
                </a:lnTo>
                <a:lnTo>
                  <a:pt x="427" y="176"/>
                </a:lnTo>
                <a:lnTo>
                  <a:pt x="449" y="185"/>
                </a:lnTo>
                <a:lnTo>
                  <a:pt x="476" y="189"/>
                </a:lnTo>
                <a:lnTo>
                  <a:pt x="515" y="189"/>
                </a:lnTo>
                <a:lnTo>
                  <a:pt x="542" y="189"/>
                </a:lnTo>
                <a:lnTo>
                  <a:pt x="568" y="212"/>
                </a:lnTo>
                <a:lnTo>
                  <a:pt x="595" y="217"/>
                </a:lnTo>
                <a:lnTo>
                  <a:pt x="621" y="217"/>
                </a:lnTo>
                <a:lnTo>
                  <a:pt x="661" y="217"/>
                </a:lnTo>
                <a:lnTo>
                  <a:pt x="687" y="217"/>
                </a:lnTo>
                <a:lnTo>
                  <a:pt x="714" y="230"/>
                </a:lnTo>
                <a:lnTo>
                  <a:pt x="740" y="230"/>
                </a:lnTo>
                <a:lnTo>
                  <a:pt x="767" y="239"/>
                </a:lnTo>
                <a:lnTo>
                  <a:pt x="793" y="239"/>
                </a:lnTo>
                <a:lnTo>
                  <a:pt x="820" y="239"/>
                </a:lnTo>
                <a:lnTo>
                  <a:pt x="846" y="239"/>
                </a:lnTo>
                <a:lnTo>
                  <a:pt x="873" y="256"/>
                </a:lnTo>
                <a:lnTo>
                  <a:pt x="899" y="269"/>
                </a:lnTo>
                <a:lnTo>
                  <a:pt x="939" y="269"/>
                </a:lnTo>
                <a:lnTo>
                  <a:pt x="965" y="269"/>
                </a:lnTo>
                <a:lnTo>
                  <a:pt x="996" y="283"/>
                </a:lnTo>
                <a:lnTo>
                  <a:pt x="1019" y="296"/>
                </a:lnTo>
                <a:lnTo>
                  <a:pt x="1046" y="305"/>
                </a:lnTo>
                <a:lnTo>
                  <a:pt x="1085" y="318"/>
                </a:lnTo>
                <a:lnTo>
                  <a:pt x="1112" y="336"/>
                </a:lnTo>
                <a:lnTo>
                  <a:pt x="1138" y="344"/>
                </a:lnTo>
                <a:lnTo>
                  <a:pt x="1165" y="349"/>
                </a:lnTo>
                <a:lnTo>
                  <a:pt x="1204" y="349"/>
                </a:lnTo>
                <a:lnTo>
                  <a:pt x="1235" y="344"/>
                </a:lnTo>
                <a:lnTo>
                  <a:pt x="1257" y="331"/>
                </a:lnTo>
                <a:lnTo>
                  <a:pt x="1297" y="322"/>
                </a:lnTo>
                <a:lnTo>
                  <a:pt x="1323" y="331"/>
                </a:lnTo>
                <a:lnTo>
                  <a:pt x="1337" y="358"/>
                </a:lnTo>
                <a:lnTo>
                  <a:pt x="1363" y="362"/>
                </a:lnTo>
                <a:lnTo>
                  <a:pt x="1390" y="362"/>
                </a:lnTo>
                <a:lnTo>
                  <a:pt x="1416" y="371"/>
                </a:lnTo>
                <a:lnTo>
                  <a:pt x="1442" y="371"/>
                </a:lnTo>
                <a:lnTo>
                  <a:pt x="1469" y="371"/>
                </a:lnTo>
                <a:lnTo>
                  <a:pt x="1495" y="371"/>
                </a:lnTo>
                <a:lnTo>
                  <a:pt x="1526" y="375"/>
                </a:lnTo>
                <a:lnTo>
                  <a:pt x="1548" y="384"/>
                </a:lnTo>
                <a:lnTo>
                  <a:pt x="1575" y="389"/>
                </a:lnTo>
                <a:lnTo>
                  <a:pt x="1601" y="389"/>
                </a:lnTo>
                <a:lnTo>
                  <a:pt x="1632" y="389"/>
                </a:lnTo>
                <a:lnTo>
                  <a:pt x="1654" y="389"/>
                </a:lnTo>
                <a:lnTo>
                  <a:pt x="1681" y="389"/>
                </a:lnTo>
                <a:lnTo>
                  <a:pt x="1707" y="397"/>
                </a:lnTo>
                <a:lnTo>
                  <a:pt x="1734" y="402"/>
                </a:lnTo>
                <a:lnTo>
                  <a:pt x="1760" y="402"/>
                </a:lnTo>
                <a:lnTo>
                  <a:pt x="1786" y="402"/>
                </a:lnTo>
                <a:lnTo>
                  <a:pt x="1826" y="402"/>
                </a:lnTo>
                <a:lnTo>
                  <a:pt x="1853" y="397"/>
                </a:lnTo>
                <a:lnTo>
                  <a:pt x="1883" y="397"/>
                </a:lnTo>
                <a:lnTo>
                  <a:pt x="1906" y="397"/>
                </a:lnTo>
                <a:lnTo>
                  <a:pt x="1945" y="397"/>
                </a:lnTo>
                <a:lnTo>
                  <a:pt x="1972" y="397"/>
                </a:lnTo>
                <a:lnTo>
                  <a:pt x="1998" y="389"/>
                </a:lnTo>
                <a:lnTo>
                  <a:pt x="2025" y="375"/>
                </a:lnTo>
                <a:close/>
              </a:path>
            </a:pathLst>
          </a:cu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6958080" y="5889600"/>
            <a:ext cx="568440" cy="30636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6953400" y="5265720"/>
            <a:ext cx="568440" cy="30636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 txBox="1"/>
          <p:nvPr/>
        </p:nvSpPr>
        <p:spPr>
          <a:xfrm>
            <a:off x="7597800" y="5284800"/>
            <a:ext cx="469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 txBox="1"/>
          <p:nvPr/>
        </p:nvSpPr>
        <p:spPr>
          <a:xfrm>
            <a:off x="7588080" y="589752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49680" y="279360"/>
            <a:ext cx="0" cy="3787920"/>
            <a:chOff x="2749680" y="279360"/>
            <a:chExt cx="0" cy="3787920"/>
          </a:xfrm>
        </p:grpSpPr>
        <p:sp>
          <p:nvSpPr>
            <p:cNvPr id="89" name=""/>
            <p:cNvSpPr/>
            <p:nvPr/>
          </p:nvSpPr>
          <p:spPr>
            <a:xfrm>
              <a:off x="2749680" y="279360"/>
              <a:ext cx="0" cy="743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9680" y="1106640"/>
              <a:ext cx="0" cy="99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9680" y="1324080"/>
              <a:ext cx="0" cy="717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9680" y="2125800"/>
              <a:ext cx="0" cy="99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600" bIns="48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9680" y="2325600"/>
              <a:ext cx="0" cy="803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9680" y="3195720"/>
              <a:ext cx="0" cy="1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9680" y="3378240"/>
              <a:ext cx="0" cy="689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52840" y="4514760"/>
            <a:ext cx="495936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line is also a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tting plan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used to create a vertical section of the high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(Section G-G).  Taken through the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road, it will show both the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ue l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d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road.  We begin by constru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s representing the sides (width)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w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652840" y="4514760"/>
            <a:ext cx="495936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line is also a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tting plan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used to create a vertical section of the high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(Section G-G).  Taken through the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road, it will show both the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ue l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d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road.  We begin by constru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s representing the sides (width)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w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80880"/>
            <a:ext cx="525780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49680" y="403200"/>
            <a:ext cx="2132280" cy="417960"/>
          </a:xfrm>
          <a:custGeom>
            <a:avLst/>
            <a:gdLst/>
            <a:ahLst/>
            <a:rect l="0" t="0" r="r" b="b"/>
            <a:pathLst>
              <a:path fill="none" w="5923" h="1161">
                <a:moveTo>
                  <a:pt x="0" y="0"/>
                </a:moveTo>
                <a:lnTo>
                  <a:pt x="194" y="0"/>
                </a:lnTo>
                <a:lnTo>
                  <a:pt x="389" y="48"/>
                </a:lnTo>
                <a:lnTo>
                  <a:pt x="645" y="92"/>
                </a:lnTo>
                <a:lnTo>
                  <a:pt x="900" y="141"/>
                </a:lnTo>
                <a:lnTo>
                  <a:pt x="1156" y="185"/>
                </a:lnTo>
                <a:lnTo>
                  <a:pt x="1351" y="233"/>
                </a:lnTo>
                <a:lnTo>
                  <a:pt x="1606" y="233"/>
                </a:lnTo>
                <a:lnTo>
                  <a:pt x="1923" y="233"/>
                </a:lnTo>
                <a:lnTo>
                  <a:pt x="2179" y="277"/>
                </a:lnTo>
                <a:lnTo>
                  <a:pt x="2373" y="327"/>
                </a:lnTo>
                <a:lnTo>
                  <a:pt x="2568" y="371"/>
                </a:lnTo>
                <a:lnTo>
                  <a:pt x="2824" y="419"/>
                </a:lnTo>
                <a:lnTo>
                  <a:pt x="3141" y="464"/>
                </a:lnTo>
                <a:lnTo>
                  <a:pt x="3786" y="464"/>
                </a:lnTo>
                <a:lnTo>
                  <a:pt x="4103" y="561"/>
                </a:lnTo>
                <a:lnTo>
                  <a:pt x="4298" y="605"/>
                </a:lnTo>
                <a:lnTo>
                  <a:pt x="4553" y="697"/>
                </a:lnTo>
                <a:lnTo>
                  <a:pt x="4809" y="746"/>
                </a:lnTo>
                <a:lnTo>
                  <a:pt x="5065" y="790"/>
                </a:lnTo>
                <a:lnTo>
                  <a:pt x="5320" y="932"/>
                </a:lnTo>
                <a:lnTo>
                  <a:pt x="5515" y="976"/>
                </a:lnTo>
                <a:lnTo>
                  <a:pt x="5923" y="1161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2760" y="387360"/>
            <a:ext cx="4664520" cy="970200"/>
          </a:xfrm>
          <a:custGeom>
            <a:avLst/>
            <a:gdLst/>
            <a:ahLst/>
            <a:rect l="0" t="0" r="r" b="b"/>
            <a:pathLst>
              <a:path fill="none" w="12957" h="2695">
                <a:moveTo>
                  <a:pt x="0" y="0"/>
                </a:moveTo>
                <a:lnTo>
                  <a:pt x="141" y="92"/>
                </a:lnTo>
                <a:lnTo>
                  <a:pt x="326" y="185"/>
                </a:lnTo>
                <a:lnTo>
                  <a:pt x="648" y="326"/>
                </a:lnTo>
                <a:lnTo>
                  <a:pt x="837" y="418"/>
                </a:lnTo>
                <a:lnTo>
                  <a:pt x="1023" y="604"/>
                </a:lnTo>
                <a:lnTo>
                  <a:pt x="1252" y="745"/>
                </a:lnTo>
                <a:lnTo>
                  <a:pt x="1530" y="837"/>
                </a:lnTo>
                <a:lnTo>
                  <a:pt x="1671" y="881"/>
                </a:lnTo>
                <a:lnTo>
                  <a:pt x="2226" y="930"/>
                </a:lnTo>
                <a:lnTo>
                  <a:pt x="2368" y="930"/>
                </a:lnTo>
                <a:lnTo>
                  <a:pt x="2645" y="974"/>
                </a:lnTo>
                <a:lnTo>
                  <a:pt x="2831" y="974"/>
                </a:lnTo>
                <a:lnTo>
                  <a:pt x="3064" y="974"/>
                </a:lnTo>
                <a:lnTo>
                  <a:pt x="3250" y="1023"/>
                </a:lnTo>
                <a:lnTo>
                  <a:pt x="3577" y="1115"/>
                </a:lnTo>
                <a:lnTo>
                  <a:pt x="3806" y="1115"/>
                </a:lnTo>
                <a:lnTo>
                  <a:pt x="3947" y="1115"/>
                </a:lnTo>
                <a:lnTo>
                  <a:pt x="4132" y="1159"/>
                </a:lnTo>
                <a:lnTo>
                  <a:pt x="4318" y="1159"/>
                </a:lnTo>
                <a:lnTo>
                  <a:pt x="4503" y="1159"/>
                </a:lnTo>
                <a:lnTo>
                  <a:pt x="4737" y="1208"/>
                </a:lnTo>
                <a:lnTo>
                  <a:pt x="4966" y="1252"/>
                </a:lnTo>
                <a:lnTo>
                  <a:pt x="5200" y="1300"/>
                </a:lnTo>
                <a:lnTo>
                  <a:pt x="5385" y="1300"/>
                </a:lnTo>
                <a:lnTo>
                  <a:pt x="5570" y="1300"/>
                </a:lnTo>
                <a:lnTo>
                  <a:pt x="5711" y="1300"/>
                </a:lnTo>
                <a:lnTo>
                  <a:pt x="5896" y="1300"/>
                </a:lnTo>
                <a:lnTo>
                  <a:pt x="6082" y="1344"/>
                </a:lnTo>
                <a:lnTo>
                  <a:pt x="6223" y="1442"/>
                </a:lnTo>
                <a:lnTo>
                  <a:pt x="6452" y="1442"/>
                </a:lnTo>
                <a:lnTo>
                  <a:pt x="6593" y="1487"/>
                </a:lnTo>
                <a:lnTo>
                  <a:pt x="7056" y="1487"/>
                </a:lnTo>
                <a:lnTo>
                  <a:pt x="7197" y="1487"/>
                </a:lnTo>
                <a:lnTo>
                  <a:pt x="7382" y="1487"/>
                </a:lnTo>
                <a:lnTo>
                  <a:pt x="7894" y="1535"/>
                </a:lnTo>
                <a:lnTo>
                  <a:pt x="9561" y="1579"/>
                </a:lnTo>
                <a:lnTo>
                  <a:pt x="9702" y="1579"/>
                </a:lnTo>
                <a:lnTo>
                  <a:pt x="9844" y="1672"/>
                </a:lnTo>
                <a:lnTo>
                  <a:pt x="10029" y="1764"/>
                </a:lnTo>
                <a:lnTo>
                  <a:pt x="10259" y="1906"/>
                </a:lnTo>
                <a:lnTo>
                  <a:pt x="10400" y="1950"/>
                </a:lnTo>
                <a:lnTo>
                  <a:pt x="10585" y="2042"/>
                </a:lnTo>
                <a:lnTo>
                  <a:pt x="10770" y="2091"/>
                </a:lnTo>
                <a:lnTo>
                  <a:pt x="10911" y="2135"/>
                </a:lnTo>
                <a:lnTo>
                  <a:pt x="11096" y="2227"/>
                </a:lnTo>
                <a:lnTo>
                  <a:pt x="11374" y="2276"/>
                </a:lnTo>
                <a:lnTo>
                  <a:pt x="11515" y="2324"/>
                </a:lnTo>
                <a:lnTo>
                  <a:pt x="12071" y="2417"/>
                </a:lnTo>
                <a:lnTo>
                  <a:pt x="12256" y="2417"/>
                </a:lnTo>
                <a:lnTo>
                  <a:pt x="12397" y="2461"/>
                </a:lnTo>
                <a:lnTo>
                  <a:pt x="12534" y="2602"/>
                </a:lnTo>
                <a:lnTo>
                  <a:pt x="12675" y="2646"/>
                </a:lnTo>
                <a:lnTo>
                  <a:pt x="12860" y="2695"/>
                </a:lnTo>
                <a:lnTo>
                  <a:pt x="12957" y="269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7560" y="1424160"/>
            <a:ext cx="5239080" cy="690840"/>
          </a:xfrm>
          <a:custGeom>
            <a:avLst/>
            <a:gdLst/>
            <a:ahLst/>
            <a:rect l="0" t="0" r="r" b="b"/>
            <a:pathLst>
              <a:path fill="none" w="14553" h="1919">
                <a:moveTo>
                  <a:pt x="0" y="224"/>
                </a:moveTo>
                <a:lnTo>
                  <a:pt x="132" y="185"/>
                </a:lnTo>
                <a:lnTo>
                  <a:pt x="317" y="136"/>
                </a:lnTo>
                <a:lnTo>
                  <a:pt x="643" y="44"/>
                </a:lnTo>
                <a:lnTo>
                  <a:pt x="1199" y="0"/>
                </a:lnTo>
                <a:lnTo>
                  <a:pt x="1384" y="44"/>
                </a:lnTo>
                <a:lnTo>
                  <a:pt x="1569" y="92"/>
                </a:lnTo>
                <a:lnTo>
                  <a:pt x="1755" y="136"/>
                </a:lnTo>
                <a:lnTo>
                  <a:pt x="1988" y="229"/>
                </a:lnTo>
                <a:lnTo>
                  <a:pt x="2218" y="326"/>
                </a:lnTo>
                <a:lnTo>
                  <a:pt x="2359" y="370"/>
                </a:lnTo>
                <a:lnTo>
                  <a:pt x="2592" y="418"/>
                </a:lnTo>
                <a:lnTo>
                  <a:pt x="2778" y="463"/>
                </a:lnTo>
                <a:lnTo>
                  <a:pt x="3007" y="463"/>
                </a:lnTo>
                <a:lnTo>
                  <a:pt x="3148" y="463"/>
                </a:lnTo>
                <a:lnTo>
                  <a:pt x="3333" y="511"/>
                </a:lnTo>
                <a:lnTo>
                  <a:pt x="3518" y="511"/>
                </a:lnTo>
                <a:lnTo>
                  <a:pt x="3752" y="604"/>
                </a:lnTo>
                <a:lnTo>
                  <a:pt x="4030" y="740"/>
                </a:lnTo>
                <a:lnTo>
                  <a:pt x="4264" y="833"/>
                </a:lnTo>
                <a:lnTo>
                  <a:pt x="4449" y="926"/>
                </a:lnTo>
                <a:lnTo>
                  <a:pt x="4634" y="926"/>
                </a:lnTo>
                <a:lnTo>
                  <a:pt x="4863" y="881"/>
                </a:lnTo>
                <a:lnTo>
                  <a:pt x="5375" y="881"/>
                </a:lnTo>
                <a:lnTo>
                  <a:pt x="5609" y="833"/>
                </a:lnTo>
                <a:lnTo>
                  <a:pt x="5794" y="833"/>
                </a:lnTo>
                <a:lnTo>
                  <a:pt x="5979" y="789"/>
                </a:lnTo>
                <a:lnTo>
                  <a:pt x="6257" y="696"/>
                </a:lnTo>
                <a:lnTo>
                  <a:pt x="6491" y="648"/>
                </a:lnTo>
                <a:lnTo>
                  <a:pt x="6768" y="648"/>
                </a:lnTo>
                <a:lnTo>
                  <a:pt x="6910" y="648"/>
                </a:lnTo>
                <a:lnTo>
                  <a:pt x="7187" y="696"/>
                </a:lnTo>
                <a:lnTo>
                  <a:pt x="7466" y="740"/>
                </a:lnTo>
                <a:lnTo>
                  <a:pt x="8022" y="789"/>
                </a:lnTo>
                <a:lnTo>
                  <a:pt x="8300" y="926"/>
                </a:lnTo>
                <a:lnTo>
                  <a:pt x="8441" y="975"/>
                </a:lnTo>
                <a:lnTo>
                  <a:pt x="8582" y="975"/>
                </a:lnTo>
                <a:lnTo>
                  <a:pt x="8904" y="1068"/>
                </a:lnTo>
                <a:lnTo>
                  <a:pt x="9045" y="1068"/>
                </a:lnTo>
                <a:lnTo>
                  <a:pt x="9600" y="1112"/>
                </a:lnTo>
                <a:lnTo>
                  <a:pt x="9742" y="1160"/>
                </a:lnTo>
                <a:lnTo>
                  <a:pt x="10019" y="1160"/>
                </a:lnTo>
                <a:lnTo>
                  <a:pt x="10205" y="1160"/>
                </a:lnTo>
                <a:lnTo>
                  <a:pt x="10390" y="1209"/>
                </a:lnTo>
                <a:lnTo>
                  <a:pt x="10575" y="1253"/>
                </a:lnTo>
                <a:lnTo>
                  <a:pt x="10716" y="1253"/>
                </a:lnTo>
                <a:lnTo>
                  <a:pt x="10945" y="1301"/>
                </a:lnTo>
                <a:lnTo>
                  <a:pt x="11131" y="1345"/>
                </a:lnTo>
                <a:lnTo>
                  <a:pt x="11320" y="1345"/>
                </a:lnTo>
                <a:lnTo>
                  <a:pt x="11598" y="1345"/>
                </a:lnTo>
                <a:lnTo>
                  <a:pt x="11876" y="1394"/>
                </a:lnTo>
                <a:lnTo>
                  <a:pt x="12110" y="1394"/>
                </a:lnTo>
                <a:lnTo>
                  <a:pt x="12339" y="1345"/>
                </a:lnTo>
                <a:lnTo>
                  <a:pt x="12480" y="1345"/>
                </a:lnTo>
                <a:lnTo>
                  <a:pt x="12665" y="1394"/>
                </a:lnTo>
                <a:lnTo>
                  <a:pt x="12850" y="1438"/>
                </a:lnTo>
                <a:lnTo>
                  <a:pt x="12992" y="1487"/>
                </a:lnTo>
                <a:lnTo>
                  <a:pt x="13221" y="1579"/>
                </a:lnTo>
                <a:lnTo>
                  <a:pt x="13362" y="1623"/>
                </a:lnTo>
                <a:lnTo>
                  <a:pt x="13547" y="1672"/>
                </a:lnTo>
                <a:lnTo>
                  <a:pt x="13776" y="1764"/>
                </a:lnTo>
                <a:lnTo>
                  <a:pt x="13918" y="1808"/>
                </a:lnTo>
                <a:lnTo>
                  <a:pt x="14059" y="1857"/>
                </a:lnTo>
                <a:lnTo>
                  <a:pt x="14244" y="1901"/>
                </a:lnTo>
                <a:lnTo>
                  <a:pt x="14429" y="1901"/>
                </a:lnTo>
                <a:lnTo>
                  <a:pt x="14553" y="1905"/>
                </a:lnTo>
                <a:lnTo>
                  <a:pt x="14539" y="1919"/>
                </a:lnTo>
                <a:lnTo>
                  <a:pt x="14553" y="1905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2880" y="2041560"/>
            <a:ext cx="5239080" cy="535320"/>
          </a:xfrm>
          <a:custGeom>
            <a:avLst/>
            <a:gdLst/>
            <a:ahLst/>
            <a:rect l="0" t="0" r="r" b="b"/>
            <a:pathLst>
              <a:path fill="none" w="14553" h="1487">
                <a:moveTo>
                  <a:pt x="0" y="57"/>
                </a:moveTo>
                <a:lnTo>
                  <a:pt x="189" y="48"/>
                </a:lnTo>
                <a:lnTo>
                  <a:pt x="330" y="48"/>
                </a:lnTo>
                <a:lnTo>
                  <a:pt x="515" y="48"/>
                </a:lnTo>
                <a:lnTo>
                  <a:pt x="657" y="48"/>
                </a:lnTo>
                <a:lnTo>
                  <a:pt x="842" y="48"/>
                </a:lnTo>
                <a:lnTo>
                  <a:pt x="1071" y="48"/>
                </a:lnTo>
                <a:lnTo>
                  <a:pt x="1212" y="141"/>
                </a:lnTo>
                <a:lnTo>
                  <a:pt x="1397" y="233"/>
                </a:lnTo>
                <a:lnTo>
                  <a:pt x="1538" y="141"/>
                </a:lnTo>
                <a:lnTo>
                  <a:pt x="1724" y="92"/>
                </a:lnTo>
                <a:lnTo>
                  <a:pt x="1909" y="48"/>
                </a:lnTo>
                <a:lnTo>
                  <a:pt x="2094" y="48"/>
                </a:lnTo>
                <a:lnTo>
                  <a:pt x="2279" y="0"/>
                </a:lnTo>
                <a:lnTo>
                  <a:pt x="2465" y="0"/>
                </a:lnTo>
                <a:lnTo>
                  <a:pt x="2650" y="0"/>
                </a:lnTo>
                <a:lnTo>
                  <a:pt x="2791" y="48"/>
                </a:lnTo>
                <a:lnTo>
                  <a:pt x="3346" y="141"/>
                </a:lnTo>
                <a:lnTo>
                  <a:pt x="3488" y="185"/>
                </a:lnTo>
                <a:lnTo>
                  <a:pt x="3673" y="185"/>
                </a:lnTo>
                <a:lnTo>
                  <a:pt x="3858" y="233"/>
                </a:lnTo>
                <a:lnTo>
                  <a:pt x="4462" y="277"/>
                </a:lnTo>
                <a:lnTo>
                  <a:pt x="4647" y="326"/>
                </a:lnTo>
                <a:lnTo>
                  <a:pt x="4925" y="374"/>
                </a:lnTo>
                <a:lnTo>
                  <a:pt x="6226" y="418"/>
                </a:lnTo>
                <a:lnTo>
                  <a:pt x="6411" y="418"/>
                </a:lnTo>
                <a:lnTo>
                  <a:pt x="6733" y="467"/>
                </a:lnTo>
                <a:lnTo>
                  <a:pt x="6923" y="467"/>
                </a:lnTo>
                <a:lnTo>
                  <a:pt x="7108" y="467"/>
                </a:lnTo>
                <a:lnTo>
                  <a:pt x="7338" y="467"/>
                </a:lnTo>
                <a:lnTo>
                  <a:pt x="7479" y="467"/>
                </a:lnTo>
                <a:lnTo>
                  <a:pt x="7665" y="467"/>
                </a:lnTo>
                <a:lnTo>
                  <a:pt x="7942" y="467"/>
                </a:lnTo>
                <a:lnTo>
                  <a:pt x="8176" y="511"/>
                </a:lnTo>
                <a:lnTo>
                  <a:pt x="8824" y="604"/>
                </a:lnTo>
                <a:lnTo>
                  <a:pt x="8965" y="652"/>
                </a:lnTo>
                <a:lnTo>
                  <a:pt x="9151" y="746"/>
                </a:lnTo>
                <a:lnTo>
                  <a:pt x="10588" y="882"/>
                </a:lnTo>
                <a:lnTo>
                  <a:pt x="10729" y="882"/>
                </a:lnTo>
                <a:lnTo>
                  <a:pt x="10915" y="931"/>
                </a:lnTo>
                <a:lnTo>
                  <a:pt x="11426" y="975"/>
                </a:lnTo>
                <a:lnTo>
                  <a:pt x="11611" y="975"/>
                </a:lnTo>
                <a:lnTo>
                  <a:pt x="11841" y="1024"/>
                </a:lnTo>
                <a:lnTo>
                  <a:pt x="11982" y="1068"/>
                </a:lnTo>
                <a:lnTo>
                  <a:pt x="12123" y="1116"/>
                </a:lnTo>
                <a:lnTo>
                  <a:pt x="12308" y="1116"/>
                </a:lnTo>
                <a:lnTo>
                  <a:pt x="12586" y="1209"/>
                </a:lnTo>
                <a:lnTo>
                  <a:pt x="12771" y="1257"/>
                </a:lnTo>
                <a:lnTo>
                  <a:pt x="13234" y="1301"/>
                </a:lnTo>
                <a:lnTo>
                  <a:pt x="13375" y="1350"/>
                </a:lnTo>
                <a:lnTo>
                  <a:pt x="13604" y="1442"/>
                </a:lnTo>
                <a:lnTo>
                  <a:pt x="13746" y="1442"/>
                </a:lnTo>
                <a:lnTo>
                  <a:pt x="13931" y="1442"/>
                </a:lnTo>
                <a:lnTo>
                  <a:pt x="14072" y="1487"/>
                </a:lnTo>
                <a:lnTo>
                  <a:pt x="14257" y="1487"/>
                </a:lnTo>
                <a:lnTo>
                  <a:pt x="14442" y="1487"/>
                </a:lnTo>
                <a:lnTo>
                  <a:pt x="14553" y="1487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7560" y="792000"/>
            <a:ext cx="5234400" cy="1000440"/>
          </a:xfrm>
          <a:custGeom>
            <a:avLst/>
            <a:gdLst/>
            <a:ahLst/>
            <a:rect l="0" t="0" r="r" b="b"/>
            <a:pathLst>
              <a:path fill="none" w="14540" h="2779">
                <a:moveTo>
                  <a:pt x="0" y="0"/>
                </a:moveTo>
                <a:lnTo>
                  <a:pt x="176" y="39"/>
                </a:lnTo>
                <a:lnTo>
                  <a:pt x="361" y="132"/>
                </a:lnTo>
                <a:lnTo>
                  <a:pt x="546" y="180"/>
                </a:lnTo>
                <a:lnTo>
                  <a:pt x="687" y="224"/>
                </a:lnTo>
                <a:lnTo>
                  <a:pt x="829" y="321"/>
                </a:lnTo>
                <a:lnTo>
                  <a:pt x="1014" y="458"/>
                </a:lnTo>
                <a:lnTo>
                  <a:pt x="1199" y="551"/>
                </a:lnTo>
                <a:lnTo>
                  <a:pt x="1428" y="643"/>
                </a:lnTo>
                <a:lnTo>
                  <a:pt x="1618" y="736"/>
                </a:lnTo>
                <a:lnTo>
                  <a:pt x="1803" y="877"/>
                </a:lnTo>
                <a:lnTo>
                  <a:pt x="2032" y="970"/>
                </a:lnTo>
                <a:lnTo>
                  <a:pt x="2218" y="1062"/>
                </a:lnTo>
                <a:lnTo>
                  <a:pt x="2359" y="1106"/>
                </a:lnTo>
                <a:lnTo>
                  <a:pt x="2592" y="1106"/>
                </a:lnTo>
                <a:lnTo>
                  <a:pt x="2822" y="1155"/>
                </a:lnTo>
                <a:lnTo>
                  <a:pt x="2963" y="1155"/>
                </a:lnTo>
                <a:lnTo>
                  <a:pt x="3148" y="1203"/>
                </a:lnTo>
                <a:lnTo>
                  <a:pt x="3333" y="1296"/>
                </a:lnTo>
                <a:lnTo>
                  <a:pt x="3474" y="1340"/>
                </a:lnTo>
                <a:lnTo>
                  <a:pt x="3661" y="1434"/>
                </a:lnTo>
                <a:lnTo>
                  <a:pt x="3846" y="1482"/>
                </a:lnTo>
                <a:lnTo>
                  <a:pt x="4075" y="1526"/>
                </a:lnTo>
                <a:lnTo>
                  <a:pt x="4216" y="1526"/>
                </a:lnTo>
                <a:lnTo>
                  <a:pt x="4679" y="1526"/>
                </a:lnTo>
                <a:lnTo>
                  <a:pt x="4864" y="1482"/>
                </a:lnTo>
                <a:lnTo>
                  <a:pt x="5098" y="1482"/>
                </a:lnTo>
                <a:lnTo>
                  <a:pt x="5239" y="1482"/>
                </a:lnTo>
                <a:lnTo>
                  <a:pt x="5517" y="1482"/>
                </a:lnTo>
                <a:lnTo>
                  <a:pt x="5746" y="1482"/>
                </a:lnTo>
                <a:lnTo>
                  <a:pt x="5887" y="1526"/>
                </a:lnTo>
                <a:lnTo>
                  <a:pt x="6029" y="1526"/>
                </a:lnTo>
                <a:lnTo>
                  <a:pt x="6492" y="1575"/>
                </a:lnTo>
                <a:lnTo>
                  <a:pt x="6677" y="1619"/>
                </a:lnTo>
                <a:lnTo>
                  <a:pt x="6818" y="1619"/>
                </a:lnTo>
                <a:lnTo>
                  <a:pt x="7096" y="1575"/>
                </a:lnTo>
                <a:lnTo>
                  <a:pt x="7325" y="1575"/>
                </a:lnTo>
                <a:lnTo>
                  <a:pt x="7603" y="1575"/>
                </a:lnTo>
                <a:lnTo>
                  <a:pt x="7744" y="1575"/>
                </a:lnTo>
                <a:lnTo>
                  <a:pt x="7929" y="1575"/>
                </a:lnTo>
                <a:lnTo>
                  <a:pt x="8485" y="1575"/>
                </a:lnTo>
                <a:lnTo>
                  <a:pt x="8719" y="1526"/>
                </a:lnTo>
                <a:lnTo>
                  <a:pt x="8860" y="1482"/>
                </a:lnTo>
                <a:lnTo>
                  <a:pt x="9182" y="1434"/>
                </a:lnTo>
                <a:lnTo>
                  <a:pt x="9323" y="1434"/>
                </a:lnTo>
                <a:lnTo>
                  <a:pt x="9600" y="1526"/>
                </a:lnTo>
                <a:lnTo>
                  <a:pt x="9742" y="1575"/>
                </a:lnTo>
                <a:lnTo>
                  <a:pt x="9971" y="1619"/>
                </a:lnTo>
                <a:lnTo>
                  <a:pt x="10438" y="1667"/>
                </a:lnTo>
                <a:lnTo>
                  <a:pt x="10624" y="1711"/>
                </a:lnTo>
                <a:lnTo>
                  <a:pt x="11229" y="1760"/>
                </a:lnTo>
                <a:lnTo>
                  <a:pt x="11784" y="1760"/>
                </a:lnTo>
                <a:lnTo>
                  <a:pt x="11969" y="1804"/>
                </a:lnTo>
                <a:lnTo>
                  <a:pt x="12111" y="1804"/>
                </a:lnTo>
                <a:lnTo>
                  <a:pt x="12388" y="1897"/>
                </a:lnTo>
                <a:lnTo>
                  <a:pt x="12574" y="1945"/>
                </a:lnTo>
                <a:lnTo>
                  <a:pt x="12759" y="2038"/>
                </a:lnTo>
                <a:lnTo>
                  <a:pt x="12944" y="2130"/>
                </a:lnTo>
                <a:lnTo>
                  <a:pt x="13085" y="2179"/>
                </a:lnTo>
                <a:lnTo>
                  <a:pt x="13733" y="2364"/>
                </a:lnTo>
                <a:lnTo>
                  <a:pt x="13874" y="2408"/>
                </a:lnTo>
                <a:lnTo>
                  <a:pt x="14060" y="2549"/>
                </a:lnTo>
                <a:lnTo>
                  <a:pt x="14245" y="2642"/>
                </a:lnTo>
                <a:lnTo>
                  <a:pt x="14430" y="2735"/>
                </a:lnTo>
                <a:lnTo>
                  <a:pt x="14540" y="2779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8200" y="2819520"/>
            <a:ext cx="5239080" cy="624240"/>
          </a:xfrm>
          <a:custGeom>
            <a:avLst/>
            <a:gdLst/>
            <a:ahLst/>
            <a:rect l="0" t="0" r="r" b="b"/>
            <a:pathLst>
              <a:path fill="none" w="14553" h="1734">
                <a:moveTo>
                  <a:pt x="0" y="0"/>
                </a:moveTo>
                <a:lnTo>
                  <a:pt x="132" y="78"/>
                </a:lnTo>
                <a:lnTo>
                  <a:pt x="318" y="127"/>
                </a:lnTo>
                <a:lnTo>
                  <a:pt x="1992" y="219"/>
                </a:lnTo>
                <a:lnTo>
                  <a:pt x="2456" y="263"/>
                </a:lnTo>
                <a:lnTo>
                  <a:pt x="2597" y="311"/>
                </a:lnTo>
                <a:lnTo>
                  <a:pt x="2827" y="311"/>
                </a:lnTo>
                <a:lnTo>
                  <a:pt x="2968" y="355"/>
                </a:lnTo>
                <a:lnTo>
                  <a:pt x="3154" y="355"/>
                </a:lnTo>
                <a:lnTo>
                  <a:pt x="3295" y="403"/>
                </a:lnTo>
                <a:lnTo>
                  <a:pt x="3525" y="403"/>
                </a:lnTo>
                <a:lnTo>
                  <a:pt x="3666" y="447"/>
                </a:lnTo>
                <a:lnTo>
                  <a:pt x="3945" y="587"/>
                </a:lnTo>
                <a:lnTo>
                  <a:pt x="4271" y="631"/>
                </a:lnTo>
                <a:lnTo>
                  <a:pt x="4828" y="680"/>
                </a:lnTo>
                <a:lnTo>
                  <a:pt x="5014" y="680"/>
                </a:lnTo>
                <a:lnTo>
                  <a:pt x="5570" y="723"/>
                </a:lnTo>
                <a:lnTo>
                  <a:pt x="5756" y="772"/>
                </a:lnTo>
                <a:lnTo>
                  <a:pt x="5946" y="772"/>
                </a:lnTo>
                <a:lnTo>
                  <a:pt x="6176" y="772"/>
                </a:lnTo>
                <a:lnTo>
                  <a:pt x="6732" y="913"/>
                </a:lnTo>
                <a:lnTo>
                  <a:pt x="6874" y="913"/>
                </a:lnTo>
                <a:lnTo>
                  <a:pt x="7338" y="957"/>
                </a:lnTo>
                <a:lnTo>
                  <a:pt x="7524" y="957"/>
                </a:lnTo>
                <a:lnTo>
                  <a:pt x="7758" y="957"/>
                </a:lnTo>
                <a:lnTo>
                  <a:pt x="8036" y="957"/>
                </a:lnTo>
                <a:lnTo>
                  <a:pt x="8315" y="913"/>
                </a:lnTo>
                <a:lnTo>
                  <a:pt x="8549" y="913"/>
                </a:lnTo>
                <a:lnTo>
                  <a:pt x="8783" y="913"/>
                </a:lnTo>
                <a:lnTo>
                  <a:pt x="8969" y="913"/>
                </a:lnTo>
                <a:lnTo>
                  <a:pt x="9154" y="957"/>
                </a:lnTo>
                <a:lnTo>
                  <a:pt x="9340" y="957"/>
                </a:lnTo>
                <a:lnTo>
                  <a:pt x="9481" y="957"/>
                </a:lnTo>
                <a:lnTo>
                  <a:pt x="9711" y="1005"/>
                </a:lnTo>
                <a:lnTo>
                  <a:pt x="10175" y="1049"/>
                </a:lnTo>
                <a:lnTo>
                  <a:pt x="10365" y="1097"/>
                </a:lnTo>
                <a:lnTo>
                  <a:pt x="10550" y="1097"/>
                </a:lnTo>
                <a:lnTo>
                  <a:pt x="11014" y="1141"/>
                </a:lnTo>
                <a:lnTo>
                  <a:pt x="11571" y="1141"/>
                </a:lnTo>
                <a:lnTo>
                  <a:pt x="11756" y="1141"/>
                </a:lnTo>
                <a:lnTo>
                  <a:pt x="11990" y="1141"/>
                </a:lnTo>
                <a:lnTo>
                  <a:pt x="12132" y="1141"/>
                </a:lnTo>
                <a:lnTo>
                  <a:pt x="12410" y="1189"/>
                </a:lnTo>
                <a:lnTo>
                  <a:pt x="12596" y="1189"/>
                </a:lnTo>
                <a:lnTo>
                  <a:pt x="12781" y="1233"/>
                </a:lnTo>
                <a:lnTo>
                  <a:pt x="12967" y="1282"/>
                </a:lnTo>
                <a:lnTo>
                  <a:pt x="13430" y="1325"/>
                </a:lnTo>
                <a:lnTo>
                  <a:pt x="13572" y="1325"/>
                </a:lnTo>
                <a:lnTo>
                  <a:pt x="13850" y="1418"/>
                </a:lnTo>
                <a:lnTo>
                  <a:pt x="14036" y="1510"/>
                </a:lnTo>
                <a:lnTo>
                  <a:pt x="14177" y="1558"/>
                </a:lnTo>
                <a:lnTo>
                  <a:pt x="14314" y="1698"/>
                </a:lnTo>
                <a:lnTo>
                  <a:pt x="14553" y="173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7560" y="3444840"/>
            <a:ext cx="5239080" cy="462240"/>
          </a:xfrm>
          <a:custGeom>
            <a:avLst/>
            <a:gdLst/>
            <a:ahLst/>
            <a:rect l="0" t="0" r="r" b="b"/>
            <a:pathLst>
              <a:path fill="none" w="14553" h="1284">
                <a:moveTo>
                  <a:pt x="0" y="0"/>
                </a:moveTo>
                <a:lnTo>
                  <a:pt x="176" y="92"/>
                </a:lnTo>
                <a:lnTo>
                  <a:pt x="317" y="141"/>
                </a:lnTo>
                <a:lnTo>
                  <a:pt x="873" y="233"/>
                </a:lnTo>
                <a:lnTo>
                  <a:pt x="1014" y="233"/>
                </a:lnTo>
                <a:lnTo>
                  <a:pt x="1199" y="233"/>
                </a:lnTo>
                <a:lnTo>
                  <a:pt x="1384" y="233"/>
                </a:lnTo>
                <a:lnTo>
                  <a:pt x="1525" y="233"/>
                </a:lnTo>
                <a:lnTo>
                  <a:pt x="1710" y="277"/>
                </a:lnTo>
                <a:lnTo>
                  <a:pt x="1940" y="370"/>
                </a:lnTo>
                <a:lnTo>
                  <a:pt x="2081" y="418"/>
                </a:lnTo>
                <a:lnTo>
                  <a:pt x="2266" y="511"/>
                </a:lnTo>
                <a:lnTo>
                  <a:pt x="2451" y="555"/>
                </a:lnTo>
                <a:lnTo>
                  <a:pt x="2592" y="604"/>
                </a:lnTo>
                <a:lnTo>
                  <a:pt x="2778" y="604"/>
                </a:lnTo>
                <a:lnTo>
                  <a:pt x="3007" y="604"/>
                </a:lnTo>
                <a:lnTo>
                  <a:pt x="3192" y="604"/>
                </a:lnTo>
                <a:lnTo>
                  <a:pt x="3333" y="604"/>
                </a:lnTo>
                <a:lnTo>
                  <a:pt x="3889" y="604"/>
                </a:lnTo>
                <a:lnTo>
                  <a:pt x="4030" y="604"/>
                </a:lnTo>
                <a:lnTo>
                  <a:pt x="4215" y="649"/>
                </a:lnTo>
                <a:lnTo>
                  <a:pt x="4400" y="697"/>
                </a:lnTo>
                <a:lnTo>
                  <a:pt x="4956" y="790"/>
                </a:lnTo>
                <a:lnTo>
                  <a:pt x="5097" y="790"/>
                </a:lnTo>
                <a:lnTo>
                  <a:pt x="5238" y="790"/>
                </a:lnTo>
                <a:lnTo>
                  <a:pt x="5423" y="790"/>
                </a:lnTo>
                <a:lnTo>
                  <a:pt x="5609" y="790"/>
                </a:lnTo>
                <a:lnTo>
                  <a:pt x="5794" y="790"/>
                </a:lnTo>
                <a:lnTo>
                  <a:pt x="5935" y="838"/>
                </a:lnTo>
                <a:lnTo>
                  <a:pt x="6120" y="838"/>
                </a:lnTo>
                <a:lnTo>
                  <a:pt x="6305" y="882"/>
                </a:lnTo>
                <a:lnTo>
                  <a:pt x="6491" y="931"/>
                </a:lnTo>
                <a:lnTo>
                  <a:pt x="6676" y="975"/>
                </a:lnTo>
                <a:lnTo>
                  <a:pt x="6910" y="975"/>
                </a:lnTo>
                <a:lnTo>
                  <a:pt x="7139" y="975"/>
                </a:lnTo>
                <a:lnTo>
                  <a:pt x="7374" y="975"/>
                </a:lnTo>
                <a:lnTo>
                  <a:pt x="7837" y="931"/>
                </a:lnTo>
                <a:lnTo>
                  <a:pt x="7978" y="931"/>
                </a:lnTo>
                <a:lnTo>
                  <a:pt x="8163" y="931"/>
                </a:lnTo>
                <a:lnTo>
                  <a:pt x="8348" y="931"/>
                </a:lnTo>
                <a:lnTo>
                  <a:pt x="8533" y="882"/>
                </a:lnTo>
                <a:lnTo>
                  <a:pt x="8767" y="838"/>
                </a:lnTo>
                <a:lnTo>
                  <a:pt x="10156" y="790"/>
                </a:lnTo>
                <a:lnTo>
                  <a:pt x="10297" y="746"/>
                </a:lnTo>
                <a:lnTo>
                  <a:pt x="10438" y="746"/>
                </a:lnTo>
                <a:lnTo>
                  <a:pt x="10624" y="697"/>
                </a:lnTo>
                <a:lnTo>
                  <a:pt x="11920" y="697"/>
                </a:lnTo>
                <a:lnTo>
                  <a:pt x="12154" y="697"/>
                </a:lnTo>
                <a:lnTo>
                  <a:pt x="12387" y="746"/>
                </a:lnTo>
                <a:lnTo>
                  <a:pt x="12992" y="838"/>
                </a:lnTo>
                <a:lnTo>
                  <a:pt x="13221" y="882"/>
                </a:lnTo>
                <a:lnTo>
                  <a:pt x="13362" y="975"/>
                </a:lnTo>
                <a:lnTo>
                  <a:pt x="13547" y="1068"/>
                </a:lnTo>
                <a:lnTo>
                  <a:pt x="13732" y="1160"/>
                </a:lnTo>
                <a:lnTo>
                  <a:pt x="13873" y="1160"/>
                </a:lnTo>
                <a:lnTo>
                  <a:pt x="14059" y="1160"/>
                </a:lnTo>
                <a:lnTo>
                  <a:pt x="14553" y="1284"/>
                </a:ln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67080" y="380880"/>
            <a:ext cx="568440" cy="3581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9680" y="279360"/>
            <a:ext cx="0" cy="74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9680" y="11066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9680" y="1324080"/>
            <a:ext cx="0" cy="71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9680" y="212580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9680" y="2325600"/>
            <a:ext cx="0" cy="80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9680" y="319572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9680" y="3378240"/>
            <a:ext cx="0" cy="68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960" y="38736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38412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396396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960" y="3963960"/>
            <a:ext cx="8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56280" y="525600"/>
            <a:ext cx="368280" cy="2001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00440" y="923760"/>
            <a:ext cx="365040" cy="250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126040" y="5191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56160" y="9050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3840" y="1346040"/>
            <a:ext cx="336600" cy="12603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757760" y="13366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56320" y="17938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7360" y="3162240"/>
            <a:ext cx="352440" cy="209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757760" y="234648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741920" y="311472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02120" y="3635280"/>
            <a:ext cx="390600" cy="2286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79800" y="3606840"/>
            <a:ext cx="450720" cy="3049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156280" y="4683240"/>
            <a:ext cx="3263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implify the plan view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our lines are suppress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ea of the roadb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/>
  <dc:title>Cut and Fill of a Roadway on a Grade</dc:title>
</cp:coreProperties>
</file>