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18320" y="6477120"/>
            <a:ext cx="2139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38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38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39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39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40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 txBox="1"/>
          <p:nvPr/>
        </p:nvSpPr>
        <p:spPr>
          <a:xfrm>
            <a:off x="1839960" y="4363920"/>
            <a:ext cx="618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ss Bearing for the water line is N 82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37320" y="4457880"/>
            <a:ext cx="85680" cy="85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727360" y="5143320"/>
            <a:ext cx="4172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 is 6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444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445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457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462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727360" y="5143320"/>
            <a:ext cx="4172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 is 6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839960" y="4363920"/>
            <a:ext cx="618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ss Bearing for the water line is N 82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37320" y="4457880"/>
            <a:ext cx="85680" cy="85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507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508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515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52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52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564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565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577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582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63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63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64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65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708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709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716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72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788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789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796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80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87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87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88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88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89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96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96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97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97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98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053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054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061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06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762280"/>
            <a:ext cx="777240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 PROFI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141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149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154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159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3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1973160" y="5354640"/>
            <a:ext cx="150840" cy="150840"/>
            <a:chOff x="1973160" y="5354640"/>
            <a:chExt cx="150840" cy="150840"/>
          </a:xfrm>
        </p:grpSpPr>
        <p:sp>
          <p:nvSpPr>
            <p:cNvPr id="1178" name=""/>
            <p:cNvSpPr/>
            <p:nvPr/>
          </p:nvSpPr>
          <p:spPr>
            <a:xfrm>
              <a:off x="1973160" y="543096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48040" y="535464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8205840" y="5499000"/>
            <a:ext cx="150840" cy="150840"/>
            <a:chOff x="8205840" y="5499000"/>
            <a:chExt cx="150840" cy="150840"/>
          </a:xfrm>
        </p:grpSpPr>
        <p:sp>
          <p:nvSpPr>
            <p:cNvPr id="1181" name=""/>
            <p:cNvSpPr/>
            <p:nvPr/>
          </p:nvSpPr>
          <p:spPr>
            <a:xfrm>
              <a:off x="8205840" y="557532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280360" y="549900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043000" y="5443560"/>
            <a:ext cx="6229440" cy="12852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239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240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6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247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252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1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1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1973160" y="5354640"/>
            <a:ext cx="150840" cy="150840"/>
            <a:chOff x="1973160" y="5354640"/>
            <a:chExt cx="150840" cy="150840"/>
          </a:xfrm>
        </p:grpSpPr>
        <p:sp>
          <p:nvSpPr>
            <p:cNvPr id="1276" name=""/>
            <p:cNvSpPr/>
            <p:nvPr/>
          </p:nvSpPr>
          <p:spPr>
            <a:xfrm>
              <a:off x="1973160" y="543096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48040" y="535464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8205840" y="5499000"/>
            <a:ext cx="150840" cy="150840"/>
            <a:chOff x="8205840" y="5499000"/>
            <a:chExt cx="150840" cy="150840"/>
          </a:xfrm>
        </p:grpSpPr>
        <p:sp>
          <p:nvSpPr>
            <p:cNvPr id="1279" name=""/>
            <p:cNvSpPr/>
            <p:nvPr/>
          </p:nvSpPr>
          <p:spPr>
            <a:xfrm>
              <a:off x="8205840" y="557532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80360" y="549900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043000" y="5443560"/>
            <a:ext cx="6229440" cy="12852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337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338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345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35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35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043000" y="5443560"/>
            <a:ext cx="6229440" cy="1285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429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430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437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442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447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1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1973160" y="5354640"/>
            <a:ext cx="150840" cy="150840"/>
            <a:chOff x="1973160" y="5354640"/>
            <a:chExt cx="150840" cy="150840"/>
          </a:xfrm>
        </p:grpSpPr>
        <p:sp>
          <p:nvSpPr>
            <p:cNvPr id="1466" name=""/>
            <p:cNvSpPr/>
            <p:nvPr/>
          </p:nvSpPr>
          <p:spPr>
            <a:xfrm>
              <a:off x="1973160" y="543096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48040" y="535464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8205840" y="5499000"/>
            <a:ext cx="150840" cy="150840"/>
            <a:chOff x="8205840" y="5499000"/>
            <a:chExt cx="150840" cy="150840"/>
          </a:xfrm>
        </p:grpSpPr>
        <p:sp>
          <p:nvSpPr>
            <p:cNvPr id="1469" name=""/>
            <p:cNvSpPr/>
            <p:nvPr/>
          </p:nvSpPr>
          <p:spPr>
            <a:xfrm>
              <a:off x="8205840" y="557532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280360" y="549900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043000" y="5443560"/>
            <a:ext cx="6229440" cy="1285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527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528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4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535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54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54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9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1973160" y="5354640"/>
            <a:ext cx="150840" cy="150840"/>
            <a:chOff x="1973160" y="5354640"/>
            <a:chExt cx="150840" cy="150840"/>
          </a:xfrm>
        </p:grpSpPr>
        <p:sp>
          <p:nvSpPr>
            <p:cNvPr id="1564" name=""/>
            <p:cNvSpPr/>
            <p:nvPr/>
          </p:nvSpPr>
          <p:spPr>
            <a:xfrm>
              <a:off x="1973160" y="543096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48040" y="535464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8205840" y="5499000"/>
            <a:ext cx="150840" cy="150840"/>
            <a:chOff x="8205840" y="5499000"/>
            <a:chExt cx="150840" cy="150840"/>
          </a:xfrm>
        </p:grpSpPr>
        <p:sp>
          <p:nvSpPr>
            <p:cNvPr id="1567" name=""/>
            <p:cNvSpPr/>
            <p:nvPr/>
          </p:nvSpPr>
          <p:spPr>
            <a:xfrm>
              <a:off x="8205840" y="5575320"/>
              <a:ext cx="150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280360" y="5499000"/>
              <a:ext cx="0" cy="1508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4483080" y="1890720"/>
            <a:ext cx="1897200" cy="409680"/>
            <a:chOff x="4483080" y="1890720"/>
            <a:chExt cx="1897200" cy="409680"/>
          </a:xfrm>
        </p:grpSpPr>
        <p:sp>
          <p:nvSpPr>
            <p:cNvPr id="1570" name=""/>
            <p:cNvSpPr/>
            <p:nvPr/>
          </p:nvSpPr>
          <p:spPr>
            <a:xfrm>
              <a:off x="4483080" y="1890720"/>
              <a:ext cx="1897200" cy="36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 txBox="1"/>
            <p:nvPr/>
          </p:nvSpPr>
          <p:spPr>
            <a:xfrm>
              <a:off x="4557600" y="1914480"/>
              <a:ext cx="1689120" cy="385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 82d E   -19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1676520" y="2036880"/>
            <a:ext cx="6019560" cy="91440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748640" y="2127240"/>
            <a:ext cx="595440" cy="390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690560" y="3098880"/>
            <a:ext cx="481320" cy="31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592520" y="2658960"/>
            <a:ext cx="534960" cy="353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911760" y="2797200"/>
            <a:ext cx="509400" cy="335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424240" y="3051000"/>
            <a:ext cx="509400" cy="336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875640" y="2330280"/>
            <a:ext cx="610920" cy="401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773760" y="20876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495680" y="243360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801960" y="254484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346480" y="2749680"/>
            <a:ext cx="138240" cy="138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1476360" y="4189320"/>
            <a:ext cx="7122960" cy="107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1592280" y="46911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1644480" y="49402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1725480" y="5464080"/>
            <a:ext cx="696456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757080" y="488304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1108080" y="53514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1239840" y="58863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57280" y="3973680"/>
            <a:ext cx="696456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386000" y="49626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1692360" y="5202360"/>
            <a:ext cx="6964200" cy="105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932360" y="51768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1521000" y="445608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202280" y="50371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684520" y="502272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1327320" y="63738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852480" y="2976480"/>
            <a:ext cx="68112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7763040" y="1927080"/>
            <a:ext cx="680760" cy="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778040" y="5716440"/>
            <a:ext cx="6964200" cy="105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043000" y="5443560"/>
            <a:ext cx="6229440" cy="12852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628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629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5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636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64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0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1108080" y="3341520"/>
            <a:ext cx="6066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8170920" y="520056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243920" y="5083200"/>
            <a:ext cx="10800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442880" y="5029200"/>
            <a:ext cx="7129800" cy="271800"/>
          </a:xfrm>
          <a:custGeom>
            <a:avLst/>
            <a:gdLst/>
            <a:ahLst/>
            <a:rect l="0" t="0" r="r" b="b"/>
            <a:pathLst>
              <a:path fill="none" w="19805" h="755">
                <a:moveTo>
                  <a:pt x="0" y="0"/>
                </a:moveTo>
                <a:lnTo>
                  <a:pt x="119" y="79"/>
                </a:lnTo>
                <a:lnTo>
                  <a:pt x="476" y="79"/>
                </a:lnTo>
                <a:lnTo>
                  <a:pt x="793" y="79"/>
                </a:lnTo>
                <a:lnTo>
                  <a:pt x="912" y="79"/>
                </a:lnTo>
                <a:lnTo>
                  <a:pt x="1031" y="79"/>
                </a:lnTo>
                <a:lnTo>
                  <a:pt x="1296" y="0"/>
                </a:lnTo>
                <a:lnTo>
                  <a:pt x="1547" y="79"/>
                </a:lnTo>
                <a:lnTo>
                  <a:pt x="1706" y="79"/>
                </a:lnTo>
                <a:lnTo>
                  <a:pt x="1852" y="13"/>
                </a:lnTo>
                <a:lnTo>
                  <a:pt x="2103" y="79"/>
                </a:lnTo>
                <a:lnTo>
                  <a:pt x="2341" y="79"/>
                </a:lnTo>
                <a:lnTo>
                  <a:pt x="2579" y="79"/>
                </a:lnTo>
                <a:lnTo>
                  <a:pt x="2897" y="119"/>
                </a:lnTo>
                <a:lnTo>
                  <a:pt x="3294" y="119"/>
                </a:lnTo>
                <a:lnTo>
                  <a:pt x="3413" y="119"/>
                </a:lnTo>
                <a:lnTo>
                  <a:pt x="3532" y="119"/>
                </a:lnTo>
                <a:lnTo>
                  <a:pt x="3810" y="238"/>
                </a:lnTo>
                <a:lnTo>
                  <a:pt x="3968" y="238"/>
                </a:lnTo>
                <a:lnTo>
                  <a:pt x="4286" y="238"/>
                </a:lnTo>
                <a:lnTo>
                  <a:pt x="4524" y="198"/>
                </a:lnTo>
                <a:lnTo>
                  <a:pt x="4643" y="198"/>
                </a:lnTo>
                <a:lnTo>
                  <a:pt x="4802" y="158"/>
                </a:lnTo>
                <a:lnTo>
                  <a:pt x="4921" y="158"/>
                </a:lnTo>
                <a:lnTo>
                  <a:pt x="5304" y="66"/>
                </a:lnTo>
                <a:lnTo>
                  <a:pt x="5556" y="158"/>
                </a:lnTo>
                <a:lnTo>
                  <a:pt x="5675" y="105"/>
                </a:lnTo>
                <a:lnTo>
                  <a:pt x="5794" y="158"/>
                </a:lnTo>
                <a:lnTo>
                  <a:pt x="6098" y="211"/>
                </a:lnTo>
                <a:lnTo>
                  <a:pt x="6230" y="158"/>
                </a:lnTo>
                <a:lnTo>
                  <a:pt x="6350" y="158"/>
                </a:lnTo>
                <a:lnTo>
                  <a:pt x="6680" y="92"/>
                </a:lnTo>
                <a:lnTo>
                  <a:pt x="6905" y="158"/>
                </a:lnTo>
                <a:lnTo>
                  <a:pt x="7024" y="158"/>
                </a:lnTo>
                <a:lnTo>
                  <a:pt x="7143" y="158"/>
                </a:lnTo>
                <a:lnTo>
                  <a:pt x="7262" y="105"/>
                </a:lnTo>
                <a:lnTo>
                  <a:pt x="7500" y="158"/>
                </a:lnTo>
                <a:lnTo>
                  <a:pt x="7659" y="158"/>
                </a:lnTo>
                <a:lnTo>
                  <a:pt x="7778" y="158"/>
                </a:lnTo>
                <a:lnTo>
                  <a:pt x="7897" y="158"/>
                </a:lnTo>
                <a:lnTo>
                  <a:pt x="8056" y="238"/>
                </a:lnTo>
                <a:lnTo>
                  <a:pt x="8175" y="277"/>
                </a:lnTo>
                <a:lnTo>
                  <a:pt x="8453" y="317"/>
                </a:lnTo>
                <a:lnTo>
                  <a:pt x="8572" y="317"/>
                </a:lnTo>
                <a:lnTo>
                  <a:pt x="8691" y="317"/>
                </a:lnTo>
                <a:lnTo>
                  <a:pt x="8810" y="357"/>
                </a:lnTo>
                <a:lnTo>
                  <a:pt x="8929" y="397"/>
                </a:lnTo>
                <a:lnTo>
                  <a:pt x="9048" y="397"/>
                </a:lnTo>
                <a:lnTo>
                  <a:pt x="9167" y="397"/>
                </a:lnTo>
                <a:lnTo>
                  <a:pt x="9485" y="437"/>
                </a:lnTo>
                <a:lnTo>
                  <a:pt x="9630" y="450"/>
                </a:lnTo>
                <a:lnTo>
                  <a:pt x="9723" y="530"/>
                </a:lnTo>
                <a:lnTo>
                  <a:pt x="9842" y="596"/>
                </a:lnTo>
                <a:lnTo>
                  <a:pt x="9962" y="596"/>
                </a:lnTo>
                <a:lnTo>
                  <a:pt x="10240" y="596"/>
                </a:lnTo>
                <a:lnTo>
                  <a:pt x="10359" y="662"/>
                </a:lnTo>
                <a:lnTo>
                  <a:pt x="10478" y="596"/>
                </a:lnTo>
                <a:lnTo>
                  <a:pt x="10597" y="596"/>
                </a:lnTo>
                <a:lnTo>
                  <a:pt x="10835" y="516"/>
                </a:lnTo>
                <a:lnTo>
                  <a:pt x="10954" y="596"/>
                </a:lnTo>
                <a:lnTo>
                  <a:pt x="11285" y="596"/>
                </a:lnTo>
                <a:lnTo>
                  <a:pt x="11431" y="596"/>
                </a:lnTo>
                <a:lnTo>
                  <a:pt x="11550" y="596"/>
                </a:lnTo>
                <a:lnTo>
                  <a:pt x="11920" y="516"/>
                </a:lnTo>
                <a:lnTo>
                  <a:pt x="12224" y="516"/>
                </a:lnTo>
                <a:lnTo>
                  <a:pt x="12542" y="543"/>
                </a:lnTo>
                <a:lnTo>
                  <a:pt x="12793" y="516"/>
                </a:lnTo>
                <a:lnTo>
                  <a:pt x="13097" y="596"/>
                </a:lnTo>
                <a:lnTo>
                  <a:pt x="13336" y="450"/>
                </a:lnTo>
                <a:lnTo>
                  <a:pt x="13481" y="477"/>
                </a:lnTo>
                <a:lnTo>
                  <a:pt x="13627" y="357"/>
                </a:lnTo>
                <a:lnTo>
                  <a:pt x="13759" y="437"/>
                </a:lnTo>
                <a:lnTo>
                  <a:pt x="13851" y="424"/>
                </a:lnTo>
                <a:lnTo>
                  <a:pt x="14103" y="464"/>
                </a:lnTo>
                <a:lnTo>
                  <a:pt x="14235" y="370"/>
                </a:lnTo>
                <a:lnTo>
                  <a:pt x="14407" y="384"/>
                </a:lnTo>
                <a:lnTo>
                  <a:pt x="14606" y="330"/>
                </a:lnTo>
                <a:lnTo>
                  <a:pt x="14606" y="343"/>
                </a:lnTo>
                <a:lnTo>
                  <a:pt x="14817" y="343"/>
                </a:lnTo>
                <a:lnTo>
                  <a:pt x="15055" y="277"/>
                </a:lnTo>
                <a:lnTo>
                  <a:pt x="15241" y="304"/>
                </a:lnTo>
                <a:lnTo>
                  <a:pt x="15426" y="291"/>
                </a:lnTo>
                <a:lnTo>
                  <a:pt x="15452" y="317"/>
                </a:lnTo>
                <a:lnTo>
                  <a:pt x="15611" y="291"/>
                </a:lnTo>
                <a:lnTo>
                  <a:pt x="15770" y="291"/>
                </a:lnTo>
                <a:lnTo>
                  <a:pt x="15783" y="291"/>
                </a:lnTo>
                <a:lnTo>
                  <a:pt x="15968" y="291"/>
                </a:lnTo>
                <a:lnTo>
                  <a:pt x="16074" y="264"/>
                </a:lnTo>
                <a:lnTo>
                  <a:pt x="16272" y="304"/>
                </a:lnTo>
                <a:lnTo>
                  <a:pt x="16444" y="317"/>
                </a:lnTo>
                <a:lnTo>
                  <a:pt x="16550" y="357"/>
                </a:lnTo>
                <a:lnTo>
                  <a:pt x="16709" y="357"/>
                </a:lnTo>
                <a:lnTo>
                  <a:pt x="16868" y="357"/>
                </a:lnTo>
                <a:lnTo>
                  <a:pt x="17106" y="357"/>
                </a:lnTo>
                <a:lnTo>
                  <a:pt x="17225" y="357"/>
                </a:lnTo>
                <a:lnTo>
                  <a:pt x="17344" y="397"/>
                </a:lnTo>
                <a:lnTo>
                  <a:pt x="17463" y="397"/>
                </a:lnTo>
                <a:lnTo>
                  <a:pt x="17582" y="437"/>
                </a:lnTo>
                <a:lnTo>
                  <a:pt x="17701" y="477"/>
                </a:lnTo>
                <a:lnTo>
                  <a:pt x="17820" y="477"/>
                </a:lnTo>
                <a:lnTo>
                  <a:pt x="17935" y="494"/>
                </a:lnTo>
                <a:lnTo>
                  <a:pt x="18085" y="477"/>
                </a:lnTo>
                <a:lnTo>
                  <a:pt x="18208" y="494"/>
                </a:lnTo>
                <a:lnTo>
                  <a:pt x="18332" y="530"/>
                </a:lnTo>
                <a:lnTo>
                  <a:pt x="18455" y="538"/>
                </a:lnTo>
                <a:lnTo>
                  <a:pt x="18561" y="565"/>
                </a:lnTo>
                <a:lnTo>
                  <a:pt x="18737" y="600"/>
                </a:lnTo>
                <a:lnTo>
                  <a:pt x="18852" y="644"/>
                </a:lnTo>
                <a:lnTo>
                  <a:pt x="19002" y="680"/>
                </a:lnTo>
                <a:lnTo>
                  <a:pt x="19108" y="706"/>
                </a:lnTo>
                <a:lnTo>
                  <a:pt x="19368" y="755"/>
                </a:lnTo>
                <a:lnTo>
                  <a:pt x="19527" y="755"/>
                </a:lnTo>
                <a:lnTo>
                  <a:pt x="19646" y="755"/>
                </a:lnTo>
                <a:lnTo>
                  <a:pt x="19805" y="7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43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44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51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6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88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89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96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06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145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146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153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158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20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20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21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 txBox="1"/>
          <p:nvPr/>
        </p:nvSpPr>
        <p:spPr>
          <a:xfrm>
            <a:off x="1038240" y="4363920"/>
            <a:ext cx="6721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underground pipe has elevations of 80 fee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feet at its e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26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26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27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28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038240" y="4363920"/>
            <a:ext cx="69912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An underground pipe has elevations of 80 fee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38 feet at its end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ss bearing for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is N 82d 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700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122480"/>
            <a:ext cx="739152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1122480"/>
            <a:ext cx="2084760" cy="2818080"/>
          </a:xfrm>
          <a:custGeom>
            <a:avLst/>
            <a:gdLst/>
            <a:ahLst/>
            <a:rect l="0" t="0" r="r" b="b"/>
            <a:pathLst>
              <a:path fill="none" w="5791" h="7828">
                <a:moveTo>
                  <a:pt x="0" y="0"/>
                </a:moveTo>
                <a:lnTo>
                  <a:pt x="498" y="145"/>
                </a:lnTo>
                <a:lnTo>
                  <a:pt x="1142" y="277"/>
                </a:lnTo>
                <a:lnTo>
                  <a:pt x="1659" y="339"/>
                </a:lnTo>
                <a:lnTo>
                  <a:pt x="2047" y="339"/>
                </a:lnTo>
                <a:lnTo>
                  <a:pt x="2307" y="533"/>
                </a:lnTo>
                <a:lnTo>
                  <a:pt x="2951" y="661"/>
                </a:lnTo>
                <a:lnTo>
                  <a:pt x="3727" y="1049"/>
                </a:lnTo>
                <a:lnTo>
                  <a:pt x="4110" y="1181"/>
                </a:lnTo>
                <a:lnTo>
                  <a:pt x="4243" y="1437"/>
                </a:lnTo>
                <a:lnTo>
                  <a:pt x="4438" y="1953"/>
                </a:lnTo>
                <a:lnTo>
                  <a:pt x="4632" y="2469"/>
                </a:lnTo>
                <a:lnTo>
                  <a:pt x="4760" y="2857"/>
                </a:lnTo>
                <a:lnTo>
                  <a:pt x="4821" y="3117"/>
                </a:lnTo>
                <a:lnTo>
                  <a:pt x="4954" y="3439"/>
                </a:lnTo>
                <a:lnTo>
                  <a:pt x="5082" y="3633"/>
                </a:lnTo>
                <a:lnTo>
                  <a:pt x="5082" y="4084"/>
                </a:lnTo>
                <a:lnTo>
                  <a:pt x="5082" y="4600"/>
                </a:lnTo>
                <a:lnTo>
                  <a:pt x="5082" y="4794"/>
                </a:lnTo>
                <a:lnTo>
                  <a:pt x="5082" y="5244"/>
                </a:lnTo>
                <a:lnTo>
                  <a:pt x="5082" y="5698"/>
                </a:lnTo>
                <a:lnTo>
                  <a:pt x="5148" y="6148"/>
                </a:lnTo>
                <a:lnTo>
                  <a:pt x="5342" y="6664"/>
                </a:lnTo>
                <a:lnTo>
                  <a:pt x="5725" y="7052"/>
                </a:lnTo>
                <a:lnTo>
                  <a:pt x="5791" y="7246"/>
                </a:lnTo>
                <a:lnTo>
                  <a:pt x="5791" y="7440"/>
                </a:lnTo>
                <a:lnTo>
                  <a:pt x="5791" y="7634"/>
                </a:lnTo>
                <a:lnTo>
                  <a:pt x="5791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1122480"/>
            <a:ext cx="1999080" cy="2818080"/>
          </a:xfrm>
          <a:custGeom>
            <a:avLst/>
            <a:gdLst/>
            <a:ahLst/>
            <a:rect l="0" t="0" r="r" b="b"/>
            <a:pathLst>
              <a:path fill="none" w="5553" h="7828">
                <a:moveTo>
                  <a:pt x="0" y="0"/>
                </a:moveTo>
                <a:lnTo>
                  <a:pt x="194" y="83"/>
                </a:lnTo>
                <a:lnTo>
                  <a:pt x="454" y="211"/>
                </a:lnTo>
                <a:lnTo>
                  <a:pt x="1098" y="405"/>
                </a:lnTo>
                <a:lnTo>
                  <a:pt x="1487" y="471"/>
                </a:lnTo>
                <a:lnTo>
                  <a:pt x="1614" y="727"/>
                </a:lnTo>
                <a:lnTo>
                  <a:pt x="2003" y="793"/>
                </a:lnTo>
                <a:lnTo>
                  <a:pt x="2518" y="921"/>
                </a:lnTo>
                <a:lnTo>
                  <a:pt x="3034" y="1049"/>
                </a:lnTo>
                <a:lnTo>
                  <a:pt x="3550" y="1437"/>
                </a:lnTo>
                <a:lnTo>
                  <a:pt x="3744" y="1697"/>
                </a:lnTo>
                <a:lnTo>
                  <a:pt x="4327" y="2275"/>
                </a:lnTo>
                <a:lnTo>
                  <a:pt x="4843" y="2663"/>
                </a:lnTo>
                <a:lnTo>
                  <a:pt x="4843" y="2923"/>
                </a:lnTo>
                <a:lnTo>
                  <a:pt x="4843" y="3501"/>
                </a:lnTo>
                <a:lnTo>
                  <a:pt x="5231" y="3889"/>
                </a:lnTo>
                <a:lnTo>
                  <a:pt x="5359" y="4406"/>
                </a:lnTo>
                <a:lnTo>
                  <a:pt x="5359" y="4666"/>
                </a:lnTo>
                <a:lnTo>
                  <a:pt x="5359" y="4860"/>
                </a:lnTo>
                <a:lnTo>
                  <a:pt x="5487" y="5376"/>
                </a:lnTo>
                <a:lnTo>
                  <a:pt x="5487" y="5892"/>
                </a:lnTo>
                <a:lnTo>
                  <a:pt x="5553" y="6280"/>
                </a:lnTo>
                <a:lnTo>
                  <a:pt x="5553" y="6536"/>
                </a:lnTo>
                <a:lnTo>
                  <a:pt x="5553" y="6990"/>
                </a:lnTo>
                <a:lnTo>
                  <a:pt x="5553" y="7246"/>
                </a:lnTo>
                <a:lnTo>
                  <a:pt x="5553" y="7440"/>
                </a:lnTo>
                <a:lnTo>
                  <a:pt x="5553" y="7634"/>
                </a:lnTo>
                <a:lnTo>
                  <a:pt x="5553" y="782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67480" y="1122480"/>
            <a:ext cx="565560" cy="2772000"/>
          </a:xfrm>
          <a:custGeom>
            <a:avLst/>
            <a:gdLst/>
            <a:ahLst/>
            <a:rect l="0" t="0" r="r" b="b"/>
            <a:pathLst>
              <a:path fill="none" w="1571" h="7700">
                <a:moveTo>
                  <a:pt x="0" y="0"/>
                </a:moveTo>
                <a:lnTo>
                  <a:pt x="88" y="211"/>
                </a:lnTo>
                <a:lnTo>
                  <a:pt x="154" y="405"/>
                </a:lnTo>
                <a:lnTo>
                  <a:pt x="343" y="599"/>
                </a:lnTo>
                <a:lnTo>
                  <a:pt x="477" y="1049"/>
                </a:lnTo>
                <a:lnTo>
                  <a:pt x="605" y="1437"/>
                </a:lnTo>
                <a:lnTo>
                  <a:pt x="671" y="1631"/>
                </a:lnTo>
                <a:lnTo>
                  <a:pt x="733" y="1887"/>
                </a:lnTo>
                <a:lnTo>
                  <a:pt x="865" y="2275"/>
                </a:lnTo>
                <a:lnTo>
                  <a:pt x="927" y="2663"/>
                </a:lnTo>
                <a:lnTo>
                  <a:pt x="1054" y="3051"/>
                </a:lnTo>
                <a:lnTo>
                  <a:pt x="1188" y="3439"/>
                </a:lnTo>
                <a:lnTo>
                  <a:pt x="1188" y="3633"/>
                </a:lnTo>
                <a:lnTo>
                  <a:pt x="1316" y="3827"/>
                </a:lnTo>
                <a:lnTo>
                  <a:pt x="1443" y="4084"/>
                </a:lnTo>
                <a:lnTo>
                  <a:pt x="1443" y="4278"/>
                </a:lnTo>
                <a:lnTo>
                  <a:pt x="1443" y="4534"/>
                </a:lnTo>
                <a:lnTo>
                  <a:pt x="1443" y="5054"/>
                </a:lnTo>
                <a:lnTo>
                  <a:pt x="1443" y="5570"/>
                </a:lnTo>
                <a:lnTo>
                  <a:pt x="1510" y="5954"/>
                </a:lnTo>
                <a:lnTo>
                  <a:pt x="1571" y="6148"/>
                </a:lnTo>
                <a:lnTo>
                  <a:pt x="1571" y="6342"/>
                </a:lnTo>
                <a:lnTo>
                  <a:pt x="1571" y="6536"/>
                </a:lnTo>
                <a:lnTo>
                  <a:pt x="1571" y="6730"/>
                </a:lnTo>
                <a:lnTo>
                  <a:pt x="1571" y="6924"/>
                </a:lnTo>
                <a:lnTo>
                  <a:pt x="1571" y="7118"/>
                </a:lnTo>
                <a:lnTo>
                  <a:pt x="1571" y="7312"/>
                </a:lnTo>
                <a:lnTo>
                  <a:pt x="1571" y="7506"/>
                </a:lnTo>
                <a:lnTo>
                  <a:pt x="1571" y="7700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338120"/>
            <a:ext cx="3123000" cy="2602440"/>
          </a:xfrm>
          <a:custGeom>
            <a:avLst/>
            <a:gdLst/>
            <a:ahLst/>
            <a:rect l="0" t="0" r="r" b="b"/>
            <a:pathLst>
              <a:path fill="none" w="8675" h="7229">
                <a:moveTo>
                  <a:pt x="0" y="35"/>
                </a:moveTo>
                <a:lnTo>
                  <a:pt x="286" y="0"/>
                </a:lnTo>
                <a:lnTo>
                  <a:pt x="736" y="127"/>
                </a:lnTo>
                <a:lnTo>
                  <a:pt x="1252" y="194"/>
                </a:lnTo>
                <a:lnTo>
                  <a:pt x="2028" y="582"/>
                </a:lnTo>
                <a:lnTo>
                  <a:pt x="2417" y="643"/>
                </a:lnTo>
                <a:lnTo>
                  <a:pt x="2611" y="709"/>
                </a:lnTo>
                <a:lnTo>
                  <a:pt x="2867" y="903"/>
                </a:lnTo>
                <a:lnTo>
                  <a:pt x="3255" y="965"/>
                </a:lnTo>
                <a:lnTo>
                  <a:pt x="3771" y="1225"/>
                </a:lnTo>
                <a:lnTo>
                  <a:pt x="4419" y="1613"/>
                </a:lnTo>
                <a:lnTo>
                  <a:pt x="5129" y="1808"/>
                </a:lnTo>
                <a:lnTo>
                  <a:pt x="5773" y="1870"/>
                </a:lnTo>
                <a:lnTo>
                  <a:pt x="6289" y="1936"/>
                </a:lnTo>
                <a:lnTo>
                  <a:pt x="7000" y="2130"/>
                </a:lnTo>
                <a:lnTo>
                  <a:pt x="7388" y="2518"/>
                </a:lnTo>
                <a:lnTo>
                  <a:pt x="7516" y="2840"/>
                </a:lnTo>
                <a:lnTo>
                  <a:pt x="7644" y="3096"/>
                </a:lnTo>
                <a:lnTo>
                  <a:pt x="7710" y="3290"/>
                </a:lnTo>
                <a:lnTo>
                  <a:pt x="8098" y="3418"/>
                </a:lnTo>
                <a:lnTo>
                  <a:pt x="8292" y="3612"/>
                </a:lnTo>
                <a:lnTo>
                  <a:pt x="8354" y="3806"/>
                </a:lnTo>
                <a:lnTo>
                  <a:pt x="8486" y="4000"/>
                </a:lnTo>
                <a:lnTo>
                  <a:pt x="8486" y="4194"/>
                </a:lnTo>
                <a:lnTo>
                  <a:pt x="8486" y="4454"/>
                </a:lnTo>
                <a:lnTo>
                  <a:pt x="8486" y="4970"/>
                </a:lnTo>
                <a:lnTo>
                  <a:pt x="8486" y="5615"/>
                </a:lnTo>
                <a:lnTo>
                  <a:pt x="8486" y="6003"/>
                </a:lnTo>
                <a:lnTo>
                  <a:pt x="8486" y="6197"/>
                </a:lnTo>
                <a:lnTo>
                  <a:pt x="8486" y="6391"/>
                </a:lnTo>
                <a:lnTo>
                  <a:pt x="8486" y="6647"/>
                </a:lnTo>
                <a:lnTo>
                  <a:pt x="8548" y="6841"/>
                </a:lnTo>
                <a:lnTo>
                  <a:pt x="8548" y="7035"/>
                </a:lnTo>
                <a:lnTo>
                  <a:pt x="8675" y="722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2036880"/>
            <a:ext cx="1962360" cy="1903680"/>
          </a:xfrm>
          <a:custGeom>
            <a:avLst/>
            <a:gdLst/>
            <a:ahLst/>
            <a:rect l="0" t="0" r="r" b="b"/>
            <a:pathLst>
              <a:path fill="none" w="5451" h="5288">
                <a:moveTo>
                  <a:pt x="0" y="0"/>
                </a:moveTo>
                <a:lnTo>
                  <a:pt x="480" y="251"/>
                </a:lnTo>
                <a:lnTo>
                  <a:pt x="996" y="445"/>
                </a:lnTo>
                <a:lnTo>
                  <a:pt x="1772" y="833"/>
                </a:lnTo>
                <a:lnTo>
                  <a:pt x="2805" y="1221"/>
                </a:lnTo>
                <a:lnTo>
                  <a:pt x="3449" y="1349"/>
                </a:lnTo>
                <a:lnTo>
                  <a:pt x="3515" y="1543"/>
                </a:lnTo>
                <a:lnTo>
                  <a:pt x="4031" y="2125"/>
                </a:lnTo>
                <a:lnTo>
                  <a:pt x="4419" y="2253"/>
                </a:lnTo>
                <a:lnTo>
                  <a:pt x="4481" y="2447"/>
                </a:lnTo>
                <a:lnTo>
                  <a:pt x="4481" y="2641"/>
                </a:lnTo>
                <a:lnTo>
                  <a:pt x="4609" y="3030"/>
                </a:lnTo>
                <a:lnTo>
                  <a:pt x="5129" y="3546"/>
                </a:lnTo>
                <a:lnTo>
                  <a:pt x="5257" y="3740"/>
                </a:lnTo>
                <a:lnTo>
                  <a:pt x="5257" y="3996"/>
                </a:lnTo>
                <a:lnTo>
                  <a:pt x="5385" y="4256"/>
                </a:lnTo>
                <a:lnTo>
                  <a:pt x="5451" y="4450"/>
                </a:lnTo>
                <a:lnTo>
                  <a:pt x="5451" y="4706"/>
                </a:lnTo>
                <a:lnTo>
                  <a:pt x="5451" y="4900"/>
                </a:lnTo>
                <a:lnTo>
                  <a:pt x="5451" y="5094"/>
                </a:lnTo>
                <a:lnTo>
                  <a:pt x="5451" y="5288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2874960"/>
            <a:ext cx="1010160" cy="1067040"/>
          </a:xfrm>
          <a:custGeom>
            <a:avLst/>
            <a:gdLst/>
            <a:ahLst/>
            <a:rect l="0" t="0" r="r" b="b"/>
            <a:pathLst>
              <a:path fill="none" w="2806" h="2964">
                <a:moveTo>
                  <a:pt x="0" y="0"/>
                </a:moveTo>
                <a:lnTo>
                  <a:pt x="92" y="313"/>
                </a:lnTo>
                <a:lnTo>
                  <a:pt x="480" y="440"/>
                </a:lnTo>
                <a:lnTo>
                  <a:pt x="674" y="568"/>
                </a:lnTo>
                <a:lnTo>
                  <a:pt x="869" y="701"/>
                </a:lnTo>
                <a:lnTo>
                  <a:pt x="997" y="895"/>
                </a:lnTo>
                <a:lnTo>
                  <a:pt x="1125" y="1150"/>
                </a:lnTo>
                <a:lnTo>
                  <a:pt x="1125" y="1344"/>
                </a:lnTo>
                <a:lnTo>
                  <a:pt x="1319" y="1606"/>
                </a:lnTo>
                <a:lnTo>
                  <a:pt x="1319" y="1861"/>
                </a:lnTo>
                <a:lnTo>
                  <a:pt x="1319" y="2055"/>
                </a:lnTo>
                <a:lnTo>
                  <a:pt x="1707" y="2183"/>
                </a:lnTo>
                <a:lnTo>
                  <a:pt x="2095" y="2311"/>
                </a:lnTo>
                <a:lnTo>
                  <a:pt x="2740" y="2443"/>
                </a:lnTo>
                <a:lnTo>
                  <a:pt x="2753" y="2964"/>
                </a:lnTo>
                <a:lnTo>
                  <a:pt x="2806" y="2832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08080" y="3341520"/>
            <a:ext cx="60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46240" y="337176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50920" y="2063880"/>
            <a:ext cx="604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89080" y="21160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65160" y="1523880"/>
            <a:ext cx="455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860480" y="15098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30560" y="1611360"/>
            <a:ext cx="4762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1156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43680" y="1546200"/>
            <a:ext cx="56340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146640" y="15526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94480" y="1589040"/>
            <a:ext cx="43344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532640" y="1574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2840" y="303120"/>
            <a:ext cx="1392120" cy="1440000"/>
            <a:chOff x="42840" y="303120"/>
            <a:chExt cx="1392120" cy="1440000"/>
          </a:xfrm>
        </p:grpSpPr>
        <p:grpSp>
          <p:nvGrpSpPr>
            <p:cNvPr id="322" name=""/>
            <p:cNvGrpSpPr/>
            <p:nvPr/>
          </p:nvGrpSpPr>
          <p:grpSpPr>
            <a:xfrm>
              <a:off x="360360" y="587520"/>
              <a:ext cx="847800" cy="858960"/>
              <a:chOff x="360360" y="587520"/>
              <a:chExt cx="847800" cy="858960"/>
            </a:xfrm>
          </p:grpSpPr>
          <p:sp>
            <p:nvSpPr>
              <p:cNvPr id="323" name=""/>
              <p:cNvSpPr/>
              <p:nvPr/>
            </p:nvSpPr>
            <p:spPr>
              <a:xfrm>
                <a:off x="784080" y="609480"/>
                <a:ext cx="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2960" y="1014480"/>
                <a:ext cx="83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080" y="1014480"/>
                <a:ext cx="7632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81200" y="939960"/>
                <a:ext cx="745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8640" y="690480"/>
                <a:ext cx="649440" cy="64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7960" y="739800"/>
                <a:ext cx="550800" cy="54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709560" y="587520"/>
                <a:ext cx="150840" cy="426960"/>
                <a:chOff x="709560" y="587520"/>
                <a:chExt cx="150840" cy="426960"/>
              </a:xfrm>
            </p:grpSpPr>
            <p:sp>
              <p:nvSpPr>
                <p:cNvPr id="330" name=""/>
                <p:cNvSpPr/>
                <p:nvPr/>
              </p:nvSpPr>
              <p:spPr>
                <a:xfrm flipV="1">
                  <a:off x="784080" y="934920"/>
                  <a:ext cx="7632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9560" y="936720"/>
                  <a:ext cx="7776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712800" y="587520"/>
                  <a:ext cx="71280" cy="35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>
                  <a:off x="784080" y="590400"/>
                  <a:ext cx="74880" cy="34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60360" y="939960"/>
                <a:ext cx="426960" cy="149040"/>
                <a:chOff x="360360" y="939960"/>
                <a:chExt cx="426960" cy="149040"/>
              </a:xfrm>
            </p:grpSpPr>
            <p:sp>
              <p:nvSpPr>
                <p:cNvPr id="335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09560" y="939960"/>
                  <a:ext cx="7776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360360" y="942840"/>
                  <a:ext cx="3510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>
                  <a:off x="363600" y="1014480"/>
                  <a:ext cx="347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06320" y="1009800"/>
                <a:ext cx="149400" cy="426960"/>
                <a:chOff x="706320" y="1009800"/>
                <a:chExt cx="149400" cy="42696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706320" y="1014480"/>
                  <a:ext cx="7632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>
                  <a:off x="781200" y="1009800"/>
                  <a:ext cx="745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782640" y="1085760"/>
                  <a:ext cx="71280" cy="35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09560" y="1085760"/>
                  <a:ext cx="73080" cy="34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855720" y="942840"/>
                <a:ext cx="352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855720" y="1014480"/>
                <a:ext cx="347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200" y="1014480"/>
                <a:ext cx="416160" cy="73440"/>
              </a:xfrm>
              <a:custGeom>
                <a:avLst/>
                <a:gdLst/>
                <a:ahLst/>
                <a:rect l="0" t="0" r="r" b="b"/>
                <a:pathLst>
                  <a:path w="1156" h="204">
                    <a:moveTo>
                      <a:pt x="0" y="0"/>
                    </a:moveTo>
                    <a:lnTo>
                      <a:pt x="1156" y="0"/>
                    </a:lnTo>
                    <a:lnTo>
                      <a:pt x="198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4080" y="590400"/>
                <a:ext cx="74880" cy="424080"/>
              </a:xfrm>
              <a:custGeom>
                <a:avLst/>
                <a:gdLst/>
                <a:ahLst/>
                <a:rect l="0" t="0" r="r" b="b"/>
                <a:pathLst>
                  <a:path w="208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208" y="978"/>
                    </a:lnTo>
                    <a:lnTo>
                      <a:pt x="0" y="117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0360" y="942840"/>
                <a:ext cx="424080" cy="71640"/>
              </a:xfrm>
              <a:custGeom>
                <a:avLst/>
                <a:gdLst/>
                <a:ahLst/>
                <a:rect l="0" t="0" r="r" b="b"/>
                <a:pathLst>
                  <a:path w="1178" h="199">
                    <a:moveTo>
                      <a:pt x="1178" y="199"/>
                    </a:moveTo>
                    <a:lnTo>
                      <a:pt x="979" y="0"/>
                    </a:lnTo>
                    <a:lnTo>
                      <a:pt x="0" y="199"/>
                    </a:lnTo>
                    <a:lnTo>
                      <a:pt x="1178" y="19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2800" y="1014480"/>
                <a:ext cx="70200" cy="432000"/>
              </a:xfrm>
              <a:custGeom>
                <a:avLst/>
                <a:gdLst/>
                <a:ahLst/>
                <a:rect l="0" t="0" r="r" b="b"/>
                <a:pathLst>
                  <a:path w="195" h="1200">
                    <a:moveTo>
                      <a:pt x="195" y="0"/>
                    </a:moveTo>
                    <a:lnTo>
                      <a:pt x="0" y="199"/>
                    </a:lnTo>
                    <a:lnTo>
                      <a:pt x="195" y="120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0360" y="1011240"/>
                <a:ext cx="424080" cy="74880"/>
              </a:xfrm>
              <a:custGeom>
                <a:avLst/>
                <a:gdLst/>
                <a:ahLst/>
                <a:rect l="0" t="0" r="r" b="b"/>
                <a:pathLst>
                  <a:path w="1178" h="208">
                    <a:moveTo>
                      <a:pt x="1178" y="0"/>
                    </a:moveTo>
                    <a:lnTo>
                      <a:pt x="973" y="208"/>
                    </a:lnTo>
                    <a:lnTo>
                      <a:pt x="0" y="0"/>
                    </a:lnTo>
                    <a:lnTo>
                      <a:pt x="1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4080" y="942840"/>
                <a:ext cx="421200" cy="68760"/>
              </a:xfrm>
              <a:custGeom>
                <a:avLst/>
                <a:gdLst/>
                <a:ahLst/>
                <a:rect l="0" t="0" r="r" b="b"/>
                <a:pathLst>
                  <a:path w="1170" h="191">
                    <a:moveTo>
                      <a:pt x="0" y="191"/>
                    </a:moveTo>
                    <a:lnTo>
                      <a:pt x="193" y="0"/>
                    </a:lnTo>
                    <a:lnTo>
                      <a:pt x="117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1360" y="593640"/>
                <a:ext cx="71640" cy="417960"/>
              </a:xfrm>
              <a:custGeom>
                <a:avLst/>
                <a:gdLst/>
                <a:ahLst/>
                <a:rect l="0" t="0" r="r" b="b"/>
                <a:pathLst>
                  <a:path w="199" h="1161">
                    <a:moveTo>
                      <a:pt x="199" y="1161"/>
                    </a:moveTo>
                    <a:lnTo>
                      <a:pt x="0" y="962"/>
                    </a:lnTo>
                    <a:lnTo>
                      <a:pt x="195" y="0"/>
                    </a:lnTo>
                    <a:lnTo>
                      <a:pt x="199" y="116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2640" y="1014480"/>
                <a:ext cx="73440" cy="429120"/>
              </a:xfrm>
              <a:custGeom>
                <a:avLst/>
                <a:gdLst/>
                <a:ahLst/>
                <a:rect l="0" t="0" r="r" b="b"/>
                <a:pathLst>
                  <a:path w="204" h="1192">
                    <a:moveTo>
                      <a:pt x="4" y="0"/>
                    </a:moveTo>
                    <a:lnTo>
                      <a:pt x="204" y="198"/>
                    </a:lnTo>
                    <a:lnTo>
                      <a:pt x="0" y="119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 txBox="1"/>
            <p:nvPr/>
          </p:nvSpPr>
          <p:spPr>
            <a:xfrm>
              <a:off x="674640" y="303120"/>
              <a:ext cx="210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1233360" y="896760"/>
              <a:ext cx="20160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677880" y="14968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42840" y="914400"/>
              <a:ext cx="237960" cy="2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1038240" y="4363920"/>
            <a:ext cx="6991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n underground pipe has elevations of 80 fee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38 feet at its ends.  The compass bearing for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line is N 82   E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cross section view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show the True Length of the pipe and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slop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79400" y="2882880"/>
            <a:ext cx="1800" cy="133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2948040"/>
            <a:ext cx="1285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/>
  <dc:title>Vertical Sections</dc:title>
</cp:coreProperties>
</file>