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84.xml.rels" ContentType="application/vnd.openxmlformats-package.relationships+xml"/>
  <Override PartName="/ppt/slides/_rels/slide161.xml.rels" ContentType="application/vnd.openxmlformats-package.relationships+xml"/>
  <Override PartName="/ppt/slides/_rels/slide117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45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123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49.xml.rels" ContentType="application/vnd.openxmlformats-package.relationships+xml"/>
  <Override PartName="/ppt/slides/_rels/slide195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0.xml.rels" ContentType="application/vnd.openxmlformats-package.relationships+xml"/>
  <Override PartName="/ppt/slides/_rels/slide156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3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3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208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210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211.xml" ContentType="application/vnd.openxmlformats-officedocument.presentationml.slide+xml"/>
  <Override PartName="/ppt/slides/slide212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30.xml" ContentType="application/vnd.openxmlformats-officedocument.presentationml.slide+xml"/>
  <Override PartName="/ppt/slides/slide214.xml" ContentType="application/vnd.openxmlformats-officedocument.presentationml.slide+xml"/>
  <Override PartName="/ppt/slides/slide2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15.xml" ContentType="application/vnd.openxmlformats-officedocument.presentationml.slide+xml"/>
  <Override PartName="/ppt/slides/slide216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51.xml" ContentType="application/vnd.openxmlformats-officedocument.presentationml.slide+xml"/>
  <Override PartName="/ppt/slides/slide158.xml" ContentType="application/vnd.openxmlformats-officedocument.presentationml.slide+xml"/>
  <Override PartName="/ppt/slides/slide207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159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66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1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212760" y="6392880"/>
            <a:ext cx="1650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41120" y="6319800"/>
            <a:ext cx="1827360" cy="45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120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tory Concep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09680" y="3092400"/>
            <a:ext cx="6324840" cy="0"/>
            <a:chOff x="2209680" y="3092400"/>
            <a:chExt cx="6324840" cy="0"/>
          </a:xfrm>
        </p:grpSpPr>
        <p:sp>
          <p:nvSpPr>
            <p:cNvPr id="62" name=""/>
            <p:cNvSpPr/>
            <p:nvPr/>
          </p:nvSpPr>
          <p:spPr>
            <a:xfrm>
              <a:off x="2209680" y="3092400"/>
              <a:ext cx="14479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86200" y="30924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30924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24480" y="3092400"/>
              <a:ext cx="15238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24760" y="30924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53080" y="3092400"/>
              <a:ext cx="152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0" y="3092400"/>
              <a:ext cx="1676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"/>
          <p:cNvSpPr txBox="1"/>
          <p:nvPr/>
        </p:nvSpPr>
        <p:spPr>
          <a:xfrm>
            <a:off x="606600" y="789120"/>
            <a:ext cx="2033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d with in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tical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7" name=""/>
          <p:cNvSpPr txBox="1"/>
          <p:nvPr/>
        </p:nvSpPr>
        <p:spPr>
          <a:xfrm>
            <a:off x="6246720" y="5075280"/>
            <a:ext cx="2089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, or plan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8" name=""/>
          <p:cNvGrpSpPr/>
          <p:nvPr/>
        </p:nvGrpSpPr>
        <p:grpSpPr>
          <a:xfrm>
            <a:off x="2077920" y="1063800"/>
            <a:ext cx="4605480" cy="4624200"/>
            <a:chOff x="2077920" y="1063800"/>
            <a:chExt cx="4605480" cy="4624200"/>
          </a:xfrm>
        </p:grpSpPr>
        <p:sp>
          <p:nvSpPr>
            <p:cNvPr id="4659" name=""/>
            <p:cNvSpPr/>
            <p:nvPr/>
          </p:nvSpPr>
          <p:spPr>
            <a:xfrm>
              <a:off x="4413240" y="1063800"/>
              <a:ext cx="0" cy="209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413240" y="331776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413240" y="3664080"/>
              <a:ext cx="0" cy="202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2077920" y="3386160"/>
              <a:ext cx="2108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322880" y="3386160"/>
              <a:ext cx="203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664160" y="3387600"/>
              <a:ext cx="201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135320" y="3105000"/>
              <a:ext cx="566640" cy="566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205160" y="3170160"/>
              <a:ext cx="430200" cy="430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590920" y="1539720"/>
              <a:ext cx="3686040" cy="3700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2422440" y="1386000"/>
              <a:ext cx="4008600" cy="400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69" name=""/>
            <p:cNvGrpSpPr/>
            <p:nvPr/>
          </p:nvGrpSpPr>
          <p:grpSpPr>
            <a:xfrm>
              <a:off x="2682720" y="1631880"/>
              <a:ext cx="3487680" cy="3517920"/>
              <a:chOff x="2682720" y="1631880"/>
              <a:chExt cx="3487680" cy="3517920"/>
            </a:xfrm>
          </p:grpSpPr>
          <p:sp>
            <p:nvSpPr>
              <p:cNvPr id="4670" name=""/>
              <p:cNvSpPr/>
              <p:nvPr/>
            </p:nvSpPr>
            <p:spPr>
              <a:xfrm>
                <a:off x="2728800" y="1677960"/>
                <a:ext cx="3395520" cy="34257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2682720" y="1631880"/>
                <a:ext cx="3487680" cy="3517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2" name=""/>
          <p:cNvGrpSpPr/>
          <p:nvPr/>
        </p:nvGrpSpPr>
        <p:grpSpPr>
          <a:xfrm>
            <a:off x="2077920" y="1063800"/>
            <a:ext cx="4605480" cy="4624200"/>
            <a:chOff x="2077920" y="1063800"/>
            <a:chExt cx="4605480" cy="4624200"/>
          </a:xfrm>
        </p:grpSpPr>
        <p:sp>
          <p:nvSpPr>
            <p:cNvPr id="4673" name=""/>
            <p:cNvSpPr/>
            <p:nvPr/>
          </p:nvSpPr>
          <p:spPr>
            <a:xfrm>
              <a:off x="4413240" y="1093680"/>
              <a:ext cx="0" cy="2063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413240" y="331632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413240" y="36576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077920" y="3382920"/>
              <a:ext cx="2108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322880" y="3382920"/>
              <a:ext cx="203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664160" y="3384720"/>
              <a:ext cx="201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413240" y="1063800"/>
              <a:ext cx="0" cy="209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413240" y="331776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413240" y="3664080"/>
              <a:ext cx="0" cy="202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077920" y="3386160"/>
              <a:ext cx="2108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322880" y="3386160"/>
              <a:ext cx="203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664160" y="3387600"/>
              <a:ext cx="2019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135320" y="3105000"/>
              <a:ext cx="566640" cy="566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205160" y="3170160"/>
              <a:ext cx="430200" cy="430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2590920" y="1539720"/>
              <a:ext cx="3686040" cy="3700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2422440" y="1386000"/>
              <a:ext cx="4008600" cy="400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9" name=""/>
            <p:cNvGrpSpPr/>
            <p:nvPr/>
          </p:nvGrpSpPr>
          <p:grpSpPr>
            <a:xfrm>
              <a:off x="2682720" y="1631880"/>
              <a:ext cx="3487680" cy="3517920"/>
              <a:chOff x="2682720" y="1631880"/>
              <a:chExt cx="3487680" cy="3517920"/>
            </a:xfrm>
          </p:grpSpPr>
          <p:sp>
            <p:nvSpPr>
              <p:cNvPr id="4690" name=""/>
              <p:cNvSpPr/>
              <p:nvPr/>
            </p:nvSpPr>
            <p:spPr>
              <a:xfrm>
                <a:off x="2728800" y="1677960"/>
                <a:ext cx="3395520" cy="34257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2682720" y="1631880"/>
                <a:ext cx="3487680" cy="3517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2" name=""/>
          <p:cNvSpPr txBox="1"/>
          <p:nvPr/>
        </p:nvSpPr>
        <p:spPr>
          <a:xfrm>
            <a:off x="5929200" y="4892760"/>
            <a:ext cx="29988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del of the l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accidentally droppe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ing out a sma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"/>
          <p:cNvSpPr/>
          <p:nvPr/>
        </p:nvSpPr>
        <p:spPr>
          <a:xfrm>
            <a:off x="4413240" y="1093680"/>
            <a:ext cx="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>
            <a:off x="4413240" y="3316320"/>
            <a:ext cx="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4413240" y="3657600"/>
            <a:ext cx="0" cy="1995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2077920" y="3382920"/>
            <a:ext cx="210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4322880" y="3382920"/>
            <a:ext cx="20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4664160" y="338472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5565600" y="3384720"/>
            <a:ext cx="267120" cy="1429200"/>
          </a:xfrm>
          <a:custGeom>
            <a:avLst/>
            <a:gdLst/>
            <a:ahLst/>
            <a:rect l="0" t="0" r="r" b="b"/>
            <a:pathLst>
              <a:path fill="none" w="742" h="3970">
                <a:moveTo>
                  <a:pt x="247" y="0"/>
                </a:moveTo>
                <a:lnTo>
                  <a:pt x="203" y="185"/>
                </a:lnTo>
                <a:lnTo>
                  <a:pt x="292" y="388"/>
                </a:lnTo>
                <a:lnTo>
                  <a:pt x="230" y="520"/>
                </a:lnTo>
                <a:lnTo>
                  <a:pt x="88" y="714"/>
                </a:lnTo>
                <a:lnTo>
                  <a:pt x="0" y="934"/>
                </a:lnTo>
                <a:lnTo>
                  <a:pt x="88" y="1076"/>
                </a:lnTo>
                <a:lnTo>
                  <a:pt x="167" y="1244"/>
                </a:lnTo>
                <a:lnTo>
                  <a:pt x="136" y="1447"/>
                </a:lnTo>
                <a:lnTo>
                  <a:pt x="199" y="1637"/>
                </a:lnTo>
                <a:lnTo>
                  <a:pt x="199" y="1826"/>
                </a:lnTo>
                <a:lnTo>
                  <a:pt x="199" y="2016"/>
                </a:lnTo>
                <a:lnTo>
                  <a:pt x="199" y="2267"/>
                </a:lnTo>
                <a:lnTo>
                  <a:pt x="199" y="2457"/>
                </a:lnTo>
                <a:lnTo>
                  <a:pt x="389" y="2642"/>
                </a:lnTo>
                <a:lnTo>
                  <a:pt x="455" y="2832"/>
                </a:lnTo>
                <a:lnTo>
                  <a:pt x="362" y="3027"/>
                </a:lnTo>
                <a:lnTo>
                  <a:pt x="380" y="3476"/>
                </a:lnTo>
                <a:lnTo>
                  <a:pt x="389" y="3688"/>
                </a:lnTo>
                <a:lnTo>
                  <a:pt x="742" y="397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4413240" y="1063800"/>
            <a:ext cx="0" cy="209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4413240" y="3317760"/>
            <a:ext cx="0" cy="16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4413240" y="3664080"/>
            <a:ext cx="0" cy="2023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2077920" y="3386160"/>
            <a:ext cx="210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4322880" y="3386160"/>
            <a:ext cx="20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4664160" y="338760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4135320" y="3105000"/>
            <a:ext cx="566640" cy="5666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4205160" y="3170160"/>
            <a:ext cx="430200" cy="430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2590920" y="1539720"/>
            <a:ext cx="3686040" cy="3700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2422440" y="1386000"/>
            <a:ext cx="4008600" cy="400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0" name=""/>
          <p:cNvGrpSpPr/>
          <p:nvPr/>
        </p:nvGrpSpPr>
        <p:grpSpPr>
          <a:xfrm>
            <a:off x="2682720" y="1631880"/>
            <a:ext cx="3487680" cy="3517920"/>
            <a:chOff x="2682720" y="1631880"/>
            <a:chExt cx="3487680" cy="3517920"/>
          </a:xfrm>
        </p:grpSpPr>
        <p:sp>
          <p:nvSpPr>
            <p:cNvPr id="4711" name=""/>
            <p:cNvSpPr/>
            <p:nvPr/>
          </p:nvSpPr>
          <p:spPr>
            <a:xfrm>
              <a:off x="2728800" y="1677960"/>
              <a:ext cx="3395520" cy="3425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2682720" y="1631880"/>
              <a:ext cx="3487680" cy="3517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3" name=""/>
          <p:cNvSpPr txBox="1"/>
          <p:nvPr/>
        </p:nvSpPr>
        <p:spPr>
          <a:xfrm>
            <a:off x="5929200" y="4892760"/>
            <a:ext cx="29988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del of the l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accidentally droppe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ing out a sma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"/>
          <p:cNvSpPr/>
          <p:nvPr/>
        </p:nvSpPr>
        <p:spPr>
          <a:xfrm>
            <a:off x="4413240" y="1093680"/>
            <a:ext cx="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4413240" y="3316320"/>
            <a:ext cx="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4413240" y="3657600"/>
            <a:ext cx="0" cy="1995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2077920" y="3382920"/>
            <a:ext cx="210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>
            <a:off x="4322880" y="3382920"/>
            <a:ext cx="20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4664160" y="338472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4413240" y="1063800"/>
            <a:ext cx="0" cy="209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4413240" y="3317760"/>
            <a:ext cx="0" cy="16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4413240" y="3664080"/>
            <a:ext cx="0" cy="2023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2077920" y="3386160"/>
            <a:ext cx="210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4322880" y="3386160"/>
            <a:ext cx="20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4664160" y="338760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4135320" y="3105000"/>
            <a:ext cx="566640" cy="5666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>
            <a:off x="4205160" y="3170160"/>
            <a:ext cx="430200" cy="430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2590920" y="1539720"/>
            <a:ext cx="3686040" cy="3700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2422440" y="1386000"/>
            <a:ext cx="4008600" cy="400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0" name=""/>
          <p:cNvGrpSpPr/>
          <p:nvPr/>
        </p:nvGrpSpPr>
        <p:grpSpPr>
          <a:xfrm>
            <a:off x="2682720" y="1631880"/>
            <a:ext cx="3487680" cy="3517920"/>
            <a:chOff x="2682720" y="1631880"/>
            <a:chExt cx="3487680" cy="3517920"/>
          </a:xfrm>
        </p:grpSpPr>
        <p:sp>
          <p:nvSpPr>
            <p:cNvPr id="4731" name=""/>
            <p:cNvSpPr/>
            <p:nvPr/>
          </p:nvSpPr>
          <p:spPr>
            <a:xfrm>
              <a:off x="2728800" y="1677960"/>
              <a:ext cx="3395520" cy="3425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2682720" y="1631880"/>
              <a:ext cx="3487680" cy="3517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3" name=""/>
          <p:cNvSpPr/>
          <p:nvPr/>
        </p:nvSpPr>
        <p:spPr>
          <a:xfrm>
            <a:off x="5705640" y="3400560"/>
            <a:ext cx="805320" cy="1410120"/>
          </a:xfrm>
          <a:custGeom>
            <a:avLst/>
            <a:gdLst/>
            <a:ahLst/>
            <a:rect l="0" t="0" r="r" b="b"/>
            <a:pathLst>
              <a:path w="2237" h="3917">
                <a:moveTo>
                  <a:pt x="900" y="0"/>
                </a:moveTo>
                <a:lnTo>
                  <a:pt x="2237" y="0"/>
                </a:lnTo>
                <a:lnTo>
                  <a:pt x="2237" y="2466"/>
                </a:lnTo>
                <a:lnTo>
                  <a:pt x="1072" y="3627"/>
                </a:lnTo>
                <a:lnTo>
                  <a:pt x="396" y="3917"/>
                </a:lnTo>
                <a:lnTo>
                  <a:pt x="35" y="3640"/>
                </a:lnTo>
                <a:lnTo>
                  <a:pt x="0" y="3095"/>
                </a:lnTo>
                <a:lnTo>
                  <a:pt x="119" y="2844"/>
                </a:lnTo>
                <a:lnTo>
                  <a:pt x="90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>
            <a:off x="5565600" y="3384720"/>
            <a:ext cx="267120" cy="1429200"/>
          </a:xfrm>
          <a:custGeom>
            <a:avLst/>
            <a:gdLst/>
            <a:ahLst/>
            <a:rect l="0" t="0" r="r" b="b"/>
            <a:pathLst>
              <a:path fill="none" w="742" h="3970">
                <a:moveTo>
                  <a:pt x="247" y="0"/>
                </a:moveTo>
                <a:lnTo>
                  <a:pt x="203" y="185"/>
                </a:lnTo>
                <a:lnTo>
                  <a:pt x="292" y="388"/>
                </a:lnTo>
                <a:lnTo>
                  <a:pt x="230" y="520"/>
                </a:lnTo>
                <a:lnTo>
                  <a:pt x="88" y="714"/>
                </a:lnTo>
                <a:lnTo>
                  <a:pt x="0" y="934"/>
                </a:lnTo>
                <a:lnTo>
                  <a:pt x="88" y="1076"/>
                </a:lnTo>
                <a:lnTo>
                  <a:pt x="167" y="1244"/>
                </a:lnTo>
                <a:lnTo>
                  <a:pt x="136" y="1447"/>
                </a:lnTo>
                <a:lnTo>
                  <a:pt x="199" y="1637"/>
                </a:lnTo>
                <a:lnTo>
                  <a:pt x="199" y="1826"/>
                </a:lnTo>
                <a:lnTo>
                  <a:pt x="199" y="2016"/>
                </a:lnTo>
                <a:lnTo>
                  <a:pt x="199" y="2267"/>
                </a:lnTo>
                <a:lnTo>
                  <a:pt x="199" y="2457"/>
                </a:lnTo>
                <a:lnTo>
                  <a:pt x="389" y="2642"/>
                </a:lnTo>
                <a:lnTo>
                  <a:pt x="455" y="2832"/>
                </a:lnTo>
                <a:lnTo>
                  <a:pt x="362" y="3027"/>
                </a:lnTo>
                <a:lnTo>
                  <a:pt x="380" y="3476"/>
                </a:lnTo>
                <a:lnTo>
                  <a:pt x="389" y="3688"/>
                </a:lnTo>
                <a:lnTo>
                  <a:pt x="742" y="397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5" name=""/>
          <p:cNvSpPr/>
          <p:nvPr/>
        </p:nvSpPr>
        <p:spPr>
          <a:xfrm>
            <a:off x="1958760" y="2725560"/>
            <a:ext cx="2410200" cy="1008720"/>
          </a:xfrm>
          <a:custGeom>
            <a:avLst/>
            <a:gdLst/>
            <a:ahLst/>
            <a:rect l="0" t="0" r="r" b="b"/>
            <a:pathLst>
              <a:path fill="none" w="6695" h="2802">
                <a:moveTo>
                  <a:pt x="6695" y="0"/>
                </a:moveTo>
                <a:lnTo>
                  <a:pt x="6695" y="0"/>
                </a:lnTo>
                <a:lnTo>
                  <a:pt x="6695" y="0"/>
                </a:lnTo>
                <a:cubicBezTo>
                  <a:pt x="5056" y="0"/>
                  <a:pt x="3446" y="427"/>
                  <a:pt x="2026" y="1239"/>
                </a:cubicBezTo>
                <a:cubicBezTo>
                  <a:pt x="1281" y="1665"/>
                  <a:pt x="600" y="2191"/>
                  <a:pt x="0" y="280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6" name=""/>
          <p:cNvGrpSpPr/>
          <p:nvPr/>
        </p:nvGrpSpPr>
        <p:grpSpPr>
          <a:xfrm>
            <a:off x="1652400" y="2932200"/>
            <a:ext cx="5477400" cy="1352160"/>
            <a:chOff x="1652400" y="2932200"/>
            <a:chExt cx="5477400" cy="1352160"/>
          </a:xfrm>
        </p:grpSpPr>
        <p:sp>
          <p:nvSpPr>
            <p:cNvPr id="4737" name=""/>
            <p:cNvSpPr/>
            <p:nvPr/>
          </p:nvSpPr>
          <p:spPr>
            <a:xfrm>
              <a:off x="1652400" y="2932200"/>
              <a:ext cx="2715120" cy="1352160"/>
            </a:xfrm>
            <a:custGeom>
              <a:avLst/>
              <a:gdLst/>
              <a:ahLst/>
              <a:rect l="0" t="0" r="r" b="b"/>
              <a:pathLst>
                <a:path fill="none" w="7542" h="3756">
                  <a:moveTo>
                    <a:pt x="7542" y="0"/>
                  </a:moveTo>
                  <a:lnTo>
                    <a:pt x="7542" y="0"/>
                  </a:lnTo>
                  <a:cubicBezTo>
                    <a:pt x="5883" y="0"/>
                    <a:pt x="4253" y="437"/>
                    <a:pt x="2816" y="1267"/>
                  </a:cubicBezTo>
                  <a:cubicBezTo>
                    <a:pt x="1720" y="1900"/>
                    <a:pt x="763" y="2746"/>
                    <a:pt x="0" y="3756"/>
                  </a:cubicBezTo>
                </a:path>
              </a:pathLst>
            </a:cu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414680" y="2932200"/>
              <a:ext cx="2715120" cy="1352160"/>
            </a:xfrm>
            <a:custGeom>
              <a:avLst/>
              <a:gdLst/>
              <a:ahLst/>
              <a:rect l="0" t="0" r="r" b="b"/>
              <a:pathLst>
                <a:path fill="none" w="7542" h="3756">
                  <a:moveTo>
                    <a:pt x="7542" y="3756"/>
                  </a:moveTo>
                  <a:lnTo>
                    <a:pt x="7542" y="3756"/>
                  </a:lnTo>
                  <a:cubicBezTo>
                    <a:pt x="6779" y="2746"/>
                    <a:pt x="5822" y="1900"/>
                    <a:pt x="4726" y="1267"/>
                  </a:cubicBezTo>
                  <a:cubicBezTo>
                    <a:pt x="3289" y="437"/>
                    <a:pt x="165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9" name=""/>
          <p:cNvSpPr/>
          <p:nvPr/>
        </p:nvSpPr>
        <p:spPr>
          <a:xfrm>
            <a:off x="4413240" y="2725560"/>
            <a:ext cx="2410200" cy="1008720"/>
          </a:xfrm>
          <a:custGeom>
            <a:avLst/>
            <a:gdLst/>
            <a:ahLst/>
            <a:rect l="0" t="0" r="r" b="b"/>
            <a:pathLst>
              <a:path fill="none" w="6695" h="2802">
                <a:moveTo>
                  <a:pt x="6695" y="2802"/>
                </a:moveTo>
                <a:lnTo>
                  <a:pt x="6695" y="2802"/>
                </a:lnTo>
                <a:cubicBezTo>
                  <a:pt x="6095" y="2191"/>
                  <a:pt x="5414" y="1665"/>
                  <a:pt x="4669" y="1239"/>
                </a:cubicBezTo>
                <a:cubicBezTo>
                  <a:pt x="3249" y="427"/>
                  <a:pt x="1639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>
            <a:off x="1782720" y="3836880"/>
            <a:ext cx="5556240" cy="11336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1589040" y="3411360"/>
            <a:ext cx="383040" cy="152640"/>
          </a:xfrm>
          <a:custGeom>
            <a:avLst/>
            <a:gdLst/>
            <a:ahLst/>
            <a:rect l="0" t="0" r="r" b="b"/>
            <a:pathLst>
              <a:path fill="none" w="1064" h="424">
                <a:moveTo>
                  <a:pt x="1064" y="0"/>
                </a:moveTo>
                <a:lnTo>
                  <a:pt x="1064" y="0"/>
                </a:lnTo>
                <a:lnTo>
                  <a:pt x="1063" y="0"/>
                </a:lnTo>
                <a:cubicBezTo>
                  <a:pt x="808" y="0"/>
                  <a:pt x="558" y="61"/>
                  <a:pt x="337" y="178"/>
                </a:cubicBezTo>
                <a:cubicBezTo>
                  <a:pt x="212" y="244"/>
                  <a:pt x="98" y="327"/>
                  <a:pt x="0" y="4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1587600" y="3873600"/>
            <a:ext cx="0" cy="14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 flipH="1">
            <a:off x="1282680" y="401940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>
            <a:off x="1282680" y="401328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>
            <a:off x="1282680" y="4102200"/>
            <a:ext cx="203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>
            <a:off x="1486080" y="410220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>
            <a:off x="1486080" y="4286160"/>
            <a:ext cx="288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4406760" y="344808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4406760" y="3581280"/>
            <a:ext cx="0" cy="978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6811920" y="3411360"/>
            <a:ext cx="383040" cy="152640"/>
          </a:xfrm>
          <a:custGeom>
            <a:avLst/>
            <a:gdLst/>
            <a:ahLst/>
            <a:rect l="0" t="0" r="r" b="b"/>
            <a:pathLst>
              <a:path fill="none" w="1064" h="424">
                <a:moveTo>
                  <a:pt x="1064" y="424"/>
                </a:moveTo>
                <a:lnTo>
                  <a:pt x="1064" y="424"/>
                </a:lnTo>
                <a:cubicBezTo>
                  <a:pt x="966" y="327"/>
                  <a:pt x="852" y="244"/>
                  <a:pt x="727" y="178"/>
                </a:cubicBezTo>
                <a:cubicBezTo>
                  <a:pt x="506" y="61"/>
                  <a:pt x="256" y="0"/>
                  <a:pt x="1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7194600" y="3873600"/>
            <a:ext cx="0" cy="14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>
            <a:off x="7194600" y="401940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7499520" y="401328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 flipH="1">
            <a:off x="7296120" y="4102200"/>
            <a:ext cx="203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7296120" y="410220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 flipH="1">
            <a:off x="4406760" y="4286160"/>
            <a:ext cx="2889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1587600" y="3886200"/>
            <a:ext cx="5600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1587600" y="4025880"/>
            <a:ext cx="5626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1486080" y="4102200"/>
            <a:ext cx="581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0" name=""/>
          <p:cNvGrpSpPr/>
          <p:nvPr/>
        </p:nvGrpSpPr>
        <p:grpSpPr>
          <a:xfrm>
            <a:off x="4043520" y="2138400"/>
            <a:ext cx="707760" cy="585720"/>
            <a:chOff x="4043520" y="2138400"/>
            <a:chExt cx="707760" cy="585720"/>
          </a:xfrm>
        </p:grpSpPr>
        <p:sp>
          <p:nvSpPr>
            <p:cNvPr id="4761" name=""/>
            <p:cNvSpPr/>
            <p:nvPr/>
          </p:nvSpPr>
          <p:spPr>
            <a:xfrm>
              <a:off x="4044240" y="2243160"/>
              <a:ext cx="199440" cy="475200"/>
            </a:xfrm>
            <a:custGeom>
              <a:avLst/>
              <a:gdLst/>
              <a:ahLst/>
              <a:rect l="0" t="0" r="r" b="b"/>
              <a:pathLst>
                <a:path fill="none" w="554" h="1320">
                  <a:moveTo>
                    <a:pt x="554" y="1320"/>
                  </a:moveTo>
                  <a:lnTo>
                    <a:pt x="554" y="1320"/>
                  </a:lnTo>
                  <a:cubicBezTo>
                    <a:pt x="552" y="1062"/>
                    <a:pt x="504" y="810"/>
                    <a:pt x="417" y="586"/>
                  </a:cubicBezTo>
                  <a:cubicBezTo>
                    <a:pt x="327" y="357"/>
                    <a:pt x="197" y="166"/>
                    <a:pt x="42" y="34"/>
                  </a:cubicBezTo>
                  <a:cubicBezTo>
                    <a:pt x="28" y="22"/>
                    <a:pt x="14" y="11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573440" y="2244240"/>
              <a:ext cx="171000" cy="478440"/>
            </a:xfrm>
            <a:custGeom>
              <a:avLst/>
              <a:gdLst/>
              <a:ahLst/>
              <a:rect l="0" t="0" r="r" b="b"/>
              <a:pathLst>
                <a:path fill="none" w="475" h="1329">
                  <a:moveTo>
                    <a:pt x="475" y="0"/>
                  </a:moveTo>
                  <a:lnTo>
                    <a:pt x="475" y="0"/>
                  </a:lnTo>
                  <a:cubicBezTo>
                    <a:pt x="470" y="5"/>
                    <a:pt x="465" y="10"/>
                    <a:pt x="459" y="14"/>
                  </a:cubicBezTo>
                  <a:cubicBezTo>
                    <a:pt x="320" y="148"/>
                    <a:pt x="204" y="339"/>
                    <a:pt x="123" y="570"/>
                  </a:cubicBezTo>
                  <a:cubicBezTo>
                    <a:pt x="42" y="800"/>
                    <a:pt x="0" y="1062"/>
                    <a:pt x="0" y="1328"/>
                  </a:cubicBezTo>
                  <a:cubicBezTo>
                    <a:pt x="0" y="1329"/>
                    <a:pt x="0" y="1329"/>
                    <a:pt x="0" y="132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237200" y="2724120"/>
              <a:ext cx="34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043520" y="2239920"/>
              <a:ext cx="701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 flipV="1">
              <a:off x="4046400" y="2138400"/>
              <a:ext cx="10188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145040" y="2138400"/>
              <a:ext cx="50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649760" y="2138400"/>
              <a:ext cx="10152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8" name=""/>
          <p:cNvSpPr/>
          <p:nvPr/>
        </p:nvSpPr>
        <p:spPr>
          <a:xfrm>
            <a:off x="4406760" y="1841400"/>
            <a:ext cx="0" cy="15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5753160" y="3327480"/>
            <a:ext cx="572040" cy="959040"/>
          </a:xfrm>
          <a:custGeom>
            <a:avLst/>
            <a:gdLst/>
            <a:ahLst/>
            <a:rect l="0" t="0" r="r" b="b"/>
            <a:pathLst>
              <a:path fill="none" w="1589" h="2664">
                <a:moveTo>
                  <a:pt x="1589" y="0"/>
                </a:moveTo>
                <a:lnTo>
                  <a:pt x="1483" y="0"/>
                </a:lnTo>
                <a:lnTo>
                  <a:pt x="1377" y="0"/>
                </a:lnTo>
                <a:lnTo>
                  <a:pt x="1272" y="35"/>
                </a:lnTo>
                <a:lnTo>
                  <a:pt x="1165" y="35"/>
                </a:lnTo>
                <a:lnTo>
                  <a:pt x="1094" y="141"/>
                </a:lnTo>
                <a:lnTo>
                  <a:pt x="988" y="211"/>
                </a:lnTo>
                <a:lnTo>
                  <a:pt x="953" y="317"/>
                </a:lnTo>
                <a:lnTo>
                  <a:pt x="882" y="423"/>
                </a:lnTo>
                <a:lnTo>
                  <a:pt x="777" y="493"/>
                </a:lnTo>
                <a:lnTo>
                  <a:pt x="671" y="599"/>
                </a:lnTo>
                <a:lnTo>
                  <a:pt x="565" y="670"/>
                </a:lnTo>
                <a:lnTo>
                  <a:pt x="459" y="740"/>
                </a:lnTo>
                <a:lnTo>
                  <a:pt x="352" y="811"/>
                </a:lnTo>
                <a:lnTo>
                  <a:pt x="282" y="917"/>
                </a:lnTo>
                <a:lnTo>
                  <a:pt x="246" y="1023"/>
                </a:lnTo>
                <a:lnTo>
                  <a:pt x="246" y="1128"/>
                </a:lnTo>
                <a:lnTo>
                  <a:pt x="246" y="1234"/>
                </a:lnTo>
                <a:lnTo>
                  <a:pt x="176" y="1341"/>
                </a:lnTo>
                <a:lnTo>
                  <a:pt x="70" y="1376"/>
                </a:lnTo>
                <a:lnTo>
                  <a:pt x="0" y="1482"/>
                </a:lnTo>
                <a:lnTo>
                  <a:pt x="0" y="1553"/>
                </a:lnTo>
                <a:lnTo>
                  <a:pt x="39" y="1632"/>
                </a:lnTo>
                <a:lnTo>
                  <a:pt x="114" y="1681"/>
                </a:lnTo>
                <a:lnTo>
                  <a:pt x="194" y="1791"/>
                </a:lnTo>
                <a:lnTo>
                  <a:pt x="339" y="1945"/>
                </a:lnTo>
                <a:lnTo>
                  <a:pt x="419" y="2051"/>
                </a:lnTo>
                <a:lnTo>
                  <a:pt x="477" y="2148"/>
                </a:lnTo>
                <a:lnTo>
                  <a:pt x="472" y="2227"/>
                </a:lnTo>
                <a:lnTo>
                  <a:pt x="472" y="2342"/>
                </a:lnTo>
                <a:lnTo>
                  <a:pt x="499" y="2518"/>
                </a:lnTo>
                <a:lnTo>
                  <a:pt x="583" y="266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0" name=""/>
          <p:cNvSpPr txBox="1"/>
          <p:nvPr/>
        </p:nvSpPr>
        <p:spPr>
          <a:xfrm>
            <a:off x="5160960" y="538200"/>
            <a:ext cx="37688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unately (as in 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ll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h cases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racture line traveled acr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d until it encountered 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plane.  Once encountere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er plane became the p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the break-lin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oll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1" name=""/>
          <p:cNvSpPr/>
          <p:nvPr/>
        </p:nvSpPr>
        <p:spPr>
          <a:xfrm>
            <a:off x="1958760" y="2725560"/>
            <a:ext cx="2410200" cy="1008720"/>
          </a:xfrm>
          <a:custGeom>
            <a:avLst/>
            <a:gdLst/>
            <a:ahLst/>
            <a:rect l="0" t="0" r="r" b="b"/>
            <a:pathLst>
              <a:path fill="none" w="6695" h="2802">
                <a:moveTo>
                  <a:pt x="6695" y="0"/>
                </a:moveTo>
                <a:lnTo>
                  <a:pt x="6695" y="0"/>
                </a:lnTo>
                <a:lnTo>
                  <a:pt x="6695" y="0"/>
                </a:lnTo>
                <a:cubicBezTo>
                  <a:pt x="5056" y="0"/>
                  <a:pt x="3446" y="427"/>
                  <a:pt x="2026" y="1239"/>
                </a:cubicBezTo>
                <a:cubicBezTo>
                  <a:pt x="1281" y="1665"/>
                  <a:pt x="600" y="2191"/>
                  <a:pt x="0" y="280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4406760" y="1841400"/>
            <a:ext cx="0" cy="15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1652400" y="2932200"/>
            <a:ext cx="2715120" cy="1352160"/>
          </a:xfrm>
          <a:custGeom>
            <a:avLst/>
            <a:gdLst/>
            <a:ahLst/>
            <a:rect l="0" t="0" r="r" b="b"/>
            <a:pathLst>
              <a:path fill="none" w="7542" h="3756">
                <a:moveTo>
                  <a:pt x="7542" y="0"/>
                </a:moveTo>
                <a:lnTo>
                  <a:pt x="7542" y="0"/>
                </a:lnTo>
                <a:cubicBezTo>
                  <a:pt x="5883" y="0"/>
                  <a:pt x="4253" y="437"/>
                  <a:pt x="2816" y="1267"/>
                </a:cubicBezTo>
                <a:cubicBezTo>
                  <a:pt x="1720" y="1900"/>
                  <a:pt x="763" y="2746"/>
                  <a:pt x="0" y="3756"/>
                </a:cubicBezTo>
              </a:path>
            </a:pathLst>
          </a:cu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4414680" y="2932200"/>
            <a:ext cx="1707840" cy="459720"/>
          </a:xfrm>
          <a:custGeom>
            <a:avLst/>
            <a:gdLst/>
            <a:ahLst/>
            <a:rect l="0" t="0" r="r" b="b"/>
            <a:pathLst>
              <a:path fill="none" w="4744" h="1277">
                <a:moveTo>
                  <a:pt x="4744" y="1277"/>
                </a:moveTo>
                <a:lnTo>
                  <a:pt x="4744" y="1277"/>
                </a:lnTo>
                <a:cubicBezTo>
                  <a:pt x="4738" y="1274"/>
                  <a:pt x="4733" y="1270"/>
                  <a:pt x="4727" y="1267"/>
                </a:cubicBezTo>
                <a:cubicBezTo>
                  <a:pt x="3290" y="437"/>
                  <a:pt x="1659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4413240" y="2725560"/>
            <a:ext cx="2410200" cy="1008720"/>
          </a:xfrm>
          <a:custGeom>
            <a:avLst/>
            <a:gdLst/>
            <a:ahLst/>
            <a:rect l="0" t="0" r="r" b="b"/>
            <a:pathLst>
              <a:path fill="none" w="6695" h="2802">
                <a:moveTo>
                  <a:pt x="6695" y="2802"/>
                </a:moveTo>
                <a:lnTo>
                  <a:pt x="6695" y="2802"/>
                </a:lnTo>
                <a:cubicBezTo>
                  <a:pt x="6095" y="2191"/>
                  <a:pt x="5414" y="1665"/>
                  <a:pt x="4669" y="1239"/>
                </a:cubicBezTo>
                <a:cubicBezTo>
                  <a:pt x="3249" y="427"/>
                  <a:pt x="1639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6128640" y="3402720"/>
            <a:ext cx="988560" cy="881280"/>
          </a:xfrm>
          <a:custGeom>
            <a:avLst/>
            <a:gdLst/>
            <a:ahLst/>
            <a:rect l="0" t="0" r="r" b="b"/>
            <a:pathLst>
              <a:path fill="none" w="2746" h="2448">
                <a:moveTo>
                  <a:pt x="2746" y="2448"/>
                </a:moveTo>
                <a:lnTo>
                  <a:pt x="2746" y="2448"/>
                </a:lnTo>
                <a:cubicBezTo>
                  <a:pt x="2000" y="1460"/>
                  <a:pt x="1067" y="62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1589040" y="3398760"/>
            <a:ext cx="383040" cy="152640"/>
          </a:xfrm>
          <a:custGeom>
            <a:avLst/>
            <a:gdLst/>
            <a:ahLst/>
            <a:rect l="0" t="0" r="r" b="b"/>
            <a:pathLst>
              <a:path fill="none" w="1064" h="424">
                <a:moveTo>
                  <a:pt x="1064" y="0"/>
                </a:moveTo>
                <a:lnTo>
                  <a:pt x="1064" y="0"/>
                </a:lnTo>
                <a:lnTo>
                  <a:pt x="1063" y="0"/>
                </a:lnTo>
                <a:cubicBezTo>
                  <a:pt x="808" y="0"/>
                  <a:pt x="558" y="61"/>
                  <a:pt x="337" y="178"/>
                </a:cubicBezTo>
                <a:cubicBezTo>
                  <a:pt x="212" y="244"/>
                  <a:pt x="98" y="327"/>
                  <a:pt x="0" y="4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1587600" y="3873600"/>
            <a:ext cx="0" cy="14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 flipH="1">
            <a:off x="1282680" y="401940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1282680" y="401328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1282680" y="4102200"/>
            <a:ext cx="203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1486080" y="410220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1486080" y="4286160"/>
            <a:ext cx="288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4406760" y="344808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4406760" y="3581280"/>
            <a:ext cx="0" cy="978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6811920" y="3398760"/>
            <a:ext cx="383040" cy="152640"/>
          </a:xfrm>
          <a:custGeom>
            <a:avLst/>
            <a:gdLst/>
            <a:ahLst/>
            <a:rect l="0" t="0" r="r" b="b"/>
            <a:pathLst>
              <a:path fill="none" w="1064" h="424">
                <a:moveTo>
                  <a:pt x="1064" y="424"/>
                </a:moveTo>
                <a:lnTo>
                  <a:pt x="1064" y="424"/>
                </a:lnTo>
                <a:cubicBezTo>
                  <a:pt x="966" y="327"/>
                  <a:pt x="852" y="244"/>
                  <a:pt x="727" y="178"/>
                </a:cubicBezTo>
                <a:cubicBezTo>
                  <a:pt x="506" y="61"/>
                  <a:pt x="256" y="0"/>
                  <a:pt x="1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7194600" y="3873600"/>
            <a:ext cx="648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7194600" y="400680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7499520" y="401328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 flipH="1">
            <a:off x="7296120" y="4102200"/>
            <a:ext cx="203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7296120" y="410220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 flipH="1">
            <a:off x="4406760" y="4286160"/>
            <a:ext cx="2889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1587600" y="3886200"/>
            <a:ext cx="4163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1587600" y="4013280"/>
            <a:ext cx="426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1486080" y="4102200"/>
            <a:ext cx="4433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6" name=""/>
          <p:cNvGrpSpPr/>
          <p:nvPr/>
        </p:nvGrpSpPr>
        <p:grpSpPr>
          <a:xfrm>
            <a:off x="4043520" y="2138400"/>
            <a:ext cx="707760" cy="585720"/>
            <a:chOff x="4043520" y="2138400"/>
            <a:chExt cx="707760" cy="585720"/>
          </a:xfrm>
        </p:grpSpPr>
        <p:sp>
          <p:nvSpPr>
            <p:cNvPr id="4797" name=""/>
            <p:cNvSpPr/>
            <p:nvPr/>
          </p:nvSpPr>
          <p:spPr>
            <a:xfrm>
              <a:off x="4044240" y="2243160"/>
              <a:ext cx="199440" cy="475200"/>
            </a:xfrm>
            <a:custGeom>
              <a:avLst/>
              <a:gdLst/>
              <a:ahLst/>
              <a:rect l="0" t="0" r="r" b="b"/>
              <a:pathLst>
                <a:path fill="none" w="554" h="1320">
                  <a:moveTo>
                    <a:pt x="554" y="1320"/>
                  </a:moveTo>
                  <a:lnTo>
                    <a:pt x="554" y="1320"/>
                  </a:lnTo>
                  <a:cubicBezTo>
                    <a:pt x="552" y="1062"/>
                    <a:pt x="504" y="810"/>
                    <a:pt x="417" y="586"/>
                  </a:cubicBezTo>
                  <a:cubicBezTo>
                    <a:pt x="327" y="357"/>
                    <a:pt x="197" y="166"/>
                    <a:pt x="42" y="34"/>
                  </a:cubicBezTo>
                  <a:cubicBezTo>
                    <a:pt x="28" y="22"/>
                    <a:pt x="14" y="11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573440" y="2244240"/>
              <a:ext cx="171000" cy="478440"/>
            </a:xfrm>
            <a:custGeom>
              <a:avLst/>
              <a:gdLst/>
              <a:ahLst/>
              <a:rect l="0" t="0" r="r" b="b"/>
              <a:pathLst>
                <a:path fill="none" w="475" h="1329">
                  <a:moveTo>
                    <a:pt x="475" y="0"/>
                  </a:moveTo>
                  <a:lnTo>
                    <a:pt x="475" y="0"/>
                  </a:lnTo>
                  <a:cubicBezTo>
                    <a:pt x="470" y="5"/>
                    <a:pt x="465" y="10"/>
                    <a:pt x="459" y="14"/>
                  </a:cubicBezTo>
                  <a:cubicBezTo>
                    <a:pt x="320" y="148"/>
                    <a:pt x="204" y="339"/>
                    <a:pt x="123" y="570"/>
                  </a:cubicBezTo>
                  <a:cubicBezTo>
                    <a:pt x="42" y="800"/>
                    <a:pt x="0" y="1062"/>
                    <a:pt x="0" y="1328"/>
                  </a:cubicBezTo>
                  <a:cubicBezTo>
                    <a:pt x="0" y="1329"/>
                    <a:pt x="0" y="1329"/>
                    <a:pt x="0" y="132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237200" y="2724120"/>
              <a:ext cx="34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043520" y="2239920"/>
              <a:ext cx="701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V="1">
              <a:off x="4046400" y="2138400"/>
              <a:ext cx="10188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145040" y="2138400"/>
              <a:ext cx="50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649760" y="2138400"/>
              <a:ext cx="10152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4" name=""/>
          <p:cNvSpPr txBox="1"/>
          <p:nvPr/>
        </p:nvSpPr>
        <p:spPr>
          <a:xfrm>
            <a:off x="1960560" y="727200"/>
            <a:ext cx="66880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broken-out part removed, and the break-li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ing the center plane to the edge of the part, it be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that the internal configuration can now be def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5753160" y="3327480"/>
            <a:ext cx="572040" cy="959040"/>
          </a:xfrm>
          <a:custGeom>
            <a:avLst/>
            <a:gdLst/>
            <a:ahLst/>
            <a:rect l="0" t="0" r="r" b="b"/>
            <a:pathLst>
              <a:path fill="none" w="1589" h="2664">
                <a:moveTo>
                  <a:pt x="1589" y="0"/>
                </a:moveTo>
                <a:lnTo>
                  <a:pt x="1483" y="0"/>
                </a:lnTo>
                <a:lnTo>
                  <a:pt x="1377" y="0"/>
                </a:lnTo>
                <a:lnTo>
                  <a:pt x="1272" y="35"/>
                </a:lnTo>
                <a:lnTo>
                  <a:pt x="1165" y="35"/>
                </a:lnTo>
                <a:lnTo>
                  <a:pt x="1094" y="141"/>
                </a:lnTo>
                <a:lnTo>
                  <a:pt x="988" y="211"/>
                </a:lnTo>
                <a:lnTo>
                  <a:pt x="953" y="317"/>
                </a:lnTo>
                <a:lnTo>
                  <a:pt x="882" y="423"/>
                </a:lnTo>
                <a:lnTo>
                  <a:pt x="777" y="493"/>
                </a:lnTo>
                <a:lnTo>
                  <a:pt x="671" y="599"/>
                </a:lnTo>
                <a:lnTo>
                  <a:pt x="565" y="670"/>
                </a:lnTo>
                <a:lnTo>
                  <a:pt x="459" y="740"/>
                </a:lnTo>
                <a:lnTo>
                  <a:pt x="352" y="811"/>
                </a:lnTo>
                <a:lnTo>
                  <a:pt x="282" y="917"/>
                </a:lnTo>
                <a:lnTo>
                  <a:pt x="246" y="1023"/>
                </a:lnTo>
                <a:lnTo>
                  <a:pt x="246" y="1128"/>
                </a:lnTo>
                <a:lnTo>
                  <a:pt x="246" y="1234"/>
                </a:lnTo>
                <a:lnTo>
                  <a:pt x="176" y="1341"/>
                </a:lnTo>
                <a:lnTo>
                  <a:pt x="70" y="1376"/>
                </a:lnTo>
                <a:lnTo>
                  <a:pt x="0" y="1482"/>
                </a:lnTo>
                <a:lnTo>
                  <a:pt x="0" y="1553"/>
                </a:lnTo>
                <a:lnTo>
                  <a:pt x="39" y="1632"/>
                </a:lnTo>
                <a:lnTo>
                  <a:pt x="114" y="1681"/>
                </a:lnTo>
                <a:lnTo>
                  <a:pt x="194" y="1791"/>
                </a:lnTo>
                <a:lnTo>
                  <a:pt x="339" y="1945"/>
                </a:lnTo>
                <a:lnTo>
                  <a:pt x="419" y="2051"/>
                </a:lnTo>
                <a:lnTo>
                  <a:pt x="477" y="2148"/>
                </a:lnTo>
                <a:lnTo>
                  <a:pt x="472" y="2227"/>
                </a:lnTo>
                <a:lnTo>
                  <a:pt x="472" y="2342"/>
                </a:lnTo>
                <a:lnTo>
                  <a:pt x="499" y="2518"/>
                </a:lnTo>
                <a:lnTo>
                  <a:pt x="583" y="266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"/>
          <p:cNvSpPr/>
          <p:nvPr/>
        </p:nvSpPr>
        <p:spPr>
          <a:xfrm>
            <a:off x="1652400" y="2932200"/>
            <a:ext cx="2715120" cy="1352160"/>
          </a:xfrm>
          <a:custGeom>
            <a:avLst/>
            <a:gdLst/>
            <a:ahLst/>
            <a:rect l="0" t="0" r="r" b="b"/>
            <a:pathLst>
              <a:path fill="none" w="7542" h="3756">
                <a:moveTo>
                  <a:pt x="7542" y="0"/>
                </a:moveTo>
                <a:lnTo>
                  <a:pt x="7542" y="0"/>
                </a:lnTo>
                <a:cubicBezTo>
                  <a:pt x="5883" y="0"/>
                  <a:pt x="4253" y="437"/>
                  <a:pt x="2816" y="1267"/>
                </a:cubicBezTo>
                <a:cubicBezTo>
                  <a:pt x="1720" y="1900"/>
                  <a:pt x="763" y="2746"/>
                  <a:pt x="0" y="3756"/>
                </a:cubicBezTo>
              </a:path>
            </a:pathLst>
          </a:cu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4414680" y="2932200"/>
            <a:ext cx="1707840" cy="459720"/>
          </a:xfrm>
          <a:custGeom>
            <a:avLst/>
            <a:gdLst/>
            <a:ahLst/>
            <a:rect l="0" t="0" r="r" b="b"/>
            <a:pathLst>
              <a:path fill="none" w="4744" h="1277">
                <a:moveTo>
                  <a:pt x="4744" y="1277"/>
                </a:moveTo>
                <a:lnTo>
                  <a:pt x="4744" y="1277"/>
                </a:lnTo>
                <a:cubicBezTo>
                  <a:pt x="4738" y="1274"/>
                  <a:pt x="4733" y="1270"/>
                  <a:pt x="4727" y="1267"/>
                </a:cubicBezTo>
                <a:cubicBezTo>
                  <a:pt x="3290" y="437"/>
                  <a:pt x="1659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6128640" y="3402720"/>
            <a:ext cx="988560" cy="881280"/>
          </a:xfrm>
          <a:custGeom>
            <a:avLst/>
            <a:gdLst/>
            <a:ahLst/>
            <a:rect l="0" t="0" r="r" b="b"/>
            <a:pathLst>
              <a:path fill="none" w="2746" h="2448">
                <a:moveTo>
                  <a:pt x="2746" y="2448"/>
                </a:moveTo>
                <a:lnTo>
                  <a:pt x="2746" y="2448"/>
                </a:lnTo>
                <a:cubicBezTo>
                  <a:pt x="2000" y="1460"/>
                  <a:pt x="1067" y="62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1958760" y="2725560"/>
            <a:ext cx="2410200" cy="1008720"/>
          </a:xfrm>
          <a:custGeom>
            <a:avLst/>
            <a:gdLst/>
            <a:ahLst/>
            <a:rect l="0" t="0" r="r" b="b"/>
            <a:pathLst>
              <a:path fill="none" w="6695" h="2802">
                <a:moveTo>
                  <a:pt x="6695" y="0"/>
                </a:moveTo>
                <a:lnTo>
                  <a:pt x="6695" y="0"/>
                </a:lnTo>
                <a:lnTo>
                  <a:pt x="6695" y="0"/>
                </a:lnTo>
                <a:cubicBezTo>
                  <a:pt x="5056" y="0"/>
                  <a:pt x="3446" y="427"/>
                  <a:pt x="2026" y="1239"/>
                </a:cubicBezTo>
                <a:cubicBezTo>
                  <a:pt x="1281" y="1665"/>
                  <a:pt x="600" y="2191"/>
                  <a:pt x="0" y="280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4413240" y="2725560"/>
            <a:ext cx="2410200" cy="1008720"/>
          </a:xfrm>
          <a:custGeom>
            <a:avLst/>
            <a:gdLst/>
            <a:ahLst/>
            <a:rect l="0" t="0" r="r" b="b"/>
            <a:pathLst>
              <a:path fill="none" w="6695" h="2802">
                <a:moveTo>
                  <a:pt x="6695" y="2802"/>
                </a:moveTo>
                <a:lnTo>
                  <a:pt x="6695" y="2802"/>
                </a:lnTo>
                <a:cubicBezTo>
                  <a:pt x="6095" y="2191"/>
                  <a:pt x="5414" y="1665"/>
                  <a:pt x="4669" y="1239"/>
                </a:cubicBezTo>
                <a:cubicBezTo>
                  <a:pt x="3249" y="427"/>
                  <a:pt x="1639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1589040" y="3398760"/>
            <a:ext cx="383040" cy="152640"/>
          </a:xfrm>
          <a:custGeom>
            <a:avLst/>
            <a:gdLst/>
            <a:ahLst/>
            <a:rect l="0" t="0" r="r" b="b"/>
            <a:pathLst>
              <a:path fill="none" w="1064" h="424">
                <a:moveTo>
                  <a:pt x="1064" y="0"/>
                </a:moveTo>
                <a:lnTo>
                  <a:pt x="1064" y="0"/>
                </a:lnTo>
                <a:lnTo>
                  <a:pt x="1063" y="0"/>
                </a:lnTo>
                <a:cubicBezTo>
                  <a:pt x="808" y="0"/>
                  <a:pt x="558" y="61"/>
                  <a:pt x="337" y="178"/>
                </a:cubicBezTo>
                <a:cubicBezTo>
                  <a:pt x="212" y="244"/>
                  <a:pt x="98" y="327"/>
                  <a:pt x="0" y="4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1587600" y="3873600"/>
            <a:ext cx="0" cy="14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 flipH="1">
            <a:off x="1282680" y="401940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4" name=""/>
          <p:cNvSpPr/>
          <p:nvPr/>
        </p:nvSpPr>
        <p:spPr>
          <a:xfrm>
            <a:off x="1282680" y="401328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5" name=""/>
          <p:cNvSpPr/>
          <p:nvPr/>
        </p:nvSpPr>
        <p:spPr>
          <a:xfrm>
            <a:off x="1282680" y="4102200"/>
            <a:ext cx="203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6" name=""/>
          <p:cNvSpPr/>
          <p:nvPr/>
        </p:nvSpPr>
        <p:spPr>
          <a:xfrm>
            <a:off x="1486080" y="410220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1486080" y="4286160"/>
            <a:ext cx="288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4406760" y="1841400"/>
            <a:ext cx="0" cy="15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4406760" y="344808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>
            <a:off x="4406760" y="3581280"/>
            <a:ext cx="0" cy="978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>
            <a:off x="6811920" y="3398760"/>
            <a:ext cx="383040" cy="152640"/>
          </a:xfrm>
          <a:custGeom>
            <a:avLst/>
            <a:gdLst/>
            <a:ahLst/>
            <a:rect l="0" t="0" r="r" b="b"/>
            <a:pathLst>
              <a:path fill="none" w="1064" h="424">
                <a:moveTo>
                  <a:pt x="1064" y="424"/>
                </a:moveTo>
                <a:lnTo>
                  <a:pt x="1064" y="424"/>
                </a:lnTo>
                <a:cubicBezTo>
                  <a:pt x="966" y="327"/>
                  <a:pt x="852" y="244"/>
                  <a:pt x="727" y="178"/>
                </a:cubicBezTo>
                <a:cubicBezTo>
                  <a:pt x="506" y="61"/>
                  <a:pt x="256" y="0"/>
                  <a:pt x="1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7194600" y="3873600"/>
            <a:ext cx="648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7194600" y="400680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>
            <a:off x="7499520" y="401328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 flipH="1">
            <a:off x="7296120" y="4102200"/>
            <a:ext cx="203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>
            <a:off x="7296120" y="410220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 flipH="1">
            <a:off x="4406760" y="4286160"/>
            <a:ext cx="2889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1587600" y="3886200"/>
            <a:ext cx="416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1587600" y="4013280"/>
            <a:ext cx="4270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1486080" y="4102200"/>
            <a:ext cx="4433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1" name=""/>
          <p:cNvGrpSpPr/>
          <p:nvPr/>
        </p:nvGrpSpPr>
        <p:grpSpPr>
          <a:xfrm>
            <a:off x="4043520" y="2138400"/>
            <a:ext cx="707760" cy="585720"/>
            <a:chOff x="4043520" y="2138400"/>
            <a:chExt cx="707760" cy="585720"/>
          </a:xfrm>
        </p:grpSpPr>
        <p:sp>
          <p:nvSpPr>
            <p:cNvPr id="4832" name=""/>
            <p:cNvSpPr/>
            <p:nvPr/>
          </p:nvSpPr>
          <p:spPr>
            <a:xfrm>
              <a:off x="4044240" y="2243160"/>
              <a:ext cx="199440" cy="475200"/>
            </a:xfrm>
            <a:custGeom>
              <a:avLst/>
              <a:gdLst/>
              <a:ahLst/>
              <a:rect l="0" t="0" r="r" b="b"/>
              <a:pathLst>
                <a:path fill="none" w="554" h="1320">
                  <a:moveTo>
                    <a:pt x="554" y="1320"/>
                  </a:moveTo>
                  <a:lnTo>
                    <a:pt x="554" y="1320"/>
                  </a:lnTo>
                  <a:cubicBezTo>
                    <a:pt x="552" y="1062"/>
                    <a:pt x="504" y="810"/>
                    <a:pt x="417" y="586"/>
                  </a:cubicBezTo>
                  <a:cubicBezTo>
                    <a:pt x="327" y="357"/>
                    <a:pt x="197" y="166"/>
                    <a:pt x="42" y="34"/>
                  </a:cubicBezTo>
                  <a:cubicBezTo>
                    <a:pt x="28" y="22"/>
                    <a:pt x="14" y="11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4573440" y="2244240"/>
              <a:ext cx="171000" cy="478440"/>
            </a:xfrm>
            <a:custGeom>
              <a:avLst/>
              <a:gdLst/>
              <a:ahLst/>
              <a:rect l="0" t="0" r="r" b="b"/>
              <a:pathLst>
                <a:path fill="none" w="475" h="1329">
                  <a:moveTo>
                    <a:pt x="475" y="0"/>
                  </a:moveTo>
                  <a:lnTo>
                    <a:pt x="475" y="0"/>
                  </a:lnTo>
                  <a:cubicBezTo>
                    <a:pt x="470" y="5"/>
                    <a:pt x="465" y="10"/>
                    <a:pt x="459" y="14"/>
                  </a:cubicBezTo>
                  <a:cubicBezTo>
                    <a:pt x="320" y="148"/>
                    <a:pt x="204" y="339"/>
                    <a:pt x="123" y="570"/>
                  </a:cubicBezTo>
                  <a:cubicBezTo>
                    <a:pt x="42" y="800"/>
                    <a:pt x="0" y="1062"/>
                    <a:pt x="0" y="1328"/>
                  </a:cubicBezTo>
                  <a:cubicBezTo>
                    <a:pt x="0" y="1329"/>
                    <a:pt x="0" y="1329"/>
                    <a:pt x="0" y="132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4237200" y="2724120"/>
              <a:ext cx="34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4043520" y="2239920"/>
              <a:ext cx="701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 flipV="1">
              <a:off x="4046400" y="2138400"/>
              <a:ext cx="10188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4145040" y="2138400"/>
              <a:ext cx="50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4649760" y="2138400"/>
              <a:ext cx="101520" cy="10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9" name=""/>
          <p:cNvSpPr/>
          <p:nvPr/>
        </p:nvSpPr>
        <p:spPr>
          <a:xfrm flipH="1">
            <a:off x="6200640" y="3333600"/>
            <a:ext cx="104760" cy="10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 flipH="1">
            <a:off x="6381720" y="3448080"/>
            <a:ext cx="114480" cy="11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 flipH="1">
            <a:off x="6553080" y="3581280"/>
            <a:ext cx="11448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2" name=""/>
          <p:cNvSpPr/>
          <p:nvPr/>
        </p:nvSpPr>
        <p:spPr>
          <a:xfrm flipH="1">
            <a:off x="6715080" y="3733920"/>
            <a:ext cx="104760" cy="10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3" name=""/>
          <p:cNvSpPr/>
          <p:nvPr/>
        </p:nvSpPr>
        <p:spPr>
          <a:xfrm flipH="1">
            <a:off x="6867360" y="3848040"/>
            <a:ext cx="14292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 flipH="1">
            <a:off x="7010280" y="3962520"/>
            <a:ext cx="19080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5" name=""/>
          <p:cNvSpPr/>
          <p:nvPr/>
        </p:nvSpPr>
        <p:spPr>
          <a:xfrm flipH="1">
            <a:off x="7182000" y="4172040"/>
            <a:ext cx="114120" cy="11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 flipV="1">
            <a:off x="7372440" y="4019400"/>
            <a:ext cx="85680" cy="8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7" name=""/>
          <p:cNvSpPr txBox="1"/>
          <p:nvPr/>
        </p:nvSpPr>
        <p:spPr>
          <a:xfrm>
            <a:off x="3881520" y="5029200"/>
            <a:ext cx="5002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pleted view (with crosshatch add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the internal shape in its true f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5753160" y="3327480"/>
            <a:ext cx="572040" cy="959040"/>
          </a:xfrm>
          <a:custGeom>
            <a:avLst/>
            <a:gdLst/>
            <a:ahLst/>
            <a:rect l="0" t="0" r="r" b="b"/>
            <a:pathLst>
              <a:path fill="none" w="1589" h="2664">
                <a:moveTo>
                  <a:pt x="1589" y="0"/>
                </a:moveTo>
                <a:lnTo>
                  <a:pt x="1483" y="0"/>
                </a:lnTo>
                <a:lnTo>
                  <a:pt x="1377" y="0"/>
                </a:lnTo>
                <a:lnTo>
                  <a:pt x="1272" y="35"/>
                </a:lnTo>
                <a:lnTo>
                  <a:pt x="1165" y="35"/>
                </a:lnTo>
                <a:lnTo>
                  <a:pt x="1094" y="141"/>
                </a:lnTo>
                <a:lnTo>
                  <a:pt x="988" y="211"/>
                </a:lnTo>
                <a:lnTo>
                  <a:pt x="953" y="317"/>
                </a:lnTo>
                <a:lnTo>
                  <a:pt x="882" y="423"/>
                </a:lnTo>
                <a:lnTo>
                  <a:pt x="777" y="493"/>
                </a:lnTo>
                <a:lnTo>
                  <a:pt x="671" y="599"/>
                </a:lnTo>
                <a:lnTo>
                  <a:pt x="565" y="670"/>
                </a:lnTo>
                <a:lnTo>
                  <a:pt x="459" y="740"/>
                </a:lnTo>
                <a:lnTo>
                  <a:pt x="352" y="811"/>
                </a:lnTo>
                <a:lnTo>
                  <a:pt x="282" y="917"/>
                </a:lnTo>
                <a:lnTo>
                  <a:pt x="246" y="1023"/>
                </a:lnTo>
                <a:lnTo>
                  <a:pt x="246" y="1128"/>
                </a:lnTo>
                <a:lnTo>
                  <a:pt x="246" y="1234"/>
                </a:lnTo>
                <a:lnTo>
                  <a:pt x="176" y="1341"/>
                </a:lnTo>
                <a:lnTo>
                  <a:pt x="70" y="1376"/>
                </a:lnTo>
                <a:lnTo>
                  <a:pt x="0" y="1482"/>
                </a:lnTo>
                <a:lnTo>
                  <a:pt x="0" y="1553"/>
                </a:lnTo>
                <a:lnTo>
                  <a:pt x="39" y="1632"/>
                </a:lnTo>
                <a:lnTo>
                  <a:pt x="114" y="1681"/>
                </a:lnTo>
                <a:lnTo>
                  <a:pt x="194" y="1791"/>
                </a:lnTo>
                <a:lnTo>
                  <a:pt x="339" y="1945"/>
                </a:lnTo>
                <a:lnTo>
                  <a:pt x="419" y="2051"/>
                </a:lnTo>
                <a:lnTo>
                  <a:pt x="477" y="2148"/>
                </a:lnTo>
                <a:lnTo>
                  <a:pt x="472" y="2227"/>
                </a:lnTo>
                <a:lnTo>
                  <a:pt x="472" y="2342"/>
                </a:lnTo>
                <a:lnTo>
                  <a:pt x="499" y="2518"/>
                </a:lnTo>
                <a:lnTo>
                  <a:pt x="583" y="266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RE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oken-o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ctions, the break line passes through the part until it encounters a center plane.  It will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way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nd one, and will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llow the center plan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edge of the pa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"/>
          <p:cNvSpPr txBox="1"/>
          <p:nvPr/>
        </p:nvSpPr>
        <p:spPr>
          <a:xfrm>
            <a:off x="625320" y="227016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xiliary / Partial Section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xiliary / Partial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views, drawn as auxiliary views, generally do not show all unrelated detai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only part of the geometry is included in an auxiliary section, it most often results in a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arti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ction vi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120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tory Concep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09680" y="3092400"/>
            <a:ext cx="6324840" cy="0"/>
            <a:chOff x="2209680" y="3092400"/>
            <a:chExt cx="6324840" cy="0"/>
          </a:xfrm>
        </p:grpSpPr>
        <p:sp>
          <p:nvSpPr>
            <p:cNvPr id="72" name=""/>
            <p:cNvSpPr/>
            <p:nvPr/>
          </p:nvSpPr>
          <p:spPr>
            <a:xfrm>
              <a:off x="2209680" y="3092400"/>
              <a:ext cx="14479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6200" y="30924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91120" y="30924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24480" y="3092400"/>
              <a:ext cx="15238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24760" y="30924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53080" y="3092400"/>
              <a:ext cx="152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3092400"/>
              <a:ext cx="1676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201760" y="3544920"/>
            <a:ext cx="6059520" cy="6480"/>
            <a:chOff x="2201760" y="3544920"/>
            <a:chExt cx="6059520" cy="6480"/>
          </a:xfrm>
        </p:grpSpPr>
        <p:sp>
          <p:nvSpPr>
            <p:cNvPr id="80" name=""/>
            <p:cNvSpPr/>
            <p:nvPr/>
          </p:nvSpPr>
          <p:spPr>
            <a:xfrm>
              <a:off x="2201760" y="354492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81160" y="3546360"/>
              <a:ext cx="605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354816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87840" y="354816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7240" y="354492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2880" y="354960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00840" y="354636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56480" y="355140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xiliary / Partial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4" name=""/>
          <p:cNvGrpSpPr/>
          <p:nvPr/>
        </p:nvGrpSpPr>
        <p:grpSpPr>
          <a:xfrm>
            <a:off x="3894120" y="1828800"/>
            <a:ext cx="3938760" cy="4438800"/>
            <a:chOff x="3894120" y="1828800"/>
            <a:chExt cx="3938760" cy="4438800"/>
          </a:xfrm>
        </p:grpSpPr>
        <p:sp>
          <p:nvSpPr>
            <p:cNvPr id="4855" name=""/>
            <p:cNvSpPr/>
            <p:nvPr/>
          </p:nvSpPr>
          <p:spPr>
            <a:xfrm flipH="1">
              <a:off x="3894120" y="4741920"/>
              <a:ext cx="231840" cy="231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125960" y="4741920"/>
              <a:ext cx="977760" cy="9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5103720" y="5719680"/>
              <a:ext cx="272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7829640" y="5719680"/>
              <a:ext cx="0" cy="330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H="1">
              <a:off x="4971960" y="6046920"/>
              <a:ext cx="286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 flipH="1" flipV="1">
              <a:off x="3895560" y="4971960"/>
              <a:ext cx="1076400" cy="1074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 flipV="1">
              <a:off x="4933800" y="48499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2" name=""/>
            <p:cNvGrpSpPr/>
            <p:nvPr/>
          </p:nvGrpSpPr>
          <p:grpSpPr>
            <a:xfrm>
              <a:off x="6777000" y="5548320"/>
              <a:ext cx="0" cy="719280"/>
              <a:chOff x="6777000" y="5548320"/>
              <a:chExt cx="0" cy="719280"/>
            </a:xfrm>
          </p:grpSpPr>
          <p:sp>
            <p:nvSpPr>
              <p:cNvPr id="4863" name=""/>
              <p:cNvSpPr/>
              <p:nvPr/>
            </p:nvSpPr>
            <p:spPr>
              <a:xfrm>
                <a:off x="6777000" y="5548320"/>
                <a:ext cx="0" cy="209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777000" y="5823000"/>
                <a:ext cx="0" cy="11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777000" y="5989680"/>
                <a:ext cx="0" cy="277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6" name=""/>
            <p:cNvSpPr/>
            <p:nvPr/>
          </p:nvSpPr>
          <p:spPr>
            <a:xfrm>
              <a:off x="6046920" y="57196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6046920" y="583236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6048360" y="5967360"/>
              <a:ext cx="0" cy="58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7507440" y="571968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7507440" y="595008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507440" y="58546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4781520" y="4695840"/>
              <a:ext cx="146160" cy="147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201200" y="4652280"/>
              <a:ext cx="250200" cy="250200"/>
            </a:xfrm>
            <a:custGeom>
              <a:avLst/>
              <a:gdLst/>
              <a:ahLst/>
              <a:rect l="0" t="0" r="r" b="b"/>
              <a:pathLst>
                <a:path fill="none" w="695" h="695">
                  <a:moveTo>
                    <a:pt x="0" y="695"/>
                  </a:moveTo>
                  <a:lnTo>
                    <a:pt x="0" y="695"/>
                  </a:lnTo>
                  <a:cubicBezTo>
                    <a:pt x="122" y="695"/>
                    <a:pt x="242" y="663"/>
                    <a:pt x="348" y="602"/>
                  </a:cubicBezTo>
                  <a:cubicBezTo>
                    <a:pt x="453" y="541"/>
                    <a:pt x="541" y="453"/>
                    <a:pt x="602" y="347"/>
                  </a:cubicBezTo>
                  <a:cubicBezTo>
                    <a:pt x="663" y="242"/>
                    <a:pt x="695" y="122"/>
                    <a:pt x="695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4983840" y="5419080"/>
              <a:ext cx="250200" cy="250200"/>
            </a:xfrm>
            <a:custGeom>
              <a:avLst/>
              <a:gdLst/>
              <a:ahLst/>
              <a:rect l="0" t="0" r="r" b="b"/>
              <a:pathLst>
                <a:path fill="none" w="695" h="695">
                  <a:moveTo>
                    <a:pt x="0" y="695"/>
                  </a:moveTo>
                  <a:lnTo>
                    <a:pt x="0" y="695"/>
                  </a:lnTo>
                  <a:cubicBezTo>
                    <a:pt x="122" y="695"/>
                    <a:pt x="242" y="663"/>
                    <a:pt x="348" y="602"/>
                  </a:cubicBezTo>
                  <a:cubicBezTo>
                    <a:pt x="453" y="541"/>
                    <a:pt x="541" y="453"/>
                    <a:pt x="602" y="347"/>
                  </a:cubicBezTo>
                  <a:cubicBezTo>
                    <a:pt x="663" y="242"/>
                    <a:pt x="695" y="122"/>
                    <a:pt x="695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 flipV="1">
              <a:off x="4491000" y="4184640"/>
              <a:ext cx="595440" cy="59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 flipV="1">
              <a:off x="5084640" y="4795920"/>
              <a:ext cx="617760" cy="61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5084640" y="4186080"/>
              <a:ext cx="614520" cy="614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 flipV="1">
              <a:off x="4319640" y="4984920"/>
              <a:ext cx="538200" cy="537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 flipV="1">
              <a:off x="5087880" y="4370400"/>
              <a:ext cx="401760" cy="40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 flipH="1">
              <a:off x="4260960" y="4336920"/>
              <a:ext cx="981000" cy="9795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 flipH="1">
              <a:off x="4530600" y="4624560"/>
              <a:ext cx="998640" cy="998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4768920" y="4684680"/>
              <a:ext cx="417600" cy="40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959360" y="4869000"/>
              <a:ext cx="57240" cy="56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5052960" y="495612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5846760" y="1892160"/>
              <a:ext cx="1982880" cy="1889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5864400" y="1895400"/>
              <a:ext cx="182880" cy="1879920"/>
            </a:xfrm>
            <a:custGeom>
              <a:avLst/>
              <a:gdLst/>
              <a:ahLst/>
              <a:rect l="0" t="0" r="r" b="b"/>
              <a:pathLst>
                <a:path fill="none" w="508" h="5222">
                  <a:moveTo>
                    <a:pt x="0" y="0"/>
                  </a:moveTo>
                  <a:lnTo>
                    <a:pt x="8" y="105"/>
                  </a:lnTo>
                  <a:lnTo>
                    <a:pt x="44" y="255"/>
                  </a:lnTo>
                  <a:lnTo>
                    <a:pt x="79" y="374"/>
                  </a:lnTo>
                  <a:lnTo>
                    <a:pt x="123" y="502"/>
                  </a:lnTo>
                  <a:lnTo>
                    <a:pt x="167" y="630"/>
                  </a:lnTo>
                  <a:lnTo>
                    <a:pt x="167" y="758"/>
                  </a:lnTo>
                  <a:lnTo>
                    <a:pt x="123" y="974"/>
                  </a:lnTo>
                  <a:lnTo>
                    <a:pt x="123" y="1102"/>
                  </a:lnTo>
                  <a:lnTo>
                    <a:pt x="123" y="1314"/>
                  </a:lnTo>
                  <a:lnTo>
                    <a:pt x="167" y="1486"/>
                  </a:lnTo>
                  <a:lnTo>
                    <a:pt x="207" y="1613"/>
                  </a:lnTo>
                  <a:lnTo>
                    <a:pt x="251" y="1825"/>
                  </a:lnTo>
                  <a:lnTo>
                    <a:pt x="251" y="1997"/>
                  </a:lnTo>
                  <a:lnTo>
                    <a:pt x="296" y="2125"/>
                  </a:lnTo>
                  <a:lnTo>
                    <a:pt x="296" y="2253"/>
                  </a:lnTo>
                  <a:lnTo>
                    <a:pt x="336" y="2381"/>
                  </a:lnTo>
                  <a:lnTo>
                    <a:pt x="380" y="2509"/>
                  </a:lnTo>
                  <a:lnTo>
                    <a:pt x="424" y="2638"/>
                  </a:lnTo>
                  <a:lnTo>
                    <a:pt x="464" y="2765"/>
                  </a:lnTo>
                  <a:lnTo>
                    <a:pt x="464" y="2893"/>
                  </a:lnTo>
                  <a:lnTo>
                    <a:pt x="464" y="3021"/>
                  </a:lnTo>
                  <a:lnTo>
                    <a:pt x="464" y="3149"/>
                  </a:lnTo>
                  <a:lnTo>
                    <a:pt x="424" y="3277"/>
                  </a:lnTo>
                  <a:lnTo>
                    <a:pt x="380" y="3405"/>
                  </a:lnTo>
                  <a:lnTo>
                    <a:pt x="380" y="3577"/>
                  </a:lnTo>
                  <a:lnTo>
                    <a:pt x="336" y="3705"/>
                  </a:lnTo>
                  <a:lnTo>
                    <a:pt x="336" y="3833"/>
                  </a:lnTo>
                  <a:lnTo>
                    <a:pt x="336" y="3960"/>
                  </a:lnTo>
                  <a:lnTo>
                    <a:pt x="336" y="4088"/>
                  </a:lnTo>
                  <a:lnTo>
                    <a:pt x="336" y="4216"/>
                  </a:lnTo>
                  <a:lnTo>
                    <a:pt x="380" y="4344"/>
                  </a:lnTo>
                  <a:lnTo>
                    <a:pt x="424" y="4472"/>
                  </a:lnTo>
                  <a:lnTo>
                    <a:pt x="424" y="4600"/>
                  </a:lnTo>
                  <a:lnTo>
                    <a:pt x="424" y="4772"/>
                  </a:lnTo>
                  <a:lnTo>
                    <a:pt x="424" y="4900"/>
                  </a:lnTo>
                  <a:lnTo>
                    <a:pt x="464" y="5028"/>
                  </a:lnTo>
                  <a:lnTo>
                    <a:pt x="508" y="5155"/>
                  </a:lnTo>
                  <a:lnTo>
                    <a:pt x="468" y="5222"/>
                  </a:lnTo>
                  <a:lnTo>
                    <a:pt x="508" y="5200"/>
                  </a:lnTo>
                  <a:lnTo>
                    <a:pt x="503" y="521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5721480" y="2917800"/>
              <a:ext cx="222120" cy="95580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5889600" y="3705120"/>
              <a:ext cx="146520" cy="101880"/>
            </a:xfrm>
            <a:custGeom>
              <a:avLst/>
              <a:gdLst/>
              <a:ahLst/>
              <a:rect l="0" t="0" r="r" b="b"/>
              <a:pathLst>
                <a:path w="407" h="283">
                  <a:moveTo>
                    <a:pt x="52" y="0"/>
                  </a:moveTo>
                  <a:lnTo>
                    <a:pt x="407" y="132"/>
                  </a:lnTo>
                  <a:lnTo>
                    <a:pt x="381" y="283"/>
                  </a:lnTo>
                  <a:lnTo>
                    <a:pt x="0" y="28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5769000" y="1828800"/>
              <a:ext cx="82440" cy="1152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6108840" y="2092320"/>
              <a:ext cx="1459080" cy="1459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837480" y="1954080"/>
              <a:ext cx="0" cy="714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6837480" y="2765520"/>
              <a:ext cx="0" cy="11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837480" y="299556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970600" y="2828880"/>
              <a:ext cx="7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6786720" y="2828880"/>
              <a:ext cx="115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7016760" y="282888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7" name=""/>
          <p:cNvSpPr/>
          <p:nvPr/>
        </p:nvSpPr>
        <p:spPr>
          <a:xfrm>
            <a:off x="5780160" y="1828800"/>
            <a:ext cx="82440" cy="1152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xiliary / Partial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9" name=""/>
          <p:cNvSpPr/>
          <p:nvPr/>
        </p:nvSpPr>
        <p:spPr>
          <a:xfrm flipH="1">
            <a:off x="3894120" y="4741920"/>
            <a:ext cx="23184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0" name=""/>
          <p:cNvSpPr/>
          <p:nvPr/>
        </p:nvSpPr>
        <p:spPr>
          <a:xfrm>
            <a:off x="4125960" y="4741920"/>
            <a:ext cx="977760" cy="97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>
            <a:off x="5103720" y="5719680"/>
            <a:ext cx="2729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2" name=""/>
          <p:cNvSpPr/>
          <p:nvPr/>
        </p:nvSpPr>
        <p:spPr>
          <a:xfrm>
            <a:off x="7829640" y="5719680"/>
            <a:ext cx="0" cy="33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3" name=""/>
          <p:cNvSpPr/>
          <p:nvPr/>
        </p:nvSpPr>
        <p:spPr>
          <a:xfrm flipH="1">
            <a:off x="4971960" y="6046920"/>
            <a:ext cx="2860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4" name=""/>
          <p:cNvSpPr/>
          <p:nvPr/>
        </p:nvSpPr>
        <p:spPr>
          <a:xfrm flipH="1" flipV="1">
            <a:off x="3895560" y="4971960"/>
            <a:ext cx="1076400" cy="1074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5" name=""/>
          <p:cNvSpPr/>
          <p:nvPr/>
        </p:nvSpPr>
        <p:spPr>
          <a:xfrm flipV="1">
            <a:off x="4933800" y="4849920"/>
            <a:ext cx="76320" cy="7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6" name=""/>
          <p:cNvSpPr/>
          <p:nvPr/>
        </p:nvSpPr>
        <p:spPr>
          <a:xfrm>
            <a:off x="6046920" y="5719680"/>
            <a:ext cx="0" cy="57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7" name=""/>
          <p:cNvSpPr/>
          <p:nvPr/>
        </p:nvSpPr>
        <p:spPr>
          <a:xfrm>
            <a:off x="6046920" y="5832360"/>
            <a:ext cx="0" cy="7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8" name=""/>
          <p:cNvSpPr/>
          <p:nvPr/>
        </p:nvSpPr>
        <p:spPr>
          <a:xfrm>
            <a:off x="6048360" y="5967360"/>
            <a:ext cx="0" cy="5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9" name=""/>
          <p:cNvSpPr/>
          <p:nvPr/>
        </p:nvSpPr>
        <p:spPr>
          <a:xfrm>
            <a:off x="7507440" y="5719680"/>
            <a:ext cx="0" cy="7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0" name=""/>
          <p:cNvSpPr/>
          <p:nvPr/>
        </p:nvSpPr>
        <p:spPr>
          <a:xfrm>
            <a:off x="7507440" y="5950080"/>
            <a:ext cx="0" cy="7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1" name=""/>
          <p:cNvSpPr/>
          <p:nvPr/>
        </p:nvSpPr>
        <p:spPr>
          <a:xfrm>
            <a:off x="7507440" y="5854680"/>
            <a:ext cx="0" cy="57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2" name=""/>
          <p:cNvSpPr/>
          <p:nvPr/>
        </p:nvSpPr>
        <p:spPr>
          <a:xfrm>
            <a:off x="4781520" y="4695840"/>
            <a:ext cx="14616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3" name=""/>
          <p:cNvSpPr/>
          <p:nvPr/>
        </p:nvSpPr>
        <p:spPr>
          <a:xfrm>
            <a:off x="4201200" y="4652280"/>
            <a:ext cx="250200" cy="250200"/>
          </a:xfrm>
          <a:custGeom>
            <a:avLst/>
            <a:gdLst/>
            <a:ahLst/>
            <a:rect l="0" t="0" r="r" b="b"/>
            <a:pathLst>
              <a:path fill="none" w="695" h="695">
                <a:moveTo>
                  <a:pt x="0" y="695"/>
                </a:moveTo>
                <a:lnTo>
                  <a:pt x="0" y="695"/>
                </a:lnTo>
                <a:cubicBezTo>
                  <a:pt x="122" y="695"/>
                  <a:pt x="242" y="663"/>
                  <a:pt x="348" y="602"/>
                </a:cubicBezTo>
                <a:cubicBezTo>
                  <a:pt x="453" y="541"/>
                  <a:pt x="541" y="453"/>
                  <a:pt x="602" y="347"/>
                </a:cubicBezTo>
                <a:cubicBezTo>
                  <a:pt x="663" y="242"/>
                  <a:pt x="695" y="122"/>
                  <a:pt x="69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4" name=""/>
          <p:cNvSpPr/>
          <p:nvPr/>
        </p:nvSpPr>
        <p:spPr>
          <a:xfrm>
            <a:off x="4983840" y="5419080"/>
            <a:ext cx="250200" cy="250200"/>
          </a:xfrm>
          <a:custGeom>
            <a:avLst/>
            <a:gdLst/>
            <a:ahLst/>
            <a:rect l="0" t="0" r="r" b="b"/>
            <a:pathLst>
              <a:path fill="none" w="695" h="695">
                <a:moveTo>
                  <a:pt x="0" y="695"/>
                </a:moveTo>
                <a:lnTo>
                  <a:pt x="0" y="695"/>
                </a:lnTo>
                <a:cubicBezTo>
                  <a:pt x="122" y="695"/>
                  <a:pt x="242" y="663"/>
                  <a:pt x="348" y="602"/>
                </a:cubicBezTo>
                <a:cubicBezTo>
                  <a:pt x="453" y="541"/>
                  <a:pt x="541" y="453"/>
                  <a:pt x="602" y="347"/>
                </a:cubicBezTo>
                <a:cubicBezTo>
                  <a:pt x="663" y="242"/>
                  <a:pt x="695" y="122"/>
                  <a:pt x="69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5" name=""/>
          <p:cNvSpPr/>
          <p:nvPr/>
        </p:nvSpPr>
        <p:spPr>
          <a:xfrm flipV="1">
            <a:off x="4491000" y="4184640"/>
            <a:ext cx="595440" cy="595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6" name=""/>
          <p:cNvSpPr/>
          <p:nvPr/>
        </p:nvSpPr>
        <p:spPr>
          <a:xfrm flipV="1">
            <a:off x="5084640" y="4795920"/>
            <a:ext cx="617760" cy="61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7" name=""/>
          <p:cNvSpPr/>
          <p:nvPr/>
        </p:nvSpPr>
        <p:spPr>
          <a:xfrm>
            <a:off x="5084640" y="4186080"/>
            <a:ext cx="614520" cy="614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8" name=""/>
          <p:cNvSpPr/>
          <p:nvPr/>
        </p:nvSpPr>
        <p:spPr>
          <a:xfrm flipV="1">
            <a:off x="4319640" y="4984920"/>
            <a:ext cx="538200" cy="53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 flipV="1">
            <a:off x="5087880" y="4370400"/>
            <a:ext cx="401760" cy="40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0" name=""/>
          <p:cNvSpPr/>
          <p:nvPr/>
        </p:nvSpPr>
        <p:spPr>
          <a:xfrm flipH="1">
            <a:off x="4260960" y="4336920"/>
            <a:ext cx="981000" cy="9795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1" name=""/>
          <p:cNvSpPr/>
          <p:nvPr/>
        </p:nvSpPr>
        <p:spPr>
          <a:xfrm flipH="1">
            <a:off x="4530600" y="4624560"/>
            <a:ext cx="998640" cy="998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2" name=""/>
          <p:cNvSpPr/>
          <p:nvPr/>
        </p:nvSpPr>
        <p:spPr>
          <a:xfrm>
            <a:off x="4768920" y="4684680"/>
            <a:ext cx="417600" cy="406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3" name=""/>
          <p:cNvSpPr/>
          <p:nvPr/>
        </p:nvSpPr>
        <p:spPr>
          <a:xfrm>
            <a:off x="4959360" y="4869000"/>
            <a:ext cx="57240" cy="56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4" name=""/>
          <p:cNvSpPr/>
          <p:nvPr/>
        </p:nvSpPr>
        <p:spPr>
          <a:xfrm>
            <a:off x="5052960" y="495612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5" name=""/>
          <p:cNvSpPr/>
          <p:nvPr/>
        </p:nvSpPr>
        <p:spPr>
          <a:xfrm>
            <a:off x="5846760" y="1892160"/>
            <a:ext cx="1982880" cy="1889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6" name=""/>
          <p:cNvSpPr/>
          <p:nvPr/>
        </p:nvSpPr>
        <p:spPr>
          <a:xfrm>
            <a:off x="5864400" y="1895400"/>
            <a:ext cx="182880" cy="1879920"/>
          </a:xfrm>
          <a:custGeom>
            <a:avLst/>
            <a:gdLst/>
            <a:ahLst/>
            <a:rect l="0" t="0" r="r" b="b"/>
            <a:pathLst>
              <a:path fill="none" w="508" h="5222">
                <a:moveTo>
                  <a:pt x="0" y="0"/>
                </a:moveTo>
                <a:lnTo>
                  <a:pt x="8" y="105"/>
                </a:lnTo>
                <a:lnTo>
                  <a:pt x="44" y="255"/>
                </a:lnTo>
                <a:lnTo>
                  <a:pt x="79" y="374"/>
                </a:lnTo>
                <a:lnTo>
                  <a:pt x="123" y="502"/>
                </a:lnTo>
                <a:lnTo>
                  <a:pt x="167" y="630"/>
                </a:lnTo>
                <a:lnTo>
                  <a:pt x="167" y="758"/>
                </a:lnTo>
                <a:lnTo>
                  <a:pt x="123" y="974"/>
                </a:lnTo>
                <a:lnTo>
                  <a:pt x="123" y="1102"/>
                </a:lnTo>
                <a:lnTo>
                  <a:pt x="123" y="1314"/>
                </a:lnTo>
                <a:lnTo>
                  <a:pt x="167" y="1486"/>
                </a:lnTo>
                <a:lnTo>
                  <a:pt x="207" y="1613"/>
                </a:lnTo>
                <a:lnTo>
                  <a:pt x="251" y="1825"/>
                </a:lnTo>
                <a:lnTo>
                  <a:pt x="251" y="1997"/>
                </a:lnTo>
                <a:lnTo>
                  <a:pt x="296" y="2125"/>
                </a:lnTo>
                <a:lnTo>
                  <a:pt x="296" y="2253"/>
                </a:lnTo>
                <a:lnTo>
                  <a:pt x="336" y="2381"/>
                </a:lnTo>
                <a:lnTo>
                  <a:pt x="380" y="2509"/>
                </a:lnTo>
                <a:lnTo>
                  <a:pt x="424" y="2638"/>
                </a:lnTo>
                <a:lnTo>
                  <a:pt x="464" y="2765"/>
                </a:lnTo>
                <a:lnTo>
                  <a:pt x="464" y="2893"/>
                </a:lnTo>
                <a:lnTo>
                  <a:pt x="464" y="3021"/>
                </a:lnTo>
                <a:lnTo>
                  <a:pt x="464" y="3149"/>
                </a:lnTo>
                <a:lnTo>
                  <a:pt x="424" y="3277"/>
                </a:lnTo>
                <a:lnTo>
                  <a:pt x="380" y="3405"/>
                </a:lnTo>
                <a:lnTo>
                  <a:pt x="380" y="3577"/>
                </a:lnTo>
                <a:lnTo>
                  <a:pt x="336" y="3705"/>
                </a:lnTo>
                <a:lnTo>
                  <a:pt x="336" y="3833"/>
                </a:lnTo>
                <a:lnTo>
                  <a:pt x="336" y="3960"/>
                </a:lnTo>
                <a:lnTo>
                  <a:pt x="336" y="4088"/>
                </a:lnTo>
                <a:lnTo>
                  <a:pt x="336" y="4216"/>
                </a:lnTo>
                <a:lnTo>
                  <a:pt x="380" y="4344"/>
                </a:lnTo>
                <a:lnTo>
                  <a:pt x="424" y="4472"/>
                </a:lnTo>
                <a:lnTo>
                  <a:pt x="424" y="4600"/>
                </a:lnTo>
                <a:lnTo>
                  <a:pt x="424" y="4772"/>
                </a:lnTo>
                <a:lnTo>
                  <a:pt x="424" y="4900"/>
                </a:lnTo>
                <a:lnTo>
                  <a:pt x="464" y="5028"/>
                </a:lnTo>
                <a:lnTo>
                  <a:pt x="508" y="5155"/>
                </a:lnTo>
                <a:lnTo>
                  <a:pt x="468" y="5222"/>
                </a:lnTo>
                <a:lnTo>
                  <a:pt x="508" y="5200"/>
                </a:lnTo>
                <a:lnTo>
                  <a:pt x="503" y="521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7" name=""/>
          <p:cNvSpPr/>
          <p:nvPr/>
        </p:nvSpPr>
        <p:spPr>
          <a:xfrm>
            <a:off x="5721480" y="2917800"/>
            <a:ext cx="222120" cy="95580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8" name=""/>
          <p:cNvSpPr/>
          <p:nvPr/>
        </p:nvSpPr>
        <p:spPr>
          <a:xfrm>
            <a:off x="5889600" y="3705120"/>
            <a:ext cx="146520" cy="101880"/>
          </a:xfrm>
          <a:custGeom>
            <a:avLst/>
            <a:gdLst/>
            <a:ahLst/>
            <a:rect l="0" t="0" r="r" b="b"/>
            <a:pathLst>
              <a:path w="407" h="283">
                <a:moveTo>
                  <a:pt x="52" y="0"/>
                </a:moveTo>
                <a:lnTo>
                  <a:pt x="407" y="132"/>
                </a:lnTo>
                <a:lnTo>
                  <a:pt x="381" y="283"/>
                </a:lnTo>
                <a:lnTo>
                  <a:pt x="0" y="283"/>
                </a:lnTo>
                <a:lnTo>
                  <a:pt x="52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9" name=""/>
          <p:cNvSpPr/>
          <p:nvPr/>
        </p:nvSpPr>
        <p:spPr>
          <a:xfrm>
            <a:off x="5780160" y="1828800"/>
            <a:ext cx="82440" cy="1152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0" name=""/>
          <p:cNvSpPr/>
          <p:nvPr/>
        </p:nvSpPr>
        <p:spPr>
          <a:xfrm>
            <a:off x="6108840" y="2092320"/>
            <a:ext cx="1459080" cy="1459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1" name=""/>
          <p:cNvSpPr/>
          <p:nvPr/>
        </p:nvSpPr>
        <p:spPr>
          <a:xfrm>
            <a:off x="6837480" y="1954080"/>
            <a:ext cx="0" cy="71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>
            <a:off x="6837480" y="2765520"/>
            <a:ext cx="0" cy="11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3" name=""/>
          <p:cNvSpPr/>
          <p:nvPr/>
        </p:nvSpPr>
        <p:spPr>
          <a:xfrm>
            <a:off x="6837480" y="2995560"/>
            <a:ext cx="0" cy="69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4" name=""/>
          <p:cNvSpPr/>
          <p:nvPr/>
        </p:nvSpPr>
        <p:spPr>
          <a:xfrm>
            <a:off x="5970600" y="2828880"/>
            <a:ext cx="719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5" name=""/>
          <p:cNvSpPr/>
          <p:nvPr/>
        </p:nvSpPr>
        <p:spPr>
          <a:xfrm>
            <a:off x="6786720" y="2828880"/>
            <a:ext cx="11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6" name=""/>
          <p:cNvSpPr/>
          <p:nvPr/>
        </p:nvSpPr>
        <p:spPr>
          <a:xfrm>
            <a:off x="7016760" y="2828880"/>
            <a:ext cx="642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7" name=""/>
          <p:cNvGrpSpPr/>
          <p:nvPr/>
        </p:nvGrpSpPr>
        <p:grpSpPr>
          <a:xfrm>
            <a:off x="6777000" y="5548320"/>
            <a:ext cx="0" cy="719280"/>
            <a:chOff x="6777000" y="5548320"/>
            <a:chExt cx="0" cy="719280"/>
          </a:xfrm>
        </p:grpSpPr>
        <p:sp>
          <p:nvSpPr>
            <p:cNvPr id="4938" name=""/>
            <p:cNvSpPr/>
            <p:nvPr/>
          </p:nvSpPr>
          <p:spPr>
            <a:xfrm>
              <a:off x="6777000" y="5548320"/>
              <a:ext cx="0" cy="209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6777000" y="5823000"/>
              <a:ext cx="0" cy="11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6777000" y="5989680"/>
              <a:ext cx="0" cy="27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1" name=""/>
          <p:cNvSpPr txBox="1"/>
          <p:nvPr/>
        </p:nvSpPr>
        <p:spPr>
          <a:xfrm>
            <a:off x="5958000" y="39052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2" name=""/>
          <p:cNvSpPr txBox="1"/>
          <p:nvPr/>
        </p:nvSpPr>
        <p:spPr>
          <a:xfrm>
            <a:off x="3870360" y="59198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3" name=""/>
          <p:cNvSpPr/>
          <p:nvPr/>
        </p:nvSpPr>
        <p:spPr>
          <a:xfrm flipV="1">
            <a:off x="5607000" y="4030560"/>
            <a:ext cx="247680" cy="24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>
            <a:off x="5837400" y="402912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5" name=""/>
          <p:cNvSpPr/>
          <p:nvPr/>
        </p:nvSpPr>
        <p:spPr>
          <a:xfrm flipH="1">
            <a:off x="3992400" y="5605560"/>
            <a:ext cx="250920" cy="24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6" name=""/>
          <p:cNvSpPr/>
          <p:nvPr/>
        </p:nvSpPr>
        <p:spPr>
          <a:xfrm>
            <a:off x="3992400" y="5854680"/>
            <a:ext cx="1540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7" name=""/>
          <p:cNvSpPr/>
          <p:nvPr/>
        </p:nvSpPr>
        <p:spPr>
          <a:xfrm>
            <a:off x="4068720" y="5896080"/>
            <a:ext cx="119520" cy="206640"/>
          </a:xfrm>
          <a:custGeom>
            <a:avLst/>
            <a:gdLst/>
            <a:ahLst/>
            <a:rect l="0" t="0" r="r" b="b"/>
            <a:pathLst>
              <a:path w="332" h="574">
                <a:moveTo>
                  <a:pt x="332" y="0"/>
                </a:moveTo>
                <a:lnTo>
                  <a:pt x="0" y="0"/>
                </a:lnTo>
                <a:lnTo>
                  <a:pt x="166" y="574"/>
                </a:lnTo>
                <a:lnTo>
                  <a:pt x="332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"/>
          <p:cNvSpPr/>
          <p:nvPr/>
        </p:nvSpPr>
        <p:spPr>
          <a:xfrm>
            <a:off x="5929200" y="4089240"/>
            <a:ext cx="119520" cy="206640"/>
          </a:xfrm>
          <a:custGeom>
            <a:avLst/>
            <a:gdLst/>
            <a:ahLst/>
            <a:rect l="0" t="0" r="r" b="b"/>
            <a:pathLst>
              <a:path w="332" h="574">
                <a:moveTo>
                  <a:pt x="332" y="0"/>
                </a:moveTo>
                <a:lnTo>
                  <a:pt x="0" y="0"/>
                </a:lnTo>
                <a:lnTo>
                  <a:pt x="166" y="574"/>
                </a:lnTo>
                <a:lnTo>
                  <a:pt x="332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xiliary / Partial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0" name=""/>
          <p:cNvGrpSpPr/>
          <p:nvPr/>
        </p:nvGrpSpPr>
        <p:grpSpPr>
          <a:xfrm>
            <a:off x="1749600" y="1828800"/>
            <a:ext cx="6083280" cy="4794120"/>
            <a:chOff x="1749600" y="1828800"/>
            <a:chExt cx="6083280" cy="4794120"/>
          </a:xfrm>
        </p:grpSpPr>
        <p:grpSp>
          <p:nvGrpSpPr>
            <p:cNvPr id="4951" name=""/>
            <p:cNvGrpSpPr/>
            <p:nvPr/>
          </p:nvGrpSpPr>
          <p:grpSpPr>
            <a:xfrm>
              <a:off x="6777000" y="5124600"/>
              <a:ext cx="0" cy="1498320"/>
              <a:chOff x="6777000" y="5124600"/>
              <a:chExt cx="0" cy="1498320"/>
            </a:xfrm>
          </p:grpSpPr>
          <p:sp>
            <p:nvSpPr>
              <p:cNvPr id="4952" name=""/>
              <p:cNvSpPr/>
              <p:nvPr/>
            </p:nvSpPr>
            <p:spPr>
              <a:xfrm>
                <a:off x="6777000" y="5124600"/>
                <a:ext cx="0" cy="63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6777000" y="5854680"/>
                <a:ext cx="0" cy="11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777000" y="6084720"/>
                <a:ext cx="0" cy="538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5" name=""/>
            <p:cNvSpPr/>
            <p:nvPr/>
          </p:nvSpPr>
          <p:spPr>
            <a:xfrm flipH="1">
              <a:off x="3894120" y="4741920"/>
              <a:ext cx="231840" cy="231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4125960" y="4741920"/>
              <a:ext cx="977760" cy="9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5103720" y="5719680"/>
              <a:ext cx="272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829640" y="5719680"/>
              <a:ext cx="0" cy="330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 flipH="1">
              <a:off x="4971960" y="6046920"/>
              <a:ext cx="286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 flipH="1" flipV="1">
              <a:off x="3895560" y="4971960"/>
              <a:ext cx="1076400" cy="1074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 flipV="1">
              <a:off x="4933800" y="48499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6046920" y="57196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6046920" y="583236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6048360" y="5967360"/>
              <a:ext cx="0" cy="58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7507440" y="571968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7507440" y="595008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7507440" y="58546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4781520" y="4695840"/>
              <a:ext cx="146160" cy="147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4201200" y="4652280"/>
              <a:ext cx="250200" cy="250200"/>
            </a:xfrm>
            <a:custGeom>
              <a:avLst/>
              <a:gdLst/>
              <a:ahLst/>
              <a:rect l="0" t="0" r="r" b="b"/>
              <a:pathLst>
                <a:path fill="none" w="695" h="695">
                  <a:moveTo>
                    <a:pt x="0" y="695"/>
                  </a:moveTo>
                  <a:lnTo>
                    <a:pt x="0" y="695"/>
                  </a:lnTo>
                  <a:cubicBezTo>
                    <a:pt x="122" y="695"/>
                    <a:pt x="242" y="663"/>
                    <a:pt x="348" y="602"/>
                  </a:cubicBezTo>
                  <a:cubicBezTo>
                    <a:pt x="453" y="541"/>
                    <a:pt x="541" y="453"/>
                    <a:pt x="602" y="347"/>
                  </a:cubicBezTo>
                  <a:cubicBezTo>
                    <a:pt x="663" y="242"/>
                    <a:pt x="695" y="122"/>
                    <a:pt x="695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4983840" y="5419080"/>
              <a:ext cx="250200" cy="250200"/>
            </a:xfrm>
            <a:custGeom>
              <a:avLst/>
              <a:gdLst/>
              <a:ahLst/>
              <a:rect l="0" t="0" r="r" b="b"/>
              <a:pathLst>
                <a:path fill="none" w="695" h="695">
                  <a:moveTo>
                    <a:pt x="0" y="695"/>
                  </a:moveTo>
                  <a:lnTo>
                    <a:pt x="0" y="695"/>
                  </a:lnTo>
                  <a:cubicBezTo>
                    <a:pt x="122" y="695"/>
                    <a:pt x="242" y="663"/>
                    <a:pt x="348" y="602"/>
                  </a:cubicBezTo>
                  <a:cubicBezTo>
                    <a:pt x="453" y="541"/>
                    <a:pt x="541" y="453"/>
                    <a:pt x="602" y="347"/>
                  </a:cubicBezTo>
                  <a:cubicBezTo>
                    <a:pt x="663" y="242"/>
                    <a:pt x="695" y="122"/>
                    <a:pt x="695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 flipV="1">
              <a:off x="4491000" y="4184640"/>
              <a:ext cx="595440" cy="59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 flipV="1">
              <a:off x="5084640" y="4795920"/>
              <a:ext cx="617760" cy="61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084640" y="4186080"/>
              <a:ext cx="614520" cy="614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 flipV="1">
              <a:off x="4319640" y="4984920"/>
              <a:ext cx="538200" cy="537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 flipV="1">
              <a:off x="5087880" y="4370400"/>
              <a:ext cx="401760" cy="40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 flipH="1">
              <a:off x="4260960" y="4336920"/>
              <a:ext cx="981000" cy="9795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 flipH="1">
              <a:off x="4530600" y="4624560"/>
              <a:ext cx="998640" cy="998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4768920" y="4684680"/>
              <a:ext cx="417600" cy="40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4959360" y="4869000"/>
              <a:ext cx="57240" cy="56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5052960" y="495612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5607000" y="4030560"/>
              <a:ext cx="247680" cy="249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5837400" y="402912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 flipH="1">
              <a:off x="3992400" y="5605560"/>
              <a:ext cx="250920" cy="249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3992400" y="5854680"/>
              <a:ext cx="15408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068720" y="5896080"/>
              <a:ext cx="119520" cy="206640"/>
            </a:xfrm>
            <a:custGeom>
              <a:avLst/>
              <a:gdLst/>
              <a:ahLst/>
              <a:rect l="0" t="0" r="r" b="b"/>
              <a:pathLst>
                <a:path w="332" h="574">
                  <a:moveTo>
                    <a:pt x="332" y="0"/>
                  </a:moveTo>
                  <a:lnTo>
                    <a:pt x="0" y="0"/>
                  </a:lnTo>
                  <a:lnTo>
                    <a:pt x="166" y="574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929200" y="4089240"/>
              <a:ext cx="119520" cy="206640"/>
            </a:xfrm>
            <a:custGeom>
              <a:avLst/>
              <a:gdLst/>
              <a:ahLst/>
              <a:rect l="0" t="0" r="r" b="b"/>
              <a:pathLst>
                <a:path w="332" h="574">
                  <a:moveTo>
                    <a:pt x="332" y="0"/>
                  </a:moveTo>
                  <a:lnTo>
                    <a:pt x="0" y="0"/>
                  </a:lnTo>
                  <a:lnTo>
                    <a:pt x="166" y="574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846760" y="1892160"/>
              <a:ext cx="1982880" cy="1889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864400" y="1895400"/>
              <a:ext cx="182880" cy="1879920"/>
            </a:xfrm>
            <a:custGeom>
              <a:avLst/>
              <a:gdLst/>
              <a:ahLst/>
              <a:rect l="0" t="0" r="r" b="b"/>
              <a:pathLst>
                <a:path fill="none" w="508" h="5222">
                  <a:moveTo>
                    <a:pt x="0" y="0"/>
                  </a:moveTo>
                  <a:lnTo>
                    <a:pt x="8" y="105"/>
                  </a:lnTo>
                  <a:lnTo>
                    <a:pt x="44" y="255"/>
                  </a:lnTo>
                  <a:lnTo>
                    <a:pt x="79" y="374"/>
                  </a:lnTo>
                  <a:lnTo>
                    <a:pt x="123" y="502"/>
                  </a:lnTo>
                  <a:lnTo>
                    <a:pt x="167" y="630"/>
                  </a:lnTo>
                  <a:lnTo>
                    <a:pt x="167" y="758"/>
                  </a:lnTo>
                  <a:lnTo>
                    <a:pt x="123" y="974"/>
                  </a:lnTo>
                  <a:lnTo>
                    <a:pt x="123" y="1102"/>
                  </a:lnTo>
                  <a:lnTo>
                    <a:pt x="123" y="1314"/>
                  </a:lnTo>
                  <a:lnTo>
                    <a:pt x="167" y="1486"/>
                  </a:lnTo>
                  <a:lnTo>
                    <a:pt x="207" y="1613"/>
                  </a:lnTo>
                  <a:lnTo>
                    <a:pt x="251" y="1825"/>
                  </a:lnTo>
                  <a:lnTo>
                    <a:pt x="251" y="1997"/>
                  </a:lnTo>
                  <a:lnTo>
                    <a:pt x="296" y="2125"/>
                  </a:lnTo>
                  <a:lnTo>
                    <a:pt x="296" y="2253"/>
                  </a:lnTo>
                  <a:lnTo>
                    <a:pt x="336" y="2381"/>
                  </a:lnTo>
                  <a:lnTo>
                    <a:pt x="380" y="2509"/>
                  </a:lnTo>
                  <a:lnTo>
                    <a:pt x="424" y="2638"/>
                  </a:lnTo>
                  <a:lnTo>
                    <a:pt x="464" y="2765"/>
                  </a:lnTo>
                  <a:lnTo>
                    <a:pt x="464" y="2893"/>
                  </a:lnTo>
                  <a:lnTo>
                    <a:pt x="464" y="3021"/>
                  </a:lnTo>
                  <a:lnTo>
                    <a:pt x="464" y="3149"/>
                  </a:lnTo>
                  <a:lnTo>
                    <a:pt x="424" y="3277"/>
                  </a:lnTo>
                  <a:lnTo>
                    <a:pt x="380" y="3405"/>
                  </a:lnTo>
                  <a:lnTo>
                    <a:pt x="380" y="3577"/>
                  </a:lnTo>
                  <a:lnTo>
                    <a:pt x="336" y="3705"/>
                  </a:lnTo>
                  <a:lnTo>
                    <a:pt x="336" y="3833"/>
                  </a:lnTo>
                  <a:lnTo>
                    <a:pt x="336" y="3960"/>
                  </a:lnTo>
                  <a:lnTo>
                    <a:pt x="336" y="4088"/>
                  </a:lnTo>
                  <a:lnTo>
                    <a:pt x="336" y="4216"/>
                  </a:lnTo>
                  <a:lnTo>
                    <a:pt x="380" y="4344"/>
                  </a:lnTo>
                  <a:lnTo>
                    <a:pt x="424" y="4472"/>
                  </a:lnTo>
                  <a:lnTo>
                    <a:pt x="424" y="4600"/>
                  </a:lnTo>
                  <a:lnTo>
                    <a:pt x="424" y="4772"/>
                  </a:lnTo>
                  <a:lnTo>
                    <a:pt x="424" y="4900"/>
                  </a:lnTo>
                  <a:lnTo>
                    <a:pt x="464" y="5028"/>
                  </a:lnTo>
                  <a:lnTo>
                    <a:pt x="508" y="5155"/>
                  </a:lnTo>
                  <a:lnTo>
                    <a:pt x="468" y="5222"/>
                  </a:lnTo>
                  <a:lnTo>
                    <a:pt x="508" y="5200"/>
                  </a:lnTo>
                  <a:lnTo>
                    <a:pt x="503" y="521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5721480" y="2917800"/>
              <a:ext cx="222120" cy="95580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5889600" y="3705120"/>
              <a:ext cx="146520" cy="101880"/>
            </a:xfrm>
            <a:custGeom>
              <a:avLst/>
              <a:gdLst/>
              <a:ahLst/>
              <a:rect l="0" t="0" r="r" b="b"/>
              <a:pathLst>
                <a:path w="407" h="283">
                  <a:moveTo>
                    <a:pt x="52" y="0"/>
                  </a:moveTo>
                  <a:lnTo>
                    <a:pt x="407" y="132"/>
                  </a:lnTo>
                  <a:lnTo>
                    <a:pt x="381" y="283"/>
                  </a:lnTo>
                  <a:lnTo>
                    <a:pt x="0" y="28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769000" y="1828800"/>
              <a:ext cx="82440" cy="1152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6108840" y="2092320"/>
              <a:ext cx="1459080" cy="1459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6837480" y="1954080"/>
              <a:ext cx="0" cy="714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837480" y="2765520"/>
              <a:ext cx="0" cy="11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6837480" y="299556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970600" y="2828880"/>
              <a:ext cx="7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6786720" y="2828880"/>
              <a:ext cx="115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7016760" y="282888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167920" y="2593080"/>
              <a:ext cx="250200" cy="250200"/>
            </a:xfrm>
            <a:custGeom>
              <a:avLst/>
              <a:gdLst/>
              <a:ahLst/>
              <a:rect l="0" t="0" r="r" b="b"/>
              <a:pathLst>
                <a:path fill="none" w="695" h="695">
                  <a:moveTo>
                    <a:pt x="0" y="695"/>
                  </a:moveTo>
                  <a:lnTo>
                    <a:pt x="0" y="695"/>
                  </a:lnTo>
                  <a:cubicBezTo>
                    <a:pt x="122" y="695"/>
                    <a:pt x="242" y="663"/>
                    <a:pt x="348" y="602"/>
                  </a:cubicBezTo>
                  <a:cubicBezTo>
                    <a:pt x="453" y="541"/>
                    <a:pt x="541" y="453"/>
                    <a:pt x="602" y="347"/>
                  </a:cubicBezTo>
                  <a:cubicBezTo>
                    <a:pt x="663" y="242"/>
                    <a:pt x="695" y="122"/>
                    <a:pt x="695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950560" y="3375720"/>
              <a:ext cx="250200" cy="250200"/>
            </a:xfrm>
            <a:custGeom>
              <a:avLst/>
              <a:gdLst/>
              <a:ahLst/>
              <a:rect l="0" t="0" r="r" b="b"/>
              <a:pathLst>
                <a:path fill="none" w="695" h="695">
                  <a:moveTo>
                    <a:pt x="0" y="695"/>
                  </a:moveTo>
                  <a:lnTo>
                    <a:pt x="0" y="695"/>
                  </a:lnTo>
                  <a:cubicBezTo>
                    <a:pt x="122" y="695"/>
                    <a:pt x="242" y="663"/>
                    <a:pt x="348" y="602"/>
                  </a:cubicBezTo>
                  <a:cubicBezTo>
                    <a:pt x="453" y="541"/>
                    <a:pt x="541" y="453"/>
                    <a:pt x="602" y="347"/>
                  </a:cubicBezTo>
                  <a:cubicBezTo>
                    <a:pt x="663" y="242"/>
                    <a:pt x="695" y="122"/>
                    <a:pt x="695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2457360" y="2141640"/>
              <a:ext cx="595440" cy="595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 flipV="1">
              <a:off x="3051000" y="2752560"/>
              <a:ext cx="617760" cy="61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3051000" y="2143080"/>
              <a:ext cx="614520" cy="614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 flipV="1">
              <a:off x="2305080" y="2948040"/>
              <a:ext cx="538200" cy="538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 flipV="1">
              <a:off x="3044880" y="2333520"/>
              <a:ext cx="430200" cy="433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 flipH="1">
              <a:off x="2227320" y="2819520"/>
              <a:ext cx="453960" cy="453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 flipH="1">
              <a:off x="2496960" y="3119400"/>
              <a:ext cx="460440" cy="460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2925720" y="2841480"/>
              <a:ext cx="5724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H="1" flipV="1">
              <a:off x="1749600" y="2819520"/>
              <a:ext cx="1238040" cy="1238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 flipV="1">
              <a:off x="3003480" y="3827520"/>
              <a:ext cx="230400" cy="230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 flipV="1">
              <a:off x="1762200" y="2583000"/>
              <a:ext cx="22860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 flipH="1" flipV="1">
              <a:off x="3065400" y="3659040"/>
              <a:ext cx="168480" cy="168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1990800" y="2583000"/>
              <a:ext cx="183960" cy="183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3203640" y="2876400"/>
              <a:ext cx="168120" cy="168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2957400" y="3106800"/>
              <a:ext cx="168480" cy="168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 flipV="1">
              <a:off x="2895480" y="2814480"/>
              <a:ext cx="92160" cy="92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H="1" flipV="1">
              <a:off x="2558880" y="2476440"/>
              <a:ext cx="306720" cy="30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3065400" y="2984400"/>
              <a:ext cx="338040" cy="33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V="1">
              <a:off x="2911320" y="2292480"/>
              <a:ext cx="292320" cy="29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 flipV="1">
              <a:off x="3203640" y="2583000"/>
              <a:ext cx="291960" cy="29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 flipH="1" flipV="1">
              <a:off x="2773440" y="24303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 flipH="1" flipV="1">
              <a:off x="2529000" y="26766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2919240" y="2573280"/>
              <a:ext cx="39960" cy="5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2673360" y="2825640"/>
              <a:ext cx="536400" cy="5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2495520" y="269568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6" name=""/>
            <p:cNvSpPr txBox="1"/>
            <p:nvPr/>
          </p:nvSpPr>
          <p:spPr>
            <a:xfrm>
              <a:off x="5958000" y="3905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7" name=""/>
            <p:cNvSpPr txBox="1"/>
            <p:nvPr/>
          </p:nvSpPr>
          <p:spPr>
            <a:xfrm>
              <a:off x="3870360" y="59198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8" name=""/>
          <p:cNvSpPr/>
          <p:nvPr/>
        </p:nvSpPr>
        <p:spPr>
          <a:xfrm>
            <a:off x="5780160" y="1828800"/>
            <a:ext cx="82440" cy="1152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xiliary / Partial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0" name=""/>
          <p:cNvGrpSpPr/>
          <p:nvPr/>
        </p:nvGrpSpPr>
        <p:grpSpPr>
          <a:xfrm>
            <a:off x="1514520" y="1828800"/>
            <a:ext cx="6318360" cy="4794120"/>
            <a:chOff x="1514520" y="1828800"/>
            <a:chExt cx="6318360" cy="4794120"/>
          </a:xfrm>
        </p:grpSpPr>
        <p:grpSp>
          <p:nvGrpSpPr>
            <p:cNvPr id="5031" name=""/>
            <p:cNvGrpSpPr/>
            <p:nvPr/>
          </p:nvGrpSpPr>
          <p:grpSpPr>
            <a:xfrm>
              <a:off x="6777000" y="5124600"/>
              <a:ext cx="0" cy="1498320"/>
              <a:chOff x="6777000" y="5124600"/>
              <a:chExt cx="0" cy="1498320"/>
            </a:xfrm>
          </p:grpSpPr>
          <p:sp>
            <p:nvSpPr>
              <p:cNvPr id="5032" name=""/>
              <p:cNvSpPr/>
              <p:nvPr/>
            </p:nvSpPr>
            <p:spPr>
              <a:xfrm>
                <a:off x="6777000" y="5124600"/>
                <a:ext cx="0" cy="63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6777000" y="5854680"/>
                <a:ext cx="0" cy="11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6777000" y="6084720"/>
                <a:ext cx="0" cy="538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35" name=""/>
            <p:cNvSpPr/>
            <p:nvPr/>
          </p:nvSpPr>
          <p:spPr>
            <a:xfrm flipH="1">
              <a:off x="3894120" y="4741920"/>
              <a:ext cx="231840" cy="231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4125960" y="4741920"/>
              <a:ext cx="977760" cy="9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103720" y="5719680"/>
              <a:ext cx="272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7829640" y="5719680"/>
              <a:ext cx="0" cy="330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 flipH="1">
              <a:off x="4971960" y="6046920"/>
              <a:ext cx="286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 flipH="1" flipV="1">
              <a:off x="3895560" y="4971960"/>
              <a:ext cx="1076400" cy="1074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 flipV="1">
              <a:off x="4933800" y="4849920"/>
              <a:ext cx="76320" cy="7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6046920" y="57196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6046920" y="583236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6048360" y="5967360"/>
              <a:ext cx="0" cy="58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507440" y="571968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7507440" y="595008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7507440" y="58546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4781520" y="4695840"/>
              <a:ext cx="146160" cy="147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4201200" y="4652280"/>
              <a:ext cx="250200" cy="250200"/>
            </a:xfrm>
            <a:custGeom>
              <a:avLst/>
              <a:gdLst/>
              <a:ahLst/>
              <a:rect l="0" t="0" r="r" b="b"/>
              <a:pathLst>
                <a:path fill="none" w="695" h="695">
                  <a:moveTo>
                    <a:pt x="0" y="695"/>
                  </a:moveTo>
                  <a:lnTo>
                    <a:pt x="0" y="695"/>
                  </a:lnTo>
                  <a:cubicBezTo>
                    <a:pt x="122" y="695"/>
                    <a:pt x="242" y="663"/>
                    <a:pt x="348" y="602"/>
                  </a:cubicBezTo>
                  <a:cubicBezTo>
                    <a:pt x="453" y="541"/>
                    <a:pt x="541" y="453"/>
                    <a:pt x="602" y="347"/>
                  </a:cubicBezTo>
                  <a:cubicBezTo>
                    <a:pt x="663" y="242"/>
                    <a:pt x="695" y="122"/>
                    <a:pt x="695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4983840" y="5419080"/>
              <a:ext cx="250200" cy="250200"/>
            </a:xfrm>
            <a:custGeom>
              <a:avLst/>
              <a:gdLst/>
              <a:ahLst/>
              <a:rect l="0" t="0" r="r" b="b"/>
              <a:pathLst>
                <a:path fill="none" w="695" h="695">
                  <a:moveTo>
                    <a:pt x="0" y="695"/>
                  </a:moveTo>
                  <a:lnTo>
                    <a:pt x="0" y="695"/>
                  </a:lnTo>
                  <a:cubicBezTo>
                    <a:pt x="122" y="695"/>
                    <a:pt x="242" y="663"/>
                    <a:pt x="348" y="602"/>
                  </a:cubicBezTo>
                  <a:cubicBezTo>
                    <a:pt x="453" y="541"/>
                    <a:pt x="541" y="453"/>
                    <a:pt x="602" y="347"/>
                  </a:cubicBezTo>
                  <a:cubicBezTo>
                    <a:pt x="663" y="242"/>
                    <a:pt x="695" y="122"/>
                    <a:pt x="695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 flipV="1">
              <a:off x="4491000" y="4184640"/>
              <a:ext cx="595440" cy="59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 flipV="1">
              <a:off x="5084640" y="4795920"/>
              <a:ext cx="617760" cy="61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5084640" y="4186080"/>
              <a:ext cx="614520" cy="614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 flipV="1">
              <a:off x="4319640" y="4984920"/>
              <a:ext cx="538200" cy="537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 flipV="1">
              <a:off x="5087880" y="4370400"/>
              <a:ext cx="401760" cy="40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 flipH="1">
              <a:off x="4260960" y="4336920"/>
              <a:ext cx="981000" cy="9795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 flipH="1">
              <a:off x="4530600" y="4624560"/>
              <a:ext cx="998640" cy="998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4768920" y="4684680"/>
              <a:ext cx="417600" cy="40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4959360" y="4869000"/>
              <a:ext cx="57240" cy="56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052960" y="495612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 flipV="1">
              <a:off x="5607000" y="4030560"/>
              <a:ext cx="247680" cy="249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837400" y="4029120"/>
              <a:ext cx="225360" cy="225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 flipH="1">
              <a:off x="3992400" y="5605560"/>
              <a:ext cx="250920" cy="249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3992400" y="5854680"/>
              <a:ext cx="15408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4068720" y="5896080"/>
              <a:ext cx="119520" cy="206640"/>
            </a:xfrm>
            <a:custGeom>
              <a:avLst/>
              <a:gdLst/>
              <a:ahLst/>
              <a:rect l="0" t="0" r="r" b="b"/>
              <a:pathLst>
                <a:path w="332" h="574">
                  <a:moveTo>
                    <a:pt x="332" y="0"/>
                  </a:moveTo>
                  <a:lnTo>
                    <a:pt x="0" y="0"/>
                  </a:lnTo>
                  <a:lnTo>
                    <a:pt x="166" y="574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929200" y="4089240"/>
              <a:ext cx="119520" cy="206640"/>
            </a:xfrm>
            <a:custGeom>
              <a:avLst/>
              <a:gdLst/>
              <a:ahLst/>
              <a:rect l="0" t="0" r="r" b="b"/>
              <a:pathLst>
                <a:path w="332" h="574">
                  <a:moveTo>
                    <a:pt x="332" y="0"/>
                  </a:moveTo>
                  <a:lnTo>
                    <a:pt x="0" y="0"/>
                  </a:lnTo>
                  <a:lnTo>
                    <a:pt x="166" y="574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846760" y="1892160"/>
              <a:ext cx="1982880" cy="1889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864400" y="1895400"/>
              <a:ext cx="182880" cy="1879920"/>
            </a:xfrm>
            <a:custGeom>
              <a:avLst/>
              <a:gdLst/>
              <a:ahLst/>
              <a:rect l="0" t="0" r="r" b="b"/>
              <a:pathLst>
                <a:path fill="none" w="508" h="5222">
                  <a:moveTo>
                    <a:pt x="0" y="0"/>
                  </a:moveTo>
                  <a:lnTo>
                    <a:pt x="8" y="105"/>
                  </a:lnTo>
                  <a:lnTo>
                    <a:pt x="44" y="255"/>
                  </a:lnTo>
                  <a:lnTo>
                    <a:pt x="79" y="374"/>
                  </a:lnTo>
                  <a:lnTo>
                    <a:pt x="123" y="502"/>
                  </a:lnTo>
                  <a:lnTo>
                    <a:pt x="167" y="630"/>
                  </a:lnTo>
                  <a:lnTo>
                    <a:pt x="167" y="758"/>
                  </a:lnTo>
                  <a:lnTo>
                    <a:pt x="123" y="974"/>
                  </a:lnTo>
                  <a:lnTo>
                    <a:pt x="123" y="1102"/>
                  </a:lnTo>
                  <a:lnTo>
                    <a:pt x="123" y="1314"/>
                  </a:lnTo>
                  <a:lnTo>
                    <a:pt x="167" y="1486"/>
                  </a:lnTo>
                  <a:lnTo>
                    <a:pt x="207" y="1613"/>
                  </a:lnTo>
                  <a:lnTo>
                    <a:pt x="251" y="1825"/>
                  </a:lnTo>
                  <a:lnTo>
                    <a:pt x="251" y="1997"/>
                  </a:lnTo>
                  <a:lnTo>
                    <a:pt x="296" y="2125"/>
                  </a:lnTo>
                  <a:lnTo>
                    <a:pt x="296" y="2253"/>
                  </a:lnTo>
                  <a:lnTo>
                    <a:pt x="336" y="2381"/>
                  </a:lnTo>
                  <a:lnTo>
                    <a:pt x="380" y="2509"/>
                  </a:lnTo>
                  <a:lnTo>
                    <a:pt x="424" y="2638"/>
                  </a:lnTo>
                  <a:lnTo>
                    <a:pt x="464" y="2765"/>
                  </a:lnTo>
                  <a:lnTo>
                    <a:pt x="464" y="2893"/>
                  </a:lnTo>
                  <a:lnTo>
                    <a:pt x="464" y="3021"/>
                  </a:lnTo>
                  <a:lnTo>
                    <a:pt x="464" y="3149"/>
                  </a:lnTo>
                  <a:lnTo>
                    <a:pt x="424" y="3277"/>
                  </a:lnTo>
                  <a:lnTo>
                    <a:pt x="380" y="3405"/>
                  </a:lnTo>
                  <a:lnTo>
                    <a:pt x="380" y="3577"/>
                  </a:lnTo>
                  <a:lnTo>
                    <a:pt x="336" y="3705"/>
                  </a:lnTo>
                  <a:lnTo>
                    <a:pt x="336" y="3833"/>
                  </a:lnTo>
                  <a:lnTo>
                    <a:pt x="336" y="3960"/>
                  </a:lnTo>
                  <a:lnTo>
                    <a:pt x="336" y="4088"/>
                  </a:lnTo>
                  <a:lnTo>
                    <a:pt x="336" y="4216"/>
                  </a:lnTo>
                  <a:lnTo>
                    <a:pt x="380" y="4344"/>
                  </a:lnTo>
                  <a:lnTo>
                    <a:pt x="424" y="4472"/>
                  </a:lnTo>
                  <a:lnTo>
                    <a:pt x="424" y="4600"/>
                  </a:lnTo>
                  <a:lnTo>
                    <a:pt x="424" y="4772"/>
                  </a:lnTo>
                  <a:lnTo>
                    <a:pt x="424" y="4900"/>
                  </a:lnTo>
                  <a:lnTo>
                    <a:pt x="464" y="5028"/>
                  </a:lnTo>
                  <a:lnTo>
                    <a:pt x="508" y="5155"/>
                  </a:lnTo>
                  <a:lnTo>
                    <a:pt x="468" y="5222"/>
                  </a:lnTo>
                  <a:lnTo>
                    <a:pt x="508" y="5200"/>
                  </a:lnTo>
                  <a:lnTo>
                    <a:pt x="503" y="521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721480" y="2917800"/>
              <a:ext cx="222120" cy="95580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5889600" y="3705120"/>
              <a:ext cx="146520" cy="101880"/>
            </a:xfrm>
            <a:custGeom>
              <a:avLst/>
              <a:gdLst/>
              <a:ahLst/>
              <a:rect l="0" t="0" r="r" b="b"/>
              <a:pathLst>
                <a:path w="407" h="283">
                  <a:moveTo>
                    <a:pt x="52" y="0"/>
                  </a:moveTo>
                  <a:lnTo>
                    <a:pt x="407" y="132"/>
                  </a:lnTo>
                  <a:lnTo>
                    <a:pt x="381" y="283"/>
                  </a:lnTo>
                  <a:lnTo>
                    <a:pt x="0" y="28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769000" y="1828800"/>
              <a:ext cx="82440" cy="1152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6108840" y="2092320"/>
              <a:ext cx="1459080" cy="1459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6837480" y="1954080"/>
              <a:ext cx="0" cy="714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837480" y="2765520"/>
              <a:ext cx="0" cy="11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6837480" y="299556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970600" y="2828880"/>
              <a:ext cx="7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786720" y="2828880"/>
              <a:ext cx="115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016760" y="282888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2167920" y="2593080"/>
              <a:ext cx="250200" cy="250200"/>
            </a:xfrm>
            <a:custGeom>
              <a:avLst/>
              <a:gdLst/>
              <a:ahLst/>
              <a:rect l="0" t="0" r="r" b="b"/>
              <a:pathLst>
                <a:path fill="none" w="695" h="695">
                  <a:moveTo>
                    <a:pt x="0" y="695"/>
                  </a:moveTo>
                  <a:lnTo>
                    <a:pt x="0" y="695"/>
                  </a:lnTo>
                  <a:cubicBezTo>
                    <a:pt x="122" y="695"/>
                    <a:pt x="242" y="663"/>
                    <a:pt x="348" y="602"/>
                  </a:cubicBezTo>
                  <a:cubicBezTo>
                    <a:pt x="453" y="541"/>
                    <a:pt x="541" y="453"/>
                    <a:pt x="602" y="347"/>
                  </a:cubicBezTo>
                  <a:cubicBezTo>
                    <a:pt x="663" y="242"/>
                    <a:pt x="695" y="122"/>
                    <a:pt x="695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2950560" y="3375720"/>
              <a:ext cx="250200" cy="250200"/>
            </a:xfrm>
            <a:custGeom>
              <a:avLst/>
              <a:gdLst/>
              <a:ahLst/>
              <a:rect l="0" t="0" r="r" b="b"/>
              <a:pathLst>
                <a:path fill="none" w="695" h="695">
                  <a:moveTo>
                    <a:pt x="0" y="695"/>
                  </a:moveTo>
                  <a:lnTo>
                    <a:pt x="0" y="695"/>
                  </a:lnTo>
                  <a:cubicBezTo>
                    <a:pt x="122" y="695"/>
                    <a:pt x="242" y="663"/>
                    <a:pt x="348" y="602"/>
                  </a:cubicBezTo>
                  <a:cubicBezTo>
                    <a:pt x="453" y="541"/>
                    <a:pt x="541" y="453"/>
                    <a:pt x="602" y="347"/>
                  </a:cubicBezTo>
                  <a:cubicBezTo>
                    <a:pt x="663" y="242"/>
                    <a:pt x="695" y="122"/>
                    <a:pt x="695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 flipV="1">
              <a:off x="2457360" y="2141640"/>
              <a:ext cx="595440" cy="595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 flipV="1">
              <a:off x="3051000" y="2752560"/>
              <a:ext cx="617760" cy="61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051000" y="2143080"/>
              <a:ext cx="614520" cy="614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 flipV="1">
              <a:off x="2305080" y="2948040"/>
              <a:ext cx="538200" cy="538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 flipV="1">
              <a:off x="3044880" y="2333520"/>
              <a:ext cx="430200" cy="433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 flipH="1">
              <a:off x="2227320" y="2819520"/>
              <a:ext cx="453960" cy="453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 flipH="1">
              <a:off x="2496960" y="3119400"/>
              <a:ext cx="460440" cy="460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925720" y="2841480"/>
              <a:ext cx="5724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 flipH="1" flipV="1">
              <a:off x="1749600" y="2819520"/>
              <a:ext cx="1238040" cy="1238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 flipV="1">
              <a:off x="3003480" y="3827520"/>
              <a:ext cx="230400" cy="230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 flipV="1">
              <a:off x="1762200" y="2583000"/>
              <a:ext cx="228600" cy="22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 flipH="1" flipV="1">
              <a:off x="3065400" y="3659040"/>
              <a:ext cx="168480" cy="168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1990800" y="2583000"/>
              <a:ext cx="183960" cy="183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203640" y="2876400"/>
              <a:ext cx="168120" cy="168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2957400" y="3106800"/>
              <a:ext cx="168480" cy="168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 flipV="1">
              <a:off x="2895480" y="2814480"/>
              <a:ext cx="92160" cy="92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 flipH="1" flipV="1">
              <a:off x="2558880" y="2476440"/>
              <a:ext cx="306720" cy="30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3065400" y="2984400"/>
              <a:ext cx="338040" cy="33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 flipV="1">
              <a:off x="2911320" y="2292480"/>
              <a:ext cx="292320" cy="29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 flipV="1">
              <a:off x="3203640" y="2583000"/>
              <a:ext cx="291960" cy="29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 flipH="1" flipV="1">
              <a:off x="2773440" y="24303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 flipH="1" flipV="1">
              <a:off x="2529000" y="26766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2919240" y="2573280"/>
              <a:ext cx="39960" cy="5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2673360" y="2825640"/>
              <a:ext cx="536400" cy="5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2952720" y="2238480"/>
              <a:ext cx="181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2819520" y="237168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2838600" y="2495520"/>
              <a:ext cx="161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3419640" y="2666880"/>
              <a:ext cx="161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3295800" y="2781360"/>
              <a:ext cx="342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3247920" y="2914560"/>
              <a:ext cx="257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3343320" y="3019320"/>
              <a:ext cx="4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914480" y="2657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2495520" y="269568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1781280" y="2806560"/>
              <a:ext cx="84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1886040" y="2943360"/>
              <a:ext cx="666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2019240" y="3086280"/>
              <a:ext cx="409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2162160" y="322884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2857680" y="3219480"/>
              <a:ext cx="209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2724120" y="3362400"/>
              <a:ext cx="324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2571840" y="3505320"/>
              <a:ext cx="438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2610000" y="3657600"/>
              <a:ext cx="438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2752560" y="3809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2886120" y="3952800"/>
              <a:ext cx="209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4" name=""/>
            <p:cNvSpPr txBox="1"/>
            <p:nvPr/>
          </p:nvSpPr>
          <p:spPr>
            <a:xfrm>
              <a:off x="1514520" y="4368960"/>
              <a:ext cx="16128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C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A-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5" name=""/>
            <p:cNvSpPr txBox="1"/>
            <p:nvPr/>
          </p:nvSpPr>
          <p:spPr>
            <a:xfrm>
              <a:off x="5958000" y="3905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6" name=""/>
            <p:cNvSpPr txBox="1"/>
            <p:nvPr/>
          </p:nvSpPr>
          <p:spPr>
            <a:xfrm>
              <a:off x="3870360" y="59198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7" name=""/>
          <p:cNvSpPr/>
          <p:nvPr/>
        </p:nvSpPr>
        <p:spPr>
          <a:xfrm>
            <a:off x="5780160" y="1828800"/>
            <a:ext cx="82440" cy="1152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8" name=""/>
          <p:cNvSpPr txBox="1"/>
          <p:nvPr/>
        </p:nvSpPr>
        <p:spPr>
          <a:xfrm>
            <a:off x="70812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ing Con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9" name=""/>
          <p:cNvSpPr txBox="1"/>
          <p:nvPr/>
        </p:nvSpPr>
        <p:spPr>
          <a:xfrm>
            <a:off x="685800" y="1639800"/>
            <a:ext cx="810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reak symb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hatching Sym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hatching Standard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hatching thin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hatching larg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itudinal sections of thin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hardware in longitudinal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"/>
          <p:cNvSpPr txBox="1"/>
          <p:nvPr/>
        </p:nvSpPr>
        <p:spPr>
          <a:xfrm>
            <a:off x="1211400" y="2298600"/>
            <a:ext cx="68151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Break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"/>
          <p:cNvSpPr txBox="1"/>
          <p:nvPr/>
        </p:nvSpPr>
        <p:spPr>
          <a:xfrm>
            <a:off x="1839960" y="214200"/>
            <a:ext cx="5157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Break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2" name=""/>
          <p:cNvGrpSpPr/>
          <p:nvPr/>
        </p:nvGrpSpPr>
        <p:grpSpPr>
          <a:xfrm>
            <a:off x="2436840" y="1469880"/>
            <a:ext cx="4042080" cy="506520"/>
            <a:chOff x="2436840" y="1469880"/>
            <a:chExt cx="4042080" cy="506520"/>
          </a:xfrm>
        </p:grpSpPr>
        <p:sp>
          <p:nvSpPr>
            <p:cNvPr id="5133" name=""/>
            <p:cNvSpPr/>
            <p:nvPr/>
          </p:nvSpPr>
          <p:spPr>
            <a:xfrm>
              <a:off x="2436840" y="1469880"/>
              <a:ext cx="4042080" cy="152640"/>
            </a:xfrm>
            <a:custGeom>
              <a:avLst/>
              <a:gdLst/>
              <a:ahLst/>
              <a:rect l="0" t="0" r="r" b="b"/>
              <a:pathLst>
                <a:path fill="none" w="11228" h="424">
                  <a:moveTo>
                    <a:pt x="0" y="0"/>
                  </a:moveTo>
                  <a:lnTo>
                    <a:pt x="132" y="0"/>
                  </a:lnTo>
                  <a:lnTo>
                    <a:pt x="260" y="83"/>
                  </a:lnTo>
                  <a:lnTo>
                    <a:pt x="388" y="127"/>
                  </a:lnTo>
                  <a:lnTo>
                    <a:pt x="515" y="127"/>
                  </a:lnTo>
                  <a:lnTo>
                    <a:pt x="643" y="83"/>
                  </a:lnTo>
                  <a:lnTo>
                    <a:pt x="771" y="39"/>
                  </a:lnTo>
                  <a:lnTo>
                    <a:pt x="899" y="39"/>
                  </a:lnTo>
                  <a:lnTo>
                    <a:pt x="1027" y="39"/>
                  </a:lnTo>
                  <a:lnTo>
                    <a:pt x="1155" y="39"/>
                  </a:lnTo>
                  <a:lnTo>
                    <a:pt x="1283" y="0"/>
                  </a:lnTo>
                  <a:lnTo>
                    <a:pt x="2734" y="0"/>
                  </a:lnTo>
                  <a:lnTo>
                    <a:pt x="2861" y="39"/>
                  </a:lnTo>
                  <a:lnTo>
                    <a:pt x="2989" y="127"/>
                  </a:lnTo>
                  <a:lnTo>
                    <a:pt x="3161" y="127"/>
                  </a:lnTo>
                  <a:lnTo>
                    <a:pt x="3373" y="127"/>
                  </a:lnTo>
                  <a:lnTo>
                    <a:pt x="3501" y="167"/>
                  </a:lnTo>
                  <a:lnTo>
                    <a:pt x="3629" y="167"/>
                  </a:lnTo>
                  <a:lnTo>
                    <a:pt x="3801" y="167"/>
                  </a:lnTo>
                  <a:lnTo>
                    <a:pt x="3968" y="127"/>
                  </a:lnTo>
                  <a:lnTo>
                    <a:pt x="4101" y="83"/>
                  </a:lnTo>
                  <a:lnTo>
                    <a:pt x="4228" y="83"/>
                  </a:lnTo>
                  <a:lnTo>
                    <a:pt x="4740" y="83"/>
                  </a:lnTo>
                  <a:lnTo>
                    <a:pt x="4868" y="83"/>
                  </a:lnTo>
                  <a:lnTo>
                    <a:pt x="5035" y="127"/>
                  </a:lnTo>
                  <a:lnTo>
                    <a:pt x="5207" y="167"/>
                  </a:lnTo>
                  <a:lnTo>
                    <a:pt x="5335" y="256"/>
                  </a:lnTo>
                  <a:lnTo>
                    <a:pt x="5463" y="256"/>
                  </a:lnTo>
                  <a:lnTo>
                    <a:pt x="5976" y="256"/>
                  </a:lnTo>
                  <a:lnTo>
                    <a:pt x="6104" y="296"/>
                  </a:lnTo>
                  <a:lnTo>
                    <a:pt x="6231" y="256"/>
                  </a:lnTo>
                  <a:lnTo>
                    <a:pt x="6359" y="167"/>
                  </a:lnTo>
                  <a:lnTo>
                    <a:pt x="6531" y="167"/>
                  </a:lnTo>
                  <a:lnTo>
                    <a:pt x="6659" y="167"/>
                  </a:lnTo>
                  <a:lnTo>
                    <a:pt x="7171" y="167"/>
                  </a:lnTo>
                  <a:lnTo>
                    <a:pt x="7343" y="211"/>
                  </a:lnTo>
                  <a:lnTo>
                    <a:pt x="7471" y="211"/>
                  </a:lnTo>
                  <a:lnTo>
                    <a:pt x="7598" y="167"/>
                  </a:lnTo>
                  <a:lnTo>
                    <a:pt x="7726" y="83"/>
                  </a:lnTo>
                  <a:lnTo>
                    <a:pt x="7898" y="83"/>
                  </a:lnTo>
                  <a:lnTo>
                    <a:pt x="8026" y="39"/>
                  </a:lnTo>
                  <a:lnTo>
                    <a:pt x="8154" y="39"/>
                  </a:lnTo>
                  <a:lnTo>
                    <a:pt x="8326" y="39"/>
                  </a:lnTo>
                  <a:lnTo>
                    <a:pt x="9689" y="83"/>
                  </a:lnTo>
                  <a:lnTo>
                    <a:pt x="9817" y="127"/>
                  </a:lnTo>
                  <a:lnTo>
                    <a:pt x="10033" y="340"/>
                  </a:lnTo>
                  <a:lnTo>
                    <a:pt x="10200" y="424"/>
                  </a:lnTo>
                  <a:lnTo>
                    <a:pt x="10456" y="384"/>
                  </a:lnTo>
                  <a:lnTo>
                    <a:pt x="10584" y="384"/>
                  </a:lnTo>
                  <a:lnTo>
                    <a:pt x="10716" y="384"/>
                  </a:lnTo>
                  <a:lnTo>
                    <a:pt x="10844" y="340"/>
                  </a:lnTo>
                  <a:lnTo>
                    <a:pt x="10972" y="256"/>
                  </a:lnTo>
                  <a:lnTo>
                    <a:pt x="11100" y="211"/>
                  </a:lnTo>
                  <a:lnTo>
                    <a:pt x="11228" y="127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"/>
            <p:cNvSpPr txBox="1"/>
            <p:nvPr/>
          </p:nvSpPr>
          <p:spPr>
            <a:xfrm>
              <a:off x="2921040" y="1579680"/>
              <a:ext cx="29988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hort Break Line (Heavy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5" name=""/>
          <p:cNvSpPr txBox="1"/>
          <p:nvPr/>
        </p:nvSpPr>
        <p:spPr>
          <a:xfrm>
            <a:off x="1839960" y="214200"/>
            <a:ext cx="5157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Break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6" name=""/>
          <p:cNvGrpSpPr/>
          <p:nvPr/>
        </p:nvGrpSpPr>
        <p:grpSpPr>
          <a:xfrm>
            <a:off x="2392200" y="1469880"/>
            <a:ext cx="4119840" cy="1258920"/>
            <a:chOff x="2392200" y="1469880"/>
            <a:chExt cx="4119840" cy="1258920"/>
          </a:xfrm>
        </p:grpSpPr>
        <p:grpSp>
          <p:nvGrpSpPr>
            <p:cNvPr id="5137" name=""/>
            <p:cNvGrpSpPr/>
            <p:nvPr/>
          </p:nvGrpSpPr>
          <p:grpSpPr>
            <a:xfrm>
              <a:off x="2392200" y="2050920"/>
              <a:ext cx="4119840" cy="217440"/>
              <a:chOff x="2392200" y="2050920"/>
              <a:chExt cx="4119840" cy="217440"/>
            </a:xfrm>
          </p:grpSpPr>
          <p:sp>
            <p:nvSpPr>
              <p:cNvPr id="5138" name=""/>
              <p:cNvSpPr/>
              <p:nvPr/>
            </p:nvSpPr>
            <p:spPr>
              <a:xfrm>
                <a:off x="2392200" y="2160720"/>
                <a:ext cx="1229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3821040" y="2160720"/>
                <a:ext cx="119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5235480" y="2160720"/>
                <a:ext cx="1276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41" name=""/>
              <p:cNvGrpSpPr/>
              <p:nvPr/>
            </p:nvGrpSpPr>
            <p:grpSpPr>
              <a:xfrm>
                <a:off x="5035680" y="2068560"/>
                <a:ext cx="198360" cy="199800"/>
                <a:chOff x="5035680" y="2068560"/>
                <a:chExt cx="198360" cy="199800"/>
              </a:xfrm>
            </p:grpSpPr>
            <p:sp>
              <p:nvSpPr>
                <p:cNvPr id="5142" name=""/>
                <p:cNvSpPr/>
                <p:nvPr/>
              </p:nvSpPr>
              <p:spPr>
                <a:xfrm flipV="1">
                  <a:off x="5035680" y="206856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3" name=""/>
                <p:cNvSpPr/>
                <p:nvPr/>
              </p:nvSpPr>
              <p:spPr>
                <a:xfrm>
                  <a:off x="5035680" y="2068560"/>
                  <a:ext cx="183960" cy="183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V="1">
                  <a:off x="5234040" y="2160720"/>
                  <a:ext cx="0" cy="107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5" name=""/>
              <p:cNvGrpSpPr/>
              <p:nvPr/>
            </p:nvGrpSpPr>
            <p:grpSpPr>
              <a:xfrm>
                <a:off x="3621240" y="2050920"/>
                <a:ext cx="198360" cy="200160"/>
                <a:chOff x="3621240" y="2050920"/>
                <a:chExt cx="198360" cy="200160"/>
              </a:xfrm>
            </p:grpSpPr>
            <p:sp>
              <p:nvSpPr>
                <p:cNvPr id="5146" name=""/>
                <p:cNvSpPr/>
                <p:nvPr/>
              </p:nvSpPr>
              <p:spPr>
                <a:xfrm flipV="1">
                  <a:off x="3621240" y="205092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>
                  <a:off x="3621240" y="2050920"/>
                  <a:ext cx="183960" cy="184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8" name=""/>
                <p:cNvSpPr/>
                <p:nvPr/>
              </p:nvSpPr>
              <p:spPr>
                <a:xfrm flipV="1">
                  <a:off x="3819600" y="2143080"/>
                  <a:ext cx="0" cy="10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49" name=""/>
            <p:cNvSpPr txBox="1"/>
            <p:nvPr/>
          </p:nvSpPr>
          <p:spPr>
            <a:xfrm>
              <a:off x="3057480" y="2332080"/>
              <a:ext cx="2787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ng Break Line (Thi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2436840" y="1469880"/>
              <a:ext cx="4042080" cy="152640"/>
            </a:xfrm>
            <a:custGeom>
              <a:avLst/>
              <a:gdLst/>
              <a:ahLst/>
              <a:rect l="0" t="0" r="r" b="b"/>
              <a:pathLst>
                <a:path fill="none" w="11228" h="424">
                  <a:moveTo>
                    <a:pt x="0" y="0"/>
                  </a:moveTo>
                  <a:lnTo>
                    <a:pt x="132" y="0"/>
                  </a:lnTo>
                  <a:lnTo>
                    <a:pt x="260" y="83"/>
                  </a:lnTo>
                  <a:lnTo>
                    <a:pt x="388" y="127"/>
                  </a:lnTo>
                  <a:lnTo>
                    <a:pt x="515" y="127"/>
                  </a:lnTo>
                  <a:lnTo>
                    <a:pt x="643" y="83"/>
                  </a:lnTo>
                  <a:lnTo>
                    <a:pt x="771" y="39"/>
                  </a:lnTo>
                  <a:lnTo>
                    <a:pt x="899" y="39"/>
                  </a:lnTo>
                  <a:lnTo>
                    <a:pt x="1027" y="39"/>
                  </a:lnTo>
                  <a:lnTo>
                    <a:pt x="1155" y="39"/>
                  </a:lnTo>
                  <a:lnTo>
                    <a:pt x="1283" y="0"/>
                  </a:lnTo>
                  <a:lnTo>
                    <a:pt x="2734" y="0"/>
                  </a:lnTo>
                  <a:lnTo>
                    <a:pt x="2861" y="39"/>
                  </a:lnTo>
                  <a:lnTo>
                    <a:pt x="2989" y="127"/>
                  </a:lnTo>
                  <a:lnTo>
                    <a:pt x="3161" y="127"/>
                  </a:lnTo>
                  <a:lnTo>
                    <a:pt x="3373" y="127"/>
                  </a:lnTo>
                  <a:lnTo>
                    <a:pt x="3501" y="167"/>
                  </a:lnTo>
                  <a:lnTo>
                    <a:pt x="3629" y="167"/>
                  </a:lnTo>
                  <a:lnTo>
                    <a:pt x="3801" y="167"/>
                  </a:lnTo>
                  <a:lnTo>
                    <a:pt x="3968" y="127"/>
                  </a:lnTo>
                  <a:lnTo>
                    <a:pt x="4101" y="83"/>
                  </a:lnTo>
                  <a:lnTo>
                    <a:pt x="4228" y="83"/>
                  </a:lnTo>
                  <a:lnTo>
                    <a:pt x="4740" y="83"/>
                  </a:lnTo>
                  <a:lnTo>
                    <a:pt x="4868" y="83"/>
                  </a:lnTo>
                  <a:lnTo>
                    <a:pt x="5035" y="127"/>
                  </a:lnTo>
                  <a:lnTo>
                    <a:pt x="5207" y="167"/>
                  </a:lnTo>
                  <a:lnTo>
                    <a:pt x="5335" y="256"/>
                  </a:lnTo>
                  <a:lnTo>
                    <a:pt x="5463" y="256"/>
                  </a:lnTo>
                  <a:lnTo>
                    <a:pt x="5976" y="256"/>
                  </a:lnTo>
                  <a:lnTo>
                    <a:pt x="6104" y="296"/>
                  </a:lnTo>
                  <a:lnTo>
                    <a:pt x="6231" y="256"/>
                  </a:lnTo>
                  <a:lnTo>
                    <a:pt x="6359" y="167"/>
                  </a:lnTo>
                  <a:lnTo>
                    <a:pt x="6531" y="167"/>
                  </a:lnTo>
                  <a:lnTo>
                    <a:pt x="6659" y="167"/>
                  </a:lnTo>
                  <a:lnTo>
                    <a:pt x="7171" y="167"/>
                  </a:lnTo>
                  <a:lnTo>
                    <a:pt x="7343" y="211"/>
                  </a:lnTo>
                  <a:lnTo>
                    <a:pt x="7471" y="211"/>
                  </a:lnTo>
                  <a:lnTo>
                    <a:pt x="7598" y="167"/>
                  </a:lnTo>
                  <a:lnTo>
                    <a:pt x="7726" y="83"/>
                  </a:lnTo>
                  <a:lnTo>
                    <a:pt x="7898" y="83"/>
                  </a:lnTo>
                  <a:lnTo>
                    <a:pt x="8026" y="39"/>
                  </a:lnTo>
                  <a:lnTo>
                    <a:pt x="8154" y="39"/>
                  </a:lnTo>
                  <a:lnTo>
                    <a:pt x="8326" y="39"/>
                  </a:lnTo>
                  <a:lnTo>
                    <a:pt x="9689" y="83"/>
                  </a:lnTo>
                  <a:lnTo>
                    <a:pt x="9817" y="127"/>
                  </a:lnTo>
                  <a:lnTo>
                    <a:pt x="10033" y="340"/>
                  </a:lnTo>
                  <a:lnTo>
                    <a:pt x="10200" y="424"/>
                  </a:lnTo>
                  <a:lnTo>
                    <a:pt x="10456" y="384"/>
                  </a:lnTo>
                  <a:lnTo>
                    <a:pt x="10584" y="384"/>
                  </a:lnTo>
                  <a:lnTo>
                    <a:pt x="10716" y="384"/>
                  </a:lnTo>
                  <a:lnTo>
                    <a:pt x="10844" y="340"/>
                  </a:lnTo>
                  <a:lnTo>
                    <a:pt x="10972" y="256"/>
                  </a:lnTo>
                  <a:lnTo>
                    <a:pt x="11100" y="211"/>
                  </a:lnTo>
                  <a:lnTo>
                    <a:pt x="11228" y="127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1" name=""/>
            <p:cNvSpPr txBox="1"/>
            <p:nvPr/>
          </p:nvSpPr>
          <p:spPr>
            <a:xfrm>
              <a:off x="2921040" y="1579680"/>
              <a:ext cx="29988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hort Break Line (Heavy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2" name=""/>
          <p:cNvSpPr txBox="1"/>
          <p:nvPr/>
        </p:nvSpPr>
        <p:spPr>
          <a:xfrm>
            <a:off x="1839960" y="214200"/>
            <a:ext cx="5157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Break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3" name=""/>
          <p:cNvGrpSpPr/>
          <p:nvPr/>
        </p:nvGrpSpPr>
        <p:grpSpPr>
          <a:xfrm>
            <a:off x="573120" y="1469880"/>
            <a:ext cx="5938920" cy="3025800"/>
            <a:chOff x="573120" y="1469880"/>
            <a:chExt cx="5938920" cy="3025800"/>
          </a:xfrm>
        </p:grpSpPr>
        <p:sp>
          <p:nvSpPr>
            <p:cNvPr id="5154" name=""/>
            <p:cNvSpPr/>
            <p:nvPr/>
          </p:nvSpPr>
          <p:spPr>
            <a:xfrm>
              <a:off x="3983040" y="2946240"/>
              <a:ext cx="0" cy="109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 flipH="1">
              <a:off x="2865600" y="293220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 flipH="1">
              <a:off x="2917800" y="403704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 flipH="1">
              <a:off x="3505320" y="348444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 flipH="1">
              <a:off x="3330720" y="348444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 flipH="1">
              <a:off x="2496960" y="3484440"/>
              <a:ext cx="744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2832120" y="320832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2795760" y="3206520"/>
              <a:ext cx="71640" cy="316440"/>
            </a:xfrm>
            <a:custGeom>
              <a:avLst/>
              <a:gdLst/>
              <a:ahLst/>
              <a:rect l="0" t="0" r="r" b="b"/>
              <a:pathLst>
                <a:path fill="none" w="199" h="879">
                  <a:moveTo>
                    <a:pt x="199" y="879"/>
                  </a:moveTo>
                  <a:lnTo>
                    <a:pt x="199" y="879"/>
                  </a:lnTo>
                  <a:lnTo>
                    <a:pt x="199" y="878"/>
                  </a:lnTo>
                  <a:cubicBezTo>
                    <a:pt x="199" y="712"/>
                    <a:pt x="184" y="550"/>
                    <a:pt x="157" y="406"/>
                  </a:cubicBezTo>
                  <a:cubicBezTo>
                    <a:pt x="129" y="262"/>
                    <a:pt x="90" y="143"/>
                    <a:pt x="42" y="60"/>
                  </a:cubicBezTo>
                  <a:cubicBezTo>
                    <a:pt x="28" y="37"/>
                    <a:pt x="14" y="17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2864520" y="293688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2754360" y="293040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2765520" y="376092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2768760" y="347976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 flipV="1">
              <a:off x="887400" y="2932200"/>
              <a:ext cx="0" cy="1090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887400" y="403704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887400" y="293220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573120" y="348444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440000" y="348444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1628640" y="3484440"/>
              <a:ext cx="621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1898640" y="347184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2046240" y="3447720"/>
              <a:ext cx="71640" cy="316440"/>
            </a:xfrm>
            <a:custGeom>
              <a:avLst/>
              <a:gdLst/>
              <a:ahLst/>
              <a:rect l="0" t="0" r="r" b="b"/>
              <a:pathLst>
                <a:path fill="none" w="199" h="879">
                  <a:moveTo>
                    <a:pt x="199" y="879"/>
                  </a:moveTo>
                  <a:lnTo>
                    <a:pt x="199" y="879"/>
                  </a:lnTo>
                  <a:lnTo>
                    <a:pt x="199" y="878"/>
                  </a:lnTo>
                  <a:cubicBezTo>
                    <a:pt x="199" y="712"/>
                    <a:pt x="184" y="550"/>
                    <a:pt x="157" y="406"/>
                  </a:cubicBezTo>
                  <a:cubicBezTo>
                    <a:pt x="129" y="262"/>
                    <a:pt x="90" y="143"/>
                    <a:pt x="42" y="60"/>
                  </a:cubicBezTo>
                  <a:cubicBezTo>
                    <a:pt x="28" y="37"/>
                    <a:pt x="14" y="17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1899360" y="375300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5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2004840" y="375300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6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1943280" y="293220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1987560" y="319716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2324160" y="3484440"/>
              <a:ext cx="100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951200" y="3452760"/>
              <a:ext cx="149760" cy="444960"/>
            </a:xfrm>
            <a:custGeom>
              <a:avLst/>
              <a:gdLst/>
              <a:ahLst/>
              <a:rect l="0" t="0" r="r" b="b"/>
              <a:pathLst>
                <a:path w="416" h="1236">
                  <a:moveTo>
                    <a:pt x="243" y="30"/>
                  </a:moveTo>
                  <a:lnTo>
                    <a:pt x="203" y="83"/>
                  </a:lnTo>
                  <a:lnTo>
                    <a:pt x="172" y="123"/>
                  </a:lnTo>
                  <a:lnTo>
                    <a:pt x="124" y="171"/>
                  </a:lnTo>
                  <a:lnTo>
                    <a:pt x="120" y="198"/>
                  </a:lnTo>
                  <a:lnTo>
                    <a:pt x="83" y="251"/>
                  </a:lnTo>
                  <a:lnTo>
                    <a:pt x="70" y="291"/>
                  </a:lnTo>
                  <a:lnTo>
                    <a:pt x="57" y="331"/>
                  </a:lnTo>
                  <a:lnTo>
                    <a:pt x="44" y="371"/>
                  </a:lnTo>
                  <a:lnTo>
                    <a:pt x="39" y="411"/>
                  </a:lnTo>
                  <a:lnTo>
                    <a:pt x="26" y="464"/>
                  </a:lnTo>
                  <a:lnTo>
                    <a:pt x="17" y="508"/>
                  </a:lnTo>
                  <a:lnTo>
                    <a:pt x="13" y="547"/>
                  </a:lnTo>
                  <a:lnTo>
                    <a:pt x="13" y="574"/>
                  </a:lnTo>
                  <a:lnTo>
                    <a:pt x="4" y="600"/>
                  </a:lnTo>
                  <a:lnTo>
                    <a:pt x="4" y="640"/>
                  </a:lnTo>
                  <a:lnTo>
                    <a:pt x="0" y="688"/>
                  </a:lnTo>
                  <a:lnTo>
                    <a:pt x="4" y="719"/>
                  </a:lnTo>
                  <a:lnTo>
                    <a:pt x="0" y="746"/>
                  </a:lnTo>
                  <a:lnTo>
                    <a:pt x="0" y="812"/>
                  </a:lnTo>
                  <a:lnTo>
                    <a:pt x="0" y="825"/>
                  </a:lnTo>
                  <a:lnTo>
                    <a:pt x="4" y="865"/>
                  </a:lnTo>
                  <a:lnTo>
                    <a:pt x="4" y="891"/>
                  </a:lnTo>
                  <a:lnTo>
                    <a:pt x="13" y="928"/>
                  </a:lnTo>
                  <a:lnTo>
                    <a:pt x="26" y="998"/>
                  </a:lnTo>
                  <a:lnTo>
                    <a:pt x="39" y="1060"/>
                  </a:lnTo>
                  <a:lnTo>
                    <a:pt x="52" y="1104"/>
                  </a:lnTo>
                  <a:lnTo>
                    <a:pt x="70" y="1152"/>
                  </a:lnTo>
                  <a:lnTo>
                    <a:pt x="106" y="1197"/>
                  </a:lnTo>
                  <a:lnTo>
                    <a:pt x="146" y="1223"/>
                  </a:lnTo>
                  <a:lnTo>
                    <a:pt x="190" y="1236"/>
                  </a:lnTo>
                  <a:lnTo>
                    <a:pt x="239" y="1232"/>
                  </a:lnTo>
                  <a:lnTo>
                    <a:pt x="283" y="1219"/>
                  </a:lnTo>
                  <a:lnTo>
                    <a:pt x="309" y="1192"/>
                  </a:lnTo>
                  <a:lnTo>
                    <a:pt x="337" y="1152"/>
                  </a:lnTo>
                  <a:lnTo>
                    <a:pt x="350" y="1113"/>
                  </a:lnTo>
                  <a:lnTo>
                    <a:pt x="363" y="1073"/>
                  </a:lnTo>
                  <a:lnTo>
                    <a:pt x="376" y="1033"/>
                  </a:lnTo>
                  <a:lnTo>
                    <a:pt x="390" y="994"/>
                  </a:lnTo>
                  <a:lnTo>
                    <a:pt x="390" y="954"/>
                  </a:lnTo>
                  <a:lnTo>
                    <a:pt x="403" y="913"/>
                  </a:lnTo>
                  <a:lnTo>
                    <a:pt x="403" y="874"/>
                  </a:lnTo>
                  <a:lnTo>
                    <a:pt x="416" y="834"/>
                  </a:lnTo>
                  <a:lnTo>
                    <a:pt x="416" y="794"/>
                  </a:lnTo>
                  <a:lnTo>
                    <a:pt x="416" y="741"/>
                  </a:lnTo>
                  <a:lnTo>
                    <a:pt x="416" y="702"/>
                  </a:lnTo>
                  <a:lnTo>
                    <a:pt x="416" y="662"/>
                  </a:lnTo>
                  <a:lnTo>
                    <a:pt x="416" y="622"/>
                  </a:lnTo>
                  <a:lnTo>
                    <a:pt x="416" y="583"/>
                  </a:lnTo>
                  <a:lnTo>
                    <a:pt x="416" y="543"/>
                  </a:lnTo>
                  <a:lnTo>
                    <a:pt x="412" y="508"/>
                  </a:lnTo>
                  <a:lnTo>
                    <a:pt x="403" y="468"/>
                  </a:lnTo>
                  <a:lnTo>
                    <a:pt x="398" y="437"/>
                  </a:lnTo>
                  <a:lnTo>
                    <a:pt x="390" y="384"/>
                  </a:lnTo>
                  <a:lnTo>
                    <a:pt x="376" y="344"/>
                  </a:lnTo>
                  <a:lnTo>
                    <a:pt x="363" y="291"/>
                  </a:lnTo>
                  <a:lnTo>
                    <a:pt x="359" y="251"/>
                  </a:lnTo>
                  <a:lnTo>
                    <a:pt x="337" y="211"/>
                  </a:lnTo>
                  <a:lnTo>
                    <a:pt x="323" y="171"/>
                  </a:lnTo>
                  <a:lnTo>
                    <a:pt x="309" y="132"/>
                  </a:lnTo>
                  <a:lnTo>
                    <a:pt x="296" y="92"/>
                  </a:lnTo>
                  <a:lnTo>
                    <a:pt x="269" y="57"/>
                  </a:lnTo>
                  <a:lnTo>
                    <a:pt x="256" y="0"/>
                  </a:lnTo>
                  <a:lnTo>
                    <a:pt x="243" y="30"/>
                  </a:lnTo>
                  <a:close/>
                </a:path>
              </a:pathLst>
            </a:cu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2776680" y="3079800"/>
              <a:ext cx="149760" cy="444960"/>
            </a:xfrm>
            <a:custGeom>
              <a:avLst/>
              <a:gdLst/>
              <a:ahLst/>
              <a:rect l="0" t="0" r="r" b="b"/>
              <a:pathLst>
                <a:path w="416" h="1236">
                  <a:moveTo>
                    <a:pt x="172" y="1205"/>
                  </a:moveTo>
                  <a:lnTo>
                    <a:pt x="212" y="1152"/>
                  </a:lnTo>
                  <a:lnTo>
                    <a:pt x="243" y="1113"/>
                  </a:lnTo>
                  <a:lnTo>
                    <a:pt x="292" y="1064"/>
                  </a:lnTo>
                  <a:lnTo>
                    <a:pt x="296" y="1038"/>
                  </a:lnTo>
                  <a:lnTo>
                    <a:pt x="332" y="985"/>
                  </a:lnTo>
                  <a:lnTo>
                    <a:pt x="345" y="945"/>
                  </a:lnTo>
                  <a:lnTo>
                    <a:pt x="359" y="904"/>
                  </a:lnTo>
                  <a:lnTo>
                    <a:pt x="372" y="865"/>
                  </a:lnTo>
                  <a:lnTo>
                    <a:pt x="376" y="825"/>
                  </a:lnTo>
                  <a:lnTo>
                    <a:pt x="390" y="772"/>
                  </a:lnTo>
                  <a:lnTo>
                    <a:pt x="398" y="728"/>
                  </a:lnTo>
                  <a:lnTo>
                    <a:pt x="403" y="688"/>
                  </a:lnTo>
                  <a:lnTo>
                    <a:pt x="403" y="662"/>
                  </a:lnTo>
                  <a:lnTo>
                    <a:pt x="398" y="636"/>
                  </a:lnTo>
                  <a:lnTo>
                    <a:pt x="412" y="596"/>
                  </a:lnTo>
                  <a:lnTo>
                    <a:pt x="416" y="547"/>
                  </a:lnTo>
                  <a:lnTo>
                    <a:pt x="412" y="516"/>
                  </a:lnTo>
                  <a:lnTo>
                    <a:pt x="416" y="490"/>
                  </a:lnTo>
                  <a:lnTo>
                    <a:pt x="416" y="424"/>
                  </a:lnTo>
                  <a:lnTo>
                    <a:pt x="416" y="411"/>
                  </a:lnTo>
                  <a:lnTo>
                    <a:pt x="412" y="371"/>
                  </a:lnTo>
                  <a:lnTo>
                    <a:pt x="412" y="344"/>
                  </a:lnTo>
                  <a:lnTo>
                    <a:pt x="403" y="308"/>
                  </a:lnTo>
                  <a:lnTo>
                    <a:pt x="390" y="238"/>
                  </a:lnTo>
                  <a:lnTo>
                    <a:pt x="376" y="176"/>
                  </a:lnTo>
                  <a:lnTo>
                    <a:pt x="363" y="132"/>
                  </a:lnTo>
                  <a:lnTo>
                    <a:pt x="345" y="83"/>
                  </a:lnTo>
                  <a:lnTo>
                    <a:pt x="309" y="39"/>
                  </a:lnTo>
                  <a:lnTo>
                    <a:pt x="269" y="13"/>
                  </a:lnTo>
                  <a:lnTo>
                    <a:pt x="225" y="0"/>
                  </a:lnTo>
                  <a:lnTo>
                    <a:pt x="177" y="4"/>
                  </a:lnTo>
                  <a:lnTo>
                    <a:pt x="133" y="17"/>
                  </a:lnTo>
                  <a:lnTo>
                    <a:pt x="106" y="44"/>
                  </a:lnTo>
                  <a:lnTo>
                    <a:pt x="79" y="83"/>
                  </a:lnTo>
                  <a:lnTo>
                    <a:pt x="66" y="123"/>
                  </a:lnTo>
                  <a:lnTo>
                    <a:pt x="52" y="163"/>
                  </a:lnTo>
                  <a:lnTo>
                    <a:pt x="39" y="202"/>
                  </a:lnTo>
                  <a:lnTo>
                    <a:pt x="26" y="242"/>
                  </a:lnTo>
                  <a:lnTo>
                    <a:pt x="26" y="282"/>
                  </a:lnTo>
                  <a:lnTo>
                    <a:pt x="13" y="322"/>
                  </a:lnTo>
                  <a:lnTo>
                    <a:pt x="13" y="362"/>
                  </a:lnTo>
                  <a:lnTo>
                    <a:pt x="0" y="402"/>
                  </a:lnTo>
                  <a:lnTo>
                    <a:pt x="0" y="441"/>
                  </a:lnTo>
                  <a:lnTo>
                    <a:pt x="0" y="494"/>
                  </a:lnTo>
                  <a:lnTo>
                    <a:pt x="0" y="534"/>
                  </a:lnTo>
                  <a:lnTo>
                    <a:pt x="0" y="574"/>
                  </a:lnTo>
                  <a:lnTo>
                    <a:pt x="0" y="613"/>
                  </a:lnTo>
                  <a:lnTo>
                    <a:pt x="0" y="653"/>
                  </a:lnTo>
                  <a:lnTo>
                    <a:pt x="0" y="693"/>
                  </a:lnTo>
                  <a:lnTo>
                    <a:pt x="4" y="728"/>
                  </a:lnTo>
                  <a:lnTo>
                    <a:pt x="13" y="768"/>
                  </a:lnTo>
                  <a:lnTo>
                    <a:pt x="17" y="799"/>
                  </a:lnTo>
                  <a:lnTo>
                    <a:pt x="26" y="852"/>
                  </a:lnTo>
                  <a:lnTo>
                    <a:pt x="39" y="891"/>
                  </a:lnTo>
                  <a:lnTo>
                    <a:pt x="52" y="945"/>
                  </a:lnTo>
                  <a:lnTo>
                    <a:pt x="79" y="985"/>
                  </a:lnTo>
                  <a:lnTo>
                    <a:pt x="79" y="1025"/>
                  </a:lnTo>
                  <a:lnTo>
                    <a:pt x="92" y="1064"/>
                  </a:lnTo>
                  <a:lnTo>
                    <a:pt x="106" y="1104"/>
                  </a:lnTo>
                  <a:lnTo>
                    <a:pt x="120" y="1144"/>
                  </a:lnTo>
                  <a:lnTo>
                    <a:pt x="146" y="1179"/>
                  </a:lnTo>
                  <a:lnTo>
                    <a:pt x="159" y="1236"/>
                  </a:lnTo>
                  <a:lnTo>
                    <a:pt x="172" y="1205"/>
                  </a:lnTo>
                  <a:close/>
                </a:path>
              </a:pathLst>
            </a:cu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1" name=""/>
            <p:cNvSpPr txBox="1"/>
            <p:nvPr/>
          </p:nvSpPr>
          <p:spPr>
            <a:xfrm>
              <a:off x="1542960" y="4098960"/>
              <a:ext cx="1820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ipe or Tub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2" name=""/>
            <p:cNvGrpSpPr/>
            <p:nvPr/>
          </p:nvGrpSpPr>
          <p:grpSpPr>
            <a:xfrm>
              <a:off x="2392200" y="2050920"/>
              <a:ext cx="4119840" cy="217440"/>
              <a:chOff x="2392200" y="2050920"/>
              <a:chExt cx="4119840" cy="217440"/>
            </a:xfrm>
          </p:grpSpPr>
          <p:sp>
            <p:nvSpPr>
              <p:cNvPr id="5183" name=""/>
              <p:cNvSpPr/>
              <p:nvPr/>
            </p:nvSpPr>
            <p:spPr>
              <a:xfrm>
                <a:off x="2392200" y="2160720"/>
                <a:ext cx="1229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3821040" y="2160720"/>
                <a:ext cx="119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5235480" y="2160720"/>
                <a:ext cx="1276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86" name=""/>
              <p:cNvGrpSpPr/>
              <p:nvPr/>
            </p:nvGrpSpPr>
            <p:grpSpPr>
              <a:xfrm>
                <a:off x="5035680" y="2068560"/>
                <a:ext cx="198360" cy="199800"/>
                <a:chOff x="5035680" y="2068560"/>
                <a:chExt cx="198360" cy="199800"/>
              </a:xfrm>
            </p:grpSpPr>
            <p:sp>
              <p:nvSpPr>
                <p:cNvPr id="5187" name=""/>
                <p:cNvSpPr/>
                <p:nvPr/>
              </p:nvSpPr>
              <p:spPr>
                <a:xfrm flipV="1">
                  <a:off x="5035680" y="206856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8" name=""/>
                <p:cNvSpPr/>
                <p:nvPr/>
              </p:nvSpPr>
              <p:spPr>
                <a:xfrm>
                  <a:off x="5035680" y="2068560"/>
                  <a:ext cx="183960" cy="183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9" name=""/>
                <p:cNvSpPr/>
                <p:nvPr/>
              </p:nvSpPr>
              <p:spPr>
                <a:xfrm flipV="1">
                  <a:off x="5234040" y="2160720"/>
                  <a:ext cx="0" cy="107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0" name=""/>
              <p:cNvGrpSpPr/>
              <p:nvPr/>
            </p:nvGrpSpPr>
            <p:grpSpPr>
              <a:xfrm>
                <a:off x="3621240" y="2050920"/>
                <a:ext cx="198360" cy="200160"/>
                <a:chOff x="3621240" y="2050920"/>
                <a:chExt cx="198360" cy="200160"/>
              </a:xfrm>
            </p:grpSpPr>
            <p:sp>
              <p:nvSpPr>
                <p:cNvPr id="5191" name=""/>
                <p:cNvSpPr/>
                <p:nvPr/>
              </p:nvSpPr>
              <p:spPr>
                <a:xfrm flipV="1">
                  <a:off x="3621240" y="205092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2" name=""/>
                <p:cNvSpPr/>
                <p:nvPr/>
              </p:nvSpPr>
              <p:spPr>
                <a:xfrm>
                  <a:off x="3621240" y="2050920"/>
                  <a:ext cx="183960" cy="184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3" name=""/>
                <p:cNvSpPr/>
                <p:nvPr/>
              </p:nvSpPr>
              <p:spPr>
                <a:xfrm flipV="1">
                  <a:off x="3819600" y="2143080"/>
                  <a:ext cx="0" cy="10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4" name=""/>
            <p:cNvSpPr txBox="1"/>
            <p:nvPr/>
          </p:nvSpPr>
          <p:spPr>
            <a:xfrm>
              <a:off x="3057480" y="2332080"/>
              <a:ext cx="2787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ng Break Line (Thi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2436840" y="1469880"/>
              <a:ext cx="4042080" cy="152640"/>
            </a:xfrm>
            <a:custGeom>
              <a:avLst/>
              <a:gdLst/>
              <a:ahLst/>
              <a:rect l="0" t="0" r="r" b="b"/>
              <a:pathLst>
                <a:path fill="none" w="11228" h="424">
                  <a:moveTo>
                    <a:pt x="0" y="0"/>
                  </a:moveTo>
                  <a:lnTo>
                    <a:pt x="132" y="0"/>
                  </a:lnTo>
                  <a:lnTo>
                    <a:pt x="260" y="83"/>
                  </a:lnTo>
                  <a:lnTo>
                    <a:pt x="388" y="127"/>
                  </a:lnTo>
                  <a:lnTo>
                    <a:pt x="515" y="127"/>
                  </a:lnTo>
                  <a:lnTo>
                    <a:pt x="643" y="83"/>
                  </a:lnTo>
                  <a:lnTo>
                    <a:pt x="771" y="39"/>
                  </a:lnTo>
                  <a:lnTo>
                    <a:pt x="899" y="39"/>
                  </a:lnTo>
                  <a:lnTo>
                    <a:pt x="1027" y="39"/>
                  </a:lnTo>
                  <a:lnTo>
                    <a:pt x="1155" y="39"/>
                  </a:lnTo>
                  <a:lnTo>
                    <a:pt x="1283" y="0"/>
                  </a:lnTo>
                  <a:lnTo>
                    <a:pt x="2734" y="0"/>
                  </a:lnTo>
                  <a:lnTo>
                    <a:pt x="2861" y="39"/>
                  </a:lnTo>
                  <a:lnTo>
                    <a:pt x="2989" y="127"/>
                  </a:lnTo>
                  <a:lnTo>
                    <a:pt x="3161" y="127"/>
                  </a:lnTo>
                  <a:lnTo>
                    <a:pt x="3373" y="127"/>
                  </a:lnTo>
                  <a:lnTo>
                    <a:pt x="3501" y="167"/>
                  </a:lnTo>
                  <a:lnTo>
                    <a:pt x="3629" y="167"/>
                  </a:lnTo>
                  <a:lnTo>
                    <a:pt x="3801" y="167"/>
                  </a:lnTo>
                  <a:lnTo>
                    <a:pt x="3968" y="127"/>
                  </a:lnTo>
                  <a:lnTo>
                    <a:pt x="4101" y="83"/>
                  </a:lnTo>
                  <a:lnTo>
                    <a:pt x="4228" y="83"/>
                  </a:lnTo>
                  <a:lnTo>
                    <a:pt x="4740" y="83"/>
                  </a:lnTo>
                  <a:lnTo>
                    <a:pt x="4868" y="83"/>
                  </a:lnTo>
                  <a:lnTo>
                    <a:pt x="5035" y="127"/>
                  </a:lnTo>
                  <a:lnTo>
                    <a:pt x="5207" y="167"/>
                  </a:lnTo>
                  <a:lnTo>
                    <a:pt x="5335" y="256"/>
                  </a:lnTo>
                  <a:lnTo>
                    <a:pt x="5463" y="256"/>
                  </a:lnTo>
                  <a:lnTo>
                    <a:pt x="5976" y="256"/>
                  </a:lnTo>
                  <a:lnTo>
                    <a:pt x="6104" y="296"/>
                  </a:lnTo>
                  <a:lnTo>
                    <a:pt x="6231" y="256"/>
                  </a:lnTo>
                  <a:lnTo>
                    <a:pt x="6359" y="167"/>
                  </a:lnTo>
                  <a:lnTo>
                    <a:pt x="6531" y="167"/>
                  </a:lnTo>
                  <a:lnTo>
                    <a:pt x="6659" y="167"/>
                  </a:lnTo>
                  <a:lnTo>
                    <a:pt x="7171" y="167"/>
                  </a:lnTo>
                  <a:lnTo>
                    <a:pt x="7343" y="211"/>
                  </a:lnTo>
                  <a:lnTo>
                    <a:pt x="7471" y="211"/>
                  </a:lnTo>
                  <a:lnTo>
                    <a:pt x="7598" y="167"/>
                  </a:lnTo>
                  <a:lnTo>
                    <a:pt x="7726" y="83"/>
                  </a:lnTo>
                  <a:lnTo>
                    <a:pt x="7898" y="83"/>
                  </a:lnTo>
                  <a:lnTo>
                    <a:pt x="8026" y="39"/>
                  </a:lnTo>
                  <a:lnTo>
                    <a:pt x="8154" y="39"/>
                  </a:lnTo>
                  <a:lnTo>
                    <a:pt x="8326" y="39"/>
                  </a:lnTo>
                  <a:lnTo>
                    <a:pt x="9689" y="83"/>
                  </a:lnTo>
                  <a:lnTo>
                    <a:pt x="9817" y="127"/>
                  </a:lnTo>
                  <a:lnTo>
                    <a:pt x="10033" y="340"/>
                  </a:lnTo>
                  <a:lnTo>
                    <a:pt x="10200" y="424"/>
                  </a:lnTo>
                  <a:lnTo>
                    <a:pt x="10456" y="384"/>
                  </a:lnTo>
                  <a:lnTo>
                    <a:pt x="10584" y="384"/>
                  </a:lnTo>
                  <a:lnTo>
                    <a:pt x="10716" y="384"/>
                  </a:lnTo>
                  <a:lnTo>
                    <a:pt x="10844" y="340"/>
                  </a:lnTo>
                  <a:lnTo>
                    <a:pt x="10972" y="256"/>
                  </a:lnTo>
                  <a:lnTo>
                    <a:pt x="11100" y="211"/>
                  </a:lnTo>
                  <a:lnTo>
                    <a:pt x="11228" y="127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6" name=""/>
            <p:cNvSpPr txBox="1"/>
            <p:nvPr/>
          </p:nvSpPr>
          <p:spPr>
            <a:xfrm>
              <a:off x="2921040" y="1579680"/>
              <a:ext cx="29988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hort Break Line (Heavy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"/>
          <p:cNvSpPr txBox="1"/>
          <p:nvPr/>
        </p:nvSpPr>
        <p:spPr>
          <a:xfrm>
            <a:off x="1839960" y="214200"/>
            <a:ext cx="5157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Break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8" name=""/>
          <p:cNvGrpSpPr/>
          <p:nvPr/>
        </p:nvGrpSpPr>
        <p:grpSpPr>
          <a:xfrm>
            <a:off x="573120" y="1469880"/>
            <a:ext cx="8129520" cy="3060720"/>
            <a:chOff x="573120" y="1469880"/>
            <a:chExt cx="8129520" cy="3060720"/>
          </a:xfrm>
        </p:grpSpPr>
        <p:grpSp>
          <p:nvGrpSpPr>
            <p:cNvPr id="5199" name=""/>
            <p:cNvGrpSpPr/>
            <p:nvPr/>
          </p:nvGrpSpPr>
          <p:grpSpPr>
            <a:xfrm>
              <a:off x="4978440" y="2936880"/>
              <a:ext cx="3724200" cy="1109880"/>
              <a:chOff x="4978440" y="2936880"/>
              <a:chExt cx="3724200" cy="1109880"/>
            </a:xfrm>
          </p:grpSpPr>
          <p:sp>
            <p:nvSpPr>
              <p:cNvPr id="5200" name=""/>
              <p:cNvSpPr/>
              <p:nvPr/>
            </p:nvSpPr>
            <p:spPr>
              <a:xfrm>
                <a:off x="8388360" y="2952720"/>
                <a:ext cx="0" cy="1090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 flipH="1">
                <a:off x="7270920" y="2938320"/>
                <a:ext cx="1117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 flipH="1">
                <a:off x="7323120" y="4043520"/>
                <a:ext cx="1065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 flipH="1">
                <a:off x="7910640" y="3490920"/>
                <a:ext cx="79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 flipH="1">
                <a:off x="7736040" y="3490920"/>
                <a:ext cx="99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 flipH="1">
                <a:off x="6902280" y="3490920"/>
                <a:ext cx="74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237440" y="3214800"/>
                <a:ext cx="140040" cy="289440"/>
              </a:xfrm>
              <a:custGeom>
                <a:avLst/>
                <a:gdLst/>
                <a:ahLst/>
                <a:rect l="0" t="0" r="r" b="b"/>
                <a:pathLst>
                  <a:path w="389" h="804">
                    <a:moveTo>
                      <a:pt x="389" y="804"/>
                    </a:moveTo>
                    <a:lnTo>
                      <a:pt x="389" y="0"/>
                    </a:lnTo>
                    <a:lnTo>
                      <a:pt x="389" y="0"/>
                    </a:lnTo>
                    <a:cubicBezTo>
                      <a:pt x="321" y="0"/>
                      <a:pt x="254" y="37"/>
                      <a:pt x="194" y="108"/>
                    </a:cubicBezTo>
                    <a:cubicBezTo>
                      <a:pt x="135" y="178"/>
                      <a:pt x="86" y="280"/>
                      <a:pt x="52" y="402"/>
                    </a:cubicBezTo>
                    <a:cubicBezTo>
                      <a:pt x="18" y="524"/>
                      <a:pt x="0" y="663"/>
                      <a:pt x="0" y="804"/>
                    </a:cubicBezTo>
                    <a:lnTo>
                      <a:pt x="389" y="804"/>
                    </a:lnTo>
                    <a:close/>
                  </a:path>
                </a:pathLst>
              </a:cu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159680" y="3213000"/>
                <a:ext cx="113040" cy="316440"/>
              </a:xfrm>
              <a:custGeom>
                <a:avLst/>
                <a:gdLst/>
                <a:ahLst/>
                <a:rect l="0" t="0" r="r" b="b"/>
                <a:pathLst>
                  <a:path w="314" h="879">
                    <a:moveTo>
                      <a:pt x="0" y="879"/>
                    </a:moveTo>
                    <a:lnTo>
                      <a:pt x="314" y="879"/>
                    </a:lnTo>
                    <a:lnTo>
                      <a:pt x="314" y="879"/>
                    </a:lnTo>
                    <a:cubicBezTo>
                      <a:pt x="314" y="713"/>
                      <a:pt x="299" y="551"/>
                      <a:pt x="272" y="407"/>
                    </a:cubicBezTo>
                    <a:cubicBezTo>
                      <a:pt x="244" y="264"/>
                      <a:pt x="205" y="144"/>
                      <a:pt x="157" y="62"/>
                    </a:cubicBezTo>
                    <a:cubicBezTo>
                      <a:pt x="143" y="38"/>
                      <a:pt x="129" y="17"/>
                      <a:pt x="114" y="0"/>
                    </a:cubicBezTo>
                    <a:lnTo>
                      <a:pt x="0" y="879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269840" y="2943360"/>
                <a:ext cx="109080" cy="281520"/>
              </a:xfrm>
              <a:custGeom>
                <a:avLst/>
                <a:gdLst/>
                <a:ahLst/>
                <a:rect l="0" t="0" r="r" b="b"/>
                <a:pathLst>
                  <a:path w="303" h="782">
                    <a:moveTo>
                      <a:pt x="0" y="782"/>
                    </a:moveTo>
                    <a:lnTo>
                      <a:pt x="303" y="782"/>
                    </a:lnTo>
                    <a:lnTo>
                      <a:pt x="303" y="782"/>
                    </a:lnTo>
                    <a:lnTo>
                      <a:pt x="303" y="782"/>
                    </a:lnTo>
                    <a:cubicBezTo>
                      <a:pt x="303" y="645"/>
                      <a:pt x="289" y="510"/>
                      <a:pt x="262" y="391"/>
                    </a:cubicBezTo>
                    <a:cubicBezTo>
                      <a:pt x="236" y="272"/>
                      <a:pt x="198" y="173"/>
                      <a:pt x="151" y="105"/>
                    </a:cubicBezTo>
                    <a:cubicBezTo>
                      <a:pt x="105" y="36"/>
                      <a:pt x="53" y="0"/>
                      <a:pt x="0" y="0"/>
                    </a:cubicBezTo>
                    <a:lnTo>
                      <a:pt x="0" y="782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159680" y="2936880"/>
                <a:ext cx="111600" cy="287640"/>
              </a:xfrm>
              <a:custGeom>
                <a:avLst/>
                <a:gdLst/>
                <a:ahLst/>
                <a:rect l="0" t="0" r="r" b="b"/>
                <a:pathLst>
                  <a:path w="310" h="799">
                    <a:moveTo>
                      <a:pt x="310" y="799"/>
                    </a:moveTo>
                    <a:lnTo>
                      <a:pt x="310" y="0"/>
                    </a:lnTo>
                    <a:lnTo>
                      <a:pt x="310" y="0"/>
                    </a:lnTo>
                    <a:cubicBezTo>
                      <a:pt x="256" y="0"/>
                      <a:pt x="202" y="37"/>
                      <a:pt x="155" y="107"/>
                    </a:cubicBezTo>
                    <a:cubicBezTo>
                      <a:pt x="108" y="177"/>
                      <a:pt x="69" y="278"/>
                      <a:pt x="42" y="400"/>
                    </a:cubicBezTo>
                    <a:cubicBezTo>
                      <a:pt x="14" y="521"/>
                      <a:pt x="0" y="659"/>
                      <a:pt x="0" y="799"/>
                    </a:cubicBezTo>
                    <a:lnTo>
                      <a:pt x="310" y="799"/>
                    </a:lnTo>
                    <a:close/>
                  </a:path>
                </a:pathLst>
              </a:custGeom>
              <a:blipFill rotWithShape="0">
                <a:blip r:embed="rId4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170840" y="3767040"/>
                <a:ext cx="162360" cy="276480"/>
              </a:xfrm>
              <a:custGeom>
                <a:avLst/>
                <a:gdLst/>
                <a:ahLst/>
                <a:rect l="0" t="0" r="r" b="b"/>
                <a:pathLst>
                  <a:path fill="none" w="451" h="768">
                    <a:moveTo>
                      <a:pt x="451" y="768"/>
                    </a:moveTo>
                    <a:lnTo>
                      <a:pt x="451" y="768"/>
                    </a:lnTo>
                    <a:lnTo>
                      <a:pt x="451" y="768"/>
                    </a:lnTo>
                    <a:cubicBezTo>
                      <a:pt x="451" y="633"/>
                      <a:pt x="430" y="501"/>
                      <a:pt x="391" y="384"/>
                    </a:cubicBezTo>
                    <a:cubicBezTo>
                      <a:pt x="351" y="267"/>
                      <a:pt x="294" y="170"/>
                      <a:pt x="225" y="103"/>
                    </a:cubicBezTo>
                    <a:cubicBezTo>
                      <a:pt x="157" y="35"/>
                      <a:pt x="79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174080" y="3486240"/>
                <a:ext cx="115560" cy="293400"/>
              </a:xfrm>
              <a:custGeom>
                <a:avLst/>
                <a:gdLst/>
                <a:ahLst/>
                <a:rect l="0" t="0" r="r" b="b"/>
                <a:pathLst>
                  <a:path fill="none" w="321" h="815">
                    <a:moveTo>
                      <a:pt x="321" y="0"/>
                    </a:moveTo>
                    <a:lnTo>
                      <a:pt x="321" y="0"/>
                    </a:lnTo>
                    <a:cubicBezTo>
                      <a:pt x="265" y="0"/>
                      <a:pt x="209" y="38"/>
                      <a:pt x="160" y="109"/>
                    </a:cubicBezTo>
                    <a:cubicBezTo>
                      <a:pt x="112" y="181"/>
                      <a:pt x="71" y="284"/>
                      <a:pt x="43" y="408"/>
                    </a:cubicBezTo>
                    <a:cubicBezTo>
                      <a:pt x="15" y="531"/>
                      <a:pt x="0" y="672"/>
                      <a:pt x="0" y="81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12" name=""/>
              <p:cNvGrpSpPr/>
              <p:nvPr/>
            </p:nvGrpSpPr>
            <p:grpSpPr>
              <a:xfrm>
                <a:off x="4978440" y="2938320"/>
                <a:ext cx="1676520" cy="1108440"/>
                <a:chOff x="4978440" y="2938320"/>
                <a:chExt cx="1676520" cy="1108440"/>
              </a:xfrm>
            </p:grpSpPr>
            <p:sp>
              <p:nvSpPr>
                <p:cNvPr id="5213" name=""/>
                <p:cNvSpPr/>
                <p:nvPr/>
              </p:nvSpPr>
              <p:spPr>
                <a:xfrm flipV="1">
                  <a:off x="5292720" y="2938320"/>
                  <a:ext cx="0" cy="1090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>
                  <a:off x="5292720" y="4043520"/>
                  <a:ext cx="1117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5" name=""/>
                <p:cNvSpPr/>
                <p:nvPr/>
              </p:nvSpPr>
              <p:spPr>
                <a:xfrm>
                  <a:off x="5292720" y="2938320"/>
                  <a:ext cx="106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6" name=""/>
                <p:cNvSpPr/>
                <p:nvPr/>
              </p:nvSpPr>
              <p:spPr>
                <a:xfrm>
                  <a:off x="4978440" y="3490920"/>
                  <a:ext cx="792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7" name=""/>
                <p:cNvSpPr/>
                <p:nvPr/>
              </p:nvSpPr>
              <p:spPr>
                <a:xfrm>
                  <a:off x="5845320" y="3490920"/>
                  <a:ext cx="99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>
                  <a:off x="6033960" y="3490920"/>
                  <a:ext cx="62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9" name=""/>
                <p:cNvSpPr/>
                <p:nvPr/>
              </p:nvSpPr>
              <p:spPr>
                <a:xfrm>
                  <a:off x="6303960" y="3478320"/>
                  <a:ext cx="140040" cy="289440"/>
                </a:xfrm>
                <a:custGeom>
                  <a:avLst/>
                  <a:gdLst/>
                  <a:ahLst/>
                  <a:rect l="0" t="0" r="r" b="b"/>
                  <a:pathLst>
                    <a:path w="389" h="804">
                      <a:moveTo>
                        <a:pt x="389" y="804"/>
                      </a:moveTo>
                      <a:lnTo>
                        <a:pt x="389" y="0"/>
                      </a:lnTo>
                      <a:lnTo>
                        <a:pt x="389" y="0"/>
                      </a:lnTo>
                      <a:cubicBezTo>
                        <a:pt x="321" y="0"/>
                        <a:pt x="254" y="37"/>
                        <a:pt x="194" y="108"/>
                      </a:cubicBezTo>
                      <a:cubicBezTo>
                        <a:pt x="135" y="178"/>
                        <a:pt x="86" y="280"/>
                        <a:pt x="52" y="402"/>
                      </a:cubicBezTo>
                      <a:cubicBezTo>
                        <a:pt x="18" y="524"/>
                        <a:pt x="0" y="663"/>
                        <a:pt x="0" y="804"/>
                      </a:cubicBezTo>
                      <a:lnTo>
                        <a:pt x="389" y="804"/>
                      </a:lnTo>
                      <a:close/>
                    </a:path>
                  </a:pathLst>
                </a:custGeom>
                <a:blipFill rotWithShape="0">
                  <a:blip r:embed="rId5"/>
                  <a:tile tx="0" ty="0" sx="133018" sy="133018" algn="ctr"/>
                </a:blip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0" name=""/>
                <p:cNvSpPr/>
                <p:nvPr/>
              </p:nvSpPr>
              <p:spPr>
                <a:xfrm>
                  <a:off x="6410160" y="3454200"/>
                  <a:ext cx="113040" cy="316440"/>
                </a:xfrm>
                <a:custGeom>
                  <a:avLst/>
                  <a:gdLst/>
                  <a:ahLst/>
                  <a:rect l="0" t="0" r="r" b="b"/>
                  <a:pathLst>
                    <a:path w="314" h="879">
                      <a:moveTo>
                        <a:pt x="0" y="879"/>
                      </a:moveTo>
                      <a:lnTo>
                        <a:pt x="314" y="879"/>
                      </a:lnTo>
                      <a:lnTo>
                        <a:pt x="314" y="879"/>
                      </a:lnTo>
                      <a:cubicBezTo>
                        <a:pt x="314" y="713"/>
                        <a:pt x="299" y="551"/>
                        <a:pt x="272" y="407"/>
                      </a:cubicBezTo>
                      <a:cubicBezTo>
                        <a:pt x="244" y="264"/>
                        <a:pt x="205" y="144"/>
                        <a:pt x="157" y="62"/>
                      </a:cubicBezTo>
                      <a:cubicBezTo>
                        <a:pt x="143" y="38"/>
                        <a:pt x="129" y="17"/>
                        <a:pt x="114" y="0"/>
                      </a:cubicBezTo>
                      <a:lnTo>
                        <a:pt x="0" y="879"/>
                      </a:lnTo>
                      <a:close/>
                    </a:path>
                  </a:pathLst>
                </a:custGeom>
                <a:blipFill rotWithShape="0">
                  <a:blip r:embed="rId6"/>
                  <a:tile tx="0" ty="0" sx="133018" sy="133018" algn="ctr"/>
                </a:blip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1" name=""/>
                <p:cNvSpPr/>
                <p:nvPr/>
              </p:nvSpPr>
              <p:spPr>
                <a:xfrm>
                  <a:off x="6304680" y="3759120"/>
                  <a:ext cx="109080" cy="281520"/>
                </a:xfrm>
                <a:custGeom>
                  <a:avLst/>
                  <a:gdLst/>
                  <a:ahLst/>
                  <a:rect l="0" t="0" r="r" b="b"/>
                  <a:pathLst>
                    <a:path w="303" h="782">
                      <a:moveTo>
                        <a:pt x="0" y="782"/>
                      </a:moveTo>
                      <a:lnTo>
                        <a:pt x="303" y="782"/>
                      </a:lnTo>
                      <a:lnTo>
                        <a:pt x="303" y="782"/>
                      </a:lnTo>
                      <a:lnTo>
                        <a:pt x="303" y="782"/>
                      </a:lnTo>
                      <a:cubicBezTo>
                        <a:pt x="303" y="645"/>
                        <a:pt x="289" y="510"/>
                        <a:pt x="262" y="391"/>
                      </a:cubicBezTo>
                      <a:cubicBezTo>
                        <a:pt x="236" y="272"/>
                        <a:pt x="198" y="173"/>
                        <a:pt x="151" y="105"/>
                      </a:cubicBezTo>
                      <a:cubicBezTo>
                        <a:pt x="105" y="36"/>
                        <a:pt x="53" y="0"/>
                        <a:pt x="0" y="0"/>
                      </a:cubicBezTo>
                      <a:lnTo>
                        <a:pt x="0" y="782"/>
                      </a:lnTo>
                      <a:close/>
                    </a:path>
                  </a:pathLst>
                </a:custGeom>
                <a:blipFill rotWithShape="0">
                  <a:blip r:embed="rId7"/>
                  <a:tile tx="0" ty="0" sx="133018" sy="133018" algn="ctr"/>
                </a:blip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>
                  <a:off x="6410160" y="3759120"/>
                  <a:ext cx="111600" cy="287640"/>
                </a:xfrm>
                <a:custGeom>
                  <a:avLst/>
                  <a:gdLst/>
                  <a:ahLst/>
                  <a:rect l="0" t="0" r="r" b="b"/>
                  <a:pathLst>
                    <a:path w="310" h="799">
                      <a:moveTo>
                        <a:pt x="310" y="799"/>
                      </a:moveTo>
                      <a:lnTo>
                        <a:pt x="310" y="0"/>
                      </a:lnTo>
                      <a:lnTo>
                        <a:pt x="310" y="0"/>
                      </a:lnTo>
                      <a:cubicBezTo>
                        <a:pt x="256" y="0"/>
                        <a:pt x="202" y="37"/>
                        <a:pt x="155" y="107"/>
                      </a:cubicBezTo>
                      <a:cubicBezTo>
                        <a:pt x="108" y="177"/>
                        <a:pt x="69" y="278"/>
                        <a:pt x="42" y="400"/>
                      </a:cubicBezTo>
                      <a:cubicBezTo>
                        <a:pt x="14" y="521"/>
                        <a:pt x="0" y="659"/>
                        <a:pt x="0" y="799"/>
                      </a:cubicBezTo>
                      <a:lnTo>
                        <a:pt x="310" y="799"/>
                      </a:lnTo>
                      <a:close/>
                    </a:path>
                  </a:pathLst>
                </a:custGeom>
                <a:blipFill rotWithShape="0">
                  <a:blip r:embed="rId8"/>
                  <a:tile tx="0" ty="0" sx="133018" sy="133018" algn="ctr"/>
                </a:blip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3" name=""/>
                <p:cNvSpPr/>
                <p:nvPr/>
              </p:nvSpPr>
              <p:spPr>
                <a:xfrm>
                  <a:off x="6348240" y="2938320"/>
                  <a:ext cx="16236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451" h="768">
                      <a:moveTo>
                        <a:pt x="451" y="768"/>
                      </a:moveTo>
                      <a:lnTo>
                        <a:pt x="451" y="768"/>
                      </a:lnTo>
                      <a:lnTo>
                        <a:pt x="451" y="768"/>
                      </a:lnTo>
                      <a:cubicBezTo>
                        <a:pt x="451" y="633"/>
                        <a:pt x="430" y="501"/>
                        <a:pt x="391" y="384"/>
                      </a:cubicBezTo>
                      <a:cubicBezTo>
                        <a:pt x="351" y="267"/>
                        <a:pt x="294" y="170"/>
                        <a:pt x="225" y="103"/>
                      </a:cubicBezTo>
                      <a:cubicBezTo>
                        <a:pt x="157" y="35"/>
                        <a:pt x="79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4" name=""/>
                <p:cNvSpPr/>
                <p:nvPr/>
              </p:nvSpPr>
              <p:spPr>
                <a:xfrm>
                  <a:off x="6392880" y="3203640"/>
                  <a:ext cx="115560" cy="293400"/>
                </a:xfrm>
                <a:custGeom>
                  <a:avLst/>
                  <a:gdLst/>
                  <a:ahLst/>
                  <a:rect l="0" t="0" r="r" b="b"/>
                  <a:pathLst>
                    <a:path fill="none" w="321" h="815">
                      <a:moveTo>
                        <a:pt x="321" y="0"/>
                      </a:moveTo>
                      <a:lnTo>
                        <a:pt x="321" y="0"/>
                      </a:lnTo>
                      <a:cubicBezTo>
                        <a:pt x="265" y="0"/>
                        <a:pt x="209" y="38"/>
                        <a:pt x="160" y="109"/>
                      </a:cubicBezTo>
                      <a:cubicBezTo>
                        <a:pt x="112" y="181"/>
                        <a:pt x="71" y="284"/>
                        <a:pt x="43" y="408"/>
                      </a:cubicBezTo>
                      <a:cubicBezTo>
                        <a:pt x="15" y="531"/>
                        <a:pt x="0" y="672"/>
                        <a:pt x="0" y="815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25" name=""/>
              <p:cNvSpPr/>
              <p:nvPr/>
            </p:nvSpPr>
            <p:spPr>
              <a:xfrm>
                <a:off x="6702480" y="3490920"/>
                <a:ext cx="13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6" name=""/>
            <p:cNvGrpSpPr/>
            <p:nvPr/>
          </p:nvGrpSpPr>
          <p:grpSpPr>
            <a:xfrm>
              <a:off x="5216400" y="2936880"/>
              <a:ext cx="3241800" cy="1108080"/>
              <a:chOff x="5216400" y="2936880"/>
              <a:chExt cx="3241800" cy="1108080"/>
            </a:xfrm>
          </p:grpSpPr>
          <p:sp>
            <p:nvSpPr>
              <p:cNvPr id="5227" name=""/>
              <p:cNvSpPr/>
              <p:nvPr/>
            </p:nvSpPr>
            <p:spPr>
              <a:xfrm>
                <a:off x="8458200" y="2998800"/>
                <a:ext cx="0" cy="966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5216400" y="3014640"/>
                <a:ext cx="0" cy="952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 flipV="1">
                <a:off x="5216400" y="2954160"/>
                <a:ext cx="60480" cy="6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5232240" y="3983040"/>
                <a:ext cx="61920" cy="6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8396280" y="2936880"/>
                <a:ext cx="61920" cy="6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 flipV="1">
                <a:off x="8381880" y="3983040"/>
                <a:ext cx="60480" cy="6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33" name=""/>
            <p:cNvSpPr txBox="1"/>
            <p:nvPr/>
          </p:nvSpPr>
          <p:spPr>
            <a:xfrm>
              <a:off x="5575320" y="4133880"/>
              <a:ext cx="2541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lid Cylindrical Ro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3983040" y="2946240"/>
              <a:ext cx="0" cy="109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 flipH="1">
              <a:off x="2865600" y="293220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 flipH="1">
              <a:off x="2917800" y="403704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 flipH="1">
              <a:off x="3505320" y="348444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H="1">
              <a:off x="3330720" y="348444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 flipH="1">
              <a:off x="2496960" y="3484440"/>
              <a:ext cx="744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832120" y="320832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9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2795760" y="3206520"/>
              <a:ext cx="71640" cy="316440"/>
            </a:xfrm>
            <a:custGeom>
              <a:avLst/>
              <a:gdLst/>
              <a:ahLst/>
              <a:rect l="0" t="0" r="r" b="b"/>
              <a:pathLst>
                <a:path fill="none" w="199" h="879">
                  <a:moveTo>
                    <a:pt x="199" y="879"/>
                  </a:moveTo>
                  <a:lnTo>
                    <a:pt x="199" y="879"/>
                  </a:lnTo>
                  <a:lnTo>
                    <a:pt x="199" y="878"/>
                  </a:lnTo>
                  <a:cubicBezTo>
                    <a:pt x="199" y="712"/>
                    <a:pt x="184" y="550"/>
                    <a:pt x="157" y="406"/>
                  </a:cubicBezTo>
                  <a:cubicBezTo>
                    <a:pt x="129" y="262"/>
                    <a:pt x="90" y="143"/>
                    <a:pt x="42" y="60"/>
                  </a:cubicBezTo>
                  <a:cubicBezTo>
                    <a:pt x="28" y="37"/>
                    <a:pt x="14" y="17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2864520" y="293688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10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2754360" y="293040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1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2765520" y="376092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2768760" y="347976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 flipV="1">
              <a:off x="887400" y="2932200"/>
              <a:ext cx="0" cy="1090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887400" y="403704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887400" y="293220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73120" y="348444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1440000" y="348444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1628640" y="3484440"/>
              <a:ext cx="621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1898640" y="347184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1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046240" y="3447720"/>
              <a:ext cx="71640" cy="316440"/>
            </a:xfrm>
            <a:custGeom>
              <a:avLst/>
              <a:gdLst/>
              <a:ahLst/>
              <a:rect l="0" t="0" r="r" b="b"/>
              <a:pathLst>
                <a:path fill="none" w="199" h="879">
                  <a:moveTo>
                    <a:pt x="199" y="879"/>
                  </a:moveTo>
                  <a:lnTo>
                    <a:pt x="199" y="879"/>
                  </a:lnTo>
                  <a:lnTo>
                    <a:pt x="199" y="878"/>
                  </a:lnTo>
                  <a:cubicBezTo>
                    <a:pt x="199" y="712"/>
                    <a:pt x="184" y="550"/>
                    <a:pt x="157" y="406"/>
                  </a:cubicBezTo>
                  <a:cubicBezTo>
                    <a:pt x="129" y="262"/>
                    <a:pt x="90" y="143"/>
                    <a:pt x="42" y="60"/>
                  </a:cubicBezTo>
                  <a:cubicBezTo>
                    <a:pt x="28" y="37"/>
                    <a:pt x="14" y="17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1899360" y="375300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1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2004840" y="375300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1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1943280" y="293220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1987560" y="319716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2324160" y="3484440"/>
              <a:ext cx="100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1951200" y="3452760"/>
              <a:ext cx="149760" cy="444960"/>
            </a:xfrm>
            <a:custGeom>
              <a:avLst/>
              <a:gdLst/>
              <a:ahLst/>
              <a:rect l="0" t="0" r="r" b="b"/>
              <a:pathLst>
                <a:path w="416" h="1236">
                  <a:moveTo>
                    <a:pt x="243" y="30"/>
                  </a:moveTo>
                  <a:lnTo>
                    <a:pt x="203" y="83"/>
                  </a:lnTo>
                  <a:lnTo>
                    <a:pt x="172" y="123"/>
                  </a:lnTo>
                  <a:lnTo>
                    <a:pt x="124" y="171"/>
                  </a:lnTo>
                  <a:lnTo>
                    <a:pt x="120" y="198"/>
                  </a:lnTo>
                  <a:lnTo>
                    <a:pt x="83" y="251"/>
                  </a:lnTo>
                  <a:lnTo>
                    <a:pt x="70" y="291"/>
                  </a:lnTo>
                  <a:lnTo>
                    <a:pt x="57" y="331"/>
                  </a:lnTo>
                  <a:lnTo>
                    <a:pt x="44" y="371"/>
                  </a:lnTo>
                  <a:lnTo>
                    <a:pt x="39" y="411"/>
                  </a:lnTo>
                  <a:lnTo>
                    <a:pt x="26" y="464"/>
                  </a:lnTo>
                  <a:lnTo>
                    <a:pt x="17" y="508"/>
                  </a:lnTo>
                  <a:lnTo>
                    <a:pt x="13" y="547"/>
                  </a:lnTo>
                  <a:lnTo>
                    <a:pt x="13" y="574"/>
                  </a:lnTo>
                  <a:lnTo>
                    <a:pt x="4" y="600"/>
                  </a:lnTo>
                  <a:lnTo>
                    <a:pt x="4" y="640"/>
                  </a:lnTo>
                  <a:lnTo>
                    <a:pt x="0" y="688"/>
                  </a:lnTo>
                  <a:lnTo>
                    <a:pt x="4" y="719"/>
                  </a:lnTo>
                  <a:lnTo>
                    <a:pt x="0" y="746"/>
                  </a:lnTo>
                  <a:lnTo>
                    <a:pt x="0" y="812"/>
                  </a:lnTo>
                  <a:lnTo>
                    <a:pt x="0" y="825"/>
                  </a:lnTo>
                  <a:lnTo>
                    <a:pt x="4" y="865"/>
                  </a:lnTo>
                  <a:lnTo>
                    <a:pt x="4" y="891"/>
                  </a:lnTo>
                  <a:lnTo>
                    <a:pt x="13" y="928"/>
                  </a:lnTo>
                  <a:lnTo>
                    <a:pt x="26" y="998"/>
                  </a:lnTo>
                  <a:lnTo>
                    <a:pt x="39" y="1060"/>
                  </a:lnTo>
                  <a:lnTo>
                    <a:pt x="52" y="1104"/>
                  </a:lnTo>
                  <a:lnTo>
                    <a:pt x="70" y="1152"/>
                  </a:lnTo>
                  <a:lnTo>
                    <a:pt x="106" y="1197"/>
                  </a:lnTo>
                  <a:lnTo>
                    <a:pt x="146" y="1223"/>
                  </a:lnTo>
                  <a:lnTo>
                    <a:pt x="190" y="1236"/>
                  </a:lnTo>
                  <a:lnTo>
                    <a:pt x="239" y="1232"/>
                  </a:lnTo>
                  <a:lnTo>
                    <a:pt x="283" y="1219"/>
                  </a:lnTo>
                  <a:lnTo>
                    <a:pt x="309" y="1192"/>
                  </a:lnTo>
                  <a:lnTo>
                    <a:pt x="337" y="1152"/>
                  </a:lnTo>
                  <a:lnTo>
                    <a:pt x="350" y="1113"/>
                  </a:lnTo>
                  <a:lnTo>
                    <a:pt x="363" y="1073"/>
                  </a:lnTo>
                  <a:lnTo>
                    <a:pt x="376" y="1033"/>
                  </a:lnTo>
                  <a:lnTo>
                    <a:pt x="390" y="994"/>
                  </a:lnTo>
                  <a:lnTo>
                    <a:pt x="390" y="954"/>
                  </a:lnTo>
                  <a:lnTo>
                    <a:pt x="403" y="913"/>
                  </a:lnTo>
                  <a:lnTo>
                    <a:pt x="403" y="874"/>
                  </a:lnTo>
                  <a:lnTo>
                    <a:pt x="416" y="834"/>
                  </a:lnTo>
                  <a:lnTo>
                    <a:pt x="416" y="794"/>
                  </a:lnTo>
                  <a:lnTo>
                    <a:pt x="416" y="741"/>
                  </a:lnTo>
                  <a:lnTo>
                    <a:pt x="416" y="702"/>
                  </a:lnTo>
                  <a:lnTo>
                    <a:pt x="416" y="662"/>
                  </a:lnTo>
                  <a:lnTo>
                    <a:pt x="416" y="622"/>
                  </a:lnTo>
                  <a:lnTo>
                    <a:pt x="416" y="583"/>
                  </a:lnTo>
                  <a:lnTo>
                    <a:pt x="416" y="543"/>
                  </a:lnTo>
                  <a:lnTo>
                    <a:pt x="412" y="508"/>
                  </a:lnTo>
                  <a:lnTo>
                    <a:pt x="403" y="468"/>
                  </a:lnTo>
                  <a:lnTo>
                    <a:pt x="398" y="437"/>
                  </a:lnTo>
                  <a:lnTo>
                    <a:pt x="390" y="384"/>
                  </a:lnTo>
                  <a:lnTo>
                    <a:pt x="376" y="344"/>
                  </a:lnTo>
                  <a:lnTo>
                    <a:pt x="363" y="291"/>
                  </a:lnTo>
                  <a:lnTo>
                    <a:pt x="359" y="251"/>
                  </a:lnTo>
                  <a:lnTo>
                    <a:pt x="337" y="211"/>
                  </a:lnTo>
                  <a:lnTo>
                    <a:pt x="323" y="171"/>
                  </a:lnTo>
                  <a:lnTo>
                    <a:pt x="309" y="132"/>
                  </a:lnTo>
                  <a:lnTo>
                    <a:pt x="296" y="92"/>
                  </a:lnTo>
                  <a:lnTo>
                    <a:pt x="269" y="57"/>
                  </a:lnTo>
                  <a:lnTo>
                    <a:pt x="256" y="0"/>
                  </a:lnTo>
                  <a:lnTo>
                    <a:pt x="243" y="30"/>
                  </a:lnTo>
                  <a:close/>
                </a:path>
              </a:pathLst>
            </a:cu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2776680" y="3079800"/>
              <a:ext cx="149760" cy="444960"/>
            </a:xfrm>
            <a:custGeom>
              <a:avLst/>
              <a:gdLst/>
              <a:ahLst/>
              <a:rect l="0" t="0" r="r" b="b"/>
              <a:pathLst>
                <a:path w="416" h="1236">
                  <a:moveTo>
                    <a:pt x="172" y="1205"/>
                  </a:moveTo>
                  <a:lnTo>
                    <a:pt x="212" y="1152"/>
                  </a:lnTo>
                  <a:lnTo>
                    <a:pt x="243" y="1113"/>
                  </a:lnTo>
                  <a:lnTo>
                    <a:pt x="292" y="1064"/>
                  </a:lnTo>
                  <a:lnTo>
                    <a:pt x="296" y="1038"/>
                  </a:lnTo>
                  <a:lnTo>
                    <a:pt x="332" y="985"/>
                  </a:lnTo>
                  <a:lnTo>
                    <a:pt x="345" y="945"/>
                  </a:lnTo>
                  <a:lnTo>
                    <a:pt x="359" y="904"/>
                  </a:lnTo>
                  <a:lnTo>
                    <a:pt x="372" y="865"/>
                  </a:lnTo>
                  <a:lnTo>
                    <a:pt x="376" y="825"/>
                  </a:lnTo>
                  <a:lnTo>
                    <a:pt x="390" y="772"/>
                  </a:lnTo>
                  <a:lnTo>
                    <a:pt x="398" y="728"/>
                  </a:lnTo>
                  <a:lnTo>
                    <a:pt x="403" y="688"/>
                  </a:lnTo>
                  <a:lnTo>
                    <a:pt x="403" y="662"/>
                  </a:lnTo>
                  <a:lnTo>
                    <a:pt x="398" y="636"/>
                  </a:lnTo>
                  <a:lnTo>
                    <a:pt x="412" y="596"/>
                  </a:lnTo>
                  <a:lnTo>
                    <a:pt x="416" y="547"/>
                  </a:lnTo>
                  <a:lnTo>
                    <a:pt x="412" y="516"/>
                  </a:lnTo>
                  <a:lnTo>
                    <a:pt x="416" y="490"/>
                  </a:lnTo>
                  <a:lnTo>
                    <a:pt x="416" y="424"/>
                  </a:lnTo>
                  <a:lnTo>
                    <a:pt x="416" y="411"/>
                  </a:lnTo>
                  <a:lnTo>
                    <a:pt x="412" y="371"/>
                  </a:lnTo>
                  <a:lnTo>
                    <a:pt x="412" y="344"/>
                  </a:lnTo>
                  <a:lnTo>
                    <a:pt x="403" y="308"/>
                  </a:lnTo>
                  <a:lnTo>
                    <a:pt x="390" y="238"/>
                  </a:lnTo>
                  <a:lnTo>
                    <a:pt x="376" y="176"/>
                  </a:lnTo>
                  <a:lnTo>
                    <a:pt x="363" y="132"/>
                  </a:lnTo>
                  <a:lnTo>
                    <a:pt x="345" y="83"/>
                  </a:lnTo>
                  <a:lnTo>
                    <a:pt x="309" y="39"/>
                  </a:lnTo>
                  <a:lnTo>
                    <a:pt x="269" y="13"/>
                  </a:lnTo>
                  <a:lnTo>
                    <a:pt x="225" y="0"/>
                  </a:lnTo>
                  <a:lnTo>
                    <a:pt x="177" y="4"/>
                  </a:lnTo>
                  <a:lnTo>
                    <a:pt x="133" y="17"/>
                  </a:lnTo>
                  <a:lnTo>
                    <a:pt x="106" y="44"/>
                  </a:lnTo>
                  <a:lnTo>
                    <a:pt x="79" y="83"/>
                  </a:lnTo>
                  <a:lnTo>
                    <a:pt x="66" y="123"/>
                  </a:lnTo>
                  <a:lnTo>
                    <a:pt x="52" y="163"/>
                  </a:lnTo>
                  <a:lnTo>
                    <a:pt x="39" y="202"/>
                  </a:lnTo>
                  <a:lnTo>
                    <a:pt x="26" y="242"/>
                  </a:lnTo>
                  <a:lnTo>
                    <a:pt x="26" y="282"/>
                  </a:lnTo>
                  <a:lnTo>
                    <a:pt x="13" y="322"/>
                  </a:lnTo>
                  <a:lnTo>
                    <a:pt x="13" y="362"/>
                  </a:lnTo>
                  <a:lnTo>
                    <a:pt x="0" y="402"/>
                  </a:lnTo>
                  <a:lnTo>
                    <a:pt x="0" y="441"/>
                  </a:lnTo>
                  <a:lnTo>
                    <a:pt x="0" y="494"/>
                  </a:lnTo>
                  <a:lnTo>
                    <a:pt x="0" y="534"/>
                  </a:lnTo>
                  <a:lnTo>
                    <a:pt x="0" y="574"/>
                  </a:lnTo>
                  <a:lnTo>
                    <a:pt x="0" y="613"/>
                  </a:lnTo>
                  <a:lnTo>
                    <a:pt x="0" y="653"/>
                  </a:lnTo>
                  <a:lnTo>
                    <a:pt x="0" y="693"/>
                  </a:lnTo>
                  <a:lnTo>
                    <a:pt x="4" y="728"/>
                  </a:lnTo>
                  <a:lnTo>
                    <a:pt x="13" y="768"/>
                  </a:lnTo>
                  <a:lnTo>
                    <a:pt x="17" y="799"/>
                  </a:lnTo>
                  <a:lnTo>
                    <a:pt x="26" y="852"/>
                  </a:lnTo>
                  <a:lnTo>
                    <a:pt x="39" y="891"/>
                  </a:lnTo>
                  <a:lnTo>
                    <a:pt x="52" y="945"/>
                  </a:lnTo>
                  <a:lnTo>
                    <a:pt x="79" y="985"/>
                  </a:lnTo>
                  <a:lnTo>
                    <a:pt x="79" y="1025"/>
                  </a:lnTo>
                  <a:lnTo>
                    <a:pt x="92" y="1064"/>
                  </a:lnTo>
                  <a:lnTo>
                    <a:pt x="106" y="1104"/>
                  </a:lnTo>
                  <a:lnTo>
                    <a:pt x="120" y="1144"/>
                  </a:lnTo>
                  <a:lnTo>
                    <a:pt x="146" y="1179"/>
                  </a:lnTo>
                  <a:lnTo>
                    <a:pt x="159" y="1236"/>
                  </a:lnTo>
                  <a:lnTo>
                    <a:pt x="172" y="1205"/>
                  </a:lnTo>
                  <a:close/>
                </a:path>
              </a:pathLst>
            </a:cu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1" name=""/>
            <p:cNvSpPr txBox="1"/>
            <p:nvPr/>
          </p:nvSpPr>
          <p:spPr>
            <a:xfrm>
              <a:off x="1542960" y="4098960"/>
              <a:ext cx="1820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ipe or Tub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62" name=""/>
            <p:cNvGrpSpPr/>
            <p:nvPr/>
          </p:nvGrpSpPr>
          <p:grpSpPr>
            <a:xfrm>
              <a:off x="2392200" y="2050920"/>
              <a:ext cx="4119840" cy="217440"/>
              <a:chOff x="2392200" y="2050920"/>
              <a:chExt cx="4119840" cy="217440"/>
            </a:xfrm>
          </p:grpSpPr>
          <p:sp>
            <p:nvSpPr>
              <p:cNvPr id="5263" name=""/>
              <p:cNvSpPr/>
              <p:nvPr/>
            </p:nvSpPr>
            <p:spPr>
              <a:xfrm>
                <a:off x="2392200" y="2160720"/>
                <a:ext cx="1229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3821040" y="2160720"/>
                <a:ext cx="119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5235480" y="2160720"/>
                <a:ext cx="1276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66" name=""/>
              <p:cNvGrpSpPr/>
              <p:nvPr/>
            </p:nvGrpSpPr>
            <p:grpSpPr>
              <a:xfrm>
                <a:off x="5035680" y="2068560"/>
                <a:ext cx="198360" cy="199800"/>
                <a:chOff x="5035680" y="2068560"/>
                <a:chExt cx="198360" cy="199800"/>
              </a:xfrm>
            </p:grpSpPr>
            <p:sp>
              <p:nvSpPr>
                <p:cNvPr id="5267" name=""/>
                <p:cNvSpPr/>
                <p:nvPr/>
              </p:nvSpPr>
              <p:spPr>
                <a:xfrm flipV="1">
                  <a:off x="5035680" y="206856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8" name=""/>
                <p:cNvSpPr/>
                <p:nvPr/>
              </p:nvSpPr>
              <p:spPr>
                <a:xfrm>
                  <a:off x="5035680" y="2068560"/>
                  <a:ext cx="183960" cy="183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9" name=""/>
                <p:cNvSpPr/>
                <p:nvPr/>
              </p:nvSpPr>
              <p:spPr>
                <a:xfrm flipV="1">
                  <a:off x="5234040" y="2160720"/>
                  <a:ext cx="0" cy="107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0" name=""/>
              <p:cNvGrpSpPr/>
              <p:nvPr/>
            </p:nvGrpSpPr>
            <p:grpSpPr>
              <a:xfrm>
                <a:off x="3621240" y="2050920"/>
                <a:ext cx="198360" cy="200160"/>
                <a:chOff x="3621240" y="2050920"/>
                <a:chExt cx="198360" cy="200160"/>
              </a:xfrm>
            </p:grpSpPr>
            <p:sp>
              <p:nvSpPr>
                <p:cNvPr id="5271" name=""/>
                <p:cNvSpPr/>
                <p:nvPr/>
              </p:nvSpPr>
              <p:spPr>
                <a:xfrm flipV="1">
                  <a:off x="3621240" y="205092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2" name=""/>
                <p:cNvSpPr/>
                <p:nvPr/>
              </p:nvSpPr>
              <p:spPr>
                <a:xfrm>
                  <a:off x="3621240" y="2050920"/>
                  <a:ext cx="183960" cy="184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3" name=""/>
                <p:cNvSpPr/>
                <p:nvPr/>
              </p:nvSpPr>
              <p:spPr>
                <a:xfrm flipV="1">
                  <a:off x="3819600" y="2143080"/>
                  <a:ext cx="0" cy="108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4" name=""/>
            <p:cNvSpPr txBox="1"/>
            <p:nvPr/>
          </p:nvSpPr>
          <p:spPr>
            <a:xfrm>
              <a:off x="3057480" y="2332080"/>
              <a:ext cx="2787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ng Break Line (Thi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2436840" y="1469880"/>
              <a:ext cx="4042080" cy="152640"/>
            </a:xfrm>
            <a:custGeom>
              <a:avLst/>
              <a:gdLst/>
              <a:ahLst/>
              <a:rect l="0" t="0" r="r" b="b"/>
              <a:pathLst>
                <a:path fill="none" w="11228" h="424">
                  <a:moveTo>
                    <a:pt x="0" y="0"/>
                  </a:moveTo>
                  <a:lnTo>
                    <a:pt x="132" y="0"/>
                  </a:lnTo>
                  <a:lnTo>
                    <a:pt x="260" y="83"/>
                  </a:lnTo>
                  <a:lnTo>
                    <a:pt x="388" y="127"/>
                  </a:lnTo>
                  <a:lnTo>
                    <a:pt x="515" y="127"/>
                  </a:lnTo>
                  <a:lnTo>
                    <a:pt x="643" y="83"/>
                  </a:lnTo>
                  <a:lnTo>
                    <a:pt x="771" y="39"/>
                  </a:lnTo>
                  <a:lnTo>
                    <a:pt x="899" y="39"/>
                  </a:lnTo>
                  <a:lnTo>
                    <a:pt x="1027" y="39"/>
                  </a:lnTo>
                  <a:lnTo>
                    <a:pt x="1155" y="39"/>
                  </a:lnTo>
                  <a:lnTo>
                    <a:pt x="1283" y="0"/>
                  </a:lnTo>
                  <a:lnTo>
                    <a:pt x="2734" y="0"/>
                  </a:lnTo>
                  <a:lnTo>
                    <a:pt x="2861" y="39"/>
                  </a:lnTo>
                  <a:lnTo>
                    <a:pt x="2989" y="127"/>
                  </a:lnTo>
                  <a:lnTo>
                    <a:pt x="3161" y="127"/>
                  </a:lnTo>
                  <a:lnTo>
                    <a:pt x="3373" y="127"/>
                  </a:lnTo>
                  <a:lnTo>
                    <a:pt x="3501" y="167"/>
                  </a:lnTo>
                  <a:lnTo>
                    <a:pt x="3629" y="167"/>
                  </a:lnTo>
                  <a:lnTo>
                    <a:pt x="3801" y="167"/>
                  </a:lnTo>
                  <a:lnTo>
                    <a:pt x="3968" y="127"/>
                  </a:lnTo>
                  <a:lnTo>
                    <a:pt x="4101" y="83"/>
                  </a:lnTo>
                  <a:lnTo>
                    <a:pt x="4228" y="83"/>
                  </a:lnTo>
                  <a:lnTo>
                    <a:pt x="4740" y="83"/>
                  </a:lnTo>
                  <a:lnTo>
                    <a:pt x="4868" y="83"/>
                  </a:lnTo>
                  <a:lnTo>
                    <a:pt x="5035" y="127"/>
                  </a:lnTo>
                  <a:lnTo>
                    <a:pt x="5207" y="167"/>
                  </a:lnTo>
                  <a:lnTo>
                    <a:pt x="5335" y="256"/>
                  </a:lnTo>
                  <a:lnTo>
                    <a:pt x="5463" y="256"/>
                  </a:lnTo>
                  <a:lnTo>
                    <a:pt x="5976" y="256"/>
                  </a:lnTo>
                  <a:lnTo>
                    <a:pt x="6104" y="296"/>
                  </a:lnTo>
                  <a:lnTo>
                    <a:pt x="6231" y="256"/>
                  </a:lnTo>
                  <a:lnTo>
                    <a:pt x="6359" y="167"/>
                  </a:lnTo>
                  <a:lnTo>
                    <a:pt x="6531" y="167"/>
                  </a:lnTo>
                  <a:lnTo>
                    <a:pt x="6659" y="167"/>
                  </a:lnTo>
                  <a:lnTo>
                    <a:pt x="7171" y="167"/>
                  </a:lnTo>
                  <a:lnTo>
                    <a:pt x="7343" y="211"/>
                  </a:lnTo>
                  <a:lnTo>
                    <a:pt x="7471" y="211"/>
                  </a:lnTo>
                  <a:lnTo>
                    <a:pt x="7598" y="167"/>
                  </a:lnTo>
                  <a:lnTo>
                    <a:pt x="7726" y="83"/>
                  </a:lnTo>
                  <a:lnTo>
                    <a:pt x="7898" y="83"/>
                  </a:lnTo>
                  <a:lnTo>
                    <a:pt x="8026" y="39"/>
                  </a:lnTo>
                  <a:lnTo>
                    <a:pt x="8154" y="39"/>
                  </a:lnTo>
                  <a:lnTo>
                    <a:pt x="8326" y="39"/>
                  </a:lnTo>
                  <a:lnTo>
                    <a:pt x="9689" y="83"/>
                  </a:lnTo>
                  <a:lnTo>
                    <a:pt x="9817" y="127"/>
                  </a:lnTo>
                  <a:lnTo>
                    <a:pt x="10033" y="340"/>
                  </a:lnTo>
                  <a:lnTo>
                    <a:pt x="10200" y="424"/>
                  </a:lnTo>
                  <a:lnTo>
                    <a:pt x="10456" y="384"/>
                  </a:lnTo>
                  <a:lnTo>
                    <a:pt x="10584" y="384"/>
                  </a:lnTo>
                  <a:lnTo>
                    <a:pt x="10716" y="384"/>
                  </a:lnTo>
                  <a:lnTo>
                    <a:pt x="10844" y="340"/>
                  </a:lnTo>
                  <a:lnTo>
                    <a:pt x="10972" y="256"/>
                  </a:lnTo>
                  <a:lnTo>
                    <a:pt x="11100" y="211"/>
                  </a:lnTo>
                  <a:lnTo>
                    <a:pt x="11228" y="127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6" name=""/>
            <p:cNvSpPr txBox="1"/>
            <p:nvPr/>
          </p:nvSpPr>
          <p:spPr>
            <a:xfrm>
              <a:off x="2921040" y="1579680"/>
              <a:ext cx="29988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hort Break Line (Heavy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120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tory Concep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01760" y="3092400"/>
            <a:ext cx="6365880" cy="925560"/>
            <a:chOff x="2201760" y="3092400"/>
            <a:chExt cx="6365880" cy="925560"/>
          </a:xfrm>
        </p:grpSpPr>
        <p:grpSp>
          <p:nvGrpSpPr>
            <p:cNvPr id="91" name=""/>
            <p:cNvGrpSpPr/>
            <p:nvPr/>
          </p:nvGrpSpPr>
          <p:grpSpPr>
            <a:xfrm>
              <a:off x="2209680" y="3092400"/>
              <a:ext cx="6324840" cy="0"/>
              <a:chOff x="2209680" y="3092400"/>
              <a:chExt cx="6324840" cy="0"/>
            </a:xfrm>
          </p:grpSpPr>
          <p:sp>
            <p:nvSpPr>
              <p:cNvPr id="92" name=""/>
              <p:cNvSpPr/>
              <p:nvPr/>
            </p:nvSpPr>
            <p:spPr>
              <a:xfrm>
                <a:off x="2209680" y="3092400"/>
                <a:ext cx="1447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8620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9112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24480" y="3092400"/>
                <a:ext cx="1523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2476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553080" y="3092400"/>
                <a:ext cx="152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58000" y="3092400"/>
                <a:ext cx="16765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01760" y="4017960"/>
              <a:ext cx="6365880" cy="0"/>
              <a:chOff x="2201760" y="4017960"/>
              <a:chExt cx="6365880" cy="0"/>
            </a:xfrm>
          </p:grpSpPr>
          <p:sp>
            <p:nvSpPr>
              <p:cNvPr id="100" name=""/>
              <p:cNvSpPr/>
              <p:nvPr/>
            </p:nvSpPr>
            <p:spPr>
              <a:xfrm>
                <a:off x="2201760" y="4017960"/>
                <a:ext cx="162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90960" y="4017960"/>
                <a:ext cx="163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40160" y="4017960"/>
                <a:ext cx="1857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361200" y="4017960"/>
                <a:ext cx="16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662880" y="4017960"/>
                <a:ext cx="1904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01760" y="3544920"/>
              <a:ext cx="6059520" cy="6480"/>
              <a:chOff x="2201760" y="3544920"/>
              <a:chExt cx="6059520" cy="6480"/>
            </a:xfrm>
          </p:grpSpPr>
          <p:sp>
            <p:nvSpPr>
              <p:cNvPr id="106" name=""/>
              <p:cNvSpPr/>
              <p:nvPr/>
            </p:nvSpPr>
            <p:spPr>
              <a:xfrm>
                <a:off x="2201760" y="354492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981160" y="3546360"/>
                <a:ext cx="605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84680" y="35481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87840" y="35481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367240" y="354492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22880" y="354960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900840" y="35463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56480" y="355140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"/>
          <p:cNvSpPr txBox="1"/>
          <p:nvPr/>
        </p:nvSpPr>
        <p:spPr>
          <a:xfrm>
            <a:off x="1839960" y="214200"/>
            <a:ext cx="5157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Break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8" name=""/>
          <p:cNvGrpSpPr/>
          <p:nvPr/>
        </p:nvGrpSpPr>
        <p:grpSpPr>
          <a:xfrm>
            <a:off x="573120" y="1469880"/>
            <a:ext cx="8129520" cy="4683240"/>
            <a:chOff x="573120" y="1469880"/>
            <a:chExt cx="8129520" cy="4683240"/>
          </a:xfrm>
        </p:grpSpPr>
        <p:sp>
          <p:nvSpPr>
            <p:cNvPr id="5279" name=""/>
            <p:cNvSpPr/>
            <p:nvPr/>
          </p:nvSpPr>
          <p:spPr>
            <a:xfrm>
              <a:off x="8388360" y="2952720"/>
              <a:ext cx="0" cy="109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 flipH="1">
              <a:off x="7270920" y="293832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H="1">
              <a:off x="7323120" y="404352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 flipH="1">
              <a:off x="7910640" y="349092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H="1">
              <a:off x="7736040" y="349092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 flipH="1">
              <a:off x="6902280" y="3490920"/>
              <a:ext cx="744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7237440" y="321480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7159680" y="3213000"/>
              <a:ext cx="113040" cy="316440"/>
            </a:xfrm>
            <a:custGeom>
              <a:avLst/>
              <a:gdLst/>
              <a:ahLst/>
              <a:rect l="0" t="0" r="r" b="b"/>
              <a:pathLst>
                <a:path w="314" h="879">
                  <a:moveTo>
                    <a:pt x="0" y="879"/>
                  </a:moveTo>
                  <a:lnTo>
                    <a:pt x="314" y="879"/>
                  </a:lnTo>
                  <a:lnTo>
                    <a:pt x="314" y="879"/>
                  </a:lnTo>
                  <a:cubicBezTo>
                    <a:pt x="314" y="713"/>
                    <a:pt x="299" y="551"/>
                    <a:pt x="272" y="407"/>
                  </a:cubicBezTo>
                  <a:cubicBezTo>
                    <a:pt x="244" y="264"/>
                    <a:pt x="205" y="144"/>
                    <a:pt x="157" y="62"/>
                  </a:cubicBezTo>
                  <a:cubicBezTo>
                    <a:pt x="143" y="38"/>
                    <a:pt x="129" y="17"/>
                    <a:pt x="114" y="0"/>
                  </a:cubicBezTo>
                  <a:lnTo>
                    <a:pt x="0" y="879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7269840" y="294336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7159680" y="293688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170840" y="376704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7174080" y="348624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V="1">
              <a:off x="5292720" y="2938320"/>
              <a:ext cx="0" cy="109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292720" y="404352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5292720" y="293832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4978440" y="349092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5845320" y="349092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6033960" y="3490920"/>
              <a:ext cx="621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6303960" y="347832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5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6410160" y="3454200"/>
              <a:ext cx="113040" cy="316440"/>
            </a:xfrm>
            <a:custGeom>
              <a:avLst/>
              <a:gdLst/>
              <a:ahLst/>
              <a:rect l="0" t="0" r="r" b="b"/>
              <a:pathLst>
                <a:path w="314" h="879">
                  <a:moveTo>
                    <a:pt x="0" y="879"/>
                  </a:moveTo>
                  <a:lnTo>
                    <a:pt x="314" y="879"/>
                  </a:lnTo>
                  <a:lnTo>
                    <a:pt x="314" y="879"/>
                  </a:lnTo>
                  <a:cubicBezTo>
                    <a:pt x="314" y="713"/>
                    <a:pt x="299" y="551"/>
                    <a:pt x="272" y="407"/>
                  </a:cubicBezTo>
                  <a:cubicBezTo>
                    <a:pt x="244" y="264"/>
                    <a:pt x="205" y="144"/>
                    <a:pt x="157" y="62"/>
                  </a:cubicBezTo>
                  <a:cubicBezTo>
                    <a:pt x="143" y="38"/>
                    <a:pt x="129" y="17"/>
                    <a:pt x="114" y="0"/>
                  </a:cubicBezTo>
                  <a:lnTo>
                    <a:pt x="0" y="879"/>
                  </a:lnTo>
                  <a:close/>
                </a:path>
              </a:pathLst>
            </a:custGeom>
            <a:blipFill rotWithShape="0">
              <a:blip r:embed="rId6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6304680" y="375912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7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6410160" y="375912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8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6348240" y="293832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6392880" y="320364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6702480" y="3490920"/>
              <a:ext cx="137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8458200" y="2998800"/>
              <a:ext cx="0" cy="966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216400" y="3014640"/>
              <a:ext cx="0" cy="95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 flipV="1">
              <a:off x="5216400" y="2954160"/>
              <a:ext cx="60480" cy="60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232240" y="3983040"/>
              <a:ext cx="61920" cy="6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8396280" y="2936880"/>
              <a:ext cx="61920" cy="6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 flipV="1">
              <a:off x="8381880" y="3983040"/>
              <a:ext cx="60480" cy="60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0" name=""/>
            <p:cNvSpPr txBox="1"/>
            <p:nvPr/>
          </p:nvSpPr>
          <p:spPr>
            <a:xfrm>
              <a:off x="5575320" y="4133880"/>
              <a:ext cx="2541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lid Cylindrical Ro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983040" y="2946240"/>
              <a:ext cx="0" cy="109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H="1">
              <a:off x="2865600" y="293220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 flipH="1">
              <a:off x="2917800" y="403704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H="1">
              <a:off x="3505320" y="348444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 flipH="1">
              <a:off x="3330720" y="348444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 flipH="1">
              <a:off x="2496960" y="3484440"/>
              <a:ext cx="744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832120" y="320832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9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795760" y="3206520"/>
              <a:ext cx="71640" cy="316440"/>
            </a:xfrm>
            <a:custGeom>
              <a:avLst/>
              <a:gdLst/>
              <a:ahLst/>
              <a:rect l="0" t="0" r="r" b="b"/>
              <a:pathLst>
                <a:path fill="none" w="199" h="879">
                  <a:moveTo>
                    <a:pt x="199" y="879"/>
                  </a:moveTo>
                  <a:lnTo>
                    <a:pt x="199" y="879"/>
                  </a:lnTo>
                  <a:lnTo>
                    <a:pt x="199" y="878"/>
                  </a:lnTo>
                  <a:cubicBezTo>
                    <a:pt x="199" y="712"/>
                    <a:pt x="184" y="550"/>
                    <a:pt x="157" y="406"/>
                  </a:cubicBezTo>
                  <a:cubicBezTo>
                    <a:pt x="129" y="262"/>
                    <a:pt x="90" y="143"/>
                    <a:pt x="42" y="60"/>
                  </a:cubicBezTo>
                  <a:cubicBezTo>
                    <a:pt x="28" y="37"/>
                    <a:pt x="14" y="17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864520" y="293688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10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754360" y="293040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1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765520" y="376092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2768760" y="347976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 flipV="1">
              <a:off x="887400" y="2932200"/>
              <a:ext cx="0" cy="1090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887400" y="403704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887400" y="293220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73120" y="348444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1440000" y="348444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1628640" y="3484440"/>
              <a:ext cx="621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1898640" y="347184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1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046240" y="3447720"/>
              <a:ext cx="71640" cy="316440"/>
            </a:xfrm>
            <a:custGeom>
              <a:avLst/>
              <a:gdLst/>
              <a:ahLst/>
              <a:rect l="0" t="0" r="r" b="b"/>
              <a:pathLst>
                <a:path fill="none" w="199" h="879">
                  <a:moveTo>
                    <a:pt x="199" y="879"/>
                  </a:moveTo>
                  <a:lnTo>
                    <a:pt x="199" y="879"/>
                  </a:lnTo>
                  <a:lnTo>
                    <a:pt x="199" y="878"/>
                  </a:lnTo>
                  <a:cubicBezTo>
                    <a:pt x="199" y="712"/>
                    <a:pt x="184" y="550"/>
                    <a:pt x="157" y="406"/>
                  </a:cubicBezTo>
                  <a:cubicBezTo>
                    <a:pt x="129" y="262"/>
                    <a:pt x="90" y="143"/>
                    <a:pt x="42" y="60"/>
                  </a:cubicBezTo>
                  <a:cubicBezTo>
                    <a:pt x="28" y="37"/>
                    <a:pt x="14" y="17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1899360" y="375300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1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2004840" y="375300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1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1943280" y="293220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1987560" y="319716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324160" y="3484440"/>
              <a:ext cx="100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1951200" y="3452760"/>
              <a:ext cx="149760" cy="444960"/>
            </a:xfrm>
            <a:custGeom>
              <a:avLst/>
              <a:gdLst/>
              <a:ahLst/>
              <a:rect l="0" t="0" r="r" b="b"/>
              <a:pathLst>
                <a:path w="416" h="1236">
                  <a:moveTo>
                    <a:pt x="243" y="30"/>
                  </a:moveTo>
                  <a:lnTo>
                    <a:pt x="203" y="83"/>
                  </a:lnTo>
                  <a:lnTo>
                    <a:pt x="172" y="123"/>
                  </a:lnTo>
                  <a:lnTo>
                    <a:pt x="124" y="171"/>
                  </a:lnTo>
                  <a:lnTo>
                    <a:pt x="120" y="198"/>
                  </a:lnTo>
                  <a:lnTo>
                    <a:pt x="83" y="251"/>
                  </a:lnTo>
                  <a:lnTo>
                    <a:pt x="70" y="291"/>
                  </a:lnTo>
                  <a:lnTo>
                    <a:pt x="57" y="331"/>
                  </a:lnTo>
                  <a:lnTo>
                    <a:pt x="44" y="371"/>
                  </a:lnTo>
                  <a:lnTo>
                    <a:pt x="39" y="411"/>
                  </a:lnTo>
                  <a:lnTo>
                    <a:pt x="26" y="464"/>
                  </a:lnTo>
                  <a:lnTo>
                    <a:pt x="17" y="508"/>
                  </a:lnTo>
                  <a:lnTo>
                    <a:pt x="13" y="547"/>
                  </a:lnTo>
                  <a:lnTo>
                    <a:pt x="13" y="574"/>
                  </a:lnTo>
                  <a:lnTo>
                    <a:pt x="4" y="600"/>
                  </a:lnTo>
                  <a:lnTo>
                    <a:pt x="4" y="640"/>
                  </a:lnTo>
                  <a:lnTo>
                    <a:pt x="0" y="688"/>
                  </a:lnTo>
                  <a:lnTo>
                    <a:pt x="4" y="719"/>
                  </a:lnTo>
                  <a:lnTo>
                    <a:pt x="0" y="746"/>
                  </a:lnTo>
                  <a:lnTo>
                    <a:pt x="0" y="812"/>
                  </a:lnTo>
                  <a:lnTo>
                    <a:pt x="0" y="825"/>
                  </a:lnTo>
                  <a:lnTo>
                    <a:pt x="4" y="865"/>
                  </a:lnTo>
                  <a:lnTo>
                    <a:pt x="4" y="891"/>
                  </a:lnTo>
                  <a:lnTo>
                    <a:pt x="13" y="928"/>
                  </a:lnTo>
                  <a:lnTo>
                    <a:pt x="26" y="998"/>
                  </a:lnTo>
                  <a:lnTo>
                    <a:pt x="39" y="1060"/>
                  </a:lnTo>
                  <a:lnTo>
                    <a:pt x="52" y="1104"/>
                  </a:lnTo>
                  <a:lnTo>
                    <a:pt x="70" y="1152"/>
                  </a:lnTo>
                  <a:lnTo>
                    <a:pt x="106" y="1197"/>
                  </a:lnTo>
                  <a:lnTo>
                    <a:pt x="146" y="1223"/>
                  </a:lnTo>
                  <a:lnTo>
                    <a:pt x="190" y="1236"/>
                  </a:lnTo>
                  <a:lnTo>
                    <a:pt x="239" y="1232"/>
                  </a:lnTo>
                  <a:lnTo>
                    <a:pt x="283" y="1219"/>
                  </a:lnTo>
                  <a:lnTo>
                    <a:pt x="309" y="1192"/>
                  </a:lnTo>
                  <a:lnTo>
                    <a:pt x="337" y="1152"/>
                  </a:lnTo>
                  <a:lnTo>
                    <a:pt x="350" y="1113"/>
                  </a:lnTo>
                  <a:lnTo>
                    <a:pt x="363" y="1073"/>
                  </a:lnTo>
                  <a:lnTo>
                    <a:pt x="376" y="1033"/>
                  </a:lnTo>
                  <a:lnTo>
                    <a:pt x="390" y="994"/>
                  </a:lnTo>
                  <a:lnTo>
                    <a:pt x="390" y="954"/>
                  </a:lnTo>
                  <a:lnTo>
                    <a:pt x="403" y="913"/>
                  </a:lnTo>
                  <a:lnTo>
                    <a:pt x="403" y="874"/>
                  </a:lnTo>
                  <a:lnTo>
                    <a:pt x="416" y="834"/>
                  </a:lnTo>
                  <a:lnTo>
                    <a:pt x="416" y="794"/>
                  </a:lnTo>
                  <a:lnTo>
                    <a:pt x="416" y="741"/>
                  </a:lnTo>
                  <a:lnTo>
                    <a:pt x="416" y="702"/>
                  </a:lnTo>
                  <a:lnTo>
                    <a:pt x="416" y="662"/>
                  </a:lnTo>
                  <a:lnTo>
                    <a:pt x="416" y="622"/>
                  </a:lnTo>
                  <a:lnTo>
                    <a:pt x="416" y="583"/>
                  </a:lnTo>
                  <a:lnTo>
                    <a:pt x="416" y="543"/>
                  </a:lnTo>
                  <a:lnTo>
                    <a:pt x="412" y="508"/>
                  </a:lnTo>
                  <a:lnTo>
                    <a:pt x="403" y="468"/>
                  </a:lnTo>
                  <a:lnTo>
                    <a:pt x="398" y="437"/>
                  </a:lnTo>
                  <a:lnTo>
                    <a:pt x="390" y="384"/>
                  </a:lnTo>
                  <a:lnTo>
                    <a:pt x="376" y="344"/>
                  </a:lnTo>
                  <a:lnTo>
                    <a:pt x="363" y="291"/>
                  </a:lnTo>
                  <a:lnTo>
                    <a:pt x="359" y="251"/>
                  </a:lnTo>
                  <a:lnTo>
                    <a:pt x="337" y="211"/>
                  </a:lnTo>
                  <a:lnTo>
                    <a:pt x="323" y="171"/>
                  </a:lnTo>
                  <a:lnTo>
                    <a:pt x="309" y="132"/>
                  </a:lnTo>
                  <a:lnTo>
                    <a:pt x="296" y="92"/>
                  </a:lnTo>
                  <a:lnTo>
                    <a:pt x="269" y="57"/>
                  </a:lnTo>
                  <a:lnTo>
                    <a:pt x="256" y="0"/>
                  </a:lnTo>
                  <a:lnTo>
                    <a:pt x="243" y="30"/>
                  </a:lnTo>
                  <a:close/>
                </a:path>
              </a:pathLst>
            </a:cu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776680" y="3079800"/>
              <a:ext cx="149760" cy="444960"/>
            </a:xfrm>
            <a:custGeom>
              <a:avLst/>
              <a:gdLst/>
              <a:ahLst/>
              <a:rect l="0" t="0" r="r" b="b"/>
              <a:pathLst>
                <a:path w="416" h="1236">
                  <a:moveTo>
                    <a:pt x="172" y="1205"/>
                  </a:moveTo>
                  <a:lnTo>
                    <a:pt x="212" y="1152"/>
                  </a:lnTo>
                  <a:lnTo>
                    <a:pt x="243" y="1113"/>
                  </a:lnTo>
                  <a:lnTo>
                    <a:pt x="292" y="1064"/>
                  </a:lnTo>
                  <a:lnTo>
                    <a:pt x="296" y="1038"/>
                  </a:lnTo>
                  <a:lnTo>
                    <a:pt x="332" y="985"/>
                  </a:lnTo>
                  <a:lnTo>
                    <a:pt x="345" y="945"/>
                  </a:lnTo>
                  <a:lnTo>
                    <a:pt x="359" y="904"/>
                  </a:lnTo>
                  <a:lnTo>
                    <a:pt x="372" y="865"/>
                  </a:lnTo>
                  <a:lnTo>
                    <a:pt x="376" y="825"/>
                  </a:lnTo>
                  <a:lnTo>
                    <a:pt x="390" y="772"/>
                  </a:lnTo>
                  <a:lnTo>
                    <a:pt x="398" y="728"/>
                  </a:lnTo>
                  <a:lnTo>
                    <a:pt x="403" y="688"/>
                  </a:lnTo>
                  <a:lnTo>
                    <a:pt x="403" y="662"/>
                  </a:lnTo>
                  <a:lnTo>
                    <a:pt x="398" y="636"/>
                  </a:lnTo>
                  <a:lnTo>
                    <a:pt x="412" y="596"/>
                  </a:lnTo>
                  <a:lnTo>
                    <a:pt x="416" y="547"/>
                  </a:lnTo>
                  <a:lnTo>
                    <a:pt x="412" y="516"/>
                  </a:lnTo>
                  <a:lnTo>
                    <a:pt x="416" y="490"/>
                  </a:lnTo>
                  <a:lnTo>
                    <a:pt x="416" y="424"/>
                  </a:lnTo>
                  <a:lnTo>
                    <a:pt x="416" y="411"/>
                  </a:lnTo>
                  <a:lnTo>
                    <a:pt x="412" y="371"/>
                  </a:lnTo>
                  <a:lnTo>
                    <a:pt x="412" y="344"/>
                  </a:lnTo>
                  <a:lnTo>
                    <a:pt x="403" y="308"/>
                  </a:lnTo>
                  <a:lnTo>
                    <a:pt x="390" y="238"/>
                  </a:lnTo>
                  <a:lnTo>
                    <a:pt x="376" y="176"/>
                  </a:lnTo>
                  <a:lnTo>
                    <a:pt x="363" y="132"/>
                  </a:lnTo>
                  <a:lnTo>
                    <a:pt x="345" y="83"/>
                  </a:lnTo>
                  <a:lnTo>
                    <a:pt x="309" y="39"/>
                  </a:lnTo>
                  <a:lnTo>
                    <a:pt x="269" y="13"/>
                  </a:lnTo>
                  <a:lnTo>
                    <a:pt x="225" y="0"/>
                  </a:lnTo>
                  <a:lnTo>
                    <a:pt x="177" y="4"/>
                  </a:lnTo>
                  <a:lnTo>
                    <a:pt x="133" y="17"/>
                  </a:lnTo>
                  <a:lnTo>
                    <a:pt x="106" y="44"/>
                  </a:lnTo>
                  <a:lnTo>
                    <a:pt x="79" y="83"/>
                  </a:lnTo>
                  <a:lnTo>
                    <a:pt x="66" y="123"/>
                  </a:lnTo>
                  <a:lnTo>
                    <a:pt x="52" y="163"/>
                  </a:lnTo>
                  <a:lnTo>
                    <a:pt x="39" y="202"/>
                  </a:lnTo>
                  <a:lnTo>
                    <a:pt x="26" y="242"/>
                  </a:lnTo>
                  <a:lnTo>
                    <a:pt x="26" y="282"/>
                  </a:lnTo>
                  <a:lnTo>
                    <a:pt x="13" y="322"/>
                  </a:lnTo>
                  <a:lnTo>
                    <a:pt x="13" y="362"/>
                  </a:lnTo>
                  <a:lnTo>
                    <a:pt x="0" y="402"/>
                  </a:lnTo>
                  <a:lnTo>
                    <a:pt x="0" y="441"/>
                  </a:lnTo>
                  <a:lnTo>
                    <a:pt x="0" y="494"/>
                  </a:lnTo>
                  <a:lnTo>
                    <a:pt x="0" y="534"/>
                  </a:lnTo>
                  <a:lnTo>
                    <a:pt x="0" y="574"/>
                  </a:lnTo>
                  <a:lnTo>
                    <a:pt x="0" y="613"/>
                  </a:lnTo>
                  <a:lnTo>
                    <a:pt x="0" y="653"/>
                  </a:lnTo>
                  <a:lnTo>
                    <a:pt x="0" y="693"/>
                  </a:lnTo>
                  <a:lnTo>
                    <a:pt x="4" y="728"/>
                  </a:lnTo>
                  <a:lnTo>
                    <a:pt x="13" y="768"/>
                  </a:lnTo>
                  <a:lnTo>
                    <a:pt x="17" y="799"/>
                  </a:lnTo>
                  <a:lnTo>
                    <a:pt x="26" y="852"/>
                  </a:lnTo>
                  <a:lnTo>
                    <a:pt x="39" y="891"/>
                  </a:lnTo>
                  <a:lnTo>
                    <a:pt x="52" y="945"/>
                  </a:lnTo>
                  <a:lnTo>
                    <a:pt x="79" y="985"/>
                  </a:lnTo>
                  <a:lnTo>
                    <a:pt x="79" y="1025"/>
                  </a:lnTo>
                  <a:lnTo>
                    <a:pt x="92" y="1064"/>
                  </a:lnTo>
                  <a:lnTo>
                    <a:pt x="106" y="1104"/>
                  </a:lnTo>
                  <a:lnTo>
                    <a:pt x="120" y="1144"/>
                  </a:lnTo>
                  <a:lnTo>
                    <a:pt x="146" y="1179"/>
                  </a:lnTo>
                  <a:lnTo>
                    <a:pt x="159" y="1236"/>
                  </a:lnTo>
                  <a:lnTo>
                    <a:pt x="172" y="1205"/>
                  </a:lnTo>
                  <a:close/>
                </a:path>
              </a:pathLst>
            </a:cu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8" name=""/>
            <p:cNvSpPr txBox="1"/>
            <p:nvPr/>
          </p:nvSpPr>
          <p:spPr>
            <a:xfrm>
              <a:off x="1542960" y="4098960"/>
              <a:ext cx="1820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ipe or Tub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1521000" y="4848120"/>
              <a:ext cx="0" cy="9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1521000" y="4848120"/>
              <a:ext cx="129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1521000" y="5770440"/>
              <a:ext cx="126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811600" y="4848120"/>
              <a:ext cx="79992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 flipH="1">
              <a:off x="2857680" y="4879800"/>
              <a:ext cx="753840" cy="138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857680" y="5018040"/>
              <a:ext cx="492120" cy="92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 flipH="1">
              <a:off x="2965320" y="5110200"/>
              <a:ext cx="368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965320" y="5140440"/>
              <a:ext cx="784440" cy="122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 flipH="1">
              <a:off x="2965320" y="5262480"/>
              <a:ext cx="78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949480" y="5262480"/>
              <a:ext cx="55404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 flipH="1">
              <a:off x="3103560" y="5356080"/>
              <a:ext cx="384120" cy="60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3087720" y="5432400"/>
              <a:ext cx="307800" cy="46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 flipH="1">
              <a:off x="2581200" y="5478480"/>
              <a:ext cx="814320" cy="76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581200" y="5554800"/>
              <a:ext cx="614520" cy="46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 flipH="1">
              <a:off x="2565360" y="5616720"/>
              <a:ext cx="630360" cy="6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565360" y="5678640"/>
              <a:ext cx="200160" cy="91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5" name=""/>
            <p:cNvSpPr txBox="1"/>
            <p:nvPr/>
          </p:nvSpPr>
          <p:spPr>
            <a:xfrm>
              <a:off x="1612800" y="5756400"/>
              <a:ext cx="833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oo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2392200" y="2160720"/>
              <a:ext cx="1229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3821040" y="2160720"/>
              <a:ext cx="119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5235480" y="2160720"/>
              <a:ext cx="1276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 flipV="1">
              <a:off x="5035680" y="2068560"/>
              <a:ext cx="0" cy="92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035680" y="2068560"/>
              <a:ext cx="183960" cy="183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V="1">
              <a:off x="5234040" y="2160720"/>
              <a:ext cx="0" cy="107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V="1">
              <a:off x="3621240" y="2050920"/>
              <a:ext cx="0" cy="92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3621240" y="2050920"/>
              <a:ext cx="183960" cy="18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 flipV="1">
              <a:off x="3819600" y="21430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5" name=""/>
            <p:cNvSpPr txBox="1"/>
            <p:nvPr/>
          </p:nvSpPr>
          <p:spPr>
            <a:xfrm>
              <a:off x="3057480" y="2332080"/>
              <a:ext cx="2787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ng Break Line (Thi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436840" y="1469880"/>
              <a:ext cx="4042080" cy="152640"/>
            </a:xfrm>
            <a:custGeom>
              <a:avLst/>
              <a:gdLst/>
              <a:ahLst/>
              <a:rect l="0" t="0" r="r" b="b"/>
              <a:pathLst>
                <a:path fill="none" w="11228" h="424">
                  <a:moveTo>
                    <a:pt x="0" y="0"/>
                  </a:moveTo>
                  <a:lnTo>
                    <a:pt x="132" y="0"/>
                  </a:lnTo>
                  <a:lnTo>
                    <a:pt x="260" y="83"/>
                  </a:lnTo>
                  <a:lnTo>
                    <a:pt x="388" y="127"/>
                  </a:lnTo>
                  <a:lnTo>
                    <a:pt x="515" y="127"/>
                  </a:lnTo>
                  <a:lnTo>
                    <a:pt x="643" y="83"/>
                  </a:lnTo>
                  <a:lnTo>
                    <a:pt x="771" y="39"/>
                  </a:lnTo>
                  <a:lnTo>
                    <a:pt x="899" y="39"/>
                  </a:lnTo>
                  <a:lnTo>
                    <a:pt x="1027" y="39"/>
                  </a:lnTo>
                  <a:lnTo>
                    <a:pt x="1155" y="39"/>
                  </a:lnTo>
                  <a:lnTo>
                    <a:pt x="1283" y="0"/>
                  </a:lnTo>
                  <a:lnTo>
                    <a:pt x="2734" y="0"/>
                  </a:lnTo>
                  <a:lnTo>
                    <a:pt x="2861" y="39"/>
                  </a:lnTo>
                  <a:lnTo>
                    <a:pt x="2989" y="127"/>
                  </a:lnTo>
                  <a:lnTo>
                    <a:pt x="3161" y="127"/>
                  </a:lnTo>
                  <a:lnTo>
                    <a:pt x="3373" y="127"/>
                  </a:lnTo>
                  <a:lnTo>
                    <a:pt x="3501" y="167"/>
                  </a:lnTo>
                  <a:lnTo>
                    <a:pt x="3629" y="167"/>
                  </a:lnTo>
                  <a:lnTo>
                    <a:pt x="3801" y="167"/>
                  </a:lnTo>
                  <a:lnTo>
                    <a:pt x="3968" y="127"/>
                  </a:lnTo>
                  <a:lnTo>
                    <a:pt x="4101" y="83"/>
                  </a:lnTo>
                  <a:lnTo>
                    <a:pt x="4228" y="83"/>
                  </a:lnTo>
                  <a:lnTo>
                    <a:pt x="4740" y="83"/>
                  </a:lnTo>
                  <a:lnTo>
                    <a:pt x="4868" y="83"/>
                  </a:lnTo>
                  <a:lnTo>
                    <a:pt x="5035" y="127"/>
                  </a:lnTo>
                  <a:lnTo>
                    <a:pt x="5207" y="167"/>
                  </a:lnTo>
                  <a:lnTo>
                    <a:pt x="5335" y="256"/>
                  </a:lnTo>
                  <a:lnTo>
                    <a:pt x="5463" y="256"/>
                  </a:lnTo>
                  <a:lnTo>
                    <a:pt x="5976" y="256"/>
                  </a:lnTo>
                  <a:lnTo>
                    <a:pt x="6104" y="296"/>
                  </a:lnTo>
                  <a:lnTo>
                    <a:pt x="6231" y="256"/>
                  </a:lnTo>
                  <a:lnTo>
                    <a:pt x="6359" y="167"/>
                  </a:lnTo>
                  <a:lnTo>
                    <a:pt x="6531" y="167"/>
                  </a:lnTo>
                  <a:lnTo>
                    <a:pt x="6659" y="167"/>
                  </a:lnTo>
                  <a:lnTo>
                    <a:pt x="7171" y="167"/>
                  </a:lnTo>
                  <a:lnTo>
                    <a:pt x="7343" y="211"/>
                  </a:lnTo>
                  <a:lnTo>
                    <a:pt x="7471" y="211"/>
                  </a:lnTo>
                  <a:lnTo>
                    <a:pt x="7598" y="167"/>
                  </a:lnTo>
                  <a:lnTo>
                    <a:pt x="7726" y="83"/>
                  </a:lnTo>
                  <a:lnTo>
                    <a:pt x="7898" y="83"/>
                  </a:lnTo>
                  <a:lnTo>
                    <a:pt x="8026" y="39"/>
                  </a:lnTo>
                  <a:lnTo>
                    <a:pt x="8154" y="39"/>
                  </a:lnTo>
                  <a:lnTo>
                    <a:pt x="8326" y="39"/>
                  </a:lnTo>
                  <a:lnTo>
                    <a:pt x="9689" y="83"/>
                  </a:lnTo>
                  <a:lnTo>
                    <a:pt x="9817" y="127"/>
                  </a:lnTo>
                  <a:lnTo>
                    <a:pt x="10033" y="340"/>
                  </a:lnTo>
                  <a:lnTo>
                    <a:pt x="10200" y="424"/>
                  </a:lnTo>
                  <a:lnTo>
                    <a:pt x="10456" y="384"/>
                  </a:lnTo>
                  <a:lnTo>
                    <a:pt x="10584" y="384"/>
                  </a:lnTo>
                  <a:lnTo>
                    <a:pt x="10716" y="384"/>
                  </a:lnTo>
                  <a:lnTo>
                    <a:pt x="10844" y="340"/>
                  </a:lnTo>
                  <a:lnTo>
                    <a:pt x="10972" y="256"/>
                  </a:lnTo>
                  <a:lnTo>
                    <a:pt x="11100" y="211"/>
                  </a:lnTo>
                  <a:lnTo>
                    <a:pt x="11228" y="127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7" name=""/>
            <p:cNvSpPr txBox="1"/>
            <p:nvPr/>
          </p:nvSpPr>
          <p:spPr>
            <a:xfrm>
              <a:off x="2921040" y="1579680"/>
              <a:ext cx="29988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hort Break Line (Heavy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8" name=""/>
          <p:cNvSpPr txBox="1"/>
          <p:nvPr/>
        </p:nvSpPr>
        <p:spPr>
          <a:xfrm>
            <a:off x="1839960" y="214200"/>
            <a:ext cx="5157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Break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9" name=""/>
          <p:cNvGrpSpPr/>
          <p:nvPr/>
        </p:nvGrpSpPr>
        <p:grpSpPr>
          <a:xfrm>
            <a:off x="573120" y="1469880"/>
            <a:ext cx="8129520" cy="4699080"/>
            <a:chOff x="573120" y="1469880"/>
            <a:chExt cx="8129520" cy="4699080"/>
          </a:xfrm>
        </p:grpSpPr>
        <p:sp>
          <p:nvSpPr>
            <p:cNvPr id="5370" name=""/>
            <p:cNvSpPr/>
            <p:nvPr/>
          </p:nvSpPr>
          <p:spPr>
            <a:xfrm>
              <a:off x="8388360" y="2952720"/>
              <a:ext cx="0" cy="109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 flipH="1">
              <a:off x="7270920" y="293832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 flipH="1">
              <a:off x="7323120" y="404352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 flipH="1">
              <a:off x="7910640" y="349092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H="1">
              <a:off x="7736040" y="349092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 flipH="1">
              <a:off x="6902280" y="3490920"/>
              <a:ext cx="744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7237440" y="321480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7159680" y="3213000"/>
              <a:ext cx="113040" cy="316440"/>
            </a:xfrm>
            <a:custGeom>
              <a:avLst/>
              <a:gdLst/>
              <a:ahLst/>
              <a:rect l="0" t="0" r="r" b="b"/>
              <a:pathLst>
                <a:path w="314" h="879">
                  <a:moveTo>
                    <a:pt x="0" y="879"/>
                  </a:moveTo>
                  <a:lnTo>
                    <a:pt x="314" y="879"/>
                  </a:lnTo>
                  <a:lnTo>
                    <a:pt x="314" y="879"/>
                  </a:lnTo>
                  <a:cubicBezTo>
                    <a:pt x="314" y="713"/>
                    <a:pt x="299" y="551"/>
                    <a:pt x="272" y="407"/>
                  </a:cubicBezTo>
                  <a:cubicBezTo>
                    <a:pt x="244" y="264"/>
                    <a:pt x="205" y="144"/>
                    <a:pt x="157" y="62"/>
                  </a:cubicBezTo>
                  <a:cubicBezTo>
                    <a:pt x="143" y="38"/>
                    <a:pt x="129" y="17"/>
                    <a:pt x="114" y="0"/>
                  </a:cubicBezTo>
                  <a:lnTo>
                    <a:pt x="0" y="879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7269840" y="294336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7159680" y="293688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7170840" y="376704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7174080" y="348624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 flipV="1">
              <a:off x="5292720" y="2938320"/>
              <a:ext cx="0" cy="109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5292720" y="404352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5292720" y="293832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4978440" y="349092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5845320" y="349092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033960" y="3490920"/>
              <a:ext cx="621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303960" y="347832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5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6410160" y="3454200"/>
              <a:ext cx="113040" cy="316440"/>
            </a:xfrm>
            <a:custGeom>
              <a:avLst/>
              <a:gdLst/>
              <a:ahLst/>
              <a:rect l="0" t="0" r="r" b="b"/>
              <a:pathLst>
                <a:path w="314" h="879">
                  <a:moveTo>
                    <a:pt x="0" y="879"/>
                  </a:moveTo>
                  <a:lnTo>
                    <a:pt x="314" y="879"/>
                  </a:lnTo>
                  <a:lnTo>
                    <a:pt x="314" y="879"/>
                  </a:lnTo>
                  <a:cubicBezTo>
                    <a:pt x="314" y="713"/>
                    <a:pt x="299" y="551"/>
                    <a:pt x="272" y="407"/>
                  </a:cubicBezTo>
                  <a:cubicBezTo>
                    <a:pt x="244" y="264"/>
                    <a:pt x="205" y="144"/>
                    <a:pt x="157" y="62"/>
                  </a:cubicBezTo>
                  <a:cubicBezTo>
                    <a:pt x="143" y="38"/>
                    <a:pt x="129" y="17"/>
                    <a:pt x="114" y="0"/>
                  </a:cubicBezTo>
                  <a:lnTo>
                    <a:pt x="0" y="879"/>
                  </a:lnTo>
                  <a:close/>
                </a:path>
              </a:pathLst>
            </a:custGeom>
            <a:blipFill rotWithShape="0">
              <a:blip r:embed="rId6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6304680" y="375912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7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6410160" y="375912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8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348240" y="293832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392880" y="320364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702480" y="3490920"/>
              <a:ext cx="137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8458200" y="2998800"/>
              <a:ext cx="0" cy="966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5216400" y="3014640"/>
              <a:ext cx="0" cy="95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 flipV="1">
              <a:off x="5216400" y="2954160"/>
              <a:ext cx="60480" cy="60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5232240" y="3983040"/>
              <a:ext cx="61920" cy="6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8396280" y="2936880"/>
              <a:ext cx="61920" cy="6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 flipV="1">
              <a:off x="8381880" y="3983040"/>
              <a:ext cx="60480" cy="60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"/>
            <p:cNvSpPr txBox="1"/>
            <p:nvPr/>
          </p:nvSpPr>
          <p:spPr>
            <a:xfrm>
              <a:off x="5575320" y="4133880"/>
              <a:ext cx="2541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lid Cylindrical Ro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3983040" y="2946240"/>
              <a:ext cx="0" cy="109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 flipH="1">
              <a:off x="2865600" y="293220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 flipH="1">
              <a:off x="2917800" y="403704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 flipH="1">
              <a:off x="3505320" y="348444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H="1">
              <a:off x="3330720" y="348444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 flipH="1">
              <a:off x="2496960" y="3484440"/>
              <a:ext cx="744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832120" y="320832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9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795760" y="3206520"/>
              <a:ext cx="71640" cy="316440"/>
            </a:xfrm>
            <a:custGeom>
              <a:avLst/>
              <a:gdLst/>
              <a:ahLst/>
              <a:rect l="0" t="0" r="r" b="b"/>
              <a:pathLst>
                <a:path fill="none" w="199" h="879">
                  <a:moveTo>
                    <a:pt x="199" y="879"/>
                  </a:moveTo>
                  <a:lnTo>
                    <a:pt x="199" y="879"/>
                  </a:lnTo>
                  <a:lnTo>
                    <a:pt x="199" y="878"/>
                  </a:lnTo>
                  <a:cubicBezTo>
                    <a:pt x="199" y="712"/>
                    <a:pt x="184" y="550"/>
                    <a:pt x="157" y="406"/>
                  </a:cubicBezTo>
                  <a:cubicBezTo>
                    <a:pt x="129" y="262"/>
                    <a:pt x="90" y="143"/>
                    <a:pt x="42" y="60"/>
                  </a:cubicBezTo>
                  <a:cubicBezTo>
                    <a:pt x="28" y="37"/>
                    <a:pt x="14" y="17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864520" y="293688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10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2754360" y="293040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1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765520" y="376092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2768760" y="347976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 flipV="1">
              <a:off x="887400" y="2932200"/>
              <a:ext cx="0" cy="1090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887400" y="403704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887400" y="293220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73120" y="348444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1440000" y="348444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1628640" y="3484440"/>
              <a:ext cx="621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1898640" y="3471840"/>
              <a:ext cx="140040" cy="289440"/>
            </a:xfrm>
            <a:custGeom>
              <a:avLst/>
              <a:gdLst/>
              <a:ahLst/>
              <a:rect l="0" t="0" r="r" b="b"/>
              <a:pathLst>
                <a:path w="389" h="804">
                  <a:moveTo>
                    <a:pt x="389" y="804"/>
                  </a:moveTo>
                  <a:lnTo>
                    <a:pt x="389" y="0"/>
                  </a:lnTo>
                  <a:lnTo>
                    <a:pt x="389" y="0"/>
                  </a:lnTo>
                  <a:cubicBezTo>
                    <a:pt x="321" y="0"/>
                    <a:pt x="254" y="37"/>
                    <a:pt x="194" y="108"/>
                  </a:cubicBezTo>
                  <a:cubicBezTo>
                    <a:pt x="135" y="178"/>
                    <a:pt x="86" y="280"/>
                    <a:pt x="52" y="402"/>
                  </a:cubicBezTo>
                  <a:cubicBezTo>
                    <a:pt x="18" y="524"/>
                    <a:pt x="0" y="663"/>
                    <a:pt x="0" y="804"/>
                  </a:cubicBezTo>
                  <a:lnTo>
                    <a:pt x="389" y="804"/>
                  </a:lnTo>
                  <a:close/>
                </a:path>
              </a:pathLst>
            </a:custGeom>
            <a:blipFill rotWithShape="0">
              <a:blip r:embed="rId1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2046240" y="3447720"/>
              <a:ext cx="71640" cy="316440"/>
            </a:xfrm>
            <a:custGeom>
              <a:avLst/>
              <a:gdLst/>
              <a:ahLst/>
              <a:rect l="0" t="0" r="r" b="b"/>
              <a:pathLst>
                <a:path fill="none" w="199" h="879">
                  <a:moveTo>
                    <a:pt x="199" y="879"/>
                  </a:moveTo>
                  <a:lnTo>
                    <a:pt x="199" y="879"/>
                  </a:lnTo>
                  <a:lnTo>
                    <a:pt x="199" y="878"/>
                  </a:lnTo>
                  <a:cubicBezTo>
                    <a:pt x="199" y="712"/>
                    <a:pt x="184" y="550"/>
                    <a:pt x="157" y="406"/>
                  </a:cubicBezTo>
                  <a:cubicBezTo>
                    <a:pt x="129" y="262"/>
                    <a:pt x="90" y="143"/>
                    <a:pt x="42" y="60"/>
                  </a:cubicBezTo>
                  <a:cubicBezTo>
                    <a:pt x="28" y="37"/>
                    <a:pt x="14" y="17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1899360" y="3753000"/>
              <a:ext cx="109080" cy="281520"/>
            </a:xfrm>
            <a:custGeom>
              <a:avLst/>
              <a:gdLst/>
              <a:ahLst/>
              <a:rect l="0" t="0" r="r" b="b"/>
              <a:pathLst>
                <a:path w="303" h="782">
                  <a:moveTo>
                    <a:pt x="0" y="782"/>
                  </a:moveTo>
                  <a:lnTo>
                    <a:pt x="303" y="782"/>
                  </a:lnTo>
                  <a:lnTo>
                    <a:pt x="303" y="782"/>
                  </a:lnTo>
                  <a:lnTo>
                    <a:pt x="303" y="782"/>
                  </a:lnTo>
                  <a:cubicBezTo>
                    <a:pt x="303" y="645"/>
                    <a:pt x="289" y="510"/>
                    <a:pt x="262" y="391"/>
                  </a:cubicBezTo>
                  <a:cubicBezTo>
                    <a:pt x="236" y="272"/>
                    <a:pt x="198" y="173"/>
                    <a:pt x="151" y="105"/>
                  </a:cubicBezTo>
                  <a:cubicBezTo>
                    <a:pt x="105" y="36"/>
                    <a:pt x="53" y="0"/>
                    <a:pt x="0" y="0"/>
                  </a:cubicBezTo>
                  <a:lnTo>
                    <a:pt x="0" y="782"/>
                  </a:lnTo>
                  <a:close/>
                </a:path>
              </a:pathLst>
            </a:custGeom>
            <a:blipFill rotWithShape="0">
              <a:blip r:embed="rId1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004840" y="3753000"/>
              <a:ext cx="111600" cy="287640"/>
            </a:xfrm>
            <a:custGeom>
              <a:avLst/>
              <a:gdLst/>
              <a:ahLst/>
              <a:rect l="0" t="0" r="r" b="b"/>
              <a:pathLst>
                <a:path w="310" h="799">
                  <a:moveTo>
                    <a:pt x="310" y="799"/>
                  </a:moveTo>
                  <a:lnTo>
                    <a:pt x="310" y="0"/>
                  </a:lnTo>
                  <a:lnTo>
                    <a:pt x="310" y="0"/>
                  </a:lnTo>
                  <a:cubicBezTo>
                    <a:pt x="256" y="0"/>
                    <a:pt x="202" y="37"/>
                    <a:pt x="155" y="107"/>
                  </a:cubicBezTo>
                  <a:cubicBezTo>
                    <a:pt x="108" y="177"/>
                    <a:pt x="69" y="278"/>
                    <a:pt x="42" y="400"/>
                  </a:cubicBezTo>
                  <a:cubicBezTo>
                    <a:pt x="14" y="521"/>
                    <a:pt x="0" y="659"/>
                    <a:pt x="0" y="799"/>
                  </a:cubicBezTo>
                  <a:lnTo>
                    <a:pt x="310" y="799"/>
                  </a:lnTo>
                  <a:close/>
                </a:path>
              </a:pathLst>
            </a:custGeom>
            <a:blipFill rotWithShape="0">
              <a:blip r:embed="rId1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1943280" y="2932200"/>
              <a:ext cx="162360" cy="276480"/>
            </a:xfrm>
            <a:custGeom>
              <a:avLst/>
              <a:gdLst/>
              <a:ahLst/>
              <a:rect l="0" t="0" r="r" b="b"/>
              <a:pathLst>
                <a:path fill="none" w="451" h="768">
                  <a:moveTo>
                    <a:pt x="451" y="768"/>
                  </a:moveTo>
                  <a:lnTo>
                    <a:pt x="451" y="768"/>
                  </a:lnTo>
                  <a:lnTo>
                    <a:pt x="451" y="768"/>
                  </a:lnTo>
                  <a:cubicBezTo>
                    <a:pt x="451" y="633"/>
                    <a:pt x="430" y="501"/>
                    <a:pt x="391" y="384"/>
                  </a:cubicBezTo>
                  <a:cubicBezTo>
                    <a:pt x="351" y="267"/>
                    <a:pt x="294" y="170"/>
                    <a:pt x="225" y="103"/>
                  </a:cubicBezTo>
                  <a:cubicBezTo>
                    <a:pt x="157" y="35"/>
                    <a:pt x="7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1987560" y="3197160"/>
              <a:ext cx="115560" cy="293400"/>
            </a:xfrm>
            <a:custGeom>
              <a:avLst/>
              <a:gdLst/>
              <a:ahLst/>
              <a:rect l="0" t="0" r="r" b="b"/>
              <a:pathLst>
                <a:path fill="none" w="321" h="815">
                  <a:moveTo>
                    <a:pt x="321" y="0"/>
                  </a:moveTo>
                  <a:lnTo>
                    <a:pt x="321" y="0"/>
                  </a:lnTo>
                  <a:cubicBezTo>
                    <a:pt x="265" y="0"/>
                    <a:pt x="209" y="38"/>
                    <a:pt x="160" y="109"/>
                  </a:cubicBezTo>
                  <a:cubicBezTo>
                    <a:pt x="112" y="181"/>
                    <a:pt x="71" y="284"/>
                    <a:pt x="43" y="408"/>
                  </a:cubicBezTo>
                  <a:cubicBezTo>
                    <a:pt x="15" y="531"/>
                    <a:pt x="0" y="672"/>
                    <a:pt x="0" y="81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324160" y="3484440"/>
              <a:ext cx="100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1951200" y="3452760"/>
              <a:ext cx="149760" cy="444960"/>
            </a:xfrm>
            <a:custGeom>
              <a:avLst/>
              <a:gdLst/>
              <a:ahLst/>
              <a:rect l="0" t="0" r="r" b="b"/>
              <a:pathLst>
                <a:path w="416" h="1236">
                  <a:moveTo>
                    <a:pt x="243" y="30"/>
                  </a:moveTo>
                  <a:lnTo>
                    <a:pt x="203" y="83"/>
                  </a:lnTo>
                  <a:lnTo>
                    <a:pt x="172" y="123"/>
                  </a:lnTo>
                  <a:lnTo>
                    <a:pt x="124" y="171"/>
                  </a:lnTo>
                  <a:lnTo>
                    <a:pt x="120" y="198"/>
                  </a:lnTo>
                  <a:lnTo>
                    <a:pt x="83" y="251"/>
                  </a:lnTo>
                  <a:lnTo>
                    <a:pt x="70" y="291"/>
                  </a:lnTo>
                  <a:lnTo>
                    <a:pt x="57" y="331"/>
                  </a:lnTo>
                  <a:lnTo>
                    <a:pt x="44" y="371"/>
                  </a:lnTo>
                  <a:lnTo>
                    <a:pt x="39" y="411"/>
                  </a:lnTo>
                  <a:lnTo>
                    <a:pt x="26" y="464"/>
                  </a:lnTo>
                  <a:lnTo>
                    <a:pt x="17" y="508"/>
                  </a:lnTo>
                  <a:lnTo>
                    <a:pt x="13" y="547"/>
                  </a:lnTo>
                  <a:lnTo>
                    <a:pt x="13" y="574"/>
                  </a:lnTo>
                  <a:lnTo>
                    <a:pt x="4" y="600"/>
                  </a:lnTo>
                  <a:lnTo>
                    <a:pt x="4" y="640"/>
                  </a:lnTo>
                  <a:lnTo>
                    <a:pt x="0" y="688"/>
                  </a:lnTo>
                  <a:lnTo>
                    <a:pt x="4" y="719"/>
                  </a:lnTo>
                  <a:lnTo>
                    <a:pt x="0" y="746"/>
                  </a:lnTo>
                  <a:lnTo>
                    <a:pt x="0" y="812"/>
                  </a:lnTo>
                  <a:lnTo>
                    <a:pt x="0" y="825"/>
                  </a:lnTo>
                  <a:lnTo>
                    <a:pt x="4" y="865"/>
                  </a:lnTo>
                  <a:lnTo>
                    <a:pt x="4" y="891"/>
                  </a:lnTo>
                  <a:lnTo>
                    <a:pt x="13" y="928"/>
                  </a:lnTo>
                  <a:lnTo>
                    <a:pt x="26" y="998"/>
                  </a:lnTo>
                  <a:lnTo>
                    <a:pt x="39" y="1060"/>
                  </a:lnTo>
                  <a:lnTo>
                    <a:pt x="52" y="1104"/>
                  </a:lnTo>
                  <a:lnTo>
                    <a:pt x="70" y="1152"/>
                  </a:lnTo>
                  <a:lnTo>
                    <a:pt x="106" y="1197"/>
                  </a:lnTo>
                  <a:lnTo>
                    <a:pt x="146" y="1223"/>
                  </a:lnTo>
                  <a:lnTo>
                    <a:pt x="190" y="1236"/>
                  </a:lnTo>
                  <a:lnTo>
                    <a:pt x="239" y="1232"/>
                  </a:lnTo>
                  <a:lnTo>
                    <a:pt x="283" y="1219"/>
                  </a:lnTo>
                  <a:lnTo>
                    <a:pt x="309" y="1192"/>
                  </a:lnTo>
                  <a:lnTo>
                    <a:pt x="337" y="1152"/>
                  </a:lnTo>
                  <a:lnTo>
                    <a:pt x="350" y="1113"/>
                  </a:lnTo>
                  <a:lnTo>
                    <a:pt x="363" y="1073"/>
                  </a:lnTo>
                  <a:lnTo>
                    <a:pt x="376" y="1033"/>
                  </a:lnTo>
                  <a:lnTo>
                    <a:pt x="390" y="994"/>
                  </a:lnTo>
                  <a:lnTo>
                    <a:pt x="390" y="954"/>
                  </a:lnTo>
                  <a:lnTo>
                    <a:pt x="403" y="913"/>
                  </a:lnTo>
                  <a:lnTo>
                    <a:pt x="403" y="874"/>
                  </a:lnTo>
                  <a:lnTo>
                    <a:pt x="416" y="834"/>
                  </a:lnTo>
                  <a:lnTo>
                    <a:pt x="416" y="794"/>
                  </a:lnTo>
                  <a:lnTo>
                    <a:pt x="416" y="741"/>
                  </a:lnTo>
                  <a:lnTo>
                    <a:pt x="416" y="702"/>
                  </a:lnTo>
                  <a:lnTo>
                    <a:pt x="416" y="662"/>
                  </a:lnTo>
                  <a:lnTo>
                    <a:pt x="416" y="622"/>
                  </a:lnTo>
                  <a:lnTo>
                    <a:pt x="416" y="583"/>
                  </a:lnTo>
                  <a:lnTo>
                    <a:pt x="416" y="543"/>
                  </a:lnTo>
                  <a:lnTo>
                    <a:pt x="412" y="508"/>
                  </a:lnTo>
                  <a:lnTo>
                    <a:pt x="403" y="468"/>
                  </a:lnTo>
                  <a:lnTo>
                    <a:pt x="398" y="437"/>
                  </a:lnTo>
                  <a:lnTo>
                    <a:pt x="390" y="384"/>
                  </a:lnTo>
                  <a:lnTo>
                    <a:pt x="376" y="344"/>
                  </a:lnTo>
                  <a:lnTo>
                    <a:pt x="363" y="291"/>
                  </a:lnTo>
                  <a:lnTo>
                    <a:pt x="359" y="251"/>
                  </a:lnTo>
                  <a:lnTo>
                    <a:pt x="337" y="211"/>
                  </a:lnTo>
                  <a:lnTo>
                    <a:pt x="323" y="171"/>
                  </a:lnTo>
                  <a:lnTo>
                    <a:pt x="309" y="132"/>
                  </a:lnTo>
                  <a:lnTo>
                    <a:pt x="296" y="92"/>
                  </a:lnTo>
                  <a:lnTo>
                    <a:pt x="269" y="57"/>
                  </a:lnTo>
                  <a:lnTo>
                    <a:pt x="256" y="0"/>
                  </a:lnTo>
                  <a:lnTo>
                    <a:pt x="243" y="30"/>
                  </a:lnTo>
                  <a:close/>
                </a:path>
              </a:pathLst>
            </a:cu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776680" y="3079800"/>
              <a:ext cx="149760" cy="444960"/>
            </a:xfrm>
            <a:custGeom>
              <a:avLst/>
              <a:gdLst/>
              <a:ahLst/>
              <a:rect l="0" t="0" r="r" b="b"/>
              <a:pathLst>
                <a:path w="416" h="1236">
                  <a:moveTo>
                    <a:pt x="172" y="1205"/>
                  </a:moveTo>
                  <a:lnTo>
                    <a:pt x="212" y="1152"/>
                  </a:lnTo>
                  <a:lnTo>
                    <a:pt x="243" y="1113"/>
                  </a:lnTo>
                  <a:lnTo>
                    <a:pt x="292" y="1064"/>
                  </a:lnTo>
                  <a:lnTo>
                    <a:pt x="296" y="1038"/>
                  </a:lnTo>
                  <a:lnTo>
                    <a:pt x="332" y="985"/>
                  </a:lnTo>
                  <a:lnTo>
                    <a:pt x="345" y="945"/>
                  </a:lnTo>
                  <a:lnTo>
                    <a:pt x="359" y="904"/>
                  </a:lnTo>
                  <a:lnTo>
                    <a:pt x="372" y="865"/>
                  </a:lnTo>
                  <a:lnTo>
                    <a:pt x="376" y="825"/>
                  </a:lnTo>
                  <a:lnTo>
                    <a:pt x="390" y="772"/>
                  </a:lnTo>
                  <a:lnTo>
                    <a:pt x="398" y="728"/>
                  </a:lnTo>
                  <a:lnTo>
                    <a:pt x="403" y="688"/>
                  </a:lnTo>
                  <a:lnTo>
                    <a:pt x="403" y="662"/>
                  </a:lnTo>
                  <a:lnTo>
                    <a:pt x="398" y="636"/>
                  </a:lnTo>
                  <a:lnTo>
                    <a:pt x="412" y="596"/>
                  </a:lnTo>
                  <a:lnTo>
                    <a:pt x="416" y="547"/>
                  </a:lnTo>
                  <a:lnTo>
                    <a:pt x="412" y="516"/>
                  </a:lnTo>
                  <a:lnTo>
                    <a:pt x="416" y="490"/>
                  </a:lnTo>
                  <a:lnTo>
                    <a:pt x="416" y="424"/>
                  </a:lnTo>
                  <a:lnTo>
                    <a:pt x="416" y="411"/>
                  </a:lnTo>
                  <a:lnTo>
                    <a:pt x="412" y="371"/>
                  </a:lnTo>
                  <a:lnTo>
                    <a:pt x="412" y="344"/>
                  </a:lnTo>
                  <a:lnTo>
                    <a:pt x="403" y="308"/>
                  </a:lnTo>
                  <a:lnTo>
                    <a:pt x="390" y="238"/>
                  </a:lnTo>
                  <a:lnTo>
                    <a:pt x="376" y="176"/>
                  </a:lnTo>
                  <a:lnTo>
                    <a:pt x="363" y="132"/>
                  </a:lnTo>
                  <a:lnTo>
                    <a:pt x="345" y="83"/>
                  </a:lnTo>
                  <a:lnTo>
                    <a:pt x="309" y="39"/>
                  </a:lnTo>
                  <a:lnTo>
                    <a:pt x="269" y="13"/>
                  </a:lnTo>
                  <a:lnTo>
                    <a:pt x="225" y="0"/>
                  </a:lnTo>
                  <a:lnTo>
                    <a:pt x="177" y="4"/>
                  </a:lnTo>
                  <a:lnTo>
                    <a:pt x="133" y="17"/>
                  </a:lnTo>
                  <a:lnTo>
                    <a:pt x="106" y="44"/>
                  </a:lnTo>
                  <a:lnTo>
                    <a:pt x="79" y="83"/>
                  </a:lnTo>
                  <a:lnTo>
                    <a:pt x="66" y="123"/>
                  </a:lnTo>
                  <a:lnTo>
                    <a:pt x="52" y="163"/>
                  </a:lnTo>
                  <a:lnTo>
                    <a:pt x="39" y="202"/>
                  </a:lnTo>
                  <a:lnTo>
                    <a:pt x="26" y="242"/>
                  </a:lnTo>
                  <a:lnTo>
                    <a:pt x="26" y="282"/>
                  </a:lnTo>
                  <a:lnTo>
                    <a:pt x="13" y="322"/>
                  </a:lnTo>
                  <a:lnTo>
                    <a:pt x="13" y="362"/>
                  </a:lnTo>
                  <a:lnTo>
                    <a:pt x="0" y="402"/>
                  </a:lnTo>
                  <a:lnTo>
                    <a:pt x="0" y="441"/>
                  </a:lnTo>
                  <a:lnTo>
                    <a:pt x="0" y="494"/>
                  </a:lnTo>
                  <a:lnTo>
                    <a:pt x="0" y="534"/>
                  </a:lnTo>
                  <a:lnTo>
                    <a:pt x="0" y="574"/>
                  </a:lnTo>
                  <a:lnTo>
                    <a:pt x="0" y="613"/>
                  </a:lnTo>
                  <a:lnTo>
                    <a:pt x="0" y="653"/>
                  </a:lnTo>
                  <a:lnTo>
                    <a:pt x="0" y="693"/>
                  </a:lnTo>
                  <a:lnTo>
                    <a:pt x="4" y="728"/>
                  </a:lnTo>
                  <a:lnTo>
                    <a:pt x="13" y="768"/>
                  </a:lnTo>
                  <a:lnTo>
                    <a:pt x="17" y="799"/>
                  </a:lnTo>
                  <a:lnTo>
                    <a:pt x="26" y="852"/>
                  </a:lnTo>
                  <a:lnTo>
                    <a:pt x="39" y="891"/>
                  </a:lnTo>
                  <a:lnTo>
                    <a:pt x="52" y="945"/>
                  </a:lnTo>
                  <a:lnTo>
                    <a:pt x="79" y="985"/>
                  </a:lnTo>
                  <a:lnTo>
                    <a:pt x="79" y="1025"/>
                  </a:lnTo>
                  <a:lnTo>
                    <a:pt x="92" y="1064"/>
                  </a:lnTo>
                  <a:lnTo>
                    <a:pt x="106" y="1104"/>
                  </a:lnTo>
                  <a:lnTo>
                    <a:pt x="120" y="1144"/>
                  </a:lnTo>
                  <a:lnTo>
                    <a:pt x="146" y="1179"/>
                  </a:lnTo>
                  <a:lnTo>
                    <a:pt x="159" y="1236"/>
                  </a:lnTo>
                  <a:lnTo>
                    <a:pt x="172" y="1205"/>
                  </a:lnTo>
                  <a:close/>
                </a:path>
              </a:pathLst>
            </a:cu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9" name=""/>
            <p:cNvSpPr txBox="1"/>
            <p:nvPr/>
          </p:nvSpPr>
          <p:spPr>
            <a:xfrm>
              <a:off x="1542960" y="4098960"/>
              <a:ext cx="1820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ipe or Tub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1521000" y="4848120"/>
              <a:ext cx="0" cy="9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1521000" y="4848120"/>
              <a:ext cx="1290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1521000" y="5770440"/>
              <a:ext cx="126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2811600" y="4848120"/>
              <a:ext cx="799920" cy="3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 flipH="1">
              <a:off x="2857680" y="4879800"/>
              <a:ext cx="753840" cy="138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2857680" y="5018040"/>
              <a:ext cx="492120" cy="92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 flipH="1">
              <a:off x="2965320" y="5110200"/>
              <a:ext cx="368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2965320" y="5140440"/>
              <a:ext cx="784440" cy="122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 flipH="1">
              <a:off x="2965320" y="5262480"/>
              <a:ext cx="78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2949480" y="5262480"/>
              <a:ext cx="55404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 flipH="1">
              <a:off x="3103560" y="5356080"/>
              <a:ext cx="384120" cy="60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3087720" y="5432400"/>
              <a:ext cx="307800" cy="46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 flipH="1">
              <a:off x="2581200" y="5478480"/>
              <a:ext cx="814320" cy="76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581200" y="5554800"/>
              <a:ext cx="614520" cy="46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2565360" y="5616720"/>
              <a:ext cx="630360" cy="6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565360" y="5678640"/>
              <a:ext cx="200160" cy="91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5146560" y="4786200"/>
              <a:ext cx="2243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7389720" y="4786200"/>
              <a:ext cx="0" cy="860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 flipH="1">
              <a:off x="5070600" y="5646600"/>
              <a:ext cx="2319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5070600" y="4786200"/>
              <a:ext cx="200520" cy="846360"/>
            </a:xfrm>
            <a:custGeom>
              <a:avLst/>
              <a:gdLst/>
              <a:ahLst/>
              <a:rect l="0" t="0" r="r" b="b"/>
              <a:pathLst>
                <a:path fill="none" w="557" h="2351">
                  <a:moveTo>
                    <a:pt x="212" y="0"/>
                  </a:moveTo>
                  <a:lnTo>
                    <a:pt x="212" y="132"/>
                  </a:lnTo>
                  <a:lnTo>
                    <a:pt x="256" y="260"/>
                  </a:lnTo>
                  <a:lnTo>
                    <a:pt x="340" y="388"/>
                  </a:lnTo>
                  <a:lnTo>
                    <a:pt x="469" y="515"/>
                  </a:lnTo>
                  <a:lnTo>
                    <a:pt x="557" y="643"/>
                  </a:lnTo>
                  <a:lnTo>
                    <a:pt x="513" y="811"/>
                  </a:lnTo>
                  <a:lnTo>
                    <a:pt x="429" y="939"/>
                  </a:lnTo>
                  <a:lnTo>
                    <a:pt x="384" y="1067"/>
                  </a:lnTo>
                  <a:lnTo>
                    <a:pt x="340" y="1196"/>
                  </a:lnTo>
                  <a:lnTo>
                    <a:pt x="340" y="1323"/>
                  </a:lnTo>
                  <a:lnTo>
                    <a:pt x="340" y="1495"/>
                  </a:lnTo>
                  <a:lnTo>
                    <a:pt x="256" y="1667"/>
                  </a:lnTo>
                  <a:lnTo>
                    <a:pt x="172" y="1795"/>
                  </a:lnTo>
                  <a:lnTo>
                    <a:pt x="83" y="1923"/>
                  </a:lnTo>
                  <a:lnTo>
                    <a:pt x="0" y="2095"/>
                  </a:lnTo>
                  <a:lnTo>
                    <a:pt x="0" y="2223"/>
                  </a:lnTo>
                  <a:lnTo>
                    <a:pt x="0" y="235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0" name=""/>
            <p:cNvSpPr txBox="1"/>
            <p:nvPr/>
          </p:nvSpPr>
          <p:spPr>
            <a:xfrm>
              <a:off x="1612800" y="5756400"/>
              <a:ext cx="833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oo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1" name=""/>
            <p:cNvSpPr txBox="1"/>
            <p:nvPr/>
          </p:nvSpPr>
          <p:spPr>
            <a:xfrm>
              <a:off x="5073480" y="5772240"/>
              <a:ext cx="2328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ll Other Materia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392200" y="2160720"/>
              <a:ext cx="1229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3821040" y="2160720"/>
              <a:ext cx="119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5235480" y="2160720"/>
              <a:ext cx="1276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 flipV="1">
              <a:off x="5035680" y="2068560"/>
              <a:ext cx="0" cy="92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5035680" y="2068560"/>
              <a:ext cx="183960" cy="183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 flipV="1">
              <a:off x="5234040" y="2160720"/>
              <a:ext cx="0" cy="107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V="1">
              <a:off x="3621240" y="2050920"/>
              <a:ext cx="0" cy="92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3621240" y="2050920"/>
              <a:ext cx="183960" cy="18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V="1">
              <a:off x="3819600" y="21430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1" name=""/>
            <p:cNvSpPr txBox="1"/>
            <p:nvPr/>
          </p:nvSpPr>
          <p:spPr>
            <a:xfrm>
              <a:off x="3057480" y="2332080"/>
              <a:ext cx="2787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ng Break Line (Thi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436840" y="1469880"/>
              <a:ext cx="4042080" cy="152640"/>
            </a:xfrm>
            <a:custGeom>
              <a:avLst/>
              <a:gdLst/>
              <a:ahLst/>
              <a:rect l="0" t="0" r="r" b="b"/>
              <a:pathLst>
                <a:path fill="none" w="11228" h="424">
                  <a:moveTo>
                    <a:pt x="0" y="0"/>
                  </a:moveTo>
                  <a:lnTo>
                    <a:pt x="132" y="0"/>
                  </a:lnTo>
                  <a:lnTo>
                    <a:pt x="260" y="83"/>
                  </a:lnTo>
                  <a:lnTo>
                    <a:pt x="388" y="127"/>
                  </a:lnTo>
                  <a:lnTo>
                    <a:pt x="515" y="127"/>
                  </a:lnTo>
                  <a:lnTo>
                    <a:pt x="643" y="83"/>
                  </a:lnTo>
                  <a:lnTo>
                    <a:pt x="771" y="39"/>
                  </a:lnTo>
                  <a:lnTo>
                    <a:pt x="899" y="39"/>
                  </a:lnTo>
                  <a:lnTo>
                    <a:pt x="1027" y="39"/>
                  </a:lnTo>
                  <a:lnTo>
                    <a:pt x="1155" y="39"/>
                  </a:lnTo>
                  <a:lnTo>
                    <a:pt x="1283" y="0"/>
                  </a:lnTo>
                  <a:lnTo>
                    <a:pt x="2734" y="0"/>
                  </a:lnTo>
                  <a:lnTo>
                    <a:pt x="2861" y="39"/>
                  </a:lnTo>
                  <a:lnTo>
                    <a:pt x="2989" y="127"/>
                  </a:lnTo>
                  <a:lnTo>
                    <a:pt x="3161" y="127"/>
                  </a:lnTo>
                  <a:lnTo>
                    <a:pt x="3373" y="127"/>
                  </a:lnTo>
                  <a:lnTo>
                    <a:pt x="3501" y="167"/>
                  </a:lnTo>
                  <a:lnTo>
                    <a:pt x="3629" y="167"/>
                  </a:lnTo>
                  <a:lnTo>
                    <a:pt x="3801" y="167"/>
                  </a:lnTo>
                  <a:lnTo>
                    <a:pt x="3968" y="127"/>
                  </a:lnTo>
                  <a:lnTo>
                    <a:pt x="4101" y="83"/>
                  </a:lnTo>
                  <a:lnTo>
                    <a:pt x="4228" y="83"/>
                  </a:lnTo>
                  <a:lnTo>
                    <a:pt x="4740" y="83"/>
                  </a:lnTo>
                  <a:lnTo>
                    <a:pt x="4868" y="83"/>
                  </a:lnTo>
                  <a:lnTo>
                    <a:pt x="5035" y="127"/>
                  </a:lnTo>
                  <a:lnTo>
                    <a:pt x="5207" y="167"/>
                  </a:lnTo>
                  <a:lnTo>
                    <a:pt x="5335" y="256"/>
                  </a:lnTo>
                  <a:lnTo>
                    <a:pt x="5463" y="256"/>
                  </a:lnTo>
                  <a:lnTo>
                    <a:pt x="5976" y="256"/>
                  </a:lnTo>
                  <a:lnTo>
                    <a:pt x="6104" y="296"/>
                  </a:lnTo>
                  <a:lnTo>
                    <a:pt x="6231" y="256"/>
                  </a:lnTo>
                  <a:lnTo>
                    <a:pt x="6359" y="167"/>
                  </a:lnTo>
                  <a:lnTo>
                    <a:pt x="6531" y="167"/>
                  </a:lnTo>
                  <a:lnTo>
                    <a:pt x="6659" y="167"/>
                  </a:lnTo>
                  <a:lnTo>
                    <a:pt x="7171" y="167"/>
                  </a:lnTo>
                  <a:lnTo>
                    <a:pt x="7343" y="211"/>
                  </a:lnTo>
                  <a:lnTo>
                    <a:pt x="7471" y="211"/>
                  </a:lnTo>
                  <a:lnTo>
                    <a:pt x="7598" y="167"/>
                  </a:lnTo>
                  <a:lnTo>
                    <a:pt x="7726" y="83"/>
                  </a:lnTo>
                  <a:lnTo>
                    <a:pt x="7898" y="83"/>
                  </a:lnTo>
                  <a:lnTo>
                    <a:pt x="8026" y="39"/>
                  </a:lnTo>
                  <a:lnTo>
                    <a:pt x="8154" y="39"/>
                  </a:lnTo>
                  <a:lnTo>
                    <a:pt x="8326" y="39"/>
                  </a:lnTo>
                  <a:lnTo>
                    <a:pt x="9689" y="83"/>
                  </a:lnTo>
                  <a:lnTo>
                    <a:pt x="9817" y="127"/>
                  </a:lnTo>
                  <a:lnTo>
                    <a:pt x="10033" y="340"/>
                  </a:lnTo>
                  <a:lnTo>
                    <a:pt x="10200" y="424"/>
                  </a:lnTo>
                  <a:lnTo>
                    <a:pt x="10456" y="384"/>
                  </a:lnTo>
                  <a:lnTo>
                    <a:pt x="10584" y="384"/>
                  </a:lnTo>
                  <a:lnTo>
                    <a:pt x="10716" y="384"/>
                  </a:lnTo>
                  <a:lnTo>
                    <a:pt x="10844" y="340"/>
                  </a:lnTo>
                  <a:lnTo>
                    <a:pt x="10972" y="256"/>
                  </a:lnTo>
                  <a:lnTo>
                    <a:pt x="11100" y="211"/>
                  </a:lnTo>
                  <a:lnTo>
                    <a:pt x="11228" y="127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3" name=""/>
            <p:cNvSpPr txBox="1"/>
            <p:nvPr/>
          </p:nvSpPr>
          <p:spPr>
            <a:xfrm>
              <a:off x="2921040" y="1579680"/>
              <a:ext cx="29988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hort Break Line (Heavy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4" name=""/>
          <p:cNvSpPr txBox="1"/>
          <p:nvPr/>
        </p:nvSpPr>
        <p:spPr>
          <a:xfrm>
            <a:off x="685800" y="161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we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mbled part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5" name=""/>
          <p:cNvSpPr txBox="1"/>
          <p:nvPr/>
        </p:nvSpPr>
        <p:spPr>
          <a:xfrm>
            <a:off x="701640" y="41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hatching (Hatching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"/>
          <p:cNvSpPr txBox="1"/>
          <p:nvPr/>
        </p:nvSpPr>
        <p:spPr>
          <a:xfrm>
            <a:off x="717480" y="2624040"/>
            <a:ext cx="7772400" cy="185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HATCH SYMBOL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8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69" name=""/>
          <p:cNvGrpSpPr/>
          <p:nvPr/>
        </p:nvGrpSpPr>
        <p:grpSpPr>
          <a:xfrm>
            <a:off x="658800" y="1389240"/>
            <a:ext cx="2266920" cy="1019160"/>
            <a:chOff x="658800" y="1389240"/>
            <a:chExt cx="2266920" cy="1019160"/>
          </a:xfrm>
        </p:grpSpPr>
        <p:sp>
          <p:nvSpPr>
            <p:cNvPr id="5470" name=""/>
            <p:cNvSpPr/>
            <p:nvPr/>
          </p:nvSpPr>
          <p:spPr>
            <a:xfrm>
              <a:off x="846000" y="1389240"/>
              <a:ext cx="1844640" cy="61452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 txBox="1"/>
            <p:nvPr/>
          </p:nvSpPr>
          <p:spPr>
            <a:xfrm>
              <a:off x="65880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2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3" name=""/>
          <p:cNvGrpSpPr/>
          <p:nvPr/>
        </p:nvGrpSpPr>
        <p:grpSpPr>
          <a:xfrm>
            <a:off x="658800" y="1389240"/>
            <a:ext cx="4832280" cy="1019160"/>
            <a:chOff x="658800" y="1389240"/>
            <a:chExt cx="4832280" cy="1019160"/>
          </a:xfrm>
        </p:grpSpPr>
        <p:sp>
          <p:nvSpPr>
            <p:cNvPr id="5474" name=""/>
            <p:cNvSpPr/>
            <p:nvPr/>
          </p:nvSpPr>
          <p:spPr>
            <a:xfrm>
              <a:off x="846000" y="1389240"/>
              <a:ext cx="1844640" cy="61452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3646440" y="1389240"/>
              <a:ext cx="1844640" cy="614520"/>
            </a:xfrm>
            <a:prstGeom prst="rect">
              <a:avLst/>
            </a:pr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 txBox="1"/>
            <p:nvPr/>
          </p:nvSpPr>
          <p:spPr>
            <a:xfrm>
              <a:off x="65880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7" name=""/>
            <p:cNvSpPr txBox="1"/>
            <p:nvPr/>
          </p:nvSpPr>
          <p:spPr>
            <a:xfrm>
              <a:off x="3552840" y="2071800"/>
              <a:ext cx="185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Metal (Zin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9" name=""/>
          <p:cNvGrpSpPr/>
          <p:nvPr/>
        </p:nvGrpSpPr>
        <p:grpSpPr>
          <a:xfrm>
            <a:off x="658800" y="1389240"/>
            <a:ext cx="7604280" cy="1019160"/>
            <a:chOff x="658800" y="1389240"/>
            <a:chExt cx="7604280" cy="1019160"/>
          </a:xfrm>
        </p:grpSpPr>
        <p:grpSp>
          <p:nvGrpSpPr>
            <p:cNvPr id="5480" name=""/>
            <p:cNvGrpSpPr/>
            <p:nvPr/>
          </p:nvGrpSpPr>
          <p:grpSpPr>
            <a:xfrm>
              <a:off x="846000" y="1389240"/>
              <a:ext cx="7417080" cy="614520"/>
              <a:chOff x="846000" y="1389240"/>
              <a:chExt cx="7417080" cy="614520"/>
            </a:xfrm>
          </p:grpSpPr>
          <p:sp>
            <p:nvSpPr>
              <p:cNvPr id="5481" name=""/>
              <p:cNvSpPr/>
              <p:nvPr/>
            </p:nvSpPr>
            <p:spPr>
              <a:xfrm>
                <a:off x="846000" y="1389240"/>
                <a:ext cx="1844640" cy="61452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646440" y="1389240"/>
                <a:ext cx="1844640" cy="61452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6418440" y="138924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6415200" y="1558800"/>
                <a:ext cx="1845000" cy="444960"/>
              </a:xfrm>
              <a:custGeom>
                <a:avLst/>
                <a:gdLst/>
                <a:ahLst/>
                <a:rect l="0" t="0" r="r" b="b"/>
                <a:pathLst>
                  <a:path w="5125" h="1236">
                    <a:moveTo>
                      <a:pt x="5125" y="295"/>
                    </a:moveTo>
                    <a:lnTo>
                      <a:pt x="5125" y="1236"/>
                    </a:lnTo>
                    <a:lnTo>
                      <a:pt x="0" y="1236"/>
                    </a:lnTo>
                    <a:lnTo>
                      <a:pt x="0" y="0"/>
                    </a:lnTo>
                    <a:lnTo>
                      <a:pt x="127" y="39"/>
                    </a:lnTo>
                    <a:lnTo>
                      <a:pt x="255" y="39"/>
                    </a:lnTo>
                    <a:lnTo>
                      <a:pt x="383" y="39"/>
                    </a:lnTo>
                    <a:lnTo>
                      <a:pt x="555" y="39"/>
                    </a:lnTo>
                    <a:lnTo>
                      <a:pt x="683" y="39"/>
                    </a:lnTo>
                    <a:lnTo>
                      <a:pt x="811" y="39"/>
                    </a:lnTo>
                    <a:lnTo>
                      <a:pt x="939" y="0"/>
                    </a:lnTo>
                    <a:lnTo>
                      <a:pt x="1067" y="0"/>
                    </a:lnTo>
                    <a:lnTo>
                      <a:pt x="1239" y="0"/>
                    </a:lnTo>
                    <a:lnTo>
                      <a:pt x="1367" y="0"/>
                    </a:lnTo>
                    <a:lnTo>
                      <a:pt x="1494" y="0"/>
                    </a:lnTo>
                    <a:lnTo>
                      <a:pt x="1622" y="0"/>
                    </a:lnTo>
                    <a:lnTo>
                      <a:pt x="1750" y="0"/>
                    </a:lnTo>
                    <a:lnTo>
                      <a:pt x="1878" y="0"/>
                    </a:lnTo>
                    <a:lnTo>
                      <a:pt x="2006" y="39"/>
                    </a:lnTo>
                    <a:lnTo>
                      <a:pt x="2134" y="39"/>
                    </a:lnTo>
                    <a:lnTo>
                      <a:pt x="2262" y="83"/>
                    </a:lnTo>
                    <a:lnTo>
                      <a:pt x="2390" y="83"/>
                    </a:lnTo>
                    <a:lnTo>
                      <a:pt x="2563" y="127"/>
                    </a:lnTo>
                    <a:lnTo>
                      <a:pt x="2690" y="167"/>
                    </a:lnTo>
                    <a:lnTo>
                      <a:pt x="2862" y="211"/>
                    </a:lnTo>
                    <a:lnTo>
                      <a:pt x="3030" y="211"/>
                    </a:lnTo>
                    <a:lnTo>
                      <a:pt x="3202" y="211"/>
                    </a:lnTo>
                    <a:lnTo>
                      <a:pt x="3374" y="211"/>
                    </a:lnTo>
                    <a:lnTo>
                      <a:pt x="3546" y="211"/>
                    </a:lnTo>
                    <a:lnTo>
                      <a:pt x="3674" y="167"/>
                    </a:lnTo>
                    <a:lnTo>
                      <a:pt x="3802" y="167"/>
                    </a:lnTo>
                    <a:lnTo>
                      <a:pt x="3969" y="167"/>
                    </a:lnTo>
                    <a:lnTo>
                      <a:pt x="4097" y="167"/>
                    </a:lnTo>
                    <a:lnTo>
                      <a:pt x="4269" y="167"/>
                    </a:lnTo>
                    <a:lnTo>
                      <a:pt x="4397" y="167"/>
                    </a:lnTo>
                    <a:lnTo>
                      <a:pt x="4525" y="211"/>
                    </a:lnTo>
                    <a:lnTo>
                      <a:pt x="4653" y="211"/>
                    </a:lnTo>
                    <a:lnTo>
                      <a:pt x="4781" y="255"/>
                    </a:lnTo>
                    <a:lnTo>
                      <a:pt x="4909" y="255"/>
                    </a:lnTo>
                    <a:lnTo>
                      <a:pt x="5036" y="255"/>
                    </a:lnTo>
                    <a:lnTo>
                      <a:pt x="5125" y="295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5" name=""/>
            <p:cNvSpPr txBox="1"/>
            <p:nvPr/>
          </p:nvSpPr>
          <p:spPr>
            <a:xfrm>
              <a:off x="65880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6" name=""/>
            <p:cNvSpPr txBox="1"/>
            <p:nvPr/>
          </p:nvSpPr>
          <p:spPr>
            <a:xfrm>
              <a:off x="3552840" y="2071800"/>
              <a:ext cx="185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Metal (Zin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7" name=""/>
            <p:cNvSpPr txBox="1"/>
            <p:nvPr/>
          </p:nvSpPr>
          <p:spPr>
            <a:xfrm>
              <a:off x="7024680" y="2041560"/>
              <a:ext cx="62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8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9" name=""/>
          <p:cNvGrpSpPr/>
          <p:nvPr/>
        </p:nvGrpSpPr>
        <p:grpSpPr>
          <a:xfrm>
            <a:off x="658800" y="1389240"/>
            <a:ext cx="7604280" cy="2247840"/>
            <a:chOff x="658800" y="1389240"/>
            <a:chExt cx="7604280" cy="2247840"/>
          </a:xfrm>
        </p:grpSpPr>
        <p:grpSp>
          <p:nvGrpSpPr>
            <p:cNvPr id="5490" name=""/>
            <p:cNvGrpSpPr/>
            <p:nvPr/>
          </p:nvGrpSpPr>
          <p:grpSpPr>
            <a:xfrm>
              <a:off x="846000" y="2654280"/>
              <a:ext cx="1844640" cy="614520"/>
              <a:chOff x="846000" y="2654280"/>
              <a:chExt cx="1844640" cy="614520"/>
            </a:xfrm>
          </p:grpSpPr>
          <p:sp>
            <p:nvSpPr>
              <p:cNvPr id="5491" name=""/>
              <p:cNvSpPr/>
              <p:nvPr/>
            </p:nvSpPr>
            <p:spPr>
              <a:xfrm>
                <a:off x="84600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 flipH="1">
                <a:off x="855720" y="2657520"/>
                <a:ext cx="260280" cy="260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 flipH="1">
                <a:off x="853920" y="2657520"/>
                <a:ext cx="338400" cy="33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 flipH="1">
                <a:off x="853920" y="2657520"/>
                <a:ext cx="567000" cy="566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 flipH="1">
                <a:off x="888840" y="2654280"/>
                <a:ext cx="611280" cy="611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 flipH="1">
                <a:off x="1128600" y="2666880"/>
                <a:ext cx="587520" cy="587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 flipH="1">
                <a:off x="1204920" y="2660760"/>
                <a:ext cx="593640" cy="59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 flipH="1">
                <a:off x="1432080" y="2662200"/>
                <a:ext cx="593640" cy="59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 flipH="1">
                <a:off x="1506600" y="2662200"/>
                <a:ext cx="595080" cy="595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 flipH="1">
                <a:off x="1727280" y="2664000"/>
                <a:ext cx="601560" cy="601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 flipH="1">
                <a:off x="1814400" y="2664000"/>
                <a:ext cx="590760" cy="590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 flipH="1">
                <a:off x="2038320" y="266220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 flipH="1">
                <a:off x="2114640" y="2697120"/>
                <a:ext cx="561960" cy="561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 flipH="1">
                <a:off x="2343240" y="2922480"/>
                <a:ext cx="336600" cy="336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 flipH="1">
                <a:off x="2413080" y="2995560"/>
                <a:ext cx="269640" cy="270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 flipH="1">
                <a:off x="2647800" y="3225960"/>
                <a:ext cx="33480" cy="3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07" name=""/>
            <p:cNvGrpSpPr/>
            <p:nvPr/>
          </p:nvGrpSpPr>
          <p:grpSpPr>
            <a:xfrm>
              <a:off x="846000" y="1389240"/>
              <a:ext cx="7417080" cy="614520"/>
              <a:chOff x="846000" y="1389240"/>
              <a:chExt cx="7417080" cy="614520"/>
            </a:xfrm>
          </p:grpSpPr>
          <p:sp>
            <p:nvSpPr>
              <p:cNvPr id="5508" name=""/>
              <p:cNvSpPr/>
              <p:nvPr/>
            </p:nvSpPr>
            <p:spPr>
              <a:xfrm>
                <a:off x="846000" y="1389240"/>
                <a:ext cx="1844640" cy="61452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646440" y="1389240"/>
                <a:ext cx="1844640" cy="61452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6418440" y="138924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6415200" y="1558800"/>
                <a:ext cx="1845000" cy="444960"/>
              </a:xfrm>
              <a:custGeom>
                <a:avLst/>
                <a:gdLst/>
                <a:ahLst/>
                <a:rect l="0" t="0" r="r" b="b"/>
                <a:pathLst>
                  <a:path w="5125" h="1236">
                    <a:moveTo>
                      <a:pt x="5125" y="295"/>
                    </a:moveTo>
                    <a:lnTo>
                      <a:pt x="5125" y="1236"/>
                    </a:lnTo>
                    <a:lnTo>
                      <a:pt x="0" y="1236"/>
                    </a:lnTo>
                    <a:lnTo>
                      <a:pt x="0" y="0"/>
                    </a:lnTo>
                    <a:lnTo>
                      <a:pt x="127" y="39"/>
                    </a:lnTo>
                    <a:lnTo>
                      <a:pt x="255" y="39"/>
                    </a:lnTo>
                    <a:lnTo>
                      <a:pt x="383" y="39"/>
                    </a:lnTo>
                    <a:lnTo>
                      <a:pt x="555" y="39"/>
                    </a:lnTo>
                    <a:lnTo>
                      <a:pt x="683" y="39"/>
                    </a:lnTo>
                    <a:lnTo>
                      <a:pt x="811" y="39"/>
                    </a:lnTo>
                    <a:lnTo>
                      <a:pt x="939" y="0"/>
                    </a:lnTo>
                    <a:lnTo>
                      <a:pt x="1067" y="0"/>
                    </a:lnTo>
                    <a:lnTo>
                      <a:pt x="1239" y="0"/>
                    </a:lnTo>
                    <a:lnTo>
                      <a:pt x="1367" y="0"/>
                    </a:lnTo>
                    <a:lnTo>
                      <a:pt x="1494" y="0"/>
                    </a:lnTo>
                    <a:lnTo>
                      <a:pt x="1622" y="0"/>
                    </a:lnTo>
                    <a:lnTo>
                      <a:pt x="1750" y="0"/>
                    </a:lnTo>
                    <a:lnTo>
                      <a:pt x="1878" y="0"/>
                    </a:lnTo>
                    <a:lnTo>
                      <a:pt x="2006" y="39"/>
                    </a:lnTo>
                    <a:lnTo>
                      <a:pt x="2134" y="39"/>
                    </a:lnTo>
                    <a:lnTo>
                      <a:pt x="2262" y="83"/>
                    </a:lnTo>
                    <a:lnTo>
                      <a:pt x="2390" y="83"/>
                    </a:lnTo>
                    <a:lnTo>
                      <a:pt x="2563" y="127"/>
                    </a:lnTo>
                    <a:lnTo>
                      <a:pt x="2690" y="167"/>
                    </a:lnTo>
                    <a:lnTo>
                      <a:pt x="2862" y="211"/>
                    </a:lnTo>
                    <a:lnTo>
                      <a:pt x="3030" y="211"/>
                    </a:lnTo>
                    <a:lnTo>
                      <a:pt x="3202" y="211"/>
                    </a:lnTo>
                    <a:lnTo>
                      <a:pt x="3374" y="211"/>
                    </a:lnTo>
                    <a:lnTo>
                      <a:pt x="3546" y="211"/>
                    </a:lnTo>
                    <a:lnTo>
                      <a:pt x="3674" y="167"/>
                    </a:lnTo>
                    <a:lnTo>
                      <a:pt x="3802" y="167"/>
                    </a:lnTo>
                    <a:lnTo>
                      <a:pt x="3969" y="167"/>
                    </a:lnTo>
                    <a:lnTo>
                      <a:pt x="4097" y="167"/>
                    </a:lnTo>
                    <a:lnTo>
                      <a:pt x="4269" y="167"/>
                    </a:lnTo>
                    <a:lnTo>
                      <a:pt x="4397" y="167"/>
                    </a:lnTo>
                    <a:lnTo>
                      <a:pt x="4525" y="211"/>
                    </a:lnTo>
                    <a:lnTo>
                      <a:pt x="4653" y="211"/>
                    </a:lnTo>
                    <a:lnTo>
                      <a:pt x="4781" y="255"/>
                    </a:lnTo>
                    <a:lnTo>
                      <a:pt x="4909" y="255"/>
                    </a:lnTo>
                    <a:lnTo>
                      <a:pt x="5036" y="255"/>
                    </a:lnTo>
                    <a:lnTo>
                      <a:pt x="5125" y="295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2" name=""/>
            <p:cNvSpPr txBox="1"/>
            <p:nvPr/>
          </p:nvSpPr>
          <p:spPr>
            <a:xfrm>
              <a:off x="65880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3" name=""/>
            <p:cNvSpPr txBox="1"/>
            <p:nvPr/>
          </p:nvSpPr>
          <p:spPr>
            <a:xfrm>
              <a:off x="3552840" y="2071800"/>
              <a:ext cx="185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Metal (Zin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4" name=""/>
            <p:cNvSpPr txBox="1"/>
            <p:nvPr/>
          </p:nvSpPr>
          <p:spPr>
            <a:xfrm>
              <a:off x="7024680" y="2041560"/>
              <a:ext cx="62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5" name=""/>
            <p:cNvSpPr txBox="1"/>
            <p:nvPr/>
          </p:nvSpPr>
          <p:spPr>
            <a:xfrm>
              <a:off x="1430280" y="330048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7" name=""/>
          <p:cNvGrpSpPr/>
          <p:nvPr/>
        </p:nvGrpSpPr>
        <p:grpSpPr>
          <a:xfrm>
            <a:off x="658800" y="1389240"/>
            <a:ext cx="7604280" cy="2247840"/>
            <a:chOff x="658800" y="1389240"/>
            <a:chExt cx="7604280" cy="2247840"/>
          </a:xfrm>
        </p:grpSpPr>
        <p:sp>
          <p:nvSpPr>
            <p:cNvPr id="5518" name=""/>
            <p:cNvSpPr/>
            <p:nvPr/>
          </p:nvSpPr>
          <p:spPr>
            <a:xfrm>
              <a:off x="3646440" y="2654280"/>
              <a:ext cx="1844640" cy="61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19" name=""/>
            <p:cNvGrpSpPr/>
            <p:nvPr/>
          </p:nvGrpSpPr>
          <p:grpSpPr>
            <a:xfrm>
              <a:off x="846000" y="2654280"/>
              <a:ext cx="1844640" cy="614520"/>
              <a:chOff x="846000" y="2654280"/>
              <a:chExt cx="1844640" cy="614520"/>
            </a:xfrm>
          </p:grpSpPr>
          <p:sp>
            <p:nvSpPr>
              <p:cNvPr id="5520" name=""/>
              <p:cNvSpPr/>
              <p:nvPr/>
            </p:nvSpPr>
            <p:spPr>
              <a:xfrm>
                <a:off x="84600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 flipH="1">
                <a:off x="855720" y="2657520"/>
                <a:ext cx="260280" cy="260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 flipH="1">
                <a:off x="853920" y="2657520"/>
                <a:ext cx="338400" cy="33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 flipH="1">
                <a:off x="853920" y="2657520"/>
                <a:ext cx="567000" cy="566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 flipH="1">
                <a:off x="888840" y="2654280"/>
                <a:ext cx="611280" cy="611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 flipH="1">
                <a:off x="1128600" y="2666880"/>
                <a:ext cx="587520" cy="587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 flipH="1">
                <a:off x="1204920" y="2660760"/>
                <a:ext cx="593640" cy="59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 flipH="1">
                <a:off x="1432080" y="2662200"/>
                <a:ext cx="593640" cy="59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 flipH="1">
                <a:off x="1506600" y="2662200"/>
                <a:ext cx="595080" cy="595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 flipH="1">
                <a:off x="1727280" y="2664000"/>
                <a:ext cx="601560" cy="601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 flipH="1">
                <a:off x="1814400" y="2664000"/>
                <a:ext cx="590760" cy="590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 flipH="1">
                <a:off x="2038320" y="266220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 flipH="1">
                <a:off x="2114640" y="2697120"/>
                <a:ext cx="561960" cy="561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 flipH="1">
                <a:off x="2343240" y="2922480"/>
                <a:ext cx="336600" cy="336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 flipH="1">
                <a:off x="2413080" y="2995560"/>
                <a:ext cx="269640" cy="270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 flipH="1">
                <a:off x="2647800" y="3225960"/>
                <a:ext cx="33480" cy="3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6" name=""/>
            <p:cNvSpPr/>
            <p:nvPr/>
          </p:nvSpPr>
          <p:spPr>
            <a:xfrm>
              <a:off x="3656160" y="2654280"/>
              <a:ext cx="1844640" cy="61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37" name=""/>
            <p:cNvGrpSpPr/>
            <p:nvPr/>
          </p:nvGrpSpPr>
          <p:grpSpPr>
            <a:xfrm>
              <a:off x="3664080" y="2657520"/>
              <a:ext cx="1825560" cy="608040"/>
              <a:chOff x="3664080" y="2657520"/>
              <a:chExt cx="1825560" cy="608040"/>
            </a:xfrm>
          </p:grpSpPr>
          <p:sp>
            <p:nvSpPr>
              <p:cNvPr id="5538" name=""/>
              <p:cNvSpPr/>
              <p:nvPr/>
            </p:nvSpPr>
            <p:spPr>
              <a:xfrm flipH="1">
                <a:off x="3665520" y="2657520"/>
                <a:ext cx="260280" cy="260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 flipH="1">
                <a:off x="3664080" y="2657520"/>
                <a:ext cx="566640" cy="566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 flipH="1">
                <a:off x="3938760" y="2658960"/>
                <a:ext cx="595080" cy="595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 flipH="1">
                <a:off x="4241880" y="2662200"/>
                <a:ext cx="593640" cy="59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 flipH="1">
                <a:off x="4537080" y="2664000"/>
                <a:ext cx="601560" cy="601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 flipH="1">
                <a:off x="4848120" y="266220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 flipH="1">
                <a:off x="5153040" y="2922480"/>
                <a:ext cx="336600" cy="336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45" name=""/>
            <p:cNvSpPr/>
            <p:nvPr/>
          </p:nvSpPr>
          <p:spPr>
            <a:xfrm flipH="1">
              <a:off x="5457960" y="3225960"/>
              <a:ext cx="33120" cy="33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3724200" y="2730600"/>
              <a:ext cx="114480" cy="114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4006800" y="2746440"/>
              <a:ext cx="127080" cy="127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3727440" y="300348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4022640" y="304164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4292640" y="2784600"/>
              <a:ext cx="111240" cy="11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4327560" y="304488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4530600" y="2816280"/>
              <a:ext cx="149400" cy="149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4768920" y="2657520"/>
              <a:ext cx="88920" cy="8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4597560" y="3076560"/>
              <a:ext cx="133200" cy="13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4813200" y="2860560"/>
              <a:ext cx="133560" cy="133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5010120" y="2666880"/>
              <a:ext cx="120600" cy="120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5302080" y="2679840"/>
              <a:ext cx="117720" cy="117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5089680" y="2882880"/>
              <a:ext cx="117360" cy="117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4889520" y="3098880"/>
              <a:ext cx="120600" cy="120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5165640" y="3114720"/>
              <a:ext cx="127080" cy="127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5349960" y="2936880"/>
              <a:ext cx="10800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5413320" y="3181320"/>
              <a:ext cx="63720" cy="63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4540320" y="2654280"/>
              <a:ext cx="54000" cy="54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4" name=""/>
            <p:cNvGrpSpPr/>
            <p:nvPr/>
          </p:nvGrpSpPr>
          <p:grpSpPr>
            <a:xfrm>
              <a:off x="846000" y="1389240"/>
              <a:ext cx="7417080" cy="614520"/>
              <a:chOff x="846000" y="1389240"/>
              <a:chExt cx="7417080" cy="614520"/>
            </a:xfrm>
          </p:grpSpPr>
          <p:sp>
            <p:nvSpPr>
              <p:cNvPr id="5565" name=""/>
              <p:cNvSpPr/>
              <p:nvPr/>
            </p:nvSpPr>
            <p:spPr>
              <a:xfrm>
                <a:off x="846000" y="1389240"/>
                <a:ext cx="1844640" cy="61452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46440" y="1389240"/>
                <a:ext cx="1844640" cy="61452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6418440" y="138924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6415200" y="1558800"/>
                <a:ext cx="1845000" cy="444960"/>
              </a:xfrm>
              <a:custGeom>
                <a:avLst/>
                <a:gdLst/>
                <a:ahLst/>
                <a:rect l="0" t="0" r="r" b="b"/>
                <a:pathLst>
                  <a:path w="5125" h="1236">
                    <a:moveTo>
                      <a:pt x="5125" y="295"/>
                    </a:moveTo>
                    <a:lnTo>
                      <a:pt x="5125" y="1236"/>
                    </a:lnTo>
                    <a:lnTo>
                      <a:pt x="0" y="1236"/>
                    </a:lnTo>
                    <a:lnTo>
                      <a:pt x="0" y="0"/>
                    </a:lnTo>
                    <a:lnTo>
                      <a:pt x="127" y="39"/>
                    </a:lnTo>
                    <a:lnTo>
                      <a:pt x="255" y="39"/>
                    </a:lnTo>
                    <a:lnTo>
                      <a:pt x="383" y="39"/>
                    </a:lnTo>
                    <a:lnTo>
                      <a:pt x="555" y="39"/>
                    </a:lnTo>
                    <a:lnTo>
                      <a:pt x="683" y="39"/>
                    </a:lnTo>
                    <a:lnTo>
                      <a:pt x="811" y="39"/>
                    </a:lnTo>
                    <a:lnTo>
                      <a:pt x="939" y="0"/>
                    </a:lnTo>
                    <a:lnTo>
                      <a:pt x="1067" y="0"/>
                    </a:lnTo>
                    <a:lnTo>
                      <a:pt x="1239" y="0"/>
                    </a:lnTo>
                    <a:lnTo>
                      <a:pt x="1367" y="0"/>
                    </a:lnTo>
                    <a:lnTo>
                      <a:pt x="1494" y="0"/>
                    </a:lnTo>
                    <a:lnTo>
                      <a:pt x="1622" y="0"/>
                    </a:lnTo>
                    <a:lnTo>
                      <a:pt x="1750" y="0"/>
                    </a:lnTo>
                    <a:lnTo>
                      <a:pt x="1878" y="0"/>
                    </a:lnTo>
                    <a:lnTo>
                      <a:pt x="2006" y="39"/>
                    </a:lnTo>
                    <a:lnTo>
                      <a:pt x="2134" y="39"/>
                    </a:lnTo>
                    <a:lnTo>
                      <a:pt x="2262" y="83"/>
                    </a:lnTo>
                    <a:lnTo>
                      <a:pt x="2390" y="83"/>
                    </a:lnTo>
                    <a:lnTo>
                      <a:pt x="2563" y="127"/>
                    </a:lnTo>
                    <a:lnTo>
                      <a:pt x="2690" y="167"/>
                    </a:lnTo>
                    <a:lnTo>
                      <a:pt x="2862" y="211"/>
                    </a:lnTo>
                    <a:lnTo>
                      <a:pt x="3030" y="211"/>
                    </a:lnTo>
                    <a:lnTo>
                      <a:pt x="3202" y="211"/>
                    </a:lnTo>
                    <a:lnTo>
                      <a:pt x="3374" y="211"/>
                    </a:lnTo>
                    <a:lnTo>
                      <a:pt x="3546" y="211"/>
                    </a:lnTo>
                    <a:lnTo>
                      <a:pt x="3674" y="167"/>
                    </a:lnTo>
                    <a:lnTo>
                      <a:pt x="3802" y="167"/>
                    </a:lnTo>
                    <a:lnTo>
                      <a:pt x="3969" y="167"/>
                    </a:lnTo>
                    <a:lnTo>
                      <a:pt x="4097" y="167"/>
                    </a:lnTo>
                    <a:lnTo>
                      <a:pt x="4269" y="167"/>
                    </a:lnTo>
                    <a:lnTo>
                      <a:pt x="4397" y="167"/>
                    </a:lnTo>
                    <a:lnTo>
                      <a:pt x="4525" y="211"/>
                    </a:lnTo>
                    <a:lnTo>
                      <a:pt x="4653" y="211"/>
                    </a:lnTo>
                    <a:lnTo>
                      <a:pt x="4781" y="255"/>
                    </a:lnTo>
                    <a:lnTo>
                      <a:pt x="4909" y="255"/>
                    </a:lnTo>
                    <a:lnTo>
                      <a:pt x="5036" y="255"/>
                    </a:lnTo>
                    <a:lnTo>
                      <a:pt x="5125" y="295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9" name=""/>
            <p:cNvSpPr txBox="1"/>
            <p:nvPr/>
          </p:nvSpPr>
          <p:spPr>
            <a:xfrm>
              <a:off x="65880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0" name=""/>
            <p:cNvSpPr txBox="1"/>
            <p:nvPr/>
          </p:nvSpPr>
          <p:spPr>
            <a:xfrm>
              <a:off x="3552840" y="2071800"/>
              <a:ext cx="185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Metal (Zin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1" name=""/>
            <p:cNvSpPr txBox="1"/>
            <p:nvPr/>
          </p:nvSpPr>
          <p:spPr>
            <a:xfrm>
              <a:off x="7024680" y="2041560"/>
              <a:ext cx="62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2" name=""/>
            <p:cNvSpPr txBox="1"/>
            <p:nvPr/>
          </p:nvSpPr>
          <p:spPr>
            <a:xfrm>
              <a:off x="1430280" y="330048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3" name=""/>
            <p:cNvSpPr txBox="1"/>
            <p:nvPr/>
          </p:nvSpPr>
          <p:spPr>
            <a:xfrm>
              <a:off x="3452760" y="3300480"/>
              <a:ext cx="2238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gnesium, Alumin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120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tory Concep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 Arrowheads --approximately 1/4” to 3/8” in leng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201760" y="3092400"/>
            <a:ext cx="6365880" cy="925560"/>
            <a:chOff x="2201760" y="3092400"/>
            <a:chExt cx="6365880" cy="925560"/>
          </a:xfrm>
        </p:grpSpPr>
        <p:grpSp>
          <p:nvGrpSpPr>
            <p:cNvPr id="117" name=""/>
            <p:cNvGrpSpPr/>
            <p:nvPr/>
          </p:nvGrpSpPr>
          <p:grpSpPr>
            <a:xfrm>
              <a:off x="2209680" y="3092400"/>
              <a:ext cx="6324840" cy="0"/>
              <a:chOff x="2209680" y="3092400"/>
              <a:chExt cx="6324840" cy="0"/>
            </a:xfrm>
          </p:grpSpPr>
          <p:sp>
            <p:nvSpPr>
              <p:cNvPr id="118" name=""/>
              <p:cNvSpPr/>
              <p:nvPr/>
            </p:nvSpPr>
            <p:spPr>
              <a:xfrm>
                <a:off x="2209680" y="3092400"/>
                <a:ext cx="1447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8620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9112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24480" y="3092400"/>
                <a:ext cx="1523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2476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53080" y="3092400"/>
                <a:ext cx="152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8000" y="3092400"/>
                <a:ext cx="16765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201760" y="4017960"/>
              <a:ext cx="6365880" cy="0"/>
              <a:chOff x="2201760" y="4017960"/>
              <a:chExt cx="6365880" cy="0"/>
            </a:xfrm>
          </p:grpSpPr>
          <p:sp>
            <p:nvSpPr>
              <p:cNvPr id="126" name=""/>
              <p:cNvSpPr/>
              <p:nvPr/>
            </p:nvSpPr>
            <p:spPr>
              <a:xfrm>
                <a:off x="2201760" y="4017960"/>
                <a:ext cx="162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90960" y="4017960"/>
                <a:ext cx="163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40160" y="4017960"/>
                <a:ext cx="1857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61200" y="4017960"/>
                <a:ext cx="16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62880" y="4017960"/>
                <a:ext cx="1904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01760" y="3544920"/>
              <a:ext cx="6059520" cy="6480"/>
              <a:chOff x="2201760" y="3544920"/>
              <a:chExt cx="6059520" cy="6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201760" y="354492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81160" y="3546360"/>
                <a:ext cx="605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784680" y="35481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87840" y="35481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67240" y="354492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22880" y="354960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00840" y="35463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56480" y="355140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5" name=""/>
          <p:cNvGrpSpPr/>
          <p:nvPr/>
        </p:nvGrpSpPr>
        <p:grpSpPr>
          <a:xfrm>
            <a:off x="658800" y="1389240"/>
            <a:ext cx="7604280" cy="2263680"/>
            <a:chOff x="658800" y="1389240"/>
            <a:chExt cx="7604280" cy="2263680"/>
          </a:xfrm>
        </p:grpSpPr>
        <p:grpSp>
          <p:nvGrpSpPr>
            <p:cNvPr id="5576" name=""/>
            <p:cNvGrpSpPr/>
            <p:nvPr/>
          </p:nvGrpSpPr>
          <p:grpSpPr>
            <a:xfrm>
              <a:off x="846000" y="2654280"/>
              <a:ext cx="7417080" cy="614520"/>
              <a:chOff x="846000" y="2654280"/>
              <a:chExt cx="7417080" cy="614520"/>
            </a:xfrm>
          </p:grpSpPr>
          <p:sp>
            <p:nvSpPr>
              <p:cNvPr id="5577" name=""/>
              <p:cNvSpPr/>
              <p:nvPr/>
            </p:nvSpPr>
            <p:spPr>
              <a:xfrm>
                <a:off x="3646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6418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9" name=""/>
              <p:cNvGrpSpPr/>
              <p:nvPr/>
            </p:nvGrpSpPr>
            <p:grpSpPr>
              <a:xfrm>
                <a:off x="846000" y="2654280"/>
                <a:ext cx="1844640" cy="614520"/>
                <a:chOff x="846000" y="2654280"/>
                <a:chExt cx="1844640" cy="614520"/>
              </a:xfrm>
            </p:grpSpPr>
            <p:sp>
              <p:nvSpPr>
                <p:cNvPr id="5580" name=""/>
                <p:cNvSpPr/>
                <p:nvPr/>
              </p:nvSpPr>
              <p:spPr>
                <a:xfrm>
                  <a:off x="846000" y="2654280"/>
                  <a:ext cx="1844640" cy="61452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 flipH="1">
                  <a:off x="8557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2" name=""/>
                <p:cNvSpPr/>
                <p:nvPr/>
              </p:nvSpPr>
              <p:spPr>
                <a:xfrm flipH="1">
                  <a:off x="853920" y="2657520"/>
                  <a:ext cx="338400" cy="338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3" name=""/>
                <p:cNvSpPr/>
                <p:nvPr/>
              </p:nvSpPr>
              <p:spPr>
                <a:xfrm flipH="1">
                  <a:off x="853920" y="2657520"/>
                  <a:ext cx="56700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4" name=""/>
                <p:cNvSpPr/>
                <p:nvPr/>
              </p:nvSpPr>
              <p:spPr>
                <a:xfrm flipH="1">
                  <a:off x="888840" y="2654280"/>
                  <a:ext cx="611280" cy="61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 flipH="1">
                  <a:off x="1128600" y="2666880"/>
                  <a:ext cx="587520" cy="587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 flipH="1">
                  <a:off x="120492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 flipH="1">
                  <a:off x="14320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 flipH="1">
                  <a:off x="1506600" y="266220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9" name=""/>
                <p:cNvSpPr/>
                <p:nvPr/>
              </p:nvSpPr>
              <p:spPr>
                <a:xfrm flipH="1">
                  <a:off x="17272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0" name=""/>
                <p:cNvSpPr/>
                <p:nvPr/>
              </p:nvSpPr>
              <p:spPr>
                <a:xfrm flipH="1">
                  <a:off x="1814400" y="2664000"/>
                  <a:ext cx="590760" cy="590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1" name=""/>
                <p:cNvSpPr/>
                <p:nvPr/>
              </p:nvSpPr>
              <p:spPr>
                <a:xfrm flipH="1">
                  <a:off x="20383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 flipH="1">
                  <a:off x="2114640" y="2697120"/>
                  <a:ext cx="561960" cy="561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 flipH="1">
                  <a:off x="23432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 flipH="1">
                  <a:off x="2413080" y="2995560"/>
                  <a:ext cx="269640" cy="270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5" name=""/>
                <p:cNvSpPr/>
                <p:nvPr/>
              </p:nvSpPr>
              <p:spPr>
                <a:xfrm flipH="1">
                  <a:off x="2647800" y="3225960"/>
                  <a:ext cx="33480" cy="33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6" name=""/>
              <p:cNvSpPr/>
              <p:nvPr/>
            </p:nvSpPr>
            <p:spPr>
              <a:xfrm>
                <a:off x="365616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97" name=""/>
              <p:cNvGrpSpPr/>
              <p:nvPr/>
            </p:nvGrpSpPr>
            <p:grpSpPr>
              <a:xfrm>
                <a:off x="3664080" y="2657520"/>
                <a:ext cx="1825560" cy="608040"/>
                <a:chOff x="3664080" y="2657520"/>
                <a:chExt cx="1825560" cy="608040"/>
              </a:xfrm>
            </p:grpSpPr>
            <p:sp>
              <p:nvSpPr>
                <p:cNvPr id="5598" name=""/>
                <p:cNvSpPr/>
                <p:nvPr/>
              </p:nvSpPr>
              <p:spPr>
                <a:xfrm flipH="1">
                  <a:off x="36655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9" name=""/>
                <p:cNvSpPr/>
                <p:nvPr/>
              </p:nvSpPr>
              <p:spPr>
                <a:xfrm flipH="1">
                  <a:off x="3664080" y="2657520"/>
                  <a:ext cx="56664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 flipH="1">
                  <a:off x="3938760" y="265896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 flipH="1">
                  <a:off x="42418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 flipH="1">
                  <a:off x="45370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3" name=""/>
                <p:cNvSpPr/>
                <p:nvPr/>
              </p:nvSpPr>
              <p:spPr>
                <a:xfrm flipH="1">
                  <a:off x="48481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4" name=""/>
                <p:cNvSpPr/>
                <p:nvPr/>
              </p:nvSpPr>
              <p:spPr>
                <a:xfrm flipH="1">
                  <a:off x="51530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5" name=""/>
              <p:cNvSpPr/>
              <p:nvPr/>
            </p:nvSpPr>
            <p:spPr>
              <a:xfrm flipH="1">
                <a:off x="5457960" y="3225960"/>
                <a:ext cx="33120" cy="3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724200" y="2730600"/>
                <a:ext cx="114480" cy="114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4006800" y="274644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727440" y="3003480"/>
                <a:ext cx="152280" cy="15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4022640" y="304164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4292640" y="2784600"/>
                <a:ext cx="111240" cy="11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4327560" y="304488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4530600" y="2816280"/>
                <a:ext cx="14940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4768920" y="2657520"/>
                <a:ext cx="88920" cy="88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4597560" y="3076560"/>
                <a:ext cx="13320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4813200" y="2860560"/>
                <a:ext cx="133560" cy="13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5010120" y="2666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5302080" y="2679840"/>
                <a:ext cx="11772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5089680" y="2882880"/>
                <a:ext cx="11736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4889520" y="3098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5165640" y="311472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5349960" y="2936880"/>
                <a:ext cx="10800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5413320" y="3181320"/>
                <a:ext cx="63720" cy="6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4540320" y="2654280"/>
                <a:ext cx="5400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24" name=""/>
              <p:cNvGrpSpPr/>
              <p:nvPr/>
            </p:nvGrpSpPr>
            <p:grpSpPr>
              <a:xfrm>
                <a:off x="6427800" y="2655720"/>
                <a:ext cx="1825560" cy="608040"/>
                <a:chOff x="6427800" y="2655720"/>
                <a:chExt cx="1825560" cy="608040"/>
              </a:xfrm>
            </p:grpSpPr>
            <p:sp>
              <p:nvSpPr>
                <p:cNvPr id="5625" name=""/>
                <p:cNvSpPr/>
                <p:nvPr/>
              </p:nvSpPr>
              <p:spPr>
                <a:xfrm flipH="1">
                  <a:off x="6429240" y="2655720"/>
                  <a:ext cx="260640" cy="26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6" name=""/>
                <p:cNvSpPr/>
                <p:nvPr/>
              </p:nvSpPr>
              <p:spPr>
                <a:xfrm flipH="1">
                  <a:off x="6427800" y="2655720"/>
                  <a:ext cx="566640" cy="56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7" name=""/>
                <p:cNvSpPr/>
                <p:nvPr/>
              </p:nvSpPr>
              <p:spPr>
                <a:xfrm flipH="1">
                  <a:off x="6702480" y="265752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8" name=""/>
                <p:cNvSpPr/>
                <p:nvPr/>
              </p:nvSpPr>
              <p:spPr>
                <a:xfrm flipH="1">
                  <a:off x="700560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9" name=""/>
                <p:cNvSpPr/>
                <p:nvPr/>
              </p:nvSpPr>
              <p:spPr>
                <a:xfrm flipH="1">
                  <a:off x="7300800" y="2662200"/>
                  <a:ext cx="60192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0" name=""/>
                <p:cNvSpPr/>
                <p:nvPr/>
              </p:nvSpPr>
              <p:spPr>
                <a:xfrm flipH="1">
                  <a:off x="7612200" y="266076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1" name=""/>
                <p:cNvSpPr/>
                <p:nvPr/>
              </p:nvSpPr>
              <p:spPr>
                <a:xfrm flipH="1">
                  <a:off x="7916760" y="292104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2" name=""/>
              <p:cNvSpPr/>
              <p:nvPr/>
            </p:nvSpPr>
            <p:spPr>
              <a:xfrm flipV="1">
                <a:off x="6432480" y="2666880"/>
                <a:ext cx="38736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 flipV="1">
                <a:off x="6842160" y="266076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 flipV="1">
                <a:off x="7458120" y="2670120"/>
                <a:ext cx="584280" cy="5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 flipV="1">
                <a:off x="8102520" y="3105000"/>
                <a:ext cx="14940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6" name=""/>
            <p:cNvGrpSpPr/>
            <p:nvPr/>
          </p:nvGrpSpPr>
          <p:grpSpPr>
            <a:xfrm>
              <a:off x="846000" y="1389240"/>
              <a:ext cx="7417080" cy="614520"/>
              <a:chOff x="846000" y="1389240"/>
              <a:chExt cx="7417080" cy="614520"/>
            </a:xfrm>
          </p:grpSpPr>
          <p:sp>
            <p:nvSpPr>
              <p:cNvPr id="5637" name=""/>
              <p:cNvSpPr/>
              <p:nvPr/>
            </p:nvSpPr>
            <p:spPr>
              <a:xfrm>
                <a:off x="846000" y="1389240"/>
                <a:ext cx="1844640" cy="61452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3646440" y="1389240"/>
                <a:ext cx="1844640" cy="61452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6418440" y="138924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415200" y="1558800"/>
                <a:ext cx="1845000" cy="444960"/>
              </a:xfrm>
              <a:custGeom>
                <a:avLst/>
                <a:gdLst/>
                <a:ahLst/>
                <a:rect l="0" t="0" r="r" b="b"/>
                <a:pathLst>
                  <a:path w="5125" h="1236">
                    <a:moveTo>
                      <a:pt x="5125" y="295"/>
                    </a:moveTo>
                    <a:lnTo>
                      <a:pt x="5125" y="1236"/>
                    </a:lnTo>
                    <a:lnTo>
                      <a:pt x="0" y="1236"/>
                    </a:lnTo>
                    <a:lnTo>
                      <a:pt x="0" y="0"/>
                    </a:lnTo>
                    <a:lnTo>
                      <a:pt x="127" y="39"/>
                    </a:lnTo>
                    <a:lnTo>
                      <a:pt x="255" y="39"/>
                    </a:lnTo>
                    <a:lnTo>
                      <a:pt x="383" y="39"/>
                    </a:lnTo>
                    <a:lnTo>
                      <a:pt x="555" y="39"/>
                    </a:lnTo>
                    <a:lnTo>
                      <a:pt x="683" y="39"/>
                    </a:lnTo>
                    <a:lnTo>
                      <a:pt x="811" y="39"/>
                    </a:lnTo>
                    <a:lnTo>
                      <a:pt x="939" y="0"/>
                    </a:lnTo>
                    <a:lnTo>
                      <a:pt x="1067" y="0"/>
                    </a:lnTo>
                    <a:lnTo>
                      <a:pt x="1239" y="0"/>
                    </a:lnTo>
                    <a:lnTo>
                      <a:pt x="1367" y="0"/>
                    </a:lnTo>
                    <a:lnTo>
                      <a:pt x="1494" y="0"/>
                    </a:lnTo>
                    <a:lnTo>
                      <a:pt x="1622" y="0"/>
                    </a:lnTo>
                    <a:lnTo>
                      <a:pt x="1750" y="0"/>
                    </a:lnTo>
                    <a:lnTo>
                      <a:pt x="1878" y="0"/>
                    </a:lnTo>
                    <a:lnTo>
                      <a:pt x="2006" y="39"/>
                    </a:lnTo>
                    <a:lnTo>
                      <a:pt x="2134" y="39"/>
                    </a:lnTo>
                    <a:lnTo>
                      <a:pt x="2262" y="83"/>
                    </a:lnTo>
                    <a:lnTo>
                      <a:pt x="2390" y="83"/>
                    </a:lnTo>
                    <a:lnTo>
                      <a:pt x="2563" y="127"/>
                    </a:lnTo>
                    <a:lnTo>
                      <a:pt x="2690" y="167"/>
                    </a:lnTo>
                    <a:lnTo>
                      <a:pt x="2862" y="211"/>
                    </a:lnTo>
                    <a:lnTo>
                      <a:pt x="3030" y="211"/>
                    </a:lnTo>
                    <a:lnTo>
                      <a:pt x="3202" y="211"/>
                    </a:lnTo>
                    <a:lnTo>
                      <a:pt x="3374" y="211"/>
                    </a:lnTo>
                    <a:lnTo>
                      <a:pt x="3546" y="211"/>
                    </a:lnTo>
                    <a:lnTo>
                      <a:pt x="3674" y="167"/>
                    </a:lnTo>
                    <a:lnTo>
                      <a:pt x="3802" y="167"/>
                    </a:lnTo>
                    <a:lnTo>
                      <a:pt x="3969" y="167"/>
                    </a:lnTo>
                    <a:lnTo>
                      <a:pt x="4097" y="167"/>
                    </a:lnTo>
                    <a:lnTo>
                      <a:pt x="4269" y="167"/>
                    </a:lnTo>
                    <a:lnTo>
                      <a:pt x="4397" y="167"/>
                    </a:lnTo>
                    <a:lnTo>
                      <a:pt x="4525" y="211"/>
                    </a:lnTo>
                    <a:lnTo>
                      <a:pt x="4653" y="211"/>
                    </a:lnTo>
                    <a:lnTo>
                      <a:pt x="4781" y="255"/>
                    </a:lnTo>
                    <a:lnTo>
                      <a:pt x="4909" y="255"/>
                    </a:lnTo>
                    <a:lnTo>
                      <a:pt x="5036" y="255"/>
                    </a:lnTo>
                    <a:lnTo>
                      <a:pt x="5125" y="295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1" name=""/>
            <p:cNvSpPr txBox="1"/>
            <p:nvPr/>
          </p:nvSpPr>
          <p:spPr>
            <a:xfrm>
              <a:off x="65880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2" name=""/>
            <p:cNvSpPr txBox="1"/>
            <p:nvPr/>
          </p:nvSpPr>
          <p:spPr>
            <a:xfrm>
              <a:off x="3552840" y="2071800"/>
              <a:ext cx="185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Metal (Zin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3" name=""/>
            <p:cNvSpPr txBox="1"/>
            <p:nvPr/>
          </p:nvSpPr>
          <p:spPr>
            <a:xfrm>
              <a:off x="7024680" y="2041560"/>
              <a:ext cx="62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4" name=""/>
            <p:cNvSpPr txBox="1"/>
            <p:nvPr/>
          </p:nvSpPr>
          <p:spPr>
            <a:xfrm>
              <a:off x="1430280" y="330048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5" name=""/>
            <p:cNvSpPr txBox="1"/>
            <p:nvPr/>
          </p:nvSpPr>
          <p:spPr>
            <a:xfrm>
              <a:off x="3452760" y="3300480"/>
              <a:ext cx="2238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gnesium, Alumin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6" name=""/>
            <p:cNvSpPr txBox="1"/>
            <p:nvPr/>
          </p:nvSpPr>
          <p:spPr>
            <a:xfrm>
              <a:off x="6854760" y="331632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tan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7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8" name=""/>
          <p:cNvGrpSpPr/>
          <p:nvPr/>
        </p:nvGrpSpPr>
        <p:grpSpPr>
          <a:xfrm>
            <a:off x="658800" y="1389240"/>
            <a:ext cx="7604280" cy="3522600"/>
            <a:chOff x="658800" y="1389240"/>
            <a:chExt cx="7604280" cy="3522600"/>
          </a:xfrm>
        </p:grpSpPr>
        <p:grpSp>
          <p:nvGrpSpPr>
            <p:cNvPr id="5649" name=""/>
            <p:cNvGrpSpPr/>
            <p:nvPr/>
          </p:nvGrpSpPr>
          <p:grpSpPr>
            <a:xfrm>
              <a:off x="846000" y="2654280"/>
              <a:ext cx="7417080" cy="614520"/>
              <a:chOff x="846000" y="2654280"/>
              <a:chExt cx="7417080" cy="614520"/>
            </a:xfrm>
          </p:grpSpPr>
          <p:sp>
            <p:nvSpPr>
              <p:cNvPr id="5650" name=""/>
              <p:cNvSpPr/>
              <p:nvPr/>
            </p:nvSpPr>
            <p:spPr>
              <a:xfrm>
                <a:off x="3646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6418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52" name=""/>
              <p:cNvGrpSpPr/>
              <p:nvPr/>
            </p:nvGrpSpPr>
            <p:grpSpPr>
              <a:xfrm>
                <a:off x="846000" y="2654280"/>
                <a:ext cx="1844640" cy="614520"/>
                <a:chOff x="846000" y="2654280"/>
                <a:chExt cx="1844640" cy="614520"/>
              </a:xfrm>
            </p:grpSpPr>
            <p:sp>
              <p:nvSpPr>
                <p:cNvPr id="5653" name=""/>
                <p:cNvSpPr/>
                <p:nvPr/>
              </p:nvSpPr>
              <p:spPr>
                <a:xfrm>
                  <a:off x="846000" y="2654280"/>
                  <a:ext cx="1844640" cy="61452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 flipH="1">
                  <a:off x="8557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 flipH="1">
                  <a:off x="853920" y="2657520"/>
                  <a:ext cx="338400" cy="338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 flipH="1">
                  <a:off x="853920" y="2657520"/>
                  <a:ext cx="56700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 flipH="1">
                  <a:off x="888840" y="2654280"/>
                  <a:ext cx="611280" cy="61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 flipH="1">
                  <a:off x="1128600" y="2666880"/>
                  <a:ext cx="587520" cy="587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 flipH="1">
                  <a:off x="120492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0" name=""/>
                <p:cNvSpPr/>
                <p:nvPr/>
              </p:nvSpPr>
              <p:spPr>
                <a:xfrm flipH="1">
                  <a:off x="14320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1" name=""/>
                <p:cNvSpPr/>
                <p:nvPr/>
              </p:nvSpPr>
              <p:spPr>
                <a:xfrm flipH="1">
                  <a:off x="1506600" y="266220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2" name=""/>
                <p:cNvSpPr/>
                <p:nvPr/>
              </p:nvSpPr>
              <p:spPr>
                <a:xfrm flipH="1">
                  <a:off x="17272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3" name=""/>
                <p:cNvSpPr/>
                <p:nvPr/>
              </p:nvSpPr>
              <p:spPr>
                <a:xfrm flipH="1">
                  <a:off x="1814400" y="2664000"/>
                  <a:ext cx="590760" cy="590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 flipH="1">
                  <a:off x="20383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 flipH="1">
                  <a:off x="2114640" y="2697120"/>
                  <a:ext cx="561960" cy="561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 flipH="1">
                  <a:off x="23432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 flipH="1">
                  <a:off x="2413080" y="2995560"/>
                  <a:ext cx="269640" cy="270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 flipH="1">
                  <a:off x="2647800" y="3225960"/>
                  <a:ext cx="33480" cy="33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9" name=""/>
              <p:cNvSpPr/>
              <p:nvPr/>
            </p:nvSpPr>
            <p:spPr>
              <a:xfrm>
                <a:off x="365616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70" name=""/>
              <p:cNvGrpSpPr/>
              <p:nvPr/>
            </p:nvGrpSpPr>
            <p:grpSpPr>
              <a:xfrm>
                <a:off x="3664080" y="2657520"/>
                <a:ext cx="1825560" cy="608040"/>
                <a:chOff x="3664080" y="2657520"/>
                <a:chExt cx="1825560" cy="608040"/>
              </a:xfrm>
            </p:grpSpPr>
            <p:sp>
              <p:nvSpPr>
                <p:cNvPr id="5671" name=""/>
                <p:cNvSpPr/>
                <p:nvPr/>
              </p:nvSpPr>
              <p:spPr>
                <a:xfrm flipH="1">
                  <a:off x="36655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 flipH="1">
                  <a:off x="3664080" y="2657520"/>
                  <a:ext cx="56664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 flipH="1">
                  <a:off x="3938760" y="265896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 flipH="1">
                  <a:off x="42418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 flipH="1">
                  <a:off x="45370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6" name=""/>
                <p:cNvSpPr/>
                <p:nvPr/>
              </p:nvSpPr>
              <p:spPr>
                <a:xfrm flipH="1">
                  <a:off x="48481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7" name=""/>
                <p:cNvSpPr/>
                <p:nvPr/>
              </p:nvSpPr>
              <p:spPr>
                <a:xfrm flipH="1">
                  <a:off x="51530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8" name=""/>
              <p:cNvSpPr/>
              <p:nvPr/>
            </p:nvSpPr>
            <p:spPr>
              <a:xfrm flipH="1">
                <a:off x="5457960" y="3225960"/>
                <a:ext cx="33120" cy="3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3724200" y="2730600"/>
                <a:ext cx="114480" cy="114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4006800" y="274644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3727440" y="3003480"/>
                <a:ext cx="152280" cy="15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4022640" y="304164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4292640" y="2784600"/>
                <a:ext cx="111240" cy="11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4327560" y="304488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4530600" y="2816280"/>
                <a:ext cx="14940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4768920" y="2657520"/>
                <a:ext cx="88920" cy="88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4597560" y="3076560"/>
                <a:ext cx="13320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4813200" y="2860560"/>
                <a:ext cx="133560" cy="13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5010120" y="2666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5302080" y="2679840"/>
                <a:ext cx="11772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5089680" y="2882880"/>
                <a:ext cx="11736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4889520" y="3098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5165640" y="311472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5349960" y="2936880"/>
                <a:ext cx="10800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5413320" y="3181320"/>
                <a:ext cx="63720" cy="6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4540320" y="2654280"/>
                <a:ext cx="5400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97" name=""/>
              <p:cNvGrpSpPr/>
              <p:nvPr/>
            </p:nvGrpSpPr>
            <p:grpSpPr>
              <a:xfrm>
                <a:off x="6427800" y="2655720"/>
                <a:ext cx="1825560" cy="608040"/>
                <a:chOff x="6427800" y="2655720"/>
                <a:chExt cx="1825560" cy="608040"/>
              </a:xfrm>
            </p:grpSpPr>
            <p:sp>
              <p:nvSpPr>
                <p:cNvPr id="5698" name=""/>
                <p:cNvSpPr/>
                <p:nvPr/>
              </p:nvSpPr>
              <p:spPr>
                <a:xfrm flipH="1">
                  <a:off x="6429240" y="2655720"/>
                  <a:ext cx="260640" cy="26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9" name=""/>
                <p:cNvSpPr/>
                <p:nvPr/>
              </p:nvSpPr>
              <p:spPr>
                <a:xfrm flipH="1">
                  <a:off x="6427800" y="2655720"/>
                  <a:ext cx="566640" cy="56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0" name=""/>
                <p:cNvSpPr/>
                <p:nvPr/>
              </p:nvSpPr>
              <p:spPr>
                <a:xfrm flipH="1">
                  <a:off x="6702480" y="265752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1" name=""/>
                <p:cNvSpPr/>
                <p:nvPr/>
              </p:nvSpPr>
              <p:spPr>
                <a:xfrm flipH="1">
                  <a:off x="700560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2" name=""/>
                <p:cNvSpPr/>
                <p:nvPr/>
              </p:nvSpPr>
              <p:spPr>
                <a:xfrm flipH="1">
                  <a:off x="7300800" y="2662200"/>
                  <a:ext cx="60192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3" name=""/>
                <p:cNvSpPr/>
                <p:nvPr/>
              </p:nvSpPr>
              <p:spPr>
                <a:xfrm flipH="1">
                  <a:off x="7612200" y="266076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4" name=""/>
                <p:cNvSpPr/>
                <p:nvPr/>
              </p:nvSpPr>
              <p:spPr>
                <a:xfrm flipH="1">
                  <a:off x="7916760" y="292104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5" name=""/>
              <p:cNvSpPr/>
              <p:nvPr/>
            </p:nvSpPr>
            <p:spPr>
              <a:xfrm flipV="1">
                <a:off x="6432480" y="2666880"/>
                <a:ext cx="38736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 flipV="1">
                <a:off x="6842160" y="266076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 flipV="1">
                <a:off x="7458120" y="2670120"/>
                <a:ext cx="584280" cy="5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 flipV="1">
                <a:off x="8102520" y="3105000"/>
                <a:ext cx="14940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09" name=""/>
            <p:cNvSpPr/>
            <p:nvPr/>
          </p:nvSpPr>
          <p:spPr>
            <a:xfrm>
              <a:off x="846000" y="3921120"/>
              <a:ext cx="1844640" cy="61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0" name=""/>
            <p:cNvGrpSpPr/>
            <p:nvPr/>
          </p:nvGrpSpPr>
          <p:grpSpPr>
            <a:xfrm>
              <a:off x="874800" y="3968640"/>
              <a:ext cx="925560" cy="506880"/>
              <a:chOff x="874800" y="3968640"/>
              <a:chExt cx="925560" cy="506880"/>
            </a:xfrm>
          </p:grpSpPr>
          <p:grpSp>
            <p:nvGrpSpPr>
              <p:cNvPr id="5711" name=""/>
              <p:cNvGrpSpPr/>
              <p:nvPr/>
            </p:nvGrpSpPr>
            <p:grpSpPr>
              <a:xfrm>
                <a:off x="874800" y="3968640"/>
                <a:ext cx="478080" cy="135360"/>
                <a:chOff x="874800" y="3968640"/>
                <a:chExt cx="478080" cy="135360"/>
              </a:xfrm>
            </p:grpSpPr>
            <p:sp>
              <p:nvSpPr>
                <p:cNvPr id="5712" name=""/>
                <p:cNvSpPr/>
                <p:nvPr/>
              </p:nvSpPr>
              <p:spPr>
                <a:xfrm>
                  <a:off x="952560" y="403704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>
                  <a:off x="1281240" y="396864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>
                  <a:off x="874800" y="403236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5" name=""/>
              <p:cNvGrpSpPr/>
              <p:nvPr/>
            </p:nvGrpSpPr>
            <p:grpSpPr>
              <a:xfrm>
                <a:off x="1108080" y="4168800"/>
                <a:ext cx="478080" cy="135000"/>
                <a:chOff x="1108080" y="4168800"/>
                <a:chExt cx="478080" cy="135000"/>
              </a:xfrm>
            </p:grpSpPr>
            <p:sp>
              <p:nvSpPr>
                <p:cNvPr id="5716" name=""/>
                <p:cNvSpPr/>
                <p:nvPr/>
              </p:nvSpPr>
              <p:spPr>
                <a:xfrm>
                  <a:off x="1185840" y="423720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7" name=""/>
                <p:cNvSpPr/>
                <p:nvPr/>
              </p:nvSpPr>
              <p:spPr>
                <a:xfrm>
                  <a:off x="1514520" y="416880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1108080" y="423216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9" name=""/>
              <p:cNvGrpSpPr/>
              <p:nvPr/>
            </p:nvGrpSpPr>
            <p:grpSpPr>
              <a:xfrm>
                <a:off x="1322280" y="4340160"/>
                <a:ext cx="478080" cy="135360"/>
                <a:chOff x="1322280" y="4340160"/>
                <a:chExt cx="478080" cy="135360"/>
              </a:xfrm>
            </p:grpSpPr>
            <p:sp>
              <p:nvSpPr>
                <p:cNvPr id="5720" name=""/>
                <p:cNvSpPr/>
                <p:nvPr/>
              </p:nvSpPr>
              <p:spPr>
                <a:xfrm>
                  <a:off x="1400040" y="4408560"/>
                  <a:ext cx="322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1" name=""/>
                <p:cNvSpPr/>
                <p:nvPr/>
              </p:nvSpPr>
              <p:spPr>
                <a:xfrm>
                  <a:off x="1728720" y="434016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2" name=""/>
                <p:cNvSpPr/>
                <p:nvPr/>
              </p:nvSpPr>
              <p:spPr>
                <a:xfrm>
                  <a:off x="1322280" y="44038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23" name=""/>
            <p:cNvSpPr/>
            <p:nvPr/>
          </p:nvSpPr>
          <p:spPr>
            <a:xfrm>
              <a:off x="852480" y="415116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971640" y="4083120"/>
              <a:ext cx="71640" cy="71640"/>
            </a:xfrm>
            <a:custGeom>
              <a:avLst/>
              <a:gdLst/>
              <a:ahLst/>
              <a:rect l="0" t="0" r="r" b="b"/>
              <a:pathLst>
                <a:path fill="none" w="199" h="199">
                  <a:moveTo>
                    <a:pt x="0" y="199"/>
                  </a:moveTo>
                  <a:lnTo>
                    <a:pt x="0" y="199"/>
                  </a:lnTo>
                  <a:cubicBezTo>
                    <a:pt x="35" y="199"/>
                    <a:pt x="69" y="190"/>
                    <a:pt x="100" y="172"/>
                  </a:cubicBezTo>
                  <a:cubicBezTo>
                    <a:pt x="130" y="155"/>
                    <a:pt x="155" y="130"/>
                    <a:pt x="172" y="99"/>
                  </a:cubicBezTo>
                  <a:cubicBezTo>
                    <a:pt x="190" y="69"/>
                    <a:pt x="199" y="35"/>
                    <a:pt x="199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5" name=""/>
            <p:cNvGrpSpPr/>
            <p:nvPr/>
          </p:nvGrpSpPr>
          <p:grpSpPr>
            <a:xfrm>
              <a:off x="1370160" y="4054320"/>
              <a:ext cx="477720" cy="135360"/>
              <a:chOff x="1370160" y="4054320"/>
              <a:chExt cx="477720" cy="135360"/>
            </a:xfrm>
          </p:grpSpPr>
          <p:sp>
            <p:nvSpPr>
              <p:cNvPr id="5726" name=""/>
              <p:cNvSpPr/>
              <p:nvPr/>
            </p:nvSpPr>
            <p:spPr>
              <a:xfrm>
                <a:off x="1447920" y="412272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1776240" y="405432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1370160" y="411804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9" name=""/>
            <p:cNvSpPr/>
            <p:nvPr/>
          </p:nvSpPr>
          <p:spPr>
            <a:xfrm>
              <a:off x="857160" y="4370400"/>
              <a:ext cx="32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1185840" y="4302000"/>
              <a:ext cx="71640" cy="71640"/>
            </a:xfrm>
            <a:custGeom>
              <a:avLst/>
              <a:gdLst/>
              <a:ahLst/>
              <a:rect l="0" t="0" r="r" b="b"/>
              <a:pathLst>
                <a:path fill="none" w="199" h="199">
                  <a:moveTo>
                    <a:pt x="0" y="199"/>
                  </a:moveTo>
                  <a:lnTo>
                    <a:pt x="0" y="199"/>
                  </a:lnTo>
                  <a:cubicBezTo>
                    <a:pt x="35" y="199"/>
                    <a:pt x="69" y="190"/>
                    <a:pt x="100" y="172"/>
                  </a:cubicBezTo>
                  <a:cubicBezTo>
                    <a:pt x="130" y="155"/>
                    <a:pt x="155" y="130"/>
                    <a:pt x="172" y="99"/>
                  </a:cubicBezTo>
                  <a:cubicBezTo>
                    <a:pt x="190" y="69"/>
                    <a:pt x="199" y="35"/>
                    <a:pt x="199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31" name=""/>
            <p:cNvGrpSpPr/>
            <p:nvPr/>
          </p:nvGrpSpPr>
          <p:grpSpPr>
            <a:xfrm>
              <a:off x="1593720" y="4230720"/>
              <a:ext cx="478080" cy="135000"/>
              <a:chOff x="1593720" y="4230720"/>
              <a:chExt cx="478080" cy="135000"/>
            </a:xfrm>
          </p:grpSpPr>
          <p:sp>
            <p:nvSpPr>
              <p:cNvPr id="5732" name=""/>
              <p:cNvSpPr/>
              <p:nvPr/>
            </p:nvSpPr>
            <p:spPr>
              <a:xfrm>
                <a:off x="1671480" y="4299120"/>
                <a:ext cx="32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2000160" y="423072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1593720" y="429408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35" name=""/>
            <p:cNvSpPr/>
            <p:nvPr/>
          </p:nvSpPr>
          <p:spPr>
            <a:xfrm>
              <a:off x="1871640" y="4479840"/>
              <a:ext cx="32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200320" y="4411800"/>
              <a:ext cx="71640" cy="71640"/>
            </a:xfrm>
            <a:custGeom>
              <a:avLst/>
              <a:gdLst/>
              <a:ahLst/>
              <a:rect l="0" t="0" r="r" b="b"/>
              <a:pathLst>
                <a:path fill="none" w="199" h="199">
                  <a:moveTo>
                    <a:pt x="0" y="199"/>
                  </a:moveTo>
                  <a:lnTo>
                    <a:pt x="0" y="199"/>
                  </a:lnTo>
                  <a:cubicBezTo>
                    <a:pt x="35" y="199"/>
                    <a:pt x="69" y="190"/>
                    <a:pt x="100" y="172"/>
                  </a:cubicBezTo>
                  <a:cubicBezTo>
                    <a:pt x="130" y="155"/>
                    <a:pt x="155" y="130"/>
                    <a:pt x="172" y="99"/>
                  </a:cubicBezTo>
                  <a:cubicBezTo>
                    <a:pt x="190" y="69"/>
                    <a:pt x="199" y="35"/>
                    <a:pt x="199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1797120" y="4500360"/>
              <a:ext cx="67320" cy="46800"/>
            </a:xfrm>
            <a:custGeom>
              <a:avLst/>
              <a:gdLst/>
              <a:ahLst/>
              <a:rect l="0" t="0" r="r" b="b"/>
              <a:pathLst>
                <a:path fill="none" w="187" h="130">
                  <a:moveTo>
                    <a:pt x="0" y="130"/>
                  </a:moveTo>
                  <a:lnTo>
                    <a:pt x="0" y="130"/>
                  </a:lnTo>
                  <a:cubicBezTo>
                    <a:pt x="35" y="130"/>
                    <a:pt x="69" y="121"/>
                    <a:pt x="100" y="103"/>
                  </a:cubicBezTo>
                  <a:cubicBezTo>
                    <a:pt x="130" y="85"/>
                    <a:pt x="156" y="60"/>
                    <a:pt x="173" y="29"/>
                  </a:cubicBezTo>
                  <a:cubicBezTo>
                    <a:pt x="179" y="20"/>
                    <a:pt x="183" y="10"/>
                    <a:pt x="18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38" name=""/>
            <p:cNvGrpSpPr/>
            <p:nvPr/>
          </p:nvGrpSpPr>
          <p:grpSpPr>
            <a:xfrm>
              <a:off x="1655640" y="3940200"/>
              <a:ext cx="925920" cy="506520"/>
              <a:chOff x="1655640" y="3940200"/>
              <a:chExt cx="925920" cy="506520"/>
            </a:xfrm>
          </p:grpSpPr>
          <p:grpSp>
            <p:nvGrpSpPr>
              <p:cNvPr id="5739" name=""/>
              <p:cNvGrpSpPr/>
              <p:nvPr/>
            </p:nvGrpSpPr>
            <p:grpSpPr>
              <a:xfrm>
                <a:off x="1655640" y="3940200"/>
                <a:ext cx="478080" cy="135000"/>
                <a:chOff x="1655640" y="3940200"/>
                <a:chExt cx="478080" cy="135000"/>
              </a:xfrm>
            </p:grpSpPr>
            <p:sp>
              <p:nvSpPr>
                <p:cNvPr id="5740" name=""/>
                <p:cNvSpPr/>
                <p:nvPr/>
              </p:nvSpPr>
              <p:spPr>
                <a:xfrm>
                  <a:off x="1733400" y="4008600"/>
                  <a:ext cx="322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1" name=""/>
                <p:cNvSpPr/>
                <p:nvPr/>
              </p:nvSpPr>
              <p:spPr>
                <a:xfrm>
                  <a:off x="2062080" y="394020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2" name=""/>
                <p:cNvSpPr/>
                <p:nvPr/>
              </p:nvSpPr>
              <p:spPr>
                <a:xfrm>
                  <a:off x="1655640" y="400356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3" name=""/>
              <p:cNvGrpSpPr/>
              <p:nvPr/>
            </p:nvGrpSpPr>
            <p:grpSpPr>
              <a:xfrm>
                <a:off x="1889280" y="4140360"/>
                <a:ext cx="477720" cy="135000"/>
                <a:chOff x="1889280" y="4140360"/>
                <a:chExt cx="477720" cy="135000"/>
              </a:xfrm>
            </p:grpSpPr>
            <p:sp>
              <p:nvSpPr>
                <p:cNvPr id="5744" name=""/>
                <p:cNvSpPr/>
                <p:nvPr/>
              </p:nvSpPr>
              <p:spPr>
                <a:xfrm>
                  <a:off x="1967040" y="420840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5" name=""/>
                <p:cNvSpPr/>
                <p:nvPr/>
              </p:nvSpPr>
              <p:spPr>
                <a:xfrm>
                  <a:off x="2295360" y="414036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6" name=""/>
                <p:cNvSpPr/>
                <p:nvPr/>
              </p:nvSpPr>
              <p:spPr>
                <a:xfrm>
                  <a:off x="1889280" y="42037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7" name=""/>
              <p:cNvGrpSpPr/>
              <p:nvPr/>
            </p:nvGrpSpPr>
            <p:grpSpPr>
              <a:xfrm>
                <a:off x="2103480" y="4311720"/>
                <a:ext cx="478080" cy="135000"/>
                <a:chOff x="2103480" y="4311720"/>
                <a:chExt cx="478080" cy="135000"/>
              </a:xfrm>
            </p:grpSpPr>
            <p:sp>
              <p:nvSpPr>
                <p:cNvPr id="5748" name=""/>
                <p:cNvSpPr/>
                <p:nvPr/>
              </p:nvSpPr>
              <p:spPr>
                <a:xfrm>
                  <a:off x="2181240" y="437976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9" name=""/>
                <p:cNvSpPr/>
                <p:nvPr/>
              </p:nvSpPr>
              <p:spPr>
                <a:xfrm>
                  <a:off x="2509920" y="43117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0" name=""/>
                <p:cNvSpPr/>
                <p:nvPr/>
              </p:nvSpPr>
              <p:spPr>
                <a:xfrm>
                  <a:off x="2103480" y="43750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1" name=""/>
            <p:cNvGrpSpPr/>
            <p:nvPr/>
          </p:nvGrpSpPr>
          <p:grpSpPr>
            <a:xfrm>
              <a:off x="2127240" y="4025880"/>
              <a:ext cx="478080" cy="135000"/>
              <a:chOff x="2127240" y="4025880"/>
              <a:chExt cx="478080" cy="135000"/>
            </a:xfrm>
          </p:grpSpPr>
          <p:sp>
            <p:nvSpPr>
              <p:cNvPr id="5752" name=""/>
              <p:cNvSpPr/>
              <p:nvPr/>
            </p:nvSpPr>
            <p:spPr>
              <a:xfrm>
                <a:off x="2205000" y="409428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2533680" y="402588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2127240" y="408924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55" name=""/>
            <p:cNvSpPr/>
            <p:nvPr/>
          </p:nvSpPr>
          <p:spPr>
            <a:xfrm>
              <a:off x="2428920" y="4270320"/>
              <a:ext cx="247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2351160" y="4265640"/>
              <a:ext cx="71640" cy="71640"/>
            </a:xfrm>
            <a:custGeom>
              <a:avLst/>
              <a:gdLst/>
              <a:ahLst/>
              <a:rect l="0" t="0" r="r" b="b"/>
              <a:pathLst>
                <a:path fill="none" w="199" h="199">
                  <a:moveTo>
                    <a:pt x="0" y="199"/>
                  </a:moveTo>
                  <a:lnTo>
                    <a:pt x="0" y="199"/>
                  </a:lnTo>
                  <a:cubicBezTo>
                    <a:pt x="35" y="199"/>
                    <a:pt x="69" y="190"/>
                    <a:pt x="100" y="172"/>
                  </a:cubicBezTo>
                  <a:cubicBezTo>
                    <a:pt x="130" y="155"/>
                    <a:pt x="155" y="130"/>
                    <a:pt x="172" y="99"/>
                  </a:cubicBezTo>
                  <a:cubicBezTo>
                    <a:pt x="190" y="69"/>
                    <a:pt x="199" y="35"/>
                    <a:pt x="199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2629080" y="4451400"/>
              <a:ext cx="5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554200" y="4471560"/>
              <a:ext cx="67320" cy="46800"/>
            </a:xfrm>
            <a:custGeom>
              <a:avLst/>
              <a:gdLst/>
              <a:ahLst/>
              <a:rect l="0" t="0" r="r" b="b"/>
              <a:pathLst>
                <a:path fill="none" w="187" h="130">
                  <a:moveTo>
                    <a:pt x="0" y="130"/>
                  </a:moveTo>
                  <a:lnTo>
                    <a:pt x="0" y="130"/>
                  </a:lnTo>
                  <a:cubicBezTo>
                    <a:pt x="35" y="130"/>
                    <a:pt x="69" y="121"/>
                    <a:pt x="100" y="103"/>
                  </a:cubicBezTo>
                  <a:cubicBezTo>
                    <a:pt x="130" y="85"/>
                    <a:pt x="156" y="60"/>
                    <a:pt x="173" y="29"/>
                  </a:cubicBezTo>
                  <a:cubicBezTo>
                    <a:pt x="179" y="20"/>
                    <a:pt x="183" y="10"/>
                    <a:pt x="18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9" name=""/>
            <p:cNvGrpSpPr/>
            <p:nvPr/>
          </p:nvGrpSpPr>
          <p:grpSpPr>
            <a:xfrm>
              <a:off x="846000" y="1389240"/>
              <a:ext cx="7417080" cy="614520"/>
              <a:chOff x="846000" y="1389240"/>
              <a:chExt cx="7417080" cy="614520"/>
            </a:xfrm>
          </p:grpSpPr>
          <p:sp>
            <p:nvSpPr>
              <p:cNvPr id="5760" name=""/>
              <p:cNvSpPr/>
              <p:nvPr/>
            </p:nvSpPr>
            <p:spPr>
              <a:xfrm>
                <a:off x="846000" y="1389240"/>
                <a:ext cx="1844640" cy="61452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646440" y="1389240"/>
                <a:ext cx="1844640" cy="61452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6418440" y="138924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415200" y="1558800"/>
                <a:ext cx="1845000" cy="444960"/>
              </a:xfrm>
              <a:custGeom>
                <a:avLst/>
                <a:gdLst/>
                <a:ahLst/>
                <a:rect l="0" t="0" r="r" b="b"/>
                <a:pathLst>
                  <a:path w="5125" h="1236">
                    <a:moveTo>
                      <a:pt x="5125" y="295"/>
                    </a:moveTo>
                    <a:lnTo>
                      <a:pt x="5125" y="1236"/>
                    </a:lnTo>
                    <a:lnTo>
                      <a:pt x="0" y="1236"/>
                    </a:lnTo>
                    <a:lnTo>
                      <a:pt x="0" y="0"/>
                    </a:lnTo>
                    <a:lnTo>
                      <a:pt x="127" y="39"/>
                    </a:lnTo>
                    <a:lnTo>
                      <a:pt x="255" y="39"/>
                    </a:lnTo>
                    <a:lnTo>
                      <a:pt x="383" y="39"/>
                    </a:lnTo>
                    <a:lnTo>
                      <a:pt x="555" y="39"/>
                    </a:lnTo>
                    <a:lnTo>
                      <a:pt x="683" y="39"/>
                    </a:lnTo>
                    <a:lnTo>
                      <a:pt x="811" y="39"/>
                    </a:lnTo>
                    <a:lnTo>
                      <a:pt x="939" y="0"/>
                    </a:lnTo>
                    <a:lnTo>
                      <a:pt x="1067" y="0"/>
                    </a:lnTo>
                    <a:lnTo>
                      <a:pt x="1239" y="0"/>
                    </a:lnTo>
                    <a:lnTo>
                      <a:pt x="1367" y="0"/>
                    </a:lnTo>
                    <a:lnTo>
                      <a:pt x="1494" y="0"/>
                    </a:lnTo>
                    <a:lnTo>
                      <a:pt x="1622" y="0"/>
                    </a:lnTo>
                    <a:lnTo>
                      <a:pt x="1750" y="0"/>
                    </a:lnTo>
                    <a:lnTo>
                      <a:pt x="1878" y="0"/>
                    </a:lnTo>
                    <a:lnTo>
                      <a:pt x="2006" y="39"/>
                    </a:lnTo>
                    <a:lnTo>
                      <a:pt x="2134" y="39"/>
                    </a:lnTo>
                    <a:lnTo>
                      <a:pt x="2262" y="83"/>
                    </a:lnTo>
                    <a:lnTo>
                      <a:pt x="2390" y="83"/>
                    </a:lnTo>
                    <a:lnTo>
                      <a:pt x="2563" y="127"/>
                    </a:lnTo>
                    <a:lnTo>
                      <a:pt x="2690" y="167"/>
                    </a:lnTo>
                    <a:lnTo>
                      <a:pt x="2862" y="211"/>
                    </a:lnTo>
                    <a:lnTo>
                      <a:pt x="3030" y="211"/>
                    </a:lnTo>
                    <a:lnTo>
                      <a:pt x="3202" y="211"/>
                    </a:lnTo>
                    <a:lnTo>
                      <a:pt x="3374" y="211"/>
                    </a:lnTo>
                    <a:lnTo>
                      <a:pt x="3546" y="211"/>
                    </a:lnTo>
                    <a:lnTo>
                      <a:pt x="3674" y="167"/>
                    </a:lnTo>
                    <a:lnTo>
                      <a:pt x="3802" y="167"/>
                    </a:lnTo>
                    <a:lnTo>
                      <a:pt x="3969" y="167"/>
                    </a:lnTo>
                    <a:lnTo>
                      <a:pt x="4097" y="167"/>
                    </a:lnTo>
                    <a:lnTo>
                      <a:pt x="4269" y="167"/>
                    </a:lnTo>
                    <a:lnTo>
                      <a:pt x="4397" y="167"/>
                    </a:lnTo>
                    <a:lnTo>
                      <a:pt x="4525" y="211"/>
                    </a:lnTo>
                    <a:lnTo>
                      <a:pt x="4653" y="211"/>
                    </a:lnTo>
                    <a:lnTo>
                      <a:pt x="4781" y="255"/>
                    </a:lnTo>
                    <a:lnTo>
                      <a:pt x="4909" y="255"/>
                    </a:lnTo>
                    <a:lnTo>
                      <a:pt x="5036" y="255"/>
                    </a:lnTo>
                    <a:lnTo>
                      <a:pt x="5125" y="295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4" name=""/>
            <p:cNvSpPr txBox="1"/>
            <p:nvPr/>
          </p:nvSpPr>
          <p:spPr>
            <a:xfrm>
              <a:off x="65880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5" name=""/>
            <p:cNvSpPr txBox="1"/>
            <p:nvPr/>
          </p:nvSpPr>
          <p:spPr>
            <a:xfrm>
              <a:off x="3552840" y="2071800"/>
              <a:ext cx="185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Metal (Zin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6" name=""/>
            <p:cNvSpPr txBox="1"/>
            <p:nvPr/>
          </p:nvSpPr>
          <p:spPr>
            <a:xfrm>
              <a:off x="7024680" y="2041560"/>
              <a:ext cx="62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7" name=""/>
            <p:cNvSpPr txBox="1"/>
            <p:nvPr/>
          </p:nvSpPr>
          <p:spPr>
            <a:xfrm>
              <a:off x="1430280" y="330048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8" name=""/>
            <p:cNvSpPr txBox="1"/>
            <p:nvPr/>
          </p:nvSpPr>
          <p:spPr>
            <a:xfrm>
              <a:off x="3452760" y="3300480"/>
              <a:ext cx="2238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gnesium, Alumin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9" name=""/>
            <p:cNvSpPr txBox="1"/>
            <p:nvPr/>
          </p:nvSpPr>
          <p:spPr>
            <a:xfrm>
              <a:off x="6854760" y="331632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tan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0" name=""/>
            <p:cNvSpPr txBox="1"/>
            <p:nvPr/>
          </p:nvSpPr>
          <p:spPr>
            <a:xfrm>
              <a:off x="706320" y="4575240"/>
              <a:ext cx="2108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elt, Leather, &amp; Fib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1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2" name=""/>
          <p:cNvGrpSpPr/>
          <p:nvPr/>
        </p:nvGrpSpPr>
        <p:grpSpPr>
          <a:xfrm>
            <a:off x="674640" y="1389240"/>
            <a:ext cx="7588440" cy="3522600"/>
            <a:chOff x="674640" y="1389240"/>
            <a:chExt cx="7588440" cy="3522600"/>
          </a:xfrm>
        </p:grpSpPr>
        <p:grpSp>
          <p:nvGrpSpPr>
            <p:cNvPr id="5773" name=""/>
            <p:cNvGrpSpPr/>
            <p:nvPr/>
          </p:nvGrpSpPr>
          <p:grpSpPr>
            <a:xfrm>
              <a:off x="846000" y="2654280"/>
              <a:ext cx="7417080" cy="614520"/>
              <a:chOff x="846000" y="2654280"/>
              <a:chExt cx="7417080" cy="614520"/>
            </a:xfrm>
          </p:grpSpPr>
          <p:sp>
            <p:nvSpPr>
              <p:cNvPr id="5774" name=""/>
              <p:cNvSpPr/>
              <p:nvPr/>
            </p:nvSpPr>
            <p:spPr>
              <a:xfrm>
                <a:off x="3646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418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76" name=""/>
              <p:cNvGrpSpPr/>
              <p:nvPr/>
            </p:nvGrpSpPr>
            <p:grpSpPr>
              <a:xfrm>
                <a:off x="846000" y="2654280"/>
                <a:ext cx="1844640" cy="614520"/>
                <a:chOff x="846000" y="2654280"/>
                <a:chExt cx="1844640" cy="614520"/>
              </a:xfrm>
            </p:grpSpPr>
            <p:sp>
              <p:nvSpPr>
                <p:cNvPr id="5777" name=""/>
                <p:cNvSpPr/>
                <p:nvPr/>
              </p:nvSpPr>
              <p:spPr>
                <a:xfrm>
                  <a:off x="846000" y="2654280"/>
                  <a:ext cx="1844640" cy="61452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8" name=""/>
                <p:cNvSpPr/>
                <p:nvPr/>
              </p:nvSpPr>
              <p:spPr>
                <a:xfrm flipH="1">
                  <a:off x="8557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9" name=""/>
                <p:cNvSpPr/>
                <p:nvPr/>
              </p:nvSpPr>
              <p:spPr>
                <a:xfrm flipH="1">
                  <a:off x="853920" y="2657520"/>
                  <a:ext cx="338400" cy="338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0" name=""/>
                <p:cNvSpPr/>
                <p:nvPr/>
              </p:nvSpPr>
              <p:spPr>
                <a:xfrm flipH="1">
                  <a:off x="853920" y="2657520"/>
                  <a:ext cx="56700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1" name=""/>
                <p:cNvSpPr/>
                <p:nvPr/>
              </p:nvSpPr>
              <p:spPr>
                <a:xfrm flipH="1">
                  <a:off x="888840" y="2654280"/>
                  <a:ext cx="611280" cy="61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2" name=""/>
                <p:cNvSpPr/>
                <p:nvPr/>
              </p:nvSpPr>
              <p:spPr>
                <a:xfrm flipH="1">
                  <a:off x="1128600" y="2666880"/>
                  <a:ext cx="587520" cy="587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3" name=""/>
                <p:cNvSpPr/>
                <p:nvPr/>
              </p:nvSpPr>
              <p:spPr>
                <a:xfrm flipH="1">
                  <a:off x="120492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4" name=""/>
                <p:cNvSpPr/>
                <p:nvPr/>
              </p:nvSpPr>
              <p:spPr>
                <a:xfrm flipH="1">
                  <a:off x="14320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5" name=""/>
                <p:cNvSpPr/>
                <p:nvPr/>
              </p:nvSpPr>
              <p:spPr>
                <a:xfrm flipH="1">
                  <a:off x="1506600" y="266220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6" name=""/>
                <p:cNvSpPr/>
                <p:nvPr/>
              </p:nvSpPr>
              <p:spPr>
                <a:xfrm flipH="1">
                  <a:off x="17272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7" name=""/>
                <p:cNvSpPr/>
                <p:nvPr/>
              </p:nvSpPr>
              <p:spPr>
                <a:xfrm flipH="1">
                  <a:off x="1814400" y="2664000"/>
                  <a:ext cx="590760" cy="590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8" name=""/>
                <p:cNvSpPr/>
                <p:nvPr/>
              </p:nvSpPr>
              <p:spPr>
                <a:xfrm flipH="1">
                  <a:off x="20383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9" name=""/>
                <p:cNvSpPr/>
                <p:nvPr/>
              </p:nvSpPr>
              <p:spPr>
                <a:xfrm flipH="1">
                  <a:off x="2114640" y="2697120"/>
                  <a:ext cx="561960" cy="561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0" name=""/>
                <p:cNvSpPr/>
                <p:nvPr/>
              </p:nvSpPr>
              <p:spPr>
                <a:xfrm flipH="1">
                  <a:off x="23432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1" name=""/>
                <p:cNvSpPr/>
                <p:nvPr/>
              </p:nvSpPr>
              <p:spPr>
                <a:xfrm flipH="1">
                  <a:off x="2413080" y="2995560"/>
                  <a:ext cx="269640" cy="270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2" name=""/>
                <p:cNvSpPr/>
                <p:nvPr/>
              </p:nvSpPr>
              <p:spPr>
                <a:xfrm flipH="1">
                  <a:off x="2647800" y="3225960"/>
                  <a:ext cx="33480" cy="33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3" name=""/>
              <p:cNvSpPr/>
              <p:nvPr/>
            </p:nvSpPr>
            <p:spPr>
              <a:xfrm>
                <a:off x="365616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94" name=""/>
              <p:cNvGrpSpPr/>
              <p:nvPr/>
            </p:nvGrpSpPr>
            <p:grpSpPr>
              <a:xfrm>
                <a:off x="3664080" y="2657520"/>
                <a:ext cx="1825560" cy="608040"/>
                <a:chOff x="3664080" y="2657520"/>
                <a:chExt cx="1825560" cy="608040"/>
              </a:xfrm>
            </p:grpSpPr>
            <p:sp>
              <p:nvSpPr>
                <p:cNvPr id="5795" name=""/>
                <p:cNvSpPr/>
                <p:nvPr/>
              </p:nvSpPr>
              <p:spPr>
                <a:xfrm flipH="1">
                  <a:off x="36655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6" name=""/>
                <p:cNvSpPr/>
                <p:nvPr/>
              </p:nvSpPr>
              <p:spPr>
                <a:xfrm flipH="1">
                  <a:off x="3664080" y="2657520"/>
                  <a:ext cx="56664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7" name=""/>
                <p:cNvSpPr/>
                <p:nvPr/>
              </p:nvSpPr>
              <p:spPr>
                <a:xfrm flipH="1">
                  <a:off x="3938760" y="265896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8" name=""/>
                <p:cNvSpPr/>
                <p:nvPr/>
              </p:nvSpPr>
              <p:spPr>
                <a:xfrm flipH="1">
                  <a:off x="42418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9" name=""/>
                <p:cNvSpPr/>
                <p:nvPr/>
              </p:nvSpPr>
              <p:spPr>
                <a:xfrm flipH="1">
                  <a:off x="45370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0" name=""/>
                <p:cNvSpPr/>
                <p:nvPr/>
              </p:nvSpPr>
              <p:spPr>
                <a:xfrm flipH="1">
                  <a:off x="48481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1" name=""/>
                <p:cNvSpPr/>
                <p:nvPr/>
              </p:nvSpPr>
              <p:spPr>
                <a:xfrm flipH="1">
                  <a:off x="51530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2" name=""/>
              <p:cNvSpPr/>
              <p:nvPr/>
            </p:nvSpPr>
            <p:spPr>
              <a:xfrm flipH="1">
                <a:off x="5457960" y="3225960"/>
                <a:ext cx="33120" cy="3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3724200" y="2730600"/>
                <a:ext cx="114480" cy="114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4006800" y="274644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3727440" y="3003480"/>
                <a:ext cx="152280" cy="15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4022640" y="304164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4292640" y="2784600"/>
                <a:ext cx="111240" cy="11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4327560" y="304488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4530600" y="2816280"/>
                <a:ext cx="14940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4768920" y="2657520"/>
                <a:ext cx="88920" cy="88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4597560" y="3076560"/>
                <a:ext cx="13320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4813200" y="2860560"/>
                <a:ext cx="133560" cy="13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5010120" y="2666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5302080" y="2679840"/>
                <a:ext cx="11772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5089680" y="2882880"/>
                <a:ext cx="11736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4889520" y="3098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5165640" y="311472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5349960" y="2936880"/>
                <a:ext cx="10800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5413320" y="3181320"/>
                <a:ext cx="63720" cy="6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4540320" y="2654280"/>
                <a:ext cx="5400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1" name=""/>
              <p:cNvGrpSpPr/>
              <p:nvPr/>
            </p:nvGrpSpPr>
            <p:grpSpPr>
              <a:xfrm>
                <a:off x="6427800" y="2655720"/>
                <a:ext cx="1825560" cy="608040"/>
                <a:chOff x="6427800" y="2655720"/>
                <a:chExt cx="1825560" cy="608040"/>
              </a:xfrm>
            </p:grpSpPr>
            <p:sp>
              <p:nvSpPr>
                <p:cNvPr id="5822" name=""/>
                <p:cNvSpPr/>
                <p:nvPr/>
              </p:nvSpPr>
              <p:spPr>
                <a:xfrm flipH="1">
                  <a:off x="6429240" y="2655720"/>
                  <a:ext cx="260640" cy="26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3" name=""/>
                <p:cNvSpPr/>
                <p:nvPr/>
              </p:nvSpPr>
              <p:spPr>
                <a:xfrm flipH="1">
                  <a:off x="6427800" y="2655720"/>
                  <a:ext cx="566640" cy="56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4" name=""/>
                <p:cNvSpPr/>
                <p:nvPr/>
              </p:nvSpPr>
              <p:spPr>
                <a:xfrm flipH="1">
                  <a:off x="6702480" y="265752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5" name=""/>
                <p:cNvSpPr/>
                <p:nvPr/>
              </p:nvSpPr>
              <p:spPr>
                <a:xfrm flipH="1">
                  <a:off x="700560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6" name=""/>
                <p:cNvSpPr/>
                <p:nvPr/>
              </p:nvSpPr>
              <p:spPr>
                <a:xfrm flipH="1">
                  <a:off x="7300800" y="2662200"/>
                  <a:ext cx="60192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7" name=""/>
                <p:cNvSpPr/>
                <p:nvPr/>
              </p:nvSpPr>
              <p:spPr>
                <a:xfrm flipH="1">
                  <a:off x="7612200" y="266076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8" name=""/>
                <p:cNvSpPr/>
                <p:nvPr/>
              </p:nvSpPr>
              <p:spPr>
                <a:xfrm flipH="1">
                  <a:off x="7916760" y="292104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9" name=""/>
              <p:cNvSpPr/>
              <p:nvPr/>
            </p:nvSpPr>
            <p:spPr>
              <a:xfrm flipV="1">
                <a:off x="6432480" y="2666880"/>
                <a:ext cx="38736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 flipV="1">
                <a:off x="6842160" y="266076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 flipV="1">
                <a:off x="7458120" y="2670120"/>
                <a:ext cx="584280" cy="5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 flipV="1">
                <a:off x="8102520" y="3105000"/>
                <a:ext cx="14940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33" name=""/>
            <p:cNvSpPr/>
            <p:nvPr/>
          </p:nvSpPr>
          <p:spPr>
            <a:xfrm>
              <a:off x="846000" y="3921120"/>
              <a:ext cx="1844640" cy="61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3646440" y="3921120"/>
              <a:ext cx="1844640" cy="61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35" name=""/>
            <p:cNvGrpSpPr/>
            <p:nvPr/>
          </p:nvGrpSpPr>
          <p:grpSpPr>
            <a:xfrm>
              <a:off x="874800" y="3968640"/>
              <a:ext cx="925560" cy="506880"/>
              <a:chOff x="874800" y="3968640"/>
              <a:chExt cx="925560" cy="506880"/>
            </a:xfrm>
          </p:grpSpPr>
          <p:grpSp>
            <p:nvGrpSpPr>
              <p:cNvPr id="5836" name=""/>
              <p:cNvGrpSpPr/>
              <p:nvPr/>
            </p:nvGrpSpPr>
            <p:grpSpPr>
              <a:xfrm>
                <a:off x="874800" y="3968640"/>
                <a:ext cx="478080" cy="135360"/>
                <a:chOff x="874800" y="3968640"/>
                <a:chExt cx="478080" cy="135360"/>
              </a:xfrm>
            </p:grpSpPr>
            <p:sp>
              <p:nvSpPr>
                <p:cNvPr id="5837" name=""/>
                <p:cNvSpPr/>
                <p:nvPr/>
              </p:nvSpPr>
              <p:spPr>
                <a:xfrm>
                  <a:off x="952560" y="403704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8" name=""/>
                <p:cNvSpPr/>
                <p:nvPr/>
              </p:nvSpPr>
              <p:spPr>
                <a:xfrm>
                  <a:off x="1281240" y="396864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9" name=""/>
                <p:cNvSpPr/>
                <p:nvPr/>
              </p:nvSpPr>
              <p:spPr>
                <a:xfrm>
                  <a:off x="874800" y="403236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0" name=""/>
              <p:cNvGrpSpPr/>
              <p:nvPr/>
            </p:nvGrpSpPr>
            <p:grpSpPr>
              <a:xfrm>
                <a:off x="1108080" y="4168800"/>
                <a:ext cx="478080" cy="135000"/>
                <a:chOff x="1108080" y="4168800"/>
                <a:chExt cx="478080" cy="135000"/>
              </a:xfrm>
            </p:grpSpPr>
            <p:sp>
              <p:nvSpPr>
                <p:cNvPr id="5841" name=""/>
                <p:cNvSpPr/>
                <p:nvPr/>
              </p:nvSpPr>
              <p:spPr>
                <a:xfrm>
                  <a:off x="1185840" y="423720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2" name=""/>
                <p:cNvSpPr/>
                <p:nvPr/>
              </p:nvSpPr>
              <p:spPr>
                <a:xfrm>
                  <a:off x="1514520" y="416880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3" name=""/>
                <p:cNvSpPr/>
                <p:nvPr/>
              </p:nvSpPr>
              <p:spPr>
                <a:xfrm>
                  <a:off x="1108080" y="423216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4" name=""/>
              <p:cNvGrpSpPr/>
              <p:nvPr/>
            </p:nvGrpSpPr>
            <p:grpSpPr>
              <a:xfrm>
                <a:off x="1322280" y="4340160"/>
                <a:ext cx="478080" cy="135360"/>
                <a:chOff x="1322280" y="4340160"/>
                <a:chExt cx="478080" cy="135360"/>
              </a:xfrm>
            </p:grpSpPr>
            <p:sp>
              <p:nvSpPr>
                <p:cNvPr id="5845" name=""/>
                <p:cNvSpPr/>
                <p:nvPr/>
              </p:nvSpPr>
              <p:spPr>
                <a:xfrm>
                  <a:off x="1400040" y="4408560"/>
                  <a:ext cx="322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6" name=""/>
                <p:cNvSpPr/>
                <p:nvPr/>
              </p:nvSpPr>
              <p:spPr>
                <a:xfrm>
                  <a:off x="1728720" y="434016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7" name=""/>
                <p:cNvSpPr/>
                <p:nvPr/>
              </p:nvSpPr>
              <p:spPr>
                <a:xfrm>
                  <a:off x="1322280" y="44038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48" name=""/>
            <p:cNvSpPr/>
            <p:nvPr/>
          </p:nvSpPr>
          <p:spPr>
            <a:xfrm>
              <a:off x="852480" y="415116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971640" y="4083120"/>
              <a:ext cx="71640" cy="71640"/>
            </a:xfrm>
            <a:custGeom>
              <a:avLst/>
              <a:gdLst/>
              <a:ahLst/>
              <a:rect l="0" t="0" r="r" b="b"/>
              <a:pathLst>
                <a:path fill="none" w="199" h="199">
                  <a:moveTo>
                    <a:pt x="0" y="199"/>
                  </a:moveTo>
                  <a:lnTo>
                    <a:pt x="0" y="199"/>
                  </a:lnTo>
                  <a:cubicBezTo>
                    <a:pt x="35" y="199"/>
                    <a:pt x="69" y="190"/>
                    <a:pt x="100" y="172"/>
                  </a:cubicBezTo>
                  <a:cubicBezTo>
                    <a:pt x="130" y="155"/>
                    <a:pt x="155" y="130"/>
                    <a:pt x="172" y="99"/>
                  </a:cubicBezTo>
                  <a:cubicBezTo>
                    <a:pt x="190" y="69"/>
                    <a:pt x="199" y="35"/>
                    <a:pt x="199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0" name=""/>
            <p:cNvGrpSpPr/>
            <p:nvPr/>
          </p:nvGrpSpPr>
          <p:grpSpPr>
            <a:xfrm>
              <a:off x="1370160" y="4054320"/>
              <a:ext cx="477720" cy="135360"/>
              <a:chOff x="1370160" y="4054320"/>
              <a:chExt cx="477720" cy="135360"/>
            </a:xfrm>
          </p:grpSpPr>
          <p:sp>
            <p:nvSpPr>
              <p:cNvPr id="5851" name=""/>
              <p:cNvSpPr/>
              <p:nvPr/>
            </p:nvSpPr>
            <p:spPr>
              <a:xfrm>
                <a:off x="1447920" y="412272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1776240" y="405432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1370160" y="411804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54" name=""/>
            <p:cNvSpPr/>
            <p:nvPr/>
          </p:nvSpPr>
          <p:spPr>
            <a:xfrm>
              <a:off x="857160" y="4370400"/>
              <a:ext cx="32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1185840" y="4302000"/>
              <a:ext cx="71640" cy="71640"/>
            </a:xfrm>
            <a:custGeom>
              <a:avLst/>
              <a:gdLst/>
              <a:ahLst/>
              <a:rect l="0" t="0" r="r" b="b"/>
              <a:pathLst>
                <a:path fill="none" w="199" h="199">
                  <a:moveTo>
                    <a:pt x="0" y="199"/>
                  </a:moveTo>
                  <a:lnTo>
                    <a:pt x="0" y="199"/>
                  </a:lnTo>
                  <a:cubicBezTo>
                    <a:pt x="35" y="199"/>
                    <a:pt x="69" y="190"/>
                    <a:pt x="100" y="172"/>
                  </a:cubicBezTo>
                  <a:cubicBezTo>
                    <a:pt x="130" y="155"/>
                    <a:pt x="155" y="130"/>
                    <a:pt x="172" y="99"/>
                  </a:cubicBezTo>
                  <a:cubicBezTo>
                    <a:pt x="190" y="69"/>
                    <a:pt x="199" y="35"/>
                    <a:pt x="199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6" name=""/>
            <p:cNvGrpSpPr/>
            <p:nvPr/>
          </p:nvGrpSpPr>
          <p:grpSpPr>
            <a:xfrm>
              <a:off x="1593720" y="4230720"/>
              <a:ext cx="478080" cy="135000"/>
              <a:chOff x="1593720" y="4230720"/>
              <a:chExt cx="478080" cy="135000"/>
            </a:xfrm>
          </p:grpSpPr>
          <p:sp>
            <p:nvSpPr>
              <p:cNvPr id="5857" name=""/>
              <p:cNvSpPr/>
              <p:nvPr/>
            </p:nvSpPr>
            <p:spPr>
              <a:xfrm>
                <a:off x="1671480" y="4299120"/>
                <a:ext cx="32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2000160" y="423072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1593720" y="429408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60" name=""/>
            <p:cNvSpPr/>
            <p:nvPr/>
          </p:nvSpPr>
          <p:spPr>
            <a:xfrm>
              <a:off x="1871640" y="4479840"/>
              <a:ext cx="32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200320" y="4411800"/>
              <a:ext cx="71640" cy="71640"/>
            </a:xfrm>
            <a:custGeom>
              <a:avLst/>
              <a:gdLst/>
              <a:ahLst/>
              <a:rect l="0" t="0" r="r" b="b"/>
              <a:pathLst>
                <a:path fill="none" w="199" h="199">
                  <a:moveTo>
                    <a:pt x="0" y="199"/>
                  </a:moveTo>
                  <a:lnTo>
                    <a:pt x="0" y="199"/>
                  </a:lnTo>
                  <a:cubicBezTo>
                    <a:pt x="35" y="199"/>
                    <a:pt x="69" y="190"/>
                    <a:pt x="100" y="172"/>
                  </a:cubicBezTo>
                  <a:cubicBezTo>
                    <a:pt x="130" y="155"/>
                    <a:pt x="155" y="130"/>
                    <a:pt x="172" y="99"/>
                  </a:cubicBezTo>
                  <a:cubicBezTo>
                    <a:pt x="190" y="69"/>
                    <a:pt x="199" y="35"/>
                    <a:pt x="199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1797120" y="4500360"/>
              <a:ext cx="67320" cy="46800"/>
            </a:xfrm>
            <a:custGeom>
              <a:avLst/>
              <a:gdLst/>
              <a:ahLst/>
              <a:rect l="0" t="0" r="r" b="b"/>
              <a:pathLst>
                <a:path fill="none" w="187" h="130">
                  <a:moveTo>
                    <a:pt x="0" y="130"/>
                  </a:moveTo>
                  <a:lnTo>
                    <a:pt x="0" y="130"/>
                  </a:lnTo>
                  <a:cubicBezTo>
                    <a:pt x="35" y="130"/>
                    <a:pt x="69" y="121"/>
                    <a:pt x="100" y="103"/>
                  </a:cubicBezTo>
                  <a:cubicBezTo>
                    <a:pt x="130" y="85"/>
                    <a:pt x="156" y="60"/>
                    <a:pt x="173" y="29"/>
                  </a:cubicBezTo>
                  <a:cubicBezTo>
                    <a:pt x="179" y="20"/>
                    <a:pt x="183" y="10"/>
                    <a:pt x="18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63" name=""/>
            <p:cNvGrpSpPr/>
            <p:nvPr/>
          </p:nvGrpSpPr>
          <p:grpSpPr>
            <a:xfrm>
              <a:off x="1655640" y="3940200"/>
              <a:ext cx="925920" cy="506520"/>
              <a:chOff x="1655640" y="3940200"/>
              <a:chExt cx="925920" cy="506520"/>
            </a:xfrm>
          </p:grpSpPr>
          <p:grpSp>
            <p:nvGrpSpPr>
              <p:cNvPr id="5864" name=""/>
              <p:cNvGrpSpPr/>
              <p:nvPr/>
            </p:nvGrpSpPr>
            <p:grpSpPr>
              <a:xfrm>
                <a:off x="1655640" y="3940200"/>
                <a:ext cx="478080" cy="135000"/>
                <a:chOff x="1655640" y="3940200"/>
                <a:chExt cx="478080" cy="135000"/>
              </a:xfrm>
            </p:grpSpPr>
            <p:sp>
              <p:nvSpPr>
                <p:cNvPr id="5865" name=""/>
                <p:cNvSpPr/>
                <p:nvPr/>
              </p:nvSpPr>
              <p:spPr>
                <a:xfrm>
                  <a:off x="1733400" y="4008600"/>
                  <a:ext cx="322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>
                  <a:off x="2062080" y="394020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>
                  <a:off x="1655640" y="400356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8" name=""/>
              <p:cNvGrpSpPr/>
              <p:nvPr/>
            </p:nvGrpSpPr>
            <p:grpSpPr>
              <a:xfrm>
                <a:off x="1889280" y="4140360"/>
                <a:ext cx="477720" cy="135000"/>
                <a:chOff x="1889280" y="4140360"/>
                <a:chExt cx="477720" cy="135000"/>
              </a:xfrm>
            </p:grpSpPr>
            <p:sp>
              <p:nvSpPr>
                <p:cNvPr id="5869" name=""/>
                <p:cNvSpPr/>
                <p:nvPr/>
              </p:nvSpPr>
              <p:spPr>
                <a:xfrm>
                  <a:off x="1967040" y="420840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>
                  <a:off x="2295360" y="414036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>
                  <a:off x="1889280" y="42037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2" name=""/>
              <p:cNvGrpSpPr/>
              <p:nvPr/>
            </p:nvGrpSpPr>
            <p:grpSpPr>
              <a:xfrm>
                <a:off x="2103480" y="4311720"/>
                <a:ext cx="478080" cy="135000"/>
                <a:chOff x="2103480" y="4311720"/>
                <a:chExt cx="478080" cy="135000"/>
              </a:xfrm>
            </p:grpSpPr>
            <p:sp>
              <p:nvSpPr>
                <p:cNvPr id="5873" name=""/>
                <p:cNvSpPr/>
                <p:nvPr/>
              </p:nvSpPr>
              <p:spPr>
                <a:xfrm>
                  <a:off x="2181240" y="437976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>
                  <a:off x="2509920" y="43117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>
                  <a:off x="2103480" y="43750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76" name=""/>
            <p:cNvGrpSpPr/>
            <p:nvPr/>
          </p:nvGrpSpPr>
          <p:grpSpPr>
            <a:xfrm>
              <a:off x="2127240" y="4025880"/>
              <a:ext cx="478080" cy="135000"/>
              <a:chOff x="2127240" y="4025880"/>
              <a:chExt cx="478080" cy="135000"/>
            </a:xfrm>
          </p:grpSpPr>
          <p:sp>
            <p:nvSpPr>
              <p:cNvPr id="5877" name=""/>
              <p:cNvSpPr/>
              <p:nvPr/>
            </p:nvSpPr>
            <p:spPr>
              <a:xfrm>
                <a:off x="2205000" y="409428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2533680" y="402588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2127240" y="408924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80" name=""/>
            <p:cNvSpPr/>
            <p:nvPr/>
          </p:nvSpPr>
          <p:spPr>
            <a:xfrm>
              <a:off x="2428920" y="4270320"/>
              <a:ext cx="247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2351160" y="4265640"/>
              <a:ext cx="71640" cy="71640"/>
            </a:xfrm>
            <a:custGeom>
              <a:avLst/>
              <a:gdLst/>
              <a:ahLst/>
              <a:rect l="0" t="0" r="r" b="b"/>
              <a:pathLst>
                <a:path fill="none" w="199" h="199">
                  <a:moveTo>
                    <a:pt x="0" y="199"/>
                  </a:moveTo>
                  <a:lnTo>
                    <a:pt x="0" y="199"/>
                  </a:lnTo>
                  <a:cubicBezTo>
                    <a:pt x="35" y="199"/>
                    <a:pt x="69" y="190"/>
                    <a:pt x="100" y="172"/>
                  </a:cubicBezTo>
                  <a:cubicBezTo>
                    <a:pt x="130" y="155"/>
                    <a:pt x="155" y="130"/>
                    <a:pt x="172" y="99"/>
                  </a:cubicBezTo>
                  <a:cubicBezTo>
                    <a:pt x="190" y="69"/>
                    <a:pt x="199" y="35"/>
                    <a:pt x="199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2629080" y="4451400"/>
              <a:ext cx="5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554200" y="4471560"/>
              <a:ext cx="67320" cy="46800"/>
            </a:xfrm>
            <a:custGeom>
              <a:avLst/>
              <a:gdLst/>
              <a:ahLst/>
              <a:rect l="0" t="0" r="r" b="b"/>
              <a:pathLst>
                <a:path fill="none" w="187" h="130">
                  <a:moveTo>
                    <a:pt x="0" y="130"/>
                  </a:moveTo>
                  <a:lnTo>
                    <a:pt x="0" y="130"/>
                  </a:lnTo>
                  <a:cubicBezTo>
                    <a:pt x="35" y="130"/>
                    <a:pt x="69" y="121"/>
                    <a:pt x="100" y="103"/>
                  </a:cubicBezTo>
                  <a:cubicBezTo>
                    <a:pt x="130" y="85"/>
                    <a:pt x="156" y="60"/>
                    <a:pt x="173" y="29"/>
                  </a:cubicBezTo>
                  <a:cubicBezTo>
                    <a:pt x="179" y="20"/>
                    <a:pt x="183" y="10"/>
                    <a:pt x="187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84" name=""/>
            <p:cNvGrpSpPr/>
            <p:nvPr/>
          </p:nvGrpSpPr>
          <p:grpSpPr>
            <a:xfrm>
              <a:off x="3660840" y="3927600"/>
              <a:ext cx="1825560" cy="608040"/>
              <a:chOff x="3660840" y="3927600"/>
              <a:chExt cx="1825560" cy="608040"/>
            </a:xfrm>
          </p:grpSpPr>
          <p:sp>
            <p:nvSpPr>
              <p:cNvPr id="5885" name=""/>
              <p:cNvSpPr/>
              <p:nvPr/>
            </p:nvSpPr>
            <p:spPr>
              <a:xfrm flipH="1">
                <a:off x="3662280" y="3927600"/>
                <a:ext cx="260280" cy="260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 flipH="1">
                <a:off x="3660840" y="3927600"/>
                <a:ext cx="566640" cy="566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 flipH="1">
                <a:off x="3935520" y="3929040"/>
                <a:ext cx="595080" cy="595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 flipH="1">
                <a:off x="4238640" y="3932280"/>
                <a:ext cx="593640" cy="59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 flipH="1">
                <a:off x="4533840" y="3933720"/>
                <a:ext cx="601560" cy="60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 flipH="1">
                <a:off x="4844880" y="3932280"/>
                <a:ext cx="59724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 flipH="1">
                <a:off x="5149800" y="4192560"/>
                <a:ext cx="336600" cy="336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92" name=""/>
            <p:cNvSpPr/>
            <p:nvPr/>
          </p:nvSpPr>
          <p:spPr>
            <a:xfrm flipH="1">
              <a:off x="3657600" y="3927600"/>
              <a:ext cx="127080" cy="12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 flipH="1">
              <a:off x="3657600" y="3927600"/>
              <a:ext cx="431640" cy="43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 flipH="1">
              <a:off x="3797280" y="3929040"/>
              <a:ext cx="595440" cy="59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 flipH="1">
              <a:off x="4100400" y="3932280"/>
              <a:ext cx="594000" cy="593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 flipH="1">
              <a:off x="4395960" y="3933720"/>
              <a:ext cx="601560" cy="60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 flipH="1">
              <a:off x="4707000" y="3932280"/>
              <a:ext cx="596880" cy="596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 flipH="1">
              <a:off x="5011560" y="4059360"/>
              <a:ext cx="470160" cy="469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 flipV="1">
              <a:off x="5338800" y="4392720"/>
              <a:ext cx="133200" cy="13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00" name=""/>
            <p:cNvGrpSpPr/>
            <p:nvPr/>
          </p:nvGrpSpPr>
          <p:grpSpPr>
            <a:xfrm>
              <a:off x="846000" y="1389240"/>
              <a:ext cx="7417080" cy="614520"/>
              <a:chOff x="846000" y="1389240"/>
              <a:chExt cx="7417080" cy="614520"/>
            </a:xfrm>
          </p:grpSpPr>
          <p:sp>
            <p:nvSpPr>
              <p:cNvPr id="5901" name=""/>
              <p:cNvSpPr/>
              <p:nvPr/>
            </p:nvSpPr>
            <p:spPr>
              <a:xfrm>
                <a:off x="846000" y="1389240"/>
                <a:ext cx="1844640" cy="61452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3646440" y="1389240"/>
                <a:ext cx="1844640" cy="61452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6418440" y="138924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6415200" y="1558800"/>
                <a:ext cx="1845000" cy="444960"/>
              </a:xfrm>
              <a:custGeom>
                <a:avLst/>
                <a:gdLst/>
                <a:ahLst/>
                <a:rect l="0" t="0" r="r" b="b"/>
                <a:pathLst>
                  <a:path w="5125" h="1236">
                    <a:moveTo>
                      <a:pt x="5125" y="295"/>
                    </a:moveTo>
                    <a:lnTo>
                      <a:pt x="5125" y="1236"/>
                    </a:lnTo>
                    <a:lnTo>
                      <a:pt x="0" y="1236"/>
                    </a:lnTo>
                    <a:lnTo>
                      <a:pt x="0" y="0"/>
                    </a:lnTo>
                    <a:lnTo>
                      <a:pt x="127" y="39"/>
                    </a:lnTo>
                    <a:lnTo>
                      <a:pt x="255" y="39"/>
                    </a:lnTo>
                    <a:lnTo>
                      <a:pt x="383" y="39"/>
                    </a:lnTo>
                    <a:lnTo>
                      <a:pt x="555" y="39"/>
                    </a:lnTo>
                    <a:lnTo>
                      <a:pt x="683" y="39"/>
                    </a:lnTo>
                    <a:lnTo>
                      <a:pt x="811" y="39"/>
                    </a:lnTo>
                    <a:lnTo>
                      <a:pt x="939" y="0"/>
                    </a:lnTo>
                    <a:lnTo>
                      <a:pt x="1067" y="0"/>
                    </a:lnTo>
                    <a:lnTo>
                      <a:pt x="1239" y="0"/>
                    </a:lnTo>
                    <a:lnTo>
                      <a:pt x="1367" y="0"/>
                    </a:lnTo>
                    <a:lnTo>
                      <a:pt x="1494" y="0"/>
                    </a:lnTo>
                    <a:lnTo>
                      <a:pt x="1622" y="0"/>
                    </a:lnTo>
                    <a:lnTo>
                      <a:pt x="1750" y="0"/>
                    </a:lnTo>
                    <a:lnTo>
                      <a:pt x="1878" y="0"/>
                    </a:lnTo>
                    <a:lnTo>
                      <a:pt x="2006" y="39"/>
                    </a:lnTo>
                    <a:lnTo>
                      <a:pt x="2134" y="39"/>
                    </a:lnTo>
                    <a:lnTo>
                      <a:pt x="2262" y="83"/>
                    </a:lnTo>
                    <a:lnTo>
                      <a:pt x="2390" y="83"/>
                    </a:lnTo>
                    <a:lnTo>
                      <a:pt x="2563" y="127"/>
                    </a:lnTo>
                    <a:lnTo>
                      <a:pt x="2690" y="167"/>
                    </a:lnTo>
                    <a:lnTo>
                      <a:pt x="2862" y="211"/>
                    </a:lnTo>
                    <a:lnTo>
                      <a:pt x="3030" y="211"/>
                    </a:lnTo>
                    <a:lnTo>
                      <a:pt x="3202" y="211"/>
                    </a:lnTo>
                    <a:lnTo>
                      <a:pt x="3374" y="211"/>
                    </a:lnTo>
                    <a:lnTo>
                      <a:pt x="3546" y="211"/>
                    </a:lnTo>
                    <a:lnTo>
                      <a:pt x="3674" y="167"/>
                    </a:lnTo>
                    <a:lnTo>
                      <a:pt x="3802" y="167"/>
                    </a:lnTo>
                    <a:lnTo>
                      <a:pt x="3969" y="167"/>
                    </a:lnTo>
                    <a:lnTo>
                      <a:pt x="4097" y="167"/>
                    </a:lnTo>
                    <a:lnTo>
                      <a:pt x="4269" y="167"/>
                    </a:lnTo>
                    <a:lnTo>
                      <a:pt x="4397" y="167"/>
                    </a:lnTo>
                    <a:lnTo>
                      <a:pt x="4525" y="211"/>
                    </a:lnTo>
                    <a:lnTo>
                      <a:pt x="4653" y="211"/>
                    </a:lnTo>
                    <a:lnTo>
                      <a:pt x="4781" y="255"/>
                    </a:lnTo>
                    <a:lnTo>
                      <a:pt x="4909" y="255"/>
                    </a:lnTo>
                    <a:lnTo>
                      <a:pt x="5036" y="255"/>
                    </a:lnTo>
                    <a:lnTo>
                      <a:pt x="5125" y="295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5" name=""/>
            <p:cNvSpPr txBox="1"/>
            <p:nvPr/>
          </p:nvSpPr>
          <p:spPr>
            <a:xfrm>
              <a:off x="67464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6" name=""/>
            <p:cNvSpPr txBox="1"/>
            <p:nvPr/>
          </p:nvSpPr>
          <p:spPr>
            <a:xfrm>
              <a:off x="3552840" y="2071800"/>
              <a:ext cx="185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Metal (Zin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7" name=""/>
            <p:cNvSpPr txBox="1"/>
            <p:nvPr/>
          </p:nvSpPr>
          <p:spPr>
            <a:xfrm>
              <a:off x="7024680" y="2041560"/>
              <a:ext cx="62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8" name=""/>
            <p:cNvSpPr txBox="1"/>
            <p:nvPr/>
          </p:nvSpPr>
          <p:spPr>
            <a:xfrm>
              <a:off x="1430280" y="330048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9" name=""/>
            <p:cNvSpPr txBox="1"/>
            <p:nvPr/>
          </p:nvSpPr>
          <p:spPr>
            <a:xfrm>
              <a:off x="3452760" y="3300480"/>
              <a:ext cx="2238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gnesium, Alumin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0" name=""/>
            <p:cNvSpPr txBox="1"/>
            <p:nvPr/>
          </p:nvSpPr>
          <p:spPr>
            <a:xfrm>
              <a:off x="6854760" y="331632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tan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1" name=""/>
            <p:cNvSpPr txBox="1"/>
            <p:nvPr/>
          </p:nvSpPr>
          <p:spPr>
            <a:xfrm>
              <a:off x="706320" y="4575240"/>
              <a:ext cx="2108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elt, Leather, &amp; Fib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2" name=""/>
            <p:cNvSpPr txBox="1"/>
            <p:nvPr/>
          </p:nvSpPr>
          <p:spPr>
            <a:xfrm>
              <a:off x="3660840" y="4560840"/>
              <a:ext cx="1792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onze, Brass, et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4" name=""/>
          <p:cNvGrpSpPr/>
          <p:nvPr/>
        </p:nvGrpSpPr>
        <p:grpSpPr>
          <a:xfrm>
            <a:off x="658800" y="1389240"/>
            <a:ext cx="7604280" cy="3522600"/>
            <a:chOff x="658800" y="1389240"/>
            <a:chExt cx="7604280" cy="3522600"/>
          </a:xfrm>
        </p:grpSpPr>
        <p:grpSp>
          <p:nvGrpSpPr>
            <p:cNvPr id="5915" name=""/>
            <p:cNvGrpSpPr/>
            <p:nvPr/>
          </p:nvGrpSpPr>
          <p:grpSpPr>
            <a:xfrm>
              <a:off x="846000" y="2654280"/>
              <a:ext cx="7417080" cy="614520"/>
              <a:chOff x="846000" y="2654280"/>
              <a:chExt cx="7417080" cy="614520"/>
            </a:xfrm>
          </p:grpSpPr>
          <p:sp>
            <p:nvSpPr>
              <p:cNvPr id="5916" name=""/>
              <p:cNvSpPr/>
              <p:nvPr/>
            </p:nvSpPr>
            <p:spPr>
              <a:xfrm>
                <a:off x="3646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6418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18" name=""/>
              <p:cNvGrpSpPr/>
              <p:nvPr/>
            </p:nvGrpSpPr>
            <p:grpSpPr>
              <a:xfrm>
                <a:off x="846000" y="2654280"/>
                <a:ext cx="1844640" cy="614520"/>
                <a:chOff x="846000" y="2654280"/>
                <a:chExt cx="1844640" cy="614520"/>
              </a:xfrm>
            </p:grpSpPr>
            <p:sp>
              <p:nvSpPr>
                <p:cNvPr id="5919" name=""/>
                <p:cNvSpPr/>
                <p:nvPr/>
              </p:nvSpPr>
              <p:spPr>
                <a:xfrm>
                  <a:off x="846000" y="2654280"/>
                  <a:ext cx="1844640" cy="61452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 flipH="1">
                  <a:off x="8557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 flipH="1">
                  <a:off x="853920" y="2657520"/>
                  <a:ext cx="338400" cy="338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 flipH="1">
                  <a:off x="853920" y="2657520"/>
                  <a:ext cx="56700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3" name=""/>
                <p:cNvSpPr/>
                <p:nvPr/>
              </p:nvSpPr>
              <p:spPr>
                <a:xfrm flipH="1">
                  <a:off x="888840" y="2654280"/>
                  <a:ext cx="611280" cy="61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 flipH="1">
                  <a:off x="1128600" y="2666880"/>
                  <a:ext cx="587520" cy="587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 flipH="1">
                  <a:off x="120492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 flipH="1">
                  <a:off x="14320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 flipH="1">
                  <a:off x="1506600" y="266220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 flipH="1">
                  <a:off x="17272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 flipH="1">
                  <a:off x="1814400" y="2664000"/>
                  <a:ext cx="590760" cy="590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 flipH="1">
                  <a:off x="20383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 flipH="1">
                  <a:off x="2114640" y="2697120"/>
                  <a:ext cx="561960" cy="561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2" name=""/>
                <p:cNvSpPr/>
                <p:nvPr/>
              </p:nvSpPr>
              <p:spPr>
                <a:xfrm flipH="1">
                  <a:off x="23432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3" name=""/>
                <p:cNvSpPr/>
                <p:nvPr/>
              </p:nvSpPr>
              <p:spPr>
                <a:xfrm flipH="1">
                  <a:off x="2413080" y="2995560"/>
                  <a:ext cx="269640" cy="270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 flipH="1">
                  <a:off x="2647800" y="3225960"/>
                  <a:ext cx="33480" cy="33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5" name=""/>
              <p:cNvSpPr/>
              <p:nvPr/>
            </p:nvSpPr>
            <p:spPr>
              <a:xfrm>
                <a:off x="365616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6" name=""/>
              <p:cNvGrpSpPr/>
              <p:nvPr/>
            </p:nvGrpSpPr>
            <p:grpSpPr>
              <a:xfrm>
                <a:off x="3664080" y="2657520"/>
                <a:ext cx="1825560" cy="608040"/>
                <a:chOff x="3664080" y="2657520"/>
                <a:chExt cx="1825560" cy="608040"/>
              </a:xfrm>
            </p:grpSpPr>
            <p:sp>
              <p:nvSpPr>
                <p:cNvPr id="5937" name=""/>
                <p:cNvSpPr/>
                <p:nvPr/>
              </p:nvSpPr>
              <p:spPr>
                <a:xfrm flipH="1">
                  <a:off x="36655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 flipH="1">
                  <a:off x="3664080" y="2657520"/>
                  <a:ext cx="56664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 flipH="1">
                  <a:off x="3938760" y="265896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 flipH="1">
                  <a:off x="42418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1" name=""/>
                <p:cNvSpPr/>
                <p:nvPr/>
              </p:nvSpPr>
              <p:spPr>
                <a:xfrm flipH="1">
                  <a:off x="45370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 flipH="1">
                  <a:off x="48481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 flipH="1">
                  <a:off x="51530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4" name=""/>
              <p:cNvSpPr/>
              <p:nvPr/>
            </p:nvSpPr>
            <p:spPr>
              <a:xfrm flipH="1">
                <a:off x="5457960" y="3225960"/>
                <a:ext cx="33120" cy="3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724200" y="2730600"/>
                <a:ext cx="114480" cy="114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4006800" y="274644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727440" y="3003480"/>
                <a:ext cx="152280" cy="15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022640" y="304164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4292640" y="2784600"/>
                <a:ext cx="111240" cy="11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4327560" y="304488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4530600" y="2816280"/>
                <a:ext cx="14940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4768920" y="2657520"/>
                <a:ext cx="88920" cy="88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4597560" y="3076560"/>
                <a:ext cx="13320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4813200" y="2860560"/>
                <a:ext cx="133560" cy="13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5010120" y="2666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5302080" y="2679840"/>
                <a:ext cx="11772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5089680" y="2882880"/>
                <a:ext cx="11736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4889520" y="3098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5165640" y="311472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5349960" y="2936880"/>
                <a:ext cx="10800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5413320" y="3181320"/>
                <a:ext cx="63720" cy="6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4540320" y="2654280"/>
                <a:ext cx="5400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63" name=""/>
              <p:cNvGrpSpPr/>
              <p:nvPr/>
            </p:nvGrpSpPr>
            <p:grpSpPr>
              <a:xfrm>
                <a:off x="6427800" y="2655720"/>
                <a:ext cx="1825560" cy="608040"/>
                <a:chOff x="6427800" y="2655720"/>
                <a:chExt cx="1825560" cy="608040"/>
              </a:xfrm>
            </p:grpSpPr>
            <p:sp>
              <p:nvSpPr>
                <p:cNvPr id="5964" name=""/>
                <p:cNvSpPr/>
                <p:nvPr/>
              </p:nvSpPr>
              <p:spPr>
                <a:xfrm flipH="1">
                  <a:off x="6429240" y="2655720"/>
                  <a:ext cx="260640" cy="26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 flipH="1">
                  <a:off x="6427800" y="2655720"/>
                  <a:ext cx="566640" cy="56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 flipH="1">
                  <a:off x="6702480" y="265752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 flipH="1">
                  <a:off x="700560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 flipH="1">
                  <a:off x="7300800" y="2662200"/>
                  <a:ext cx="60192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9" name=""/>
                <p:cNvSpPr/>
                <p:nvPr/>
              </p:nvSpPr>
              <p:spPr>
                <a:xfrm flipH="1">
                  <a:off x="7612200" y="266076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 flipH="1">
                  <a:off x="7916760" y="292104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1" name=""/>
              <p:cNvSpPr/>
              <p:nvPr/>
            </p:nvSpPr>
            <p:spPr>
              <a:xfrm flipV="1">
                <a:off x="6432480" y="2666880"/>
                <a:ext cx="38736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 flipV="1">
                <a:off x="6842160" y="266076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 flipV="1">
                <a:off x="7458120" y="2670120"/>
                <a:ext cx="584280" cy="5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 flipV="1">
                <a:off x="8102520" y="3105000"/>
                <a:ext cx="14940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75" name=""/>
            <p:cNvGrpSpPr/>
            <p:nvPr/>
          </p:nvGrpSpPr>
          <p:grpSpPr>
            <a:xfrm>
              <a:off x="846000" y="3921120"/>
              <a:ext cx="7417080" cy="626040"/>
              <a:chOff x="846000" y="3921120"/>
              <a:chExt cx="7417080" cy="626040"/>
            </a:xfrm>
          </p:grpSpPr>
          <p:sp>
            <p:nvSpPr>
              <p:cNvPr id="5976" name=""/>
              <p:cNvSpPr/>
              <p:nvPr/>
            </p:nvSpPr>
            <p:spPr>
              <a:xfrm>
                <a:off x="84600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64644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641844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79" name=""/>
              <p:cNvGrpSpPr/>
              <p:nvPr/>
            </p:nvGrpSpPr>
            <p:grpSpPr>
              <a:xfrm>
                <a:off x="874800" y="3968640"/>
                <a:ext cx="925560" cy="506880"/>
                <a:chOff x="874800" y="3968640"/>
                <a:chExt cx="925560" cy="506880"/>
              </a:xfrm>
            </p:grpSpPr>
            <p:grpSp>
              <p:nvGrpSpPr>
                <p:cNvPr id="5980" name=""/>
                <p:cNvGrpSpPr/>
                <p:nvPr/>
              </p:nvGrpSpPr>
              <p:grpSpPr>
                <a:xfrm>
                  <a:off x="874800" y="3968640"/>
                  <a:ext cx="478080" cy="135360"/>
                  <a:chOff x="874800" y="3968640"/>
                  <a:chExt cx="478080" cy="135360"/>
                </a:xfrm>
              </p:grpSpPr>
              <p:sp>
                <p:nvSpPr>
                  <p:cNvPr id="5981" name=""/>
                  <p:cNvSpPr/>
                  <p:nvPr/>
                </p:nvSpPr>
                <p:spPr>
                  <a:xfrm>
                    <a:off x="952560" y="403704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2" name=""/>
                  <p:cNvSpPr/>
                  <p:nvPr/>
                </p:nvSpPr>
                <p:spPr>
                  <a:xfrm>
                    <a:off x="1281240" y="396864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3" name=""/>
                  <p:cNvSpPr/>
                  <p:nvPr/>
                </p:nvSpPr>
                <p:spPr>
                  <a:xfrm>
                    <a:off x="874800" y="40323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4" name=""/>
                <p:cNvGrpSpPr/>
                <p:nvPr/>
              </p:nvGrpSpPr>
              <p:grpSpPr>
                <a:xfrm>
                  <a:off x="1108080" y="4168800"/>
                  <a:ext cx="478080" cy="135000"/>
                  <a:chOff x="1108080" y="4168800"/>
                  <a:chExt cx="478080" cy="135000"/>
                </a:xfrm>
              </p:grpSpPr>
              <p:sp>
                <p:nvSpPr>
                  <p:cNvPr id="5985" name=""/>
                  <p:cNvSpPr/>
                  <p:nvPr/>
                </p:nvSpPr>
                <p:spPr>
                  <a:xfrm>
                    <a:off x="1185840" y="423720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6" name=""/>
                  <p:cNvSpPr/>
                  <p:nvPr/>
                </p:nvSpPr>
                <p:spPr>
                  <a:xfrm>
                    <a:off x="1514520" y="416880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7" name=""/>
                  <p:cNvSpPr/>
                  <p:nvPr/>
                </p:nvSpPr>
                <p:spPr>
                  <a:xfrm>
                    <a:off x="1108080" y="42321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8" name=""/>
                <p:cNvGrpSpPr/>
                <p:nvPr/>
              </p:nvGrpSpPr>
              <p:grpSpPr>
                <a:xfrm>
                  <a:off x="1322280" y="4340160"/>
                  <a:ext cx="478080" cy="135360"/>
                  <a:chOff x="1322280" y="4340160"/>
                  <a:chExt cx="478080" cy="135360"/>
                </a:xfrm>
              </p:grpSpPr>
              <p:sp>
                <p:nvSpPr>
                  <p:cNvPr id="5989" name=""/>
                  <p:cNvSpPr/>
                  <p:nvPr/>
                </p:nvSpPr>
                <p:spPr>
                  <a:xfrm>
                    <a:off x="1400040" y="4408560"/>
                    <a:ext cx="3225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0" name=""/>
                  <p:cNvSpPr/>
                  <p:nvPr/>
                </p:nvSpPr>
                <p:spPr>
                  <a:xfrm>
                    <a:off x="1728720" y="43401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1" name=""/>
                  <p:cNvSpPr/>
                  <p:nvPr/>
                </p:nvSpPr>
                <p:spPr>
                  <a:xfrm>
                    <a:off x="1322280" y="440388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92" name=""/>
              <p:cNvSpPr/>
              <p:nvPr/>
            </p:nvSpPr>
            <p:spPr>
              <a:xfrm>
                <a:off x="852480" y="4151160"/>
                <a:ext cx="11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971640" y="408312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94" name=""/>
              <p:cNvGrpSpPr/>
              <p:nvPr/>
            </p:nvGrpSpPr>
            <p:grpSpPr>
              <a:xfrm>
                <a:off x="1370160" y="4054320"/>
                <a:ext cx="477720" cy="135360"/>
                <a:chOff x="1370160" y="4054320"/>
                <a:chExt cx="477720" cy="135360"/>
              </a:xfrm>
            </p:grpSpPr>
            <p:sp>
              <p:nvSpPr>
                <p:cNvPr id="5995" name=""/>
                <p:cNvSpPr/>
                <p:nvPr/>
              </p:nvSpPr>
              <p:spPr>
                <a:xfrm>
                  <a:off x="1447920" y="412272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1776240" y="40543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>
                  <a:off x="1370160" y="411804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8" name=""/>
              <p:cNvSpPr/>
              <p:nvPr/>
            </p:nvSpPr>
            <p:spPr>
              <a:xfrm>
                <a:off x="857160" y="437040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1185840" y="430200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00" name=""/>
              <p:cNvGrpSpPr/>
              <p:nvPr/>
            </p:nvGrpSpPr>
            <p:grpSpPr>
              <a:xfrm>
                <a:off x="1593720" y="4230720"/>
                <a:ext cx="478080" cy="135000"/>
                <a:chOff x="1593720" y="4230720"/>
                <a:chExt cx="478080" cy="135000"/>
              </a:xfrm>
            </p:grpSpPr>
            <p:sp>
              <p:nvSpPr>
                <p:cNvPr id="6001" name=""/>
                <p:cNvSpPr/>
                <p:nvPr/>
              </p:nvSpPr>
              <p:spPr>
                <a:xfrm>
                  <a:off x="1671480" y="4299120"/>
                  <a:ext cx="322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2000160" y="42307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>
                  <a:off x="1593720" y="42940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4" name=""/>
              <p:cNvSpPr/>
              <p:nvPr/>
            </p:nvSpPr>
            <p:spPr>
              <a:xfrm>
                <a:off x="1871640" y="447984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2200320" y="441180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1797120" y="4500360"/>
                <a:ext cx="67320" cy="46800"/>
              </a:xfrm>
              <a:custGeom>
                <a:avLst/>
                <a:gdLst/>
                <a:ahLst/>
                <a:rect l="0" t="0" r="r" b="b"/>
                <a:pathLst>
                  <a:path fill="none" w="187" h="130">
                    <a:moveTo>
                      <a:pt x="0" y="130"/>
                    </a:moveTo>
                    <a:lnTo>
                      <a:pt x="0" y="130"/>
                    </a:lnTo>
                    <a:cubicBezTo>
                      <a:pt x="35" y="130"/>
                      <a:pt x="69" y="121"/>
                      <a:pt x="100" y="103"/>
                    </a:cubicBezTo>
                    <a:cubicBezTo>
                      <a:pt x="130" y="85"/>
                      <a:pt x="156" y="60"/>
                      <a:pt x="173" y="29"/>
                    </a:cubicBezTo>
                    <a:cubicBezTo>
                      <a:pt x="179" y="20"/>
                      <a:pt x="183" y="10"/>
                      <a:pt x="187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07" name=""/>
              <p:cNvGrpSpPr/>
              <p:nvPr/>
            </p:nvGrpSpPr>
            <p:grpSpPr>
              <a:xfrm>
                <a:off x="1655640" y="3940200"/>
                <a:ext cx="925920" cy="506520"/>
                <a:chOff x="1655640" y="3940200"/>
                <a:chExt cx="925920" cy="506520"/>
              </a:xfrm>
            </p:grpSpPr>
            <p:grpSp>
              <p:nvGrpSpPr>
                <p:cNvPr id="6008" name=""/>
                <p:cNvGrpSpPr/>
                <p:nvPr/>
              </p:nvGrpSpPr>
              <p:grpSpPr>
                <a:xfrm>
                  <a:off x="1655640" y="3940200"/>
                  <a:ext cx="478080" cy="135000"/>
                  <a:chOff x="1655640" y="3940200"/>
                  <a:chExt cx="478080" cy="135000"/>
                </a:xfrm>
              </p:grpSpPr>
              <p:sp>
                <p:nvSpPr>
                  <p:cNvPr id="6009" name=""/>
                  <p:cNvSpPr/>
                  <p:nvPr/>
                </p:nvSpPr>
                <p:spPr>
                  <a:xfrm>
                    <a:off x="1733400" y="4008600"/>
                    <a:ext cx="3225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0" name=""/>
                  <p:cNvSpPr/>
                  <p:nvPr/>
                </p:nvSpPr>
                <p:spPr>
                  <a:xfrm>
                    <a:off x="2062080" y="394020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1" name=""/>
                  <p:cNvSpPr/>
                  <p:nvPr/>
                </p:nvSpPr>
                <p:spPr>
                  <a:xfrm>
                    <a:off x="1655640" y="40035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2" name=""/>
                <p:cNvGrpSpPr/>
                <p:nvPr/>
              </p:nvGrpSpPr>
              <p:grpSpPr>
                <a:xfrm>
                  <a:off x="1889280" y="4140360"/>
                  <a:ext cx="477720" cy="135000"/>
                  <a:chOff x="1889280" y="4140360"/>
                  <a:chExt cx="477720" cy="135000"/>
                </a:xfrm>
              </p:grpSpPr>
              <p:sp>
                <p:nvSpPr>
                  <p:cNvPr id="6013" name=""/>
                  <p:cNvSpPr/>
                  <p:nvPr/>
                </p:nvSpPr>
                <p:spPr>
                  <a:xfrm>
                    <a:off x="1967040" y="420840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4" name=""/>
                  <p:cNvSpPr/>
                  <p:nvPr/>
                </p:nvSpPr>
                <p:spPr>
                  <a:xfrm>
                    <a:off x="2295360" y="41403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5" name=""/>
                  <p:cNvSpPr/>
                  <p:nvPr/>
                </p:nvSpPr>
                <p:spPr>
                  <a:xfrm>
                    <a:off x="1889280" y="420372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6" name=""/>
                <p:cNvGrpSpPr/>
                <p:nvPr/>
              </p:nvGrpSpPr>
              <p:grpSpPr>
                <a:xfrm>
                  <a:off x="2103480" y="4311720"/>
                  <a:ext cx="478080" cy="135000"/>
                  <a:chOff x="2103480" y="4311720"/>
                  <a:chExt cx="478080" cy="135000"/>
                </a:xfrm>
              </p:grpSpPr>
              <p:sp>
                <p:nvSpPr>
                  <p:cNvPr id="6017" name=""/>
                  <p:cNvSpPr/>
                  <p:nvPr/>
                </p:nvSpPr>
                <p:spPr>
                  <a:xfrm>
                    <a:off x="2181240" y="437976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8" name=""/>
                  <p:cNvSpPr/>
                  <p:nvPr/>
                </p:nvSpPr>
                <p:spPr>
                  <a:xfrm>
                    <a:off x="2509920" y="431172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9" name=""/>
                  <p:cNvSpPr/>
                  <p:nvPr/>
                </p:nvSpPr>
                <p:spPr>
                  <a:xfrm>
                    <a:off x="2103480" y="437508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20" name=""/>
              <p:cNvGrpSpPr/>
              <p:nvPr/>
            </p:nvGrpSpPr>
            <p:grpSpPr>
              <a:xfrm>
                <a:off x="2127240" y="4025880"/>
                <a:ext cx="478080" cy="135000"/>
                <a:chOff x="2127240" y="4025880"/>
                <a:chExt cx="478080" cy="135000"/>
              </a:xfrm>
            </p:grpSpPr>
            <p:sp>
              <p:nvSpPr>
                <p:cNvPr id="6021" name=""/>
                <p:cNvSpPr/>
                <p:nvPr/>
              </p:nvSpPr>
              <p:spPr>
                <a:xfrm>
                  <a:off x="2205000" y="409428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2" name=""/>
                <p:cNvSpPr/>
                <p:nvPr/>
              </p:nvSpPr>
              <p:spPr>
                <a:xfrm>
                  <a:off x="2533680" y="40258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2127240" y="408924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4" name=""/>
              <p:cNvSpPr/>
              <p:nvPr/>
            </p:nvSpPr>
            <p:spPr>
              <a:xfrm>
                <a:off x="2428920" y="4270320"/>
                <a:ext cx="24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2351160" y="426564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2629080" y="4451400"/>
                <a:ext cx="5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2554200" y="4471560"/>
                <a:ext cx="67320" cy="46800"/>
              </a:xfrm>
              <a:custGeom>
                <a:avLst/>
                <a:gdLst/>
                <a:ahLst/>
                <a:rect l="0" t="0" r="r" b="b"/>
                <a:pathLst>
                  <a:path fill="none" w="187" h="130">
                    <a:moveTo>
                      <a:pt x="0" y="130"/>
                    </a:moveTo>
                    <a:lnTo>
                      <a:pt x="0" y="130"/>
                    </a:lnTo>
                    <a:cubicBezTo>
                      <a:pt x="35" y="130"/>
                      <a:pt x="69" y="121"/>
                      <a:pt x="100" y="103"/>
                    </a:cubicBezTo>
                    <a:cubicBezTo>
                      <a:pt x="130" y="85"/>
                      <a:pt x="156" y="60"/>
                      <a:pt x="173" y="29"/>
                    </a:cubicBezTo>
                    <a:cubicBezTo>
                      <a:pt x="179" y="20"/>
                      <a:pt x="183" y="10"/>
                      <a:pt x="187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28" name=""/>
              <p:cNvGrpSpPr/>
              <p:nvPr/>
            </p:nvGrpSpPr>
            <p:grpSpPr>
              <a:xfrm>
                <a:off x="3660840" y="3927600"/>
                <a:ext cx="1825560" cy="608040"/>
                <a:chOff x="3660840" y="3927600"/>
                <a:chExt cx="1825560" cy="608040"/>
              </a:xfrm>
            </p:grpSpPr>
            <p:sp>
              <p:nvSpPr>
                <p:cNvPr id="6029" name=""/>
                <p:cNvSpPr/>
                <p:nvPr/>
              </p:nvSpPr>
              <p:spPr>
                <a:xfrm flipH="1">
                  <a:off x="3662280" y="392760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0" name=""/>
                <p:cNvSpPr/>
                <p:nvPr/>
              </p:nvSpPr>
              <p:spPr>
                <a:xfrm flipH="1">
                  <a:off x="3660840" y="3927600"/>
                  <a:ext cx="56664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 flipH="1">
                  <a:off x="3935520" y="392904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2" name=""/>
                <p:cNvSpPr/>
                <p:nvPr/>
              </p:nvSpPr>
              <p:spPr>
                <a:xfrm flipH="1">
                  <a:off x="4238640" y="393228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3" name=""/>
                <p:cNvSpPr/>
                <p:nvPr/>
              </p:nvSpPr>
              <p:spPr>
                <a:xfrm flipH="1">
                  <a:off x="4533840" y="3933720"/>
                  <a:ext cx="601560" cy="60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"/>
                <p:cNvSpPr/>
                <p:nvPr/>
              </p:nvSpPr>
              <p:spPr>
                <a:xfrm flipH="1">
                  <a:off x="4844880" y="3932280"/>
                  <a:ext cx="59724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"/>
                <p:cNvSpPr/>
                <p:nvPr/>
              </p:nvSpPr>
              <p:spPr>
                <a:xfrm flipH="1">
                  <a:off x="5149800" y="419256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6" name=""/>
              <p:cNvSpPr/>
              <p:nvPr/>
            </p:nvSpPr>
            <p:spPr>
              <a:xfrm flipH="1">
                <a:off x="3657600" y="3927600"/>
                <a:ext cx="127080" cy="12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 flipH="1">
                <a:off x="3657600" y="3927600"/>
                <a:ext cx="431640" cy="43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 flipH="1">
                <a:off x="3797280" y="3929040"/>
                <a:ext cx="595440" cy="595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 flipH="1">
                <a:off x="4100400" y="3932280"/>
                <a:ext cx="594000" cy="59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 flipH="1">
                <a:off x="4395960" y="3933720"/>
                <a:ext cx="601560" cy="60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 flipH="1">
                <a:off x="4707000" y="393228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 flipH="1">
                <a:off x="5011560" y="4059360"/>
                <a:ext cx="470160" cy="4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 flipV="1">
                <a:off x="5338800" y="4392720"/>
                <a:ext cx="13320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4" name=""/>
              <p:cNvGrpSpPr/>
              <p:nvPr/>
            </p:nvGrpSpPr>
            <p:grpSpPr>
              <a:xfrm>
                <a:off x="6616800" y="3925800"/>
                <a:ext cx="199800" cy="614520"/>
                <a:chOff x="6616800" y="3925800"/>
                <a:chExt cx="199800" cy="614520"/>
              </a:xfrm>
            </p:grpSpPr>
            <p:sp>
              <p:nvSpPr>
                <p:cNvPr id="6045" name=""/>
                <p:cNvSpPr/>
                <p:nvPr/>
              </p:nvSpPr>
              <p:spPr>
                <a:xfrm>
                  <a:off x="6616800" y="3941640"/>
                  <a:ext cx="0" cy="59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>
                  <a:off x="6816600" y="392580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7" name=""/>
              <p:cNvGrpSpPr/>
              <p:nvPr/>
            </p:nvGrpSpPr>
            <p:grpSpPr>
              <a:xfrm>
                <a:off x="7029360" y="3924360"/>
                <a:ext cx="200160" cy="614160"/>
                <a:chOff x="7029360" y="3924360"/>
                <a:chExt cx="200160" cy="614160"/>
              </a:xfrm>
            </p:grpSpPr>
            <p:sp>
              <p:nvSpPr>
                <p:cNvPr id="6048" name=""/>
                <p:cNvSpPr/>
                <p:nvPr/>
              </p:nvSpPr>
              <p:spPr>
                <a:xfrm>
                  <a:off x="7029360" y="394020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9" name=""/>
                <p:cNvSpPr/>
                <p:nvPr/>
              </p:nvSpPr>
              <p:spPr>
                <a:xfrm>
                  <a:off x="7229520" y="3924360"/>
                  <a:ext cx="0" cy="61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0" name=""/>
              <p:cNvGrpSpPr/>
              <p:nvPr/>
            </p:nvGrpSpPr>
            <p:grpSpPr>
              <a:xfrm>
                <a:off x="7427880" y="3922560"/>
                <a:ext cx="200160" cy="614520"/>
                <a:chOff x="7427880" y="3922560"/>
                <a:chExt cx="200160" cy="614520"/>
              </a:xfrm>
            </p:grpSpPr>
            <p:sp>
              <p:nvSpPr>
                <p:cNvPr id="6051" name=""/>
                <p:cNvSpPr/>
                <p:nvPr/>
              </p:nvSpPr>
              <p:spPr>
                <a:xfrm>
                  <a:off x="7427880" y="393876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2" name=""/>
                <p:cNvSpPr/>
                <p:nvPr/>
              </p:nvSpPr>
              <p:spPr>
                <a:xfrm>
                  <a:off x="7628040" y="392256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3" name=""/>
              <p:cNvGrpSpPr/>
              <p:nvPr/>
            </p:nvGrpSpPr>
            <p:grpSpPr>
              <a:xfrm>
                <a:off x="7840800" y="3922560"/>
                <a:ext cx="199800" cy="614520"/>
                <a:chOff x="7840800" y="3922560"/>
                <a:chExt cx="199800" cy="614520"/>
              </a:xfrm>
            </p:grpSpPr>
            <p:sp>
              <p:nvSpPr>
                <p:cNvPr id="6054" name=""/>
                <p:cNvSpPr/>
                <p:nvPr/>
              </p:nvSpPr>
              <p:spPr>
                <a:xfrm>
                  <a:off x="7840800" y="393876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5" name=""/>
                <p:cNvSpPr/>
                <p:nvPr/>
              </p:nvSpPr>
              <p:spPr>
                <a:xfrm>
                  <a:off x="8040600" y="392256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6" name=""/>
              <p:cNvSpPr/>
              <p:nvPr/>
            </p:nvSpPr>
            <p:spPr>
              <a:xfrm>
                <a:off x="6431040" y="411012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6431040" y="4294080"/>
                <a:ext cx="1812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6431040" y="4464000"/>
                <a:ext cx="1827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9" name=""/>
            <p:cNvGrpSpPr/>
            <p:nvPr/>
          </p:nvGrpSpPr>
          <p:grpSpPr>
            <a:xfrm>
              <a:off x="846000" y="1389240"/>
              <a:ext cx="7417080" cy="614520"/>
              <a:chOff x="846000" y="1389240"/>
              <a:chExt cx="7417080" cy="614520"/>
            </a:xfrm>
          </p:grpSpPr>
          <p:sp>
            <p:nvSpPr>
              <p:cNvPr id="6060" name=""/>
              <p:cNvSpPr/>
              <p:nvPr/>
            </p:nvSpPr>
            <p:spPr>
              <a:xfrm>
                <a:off x="846000" y="1389240"/>
                <a:ext cx="1844640" cy="61452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3646440" y="1389240"/>
                <a:ext cx="1844640" cy="61452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6418440" y="138924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6415200" y="1558800"/>
                <a:ext cx="1845000" cy="444960"/>
              </a:xfrm>
              <a:custGeom>
                <a:avLst/>
                <a:gdLst/>
                <a:ahLst/>
                <a:rect l="0" t="0" r="r" b="b"/>
                <a:pathLst>
                  <a:path w="5125" h="1236">
                    <a:moveTo>
                      <a:pt x="5125" y="295"/>
                    </a:moveTo>
                    <a:lnTo>
                      <a:pt x="5125" y="1236"/>
                    </a:lnTo>
                    <a:lnTo>
                      <a:pt x="0" y="1236"/>
                    </a:lnTo>
                    <a:lnTo>
                      <a:pt x="0" y="0"/>
                    </a:lnTo>
                    <a:lnTo>
                      <a:pt x="127" y="39"/>
                    </a:lnTo>
                    <a:lnTo>
                      <a:pt x="255" y="39"/>
                    </a:lnTo>
                    <a:lnTo>
                      <a:pt x="383" y="39"/>
                    </a:lnTo>
                    <a:lnTo>
                      <a:pt x="555" y="39"/>
                    </a:lnTo>
                    <a:lnTo>
                      <a:pt x="683" y="39"/>
                    </a:lnTo>
                    <a:lnTo>
                      <a:pt x="811" y="39"/>
                    </a:lnTo>
                    <a:lnTo>
                      <a:pt x="939" y="0"/>
                    </a:lnTo>
                    <a:lnTo>
                      <a:pt x="1067" y="0"/>
                    </a:lnTo>
                    <a:lnTo>
                      <a:pt x="1239" y="0"/>
                    </a:lnTo>
                    <a:lnTo>
                      <a:pt x="1367" y="0"/>
                    </a:lnTo>
                    <a:lnTo>
                      <a:pt x="1494" y="0"/>
                    </a:lnTo>
                    <a:lnTo>
                      <a:pt x="1622" y="0"/>
                    </a:lnTo>
                    <a:lnTo>
                      <a:pt x="1750" y="0"/>
                    </a:lnTo>
                    <a:lnTo>
                      <a:pt x="1878" y="0"/>
                    </a:lnTo>
                    <a:lnTo>
                      <a:pt x="2006" y="39"/>
                    </a:lnTo>
                    <a:lnTo>
                      <a:pt x="2134" y="39"/>
                    </a:lnTo>
                    <a:lnTo>
                      <a:pt x="2262" y="83"/>
                    </a:lnTo>
                    <a:lnTo>
                      <a:pt x="2390" y="83"/>
                    </a:lnTo>
                    <a:lnTo>
                      <a:pt x="2563" y="127"/>
                    </a:lnTo>
                    <a:lnTo>
                      <a:pt x="2690" y="167"/>
                    </a:lnTo>
                    <a:lnTo>
                      <a:pt x="2862" y="211"/>
                    </a:lnTo>
                    <a:lnTo>
                      <a:pt x="3030" y="211"/>
                    </a:lnTo>
                    <a:lnTo>
                      <a:pt x="3202" y="211"/>
                    </a:lnTo>
                    <a:lnTo>
                      <a:pt x="3374" y="211"/>
                    </a:lnTo>
                    <a:lnTo>
                      <a:pt x="3546" y="211"/>
                    </a:lnTo>
                    <a:lnTo>
                      <a:pt x="3674" y="167"/>
                    </a:lnTo>
                    <a:lnTo>
                      <a:pt x="3802" y="167"/>
                    </a:lnTo>
                    <a:lnTo>
                      <a:pt x="3969" y="167"/>
                    </a:lnTo>
                    <a:lnTo>
                      <a:pt x="4097" y="167"/>
                    </a:lnTo>
                    <a:lnTo>
                      <a:pt x="4269" y="167"/>
                    </a:lnTo>
                    <a:lnTo>
                      <a:pt x="4397" y="167"/>
                    </a:lnTo>
                    <a:lnTo>
                      <a:pt x="4525" y="211"/>
                    </a:lnTo>
                    <a:lnTo>
                      <a:pt x="4653" y="211"/>
                    </a:lnTo>
                    <a:lnTo>
                      <a:pt x="4781" y="255"/>
                    </a:lnTo>
                    <a:lnTo>
                      <a:pt x="4909" y="255"/>
                    </a:lnTo>
                    <a:lnTo>
                      <a:pt x="5036" y="255"/>
                    </a:lnTo>
                    <a:lnTo>
                      <a:pt x="5125" y="295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4" name=""/>
            <p:cNvSpPr txBox="1"/>
            <p:nvPr/>
          </p:nvSpPr>
          <p:spPr>
            <a:xfrm>
              <a:off x="65880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5" name=""/>
            <p:cNvSpPr txBox="1"/>
            <p:nvPr/>
          </p:nvSpPr>
          <p:spPr>
            <a:xfrm>
              <a:off x="3552840" y="2071800"/>
              <a:ext cx="185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Metal (Zin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"/>
            <p:cNvSpPr txBox="1"/>
            <p:nvPr/>
          </p:nvSpPr>
          <p:spPr>
            <a:xfrm>
              <a:off x="7024680" y="2041560"/>
              <a:ext cx="62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7" name=""/>
            <p:cNvSpPr txBox="1"/>
            <p:nvPr/>
          </p:nvSpPr>
          <p:spPr>
            <a:xfrm>
              <a:off x="1430280" y="330048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8" name=""/>
            <p:cNvSpPr txBox="1"/>
            <p:nvPr/>
          </p:nvSpPr>
          <p:spPr>
            <a:xfrm>
              <a:off x="3452760" y="3300480"/>
              <a:ext cx="2238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gnesium, Alumin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9" name=""/>
            <p:cNvSpPr txBox="1"/>
            <p:nvPr/>
          </p:nvSpPr>
          <p:spPr>
            <a:xfrm>
              <a:off x="6854760" y="331632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tan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0" name=""/>
            <p:cNvSpPr txBox="1"/>
            <p:nvPr/>
          </p:nvSpPr>
          <p:spPr>
            <a:xfrm>
              <a:off x="706320" y="4575240"/>
              <a:ext cx="2108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elt, Leather, &amp; Fib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1" name=""/>
            <p:cNvSpPr txBox="1"/>
            <p:nvPr/>
          </p:nvSpPr>
          <p:spPr>
            <a:xfrm>
              <a:off x="3660840" y="4560840"/>
              <a:ext cx="1792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onze, Brass, et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2" name=""/>
            <p:cNvSpPr txBox="1"/>
            <p:nvPr/>
          </p:nvSpPr>
          <p:spPr>
            <a:xfrm>
              <a:off x="6464160" y="4560840"/>
              <a:ext cx="174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ectric Winding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74" name=""/>
          <p:cNvGrpSpPr/>
          <p:nvPr/>
        </p:nvGrpSpPr>
        <p:grpSpPr>
          <a:xfrm>
            <a:off x="609480" y="1389240"/>
            <a:ext cx="7653600" cy="4781520"/>
            <a:chOff x="609480" y="1389240"/>
            <a:chExt cx="7653600" cy="4781520"/>
          </a:xfrm>
        </p:grpSpPr>
        <p:grpSp>
          <p:nvGrpSpPr>
            <p:cNvPr id="6075" name=""/>
            <p:cNvGrpSpPr/>
            <p:nvPr/>
          </p:nvGrpSpPr>
          <p:grpSpPr>
            <a:xfrm>
              <a:off x="846000" y="2654280"/>
              <a:ext cx="7417080" cy="614520"/>
              <a:chOff x="846000" y="2654280"/>
              <a:chExt cx="7417080" cy="614520"/>
            </a:xfrm>
          </p:grpSpPr>
          <p:sp>
            <p:nvSpPr>
              <p:cNvPr id="6076" name=""/>
              <p:cNvSpPr/>
              <p:nvPr/>
            </p:nvSpPr>
            <p:spPr>
              <a:xfrm>
                <a:off x="3646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6418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78" name=""/>
              <p:cNvGrpSpPr/>
              <p:nvPr/>
            </p:nvGrpSpPr>
            <p:grpSpPr>
              <a:xfrm>
                <a:off x="846000" y="2654280"/>
                <a:ext cx="1844640" cy="614520"/>
                <a:chOff x="846000" y="2654280"/>
                <a:chExt cx="1844640" cy="614520"/>
              </a:xfrm>
            </p:grpSpPr>
            <p:sp>
              <p:nvSpPr>
                <p:cNvPr id="6079" name=""/>
                <p:cNvSpPr/>
                <p:nvPr/>
              </p:nvSpPr>
              <p:spPr>
                <a:xfrm>
                  <a:off x="846000" y="2654280"/>
                  <a:ext cx="1844640" cy="61452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0" name=""/>
                <p:cNvSpPr/>
                <p:nvPr/>
              </p:nvSpPr>
              <p:spPr>
                <a:xfrm flipH="1">
                  <a:off x="8557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1" name=""/>
                <p:cNvSpPr/>
                <p:nvPr/>
              </p:nvSpPr>
              <p:spPr>
                <a:xfrm flipH="1">
                  <a:off x="853920" y="2657520"/>
                  <a:ext cx="338400" cy="338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"/>
                <p:cNvSpPr/>
                <p:nvPr/>
              </p:nvSpPr>
              <p:spPr>
                <a:xfrm flipH="1">
                  <a:off x="853920" y="2657520"/>
                  <a:ext cx="56700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"/>
                <p:cNvSpPr/>
                <p:nvPr/>
              </p:nvSpPr>
              <p:spPr>
                <a:xfrm flipH="1">
                  <a:off x="888840" y="2654280"/>
                  <a:ext cx="611280" cy="61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"/>
                <p:cNvSpPr/>
                <p:nvPr/>
              </p:nvSpPr>
              <p:spPr>
                <a:xfrm flipH="1">
                  <a:off x="1128600" y="2666880"/>
                  <a:ext cx="587520" cy="587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5" name=""/>
                <p:cNvSpPr/>
                <p:nvPr/>
              </p:nvSpPr>
              <p:spPr>
                <a:xfrm flipH="1">
                  <a:off x="120492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6" name=""/>
                <p:cNvSpPr/>
                <p:nvPr/>
              </p:nvSpPr>
              <p:spPr>
                <a:xfrm flipH="1">
                  <a:off x="14320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7" name=""/>
                <p:cNvSpPr/>
                <p:nvPr/>
              </p:nvSpPr>
              <p:spPr>
                <a:xfrm flipH="1">
                  <a:off x="1506600" y="266220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8" name=""/>
                <p:cNvSpPr/>
                <p:nvPr/>
              </p:nvSpPr>
              <p:spPr>
                <a:xfrm flipH="1">
                  <a:off x="17272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9" name=""/>
                <p:cNvSpPr/>
                <p:nvPr/>
              </p:nvSpPr>
              <p:spPr>
                <a:xfrm flipH="1">
                  <a:off x="1814400" y="2664000"/>
                  <a:ext cx="590760" cy="590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0" name=""/>
                <p:cNvSpPr/>
                <p:nvPr/>
              </p:nvSpPr>
              <p:spPr>
                <a:xfrm flipH="1">
                  <a:off x="20383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1" name=""/>
                <p:cNvSpPr/>
                <p:nvPr/>
              </p:nvSpPr>
              <p:spPr>
                <a:xfrm flipH="1">
                  <a:off x="2114640" y="2697120"/>
                  <a:ext cx="561960" cy="561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2" name=""/>
                <p:cNvSpPr/>
                <p:nvPr/>
              </p:nvSpPr>
              <p:spPr>
                <a:xfrm flipH="1">
                  <a:off x="23432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3" name=""/>
                <p:cNvSpPr/>
                <p:nvPr/>
              </p:nvSpPr>
              <p:spPr>
                <a:xfrm flipH="1">
                  <a:off x="2413080" y="2995560"/>
                  <a:ext cx="269640" cy="270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4" name=""/>
                <p:cNvSpPr/>
                <p:nvPr/>
              </p:nvSpPr>
              <p:spPr>
                <a:xfrm flipH="1">
                  <a:off x="2647800" y="3225960"/>
                  <a:ext cx="33480" cy="33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5" name=""/>
              <p:cNvSpPr/>
              <p:nvPr/>
            </p:nvSpPr>
            <p:spPr>
              <a:xfrm>
                <a:off x="365616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96" name=""/>
              <p:cNvGrpSpPr/>
              <p:nvPr/>
            </p:nvGrpSpPr>
            <p:grpSpPr>
              <a:xfrm>
                <a:off x="3664080" y="2657520"/>
                <a:ext cx="1825560" cy="608040"/>
                <a:chOff x="3664080" y="2657520"/>
                <a:chExt cx="1825560" cy="608040"/>
              </a:xfrm>
            </p:grpSpPr>
            <p:sp>
              <p:nvSpPr>
                <p:cNvPr id="6097" name=""/>
                <p:cNvSpPr/>
                <p:nvPr/>
              </p:nvSpPr>
              <p:spPr>
                <a:xfrm flipH="1">
                  <a:off x="36655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8" name=""/>
                <p:cNvSpPr/>
                <p:nvPr/>
              </p:nvSpPr>
              <p:spPr>
                <a:xfrm flipH="1">
                  <a:off x="3664080" y="2657520"/>
                  <a:ext cx="56664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9" name=""/>
                <p:cNvSpPr/>
                <p:nvPr/>
              </p:nvSpPr>
              <p:spPr>
                <a:xfrm flipH="1">
                  <a:off x="3938760" y="265896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0" name=""/>
                <p:cNvSpPr/>
                <p:nvPr/>
              </p:nvSpPr>
              <p:spPr>
                <a:xfrm flipH="1">
                  <a:off x="42418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1" name=""/>
                <p:cNvSpPr/>
                <p:nvPr/>
              </p:nvSpPr>
              <p:spPr>
                <a:xfrm flipH="1">
                  <a:off x="45370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2" name=""/>
                <p:cNvSpPr/>
                <p:nvPr/>
              </p:nvSpPr>
              <p:spPr>
                <a:xfrm flipH="1">
                  <a:off x="48481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3" name=""/>
                <p:cNvSpPr/>
                <p:nvPr/>
              </p:nvSpPr>
              <p:spPr>
                <a:xfrm flipH="1">
                  <a:off x="51530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4" name=""/>
              <p:cNvSpPr/>
              <p:nvPr/>
            </p:nvSpPr>
            <p:spPr>
              <a:xfrm flipH="1">
                <a:off x="5457960" y="3225960"/>
                <a:ext cx="33120" cy="3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724200" y="2730600"/>
                <a:ext cx="114480" cy="114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4006800" y="274644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727440" y="3003480"/>
                <a:ext cx="152280" cy="15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022640" y="304164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292640" y="2784600"/>
                <a:ext cx="111240" cy="11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4327560" y="304488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4530600" y="2816280"/>
                <a:ext cx="14940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768920" y="2657520"/>
                <a:ext cx="88920" cy="88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597560" y="3076560"/>
                <a:ext cx="13320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813200" y="2860560"/>
                <a:ext cx="133560" cy="13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5010120" y="2666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5302080" y="2679840"/>
                <a:ext cx="11772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5089680" y="2882880"/>
                <a:ext cx="11736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4889520" y="3098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5165640" y="311472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5349960" y="2936880"/>
                <a:ext cx="10800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5413320" y="3181320"/>
                <a:ext cx="63720" cy="6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540320" y="2654280"/>
                <a:ext cx="5400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23" name=""/>
              <p:cNvGrpSpPr/>
              <p:nvPr/>
            </p:nvGrpSpPr>
            <p:grpSpPr>
              <a:xfrm>
                <a:off x="6427800" y="2655720"/>
                <a:ext cx="1825560" cy="608040"/>
                <a:chOff x="6427800" y="2655720"/>
                <a:chExt cx="1825560" cy="608040"/>
              </a:xfrm>
            </p:grpSpPr>
            <p:sp>
              <p:nvSpPr>
                <p:cNvPr id="6124" name=""/>
                <p:cNvSpPr/>
                <p:nvPr/>
              </p:nvSpPr>
              <p:spPr>
                <a:xfrm flipH="1">
                  <a:off x="6429240" y="2655720"/>
                  <a:ext cx="260640" cy="26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5" name=""/>
                <p:cNvSpPr/>
                <p:nvPr/>
              </p:nvSpPr>
              <p:spPr>
                <a:xfrm flipH="1">
                  <a:off x="6427800" y="2655720"/>
                  <a:ext cx="566640" cy="56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6" name=""/>
                <p:cNvSpPr/>
                <p:nvPr/>
              </p:nvSpPr>
              <p:spPr>
                <a:xfrm flipH="1">
                  <a:off x="6702480" y="265752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7" name=""/>
                <p:cNvSpPr/>
                <p:nvPr/>
              </p:nvSpPr>
              <p:spPr>
                <a:xfrm flipH="1">
                  <a:off x="700560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8" name=""/>
                <p:cNvSpPr/>
                <p:nvPr/>
              </p:nvSpPr>
              <p:spPr>
                <a:xfrm flipH="1">
                  <a:off x="7300800" y="2662200"/>
                  <a:ext cx="60192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9" name=""/>
                <p:cNvSpPr/>
                <p:nvPr/>
              </p:nvSpPr>
              <p:spPr>
                <a:xfrm flipH="1">
                  <a:off x="7612200" y="266076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0" name=""/>
                <p:cNvSpPr/>
                <p:nvPr/>
              </p:nvSpPr>
              <p:spPr>
                <a:xfrm flipH="1">
                  <a:off x="7916760" y="292104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1" name=""/>
              <p:cNvSpPr/>
              <p:nvPr/>
            </p:nvSpPr>
            <p:spPr>
              <a:xfrm flipV="1">
                <a:off x="6432480" y="2666880"/>
                <a:ext cx="38736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 flipV="1">
                <a:off x="6842160" y="266076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 flipV="1">
                <a:off x="7458120" y="2670120"/>
                <a:ext cx="584280" cy="5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 flipV="1">
                <a:off x="8102520" y="3105000"/>
                <a:ext cx="14940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5" name=""/>
            <p:cNvGrpSpPr/>
            <p:nvPr/>
          </p:nvGrpSpPr>
          <p:grpSpPr>
            <a:xfrm>
              <a:off x="846000" y="3921120"/>
              <a:ext cx="7417080" cy="626040"/>
              <a:chOff x="846000" y="3921120"/>
              <a:chExt cx="7417080" cy="626040"/>
            </a:xfrm>
          </p:grpSpPr>
          <p:sp>
            <p:nvSpPr>
              <p:cNvPr id="6136" name=""/>
              <p:cNvSpPr/>
              <p:nvPr/>
            </p:nvSpPr>
            <p:spPr>
              <a:xfrm>
                <a:off x="84600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364644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641844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39" name=""/>
              <p:cNvGrpSpPr/>
              <p:nvPr/>
            </p:nvGrpSpPr>
            <p:grpSpPr>
              <a:xfrm>
                <a:off x="874800" y="3968640"/>
                <a:ext cx="925560" cy="506880"/>
                <a:chOff x="874800" y="3968640"/>
                <a:chExt cx="925560" cy="506880"/>
              </a:xfrm>
            </p:grpSpPr>
            <p:grpSp>
              <p:nvGrpSpPr>
                <p:cNvPr id="6140" name=""/>
                <p:cNvGrpSpPr/>
                <p:nvPr/>
              </p:nvGrpSpPr>
              <p:grpSpPr>
                <a:xfrm>
                  <a:off x="874800" y="3968640"/>
                  <a:ext cx="478080" cy="135360"/>
                  <a:chOff x="874800" y="3968640"/>
                  <a:chExt cx="478080" cy="135360"/>
                </a:xfrm>
              </p:grpSpPr>
              <p:sp>
                <p:nvSpPr>
                  <p:cNvPr id="6141" name=""/>
                  <p:cNvSpPr/>
                  <p:nvPr/>
                </p:nvSpPr>
                <p:spPr>
                  <a:xfrm>
                    <a:off x="952560" y="403704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2" name=""/>
                  <p:cNvSpPr/>
                  <p:nvPr/>
                </p:nvSpPr>
                <p:spPr>
                  <a:xfrm>
                    <a:off x="1281240" y="396864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3" name=""/>
                  <p:cNvSpPr/>
                  <p:nvPr/>
                </p:nvSpPr>
                <p:spPr>
                  <a:xfrm>
                    <a:off x="874800" y="40323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4" name=""/>
                <p:cNvGrpSpPr/>
                <p:nvPr/>
              </p:nvGrpSpPr>
              <p:grpSpPr>
                <a:xfrm>
                  <a:off x="1108080" y="4168800"/>
                  <a:ext cx="478080" cy="135000"/>
                  <a:chOff x="1108080" y="4168800"/>
                  <a:chExt cx="478080" cy="135000"/>
                </a:xfrm>
              </p:grpSpPr>
              <p:sp>
                <p:nvSpPr>
                  <p:cNvPr id="6145" name=""/>
                  <p:cNvSpPr/>
                  <p:nvPr/>
                </p:nvSpPr>
                <p:spPr>
                  <a:xfrm>
                    <a:off x="1185840" y="423720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6" name=""/>
                  <p:cNvSpPr/>
                  <p:nvPr/>
                </p:nvSpPr>
                <p:spPr>
                  <a:xfrm>
                    <a:off x="1514520" y="416880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7" name=""/>
                  <p:cNvSpPr/>
                  <p:nvPr/>
                </p:nvSpPr>
                <p:spPr>
                  <a:xfrm>
                    <a:off x="1108080" y="42321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8" name=""/>
                <p:cNvGrpSpPr/>
                <p:nvPr/>
              </p:nvGrpSpPr>
              <p:grpSpPr>
                <a:xfrm>
                  <a:off x="1322280" y="4340160"/>
                  <a:ext cx="478080" cy="135360"/>
                  <a:chOff x="1322280" y="4340160"/>
                  <a:chExt cx="478080" cy="135360"/>
                </a:xfrm>
              </p:grpSpPr>
              <p:sp>
                <p:nvSpPr>
                  <p:cNvPr id="6149" name=""/>
                  <p:cNvSpPr/>
                  <p:nvPr/>
                </p:nvSpPr>
                <p:spPr>
                  <a:xfrm>
                    <a:off x="1400040" y="4408560"/>
                    <a:ext cx="3225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0" name=""/>
                  <p:cNvSpPr/>
                  <p:nvPr/>
                </p:nvSpPr>
                <p:spPr>
                  <a:xfrm>
                    <a:off x="1728720" y="43401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1" name=""/>
                  <p:cNvSpPr/>
                  <p:nvPr/>
                </p:nvSpPr>
                <p:spPr>
                  <a:xfrm>
                    <a:off x="1322280" y="440388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52" name=""/>
              <p:cNvSpPr/>
              <p:nvPr/>
            </p:nvSpPr>
            <p:spPr>
              <a:xfrm>
                <a:off x="852480" y="4151160"/>
                <a:ext cx="11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971640" y="408312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4" name=""/>
              <p:cNvGrpSpPr/>
              <p:nvPr/>
            </p:nvGrpSpPr>
            <p:grpSpPr>
              <a:xfrm>
                <a:off x="1370160" y="4054320"/>
                <a:ext cx="477720" cy="135360"/>
                <a:chOff x="1370160" y="4054320"/>
                <a:chExt cx="477720" cy="135360"/>
              </a:xfrm>
            </p:grpSpPr>
            <p:sp>
              <p:nvSpPr>
                <p:cNvPr id="6155" name=""/>
                <p:cNvSpPr/>
                <p:nvPr/>
              </p:nvSpPr>
              <p:spPr>
                <a:xfrm>
                  <a:off x="1447920" y="412272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6" name=""/>
                <p:cNvSpPr/>
                <p:nvPr/>
              </p:nvSpPr>
              <p:spPr>
                <a:xfrm>
                  <a:off x="1776240" y="40543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7" name=""/>
                <p:cNvSpPr/>
                <p:nvPr/>
              </p:nvSpPr>
              <p:spPr>
                <a:xfrm>
                  <a:off x="1370160" y="411804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8" name=""/>
              <p:cNvSpPr/>
              <p:nvPr/>
            </p:nvSpPr>
            <p:spPr>
              <a:xfrm>
                <a:off x="857160" y="437040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1185840" y="430200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60" name=""/>
              <p:cNvGrpSpPr/>
              <p:nvPr/>
            </p:nvGrpSpPr>
            <p:grpSpPr>
              <a:xfrm>
                <a:off x="1593720" y="4230720"/>
                <a:ext cx="478080" cy="135000"/>
                <a:chOff x="1593720" y="4230720"/>
                <a:chExt cx="478080" cy="135000"/>
              </a:xfrm>
            </p:grpSpPr>
            <p:sp>
              <p:nvSpPr>
                <p:cNvPr id="6161" name=""/>
                <p:cNvSpPr/>
                <p:nvPr/>
              </p:nvSpPr>
              <p:spPr>
                <a:xfrm>
                  <a:off x="1671480" y="4299120"/>
                  <a:ext cx="322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2" name=""/>
                <p:cNvSpPr/>
                <p:nvPr/>
              </p:nvSpPr>
              <p:spPr>
                <a:xfrm>
                  <a:off x="2000160" y="42307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3" name=""/>
                <p:cNvSpPr/>
                <p:nvPr/>
              </p:nvSpPr>
              <p:spPr>
                <a:xfrm>
                  <a:off x="1593720" y="42940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4" name=""/>
              <p:cNvSpPr/>
              <p:nvPr/>
            </p:nvSpPr>
            <p:spPr>
              <a:xfrm>
                <a:off x="1871640" y="447984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2200320" y="441180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1797120" y="4500360"/>
                <a:ext cx="67320" cy="46800"/>
              </a:xfrm>
              <a:custGeom>
                <a:avLst/>
                <a:gdLst/>
                <a:ahLst/>
                <a:rect l="0" t="0" r="r" b="b"/>
                <a:pathLst>
                  <a:path fill="none" w="187" h="130">
                    <a:moveTo>
                      <a:pt x="0" y="130"/>
                    </a:moveTo>
                    <a:lnTo>
                      <a:pt x="0" y="130"/>
                    </a:lnTo>
                    <a:cubicBezTo>
                      <a:pt x="35" y="130"/>
                      <a:pt x="69" y="121"/>
                      <a:pt x="100" y="103"/>
                    </a:cubicBezTo>
                    <a:cubicBezTo>
                      <a:pt x="130" y="85"/>
                      <a:pt x="156" y="60"/>
                      <a:pt x="173" y="29"/>
                    </a:cubicBezTo>
                    <a:cubicBezTo>
                      <a:pt x="179" y="20"/>
                      <a:pt x="183" y="10"/>
                      <a:pt x="187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67" name=""/>
              <p:cNvGrpSpPr/>
              <p:nvPr/>
            </p:nvGrpSpPr>
            <p:grpSpPr>
              <a:xfrm>
                <a:off x="1655640" y="3940200"/>
                <a:ext cx="925920" cy="506520"/>
                <a:chOff x="1655640" y="3940200"/>
                <a:chExt cx="925920" cy="506520"/>
              </a:xfrm>
            </p:grpSpPr>
            <p:grpSp>
              <p:nvGrpSpPr>
                <p:cNvPr id="6168" name=""/>
                <p:cNvGrpSpPr/>
                <p:nvPr/>
              </p:nvGrpSpPr>
              <p:grpSpPr>
                <a:xfrm>
                  <a:off x="1655640" y="3940200"/>
                  <a:ext cx="478080" cy="135000"/>
                  <a:chOff x="1655640" y="3940200"/>
                  <a:chExt cx="478080" cy="135000"/>
                </a:xfrm>
              </p:grpSpPr>
              <p:sp>
                <p:nvSpPr>
                  <p:cNvPr id="6169" name=""/>
                  <p:cNvSpPr/>
                  <p:nvPr/>
                </p:nvSpPr>
                <p:spPr>
                  <a:xfrm>
                    <a:off x="1733400" y="4008600"/>
                    <a:ext cx="3225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0" name=""/>
                  <p:cNvSpPr/>
                  <p:nvPr/>
                </p:nvSpPr>
                <p:spPr>
                  <a:xfrm>
                    <a:off x="2062080" y="394020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1" name=""/>
                  <p:cNvSpPr/>
                  <p:nvPr/>
                </p:nvSpPr>
                <p:spPr>
                  <a:xfrm>
                    <a:off x="1655640" y="40035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2" name=""/>
                <p:cNvGrpSpPr/>
                <p:nvPr/>
              </p:nvGrpSpPr>
              <p:grpSpPr>
                <a:xfrm>
                  <a:off x="1889280" y="4140360"/>
                  <a:ext cx="477720" cy="135000"/>
                  <a:chOff x="1889280" y="4140360"/>
                  <a:chExt cx="477720" cy="135000"/>
                </a:xfrm>
              </p:grpSpPr>
              <p:sp>
                <p:nvSpPr>
                  <p:cNvPr id="6173" name=""/>
                  <p:cNvSpPr/>
                  <p:nvPr/>
                </p:nvSpPr>
                <p:spPr>
                  <a:xfrm>
                    <a:off x="1967040" y="420840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4" name=""/>
                  <p:cNvSpPr/>
                  <p:nvPr/>
                </p:nvSpPr>
                <p:spPr>
                  <a:xfrm>
                    <a:off x="2295360" y="41403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5" name=""/>
                  <p:cNvSpPr/>
                  <p:nvPr/>
                </p:nvSpPr>
                <p:spPr>
                  <a:xfrm>
                    <a:off x="1889280" y="420372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6" name=""/>
                <p:cNvGrpSpPr/>
                <p:nvPr/>
              </p:nvGrpSpPr>
              <p:grpSpPr>
                <a:xfrm>
                  <a:off x="2103480" y="4311720"/>
                  <a:ext cx="478080" cy="135000"/>
                  <a:chOff x="2103480" y="4311720"/>
                  <a:chExt cx="478080" cy="135000"/>
                </a:xfrm>
              </p:grpSpPr>
              <p:sp>
                <p:nvSpPr>
                  <p:cNvPr id="6177" name=""/>
                  <p:cNvSpPr/>
                  <p:nvPr/>
                </p:nvSpPr>
                <p:spPr>
                  <a:xfrm>
                    <a:off x="2181240" y="437976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8" name=""/>
                  <p:cNvSpPr/>
                  <p:nvPr/>
                </p:nvSpPr>
                <p:spPr>
                  <a:xfrm>
                    <a:off x="2509920" y="431172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9" name=""/>
                  <p:cNvSpPr/>
                  <p:nvPr/>
                </p:nvSpPr>
                <p:spPr>
                  <a:xfrm>
                    <a:off x="2103480" y="437508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80" name=""/>
              <p:cNvGrpSpPr/>
              <p:nvPr/>
            </p:nvGrpSpPr>
            <p:grpSpPr>
              <a:xfrm>
                <a:off x="2127240" y="4025880"/>
                <a:ext cx="478080" cy="135000"/>
                <a:chOff x="2127240" y="4025880"/>
                <a:chExt cx="478080" cy="135000"/>
              </a:xfrm>
            </p:grpSpPr>
            <p:sp>
              <p:nvSpPr>
                <p:cNvPr id="6181" name=""/>
                <p:cNvSpPr/>
                <p:nvPr/>
              </p:nvSpPr>
              <p:spPr>
                <a:xfrm>
                  <a:off x="2205000" y="409428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2" name=""/>
                <p:cNvSpPr/>
                <p:nvPr/>
              </p:nvSpPr>
              <p:spPr>
                <a:xfrm>
                  <a:off x="2533680" y="40258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3" name=""/>
                <p:cNvSpPr/>
                <p:nvPr/>
              </p:nvSpPr>
              <p:spPr>
                <a:xfrm>
                  <a:off x="2127240" y="408924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4" name=""/>
              <p:cNvSpPr/>
              <p:nvPr/>
            </p:nvSpPr>
            <p:spPr>
              <a:xfrm>
                <a:off x="2428920" y="4270320"/>
                <a:ext cx="24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2351160" y="426564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2629080" y="4451400"/>
                <a:ext cx="5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2554200" y="4471560"/>
                <a:ext cx="67320" cy="46800"/>
              </a:xfrm>
              <a:custGeom>
                <a:avLst/>
                <a:gdLst/>
                <a:ahLst/>
                <a:rect l="0" t="0" r="r" b="b"/>
                <a:pathLst>
                  <a:path fill="none" w="187" h="130">
                    <a:moveTo>
                      <a:pt x="0" y="130"/>
                    </a:moveTo>
                    <a:lnTo>
                      <a:pt x="0" y="130"/>
                    </a:lnTo>
                    <a:cubicBezTo>
                      <a:pt x="35" y="130"/>
                      <a:pt x="69" y="121"/>
                      <a:pt x="100" y="103"/>
                    </a:cubicBezTo>
                    <a:cubicBezTo>
                      <a:pt x="130" y="85"/>
                      <a:pt x="156" y="60"/>
                      <a:pt x="173" y="29"/>
                    </a:cubicBezTo>
                    <a:cubicBezTo>
                      <a:pt x="179" y="20"/>
                      <a:pt x="183" y="10"/>
                      <a:pt x="187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88" name=""/>
              <p:cNvGrpSpPr/>
              <p:nvPr/>
            </p:nvGrpSpPr>
            <p:grpSpPr>
              <a:xfrm>
                <a:off x="3660840" y="3927600"/>
                <a:ext cx="1825560" cy="608040"/>
                <a:chOff x="3660840" y="3927600"/>
                <a:chExt cx="1825560" cy="608040"/>
              </a:xfrm>
            </p:grpSpPr>
            <p:sp>
              <p:nvSpPr>
                <p:cNvPr id="6189" name=""/>
                <p:cNvSpPr/>
                <p:nvPr/>
              </p:nvSpPr>
              <p:spPr>
                <a:xfrm flipH="1">
                  <a:off x="3662280" y="392760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0" name=""/>
                <p:cNvSpPr/>
                <p:nvPr/>
              </p:nvSpPr>
              <p:spPr>
                <a:xfrm flipH="1">
                  <a:off x="3660840" y="3927600"/>
                  <a:ext cx="56664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1" name=""/>
                <p:cNvSpPr/>
                <p:nvPr/>
              </p:nvSpPr>
              <p:spPr>
                <a:xfrm flipH="1">
                  <a:off x="3935520" y="392904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2" name=""/>
                <p:cNvSpPr/>
                <p:nvPr/>
              </p:nvSpPr>
              <p:spPr>
                <a:xfrm flipH="1">
                  <a:off x="4238640" y="393228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3" name=""/>
                <p:cNvSpPr/>
                <p:nvPr/>
              </p:nvSpPr>
              <p:spPr>
                <a:xfrm flipH="1">
                  <a:off x="4533840" y="3933720"/>
                  <a:ext cx="601560" cy="60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4" name=""/>
                <p:cNvSpPr/>
                <p:nvPr/>
              </p:nvSpPr>
              <p:spPr>
                <a:xfrm flipH="1">
                  <a:off x="4844880" y="3932280"/>
                  <a:ext cx="59724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5" name=""/>
                <p:cNvSpPr/>
                <p:nvPr/>
              </p:nvSpPr>
              <p:spPr>
                <a:xfrm flipH="1">
                  <a:off x="5149800" y="419256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96" name=""/>
              <p:cNvSpPr/>
              <p:nvPr/>
            </p:nvSpPr>
            <p:spPr>
              <a:xfrm flipH="1">
                <a:off x="3657600" y="3927600"/>
                <a:ext cx="127080" cy="12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 flipH="1">
                <a:off x="3657600" y="3927600"/>
                <a:ext cx="431640" cy="43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 flipH="1">
                <a:off x="3797280" y="3929040"/>
                <a:ext cx="595440" cy="595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 flipH="1">
                <a:off x="4100400" y="3932280"/>
                <a:ext cx="594000" cy="59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 flipH="1">
                <a:off x="4395960" y="3933720"/>
                <a:ext cx="601560" cy="60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 flipH="1">
                <a:off x="4707000" y="393228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 flipH="1">
                <a:off x="5011560" y="4059360"/>
                <a:ext cx="470160" cy="4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 flipV="1">
                <a:off x="5338800" y="4392720"/>
                <a:ext cx="13320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04" name=""/>
              <p:cNvGrpSpPr/>
              <p:nvPr/>
            </p:nvGrpSpPr>
            <p:grpSpPr>
              <a:xfrm>
                <a:off x="6616800" y="3925800"/>
                <a:ext cx="199800" cy="614520"/>
                <a:chOff x="6616800" y="3925800"/>
                <a:chExt cx="199800" cy="614520"/>
              </a:xfrm>
            </p:grpSpPr>
            <p:sp>
              <p:nvSpPr>
                <p:cNvPr id="6205" name=""/>
                <p:cNvSpPr/>
                <p:nvPr/>
              </p:nvSpPr>
              <p:spPr>
                <a:xfrm>
                  <a:off x="6616800" y="3941640"/>
                  <a:ext cx="0" cy="59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6" name=""/>
                <p:cNvSpPr/>
                <p:nvPr/>
              </p:nvSpPr>
              <p:spPr>
                <a:xfrm>
                  <a:off x="6816600" y="392580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7" name=""/>
              <p:cNvGrpSpPr/>
              <p:nvPr/>
            </p:nvGrpSpPr>
            <p:grpSpPr>
              <a:xfrm>
                <a:off x="7029360" y="3924360"/>
                <a:ext cx="200160" cy="614160"/>
                <a:chOff x="7029360" y="3924360"/>
                <a:chExt cx="200160" cy="614160"/>
              </a:xfrm>
            </p:grpSpPr>
            <p:sp>
              <p:nvSpPr>
                <p:cNvPr id="6208" name=""/>
                <p:cNvSpPr/>
                <p:nvPr/>
              </p:nvSpPr>
              <p:spPr>
                <a:xfrm>
                  <a:off x="7029360" y="394020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9" name=""/>
                <p:cNvSpPr/>
                <p:nvPr/>
              </p:nvSpPr>
              <p:spPr>
                <a:xfrm>
                  <a:off x="7229520" y="3924360"/>
                  <a:ext cx="0" cy="61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0" name=""/>
              <p:cNvGrpSpPr/>
              <p:nvPr/>
            </p:nvGrpSpPr>
            <p:grpSpPr>
              <a:xfrm>
                <a:off x="7427880" y="3922560"/>
                <a:ext cx="200160" cy="614520"/>
                <a:chOff x="7427880" y="3922560"/>
                <a:chExt cx="200160" cy="614520"/>
              </a:xfrm>
            </p:grpSpPr>
            <p:sp>
              <p:nvSpPr>
                <p:cNvPr id="6211" name=""/>
                <p:cNvSpPr/>
                <p:nvPr/>
              </p:nvSpPr>
              <p:spPr>
                <a:xfrm>
                  <a:off x="7427880" y="393876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2" name=""/>
                <p:cNvSpPr/>
                <p:nvPr/>
              </p:nvSpPr>
              <p:spPr>
                <a:xfrm>
                  <a:off x="7628040" y="392256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3" name=""/>
              <p:cNvGrpSpPr/>
              <p:nvPr/>
            </p:nvGrpSpPr>
            <p:grpSpPr>
              <a:xfrm>
                <a:off x="7840800" y="3922560"/>
                <a:ext cx="199800" cy="614520"/>
                <a:chOff x="7840800" y="3922560"/>
                <a:chExt cx="199800" cy="614520"/>
              </a:xfrm>
            </p:grpSpPr>
            <p:sp>
              <p:nvSpPr>
                <p:cNvPr id="6214" name=""/>
                <p:cNvSpPr/>
                <p:nvPr/>
              </p:nvSpPr>
              <p:spPr>
                <a:xfrm>
                  <a:off x="7840800" y="393876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5" name=""/>
                <p:cNvSpPr/>
                <p:nvPr/>
              </p:nvSpPr>
              <p:spPr>
                <a:xfrm>
                  <a:off x="8040600" y="392256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6" name=""/>
              <p:cNvSpPr/>
              <p:nvPr/>
            </p:nvSpPr>
            <p:spPr>
              <a:xfrm>
                <a:off x="6431040" y="411012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6431040" y="4294080"/>
                <a:ext cx="1812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6431040" y="4464000"/>
                <a:ext cx="1827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9" name=""/>
            <p:cNvGrpSpPr/>
            <p:nvPr/>
          </p:nvGrpSpPr>
          <p:grpSpPr>
            <a:xfrm>
              <a:off x="846000" y="1389240"/>
              <a:ext cx="7417080" cy="614520"/>
              <a:chOff x="846000" y="1389240"/>
              <a:chExt cx="7417080" cy="614520"/>
            </a:xfrm>
          </p:grpSpPr>
          <p:sp>
            <p:nvSpPr>
              <p:cNvPr id="6220" name=""/>
              <p:cNvSpPr/>
              <p:nvPr/>
            </p:nvSpPr>
            <p:spPr>
              <a:xfrm>
                <a:off x="846000" y="1389240"/>
                <a:ext cx="1844640" cy="61452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3646440" y="1389240"/>
                <a:ext cx="1844640" cy="61452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6418440" y="138924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6415200" y="1558800"/>
                <a:ext cx="1845000" cy="444960"/>
              </a:xfrm>
              <a:custGeom>
                <a:avLst/>
                <a:gdLst/>
                <a:ahLst/>
                <a:rect l="0" t="0" r="r" b="b"/>
                <a:pathLst>
                  <a:path w="5125" h="1236">
                    <a:moveTo>
                      <a:pt x="5125" y="295"/>
                    </a:moveTo>
                    <a:lnTo>
                      <a:pt x="5125" y="1236"/>
                    </a:lnTo>
                    <a:lnTo>
                      <a:pt x="0" y="1236"/>
                    </a:lnTo>
                    <a:lnTo>
                      <a:pt x="0" y="0"/>
                    </a:lnTo>
                    <a:lnTo>
                      <a:pt x="127" y="39"/>
                    </a:lnTo>
                    <a:lnTo>
                      <a:pt x="255" y="39"/>
                    </a:lnTo>
                    <a:lnTo>
                      <a:pt x="383" y="39"/>
                    </a:lnTo>
                    <a:lnTo>
                      <a:pt x="555" y="39"/>
                    </a:lnTo>
                    <a:lnTo>
                      <a:pt x="683" y="39"/>
                    </a:lnTo>
                    <a:lnTo>
                      <a:pt x="811" y="39"/>
                    </a:lnTo>
                    <a:lnTo>
                      <a:pt x="939" y="0"/>
                    </a:lnTo>
                    <a:lnTo>
                      <a:pt x="1067" y="0"/>
                    </a:lnTo>
                    <a:lnTo>
                      <a:pt x="1239" y="0"/>
                    </a:lnTo>
                    <a:lnTo>
                      <a:pt x="1367" y="0"/>
                    </a:lnTo>
                    <a:lnTo>
                      <a:pt x="1494" y="0"/>
                    </a:lnTo>
                    <a:lnTo>
                      <a:pt x="1622" y="0"/>
                    </a:lnTo>
                    <a:lnTo>
                      <a:pt x="1750" y="0"/>
                    </a:lnTo>
                    <a:lnTo>
                      <a:pt x="1878" y="0"/>
                    </a:lnTo>
                    <a:lnTo>
                      <a:pt x="2006" y="39"/>
                    </a:lnTo>
                    <a:lnTo>
                      <a:pt x="2134" y="39"/>
                    </a:lnTo>
                    <a:lnTo>
                      <a:pt x="2262" y="83"/>
                    </a:lnTo>
                    <a:lnTo>
                      <a:pt x="2390" y="83"/>
                    </a:lnTo>
                    <a:lnTo>
                      <a:pt x="2563" y="127"/>
                    </a:lnTo>
                    <a:lnTo>
                      <a:pt x="2690" y="167"/>
                    </a:lnTo>
                    <a:lnTo>
                      <a:pt x="2862" y="211"/>
                    </a:lnTo>
                    <a:lnTo>
                      <a:pt x="3030" y="211"/>
                    </a:lnTo>
                    <a:lnTo>
                      <a:pt x="3202" y="211"/>
                    </a:lnTo>
                    <a:lnTo>
                      <a:pt x="3374" y="211"/>
                    </a:lnTo>
                    <a:lnTo>
                      <a:pt x="3546" y="211"/>
                    </a:lnTo>
                    <a:lnTo>
                      <a:pt x="3674" y="167"/>
                    </a:lnTo>
                    <a:lnTo>
                      <a:pt x="3802" y="167"/>
                    </a:lnTo>
                    <a:lnTo>
                      <a:pt x="3969" y="167"/>
                    </a:lnTo>
                    <a:lnTo>
                      <a:pt x="4097" y="167"/>
                    </a:lnTo>
                    <a:lnTo>
                      <a:pt x="4269" y="167"/>
                    </a:lnTo>
                    <a:lnTo>
                      <a:pt x="4397" y="167"/>
                    </a:lnTo>
                    <a:lnTo>
                      <a:pt x="4525" y="211"/>
                    </a:lnTo>
                    <a:lnTo>
                      <a:pt x="4653" y="211"/>
                    </a:lnTo>
                    <a:lnTo>
                      <a:pt x="4781" y="255"/>
                    </a:lnTo>
                    <a:lnTo>
                      <a:pt x="4909" y="255"/>
                    </a:lnTo>
                    <a:lnTo>
                      <a:pt x="5036" y="255"/>
                    </a:lnTo>
                    <a:lnTo>
                      <a:pt x="5125" y="295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4" name=""/>
            <p:cNvSpPr/>
            <p:nvPr/>
          </p:nvSpPr>
          <p:spPr>
            <a:xfrm>
              <a:off x="846000" y="5159520"/>
              <a:ext cx="1844640" cy="61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 flipH="1">
              <a:off x="860400" y="5180040"/>
              <a:ext cx="127080" cy="127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 flipH="1">
              <a:off x="860400" y="5180040"/>
              <a:ext cx="432000" cy="43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 flipH="1">
              <a:off x="1000080" y="5181480"/>
              <a:ext cx="595440" cy="59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 flipH="1">
              <a:off x="1303200" y="5184720"/>
              <a:ext cx="594000" cy="593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 flipH="1">
              <a:off x="1614600" y="5170320"/>
              <a:ext cx="601560" cy="60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 flipH="1">
              <a:off x="1909800" y="5184720"/>
              <a:ext cx="596880" cy="596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 flipH="1">
              <a:off x="2214720" y="5311800"/>
              <a:ext cx="469800" cy="469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 flipV="1">
              <a:off x="2541600" y="5645160"/>
              <a:ext cx="133200" cy="13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33" name=""/>
            <p:cNvGrpSpPr/>
            <p:nvPr/>
          </p:nvGrpSpPr>
          <p:grpSpPr>
            <a:xfrm>
              <a:off x="858960" y="5153040"/>
              <a:ext cx="1823760" cy="611280"/>
              <a:chOff x="858960" y="5153040"/>
              <a:chExt cx="1823760" cy="611280"/>
            </a:xfrm>
          </p:grpSpPr>
          <p:sp>
            <p:nvSpPr>
              <p:cNvPr id="6234" name=""/>
              <p:cNvSpPr/>
              <p:nvPr/>
            </p:nvSpPr>
            <p:spPr>
              <a:xfrm>
                <a:off x="2556000" y="5162400"/>
                <a:ext cx="126720" cy="12708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2251080" y="5162400"/>
                <a:ext cx="431640" cy="43200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1947960" y="5164200"/>
                <a:ext cx="595080" cy="59508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1646280" y="5167440"/>
                <a:ext cx="593640" cy="59364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1327320" y="5153040"/>
                <a:ext cx="601560" cy="60156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1036800" y="5167440"/>
                <a:ext cx="596880" cy="59688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858960" y="5294160"/>
                <a:ext cx="469800" cy="47016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 flipH="1" flipV="1">
                <a:off x="868320" y="5627520"/>
                <a:ext cx="133560" cy="13356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2" name=""/>
            <p:cNvSpPr txBox="1"/>
            <p:nvPr/>
          </p:nvSpPr>
          <p:spPr>
            <a:xfrm>
              <a:off x="65880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3" name=""/>
            <p:cNvSpPr txBox="1"/>
            <p:nvPr/>
          </p:nvSpPr>
          <p:spPr>
            <a:xfrm>
              <a:off x="3552840" y="2071800"/>
              <a:ext cx="185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Metal (Zin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4" name=""/>
            <p:cNvSpPr txBox="1"/>
            <p:nvPr/>
          </p:nvSpPr>
          <p:spPr>
            <a:xfrm>
              <a:off x="7024680" y="2041560"/>
              <a:ext cx="62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5" name=""/>
            <p:cNvSpPr txBox="1"/>
            <p:nvPr/>
          </p:nvSpPr>
          <p:spPr>
            <a:xfrm>
              <a:off x="1430280" y="330048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6" name=""/>
            <p:cNvSpPr txBox="1"/>
            <p:nvPr/>
          </p:nvSpPr>
          <p:spPr>
            <a:xfrm>
              <a:off x="3452760" y="3300480"/>
              <a:ext cx="2238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gnesium, Alumin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7" name=""/>
            <p:cNvSpPr txBox="1"/>
            <p:nvPr/>
          </p:nvSpPr>
          <p:spPr>
            <a:xfrm>
              <a:off x="6854760" y="331632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tan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"/>
            <p:cNvSpPr txBox="1"/>
            <p:nvPr/>
          </p:nvSpPr>
          <p:spPr>
            <a:xfrm>
              <a:off x="706320" y="4575240"/>
              <a:ext cx="2108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elt, Leather, &amp; Fib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"/>
            <p:cNvSpPr txBox="1"/>
            <p:nvPr/>
          </p:nvSpPr>
          <p:spPr>
            <a:xfrm>
              <a:off x="3660840" y="4560840"/>
              <a:ext cx="1792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onze, Brass, et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"/>
            <p:cNvSpPr txBox="1"/>
            <p:nvPr/>
          </p:nvSpPr>
          <p:spPr>
            <a:xfrm>
              <a:off x="6464160" y="4560840"/>
              <a:ext cx="174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ectric Winding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1" name=""/>
            <p:cNvSpPr txBox="1"/>
            <p:nvPr/>
          </p:nvSpPr>
          <p:spPr>
            <a:xfrm>
              <a:off x="609480" y="5834160"/>
              <a:ext cx="23335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rble, Slate, Glass, et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838080" y="5165640"/>
              <a:ext cx="1859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3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4" name=""/>
          <p:cNvGrpSpPr/>
          <p:nvPr/>
        </p:nvGrpSpPr>
        <p:grpSpPr>
          <a:xfrm>
            <a:off x="609480" y="1389240"/>
            <a:ext cx="7653600" cy="4798800"/>
            <a:chOff x="609480" y="1389240"/>
            <a:chExt cx="7653600" cy="4798800"/>
          </a:xfrm>
        </p:grpSpPr>
        <p:grpSp>
          <p:nvGrpSpPr>
            <p:cNvPr id="6255" name=""/>
            <p:cNvGrpSpPr/>
            <p:nvPr/>
          </p:nvGrpSpPr>
          <p:grpSpPr>
            <a:xfrm>
              <a:off x="846000" y="2654280"/>
              <a:ext cx="7417080" cy="614520"/>
              <a:chOff x="846000" y="2654280"/>
              <a:chExt cx="7417080" cy="614520"/>
            </a:xfrm>
          </p:grpSpPr>
          <p:sp>
            <p:nvSpPr>
              <p:cNvPr id="6256" name=""/>
              <p:cNvSpPr/>
              <p:nvPr/>
            </p:nvSpPr>
            <p:spPr>
              <a:xfrm>
                <a:off x="3646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6418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58" name=""/>
              <p:cNvGrpSpPr/>
              <p:nvPr/>
            </p:nvGrpSpPr>
            <p:grpSpPr>
              <a:xfrm>
                <a:off x="846000" y="2654280"/>
                <a:ext cx="1844640" cy="614520"/>
                <a:chOff x="846000" y="2654280"/>
                <a:chExt cx="1844640" cy="614520"/>
              </a:xfrm>
            </p:grpSpPr>
            <p:sp>
              <p:nvSpPr>
                <p:cNvPr id="6259" name=""/>
                <p:cNvSpPr/>
                <p:nvPr/>
              </p:nvSpPr>
              <p:spPr>
                <a:xfrm>
                  <a:off x="846000" y="2654280"/>
                  <a:ext cx="1844640" cy="61452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0" name=""/>
                <p:cNvSpPr/>
                <p:nvPr/>
              </p:nvSpPr>
              <p:spPr>
                <a:xfrm flipH="1">
                  <a:off x="8557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1" name=""/>
                <p:cNvSpPr/>
                <p:nvPr/>
              </p:nvSpPr>
              <p:spPr>
                <a:xfrm flipH="1">
                  <a:off x="853920" y="2657520"/>
                  <a:ext cx="338400" cy="338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2" name=""/>
                <p:cNvSpPr/>
                <p:nvPr/>
              </p:nvSpPr>
              <p:spPr>
                <a:xfrm flipH="1">
                  <a:off x="853920" y="2657520"/>
                  <a:ext cx="56700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3" name=""/>
                <p:cNvSpPr/>
                <p:nvPr/>
              </p:nvSpPr>
              <p:spPr>
                <a:xfrm flipH="1">
                  <a:off x="888840" y="2654280"/>
                  <a:ext cx="611280" cy="61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4" name=""/>
                <p:cNvSpPr/>
                <p:nvPr/>
              </p:nvSpPr>
              <p:spPr>
                <a:xfrm flipH="1">
                  <a:off x="1128600" y="2666880"/>
                  <a:ext cx="587520" cy="587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5" name=""/>
                <p:cNvSpPr/>
                <p:nvPr/>
              </p:nvSpPr>
              <p:spPr>
                <a:xfrm flipH="1">
                  <a:off x="120492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6" name=""/>
                <p:cNvSpPr/>
                <p:nvPr/>
              </p:nvSpPr>
              <p:spPr>
                <a:xfrm flipH="1">
                  <a:off x="14320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 flipH="1">
                  <a:off x="1506600" y="266220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8" name=""/>
                <p:cNvSpPr/>
                <p:nvPr/>
              </p:nvSpPr>
              <p:spPr>
                <a:xfrm flipH="1">
                  <a:off x="17272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9" name=""/>
                <p:cNvSpPr/>
                <p:nvPr/>
              </p:nvSpPr>
              <p:spPr>
                <a:xfrm flipH="1">
                  <a:off x="1814400" y="2664000"/>
                  <a:ext cx="590760" cy="590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 flipH="1">
                  <a:off x="20383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 flipH="1">
                  <a:off x="2114640" y="2697120"/>
                  <a:ext cx="561960" cy="561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 flipH="1">
                  <a:off x="23432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3" name=""/>
                <p:cNvSpPr/>
                <p:nvPr/>
              </p:nvSpPr>
              <p:spPr>
                <a:xfrm flipH="1">
                  <a:off x="2413080" y="2995560"/>
                  <a:ext cx="269640" cy="270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4" name=""/>
                <p:cNvSpPr/>
                <p:nvPr/>
              </p:nvSpPr>
              <p:spPr>
                <a:xfrm flipH="1">
                  <a:off x="2647800" y="3225960"/>
                  <a:ext cx="33480" cy="33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5" name=""/>
              <p:cNvSpPr/>
              <p:nvPr/>
            </p:nvSpPr>
            <p:spPr>
              <a:xfrm>
                <a:off x="365616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76" name=""/>
              <p:cNvGrpSpPr/>
              <p:nvPr/>
            </p:nvGrpSpPr>
            <p:grpSpPr>
              <a:xfrm>
                <a:off x="3664080" y="2657520"/>
                <a:ext cx="1825560" cy="608040"/>
                <a:chOff x="3664080" y="2657520"/>
                <a:chExt cx="1825560" cy="608040"/>
              </a:xfrm>
            </p:grpSpPr>
            <p:sp>
              <p:nvSpPr>
                <p:cNvPr id="6277" name=""/>
                <p:cNvSpPr/>
                <p:nvPr/>
              </p:nvSpPr>
              <p:spPr>
                <a:xfrm flipH="1">
                  <a:off x="36655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8" name=""/>
                <p:cNvSpPr/>
                <p:nvPr/>
              </p:nvSpPr>
              <p:spPr>
                <a:xfrm flipH="1">
                  <a:off x="3664080" y="2657520"/>
                  <a:ext cx="56664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9" name=""/>
                <p:cNvSpPr/>
                <p:nvPr/>
              </p:nvSpPr>
              <p:spPr>
                <a:xfrm flipH="1">
                  <a:off x="3938760" y="265896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 flipH="1">
                  <a:off x="42418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1" name=""/>
                <p:cNvSpPr/>
                <p:nvPr/>
              </p:nvSpPr>
              <p:spPr>
                <a:xfrm flipH="1">
                  <a:off x="45370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2" name=""/>
                <p:cNvSpPr/>
                <p:nvPr/>
              </p:nvSpPr>
              <p:spPr>
                <a:xfrm flipH="1">
                  <a:off x="48481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 flipH="1">
                  <a:off x="51530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4" name=""/>
              <p:cNvSpPr/>
              <p:nvPr/>
            </p:nvSpPr>
            <p:spPr>
              <a:xfrm flipH="1">
                <a:off x="5457960" y="3225960"/>
                <a:ext cx="33120" cy="3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3724200" y="2730600"/>
                <a:ext cx="114480" cy="114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006800" y="274644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3727440" y="3003480"/>
                <a:ext cx="152280" cy="15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022640" y="304164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292640" y="2784600"/>
                <a:ext cx="111240" cy="11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327560" y="304488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530600" y="2816280"/>
                <a:ext cx="14940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768920" y="2657520"/>
                <a:ext cx="88920" cy="88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597560" y="3076560"/>
                <a:ext cx="13320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813200" y="2860560"/>
                <a:ext cx="133560" cy="13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5010120" y="2666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5302080" y="2679840"/>
                <a:ext cx="11772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5089680" y="2882880"/>
                <a:ext cx="11736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889520" y="3098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5165640" y="311472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5349960" y="2936880"/>
                <a:ext cx="10800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5413320" y="3181320"/>
                <a:ext cx="63720" cy="6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540320" y="2654280"/>
                <a:ext cx="5400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03" name=""/>
              <p:cNvGrpSpPr/>
              <p:nvPr/>
            </p:nvGrpSpPr>
            <p:grpSpPr>
              <a:xfrm>
                <a:off x="6427800" y="2655720"/>
                <a:ext cx="1825560" cy="608040"/>
                <a:chOff x="6427800" y="2655720"/>
                <a:chExt cx="1825560" cy="608040"/>
              </a:xfrm>
            </p:grpSpPr>
            <p:sp>
              <p:nvSpPr>
                <p:cNvPr id="6304" name=""/>
                <p:cNvSpPr/>
                <p:nvPr/>
              </p:nvSpPr>
              <p:spPr>
                <a:xfrm flipH="1">
                  <a:off x="6429240" y="2655720"/>
                  <a:ext cx="260640" cy="26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5" name=""/>
                <p:cNvSpPr/>
                <p:nvPr/>
              </p:nvSpPr>
              <p:spPr>
                <a:xfrm flipH="1">
                  <a:off x="6427800" y="2655720"/>
                  <a:ext cx="566640" cy="56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6" name=""/>
                <p:cNvSpPr/>
                <p:nvPr/>
              </p:nvSpPr>
              <p:spPr>
                <a:xfrm flipH="1">
                  <a:off x="6702480" y="265752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7" name=""/>
                <p:cNvSpPr/>
                <p:nvPr/>
              </p:nvSpPr>
              <p:spPr>
                <a:xfrm flipH="1">
                  <a:off x="700560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8" name=""/>
                <p:cNvSpPr/>
                <p:nvPr/>
              </p:nvSpPr>
              <p:spPr>
                <a:xfrm flipH="1">
                  <a:off x="7300800" y="2662200"/>
                  <a:ext cx="60192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9" name=""/>
                <p:cNvSpPr/>
                <p:nvPr/>
              </p:nvSpPr>
              <p:spPr>
                <a:xfrm flipH="1">
                  <a:off x="7612200" y="266076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0" name=""/>
                <p:cNvSpPr/>
                <p:nvPr/>
              </p:nvSpPr>
              <p:spPr>
                <a:xfrm flipH="1">
                  <a:off x="7916760" y="292104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1" name=""/>
              <p:cNvSpPr/>
              <p:nvPr/>
            </p:nvSpPr>
            <p:spPr>
              <a:xfrm flipV="1">
                <a:off x="6432480" y="2666880"/>
                <a:ext cx="38736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 flipV="1">
                <a:off x="6842160" y="266076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 flipV="1">
                <a:off x="7458120" y="2670120"/>
                <a:ext cx="584280" cy="5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 flipV="1">
                <a:off x="8102520" y="3105000"/>
                <a:ext cx="14940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5" name=""/>
            <p:cNvGrpSpPr/>
            <p:nvPr/>
          </p:nvGrpSpPr>
          <p:grpSpPr>
            <a:xfrm>
              <a:off x="846000" y="3921120"/>
              <a:ext cx="7417080" cy="626040"/>
              <a:chOff x="846000" y="3921120"/>
              <a:chExt cx="7417080" cy="626040"/>
            </a:xfrm>
          </p:grpSpPr>
          <p:sp>
            <p:nvSpPr>
              <p:cNvPr id="6316" name=""/>
              <p:cNvSpPr/>
              <p:nvPr/>
            </p:nvSpPr>
            <p:spPr>
              <a:xfrm>
                <a:off x="84600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364644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641844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19" name=""/>
              <p:cNvGrpSpPr/>
              <p:nvPr/>
            </p:nvGrpSpPr>
            <p:grpSpPr>
              <a:xfrm>
                <a:off x="874800" y="3968640"/>
                <a:ext cx="925560" cy="506880"/>
                <a:chOff x="874800" y="3968640"/>
                <a:chExt cx="925560" cy="506880"/>
              </a:xfrm>
            </p:grpSpPr>
            <p:grpSp>
              <p:nvGrpSpPr>
                <p:cNvPr id="6320" name=""/>
                <p:cNvGrpSpPr/>
                <p:nvPr/>
              </p:nvGrpSpPr>
              <p:grpSpPr>
                <a:xfrm>
                  <a:off x="874800" y="3968640"/>
                  <a:ext cx="478080" cy="135360"/>
                  <a:chOff x="874800" y="3968640"/>
                  <a:chExt cx="478080" cy="135360"/>
                </a:xfrm>
              </p:grpSpPr>
              <p:sp>
                <p:nvSpPr>
                  <p:cNvPr id="6321" name=""/>
                  <p:cNvSpPr/>
                  <p:nvPr/>
                </p:nvSpPr>
                <p:spPr>
                  <a:xfrm>
                    <a:off x="952560" y="403704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2" name=""/>
                  <p:cNvSpPr/>
                  <p:nvPr/>
                </p:nvSpPr>
                <p:spPr>
                  <a:xfrm>
                    <a:off x="1281240" y="396864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3" name=""/>
                  <p:cNvSpPr/>
                  <p:nvPr/>
                </p:nvSpPr>
                <p:spPr>
                  <a:xfrm>
                    <a:off x="874800" y="40323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4" name=""/>
                <p:cNvGrpSpPr/>
                <p:nvPr/>
              </p:nvGrpSpPr>
              <p:grpSpPr>
                <a:xfrm>
                  <a:off x="1108080" y="4168800"/>
                  <a:ext cx="478080" cy="135000"/>
                  <a:chOff x="1108080" y="4168800"/>
                  <a:chExt cx="478080" cy="135000"/>
                </a:xfrm>
              </p:grpSpPr>
              <p:sp>
                <p:nvSpPr>
                  <p:cNvPr id="6325" name=""/>
                  <p:cNvSpPr/>
                  <p:nvPr/>
                </p:nvSpPr>
                <p:spPr>
                  <a:xfrm>
                    <a:off x="1185840" y="423720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6" name=""/>
                  <p:cNvSpPr/>
                  <p:nvPr/>
                </p:nvSpPr>
                <p:spPr>
                  <a:xfrm>
                    <a:off x="1514520" y="416880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7" name=""/>
                  <p:cNvSpPr/>
                  <p:nvPr/>
                </p:nvSpPr>
                <p:spPr>
                  <a:xfrm>
                    <a:off x="1108080" y="42321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8" name=""/>
                <p:cNvGrpSpPr/>
                <p:nvPr/>
              </p:nvGrpSpPr>
              <p:grpSpPr>
                <a:xfrm>
                  <a:off x="1322280" y="4340160"/>
                  <a:ext cx="478080" cy="135360"/>
                  <a:chOff x="1322280" y="4340160"/>
                  <a:chExt cx="478080" cy="135360"/>
                </a:xfrm>
              </p:grpSpPr>
              <p:sp>
                <p:nvSpPr>
                  <p:cNvPr id="6329" name=""/>
                  <p:cNvSpPr/>
                  <p:nvPr/>
                </p:nvSpPr>
                <p:spPr>
                  <a:xfrm>
                    <a:off x="1400040" y="4408560"/>
                    <a:ext cx="3225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0" name=""/>
                  <p:cNvSpPr/>
                  <p:nvPr/>
                </p:nvSpPr>
                <p:spPr>
                  <a:xfrm>
                    <a:off x="1728720" y="43401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1" name=""/>
                  <p:cNvSpPr/>
                  <p:nvPr/>
                </p:nvSpPr>
                <p:spPr>
                  <a:xfrm>
                    <a:off x="1322280" y="440388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32" name=""/>
              <p:cNvSpPr/>
              <p:nvPr/>
            </p:nvSpPr>
            <p:spPr>
              <a:xfrm>
                <a:off x="852480" y="4151160"/>
                <a:ext cx="11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971640" y="408312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34" name=""/>
              <p:cNvGrpSpPr/>
              <p:nvPr/>
            </p:nvGrpSpPr>
            <p:grpSpPr>
              <a:xfrm>
                <a:off x="1370160" y="4054320"/>
                <a:ext cx="477720" cy="135360"/>
                <a:chOff x="1370160" y="4054320"/>
                <a:chExt cx="477720" cy="135360"/>
              </a:xfrm>
            </p:grpSpPr>
            <p:sp>
              <p:nvSpPr>
                <p:cNvPr id="6335" name=""/>
                <p:cNvSpPr/>
                <p:nvPr/>
              </p:nvSpPr>
              <p:spPr>
                <a:xfrm>
                  <a:off x="1447920" y="412272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6" name=""/>
                <p:cNvSpPr/>
                <p:nvPr/>
              </p:nvSpPr>
              <p:spPr>
                <a:xfrm>
                  <a:off x="1776240" y="40543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7" name=""/>
                <p:cNvSpPr/>
                <p:nvPr/>
              </p:nvSpPr>
              <p:spPr>
                <a:xfrm>
                  <a:off x="1370160" y="411804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8" name=""/>
              <p:cNvSpPr/>
              <p:nvPr/>
            </p:nvSpPr>
            <p:spPr>
              <a:xfrm>
                <a:off x="857160" y="437040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1185840" y="430200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40" name=""/>
              <p:cNvGrpSpPr/>
              <p:nvPr/>
            </p:nvGrpSpPr>
            <p:grpSpPr>
              <a:xfrm>
                <a:off x="1593720" y="4230720"/>
                <a:ext cx="478080" cy="135000"/>
                <a:chOff x="1593720" y="4230720"/>
                <a:chExt cx="478080" cy="135000"/>
              </a:xfrm>
            </p:grpSpPr>
            <p:sp>
              <p:nvSpPr>
                <p:cNvPr id="6341" name=""/>
                <p:cNvSpPr/>
                <p:nvPr/>
              </p:nvSpPr>
              <p:spPr>
                <a:xfrm>
                  <a:off x="1671480" y="4299120"/>
                  <a:ext cx="322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2" name=""/>
                <p:cNvSpPr/>
                <p:nvPr/>
              </p:nvSpPr>
              <p:spPr>
                <a:xfrm>
                  <a:off x="2000160" y="42307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3" name=""/>
                <p:cNvSpPr/>
                <p:nvPr/>
              </p:nvSpPr>
              <p:spPr>
                <a:xfrm>
                  <a:off x="1593720" y="42940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4" name=""/>
              <p:cNvSpPr/>
              <p:nvPr/>
            </p:nvSpPr>
            <p:spPr>
              <a:xfrm>
                <a:off x="1871640" y="447984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2200320" y="441180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1797120" y="4500360"/>
                <a:ext cx="67320" cy="46800"/>
              </a:xfrm>
              <a:custGeom>
                <a:avLst/>
                <a:gdLst/>
                <a:ahLst/>
                <a:rect l="0" t="0" r="r" b="b"/>
                <a:pathLst>
                  <a:path fill="none" w="187" h="130">
                    <a:moveTo>
                      <a:pt x="0" y="130"/>
                    </a:moveTo>
                    <a:lnTo>
                      <a:pt x="0" y="130"/>
                    </a:lnTo>
                    <a:cubicBezTo>
                      <a:pt x="35" y="130"/>
                      <a:pt x="69" y="121"/>
                      <a:pt x="100" y="103"/>
                    </a:cubicBezTo>
                    <a:cubicBezTo>
                      <a:pt x="130" y="85"/>
                      <a:pt x="156" y="60"/>
                      <a:pt x="173" y="29"/>
                    </a:cubicBezTo>
                    <a:cubicBezTo>
                      <a:pt x="179" y="20"/>
                      <a:pt x="183" y="10"/>
                      <a:pt x="187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47" name=""/>
              <p:cNvGrpSpPr/>
              <p:nvPr/>
            </p:nvGrpSpPr>
            <p:grpSpPr>
              <a:xfrm>
                <a:off x="1655640" y="3940200"/>
                <a:ext cx="925920" cy="506520"/>
                <a:chOff x="1655640" y="3940200"/>
                <a:chExt cx="925920" cy="506520"/>
              </a:xfrm>
            </p:grpSpPr>
            <p:grpSp>
              <p:nvGrpSpPr>
                <p:cNvPr id="6348" name=""/>
                <p:cNvGrpSpPr/>
                <p:nvPr/>
              </p:nvGrpSpPr>
              <p:grpSpPr>
                <a:xfrm>
                  <a:off x="1655640" y="3940200"/>
                  <a:ext cx="478080" cy="135000"/>
                  <a:chOff x="1655640" y="3940200"/>
                  <a:chExt cx="478080" cy="135000"/>
                </a:xfrm>
              </p:grpSpPr>
              <p:sp>
                <p:nvSpPr>
                  <p:cNvPr id="6349" name=""/>
                  <p:cNvSpPr/>
                  <p:nvPr/>
                </p:nvSpPr>
                <p:spPr>
                  <a:xfrm>
                    <a:off x="1733400" y="4008600"/>
                    <a:ext cx="3225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0" name=""/>
                  <p:cNvSpPr/>
                  <p:nvPr/>
                </p:nvSpPr>
                <p:spPr>
                  <a:xfrm>
                    <a:off x="2062080" y="394020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1" name=""/>
                  <p:cNvSpPr/>
                  <p:nvPr/>
                </p:nvSpPr>
                <p:spPr>
                  <a:xfrm>
                    <a:off x="1655640" y="40035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2" name=""/>
                <p:cNvGrpSpPr/>
                <p:nvPr/>
              </p:nvGrpSpPr>
              <p:grpSpPr>
                <a:xfrm>
                  <a:off x="1889280" y="4140360"/>
                  <a:ext cx="477720" cy="135000"/>
                  <a:chOff x="1889280" y="4140360"/>
                  <a:chExt cx="477720" cy="135000"/>
                </a:xfrm>
              </p:grpSpPr>
              <p:sp>
                <p:nvSpPr>
                  <p:cNvPr id="6353" name=""/>
                  <p:cNvSpPr/>
                  <p:nvPr/>
                </p:nvSpPr>
                <p:spPr>
                  <a:xfrm>
                    <a:off x="1967040" y="420840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4" name=""/>
                  <p:cNvSpPr/>
                  <p:nvPr/>
                </p:nvSpPr>
                <p:spPr>
                  <a:xfrm>
                    <a:off x="2295360" y="41403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5" name=""/>
                  <p:cNvSpPr/>
                  <p:nvPr/>
                </p:nvSpPr>
                <p:spPr>
                  <a:xfrm>
                    <a:off x="1889280" y="420372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6" name=""/>
                <p:cNvGrpSpPr/>
                <p:nvPr/>
              </p:nvGrpSpPr>
              <p:grpSpPr>
                <a:xfrm>
                  <a:off x="2103480" y="4311720"/>
                  <a:ext cx="478080" cy="135000"/>
                  <a:chOff x="2103480" y="4311720"/>
                  <a:chExt cx="478080" cy="135000"/>
                </a:xfrm>
              </p:grpSpPr>
              <p:sp>
                <p:nvSpPr>
                  <p:cNvPr id="6357" name=""/>
                  <p:cNvSpPr/>
                  <p:nvPr/>
                </p:nvSpPr>
                <p:spPr>
                  <a:xfrm>
                    <a:off x="2181240" y="437976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8" name=""/>
                  <p:cNvSpPr/>
                  <p:nvPr/>
                </p:nvSpPr>
                <p:spPr>
                  <a:xfrm>
                    <a:off x="2509920" y="431172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9" name=""/>
                  <p:cNvSpPr/>
                  <p:nvPr/>
                </p:nvSpPr>
                <p:spPr>
                  <a:xfrm>
                    <a:off x="2103480" y="437508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60" name=""/>
              <p:cNvGrpSpPr/>
              <p:nvPr/>
            </p:nvGrpSpPr>
            <p:grpSpPr>
              <a:xfrm>
                <a:off x="2127240" y="4025880"/>
                <a:ext cx="478080" cy="135000"/>
                <a:chOff x="2127240" y="4025880"/>
                <a:chExt cx="478080" cy="135000"/>
              </a:xfrm>
            </p:grpSpPr>
            <p:sp>
              <p:nvSpPr>
                <p:cNvPr id="6361" name=""/>
                <p:cNvSpPr/>
                <p:nvPr/>
              </p:nvSpPr>
              <p:spPr>
                <a:xfrm>
                  <a:off x="2205000" y="409428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2" name=""/>
                <p:cNvSpPr/>
                <p:nvPr/>
              </p:nvSpPr>
              <p:spPr>
                <a:xfrm>
                  <a:off x="2533680" y="40258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2127240" y="408924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4" name=""/>
              <p:cNvSpPr/>
              <p:nvPr/>
            </p:nvSpPr>
            <p:spPr>
              <a:xfrm>
                <a:off x="2428920" y="4270320"/>
                <a:ext cx="24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2351160" y="426564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2629080" y="4451400"/>
                <a:ext cx="5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2554200" y="4471560"/>
                <a:ext cx="67320" cy="46800"/>
              </a:xfrm>
              <a:custGeom>
                <a:avLst/>
                <a:gdLst/>
                <a:ahLst/>
                <a:rect l="0" t="0" r="r" b="b"/>
                <a:pathLst>
                  <a:path fill="none" w="187" h="130">
                    <a:moveTo>
                      <a:pt x="0" y="130"/>
                    </a:moveTo>
                    <a:lnTo>
                      <a:pt x="0" y="130"/>
                    </a:lnTo>
                    <a:cubicBezTo>
                      <a:pt x="35" y="130"/>
                      <a:pt x="69" y="121"/>
                      <a:pt x="100" y="103"/>
                    </a:cubicBezTo>
                    <a:cubicBezTo>
                      <a:pt x="130" y="85"/>
                      <a:pt x="156" y="60"/>
                      <a:pt x="173" y="29"/>
                    </a:cubicBezTo>
                    <a:cubicBezTo>
                      <a:pt x="179" y="20"/>
                      <a:pt x="183" y="10"/>
                      <a:pt x="187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68" name=""/>
              <p:cNvGrpSpPr/>
              <p:nvPr/>
            </p:nvGrpSpPr>
            <p:grpSpPr>
              <a:xfrm>
                <a:off x="3660840" y="3927600"/>
                <a:ext cx="1825560" cy="608040"/>
                <a:chOff x="3660840" y="3927600"/>
                <a:chExt cx="1825560" cy="608040"/>
              </a:xfrm>
            </p:grpSpPr>
            <p:sp>
              <p:nvSpPr>
                <p:cNvPr id="6369" name=""/>
                <p:cNvSpPr/>
                <p:nvPr/>
              </p:nvSpPr>
              <p:spPr>
                <a:xfrm flipH="1">
                  <a:off x="3662280" y="392760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0" name=""/>
                <p:cNvSpPr/>
                <p:nvPr/>
              </p:nvSpPr>
              <p:spPr>
                <a:xfrm flipH="1">
                  <a:off x="3660840" y="3927600"/>
                  <a:ext cx="56664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1" name=""/>
                <p:cNvSpPr/>
                <p:nvPr/>
              </p:nvSpPr>
              <p:spPr>
                <a:xfrm flipH="1">
                  <a:off x="3935520" y="392904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 flipH="1">
                  <a:off x="4238640" y="393228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 flipH="1">
                  <a:off x="4533840" y="3933720"/>
                  <a:ext cx="601560" cy="60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 flipH="1">
                  <a:off x="4844880" y="3932280"/>
                  <a:ext cx="59724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5" name=""/>
                <p:cNvSpPr/>
                <p:nvPr/>
              </p:nvSpPr>
              <p:spPr>
                <a:xfrm flipH="1">
                  <a:off x="5149800" y="419256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6" name=""/>
              <p:cNvSpPr/>
              <p:nvPr/>
            </p:nvSpPr>
            <p:spPr>
              <a:xfrm flipH="1">
                <a:off x="3657600" y="3927600"/>
                <a:ext cx="127080" cy="12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 flipH="1">
                <a:off x="3657600" y="3927600"/>
                <a:ext cx="431640" cy="43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 flipH="1">
                <a:off x="3797280" y="3929040"/>
                <a:ext cx="595440" cy="595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 flipH="1">
                <a:off x="4100400" y="3932280"/>
                <a:ext cx="594000" cy="59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 flipH="1">
                <a:off x="4395960" y="3933720"/>
                <a:ext cx="601560" cy="60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 flipH="1">
                <a:off x="4707000" y="393228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 flipH="1">
                <a:off x="5011560" y="4059360"/>
                <a:ext cx="470160" cy="4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 flipV="1">
                <a:off x="5338800" y="4392720"/>
                <a:ext cx="13320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84" name=""/>
              <p:cNvGrpSpPr/>
              <p:nvPr/>
            </p:nvGrpSpPr>
            <p:grpSpPr>
              <a:xfrm>
                <a:off x="6616800" y="3925800"/>
                <a:ext cx="199800" cy="614520"/>
                <a:chOff x="6616800" y="3925800"/>
                <a:chExt cx="199800" cy="614520"/>
              </a:xfrm>
            </p:grpSpPr>
            <p:sp>
              <p:nvSpPr>
                <p:cNvPr id="6385" name=""/>
                <p:cNvSpPr/>
                <p:nvPr/>
              </p:nvSpPr>
              <p:spPr>
                <a:xfrm>
                  <a:off x="6616800" y="3941640"/>
                  <a:ext cx="0" cy="59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6" name=""/>
                <p:cNvSpPr/>
                <p:nvPr/>
              </p:nvSpPr>
              <p:spPr>
                <a:xfrm>
                  <a:off x="6816600" y="392580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7" name=""/>
              <p:cNvGrpSpPr/>
              <p:nvPr/>
            </p:nvGrpSpPr>
            <p:grpSpPr>
              <a:xfrm>
                <a:off x="7029360" y="3924360"/>
                <a:ext cx="200160" cy="614160"/>
                <a:chOff x="7029360" y="3924360"/>
                <a:chExt cx="200160" cy="614160"/>
              </a:xfrm>
            </p:grpSpPr>
            <p:sp>
              <p:nvSpPr>
                <p:cNvPr id="6388" name=""/>
                <p:cNvSpPr/>
                <p:nvPr/>
              </p:nvSpPr>
              <p:spPr>
                <a:xfrm>
                  <a:off x="7029360" y="394020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9" name=""/>
                <p:cNvSpPr/>
                <p:nvPr/>
              </p:nvSpPr>
              <p:spPr>
                <a:xfrm>
                  <a:off x="7229520" y="3924360"/>
                  <a:ext cx="0" cy="61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0" name=""/>
              <p:cNvGrpSpPr/>
              <p:nvPr/>
            </p:nvGrpSpPr>
            <p:grpSpPr>
              <a:xfrm>
                <a:off x="7427880" y="3922560"/>
                <a:ext cx="200160" cy="614520"/>
                <a:chOff x="7427880" y="3922560"/>
                <a:chExt cx="200160" cy="614520"/>
              </a:xfrm>
            </p:grpSpPr>
            <p:sp>
              <p:nvSpPr>
                <p:cNvPr id="6391" name=""/>
                <p:cNvSpPr/>
                <p:nvPr/>
              </p:nvSpPr>
              <p:spPr>
                <a:xfrm>
                  <a:off x="7427880" y="393876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2" name=""/>
                <p:cNvSpPr/>
                <p:nvPr/>
              </p:nvSpPr>
              <p:spPr>
                <a:xfrm>
                  <a:off x="7628040" y="392256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3" name=""/>
              <p:cNvGrpSpPr/>
              <p:nvPr/>
            </p:nvGrpSpPr>
            <p:grpSpPr>
              <a:xfrm>
                <a:off x="7840800" y="3922560"/>
                <a:ext cx="199800" cy="614520"/>
                <a:chOff x="7840800" y="3922560"/>
                <a:chExt cx="199800" cy="614520"/>
              </a:xfrm>
            </p:grpSpPr>
            <p:sp>
              <p:nvSpPr>
                <p:cNvPr id="6394" name=""/>
                <p:cNvSpPr/>
                <p:nvPr/>
              </p:nvSpPr>
              <p:spPr>
                <a:xfrm>
                  <a:off x="7840800" y="393876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5" name=""/>
                <p:cNvSpPr/>
                <p:nvPr/>
              </p:nvSpPr>
              <p:spPr>
                <a:xfrm>
                  <a:off x="8040600" y="392256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6" name=""/>
              <p:cNvSpPr/>
              <p:nvPr/>
            </p:nvSpPr>
            <p:spPr>
              <a:xfrm>
                <a:off x="6431040" y="411012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6431040" y="4294080"/>
                <a:ext cx="1812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6431040" y="4464000"/>
                <a:ext cx="1827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9" name=""/>
            <p:cNvGrpSpPr/>
            <p:nvPr/>
          </p:nvGrpSpPr>
          <p:grpSpPr>
            <a:xfrm>
              <a:off x="846000" y="1389240"/>
              <a:ext cx="7417080" cy="614520"/>
              <a:chOff x="846000" y="1389240"/>
              <a:chExt cx="7417080" cy="614520"/>
            </a:xfrm>
          </p:grpSpPr>
          <p:sp>
            <p:nvSpPr>
              <p:cNvPr id="6400" name=""/>
              <p:cNvSpPr/>
              <p:nvPr/>
            </p:nvSpPr>
            <p:spPr>
              <a:xfrm>
                <a:off x="846000" y="1389240"/>
                <a:ext cx="1844640" cy="61452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3646440" y="1389240"/>
                <a:ext cx="1844640" cy="61452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6418440" y="138924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6415200" y="1558800"/>
                <a:ext cx="1845000" cy="444960"/>
              </a:xfrm>
              <a:custGeom>
                <a:avLst/>
                <a:gdLst/>
                <a:ahLst/>
                <a:rect l="0" t="0" r="r" b="b"/>
                <a:pathLst>
                  <a:path w="5125" h="1236">
                    <a:moveTo>
                      <a:pt x="5125" y="295"/>
                    </a:moveTo>
                    <a:lnTo>
                      <a:pt x="5125" y="1236"/>
                    </a:lnTo>
                    <a:lnTo>
                      <a:pt x="0" y="1236"/>
                    </a:lnTo>
                    <a:lnTo>
                      <a:pt x="0" y="0"/>
                    </a:lnTo>
                    <a:lnTo>
                      <a:pt x="127" y="39"/>
                    </a:lnTo>
                    <a:lnTo>
                      <a:pt x="255" y="39"/>
                    </a:lnTo>
                    <a:lnTo>
                      <a:pt x="383" y="39"/>
                    </a:lnTo>
                    <a:lnTo>
                      <a:pt x="555" y="39"/>
                    </a:lnTo>
                    <a:lnTo>
                      <a:pt x="683" y="39"/>
                    </a:lnTo>
                    <a:lnTo>
                      <a:pt x="811" y="39"/>
                    </a:lnTo>
                    <a:lnTo>
                      <a:pt x="939" y="0"/>
                    </a:lnTo>
                    <a:lnTo>
                      <a:pt x="1067" y="0"/>
                    </a:lnTo>
                    <a:lnTo>
                      <a:pt x="1239" y="0"/>
                    </a:lnTo>
                    <a:lnTo>
                      <a:pt x="1367" y="0"/>
                    </a:lnTo>
                    <a:lnTo>
                      <a:pt x="1494" y="0"/>
                    </a:lnTo>
                    <a:lnTo>
                      <a:pt x="1622" y="0"/>
                    </a:lnTo>
                    <a:lnTo>
                      <a:pt x="1750" y="0"/>
                    </a:lnTo>
                    <a:lnTo>
                      <a:pt x="1878" y="0"/>
                    </a:lnTo>
                    <a:lnTo>
                      <a:pt x="2006" y="39"/>
                    </a:lnTo>
                    <a:lnTo>
                      <a:pt x="2134" y="39"/>
                    </a:lnTo>
                    <a:lnTo>
                      <a:pt x="2262" y="83"/>
                    </a:lnTo>
                    <a:lnTo>
                      <a:pt x="2390" y="83"/>
                    </a:lnTo>
                    <a:lnTo>
                      <a:pt x="2563" y="127"/>
                    </a:lnTo>
                    <a:lnTo>
                      <a:pt x="2690" y="167"/>
                    </a:lnTo>
                    <a:lnTo>
                      <a:pt x="2862" y="211"/>
                    </a:lnTo>
                    <a:lnTo>
                      <a:pt x="3030" y="211"/>
                    </a:lnTo>
                    <a:lnTo>
                      <a:pt x="3202" y="211"/>
                    </a:lnTo>
                    <a:lnTo>
                      <a:pt x="3374" y="211"/>
                    </a:lnTo>
                    <a:lnTo>
                      <a:pt x="3546" y="211"/>
                    </a:lnTo>
                    <a:lnTo>
                      <a:pt x="3674" y="167"/>
                    </a:lnTo>
                    <a:lnTo>
                      <a:pt x="3802" y="167"/>
                    </a:lnTo>
                    <a:lnTo>
                      <a:pt x="3969" y="167"/>
                    </a:lnTo>
                    <a:lnTo>
                      <a:pt x="4097" y="167"/>
                    </a:lnTo>
                    <a:lnTo>
                      <a:pt x="4269" y="167"/>
                    </a:lnTo>
                    <a:lnTo>
                      <a:pt x="4397" y="167"/>
                    </a:lnTo>
                    <a:lnTo>
                      <a:pt x="4525" y="211"/>
                    </a:lnTo>
                    <a:lnTo>
                      <a:pt x="4653" y="211"/>
                    </a:lnTo>
                    <a:lnTo>
                      <a:pt x="4781" y="255"/>
                    </a:lnTo>
                    <a:lnTo>
                      <a:pt x="4909" y="255"/>
                    </a:lnTo>
                    <a:lnTo>
                      <a:pt x="5036" y="255"/>
                    </a:lnTo>
                    <a:lnTo>
                      <a:pt x="5125" y="295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4" name=""/>
            <p:cNvSpPr/>
            <p:nvPr/>
          </p:nvSpPr>
          <p:spPr>
            <a:xfrm>
              <a:off x="846000" y="5159520"/>
              <a:ext cx="1844640" cy="61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3646440" y="5159520"/>
              <a:ext cx="1844640" cy="61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H="1">
              <a:off x="860400" y="5180040"/>
              <a:ext cx="127080" cy="127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 flipH="1">
              <a:off x="860400" y="5180040"/>
              <a:ext cx="432000" cy="43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1000080" y="5181480"/>
              <a:ext cx="595440" cy="59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 flipH="1">
              <a:off x="1303200" y="5184720"/>
              <a:ext cx="594000" cy="593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1614600" y="5170320"/>
              <a:ext cx="601560" cy="60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H="1">
              <a:off x="1909800" y="5184720"/>
              <a:ext cx="596880" cy="596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 flipH="1">
              <a:off x="2214720" y="5311800"/>
              <a:ext cx="469800" cy="469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 flipV="1">
              <a:off x="2541600" y="5645160"/>
              <a:ext cx="133200" cy="13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14" name=""/>
            <p:cNvGrpSpPr/>
            <p:nvPr/>
          </p:nvGrpSpPr>
          <p:grpSpPr>
            <a:xfrm>
              <a:off x="858960" y="5153040"/>
              <a:ext cx="1823760" cy="611280"/>
              <a:chOff x="858960" y="5153040"/>
              <a:chExt cx="1823760" cy="611280"/>
            </a:xfrm>
          </p:grpSpPr>
          <p:sp>
            <p:nvSpPr>
              <p:cNvPr id="6415" name=""/>
              <p:cNvSpPr/>
              <p:nvPr/>
            </p:nvSpPr>
            <p:spPr>
              <a:xfrm>
                <a:off x="2556000" y="5162400"/>
                <a:ext cx="126720" cy="12708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2251080" y="5162400"/>
                <a:ext cx="431640" cy="43200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1947960" y="5164200"/>
                <a:ext cx="595080" cy="59508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1646280" y="5167440"/>
                <a:ext cx="593640" cy="59364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1327320" y="5153040"/>
                <a:ext cx="601560" cy="60156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1036800" y="5167440"/>
                <a:ext cx="596880" cy="59688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858960" y="5294160"/>
                <a:ext cx="469800" cy="47016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flipH="1" flipV="1">
                <a:off x="868320" y="5627520"/>
                <a:ext cx="133560" cy="13356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23" name=""/>
            <p:cNvSpPr/>
            <p:nvPr/>
          </p:nvSpPr>
          <p:spPr>
            <a:xfrm>
              <a:off x="3649680" y="5424480"/>
              <a:ext cx="1844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3665520" y="5454720"/>
              <a:ext cx="1812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3665520" y="55008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4125960" y="5500800"/>
              <a:ext cx="922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5186520" y="550080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3819600" y="5654520"/>
              <a:ext cx="522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4633920" y="5654520"/>
              <a:ext cx="690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3757680" y="5562720"/>
              <a:ext cx="768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4680000" y="5562720"/>
              <a:ext cx="690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2" name=""/>
            <p:cNvSpPr txBox="1"/>
            <p:nvPr/>
          </p:nvSpPr>
          <p:spPr>
            <a:xfrm>
              <a:off x="65880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3" name=""/>
            <p:cNvSpPr txBox="1"/>
            <p:nvPr/>
          </p:nvSpPr>
          <p:spPr>
            <a:xfrm>
              <a:off x="3552840" y="2071800"/>
              <a:ext cx="185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Metal (Zin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4" name=""/>
            <p:cNvSpPr txBox="1"/>
            <p:nvPr/>
          </p:nvSpPr>
          <p:spPr>
            <a:xfrm>
              <a:off x="7024680" y="2041560"/>
              <a:ext cx="62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5" name=""/>
            <p:cNvSpPr txBox="1"/>
            <p:nvPr/>
          </p:nvSpPr>
          <p:spPr>
            <a:xfrm>
              <a:off x="1430280" y="330048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6" name=""/>
            <p:cNvSpPr txBox="1"/>
            <p:nvPr/>
          </p:nvSpPr>
          <p:spPr>
            <a:xfrm>
              <a:off x="3452760" y="3300480"/>
              <a:ext cx="2238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gnesium, Alumin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7" name=""/>
            <p:cNvSpPr txBox="1"/>
            <p:nvPr/>
          </p:nvSpPr>
          <p:spPr>
            <a:xfrm>
              <a:off x="6854760" y="331632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tan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8" name=""/>
            <p:cNvSpPr txBox="1"/>
            <p:nvPr/>
          </p:nvSpPr>
          <p:spPr>
            <a:xfrm>
              <a:off x="706320" y="4575240"/>
              <a:ext cx="2108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elt, Leather, &amp; Fib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"/>
            <p:cNvSpPr txBox="1"/>
            <p:nvPr/>
          </p:nvSpPr>
          <p:spPr>
            <a:xfrm>
              <a:off x="3660840" y="4560840"/>
              <a:ext cx="1792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onze, Brass, et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"/>
            <p:cNvSpPr txBox="1"/>
            <p:nvPr/>
          </p:nvSpPr>
          <p:spPr>
            <a:xfrm>
              <a:off x="6464160" y="4560840"/>
              <a:ext cx="174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ectric Winding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"/>
            <p:cNvSpPr txBox="1"/>
            <p:nvPr/>
          </p:nvSpPr>
          <p:spPr>
            <a:xfrm>
              <a:off x="609480" y="5834160"/>
              <a:ext cx="23335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rble, Slate, Glass, et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"/>
            <p:cNvSpPr txBox="1"/>
            <p:nvPr/>
          </p:nvSpPr>
          <p:spPr>
            <a:xfrm>
              <a:off x="3819600" y="5851440"/>
              <a:ext cx="1504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ter, Liqui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838080" y="5165640"/>
              <a:ext cx="1859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4" name=""/>
          <p:cNvSpPr txBox="1"/>
          <p:nvPr/>
        </p:nvSpPr>
        <p:spPr>
          <a:xfrm>
            <a:off x="73188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 Hatch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5" name=""/>
          <p:cNvGrpSpPr/>
          <p:nvPr/>
        </p:nvGrpSpPr>
        <p:grpSpPr>
          <a:xfrm>
            <a:off x="609480" y="1389240"/>
            <a:ext cx="7672680" cy="4997160"/>
            <a:chOff x="609480" y="1389240"/>
            <a:chExt cx="7672680" cy="4997160"/>
          </a:xfrm>
        </p:grpSpPr>
        <p:grpSp>
          <p:nvGrpSpPr>
            <p:cNvPr id="6446" name=""/>
            <p:cNvGrpSpPr/>
            <p:nvPr/>
          </p:nvGrpSpPr>
          <p:grpSpPr>
            <a:xfrm>
              <a:off x="846000" y="2654280"/>
              <a:ext cx="7417080" cy="614520"/>
              <a:chOff x="846000" y="2654280"/>
              <a:chExt cx="7417080" cy="614520"/>
            </a:xfrm>
          </p:grpSpPr>
          <p:sp>
            <p:nvSpPr>
              <p:cNvPr id="6447" name=""/>
              <p:cNvSpPr/>
              <p:nvPr/>
            </p:nvSpPr>
            <p:spPr>
              <a:xfrm>
                <a:off x="3646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641844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9" name=""/>
              <p:cNvGrpSpPr/>
              <p:nvPr/>
            </p:nvGrpSpPr>
            <p:grpSpPr>
              <a:xfrm>
                <a:off x="846000" y="2654280"/>
                <a:ext cx="1844640" cy="614520"/>
                <a:chOff x="846000" y="2654280"/>
                <a:chExt cx="1844640" cy="614520"/>
              </a:xfrm>
            </p:grpSpPr>
            <p:sp>
              <p:nvSpPr>
                <p:cNvPr id="6450" name=""/>
                <p:cNvSpPr/>
                <p:nvPr/>
              </p:nvSpPr>
              <p:spPr>
                <a:xfrm>
                  <a:off x="846000" y="2654280"/>
                  <a:ext cx="1844640" cy="61452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1" name=""/>
                <p:cNvSpPr/>
                <p:nvPr/>
              </p:nvSpPr>
              <p:spPr>
                <a:xfrm flipH="1">
                  <a:off x="8557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2" name=""/>
                <p:cNvSpPr/>
                <p:nvPr/>
              </p:nvSpPr>
              <p:spPr>
                <a:xfrm flipH="1">
                  <a:off x="853920" y="2657520"/>
                  <a:ext cx="338400" cy="338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3" name=""/>
                <p:cNvSpPr/>
                <p:nvPr/>
              </p:nvSpPr>
              <p:spPr>
                <a:xfrm flipH="1">
                  <a:off x="853920" y="2657520"/>
                  <a:ext cx="56700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4" name=""/>
                <p:cNvSpPr/>
                <p:nvPr/>
              </p:nvSpPr>
              <p:spPr>
                <a:xfrm flipH="1">
                  <a:off x="888840" y="2654280"/>
                  <a:ext cx="611280" cy="61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5" name=""/>
                <p:cNvSpPr/>
                <p:nvPr/>
              </p:nvSpPr>
              <p:spPr>
                <a:xfrm flipH="1">
                  <a:off x="1128600" y="2666880"/>
                  <a:ext cx="587520" cy="587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6" name=""/>
                <p:cNvSpPr/>
                <p:nvPr/>
              </p:nvSpPr>
              <p:spPr>
                <a:xfrm flipH="1">
                  <a:off x="120492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7" name=""/>
                <p:cNvSpPr/>
                <p:nvPr/>
              </p:nvSpPr>
              <p:spPr>
                <a:xfrm flipH="1">
                  <a:off x="14320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8" name=""/>
                <p:cNvSpPr/>
                <p:nvPr/>
              </p:nvSpPr>
              <p:spPr>
                <a:xfrm flipH="1">
                  <a:off x="1506600" y="266220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9" name=""/>
                <p:cNvSpPr/>
                <p:nvPr/>
              </p:nvSpPr>
              <p:spPr>
                <a:xfrm flipH="1">
                  <a:off x="17272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0" name=""/>
                <p:cNvSpPr/>
                <p:nvPr/>
              </p:nvSpPr>
              <p:spPr>
                <a:xfrm flipH="1">
                  <a:off x="1814400" y="2664000"/>
                  <a:ext cx="590760" cy="590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1" name=""/>
                <p:cNvSpPr/>
                <p:nvPr/>
              </p:nvSpPr>
              <p:spPr>
                <a:xfrm flipH="1">
                  <a:off x="20383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2" name=""/>
                <p:cNvSpPr/>
                <p:nvPr/>
              </p:nvSpPr>
              <p:spPr>
                <a:xfrm flipH="1">
                  <a:off x="2114640" y="2697120"/>
                  <a:ext cx="561960" cy="561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3" name=""/>
                <p:cNvSpPr/>
                <p:nvPr/>
              </p:nvSpPr>
              <p:spPr>
                <a:xfrm flipH="1">
                  <a:off x="23432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4" name=""/>
                <p:cNvSpPr/>
                <p:nvPr/>
              </p:nvSpPr>
              <p:spPr>
                <a:xfrm flipH="1">
                  <a:off x="2413080" y="2995560"/>
                  <a:ext cx="269640" cy="270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5" name=""/>
                <p:cNvSpPr/>
                <p:nvPr/>
              </p:nvSpPr>
              <p:spPr>
                <a:xfrm flipH="1">
                  <a:off x="2647800" y="3225960"/>
                  <a:ext cx="33480" cy="33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6" name=""/>
              <p:cNvSpPr/>
              <p:nvPr/>
            </p:nvSpPr>
            <p:spPr>
              <a:xfrm>
                <a:off x="3656160" y="265428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67" name=""/>
              <p:cNvGrpSpPr/>
              <p:nvPr/>
            </p:nvGrpSpPr>
            <p:grpSpPr>
              <a:xfrm>
                <a:off x="3664080" y="2657520"/>
                <a:ext cx="1825560" cy="608040"/>
                <a:chOff x="3664080" y="2657520"/>
                <a:chExt cx="1825560" cy="608040"/>
              </a:xfrm>
            </p:grpSpPr>
            <p:sp>
              <p:nvSpPr>
                <p:cNvPr id="6468" name=""/>
                <p:cNvSpPr/>
                <p:nvPr/>
              </p:nvSpPr>
              <p:spPr>
                <a:xfrm flipH="1">
                  <a:off x="3665520" y="265752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9" name=""/>
                <p:cNvSpPr/>
                <p:nvPr/>
              </p:nvSpPr>
              <p:spPr>
                <a:xfrm flipH="1">
                  <a:off x="3664080" y="2657520"/>
                  <a:ext cx="56664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0" name=""/>
                <p:cNvSpPr/>
                <p:nvPr/>
              </p:nvSpPr>
              <p:spPr>
                <a:xfrm flipH="1">
                  <a:off x="3938760" y="265896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1" name=""/>
                <p:cNvSpPr/>
                <p:nvPr/>
              </p:nvSpPr>
              <p:spPr>
                <a:xfrm flipH="1">
                  <a:off x="4241880" y="266220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2" name=""/>
                <p:cNvSpPr/>
                <p:nvPr/>
              </p:nvSpPr>
              <p:spPr>
                <a:xfrm flipH="1">
                  <a:off x="4537080" y="2664000"/>
                  <a:ext cx="60156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3" name=""/>
                <p:cNvSpPr/>
                <p:nvPr/>
              </p:nvSpPr>
              <p:spPr>
                <a:xfrm flipH="1">
                  <a:off x="4848120" y="266220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 flipH="1">
                  <a:off x="5153040" y="292248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5" name=""/>
              <p:cNvSpPr/>
              <p:nvPr/>
            </p:nvSpPr>
            <p:spPr>
              <a:xfrm flipH="1">
                <a:off x="5457960" y="3225960"/>
                <a:ext cx="33120" cy="3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3724200" y="2730600"/>
                <a:ext cx="114480" cy="114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006800" y="274644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3727440" y="3003480"/>
                <a:ext cx="152280" cy="15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4022640" y="304164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4292640" y="2784600"/>
                <a:ext cx="111240" cy="11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4327560" y="3044880"/>
                <a:ext cx="12384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4530600" y="2816280"/>
                <a:ext cx="14940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4768920" y="2657520"/>
                <a:ext cx="88920" cy="88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4597560" y="3076560"/>
                <a:ext cx="13320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4813200" y="2860560"/>
                <a:ext cx="133560" cy="13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5010120" y="2666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5302080" y="2679840"/>
                <a:ext cx="11772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5089680" y="2882880"/>
                <a:ext cx="117360" cy="11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4889520" y="3098880"/>
                <a:ext cx="1206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5165640" y="3114720"/>
                <a:ext cx="12708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5349960" y="2936880"/>
                <a:ext cx="10800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5413320" y="3181320"/>
                <a:ext cx="63720" cy="6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4540320" y="2654280"/>
                <a:ext cx="5400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4" name=""/>
              <p:cNvGrpSpPr/>
              <p:nvPr/>
            </p:nvGrpSpPr>
            <p:grpSpPr>
              <a:xfrm>
                <a:off x="6427800" y="2655720"/>
                <a:ext cx="1825560" cy="608040"/>
                <a:chOff x="6427800" y="2655720"/>
                <a:chExt cx="1825560" cy="608040"/>
              </a:xfrm>
            </p:grpSpPr>
            <p:sp>
              <p:nvSpPr>
                <p:cNvPr id="6495" name=""/>
                <p:cNvSpPr/>
                <p:nvPr/>
              </p:nvSpPr>
              <p:spPr>
                <a:xfrm flipH="1">
                  <a:off x="6429240" y="2655720"/>
                  <a:ext cx="260640" cy="26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 flipH="1">
                  <a:off x="6427800" y="2655720"/>
                  <a:ext cx="566640" cy="56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 flipH="1">
                  <a:off x="6702480" y="265752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 flipH="1">
                  <a:off x="7005600" y="266076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 flipH="1">
                  <a:off x="7300800" y="2662200"/>
                  <a:ext cx="601920" cy="601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 flipH="1">
                  <a:off x="7612200" y="2660760"/>
                  <a:ext cx="59688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 flipH="1">
                  <a:off x="7916760" y="292104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2" name=""/>
              <p:cNvSpPr/>
              <p:nvPr/>
            </p:nvSpPr>
            <p:spPr>
              <a:xfrm flipV="1">
                <a:off x="6432480" y="2666880"/>
                <a:ext cx="38736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 flipV="1">
                <a:off x="6842160" y="266076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 flipV="1">
                <a:off x="7458120" y="2670120"/>
                <a:ext cx="584280" cy="5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 flipV="1">
                <a:off x="8102520" y="3105000"/>
                <a:ext cx="14940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6" name=""/>
            <p:cNvGrpSpPr/>
            <p:nvPr/>
          </p:nvGrpSpPr>
          <p:grpSpPr>
            <a:xfrm>
              <a:off x="846000" y="3921120"/>
              <a:ext cx="7417080" cy="626040"/>
              <a:chOff x="846000" y="3921120"/>
              <a:chExt cx="7417080" cy="626040"/>
            </a:xfrm>
          </p:grpSpPr>
          <p:sp>
            <p:nvSpPr>
              <p:cNvPr id="6507" name=""/>
              <p:cNvSpPr/>
              <p:nvPr/>
            </p:nvSpPr>
            <p:spPr>
              <a:xfrm>
                <a:off x="84600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364644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6418440" y="392112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10" name=""/>
              <p:cNvGrpSpPr/>
              <p:nvPr/>
            </p:nvGrpSpPr>
            <p:grpSpPr>
              <a:xfrm>
                <a:off x="874800" y="3968640"/>
                <a:ext cx="925560" cy="506880"/>
                <a:chOff x="874800" y="3968640"/>
                <a:chExt cx="925560" cy="506880"/>
              </a:xfrm>
            </p:grpSpPr>
            <p:grpSp>
              <p:nvGrpSpPr>
                <p:cNvPr id="6511" name=""/>
                <p:cNvGrpSpPr/>
                <p:nvPr/>
              </p:nvGrpSpPr>
              <p:grpSpPr>
                <a:xfrm>
                  <a:off x="874800" y="3968640"/>
                  <a:ext cx="478080" cy="135360"/>
                  <a:chOff x="874800" y="3968640"/>
                  <a:chExt cx="478080" cy="135360"/>
                </a:xfrm>
              </p:grpSpPr>
              <p:sp>
                <p:nvSpPr>
                  <p:cNvPr id="6512" name=""/>
                  <p:cNvSpPr/>
                  <p:nvPr/>
                </p:nvSpPr>
                <p:spPr>
                  <a:xfrm>
                    <a:off x="952560" y="403704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3" name=""/>
                  <p:cNvSpPr/>
                  <p:nvPr/>
                </p:nvSpPr>
                <p:spPr>
                  <a:xfrm>
                    <a:off x="1281240" y="396864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"/>
                  <p:cNvSpPr/>
                  <p:nvPr/>
                </p:nvSpPr>
                <p:spPr>
                  <a:xfrm>
                    <a:off x="874800" y="40323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5" name=""/>
                <p:cNvGrpSpPr/>
                <p:nvPr/>
              </p:nvGrpSpPr>
              <p:grpSpPr>
                <a:xfrm>
                  <a:off x="1108080" y="4168800"/>
                  <a:ext cx="478080" cy="135000"/>
                  <a:chOff x="1108080" y="4168800"/>
                  <a:chExt cx="478080" cy="135000"/>
                </a:xfrm>
              </p:grpSpPr>
              <p:sp>
                <p:nvSpPr>
                  <p:cNvPr id="6516" name=""/>
                  <p:cNvSpPr/>
                  <p:nvPr/>
                </p:nvSpPr>
                <p:spPr>
                  <a:xfrm>
                    <a:off x="1185840" y="423720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7" name=""/>
                  <p:cNvSpPr/>
                  <p:nvPr/>
                </p:nvSpPr>
                <p:spPr>
                  <a:xfrm>
                    <a:off x="1514520" y="416880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8" name=""/>
                  <p:cNvSpPr/>
                  <p:nvPr/>
                </p:nvSpPr>
                <p:spPr>
                  <a:xfrm>
                    <a:off x="1108080" y="42321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9" name=""/>
                <p:cNvGrpSpPr/>
                <p:nvPr/>
              </p:nvGrpSpPr>
              <p:grpSpPr>
                <a:xfrm>
                  <a:off x="1322280" y="4340160"/>
                  <a:ext cx="478080" cy="135360"/>
                  <a:chOff x="1322280" y="4340160"/>
                  <a:chExt cx="478080" cy="135360"/>
                </a:xfrm>
              </p:grpSpPr>
              <p:sp>
                <p:nvSpPr>
                  <p:cNvPr id="6520" name=""/>
                  <p:cNvSpPr/>
                  <p:nvPr/>
                </p:nvSpPr>
                <p:spPr>
                  <a:xfrm>
                    <a:off x="1400040" y="4408560"/>
                    <a:ext cx="3225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1" name=""/>
                  <p:cNvSpPr/>
                  <p:nvPr/>
                </p:nvSpPr>
                <p:spPr>
                  <a:xfrm>
                    <a:off x="1728720" y="43401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2" name=""/>
                  <p:cNvSpPr/>
                  <p:nvPr/>
                </p:nvSpPr>
                <p:spPr>
                  <a:xfrm>
                    <a:off x="1322280" y="440388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23" name=""/>
              <p:cNvSpPr/>
              <p:nvPr/>
            </p:nvSpPr>
            <p:spPr>
              <a:xfrm>
                <a:off x="852480" y="4151160"/>
                <a:ext cx="11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971640" y="408312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25" name=""/>
              <p:cNvGrpSpPr/>
              <p:nvPr/>
            </p:nvGrpSpPr>
            <p:grpSpPr>
              <a:xfrm>
                <a:off x="1370160" y="4054320"/>
                <a:ext cx="477720" cy="135360"/>
                <a:chOff x="1370160" y="4054320"/>
                <a:chExt cx="477720" cy="135360"/>
              </a:xfrm>
            </p:grpSpPr>
            <p:sp>
              <p:nvSpPr>
                <p:cNvPr id="6526" name=""/>
                <p:cNvSpPr/>
                <p:nvPr/>
              </p:nvSpPr>
              <p:spPr>
                <a:xfrm>
                  <a:off x="1447920" y="412272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1776240" y="40543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1370160" y="411804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9" name=""/>
              <p:cNvSpPr/>
              <p:nvPr/>
            </p:nvSpPr>
            <p:spPr>
              <a:xfrm>
                <a:off x="857160" y="437040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1185840" y="430200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31" name=""/>
              <p:cNvGrpSpPr/>
              <p:nvPr/>
            </p:nvGrpSpPr>
            <p:grpSpPr>
              <a:xfrm>
                <a:off x="1593720" y="4230720"/>
                <a:ext cx="478080" cy="135000"/>
                <a:chOff x="1593720" y="4230720"/>
                <a:chExt cx="478080" cy="135000"/>
              </a:xfrm>
            </p:grpSpPr>
            <p:sp>
              <p:nvSpPr>
                <p:cNvPr id="6532" name=""/>
                <p:cNvSpPr/>
                <p:nvPr/>
              </p:nvSpPr>
              <p:spPr>
                <a:xfrm>
                  <a:off x="1671480" y="4299120"/>
                  <a:ext cx="322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2000160" y="423072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1593720" y="42940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5" name=""/>
              <p:cNvSpPr/>
              <p:nvPr/>
            </p:nvSpPr>
            <p:spPr>
              <a:xfrm>
                <a:off x="1871640" y="4479840"/>
                <a:ext cx="32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2200320" y="441180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1797120" y="4500360"/>
                <a:ext cx="67320" cy="46800"/>
              </a:xfrm>
              <a:custGeom>
                <a:avLst/>
                <a:gdLst/>
                <a:ahLst/>
                <a:rect l="0" t="0" r="r" b="b"/>
                <a:pathLst>
                  <a:path fill="none" w="187" h="130">
                    <a:moveTo>
                      <a:pt x="0" y="130"/>
                    </a:moveTo>
                    <a:lnTo>
                      <a:pt x="0" y="130"/>
                    </a:lnTo>
                    <a:cubicBezTo>
                      <a:pt x="35" y="130"/>
                      <a:pt x="69" y="121"/>
                      <a:pt x="100" y="103"/>
                    </a:cubicBezTo>
                    <a:cubicBezTo>
                      <a:pt x="130" y="85"/>
                      <a:pt x="156" y="60"/>
                      <a:pt x="173" y="29"/>
                    </a:cubicBezTo>
                    <a:cubicBezTo>
                      <a:pt x="179" y="20"/>
                      <a:pt x="183" y="10"/>
                      <a:pt x="187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38" name=""/>
              <p:cNvGrpSpPr/>
              <p:nvPr/>
            </p:nvGrpSpPr>
            <p:grpSpPr>
              <a:xfrm>
                <a:off x="1655640" y="3940200"/>
                <a:ext cx="925920" cy="506520"/>
                <a:chOff x="1655640" y="3940200"/>
                <a:chExt cx="925920" cy="506520"/>
              </a:xfrm>
            </p:grpSpPr>
            <p:grpSp>
              <p:nvGrpSpPr>
                <p:cNvPr id="6539" name=""/>
                <p:cNvGrpSpPr/>
                <p:nvPr/>
              </p:nvGrpSpPr>
              <p:grpSpPr>
                <a:xfrm>
                  <a:off x="1655640" y="3940200"/>
                  <a:ext cx="478080" cy="135000"/>
                  <a:chOff x="1655640" y="3940200"/>
                  <a:chExt cx="478080" cy="135000"/>
                </a:xfrm>
              </p:grpSpPr>
              <p:sp>
                <p:nvSpPr>
                  <p:cNvPr id="6540" name=""/>
                  <p:cNvSpPr/>
                  <p:nvPr/>
                </p:nvSpPr>
                <p:spPr>
                  <a:xfrm>
                    <a:off x="1733400" y="4008600"/>
                    <a:ext cx="3225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"/>
                  <p:cNvSpPr/>
                  <p:nvPr/>
                </p:nvSpPr>
                <p:spPr>
                  <a:xfrm>
                    <a:off x="2062080" y="394020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2" name=""/>
                  <p:cNvSpPr/>
                  <p:nvPr/>
                </p:nvSpPr>
                <p:spPr>
                  <a:xfrm>
                    <a:off x="1655640" y="40035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3" name=""/>
                <p:cNvGrpSpPr/>
                <p:nvPr/>
              </p:nvGrpSpPr>
              <p:grpSpPr>
                <a:xfrm>
                  <a:off x="1889280" y="4140360"/>
                  <a:ext cx="477720" cy="135000"/>
                  <a:chOff x="1889280" y="4140360"/>
                  <a:chExt cx="477720" cy="135000"/>
                </a:xfrm>
              </p:grpSpPr>
              <p:sp>
                <p:nvSpPr>
                  <p:cNvPr id="6544" name=""/>
                  <p:cNvSpPr/>
                  <p:nvPr/>
                </p:nvSpPr>
                <p:spPr>
                  <a:xfrm>
                    <a:off x="1967040" y="420840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5" name=""/>
                  <p:cNvSpPr/>
                  <p:nvPr/>
                </p:nvSpPr>
                <p:spPr>
                  <a:xfrm>
                    <a:off x="2295360" y="414036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6" name=""/>
                  <p:cNvSpPr/>
                  <p:nvPr/>
                </p:nvSpPr>
                <p:spPr>
                  <a:xfrm>
                    <a:off x="1889280" y="420372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7" name=""/>
                <p:cNvGrpSpPr/>
                <p:nvPr/>
              </p:nvGrpSpPr>
              <p:grpSpPr>
                <a:xfrm>
                  <a:off x="2103480" y="4311720"/>
                  <a:ext cx="478080" cy="135000"/>
                  <a:chOff x="2103480" y="4311720"/>
                  <a:chExt cx="478080" cy="135000"/>
                </a:xfrm>
              </p:grpSpPr>
              <p:sp>
                <p:nvSpPr>
                  <p:cNvPr id="6548" name=""/>
                  <p:cNvSpPr/>
                  <p:nvPr/>
                </p:nvSpPr>
                <p:spPr>
                  <a:xfrm>
                    <a:off x="2181240" y="4379760"/>
                    <a:ext cx="3222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9" name=""/>
                  <p:cNvSpPr/>
                  <p:nvPr/>
                </p:nvSpPr>
                <p:spPr>
                  <a:xfrm>
                    <a:off x="2509920" y="431172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"/>
                  <p:cNvSpPr/>
                  <p:nvPr/>
                </p:nvSpPr>
                <p:spPr>
                  <a:xfrm>
                    <a:off x="2103480" y="4375080"/>
                    <a:ext cx="716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99" h="199">
                        <a:moveTo>
                          <a:pt x="0" y="199"/>
                        </a:moveTo>
                        <a:lnTo>
                          <a:pt x="0" y="199"/>
                        </a:lnTo>
                        <a:cubicBezTo>
                          <a:pt x="35" y="199"/>
                          <a:pt x="69" y="190"/>
                          <a:pt x="100" y="172"/>
                        </a:cubicBezTo>
                        <a:cubicBezTo>
                          <a:pt x="130" y="155"/>
                          <a:pt x="155" y="130"/>
                          <a:pt x="172" y="99"/>
                        </a:cubicBezTo>
                        <a:cubicBezTo>
                          <a:pt x="190" y="69"/>
                          <a:pt x="199" y="35"/>
                          <a:pt x="199" y="0"/>
                        </a:cubicBez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51" name=""/>
              <p:cNvGrpSpPr/>
              <p:nvPr/>
            </p:nvGrpSpPr>
            <p:grpSpPr>
              <a:xfrm>
                <a:off x="2127240" y="4025880"/>
                <a:ext cx="478080" cy="135000"/>
                <a:chOff x="2127240" y="4025880"/>
                <a:chExt cx="478080" cy="135000"/>
              </a:xfrm>
            </p:grpSpPr>
            <p:sp>
              <p:nvSpPr>
                <p:cNvPr id="6552" name=""/>
                <p:cNvSpPr/>
                <p:nvPr/>
              </p:nvSpPr>
              <p:spPr>
                <a:xfrm>
                  <a:off x="2205000" y="4094280"/>
                  <a:ext cx="322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2533680" y="402588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2127240" y="4089240"/>
                  <a:ext cx="71640" cy="716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199">
                      <a:moveTo>
                        <a:pt x="0" y="199"/>
                      </a:moveTo>
                      <a:lnTo>
                        <a:pt x="0" y="199"/>
                      </a:lnTo>
                      <a:cubicBezTo>
                        <a:pt x="35" y="199"/>
                        <a:pt x="69" y="190"/>
                        <a:pt x="100" y="172"/>
                      </a:cubicBezTo>
                      <a:cubicBezTo>
                        <a:pt x="130" y="155"/>
                        <a:pt x="155" y="130"/>
                        <a:pt x="172" y="99"/>
                      </a:cubicBezTo>
                      <a:cubicBezTo>
                        <a:pt x="190" y="69"/>
                        <a:pt x="199" y="35"/>
                        <a:pt x="199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55" name=""/>
              <p:cNvSpPr/>
              <p:nvPr/>
            </p:nvSpPr>
            <p:spPr>
              <a:xfrm>
                <a:off x="2428920" y="4270320"/>
                <a:ext cx="24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2351160" y="4265640"/>
                <a:ext cx="71640" cy="71640"/>
              </a:xfrm>
              <a:custGeom>
                <a:avLst/>
                <a:gdLst/>
                <a:ahLst/>
                <a:rect l="0" t="0" r="r" b="b"/>
                <a:pathLst>
                  <a:path fill="none" w="199" h="199">
                    <a:moveTo>
                      <a:pt x="0" y="199"/>
                    </a:moveTo>
                    <a:lnTo>
                      <a:pt x="0" y="199"/>
                    </a:lnTo>
                    <a:cubicBezTo>
                      <a:pt x="35" y="199"/>
                      <a:pt x="69" y="190"/>
                      <a:pt x="100" y="172"/>
                    </a:cubicBezTo>
                    <a:cubicBezTo>
                      <a:pt x="130" y="155"/>
                      <a:pt x="155" y="130"/>
                      <a:pt x="172" y="99"/>
                    </a:cubicBezTo>
                    <a:cubicBezTo>
                      <a:pt x="190" y="69"/>
                      <a:pt x="199" y="35"/>
                      <a:pt x="199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2629080" y="4451400"/>
                <a:ext cx="5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2554200" y="4471560"/>
                <a:ext cx="67320" cy="46800"/>
              </a:xfrm>
              <a:custGeom>
                <a:avLst/>
                <a:gdLst/>
                <a:ahLst/>
                <a:rect l="0" t="0" r="r" b="b"/>
                <a:pathLst>
                  <a:path fill="none" w="187" h="130">
                    <a:moveTo>
                      <a:pt x="0" y="130"/>
                    </a:moveTo>
                    <a:lnTo>
                      <a:pt x="0" y="130"/>
                    </a:lnTo>
                    <a:cubicBezTo>
                      <a:pt x="35" y="130"/>
                      <a:pt x="69" y="121"/>
                      <a:pt x="100" y="103"/>
                    </a:cubicBezTo>
                    <a:cubicBezTo>
                      <a:pt x="130" y="85"/>
                      <a:pt x="156" y="60"/>
                      <a:pt x="173" y="29"/>
                    </a:cubicBezTo>
                    <a:cubicBezTo>
                      <a:pt x="179" y="20"/>
                      <a:pt x="183" y="10"/>
                      <a:pt x="187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59" name=""/>
              <p:cNvGrpSpPr/>
              <p:nvPr/>
            </p:nvGrpSpPr>
            <p:grpSpPr>
              <a:xfrm>
                <a:off x="3660840" y="3927600"/>
                <a:ext cx="1825560" cy="608040"/>
                <a:chOff x="3660840" y="3927600"/>
                <a:chExt cx="1825560" cy="608040"/>
              </a:xfrm>
            </p:grpSpPr>
            <p:sp>
              <p:nvSpPr>
                <p:cNvPr id="6560" name=""/>
                <p:cNvSpPr/>
                <p:nvPr/>
              </p:nvSpPr>
              <p:spPr>
                <a:xfrm flipH="1">
                  <a:off x="3662280" y="3927600"/>
                  <a:ext cx="260280" cy="26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 flipH="1">
                  <a:off x="3660840" y="3927600"/>
                  <a:ext cx="566640" cy="566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 flipH="1">
                  <a:off x="3935520" y="3929040"/>
                  <a:ext cx="595080" cy="59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 flipH="1">
                  <a:off x="4238640" y="3932280"/>
                  <a:ext cx="593640" cy="593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 flipH="1">
                  <a:off x="4533840" y="3933720"/>
                  <a:ext cx="601560" cy="60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 flipH="1">
                  <a:off x="4844880" y="3932280"/>
                  <a:ext cx="597240" cy="59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 flipH="1">
                  <a:off x="5149800" y="4192560"/>
                  <a:ext cx="336600" cy="33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custDash>
                    <a:ds d="402857" sp="4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7" name=""/>
              <p:cNvSpPr/>
              <p:nvPr/>
            </p:nvSpPr>
            <p:spPr>
              <a:xfrm flipH="1">
                <a:off x="3657600" y="3927600"/>
                <a:ext cx="127080" cy="12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 flipH="1">
                <a:off x="3657600" y="3927600"/>
                <a:ext cx="431640" cy="43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 flipH="1">
                <a:off x="3797280" y="3929040"/>
                <a:ext cx="595440" cy="595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 flipH="1">
                <a:off x="4100400" y="3932280"/>
                <a:ext cx="594000" cy="59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 flipH="1">
                <a:off x="4395960" y="3933720"/>
                <a:ext cx="601560" cy="60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 flipH="1">
                <a:off x="4707000" y="3932280"/>
                <a:ext cx="596880" cy="59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 flipH="1">
                <a:off x="5011560" y="4059360"/>
                <a:ext cx="470160" cy="4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 flipV="1">
                <a:off x="5338800" y="4392720"/>
                <a:ext cx="13320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75" name=""/>
              <p:cNvGrpSpPr/>
              <p:nvPr/>
            </p:nvGrpSpPr>
            <p:grpSpPr>
              <a:xfrm>
                <a:off x="6616800" y="3925800"/>
                <a:ext cx="199800" cy="614520"/>
                <a:chOff x="6616800" y="3925800"/>
                <a:chExt cx="199800" cy="614520"/>
              </a:xfrm>
            </p:grpSpPr>
            <p:sp>
              <p:nvSpPr>
                <p:cNvPr id="6576" name=""/>
                <p:cNvSpPr/>
                <p:nvPr/>
              </p:nvSpPr>
              <p:spPr>
                <a:xfrm>
                  <a:off x="6616800" y="3941640"/>
                  <a:ext cx="0" cy="59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6816600" y="392580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8" name=""/>
              <p:cNvGrpSpPr/>
              <p:nvPr/>
            </p:nvGrpSpPr>
            <p:grpSpPr>
              <a:xfrm>
                <a:off x="7029360" y="3924360"/>
                <a:ext cx="200160" cy="614160"/>
                <a:chOff x="7029360" y="3924360"/>
                <a:chExt cx="200160" cy="614160"/>
              </a:xfrm>
            </p:grpSpPr>
            <p:sp>
              <p:nvSpPr>
                <p:cNvPr id="6579" name=""/>
                <p:cNvSpPr/>
                <p:nvPr/>
              </p:nvSpPr>
              <p:spPr>
                <a:xfrm>
                  <a:off x="7029360" y="394020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7229520" y="3924360"/>
                  <a:ext cx="0" cy="61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1" name=""/>
              <p:cNvGrpSpPr/>
              <p:nvPr/>
            </p:nvGrpSpPr>
            <p:grpSpPr>
              <a:xfrm>
                <a:off x="7427880" y="3922560"/>
                <a:ext cx="200160" cy="614520"/>
                <a:chOff x="7427880" y="3922560"/>
                <a:chExt cx="200160" cy="614520"/>
              </a:xfrm>
            </p:grpSpPr>
            <p:sp>
              <p:nvSpPr>
                <p:cNvPr id="6582" name=""/>
                <p:cNvSpPr/>
                <p:nvPr/>
              </p:nvSpPr>
              <p:spPr>
                <a:xfrm>
                  <a:off x="7427880" y="393876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7628040" y="392256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4" name=""/>
              <p:cNvGrpSpPr/>
              <p:nvPr/>
            </p:nvGrpSpPr>
            <p:grpSpPr>
              <a:xfrm>
                <a:off x="7840800" y="3922560"/>
                <a:ext cx="199800" cy="614520"/>
                <a:chOff x="7840800" y="3922560"/>
                <a:chExt cx="199800" cy="614520"/>
              </a:xfrm>
            </p:grpSpPr>
            <p:sp>
              <p:nvSpPr>
                <p:cNvPr id="6585" name=""/>
                <p:cNvSpPr/>
                <p:nvPr/>
              </p:nvSpPr>
              <p:spPr>
                <a:xfrm>
                  <a:off x="7840800" y="3938760"/>
                  <a:ext cx="0" cy="59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8040600" y="3922560"/>
                  <a:ext cx="0" cy="61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7" name=""/>
              <p:cNvSpPr/>
              <p:nvPr/>
            </p:nvSpPr>
            <p:spPr>
              <a:xfrm>
                <a:off x="6431040" y="4110120"/>
                <a:ext cx="182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6431040" y="4294080"/>
                <a:ext cx="1812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6431040" y="4464000"/>
                <a:ext cx="1827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0" name=""/>
            <p:cNvGrpSpPr/>
            <p:nvPr/>
          </p:nvGrpSpPr>
          <p:grpSpPr>
            <a:xfrm>
              <a:off x="846000" y="1389240"/>
              <a:ext cx="7417080" cy="614520"/>
              <a:chOff x="846000" y="1389240"/>
              <a:chExt cx="7417080" cy="614520"/>
            </a:xfrm>
          </p:grpSpPr>
          <p:sp>
            <p:nvSpPr>
              <p:cNvPr id="6591" name=""/>
              <p:cNvSpPr/>
              <p:nvPr/>
            </p:nvSpPr>
            <p:spPr>
              <a:xfrm>
                <a:off x="846000" y="1389240"/>
                <a:ext cx="1844640" cy="61452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3646440" y="1389240"/>
                <a:ext cx="1844640" cy="61452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6418440" y="1389240"/>
                <a:ext cx="1844640" cy="61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6415200" y="1558800"/>
                <a:ext cx="1845000" cy="444960"/>
              </a:xfrm>
              <a:custGeom>
                <a:avLst/>
                <a:gdLst/>
                <a:ahLst/>
                <a:rect l="0" t="0" r="r" b="b"/>
                <a:pathLst>
                  <a:path w="5125" h="1236">
                    <a:moveTo>
                      <a:pt x="5125" y="295"/>
                    </a:moveTo>
                    <a:lnTo>
                      <a:pt x="5125" y="1236"/>
                    </a:lnTo>
                    <a:lnTo>
                      <a:pt x="0" y="1236"/>
                    </a:lnTo>
                    <a:lnTo>
                      <a:pt x="0" y="0"/>
                    </a:lnTo>
                    <a:lnTo>
                      <a:pt x="127" y="39"/>
                    </a:lnTo>
                    <a:lnTo>
                      <a:pt x="255" y="39"/>
                    </a:lnTo>
                    <a:lnTo>
                      <a:pt x="383" y="39"/>
                    </a:lnTo>
                    <a:lnTo>
                      <a:pt x="555" y="39"/>
                    </a:lnTo>
                    <a:lnTo>
                      <a:pt x="683" y="39"/>
                    </a:lnTo>
                    <a:lnTo>
                      <a:pt x="811" y="39"/>
                    </a:lnTo>
                    <a:lnTo>
                      <a:pt x="939" y="0"/>
                    </a:lnTo>
                    <a:lnTo>
                      <a:pt x="1067" y="0"/>
                    </a:lnTo>
                    <a:lnTo>
                      <a:pt x="1239" y="0"/>
                    </a:lnTo>
                    <a:lnTo>
                      <a:pt x="1367" y="0"/>
                    </a:lnTo>
                    <a:lnTo>
                      <a:pt x="1494" y="0"/>
                    </a:lnTo>
                    <a:lnTo>
                      <a:pt x="1622" y="0"/>
                    </a:lnTo>
                    <a:lnTo>
                      <a:pt x="1750" y="0"/>
                    </a:lnTo>
                    <a:lnTo>
                      <a:pt x="1878" y="0"/>
                    </a:lnTo>
                    <a:lnTo>
                      <a:pt x="2006" y="39"/>
                    </a:lnTo>
                    <a:lnTo>
                      <a:pt x="2134" y="39"/>
                    </a:lnTo>
                    <a:lnTo>
                      <a:pt x="2262" y="83"/>
                    </a:lnTo>
                    <a:lnTo>
                      <a:pt x="2390" y="83"/>
                    </a:lnTo>
                    <a:lnTo>
                      <a:pt x="2563" y="127"/>
                    </a:lnTo>
                    <a:lnTo>
                      <a:pt x="2690" y="167"/>
                    </a:lnTo>
                    <a:lnTo>
                      <a:pt x="2862" y="211"/>
                    </a:lnTo>
                    <a:lnTo>
                      <a:pt x="3030" y="211"/>
                    </a:lnTo>
                    <a:lnTo>
                      <a:pt x="3202" y="211"/>
                    </a:lnTo>
                    <a:lnTo>
                      <a:pt x="3374" y="211"/>
                    </a:lnTo>
                    <a:lnTo>
                      <a:pt x="3546" y="211"/>
                    </a:lnTo>
                    <a:lnTo>
                      <a:pt x="3674" y="167"/>
                    </a:lnTo>
                    <a:lnTo>
                      <a:pt x="3802" y="167"/>
                    </a:lnTo>
                    <a:lnTo>
                      <a:pt x="3969" y="167"/>
                    </a:lnTo>
                    <a:lnTo>
                      <a:pt x="4097" y="167"/>
                    </a:lnTo>
                    <a:lnTo>
                      <a:pt x="4269" y="167"/>
                    </a:lnTo>
                    <a:lnTo>
                      <a:pt x="4397" y="167"/>
                    </a:lnTo>
                    <a:lnTo>
                      <a:pt x="4525" y="211"/>
                    </a:lnTo>
                    <a:lnTo>
                      <a:pt x="4653" y="211"/>
                    </a:lnTo>
                    <a:lnTo>
                      <a:pt x="4781" y="255"/>
                    </a:lnTo>
                    <a:lnTo>
                      <a:pt x="4909" y="255"/>
                    </a:lnTo>
                    <a:lnTo>
                      <a:pt x="5036" y="255"/>
                    </a:lnTo>
                    <a:lnTo>
                      <a:pt x="5125" y="295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5" name=""/>
            <p:cNvSpPr/>
            <p:nvPr/>
          </p:nvSpPr>
          <p:spPr>
            <a:xfrm>
              <a:off x="846000" y="5159520"/>
              <a:ext cx="1844640" cy="61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3646440" y="5159520"/>
              <a:ext cx="1844640" cy="61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6418440" y="5159520"/>
              <a:ext cx="1844640" cy="61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 flipH="1">
              <a:off x="860400" y="5180040"/>
              <a:ext cx="127080" cy="127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 flipH="1">
              <a:off x="860400" y="5180040"/>
              <a:ext cx="432000" cy="43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 flipH="1">
              <a:off x="1000080" y="5181480"/>
              <a:ext cx="595440" cy="59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 flipH="1">
              <a:off x="1303200" y="5184720"/>
              <a:ext cx="594000" cy="593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 flipH="1">
              <a:off x="1614600" y="5170320"/>
              <a:ext cx="601560" cy="60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 flipH="1">
              <a:off x="1909800" y="5184720"/>
              <a:ext cx="596880" cy="596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 flipH="1">
              <a:off x="2214720" y="5311800"/>
              <a:ext cx="469800" cy="469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 flipV="1">
              <a:off x="2541600" y="5645160"/>
              <a:ext cx="133200" cy="13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06" name=""/>
            <p:cNvGrpSpPr/>
            <p:nvPr/>
          </p:nvGrpSpPr>
          <p:grpSpPr>
            <a:xfrm>
              <a:off x="858960" y="5153040"/>
              <a:ext cx="1823760" cy="611280"/>
              <a:chOff x="858960" y="5153040"/>
              <a:chExt cx="1823760" cy="611280"/>
            </a:xfrm>
          </p:grpSpPr>
          <p:sp>
            <p:nvSpPr>
              <p:cNvPr id="6607" name=""/>
              <p:cNvSpPr/>
              <p:nvPr/>
            </p:nvSpPr>
            <p:spPr>
              <a:xfrm>
                <a:off x="2556000" y="5162400"/>
                <a:ext cx="126720" cy="12708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2251080" y="5162400"/>
                <a:ext cx="431640" cy="43200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1947960" y="5164200"/>
                <a:ext cx="595080" cy="59508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1646280" y="5167440"/>
                <a:ext cx="593640" cy="59364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1327320" y="5153040"/>
                <a:ext cx="601560" cy="60156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1036800" y="5167440"/>
                <a:ext cx="596880" cy="59688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858960" y="5294160"/>
                <a:ext cx="469800" cy="47016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 flipH="1" flipV="1">
                <a:off x="868320" y="5627520"/>
                <a:ext cx="133560" cy="133560"/>
              </a:xfrm>
              <a:prstGeom prst="line">
                <a:avLst/>
              </a:prstGeom>
              <a:ln w="25560">
                <a:solidFill>
                  <a:srgbClr val="01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15" name=""/>
            <p:cNvSpPr/>
            <p:nvPr/>
          </p:nvSpPr>
          <p:spPr>
            <a:xfrm>
              <a:off x="3649680" y="5424480"/>
              <a:ext cx="1844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3665520" y="5454720"/>
              <a:ext cx="1812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3665520" y="5500800"/>
              <a:ext cx="338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4125960" y="5500800"/>
              <a:ext cx="922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5186520" y="5500800"/>
              <a:ext cx="30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3819600" y="5654520"/>
              <a:ext cx="522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4633920" y="5654520"/>
              <a:ext cx="690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3757680" y="5562720"/>
              <a:ext cx="768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4680000" y="5562720"/>
              <a:ext cx="690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6431040" y="5468760"/>
              <a:ext cx="1812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6415200" y="5362560"/>
              <a:ext cx="170280" cy="78120"/>
            </a:xfrm>
            <a:custGeom>
              <a:avLst/>
              <a:gdLst/>
              <a:ahLst/>
              <a:rect l="0" t="0" r="r" b="b"/>
              <a:pathLst>
                <a:path fill="none" w="473" h="217">
                  <a:moveTo>
                    <a:pt x="0" y="0"/>
                  </a:moveTo>
                  <a:lnTo>
                    <a:pt x="128" y="0"/>
                  </a:lnTo>
                  <a:lnTo>
                    <a:pt x="256" y="0"/>
                  </a:lnTo>
                  <a:lnTo>
                    <a:pt x="385" y="88"/>
                  </a:lnTo>
                  <a:lnTo>
                    <a:pt x="473" y="2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6431040" y="5286240"/>
              <a:ext cx="292320" cy="168480"/>
            </a:xfrm>
            <a:custGeom>
              <a:avLst/>
              <a:gdLst/>
              <a:ahLst/>
              <a:rect l="0" t="0" r="r" b="b"/>
              <a:pathLst>
                <a:path fill="none" w="812" h="468">
                  <a:moveTo>
                    <a:pt x="0" y="0"/>
                  </a:moveTo>
                  <a:lnTo>
                    <a:pt x="127" y="0"/>
                  </a:lnTo>
                  <a:lnTo>
                    <a:pt x="255" y="44"/>
                  </a:lnTo>
                  <a:lnTo>
                    <a:pt x="383" y="83"/>
                  </a:lnTo>
                  <a:lnTo>
                    <a:pt x="512" y="127"/>
                  </a:lnTo>
                  <a:lnTo>
                    <a:pt x="640" y="211"/>
                  </a:lnTo>
                  <a:lnTo>
                    <a:pt x="724" y="340"/>
                  </a:lnTo>
                  <a:lnTo>
                    <a:pt x="812" y="46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6446880" y="5164200"/>
              <a:ext cx="430560" cy="306720"/>
            </a:xfrm>
            <a:custGeom>
              <a:avLst/>
              <a:gdLst/>
              <a:ahLst/>
              <a:rect l="0" t="0" r="r" b="b"/>
              <a:pathLst>
                <a:path fill="none" w="1196" h="852">
                  <a:moveTo>
                    <a:pt x="0" y="0"/>
                  </a:moveTo>
                  <a:lnTo>
                    <a:pt x="127" y="0"/>
                  </a:lnTo>
                  <a:lnTo>
                    <a:pt x="255" y="0"/>
                  </a:lnTo>
                  <a:lnTo>
                    <a:pt x="383" y="39"/>
                  </a:lnTo>
                  <a:lnTo>
                    <a:pt x="595" y="127"/>
                  </a:lnTo>
                  <a:lnTo>
                    <a:pt x="724" y="167"/>
                  </a:lnTo>
                  <a:lnTo>
                    <a:pt x="852" y="255"/>
                  </a:lnTo>
                  <a:lnTo>
                    <a:pt x="979" y="339"/>
                  </a:lnTo>
                  <a:lnTo>
                    <a:pt x="1024" y="468"/>
                  </a:lnTo>
                  <a:lnTo>
                    <a:pt x="1107" y="596"/>
                  </a:lnTo>
                  <a:lnTo>
                    <a:pt x="1107" y="724"/>
                  </a:lnTo>
                  <a:lnTo>
                    <a:pt x="1196" y="8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6937200" y="5164200"/>
              <a:ext cx="278280" cy="306720"/>
            </a:xfrm>
            <a:custGeom>
              <a:avLst/>
              <a:gdLst/>
              <a:ahLst/>
              <a:rect l="0" t="0" r="r" b="b"/>
              <a:pathLst>
                <a:path fill="none" w="773" h="852">
                  <a:moveTo>
                    <a:pt x="0" y="0"/>
                  </a:moveTo>
                  <a:lnTo>
                    <a:pt x="127" y="0"/>
                  </a:lnTo>
                  <a:lnTo>
                    <a:pt x="256" y="39"/>
                  </a:lnTo>
                  <a:lnTo>
                    <a:pt x="384" y="127"/>
                  </a:lnTo>
                  <a:lnTo>
                    <a:pt x="472" y="255"/>
                  </a:lnTo>
                  <a:lnTo>
                    <a:pt x="601" y="339"/>
                  </a:lnTo>
                  <a:lnTo>
                    <a:pt x="685" y="468"/>
                  </a:lnTo>
                  <a:lnTo>
                    <a:pt x="729" y="596"/>
                  </a:lnTo>
                  <a:lnTo>
                    <a:pt x="773" y="724"/>
                  </a:lnTo>
                  <a:lnTo>
                    <a:pt x="773" y="8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7493040" y="5164200"/>
              <a:ext cx="200520" cy="276480"/>
            </a:xfrm>
            <a:custGeom>
              <a:avLst/>
              <a:gdLst/>
              <a:ahLst/>
              <a:rect l="0" t="0" r="r" b="b"/>
              <a:pathLst>
                <a:path fill="none" w="557" h="768">
                  <a:moveTo>
                    <a:pt x="0" y="0"/>
                  </a:moveTo>
                  <a:lnTo>
                    <a:pt x="127" y="39"/>
                  </a:lnTo>
                  <a:lnTo>
                    <a:pt x="212" y="167"/>
                  </a:lnTo>
                  <a:lnTo>
                    <a:pt x="300" y="295"/>
                  </a:lnTo>
                  <a:lnTo>
                    <a:pt x="340" y="424"/>
                  </a:lnTo>
                  <a:lnTo>
                    <a:pt x="469" y="512"/>
                  </a:lnTo>
                  <a:lnTo>
                    <a:pt x="557" y="640"/>
                  </a:lnTo>
                  <a:lnTo>
                    <a:pt x="557" y="76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8015400" y="5164200"/>
              <a:ext cx="108360" cy="306720"/>
            </a:xfrm>
            <a:custGeom>
              <a:avLst/>
              <a:gdLst/>
              <a:ahLst/>
              <a:rect l="0" t="0" r="r" b="b"/>
              <a:pathLst>
                <a:path fill="none" w="301" h="852">
                  <a:moveTo>
                    <a:pt x="0" y="0"/>
                  </a:moveTo>
                  <a:lnTo>
                    <a:pt x="128" y="83"/>
                  </a:lnTo>
                  <a:lnTo>
                    <a:pt x="172" y="211"/>
                  </a:lnTo>
                  <a:lnTo>
                    <a:pt x="257" y="339"/>
                  </a:lnTo>
                  <a:lnTo>
                    <a:pt x="257" y="468"/>
                  </a:lnTo>
                  <a:lnTo>
                    <a:pt x="301" y="596"/>
                  </a:lnTo>
                  <a:lnTo>
                    <a:pt x="301" y="724"/>
                  </a:lnTo>
                  <a:lnTo>
                    <a:pt x="301" y="8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 flipV="1">
              <a:off x="6431040" y="5302080"/>
              <a:ext cx="6192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 flipV="1">
              <a:off x="6523200" y="5256360"/>
              <a:ext cx="199800" cy="168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 flipV="1">
              <a:off x="6553080" y="5348160"/>
              <a:ext cx="476280" cy="92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4" name=""/>
            <p:cNvGrpSpPr/>
            <p:nvPr/>
          </p:nvGrpSpPr>
          <p:grpSpPr>
            <a:xfrm>
              <a:off x="6676920" y="5470560"/>
              <a:ext cx="1581480" cy="322560"/>
              <a:chOff x="6676920" y="5470560"/>
              <a:chExt cx="1581480" cy="322560"/>
            </a:xfrm>
          </p:grpSpPr>
          <p:sp>
            <p:nvSpPr>
              <p:cNvPr id="6635" name=""/>
              <p:cNvSpPr/>
              <p:nvPr/>
            </p:nvSpPr>
            <p:spPr>
              <a:xfrm>
                <a:off x="7597800" y="5486400"/>
                <a:ext cx="338400" cy="292320"/>
              </a:xfrm>
              <a:custGeom>
                <a:avLst/>
                <a:gdLst/>
                <a:ahLst/>
                <a:rect l="0" t="0" r="r" b="b"/>
                <a:pathLst>
                  <a:path fill="none" w="940" h="812">
                    <a:moveTo>
                      <a:pt x="940" y="0"/>
                    </a:moveTo>
                    <a:lnTo>
                      <a:pt x="812" y="0"/>
                    </a:lnTo>
                    <a:lnTo>
                      <a:pt x="684" y="0"/>
                    </a:lnTo>
                    <a:lnTo>
                      <a:pt x="556" y="39"/>
                    </a:lnTo>
                    <a:lnTo>
                      <a:pt x="427" y="83"/>
                    </a:lnTo>
                    <a:lnTo>
                      <a:pt x="299" y="171"/>
                    </a:lnTo>
                    <a:lnTo>
                      <a:pt x="171" y="211"/>
                    </a:lnTo>
                    <a:lnTo>
                      <a:pt x="44" y="255"/>
                    </a:lnTo>
                    <a:lnTo>
                      <a:pt x="0" y="383"/>
                    </a:lnTo>
                    <a:lnTo>
                      <a:pt x="0" y="512"/>
                    </a:lnTo>
                    <a:lnTo>
                      <a:pt x="127" y="596"/>
                    </a:lnTo>
                    <a:lnTo>
                      <a:pt x="255" y="684"/>
                    </a:lnTo>
                    <a:lnTo>
                      <a:pt x="427" y="724"/>
                    </a:lnTo>
                    <a:lnTo>
                      <a:pt x="640" y="768"/>
                    </a:lnTo>
                    <a:lnTo>
                      <a:pt x="768" y="8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8059680" y="5562720"/>
                <a:ext cx="198720" cy="108360"/>
              </a:xfrm>
              <a:custGeom>
                <a:avLst/>
                <a:gdLst/>
                <a:ahLst/>
                <a:rect l="0" t="0" r="r" b="b"/>
                <a:pathLst>
                  <a:path fill="none" w="552" h="301">
                    <a:moveTo>
                      <a:pt x="512" y="0"/>
                    </a:moveTo>
                    <a:lnTo>
                      <a:pt x="384" y="0"/>
                    </a:lnTo>
                    <a:lnTo>
                      <a:pt x="255" y="44"/>
                    </a:lnTo>
                    <a:lnTo>
                      <a:pt x="127" y="44"/>
                    </a:lnTo>
                    <a:lnTo>
                      <a:pt x="0" y="89"/>
                    </a:lnTo>
                    <a:lnTo>
                      <a:pt x="167" y="172"/>
                    </a:lnTo>
                    <a:lnTo>
                      <a:pt x="296" y="217"/>
                    </a:lnTo>
                    <a:lnTo>
                      <a:pt x="424" y="301"/>
                    </a:lnTo>
                    <a:lnTo>
                      <a:pt x="552" y="301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7843680" y="5486400"/>
                <a:ext cx="292320" cy="292320"/>
              </a:xfrm>
              <a:custGeom>
                <a:avLst/>
                <a:gdLst/>
                <a:ahLst/>
                <a:rect l="0" t="0" r="r" b="b"/>
                <a:pathLst>
                  <a:path fill="none" w="812" h="812">
                    <a:moveTo>
                      <a:pt x="768" y="0"/>
                    </a:moveTo>
                    <a:lnTo>
                      <a:pt x="640" y="0"/>
                    </a:lnTo>
                    <a:lnTo>
                      <a:pt x="512" y="0"/>
                    </a:lnTo>
                    <a:lnTo>
                      <a:pt x="383" y="83"/>
                    </a:lnTo>
                    <a:lnTo>
                      <a:pt x="211" y="211"/>
                    </a:lnTo>
                    <a:lnTo>
                      <a:pt x="83" y="299"/>
                    </a:lnTo>
                    <a:lnTo>
                      <a:pt x="0" y="428"/>
                    </a:lnTo>
                    <a:lnTo>
                      <a:pt x="0" y="556"/>
                    </a:lnTo>
                    <a:lnTo>
                      <a:pt x="127" y="640"/>
                    </a:lnTo>
                    <a:lnTo>
                      <a:pt x="255" y="640"/>
                    </a:lnTo>
                    <a:lnTo>
                      <a:pt x="428" y="684"/>
                    </a:lnTo>
                    <a:lnTo>
                      <a:pt x="556" y="724"/>
                    </a:lnTo>
                    <a:lnTo>
                      <a:pt x="684" y="812"/>
                    </a:lnTo>
                    <a:lnTo>
                      <a:pt x="812" y="81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7121520" y="5470560"/>
                <a:ext cx="584640" cy="322560"/>
              </a:xfrm>
              <a:custGeom>
                <a:avLst/>
                <a:gdLst/>
                <a:ahLst/>
                <a:rect l="0" t="0" r="r" b="b"/>
                <a:pathLst>
                  <a:path fill="none" w="1624" h="896">
                    <a:moveTo>
                      <a:pt x="1112" y="44"/>
                    </a:moveTo>
                    <a:lnTo>
                      <a:pt x="984" y="0"/>
                    </a:lnTo>
                    <a:lnTo>
                      <a:pt x="856" y="0"/>
                    </a:lnTo>
                    <a:lnTo>
                      <a:pt x="684" y="83"/>
                    </a:lnTo>
                    <a:lnTo>
                      <a:pt x="512" y="127"/>
                    </a:lnTo>
                    <a:lnTo>
                      <a:pt x="343" y="216"/>
                    </a:lnTo>
                    <a:lnTo>
                      <a:pt x="216" y="255"/>
                    </a:lnTo>
                    <a:lnTo>
                      <a:pt x="88" y="255"/>
                    </a:lnTo>
                    <a:lnTo>
                      <a:pt x="0" y="383"/>
                    </a:lnTo>
                    <a:lnTo>
                      <a:pt x="0" y="512"/>
                    </a:lnTo>
                    <a:lnTo>
                      <a:pt x="127" y="556"/>
                    </a:lnTo>
                    <a:lnTo>
                      <a:pt x="255" y="600"/>
                    </a:lnTo>
                    <a:lnTo>
                      <a:pt x="383" y="684"/>
                    </a:lnTo>
                    <a:lnTo>
                      <a:pt x="512" y="684"/>
                    </a:lnTo>
                    <a:lnTo>
                      <a:pt x="640" y="728"/>
                    </a:lnTo>
                    <a:lnTo>
                      <a:pt x="768" y="768"/>
                    </a:lnTo>
                    <a:lnTo>
                      <a:pt x="984" y="768"/>
                    </a:lnTo>
                    <a:lnTo>
                      <a:pt x="1112" y="768"/>
                    </a:lnTo>
                    <a:lnTo>
                      <a:pt x="1241" y="768"/>
                    </a:lnTo>
                    <a:lnTo>
                      <a:pt x="1369" y="768"/>
                    </a:lnTo>
                    <a:lnTo>
                      <a:pt x="1496" y="812"/>
                    </a:lnTo>
                    <a:lnTo>
                      <a:pt x="1624" y="89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6676920" y="5470560"/>
                <a:ext cx="491040" cy="308160"/>
              </a:xfrm>
              <a:custGeom>
                <a:avLst/>
                <a:gdLst/>
                <a:ahLst/>
                <a:rect l="0" t="0" r="r" b="b"/>
                <a:pathLst>
                  <a:path fill="none" w="1364" h="856">
                    <a:moveTo>
                      <a:pt x="940" y="0"/>
                    </a:moveTo>
                    <a:lnTo>
                      <a:pt x="807" y="0"/>
                    </a:lnTo>
                    <a:lnTo>
                      <a:pt x="680" y="44"/>
                    </a:lnTo>
                    <a:lnTo>
                      <a:pt x="552" y="127"/>
                    </a:lnTo>
                    <a:lnTo>
                      <a:pt x="424" y="171"/>
                    </a:lnTo>
                    <a:lnTo>
                      <a:pt x="295" y="255"/>
                    </a:lnTo>
                    <a:lnTo>
                      <a:pt x="167" y="343"/>
                    </a:lnTo>
                    <a:lnTo>
                      <a:pt x="39" y="472"/>
                    </a:lnTo>
                    <a:lnTo>
                      <a:pt x="0" y="600"/>
                    </a:lnTo>
                    <a:lnTo>
                      <a:pt x="127" y="684"/>
                    </a:lnTo>
                    <a:lnTo>
                      <a:pt x="255" y="728"/>
                    </a:lnTo>
                    <a:lnTo>
                      <a:pt x="424" y="728"/>
                    </a:lnTo>
                    <a:lnTo>
                      <a:pt x="596" y="728"/>
                    </a:lnTo>
                    <a:lnTo>
                      <a:pt x="724" y="728"/>
                    </a:lnTo>
                    <a:lnTo>
                      <a:pt x="852" y="728"/>
                    </a:lnTo>
                    <a:lnTo>
                      <a:pt x="979" y="728"/>
                    </a:lnTo>
                    <a:lnTo>
                      <a:pt x="1108" y="768"/>
                    </a:lnTo>
                    <a:lnTo>
                      <a:pt x="1236" y="812"/>
                    </a:lnTo>
                    <a:lnTo>
                      <a:pt x="1364" y="85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40" name=""/>
            <p:cNvSpPr txBox="1"/>
            <p:nvPr/>
          </p:nvSpPr>
          <p:spPr>
            <a:xfrm>
              <a:off x="658800" y="2071800"/>
              <a:ext cx="22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t Iron (General Us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1" name=""/>
            <p:cNvSpPr txBox="1"/>
            <p:nvPr/>
          </p:nvSpPr>
          <p:spPr>
            <a:xfrm>
              <a:off x="3552840" y="2071800"/>
              <a:ext cx="185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Metal (Zin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2" name=""/>
            <p:cNvSpPr txBox="1"/>
            <p:nvPr/>
          </p:nvSpPr>
          <p:spPr>
            <a:xfrm>
              <a:off x="7024680" y="2041560"/>
              <a:ext cx="62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3" name=""/>
            <p:cNvSpPr txBox="1"/>
            <p:nvPr/>
          </p:nvSpPr>
          <p:spPr>
            <a:xfrm>
              <a:off x="1430280" y="330048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4" name=""/>
            <p:cNvSpPr txBox="1"/>
            <p:nvPr/>
          </p:nvSpPr>
          <p:spPr>
            <a:xfrm>
              <a:off x="3452760" y="3300480"/>
              <a:ext cx="2238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gnesium, Alumin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5" name=""/>
            <p:cNvSpPr txBox="1"/>
            <p:nvPr/>
          </p:nvSpPr>
          <p:spPr>
            <a:xfrm>
              <a:off x="6854760" y="331632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tan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6" name=""/>
            <p:cNvSpPr txBox="1"/>
            <p:nvPr/>
          </p:nvSpPr>
          <p:spPr>
            <a:xfrm>
              <a:off x="706320" y="4575240"/>
              <a:ext cx="2108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elt, Leather, &amp; Fib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7" name=""/>
            <p:cNvSpPr txBox="1"/>
            <p:nvPr/>
          </p:nvSpPr>
          <p:spPr>
            <a:xfrm>
              <a:off x="3660840" y="4560840"/>
              <a:ext cx="1792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onze, Brass, et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8" name=""/>
            <p:cNvSpPr txBox="1"/>
            <p:nvPr/>
          </p:nvSpPr>
          <p:spPr>
            <a:xfrm>
              <a:off x="6464160" y="4560840"/>
              <a:ext cx="174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ectric Winding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9" name=""/>
            <p:cNvSpPr txBox="1"/>
            <p:nvPr/>
          </p:nvSpPr>
          <p:spPr>
            <a:xfrm>
              <a:off x="609480" y="5834160"/>
              <a:ext cx="23335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rble, Slate, Glass, et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0" name=""/>
            <p:cNvSpPr txBox="1"/>
            <p:nvPr/>
          </p:nvSpPr>
          <p:spPr>
            <a:xfrm>
              <a:off x="3819600" y="5851440"/>
              <a:ext cx="1504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ter, Liqui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1" name=""/>
            <p:cNvSpPr txBox="1"/>
            <p:nvPr/>
          </p:nvSpPr>
          <p:spPr>
            <a:xfrm>
              <a:off x="6392880" y="5805360"/>
              <a:ext cx="18892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ood; Cross Grai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th Grai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838080" y="5165640"/>
              <a:ext cx="1859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3" name=""/>
          <p:cNvSpPr txBox="1"/>
          <p:nvPr/>
        </p:nvSpPr>
        <p:spPr>
          <a:xfrm>
            <a:off x="701640" y="276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 Outlin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 Outli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5" name=""/>
          <p:cNvSpPr/>
          <p:nvPr/>
        </p:nvSpPr>
        <p:spPr>
          <a:xfrm>
            <a:off x="1558800" y="2185920"/>
            <a:ext cx="6591600" cy="3042000"/>
          </a:xfrm>
          <a:custGeom>
            <a:avLst/>
            <a:gdLst/>
            <a:ahLst/>
            <a:rect l="0" t="0" r="r" b="b"/>
            <a:pathLst>
              <a:path w="18310" h="8450">
                <a:moveTo>
                  <a:pt x="0" y="7810"/>
                </a:moveTo>
                <a:lnTo>
                  <a:pt x="0" y="0"/>
                </a:lnTo>
                <a:lnTo>
                  <a:pt x="2945" y="0"/>
                </a:lnTo>
                <a:lnTo>
                  <a:pt x="4863" y="1918"/>
                </a:lnTo>
                <a:lnTo>
                  <a:pt x="6570" y="1918"/>
                </a:lnTo>
                <a:lnTo>
                  <a:pt x="6570" y="5120"/>
                </a:lnTo>
                <a:lnTo>
                  <a:pt x="14425" y="5120"/>
                </a:lnTo>
                <a:lnTo>
                  <a:pt x="14425" y="3668"/>
                </a:lnTo>
                <a:lnTo>
                  <a:pt x="18310" y="3668"/>
                </a:lnTo>
                <a:lnTo>
                  <a:pt x="18310" y="8450"/>
                </a:lnTo>
                <a:lnTo>
                  <a:pt x="727" y="8450"/>
                </a:lnTo>
                <a:lnTo>
                  <a:pt x="0" y="781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6" name=""/>
          <p:cNvSpPr/>
          <p:nvPr/>
        </p:nvSpPr>
        <p:spPr>
          <a:xfrm>
            <a:off x="1738440" y="2552760"/>
            <a:ext cx="6120000" cy="2489400"/>
          </a:xfrm>
          <a:custGeom>
            <a:avLst/>
            <a:gdLst/>
            <a:ahLst/>
            <a:rect l="0" t="0" r="r" b="b"/>
            <a:pathLst>
              <a:path w="17000" h="6915">
                <a:moveTo>
                  <a:pt x="0" y="6392"/>
                </a:moveTo>
                <a:lnTo>
                  <a:pt x="0" y="0"/>
                </a:lnTo>
                <a:lnTo>
                  <a:pt x="2734" y="0"/>
                </a:lnTo>
                <a:lnTo>
                  <a:pt x="4515" y="1569"/>
                </a:lnTo>
                <a:lnTo>
                  <a:pt x="5519" y="1577"/>
                </a:lnTo>
                <a:lnTo>
                  <a:pt x="5519" y="4569"/>
                </a:lnTo>
                <a:lnTo>
                  <a:pt x="14392" y="4569"/>
                </a:lnTo>
                <a:lnTo>
                  <a:pt x="14384" y="3002"/>
                </a:lnTo>
                <a:lnTo>
                  <a:pt x="17000" y="3002"/>
                </a:lnTo>
                <a:lnTo>
                  <a:pt x="17000" y="6915"/>
                </a:lnTo>
                <a:lnTo>
                  <a:pt x="675" y="6915"/>
                </a:lnTo>
                <a:lnTo>
                  <a:pt x="0" y="6392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7" name=""/>
          <p:cNvSpPr/>
          <p:nvPr/>
        </p:nvSpPr>
        <p:spPr>
          <a:xfrm>
            <a:off x="2295360" y="3579840"/>
            <a:ext cx="1204920" cy="1204920"/>
          </a:xfrm>
          <a:prstGeom prst="ellipse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8" name=""/>
          <p:cNvSpPr/>
          <p:nvPr/>
        </p:nvSpPr>
        <p:spPr>
          <a:xfrm>
            <a:off x="2421000" y="3705120"/>
            <a:ext cx="952560" cy="952560"/>
          </a:xfrm>
          <a:prstGeom prst="ellipse">
            <a:avLst/>
          </a:prstGeom>
          <a:solidFill>
            <a:srgbClr val="0101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9" name=""/>
          <p:cNvSpPr txBox="1"/>
          <p:nvPr/>
        </p:nvSpPr>
        <p:spPr>
          <a:xfrm>
            <a:off x="1281240" y="5535720"/>
            <a:ext cx="639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areas to be crosshatched may use section outli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0" name=""/>
          <p:cNvSpPr txBox="1"/>
          <p:nvPr/>
        </p:nvSpPr>
        <p:spPr>
          <a:xfrm>
            <a:off x="700200" y="2452680"/>
            <a:ext cx="7772400" cy="185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120680"/>
            <a:ext cx="77724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tory Concep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 Arrowheads --approximately 1/4” to 3/8” in leng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/ Ratio 3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01760" y="3092400"/>
            <a:ext cx="6365880" cy="925560"/>
            <a:chOff x="2201760" y="3092400"/>
            <a:chExt cx="6365880" cy="925560"/>
          </a:xfrm>
        </p:grpSpPr>
        <p:grpSp>
          <p:nvGrpSpPr>
            <p:cNvPr id="143" name=""/>
            <p:cNvGrpSpPr/>
            <p:nvPr/>
          </p:nvGrpSpPr>
          <p:grpSpPr>
            <a:xfrm>
              <a:off x="2209680" y="3092400"/>
              <a:ext cx="6324840" cy="0"/>
              <a:chOff x="2209680" y="3092400"/>
              <a:chExt cx="6324840" cy="0"/>
            </a:xfrm>
          </p:grpSpPr>
          <p:sp>
            <p:nvSpPr>
              <p:cNvPr id="144" name=""/>
              <p:cNvSpPr/>
              <p:nvPr/>
            </p:nvSpPr>
            <p:spPr>
              <a:xfrm>
                <a:off x="2209680" y="3092400"/>
                <a:ext cx="1447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8620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9112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24480" y="3092400"/>
                <a:ext cx="1523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2476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3080" y="3092400"/>
                <a:ext cx="152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8000" y="3092400"/>
                <a:ext cx="16765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201760" y="4017960"/>
              <a:ext cx="6365880" cy="0"/>
              <a:chOff x="2201760" y="4017960"/>
              <a:chExt cx="6365880" cy="0"/>
            </a:xfrm>
          </p:grpSpPr>
          <p:sp>
            <p:nvSpPr>
              <p:cNvPr id="152" name=""/>
              <p:cNvSpPr/>
              <p:nvPr/>
            </p:nvSpPr>
            <p:spPr>
              <a:xfrm>
                <a:off x="2201760" y="4017960"/>
                <a:ext cx="162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90960" y="4017960"/>
                <a:ext cx="163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40160" y="4017960"/>
                <a:ext cx="1857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61200" y="4017960"/>
                <a:ext cx="16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62880" y="4017960"/>
                <a:ext cx="1904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201760" y="3544920"/>
              <a:ext cx="6059520" cy="6480"/>
              <a:chOff x="2201760" y="3544920"/>
              <a:chExt cx="6059520" cy="6480"/>
            </a:xfrm>
          </p:grpSpPr>
          <p:sp>
            <p:nvSpPr>
              <p:cNvPr id="158" name=""/>
              <p:cNvSpPr/>
              <p:nvPr/>
            </p:nvSpPr>
            <p:spPr>
              <a:xfrm>
                <a:off x="2201760" y="354492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81160" y="3546360"/>
                <a:ext cx="605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84680" y="35481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87840" y="35481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67240" y="354492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22880" y="354960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900840" y="35463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656480" y="355140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1" name=""/>
          <p:cNvSpPr txBox="1"/>
          <p:nvPr/>
        </p:nvSpPr>
        <p:spPr>
          <a:xfrm>
            <a:off x="685800" y="220824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Remove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2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3" name=""/>
          <p:cNvSpPr txBox="1"/>
          <p:nvPr/>
        </p:nvSpPr>
        <p:spPr>
          <a:xfrm>
            <a:off x="1728720" y="1035000"/>
            <a:ext cx="5349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 SECTIONS  RE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64" name=""/>
          <p:cNvGrpSpPr/>
          <p:nvPr/>
        </p:nvGrpSpPr>
        <p:grpSpPr>
          <a:xfrm>
            <a:off x="270000" y="4373640"/>
            <a:ext cx="8697960" cy="1397160"/>
            <a:chOff x="270000" y="4373640"/>
            <a:chExt cx="8697960" cy="1397160"/>
          </a:xfrm>
        </p:grpSpPr>
        <p:sp>
          <p:nvSpPr>
            <p:cNvPr id="6665" name=""/>
            <p:cNvSpPr/>
            <p:nvPr/>
          </p:nvSpPr>
          <p:spPr>
            <a:xfrm>
              <a:off x="2790720" y="4886280"/>
              <a:ext cx="1735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2878200" y="5234040"/>
              <a:ext cx="167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5224320" y="5132520"/>
              <a:ext cx="300960" cy="98640"/>
            </a:xfrm>
            <a:custGeom>
              <a:avLst/>
              <a:gdLst/>
              <a:ahLst/>
              <a:rect l="0" t="0" r="r" b="b"/>
              <a:pathLst>
                <a:path fill="none" w="836" h="274">
                  <a:moveTo>
                    <a:pt x="0" y="274"/>
                  </a:moveTo>
                  <a:lnTo>
                    <a:pt x="0" y="274"/>
                  </a:lnTo>
                  <a:cubicBezTo>
                    <a:pt x="101" y="267"/>
                    <a:pt x="198" y="256"/>
                    <a:pt x="288" y="242"/>
                  </a:cubicBezTo>
                  <a:cubicBezTo>
                    <a:pt x="455" y="215"/>
                    <a:pt x="595" y="176"/>
                    <a:pt x="691" y="130"/>
                  </a:cubicBezTo>
                  <a:cubicBezTo>
                    <a:pt x="774" y="90"/>
                    <a:pt x="823" y="46"/>
                    <a:pt x="836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5223240" y="4738680"/>
              <a:ext cx="303480" cy="144720"/>
            </a:xfrm>
            <a:custGeom>
              <a:avLst/>
              <a:gdLst/>
              <a:ahLst/>
              <a:rect l="0" t="0" r="r" b="b"/>
              <a:pathLst>
                <a:path fill="none" w="843" h="402">
                  <a:moveTo>
                    <a:pt x="0" y="402"/>
                  </a:moveTo>
                  <a:lnTo>
                    <a:pt x="0" y="402"/>
                  </a:lnTo>
                  <a:cubicBezTo>
                    <a:pt x="97" y="393"/>
                    <a:pt x="191" y="378"/>
                    <a:pt x="278" y="360"/>
                  </a:cubicBezTo>
                  <a:cubicBezTo>
                    <a:pt x="450" y="323"/>
                    <a:pt x="592" y="271"/>
                    <a:pt x="692" y="208"/>
                  </a:cubicBezTo>
                  <a:cubicBezTo>
                    <a:pt x="791" y="145"/>
                    <a:pt x="843" y="73"/>
                    <a:pt x="84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5108400" y="4886280"/>
              <a:ext cx="314280" cy="97200"/>
            </a:xfrm>
            <a:custGeom>
              <a:avLst/>
              <a:gdLst/>
              <a:ahLst/>
              <a:rect l="0" t="0" r="r" b="b"/>
              <a:pathLst>
                <a:path fill="none" w="873" h="270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8" y="182"/>
                    <a:pt x="404" y="217"/>
                    <a:pt x="581" y="241"/>
                  </a:cubicBezTo>
                  <a:cubicBezTo>
                    <a:pt x="672" y="254"/>
                    <a:pt x="771" y="264"/>
                    <a:pt x="873" y="27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5086440" y="5235480"/>
              <a:ext cx="282240" cy="131040"/>
            </a:xfrm>
            <a:custGeom>
              <a:avLst/>
              <a:gdLst/>
              <a:ahLst/>
              <a:rect l="0" t="0" r="r" b="b"/>
              <a:pathLst>
                <a:path fill="none" w="784" h="364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5" y="192"/>
                  </a:cubicBezTo>
                  <a:cubicBezTo>
                    <a:pt x="257" y="251"/>
                    <a:pt x="404" y="299"/>
                    <a:pt x="580" y="333"/>
                  </a:cubicBezTo>
                  <a:cubicBezTo>
                    <a:pt x="645" y="346"/>
                    <a:pt x="713" y="356"/>
                    <a:pt x="784" y="364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5207400" y="5361120"/>
              <a:ext cx="292320" cy="115560"/>
            </a:xfrm>
            <a:custGeom>
              <a:avLst/>
              <a:gdLst/>
              <a:ahLst/>
              <a:rect l="0" t="0" r="r" b="b"/>
              <a:pathLst>
                <a:path fill="none" w="812" h="321">
                  <a:moveTo>
                    <a:pt x="0" y="321"/>
                  </a:moveTo>
                  <a:lnTo>
                    <a:pt x="0" y="321"/>
                  </a:lnTo>
                  <a:cubicBezTo>
                    <a:pt x="93" y="313"/>
                    <a:pt x="183" y="302"/>
                    <a:pt x="266" y="288"/>
                  </a:cubicBezTo>
                  <a:cubicBezTo>
                    <a:pt x="432" y="258"/>
                    <a:pt x="570" y="217"/>
                    <a:pt x="666" y="166"/>
                  </a:cubicBezTo>
                  <a:cubicBezTo>
                    <a:pt x="762" y="116"/>
                    <a:pt x="812" y="58"/>
                    <a:pt x="812" y="0"/>
                  </a:cubicBezTo>
                  <a:lnTo>
                    <a:pt x="812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5126040" y="4638600"/>
              <a:ext cx="335160" cy="122400"/>
            </a:xfrm>
            <a:custGeom>
              <a:avLst/>
              <a:gdLst/>
              <a:ahLst/>
              <a:rect l="0" t="0" r="r" b="b"/>
              <a:pathLst>
                <a:path fill="none" w="931" h="340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672" y="319"/>
                    <a:pt x="799" y="333"/>
                    <a:pt x="931" y="34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2490840" y="464652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2503440" y="525960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6168960" y="463860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6171840" y="485604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7070760" y="468792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6338880" y="453060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6470640" y="542304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5403960" y="506412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6889680" y="506412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 flipV="1">
              <a:off x="270000" y="4635360"/>
              <a:ext cx="849240" cy="84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4316400" y="459900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1117440" y="463536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270000" y="547704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 flipH="1">
              <a:off x="4510080" y="48862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 flipH="1">
              <a:off x="4506840" y="5232240"/>
              <a:ext cx="708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3005280" y="437364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2973240" y="464040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3297240" y="464040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8880480" y="494028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7061040" y="506412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3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94" name=""/>
          <p:cNvGrpSpPr/>
          <p:nvPr/>
        </p:nvGrpSpPr>
        <p:grpSpPr>
          <a:xfrm>
            <a:off x="270000" y="2728800"/>
            <a:ext cx="8697960" cy="3530880"/>
            <a:chOff x="270000" y="2728800"/>
            <a:chExt cx="8697960" cy="3530880"/>
          </a:xfrm>
        </p:grpSpPr>
        <p:grpSp>
          <p:nvGrpSpPr>
            <p:cNvPr id="6695" name=""/>
            <p:cNvGrpSpPr/>
            <p:nvPr/>
          </p:nvGrpSpPr>
          <p:grpSpPr>
            <a:xfrm>
              <a:off x="1438200" y="2728800"/>
              <a:ext cx="4759560" cy="3100680"/>
              <a:chOff x="1438200" y="2728800"/>
              <a:chExt cx="4759560" cy="3100680"/>
            </a:xfrm>
          </p:grpSpPr>
          <p:sp>
            <p:nvSpPr>
              <p:cNvPr id="6696" name=""/>
              <p:cNvSpPr/>
              <p:nvPr/>
            </p:nvSpPr>
            <p:spPr>
              <a:xfrm>
                <a:off x="1438200" y="2786040"/>
                <a:ext cx="0" cy="145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1438200" y="4533840"/>
                <a:ext cx="0" cy="1295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3819600" y="2828880"/>
                <a:ext cx="0" cy="1460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3819600" y="4579920"/>
                <a:ext cx="0" cy="122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6197760" y="2728800"/>
                <a:ext cx="0" cy="1527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6197760" y="4546440"/>
                <a:ext cx="0" cy="1239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1438200" y="434340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3819600" y="438948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6197760" y="4356000"/>
                <a:ext cx="0" cy="10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05" name=""/>
            <p:cNvSpPr/>
            <p:nvPr/>
          </p:nvSpPr>
          <p:spPr>
            <a:xfrm>
              <a:off x="4476600" y="6215040"/>
              <a:ext cx="311400" cy="44640"/>
            </a:xfrm>
            <a:custGeom>
              <a:avLst/>
              <a:gdLst/>
              <a:ahLst/>
              <a:rect l="0" t="0" r="r" b="b"/>
              <a:pathLst>
                <a:path w="865" h="124">
                  <a:moveTo>
                    <a:pt x="79" y="8"/>
                  </a:moveTo>
                  <a:lnTo>
                    <a:pt x="0" y="124"/>
                  </a:lnTo>
                  <a:lnTo>
                    <a:pt x="830" y="115"/>
                  </a:lnTo>
                  <a:lnTo>
                    <a:pt x="865" y="0"/>
                  </a:lnTo>
                  <a:lnTo>
                    <a:pt x="79" y="8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7224840" y="489600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4359240" y="5423040"/>
              <a:ext cx="327240" cy="51120"/>
            </a:xfrm>
            <a:custGeom>
              <a:avLst/>
              <a:gdLst/>
              <a:ahLst/>
              <a:rect l="0" t="0" r="r" b="b"/>
              <a:pathLst>
                <a:path w="909" h="142">
                  <a:moveTo>
                    <a:pt x="44" y="0"/>
                  </a:moveTo>
                  <a:lnTo>
                    <a:pt x="0" y="106"/>
                  </a:lnTo>
                  <a:lnTo>
                    <a:pt x="909" y="142"/>
                  </a:lnTo>
                  <a:lnTo>
                    <a:pt x="909" y="4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4314960" y="5654520"/>
              <a:ext cx="321120" cy="66960"/>
            </a:xfrm>
            <a:custGeom>
              <a:avLst/>
              <a:gdLst/>
              <a:ahLst/>
              <a:rect l="0" t="0" r="r" b="b"/>
              <a:pathLst>
                <a:path w="892" h="186">
                  <a:moveTo>
                    <a:pt x="52" y="8"/>
                  </a:moveTo>
                  <a:lnTo>
                    <a:pt x="0" y="186"/>
                  </a:lnTo>
                  <a:lnTo>
                    <a:pt x="892" y="186"/>
                  </a:lnTo>
                  <a:lnTo>
                    <a:pt x="892" y="0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4486320" y="597384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2790720" y="4894200"/>
              <a:ext cx="1797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2878200" y="5241960"/>
              <a:ext cx="167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5129280" y="513252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5119560" y="474660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5108400" y="489096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5086440" y="523728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5106960" y="53640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5126040" y="46404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2490840" y="465444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2503440" y="526752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6168960" y="464652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6156000" y="486396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7070760" y="469584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6338880" y="453852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6470640" y="543096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5403960" y="507204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6889680" y="507204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 flipV="1">
              <a:off x="270000" y="4643280"/>
              <a:ext cx="849240" cy="84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4316400" y="460692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1117440" y="464328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270000" y="548496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 flipH="1">
              <a:off x="4510080" y="489420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 flipH="1">
              <a:off x="4506840" y="524016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3005280" y="438156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2973240" y="464832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3297240" y="464832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8880480" y="494820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7061040" y="507204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38" name=""/>
          <p:cNvSpPr txBox="1"/>
          <p:nvPr/>
        </p:nvSpPr>
        <p:spPr>
          <a:xfrm>
            <a:off x="1728720" y="1035000"/>
            <a:ext cx="5349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 SECTIONS  RE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9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>
            <a:off x="1438200" y="433548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>
            <a:off x="1438200" y="45338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>
            <a:off x="3819600" y="438156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>
            <a:off x="3819600" y="4579920"/>
            <a:ext cx="0" cy="122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>
            <a:off x="6197760" y="4348080"/>
            <a:ext cx="0" cy="10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6197760" y="4546440"/>
            <a:ext cx="0" cy="123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995400" y="2955960"/>
            <a:ext cx="84456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>
            <a:off x="1438200" y="2786040"/>
            <a:ext cx="0" cy="145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>
            <a:off x="3819600" y="2828880"/>
            <a:ext cx="0" cy="1460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>
            <a:off x="6197760" y="2728800"/>
            <a:ext cx="0" cy="15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0" name=""/>
          <p:cNvGrpSpPr/>
          <p:nvPr/>
        </p:nvGrpSpPr>
        <p:grpSpPr>
          <a:xfrm>
            <a:off x="270000" y="4381560"/>
            <a:ext cx="8697960" cy="1655640"/>
            <a:chOff x="270000" y="4381560"/>
            <a:chExt cx="8697960" cy="1655640"/>
          </a:xfrm>
        </p:grpSpPr>
        <p:sp>
          <p:nvSpPr>
            <p:cNvPr id="6751" name=""/>
            <p:cNvSpPr/>
            <p:nvPr/>
          </p:nvSpPr>
          <p:spPr>
            <a:xfrm>
              <a:off x="7224840" y="489600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4359240" y="5423040"/>
              <a:ext cx="327240" cy="51120"/>
            </a:xfrm>
            <a:custGeom>
              <a:avLst/>
              <a:gdLst/>
              <a:ahLst/>
              <a:rect l="0" t="0" r="r" b="b"/>
              <a:pathLst>
                <a:path w="909" h="142">
                  <a:moveTo>
                    <a:pt x="44" y="0"/>
                  </a:moveTo>
                  <a:lnTo>
                    <a:pt x="0" y="106"/>
                  </a:lnTo>
                  <a:lnTo>
                    <a:pt x="909" y="142"/>
                  </a:lnTo>
                  <a:lnTo>
                    <a:pt x="909" y="4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4314960" y="5654520"/>
              <a:ext cx="321120" cy="66960"/>
            </a:xfrm>
            <a:custGeom>
              <a:avLst/>
              <a:gdLst/>
              <a:ahLst/>
              <a:rect l="0" t="0" r="r" b="b"/>
              <a:pathLst>
                <a:path w="892" h="186">
                  <a:moveTo>
                    <a:pt x="52" y="8"/>
                  </a:moveTo>
                  <a:lnTo>
                    <a:pt x="0" y="186"/>
                  </a:lnTo>
                  <a:lnTo>
                    <a:pt x="892" y="186"/>
                  </a:lnTo>
                  <a:lnTo>
                    <a:pt x="892" y="0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4486320" y="597384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2790720" y="4894200"/>
              <a:ext cx="1797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2878200" y="5241960"/>
              <a:ext cx="167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5129280" y="513252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5119560" y="474660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5108400" y="489096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5086440" y="523728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5106960" y="53640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5126040" y="46404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2490840" y="465444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2503440" y="526752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6168960" y="464652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6156000" y="486396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7070760" y="469584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6338880" y="453852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6470640" y="543096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5403960" y="507204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6889680" y="507204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2" name=""/>
            <p:cNvSpPr/>
            <p:nvPr/>
          </p:nvSpPr>
          <p:spPr>
            <a:xfrm flipV="1">
              <a:off x="270000" y="4643280"/>
              <a:ext cx="849240" cy="84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4316400" y="460692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1117440" y="464328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270000" y="548496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6" name=""/>
            <p:cNvSpPr/>
            <p:nvPr/>
          </p:nvSpPr>
          <p:spPr>
            <a:xfrm flipH="1">
              <a:off x="4510080" y="489420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7" name=""/>
            <p:cNvSpPr/>
            <p:nvPr/>
          </p:nvSpPr>
          <p:spPr>
            <a:xfrm flipH="1">
              <a:off x="4506840" y="524016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3005280" y="438156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2973240" y="464832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3297240" y="464832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8880480" y="494820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7061040" y="507204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3" name=""/>
          <p:cNvSpPr txBox="1"/>
          <p:nvPr/>
        </p:nvSpPr>
        <p:spPr>
          <a:xfrm>
            <a:off x="1728720" y="1035000"/>
            <a:ext cx="5349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 SECTIONS  RE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4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1438200" y="433548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1438200" y="45338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7" name=""/>
          <p:cNvSpPr/>
          <p:nvPr/>
        </p:nvSpPr>
        <p:spPr>
          <a:xfrm>
            <a:off x="3819600" y="438156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8" name=""/>
          <p:cNvSpPr/>
          <p:nvPr/>
        </p:nvSpPr>
        <p:spPr>
          <a:xfrm>
            <a:off x="3819600" y="4579920"/>
            <a:ext cx="0" cy="122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9" name=""/>
          <p:cNvSpPr/>
          <p:nvPr/>
        </p:nvSpPr>
        <p:spPr>
          <a:xfrm>
            <a:off x="6197760" y="4348080"/>
            <a:ext cx="0" cy="10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0" name=""/>
          <p:cNvSpPr/>
          <p:nvPr/>
        </p:nvSpPr>
        <p:spPr>
          <a:xfrm>
            <a:off x="6197760" y="4546440"/>
            <a:ext cx="0" cy="123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1" name=""/>
          <p:cNvSpPr/>
          <p:nvPr/>
        </p:nvSpPr>
        <p:spPr>
          <a:xfrm>
            <a:off x="3405240" y="2922480"/>
            <a:ext cx="844920" cy="844920"/>
          </a:xfrm>
          <a:custGeom>
            <a:avLst/>
            <a:gdLst/>
            <a:ahLst/>
            <a:rect l="0" t="0" r="r" b="b"/>
            <a:pathLst>
              <a:path w="2347" h="2347">
                <a:moveTo>
                  <a:pt x="0" y="704"/>
                </a:moveTo>
                <a:lnTo>
                  <a:pt x="0" y="1643"/>
                </a:lnTo>
                <a:lnTo>
                  <a:pt x="704" y="2347"/>
                </a:lnTo>
                <a:lnTo>
                  <a:pt x="1643" y="2347"/>
                </a:lnTo>
                <a:lnTo>
                  <a:pt x="2347" y="1643"/>
                </a:lnTo>
                <a:lnTo>
                  <a:pt x="2347" y="704"/>
                </a:lnTo>
                <a:lnTo>
                  <a:pt x="1643" y="0"/>
                </a:lnTo>
                <a:lnTo>
                  <a:pt x="704" y="0"/>
                </a:lnTo>
                <a:lnTo>
                  <a:pt x="0" y="704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"/>
          <p:cNvSpPr/>
          <p:nvPr/>
        </p:nvSpPr>
        <p:spPr>
          <a:xfrm>
            <a:off x="995400" y="2955960"/>
            <a:ext cx="844560" cy="84456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"/>
          <p:cNvSpPr/>
          <p:nvPr/>
        </p:nvSpPr>
        <p:spPr>
          <a:xfrm>
            <a:off x="1438200" y="2786040"/>
            <a:ext cx="0" cy="145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4" name=""/>
          <p:cNvSpPr/>
          <p:nvPr/>
        </p:nvSpPr>
        <p:spPr>
          <a:xfrm>
            <a:off x="3819600" y="2828880"/>
            <a:ext cx="0" cy="1460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5" name=""/>
          <p:cNvSpPr/>
          <p:nvPr/>
        </p:nvSpPr>
        <p:spPr>
          <a:xfrm>
            <a:off x="6197760" y="2728800"/>
            <a:ext cx="0" cy="15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6" name=""/>
          <p:cNvGrpSpPr/>
          <p:nvPr/>
        </p:nvGrpSpPr>
        <p:grpSpPr>
          <a:xfrm>
            <a:off x="270000" y="4381560"/>
            <a:ext cx="8697960" cy="1655640"/>
            <a:chOff x="270000" y="4381560"/>
            <a:chExt cx="8697960" cy="1655640"/>
          </a:xfrm>
        </p:grpSpPr>
        <p:sp>
          <p:nvSpPr>
            <p:cNvPr id="6797" name=""/>
            <p:cNvSpPr/>
            <p:nvPr/>
          </p:nvSpPr>
          <p:spPr>
            <a:xfrm>
              <a:off x="7224840" y="489600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4359240" y="5423040"/>
              <a:ext cx="327240" cy="51120"/>
            </a:xfrm>
            <a:custGeom>
              <a:avLst/>
              <a:gdLst/>
              <a:ahLst/>
              <a:rect l="0" t="0" r="r" b="b"/>
              <a:pathLst>
                <a:path w="909" h="142">
                  <a:moveTo>
                    <a:pt x="44" y="0"/>
                  </a:moveTo>
                  <a:lnTo>
                    <a:pt x="0" y="106"/>
                  </a:lnTo>
                  <a:lnTo>
                    <a:pt x="909" y="142"/>
                  </a:lnTo>
                  <a:lnTo>
                    <a:pt x="909" y="4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4314960" y="5654520"/>
              <a:ext cx="321120" cy="66960"/>
            </a:xfrm>
            <a:custGeom>
              <a:avLst/>
              <a:gdLst/>
              <a:ahLst/>
              <a:rect l="0" t="0" r="r" b="b"/>
              <a:pathLst>
                <a:path w="892" h="186">
                  <a:moveTo>
                    <a:pt x="52" y="8"/>
                  </a:moveTo>
                  <a:lnTo>
                    <a:pt x="0" y="186"/>
                  </a:lnTo>
                  <a:lnTo>
                    <a:pt x="892" y="186"/>
                  </a:lnTo>
                  <a:lnTo>
                    <a:pt x="892" y="0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4486320" y="597384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2790720" y="4894200"/>
              <a:ext cx="1797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2878200" y="5241960"/>
              <a:ext cx="167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5129280" y="513252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5119560" y="474660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5108400" y="489096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5086440" y="523728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5106960" y="53640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5126040" y="46404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2490840" y="465444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2503440" y="526752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6168960" y="464652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6156000" y="486396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7070760" y="469584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6338880" y="453852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6470640" y="543096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5403960" y="507204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6889680" y="507204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8" name=""/>
            <p:cNvSpPr/>
            <p:nvPr/>
          </p:nvSpPr>
          <p:spPr>
            <a:xfrm flipV="1">
              <a:off x="270000" y="4643280"/>
              <a:ext cx="849240" cy="84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4316400" y="460692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1117440" y="464328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270000" y="548496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 flipH="1">
              <a:off x="4510080" y="489420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 flipH="1">
              <a:off x="4506840" y="524016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3005280" y="438156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2973240" y="464832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3297240" y="464832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8880480" y="494820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7061040" y="507204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9" name=""/>
          <p:cNvSpPr txBox="1"/>
          <p:nvPr/>
        </p:nvSpPr>
        <p:spPr>
          <a:xfrm>
            <a:off x="1728720" y="1035000"/>
            <a:ext cx="5349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 SECTIONS  RE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0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1" name=""/>
          <p:cNvGrpSpPr/>
          <p:nvPr/>
        </p:nvGrpSpPr>
        <p:grpSpPr>
          <a:xfrm>
            <a:off x="270000" y="2728800"/>
            <a:ext cx="8697960" cy="3308400"/>
            <a:chOff x="270000" y="2728800"/>
            <a:chExt cx="8697960" cy="3308400"/>
          </a:xfrm>
        </p:grpSpPr>
        <p:sp>
          <p:nvSpPr>
            <p:cNvPr id="6832" name=""/>
            <p:cNvSpPr/>
            <p:nvPr/>
          </p:nvSpPr>
          <p:spPr>
            <a:xfrm>
              <a:off x="1438200" y="433548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1438200" y="4533840"/>
              <a:ext cx="0" cy="1295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3819600" y="438156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3819600" y="4579920"/>
              <a:ext cx="0" cy="122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6197760" y="434808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6197760" y="4546440"/>
              <a:ext cx="0" cy="123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3405240" y="2922480"/>
              <a:ext cx="844920" cy="844920"/>
            </a:xfrm>
            <a:custGeom>
              <a:avLst/>
              <a:gdLst/>
              <a:ahLst/>
              <a:rect l="0" t="0" r="r" b="b"/>
              <a:pathLst>
                <a:path w="2347" h="2347">
                  <a:moveTo>
                    <a:pt x="0" y="704"/>
                  </a:moveTo>
                  <a:lnTo>
                    <a:pt x="0" y="1643"/>
                  </a:lnTo>
                  <a:lnTo>
                    <a:pt x="704" y="2347"/>
                  </a:lnTo>
                  <a:lnTo>
                    <a:pt x="1643" y="2347"/>
                  </a:lnTo>
                  <a:lnTo>
                    <a:pt x="2347" y="1643"/>
                  </a:lnTo>
                  <a:lnTo>
                    <a:pt x="2347" y="704"/>
                  </a:lnTo>
                  <a:lnTo>
                    <a:pt x="1643" y="0"/>
                  </a:lnTo>
                  <a:lnTo>
                    <a:pt x="704" y="0"/>
                  </a:lnTo>
                  <a:lnTo>
                    <a:pt x="0" y="704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5788080" y="2876400"/>
              <a:ext cx="844560" cy="844560"/>
            </a:xfrm>
            <a:prstGeom prst="ellipse">
              <a:avLst/>
            </a:pr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995400" y="2955960"/>
              <a:ext cx="844560" cy="844560"/>
            </a:xfrm>
            <a:prstGeom prst="rect">
              <a:avLst/>
            </a:pr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1438200" y="2786040"/>
              <a:ext cx="0" cy="1457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3819600" y="2828880"/>
              <a:ext cx="0" cy="146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6197760" y="2728800"/>
              <a:ext cx="0" cy="1527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44" name=""/>
            <p:cNvGrpSpPr/>
            <p:nvPr/>
          </p:nvGrpSpPr>
          <p:grpSpPr>
            <a:xfrm>
              <a:off x="270000" y="4381560"/>
              <a:ext cx="8697960" cy="1655640"/>
              <a:chOff x="270000" y="4381560"/>
              <a:chExt cx="8697960" cy="1655640"/>
            </a:xfrm>
          </p:grpSpPr>
          <p:sp>
            <p:nvSpPr>
              <p:cNvPr id="6845" name=""/>
              <p:cNvSpPr/>
              <p:nvPr/>
            </p:nvSpPr>
            <p:spPr>
              <a:xfrm>
                <a:off x="7224840" y="4896000"/>
                <a:ext cx="57240" cy="74304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4359240" y="5423040"/>
                <a:ext cx="327240" cy="51120"/>
              </a:xfrm>
              <a:custGeom>
                <a:avLst/>
                <a:gdLst/>
                <a:ahLst/>
                <a:rect l="0" t="0" r="r" b="b"/>
                <a:pathLst>
                  <a:path w="909" h="142">
                    <a:moveTo>
                      <a:pt x="44" y="0"/>
                    </a:moveTo>
                    <a:lnTo>
                      <a:pt x="0" y="106"/>
                    </a:lnTo>
                    <a:lnTo>
                      <a:pt x="909" y="142"/>
                    </a:lnTo>
                    <a:lnTo>
                      <a:pt x="909" y="4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4314960" y="5654520"/>
                <a:ext cx="321120" cy="66960"/>
              </a:xfrm>
              <a:custGeom>
                <a:avLst/>
                <a:gdLst/>
                <a:ahLst/>
                <a:rect l="0" t="0" r="r" b="b"/>
                <a:pathLst>
                  <a:path w="892" h="186">
                    <a:moveTo>
                      <a:pt x="52" y="8"/>
                    </a:moveTo>
                    <a:lnTo>
                      <a:pt x="0" y="186"/>
                    </a:lnTo>
                    <a:lnTo>
                      <a:pt x="892" y="186"/>
                    </a:lnTo>
                    <a:lnTo>
                      <a:pt x="892" y="0"/>
                    </a:lnTo>
                    <a:lnTo>
                      <a:pt x="52" y="8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4486320" y="5973840"/>
                <a:ext cx="276120" cy="6336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2790720" y="4894200"/>
                <a:ext cx="179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2878200" y="5241960"/>
                <a:ext cx="167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5129280" y="5132520"/>
                <a:ext cx="397080" cy="109800"/>
              </a:xfrm>
              <a:custGeom>
                <a:avLst/>
                <a:gdLst/>
                <a:ahLst/>
                <a:rect l="0" t="0" r="r" b="b"/>
                <a:pathLst>
                  <a:path fill="none" w="1103" h="305">
                    <a:moveTo>
                      <a:pt x="0" y="305"/>
                    </a:moveTo>
                    <a:lnTo>
                      <a:pt x="0" y="305"/>
                    </a:lnTo>
                    <a:cubicBezTo>
                      <a:pt x="194" y="305"/>
                      <a:pt x="384" y="291"/>
                      <a:pt x="552" y="264"/>
                    </a:cubicBezTo>
                    <a:cubicBezTo>
                      <a:pt x="719" y="237"/>
                      <a:pt x="858" y="199"/>
                      <a:pt x="955" y="152"/>
                    </a:cubicBezTo>
                    <a:cubicBezTo>
                      <a:pt x="1052" y="106"/>
                      <a:pt x="1103" y="54"/>
                      <a:pt x="1103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5119560" y="4746600"/>
                <a:ext cx="406800" cy="149760"/>
              </a:xfrm>
              <a:custGeom>
                <a:avLst/>
                <a:gdLst/>
                <a:ahLst/>
                <a:rect l="0" t="0" r="r" b="b"/>
                <a:pathLst>
                  <a:path fill="none" w="1130" h="416">
                    <a:moveTo>
                      <a:pt x="0" y="416"/>
                    </a:moveTo>
                    <a:lnTo>
                      <a:pt x="0" y="416"/>
                    </a:lnTo>
                    <a:cubicBezTo>
                      <a:pt x="198" y="416"/>
                      <a:pt x="393" y="397"/>
                      <a:pt x="565" y="360"/>
                    </a:cubicBezTo>
                    <a:cubicBezTo>
                      <a:pt x="737" y="324"/>
                      <a:pt x="879" y="271"/>
                      <a:pt x="979" y="208"/>
                    </a:cubicBezTo>
                    <a:cubicBezTo>
                      <a:pt x="1078" y="145"/>
                      <a:pt x="1130" y="73"/>
                      <a:pt x="113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5108400" y="4890960"/>
                <a:ext cx="417960" cy="100440"/>
              </a:xfrm>
              <a:custGeom>
                <a:avLst/>
                <a:gdLst/>
                <a:ahLst/>
                <a:rect l="0" t="0" r="r" b="b"/>
                <a:pathLst>
                  <a:path fill="none" w="1161" h="279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9"/>
                      <a:pt x="54" y="97"/>
                      <a:pt x="156" y="140"/>
                    </a:cubicBezTo>
                    <a:cubicBezTo>
                      <a:pt x="257" y="182"/>
                      <a:pt x="404" y="217"/>
                      <a:pt x="581" y="242"/>
                    </a:cubicBezTo>
                    <a:cubicBezTo>
                      <a:pt x="757" y="266"/>
                      <a:pt x="957" y="279"/>
                      <a:pt x="1161" y="279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5086440" y="5237280"/>
                <a:ext cx="417960" cy="138600"/>
              </a:xfrm>
              <a:custGeom>
                <a:avLst/>
                <a:gdLst/>
                <a:ahLst/>
                <a:rect l="0" t="0" r="r" b="b"/>
                <a:pathLst>
                  <a:path fill="none" w="1161" h="385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68"/>
                      <a:pt x="54" y="134"/>
                      <a:pt x="156" y="193"/>
                    </a:cubicBezTo>
                    <a:cubicBezTo>
                      <a:pt x="257" y="251"/>
                      <a:pt x="404" y="300"/>
                      <a:pt x="581" y="333"/>
                    </a:cubicBezTo>
                    <a:cubicBezTo>
                      <a:pt x="757" y="367"/>
                      <a:pt x="957" y="385"/>
                      <a:pt x="1161" y="38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5106960" y="5364000"/>
                <a:ext cx="400320" cy="124200"/>
              </a:xfrm>
              <a:custGeom>
                <a:avLst/>
                <a:gdLst/>
                <a:ahLst/>
                <a:rect l="0" t="0" r="r" b="b"/>
                <a:pathLst>
                  <a:path fill="none" w="1112" h="345">
                    <a:moveTo>
                      <a:pt x="0" y="345"/>
                    </a:moveTo>
                    <a:lnTo>
                      <a:pt x="0" y="345"/>
                    </a:lnTo>
                    <a:cubicBezTo>
                      <a:pt x="195" y="345"/>
                      <a:pt x="387" y="329"/>
                      <a:pt x="556" y="299"/>
                    </a:cubicBezTo>
                    <a:cubicBezTo>
                      <a:pt x="725" y="268"/>
                      <a:pt x="865" y="225"/>
                      <a:pt x="963" y="172"/>
                    </a:cubicBezTo>
                    <a:cubicBezTo>
                      <a:pt x="1061" y="120"/>
                      <a:pt x="1112" y="61"/>
                      <a:pt x="1112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5126040" y="4640400"/>
                <a:ext cx="400320" cy="124200"/>
              </a:xfrm>
              <a:custGeom>
                <a:avLst/>
                <a:gdLst/>
                <a:ahLst/>
                <a:rect l="0" t="0" r="r" b="b"/>
                <a:pathLst>
                  <a:path fill="none" w="1112" h="345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61"/>
                      <a:pt x="51" y="120"/>
                      <a:pt x="149" y="173"/>
                    </a:cubicBezTo>
                    <a:cubicBezTo>
                      <a:pt x="247" y="225"/>
                      <a:pt x="387" y="268"/>
                      <a:pt x="556" y="299"/>
                    </a:cubicBezTo>
                    <a:cubicBezTo>
                      <a:pt x="725" y="329"/>
                      <a:pt x="917" y="345"/>
                      <a:pt x="1112" y="34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2490840" y="4654440"/>
                <a:ext cx="302400" cy="240120"/>
              </a:xfrm>
              <a:custGeom>
                <a:avLst/>
                <a:gdLst/>
                <a:ahLst/>
                <a:rect l="0" t="0" r="r" b="b"/>
                <a:pathLst>
                  <a:path fill="none" w="840" h="667">
                    <a:moveTo>
                      <a:pt x="0" y="0"/>
                    </a:moveTo>
                    <a:lnTo>
                      <a:pt x="0" y="0"/>
                    </a:lnTo>
                    <a:cubicBezTo>
                      <a:pt x="12" y="105"/>
                      <a:pt x="51" y="206"/>
                      <a:pt x="113" y="297"/>
                    </a:cubicBezTo>
                    <a:cubicBezTo>
                      <a:pt x="191" y="410"/>
                      <a:pt x="302" y="503"/>
                      <a:pt x="435" y="568"/>
                    </a:cubicBezTo>
                    <a:cubicBezTo>
                      <a:pt x="559" y="628"/>
                      <a:pt x="698" y="662"/>
                      <a:pt x="840" y="667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2503440" y="5267520"/>
                <a:ext cx="374400" cy="232200"/>
              </a:xfrm>
              <a:custGeom>
                <a:avLst/>
                <a:gdLst/>
                <a:ahLst/>
                <a:rect l="0" t="0" r="r" b="b"/>
                <a:pathLst>
                  <a:path fill="none" w="1040" h="645">
                    <a:moveTo>
                      <a:pt x="0" y="645"/>
                    </a:moveTo>
                    <a:lnTo>
                      <a:pt x="0" y="645"/>
                    </a:lnTo>
                    <a:cubicBezTo>
                      <a:pt x="184" y="645"/>
                      <a:pt x="364" y="612"/>
                      <a:pt x="523" y="549"/>
                    </a:cubicBezTo>
                    <a:cubicBezTo>
                      <a:pt x="682" y="485"/>
                      <a:pt x="814" y="394"/>
                      <a:pt x="906" y="285"/>
                    </a:cubicBezTo>
                    <a:cubicBezTo>
                      <a:pt x="979" y="197"/>
                      <a:pt x="1025" y="100"/>
                      <a:pt x="104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6168960" y="4646520"/>
                <a:ext cx="2775960" cy="482400"/>
              </a:xfrm>
              <a:custGeom>
                <a:avLst/>
                <a:gdLst/>
                <a:ahLst/>
                <a:rect l="0" t="0" r="r" b="b"/>
                <a:pathLst>
                  <a:path fill="none" w="7711" h="1340">
                    <a:moveTo>
                      <a:pt x="7711" y="1340"/>
                    </a:moveTo>
                    <a:lnTo>
                      <a:pt x="7711" y="1340"/>
                    </a:lnTo>
                    <a:cubicBezTo>
                      <a:pt x="7553" y="1153"/>
                      <a:pt x="7238" y="974"/>
                      <a:pt x="6779" y="810"/>
                    </a:cubicBezTo>
                    <a:cubicBezTo>
                      <a:pt x="6092" y="563"/>
                      <a:pt x="5104" y="359"/>
                      <a:pt x="3914" y="217"/>
                    </a:cubicBezTo>
                    <a:cubicBezTo>
                      <a:pt x="2724" y="75"/>
                      <a:pt x="1374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6156000" y="4863960"/>
                <a:ext cx="2778840" cy="459000"/>
              </a:xfrm>
              <a:custGeom>
                <a:avLst/>
                <a:gdLst/>
                <a:ahLst/>
                <a:rect l="0" t="0" r="r" b="b"/>
                <a:pathLst>
                  <a:path fill="none" w="7719" h="1275">
                    <a:moveTo>
                      <a:pt x="7719" y="0"/>
                    </a:moveTo>
                    <a:lnTo>
                      <a:pt x="7719" y="0"/>
                    </a:lnTo>
                    <a:lnTo>
                      <a:pt x="7719" y="0"/>
                    </a:lnTo>
                    <a:cubicBezTo>
                      <a:pt x="6315" y="0"/>
                      <a:pt x="4936" y="80"/>
                      <a:pt x="3721" y="231"/>
                    </a:cubicBezTo>
                    <a:cubicBezTo>
                      <a:pt x="2505" y="383"/>
                      <a:pt x="1496" y="600"/>
                      <a:pt x="794" y="863"/>
                    </a:cubicBezTo>
                    <a:cubicBezTo>
                      <a:pt x="448" y="992"/>
                      <a:pt x="181" y="1131"/>
                      <a:pt x="0" y="127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7070760" y="4695840"/>
                <a:ext cx="57240" cy="74304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6338880" y="4538520"/>
                <a:ext cx="884520" cy="116280"/>
              </a:xfrm>
              <a:custGeom>
                <a:avLst/>
                <a:gdLst/>
                <a:ahLst/>
                <a:rect l="0" t="0" r="r" b="b"/>
                <a:pathLst>
                  <a:path w="2457" h="323">
                    <a:moveTo>
                      <a:pt x="0" y="205"/>
                    </a:moveTo>
                    <a:lnTo>
                      <a:pt x="2457" y="323"/>
                    </a:lnTo>
                    <a:lnTo>
                      <a:pt x="2432" y="0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6470640" y="5430960"/>
                <a:ext cx="1195920" cy="214560"/>
              </a:xfrm>
              <a:custGeom>
                <a:avLst/>
                <a:gdLst/>
                <a:ahLst/>
                <a:rect l="0" t="0" r="r" b="b"/>
                <a:pathLst>
                  <a:path w="3322" h="596">
                    <a:moveTo>
                      <a:pt x="0" y="217"/>
                    </a:moveTo>
                    <a:lnTo>
                      <a:pt x="3322" y="0"/>
                    </a:lnTo>
                    <a:lnTo>
                      <a:pt x="3288" y="596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5403960" y="5072040"/>
                <a:ext cx="140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6889680" y="507204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 flipV="1">
                <a:off x="270000" y="4643280"/>
                <a:ext cx="849240" cy="84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4316400" y="4606920"/>
                <a:ext cx="276120" cy="6336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1117440" y="4643280"/>
                <a:ext cx="5040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270000" y="5484960"/>
                <a:ext cx="5887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 flipH="1">
                <a:off x="4510080" y="4894200"/>
                <a:ext cx="600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 flipH="1">
                <a:off x="4506840" y="5240160"/>
                <a:ext cx="584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3005280" y="4381560"/>
                <a:ext cx="291960" cy="1397160"/>
              </a:xfrm>
              <a:prstGeom prst="rect">
                <a:avLst/>
              </a:prstGeom>
              <a:solidFill>
                <a:srgbClr val="0101ff"/>
              </a:solidFill>
              <a:ln w="12600">
                <a:solidFill>
                  <a:srgbClr val="0101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2973240" y="4648320"/>
                <a:ext cx="46440" cy="824400"/>
              </a:xfrm>
              <a:custGeom>
                <a:avLst/>
                <a:gdLst/>
                <a:ahLst/>
                <a:rect l="0" t="0" r="r" b="b"/>
                <a:pathLst>
                  <a:path fill="none" w="129" h="2290">
                    <a:moveTo>
                      <a:pt x="71" y="0"/>
                    </a:moveTo>
                    <a:lnTo>
                      <a:pt x="45" y="110"/>
                    </a:lnTo>
                    <a:lnTo>
                      <a:pt x="45" y="238"/>
                    </a:lnTo>
                    <a:lnTo>
                      <a:pt x="89" y="366"/>
                    </a:lnTo>
                    <a:lnTo>
                      <a:pt x="129" y="493"/>
                    </a:lnTo>
                    <a:lnTo>
                      <a:pt x="80" y="627"/>
                    </a:lnTo>
                    <a:lnTo>
                      <a:pt x="125" y="750"/>
                    </a:lnTo>
                    <a:lnTo>
                      <a:pt x="45" y="838"/>
                    </a:lnTo>
                    <a:lnTo>
                      <a:pt x="45" y="966"/>
                    </a:lnTo>
                    <a:lnTo>
                      <a:pt x="0" y="1094"/>
                    </a:lnTo>
                    <a:lnTo>
                      <a:pt x="0" y="1222"/>
                    </a:lnTo>
                    <a:lnTo>
                      <a:pt x="0" y="1394"/>
                    </a:lnTo>
                    <a:lnTo>
                      <a:pt x="0" y="1522"/>
                    </a:lnTo>
                    <a:lnTo>
                      <a:pt x="80" y="1650"/>
                    </a:lnTo>
                    <a:lnTo>
                      <a:pt x="71" y="1792"/>
                    </a:lnTo>
                    <a:lnTo>
                      <a:pt x="89" y="1907"/>
                    </a:lnTo>
                    <a:lnTo>
                      <a:pt x="129" y="2034"/>
                    </a:lnTo>
                    <a:lnTo>
                      <a:pt x="89" y="2162"/>
                    </a:lnTo>
                    <a:lnTo>
                      <a:pt x="45" y="229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3297240" y="4648320"/>
                <a:ext cx="46440" cy="838440"/>
              </a:xfrm>
              <a:custGeom>
                <a:avLst/>
                <a:gdLst/>
                <a:ahLst/>
                <a:rect l="0" t="0" r="r" b="b"/>
                <a:pathLst>
                  <a:path fill="none" w="129" h="2329">
                    <a:moveTo>
                      <a:pt x="17" y="0"/>
                    </a:moveTo>
                    <a:lnTo>
                      <a:pt x="129" y="110"/>
                    </a:lnTo>
                    <a:lnTo>
                      <a:pt x="129" y="238"/>
                    </a:lnTo>
                    <a:lnTo>
                      <a:pt x="40" y="366"/>
                    </a:lnTo>
                    <a:lnTo>
                      <a:pt x="0" y="493"/>
                    </a:lnTo>
                    <a:lnTo>
                      <a:pt x="0" y="621"/>
                    </a:lnTo>
                    <a:lnTo>
                      <a:pt x="0" y="754"/>
                    </a:lnTo>
                    <a:lnTo>
                      <a:pt x="40" y="881"/>
                    </a:lnTo>
                    <a:lnTo>
                      <a:pt x="40" y="1009"/>
                    </a:lnTo>
                    <a:lnTo>
                      <a:pt x="40" y="1137"/>
                    </a:lnTo>
                    <a:lnTo>
                      <a:pt x="40" y="1266"/>
                    </a:lnTo>
                    <a:lnTo>
                      <a:pt x="84" y="1394"/>
                    </a:lnTo>
                    <a:lnTo>
                      <a:pt x="84" y="1522"/>
                    </a:lnTo>
                    <a:lnTo>
                      <a:pt x="26" y="1650"/>
                    </a:lnTo>
                    <a:lnTo>
                      <a:pt x="40" y="1778"/>
                    </a:lnTo>
                    <a:lnTo>
                      <a:pt x="40" y="1906"/>
                    </a:lnTo>
                    <a:lnTo>
                      <a:pt x="40" y="2077"/>
                    </a:lnTo>
                    <a:lnTo>
                      <a:pt x="40" y="2205"/>
                    </a:lnTo>
                    <a:lnTo>
                      <a:pt x="26" y="2329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8880480" y="4948200"/>
                <a:ext cx="87480" cy="243000"/>
              </a:xfrm>
              <a:prstGeom prst="rect">
                <a:avLst/>
              </a:prstGeom>
              <a:solidFill>
                <a:srgbClr val="0101ff"/>
              </a:solidFill>
              <a:ln w="12600">
                <a:solidFill>
                  <a:srgbClr val="0101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7061040" y="5072040"/>
                <a:ext cx="1886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77" name=""/>
          <p:cNvSpPr txBox="1"/>
          <p:nvPr/>
        </p:nvSpPr>
        <p:spPr>
          <a:xfrm>
            <a:off x="1728720" y="1035000"/>
            <a:ext cx="5349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 SECTIONS  RE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8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9" name=""/>
          <p:cNvSpPr/>
          <p:nvPr/>
        </p:nvSpPr>
        <p:spPr>
          <a:xfrm>
            <a:off x="1438200" y="433548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0" name=""/>
          <p:cNvSpPr/>
          <p:nvPr/>
        </p:nvSpPr>
        <p:spPr>
          <a:xfrm>
            <a:off x="1438200" y="45338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1" name=""/>
          <p:cNvSpPr/>
          <p:nvPr/>
        </p:nvSpPr>
        <p:spPr>
          <a:xfrm>
            <a:off x="3819600" y="438156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2" name=""/>
          <p:cNvSpPr/>
          <p:nvPr/>
        </p:nvSpPr>
        <p:spPr>
          <a:xfrm>
            <a:off x="3819600" y="4579920"/>
            <a:ext cx="0" cy="122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3" name=""/>
          <p:cNvSpPr/>
          <p:nvPr/>
        </p:nvSpPr>
        <p:spPr>
          <a:xfrm>
            <a:off x="6197760" y="4348080"/>
            <a:ext cx="0" cy="10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4" name=""/>
          <p:cNvSpPr/>
          <p:nvPr/>
        </p:nvSpPr>
        <p:spPr>
          <a:xfrm>
            <a:off x="6197760" y="4546440"/>
            <a:ext cx="0" cy="123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5" name=""/>
          <p:cNvSpPr/>
          <p:nvPr/>
        </p:nvSpPr>
        <p:spPr>
          <a:xfrm>
            <a:off x="3405240" y="2922480"/>
            <a:ext cx="844920" cy="844920"/>
          </a:xfrm>
          <a:custGeom>
            <a:avLst/>
            <a:gdLst/>
            <a:ahLst/>
            <a:rect l="0" t="0" r="r" b="b"/>
            <a:pathLst>
              <a:path w="2347" h="2347">
                <a:moveTo>
                  <a:pt x="0" y="704"/>
                </a:moveTo>
                <a:lnTo>
                  <a:pt x="0" y="1643"/>
                </a:lnTo>
                <a:lnTo>
                  <a:pt x="704" y="2347"/>
                </a:lnTo>
                <a:lnTo>
                  <a:pt x="1643" y="2347"/>
                </a:lnTo>
                <a:lnTo>
                  <a:pt x="2347" y="1643"/>
                </a:lnTo>
                <a:lnTo>
                  <a:pt x="2347" y="704"/>
                </a:lnTo>
                <a:lnTo>
                  <a:pt x="1643" y="0"/>
                </a:lnTo>
                <a:lnTo>
                  <a:pt x="704" y="0"/>
                </a:lnTo>
                <a:lnTo>
                  <a:pt x="0" y="704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"/>
          <p:cNvSpPr/>
          <p:nvPr/>
        </p:nvSpPr>
        <p:spPr>
          <a:xfrm>
            <a:off x="5788080" y="2876400"/>
            <a:ext cx="844560" cy="844560"/>
          </a:xfrm>
          <a:prstGeom prst="ellipse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"/>
          <p:cNvSpPr/>
          <p:nvPr/>
        </p:nvSpPr>
        <p:spPr>
          <a:xfrm>
            <a:off x="995400" y="2955960"/>
            <a:ext cx="844560" cy="84456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"/>
          <p:cNvSpPr/>
          <p:nvPr/>
        </p:nvSpPr>
        <p:spPr>
          <a:xfrm>
            <a:off x="1438200" y="2786040"/>
            <a:ext cx="0" cy="145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9" name=""/>
          <p:cNvSpPr/>
          <p:nvPr/>
        </p:nvSpPr>
        <p:spPr>
          <a:xfrm>
            <a:off x="3819600" y="2828880"/>
            <a:ext cx="0" cy="1460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0" name=""/>
          <p:cNvSpPr/>
          <p:nvPr/>
        </p:nvSpPr>
        <p:spPr>
          <a:xfrm>
            <a:off x="6197760" y="2728800"/>
            <a:ext cx="0" cy="15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1" name=""/>
          <p:cNvSpPr/>
          <p:nvPr/>
        </p:nvSpPr>
        <p:spPr>
          <a:xfrm>
            <a:off x="7450200" y="4329000"/>
            <a:ext cx="0" cy="10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2" name=""/>
          <p:cNvSpPr/>
          <p:nvPr/>
        </p:nvSpPr>
        <p:spPr>
          <a:xfrm>
            <a:off x="7450200" y="4527720"/>
            <a:ext cx="0" cy="123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3" name=""/>
          <p:cNvSpPr/>
          <p:nvPr/>
        </p:nvSpPr>
        <p:spPr>
          <a:xfrm>
            <a:off x="8474040" y="428148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4" name=""/>
          <p:cNvSpPr/>
          <p:nvPr/>
        </p:nvSpPr>
        <p:spPr>
          <a:xfrm>
            <a:off x="8474040" y="4479840"/>
            <a:ext cx="0" cy="112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5" name=""/>
          <p:cNvSpPr/>
          <p:nvPr/>
        </p:nvSpPr>
        <p:spPr>
          <a:xfrm>
            <a:off x="7450200" y="2800440"/>
            <a:ext cx="0" cy="143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6" name=""/>
          <p:cNvSpPr/>
          <p:nvPr/>
        </p:nvSpPr>
        <p:spPr>
          <a:xfrm>
            <a:off x="8474040" y="2957400"/>
            <a:ext cx="0" cy="123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97" name=""/>
          <p:cNvGrpSpPr/>
          <p:nvPr/>
        </p:nvGrpSpPr>
        <p:grpSpPr>
          <a:xfrm>
            <a:off x="270000" y="4381560"/>
            <a:ext cx="8697960" cy="1655640"/>
            <a:chOff x="270000" y="4381560"/>
            <a:chExt cx="8697960" cy="1655640"/>
          </a:xfrm>
        </p:grpSpPr>
        <p:sp>
          <p:nvSpPr>
            <p:cNvPr id="6898" name=""/>
            <p:cNvSpPr/>
            <p:nvPr/>
          </p:nvSpPr>
          <p:spPr>
            <a:xfrm>
              <a:off x="7224840" y="489600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4359240" y="5423040"/>
              <a:ext cx="327240" cy="51120"/>
            </a:xfrm>
            <a:custGeom>
              <a:avLst/>
              <a:gdLst/>
              <a:ahLst/>
              <a:rect l="0" t="0" r="r" b="b"/>
              <a:pathLst>
                <a:path w="909" h="142">
                  <a:moveTo>
                    <a:pt x="44" y="0"/>
                  </a:moveTo>
                  <a:lnTo>
                    <a:pt x="0" y="106"/>
                  </a:lnTo>
                  <a:lnTo>
                    <a:pt x="909" y="142"/>
                  </a:lnTo>
                  <a:lnTo>
                    <a:pt x="909" y="4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4314960" y="5654520"/>
              <a:ext cx="321120" cy="66960"/>
            </a:xfrm>
            <a:custGeom>
              <a:avLst/>
              <a:gdLst/>
              <a:ahLst/>
              <a:rect l="0" t="0" r="r" b="b"/>
              <a:pathLst>
                <a:path w="892" h="186">
                  <a:moveTo>
                    <a:pt x="52" y="8"/>
                  </a:moveTo>
                  <a:lnTo>
                    <a:pt x="0" y="186"/>
                  </a:lnTo>
                  <a:lnTo>
                    <a:pt x="892" y="186"/>
                  </a:lnTo>
                  <a:lnTo>
                    <a:pt x="892" y="0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4486320" y="597384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2790720" y="4894200"/>
              <a:ext cx="1797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2878200" y="5241960"/>
              <a:ext cx="167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5129280" y="513252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5119560" y="474660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5108400" y="489096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5086440" y="523728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5106960" y="53640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5126040" y="46404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2490840" y="465444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2503440" y="526752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6168960" y="464652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6156000" y="486396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7070760" y="469584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6338880" y="453852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6470640" y="543096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5403960" y="507204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6889680" y="507204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9" name=""/>
            <p:cNvSpPr/>
            <p:nvPr/>
          </p:nvSpPr>
          <p:spPr>
            <a:xfrm flipV="1">
              <a:off x="270000" y="4643280"/>
              <a:ext cx="849240" cy="84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4316400" y="460692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1117440" y="464328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270000" y="548496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3" name=""/>
            <p:cNvSpPr/>
            <p:nvPr/>
          </p:nvSpPr>
          <p:spPr>
            <a:xfrm flipH="1">
              <a:off x="4510080" y="489420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4" name=""/>
            <p:cNvSpPr/>
            <p:nvPr/>
          </p:nvSpPr>
          <p:spPr>
            <a:xfrm flipH="1">
              <a:off x="4506840" y="524016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3005280" y="438156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2973240" y="464832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3297240" y="464832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8880480" y="494820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7061040" y="507204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0" name=""/>
          <p:cNvSpPr txBox="1"/>
          <p:nvPr/>
        </p:nvSpPr>
        <p:spPr>
          <a:xfrm>
            <a:off x="1728720" y="1035000"/>
            <a:ext cx="5349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 SECTIONS  RE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1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2" name=""/>
          <p:cNvSpPr/>
          <p:nvPr/>
        </p:nvSpPr>
        <p:spPr>
          <a:xfrm>
            <a:off x="1438200" y="433548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3" name=""/>
          <p:cNvSpPr/>
          <p:nvPr/>
        </p:nvSpPr>
        <p:spPr>
          <a:xfrm>
            <a:off x="1438200" y="45338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4" name=""/>
          <p:cNvSpPr/>
          <p:nvPr/>
        </p:nvSpPr>
        <p:spPr>
          <a:xfrm>
            <a:off x="3819600" y="438156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5" name=""/>
          <p:cNvSpPr/>
          <p:nvPr/>
        </p:nvSpPr>
        <p:spPr>
          <a:xfrm>
            <a:off x="3819600" y="4579920"/>
            <a:ext cx="0" cy="122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6" name=""/>
          <p:cNvSpPr/>
          <p:nvPr/>
        </p:nvSpPr>
        <p:spPr>
          <a:xfrm>
            <a:off x="6197760" y="4348080"/>
            <a:ext cx="0" cy="10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7" name=""/>
          <p:cNvSpPr/>
          <p:nvPr/>
        </p:nvSpPr>
        <p:spPr>
          <a:xfrm>
            <a:off x="6197760" y="4546440"/>
            <a:ext cx="0" cy="123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8" name=""/>
          <p:cNvSpPr/>
          <p:nvPr/>
        </p:nvSpPr>
        <p:spPr>
          <a:xfrm>
            <a:off x="3405240" y="2922480"/>
            <a:ext cx="844920" cy="844920"/>
          </a:xfrm>
          <a:custGeom>
            <a:avLst/>
            <a:gdLst/>
            <a:ahLst/>
            <a:rect l="0" t="0" r="r" b="b"/>
            <a:pathLst>
              <a:path w="2347" h="2347">
                <a:moveTo>
                  <a:pt x="0" y="704"/>
                </a:moveTo>
                <a:lnTo>
                  <a:pt x="0" y="1643"/>
                </a:lnTo>
                <a:lnTo>
                  <a:pt x="704" y="2347"/>
                </a:lnTo>
                <a:lnTo>
                  <a:pt x="1643" y="2347"/>
                </a:lnTo>
                <a:lnTo>
                  <a:pt x="2347" y="1643"/>
                </a:lnTo>
                <a:lnTo>
                  <a:pt x="2347" y="704"/>
                </a:lnTo>
                <a:lnTo>
                  <a:pt x="1643" y="0"/>
                </a:lnTo>
                <a:lnTo>
                  <a:pt x="704" y="0"/>
                </a:lnTo>
                <a:lnTo>
                  <a:pt x="0" y="704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/>
          <p:nvPr/>
        </p:nvSpPr>
        <p:spPr>
          <a:xfrm>
            <a:off x="5788080" y="2876400"/>
            <a:ext cx="844560" cy="844560"/>
          </a:xfrm>
          <a:prstGeom prst="ellipse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>
            <a:off x="995400" y="2955960"/>
            <a:ext cx="844560" cy="84456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>
            <a:off x="1438200" y="2786040"/>
            <a:ext cx="0" cy="145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>
            <a:off x="3819600" y="2828880"/>
            <a:ext cx="0" cy="1460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>
            <a:off x="6197760" y="2728800"/>
            <a:ext cx="0" cy="15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>
            <a:off x="7450200" y="4329000"/>
            <a:ext cx="0" cy="10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>
            <a:off x="7450200" y="4527720"/>
            <a:ext cx="0" cy="123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>
            <a:off x="8474040" y="428148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>
            <a:off x="8474040" y="4479840"/>
            <a:ext cx="0" cy="112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>
            <a:off x="7094520" y="2933640"/>
            <a:ext cx="719280" cy="719280"/>
          </a:xfrm>
          <a:prstGeom prst="ellipse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>
            <a:off x="7450200" y="2800440"/>
            <a:ext cx="0" cy="143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0" name=""/>
          <p:cNvSpPr/>
          <p:nvPr/>
        </p:nvSpPr>
        <p:spPr>
          <a:xfrm>
            <a:off x="8474040" y="2957400"/>
            <a:ext cx="0" cy="123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1" name=""/>
          <p:cNvGrpSpPr/>
          <p:nvPr/>
        </p:nvGrpSpPr>
        <p:grpSpPr>
          <a:xfrm>
            <a:off x="270000" y="4381560"/>
            <a:ext cx="8697960" cy="1655640"/>
            <a:chOff x="270000" y="4381560"/>
            <a:chExt cx="8697960" cy="1655640"/>
          </a:xfrm>
        </p:grpSpPr>
        <p:sp>
          <p:nvSpPr>
            <p:cNvPr id="6952" name=""/>
            <p:cNvSpPr/>
            <p:nvPr/>
          </p:nvSpPr>
          <p:spPr>
            <a:xfrm>
              <a:off x="7224840" y="489600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4359240" y="5423040"/>
              <a:ext cx="327240" cy="51120"/>
            </a:xfrm>
            <a:custGeom>
              <a:avLst/>
              <a:gdLst/>
              <a:ahLst/>
              <a:rect l="0" t="0" r="r" b="b"/>
              <a:pathLst>
                <a:path w="909" h="142">
                  <a:moveTo>
                    <a:pt x="44" y="0"/>
                  </a:moveTo>
                  <a:lnTo>
                    <a:pt x="0" y="106"/>
                  </a:lnTo>
                  <a:lnTo>
                    <a:pt x="909" y="142"/>
                  </a:lnTo>
                  <a:lnTo>
                    <a:pt x="909" y="4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4314960" y="5654520"/>
              <a:ext cx="321120" cy="66960"/>
            </a:xfrm>
            <a:custGeom>
              <a:avLst/>
              <a:gdLst/>
              <a:ahLst/>
              <a:rect l="0" t="0" r="r" b="b"/>
              <a:pathLst>
                <a:path w="892" h="186">
                  <a:moveTo>
                    <a:pt x="52" y="8"/>
                  </a:moveTo>
                  <a:lnTo>
                    <a:pt x="0" y="186"/>
                  </a:lnTo>
                  <a:lnTo>
                    <a:pt x="892" y="186"/>
                  </a:lnTo>
                  <a:lnTo>
                    <a:pt x="892" y="0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4486320" y="597384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2790720" y="4894200"/>
              <a:ext cx="1797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2878200" y="5241960"/>
              <a:ext cx="167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5129280" y="513252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5119560" y="474660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5108400" y="489096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5086440" y="523728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5106960" y="53640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5126040" y="46404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2490840" y="465444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2503440" y="526752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6168960" y="464652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6156000" y="486396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7070760" y="469584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6338880" y="453852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6470640" y="543096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5403960" y="507204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6889680" y="507204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3" name=""/>
            <p:cNvSpPr/>
            <p:nvPr/>
          </p:nvSpPr>
          <p:spPr>
            <a:xfrm flipV="1">
              <a:off x="270000" y="4643280"/>
              <a:ext cx="849240" cy="84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4316400" y="460692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1117440" y="464328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270000" y="548496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7" name=""/>
            <p:cNvSpPr/>
            <p:nvPr/>
          </p:nvSpPr>
          <p:spPr>
            <a:xfrm flipH="1">
              <a:off x="4510080" y="489420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8" name=""/>
            <p:cNvSpPr/>
            <p:nvPr/>
          </p:nvSpPr>
          <p:spPr>
            <a:xfrm flipH="1">
              <a:off x="4506840" y="524016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3005280" y="438156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2973240" y="464832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3297240" y="464832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8880480" y="494820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7061040" y="507204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84" name=""/>
          <p:cNvSpPr txBox="1"/>
          <p:nvPr/>
        </p:nvSpPr>
        <p:spPr>
          <a:xfrm>
            <a:off x="1728720" y="1035000"/>
            <a:ext cx="5349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 SECTIONS  RE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5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6" name=""/>
          <p:cNvSpPr/>
          <p:nvPr/>
        </p:nvSpPr>
        <p:spPr>
          <a:xfrm>
            <a:off x="1438200" y="433548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7" name=""/>
          <p:cNvSpPr/>
          <p:nvPr/>
        </p:nvSpPr>
        <p:spPr>
          <a:xfrm>
            <a:off x="1438200" y="45338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8" name=""/>
          <p:cNvSpPr/>
          <p:nvPr/>
        </p:nvSpPr>
        <p:spPr>
          <a:xfrm>
            <a:off x="3819600" y="438156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9" name=""/>
          <p:cNvSpPr/>
          <p:nvPr/>
        </p:nvSpPr>
        <p:spPr>
          <a:xfrm>
            <a:off x="3819600" y="4579920"/>
            <a:ext cx="0" cy="122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0" name=""/>
          <p:cNvSpPr/>
          <p:nvPr/>
        </p:nvSpPr>
        <p:spPr>
          <a:xfrm>
            <a:off x="6197760" y="4348080"/>
            <a:ext cx="0" cy="10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1" name=""/>
          <p:cNvSpPr/>
          <p:nvPr/>
        </p:nvSpPr>
        <p:spPr>
          <a:xfrm>
            <a:off x="6197760" y="4546440"/>
            <a:ext cx="0" cy="123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2" name=""/>
          <p:cNvSpPr/>
          <p:nvPr/>
        </p:nvSpPr>
        <p:spPr>
          <a:xfrm>
            <a:off x="3405240" y="2922480"/>
            <a:ext cx="844920" cy="844920"/>
          </a:xfrm>
          <a:custGeom>
            <a:avLst/>
            <a:gdLst/>
            <a:ahLst/>
            <a:rect l="0" t="0" r="r" b="b"/>
            <a:pathLst>
              <a:path w="2347" h="2347">
                <a:moveTo>
                  <a:pt x="0" y="704"/>
                </a:moveTo>
                <a:lnTo>
                  <a:pt x="0" y="1643"/>
                </a:lnTo>
                <a:lnTo>
                  <a:pt x="704" y="2347"/>
                </a:lnTo>
                <a:lnTo>
                  <a:pt x="1643" y="2347"/>
                </a:lnTo>
                <a:lnTo>
                  <a:pt x="2347" y="1643"/>
                </a:lnTo>
                <a:lnTo>
                  <a:pt x="2347" y="704"/>
                </a:lnTo>
                <a:lnTo>
                  <a:pt x="1643" y="0"/>
                </a:lnTo>
                <a:lnTo>
                  <a:pt x="704" y="0"/>
                </a:lnTo>
                <a:lnTo>
                  <a:pt x="0" y="704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3" name=""/>
          <p:cNvSpPr/>
          <p:nvPr/>
        </p:nvSpPr>
        <p:spPr>
          <a:xfrm>
            <a:off x="5788080" y="2876400"/>
            <a:ext cx="844560" cy="844560"/>
          </a:xfrm>
          <a:prstGeom prst="ellipse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4" name=""/>
          <p:cNvSpPr/>
          <p:nvPr/>
        </p:nvSpPr>
        <p:spPr>
          <a:xfrm>
            <a:off x="995400" y="2955960"/>
            <a:ext cx="844560" cy="84456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5" name=""/>
          <p:cNvSpPr/>
          <p:nvPr/>
        </p:nvSpPr>
        <p:spPr>
          <a:xfrm>
            <a:off x="1438200" y="2786040"/>
            <a:ext cx="0" cy="145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6" name=""/>
          <p:cNvSpPr/>
          <p:nvPr/>
        </p:nvSpPr>
        <p:spPr>
          <a:xfrm>
            <a:off x="3819600" y="2828880"/>
            <a:ext cx="0" cy="1460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7" name=""/>
          <p:cNvSpPr/>
          <p:nvPr/>
        </p:nvSpPr>
        <p:spPr>
          <a:xfrm>
            <a:off x="6197760" y="2728800"/>
            <a:ext cx="0" cy="15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8" name=""/>
          <p:cNvSpPr/>
          <p:nvPr/>
        </p:nvSpPr>
        <p:spPr>
          <a:xfrm>
            <a:off x="7450200" y="4329000"/>
            <a:ext cx="0" cy="10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9" name=""/>
          <p:cNvSpPr/>
          <p:nvPr/>
        </p:nvSpPr>
        <p:spPr>
          <a:xfrm>
            <a:off x="7450200" y="4527720"/>
            <a:ext cx="0" cy="123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0" name=""/>
          <p:cNvSpPr/>
          <p:nvPr/>
        </p:nvSpPr>
        <p:spPr>
          <a:xfrm>
            <a:off x="8474040" y="428148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1" name=""/>
          <p:cNvSpPr/>
          <p:nvPr/>
        </p:nvSpPr>
        <p:spPr>
          <a:xfrm>
            <a:off x="8474040" y="4479840"/>
            <a:ext cx="0" cy="112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2" name=""/>
          <p:cNvSpPr/>
          <p:nvPr/>
        </p:nvSpPr>
        <p:spPr>
          <a:xfrm>
            <a:off x="7094520" y="2933640"/>
            <a:ext cx="719280" cy="719280"/>
          </a:xfrm>
          <a:prstGeom prst="ellipse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3" name=""/>
          <p:cNvSpPr/>
          <p:nvPr/>
        </p:nvSpPr>
        <p:spPr>
          <a:xfrm>
            <a:off x="8258040" y="3070080"/>
            <a:ext cx="442800" cy="442800"/>
          </a:xfrm>
          <a:prstGeom prst="ellipse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4" name=""/>
          <p:cNvSpPr/>
          <p:nvPr/>
        </p:nvSpPr>
        <p:spPr>
          <a:xfrm>
            <a:off x="7450200" y="2800440"/>
            <a:ext cx="0" cy="143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5" name=""/>
          <p:cNvSpPr/>
          <p:nvPr/>
        </p:nvSpPr>
        <p:spPr>
          <a:xfrm>
            <a:off x="8474040" y="2957400"/>
            <a:ext cx="0" cy="123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06" name=""/>
          <p:cNvGrpSpPr/>
          <p:nvPr/>
        </p:nvGrpSpPr>
        <p:grpSpPr>
          <a:xfrm>
            <a:off x="270000" y="4381560"/>
            <a:ext cx="8697960" cy="1655640"/>
            <a:chOff x="270000" y="4381560"/>
            <a:chExt cx="8697960" cy="1655640"/>
          </a:xfrm>
        </p:grpSpPr>
        <p:sp>
          <p:nvSpPr>
            <p:cNvPr id="7007" name=""/>
            <p:cNvSpPr/>
            <p:nvPr/>
          </p:nvSpPr>
          <p:spPr>
            <a:xfrm>
              <a:off x="7224840" y="489600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4359240" y="5423040"/>
              <a:ext cx="327240" cy="51120"/>
            </a:xfrm>
            <a:custGeom>
              <a:avLst/>
              <a:gdLst/>
              <a:ahLst/>
              <a:rect l="0" t="0" r="r" b="b"/>
              <a:pathLst>
                <a:path w="909" h="142">
                  <a:moveTo>
                    <a:pt x="44" y="0"/>
                  </a:moveTo>
                  <a:lnTo>
                    <a:pt x="0" y="106"/>
                  </a:lnTo>
                  <a:lnTo>
                    <a:pt x="909" y="142"/>
                  </a:lnTo>
                  <a:lnTo>
                    <a:pt x="909" y="4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4314960" y="5654520"/>
              <a:ext cx="321120" cy="66960"/>
            </a:xfrm>
            <a:custGeom>
              <a:avLst/>
              <a:gdLst/>
              <a:ahLst/>
              <a:rect l="0" t="0" r="r" b="b"/>
              <a:pathLst>
                <a:path w="892" h="186">
                  <a:moveTo>
                    <a:pt x="52" y="8"/>
                  </a:moveTo>
                  <a:lnTo>
                    <a:pt x="0" y="186"/>
                  </a:lnTo>
                  <a:lnTo>
                    <a:pt x="892" y="186"/>
                  </a:lnTo>
                  <a:lnTo>
                    <a:pt x="892" y="0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4486320" y="597384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2790720" y="4894200"/>
              <a:ext cx="1797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2878200" y="5241960"/>
              <a:ext cx="167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5129280" y="513252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5119560" y="474660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5" name=""/>
            <p:cNvSpPr/>
            <p:nvPr/>
          </p:nvSpPr>
          <p:spPr>
            <a:xfrm>
              <a:off x="5108400" y="489096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5086440" y="523728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5106960" y="53640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5126040" y="464040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2490840" y="465444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2503440" y="526752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6168960" y="464652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6156000" y="486396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7070760" y="469584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6338880" y="453852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6470640" y="543096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5403960" y="507204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6889680" y="507204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8" name=""/>
            <p:cNvSpPr/>
            <p:nvPr/>
          </p:nvSpPr>
          <p:spPr>
            <a:xfrm flipV="1">
              <a:off x="270000" y="4643280"/>
              <a:ext cx="849240" cy="84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4316400" y="460692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1117440" y="464328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270000" y="548496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2" name=""/>
            <p:cNvSpPr/>
            <p:nvPr/>
          </p:nvSpPr>
          <p:spPr>
            <a:xfrm flipH="1">
              <a:off x="4510080" y="489420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3" name=""/>
            <p:cNvSpPr/>
            <p:nvPr/>
          </p:nvSpPr>
          <p:spPr>
            <a:xfrm flipH="1">
              <a:off x="4506840" y="524016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3005280" y="438156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2973240" y="464832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3297240" y="464832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8880480" y="494820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7061040" y="507204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39" name=""/>
          <p:cNvSpPr txBox="1"/>
          <p:nvPr/>
        </p:nvSpPr>
        <p:spPr>
          <a:xfrm>
            <a:off x="1728720" y="1035000"/>
            <a:ext cx="5349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 SECTIONS  RE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0" name=""/>
          <p:cNvSpPr txBox="1"/>
          <p:nvPr/>
        </p:nvSpPr>
        <p:spPr>
          <a:xfrm>
            <a:off x="685800" y="220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ved Section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120680"/>
            <a:ext cx="77724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tory Concep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 Arrowheads --approximately 1/4” to 3/8” in leng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/ Ratio 3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59440" y="5518080"/>
            <a:ext cx="932400" cy="317880"/>
          </a:xfrm>
          <a:custGeom>
            <a:avLst/>
            <a:gdLst/>
            <a:ahLst/>
            <a:rect l="0" t="0" r="r" b="b"/>
            <a:pathLst>
              <a:path w="2590" h="883">
                <a:moveTo>
                  <a:pt x="0" y="0"/>
                </a:moveTo>
                <a:lnTo>
                  <a:pt x="0" y="883"/>
                </a:lnTo>
                <a:lnTo>
                  <a:pt x="2590" y="441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76800" y="5505480"/>
            <a:ext cx="66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76800" y="5824440"/>
            <a:ext cx="668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4120" y="598176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94360" y="5800680"/>
            <a:ext cx="0" cy="59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24320" y="545292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08560" y="60706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201760" y="3092400"/>
            <a:ext cx="6365880" cy="925560"/>
            <a:chOff x="2201760" y="3092400"/>
            <a:chExt cx="6365880" cy="925560"/>
          </a:xfrm>
        </p:grpSpPr>
        <p:grpSp>
          <p:nvGrpSpPr>
            <p:cNvPr id="176" name=""/>
            <p:cNvGrpSpPr/>
            <p:nvPr/>
          </p:nvGrpSpPr>
          <p:grpSpPr>
            <a:xfrm>
              <a:off x="2209680" y="3092400"/>
              <a:ext cx="6324840" cy="0"/>
              <a:chOff x="2209680" y="3092400"/>
              <a:chExt cx="6324840" cy="0"/>
            </a:xfrm>
          </p:grpSpPr>
          <p:sp>
            <p:nvSpPr>
              <p:cNvPr id="177" name=""/>
              <p:cNvSpPr/>
              <p:nvPr/>
            </p:nvSpPr>
            <p:spPr>
              <a:xfrm>
                <a:off x="2209680" y="3092400"/>
                <a:ext cx="1447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8620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9112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24480" y="3092400"/>
                <a:ext cx="1523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24760" y="3092400"/>
                <a:ext cx="152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3092400"/>
                <a:ext cx="152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8000" y="3092400"/>
                <a:ext cx="16765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201760" y="4017960"/>
              <a:ext cx="6365880" cy="0"/>
              <a:chOff x="2201760" y="4017960"/>
              <a:chExt cx="6365880" cy="0"/>
            </a:xfrm>
          </p:grpSpPr>
          <p:sp>
            <p:nvSpPr>
              <p:cNvPr id="185" name=""/>
              <p:cNvSpPr/>
              <p:nvPr/>
            </p:nvSpPr>
            <p:spPr>
              <a:xfrm>
                <a:off x="2201760" y="4017960"/>
                <a:ext cx="162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90960" y="4017960"/>
                <a:ext cx="163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0160" y="4017960"/>
                <a:ext cx="1857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361200" y="4017960"/>
                <a:ext cx="16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662880" y="4017960"/>
                <a:ext cx="1904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01760" y="3544920"/>
              <a:ext cx="6059520" cy="6480"/>
              <a:chOff x="2201760" y="3544920"/>
              <a:chExt cx="6059520" cy="6480"/>
            </a:xfrm>
          </p:grpSpPr>
          <p:sp>
            <p:nvSpPr>
              <p:cNvPr id="191" name=""/>
              <p:cNvSpPr/>
              <p:nvPr/>
            </p:nvSpPr>
            <p:spPr>
              <a:xfrm>
                <a:off x="2201760" y="354492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81160" y="3546360"/>
                <a:ext cx="605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84680" y="35481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87840" y="35481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67240" y="354492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122880" y="354960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00840" y="354636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56480" y="3551400"/>
                <a:ext cx="60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1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2" name=""/>
          <p:cNvSpPr txBox="1"/>
          <p:nvPr/>
        </p:nvSpPr>
        <p:spPr>
          <a:xfrm>
            <a:off x="2706840" y="1035000"/>
            <a:ext cx="33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3" name=""/>
          <p:cNvSpPr/>
          <p:nvPr/>
        </p:nvSpPr>
        <p:spPr>
          <a:xfrm>
            <a:off x="423720" y="4842000"/>
            <a:ext cx="6837480" cy="84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4" name=""/>
          <p:cNvSpPr/>
          <p:nvPr/>
        </p:nvSpPr>
        <p:spPr>
          <a:xfrm>
            <a:off x="3035160" y="50720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5" name=""/>
          <p:cNvSpPr/>
          <p:nvPr/>
        </p:nvSpPr>
        <p:spPr>
          <a:xfrm>
            <a:off x="3051000" y="5454720"/>
            <a:ext cx="222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6" name=""/>
          <p:cNvSpPr/>
          <p:nvPr/>
        </p:nvSpPr>
        <p:spPr>
          <a:xfrm>
            <a:off x="5280120" y="53323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7" name=""/>
          <p:cNvSpPr/>
          <p:nvPr/>
        </p:nvSpPr>
        <p:spPr>
          <a:xfrm>
            <a:off x="5280120" y="49467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8" name=""/>
          <p:cNvSpPr/>
          <p:nvPr/>
        </p:nvSpPr>
        <p:spPr>
          <a:xfrm>
            <a:off x="5281560" y="50688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9" name=""/>
          <p:cNvSpPr/>
          <p:nvPr/>
        </p:nvSpPr>
        <p:spPr>
          <a:xfrm>
            <a:off x="5259240" y="54529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0" name=""/>
          <p:cNvSpPr/>
          <p:nvPr/>
        </p:nvSpPr>
        <p:spPr>
          <a:xfrm>
            <a:off x="5261040" y="55641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1" name=""/>
          <p:cNvSpPr/>
          <p:nvPr/>
        </p:nvSpPr>
        <p:spPr>
          <a:xfrm>
            <a:off x="5280120" y="48402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2" name=""/>
          <p:cNvSpPr/>
          <p:nvPr/>
        </p:nvSpPr>
        <p:spPr>
          <a:xfrm>
            <a:off x="2645280" y="4852080"/>
            <a:ext cx="398520" cy="220320"/>
          </a:xfrm>
          <a:custGeom>
            <a:avLst/>
            <a:gdLst/>
            <a:ahLst/>
            <a:rect l="0" t="0" r="r" b="b"/>
            <a:pathLst>
              <a:path fill="none" w="1107" h="612">
                <a:moveTo>
                  <a:pt x="0" y="0"/>
                </a:moveTo>
                <a:lnTo>
                  <a:pt x="0" y="0"/>
                </a:lnTo>
                <a:cubicBezTo>
                  <a:pt x="16" y="96"/>
                  <a:pt x="65" y="189"/>
                  <a:pt x="144" y="272"/>
                </a:cubicBezTo>
                <a:cubicBezTo>
                  <a:pt x="241" y="375"/>
                  <a:pt x="382" y="461"/>
                  <a:pt x="551" y="521"/>
                </a:cubicBezTo>
                <a:cubicBezTo>
                  <a:pt x="720" y="581"/>
                  <a:pt x="912" y="612"/>
                  <a:pt x="1107" y="61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3" name=""/>
          <p:cNvSpPr/>
          <p:nvPr/>
        </p:nvSpPr>
        <p:spPr>
          <a:xfrm>
            <a:off x="2658960" y="5481720"/>
            <a:ext cx="398160" cy="219240"/>
          </a:xfrm>
          <a:custGeom>
            <a:avLst/>
            <a:gdLst/>
            <a:ahLst/>
            <a:rect l="0" t="0" r="r" b="b"/>
            <a:pathLst>
              <a:path fill="none" w="1106" h="609">
                <a:moveTo>
                  <a:pt x="0" y="609"/>
                </a:moveTo>
                <a:lnTo>
                  <a:pt x="0" y="609"/>
                </a:lnTo>
                <a:lnTo>
                  <a:pt x="0" y="609"/>
                </a:lnTo>
                <a:cubicBezTo>
                  <a:pt x="195" y="609"/>
                  <a:pt x="387" y="578"/>
                  <a:pt x="556" y="518"/>
                </a:cubicBezTo>
                <a:cubicBezTo>
                  <a:pt x="725" y="458"/>
                  <a:pt x="866" y="372"/>
                  <a:pt x="963" y="269"/>
                </a:cubicBezTo>
                <a:cubicBezTo>
                  <a:pt x="1041" y="186"/>
                  <a:pt x="1090" y="95"/>
                  <a:pt x="110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4" name=""/>
          <p:cNvSpPr/>
          <p:nvPr/>
        </p:nvSpPr>
        <p:spPr>
          <a:xfrm>
            <a:off x="7224840" y="489600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5" name=""/>
          <p:cNvSpPr/>
          <p:nvPr/>
        </p:nvSpPr>
        <p:spPr>
          <a:xfrm>
            <a:off x="6624720" y="563076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6" name=""/>
          <p:cNvSpPr/>
          <p:nvPr/>
        </p:nvSpPr>
        <p:spPr>
          <a:xfrm>
            <a:off x="5557680" y="5272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7" name=""/>
          <p:cNvSpPr/>
          <p:nvPr/>
        </p:nvSpPr>
        <p:spPr>
          <a:xfrm>
            <a:off x="7043760" y="527220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8" name=""/>
          <p:cNvSpPr/>
          <p:nvPr/>
        </p:nvSpPr>
        <p:spPr>
          <a:xfrm>
            <a:off x="7215120" y="527220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9" name=""/>
          <p:cNvSpPr/>
          <p:nvPr/>
        </p:nvSpPr>
        <p:spPr>
          <a:xfrm flipV="1">
            <a:off x="442800" y="4843440"/>
            <a:ext cx="81468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0" name=""/>
          <p:cNvSpPr/>
          <p:nvPr/>
        </p:nvSpPr>
        <p:spPr>
          <a:xfrm>
            <a:off x="414360" y="4836960"/>
            <a:ext cx="829080" cy="829080"/>
          </a:xfrm>
          <a:custGeom>
            <a:avLst/>
            <a:gdLst/>
            <a:ahLst/>
            <a:rect l="0" t="0" r="r" b="b"/>
            <a:pathLst>
              <a:path w="2303" h="2303">
                <a:moveTo>
                  <a:pt x="0" y="0"/>
                </a:moveTo>
                <a:lnTo>
                  <a:pt x="0" y="2303"/>
                </a:lnTo>
                <a:lnTo>
                  <a:pt x="2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1" name=""/>
          <p:cNvSpPr/>
          <p:nvPr/>
        </p:nvSpPr>
        <p:spPr>
          <a:xfrm>
            <a:off x="4325760" y="4848120"/>
            <a:ext cx="170280" cy="824400"/>
          </a:xfrm>
          <a:custGeom>
            <a:avLst/>
            <a:gdLst/>
            <a:ahLst/>
            <a:rect l="0" t="0" r="r" b="b"/>
            <a:pathLst>
              <a:path fill="none" w="473" h="2290">
                <a:moveTo>
                  <a:pt x="376" y="0"/>
                </a:moveTo>
                <a:lnTo>
                  <a:pt x="385" y="110"/>
                </a:lnTo>
                <a:lnTo>
                  <a:pt x="473" y="238"/>
                </a:lnTo>
                <a:lnTo>
                  <a:pt x="473" y="366"/>
                </a:lnTo>
                <a:lnTo>
                  <a:pt x="473" y="493"/>
                </a:lnTo>
                <a:lnTo>
                  <a:pt x="385" y="622"/>
                </a:lnTo>
                <a:lnTo>
                  <a:pt x="300" y="755"/>
                </a:lnTo>
                <a:lnTo>
                  <a:pt x="256" y="922"/>
                </a:lnTo>
                <a:lnTo>
                  <a:pt x="217" y="1050"/>
                </a:lnTo>
                <a:lnTo>
                  <a:pt x="217" y="1266"/>
                </a:lnTo>
                <a:lnTo>
                  <a:pt x="217" y="1394"/>
                </a:lnTo>
                <a:lnTo>
                  <a:pt x="128" y="1522"/>
                </a:lnTo>
                <a:lnTo>
                  <a:pt x="88" y="1650"/>
                </a:lnTo>
                <a:lnTo>
                  <a:pt x="44" y="1779"/>
                </a:lnTo>
                <a:lnTo>
                  <a:pt x="44" y="1907"/>
                </a:lnTo>
                <a:lnTo>
                  <a:pt x="44" y="2034"/>
                </a:lnTo>
                <a:lnTo>
                  <a:pt x="44" y="2162"/>
                </a:lnTo>
                <a:lnTo>
                  <a:pt x="0" y="229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2" name=""/>
          <p:cNvSpPr/>
          <p:nvPr/>
        </p:nvSpPr>
        <p:spPr>
          <a:xfrm>
            <a:off x="4648320" y="4851360"/>
            <a:ext cx="138600" cy="814680"/>
          </a:xfrm>
          <a:custGeom>
            <a:avLst/>
            <a:gdLst/>
            <a:ahLst/>
            <a:rect l="0" t="0" r="r" b="b"/>
            <a:pathLst>
              <a:path fill="none" w="385" h="2263">
                <a:moveTo>
                  <a:pt x="301" y="0"/>
                </a:moveTo>
                <a:lnTo>
                  <a:pt x="345" y="127"/>
                </a:lnTo>
                <a:lnTo>
                  <a:pt x="345" y="255"/>
                </a:lnTo>
                <a:lnTo>
                  <a:pt x="385" y="383"/>
                </a:lnTo>
                <a:lnTo>
                  <a:pt x="385" y="511"/>
                </a:lnTo>
                <a:lnTo>
                  <a:pt x="345" y="639"/>
                </a:lnTo>
                <a:lnTo>
                  <a:pt x="345" y="771"/>
                </a:lnTo>
                <a:lnTo>
                  <a:pt x="345" y="899"/>
                </a:lnTo>
                <a:lnTo>
                  <a:pt x="301" y="1027"/>
                </a:lnTo>
                <a:lnTo>
                  <a:pt x="256" y="1156"/>
                </a:lnTo>
                <a:lnTo>
                  <a:pt x="217" y="1284"/>
                </a:lnTo>
                <a:lnTo>
                  <a:pt x="172" y="1412"/>
                </a:lnTo>
                <a:lnTo>
                  <a:pt x="128" y="1539"/>
                </a:lnTo>
                <a:lnTo>
                  <a:pt x="128" y="1751"/>
                </a:lnTo>
                <a:lnTo>
                  <a:pt x="88" y="1879"/>
                </a:lnTo>
                <a:lnTo>
                  <a:pt x="44" y="2007"/>
                </a:lnTo>
                <a:lnTo>
                  <a:pt x="0" y="2135"/>
                </a:lnTo>
                <a:lnTo>
                  <a:pt x="0" y="226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3" name=""/>
          <p:cNvSpPr/>
          <p:nvPr/>
        </p:nvSpPr>
        <p:spPr>
          <a:xfrm>
            <a:off x="4470480" y="480708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4" name=""/>
          <p:cNvSpPr/>
          <p:nvPr/>
        </p:nvSpPr>
        <p:spPr>
          <a:xfrm>
            <a:off x="4460760" y="5048280"/>
            <a:ext cx="311400" cy="44640"/>
          </a:xfrm>
          <a:custGeom>
            <a:avLst/>
            <a:gdLst/>
            <a:ahLst/>
            <a:rect l="0" t="0" r="r" b="b"/>
            <a:pathLst>
              <a:path w="865" h="124">
                <a:moveTo>
                  <a:pt x="79" y="8"/>
                </a:moveTo>
                <a:lnTo>
                  <a:pt x="0" y="124"/>
                </a:lnTo>
                <a:lnTo>
                  <a:pt x="830" y="115"/>
                </a:lnTo>
                <a:lnTo>
                  <a:pt x="865" y="0"/>
                </a:lnTo>
                <a:lnTo>
                  <a:pt x="79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5" name=""/>
          <p:cNvSpPr/>
          <p:nvPr/>
        </p:nvSpPr>
        <p:spPr>
          <a:xfrm>
            <a:off x="4359240" y="5423040"/>
            <a:ext cx="327240" cy="51120"/>
          </a:xfrm>
          <a:custGeom>
            <a:avLst/>
            <a:gdLst/>
            <a:ahLst/>
            <a:rect l="0" t="0" r="r" b="b"/>
            <a:pathLst>
              <a:path w="909" h="142">
                <a:moveTo>
                  <a:pt x="44" y="0"/>
                </a:moveTo>
                <a:lnTo>
                  <a:pt x="0" y="106"/>
                </a:lnTo>
                <a:lnTo>
                  <a:pt x="909" y="142"/>
                </a:lnTo>
                <a:lnTo>
                  <a:pt x="909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6" name=""/>
          <p:cNvSpPr/>
          <p:nvPr/>
        </p:nvSpPr>
        <p:spPr>
          <a:xfrm>
            <a:off x="4314960" y="5654520"/>
            <a:ext cx="321120" cy="66960"/>
          </a:xfrm>
          <a:custGeom>
            <a:avLst/>
            <a:gdLst/>
            <a:ahLst/>
            <a:rect l="0" t="0" r="r" b="b"/>
            <a:pathLst>
              <a:path w="892" h="186">
                <a:moveTo>
                  <a:pt x="52" y="8"/>
                </a:moveTo>
                <a:lnTo>
                  <a:pt x="0" y="186"/>
                </a:lnTo>
                <a:lnTo>
                  <a:pt x="892" y="186"/>
                </a:lnTo>
                <a:lnTo>
                  <a:pt x="892" y="0"/>
                </a:lnTo>
                <a:lnTo>
                  <a:pt x="52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7" name=""/>
          <p:cNvSpPr/>
          <p:nvPr/>
        </p:nvSpPr>
        <p:spPr>
          <a:xfrm>
            <a:off x="6343560" y="4844880"/>
            <a:ext cx="2715840" cy="427320"/>
          </a:xfrm>
          <a:custGeom>
            <a:avLst/>
            <a:gdLst/>
            <a:ahLst/>
            <a:rect l="0" t="0" r="r" b="b"/>
            <a:pathLst>
              <a:path fill="none" w="7544" h="1187">
                <a:moveTo>
                  <a:pt x="7544" y="1187"/>
                </a:moveTo>
                <a:lnTo>
                  <a:pt x="7544" y="1187"/>
                </a:lnTo>
                <a:cubicBezTo>
                  <a:pt x="7367" y="1055"/>
                  <a:pt x="7111" y="929"/>
                  <a:pt x="6781" y="810"/>
                </a:cubicBezTo>
                <a:cubicBezTo>
                  <a:pt x="6094" y="564"/>
                  <a:pt x="5105" y="359"/>
                  <a:pt x="3915" y="217"/>
                </a:cubicBezTo>
                <a:cubicBezTo>
                  <a:pt x="2725" y="75"/>
                  <a:pt x="137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8" name=""/>
          <p:cNvSpPr/>
          <p:nvPr/>
        </p:nvSpPr>
        <p:spPr>
          <a:xfrm>
            <a:off x="6346440" y="5062680"/>
            <a:ext cx="2706120" cy="409320"/>
          </a:xfrm>
          <a:custGeom>
            <a:avLst/>
            <a:gdLst/>
            <a:ahLst/>
            <a:rect l="0" t="0" r="r" b="b"/>
            <a:pathLst>
              <a:path fill="none" w="7517" h="1137">
                <a:moveTo>
                  <a:pt x="7517" y="0"/>
                </a:moveTo>
                <a:lnTo>
                  <a:pt x="7517" y="0"/>
                </a:lnTo>
                <a:lnTo>
                  <a:pt x="7517" y="0"/>
                </a:lnTo>
                <a:cubicBezTo>
                  <a:pt x="6113" y="0"/>
                  <a:pt x="4734" y="80"/>
                  <a:pt x="3519" y="231"/>
                </a:cubicBezTo>
                <a:cubicBezTo>
                  <a:pt x="2303" y="383"/>
                  <a:pt x="1294" y="600"/>
                  <a:pt x="592" y="863"/>
                </a:cubicBezTo>
                <a:cubicBezTo>
                  <a:pt x="358" y="950"/>
                  <a:pt x="160" y="1042"/>
                  <a:pt x="0" y="11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9" name=""/>
          <p:cNvSpPr/>
          <p:nvPr/>
        </p:nvSpPr>
        <p:spPr>
          <a:xfrm>
            <a:off x="6610320" y="4676760"/>
            <a:ext cx="752760" cy="190800"/>
          </a:xfrm>
          <a:custGeom>
            <a:avLst/>
            <a:gdLst/>
            <a:ahLst/>
            <a:rect l="0" t="0" r="r" b="b"/>
            <a:pathLst>
              <a:path w="2091" h="530">
                <a:moveTo>
                  <a:pt x="0" y="424"/>
                </a:moveTo>
                <a:lnTo>
                  <a:pt x="66" y="0"/>
                </a:lnTo>
                <a:lnTo>
                  <a:pt x="2091" y="198"/>
                </a:lnTo>
                <a:lnTo>
                  <a:pt x="1945" y="530"/>
                </a:lnTo>
                <a:lnTo>
                  <a:pt x="0" y="424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0" name=""/>
          <p:cNvSpPr/>
          <p:nvPr/>
        </p:nvSpPr>
        <p:spPr>
          <a:xfrm>
            <a:off x="6405480" y="5662440"/>
            <a:ext cx="886320" cy="195480"/>
          </a:xfrm>
          <a:custGeom>
            <a:avLst/>
            <a:gdLst/>
            <a:ahLst/>
            <a:rect l="0" t="0" r="r" b="b"/>
            <a:pathLst>
              <a:path w="2462" h="543">
                <a:moveTo>
                  <a:pt x="2462" y="0"/>
                </a:moveTo>
                <a:lnTo>
                  <a:pt x="2171" y="490"/>
                </a:lnTo>
                <a:lnTo>
                  <a:pt x="0" y="543"/>
                </a:lnTo>
                <a:lnTo>
                  <a:pt x="251" y="92"/>
                </a:lnTo>
                <a:lnTo>
                  <a:pt x="2462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1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2" name=""/>
          <p:cNvSpPr txBox="1"/>
          <p:nvPr/>
        </p:nvSpPr>
        <p:spPr>
          <a:xfrm>
            <a:off x="2706840" y="1035000"/>
            <a:ext cx="33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3" name=""/>
          <p:cNvSpPr/>
          <p:nvPr/>
        </p:nvSpPr>
        <p:spPr>
          <a:xfrm>
            <a:off x="423720" y="4842000"/>
            <a:ext cx="6837480" cy="84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4" name=""/>
          <p:cNvSpPr/>
          <p:nvPr/>
        </p:nvSpPr>
        <p:spPr>
          <a:xfrm>
            <a:off x="3035160" y="50720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5" name=""/>
          <p:cNvSpPr/>
          <p:nvPr/>
        </p:nvSpPr>
        <p:spPr>
          <a:xfrm>
            <a:off x="3051000" y="5454720"/>
            <a:ext cx="222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6" name=""/>
          <p:cNvSpPr/>
          <p:nvPr/>
        </p:nvSpPr>
        <p:spPr>
          <a:xfrm>
            <a:off x="5280120" y="53323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7" name=""/>
          <p:cNvSpPr/>
          <p:nvPr/>
        </p:nvSpPr>
        <p:spPr>
          <a:xfrm>
            <a:off x="5280120" y="49467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8" name=""/>
          <p:cNvSpPr/>
          <p:nvPr/>
        </p:nvSpPr>
        <p:spPr>
          <a:xfrm>
            <a:off x="5281560" y="50688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9" name=""/>
          <p:cNvSpPr/>
          <p:nvPr/>
        </p:nvSpPr>
        <p:spPr>
          <a:xfrm>
            <a:off x="5259240" y="54529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0" name=""/>
          <p:cNvSpPr/>
          <p:nvPr/>
        </p:nvSpPr>
        <p:spPr>
          <a:xfrm>
            <a:off x="5261040" y="55641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1" name=""/>
          <p:cNvSpPr/>
          <p:nvPr/>
        </p:nvSpPr>
        <p:spPr>
          <a:xfrm>
            <a:off x="5280120" y="48402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2" name=""/>
          <p:cNvSpPr/>
          <p:nvPr/>
        </p:nvSpPr>
        <p:spPr>
          <a:xfrm>
            <a:off x="2645280" y="4852080"/>
            <a:ext cx="398520" cy="220320"/>
          </a:xfrm>
          <a:custGeom>
            <a:avLst/>
            <a:gdLst/>
            <a:ahLst/>
            <a:rect l="0" t="0" r="r" b="b"/>
            <a:pathLst>
              <a:path fill="none" w="1107" h="612">
                <a:moveTo>
                  <a:pt x="0" y="0"/>
                </a:moveTo>
                <a:lnTo>
                  <a:pt x="0" y="0"/>
                </a:lnTo>
                <a:cubicBezTo>
                  <a:pt x="16" y="96"/>
                  <a:pt x="65" y="189"/>
                  <a:pt x="144" y="272"/>
                </a:cubicBezTo>
                <a:cubicBezTo>
                  <a:pt x="241" y="375"/>
                  <a:pt x="382" y="461"/>
                  <a:pt x="551" y="521"/>
                </a:cubicBezTo>
                <a:cubicBezTo>
                  <a:pt x="720" y="581"/>
                  <a:pt x="912" y="612"/>
                  <a:pt x="1107" y="61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3" name=""/>
          <p:cNvSpPr/>
          <p:nvPr/>
        </p:nvSpPr>
        <p:spPr>
          <a:xfrm>
            <a:off x="2658960" y="5481720"/>
            <a:ext cx="398160" cy="219240"/>
          </a:xfrm>
          <a:custGeom>
            <a:avLst/>
            <a:gdLst/>
            <a:ahLst/>
            <a:rect l="0" t="0" r="r" b="b"/>
            <a:pathLst>
              <a:path fill="none" w="1106" h="609">
                <a:moveTo>
                  <a:pt x="0" y="609"/>
                </a:moveTo>
                <a:lnTo>
                  <a:pt x="0" y="609"/>
                </a:lnTo>
                <a:lnTo>
                  <a:pt x="0" y="609"/>
                </a:lnTo>
                <a:cubicBezTo>
                  <a:pt x="195" y="609"/>
                  <a:pt x="387" y="578"/>
                  <a:pt x="556" y="518"/>
                </a:cubicBezTo>
                <a:cubicBezTo>
                  <a:pt x="725" y="458"/>
                  <a:pt x="866" y="372"/>
                  <a:pt x="963" y="269"/>
                </a:cubicBezTo>
                <a:cubicBezTo>
                  <a:pt x="1041" y="186"/>
                  <a:pt x="1090" y="95"/>
                  <a:pt x="110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4" name=""/>
          <p:cNvSpPr/>
          <p:nvPr/>
        </p:nvSpPr>
        <p:spPr>
          <a:xfrm>
            <a:off x="7224840" y="489600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5" name=""/>
          <p:cNvSpPr/>
          <p:nvPr/>
        </p:nvSpPr>
        <p:spPr>
          <a:xfrm>
            <a:off x="6624720" y="563076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6" name=""/>
          <p:cNvSpPr/>
          <p:nvPr/>
        </p:nvSpPr>
        <p:spPr>
          <a:xfrm>
            <a:off x="5557680" y="5272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7" name=""/>
          <p:cNvSpPr/>
          <p:nvPr/>
        </p:nvSpPr>
        <p:spPr>
          <a:xfrm>
            <a:off x="7043760" y="527220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8" name=""/>
          <p:cNvSpPr/>
          <p:nvPr/>
        </p:nvSpPr>
        <p:spPr>
          <a:xfrm>
            <a:off x="7215120" y="527220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9" name=""/>
          <p:cNvSpPr/>
          <p:nvPr/>
        </p:nvSpPr>
        <p:spPr>
          <a:xfrm flipV="1">
            <a:off x="442800" y="4843440"/>
            <a:ext cx="81468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0" name=""/>
          <p:cNvSpPr/>
          <p:nvPr/>
        </p:nvSpPr>
        <p:spPr>
          <a:xfrm>
            <a:off x="414360" y="4836960"/>
            <a:ext cx="829080" cy="829080"/>
          </a:xfrm>
          <a:custGeom>
            <a:avLst/>
            <a:gdLst/>
            <a:ahLst/>
            <a:rect l="0" t="0" r="r" b="b"/>
            <a:pathLst>
              <a:path w="2303" h="2303">
                <a:moveTo>
                  <a:pt x="0" y="0"/>
                </a:moveTo>
                <a:lnTo>
                  <a:pt x="0" y="2303"/>
                </a:lnTo>
                <a:lnTo>
                  <a:pt x="2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1" name=""/>
          <p:cNvSpPr/>
          <p:nvPr/>
        </p:nvSpPr>
        <p:spPr>
          <a:xfrm>
            <a:off x="4325760" y="4848120"/>
            <a:ext cx="170280" cy="824400"/>
          </a:xfrm>
          <a:custGeom>
            <a:avLst/>
            <a:gdLst/>
            <a:ahLst/>
            <a:rect l="0" t="0" r="r" b="b"/>
            <a:pathLst>
              <a:path fill="none" w="473" h="2290">
                <a:moveTo>
                  <a:pt x="376" y="0"/>
                </a:moveTo>
                <a:lnTo>
                  <a:pt x="385" y="110"/>
                </a:lnTo>
                <a:lnTo>
                  <a:pt x="473" y="238"/>
                </a:lnTo>
                <a:lnTo>
                  <a:pt x="473" y="366"/>
                </a:lnTo>
                <a:lnTo>
                  <a:pt x="473" y="493"/>
                </a:lnTo>
                <a:lnTo>
                  <a:pt x="385" y="622"/>
                </a:lnTo>
                <a:lnTo>
                  <a:pt x="300" y="755"/>
                </a:lnTo>
                <a:lnTo>
                  <a:pt x="256" y="922"/>
                </a:lnTo>
                <a:lnTo>
                  <a:pt x="217" y="1050"/>
                </a:lnTo>
                <a:lnTo>
                  <a:pt x="217" y="1266"/>
                </a:lnTo>
                <a:lnTo>
                  <a:pt x="217" y="1394"/>
                </a:lnTo>
                <a:lnTo>
                  <a:pt x="128" y="1522"/>
                </a:lnTo>
                <a:lnTo>
                  <a:pt x="88" y="1650"/>
                </a:lnTo>
                <a:lnTo>
                  <a:pt x="44" y="1779"/>
                </a:lnTo>
                <a:lnTo>
                  <a:pt x="44" y="1907"/>
                </a:lnTo>
                <a:lnTo>
                  <a:pt x="44" y="2034"/>
                </a:lnTo>
                <a:lnTo>
                  <a:pt x="44" y="2162"/>
                </a:lnTo>
                <a:lnTo>
                  <a:pt x="0" y="229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2" name=""/>
          <p:cNvSpPr/>
          <p:nvPr/>
        </p:nvSpPr>
        <p:spPr>
          <a:xfrm>
            <a:off x="4648320" y="4851360"/>
            <a:ext cx="138600" cy="814680"/>
          </a:xfrm>
          <a:custGeom>
            <a:avLst/>
            <a:gdLst/>
            <a:ahLst/>
            <a:rect l="0" t="0" r="r" b="b"/>
            <a:pathLst>
              <a:path fill="none" w="385" h="2263">
                <a:moveTo>
                  <a:pt x="301" y="0"/>
                </a:moveTo>
                <a:lnTo>
                  <a:pt x="345" y="127"/>
                </a:lnTo>
                <a:lnTo>
                  <a:pt x="345" y="255"/>
                </a:lnTo>
                <a:lnTo>
                  <a:pt x="385" y="383"/>
                </a:lnTo>
                <a:lnTo>
                  <a:pt x="385" y="511"/>
                </a:lnTo>
                <a:lnTo>
                  <a:pt x="345" y="639"/>
                </a:lnTo>
                <a:lnTo>
                  <a:pt x="345" y="771"/>
                </a:lnTo>
                <a:lnTo>
                  <a:pt x="345" y="899"/>
                </a:lnTo>
                <a:lnTo>
                  <a:pt x="301" y="1027"/>
                </a:lnTo>
                <a:lnTo>
                  <a:pt x="256" y="1156"/>
                </a:lnTo>
                <a:lnTo>
                  <a:pt x="217" y="1284"/>
                </a:lnTo>
                <a:lnTo>
                  <a:pt x="172" y="1412"/>
                </a:lnTo>
                <a:lnTo>
                  <a:pt x="128" y="1539"/>
                </a:lnTo>
                <a:lnTo>
                  <a:pt x="128" y="1751"/>
                </a:lnTo>
                <a:lnTo>
                  <a:pt x="88" y="1879"/>
                </a:lnTo>
                <a:lnTo>
                  <a:pt x="44" y="2007"/>
                </a:lnTo>
                <a:lnTo>
                  <a:pt x="0" y="2135"/>
                </a:lnTo>
                <a:lnTo>
                  <a:pt x="0" y="226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3" name=""/>
          <p:cNvSpPr/>
          <p:nvPr/>
        </p:nvSpPr>
        <p:spPr>
          <a:xfrm>
            <a:off x="4470480" y="480708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4" name=""/>
          <p:cNvSpPr/>
          <p:nvPr/>
        </p:nvSpPr>
        <p:spPr>
          <a:xfrm>
            <a:off x="4460760" y="5048280"/>
            <a:ext cx="311400" cy="44640"/>
          </a:xfrm>
          <a:custGeom>
            <a:avLst/>
            <a:gdLst/>
            <a:ahLst/>
            <a:rect l="0" t="0" r="r" b="b"/>
            <a:pathLst>
              <a:path w="865" h="124">
                <a:moveTo>
                  <a:pt x="79" y="8"/>
                </a:moveTo>
                <a:lnTo>
                  <a:pt x="0" y="124"/>
                </a:lnTo>
                <a:lnTo>
                  <a:pt x="830" y="115"/>
                </a:lnTo>
                <a:lnTo>
                  <a:pt x="865" y="0"/>
                </a:lnTo>
                <a:lnTo>
                  <a:pt x="79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5" name=""/>
          <p:cNvSpPr/>
          <p:nvPr/>
        </p:nvSpPr>
        <p:spPr>
          <a:xfrm>
            <a:off x="4359240" y="5423040"/>
            <a:ext cx="327240" cy="51120"/>
          </a:xfrm>
          <a:custGeom>
            <a:avLst/>
            <a:gdLst/>
            <a:ahLst/>
            <a:rect l="0" t="0" r="r" b="b"/>
            <a:pathLst>
              <a:path w="909" h="142">
                <a:moveTo>
                  <a:pt x="44" y="0"/>
                </a:moveTo>
                <a:lnTo>
                  <a:pt x="0" y="106"/>
                </a:lnTo>
                <a:lnTo>
                  <a:pt x="909" y="142"/>
                </a:lnTo>
                <a:lnTo>
                  <a:pt x="909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6" name=""/>
          <p:cNvSpPr/>
          <p:nvPr/>
        </p:nvSpPr>
        <p:spPr>
          <a:xfrm>
            <a:off x="4314960" y="5654520"/>
            <a:ext cx="321120" cy="66960"/>
          </a:xfrm>
          <a:custGeom>
            <a:avLst/>
            <a:gdLst/>
            <a:ahLst/>
            <a:rect l="0" t="0" r="r" b="b"/>
            <a:pathLst>
              <a:path w="892" h="186">
                <a:moveTo>
                  <a:pt x="52" y="8"/>
                </a:moveTo>
                <a:lnTo>
                  <a:pt x="0" y="186"/>
                </a:lnTo>
                <a:lnTo>
                  <a:pt x="892" y="186"/>
                </a:lnTo>
                <a:lnTo>
                  <a:pt x="892" y="0"/>
                </a:lnTo>
                <a:lnTo>
                  <a:pt x="52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7" name=""/>
          <p:cNvGrpSpPr/>
          <p:nvPr/>
        </p:nvGrpSpPr>
        <p:grpSpPr>
          <a:xfrm>
            <a:off x="1192320" y="4551480"/>
            <a:ext cx="245880" cy="1444680"/>
            <a:chOff x="1192320" y="4551480"/>
            <a:chExt cx="245880" cy="1444680"/>
          </a:xfrm>
        </p:grpSpPr>
        <p:sp>
          <p:nvSpPr>
            <p:cNvPr id="7098" name=""/>
            <p:cNvSpPr/>
            <p:nvPr/>
          </p:nvSpPr>
          <p:spPr>
            <a:xfrm>
              <a:off x="14382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11923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11923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01" name=""/>
          <p:cNvSpPr txBox="1"/>
          <p:nvPr/>
        </p:nvSpPr>
        <p:spPr>
          <a:xfrm>
            <a:off x="884160" y="43894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2" name=""/>
          <p:cNvSpPr txBox="1"/>
          <p:nvPr/>
        </p:nvSpPr>
        <p:spPr>
          <a:xfrm>
            <a:off x="900000" y="58658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3" name=""/>
          <p:cNvSpPr/>
          <p:nvPr/>
        </p:nvSpPr>
        <p:spPr>
          <a:xfrm>
            <a:off x="6343560" y="4844880"/>
            <a:ext cx="2715840" cy="427320"/>
          </a:xfrm>
          <a:custGeom>
            <a:avLst/>
            <a:gdLst/>
            <a:ahLst/>
            <a:rect l="0" t="0" r="r" b="b"/>
            <a:pathLst>
              <a:path fill="none" w="7544" h="1187">
                <a:moveTo>
                  <a:pt x="7544" y="1187"/>
                </a:moveTo>
                <a:lnTo>
                  <a:pt x="7544" y="1187"/>
                </a:lnTo>
                <a:cubicBezTo>
                  <a:pt x="7367" y="1055"/>
                  <a:pt x="7111" y="929"/>
                  <a:pt x="6781" y="810"/>
                </a:cubicBezTo>
                <a:cubicBezTo>
                  <a:pt x="6094" y="564"/>
                  <a:pt x="5105" y="359"/>
                  <a:pt x="3915" y="217"/>
                </a:cubicBezTo>
                <a:cubicBezTo>
                  <a:pt x="2725" y="75"/>
                  <a:pt x="137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4" name=""/>
          <p:cNvSpPr/>
          <p:nvPr/>
        </p:nvSpPr>
        <p:spPr>
          <a:xfrm>
            <a:off x="6346440" y="5062680"/>
            <a:ext cx="2706120" cy="409320"/>
          </a:xfrm>
          <a:custGeom>
            <a:avLst/>
            <a:gdLst/>
            <a:ahLst/>
            <a:rect l="0" t="0" r="r" b="b"/>
            <a:pathLst>
              <a:path fill="none" w="7517" h="1137">
                <a:moveTo>
                  <a:pt x="7517" y="0"/>
                </a:moveTo>
                <a:lnTo>
                  <a:pt x="7517" y="0"/>
                </a:lnTo>
                <a:lnTo>
                  <a:pt x="7517" y="0"/>
                </a:lnTo>
                <a:cubicBezTo>
                  <a:pt x="6113" y="0"/>
                  <a:pt x="4734" y="80"/>
                  <a:pt x="3519" y="231"/>
                </a:cubicBezTo>
                <a:cubicBezTo>
                  <a:pt x="2303" y="383"/>
                  <a:pt x="1294" y="600"/>
                  <a:pt x="592" y="863"/>
                </a:cubicBezTo>
                <a:cubicBezTo>
                  <a:pt x="358" y="950"/>
                  <a:pt x="160" y="1042"/>
                  <a:pt x="0" y="11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5" name=""/>
          <p:cNvSpPr/>
          <p:nvPr/>
        </p:nvSpPr>
        <p:spPr>
          <a:xfrm>
            <a:off x="6610320" y="4676760"/>
            <a:ext cx="752760" cy="190800"/>
          </a:xfrm>
          <a:custGeom>
            <a:avLst/>
            <a:gdLst/>
            <a:ahLst/>
            <a:rect l="0" t="0" r="r" b="b"/>
            <a:pathLst>
              <a:path w="2091" h="530">
                <a:moveTo>
                  <a:pt x="0" y="424"/>
                </a:moveTo>
                <a:lnTo>
                  <a:pt x="66" y="0"/>
                </a:lnTo>
                <a:lnTo>
                  <a:pt x="2091" y="198"/>
                </a:lnTo>
                <a:lnTo>
                  <a:pt x="1945" y="530"/>
                </a:lnTo>
                <a:lnTo>
                  <a:pt x="0" y="424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6" name=""/>
          <p:cNvSpPr/>
          <p:nvPr/>
        </p:nvSpPr>
        <p:spPr>
          <a:xfrm>
            <a:off x="6405480" y="5662440"/>
            <a:ext cx="886320" cy="195480"/>
          </a:xfrm>
          <a:custGeom>
            <a:avLst/>
            <a:gdLst/>
            <a:ahLst/>
            <a:rect l="0" t="0" r="r" b="b"/>
            <a:pathLst>
              <a:path w="2462" h="543">
                <a:moveTo>
                  <a:pt x="2462" y="0"/>
                </a:moveTo>
                <a:lnTo>
                  <a:pt x="2171" y="490"/>
                </a:lnTo>
                <a:lnTo>
                  <a:pt x="0" y="543"/>
                </a:lnTo>
                <a:lnTo>
                  <a:pt x="251" y="92"/>
                </a:lnTo>
                <a:lnTo>
                  <a:pt x="2462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7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8" name=""/>
          <p:cNvSpPr txBox="1"/>
          <p:nvPr/>
        </p:nvSpPr>
        <p:spPr>
          <a:xfrm>
            <a:off x="2706840" y="1035000"/>
            <a:ext cx="33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9" name=""/>
          <p:cNvSpPr/>
          <p:nvPr/>
        </p:nvSpPr>
        <p:spPr>
          <a:xfrm>
            <a:off x="423720" y="4842000"/>
            <a:ext cx="6837480" cy="84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0" name=""/>
          <p:cNvSpPr/>
          <p:nvPr/>
        </p:nvSpPr>
        <p:spPr>
          <a:xfrm>
            <a:off x="3035160" y="50720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1" name=""/>
          <p:cNvSpPr/>
          <p:nvPr/>
        </p:nvSpPr>
        <p:spPr>
          <a:xfrm>
            <a:off x="3051000" y="5454720"/>
            <a:ext cx="222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2" name=""/>
          <p:cNvSpPr/>
          <p:nvPr/>
        </p:nvSpPr>
        <p:spPr>
          <a:xfrm>
            <a:off x="5280120" y="53323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3" name=""/>
          <p:cNvSpPr/>
          <p:nvPr/>
        </p:nvSpPr>
        <p:spPr>
          <a:xfrm>
            <a:off x="5280120" y="49467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4" name=""/>
          <p:cNvSpPr/>
          <p:nvPr/>
        </p:nvSpPr>
        <p:spPr>
          <a:xfrm>
            <a:off x="5281560" y="50688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5" name=""/>
          <p:cNvSpPr/>
          <p:nvPr/>
        </p:nvSpPr>
        <p:spPr>
          <a:xfrm>
            <a:off x="5259240" y="54529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6" name=""/>
          <p:cNvSpPr/>
          <p:nvPr/>
        </p:nvSpPr>
        <p:spPr>
          <a:xfrm>
            <a:off x="5261040" y="55641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7" name=""/>
          <p:cNvSpPr/>
          <p:nvPr/>
        </p:nvSpPr>
        <p:spPr>
          <a:xfrm>
            <a:off x="5280120" y="48402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8" name=""/>
          <p:cNvSpPr/>
          <p:nvPr/>
        </p:nvSpPr>
        <p:spPr>
          <a:xfrm>
            <a:off x="2645280" y="4852080"/>
            <a:ext cx="398520" cy="220320"/>
          </a:xfrm>
          <a:custGeom>
            <a:avLst/>
            <a:gdLst/>
            <a:ahLst/>
            <a:rect l="0" t="0" r="r" b="b"/>
            <a:pathLst>
              <a:path fill="none" w="1107" h="612">
                <a:moveTo>
                  <a:pt x="0" y="0"/>
                </a:moveTo>
                <a:lnTo>
                  <a:pt x="0" y="0"/>
                </a:lnTo>
                <a:cubicBezTo>
                  <a:pt x="16" y="96"/>
                  <a:pt x="65" y="189"/>
                  <a:pt x="144" y="272"/>
                </a:cubicBezTo>
                <a:cubicBezTo>
                  <a:pt x="241" y="375"/>
                  <a:pt x="382" y="461"/>
                  <a:pt x="551" y="521"/>
                </a:cubicBezTo>
                <a:cubicBezTo>
                  <a:pt x="720" y="581"/>
                  <a:pt x="912" y="612"/>
                  <a:pt x="1107" y="61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9" name=""/>
          <p:cNvSpPr/>
          <p:nvPr/>
        </p:nvSpPr>
        <p:spPr>
          <a:xfrm>
            <a:off x="2658960" y="5481720"/>
            <a:ext cx="398160" cy="219240"/>
          </a:xfrm>
          <a:custGeom>
            <a:avLst/>
            <a:gdLst/>
            <a:ahLst/>
            <a:rect l="0" t="0" r="r" b="b"/>
            <a:pathLst>
              <a:path fill="none" w="1106" h="609">
                <a:moveTo>
                  <a:pt x="0" y="609"/>
                </a:moveTo>
                <a:lnTo>
                  <a:pt x="0" y="609"/>
                </a:lnTo>
                <a:lnTo>
                  <a:pt x="0" y="609"/>
                </a:lnTo>
                <a:cubicBezTo>
                  <a:pt x="195" y="609"/>
                  <a:pt x="387" y="578"/>
                  <a:pt x="556" y="518"/>
                </a:cubicBezTo>
                <a:cubicBezTo>
                  <a:pt x="725" y="458"/>
                  <a:pt x="866" y="372"/>
                  <a:pt x="963" y="269"/>
                </a:cubicBezTo>
                <a:cubicBezTo>
                  <a:pt x="1041" y="186"/>
                  <a:pt x="1090" y="95"/>
                  <a:pt x="110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0" name=""/>
          <p:cNvSpPr/>
          <p:nvPr/>
        </p:nvSpPr>
        <p:spPr>
          <a:xfrm>
            <a:off x="7224840" y="489600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1" name=""/>
          <p:cNvSpPr/>
          <p:nvPr/>
        </p:nvSpPr>
        <p:spPr>
          <a:xfrm>
            <a:off x="6624720" y="563076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2" name=""/>
          <p:cNvSpPr/>
          <p:nvPr/>
        </p:nvSpPr>
        <p:spPr>
          <a:xfrm>
            <a:off x="5557680" y="5272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3" name=""/>
          <p:cNvSpPr/>
          <p:nvPr/>
        </p:nvSpPr>
        <p:spPr>
          <a:xfrm>
            <a:off x="7043760" y="527220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4" name=""/>
          <p:cNvSpPr/>
          <p:nvPr/>
        </p:nvSpPr>
        <p:spPr>
          <a:xfrm>
            <a:off x="7215120" y="527220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5" name=""/>
          <p:cNvSpPr/>
          <p:nvPr/>
        </p:nvSpPr>
        <p:spPr>
          <a:xfrm flipV="1">
            <a:off x="442800" y="4843440"/>
            <a:ext cx="81468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6" name=""/>
          <p:cNvSpPr/>
          <p:nvPr/>
        </p:nvSpPr>
        <p:spPr>
          <a:xfrm>
            <a:off x="414360" y="4836960"/>
            <a:ext cx="829080" cy="829080"/>
          </a:xfrm>
          <a:custGeom>
            <a:avLst/>
            <a:gdLst/>
            <a:ahLst/>
            <a:rect l="0" t="0" r="r" b="b"/>
            <a:pathLst>
              <a:path w="2303" h="2303">
                <a:moveTo>
                  <a:pt x="0" y="0"/>
                </a:moveTo>
                <a:lnTo>
                  <a:pt x="0" y="2303"/>
                </a:lnTo>
                <a:lnTo>
                  <a:pt x="2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7" name=""/>
          <p:cNvSpPr/>
          <p:nvPr/>
        </p:nvSpPr>
        <p:spPr>
          <a:xfrm>
            <a:off x="4325760" y="4848120"/>
            <a:ext cx="170280" cy="824400"/>
          </a:xfrm>
          <a:custGeom>
            <a:avLst/>
            <a:gdLst/>
            <a:ahLst/>
            <a:rect l="0" t="0" r="r" b="b"/>
            <a:pathLst>
              <a:path fill="none" w="473" h="2290">
                <a:moveTo>
                  <a:pt x="376" y="0"/>
                </a:moveTo>
                <a:lnTo>
                  <a:pt x="385" y="110"/>
                </a:lnTo>
                <a:lnTo>
                  <a:pt x="473" y="238"/>
                </a:lnTo>
                <a:lnTo>
                  <a:pt x="473" y="366"/>
                </a:lnTo>
                <a:lnTo>
                  <a:pt x="473" y="493"/>
                </a:lnTo>
                <a:lnTo>
                  <a:pt x="385" y="622"/>
                </a:lnTo>
                <a:lnTo>
                  <a:pt x="300" y="755"/>
                </a:lnTo>
                <a:lnTo>
                  <a:pt x="256" y="922"/>
                </a:lnTo>
                <a:lnTo>
                  <a:pt x="217" y="1050"/>
                </a:lnTo>
                <a:lnTo>
                  <a:pt x="217" y="1266"/>
                </a:lnTo>
                <a:lnTo>
                  <a:pt x="217" y="1394"/>
                </a:lnTo>
                <a:lnTo>
                  <a:pt x="128" y="1522"/>
                </a:lnTo>
                <a:lnTo>
                  <a:pt x="88" y="1650"/>
                </a:lnTo>
                <a:lnTo>
                  <a:pt x="44" y="1779"/>
                </a:lnTo>
                <a:lnTo>
                  <a:pt x="44" y="1907"/>
                </a:lnTo>
                <a:lnTo>
                  <a:pt x="44" y="2034"/>
                </a:lnTo>
                <a:lnTo>
                  <a:pt x="44" y="2162"/>
                </a:lnTo>
                <a:lnTo>
                  <a:pt x="0" y="229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8" name=""/>
          <p:cNvSpPr/>
          <p:nvPr/>
        </p:nvSpPr>
        <p:spPr>
          <a:xfrm>
            <a:off x="4648320" y="4851360"/>
            <a:ext cx="138600" cy="814680"/>
          </a:xfrm>
          <a:custGeom>
            <a:avLst/>
            <a:gdLst/>
            <a:ahLst/>
            <a:rect l="0" t="0" r="r" b="b"/>
            <a:pathLst>
              <a:path fill="none" w="385" h="2263">
                <a:moveTo>
                  <a:pt x="301" y="0"/>
                </a:moveTo>
                <a:lnTo>
                  <a:pt x="345" y="127"/>
                </a:lnTo>
                <a:lnTo>
                  <a:pt x="345" y="255"/>
                </a:lnTo>
                <a:lnTo>
                  <a:pt x="385" y="383"/>
                </a:lnTo>
                <a:lnTo>
                  <a:pt x="385" y="511"/>
                </a:lnTo>
                <a:lnTo>
                  <a:pt x="345" y="639"/>
                </a:lnTo>
                <a:lnTo>
                  <a:pt x="345" y="771"/>
                </a:lnTo>
                <a:lnTo>
                  <a:pt x="345" y="899"/>
                </a:lnTo>
                <a:lnTo>
                  <a:pt x="301" y="1027"/>
                </a:lnTo>
                <a:lnTo>
                  <a:pt x="256" y="1156"/>
                </a:lnTo>
                <a:lnTo>
                  <a:pt x="217" y="1284"/>
                </a:lnTo>
                <a:lnTo>
                  <a:pt x="172" y="1412"/>
                </a:lnTo>
                <a:lnTo>
                  <a:pt x="128" y="1539"/>
                </a:lnTo>
                <a:lnTo>
                  <a:pt x="128" y="1751"/>
                </a:lnTo>
                <a:lnTo>
                  <a:pt x="88" y="1879"/>
                </a:lnTo>
                <a:lnTo>
                  <a:pt x="44" y="2007"/>
                </a:lnTo>
                <a:lnTo>
                  <a:pt x="0" y="2135"/>
                </a:lnTo>
                <a:lnTo>
                  <a:pt x="0" y="226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9" name=""/>
          <p:cNvSpPr/>
          <p:nvPr/>
        </p:nvSpPr>
        <p:spPr>
          <a:xfrm>
            <a:off x="4470480" y="480708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0" name=""/>
          <p:cNvSpPr/>
          <p:nvPr/>
        </p:nvSpPr>
        <p:spPr>
          <a:xfrm>
            <a:off x="4460760" y="5048280"/>
            <a:ext cx="311400" cy="44640"/>
          </a:xfrm>
          <a:custGeom>
            <a:avLst/>
            <a:gdLst/>
            <a:ahLst/>
            <a:rect l="0" t="0" r="r" b="b"/>
            <a:pathLst>
              <a:path w="865" h="124">
                <a:moveTo>
                  <a:pt x="79" y="8"/>
                </a:moveTo>
                <a:lnTo>
                  <a:pt x="0" y="124"/>
                </a:lnTo>
                <a:lnTo>
                  <a:pt x="830" y="115"/>
                </a:lnTo>
                <a:lnTo>
                  <a:pt x="865" y="0"/>
                </a:lnTo>
                <a:lnTo>
                  <a:pt x="79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1" name=""/>
          <p:cNvSpPr/>
          <p:nvPr/>
        </p:nvSpPr>
        <p:spPr>
          <a:xfrm>
            <a:off x="4359240" y="5423040"/>
            <a:ext cx="327240" cy="51120"/>
          </a:xfrm>
          <a:custGeom>
            <a:avLst/>
            <a:gdLst/>
            <a:ahLst/>
            <a:rect l="0" t="0" r="r" b="b"/>
            <a:pathLst>
              <a:path w="909" h="142">
                <a:moveTo>
                  <a:pt x="44" y="0"/>
                </a:moveTo>
                <a:lnTo>
                  <a:pt x="0" y="106"/>
                </a:lnTo>
                <a:lnTo>
                  <a:pt x="909" y="142"/>
                </a:lnTo>
                <a:lnTo>
                  <a:pt x="909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2" name=""/>
          <p:cNvSpPr/>
          <p:nvPr/>
        </p:nvSpPr>
        <p:spPr>
          <a:xfrm>
            <a:off x="4314960" y="5654520"/>
            <a:ext cx="321120" cy="66960"/>
          </a:xfrm>
          <a:custGeom>
            <a:avLst/>
            <a:gdLst/>
            <a:ahLst/>
            <a:rect l="0" t="0" r="r" b="b"/>
            <a:pathLst>
              <a:path w="892" h="186">
                <a:moveTo>
                  <a:pt x="52" y="8"/>
                </a:moveTo>
                <a:lnTo>
                  <a:pt x="0" y="186"/>
                </a:lnTo>
                <a:lnTo>
                  <a:pt x="892" y="186"/>
                </a:lnTo>
                <a:lnTo>
                  <a:pt x="892" y="0"/>
                </a:lnTo>
                <a:lnTo>
                  <a:pt x="52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3" name=""/>
          <p:cNvGrpSpPr/>
          <p:nvPr/>
        </p:nvGrpSpPr>
        <p:grpSpPr>
          <a:xfrm>
            <a:off x="1192320" y="4551480"/>
            <a:ext cx="245880" cy="1444680"/>
            <a:chOff x="1192320" y="4551480"/>
            <a:chExt cx="245880" cy="1444680"/>
          </a:xfrm>
        </p:grpSpPr>
        <p:sp>
          <p:nvSpPr>
            <p:cNvPr id="7134" name=""/>
            <p:cNvSpPr/>
            <p:nvPr/>
          </p:nvSpPr>
          <p:spPr>
            <a:xfrm>
              <a:off x="14382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11923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11923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37" name=""/>
          <p:cNvGrpSpPr/>
          <p:nvPr/>
        </p:nvGrpSpPr>
        <p:grpSpPr>
          <a:xfrm>
            <a:off x="3571920" y="4551480"/>
            <a:ext cx="245880" cy="1444680"/>
            <a:chOff x="3571920" y="4551480"/>
            <a:chExt cx="245880" cy="1444680"/>
          </a:xfrm>
        </p:grpSpPr>
        <p:sp>
          <p:nvSpPr>
            <p:cNvPr id="7138" name=""/>
            <p:cNvSpPr/>
            <p:nvPr/>
          </p:nvSpPr>
          <p:spPr>
            <a:xfrm>
              <a:off x="38178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5719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5719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41" name=""/>
          <p:cNvSpPr txBox="1"/>
          <p:nvPr/>
        </p:nvSpPr>
        <p:spPr>
          <a:xfrm>
            <a:off x="884160" y="43894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2" name=""/>
          <p:cNvSpPr txBox="1"/>
          <p:nvPr/>
        </p:nvSpPr>
        <p:spPr>
          <a:xfrm>
            <a:off x="900000" y="58658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3" name=""/>
          <p:cNvSpPr txBox="1"/>
          <p:nvPr/>
        </p:nvSpPr>
        <p:spPr>
          <a:xfrm>
            <a:off x="329724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4" name=""/>
          <p:cNvSpPr txBox="1"/>
          <p:nvPr/>
        </p:nvSpPr>
        <p:spPr>
          <a:xfrm>
            <a:off x="3313080" y="58802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5" name=""/>
          <p:cNvSpPr/>
          <p:nvPr/>
        </p:nvSpPr>
        <p:spPr>
          <a:xfrm>
            <a:off x="6343560" y="4844880"/>
            <a:ext cx="2715840" cy="427320"/>
          </a:xfrm>
          <a:custGeom>
            <a:avLst/>
            <a:gdLst/>
            <a:ahLst/>
            <a:rect l="0" t="0" r="r" b="b"/>
            <a:pathLst>
              <a:path fill="none" w="7544" h="1187">
                <a:moveTo>
                  <a:pt x="7544" y="1187"/>
                </a:moveTo>
                <a:lnTo>
                  <a:pt x="7544" y="1187"/>
                </a:lnTo>
                <a:cubicBezTo>
                  <a:pt x="7367" y="1055"/>
                  <a:pt x="7111" y="929"/>
                  <a:pt x="6781" y="810"/>
                </a:cubicBezTo>
                <a:cubicBezTo>
                  <a:pt x="6094" y="564"/>
                  <a:pt x="5105" y="359"/>
                  <a:pt x="3915" y="217"/>
                </a:cubicBezTo>
                <a:cubicBezTo>
                  <a:pt x="2725" y="75"/>
                  <a:pt x="137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6" name=""/>
          <p:cNvSpPr/>
          <p:nvPr/>
        </p:nvSpPr>
        <p:spPr>
          <a:xfrm>
            <a:off x="6346440" y="5062680"/>
            <a:ext cx="2706120" cy="409320"/>
          </a:xfrm>
          <a:custGeom>
            <a:avLst/>
            <a:gdLst/>
            <a:ahLst/>
            <a:rect l="0" t="0" r="r" b="b"/>
            <a:pathLst>
              <a:path fill="none" w="7517" h="1137">
                <a:moveTo>
                  <a:pt x="7517" y="0"/>
                </a:moveTo>
                <a:lnTo>
                  <a:pt x="7517" y="0"/>
                </a:lnTo>
                <a:lnTo>
                  <a:pt x="7517" y="0"/>
                </a:lnTo>
                <a:cubicBezTo>
                  <a:pt x="6113" y="0"/>
                  <a:pt x="4734" y="80"/>
                  <a:pt x="3519" y="231"/>
                </a:cubicBezTo>
                <a:cubicBezTo>
                  <a:pt x="2303" y="383"/>
                  <a:pt x="1294" y="600"/>
                  <a:pt x="592" y="863"/>
                </a:cubicBezTo>
                <a:cubicBezTo>
                  <a:pt x="358" y="950"/>
                  <a:pt x="160" y="1042"/>
                  <a:pt x="0" y="11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7" name=""/>
          <p:cNvSpPr/>
          <p:nvPr/>
        </p:nvSpPr>
        <p:spPr>
          <a:xfrm>
            <a:off x="6610320" y="4676760"/>
            <a:ext cx="752760" cy="190800"/>
          </a:xfrm>
          <a:custGeom>
            <a:avLst/>
            <a:gdLst/>
            <a:ahLst/>
            <a:rect l="0" t="0" r="r" b="b"/>
            <a:pathLst>
              <a:path w="2091" h="530">
                <a:moveTo>
                  <a:pt x="0" y="424"/>
                </a:moveTo>
                <a:lnTo>
                  <a:pt x="66" y="0"/>
                </a:lnTo>
                <a:lnTo>
                  <a:pt x="2091" y="198"/>
                </a:lnTo>
                <a:lnTo>
                  <a:pt x="1945" y="530"/>
                </a:lnTo>
                <a:lnTo>
                  <a:pt x="0" y="424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8" name=""/>
          <p:cNvSpPr/>
          <p:nvPr/>
        </p:nvSpPr>
        <p:spPr>
          <a:xfrm>
            <a:off x="6405480" y="5662440"/>
            <a:ext cx="886320" cy="195480"/>
          </a:xfrm>
          <a:custGeom>
            <a:avLst/>
            <a:gdLst/>
            <a:ahLst/>
            <a:rect l="0" t="0" r="r" b="b"/>
            <a:pathLst>
              <a:path w="2462" h="543">
                <a:moveTo>
                  <a:pt x="2462" y="0"/>
                </a:moveTo>
                <a:lnTo>
                  <a:pt x="2171" y="490"/>
                </a:lnTo>
                <a:lnTo>
                  <a:pt x="0" y="543"/>
                </a:lnTo>
                <a:lnTo>
                  <a:pt x="251" y="92"/>
                </a:lnTo>
                <a:lnTo>
                  <a:pt x="2462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9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0" name=""/>
          <p:cNvSpPr txBox="1"/>
          <p:nvPr/>
        </p:nvSpPr>
        <p:spPr>
          <a:xfrm>
            <a:off x="2706840" y="1035000"/>
            <a:ext cx="33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1" name=""/>
          <p:cNvSpPr/>
          <p:nvPr/>
        </p:nvSpPr>
        <p:spPr>
          <a:xfrm>
            <a:off x="423720" y="4842000"/>
            <a:ext cx="6837480" cy="84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2" name=""/>
          <p:cNvSpPr/>
          <p:nvPr/>
        </p:nvSpPr>
        <p:spPr>
          <a:xfrm>
            <a:off x="3035160" y="50720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3" name=""/>
          <p:cNvSpPr/>
          <p:nvPr/>
        </p:nvSpPr>
        <p:spPr>
          <a:xfrm>
            <a:off x="3051000" y="5454720"/>
            <a:ext cx="222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4" name=""/>
          <p:cNvSpPr/>
          <p:nvPr/>
        </p:nvSpPr>
        <p:spPr>
          <a:xfrm>
            <a:off x="5280120" y="53323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5" name=""/>
          <p:cNvSpPr/>
          <p:nvPr/>
        </p:nvSpPr>
        <p:spPr>
          <a:xfrm>
            <a:off x="5280120" y="49467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6" name=""/>
          <p:cNvSpPr/>
          <p:nvPr/>
        </p:nvSpPr>
        <p:spPr>
          <a:xfrm>
            <a:off x="5281560" y="50688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7" name=""/>
          <p:cNvSpPr/>
          <p:nvPr/>
        </p:nvSpPr>
        <p:spPr>
          <a:xfrm>
            <a:off x="5259240" y="54529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8" name=""/>
          <p:cNvSpPr/>
          <p:nvPr/>
        </p:nvSpPr>
        <p:spPr>
          <a:xfrm>
            <a:off x="5261040" y="55641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9" name=""/>
          <p:cNvSpPr/>
          <p:nvPr/>
        </p:nvSpPr>
        <p:spPr>
          <a:xfrm>
            <a:off x="5280120" y="48402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0" name=""/>
          <p:cNvSpPr/>
          <p:nvPr/>
        </p:nvSpPr>
        <p:spPr>
          <a:xfrm>
            <a:off x="2645280" y="4852080"/>
            <a:ext cx="398520" cy="220320"/>
          </a:xfrm>
          <a:custGeom>
            <a:avLst/>
            <a:gdLst/>
            <a:ahLst/>
            <a:rect l="0" t="0" r="r" b="b"/>
            <a:pathLst>
              <a:path fill="none" w="1107" h="612">
                <a:moveTo>
                  <a:pt x="0" y="0"/>
                </a:moveTo>
                <a:lnTo>
                  <a:pt x="0" y="0"/>
                </a:lnTo>
                <a:cubicBezTo>
                  <a:pt x="16" y="96"/>
                  <a:pt x="65" y="189"/>
                  <a:pt x="144" y="272"/>
                </a:cubicBezTo>
                <a:cubicBezTo>
                  <a:pt x="241" y="375"/>
                  <a:pt x="382" y="461"/>
                  <a:pt x="551" y="521"/>
                </a:cubicBezTo>
                <a:cubicBezTo>
                  <a:pt x="720" y="581"/>
                  <a:pt x="912" y="612"/>
                  <a:pt x="1107" y="61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1" name=""/>
          <p:cNvSpPr/>
          <p:nvPr/>
        </p:nvSpPr>
        <p:spPr>
          <a:xfrm>
            <a:off x="2658960" y="5481720"/>
            <a:ext cx="398160" cy="219240"/>
          </a:xfrm>
          <a:custGeom>
            <a:avLst/>
            <a:gdLst/>
            <a:ahLst/>
            <a:rect l="0" t="0" r="r" b="b"/>
            <a:pathLst>
              <a:path fill="none" w="1106" h="609">
                <a:moveTo>
                  <a:pt x="0" y="609"/>
                </a:moveTo>
                <a:lnTo>
                  <a:pt x="0" y="609"/>
                </a:lnTo>
                <a:lnTo>
                  <a:pt x="0" y="609"/>
                </a:lnTo>
                <a:cubicBezTo>
                  <a:pt x="195" y="609"/>
                  <a:pt x="387" y="578"/>
                  <a:pt x="556" y="518"/>
                </a:cubicBezTo>
                <a:cubicBezTo>
                  <a:pt x="725" y="458"/>
                  <a:pt x="866" y="372"/>
                  <a:pt x="963" y="269"/>
                </a:cubicBezTo>
                <a:cubicBezTo>
                  <a:pt x="1041" y="186"/>
                  <a:pt x="1090" y="95"/>
                  <a:pt x="110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2" name=""/>
          <p:cNvSpPr/>
          <p:nvPr/>
        </p:nvSpPr>
        <p:spPr>
          <a:xfrm>
            <a:off x="7224840" y="489600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3" name=""/>
          <p:cNvSpPr/>
          <p:nvPr/>
        </p:nvSpPr>
        <p:spPr>
          <a:xfrm>
            <a:off x="6624720" y="563076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4" name=""/>
          <p:cNvSpPr/>
          <p:nvPr/>
        </p:nvSpPr>
        <p:spPr>
          <a:xfrm>
            <a:off x="5557680" y="5272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5" name=""/>
          <p:cNvSpPr/>
          <p:nvPr/>
        </p:nvSpPr>
        <p:spPr>
          <a:xfrm>
            <a:off x="7043760" y="527220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6" name=""/>
          <p:cNvSpPr/>
          <p:nvPr/>
        </p:nvSpPr>
        <p:spPr>
          <a:xfrm>
            <a:off x="7215120" y="527220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7" name=""/>
          <p:cNvSpPr/>
          <p:nvPr/>
        </p:nvSpPr>
        <p:spPr>
          <a:xfrm flipV="1">
            <a:off x="442800" y="4843440"/>
            <a:ext cx="81468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8" name=""/>
          <p:cNvSpPr/>
          <p:nvPr/>
        </p:nvSpPr>
        <p:spPr>
          <a:xfrm>
            <a:off x="414360" y="4836960"/>
            <a:ext cx="829080" cy="829080"/>
          </a:xfrm>
          <a:custGeom>
            <a:avLst/>
            <a:gdLst/>
            <a:ahLst/>
            <a:rect l="0" t="0" r="r" b="b"/>
            <a:pathLst>
              <a:path w="2303" h="2303">
                <a:moveTo>
                  <a:pt x="0" y="0"/>
                </a:moveTo>
                <a:lnTo>
                  <a:pt x="0" y="2303"/>
                </a:lnTo>
                <a:lnTo>
                  <a:pt x="2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9" name=""/>
          <p:cNvSpPr/>
          <p:nvPr/>
        </p:nvSpPr>
        <p:spPr>
          <a:xfrm>
            <a:off x="4325760" y="4848120"/>
            <a:ext cx="170280" cy="824400"/>
          </a:xfrm>
          <a:custGeom>
            <a:avLst/>
            <a:gdLst/>
            <a:ahLst/>
            <a:rect l="0" t="0" r="r" b="b"/>
            <a:pathLst>
              <a:path fill="none" w="473" h="2290">
                <a:moveTo>
                  <a:pt x="376" y="0"/>
                </a:moveTo>
                <a:lnTo>
                  <a:pt x="385" y="110"/>
                </a:lnTo>
                <a:lnTo>
                  <a:pt x="473" y="238"/>
                </a:lnTo>
                <a:lnTo>
                  <a:pt x="473" y="366"/>
                </a:lnTo>
                <a:lnTo>
                  <a:pt x="473" y="493"/>
                </a:lnTo>
                <a:lnTo>
                  <a:pt x="385" y="622"/>
                </a:lnTo>
                <a:lnTo>
                  <a:pt x="300" y="755"/>
                </a:lnTo>
                <a:lnTo>
                  <a:pt x="256" y="922"/>
                </a:lnTo>
                <a:lnTo>
                  <a:pt x="217" y="1050"/>
                </a:lnTo>
                <a:lnTo>
                  <a:pt x="217" y="1266"/>
                </a:lnTo>
                <a:lnTo>
                  <a:pt x="217" y="1394"/>
                </a:lnTo>
                <a:lnTo>
                  <a:pt x="128" y="1522"/>
                </a:lnTo>
                <a:lnTo>
                  <a:pt x="88" y="1650"/>
                </a:lnTo>
                <a:lnTo>
                  <a:pt x="44" y="1779"/>
                </a:lnTo>
                <a:lnTo>
                  <a:pt x="44" y="1907"/>
                </a:lnTo>
                <a:lnTo>
                  <a:pt x="44" y="2034"/>
                </a:lnTo>
                <a:lnTo>
                  <a:pt x="44" y="2162"/>
                </a:lnTo>
                <a:lnTo>
                  <a:pt x="0" y="229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0" name=""/>
          <p:cNvSpPr/>
          <p:nvPr/>
        </p:nvSpPr>
        <p:spPr>
          <a:xfrm>
            <a:off x="4648320" y="4851360"/>
            <a:ext cx="138600" cy="814680"/>
          </a:xfrm>
          <a:custGeom>
            <a:avLst/>
            <a:gdLst/>
            <a:ahLst/>
            <a:rect l="0" t="0" r="r" b="b"/>
            <a:pathLst>
              <a:path fill="none" w="385" h="2263">
                <a:moveTo>
                  <a:pt x="301" y="0"/>
                </a:moveTo>
                <a:lnTo>
                  <a:pt x="345" y="127"/>
                </a:lnTo>
                <a:lnTo>
                  <a:pt x="345" y="255"/>
                </a:lnTo>
                <a:lnTo>
                  <a:pt x="385" y="383"/>
                </a:lnTo>
                <a:lnTo>
                  <a:pt x="385" y="511"/>
                </a:lnTo>
                <a:lnTo>
                  <a:pt x="345" y="639"/>
                </a:lnTo>
                <a:lnTo>
                  <a:pt x="345" y="771"/>
                </a:lnTo>
                <a:lnTo>
                  <a:pt x="345" y="899"/>
                </a:lnTo>
                <a:lnTo>
                  <a:pt x="301" y="1027"/>
                </a:lnTo>
                <a:lnTo>
                  <a:pt x="256" y="1156"/>
                </a:lnTo>
                <a:lnTo>
                  <a:pt x="217" y="1284"/>
                </a:lnTo>
                <a:lnTo>
                  <a:pt x="172" y="1412"/>
                </a:lnTo>
                <a:lnTo>
                  <a:pt x="128" y="1539"/>
                </a:lnTo>
                <a:lnTo>
                  <a:pt x="128" y="1751"/>
                </a:lnTo>
                <a:lnTo>
                  <a:pt x="88" y="1879"/>
                </a:lnTo>
                <a:lnTo>
                  <a:pt x="44" y="2007"/>
                </a:lnTo>
                <a:lnTo>
                  <a:pt x="0" y="2135"/>
                </a:lnTo>
                <a:lnTo>
                  <a:pt x="0" y="226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1" name=""/>
          <p:cNvSpPr/>
          <p:nvPr/>
        </p:nvSpPr>
        <p:spPr>
          <a:xfrm>
            <a:off x="4470480" y="480708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2" name=""/>
          <p:cNvSpPr/>
          <p:nvPr/>
        </p:nvSpPr>
        <p:spPr>
          <a:xfrm>
            <a:off x="4460760" y="5048280"/>
            <a:ext cx="311400" cy="44640"/>
          </a:xfrm>
          <a:custGeom>
            <a:avLst/>
            <a:gdLst/>
            <a:ahLst/>
            <a:rect l="0" t="0" r="r" b="b"/>
            <a:pathLst>
              <a:path w="865" h="124">
                <a:moveTo>
                  <a:pt x="79" y="8"/>
                </a:moveTo>
                <a:lnTo>
                  <a:pt x="0" y="124"/>
                </a:lnTo>
                <a:lnTo>
                  <a:pt x="830" y="115"/>
                </a:lnTo>
                <a:lnTo>
                  <a:pt x="865" y="0"/>
                </a:lnTo>
                <a:lnTo>
                  <a:pt x="79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3" name=""/>
          <p:cNvSpPr/>
          <p:nvPr/>
        </p:nvSpPr>
        <p:spPr>
          <a:xfrm>
            <a:off x="4359240" y="5423040"/>
            <a:ext cx="327240" cy="51120"/>
          </a:xfrm>
          <a:custGeom>
            <a:avLst/>
            <a:gdLst/>
            <a:ahLst/>
            <a:rect l="0" t="0" r="r" b="b"/>
            <a:pathLst>
              <a:path w="909" h="142">
                <a:moveTo>
                  <a:pt x="44" y="0"/>
                </a:moveTo>
                <a:lnTo>
                  <a:pt x="0" y="106"/>
                </a:lnTo>
                <a:lnTo>
                  <a:pt x="909" y="142"/>
                </a:lnTo>
                <a:lnTo>
                  <a:pt x="909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4" name=""/>
          <p:cNvSpPr/>
          <p:nvPr/>
        </p:nvSpPr>
        <p:spPr>
          <a:xfrm>
            <a:off x="4314960" y="5654520"/>
            <a:ext cx="321120" cy="66960"/>
          </a:xfrm>
          <a:custGeom>
            <a:avLst/>
            <a:gdLst/>
            <a:ahLst/>
            <a:rect l="0" t="0" r="r" b="b"/>
            <a:pathLst>
              <a:path w="892" h="186">
                <a:moveTo>
                  <a:pt x="52" y="8"/>
                </a:moveTo>
                <a:lnTo>
                  <a:pt x="0" y="186"/>
                </a:lnTo>
                <a:lnTo>
                  <a:pt x="892" y="186"/>
                </a:lnTo>
                <a:lnTo>
                  <a:pt x="892" y="0"/>
                </a:lnTo>
                <a:lnTo>
                  <a:pt x="52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5" name=""/>
          <p:cNvGrpSpPr/>
          <p:nvPr/>
        </p:nvGrpSpPr>
        <p:grpSpPr>
          <a:xfrm>
            <a:off x="1192320" y="4551480"/>
            <a:ext cx="245880" cy="1444680"/>
            <a:chOff x="1192320" y="4551480"/>
            <a:chExt cx="245880" cy="1444680"/>
          </a:xfrm>
        </p:grpSpPr>
        <p:sp>
          <p:nvSpPr>
            <p:cNvPr id="7176" name=""/>
            <p:cNvSpPr/>
            <p:nvPr/>
          </p:nvSpPr>
          <p:spPr>
            <a:xfrm>
              <a:off x="14382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11923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11923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79" name=""/>
          <p:cNvGrpSpPr/>
          <p:nvPr/>
        </p:nvGrpSpPr>
        <p:grpSpPr>
          <a:xfrm>
            <a:off x="3571920" y="4551480"/>
            <a:ext cx="245880" cy="1444680"/>
            <a:chOff x="3571920" y="4551480"/>
            <a:chExt cx="245880" cy="1444680"/>
          </a:xfrm>
        </p:grpSpPr>
        <p:sp>
          <p:nvSpPr>
            <p:cNvPr id="7180" name=""/>
            <p:cNvSpPr/>
            <p:nvPr/>
          </p:nvSpPr>
          <p:spPr>
            <a:xfrm>
              <a:off x="38178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35719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35719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3" name=""/>
          <p:cNvGrpSpPr/>
          <p:nvPr/>
        </p:nvGrpSpPr>
        <p:grpSpPr>
          <a:xfrm>
            <a:off x="5951520" y="4518000"/>
            <a:ext cx="246240" cy="1444680"/>
            <a:chOff x="5951520" y="4518000"/>
            <a:chExt cx="246240" cy="1444680"/>
          </a:xfrm>
        </p:grpSpPr>
        <p:sp>
          <p:nvSpPr>
            <p:cNvPr id="7184" name=""/>
            <p:cNvSpPr/>
            <p:nvPr/>
          </p:nvSpPr>
          <p:spPr>
            <a:xfrm>
              <a:off x="6197760" y="451800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5951520" y="451800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5951520" y="595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87" name=""/>
          <p:cNvSpPr txBox="1"/>
          <p:nvPr/>
        </p:nvSpPr>
        <p:spPr>
          <a:xfrm>
            <a:off x="884160" y="43894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8" name=""/>
          <p:cNvSpPr txBox="1"/>
          <p:nvPr/>
        </p:nvSpPr>
        <p:spPr>
          <a:xfrm>
            <a:off x="900000" y="58658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9" name=""/>
          <p:cNvSpPr txBox="1"/>
          <p:nvPr/>
        </p:nvSpPr>
        <p:spPr>
          <a:xfrm>
            <a:off x="329724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0" name=""/>
          <p:cNvSpPr txBox="1"/>
          <p:nvPr/>
        </p:nvSpPr>
        <p:spPr>
          <a:xfrm>
            <a:off x="3313080" y="58802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1" name=""/>
          <p:cNvSpPr txBox="1"/>
          <p:nvPr/>
        </p:nvSpPr>
        <p:spPr>
          <a:xfrm>
            <a:off x="5678640" y="43736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2" name=""/>
          <p:cNvSpPr txBox="1"/>
          <p:nvPr/>
        </p:nvSpPr>
        <p:spPr>
          <a:xfrm>
            <a:off x="5662440" y="58341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3" name=""/>
          <p:cNvSpPr/>
          <p:nvPr/>
        </p:nvSpPr>
        <p:spPr>
          <a:xfrm>
            <a:off x="6343560" y="4844880"/>
            <a:ext cx="2715840" cy="427320"/>
          </a:xfrm>
          <a:custGeom>
            <a:avLst/>
            <a:gdLst/>
            <a:ahLst/>
            <a:rect l="0" t="0" r="r" b="b"/>
            <a:pathLst>
              <a:path fill="none" w="7544" h="1187">
                <a:moveTo>
                  <a:pt x="7544" y="1187"/>
                </a:moveTo>
                <a:lnTo>
                  <a:pt x="7544" y="1187"/>
                </a:lnTo>
                <a:cubicBezTo>
                  <a:pt x="7367" y="1055"/>
                  <a:pt x="7111" y="929"/>
                  <a:pt x="6781" y="810"/>
                </a:cubicBezTo>
                <a:cubicBezTo>
                  <a:pt x="6094" y="564"/>
                  <a:pt x="5105" y="359"/>
                  <a:pt x="3915" y="217"/>
                </a:cubicBezTo>
                <a:cubicBezTo>
                  <a:pt x="2725" y="75"/>
                  <a:pt x="137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4" name=""/>
          <p:cNvSpPr/>
          <p:nvPr/>
        </p:nvSpPr>
        <p:spPr>
          <a:xfrm>
            <a:off x="6346440" y="5062680"/>
            <a:ext cx="2706120" cy="409320"/>
          </a:xfrm>
          <a:custGeom>
            <a:avLst/>
            <a:gdLst/>
            <a:ahLst/>
            <a:rect l="0" t="0" r="r" b="b"/>
            <a:pathLst>
              <a:path fill="none" w="7517" h="1137">
                <a:moveTo>
                  <a:pt x="7517" y="0"/>
                </a:moveTo>
                <a:lnTo>
                  <a:pt x="7517" y="0"/>
                </a:lnTo>
                <a:lnTo>
                  <a:pt x="7517" y="0"/>
                </a:lnTo>
                <a:cubicBezTo>
                  <a:pt x="6113" y="0"/>
                  <a:pt x="4734" y="80"/>
                  <a:pt x="3519" y="231"/>
                </a:cubicBezTo>
                <a:cubicBezTo>
                  <a:pt x="2303" y="383"/>
                  <a:pt x="1294" y="600"/>
                  <a:pt x="592" y="863"/>
                </a:cubicBezTo>
                <a:cubicBezTo>
                  <a:pt x="358" y="950"/>
                  <a:pt x="160" y="1042"/>
                  <a:pt x="0" y="11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5" name=""/>
          <p:cNvSpPr/>
          <p:nvPr/>
        </p:nvSpPr>
        <p:spPr>
          <a:xfrm>
            <a:off x="6610320" y="4676760"/>
            <a:ext cx="752760" cy="190800"/>
          </a:xfrm>
          <a:custGeom>
            <a:avLst/>
            <a:gdLst/>
            <a:ahLst/>
            <a:rect l="0" t="0" r="r" b="b"/>
            <a:pathLst>
              <a:path w="2091" h="530">
                <a:moveTo>
                  <a:pt x="0" y="424"/>
                </a:moveTo>
                <a:lnTo>
                  <a:pt x="66" y="0"/>
                </a:lnTo>
                <a:lnTo>
                  <a:pt x="2091" y="198"/>
                </a:lnTo>
                <a:lnTo>
                  <a:pt x="1945" y="530"/>
                </a:lnTo>
                <a:lnTo>
                  <a:pt x="0" y="424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6" name=""/>
          <p:cNvSpPr/>
          <p:nvPr/>
        </p:nvSpPr>
        <p:spPr>
          <a:xfrm>
            <a:off x="6405480" y="5662440"/>
            <a:ext cx="886320" cy="195480"/>
          </a:xfrm>
          <a:custGeom>
            <a:avLst/>
            <a:gdLst/>
            <a:ahLst/>
            <a:rect l="0" t="0" r="r" b="b"/>
            <a:pathLst>
              <a:path w="2462" h="543">
                <a:moveTo>
                  <a:pt x="2462" y="0"/>
                </a:moveTo>
                <a:lnTo>
                  <a:pt x="2171" y="490"/>
                </a:lnTo>
                <a:lnTo>
                  <a:pt x="0" y="543"/>
                </a:lnTo>
                <a:lnTo>
                  <a:pt x="251" y="92"/>
                </a:lnTo>
                <a:lnTo>
                  <a:pt x="2462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7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8" name=""/>
          <p:cNvSpPr txBox="1"/>
          <p:nvPr/>
        </p:nvSpPr>
        <p:spPr>
          <a:xfrm>
            <a:off x="2706840" y="1035000"/>
            <a:ext cx="33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9" name=""/>
          <p:cNvSpPr/>
          <p:nvPr/>
        </p:nvSpPr>
        <p:spPr>
          <a:xfrm>
            <a:off x="423720" y="4842000"/>
            <a:ext cx="6837480" cy="84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0" name=""/>
          <p:cNvSpPr/>
          <p:nvPr/>
        </p:nvSpPr>
        <p:spPr>
          <a:xfrm>
            <a:off x="3035160" y="50720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1" name=""/>
          <p:cNvSpPr/>
          <p:nvPr/>
        </p:nvSpPr>
        <p:spPr>
          <a:xfrm>
            <a:off x="3051000" y="5454720"/>
            <a:ext cx="222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2" name=""/>
          <p:cNvSpPr/>
          <p:nvPr/>
        </p:nvSpPr>
        <p:spPr>
          <a:xfrm>
            <a:off x="5280120" y="53323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3" name=""/>
          <p:cNvSpPr/>
          <p:nvPr/>
        </p:nvSpPr>
        <p:spPr>
          <a:xfrm>
            <a:off x="5280120" y="49467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4" name=""/>
          <p:cNvSpPr/>
          <p:nvPr/>
        </p:nvSpPr>
        <p:spPr>
          <a:xfrm>
            <a:off x="5281560" y="50688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5" name=""/>
          <p:cNvSpPr/>
          <p:nvPr/>
        </p:nvSpPr>
        <p:spPr>
          <a:xfrm>
            <a:off x="5259240" y="54529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6" name=""/>
          <p:cNvSpPr/>
          <p:nvPr/>
        </p:nvSpPr>
        <p:spPr>
          <a:xfrm>
            <a:off x="5261040" y="55641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7" name=""/>
          <p:cNvSpPr/>
          <p:nvPr/>
        </p:nvSpPr>
        <p:spPr>
          <a:xfrm>
            <a:off x="5280120" y="48402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8" name=""/>
          <p:cNvSpPr/>
          <p:nvPr/>
        </p:nvSpPr>
        <p:spPr>
          <a:xfrm>
            <a:off x="2645280" y="4852080"/>
            <a:ext cx="398520" cy="220320"/>
          </a:xfrm>
          <a:custGeom>
            <a:avLst/>
            <a:gdLst/>
            <a:ahLst/>
            <a:rect l="0" t="0" r="r" b="b"/>
            <a:pathLst>
              <a:path fill="none" w="1107" h="612">
                <a:moveTo>
                  <a:pt x="0" y="0"/>
                </a:moveTo>
                <a:lnTo>
                  <a:pt x="0" y="0"/>
                </a:lnTo>
                <a:cubicBezTo>
                  <a:pt x="16" y="96"/>
                  <a:pt x="65" y="189"/>
                  <a:pt x="144" y="272"/>
                </a:cubicBezTo>
                <a:cubicBezTo>
                  <a:pt x="241" y="375"/>
                  <a:pt x="382" y="461"/>
                  <a:pt x="551" y="521"/>
                </a:cubicBezTo>
                <a:cubicBezTo>
                  <a:pt x="720" y="581"/>
                  <a:pt x="912" y="612"/>
                  <a:pt x="1107" y="61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9" name=""/>
          <p:cNvSpPr/>
          <p:nvPr/>
        </p:nvSpPr>
        <p:spPr>
          <a:xfrm>
            <a:off x="2658960" y="5481720"/>
            <a:ext cx="398160" cy="219240"/>
          </a:xfrm>
          <a:custGeom>
            <a:avLst/>
            <a:gdLst/>
            <a:ahLst/>
            <a:rect l="0" t="0" r="r" b="b"/>
            <a:pathLst>
              <a:path fill="none" w="1106" h="609">
                <a:moveTo>
                  <a:pt x="0" y="609"/>
                </a:moveTo>
                <a:lnTo>
                  <a:pt x="0" y="609"/>
                </a:lnTo>
                <a:lnTo>
                  <a:pt x="0" y="609"/>
                </a:lnTo>
                <a:cubicBezTo>
                  <a:pt x="195" y="609"/>
                  <a:pt x="387" y="578"/>
                  <a:pt x="556" y="518"/>
                </a:cubicBezTo>
                <a:cubicBezTo>
                  <a:pt x="725" y="458"/>
                  <a:pt x="866" y="372"/>
                  <a:pt x="963" y="269"/>
                </a:cubicBezTo>
                <a:cubicBezTo>
                  <a:pt x="1041" y="186"/>
                  <a:pt x="1090" y="95"/>
                  <a:pt x="110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0" name=""/>
          <p:cNvSpPr/>
          <p:nvPr/>
        </p:nvSpPr>
        <p:spPr>
          <a:xfrm>
            <a:off x="7224840" y="489600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1" name=""/>
          <p:cNvSpPr/>
          <p:nvPr/>
        </p:nvSpPr>
        <p:spPr>
          <a:xfrm>
            <a:off x="6624720" y="563076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2" name=""/>
          <p:cNvSpPr/>
          <p:nvPr/>
        </p:nvSpPr>
        <p:spPr>
          <a:xfrm>
            <a:off x="5557680" y="5272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3" name=""/>
          <p:cNvSpPr/>
          <p:nvPr/>
        </p:nvSpPr>
        <p:spPr>
          <a:xfrm>
            <a:off x="7043760" y="527220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4" name=""/>
          <p:cNvSpPr/>
          <p:nvPr/>
        </p:nvSpPr>
        <p:spPr>
          <a:xfrm>
            <a:off x="7215120" y="527220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5" name=""/>
          <p:cNvSpPr/>
          <p:nvPr/>
        </p:nvSpPr>
        <p:spPr>
          <a:xfrm flipV="1">
            <a:off x="442800" y="4843440"/>
            <a:ext cx="81468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6" name=""/>
          <p:cNvSpPr/>
          <p:nvPr/>
        </p:nvSpPr>
        <p:spPr>
          <a:xfrm>
            <a:off x="414360" y="4836960"/>
            <a:ext cx="829080" cy="829080"/>
          </a:xfrm>
          <a:custGeom>
            <a:avLst/>
            <a:gdLst/>
            <a:ahLst/>
            <a:rect l="0" t="0" r="r" b="b"/>
            <a:pathLst>
              <a:path w="2303" h="2303">
                <a:moveTo>
                  <a:pt x="0" y="0"/>
                </a:moveTo>
                <a:lnTo>
                  <a:pt x="0" y="2303"/>
                </a:lnTo>
                <a:lnTo>
                  <a:pt x="2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7" name=""/>
          <p:cNvSpPr/>
          <p:nvPr/>
        </p:nvSpPr>
        <p:spPr>
          <a:xfrm>
            <a:off x="4325760" y="4848120"/>
            <a:ext cx="170280" cy="824400"/>
          </a:xfrm>
          <a:custGeom>
            <a:avLst/>
            <a:gdLst/>
            <a:ahLst/>
            <a:rect l="0" t="0" r="r" b="b"/>
            <a:pathLst>
              <a:path fill="none" w="473" h="2290">
                <a:moveTo>
                  <a:pt x="376" y="0"/>
                </a:moveTo>
                <a:lnTo>
                  <a:pt x="385" y="110"/>
                </a:lnTo>
                <a:lnTo>
                  <a:pt x="473" y="238"/>
                </a:lnTo>
                <a:lnTo>
                  <a:pt x="473" y="366"/>
                </a:lnTo>
                <a:lnTo>
                  <a:pt x="473" y="493"/>
                </a:lnTo>
                <a:lnTo>
                  <a:pt x="385" y="622"/>
                </a:lnTo>
                <a:lnTo>
                  <a:pt x="300" y="755"/>
                </a:lnTo>
                <a:lnTo>
                  <a:pt x="256" y="922"/>
                </a:lnTo>
                <a:lnTo>
                  <a:pt x="217" y="1050"/>
                </a:lnTo>
                <a:lnTo>
                  <a:pt x="217" y="1266"/>
                </a:lnTo>
                <a:lnTo>
                  <a:pt x="217" y="1394"/>
                </a:lnTo>
                <a:lnTo>
                  <a:pt x="128" y="1522"/>
                </a:lnTo>
                <a:lnTo>
                  <a:pt x="88" y="1650"/>
                </a:lnTo>
                <a:lnTo>
                  <a:pt x="44" y="1779"/>
                </a:lnTo>
                <a:lnTo>
                  <a:pt x="44" y="1907"/>
                </a:lnTo>
                <a:lnTo>
                  <a:pt x="44" y="2034"/>
                </a:lnTo>
                <a:lnTo>
                  <a:pt x="44" y="2162"/>
                </a:lnTo>
                <a:lnTo>
                  <a:pt x="0" y="229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8" name=""/>
          <p:cNvSpPr/>
          <p:nvPr/>
        </p:nvSpPr>
        <p:spPr>
          <a:xfrm>
            <a:off x="4648320" y="4851360"/>
            <a:ext cx="138600" cy="814680"/>
          </a:xfrm>
          <a:custGeom>
            <a:avLst/>
            <a:gdLst/>
            <a:ahLst/>
            <a:rect l="0" t="0" r="r" b="b"/>
            <a:pathLst>
              <a:path fill="none" w="385" h="2263">
                <a:moveTo>
                  <a:pt x="301" y="0"/>
                </a:moveTo>
                <a:lnTo>
                  <a:pt x="345" y="127"/>
                </a:lnTo>
                <a:lnTo>
                  <a:pt x="345" y="255"/>
                </a:lnTo>
                <a:lnTo>
                  <a:pt x="385" y="383"/>
                </a:lnTo>
                <a:lnTo>
                  <a:pt x="385" y="511"/>
                </a:lnTo>
                <a:lnTo>
                  <a:pt x="345" y="639"/>
                </a:lnTo>
                <a:lnTo>
                  <a:pt x="345" y="771"/>
                </a:lnTo>
                <a:lnTo>
                  <a:pt x="345" y="899"/>
                </a:lnTo>
                <a:lnTo>
                  <a:pt x="301" y="1027"/>
                </a:lnTo>
                <a:lnTo>
                  <a:pt x="256" y="1156"/>
                </a:lnTo>
                <a:lnTo>
                  <a:pt x="217" y="1284"/>
                </a:lnTo>
                <a:lnTo>
                  <a:pt x="172" y="1412"/>
                </a:lnTo>
                <a:lnTo>
                  <a:pt x="128" y="1539"/>
                </a:lnTo>
                <a:lnTo>
                  <a:pt x="128" y="1751"/>
                </a:lnTo>
                <a:lnTo>
                  <a:pt x="88" y="1879"/>
                </a:lnTo>
                <a:lnTo>
                  <a:pt x="44" y="2007"/>
                </a:lnTo>
                <a:lnTo>
                  <a:pt x="0" y="2135"/>
                </a:lnTo>
                <a:lnTo>
                  <a:pt x="0" y="226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9" name=""/>
          <p:cNvSpPr/>
          <p:nvPr/>
        </p:nvSpPr>
        <p:spPr>
          <a:xfrm>
            <a:off x="4470480" y="480708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0" name=""/>
          <p:cNvSpPr/>
          <p:nvPr/>
        </p:nvSpPr>
        <p:spPr>
          <a:xfrm>
            <a:off x="4460760" y="5048280"/>
            <a:ext cx="311400" cy="44640"/>
          </a:xfrm>
          <a:custGeom>
            <a:avLst/>
            <a:gdLst/>
            <a:ahLst/>
            <a:rect l="0" t="0" r="r" b="b"/>
            <a:pathLst>
              <a:path w="865" h="124">
                <a:moveTo>
                  <a:pt x="79" y="8"/>
                </a:moveTo>
                <a:lnTo>
                  <a:pt x="0" y="124"/>
                </a:lnTo>
                <a:lnTo>
                  <a:pt x="830" y="115"/>
                </a:lnTo>
                <a:lnTo>
                  <a:pt x="865" y="0"/>
                </a:lnTo>
                <a:lnTo>
                  <a:pt x="79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1" name=""/>
          <p:cNvSpPr/>
          <p:nvPr/>
        </p:nvSpPr>
        <p:spPr>
          <a:xfrm>
            <a:off x="4359240" y="5423040"/>
            <a:ext cx="327240" cy="51120"/>
          </a:xfrm>
          <a:custGeom>
            <a:avLst/>
            <a:gdLst/>
            <a:ahLst/>
            <a:rect l="0" t="0" r="r" b="b"/>
            <a:pathLst>
              <a:path w="909" h="142">
                <a:moveTo>
                  <a:pt x="44" y="0"/>
                </a:moveTo>
                <a:lnTo>
                  <a:pt x="0" y="106"/>
                </a:lnTo>
                <a:lnTo>
                  <a:pt x="909" y="142"/>
                </a:lnTo>
                <a:lnTo>
                  <a:pt x="909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2" name=""/>
          <p:cNvSpPr/>
          <p:nvPr/>
        </p:nvSpPr>
        <p:spPr>
          <a:xfrm>
            <a:off x="4314960" y="5654520"/>
            <a:ext cx="321120" cy="66960"/>
          </a:xfrm>
          <a:custGeom>
            <a:avLst/>
            <a:gdLst/>
            <a:ahLst/>
            <a:rect l="0" t="0" r="r" b="b"/>
            <a:pathLst>
              <a:path w="892" h="186">
                <a:moveTo>
                  <a:pt x="52" y="8"/>
                </a:moveTo>
                <a:lnTo>
                  <a:pt x="0" y="186"/>
                </a:lnTo>
                <a:lnTo>
                  <a:pt x="892" y="186"/>
                </a:lnTo>
                <a:lnTo>
                  <a:pt x="892" y="0"/>
                </a:lnTo>
                <a:lnTo>
                  <a:pt x="52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3" name=""/>
          <p:cNvGrpSpPr/>
          <p:nvPr/>
        </p:nvGrpSpPr>
        <p:grpSpPr>
          <a:xfrm>
            <a:off x="1192320" y="4551480"/>
            <a:ext cx="245880" cy="1444680"/>
            <a:chOff x="1192320" y="4551480"/>
            <a:chExt cx="245880" cy="1444680"/>
          </a:xfrm>
        </p:grpSpPr>
        <p:sp>
          <p:nvSpPr>
            <p:cNvPr id="7224" name=""/>
            <p:cNvSpPr/>
            <p:nvPr/>
          </p:nvSpPr>
          <p:spPr>
            <a:xfrm>
              <a:off x="14382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11923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11923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27" name=""/>
          <p:cNvGrpSpPr/>
          <p:nvPr/>
        </p:nvGrpSpPr>
        <p:grpSpPr>
          <a:xfrm>
            <a:off x="3571920" y="4551480"/>
            <a:ext cx="245880" cy="1444680"/>
            <a:chOff x="3571920" y="4551480"/>
            <a:chExt cx="245880" cy="1444680"/>
          </a:xfrm>
        </p:grpSpPr>
        <p:sp>
          <p:nvSpPr>
            <p:cNvPr id="7228" name=""/>
            <p:cNvSpPr/>
            <p:nvPr/>
          </p:nvSpPr>
          <p:spPr>
            <a:xfrm>
              <a:off x="38178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35719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35719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31" name=""/>
          <p:cNvGrpSpPr/>
          <p:nvPr/>
        </p:nvGrpSpPr>
        <p:grpSpPr>
          <a:xfrm>
            <a:off x="5951520" y="4518000"/>
            <a:ext cx="246240" cy="1444680"/>
            <a:chOff x="5951520" y="4518000"/>
            <a:chExt cx="246240" cy="1444680"/>
          </a:xfrm>
        </p:grpSpPr>
        <p:sp>
          <p:nvSpPr>
            <p:cNvPr id="7232" name=""/>
            <p:cNvSpPr/>
            <p:nvPr/>
          </p:nvSpPr>
          <p:spPr>
            <a:xfrm>
              <a:off x="6197760" y="451800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5951520" y="451800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5951520" y="595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35" name=""/>
          <p:cNvGrpSpPr/>
          <p:nvPr/>
        </p:nvGrpSpPr>
        <p:grpSpPr>
          <a:xfrm>
            <a:off x="7178760" y="4519440"/>
            <a:ext cx="245880" cy="1444680"/>
            <a:chOff x="7178760" y="4519440"/>
            <a:chExt cx="245880" cy="1444680"/>
          </a:xfrm>
        </p:grpSpPr>
        <p:sp>
          <p:nvSpPr>
            <p:cNvPr id="7236" name=""/>
            <p:cNvSpPr/>
            <p:nvPr/>
          </p:nvSpPr>
          <p:spPr>
            <a:xfrm>
              <a:off x="7424640" y="451944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7178760" y="451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7178760" y="59612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9" name=""/>
          <p:cNvSpPr txBox="1"/>
          <p:nvPr/>
        </p:nvSpPr>
        <p:spPr>
          <a:xfrm>
            <a:off x="884160" y="43894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0" name=""/>
          <p:cNvSpPr txBox="1"/>
          <p:nvPr/>
        </p:nvSpPr>
        <p:spPr>
          <a:xfrm>
            <a:off x="900000" y="58658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1" name=""/>
          <p:cNvSpPr txBox="1"/>
          <p:nvPr/>
        </p:nvSpPr>
        <p:spPr>
          <a:xfrm>
            <a:off x="329724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2" name=""/>
          <p:cNvSpPr txBox="1"/>
          <p:nvPr/>
        </p:nvSpPr>
        <p:spPr>
          <a:xfrm>
            <a:off x="3313080" y="58802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3" name=""/>
          <p:cNvSpPr txBox="1"/>
          <p:nvPr/>
        </p:nvSpPr>
        <p:spPr>
          <a:xfrm>
            <a:off x="5678640" y="43736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4" name=""/>
          <p:cNvSpPr txBox="1"/>
          <p:nvPr/>
        </p:nvSpPr>
        <p:spPr>
          <a:xfrm>
            <a:off x="5662440" y="58341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5" name=""/>
          <p:cNvSpPr txBox="1"/>
          <p:nvPr/>
        </p:nvSpPr>
        <p:spPr>
          <a:xfrm>
            <a:off x="6905520" y="43750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6" name=""/>
          <p:cNvSpPr txBox="1"/>
          <p:nvPr/>
        </p:nvSpPr>
        <p:spPr>
          <a:xfrm>
            <a:off x="6907320" y="58183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7" name=""/>
          <p:cNvSpPr/>
          <p:nvPr/>
        </p:nvSpPr>
        <p:spPr>
          <a:xfrm>
            <a:off x="6343560" y="4844880"/>
            <a:ext cx="2715840" cy="427320"/>
          </a:xfrm>
          <a:custGeom>
            <a:avLst/>
            <a:gdLst/>
            <a:ahLst/>
            <a:rect l="0" t="0" r="r" b="b"/>
            <a:pathLst>
              <a:path fill="none" w="7544" h="1187">
                <a:moveTo>
                  <a:pt x="7544" y="1187"/>
                </a:moveTo>
                <a:lnTo>
                  <a:pt x="7544" y="1187"/>
                </a:lnTo>
                <a:cubicBezTo>
                  <a:pt x="7367" y="1055"/>
                  <a:pt x="7111" y="929"/>
                  <a:pt x="6781" y="810"/>
                </a:cubicBezTo>
                <a:cubicBezTo>
                  <a:pt x="6094" y="564"/>
                  <a:pt x="5105" y="359"/>
                  <a:pt x="3915" y="217"/>
                </a:cubicBezTo>
                <a:cubicBezTo>
                  <a:pt x="2725" y="75"/>
                  <a:pt x="137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8" name=""/>
          <p:cNvSpPr/>
          <p:nvPr/>
        </p:nvSpPr>
        <p:spPr>
          <a:xfrm>
            <a:off x="6346440" y="5062680"/>
            <a:ext cx="2706120" cy="409320"/>
          </a:xfrm>
          <a:custGeom>
            <a:avLst/>
            <a:gdLst/>
            <a:ahLst/>
            <a:rect l="0" t="0" r="r" b="b"/>
            <a:pathLst>
              <a:path fill="none" w="7517" h="1137">
                <a:moveTo>
                  <a:pt x="7517" y="0"/>
                </a:moveTo>
                <a:lnTo>
                  <a:pt x="7517" y="0"/>
                </a:lnTo>
                <a:lnTo>
                  <a:pt x="7517" y="0"/>
                </a:lnTo>
                <a:cubicBezTo>
                  <a:pt x="6113" y="0"/>
                  <a:pt x="4734" y="80"/>
                  <a:pt x="3519" y="231"/>
                </a:cubicBezTo>
                <a:cubicBezTo>
                  <a:pt x="2303" y="383"/>
                  <a:pt x="1294" y="600"/>
                  <a:pt x="592" y="863"/>
                </a:cubicBezTo>
                <a:cubicBezTo>
                  <a:pt x="358" y="950"/>
                  <a:pt x="160" y="1042"/>
                  <a:pt x="0" y="11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9" name=""/>
          <p:cNvSpPr/>
          <p:nvPr/>
        </p:nvSpPr>
        <p:spPr>
          <a:xfrm>
            <a:off x="6610320" y="4676760"/>
            <a:ext cx="752760" cy="190800"/>
          </a:xfrm>
          <a:custGeom>
            <a:avLst/>
            <a:gdLst/>
            <a:ahLst/>
            <a:rect l="0" t="0" r="r" b="b"/>
            <a:pathLst>
              <a:path w="2091" h="530">
                <a:moveTo>
                  <a:pt x="0" y="424"/>
                </a:moveTo>
                <a:lnTo>
                  <a:pt x="66" y="0"/>
                </a:lnTo>
                <a:lnTo>
                  <a:pt x="2091" y="198"/>
                </a:lnTo>
                <a:lnTo>
                  <a:pt x="1945" y="530"/>
                </a:lnTo>
                <a:lnTo>
                  <a:pt x="0" y="424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0" name=""/>
          <p:cNvSpPr/>
          <p:nvPr/>
        </p:nvSpPr>
        <p:spPr>
          <a:xfrm>
            <a:off x="6405480" y="5662440"/>
            <a:ext cx="886320" cy="195480"/>
          </a:xfrm>
          <a:custGeom>
            <a:avLst/>
            <a:gdLst/>
            <a:ahLst/>
            <a:rect l="0" t="0" r="r" b="b"/>
            <a:pathLst>
              <a:path w="2462" h="543">
                <a:moveTo>
                  <a:pt x="2462" y="0"/>
                </a:moveTo>
                <a:lnTo>
                  <a:pt x="2171" y="490"/>
                </a:lnTo>
                <a:lnTo>
                  <a:pt x="0" y="543"/>
                </a:lnTo>
                <a:lnTo>
                  <a:pt x="251" y="92"/>
                </a:lnTo>
                <a:lnTo>
                  <a:pt x="2462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1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2" name=""/>
          <p:cNvSpPr txBox="1"/>
          <p:nvPr/>
        </p:nvSpPr>
        <p:spPr>
          <a:xfrm>
            <a:off x="2706840" y="1035000"/>
            <a:ext cx="33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3" name=""/>
          <p:cNvSpPr/>
          <p:nvPr/>
        </p:nvSpPr>
        <p:spPr>
          <a:xfrm>
            <a:off x="423720" y="4842000"/>
            <a:ext cx="6837480" cy="84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4" name=""/>
          <p:cNvSpPr/>
          <p:nvPr/>
        </p:nvSpPr>
        <p:spPr>
          <a:xfrm>
            <a:off x="3035160" y="50720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5" name=""/>
          <p:cNvSpPr/>
          <p:nvPr/>
        </p:nvSpPr>
        <p:spPr>
          <a:xfrm>
            <a:off x="3051000" y="5454720"/>
            <a:ext cx="222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6" name=""/>
          <p:cNvSpPr/>
          <p:nvPr/>
        </p:nvSpPr>
        <p:spPr>
          <a:xfrm>
            <a:off x="5280120" y="53323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7" name=""/>
          <p:cNvSpPr/>
          <p:nvPr/>
        </p:nvSpPr>
        <p:spPr>
          <a:xfrm>
            <a:off x="5280120" y="49467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8" name=""/>
          <p:cNvSpPr/>
          <p:nvPr/>
        </p:nvSpPr>
        <p:spPr>
          <a:xfrm>
            <a:off x="5281560" y="50688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9" name=""/>
          <p:cNvSpPr/>
          <p:nvPr/>
        </p:nvSpPr>
        <p:spPr>
          <a:xfrm>
            <a:off x="5259240" y="54529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0" name=""/>
          <p:cNvSpPr/>
          <p:nvPr/>
        </p:nvSpPr>
        <p:spPr>
          <a:xfrm>
            <a:off x="5261040" y="55641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1" name=""/>
          <p:cNvSpPr/>
          <p:nvPr/>
        </p:nvSpPr>
        <p:spPr>
          <a:xfrm>
            <a:off x="5280120" y="48402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2" name=""/>
          <p:cNvSpPr/>
          <p:nvPr/>
        </p:nvSpPr>
        <p:spPr>
          <a:xfrm>
            <a:off x="2645280" y="4852080"/>
            <a:ext cx="398520" cy="220320"/>
          </a:xfrm>
          <a:custGeom>
            <a:avLst/>
            <a:gdLst/>
            <a:ahLst/>
            <a:rect l="0" t="0" r="r" b="b"/>
            <a:pathLst>
              <a:path fill="none" w="1107" h="612">
                <a:moveTo>
                  <a:pt x="0" y="0"/>
                </a:moveTo>
                <a:lnTo>
                  <a:pt x="0" y="0"/>
                </a:lnTo>
                <a:cubicBezTo>
                  <a:pt x="16" y="96"/>
                  <a:pt x="65" y="189"/>
                  <a:pt x="144" y="272"/>
                </a:cubicBezTo>
                <a:cubicBezTo>
                  <a:pt x="241" y="375"/>
                  <a:pt x="382" y="461"/>
                  <a:pt x="551" y="521"/>
                </a:cubicBezTo>
                <a:cubicBezTo>
                  <a:pt x="720" y="581"/>
                  <a:pt x="912" y="612"/>
                  <a:pt x="1107" y="61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3" name=""/>
          <p:cNvSpPr/>
          <p:nvPr/>
        </p:nvSpPr>
        <p:spPr>
          <a:xfrm>
            <a:off x="2658960" y="5481720"/>
            <a:ext cx="398160" cy="219240"/>
          </a:xfrm>
          <a:custGeom>
            <a:avLst/>
            <a:gdLst/>
            <a:ahLst/>
            <a:rect l="0" t="0" r="r" b="b"/>
            <a:pathLst>
              <a:path fill="none" w="1106" h="609">
                <a:moveTo>
                  <a:pt x="0" y="609"/>
                </a:moveTo>
                <a:lnTo>
                  <a:pt x="0" y="609"/>
                </a:lnTo>
                <a:lnTo>
                  <a:pt x="0" y="609"/>
                </a:lnTo>
                <a:cubicBezTo>
                  <a:pt x="195" y="609"/>
                  <a:pt x="387" y="578"/>
                  <a:pt x="556" y="518"/>
                </a:cubicBezTo>
                <a:cubicBezTo>
                  <a:pt x="725" y="458"/>
                  <a:pt x="866" y="372"/>
                  <a:pt x="963" y="269"/>
                </a:cubicBezTo>
                <a:cubicBezTo>
                  <a:pt x="1041" y="186"/>
                  <a:pt x="1090" y="95"/>
                  <a:pt x="110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4" name=""/>
          <p:cNvSpPr/>
          <p:nvPr/>
        </p:nvSpPr>
        <p:spPr>
          <a:xfrm>
            <a:off x="7224840" y="489600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5" name=""/>
          <p:cNvSpPr/>
          <p:nvPr/>
        </p:nvSpPr>
        <p:spPr>
          <a:xfrm>
            <a:off x="6624720" y="563076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6" name=""/>
          <p:cNvSpPr/>
          <p:nvPr/>
        </p:nvSpPr>
        <p:spPr>
          <a:xfrm>
            <a:off x="5557680" y="5272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7" name=""/>
          <p:cNvSpPr/>
          <p:nvPr/>
        </p:nvSpPr>
        <p:spPr>
          <a:xfrm>
            <a:off x="7043760" y="527220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8" name=""/>
          <p:cNvSpPr/>
          <p:nvPr/>
        </p:nvSpPr>
        <p:spPr>
          <a:xfrm>
            <a:off x="7215120" y="527220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9" name=""/>
          <p:cNvSpPr/>
          <p:nvPr/>
        </p:nvSpPr>
        <p:spPr>
          <a:xfrm flipV="1">
            <a:off x="442800" y="4843440"/>
            <a:ext cx="81468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0" name=""/>
          <p:cNvSpPr/>
          <p:nvPr/>
        </p:nvSpPr>
        <p:spPr>
          <a:xfrm>
            <a:off x="414360" y="4836960"/>
            <a:ext cx="829080" cy="829080"/>
          </a:xfrm>
          <a:custGeom>
            <a:avLst/>
            <a:gdLst/>
            <a:ahLst/>
            <a:rect l="0" t="0" r="r" b="b"/>
            <a:pathLst>
              <a:path w="2303" h="2303">
                <a:moveTo>
                  <a:pt x="0" y="0"/>
                </a:moveTo>
                <a:lnTo>
                  <a:pt x="0" y="2303"/>
                </a:lnTo>
                <a:lnTo>
                  <a:pt x="2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1" name=""/>
          <p:cNvSpPr/>
          <p:nvPr/>
        </p:nvSpPr>
        <p:spPr>
          <a:xfrm>
            <a:off x="4325760" y="4848120"/>
            <a:ext cx="170280" cy="824400"/>
          </a:xfrm>
          <a:custGeom>
            <a:avLst/>
            <a:gdLst/>
            <a:ahLst/>
            <a:rect l="0" t="0" r="r" b="b"/>
            <a:pathLst>
              <a:path fill="none" w="473" h="2290">
                <a:moveTo>
                  <a:pt x="376" y="0"/>
                </a:moveTo>
                <a:lnTo>
                  <a:pt x="385" y="110"/>
                </a:lnTo>
                <a:lnTo>
                  <a:pt x="473" y="238"/>
                </a:lnTo>
                <a:lnTo>
                  <a:pt x="473" y="366"/>
                </a:lnTo>
                <a:lnTo>
                  <a:pt x="473" y="493"/>
                </a:lnTo>
                <a:lnTo>
                  <a:pt x="385" y="622"/>
                </a:lnTo>
                <a:lnTo>
                  <a:pt x="300" y="755"/>
                </a:lnTo>
                <a:lnTo>
                  <a:pt x="256" y="922"/>
                </a:lnTo>
                <a:lnTo>
                  <a:pt x="217" y="1050"/>
                </a:lnTo>
                <a:lnTo>
                  <a:pt x="217" y="1266"/>
                </a:lnTo>
                <a:lnTo>
                  <a:pt x="217" y="1394"/>
                </a:lnTo>
                <a:lnTo>
                  <a:pt x="128" y="1522"/>
                </a:lnTo>
                <a:lnTo>
                  <a:pt x="88" y="1650"/>
                </a:lnTo>
                <a:lnTo>
                  <a:pt x="44" y="1779"/>
                </a:lnTo>
                <a:lnTo>
                  <a:pt x="44" y="1907"/>
                </a:lnTo>
                <a:lnTo>
                  <a:pt x="44" y="2034"/>
                </a:lnTo>
                <a:lnTo>
                  <a:pt x="44" y="2162"/>
                </a:lnTo>
                <a:lnTo>
                  <a:pt x="0" y="229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2" name=""/>
          <p:cNvSpPr/>
          <p:nvPr/>
        </p:nvSpPr>
        <p:spPr>
          <a:xfrm>
            <a:off x="4648320" y="4851360"/>
            <a:ext cx="138600" cy="814680"/>
          </a:xfrm>
          <a:custGeom>
            <a:avLst/>
            <a:gdLst/>
            <a:ahLst/>
            <a:rect l="0" t="0" r="r" b="b"/>
            <a:pathLst>
              <a:path fill="none" w="385" h="2263">
                <a:moveTo>
                  <a:pt x="301" y="0"/>
                </a:moveTo>
                <a:lnTo>
                  <a:pt x="345" y="127"/>
                </a:lnTo>
                <a:lnTo>
                  <a:pt x="345" y="255"/>
                </a:lnTo>
                <a:lnTo>
                  <a:pt x="385" y="383"/>
                </a:lnTo>
                <a:lnTo>
                  <a:pt x="385" y="511"/>
                </a:lnTo>
                <a:lnTo>
                  <a:pt x="345" y="639"/>
                </a:lnTo>
                <a:lnTo>
                  <a:pt x="345" y="771"/>
                </a:lnTo>
                <a:lnTo>
                  <a:pt x="345" y="899"/>
                </a:lnTo>
                <a:lnTo>
                  <a:pt x="301" y="1027"/>
                </a:lnTo>
                <a:lnTo>
                  <a:pt x="256" y="1156"/>
                </a:lnTo>
                <a:lnTo>
                  <a:pt x="217" y="1284"/>
                </a:lnTo>
                <a:lnTo>
                  <a:pt x="172" y="1412"/>
                </a:lnTo>
                <a:lnTo>
                  <a:pt x="128" y="1539"/>
                </a:lnTo>
                <a:lnTo>
                  <a:pt x="128" y="1751"/>
                </a:lnTo>
                <a:lnTo>
                  <a:pt x="88" y="1879"/>
                </a:lnTo>
                <a:lnTo>
                  <a:pt x="44" y="2007"/>
                </a:lnTo>
                <a:lnTo>
                  <a:pt x="0" y="2135"/>
                </a:lnTo>
                <a:lnTo>
                  <a:pt x="0" y="226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3" name=""/>
          <p:cNvSpPr/>
          <p:nvPr/>
        </p:nvSpPr>
        <p:spPr>
          <a:xfrm>
            <a:off x="4470480" y="480708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4" name=""/>
          <p:cNvSpPr/>
          <p:nvPr/>
        </p:nvSpPr>
        <p:spPr>
          <a:xfrm>
            <a:off x="4460760" y="5048280"/>
            <a:ext cx="311400" cy="44640"/>
          </a:xfrm>
          <a:custGeom>
            <a:avLst/>
            <a:gdLst/>
            <a:ahLst/>
            <a:rect l="0" t="0" r="r" b="b"/>
            <a:pathLst>
              <a:path w="865" h="124">
                <a:moveTo>
                  <a:pt x="79" y="8"/>
                </a:moveTo>
                <a:lnTo>
                  <a:pt x="0" y="124"/>
                </a:lnTo>
                <a:lnTo>
                  <a:pt x="830" y="115"/>
                </a:lnTo>
                <a:lnTo>
                  <a:pt x="865" y="0"/>
                </a:lnTo>
                <a:lnTo>
                  <a:pt x="79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5" name=""/>
          <p:cNvSpPr/>
          <p:nvPr/>
        </p:nvSpPr>
        <p:spPr>
          <a:xfrm>
            <a:off x="4359240" y="5423040"/>
            <a:ext cx="327240" cy="51120"/>
          </a:xfrm>
          <a:custGeom>
            <a:avLst/>
            <a:gdLst/>
            <a:ahLst/>
            <a:rect l="0" t="0" r="r" b="b"/>
            <a:pathLst>
              <a:path w="909" h="142">
                <a:moveTo>
                  <a:pt x="44" y="0"/>
                </a:moveTo>
                <a:lnTo>
                  <a:pt x="0" y="106"/>
                </a:lnTo>
                <a:lnTo>
                  <a:pt x="909" y="142"/>
                </a:lnTo>
                <a:lnTo>
                  <a:pt x="909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6" name=""/>
          <p:cNvSpPr/>
          <p:nvPr/>
        </p:nvSpPr>
        <p:spPr>
          <a:xfrm>
            <a:off x="4314960" y="5654520"/>
            <a:ext cx="321120" cy="66960"/>
          </a:xfrm>
          <a:custGeom>
            <a:avLst/>
            <a:gdLst/>
            <a:ahLst/>
            <a:rect l="0" t="0" r="r" b="b"/>
            <a:pathLst>
              <a:path w="892" h="186">
                <a:moveTo>
                  <a:pt x="52" y="8"/>
                </a:moveTo>
                <a:lnTo>
                  <a:pt x="0" y="186"/>
                </a:lnTo>
                <a:lnTo>
                  <a:pt x="892" y="186"/>
                </a:lnTo>
                <a:lnTo>
                  <a:pt x="892" y="0"/>
                </a:lnTo>
                <a:lnTo>
                  <a:pt x="52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7" name=""/>
          <p:cNvGrpSpPr/>
          <p:nvPr/>
        </p:nvGrpSpPr>
        <p:grpSpPr>
          <a:xfrm>
            <a:off x="1192320" y="4551480"/>
            <a:ext cx="245880" cy="1444680"/>
            <a:chOff x="1192320" y="4551480"/>
            <a:chExt cx="245880" cy="1444680"/>
          </a:xfrm>
        </p:grpSpPr>
        <p:sp>
          <p:nvSpPr>
            <p:cNvPr id="7278" name=""/>
            <p:cNvSpPr/>
            <p:nvPr/>
          </p:nvSpPr>
          <p:spPr>
            <a:xfrm>
              <a:off x="14382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11923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11923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1" name=""/>
          <p:cNvGrpSpPr/>
          <p:nvPr/>
        </p:nvGrpSpPr>
        <p:grpSpPr>
          <a:xfrm>
            <a:off x="3571920" y="4551480"/>
            <a:ext cx="245880" cy="1444680"/>
            <a:chOff x="3571920" y="4551480"/>
            <a:chExt cx="245880" cy="1444680"/>
          </a:xfrm>
        </p:grpSpPr>
        <p:sp>
          <p:nvSpPr>
            <p:cNvPr id="7282" name=""/>
            <p:cNvSpPr/>
            <p:nvPr/>
          </p:nvSpPr>
          <p:spPr>
            <a:xfrm>
              <a:off x="38178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35719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35719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5" name=""/>
          <p:cNvGrpSpPr/>
          <p:nvPr/>
        </p:nvGrpSpPr>
        <p:grpSpPr>
          <a:xfrm>
            <a:off x="5951520" y="4518000"/>
            <a:ext cx="246240" cy="1444680"/>
            <a:chOff x="5951520" y="4518000"/>
            <a:chExt cx="246240" cy="1444680"/>
          </a:xfrm>
        </p:grpSpPr>
        <p:sp>
          <p:nvSpPr>
            <p:cNvPr id="7286" name=""/>
            <p:cNvSpPr/>
            <p:nvPr/>
          </p:nvSpPr>
          <p:spPr>
            <a:xfrm>
              <a:off x="6197760" y="451800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5951520" y="451800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5951520" y="595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9" name=""/>
          <p:cNvGrpSpPr/>
          <p:nvPr/>
        </p:nvGrpSpPr>
        <p:grpSpPr>
          <a:xfrm>
            <a:off x="7178760" y="4519440"/>
            <a:ext cx="245880" cy="1444680"/>
            <a:chOff x="7178760" y="4519440"/>
            <a:chExt cx="245880" cy="1444680"/>
          </a:xfrm>
        </p:grpSpPr>
        <p:sp>
          <p:nvSpPr>
            <p:cNvPr id="7290" name=""/>
            <p:cNvSpPr/>
            <p:nvPr/>
          </p:nvSpPr>
          <p:spPr>
            <a:xfrm>
              <a:off x="7424640" y="451944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7178760" y="451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7178760" y="59612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3" name=""/>
          <p:cNvGrpSpPr/>
          <p:nvPr/>
        </p:nvGrpSpPr>
        <p:grpSpPr>
          <a:xfrm>
            <a:off x="8223120" y="4562640"/>
            <a:ext cx="246240" cy="1444320"/>
            <a:chOff x="8223120" y="4562640"/>
            <a:chExt cx="246240" cy="1444320"/>
          </a:xfrm>
        </p:grpSpPr>
        <p:sp>
          <p:nvSpPr>
            <p:cNvPr id="7294" name=""/>
            <p:cNvSpPr/>
            <p:nvPr/>
          </p:nvSpPr>
          <p:spPr>
            <a:xfrm>
              <a:off x="8469360" y="4562640"/>
              <a:ext cx="0" cy="144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8223120" y="456264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8223120" y="600408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7" name=""/>
          <p:cNvSpPr txBox="1"/>
          <p:nvPr/>
        </p:nvSpPr>
        <p:spPr>
          <a:xfrm>
            <a:off x="884160" y="43894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8" name=""/>
          <p:cNvSpPr txBox="1"/>
          <p:nvPr/>
        </p:nvSpPr>
        <p:spPr>
          <a:xfrm>
            <a:off x="900000" y="58658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9" name=""/>
          <p:cNvSpPr txBox="1"/>
          <p:nvPr/>
        </p:nvSpPr>
        <p:spPr>
          <a:xfrm>
            <a:off x="329724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0" name=""/>
          <p:cNvSpPr txBox="1"/>
          <p:nvPr/>
        </p:nvSpPr>
        <p:spPr>
          <a:xfrm>
            <a:off x="3313080" y="58802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1" name=""/>
          <p:cNvSpPr txBox="1"/>
          <p:nvPr/>
        </p:nvSpPr>
        <p:spPr>
          <a:xfrm>
            <a:off x="5678640" y="43736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2" name=""/>
          <p:cNvSpPr txBox="1"/>
          <p:nvPr/>
        </p:nvSpPr>
        <p:spPr>
          <a:xfrm>
            <a:off x="5662440" y="58341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3" name=""/>
          <p:cNvSpPr txBox="1"/>
          <p:nvPr/>
        </p:nvSpPr>
        <p:spPr>
          <a:xfrm>
            <a:off x="6905520" y="43750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4" name=""/>
          <p:cNvSpPr txBox="1"/>
          <p:nvPr/>
        </p:nvSpPr>
        <p:spPr>
          <a:xfrm>
            <a:off x="6907320" y="58183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5" name=""/>
          <p:cNvSpPr txBox="1"/>
          <p:nvPr/>
        </p:nvSpPr>
        <p:spPr>
          <a:xfrm>
            <a:off x="795168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6" name=""/>
          <p:cNvSpPr txBox="1"/>
          <p:nvPr/>
        </p:nvSpPr>
        <p:spPr>
          <a:xfrm>
            <a:off x="7951680" y="586440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7" name=""/>
          <p:cNvSpPr/>
          <p:nvPr/>
        </p:nvSpPr>
        <p:spPr>
          <a:xfrm>
            <a:off x="6343560" y="4844880"/>
            <a:ext cx="2715840" cy="427320"/>
          </a:xfrm>
          <a:custGeom>
            <a:avLst/>
            <a:gdLst/>
            <a:ahLst/>
            <a:rect l="0" t="0" r="r" b="b"/>
            <a:pathLst>
              <a:path fill="none" w="7544" h="1187">
                <a:moveTo>
                  <a:pt x="7544" y="1187"/>
                </a:moveTo>
                <a:lnTo>
                  <a:pt x="7544" y="1187"/>
                </a:lnTo>
                <a:cubicBezTo>
                  <a:pt x="7367" y="1055"/>
                  <a:pt x="7111" y="929"/>
                  <a:pt x="6781" y="810"/>
                </a:cubicBezTo>
                <a:cubicBezTo>
                  <a:pt x="6094" y="564"/>
                  <a:pt x="5105" y="359"/>
                  <a:pt x="3915" y="217"/>
                </a:cubicBezTo>
                <a:cubicBezTo>
                  <a:pt x="2725" y="75"/>
                  <a:pt x="137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8" name=""/>
          <p:cNvSpPr/>
          <p:nvPr/>
        </p:nvSpPr>
        <p:spPr>
          <a:xfrm>
            <a:off x="6346440" y="5062680"/>
            <a:ext cx="2706120" cy="409320"/>
          </a:xfrm>
          <a:custGeom>
            <a:avLst/>
            <a:gdLst/>
            <a:ahLst/>
            <a:rect l="0" t="0" r="r" b="b"/>
            <a:pathLst>
              <a:path fill="none" w="7517" h="1137">
                <a:moveTo>
                  <a:pt x="7517" y="0"/>
                </a:moveTo>
                <a:lnTo>
                  <a:pt x="7517" y="0"/>
                </a:lnTo>
                <a:lnTo>
                  <a:pt x="7517" y="0"/>
                </a:lnTo>
                <a:cubicBezTo>
                  <a:pt x="6113" y="0"/>
                  <a:pt x="4734" y="80"/>
                  <a:pt x="3519" y="231"/>
                </a:cubicBezTo>
                <a:cubicBezTo>
                  <a:pt x="2303" y="383"/>
                  <a:pt x="1294" y="600"/>
                  <a:pt x="592" y="863"/>
                </a:cubicBezTo>
                <a:cubicBezTo>
                  <a:pt x="358" y="950"/>
                  <a:pt x="160" y="1042"/>
                  <a:pt x="0" y="11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9" name=""/>
          <p:cNvSpPr/>
          <p:nvPr/>
        </p:nvSpPr>
        <p:spPr>
          <a:xfrm>
            <a:off x="6610320" y="4676760"/>
            <a:ext cx="752760" cy="190800"/>
          </a:xfrm>
          <a:custGeom>
            <a:avLst/>
            <a:gdLst/>
            <a:ahLst/>
            <a:rect l="0" t="0" r="r" b="b"/>
            <a:pathLst>
              <a:path w="2091" h="530">
                <a:moveTo>
                  <a:pt x="0" y="424"/>
                </a:moveTo>
                <a:lnTo>
                  <a:pt x="66" y="0"/>
                </a:lnTo>
                <a:lnTo>
                  <a:pt x="2091" y="198"/>
                </a:lnTo>
                <a:lnTo>
                  <a:pt x="1945" y="530"/>
                </a:lnTo>
                <a:lnTo>
                  <a:pt x="0" y="424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0" name=""/>
          <p:cNvSpPr/>
          <p:nvPr/>
        </p:nvSpPr>
        <p:spPr>
          <a:xfrm>
            <a:off x="6405480" y="5662440"/>
            <a:ext cx="886320" cy="195480"/>
          </a:xfrm>
          <a:custGeom>
            <a:avLst/>
            <a:gdLst/>
            <a:ahLst/>
            <a:rect l="0" t="0" r="r" b="b"/>
            <a:pathLst>
              <a:path w="2462" h="543">
                <a:moveTo>
                  <a:pt x="2462" y="0"/>
                </a:moveTo>
                <a:lnTo>
                  <a:pt x="2171" y="490"/>
                </a:lnTo>
                <a:lnTo>
                  <a:pt x="0" y="543"/>
                </a:lnTo>
                <a:lnTo>
                  <a:pt x="251" y="92"/>
                </a:lnTo>
                <a:lnTo>
                  <a:pt x="2462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1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2" name=""/>
          <p:cNvSpPr txBox="1"/>
          <p:nvPr/>
        </p:nvSpPr>
        <p:spPr>
          <a:xfrm>
            <a:off x="2706840" y="1035000"/>
            <a:ext cx="33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3" name=""/>
          <p:cNvSpPr/>
          <p:nvPr/>
        </p:nvSpPr>
        <p:spPr>
          <a:xfrm>
            <a:off x="423720" y="4842000"/>
            <a:ext cx="6837480" cy="84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4" name=""/>
          <p:cNvSpPr/>
          <p:nvPr/>
        </p:nvSpPr>
        <p:spPr>
          <a:xfrm>
            <a:off x="995400" y="2955960"/>
            <a:ext cx="84456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5" name=""/>
          <p:cNvSpPr/>
          <p:nvPr/>
        </p:nvSpPr>
        <p:spPr>
          <a:xfrm>
            <a:off x="3035160" y="50720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6" name=""/>
          <p:cNvSpPr/>
          <p:nvPr/>
        </p:nvSpPr>
        <p:spPr>
          <a:xfrm>
            <a:off x="3051000" y="5454720"/>
            <a:ext cx="222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7" name=""/>
          <p:cNvSpPr/>
          <p:nvPr/>
        </p:nvSpPr>
        <p:spPr>
          <a:xfrm>
            <a:off x="5280120" y="53323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8" name=""/>
          <p:cNvSpPr/>
          <p:nvPr/>
        </p:nvSpPr>
        <p:spPr>
          <a:xfrm>
            <a:off x="5280120" y="49467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9" name=""/>
          <p:cNvSpPr/>
          <p:nvPr/>
        </p:nvSpPr>
        <p:spPr>
          <a:xfrm>
            <a:off x="5281560" y="50688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0" name=""/>
          <p:cNvSpPr/>
          <p:nvPr/>
        </p:nvSpPr>
        <p:spPr>
          <a:xfrm>
            <a:off x="5259240" y="54529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1" name=""/>
          <p:cNvSpPr/>
          <p:nvPr/>
        </p:nvSpPr>
        <p:spPr>
          <a:xfrm>
            <a:off x="5261040" y="55641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2" name=""/>
          <p:cNvSpPr/>
          <p:nvPr/>
        </p:nvSpPr>
        <p:spPr>
          <a:xfrm>
            <a:off x="5280120" y="48402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3" name=""/>
          <p:cNvSpPr/>
          <p:nvPr/>
        </p:nvSpPr>
        <p:spPr>
          <a:xfrm>
            <a:off x="2645280" y="4852080"/>
            <a:ext cx="398520" cy="220320"/>
          </a:xfrm>
          <a:custGeom>
            <a:avLst/>
            <a:gdLst/>
            <a:ahLst/>
            <a:rect l="0" t="0" r="r" b="b"/>
            <a:pathLst>
              <a:path fill="none" w="1107" h="612">
                <a:moveTo>
                  <a:pt x="0" y="0"/>
                </a:moveTo>
                <a:lnTo>
                  <a:pt x="0" y="0"/>
                </a:lnTo>
                <a:cubicBezTo>
                  <a:pt x="16" y="96"/>
                  <a:pt x="65" y="189"/>
                  <a:pt x="144" y="272"/>
                </a:cubicBezTo>
                <a:cubicBezTo>
                  <a:pt x="241" y="375"/>
                  <a:pt x="382" y="461"/>
                  <a:pt x="551" y="521"/>
                </a:cubicBezTo>
                <a:cubicBezTo>
                  <a:pt x="720" y="581"/>
                  <a:pt x="912" y="612"/>
                  <a:pt x="1107" y="61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4" name=""/>
          <p:cNvSpPr/>
          <p:nvPr/>
        </p:nvSpPr>
        <p:spPr>
          <a:xfrm>
            <a:off x="2658960" y="5481720"/>
            <a:ext cx="398160" cy="219240"/>
          </a:xfrm>
          <a:custGeom>
            <a:avLst/>
            <a:gdLst/>
            <a:ahLst/>
            <a:rect l="0" t="0" r="r" b="b"/>
            <a:pathLst>
              <a:path fill="none" w="1106" h="609">
                <a:moveTo>
                  <a:pt x="0" y="609"/>
                </a:moveTo>
                <a:lnTo>
                  <a:pt x="0" y="609"/>
                </a:lnTo>
                <a:lnTo>
                  <a:pt x="0" y="609"/>
                </a:lnTo>
                <a:cubicBezTo>
                  <a:pt x="195" y="609"/>
                  <a:pt x="387" y="578"/>
                  <a:pt x="556" y="518"/>
                </a:cubicBezTo>
                <a:cubicBezTo>
                  <a:pt x="725" y="458"/>
                  <a:pt x="866" y="372"/>
                  <a:pt x="963" y="269"/>
                </a:cubicBezTo>
                <a:cubicBezTo>
                  <a:pt x="1041" y="186"/>
                  <a:pt x="1090" y="95"/>
                  <a:pt x="110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5" name=""/>
          <p:cNvSpPr/>
          <p:nvPr/>
        </p:nvSpPr>
        <p:spPr>
          <a:xfrm>
            <a:off x="7224840" y="489600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6" name=""/>
          <p:cNvSpPr/>
          <p:nvPr/>
        </p:nvSpPr>
        <p:spPr>
          <a:xfrm>
            <a:off x="6624720" y="563076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7" name=""/>
          <p:cNvSpPr/>
          <p:nvPr/>
        </p:nvSpPr>
        <p:spPr>
          <a:xfrm>
            <a:off x="5557680" y="5272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8" name=""/>
          <p:cNvSpPr/>
          <p:nvPr/>
        </p:nvSpPr>
        <p:spPr>
          <a:xfrm>
            <a:off x="7043760" y="527220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9" name=""/>
          <p:cNvSpPr/>
          <p:nvPr/>
        </p:nvSpPr>
        <p:spPr>
          <a:xfrm>
            <a:off x="7215120" y="527220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0" name=""/>
          <p:cNvSpPr/>
          <p:nvPr/>
        </p:nvSpPr>
        <p:spPr>
          <a:xfrm flipV="1">
            <a:off x="442800" y="4843440"/>
            <a:ext cx="81468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1" name=""/>
          <p:cNvSpPr/>
          <p:nvPr/>
        </p:nvSpPr>
        <p:spPr>
          <a:xfrm>
            <a:off x="414360" y="4836960"/>
            <a:ext cx="829080" cy="829080"/>
          </a:xfrm>
          <a:custGeom>
            <a:avLst/>
            <a:gdLst/>
            <a:ahLst/>
            <a:rect l="0" t="0" r="r" b="b"/>
            <a:pathLst>
              <a:path w="2303" h="2303">
                <a:moveTo>
                  <a:pt x="0" y="0"/>
                </a:moveTo>
                <a:lnTo>
                  <a:pt x="0" y="2303"/>
                </a:lnTo>
                <a:lnTo>
                  <a:pt x="2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2" name=""/>
          <p:cNvSpPr/>
          <p:nvPr/>
        </p:nvSpPr>
        <p:spPr>
          <a:xfrm>
            <a:off x="4325760" y="4848120"/>
            <a:ext cx="170280" cy="824400"/>
          </a:xfrm>
          <a:custGeom>
            <a:avLst/>
            <a:gdLst/>
            <a:ahLst/>
            <a:rect l="0" t="0" r="r" b="b"/>
            <a:pathLst>
              <a:path fill="none" w="473" h="2290">
                <a:moveTo>
                  <a:pt x="376" y="0"/>
                </a:moveTo>
                <a:lnTo>
                  <a:pt x="385" y="110"/>
                </a:lnTo>
                <a:lnTo>
                  <a:pt x="473" y="238"/>
                </a:lnTo>
                <a:lnTo>
                  <a:pt x="473" y="366"/>
                </a:lnTo>
                <a:lnTo>
                  <a:pt x="473" y="493"/>
                </a:lnTo>
                <a:lnTo>
                  <a:pt x="385" y="622"/>
                </a:lnTo>
                <a:lnTo>
                  <a:pt x="300" y="755"/>
                </a:lnTo>
                <a:lnTo>
                  <a:pt x="256" y="922"/>
                </a:lnTo>
                <a:lnTo>
                  <a:pt x="217" y="1050"/>
                </a:lnTo>
                <a:lnTo>
                  <a:pt x="217" y="1266"/>
                </a:lnTo>
                <a:lnTo>
                  <a:pt x="217" y="1394"/>
                </a:lnTo>
                <a:lnTo>
                  <a:pt x="128" y="1522"/>
                </a:lnTo>
                <a:lnTo>
                  <a:pt x="88" y="1650"/>
                </a:lnTo>
                <a:lnTo>
                  <a:pt x="44" y="1779"/>
                </a:lnTo>
                <a:lnTo>
                  <a:pt x="44" y="1907"/>
                </a:lnTo>
                <a:lnTo>
                  <a:pt x="44" y="2034"/>
                </a:lnTo>
                <a:lnTo>
                  <a:pt x="44" y="2162"/>
                </a:lnTo>
                <a:lnTo>
                  <a:pt x="0" y="229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3" name=""/>
          <p:cNvSpPr/>
          <p:nvPr/>
        </p:nvSpPr>
        <p:spPr>
          <a:xfrm>
            <a:off x="4648320" y="4851360"/>
            <a:ext cx="138600" cy="814680"/>
          </a:xfrm>
          <a:custGeom>
            <a:avLst/>
            <a:gdLst/>
            <a:ahLst/>
            <a:rect l="0" t="0" r="r" b="b"/>
            <a:pathLst>
              <a:path fill="none" w="385" h="2263">
                <a:moveTo>
                  <a:pt x="301" y="0"/>
                </a:moveTo>
                <a:lnTo>
                  <a:pt x="345" y="127"/>
                </a:lnTo>
                <a:lnTo>
                  <a:pt x="345" y="255"/>
                </a:lnTo>
                <a:lnTo>
                  <a:pt x="385" y="383"/>
                </a:lnTo>
                <a:lnTo>
                  <a:pt x="385" y="511"/>
                </a:lnTo>
                <a:lnTo>
                  <a:pt x="345" y="639"/>
                </a:lnTo>
                <a:lnTo>
                  <a:pt x="345" y="771"/>
                </a:lnTo>
                <a:lnTo>
                  <a:pt x="345" y="899"/>
                </a:lnTo>
                <a:lnTo>
                  <a:pt x="301" y="1027"/>
                </a:lnTo>
                <a:lnTo>
                  <a:pt x="256" y="1156"/>
                </a:lnTo>
                <a:lnTo>
                  <a:pt x="217" y="1284"/>
                </a:lnTo>
                <a:lnTo>
                  <a:pt x="172" y="1412"/>
                </a:lnTo>
                <a:lnTo>
                  <a:pt x="128" y="1539"/>
                </a:lnTo>
                <a:lnTo>
                  <a:pt x="128" y="1751"/>
                </a:lnTo>
                <a:lnTo>
                  <a:pt x="88" y="1879"/>
                </a:lnTo>
                <a:lnTo>
                  <a:pt x="44" y="2007"/>
                </a:lnTo>
                <a:lnTo>
                  <a:pt x="0" y="2135"/>
                </a:lnTo>
                <a:lnTo>
                  <a:pt x="0" y="226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4" name=""/>
          <p:cNvSpPr/>
          <p:nvPr/>
        </p:nvSpPr>
        <p:spPr>
          <a:xfrm>
            <a:off x="4470480" y="480708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5" name=""/>
          <p:cNvSpPr/>
          <p:nvPr/>
        </p:nvSpPr>
        <p:spPr>
          <a:xfrm>
            <a:off x="4460760" y="5048280"/>
            <a:ext cx="311400" cy="44640"/>
          </a:xfrm>
          <a:custGeom>
            <a:avLst/>
            <a:gdLst/>
            <a:ahLst/>
            <a:rect l="0" t="0" r="r" b="b"/>
            <a:pathLst>
              <a:path w="865" h="124">
                <a:moveTo>
                  <a:pt x="79" y="8"/>
                </a:moveTo>
                <a:lnTo>
                  <a:pt x="0" y="124"/>
                </a:lnTo>
                <a:lnTo>
                  <a:pt x="830" y="115"/>
                </a:lnTo>
                <a:lnTo>
                  <a:pt x="865" y="0"/>
                </a:lnTo>
                <a:lnTo>
                  <a:pt x="79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6" name=""/>
          <p:cNvSpPr/>
          <p:nvPr/>
        </p:nvSpPr>
        <p:spPr>
          <a:xfrm>
            <a:off x="4359240" y="5423040"/>
            <a:ext cx="327240" cy="51120"/>
          </a:xfrm>
          <a:custGeom>
            <a:avLst/>
            <a:gdLst/>
            <a:ahLst/>
            <a:rect l="0" t="0" r="r" b="b"/>
            <a:pathLst>
              <a:path w="909" h="142">
                <a:moveTo>
                  <a:pt x="44" y="0"/>
                </a:moveTo>
                <a:lnTo>
                  <a:pt x="0" y="106"/>
                </a:lnTo>
                <a:lnTo>
                  <a:pt x="909" y="142"/>
                </a:lnTo>
                <a:lnTo>
                  <a:pt x="909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7" name=""/>
          <p:cNvSpPr/>
          <p:nvPr/>
        </p:nvSpPr>
        <p:spPr>
          <a:xfrm>
            <a:off x="4314960" y="5654520"/>
            <a:ext cx="321120" cy="66960"/>
          </a:xfrm>
          <a:custGeom>
            <a:avLst/>
            <a:gdLst/>
            <a:ahLst/>
            <a:rect l="0" t="0" r="r" b="b"/>
            <a:pathLst>
              <a:path w="892" h="186">
                <a:moveTo>
                  <a:pt x="52" y="8"/>
                </a:moveTo>
                <a:lnTo>
                  <a:pt x="0" y="186"/>
                </a:lnTo>
                <a:lnTo>
                  <a:pt x="892" y="186"/>
                </a:lnTo>
                <a:lnTo>
                  <a:pt x="892" y="0"/>
                </a:lnTo>
                <a:lnTo>
                  <a:pt x="52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8" name=""/>
          <p:cNvGrpSpPr/>
          <p:nvPr/>
        </p:nvGrpSpPr>
        <p:grpSpPr>
          <a:xfrm>
            <a:off x="1192320" y="4551480"/>
            <a:ext cx="245880" cy="1444680"/>
            <a:chOff x="1192320" y="4551480"/>
            <a:chExt cx="245880" cy="1444680"/>
          </a:xfrm>
        </p:grpSpPr>
        <p:sp>
          <p:nvSpPr>
            <p:cNvPr id="7339" name=""/>
            <p:cNvSpPr/>
            <p:nvPr/>
          </p:nvSpPr>
          <p:spPr>
            <a:xfrm>
              <a:off x="14382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11923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11923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42" name=""/>
          <p:cNvGrpSpPr/>
          <p:nvPr/>
        </p:nvGrpSpPr>
        <p:grpSpPr>
          <a:xfrm>
            <a:off x="3571920" y="4551480"/>
            <a:ext cx="245880" cy="1444680"/>
            <a:chOff x="3571920" y="4551480"/>
            <a:chExt cx="245880" cy="1444680"/>
          </a:xfrm>
        </p:grpSpPr>
        <p:sp>
          <p:nvSpPr>
            <p:cNvPr id="7343" name=""/>
            <p:cNvSpPr/>
            <p:nvPr/>
          </p:nvSpPr>
          <p:spPr>
            <a:xfrm>
              <a:off x="38178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35719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35719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46" name=""/>
          <p:cNvGrpSpPr/>
          <p:nvPr/>
        </p:nvGrpSpPr>
        <p:grpSpPr>
          <a:xfrm>
            <a:off x="5951520" y="4518000"/>
            <a:ext cx="246240" cy="1444680"/>
            <a:chOff x="5951520" y="4518000"/>
            <a:chExt cx="246240" cy="1444680"/>
          </a:xfrm>
        </p:grpSpPr>
        <p:sp>
          <p:nvSpPr>
            <p:cNvPr id="7347" name=""/>
            <p:cNvSpPr/>
            <p:nvPr/>
          </p:nvSpPr>
          <p:spPr>
            <a:xfrm>
              <a:off x="6197760" y="451800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5951520" y="451800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5951520" y="595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0" name=""/>
          <p:cNvGrpSpPr/>
          <p:nvPr/>
        </p:nvGrpSpPr>
        <p:grpSpPr>
          <a:xfrm>
            <a:off x="7178760" y="4519440"/>
            <a:ext cx="245880" cy="1444680"/>
            <a:chOff x="7178760" y="4519440"/>
            <a:chExt cx="245880" cy="1444680"/>
          </a:xfrm>
        </p:grpSpPr>
        <p:sp>
          <p:nvSpPr>
            <p:cNvPr id="7351" name=""/>
            <p:cNvSpPr/>
            <p:nvPr/>
          </p:nvSpPr>
          <p:spPr>
            <a:xfrm>
              <a:off x="7424640" y="451944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7178760" y="451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7178760" y="59612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4" name=""/>
          <p:cNvGrpSpPr/>
          <p:nvPr/>
        </p:nvGrpSpPr>
        <p:grpSpPr>
          <a:xfrm>
            <a:off x="8223120" y="4562640"/>
            <a:ext cx="246240" cy="1444320"/>
            <a:chOff x="8223120" y="4562640"/>
            <a:chExt cx="246240" cy="1444320"/>
          </a:xfrm>
        </p:grpSpPr>
        <p:sp>
          <p:nvSpPr>
            <p:cNvPr id="7355" name=""/>
            <p:cNvSpPr/>
            <p:nvPr/>
          </p:nvSpPr>
          <p:spPr>
            <a:xfrm>
              <a:off x="8469360" y="4562640"/>
              <a:ext cx="0" cy="144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8223120" y="456264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8223120" y="600408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8" name=""/>
          <p:cNvSpPr txBox="1"/>
          <p:nvPr/>
        </p:nvSpPr>
        <p:spPr>
          <a:xfrm>
            <a:off x="849240" y="386388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9" name=""/>
          <p:cNvSpPr txBox="1"/>
          <p:nvPr/>
        </p:nvSpPr>
        <p:spPr>
          <a:xfrm>
            <a:off x="1477800" y="3841920"/>
            <a:ext cx="54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0" name=""/>
          <p:cNvSpPr txBox="1"/>
          <p:nvPr/>
        </p:nvSpPr>
        <p:spPr>
          <a:xfrm>
            <a:off x="884160" y="43894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1" name=""/>
          <p:cNvSpPr txBox="1"/>
          <p:nvPr/>
        </p:nvSpPr>
        <p:spPr>
          <a:xfrm>
            <a:off x="900000" y="58658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2" name=""/>
          <p:cNvSpPr txBox="1"/>
          <p:nvPr/>
        </p:nvSpPr>
        <p:spPr>
          <a:xfrm>
            <a:off x="329724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3" name=""/>
          <p:cNvSpPr txBox="1"/>
          <p:nvPr/>
        </p:nvSpPr>
        <p:spPr>
          <a:xfrm>
            <a:off x="3313080" y="58802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4" name=""/>
          <p:cNvSpPr txBox="1"/>
          <p:nvPr/>
        </p:nvSpPr>
        <p:spPr>
          <a:xfrm>
            <a:off x="5678640" y="43736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5" name=""/>
          <p:cNvSpPr txBox="1"/>
          <p:nvPr/>
        </p:nvSpPr>
        <p:spPr>
          <a:xfrm>
            <a:off x="5662440" y="58341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6" name=""/>
          <p:cNvSpPr txBox="1"/>
          <p:nvPr/>
        </p:nvSpPr>
        <p:spPr>
          <a:xfrm>
            <a:off x="6905520" y="43750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7" name=""/>
          <p:cNvSpPr txBox="1"/>
          <p:nvPr/>
        </p:nvSpPr>
        <p:spPr>
          <a:xfrm>
            <a:off x="6907320" y="58183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8" name=""/>
          <p:cNvSpPr txBox="1"/>
          <p:nvPr/>
        </p:nvSpPr>
        <p:spPr>
          <a:xfrm>
            <a:off x="795168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9" name=""/>
          <p:cNvSpPr txBox="1"/>
          <p:nvPr/>
        </p:nvSpPr>
        <p:spPr>
          <a:xfrm>
            <a:off x="7951680" y="586440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0" name=""/>
          <p:cNvSpPr/>
          <p:nvPr/>
        </p:nvSpPr>
        <p:spPr>
          <a:xfrm>
            <a:off x="6343560" y="4844880"/>
            <a:ext cx="2715840" cy="427320"/>
          </a:xfrm>
          <a:custGeom>
            <a:avLst/>
            <a:gdLst/>
            <a:ahLst/>
            <a:rect l="0" t="0" r="r" b="b"/>
            <a:pathLst>
              <a:path fill="none" w="7544" h="1187">
                <a:moveTo>
                  <a:pt x="7544" y="1187"/>
                </a:moveTo>
                <a:lnTo>
                  <a:pt x="7544" y="1187"/>
                </a:lnTo>
                <a:cubicBezTo>
                  <a:pt x="7367" y="1055"/>
                  <a:pt x="7111" y="929"/>
                  <a:pt x="6781" y="810"/>
                </a:cubicBezTo>
                <a:cubicBezTo>
                  <a:pt x="6094" y="564"/>
                  <a:pt x="5105" y="359"/>
                  <a:pt x="3915" y="217"/>
                </a:cubicBezTo>
                <a:cubicBezTo>
                  <a:pt x="2725" y="75"/>
                  <a:pt x="137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1" name=""/>
          <p:cNvSpPr/>
          <p:nvPr/>
        </p:nvSpPr>
        <p:spPr>
          <a:xfrm>
            <a:off x="6346440" y="5062680"/>
            <a:ext cx="2706120" cy="409320"/>
          </a:xfrm>
          <a:custGeom>
            <a:avLst/>
            <a:gdLst/>
            <a:ahLst/>
            <a:rect l="0" t="0" r="r" b="b"/>
            <a:pathLst>
              <a:path fill="none" w="7517" h="1137">
                <a:moveTo>
                  <a:pt x="7517" y="0"/>
                </a:moveTo>
                <a:lnTo>
                  <a:pt x="7517" y="0"/>
                </a:lnTo>
                <a:lnTo>
                  <a:pt x="7517" y="0"/>
                </a:lnTo>
                <a:cubicBezTo>
                  <a:pt x="6113" y="0"/>
                  <a:pt x="4734" y="80"/>
                  <a:pt x="3519" y="231"/>
                </a:cubicBezTo>
                <a:cubicBezTo>
                  <a:pt x="2303" y="383"/>
                  <a:pt x="1294" y="600"/>
                  <a:pt x="592" y="863"/>
                </a:cubicBezTo>
                <a:cubicBezTo>
                  <a:pt x="358" y="950"/>
                  <a:pt x="160" y="1042"/>
                  <a:pt x="0" y="11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2" name=""/>
          <p:cNvSpPr/>
          <p:nvPr/>
        </p:nvSpPr>
        <p:spPr>
          <a:xfrm>
            <a:off x="6610320" y="4676760"/>
            <a:ext cx="752760" cy="190800"/>
          </a:xfrm>
          <a:custGeom>
            <a:avLst/>
            <a:gdLst/>
            <a:ahLst/>
            <a:rect l="0" t="0" r="r" b="b"/>
            <a:pathLst>
              <a:path w="2091" h="530">
                <a:moveTo>
                  <a:pt x="0" y="424"/>
                </a:moveTo>
                <a:lnTo>
                  <a:pt x="66" y="0"/>
                </a:lnTo>
                <a:lnTo>
                  <a:pt x="2091" y="198"/>
                </a:lnTo>
                <a:lnTo>
                  <a:pt x="1945" y="530"/>
                </a:lnTo>
                <a:lnTo>
                  <a:pt x="0" y="424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3" name=""/>
          <p:cNvSpPr/>
          <p:nvPr/>
        </p:nvSpPr>
        <p:spPr>
          <a:xfrm>
            <a:off x="6405480" y="5662440"/>
            <a:ext cx="886320" cy="195480"/>
          </a:xfrm>
          <a:custGeom>
            <a:avLst/>
            <a:gdLst/>
            <a:ahLst/>
            <a:rect l="0" t="0" r="r" b="b"/>
            <a:pathLst>
              <a:path w="2462" h="543">
                <a:moveTo>
                  <a:pt x="2462" y="0"/>
                </a:moveTo>
                <a:lnTo>
                  <a:pt x="2171" y="490"/>
                </a:lnTo>
                <a:lnTo>
                  <a:pt x="0" y="543"/>
                </a:lnTo>
                <a:lnTo>
                  <a:pt x="251" y="92"/>
                </a:lnTo>
                <a:lnTo>
                  <a:pt x="2462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4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5" name=""/>
          <p:cNvSpPr txBox="1"/>
          <p:nvPr/>
        </p:nvSpPr>
        <p:spPr>
          <a:xfrm>
            <a:off x="2706840" y="1035000"/>
            <a:ext cx="33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6" name=""/>
          <p:cNvSpPr/>
          <p:nvPr/>
        </p:nvSpPr>
        <p:spPr>
          <a:xfrm>
            <a:off x="423720" y="4842000"/>
            <a:ext cx="6837480" cy="84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7" name=""/>
          <p:cNvSpPr/>
          <p:nvPr/>
        </p:nvSpPr>
        <p:spPr>
          <a:xfrm>
            <a:off x="995400" y="2955960"/>
            <a:ext cx="84456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8" name=""/>
          <p:cNvSpPr/>
          <p:nvPr/>
        </p:nvSpPr>
        <p:spPr>
          <a:xfrm>
            <a:off x="3035160" y="50720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9" name=""/>
          <p:cNvSpPr/>
          <p:nvPr/>
        </p:nvSpPr>
        <p:spPr>
          <a:xfrm>
            <a:off x="3051000" y="5454720"/>
            <a:ext cx="222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0" name=""/>
          <p:cNvSpPr/>
          <p:nvPr/>
        </p:nvSpPr>
        <p:spPr>
          <a:xfrm>
            <a:off x="5280120" y="53323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1" name=""/>
          <p:cNvSpPr/>
          <p:nvPr/>
        </p:nvSpPr>
        <p:spPr>
          <a:xfrm>
            <a:off x="5280120" y="49467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2" name=""/>
          <p:cNvSpPr/>
          <p:nvPr/>
        </p:nvSpPr>
        <p:spPr>
          <a:xfrm>
            <a:off x="5281560" y="50688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3" name=""/>
          <p:cNvSpPr/>
          <p:nvPr/>
        </p:nvSpPr>
        <p:spPr>
          <a:xfrm>
            <a:off x="5259240" y="54529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4" name=""/>
          <p:cNvSpPr/>
          <p:nvPr/>
        </p:nvSpPr>
        <p:spPr>
          <a:xfrm>
            <a:off x="5261040" y="55641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5" name=""/>
          <p:cNvSpPr/>
          <p:nvPr/>
        </p:nvSpPr>
        <p:spPr>
          <a:xfrm>
            <a:off x="5280120" y="48402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6" name=""/>
          <p:cNvSpPr/>
          <p:nvPr/>
        </p:nvSpPr>
        <p:spPr>
          <a:xfrm>
            <a:off x="2645280" y="4852080"/>
            <a:ext cx="398520" cy="220320"/>
          </a:xfrm>
          <a:custGeom>
            <a:avLst/>
            <a:gdLst/>
            <a:ahLst/>
            <a:rect l="0" t="0" r="r" b="b"/>
            <a:pathLst>
              <a:path fill="none" w="1107" h="612">
                <a:moveTo>
                  <a:pt x="0" y="0"/>
                </a:moveTo>
                <a:lnTo>
                  <a:pt x="0" y="0"/>
                </a:lnTo>
                <a:cubicBezTo>
                  <a:pt x="16" y="96"/>
                  <a:pt x="65" y="189"/>
                  <a:pt x="144" y="272"/>
                </a:cubicBezTo>
                <a:cubicBezTo>
                  <a:pt x="241" y="375"/>
                  <a:pt x="382" y="461"/>
                  <a:pt x="551" y="521"/>
                </a:cubicBezTo>
                <a:cubicBezTo>
                  <a:pt x="720" y="581"/>
                  <a:pt x="912" y="612"/>
                  <a:pt x="1107" y="61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7" name=""/>
          <p:cNvSpPr/>
          <p:nvPr/>
        </p:nvSpPr>
        <p:spPr>
          <a:xfrm>
            <a:off x="2658960" y="5481720"/>
            <a:ext cx="398160" cy="219240"/>
          </a:xfrm>
          <a:custGeom>
            <a:avLst/>
            <a:gdLst/>
            <a:ahLst/>
            <a:rect l="0" t="0" r="r" b="b"/>
            <a:pathLst>
              <a:path fill="none" w="1106" h="609">
                <a:moveTo>
                  <a:pt x="0" y="609"/>
                </a:moveTo>
                <a:lnTo>
                  <a:pt x="0" y="609"/>
                </a:lnTo>
                <a:lnTo>
                  <a:pt x="0" y="609"/>
                </a:lnTo>
                <a:cubicBezTo>
                  <a:pt x="195" y="609"/>
                  <a:pt x="387" y="578"/>
                  <a:pt x="556" y="518"/>
                </a:cubicBezTo>
                <a:cubicBezTo>
                  <a:pt x="725" y="458"/>
                  <a:pt x="866" y="372"/>
                  <a:pt x="963" y="269"/>
                </a:cubicBezTo>
                <a:cubicBezTo>
                  <a:pt x="1041" y="186"/>
                  <a:pt x="1090" y="95"/>
                  <a:pt x="110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8" name=""/>
          <p:cNvSpPr/>
          <p:nvPr/>
        </p:nvSpPr>
        <p:spPr>
          <a:xfrm>
            <a:off x="7224840" y="489600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9" name=""/>
          <p:cNvSpPr/>
          <p:nvPr/>
        </p:nvSpPr>
        <p:spPr>
          <a:xfrm>
            <a:off x="6624720" y="563076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0" name=""/>
          <p:cNvSpPr/>
          <p:nvPr/>
        </p:nvSpPr>
        <p:spPr>
          <a:xfrm>
            <a:off x="5557680" y="5272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1" name=""/>
          <p:cNvSpPr/>
          <p:nvPr/>
        </p:nvSpPr>
        <p:spPr>
          <a:xfrm>
            <a:off x="7043760" y="527220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2" name=""/>
          <p:cNvSpPr/>
          <p:nvPr/>
        </p:nvSpPr>
        <p:spPr>
          <a:xfrm>
            <a:off x="7215120" y="527220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3" name=""/>
          <p:cNvSpPr/>
          <p:nvPr/>
        </p:nvSpPr>
        <p:spPr>
          <a:xfrm flipV="1">
            <a:off x="442800" y="4843440"/>
            <a:ext cx="81468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4" name=""/>
          <p:cNvSpPr/>
          <p:nvPr/>
        </p:nvSpPr>
        <p:spPr>
          <a:xfrm>
            <a:off x="414360" y="4836960"/>
            <a:ext cx="829080" cy="829080"/>
          </a:xfrm>
          <a:custGeom>
            <a:avLst/>
            <a:gdLst/>
            <a:ahLst/>
            <a:rect l="0" t="0" r="r" b="b"/>
            <a:pathLst>
              <a:path w="2303" h="2303">
                <a:moveTo>
                  <a:pt x="0" y="0"/>
                </a:moveTo>
                <a:lnTo>
                  <a:pt x="0" y="2303"/>
                </a:lnTo>
                <a:lnTo>
                  <a:pt x="2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5" name=""/>
          <p:cNvSpPr/>
          <p:nvPr/>
        </p:nvSpPr>
        <p:spPr>
          <a:xfrm>
            <a:off x="4325760" y="4848120"/>
            <a:ext cx="170280" cy="824400"/>
          </a:xfrm>
          <a:custGeom>
            <a:avLst/>
            <a:gdLst/>
            <a:ahLst/>
            <a:rect l="0" t="0" r="r" b="b"/>
            <a:pathLst>
              <a:path fill="none" w="473" h="2290">
                <a:moveTo>
                  <a:pt x="376" y="0"/>
                </a:moveTo>
                <a:lnTo>
                  <a:pt x="385" y="110"/>
                </a:lnTo>
                <a:lnTo>
                  <a:pt x="473" y="238"/>
                </a:lnTo>
                <a:lnTo>
                  <a:pt x="473" y="366"/>
                </a:lnTo>
                <a:lnTo>
                  <a:pt x="473" y="493"/>
                </a:lnTo>
                <a:lnTo>
                  <a:pt x="385" y="622"/>
                </a:lnTo>
                <a:lnTo>
                  <a:pt x="300" y="755"/>
                </a:lnTo>
                <a:lnTo>
                  <a:pt x="256" y="922"/>
                </a:lnTo>
                <a:lnTo>
                  <a:pt x="217" y="1050"/>
                </a:lnTo>
                <a:lnTo>
                  <a:pt x="217" y="1266"/>
                </a:lnTo>
                <a:lnTo>
                  <a:pt x="217" y="1394"/>
                </a:lnTo>
                <a:lnTo>
                  <a:pt x="128" y="1522"/>
                </a:lnTo>
                <a:lnTo>
                  <a:pt x="88" y="1650"/>
                </a:lnTo>
                <a:lnTo>
                  <a:pt x="44" y="1779"/>
                </a:lnTo>
                <a:lnTo>
                  <a:pt x="44" y="1907"/>
                </a:lnTo>
                <a:lnTo>
                  <a:pt x="44" y="2034"/>
                </a:lnTo>
                <a:lnTo>
                  <a:pt x="44" y="2162"/>
                </a:lnTo>
                <a:lnTo>
                  <a:pt x="0" y="229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6" name=""/>
          <p:cNvSpPr/>
          <p:nvPr/>
        </p:nvSpPr>
        <p:spPr>
          <a:xfrm>
            <a:off x="4648320" y="4851360"/>
            <a:ext cx="138600" cy="814680"/>
          </a:xfrm>
          <a:custGeom>
            <a:avLst/>
            <a:gdLst/>
            <a:ahLst/>
            <a:rect l="0" t="0" r="r" b="b"/>
            <a:pathLst>
              <a:path fill="none" w="385" h="2263">
                <a:moveTo>
                  <a:pt x="301" y="0"/>
                </a:moveTo>
                <a:lnTo>
                  <a:pt x="345" y="127"/>
                </a:lnTo>
                <a:lnTo>
                  <a:pt x="345" y="255"/>
                </a:lnTo>
                <a:lnTo>
                  <a:pt x="385" y="383"/>
                </a:lnTo>
                <a:lnTo>
                  <a:pt x="385" y="511"/>
                </a:lnTo>
                <a:lnTo>
                  <a:pt x="345" y="639"/>
                </a:lnTo>
                <a:lnTo>
                  <a:pt x="345" y="771"/>
                </a:lnTo>
                <a:lnTo>
                  <a:pt x="345" y="899"/>
                </a:lnTo>
                <a:lnTo>
                  <a:pt x="301" y="1027"/>
                </a:lnTo>
                <a:lnTo>
                  <a:pt x="256" y="1156"/>
                </a:lnTo>
                <a:lnTo>
                  <a:pt x="217" y="1284"/>
                </a:lnTo>
                <a:lnTo>
                  <a:pt x="172" y="1412"/>
                </a:lnTo>
                <a:lnTo>
                  <a:pt x="128" y="1539"/>
                </a:lnTo>
                <a:lnTo>
                  <a:pt x="128" y="1751"/>
                </a:lnTo>
                <a:lnTo>
                  <a:pt x="88" y="1879"/>
                </a:lnTo>
                <a:lnTo>
                  <a:pt x="44" y="2007"/>
                </a:lnTo>
                <a:lnTo>
                  <a:pt x="0" y="2135"/>
                </a:lnTo>
                <a:lnTo>
                  <a:pt x="0" y="226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7" name=""/>
          <p:cNvSpPr/>
          <p:nvPr/>
        </p:nvSpPr>
        <p:spPr>
          <a:xfrm>
            <a:off x="4470480" y="480708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8" name=""/>
          <p:cNvSpPr/>
          <p:nvPr/>
        </p:nvSpPr>
        <p:spPr>
          <a:xfrm>
            <a:off x="4460760" y="5048280"/>
            <a:ext cx="311400" cy="44640"/>
          </a:xfrm>
          <a:custGeom>
            <a:avLst/>
            <a:gdLst/>
            <a:ahLst/>
            <a:rect l="0" t="0" r="r" b="b"/>
            <a:pathLst>
              <a:path w="865" h="124">
                <a:moveTo>
                  <a:pt x="79" y="8"/>
                </a:moveTo>
                <a:lnTo>
                  <a:pt x="0" y="124"/>
                </a:lnTo>
                <a:lnTo>
                  <a:pt x="830" y="115"/>
                </a:lnTo>
                <a:lnTo>
                  <a:pt x="865" y="0"/>
                </a:lnTo>
                <a:lnTo>
                  <a:pt x="79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9" name=""/>
          <p:cNvSpPr/>
          <p:nvPr/>
        </p:nvSpPr>
        <p:spPr>
          <a:xfrm>
            <a:off x="4359240" y="5423040"/>
            <a:ext cx="327240" cy="51120"/>
          </a:xfrm>
          <a:custGeom>
            <a:avLst/>
            <a:gdLst/>
            <a:ahLst/>
            <a:rect l="0" t="0" r="r" b="b"/>
            <a:pathLst>
              <a:path w="909" h="142">
                <a:moveTo>
                  <a:pt x="44" y="0"/>
                </a:moveTo>
                <a:lnTo>
                  <a:pt x="0" y="106"/>
                </a:lnTo>
                <a:lnTo>
                  <a:pt x="909" y="142"/>
                </a:lnTo>
                <a:lnTo>
                  <a:pt x="909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0" name=""/>
          <p:cNvSpPr/>
          <p:nvPr/>
        </p:nvSpPr>
        <p:spPr>
          <a:xfrm>
            <a:off x="4314960" y="5654520"/>
            <a:ext cx="321120" cy="66960"/>
          </a:xfrm>
          <a:custGeom>
            <a:avLst/>
            <a:gdLst/>
            <a:ahLst/>
            <a:rect l="0" t="0" r="r" b="b"/>
            <a:pathLst>
              <a:path w="892" h="186">
                <a:moveTo>
                  <a:pt x="52" y="8"/>
                </a:moveTo>
                <a:lnTo>
                  <a:pt x="0" y="186"/>
                </a:lnTo>
                <a:lnTo>
                  <a:pt x="892" y="186"/>
                </a:lnTo>
                <a:lnTo>
                  <a:pt x="892" y="0"/>
                </a:lnTo>
                <a:lnTo>
                  <a:pt x="52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1" name=""/>
          <p:cNvGrpSpPr/>
          <p:nvPr/>
        </p:nvGrpSpPr>
        <p:grpSpPr>
          <a:xfrm>
            <a:off x="1192320" y="4551480"/>
            <a:ext cx="245880" cy="1444680"/>
            <a:chOff x="1192320" y="4551480"/>
            <a:chExt cx="245880" cy="1444680"/>
          </a:xfrm>
        </p:grpSpPr>
        <p:sp>
          <p:nvSpPr>
            <p:cNvPr id="7402" name=""/>
            <p:cNvSpPr/>
            <p:nvPr/>
          </p:nvSpPr>
          <p:spPr>
            <a:xfrm>
              <a:off x="14382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11923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11923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5" name=""/>
          <p:cNvGrpSpPr/>
          <p:nvPr/>
        </p:nvGrpSpPr>
        <p:grpSpPr>
          <a:xfrm>
            <a:off x="3571920" y="4551480"/>
            <a:ext cx="245880" cy="1444680"/>
            <a:chOff x="3571920" y="4551480"/>
            <a:chExt cx="245880" cy="1444680"/>
          </a:xfrm>
        </p:grpSpPr>
        <p:sp>
          <p:nvSpPr>
            <p:cNvPr id="7406" name=""/>
            <p:cNvSpPr/>
            <p:nvPr/>
          </p:nvSpPr>
          <p:spPr>
            <a:xfrm>
              <a:off x="38178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35719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5719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9" name=""/>
          <p:cNvGrpSpPr/>
          <p:nvPr/>
        </p:nvGrpSpPr>
        <p:grpSpPr>
          <a:xfrm>
            <a:off x="5951520" y="4518000"/>
            <a:ext cx="246240" cy="1444680"/>
            <a:chOff x="5951520" y="4518000"/>
            <a:chExt cx="246240" cy="1444680"/>
          </a:xfrm>
        </p:grpSpPr>
        <p:sp>
          <p:nvSpPr>
            <p:cNvPr id="7410" name=""/>
            <p:cNvSpPr/>
            <p:nvPr/>
          </p:nvSpPr>
          <p:spPr>
            <a:xfrm>
              <a:off x="6197760" y="451800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5951520" y="451800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5951520" y="595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13" name=""/>
          <p:cNvGrpSpPr/>
          <p:nvPr/>
        </p:nvGrpSpPr>
        <p:grpSpPr>
          <a:xfrm>
            <a:off x="7178760" y="4519440"/>
            <a:ext cx="245880" cy="1444680"/>
            <a:chOff x="7178760" y="4519440"/>
            <a:chExt cx="245880" cy="1444680"/>
          </a:xfrm>
        </p:grpSpPr>
        <p:sp>
          <p:nvSpPr>
            <p:cNvPr id="7414" name=""/>
            <p:cNvSpPr/>
            <p:nvPr/>
          </p:nvSpPr>
          <p:spPr>
            <a:xfrm>
              <a:off x="7424640" y="451944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7178760" y="451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7178760" y="59612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17" name=""/>
          <p:cNvGrpSpPr/>
          <p:nvPr/>
        </p:nvGrpSpPr>
        <p:grpSpPr>
          <a:xfrm>
            <a:off x="8223120" y="4562640"/>
            <a:ext cx="246240" cy="1444320"/>
            <a:chOff x="8223120" y="4562640"/>
            <a:chExt cx="246240" cy="1444320"/>
          </a:xfrm>
        </p:grpSpPr>
        <p:sp>
          <p:nvSpPr>
            <p:cNvPr id="7418" name=""/>
            <p:cNvSpPr/>
            <p:nvPr/>
          </p:nvSpPr>
          <p:spPr>
            <a:xfrm>
              <a:off x="8469360" y="4562640"/>
              <a:ext cx="0" cy="144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8223120" y="456264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8223120" y="600408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21" name=""/>
          <p:cNvSpPr txBox="1"/>
          <p:nvPr/>
        </p:nvSpPr>
        <p:spPr>
          <a:xfrm>
            <a:off x="849240" y="386388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2" name=""/>
          <p:cNvSpPr txBox="1"/>
          <p:nvPr/>
        </p:nvSpPr>
        <p:spPr>
          <a:xfrm>
            <a:off x="1477800" y="3841920"/>
            <a:ext cx="54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3" name=""/>
          <p:cNvSpPr txBox="1"/>
          <p:nvPr/>
        </p:nvSpPr>
        <p:spPr>
          <a:xfrm>
            <a:off x="884160" y="43894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4" name=""/>
          <p:cNvSpPr txBox="1"/>
          <p:nvPr/>
        </p:nvSpPr>
        <p:spPr>
          <a:xfrm>
            <a:off x="900000" y="58658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5" name=""/>
          <p:cNvSpPr txBox="1"/>
          <p:nvPr/>
        </p:nvSpPr>
        <p:spPr>
          <a:xfrm>
            <a:off x="329724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6" name=""/>
          <p:cNvSpPr txBox="1"/>
          <p:nvPr/>
        </p:nvSpPr>
        <p:spPr>
          <a:xfrm>
            <a:off x="3313080" y="58802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7" name=""/>
          <p:cNvSpPr txBox="1"/>
          <p:nvPr/>
        </p:nvSpPr>
        <p:spPr>
          <a:xfrm>
            <a:off x="5678640" y="43736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8" name=""/>
          <p:cNvSpPr txBox="1"/>
          <p:nvPr/>
        </p:nvSpPr>
        <p:spPr>
          <a:xfrm>
            <a:off x="5662440" y="58341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9" name=""/>
          <p:cNvSpPr txBox="1"/>
          <p:nvPr/>
        </p:nvSpPr>
        <p:spPr>
          <a:xfrm>
            <a:off x="6905520" y="43750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0" name=""/>
          <p:cNvSpPr txBox="1"/>
          <p:nvPr/>
        </p:nvSpPr>
        <p:spPr>
          <a:xfrm>
            <a:off x="6907320" y="58183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1" name=""/>
          <p:cNvSpPr txBox="1"/>
          <p:nvPr/>
        </p:nvSpPr>
        <p:spPr>
          <a:xfrm>
            <a:off x="795168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2" name=""/>
          <p:cNvSpPr txBox="1"/>
          <p:nvPr/>
        </p:nvSpPr>
        <p:spPr>
          <a:xfrm>
            <a:off x="7951680" y="586440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3" name=""/>
          <p:cNvSpPr/>
          <p:nvPr/>
        </p:nvSpPr>
        <p:spPr>
          <a:xfrm>
            <a:off x="6343560" y="4844880"/>
            <a:ext cx="2715840" cy="427320"/>
          </a:xfrm>
          <a:custGeom>
            <a:avLst/>
            <a:gdLst/>
            <a:ahLst/>
            <a:rect l="0" t="0" r="r" b="b"/>
            <a:pathLst>
              <a:path fill="none" w="7544" h="1187">
                <a:moveTo>
                  <a:pt x="7544" y="1187"/>
                </a:moveTo>
                <a:lnTo>
                  <a:pt x="7544" y="1187"/>
                </a:lnTo>
                <a:cubicBezTo>
                  <a:pt x="7367" y="1055"/>
                  <a:pt x="7111" y="929"/>
                  <a:pt x="6781" y="810"/>
                </a:cubicBezTo>
                <a:cubicBezTo>
                  <a:pt x="6094" y="564"/>
                  <a:pt x="5105" y="359"/>
                  <a:pt x="3915" y="217"/>
                </a:cubicBezTo>
                <a:cubicBezTo>
                  <a:pt x="2725" y="75"/>
                  <a:pt x="137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4" name=""/>
          <p:cNvSpPr/>
          <p:nvPr/>
        </p:nvSpPr>
        <p:spPr>
          <a:xfrm>
            <a:off x="6346440" y="5062680"/>
            <a:ext cx="2706120" cy="409320"/>
          </a:xfrm>
          <a:custGeom>
            <a:avLst/>
            <a:gdLst/>
            <a:ahLst/>
            <a:rect l="0" t="0" r="r" b="b"/>
            <a:pathLst>
              <a:path fill="none" w="7517" h="1137">
                <a:moveTo>
                  <a:pt x="7517" y="0"/>
                </a:moveTo>
                <a:lnTo>
                  <a:pt x="7517" y="0"/>
                </a:lnTo>
                <a:lnTo>
                  <a:pt x="7517" y="0"/>
                </a:lnTo>
                <a:cubicBezTo>
                  <a:pt x="6113" y="0"/>
                  <a:pt x="4734" y="80"/>
                  <a:pt x="3519" y="231"/>
                </a:cubicBezTo>
                <a:cubicBezTo>
                  <a:pt x="2303" y="383"/>
                  <a:pt x="1294" y="600"/>
                  <a:pt x="592" y="863"/>
                </a:cubicBezTo>
                <a:cubicBezTo>
                  <a:pt x="358" y="950"/>
                  <a:pt x="160" y="1042"/>
                  <a:pt x="0" y="11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5" name=""/>
          <p:cNvSpPr/>
          <p:nvPr/>
        </p:nvSpPr>
        <p:spPr>
          <a:xfrm>
            <a:off x="6610320" y="4676760"/>
            <a:ext cx="752760" cy="190800"/>
          </a:xfrm>
          <a:custGeom>
            <a:avLst/>
            <a:gdLst/>
            <a:ahLst/>
            <a:rect l="0" t="0" r="r" b="b"/>
            <a:pathLst>
              <a:path w="2091" h="530">
                <a:moveTo>
                  <a:pt x="0" y="424"/>
                </a:moveTo>
                <a:lnTo>
                  <a:pt x="66" y="0"/>
                </a:lnTo>
                <a:lnTo>
                  <a:pt x="2091" y="198"/>
                </a:lnTo>
                <a:lnTo>
                  <a:pt x="1945" y="530"/>
                </a:lnTo>
                <a:lnTo>
                  <a:pt x="0" y="424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6" name=""/>
          <p:cNvSpPr/>
          <p:nvPr/>
        </p:nvSpPr>
        <p:spPr>
          <a:xfrm>
            <a:off x="6405480" y="5662440"/>
            <a:ext cx="886320" cy="195480"/>
          </a:xfrm>
          <a:custGeom>
            <a:avLst/>
            <a:gdLst/>
            <a:ahLst/>
            <a:rect l="0" t="0" r="r" b="b"/>
            <a:pathLst>
              <a:path w="2462" h="543">
                <a:moveTo>
                  <a:pt x="2462" y="0"/>
                </a:moveTo>
                <a:lnTo>
                  <a:pt x="2171" y="490"/>
                </a:lnTo>
                <a:lnTo>
                  <a:pt x="0" y="543"/>
                </a:lnTo>
                <a:lnTo>
                  <a:pt x="251" y="92"/>
                </a:lnTo>
                <a:lnTo>
                  <a:pt x="2462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7" name=""/>
          <p:cNvSpPr/>
          <p:nvPr/>
        </p:nvSpPr>
        <p:spPr>
          <a:xfrm>
            <a:off x="3151080" y="2922480"/>
            <a:ext cx="844920" cy="844920"/>
          </a:xfrm>
          <a:custGeom>
            <a:avLst/>
            <a:gdLst/>
            <a:ahLst/>
            <a:rect l="0" t="0" r="r" b="b"/>
            <a:pathLst>
              <a:path w="2347" h="2347">
                <a:moveTo>
                  <a:pt x="0" y="704"/>
                </a:moveTo>
                <a:lnTo>
                  <a:pt x="0" y="1643"/>
                </a:lnTo>
                <a:lnTo>
                  <a:pt x="704" y="2347"/>
                </a:lnTo>
                <a:lnTo>
                  <a:pt x="1643" y="2347"/>
                </a:lnTo>
                <a:lnTo>
                  <a:pt x="2347" y="1643"/>
                </a:lnTo>
                <a:lnTo>
                  <a:pt x="2347" y="704"/>
                </a:lnTo>
                <a:lnTo>
                  <a:pt x="1643" y="0"/>
                </a:lnTo>
                <a:lnTo>
                  <a:pt x="704" y="0"/>
                </a:lnTo>
                <a:lnTo>
                  <a:pt x="0" y="704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8" name=""/>
          <p:cNvSpPr txBox="1"/>
          <p:nvPr/>
        </p:nvSpPr>
        <p:spPr>
          <a:xfrm>
            <a:off x="2995560" y="384336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9" name=""/>
          <p:cNvSpPr txBox="1"/>
          <p:nvPr/>
        </p:nvSpPr>
        <p:spPr>
          <a:xfrm>
            <a:off x="3651120" y="382752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0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1" name=""/>
          <p:cNvSpPr txBox="1"/>
          <p:nvPr/>
        </p:nvSpPr>
        <p:spPr>
          <a:xfrm>
            <a:off x="2706840" y="1035000"/>
            <a:ext cx="33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2" name=""/>
          <p:cNvSpPr/>
          <p:nvPr/>
        </p:nvSpPr>
        <p:spPr>
          <a:xfrm>
            <a:off x="423720" y="4842000"/>
            <a:ext cx="6837480" cy="84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3" name=""/>
          <p:cNvSpPr/>
          <p:nvPr/>
        </p:nvSpPr>
        <p:spPr>
          <a:xfrm>
            <a:off x="995400" y="2955960"/>
            <a:ext cx="84456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4" name=""/>
          <p:cNvSpPr/>
          <p:nvPr/>
        </p:nvSpPr>
        <p:spPr>
          <a:xfrm>
            <a:off x="3035160" y="50720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5" name=""/>
          <p:cNvSpPr/>
          <p:nvPr/>
        </p:nvSpPr>
        <p:spPr>
          <a:xfrm>
            <a:off x="3051000" y="5454720"/>
            <a:ext cx="222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6" name=""/>
          <p:cNvSpPr/>
          <p:nvPr/>
        </p:nvSpPr>
        <p:spPr>
          <a:xfrm>
            <a:off x="5280120" y="53323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7" name=""/>
          <p:cNvSpPr/>
          <p:nvPr/>
        </p:nvSpPr>
        <p:spPr>
          <a:xfrm>
            <a:off x="5280120" y="49467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8" name=""/>
          <p:cNvSpPr/>
          <p:nvPr/>
        </p:nvSpPr>
        <p:spPr>
          <a:xfrm>
            <a:off x="5281560" y="50688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9" name=""/>
          <p:cNvSpPr/>
          <p:nvPr/>
        </p:nvSpPr>
        <p:spPr>
          <a:xfrm>
            <a:off x="5259240" y="54529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0" name=""/>
          <p:cNvSpPr/>
          <p:nvPr/>
        </p:nvSpPr>
        <p:spPr>
          <a:xfrm>
            <a:off x="5261040" y="55641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1" name=""/>
          <p:cNvSpPr/>
          <p:nvPr/>
        </p:nvSpPr>
        <p:spPr>
          <a:xfrm>
            <a:off x="5280120" y="48402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2" name=""/>
          <p:cNvSpPr/>
          <p:nvPr/>
        </p:nvSpPr>
        <p:spPr>
          <a:xfrm>
            <a:off x="2645280" y="4852080"/>
            <a:ext cx="398520" cy="220320"/>
          </a:xfrm>
          <a:custGeom>
            <a:avLst/>
            <a:gdLst/>
            <a:ahLst/>
            <a:rect l="0" t="0" r="r" b="b"/>
            <a:pathLst>
              <a:path fill="none" w="1107" h="612">
                <a:moveTo>
                  <a:pt x="0" y="0"/>
                </a:moveTo>
                <a:lnTo>
                  <a:pt x="0" y="0"/>
                </a:lnTo>
                <a:cubicBezTo>
                  <a:pt x="16" y="96"/>
                  <a:pt x="65" y="189"/>
                  <a:pt x="144" y="272"/>
                </a:cubicBezTo>
                <a:cubicBezTo>
                  <a:pt x="241" y="375"/>
                  <a:pt x="382" y="461"/>
                  <a:pt x="551" y="521"/>
                </a:cubicBezTo>
                <a:cubicBezTo>
                  <a:pt x="720" y="581"/>
                  <a:pt x="912" y="612"/>
                  <a:pt x="1107" y="61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3" name=""/>
          <p:cNvSpPr/>
          <p:nvPr/>
        </p:nvSpPr>
        <p:spPr>
          <a:xfrm>
            <a:off x="2658960" y="5481720"/>
            <a:ext cx="398160" cy="219240"/>
          </a:xfrm>
          <a:custGeom>
            <a:avLst/>
            <a:gdLst/>
            <a:ahLst/>
            <a:rect l="0" t="0" r="r" b="b"/>
            <a:pathLst>
              <a:path fill="none" w="1106" h="609">
                <a:moveTo>
                  <a:pt x="0" y="609"/>
                </a:moveTo>
                <a:lnTo>
                  <a:pt x="0" y="609"/>
                </a:lnTo>
                <a:lnTo>
                  <a:pt x="0" y="609"/>
                </a:lnTo>
                <a:cubicBezTo>
                  <a:pt x="195" y="609"/>
                  <a:pt x="387" y="578"/>
                  <a:pt x="556" y="518"/>
                </a:cubicBezTo>
                <a:cubicBezTo>
                  <a:pt x="725" y="458"/>
                  <a:pt x="866" y="372"/>
                  <a:pt x="963" y="269"/>
                </a:cubicBezTo>
                <a:cubicBezTo>
                  <a:pt x="1041" y="186"/>
                  <a:pt x="1090" y="95"/>
                  <a:pt x="110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4" name=""/>
          <p:cNvSpPr/>
          <p:nvPr/>
        </p:nvSpPr>
        <p:spPr>
          <a:xfrm>
            <a:off x="7224840" y="489600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5" name=""/>
          <p:cNvSpPr/>
          <p:nvPr/>
        </p:nvSpPr>
        <p:spPr>
          <a:xfrm>
            <a:off x="6624720" y="563076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6" name=""/>
          <p:cNvSpPr/>
          <p:nvPr/>
        </p:nvSpPr>
        <p:spPr>
          <a:xfrm>
            <a:off x="5557680" y="5272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7" name=""/>
          <p:cNvSpPr/>
          <p:nvPr/>
        </p:nvSpPr>
        <p:spPr>
          <a:xfrm>
            <a:off x="7043760" y="527220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8" name=""/>
          <p:cNvSpPr/>
          <p:nvPr/>
        </p:nvSpPr>
        <p:spPr>
          <a:xfrm>
            <a:off x="7215120" y="527220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9" name=""/>
          <p:cNvSpPr/>
          <p:nvPr/>
        </p:nvSpPr>
        <p:spPr>
          <a:xfrm flipV="1">
            <a:off x="442800" y="4843440"/>
            <a:ext cx="81468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0" name=""/>
          <p:cNvSpPr/>
          <p:nvPr/>
        </p:nvSpPr>
        <p:spPr>
          <a:xfrm>
            <a:off x="414360" y="4836960"/>
            <a:ext cx="829080" cy="829080"/>
          </a:xfrm>
          <a:custGeom>
            <a:avLst/>
            <a:gdLst/>
            <a:ahLst/>
            <a:rect l="0" t="0" r="r" b="b"/>
            <a:pathLst>
              <a:path w="2303" h="2303">
                <a:moveTo>
                  <a:pt x="0" y="0"/>
                </a:moveTo>
                <a:lnTo>
                  <a:pt x="0" y="2303"/>
                </a:lnTo>
                <a:lnTo>
                  <a:pt x="2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1" name=""/>
          <p:cNvSpPr/>
          <p:nvPr/>
        </p:nvSpPr>
        <p:spPr>
          <a:xfrm>
            <a:off x="4325760" y="4848120"/>
            <a:ext cx="170280" cy="824400"/>
          </a:xfrm>
          <a:custGeom>
            <a:avLst/>
            <a:gdLst/>
            <a:ahLst/>
            <a:rect l="0" t="0" r="r" b="b"/>
            <a:pathLst>
              <a:path fill="none" w="473" h="2290">
                <a:moveTo>
                  <a:pt x="376" y="0"/>
                </a:moveTo>
                <a:lnTo>
                  <a:pt x="385" y="110"/>
                </a:lnTo>
                <a:lnTo>
                  <a:pt x="473" y="238"/>
                </a:lnTo>
                <a:lnTo>
                  <a:pt x="473" y="366"/>
                </a:lnTo>
                <a:lnTo>
                  <a:pt x="473" y="493"/>
                </a:lnTo>
                <a:lnTo>
                  <a:pt x="385" y="622"/>
                </a:lnTo>
                <a:lnTo>
                  <a:pt x="300" y="755"/>
                </a:lnTo>
                <a:lnTo>
                  <a:pt x="256" y="922"/>
                </a:lnTo>
                <a:lnTo>
                  <a:pt x="217" y="1050"/>
                </a:lnTo>
                <a:lnTo>
                  <a:pt x="217" y="1266"/>
                </a:lnTo>
                <a:lnTo>
                  <a:pt x="217" y="1394"/>
                </a:lnTo>
                <a:lnTo>
                  <a:pt x="128" y="1522"/>
                </a:lnTo>
                <a:lnTo>
                  <a:pt x="88" y="1650"/>
                </a:lnTo>
                <a:lnTo>
                  <a:pt x="44" y="1779"/>
                </a:lnTo>
                <a:lnTo>
                  <a:pt x="44" y="1907"/>
                </a:lnTo>
                <a:lnTo>
                  <a:pt x="44" y="2034"/>
                </a:lnTo>
                <a:lnTo>
                  <a:pt x="44" y="2162"/>
                </a:lnTo>
                <a:lnTo>
                  <a:pt x="0" y="229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2" name=""/>
          <p:cNvSpPr/>
          <p:nvPr/>
        </p:nvSpPr>
        <p:spPr>
          <a:xfrm>
            <a:off x="4648320" y="4851360"/>
            <a:ext cx="138600" cy="814680"/>
          </a:xfrm>
          <a:custGeom>
            <a:avLst/>
            <a:gdLst/>
            <a:ahLst/>
            <a:rect l="0" t="0" r="r" b="b"/>
            <a:pathLst>
              <a:path fill="none" w="385" h="2263">
                <a:moveTo>
                  <a:pt x="301" y="0"/>
                </a:moveTo>
                <a:lnTo>
                  <a:pt x="345" y="127"/>
                </a:lnTo>
                <a:lnTo>
                  <a:pt x="345" y="255"/>
                </a:lnTo>
                <a:lnTo>
                  <a:pt x="385" y="383"/>
                </a:lnTo>
                <a:lnTo>
                  <a:pt x="385" y="511"/>
                </a:lnTo>
                <a:lnTo>
                  <a:pt x="345" y="639"/>
                </a:lnTo>
                <a:lnTo>
                  <a:pt x="345" y="771"/>
                </a:lnTo>
                <a:lnTo>
                  <a:pt x="345" y="899"/>
                </a:lnTo>
                <a:lnTo>
                  <a:pt x="301" y="1027"/>
                </a:lnTo>
                <a:lnTo>
                  <a:pt x="256" y="1156"/>
                </a:lnTo>
                <a:lnTo>
                  <a:pt x="217" y="1284"/>
                </a:lnTo>
                <a:lnTo>
                  <a:pt x="172" y="1412"/>
                </a:lnTo>
                <a:lnTo>
                  <a:pt x="128" y="1539"/>
                </a:lnTo>
                <a:lnTo>
                  <a:pt x="128" y="1751"/>
                </a:lnTo>
                <a:lnTo>
                  <a:pt x="88" y="1879"/>
                </a:lnTo>
                <a:lnTo>
                  <a:pt x="44" y="2007"/>
                </a:lnTo>
                <a:lnTo>
                  <a:pt x="0" y="2135"/>
                </a:lnTo>
                <a:lnTo>
                  <a:pt x="0" y="226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3" name=""/>
          <p:cNvSpPr/>
          <p:nvPr/>
        </p:nvSpPr>
        <p:spPr>
          <a:xfrm>
            <a:off x="4470480" y="480708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4" name=""/>
          <p:cNvSpPr/>
          <p:nvPr/>
        </p:nvSpPr>
        <p:spPr>
          <a:xfrm>
            <a:off x="4460760" y="5048280"/>
            <a:ext cx="311400" cy="44640"/>
          </a:xfrm>
          <a:custGeom>
            <a:avLst/>
            <a:gdLst/>
            <a:ahLst/>
            <a:rect l="0" t="0" r="r" b="b"/>
            <a:pathLst>
              <a:path w="865" h="124">
                <a:moveTo>
                  <a:pt x="79" y="8"/>
                </a:moveTo>
                <a:lnTo>
                  <a:pt x="0" y="124"/>
                </a:lnTo>
                <a:lnTo>
                  <a:pt x="830" y="115"/>
                </a:lnTo>
                <a:lnTo>
                  <a:pt x="865" y="0"/>
                </a:lnTo>
                <a:lnTo>
                  <a:pt x="79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5" name=""/>
          <p:cNvSpPr/>
          <p:nvPr/>
        </p:nvSpPr>
        <p:spPr>
          <a:xfrm>
            <a:off x="4359240" y="5423040"/>
            <a:ext cx="327240" cy="51120"/>
          </a:xfrm>
          <a:custGeom>
            <a:avLst/>
            <a:gdLst/>
            <a:ahLst/>
            <a:rect l="0" t="0" r="r" b="b"/>
            <a:pathLst>
              <a:path w="909" h="142">
                <a:moveTo>
                  <a:pt x="44" y="0"/>
                </a:moveTo>
                <a:lnTo>
                  <a:pt x="0" y="106"/>
                </a:lnTo>
                <a:lnTo>
                  <a:pt x="909" y="142"/>
                </a:lnTo>
                <a:lnTo>
                  <a:pt x="909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6" name=""/>
          <p:cNvSpPr/>
          <p:nvPr/>
        </p:nvSpPr>
        <p:spPr>
          <a:xfrm>
            <a:off x="4314960" y="5654520"/>
            <a:ext cx="321120" cy="66960"/>
          </a:xfrm>
          <a:custGeom>
            <a:avLst/>
            <a:gdLst/>
            <a:ahLst/>
            <a:rect l="0" t="0" r="r" b="b"/>
            <a:pathLst>
              <a:path w="892" h="186">
                <a:moveTo>
                  <a:pt x="52" y="8"/>
                </a:moveTo>
                <a:lnTo>
                  <a:pt x="0" y="186"/>
                </a:lnTo>
                <a:lnTo>
                  <a:pt x="892" y="186"/>
                </a:lnTo>
                <a:lnTo>
                  <a:pt x="892" y="0"/>
                </a:lnTo>
                <a:lnTo>
                  <a:pt x="52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7" name=""/>
          <p:cNvGrpSpPr/>
          <p:nvPr/>
        </p:nvGrpSpPr>
        <p:grpSpPr>
          <a:xfrm>
            <a:off x="1192320" y="4551480"/>
            <a:ext cx="245880" cy="1444680"/>
            <a:chOff x="1192320" y="4551480"/>
            <a:chExt cx="245880" cy="1444680"/>
          </a:xfrm>
        </p:grpSpPr>
        <p:sp>
          <p:nvSpPr>
            <p:cNvPr id="7468" name=""/>
            <p:cNvSpPr/>
            <p:nvPr/>
          </p:nvSpPr>
          <p:spPr>
            <a:xfrm>
              <a:off x="14382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11923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11923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1" name=""/>
          <p:cNvGrpSpPr/>
          <p:nvPr/>
        </p:nvGrpSpPr>
        <p:grpSpPr>
          <a:xfrm>
            <a:off x="3571920" y="4551480"/>
            <a:ext cx="245880" cy="1444680"/>
            <a:chOff x="3571920" y="4551480"/>
            <a:chExt cx="245880" cy="1444680"/>
          </a:xfrm>
        </p:grpSpPr>
        <p:sp>
          <p:nvSpPr>
            <p:cNvPr id="7472" name=""/>
            <p:cNvSpPr/>
            <p:nvPr/>
          </p:nvSpPr>
          <p:spPr>
            <a:xfrm>
              <a:off x="38178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35719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35719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5" name=""/>
          <p:cNvGrpSpPr/>
          <p:nvPr/>
        </p:nvGrpSpPr>
        <p:grpSpPr>
          <a:xfrm>
            <a:off x="5951520" y="4518000"/>
            <a:ext cx="246240" cy="1444680"/>
            <a:chOff x="5951520" y="4518000"/>
            <a:chExt cx="246240" cy="1444680"/>
          </a:xfrm>
        </p:grpSpPr>
        <p:sp>
          <p:nvSpPr>
            <p:cNvPr id="7476" name=""/>
            <p:cNvSpPr/>
            <p:nvPr/>
          </p:nvSpPr>
          <p:spPr>
            <a:xfrm>
              <a:off x="6197760" y="451800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5951520" y="451800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5951520" y="595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9" name=""/>
          <p:cNvGrpSpPr/>
          <p:nvPr/>
        </p:nvGrpSpPr>
        <p:grpSpPr>
          <a:xfrm>
            <a:off x="7178760" y="4519440"/>
            <a:ext cx="245880" cy="1444680"/>
            <a:chOff x="7178760" y="4519440"/>
            <a:chExt cx="245880" cy="1444680"/>
          </a:xfrm>
        </p:grpSpPr>
        <p:sp>
          <p:nvSpPr>
            <p:cNvPr id="7480" name=""/>
            <p:cNvSpPr/>
            <p:nvPr/>
          </p:nvSpPr>
          <p:spPr>
            <a:xfrm>
              <a:off x="7424640" y="451944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7178760" y="451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7178760" y="59612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83" name=""/>
          <p:cNvGrpSpPr/>
          <p:nvPr/>
        </p:nvGrpSpPr>
        <p:grpSpPr>
          <a:xfrm>
            <a:off x="8223120" y="4562640"/>
            <a:ext cx="246240" cy="1444320"/>
            <a:chOff x="8223120" y="4562640"/>
            <a:chExt cx="246240" cy="1444320"/>
          </a:xfrm>
        </p:grpSpPr>
        <p:sp>
          <p:nvSpPr>
            <p:cNvPr id="7484" name=""/>
            <p:cNvSpPr/>
            <p:nvPr/>
          </p:nvSpPr>
          <p:spPr>
            <a:xfrm>
              <a:off x="8469360" y="4562640"/>
              <a:ext cx="0" cy="144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8223120" y="456264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8223120" y="600408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87" name=""/>
          <p:cNvSpPr txBox="1"/>
          <p:nvPr/>
        </p:nvSpPr>
        <p:spPr>
          <a:xfrm>
            <a:off x="849240" y="386388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8" name=""/>
          <p:cNvSpPr txBox="1"/>
          <p:nvPr/>
        </p:nvSpPr>
        <p:spPr>
          <a:xfrm>
            <a:off x="1477800" y="3841920"/>
            <a:ext cx="54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9" name=""/>
          <p:cNvSpPr txBox="1"/>
          <p:nvPr/>
        </p:nvSpPr>
        <p:spPr>
          <a:xfrm>
            <a:off x="884160" y="43894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0" name=""/>
          <p:cNvSpPr txBox="1"/>
          <p:nvPr/>
        </p:nvSpPr>
        <p:spPr>
          <a:xfrm>
            <a:off x="900000" y="58658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1" name=""/>
          <p:cNvSpPr txBox="1"/>
          <p:nvPr/>
        </p:nvSpPr>
        <p:spPr>
          <a:xfrm>
            <a:off x="329724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2" name=""/>
          <p:cNvSpPr txBox="1"/>
          <p:nvPr/>
        </p:nvSpPr>
        <p:spPr>
          <a:xfrm>
            <a:off x="3313080" y="58802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3" name=""/>
          <p:cNvSpPr txBox="1"/>
          <p:nvPr/>
        </p:nvSpPr>
        <p:spPr>
          <a:xfrm>
            <a:off x="5678640" y="43736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4" name=""/>
          <p:cNvSpPr txBox="1"/>
          <p:nvPr/>
        </p:nvSpPr>
        <p:spPr>
          <a:xfrm>
            <a:off x="5662440" y="58341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5" name=""/>
          <p:cNvSpPr txBox="1"/>
          <p:nvPr/>
        </p:nvSpPr>
        <p:spPr>
          <a:xfrm>
            <a:off x="6905520" y="43750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6" name=""/>
          <p:cNvSpPr txBox="1"/>
          <p:nvPr/>
        </p:nvSpPr>
        <p:spPr>
          <a:xfrm>
            <a:off x="6907320" y="58183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7" name=""/>
          <p:cNvSpPr txBox="1"/>
          <p:nvPr/>
        </p:nvSpPr>
        <p:spPr>
          <a:xfrm>
            <a:off x="795168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8" name=""/>
          <p:cNvSpPr txBox="1"/>
          <p:nvPr/>
        </p:nvSpPr>
        <p:spPr>
          <a:xfrm>
            <a:off x="7951680" y="586440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9" name=""/>
          <p:cNvSpPr/>
          <p:nvPr/>
        </p:nvSpPr>
        <p:spPr>
          <a:xfrm>
            <a:off x="6343560" y="4844880"/>
            <a:ext cx="2715840" cy="427320"/>
          </a:xfrm>
          <a:custGeom>
            <a:avLst/>
            <a:gdLst/>
            <a:ahLst/>
            <a:rect l="0" t="0" r="r" b="b"/>
            <a:pathLst>
              <a:path fill="none" w="7544" h="1187">
                <a:moveTo>
                  <a:pt x="7544" y="1187"/>
                </a:moveTo>
                <a:lnTo>
                  <a:pt x="7544" y="1187"/>
                </a:lnTo>
                <a:cubicBezTo>
                  <a:pt x="7367" y="1055"/>
                  <a:pt x="7111" y="929"/>
                  <a:pt x="6781" y="810"/>
                </a:cubicBezTo>
                <a:cubicBezTo>
                  <a:pt x="6094" y="564"/>
                  <a:pt x="5105" y="359"/>
                  <a:pt x="3915" y="217"/>
                </a:cubicBezTo>
                <a:cubicBezTo>
                  <a:pt x="2725" y="75"/>
                  <a:pt x="137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0" name=""/>
          <p:cNvSpPr/>
          <p:nvPr/>
        </p:nvSpPr>
        <p:spPr>
          <a:xfrm>
            <a:off x="6346440" y="5062680"/>
            <a:ext cx="2706120" cy="409320"/>
          </a:xfrm>
          <a:custGeom>
            <a:avLst/>
            <a:gdLst/>
            <a:ahLst/>
            <a:rect l="0" t="0" r="r" b="b"/>
            <a:pathLst>
              <a:path fill="none" w="7517" h="1137">
                <a:moveTo>
                  <a:pt x="7517" y="0"/>
                </a:moveTo>
                <a:lnTo>
                  <a:pt x="7517" y="0"/>
                </a:lnTo>
                <a:lnTo>
                  <a:pt x="7517" y="0"/>
                </a:lnTo>
                <a:cubicBezTo>
                  <a:pt x="6113" y="0"/>
                  <a:pt x="4734" y="80"/>
                  <a:pt x="3519" y="231"/>
                </a:cubicBezTo>
                <a:cubicBezTo>
                  <a:pt x="2303" y="383"/>
                  <a:pt x="1294" y="600"/>
                  <a:pt x="592" y="863"/>
                </a:cubicBezTo>
                <a:cubicBezTo>
                  <a:pt x="358" y="950"/>
                  <a:pt x="160" y="1042"/>
                  <a:pt x="0" y="11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1" name=""/>
          <p:cNvSpPr/>
          <p:nvPr/>
        </p:nvSpPr>
        <p:spPr>
          <a:xfrm>
            <a:off x="6610320" y="4676760"/>
            <a:ext cx="752760" cy="190800"/>
          </a:xfrm>
          <a:custGeom>
            <a:avLst/>
            <a:gdLst/>
            <a:ahLst/>
            <a:rect l="0" t="0" r="r" b="b"/>
            <a:pathLst>
              <a:path w="2091" h="530">
                <a:moveTo>
                  <a:pt x="0" y="424"/>
                </a:moveTo>
                <a:lnTo>
                  <a:pt x="66" y="0"/>
                </a:lnTo>
                <a:lnTo>
                  <a:pt x="2091" y="198"/>
                </a:lnTo>
                <a:lnTo>
                  <a:pt x="1945" y="530"/>
                </a:lnTo>
                <a:lnTo>
                  <a:pt x="0" y="424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2" name=""/>
          <p:cNvSpPr/>
          <p:nvPr/>
        </p:nvSpPr>
        <p:spPr>
          <a:xfrm>
            <a:off x="6405480" y="5662440"/>
            <a:ext cx="886320" cy="195480"/>
          </a:xfrm>
          <a:custGeom>
            <a:avLst/>
            <a:gdLst/>
            <a:ahLst/>
            <a:rect l="0" t="0" r="r" b="b"/>
            <a:pathLst>
              <a:path w="2462" h="543">
                <a:moveTo>
                  <a:pt x="2462" y="0"/>
                </a:moveTo>
                <a:lnTo>
                  <a:pt x="2171" y="490"/>
                </a:lnTo>
                <a:lnTo>
                  <a:pt x="0" y="543"/>
                </a:lnTo>
                <a:lnTo>
                  <a:pt x="251" y="92"/>
                </a:lnTo>
                <a:lnTo>
                  <a:pt x="2462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3" name=""/>
          <p:cNvSpPr/>
          <p:nvPr/>
        </p:nvSpPr>
        <p:spPr>
          <a:xfrm>
            <a:off x="5629320" y="2876400"/>
            <a:ext cx="844560" cy="844560"/>
          </a:xfrm>
          <a:prstGeom prst="ellipse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4" name=""/>
          <p:cNvSpPr txBox="1"/>
          <p:nvPr/>
        </p:nvSpPr>
        <p:spPr>
          <a:xfrm>
            <a:off x="5450040" y="376704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5" name=""/>
          <p:cNvSpPr txBox="1"/>
          <p:nvPr/>
        </p:nvSpPr>
        <p:spPr>
          <a:xfrm>
            <a:off x="6056280" y="3747960"/>
            <a:ext cx="54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-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6" name=""/>
          <p:cNvSpPr/>
          <p:nvPr/>
        </p:nvSpPr>
        <p:spPr>
          <a:xfrm>
            <a:off x="3151080" y="2922480"/>
            <a:ext cx="844920" cy="844920"/>
          </a:xfrm>
          <a:custGeom>
            <a:avLst/>
            <a:gdLst/>
            <a:ahLst/>
            <a:rect l="0" t="0" r="r" b="b"/>
            <a:pathLst>
              <a:path w="2347" h="2347">
                <a:moveTo>
                  <a:pt x="0" y="704"/>
                </a:moveTo>
                <a:lnTo>
                  <a:pt x="0" y="1643"/>
                </a:lnTo>
                <a:lnTo>
                  <a:pt x="704" y="2347"/>
                </a:lnTo>
                <a:lnTo>
                  <a:pt x="1643" y="2347"/>
                </a:lnTo>
                <a:lnTo>
                  <a:pt x="2347" y="1643"/>
                </a:lnTo>
                <a:lnTo>
                  <a:pt x="2347" y="704"/>
                </a:lnTo>
                <a:lnTo>
                  <a:pt x="1643" y="0"/>
                </a:lnTo>
                <a:lnTo>
                  <a:pt x="704" y="0"/>
                </a:lnTo>
                <a:lnTo>
                  <a:pt x="0" y="704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7" name=""/>
          <p:cNvSpPr txBox="1"/>
          <p:nvPr/>
        </p:nvSpPr>
        <p:spPr>
          <a:xfrm>
            <a:off x="2995560" y="384336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8" name=""/>
          <p:cNvSpPr txBox="1"/>
          <p:nvPr/>
        </p:nvSpPr>
        <p:spPr>
          <a:xfrm>
            <a:off x="3651120" y="382752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9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0" name=""/>
          <p:cNvSpPr txBox="1"/>
          <p:nvPr/>
        </p:nvSpPr>
        <p:spPr>
          <a:xfrm>
            <a:off x="2706840" y="1035000"/>
            <a:ext cx="33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1" name=""/>
          <p:cNvSpPr/>
          <p:nvPr/>
        </p:nvSpPr>
        <p:spPr>
          <a:xfrm>
            <a:off x="423720" y="4842000"/>
            <a:ext cx="6837480" cy="84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2" name=""/>
          <p:cNvSpPr/>
          <p:nvPr/>
        </p:nvSpPr>
        <p:spPr>
          <a:xfrm>
            <a:off x="995400" y="2955960"/>
            <a:ext cx="84456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3" name=""/>
          <p:cNvSpPr/>
          <p:nvPr/>
        </p:nvSpPr>
        <p:spPr>
          <a:xfrm>
            <a:off x="3035160" y="50720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4" name=""/>
          <p:cNvSpPr/>
          <p:nvPr/>
        </p:nvSpPr>
        <p:spPr>
          <a:xfrm>
            <a:off x="3051000" y="5454720"/>
            <a:ext cx="222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5" name=""/>
          <p:cNvSpPr/>
          <p:nvPr/>
        </p:nvSpPr>
        <p:spPr>
          <a:xfrm>
            <a:off x="5280120" y="53323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6" name=""/>
          <p:cNvSpPr/>
          <p:nvPr/>
        </p:nvSpPr>
        <p:spPr>
          <a:xfrm>
            <a:off x="5280120" y="49467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7" name=""/>
          <p:cNvSpPr/>
          <p:nvPr/>
        </p:nvSpPr>
        <p:spPr>
          <a:xfrm>
            <a:off x="5281560" y="50688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8" name=""/>
          <p:cNvSpPr/>
          <p:nvPr/>
        </p:nvSpPr>
        <p:spPr>
          <a:xfrm>
            <a:off x="5259240" y="54529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9" name=""/>
          <p:cNvSpPr/>
          <p:nvPr/>
        </p:nvSpPr>
        <p:spPr>
          <a:xfrm>
            <a:off x="5261040" y="55641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0" name=""/>
          <p:cNvSpPr/>
          <p:nvPr/>
        </p:nvSpPr>
        <p:spPr>
          <a:xfrm>
            <a:off x="5280120" y="48402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1" name=""/>
          <p:cNvSpPr/>
          <p:nvPr/>
        </p:nvSpPr>
        <p:spPr>
          <a:xfrm>
            <a:off x="2645280" y="4852080"/>
            <a:ext cx="398520" cy="220320"/>
          </a:xfrm>
          <a:custGeom>
            <a:avLst/>
            <a:gdLst/>
            <a:ahLst/>
            <a:rect l="0" t="0" r="r" b="b"/>
            <a:pathLst>
              <a:path fill="none" w="1107" h="612">
                <a:moveTo>
                  <a:pt x="0" y="0"/>
                </a:moveTo>
                <a:lnTo>
                  <a:pt x="0" y="0"/>
                </a:lnTo>
                <a:cubicBezTo>
                  <a:pt x="16" y="96"/>
                  <a:pt x="65" y="189"/>
                  <a:pt x="144" y="272"/>
                </a:cubicBezTo>
                <a:cubicBezTo>
                  <a:pt x="241" y="375"/>
                  <a:pt x="382" y="461"/>
                  <a:pt x="551" y="521"/>
                </a:cubicBezTo>
                <a:cubicBezTo>
                  <a:pt x="720" y="581"/>
                  <a:pt x="912" y="612"/>
                  <a:pt x="1107" y="61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2" name=""/>
          <p:cNvSpPr/>
          <p:nvPr/>
        </p:nvSpPr>
        <p:spPr>
          <a:xfrm>
            <a:off x="2658960" y="5481720"/>
            <a:ext cx="398160" cy="219240"/>
          </a:xfrm>
          <a:custGeom>
            <a:avLst/>
            <a:gdLst/>
            <a:ahLst/>
            <a:rect l="0" t="0" r="r" b="b"/>
            <a:pathLst>
              <a:path fill="none" w="1106" h="609">
                <a:moveTo>
                  <a:pt x="0" y="609"/>
                </a:moveTo>
                <a:lnTo>
                  <a:pt x="0" y="609"/>
                </a:lnTo>
                <a:lnTo>
                  <a:pt x="0" y="609"/>
                </a:lnTo>
                <a:cubicBezTo>
                  <a:pt x="195" y="609"/>
                  <a:pt x="387" y="578"/>
                  <a:pt x="556" y="518"/>
                </a:cubicBezTo>
                <a:cubicBezTo>
                  <a:pt x="725" y="458"/>
                  <a:pt x="866" y="372"/>
                  <a:pt x="963" y="269"/>
                </a:cubicBezTo>
                <a:cubicBezTo>
                  <a:pt x="1041" y="186"/>
                  <a:pt x="1090" y="95"/>
                  <a:pt x="110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3" name=""/>
          <p:cNvSpPr/>
          <p:nvPr/>
        </p:nvSpPr>
        <p:spPr>
          <a:xfrm>
            <a:off x="7224840" y="489600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4" name=""/>
          <p:cNvSpPr/>
          <p:nvPr/>
        </p:nvSpPr>
        <p:spPr>
          <a:xfrm>
            <a:off x="6624720" y="563076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5" name=""/>
          <p:cNvSpPr/>
          <p:nvPr/>
        </p:nvSpPr>
        <p:spPr>
          <a:xfrm>
            <a:off x="5557680" y="5272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6" name=""/>
          <p:cNvSpPr/>
          <p:nvPr/>
        </p:nvSpPr>
        <p:spPr>
          <a:xfrm>
            <a:off x="7043760" y="527220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7" name=""/>
          <p:cNvSpPr/>
          <p:nvPr/>
        </p:nvSpPr>
        <p:spPr>
          <a:xfrm>
            <a:off x="7215120" y="527220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8" name=""/>
          <p:cNvSpPr/>
          <p:nvPr/>
        </p:nvSpPr>
        <p:spPr>
          <a:xfrm flipV="1">
            <a:off x="442800" y="4843440"/>
            <a:ext cx="81468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9" name=""/>
          <p:cNvSpPr/>
          <p:nvPr/>
        </p:nvSpPr>
        <p:spPr>
          <a:xfrm>
            <a:off x="414360" y="4836960"/>
            <a:ext cx="829080" cy="829080"/>
          </a:xfrm>
          <a:custGeom>
            <a:avLst/>
            <a:gdLst/>
            <a:ahLst/>
            <a:rect l="0" t="0" r="r" b="b"/>
            <a:pathLst>
              <a:path w="2303" h="2303">
                <a:moveTo>
                  <a:pt x="0" y="0"/>
                </a:moveTo>
                <a:lnTo>
                  <a:pt x="0" y="2303"/>
                </a:lnTo>
                <a:lnTo>
                  <a:pt x="2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0" name=""/>
          <p:cNvSpPr/>
          <p:nvPr/>
        </p:nvSpPr>
        <p:spPr>
          <a:xfrm>
            <a:off x="4325760" y="4848120"/>
            <a:ext cx="170280" cy="824400"/>
          </a:xfrm>
          <a:custGeom>
            <a:avLst/>
            <a:gdLst/>
            <a:ahLst/>
            <a:rect l="0" t="0" r="r" b="b"/>
            <a:pathLst>
              <a:path fill="none" w="473" h="2290">
                <a:moveTo>
                  <a:pt x="376" y="0"/>
                </a:moveTo>
                <a:lnTo>
                  <a:pt x="385" y="110"/>
                </a:lnTo>
                <a:lnTo>
                  <a:pt x="473" y="238"/>
                </a:lnTo>
                <a:lnTo>
                  <a:pt x="473" y="366"/>
                </a:lnTo>
                <a:lnTo>
                  <a:pt x="473" y="493"/>
                </a:lnTo>
                <a:lnTo>
                  <a:pt x="385" y="622"/>
                </a:lnTo>
                <a:lnTo>
                  <a:pt x="300" y="755"/>
                </a:lnTo>
                <a:lnTo>
                  <a:pt x="256" y="922"/>
                </a:lnTo>
                <a:lnTo>
                  <a:pt x="217" y="1050"/>
                </a:lnTo>
                <a:lnTo>
                  <a:pt x="217" y="1266"/>
                </a:lnTo>
                <a:lnTo>
                  <a:pt x="217" y="1394"/>
                </a:lnTo>
                <a:lnTo>
                  <a:pt x="128" y="1522"/>
                </a:lnTo>
                <a:lnTo>
                  <a:pt x="88" y="1650"/>
                </a:lnTo>
                <a:lnTo>
                  <a:pt x="44" y="1779"/>
                </a:lnTo>
                <a:lnTo>
                  <a:pt x="44" y="1907"/>
                </a:lnTo>
                <a:lnTo>
                  <a:pt x="44" y="2034"/>
                </a:lnTo>
                <a:lnTo>
                  <a:pt x="44" y="2162"/>
                </a:lnTo>
                <a:lnTo>
                  <a:pt x="0" y="229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1" name=""/>
          <p:cNvSpPr/>
          <p:nvPr/>
        </p:nvSpPr>
        <p:spPr>
          <a:xfrm>
            <a:off x="4648320" y="4851360"/>
            <a:ext cx="138600" cy="814680"/>
          </a:xfrm>
          <a:custGeom>
            <a:avLst/>
            <a:gdLst/>
            <a:ahLst/>
            <a:rect l="0" t="0" r="r" b="b"/>
            <a:pathLst>
              <a:path fill="none" w="385" h="2263">
                <a:moveTo>
                  <a:pt x="301" y="0"/>
                </a:moveTo>
                <a:lnTo>
                  <a:pt x="345" y="127"/>
                </a:lnTo>
                <a:lnTo>
                  <a:pt x="345" y="255"/>
                </a:lnTo>
                <a:lnTo>
                  <a:pt x="385" y="383"/>
                </a:lnTo>
                <a:lnTo>
                  <a:pt x="385" y="511"/>
                </a:lnTo>
                <a:lnTo>
                  <a:pt x="345" y="639"/>
                </a:lnTo>
                <a:lnTo>
                  <a:pt x="345" y="771"/>
                </a:lnTo>
                <a:lnTo>
                  <a:pt x="345" y="899"/>
                </a:lnTo>
                <a:lnTo>
                  <a:pt x="301" y="1027"/>
                </a:lnTo>
                <a:lnTo>
                  <a:pt x="256" y="1156"/>
                </a:lnTo>
                <a:lnTo>
                  <a:pt x="217" y="1284"/>
                </a:lnTo>
                <a:lnTo>
                  <a:pt x="172" y="1412"/>
                </a:lnTo>
                <a:lnTo>
                  <a:pt x="128" y="1539"/>
                </a:lnTo>
                <a:lnTo>
                  <a:pt x="128" y="1751"/>
                </a:lnTo>
                <a:lnTo>
                  <a:pt x="88" y="1879"/>
                </a:lnTo>
                <a:lnTo>
                  <a:pt x="44" y="2007"/>
                </a:lnTo>
                <a:lnTo>
                  <a:pt x="0" y="2135"/>
                </a:lnTo>
                <a:lnTo>
                  <a:pt x="0" y="226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2" name=""/>
          <p:cNvSpPr/>
          <p:nvPr/>
        </p:nvSpPr>
        <p:spPr>
          <a:xfrm>
            <a:off x="4470480" y="480708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3" name=""/>
          <p:cNvSpPr/>
          <p:nvPr/>
        </p:nvSpPr>
        <p:spPr>
          <a:xfrm>
            <a:off x="4460760" y="5048280"/>
            <a:ext cx="311400" cy="44640"/>
          </a:xfrm>
          <a:custGeom>
            <a:avLst/>
            <a:gdLst/>
            <a:ahLst/>
            <a:rect l="0" t="0" r="r" b="b"/>
            <a:pathLst>
              <a:path w="865" h="124">
                <a:moveTo>
                  <a:pt x="79" y="8"/>
                </a:moveTo>
                <a:lnTo>
                  <a:pt x="0" y="124"/>
                </a:lnTo>
                <a:lnTo>
                  <a:pt x="830" y="115"/>
                </a:lnTo>
                <a:lnTo>
                  <a:pt x="865" y="0"/>
                </a:lnTo>
                <a:lnTo>
                  <a:pt x="79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4" name=""/>
          <p:cNvSpPr/>
          <p:nvPr/>
        </p:nvSpPr>
        <p:spPr>
          <a:xfrm>
            <a:off x="4359240" y="5423040"/>
            <a:ext cx="327240" cy="51120"/>
          </a:xfrm>
          <a:custGeom>
            <a:avLst/>
            <a:gdLst/>
            <a:ahLst/>
            <a:rect l="0" t="0" r="r" b="b"/>
            <a:pathLst>
              <a:path w="909" h="142">
                <a:moveTo>
                  <a:pt x="44" y="0"/>
                </a:moveTo>
                <a:lnTo>
                  <a:pt x="0" y="106"/>
                </a:lnTo>
                <a:lnTo>
                  <a:pt x="909" y="142"/>
                </a:lnTo>
                <a:lnTo>
                  <a:pt x="909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5" name=""/>
          <p:cNvSpPr/>
          <p:nvPr/>
        </p:nvSpPr>
        <p:spPr>
          <a:xfrm>
            <a:off x="4314960" y="5654520"/>
            <a:ext cx="321120" cy="66960"/>
          </a:xfrm>
          <a:custGeom>
            <a:avLst/>
            <a:gdLst/>
            <a:ahLst/>
            <a:rect l="0" t="0" r="r" b="b"/>
            <a:pathLst>
              <a:path w="892" h="186">
                <a:moveTo>
                  <a:pt x="52" y="8"/>
                </a:moveTo>
                <a:lnTo>
                  <a:pt x="0" y="186"/>
                </a:lnTo>
                <a:lnTo>
                  <a:pt x="892" y="186"/>
                </a:lnTo>
                <a:lnTo>
                  <a:pt x="892" y="0"/>
                </a:lnTo>
                <a:lnTo>
                  <a:pt x="52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36" name=""/>
          <p:cNvGrpSpPr/>
          <p:nvPr/>
        </p:nvGrpSpPr>
        <p:grpSpPr>
          <a:xfrm>
            <a:off x="1192320" y="4551480"/>
            <a:ext cx="245880" cy="1444680"/>
            <a:chOff x="1192320" y="4551480"/>
            <a:chExt cx="245880" cy="1444680"/>
          </a:xfrm>
        </p:grpSpPr>
        <p:sp>
          <p:nvSpPr>
            <p:cNvPr id="7537" name=""/>
            <p:cNvSpPr/>
            <p:nvPr/>
          </p:nvSpPr>
          <p:spPr>
            <a:xfrm>
              <a:off x="14382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11923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11923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0" name=""/>
          <p:cNvGrpSpPr/>
          <p:nvPr/>
        </p:nvGrpSpPr>
        <p:grpSpPr>
          <a:xfrm>
            <a:off x="3571920" y="4551480"/>
            <a:ext cx="245880" cy="1444680"/>
            <a:chOff x="3571920" y="4551480"/>
            <a:chExt cx="245880" cy="1444680"/>
          </a:xfrm>
        </p:grpSpPr>
        <p:sp>
          <p:nvSpPr>
            <p:cNvPr id="7541" name=""/>
            <p:cNvSpPr/>
            <p:nvPr/>
          </p:nvSpPr>
          <p:spPr>
            <a:xfrm>
              <a:off x="38178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35719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35719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4" name=""/>
          <p:cNvGrpSpPr/>
          <p:nvPr/>
        </p:nvGrpSpPr>
        <p:grpSpPr>
          <a:xfrm>
            <a:off x="5951520" y="4518000"/>
            <a:ext cx="246240" cy="1444680"/>
            <a:chOff x="5951520" y="4518000"/>
            <a:chExt cx="246240" cy="1444680"/>
          </a:xfrm>
        </p:grpSpPr>
        <p:sp>
          <p:nvSpPr>
            <p:cNvPr id="7545" name=""/>
            <p:cNvSpPr/>
            <p:nvPr/>
          </p:nvSpPr>
          <p:spPr>
            <a:xfrm>
              <a:off x="6197760" y="451800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5951520" y="451800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5951520" y="595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8" name=""/>
          <p:cNvGrpSpPr/>
          <p:nvPr/>
        </p:nvGrpSpPr>
        <p:grpSpPr>
          <a:xfrm>
            <a:off x="7178760" y="4519440"/>
            <a:ext cx="245880" cy="1444680"/>
            <a:chOff x="7178760" y="4519440"/>
            <a:chExt cx="245880" cy="1444680"/>
          </a:xfrm>
        </p:grpSpPr>
        <p:sp>
          <p:nvSpPr>
            <p:cNvPr id="7549" name=""/>
            <p:cNvSpPr/>
            <p:nvPr/>
          </p:nvSpPr>
          <p:spPr>
            <a:xfrm>
              <a:off x="7424640" y="451944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7178760" y="451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7178760" y="59612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2" name=""/>
          <p:cNvGrpSpPr/>
          <p:nvPr/>
        </p:nvGrpSpPr>
        <p:grpSpPr>
          <a:xfrm>
            <a:off x="8223120" y="4562640"/>
            <a:ext cx="246240" cy="1444320"/>
            <a:chOff x="8223120" y="4562640"/>
            <a:chExt cx="246240" cy="1444320"/>
          </a:xfrm>
        </p:grpSpPr>
        <p:sp>
          <p:nvSpPr>
            <p:cNvPr id="7553" name=""/>
            <p:cNvSpPr/>
            <p:nvPr/>
          </p:nvSpPr>
          <p:spPr>
            <a:xfrm>
              <a:off x="8469360" y="4562640"/>
              <a:ext cx="0" cy="144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8223120" y="456264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8223120" y="600408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6" name=""/>
          <p:cNvSpPr txBox="1"/>
          <p:nvPr/>
        </p:nvSpPr>
        <p:spPr>
          <a:xfrm>
            <a:off x="849240" y="386388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7" name=""/>
          <p:cNvSpPr txBox="1"/>
          <p:nvPr/>
        </p:nvSpPr>
        <p:spPr>
          <a:xfrm>
            <a:off x="1477800" y="3841920"/>
            <a:ext cx="54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8" name=""/>
          <p:cNvSpPr txBox="1"/>
          <p:nvPr/>
        </p:nvSpPr>
        <p:spPr>
          <a:xfrm>
            <a:off x="884160" y="43894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9" name=""/>
          <p:cNvSpPr txBox="1"/>
          <p:nvPr/>
        </p:nvSpPr>
        <p:spPr>
          <a:xfrm>
            <a:off x="900000" y="58658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0" name=""/>
          <p:cNvSpPr txBox="1"/>
          <p:nvPr/>
        </p:nvSpPr>
        <p:spPr>
          <a:xfrm>
            <a:off x="329724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1" name=""/>
          <p:cNvSpPr txBox="1"/>
          <p:nvPr/>
        </p:nvSpPr>
        <p:spPr>
          <a:xfrm>
            <a:off x="3313080" y="58802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2" name=""/>
          <p:cNvSpPr txBox="1"/>
          <p:nvPr/>
        </p:nvSpPr>
        <p:spPr>
          <a:xfrm>
            <a:off x="5678640" y="43736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3" name=""/>
          <p:cNvSpPr txBox="1"/>
          <p:nvPr/>
        </p:nvSpPr>
        <p:spPr>
          <a:xfrm>
            <a:off x="5662440" y="58341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4" name=""/>
          <p:cNvSpPr txBox="1"/>
          <p:nvPr/>
        </p:nvSpPr>
        <p:spPr>
          <a:xfrm>
            <a:off x="6905520" y="43750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5" name=""/>
          <p:cNvSpPr txBox="1"/>
          <p:nvPr/>
        </p:nvSpPr>
        <p:spPr>
          <a:xfrm>
            <a:off x="6907320" y="58183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6" name=""/>
          <p:cNvSpPr txBox="1"/>
          <p:nvPr/>
        </p:nvSpPr>
        <p:spPr>
          <a:xfrm>
            <a:off x="795168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7" name=""/>
          <p:cNvSpPr txBox="1"/>
          <p:nvPr/>
        </p:nvSpPr>
        <p:spPr>
          <a:xfrm>
            <a:off x="7951680" y="586440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8" name=""/>
          <p:cNvSpPr/>
          <p:nvPr/>
        </p:nvSpPr>
        <p:spPr>
          <a:xfrm>
            <a:off x="6343560" y="4844880"/>
            <a:ext cx="2715840" cy="427320"/>
          </a:xfrm>
          <a:custGeom>
            <a:avLst/>
            <a:gdLst/>
            <a:ahLst/>
            <a:rect l="0" t="0" r="r" b="b"/>
            <a:pathLst>
              <a:path fill="none" w="7544" h="1187">
                <a:moveTo>
                  <a:pt x="7544" y="1187"/>
                </a:moveTo>
                <a:lnTo>
                  <a:pt x="7544" y="1187"/>
                </a:lnTo>
                <a:cubicBezTo>
                  <a:pt x="7367" y="1055"/>
                  <a:pt x="7111" y="929"/>
                  <a:pt x="6781" y="810"/>
                </a:cubicBezTo>
                <a:cubicBezTo>
                  <a:pt x="6094" y="564"/>
                  <a:pt x="5105" y="359"/>
                  <a:pt x="3915" y="217"/>
                </a:cubicBezTo>
                <a:cubicBezTo>
                  <a:pt x="2725" y="75"/>
                  <a:pt x="137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9" name=""/>
          <p:cNvSpPr/>
          <p:nvPr/>
        </p:nvSpPr>
        <p:spPr>
          <a:xfrm>
            <a:off x="6346440" y="5062680"/>
            <a:ext cx="2706120" cy="409320"/>
          </a:xfrm>
          <a:custGeom>
            <a:avLst/>
            <a:gdLst/>
            <a:ahLst/>
            <a:rect l="0" t="0" r="r" b="b"/>
            <a:pathLst>
              <a:path fill="none" w="7517" h="1137">
                <a:moveTo>
                  <a:pt x="7517" y="0"/>
                </a:moveTo>
                <a:lnTo>
                  <a:pt x="7517" y="0"/>
                </a:lnTo>
                <a:lnTo>
                  <a:pt x="7517" y="0"/>
                </a:lnTo>
                <a:cubicBezTo>
                  <a:pt x="6113" y="0"/>
                  <a:pt x="4734" y="80"/>
                  <a:pt x="3519" y="231"/>
                </a:cubicBezTo>
                <a:cubicBezTo>
                  <a:pt x="2303" y="383"/>
                  <a:pt x="1294" y="600"/>
                  <a:pt x="592" y="863"/>
                </a:cubicBezTo>
                <a:cubicBezTo>
                  <a:pt x="358" y="950"/>
                  <a:pt x="160" y="1042"/>
                  <a:pt x="0" y="11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0" name=""/>
          <p:cNvSpPr/>
          <p:nvPr/>
        </p:nvSpPr>
        <p:spPr>
          <a:xfrm>
            <a:off x="6610320" y="4676760"/>
            <a:ext cx="752760" cy="190800"/>
          </a:xfrm>
          <a:custGeom>
            <a:avLst/>
            <a:gdLst/>
            <a:ahLst/>
            <a:rect l="0" t="0" r="r" b="b"/>
            <a:pathLst>
              <a:path w="2091" h="530">
                <a:moveTo>
                  <a:pt x="0" y="424"/>
                </a:moveTo>
                <a:lnTo>
                  <a:pt x="66" y="0"/>
                </a:lnTo>
                <a:lnTo>
                  <a:pt x="2091" y="198"/>
                </a:lnTo>
                <a:lnTo>
                  <a:pt x="1945" y="530"/>
                </a:lnTo>
                <a:lnTo>
                  <a:pt x="0" y="424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1" name=""/>
          <p:cNvSpPr/>
          <p:nvPr/>
        </p:nvSpPr>
        <p:spPr>
          <a:xfrm>
            <a:off x="6405480" y="5662440"/>
            <a:ext cx="886320" cy="195480"/>
          </a:xfrm>
          <a:custGeom>
            <a:avLst/>
            <a:gdLst/>
            <a:ahLst/>
            <a:rect l="0" t="0" r="r" b="b"/>
            <a:pathLst>
              <a:path w="2462" h="543">
                <a:moveTo>
                  <a:pt x="2462" y="0"/>
                </a:moveTo>
                <a:lnTo>
                  <a:pt x="2171" y="490"/>
                </a:lnTo>
                <a:lnTo>
                  <a:pt x="0" y="543"/>
                </a:lnTo>
                <a:lnTo>
                  <a:pt x="251" y="92"/>
                </a:lnTo>
                <a:lnTo>
                  <a:pt x="2462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2" name=""/>
          <p:cNvSpPr/>
          <p:nvPr/>
        </p:nvSpPr>
        <p:spPr>
          <a:xfrm>
            <a:off x="5629320" y="2876400"/>
            <a:ext cx="844560" cy="844560"/>
          </a:xfrm>
          <a:prstGeom prst="ellipse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3" name=""/>
          <p:cNvSpPr/>
          <p:nvPr/>
        </p:nvSpPr>
        <p:spPr>
          <a:xfrm>
            <a:off x="6948360" y="2914560"/>
            <a:ext cx="757080" cy="757080"/>
          </a:xfrm>
          <a:prstGeom prst="ellipse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4" name=""/>
          <p:cNvSpPr txBox="1"/>
          <p:nvPr/>
        </p:nvSpPr>
        <p:spPr>
          <a:xfrm>
            <a:off x="5450040" y="376704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5" name=""/>
          <p:cNvSpPr txBox="1"/>
          <p:nvPr/>
        </p:nvSpPr>
        <p:spPr>
          <a:xfrm>
            <a:off x="7034040" y="375588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6" name=""/>
          <p:cNvSpPr txBox="1"/>
          <p:nvPr/>
        </p:nvSpPr>
        <p:spPr>
          <a:xfrm>
            <a:off x="6056280" y="3747960"/>
            <a:ext cx="54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-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7" name=""/>
          <p:cNvSpPr txBox="1"/>
          <p:nvPr/>
        </p:nvSpPr>
        <p:spPr>
          <a:xfrm>
            <a:off x="7091280" y="3949560"/>
            <a:ext cx="54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-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8" name=""/>
          <p:cNvSpPr/>
          <p:nvPr/>
        </p:nvSpPr>
        <p:spPr>
          <a:xfrm>
            <a:off x="3151080" y="2922480"/>
            <a:ext cx="844920" cy="844920"/>
          </a:xfrm>
          <a:custGeom>
            <a:avLst/>
            <a:gdLst/>
            <a:ahLst/>
            <a:rect l="0" t="0" r="r" b="b"/>
            <a:pathLst>
              <a:path w="2347" h="2347">
                <a:moveTo>
                  <a:pt x="0" y="704"/>
                </a:moveTo>
                <a:lnTo>
                  <a:pt x="0" y="1643"/>
                </a:lnTo>
                <a:lnTo>
                  <a:pt x="704" y="2347"/>
                </a:lnTo>
                <a:lnTo>
                  <a:pt x="1643" y="2347"/>
                </a:lnTo>
                <a:lnTo>
                  <a:pt x="2347" y="1643"/>
                </a:lnTo>
                <a:lnTo>
                  <a:pt x="2347" y="704"/>
                </a:lnTo>
                <a:lnTo>
                  <a:pt x="1643" y="0"/>
                </a:lnTo>
                <a:lnTo>
                  <a:pt x="704" y="0"/>
                </a:lnTo>
                <a:lnTo>
                  <a:pt x="0" y="704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9" name=""/>
          <p:cNvSpPr txBox="1"/>
          <p:nvPr/>
        </p:nvSpPr>
        <p:spPr>
          <a:xfrm>
            <a:off x="2995560" y="384336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0" name=""/>
          <p:cNvSpPr txBox="1"/>
          <p:nvPr/>
        </p:nvSpPr>
        <p:spPr>
          <a:xfrm>
            <a:off x="3651120" y="382752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 Design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322280"/>
            <a:ext cx="803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pha Characters A - A,  B - B,  C - C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 Alphabet has been exhausted, use double characters AA - AA,  BB - BB, CC - CC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ecessary, triple characters may also be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esignators should </a:t>
            </a:r>
            <a:r>
              <a:rPr b="1" lang="en-US" sz="32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lude the characters</a:t>
            </a:r>
            <a:r>
              <a:rPr b="1" lang="en-US" sz="32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or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1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2" name=""/>
          <p:cNvSpPr txBox="1"/>
          <p:nvPr/>
        </p:nvSpPr>
        <p:spPr>
          <a:xfrm>
            <a:off x="2706840" y="1035000"/>
            <a:ext cx="339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3" name=""/>
          <p:cNvSpPr/>
          <p:nvPr/>
        </p:nvSpPr>
        <p:spPr>
          <a:xfrm>
            <a:off x="423720" y="4842000"/>
            <a:ext cx="6837480" cy="84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4" name=""/>
          <p:cNvSpPr/>
          <p:nvPr/>
        </p:nvSpPr>
        <p:spPr>
          <a:xfrm>
            <a:off x="3151080" y="2922480"/>
            <a:ext cx="844920" cy="844920"/>
          </a:xfrm>
          <a:custGeom>
            <a:avLst/>
            <a:gdLst/>
            <a:ahLst/>
            <a:rect l="0" t="0" r="r" b="b"/>
            <a:pathLst>
              <a:path w="2347" h="2347">
                <a:moveTo>
                  <a:pt x="0" y="704"/>
                </a:moveTo>
                <a:lnTo>
                  <a:pt x="0" y="1643"/>
                </a:lnTo>
                <a:lnTo>
                  <a:pt x="704" y="2347"/>
                </a:lnTo>
                <a:lnTo>
                  <a:pt x="1643" y="2347"/>
                </a:lnTo>
                <a:lnTo>
                  <a:pt x="2347" y="1643"/>
                </a:lnTo>
                <a:lnTo>
                  <a:pt x="2347" y="704"/>
                </a:lnTo>
                <a:lnTo>
                  <a:pt x="1643" y="0"/>
                </a:lnTo>
                <a:lnTo>
                  <a:pt x="704" y="0"/>
                </a:lnTo>
                <a:lnTo>
                  <a:pt x="0" y="704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5" name=""/>
          <p:cNvSpPr/>
          <p:nvPr/>
        </p:nvSpPr>
        <p:spPr>
          <a:xfrm>
            <a:off x="5629320" y="2876400"/>
            <a:ext cx="844560" cy="844560"/>
          </a:xfrm>
          <a:prstGeom prst="ellipse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6" name=""/>
          <p:cNvSpPr/>
          <p:nvPr/>
        </p:nvSpPr>
        <p:spPr>
          <a:xfrm>
            <a:off x="995400" y="2955960"/>
            <a:ext cx="844560" cy="84456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7" name=""/>
          <p:cNvSpPr/>
          <p:nvPr/>
        </p:nvSpPr>
        <p:spPr>
          <a:xfrm>
            <a:off x="3035160" y="50720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8" name=""/>
          <p:cNvSpPr/>
          <p:nvPr/>
        </p:nvSpPr>
        <p:spPr>
          <a:xfrm>
            <a:off x="3051000" y="5454720"/>
            <a:ext cx="222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9" name=""/>
          <p:cNvSpPr/>
          <p:nvPr/>
        </p:nvSpPr>
        <p:spPr>
          <a:xfrm>
            <a:off x="5280120" y="53323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0" name=""/>
          <p:cNvSpPr/>
          <p:nvPr/>
        </p:nvSpPr>
        <p:spPr>
          <a:xfrm>
            <a:off x="5280120" y="49467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1" name=""/>
          <p:cNvSpPr/>
          <p:nvPr/>
        </p:nvSpPr>
        <p:spPr>
          <a:xfrm>
            <a:off x="5281560" y="50688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2" name=""/>
          <p:cNvSpPr/>
          <p:nvPr/>
        </p:nvSpPr>
        <p:spPr>
          <a:xfrm>
            <a:off x="5259240" y="545292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3" name=""/>
          <p:cNvSpPr/>
          <p:nvPr/>
        </p:nvSpPr>
        <p:spPr>
          <a:xfrm>
            <a:off x="5261040" y="556416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345"/>
                </a:moveTo>
                <a:lnTo>
                  <a:pt x="0" y="345"/>
                </a:lnTo>
                <a:cubicBezTo>
                  <a:pt x="195" y="345"/>
                  <a:pt x="387" y="329"/>
                  <a:pt x="556" y="299"/>
                </a:cubicBezTo>
                <a:cubicBezTo>
                  <a:pt x="725" y="268"/>
                  <a:pt x="865" y="225"/>
                  <a:pt x="963" y="172"/>
                </a:cubicBezTo>
                <a:cubicBezTo>
                  <a:pt x="1061" y="120"/>
                  <a:pt x="1112" y="61"/>
                  <a:pt x="1112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4" name=""/>
          <p:cNvSpPr/>
          <p:nvPr/>
        </p:nvSpPr>
        <p:spPr>
          <a:xfrm>
            <a:off x="5280120" y="4840200"/>
            <a:ext cx="400320" cy="124200"/>
          </a:xfrm>
          <a:custGeom>
            <a:avLst/>
            <a:gdLst/>
            <a:ahLst/>
            <a:rect l="0" t="0" r="r" b="b"/>
            <a:pathLst>
              <a:path fill="none" w="1112" h="345">
                <a:moveTo>
                  <a:pt x="0" y="0"/>
                </a:moveTo>
                <a:lnTo>
                  <a:pt x="0" y="0"/>
                </a:lnTo>
                <a:cubicBezTo>
                  <a:pt x="0" y="61"/>
                  <a:pt x="51" y="120"/>
                  <a:pt x="149" y="173"/>
                </a:cubicBezTo>
                <a:cubicBezTo>
                  <a:pt x="247" y="225"/>
                  <a:pt x="387" y="268"/>
                  <a:pt x="556" y="299"/>
                </a:cubicBezTo>
                <a:cubicBezTo>
                  <a:pt x="725" y="329"/>
                  <a:pt x="917" y="345"/>
                  <a:pt x="1112" y="34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5" name=""/>
          <p:cNvSpPr/>
          <p:nvPr/>
        </p:nvSpPr>
        <p:spPr>
          <a:xfrm>
            <a:off x="2645280" y="4852080"/>
            <a:ext cx="398520" cy="220320"/>
          </a:xfrm>
          <a:custGeom>
            <a:avLst/>
            <a:gdLst/>
            <a:ahLst/>
            <a:rect l="0" t="0" r="r" b="b"/>
            <a:pathLst>
              <a:path fill="none" w="1107" h="612">
                <a:moveTo>
                  <a:pt x="0" y="0"/>
                </a:moveTo>
                <a:lnTo>
                  <a:pt x="0" y="0"/>
                </a:lnTo>
                <a:cubicBezTo>
                  <a:pt x="16" y="96"/>
                  <a:pt x="65" y="189"/>
                  <a:pt x="144" y="272"/>
                </a:cubicBezTo>
                <a:cubicBezTo>
                  <a:pt x="241" y="375"/>
                  <a:pt x="382" y="461"/>
                  <a:pt x="551" y="521"/>
                </a:cubicBezTo>
                <a:cubicBezTo>
                  <a:pt x="720" y="581"/>
                  <a:pt x="912" y="612"/>
                  <a:pt x="1107" y="61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6" name=""/>
          <p:cNvSpPr/>
          <p:nvPr/>
        </p:nvSpPr>
        <p:spPr>
          <a:xfrm>
            <a:off x="2658960" y="5481720"/>
            <a:ext cx="398160" cy="219240"/>
          </a:xfrm>
          <a:custGeom>
            <a:avLst/>
            <a:gdLst/>
            <a:ahLst/>
            <a:rect l="0" t="0" r="r" b="b"/>
            <a:pathLst>
              <a:path fill="none" w="1106" h="609">
                <a:moveTo>
                  <a:pt x="0" y="609"/>
                </a:moveTo>
                <a:lnTo>
                  <a:pt x="0" y="609"/>
                </a:lnTo>
                <a:lnTo>
                  <a:pt x="0" y="609"/>
                </a:lnTo>
                <a:cubicBezTo>
                  <a:pt x="195" y="609"/>
                  <a:pt x="387" y="578"/>
                  <a:pt x="556" y="518"/>
                </a:cubicBezTo>
                <a:cubicBezTo>
                  <a:pt x="725" y="458"/>
                  <a:pt x="866" y="372"/>
                  <a:pt x="963" y="269"/>
                </a:cubicBezTo>
                <a:cubicBezTo>
                  <a:pt x="1041" y="186"/>
                  <a:pt x="1090" y="95"/>
                  <a:pt x="110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7" name=""/>
          <p:cNvSpPr/>
          <p:nvPr/>
        </p:nvSpPr>
        <p:spPr>
          <a:xfrm>
            <a:off x="7224840" y="489600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8" name=""/>
          <p:cNvSpPr/>
          <p:nvPr/>
        </p:nvSpPr>
        <p:spPr>
          <a:xfrm>
            <a:off x="6624720" y="563076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9" name=""/>
          <p:cNvSpPr/>
          <p:nvPr/>
        </p:nvSpPr>
        <p:spPr>
          <a:xfrm>
            <a:off x="5557680" y="5272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0" name=""/>
          <p:cNvSpPr/>
          <p:nvPr/>
        </p:nvSpPr>
        <p:spPr>
          <a:xfrm>
            <a:off x="7043760" y="527220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1" name=""/>
          <p:cNvSpPr/>
          <p:nvPr/>
        </p:nvSpPr>
        <p:spPr>
          <a:xfrm>
            <a:off x="7215120" y="527220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2" name=""/>
          <p:cNvSpPr/>
          <p:nvPr/>
        </p:nvSpPr>
        <p:spPr>
          <a:xfrm flipV="1">
            <a:off x="442800" y="4843440"/>
            <a:ext cx="81468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3" name=""/>
          <p:cNvSpPr/>
          <p:nvPr/>
        </p:nvSpPr>
        <p:spPr>
          <a:xfrm>
            <a:off x="414360" y="4836960"/>
            <a:ext cx="829080" cy="829080"/>
          </a:xfrm>
          <a:custGeom>
            <a:avLst/>
            <a:gdLst/>
            <a:ahLst/>
            <a:rect l="0" t="0" r="r" b="b"/>
            <a:pathLst>
              <a:path w="2303" h="2303">
                <a:moveTo>
                  <a:pt x="0" y="0"/>
                </a:moveTo>
                <a:lnTo>
                  <a:pt x="0" y="2303"/>
                </a:lnTo>
                <a:lnTo>
                  <a:pt x="2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4" name=""/>
          <p:cNvSpPr/>
          <p:nvPr/>
        </p:nvSpPr>
        <p:spPr>
          <a:xfrm>
            <a:off x="6948360" y="2914560"/>
            <a:ext cx="757080" cy="757080"/>
          </a:xfrm>
          <a:prstGeom prst="ellipse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5" name=""/>
          <p:cNvSpPr/>
          <p:nvPr/>
        </p:nvSpPr>
        <p:spPr>
          <a:xfrm>
            <a:off x="8163000" y="3070080"/>
            <a:ext cx="442800" cy="442800"/>
          </a:xfrm>
          <a:prstGeom prst="ellipse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6" name=""/>
          <p:cNvSpPr/>
          <p:nvPr/>
        </p:nvSpPr>
        <p:spPr>
          <a:xfrm>
            <a:off x="4325760" y="4848120"/>
            <a:ext cx="170280" cy="824400"/>
          </a:xfrm>
          <a:custGeom>
            <a:avLst/>
            <a:gdLst/>
            <a:ahLst/>
            <a:rect l="0" t="0" r="r" b="b"/>
            <a:pathLst>
              <a:path fill="none" w="473" h="2290">
                <a:moveTo>
                  <a:pt x="376" y="0"/>
                </a:moveTo>
                <a:lnTo>
                  <a:pt x="385" y="110"/>
                </a:lnTo>
                <a:lnTo>
                  <a:pt x="473" y="238"/>
                </a:lnTo>
                <a:lnTo>
                  <a:pt x="473" y="366"/>
                </a:lnTo>
                <a:lnTo>
                  <a:pt x="473" y="493"/>
                </a:lnTo>
                <a:lnTo>
                  <a:pt x="385" y="622"/>
                </a:lnTo>
                <a:lnTo>
                  <a:pt x="300" y="755"/>
                </a:lnTo>
                <a:lnTo>
                  <a:pt x="256" y="922"/>
                </a:lnTo>
                <a:lnTo>
                  <a:pt x="217" y="1050"/>
                </a:lnTo>
                <a:lnTo>
                  <a:pt x="217" y="1266"/>
                </a:lnTo>
                <a:lnTo>
                  <a:pt x="217" y="1394"/>
                </a:lnTo>
                <a:lnTo>
                  <a:pt x="128" y="1522"/>
                </a:lnTo>
                <a:lnTo>
                  <a:pt x="88" y="1650"/>
                </a:lnTo>
                <a:lnTo>
                  <a:pt x="44" y="1779"/>
                </a:lnTo>
                <a:lnTo>
                  <a:pt x="44" y="1907"/>
                </a:lnTo>
                <a:lnTo>
                  <a:pt x="44" y="2034"/>
                </a:lnTo>
                <a:lnTo>
                  <a:pt x="44" y="2162"/>
                </a:lnTo>
                <a:lnTo>
                  <a:pt x="0" y="229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7" name=""/>
          <p:cNvSpPr/>
          <p:nvPr/>
        </p:nvSpPr>
        <p:spPr>
          <a:xfrm>
            <a:off x="4648320" y="4851360"/>
            <a:ext cx="138600" cy="814680"/>
          </a:xfrm>
          <a:custGeom>
            <a:avLst/>
            <a:gdLst/>
            <a:ahLst/>
            <a:rect l="0" t="0" r="r" b="b"/>
            <a:pathLst>
              <a:path fill="none" w="385" h="2263">
                <a:moveTo>
                  <a:pt x="301" y="0"/>
                </a:moveTo>
                <a:lnTo>
                  <a:pt x="345" y="127"/>
                </a:lnTo>
                <a:lnTo>
                  <a:pt x="345" y="255"/>
                </a:lnTo>
                <a:lnTo>
                  <a:pt x="385" y="383"/>
                </a:lnTo>
                <a:lnTo>
                  <a:pt x="385" y="511"/>
                </a:lnTo>
                <a:lnTo>
                  <a:pt x="345" y="639"/>
                </a:lnTo>
                <a:lnTo>
                  <a:pt x="345" y="771"/>
                </a:lnTo>
                <a:lnTo>
                  <a:pt x="345" y="899"/>
                </a:lnTo>
                <a:lnTo>
                  <a:pt x="301" y="1027"/>
                </a:lnTo>
                <a:lnTo>
                  <a:pt x="256" y="1156"/>
                </a:lnTo>
                <a:lnTo>
                  <a:pt x="217" y="1284"/>
                </a:lnTo>
                <a:lnTo>
                  <a:pt x="172" y="1412"/>
                </a:lnTo>
                <a:lnTo>
                  <a:pt x="128" y="1539"/>
                </a:lnTo>
                <a:lnTo>
                  <a:pt x="128" y="1751"/>
                </a:lnTo>
                <a:lnTo>
                  <a:pt x="88" y="1879"/>
                </a:lnTo>
                <a:lnTo>
                  <a:pt x="44" y="2007"/>
                </a:lnTo>
                <a:lnTo>
                  <a:pt x="0" y="2135"/>
                </a:lnTo>
                <a:lnTo>
                  <a:pt x="0" y="226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8" name=""/>
          <p:cNvSpPr/>
          <p:nvPr/>
        </p:nvSpPr>
        <p:spPr>
          <a:xfrm>
            <a:off x="4470480" y="480708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9" name=""/>
          <p:cNvSpPr/>
          <p:nvPr/>
        </p:nvSpPr>
        <p:spPr>
          <a:xfrm>
            <a:off x="4460760" y="5048280"/>
            <a:ext cx="311400" cy="44640"/>
          </a:xfrm>
          <a:custGeom>
            <a:avLst/>
            <a:gdLst/>
            <a:ahLst/>
            <a:rect l="0" t="0" r="r" b="b"/>
            <a:pathLst>
              <a:path w="865" h="124">
                <a:moveTo>
                  <a:pt x="79" y="8"/>
                </a:moveTo>
                <a:lnTo>
                  <a:pt x="0" y="124"/>
                </a:lnTo>
                <a:lnTo>
                  <a:pt x="830" y="115"/>
                </a:lnTo>
                <a:lnTo>
                  <a:pt x="865" y="0"/>
                </a:lnTo>
                <a:lnTo>
                  <a:pt x="79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0" name=""/>
          <p:cNvSpPr/>
          <p:nvPr/>
        </p:nvSpPr>
        <p:spPr>
          <a:xfrm>
            <a:off x="4359240" y="5423040"/>
            <a:ext cx="327240" cy="51120"/>
          </a:xfrm>
          <a:custGeom>
            <a:avLst/>
            <a:gdLst/>
            <a:ahLst/>
            <a:rect l="0" t="0" r="r" b="b"/>
            <a:pathLst>
              <a:path w="909" h="142">
                <a:moveTo>
                  <a:pt x="44" y="0"/>
                </a:moveTo>
                <a:lnTo>
                  <a:pt x="0" y="106"/>
                </a:lnTo>
                <a:lnTo>
                  <a:pt x="909" y="142"/>
                </a:lnTo>
                <a:lnTo>
                  <a:pt x="909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1" name=""/>
          <p:cNvSpPr/>
          <p:nvPr/>
        </p:nvSpPr>
        <p:spPr>
          <a:xfrm>
            <a:off x="4314960" y="5654520"/>
            <a:ext cx="321120" cy="66960"/>
          </a:xfrm>
          <a:custGeom>
            <a:avLst/>
            <a:gdLst/>
            <a:ahLst/>
            <a:rect l="0" t="0" r="r" b="b"/>
            <a:pathLst>
              <a:path w="892" h="186">
                <a:moveTo>
                  <a:pt x="52" y="8"/>
                </a:moveTo>
                <a:lnTo>
                  <a:pt x="0" y="186"/>
                </a:lnTo>
                <a:lnTo>
                  <a:pt x="892" y="186"/>
                </a:lnTo>
                <a:lnTo>
                  <a:pt x="892" y="0"/>
                </a:lnTo>
                <a:lnTo>
                  <a:pt x="52" y="8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12" name=""/>
          <p:cNvGrpSpPr/>
          <p:nvPr/>
        </p:nvGrpSpPr>
        <p:grpSpPr>
          <a:xfrm>
            <a:off x="1192320" y="4551480"/>
            <a:ext cx="245880" cy="1444680"/>
            <a:chOff x="1192320" y="4551480"/>
            <a:chExt cx="245880" cy="1444680"/>
          </a:xfrm>
        </p:grpSpPr>
        <p:sp>
          <p:nvSpPr>
            <p:cNvPr id="7613" name=""/>
            <p:cNvSpPr/>
            <p:nvPr/>
          </p:nvSpPr>
          <p:spPr>
            <a:xfrm>
              <a:off x="14382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11923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5" name=""/>
            <p:cNvSpPr/>
            <p:nvPr/>
          </p:nvSpPr>
          <p:spPr>
            <a:xfrm>
              <a:off x="11923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16" name=""/>
          <p:cNvGrpSpPr/>
          <p:nvPr/>
        </p:nvGrpSpPr>
        <p:grpSpPr>
          <a:xfrm>
            <a:off x="3571920" y="4551480"/>
            <a:ext cx="245880" cy="1444680"/>
            <a:chOff x="3571920" y="4551480"/>
            <a:chExt cx="245880" cy="1444680"/>
          </a:xfrm>
        </p:grpSpPr>
        <p:sp>
          <p:nvSpPr>
            <p:cNvPr id="7617" name=""/>
            <p:cNvSpPr/>
            <p:nvPr/>
          </p:nvSpPr>
          <p:spPr>
            <a:xfrm>
              <a:off x="3817800" y="455148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3571920" y="455148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3571920" y="599292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0" name=""/>
          <p:cNvGrpSpPr/>
          <p:nvPr/>
        </p:nvGrpSpPr>
        <p:grpSpPr>
          <a:xfrm>
            <a:off x="5951520" y="4518000"/>
            <a:ext cx="246240" cy="1444680"/>
            <a:chOff x="5951520" y="4518000"/>
            <a:chExt cx="246240" cy="1444680"/>
          </a:xfrm>
        </p:grpSpPr>
        <p:sp>
          <p:nvSpPr>
            <p:cNvPr id="7621" name=""/>
            <p:cNvSpPr/>
            <p:nvPr/>
          </p:nvSpPr>
          <p:spPr>
            <a:xfrm>
              <a:off x="6197760" y="451800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5951520" y="451800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5951520" y="595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4" name=""/>
          <p:cNvGrpSpPr/>
          <p:nvPr/>
        </p:nvGrpSpPr>
        <p:grpSpPr>
          <a:xfrm>
            <a:off x="7178760" y="4519440"/>
            <a:ext cx="245880" cy="1444680"/>
            <a:chOff x="7178760" y="4519440"/>
            <a:chExt cx="245880" cy="1444680"/>
          </a:xfrm>
        </p:grpSpPr>
        <p:sp>
          <p:nvSpPr>
            <p:cNvPr id="7625" name=""/>
            <p:cNvSpPr/>
            <p:nvPr/>
          </p:nvSpPr>
          <p:spPr>
            <a:xfrm>
              <a:off x="7424640" y="4519440"/>
              <a:ext cx="0" cy="1444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7178760" y="45194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7178760" y="5961240"/>
              <a:ext cx="23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8" name=""/>
          <p:cNvGrpSpPr/>
          <p:nvPr/>
        </p:nvGrpSpPr>
        <p:grpSpPr>
          <a:xfrm>
            <a:off x="8223120" y="4562640"/>
            <a:ext cx="246240" cy="1444320"/>
            <a:chOff x="8223120" y="4562640"/>
            <a:chExt cx="246240" cy="1444320"/>
          </a:xfrm>
        </p:grpSpPr>
        <p:sp>
          <p:nvSpPr>
            <p:cNvPr id="7629" name=""/>
            <p:cNvSpPr/>
            <p:nvPr/>
          </p:nvSpPr>
          <p:spPr>
            <a:xfrm>
              <a:off x="8469360" y="4562640"/>
              <a:ext cx="0" cy="144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8223120" y="456264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8223120" y="6004080"/>
              <a:ext cx="23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2" name=""/>
          <p:cNvSpPr txBox="1"/>
          <p:nvPr/>
        </p:nvSpPr>
        <p:spPr>
          <a:xfrm>
            <a:off x="849240" y="386388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3" name=""/>
          <p:cNvSpPr txBox="1"/>
          <p:nvPr/>
        </p:nvSpPr>
        <p:spPr>
          <a:xfrm>
            <a:off x="2995560" y="384336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4" name=""/>
          <p:cNvSpPr txBox="1"/>
          <p:nvPr/>
        </p:nvSpPr>
        <p:spPr>
          <a:xfrm>
            <a:off x="5450040" y="376704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5" name=""/>
          <p:cNvSpPr txBox="1"/>
          <p:nvPr/>
        </p:nvSpPr>
        <p:spPr>
          <a:xfrm>
            <a:off x="7034040" y="375588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6" name=""/>
          <p:cNvSpPr txBox="1"/>
          <p:nvPr/>
        </p:nvSpPr>
        <p:spPr>
          <a:xfrm>
            <a:off x="8062920" y="3600360"/>
            <a:ext cx="64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7" name=""/>
          <p:cNvSpPr txBox="1"/>
          <p:nvPr/>
        </p:nvSpPr>
        <p:spPr>
          <a:xfrm>
            <a:off x="1477800" y="3841920"/>
            <a:ext cx="54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8" name=""/>
          <p:cNvSpPr txBox="1"/>
          <p:nvPr/>
        </p:nvSpPr>
        <p:spPr>
          <a:xfrm>
            <a:off x="3651120" y="382752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9" name=""/>
          <p:cNvSpPr txBox="1"/>
          <p:nvPr/>
        </p:nvSpPr>
        <p:spPr>
          <a:xfrm>
            <a:off x="6056280" y="3747960"/>
            <a:ext cx="54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-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0" name=""/>
          <p:cNvSpPr txBox="1"/>
          <p:nvPr/>
        </p:nvSpPr>
        <p:spPr>
          <a:xfrm>
            <a:off x="7091280" y="3949560"/>
            <a:ext cx="54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-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1" name=""/>
          <p:cNvSpPr txBox="1"/>
          <p:nvPr/>
        </p:nvSpPr>
        <p:spPr>
          <a:xfrm>
            <a:off x="8147160" y="379584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2" name=""/>
          <p:cNvSpPr txBox="1"/>
          <p:nvPr/>
        </p:nvSpPr>
        <p:spPr>
          <a:xfrm>
            <a:off x="884160" y="43894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3" name=""/>
          <p:cNvSpPr txBox="1"/>
          <p:nvPr/>
        </p:nvSpPr>
        <p:spPr>
          <a:xfrm>
            <a:off x="900000" y="58658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4" name=""/>
          <p:cNvSpPr txBox="1"/>
          <p:nvPr/>
        </p:nvSpPr>
        <p:spPr>
          <a:xfrm>
            <a:off x="329724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5" name=""/>
          <p:cNvSpPr txBox="1"/>
          <p:nvPr/>
        </p:nvSpPr>
        <p:spPr>
          <a:xfrm>
            <a:off x="3313080" y="58802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6" name=""/>
          <p:cNvSpPr txBox="1"/>
          <p:nvPr/>
        </p:nvSpPr>
        <p:spPr>
          <a:xfrm>
            <a:off x="5678640" y="43736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7" name=""/>
          <p:cNvSpPr txBox="1"/>
          <p:nvPr/>
        </p:nvSpPr>
        <p:spPr>
          <a:xfrm>
            <a:off x="5662440" y="58341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8" name=""/>
          <p:cNvSpPr txBox="1"/>
          <p:nvPr/>
        </p:nvSpPr>
        <p:spPr>
          <a:xfrm>
            <a:off x="6905520" y="43750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9" name=""/>
          <p:cNvSpPr txBox="1"/>
          <p:nvPr/>
        </p:nvSpPr>
        <p:spPr>
          <a:xfrm>
            <a:off x="6907320" y="58183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0" name=""/>
          <p:cNvSpPr txBox="1"/>
          <p:nvPr/>
        </p:nvSpPr>
        <p:spPr>
          <a:xfrm>
            <a:off x="7951680" y="4405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1" name=""/>
          <p:cNvSpPr txBox="1"/>
          <p:nvPr/>
        </p:nvSpPr>
        <p:spPr>
          <a:xfrm>
            <a:off x="7951680" y="586440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2" name=""/>
          <p:cNvSpPr/>
          <p:nvPr/>
        </p:nvSpPr>
        <p:spPr>
          <a:xfrm>
            <a:off x="6343560" y="4844880"/>
            <a:ext cx="2715840" cy="427320"/>
          </a:xfrm>
          <a:custGeom>
            <a:avLst/>
            <a:gdLst/>
            <a:ahLst/>
            <a:rect l="0" t="0" r="r" b="b"/>
            <a:pathLst>
              <a:path fill="none" w="7544" h="1187">
                <a:moveTo>
                  <a:pt x="7544" y="1187"/>
                </a:moveTo>
                <a:lnTo>
                  <a:pt x="7544" y="1187"/>
                </a:lnTo>
                <a:cubicBezTo>
                  <a:pt x="7367" y="1055"/>
                  <a:pt x="7111" y="929"/>
                  <a:pt x="6781" y="810"/>
                </a:cubicBezTo>
                <a:cubicBezTo>
                  <a:pt x="6094" y="564"/>
                  <a:pt x="5105" y="359"/>
                  <a:pt x="3915" y="217"/>
                </a:cubicBezTo>
                <a:cubicBezTo>
                  <a:pt x="2725" y="75"/>
                  <a:pt x="137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3" name=""/>
          <p:cNvSpPr/>
          <p:nvPr/>
        </p:nvSpPr>
        <p:spPr>
          <a:xfrm>
            <a:off x="6346440" y="5062680"/>
            <a:ext cx="2706120" cy="409320"/>
          </a:xfrm>
          <a:custGeom>
            <a:avLst/>
            <a:gdLst/>
            <a:ahLst/>
            <a:rect l="0" t="0" r="r" b="b"/>
            <a:pathLst>
              <a:path fill="none" w="7517" h="1137">
                <a:moveTo>
                  <a:pt x="7517" y="0"/>
                </a:moveTo>
                <a:lnTo>
                  <a:pt x="7517" y="0"/>
                </a:lnTo>
                <a:lnTo>
                  <a:pt x="7517" y="0"/>
                </a:lnTo>
                <a:cubicBezTo>
                  <a:pt x="6113" y="0"/>
                  <a:pt x="4734" y="80"/>
                  <a:pt x="3519" y="231"/>
                </a:cubicBezTo>
                <a:cubicBezTo>
                  <a:pt x="2303" y="383"/>
                  <a:pt x="1294" y="600"/>
                  <a:pt x="592" y="863"/>
                </a:cubicBezTo>
                <a:cubicBezTo>
                  <a:pt x="358" y="950"/>
                  <a:pt x="160" y="1042"/>
                  <a:pt x="0" y="11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4" name=""/>
          <p:cNvSpPr/>
          <p:nvPr/>
        </p:nvSpPr>
        <p:spPr>
          <a:xfrm>
            <a:off x="6610320" y="4676760"/>
            <a:ext cx="752760" cy="190800"/>
          </a:xfrm>
          <a:custGeom>
            <a:avLst/>
            <a:gdLst/>
            <a:ahLst/>
            <a:rect l="0" t="0" r="r" b="b"/>
            <a:pathLst>
              <a:path w="2091" h="530">
                <a:moveTo>
                  <a:pt x="0" y="424"/>
                </a:moveTo>
                <a:lnTo>
                  <a:pt x="66" y="0"/>
                </a:lnTo>
                <a:lnTo>
                  <a:pt x="2091" y="198"/>
                </a:lnTo>
                <a:lnTo>
                  <a:pt x="1945" y="530"/>
                </a:lnTo>
                <a:lnTo>
                  <a:pt x="0" y="424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5" name=""/>
          <p:cNvSpPr/>
          <p:nvPr/>
        </p:nvSpPr>
        <p:spPr>
          <a:xfrm>
            <a:off x="6405480" y="5662440"/>
            <a:ext cx="886320" cy="195480"/>
          </a:xfrm>
          <a:custGeom>
            <a:avLst/>
            <a:gdLst/>
            <a:ahLst/>
            <a:rect l="0" t="0" r="r" b="b"/>
            <a:pathLst>
              <a:path w="2462" h="543">
                <a:moveTo>
                  <a:pt x="2462" y="0"/>
                </a:moveTo>
                <a:lnTo>
                  <a:pt x="2171" y="490"/>
                </a:lnTo>
                <a:lnTo>
                  <a:pt x="0" y="543"/>
                </a:lnTo>
                <a:lnTo>
                  <a:pt x="251" y="92"/>
                </a:lnTo>
                <a:lnTo>
                  <a:pt x="2462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6" name=""/>
          <p:cNvSpPr txBox="1"/>
          <p:nvPr/>
        </p:nvSpPr>
        <p:spPr>
          <a:xfrm>
            <a:off x="685800" y="220824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</a:t>
            </a:r>
            <a:br>
              <a:rPr sz="7200"/>
            </a:b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Plac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7" name=""/>
          <p:cNvGrpSpPr/>
          <p:nvPr/>
        </p:nvGrpSpPr>
        <p:grpSpPr>
          <a:xfrm>
            <a:off x="254160" y="3371760"/>
            <a:ext cx="8697960" cy="1107000"/>
            <a:chOff x="254160" y="3371760"/>
            <a:chExt cx="8697960" cy="1107000"/>
          </a:xfrm>
        </p:grpSpPr>
        <p:sp>
          <p:nvSpPr>
            <p:cNvPr id="7658" name=""/>
            <p:cNvSpPr/>
            <p:nvPr/>
          </p:nvSpPr>
          <p:spPr>
            <a:xfrm>
              <a:off x="3444840" y="372744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3473280" y="4071960"/>
              <a:ext cx="1074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60" name=""/>
            <p:cNvGrpSpPr/>
            <p:nvPr/>
          </p:nvGrpSpPr>
          <p:grpSpPr>
            <a:xfrm>
              <a:off x="4927680" y="3473280"/>
              <a:ext cx="440280" cy="848160"/>
              <a:chOff x="4927680" y="3473280"/>
              <a:chExt cx="440280" cy="848160"/>
            </a:xfrm>
          </p:grpSpPr>
          <p:sp>
            <p:nvSpPr>
              <p:cNvPr id="7661" name=""/>
              <p:cNvSpPr/>
              <p:nvPr/>
            </p:nvSpPr>
            <p:spPr>
              <a:xfrm>
                <a:off x="4970520" y="3965400"/>
                <a:ext cx="397080" cy="109800"/>
              </a:xfrm>
              <a:custGeom>
                <a:avLst/>
                <a:gdLst/>
                <a:ahLst/>
                <a:rect l="0" t="0" r="r" b="b"/>
                <a:pathLst>
                  <a:path fill="none" w="1103" h="305">
                    <a:moveTo>
                      <a:pt x="0" y="305"/>
                    </a:moveTo>
                    <a:lnTo>
                      <a:pt x="0" y="305"/>
                    </a:lnTo>
                    <a:cubicBezTo>
                      <a:pt x="194" y="305"/>
                      <a:pt x="384" y="291"/>
                      <a:pt x="552" y="264"/>
                    </a:cubicBezTo>
                    <a:cubicBezTo>
                      <a:pt x="719" y="237"/>
                      <a:pt x="858" y="199"/>
                      <a:pt x="955" y="152"/>
                    </a:cubicBezTo>
                    <a:cubicBezTo>
                      <a:pt x="1052" y="106"/>
                      <a:pt x="1103" y="54"/>
                      <a:pt x="1103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4960800" y="3579840"/>
                <a:ext cx="406800" cy="149760"/>
              </a:xfrm>
              <a:custGeom>
                <a:avLst/>
                <a:gdLst/>
                <a:ahLst/>
                <a:rect l="0" t="0" r="r" b="b"/>
                <a:pathLst>
                  <a:path fill="none" w="1130" h="416">
                    <a:moveTo>
                      <a:pt x="0" y="416"/>
                    </a:moveTo>
                    <a:lnTo>
                      <a:pt x="0" y="416"/>
                    </a:lnTo>
                    <a:cubicBezTo>
                      <a:pt x="198" y="416"/>
                      <a:pt x="393" y="397"/>
                      <a:pt x="565" y="360"/>
                    </a:cubicBezTo>
                    <a:cubicBezTo>
                      <a:pt x="737" y="324"/>
                      <a:pt x="879" y="271"/>
                      <a:pt x="979" y="208"/>
                    </a:cubicBezTo>
                    <a:cubicBezTo>
                      <a:pt x="1078" y="145"/>
                      <a:pt x="1130" y="73"/>
                      <a:pt x="113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4950000" y="3724200"/>
                <a:ext cx="417960" cy="100440"/>
              </a:xfrm>
              <a:custGeom>
                <a:avLst/>
                <a:gdLst/>
                <a:ahLst/>
                <a:rect l="0" t="0" r="r" b="b"/>
                <a:pathLst>
                  <a:path fill="none" w="1161" h="279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9"/>
                      <a:pt x="54" y="97"/>
                      <a:pt x="156" y="140"/>
                    </a:cubicBezTo>
                    <a:cubicBezTo>
                      <a:pt x="257" y="182"/>
                      <a:pt x="404" y="217"/>
                      <a:pt x="581" y="242"/>
                    </a:cubicBezTo>
                    <a:cubicBezTo>
                      <a:pt x="757" y="266"/>
                      <a:pt x="957" y="279"/>
                      <a:pt x="1161" y="279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4927680" y="4070520"/>
                <a:ext cx="417960" cy="138600"/>
              </a:xfrm>
              <a:custGeom>
                <a:avLst/>
                <a:gdLst/>
                <a:ahLst/>
                <a:rect l="0" t="0" r="r" b="b"/>
                <a:pathLst>
                  <a:path fill="none" w="1161" h="385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68"/>
                      <a:pt x="54" y="134"/>
                      <a:pt x="156" y="193"/>
                    </a:cubicBezTo>
                    <a:cubicBezTo>
                      <a:pt x="257" y="251"/>
                      <a:pt x="404" y="300"/>
                      <a:pt x="581" y="333"/>
                    </a:cubicBezTo>
                    <a:cubicBezTo>
                      <a:pt x="757" y="367"/>
                      <a:pt x="957" y="385"/>
                      <a:pt x="1161" y="38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>
                <a:off x="4948200" y="4197240"/>
                <a:ext cx="400320" cy="124200"/>
              </a:xfrm>
              <a:custGeom>
                <a:avLst/>
                <a:gdLst/>
                <a:ahLst/>
                <a:rect l="0" t="0" r="r" b="b"/>
                <a:pathLst>
                  <a:path fill="none" w="1112" h="345">
                    <a:moveTo>
                      <a:pt x="0" y="345"/>
                    </a:moveTo>
                    <a:lnTo>
                      <a:pt x="0" y="345"/>
                    </a:lnTo>
                    <a:cubicBezTo>
                      <a:pt x="195" y="345"/>
                      <a:pt x="387" y="329"/>
                      <a:pt x="556" y="299"/>
                    </a:cubicBezTo>
                    <a:cubicBezTo>
                      <a:pt x="725" y="268"/>
                      <a:pt x="865" y="225"/>
                      <a:pt x="963" y="172"/>
                    </a:cubicBezTo>
                    <a:cubicBezTo>
                      <a:pt x="1061" y="120"/>
                      <a:pt x="1112" y="61"/>
                      <a:pt x="1112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4967280" y="3473280"/>
                <a:ext cx="400320" cy="124200"/>
              </a:xfrm>
              <a:custGeom>
                <a:avLst/>
                <a:gdLst/>
                <a:ahLst/>
                <a:rect l="0" t="0" r="r" b="b"/>
                <a:pathLst>
                  <a:path fill="none" w="1112" h="345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61"/>
                      <a:pt x="51" y="120"/>
                      <a:pt x="149" y="173"/>
                    </a:cubicBezTo>
                    <a:cubicBezTo>
                      <a:pt x="247" y="225"/>
                      <a:pt x="387" y="268"/>
                      <a:pt x="556" y="299"/>
                    </a:cubicBezTo>
                    <a:cubicBezTo>
                      <a:pt x="725" y="329"/>
                      <a:pt x="917" y="345"/>
                      <a:pt x="1112" y="34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67" name=""/>
            <p:cNvSpPr/>
            <p:nvPr/>
          </p:nvSpPr>
          <p:spPr>
            <a:xfrm>
              <a:off x="3141720" y="3487320"/>
              <a:ext cx="306720" cy="240120"/>
            </a:xfrm>
            <a:custGeom>
              <a:avLst/>
              <a:gdLst/>
              <a:ahLst/>
              <a:rect l="0" t="0" r="r" b="b"/>
              <a:pathLst>
                <a:path fill="none" w="852" h="667">
                  <a:moveTo>
                    <a:pt x="0" y="0"/>
                  </a:moveTo>
                  <a:lnTo>
                    <a:pt x="0" y="0"/>
                  </a:lnTo>
                  <a:cubicBezTo>
                    <a:pt x="13" y="105"/>
                    <a:pt x="52" y="206"/>
                    <a:pt x="115" y="297"/>
                  </a:cubicBezTo>
                  <a:cubicBezTo>
                    <a:pt x="193" y="410"/>
                    <a:pt x="306" y="503"/>
                    <a:pt x="441" y="568"/>
                  </a:cubicBezTo>
                  <a:cubicBezTo>
                    <a:pt x="566" y="628"/>
                    <a:pt x="707" y="662"/>
                    <a:pt x="852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3205800" y="4098240"/>
              <a:ext cx="310320" cy="236520"/>
            </a:xfrm>
            <a:custGeom>
              <a:avLst/>
              <a:gdLst/>
              <a:ahLst/>
              <a:rect l="0" t="0" r="r" b="b"/>
              <a:pathLst>
                <a:path fill="none" w="862" h="657">
                  <a:moveTo>
                    <a:pt x="0" y="657"/>
                  </a:moveTo>
                  <a:lnTo>
                    <a:pt x="0" y="657"/>
                  </a:lnTo>
                  <a:cubicBezTo>
                    <a:pt x="128" y="644"/>
                    <a:pt x="252" y="613"/>
                    <a:pt x="364" y="565"/>
                  </a:cubicBezTo>
                  <a:cubicBezTo>
                    <a:pt x="517" y="500"/>
                    <a:pt x="644" y="406"/>
                    <a:pt x="733" y="294"/>
                  </a:cubicBezTo>
                  <a:cubicBezTo>
                    <a:pt x="803" y="203"/>
                    <a:pt x="847" y="103"/>
                    <a:pt x="8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6153120" y="347976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6156000" y="369720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7054920" y="352908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6323040" y="337176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6454800" y="426420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6873840" y="390528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5" name=""/>
            <p:cNvSpPr/>
            <p:nvPr/>
          </p:nvSpPr>
          <p:spPr>
            <a:xfrm flipV="1">
              <a:off x="254160" y="3476520"/>
              <a:ext cx="849240" cy="84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1101600" y="347652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254160" y="431784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9" name=""/>
            <p:cNvSpPr/>
            <p:nvPr/>
          </p:nvSpPr>
          <p:spPr>
            <a:xfrm flipH="1">
              <a:off x="4494240" y="372600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0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8864640" y="378144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7045200" y="390528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5388120" y="390528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4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5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6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7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88" name=""/>
          <p:cNvGrpSpPr/>
          <p:nvPr/>
        </p:nvGrpSpPr>
        <p:grpSpPr>
          <a:xfrm>
            <a:off x="254160" y="3214800"/>
            <a:ext cx="8697960" cy="1397160"/>
            <a:chOff x="254160" y="3214800"/>
            <a:chExt cx="8697960" cy="1397160"/>
          </a:xfrm>
        </p:grpSpPr>
        <p:sp>
          <p:nvSpPr>
            <p:cNvPr id="7689" name=""/>
            <p:cNvSpPr/>
            <p:nvPr/>
          </p:nvSpPr>
          <p:spPr>
            <a:xfrm>
              <a:off x="2774880" y="3727440"/>
              <a:ext cx="1735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90" name=""/>
            <p:cNvGrpSpPr/>
            <p:nvPr/>
          </p:nvGrpSpPr>
          <p:grpSpPr>
            <a:xfrm>
              <a:off x="1808280" y="3306600"/>
              <a:ext cx="0" cy="1198800"/>
              <a:chOff x="1808280" y="3306600"/>
              <a:chExt cx="0" cy="1198800"/>
            </a:xfrm>
          </p:grpSpPr>
          <p:sp>
            <p:nvSpPr>
              <p:cNvPr id="7691" name=""/>
              <p:cNvSpPr/>
              <p:nvPr/>
            </p:nvSpPr>
            <p:spPr>
              <a:xfrm>
                <a:off x="1808280" y="38419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1808280" y="40402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1808280" y="3306600"/>
                <a:ext cx="0" cy="4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94" name=""/>
            <p:cNvSpPr/>
            <p:nvPr/>
          </p:nvSpPr>
          <p:spPr>
            <a:xfrm>
              <a:off x="2862360" y="4075200"/>
              <a:ext cx="1709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511344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510372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509256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507060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509112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511020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2475000" y="348732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2487600" y="410040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6153120" y="347976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6156000" y="369720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7054920" y="352908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6323040" y="337176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6454800" y="426420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5388120" y="390528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6873840" y="390528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0" name=""/>
            <p:cNvSpPr/>
            <p:nvPr/>
          </p:nvSpPr>
          <p:spPr>
            <a:xfrm flipV="1">
              <a:off x="254160" y="3476520"/>
              <a:ext cx="849240" cy="84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1101600" y="347652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254160" y="431784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4" name=""/>
            <p:cNvSpPr/>
            <p:nvPr/>
          </p:nvSpPr>
          <p:spPr>
            <a:xfrm flipH="1">
              <a:off x="4494240" y="372744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5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2989440" y="321480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2957400" y="348156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281400" y="348156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8864640" y="378144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7045200" y="390528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1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2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23" name=""/>
          <p:cNvGrpSpPr/>
          <p:nvPr/>
        </p:nvGrpSpPr>
        <p:grpSpPr>
          <a:xfrm>
            <a:off x="254160" y="3214800"/>
            <a:ext cx="8697960" cy="1397160"/>
            <a:chOff x="254160" y="3214800"/>
            <a:chExt cx="8697960" cy="1397160"/>
          </a:xfrm>
        </p:grpSpPr>
        <p:sp>
          <p:nvSpPr>
            <p:cNvPr id="7724" name=""/>
            <p:cNvSpPr/>
            <p:nvPr/>
          </p:nvSpPr>
          <p:spPr>
            <a:xfrm>
              <a:off x="1365120" y="3475080"/>
              <a:ext cx="841320" cy="84132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2774880" y="3727440"/>
              <a:ext cx="1735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26" name=""/>
            <p:cNvGrpSpPr/>
            <p:nvPr/>
          </p:nvGrpSpPr>
          <p:grpSpPr>
            <a:xfrm>
              <a:off x="1808280" y="3306600"/>
              <a:ext cx="0" cy="1198800"/>
              <a:chOff x="1808280" y="3306600"/>
              <a:chExt cx="0" cy="1198800"/>
            </a:xfrm>
          </p:grpSpPr>
          <p:sp>
            <p:nvSpPr>
              <p:cNvPr id="7727" name=""/>
              <p:cNvSpPr/>
              <p:nvPr/>
            </p:nvSpPr>
            <p:spPr>
              <a:xfrm>
                <a:off x="1808280" y="38419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1808280" y="40402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1808280" y="3306600"/>
                <a:ext cx="0" cy="4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30" name=""/>
            <p:cNvSpPr/>
            <p:nvPr/>
          </p:nvSpPr>
          <p:spPr>
            <a:xfrm>
              <a:off x="2862360" y="4075200"/>
              <a:ext cx="1709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511344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510372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509256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507060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509112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511020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2475000" y="348732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2487600" y="410040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6153120" y="347976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6156000" y="369720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7054920" y="352908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6323040" y="337176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6454800" y="426420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5388120" y="390528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6873840" y="390528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6" name=""/>
            <p:cNvSpPr/>
            <p:nvPr/>
          </p:nvSpPr>
          <p:spPr>
            <a:xfrm flipV="1">
              <a:off x="254160" y="3476520"/>
              <a:ext cx="849240" cy="84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1101600" y="347652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254160" y="431784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0" name=""/>
            <p:cNvSpPr/>
            <p:nvPr/>
          </p:nvSpPr>
          <p:spPr>
            <a:xfrm flipH="1">
              <a:off x="4494240" y="372744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1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2989440" y="321480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2957400" y="348156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281400" y="348156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8864640" y="378144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7045200" y="390528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7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8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9" name=""/>
          <p:cNvGrpSpPr/>
          <p:nvPr/>
        </p:nvGrpSpPr>
        <p:grpSpPr>
          <a:xfrm>
            <a:off x="254160" y="3214800"/>
            <a:ext cx="8697960" cy="1397160"/>
            <a:chOff x="254160" y="3214800"/>
            <a:chExt cx="8697960" cy="1397160"/>
          </a:xfrm>
        </p:grpSpPr>
        <p:sp>
          <p:nvSpPr>
            <p:cNvPr id="7760" name=""/>
            <p:cNvSpPr/>
            <p:nvPr/>
          </p:nvSpPr>
          <p:spPr>
            <a:xfrm>
              <a:off x="1365120" y="3475080"/>
              <a:ext cx="841320" cy="84132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2774880" y="3727440"/>
              <a:ext cx="1720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62" name=""/>
            <p:cNvGrpSpPr/>
            <p:nvPr/>
          </p:nvGrpSpPr>
          <p:grpSpPr>
            <a:xfrm>
              <a:off x="1808280" y="3306600"/>
              <a:ext cx="0" cy="1198800"/>
              <a:chOff x="1808280" y="3306600"/>
              <a:chExt cx="0" cy="1198800"/>
            </a:xfrm>
          </p:grpSpPr>
          <p:sp>
            <p:nvSpPr>
              <p:cNvPr id="7763" name=""/>
              <p:cNvSpPr/>
              <p:nvPr/>
            </p:nvSpPr>
            <p:spPr>
              <a:xfrm>
                <a:off x="1808280" y="38419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1808280" y="40402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1808280" y="3306600"/>
                <a:ext cx="0" cy="4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66" name=""/>
            <p:cNvSpPr/>
            <p:nvPr/>
          </p:nvSpPr>
          <p:spPr>
            <a:xfrm>
              <a:off x="2862360" y="4075200"/>
              <a:ext cx="16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511344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510372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509256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507060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509112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511020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2475000" y="348732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2487600" y="410040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6153120" y="347976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6156000" y="369720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7054920" y="352908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6323040" y="337176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6454800" y="426420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5388120" y="390528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6873840" y="390528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2" name=""/>
            <p:cNvSpPr/>
            <p:nvPr/>
          </p:nvSpPr>
          <p:spPr>
            <a:xfrm flipV="1">
              <a:off x="254160" y="3476520"/>
              <a:ext cx="849240" cy="84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84" name=""/>
            <p:cNvGrpSpPr/>
            <p:nvPr/>
          </p:nvGrpSpPr>
          <p:grpSpPr>
            <a:xfrm>
              <a:off x="4068720" y="3319560"/>
              <a:ext cx="0" cy="1198440"/>
              <a:chOff x="4068720" y="3319560"/>
              <a:chExt cx="0" cy="1198440"/>
            </a:xfrm>
          </p:grpSpPr>
          <p:sp>
            <p:nvSpPr>
              <p:cNvPr id="7785" name=""/>
              <p:cNvSpPr/>
              <p:nvPr/>
            </p:nvSpPr>
            <p:spPr>
              <a:xfrm>
                <a:off x="4068720" y="38545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4068720" y="40528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4068720" y="3319560"/>
                <a:ext cx="0" cy="442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88" name=""/>
            <p:cNvSpPr/>
            <p:nvPr/>
          </p:nvSpPr>
          <p:spPr>
            <a:xfrm>
              <a:off x="1101600" y="347652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254160" y="431784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0" name=""/>
            <p:cNvSpPr/>
            <p:nvPr/>
          </p:nvSpPr>
          <p:spPr>
            <a:xfrm flipH="1">
              <a:off x="4494240" y="372744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1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2989440" y="321480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2957400" y="348156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281400" y="348156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8864640" y="378144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7045200" y="390528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7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8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99" name=""/>
          <p:cNvGrpSpPr/>
          <p:nvPr/>
        </p:nvGrpSpPr>
        <p:grpSpPr>
          <a:xfrm>
            <a:off x="254160" y="3214800"/>
            <a:ext cx="8697960" cy="1397160"/>
            <a:chOff x="254160" y="3214800"/>
            <a:chExt cx="8697960" cy="1397160"/>
          </a:xfrm>
        </p:grpSpPr>
        <p:sp>
          <p:nvSpPr>
            <p:cNvPr id="7800" name=""/>
            <p:cNvSpPr/>
            <p:nvPr/>
          </p:nvSpPr>
          <p:spPr>
            <a:xfrm>
              <a:off x="3648240" y="3476520"/>
              <a:ext cx="844920" cy="841680"/>
            </a:xfrm>
            <a:custGeom>
              <a:avLst/>
              <a:gdLst/>
              <a:ahLst/>
              <a:rect l="0" t="0" r="r" b="b"/>
              <a:pathLst>
                <a:path w="2347" h="2338">
                  <a:moveTo>
                    <a:pt x="0" y="701"/>
                  </a:moveTo>
                  <a:lnTo>
                    <a:pt x="0" y="1637"/>
                  </a:lnTo>
                  <a:lnTo>
                    <a:pt x="704" y="2338"/>
                  </a:lnTo>
                  <a:lnTo>
                    <a:pt x="1643" y="2338"/>
                  </a:lnTo>
                  <a:lnTo>
                    <a:pt x="2347" y="1637"/>
                  </a:lnTo>
                  <a:lnTo>
                    <a:pt x="2347" y="701"/>
                  </a:lnTo>
                  <a:lnTo>
                    <a:pt x="1643" y="0"/>
                  </a:lnTo>
                  <a:lnTo>
                    <a:pt x="704" y="0"/>
                  </a:lnTo>
                  <a:lnTo>
                    <a:pt x="0" y="701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1365120" y="3475080"/>
              <a:ext cx="841320" cy="841320"/>
            </a:xfrm>
            <a:prstGeom prst="rect">
              <a:avLst/>
            </a:pr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2774880" y="3727440"/>
              <a:ext cx="874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03" name=""/>
            <p:cNvGrpSpPr/>
            <p:nvPr/>
          </p:nvGrpSpPr>
          <p:grpSpPr>
            <a:xfrm>
              <a:off x="1808280" y="3306600"/>
              <a:ext cx="0" cy="1198800"/>
              <a:chOff x="1808280" y="3306600"/>
              <a:chExt cx="0" cy="1198800"/>
            </a:xfrm>
          </p:grpSpPr>
          <p:sp>
            <p:nvSpPr>
              <p:cNvPr id="7804" name=""/>
              <p:cNvSpPr/>
              <p:nvPr/>
            </p:nvSpPr>
            <p:spPr>
              <a:xfrm>
                <a:off x="1808280" y="38419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1808280" y="40402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1808280" y="3306600"/>
                <a:ext cx="0" cy="4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7" name=""/>
            <p:cNvSpPr/>
            <p:nvPr/>
          </p:nvSpPr>
          <p:spPr>
            <a:xfrm>
              <a:off x="2862360" y="4075200"/>
              <a:ext cx="787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511344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510372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509256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507060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509112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511020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2475000" y="348732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2487600" y="410040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6153120" y="347976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6156000" y="369720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7054920" y="352908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6323040" y="337176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6454800" y="426420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5388120" y="390528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6873840" y="390528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3" name=""/>
            <p:cNvSpPr/>
            <p:nvPr/>
          </p:nvSpPr>
          <p:spPr>
            <a:xfrm flipV="1">
              <a:off x="254160" y="3476520"/>
              <a:ext cx="849240" cy="84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25" name=""/>
            <p:cNvGrpSpPr/>
            <p:nvPr/>
          </p:nvGrpSpPr>
          <p:grpSpPr>
            <a:xfrm>
              <a:off x="4068720" y="3319560"/>
              <a:ext cx="0" cy="1198440"/>
              <a:chOff x="4068720" y="3319560"/>
              <a:chExt cx="0" cy="1198440"/>
            </a:xfrm>
          </p:grpSpPr>
          <p:sp>
            <p:nvSpPr>
              <p:cNvPr id="7826" name=""/>
              <p:cNvSpPr/>
              <p:nvPr/>
            </p:nvSpPr>
            <p:spPr>
              <a:xfrm>
                <a:off x="4068720" y="38545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4068720" y="40528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4068720" y="3319560"/>
                <a:ext cx="0" cy="442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29" name=""/>
            <p:cNvSpPr/>
            <p:nvPr/>
          </p:nvSpPr>
          <p:spPr>
            <a:xfrm>
              <a:off x="1101600" y="347652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254160" y="431784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1" name=""/>
            <p:cNvSpPr/>
            <p:nvPr/>
          </p:nvSpPr>
          <p:spPr>
            <a:xfrm flipH="1">
              <a:off x="4494240" y="372744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2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2989440" y="321480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2957400" y="348156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3281400" y="348156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8864640" y="378144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7045200" y="390528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8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9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0" name=""/>
          <p:cNvGrpSpPr/>
          <p:nvPr/>
        </p:nvGrpSpPr>
        <p:grpSpPr>
          <a:xfrm>
            <a:off x="254160" y="3214800"/>
            <a:ext cx="8697960" cy="1397160"/>
            <a:chOff x="254160" y="3214800"/>
            <a:chExt cx="8697960" cy="1397160"/>
          </a:xfrm>
        </p:grpSpPr>
        <p:sp>
          <p:nvSpPr>
            <p:cNvPr id="7841" name=""/>
            <p:cNvSpPr/>
            <p:nvPr/>
          </p:nvSpPr>
          <p:spPr>
            <a:xfrm>
              <a:off x="3648240" y="3476520"/>
              <a:ext cx="844920" cy="841680"/>
            </a:xfrm>
            <a:custGeom>
              <a:avLst/>
              <a:gdLst/>
              <a:ahLst/>
              <a:rect l="0" t="0" r="r" b="b"/>
              <a:pathLst>
                <a:path w="2347" h="2338">
                  <a:moveTo>
                    <a:pt x="0" y="701"/>
                  </a:moveTo>
                  <a:lnTo>
                    <a:pt x="0" y="1637"/>
                  </a:lnTo>
                  <a:lnTo>
                    <a:pt x="704" y="2338"/>
                  </a:lnTo>
                  <a:lnTo>
                    <a:pt x="1643" y="2338"/>
                  </a:lnTo>
                  <a:lnTo>
                    <a:pt x="2347" y="1637"/>
                  </a:lnTo>
                  <a:lnTo>
                    <a:pt x="2347" y="701"/>
                  </a:lnTo>
                  <a:lnTo>
                    <a:pt x="1643" y="0"/>
                  </a:lnTo>
                  <a:lnTo>
                    <a:pt x="704" y="0"/>
                  </a:lnTo>
                  <a:lnTo>
                    <a:pt x="0" y="701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1365120" y="3475080"/>
              <a:ext cx="841320" cy="841320"/>
            </a:xfrm>
            <a:prstGeom prst="rect">
              <a:avLst/>
            </a:pr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2774880" y="3727440"/>
              <a:ext cx="874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44" name=""/>
            <p:cNvGrpSpPr/>
            <p:nvPr/>
          </p:nvGrpSpPr>
          <p:grpSpPr>
            <a:xfrm>
              <a:off x="1808280" y="3306600"/>
              <a:ext cx="0" cy="1198800"/>
              <a:chOff x="1808280" y="3306600"/>
              <a:chExt cx="0" cy="1198800"/>
            </a:xfrm>
          </p:grpSpPr>
          <p:sp>
            <p:nvSpPr>
              <p:cNvPr id="7845" name=""/>
              <p:cNvSpPr/>
              <p:nvPr/>
            </p:nvSpPr>
            <p:spPr>
              <a:xfrm>
                <a:off x="1808280" y="38419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1808280" y="40402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1808280" y="3306600"/>
                <a:ext cx="0" cy="4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48" name=""/>
            <p:cNvSpPr/>
            <p:nvPr/>
          </p:nvSpPr>
          <p:spPr>
            <a:xfrm>
              <a:off x="2862360" y="4075200"/>
              <a:ext cx="787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511344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510372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509256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507060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509112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511020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2475000" y="348732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2487600" y="410040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6153120" y="347976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6156000" y="369720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7054920" y="352908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6323040" y="337176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6454800" y="426420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5388120" y="390528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6873840" y="390528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4" name=""/>
            <p:cNvSpPr/>
            <p:nvPr/>
          </p:nvSpPr>
          <p:spPr>
            <a:xfrm flipV="1">
              <a:off x="254160" y="3476520"/>
              <a:ext cx="849240" cy="84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66" name=""/>
            <p:cNvGrpSpPr/>
            <p:nvPr/>
          </p:nvGrpSpPr>
          <p:grpSpPr>
            <a:xfrm>
              <a:off x="6140520" y="3305160"/>
              <a:ext cx="0" cy="1198440"/>
              <a:chOff x="6140520" y="3305160"/>
              <a:chExt cx="0" cy="1198440"/>
            </a:xfrm>
          </p:grpSpPr>
          <p:sp>
            <p:nvSpPr>
              <p:cNvPr id="7867" name=""/>
              <p:cNvSpPr/>
              <p:nvPr/>
            </p:nvSpPr>
            <p:spPr>
              <a:xfrm>
                <a:off x="6140520" y="3840120"/>
                <a:ext cx="0" cy="10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6140520" y="40384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6140520" y="3305160"/>
                <a:ext cx="0" cy="442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70" name=""/>
            <p:cNvGrpSpPr/>
            <p:nvPr/>
          </p:nvGrpSpPr>
          <p:grpSpPr>
            <a:xfrm>
              <a:off x="4068720" y="3319560"/>
              <a:ext cx="0" cy="1198440"/>
              <a:chOff x="4068720" y="3319560"/>
              <a:chExt cx="0" cy="1198440"/>
            </a:xfrm>
          </p:grpSpPr>
          <p:sp>
            <p:nvSpPr>
              <p:cNvPr id="7871" name=""/>
              <p:cNvSpPr/>
              <p:nvPr/>
            </p:nvSpPr>
            <p:spPr>
              <a:xfrm>
                <a:off x="4068720" y="38545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4068720" y="40528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4068720" y="3319560"/>
                <a:ext cx="0" cy="442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74" name=""/>
            <p:cNvSpPr/>
            <p:nvPr/>
          </p:nvSpPr>
          <p:spPr>
            <a:xfrm>
              <a:off x="1101600" y="347652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5" name=""/>
            <p:cNvSpPr/>
            <p:nvPr/>
          </p:nvSpPr>
          <p:spPr>
            <a:xfrm>
              <a:off x="254160" y="431784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6" name=""/>
            <p:cNvSpPr/>
            <p:nvPr/>
          </p:nvSpPr>
          <p:spPr>
            <a:xfrm flipH="1">
              <a:off x="4494240" y="372744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2989440" y="321480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2957400" y="348156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281400" y="348156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8864640" y="378144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7045200" y="390528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3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4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85" name=""/>
          <p:cNvGrpSpPr/>
          <p:nvPr/>
        </p:nvGrpSpPr>
        <p:grpSpPr>
          <a:xfrm>
            <a:off x="254160" y="3214800"/>
            <a:ext cx="8697960" cy="1397160"/>
            <a:chOff x="254160" y="3214800"/>
            <a:chExt cx="8697960" cy="1397160"/>
          </a:xfrm>
        </p:grpSpPr>
        <p:sp>
          <p:nvSpPr>
            <p:cNvPr id="7886" name=""/>
            <p:cNvSpPr/>
            <p:nvPr/>
          </p:nvSpPr>
          <p:spPr>
            <a:xfrm>
              <a:off x="3648240" y="3476520"/>
              <a:ext cx="844920" cy="841680"/>
            </a:xfrm>
            <a:custGeom>
              <a:avLst/>
              <a:gdLst/>
              <a:ahLst/>
              <a:rect l="0" t="0" r="r" b="b"/>
              <a:pathLst>
                <a:path w="2347" h="2338">
                  <a:moveTo>
                    <a:pt x="0" y="701"/>
                  </a:moveTo>
                  <a:lnTo>
                    <a:pt x="0" y="1637"/>
                  </a:lnTo>
                  <a:lnTo>
                    <a:pt x="704" y="2338"/>
                  </a:lnTo>
                  <a:lnTo>
                    <a:pt x="1643" y="2338"/>
                  </a:lnTo>
                  <a:lnTo>
                    <a:pt x="2347" y="1637"/>
                  </a:lnTo>
                  <a:lnTo>
                    <a:pt x="2347" y="701"/>
                  </a:lnTo>
                  <a:lnTo>
                    <a:pt x="1643" y="0"/>
                  </a:lnTo>
                  <a:lnTo>
                    <a:pt x="704" y="0"/>
                  </a:lnTo>
                  <a:lnTo>
                    <a:pt x="0" y="701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5729400" y="3478320"/>
              <a:ext cx="844560" cy="844560"/>
            </a:xfrm>
            <a:prstGeom prst="ellipse">
              <a:avLst/>
            </a:pr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1365120" y="3475080"/>
              <a:ext cx="841320" cy="841320"/>
            </a:xfrm>
            <a:prstGeom prst="rect">
              <a:avLst/>
            </a:pr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2774880" y="3727440"/>
              <a:ext cx="874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90" name=""/>
            <p:cNvGrpSpPr/>
            <p:nvPr/>
          </p:nvGrpSpPr>
          <p:grpSpPr>
            <a:xfrm>
              <a:off x="1808280" y="3306600"/>
              <a:ext cx="0" cy="1198800"/>
              <a:chOff x="1808280" y="3306600"/>
              <a:chExt cx="0" cy="1198800"/>
            </a:xfrm>
          </p:grpSpPr>
          <p:sp>
            <p:nvSpPr>
              <p:cNvPr id="7891" name=""/>
              <p:cNvSpPr/>
              <p:nvPr/>
            </p:nvSpPr>
            <p:spPr>
              <a:xfrm>
                <a:off x="1808280" y="38419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1808280" y="40402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1808280" y="3306600"/>
                <a:ext cx="0" cy="4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94" name=""/>
            <p:cNvSpPr/>
            <p:nvPr/>
          </p:nvSpPr>
          <p:spPr>
            <a:xfrm>
              <a:off x="2862360" y="4075200"/>
              <a:ext cx="787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511344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510372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509256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507060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509112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511020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2475000" y="348732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487600" y="410040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6153120" y="347976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6156000" y="369720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7054920" y="352908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6323040" y="337176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6454800" y="426420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5388120" y="390528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6873840" y="390528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0" name=""/>
            <p:cNvSpPr/>
            <p:nvPr/>
          </p:nvSpPr>
          <p:spPr>
            <a:xfrm flipV="1">
              <a:off x="254160" y="3476520"/>
              <a:ext cx="849240" cy="84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12" name=""/>
            <p:cNvGrpSpPr/>
            <p:nvPr/>
          </p:nvGrpSpPr>
          <p:grpSpPr>
            <a:xfrm>
              <a:off x="6140520" y="3305160"/>
              <a:ext cx="0" cy="1198440"/>
              <a:chOff x="6140520" y="3305160"/>
              <a:chExt cx="0" cy="1198440"/>
            </a:xfrm>
          </p:grpSpPr>
          <p:sp>
            <p:nvSpPr>
              <p:cNvPr id="7913" name=""/>
              <p:cNvSpPr/>
              <p:nvPr/>
            </p:nvSpPr>
            <p:spPr>
              <a:xfrm>
                <a:off x="6140520" y="3840120"/>
                <a:ext cx="0" cy="10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6140520" y="40384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6140520" y="3305160"/>
                <a:ext cx="0" cy="442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16" name=""/>
            <p:cNvGrpSpPr/>
            <p:nvPr/>
          </p:nvGrpSpPr>
          <p:grpSpPr>
            <a:xfrm>
              <a:off x="4068720" y="3319560"/>
              <a:ext cx="0" cy="1198440"/>
              <a:chOff x="4068720" y="3319560"/>
              <a:chExt cx="0" cy="1198440"/>
            </a:xfrm>
          </p:grpSpPr>
          <p:sp>
            <p:nvSpPr>
              <p:cNvPr id="7917" name=""/>
              <p:cNvSpPr/>
              <p:nvPr/>
            </p:nvSpPr>
            <p:spPr>
              <a:xfrm>
                <a:off x="4068720" y="38545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4068720" y="40528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4068720" y="3319560"/>
                <a:ext cx="0" cy="442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20" name=""/>
            <p:cNvSpPr/>
            <p:nvPr/>
          </p:nvSpPr>
          <p:spPr>
            <a:xfrm>
              <a:off x="1101600" y="347652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254160" y="431784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2" name=""/>
            <p:cNvSpPr/>
            <p:nvPr/>
          </p:nvSpPr>
          <p:spPr>
            <a:xfrm flipH="1">
              <a:off x="4494240" y="372744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3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2989440" y="3214800"/>
              <a:ext cx="291960" cy="13971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2957400" y="3481560"/>
              <a:ext cx="46440" cy="824400"/>
            </a:xfrm>
            <a:custGeom>
              <a:avLst/>
              <a:gdLst/>
              <a:ahLst/>
              <a:rect l="0" t="0" r="r" b="b"/>
              <a:pathLst>
                <a:path fill="none" w="129" h="2290">
                  <a:moveTo>
                    <a:pt x="71" y="0"/>
                  </a:moveTo>
                  <a:lnTo>
                    <a:pt x="45" y="110"/>
                  </a:lnTo>
                  <a:lnTo>
                    <a:pt x="45" y="238"/>
                  </a:lnTo>
                  <a:lnTo>
                    <a:pt x="89" y="366"/>
                  </a:lnTo>
                  <a:lnTo>
                    <a:pt x="129" y="493"/>
                  </a:lnTo>
                  <a:lnTo>
                    <a:pt x="80" y="627"/>
                  </a:lnTo>
                  <a:lnTo>
                    <a:pt x="125" y="750"/>
                  </a:lnTo>
                  <a:lnTo>
                    <a:pt x="45" y="838"/>
                  </a:lnTo>
                  <a:lnTo>
                    <a:pt x="45" y="966"/>
                  </a:lnTo>
                  <a:lnTo>
                    <a:pt x="0" y="1094"/>
                  </a:lnTo>
                  <a:lnTo>
                    <a:pt x="0" y="1222"/>
                  </a:lnTo>
                  <a:lnTo>
                    <a:pt x="0" y="1394"/>
                  </a:lnTo>
                  <a:lnTo>
                    <a:pt x="0" y="1522"/>
                  </a:lnTo>
                  <a:lnTo>
                    <a:pt x="80" y="1650"/>
                  </a:lnTo>
                  <a:lnTo>
                    <a:pt x="71" y="1792"/>
                  </a:lnTo>
                  <a:lnTo>
                    <a:pt x="89" y="1907"/>
                  </a:lnTo>
                  <a:lnTo>
                    <a:pt x="129" y="2034"/>
                  </a:lnTo>
                  <a:lnTo>
                    <a:pt x="89" y="2162"/>
                  </a:lnTo>
                  <a:lnTo>
                    <a:pt x="45" y="2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281400" y="3481560"/>
              <a:ext cx="46440" cy="838440"/>
            </a:xfrm>
            <a:custGeom>
              <a:avLst/>
              <a:gdLst/>
              <a:ahLst/>
              <a:rect l="0" t="0" r="r" b="b"/>
              <a:pathLst>
                <a:path fill="none" w="129" h="2329">
                  <a:moveTo>
                    <a:pt x="17" y="0"/>
                  </a:moveTo>
                  <a:lnTo>
                    <a:pt x="129" y="110"/>
                  </a:lnTo>
                  <a:lnTo>
                    <a:pt x="129" y="238"/>
                  </a:lnTo>
                  <a:lnTo>
                    <a:pt x="40" y="366"/>
                  </a:lnTo>
                  <a:lnTo>
                    <a:pt x="0" y="493"/>
                  </a:lnTo>
                  <a:lnTo>
                    <a:pt x="0" y="621"/>
                  </a:lnTo>
                  <a:lnTo>
                    <a:pt x="0" y="754"/>
                  </a:lnTo>
                  <a:lnTo>
                    <a:pt x="40" y="881"/>
                  </a:lnTo>
                  <a:lnTo>
                    <a:pt x="40" y="1009"/>
                  </a:lnTo>
                  <a:lnTo>
                    <a:pt x="40" y="1137"/>
                  </a:lnTo>
                  <a:lnTo>
                    <a:pt x="40" y="1266"/>
                  </a:lnTo>
                  <a:lnTo>
                    <a:pt x="84" y="1394"/>
                  </a:lnTo>
                  <a:lnTo>
                    <a:pt x="84" y="1522"/>
                  </a:lnTo>
                  <a:lnTo>
                    <a:pt x="26" y="1650"/>
                  </a:lnTo>
                  <a:lnTo>
                    <a:pt x="40" y="1778"/>
                  </a:lnTo>
                  <a:lnTo>
                    <a:pt x="40" y="1906"/>
                  </a:lnTo>
                  <a:lnTo>
                    <a:pt x="40" y="2077"/>
                  </a:lnTo>
                  <a:lnTo>
                    <a:pt x="40" y="2205"/>
                  </a:lnTo>
                  <a:lnTo>
                    <a:pt x="26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8864640" y="378144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7045200" y="390528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9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0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31" name=""/>
          <p:cNvGrpSpPr/>
          <p:nvPr/>
        </p:nvGrpSpPr>
        <p:grpSpPr>
          <a:xfrm>
            <a:off x="2230560" y="2141640"/>
            <a:ext cx="4213080" cy="1676160"/>
            <a:chOff x="2230560" y="2141640"/>
            <a:chExt cx="4213080" cy="1676160"/>
          </a:xfrm>
        </p:grpSpPr>
        <p:sp>
          <p:nvSpPr>
            <p:cNvPr id="7932" name=""/>
            <p:cNvSpPr/>
            <p:nvPr/>
          </p:nvSpPr>
          <p:spPr>
            <a:xfrm>
              <a:off x="5516640" y="2685960"/>
              <a:ext cx="682560" cy="682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5334120" y="2503440"/>
              <a:ext cx="1049400" cy="1049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2517840" y="2529000"/>
              <a:ext cx="1000080" cy="100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2317680" y="2328840"/>
              <a:ext cx="1398600" cy="139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078000" y="2332080"/>
              <a:ext cx="2781360" cy="171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7" name=""/>
            <p:cNvSpPr/>
            <p:nvPr/>
          </p:nvSpPr>
          <p:spPr>
            <a:xfrm flipV="1">
              <a:off x="3102120" y="3551400"/>
              <a:ext cx="2732040" cy="174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790800" y="2927520"/>
              <a:ext cx="1457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800520" y="3127320"/>
              <a:ext cx="144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40" name=""/>
            <p:cNvGrpSpPr/>
            <p:nvPr/>
          </p:nvGrpSpPr>
          <p:grpSpPr>
            <a:xfrm>
              <a:off x="3014640" y="2141640"/>
              <a:ext cx="0" cy="1676160"/>
              <a:chOff x="3014640" y="2141640"/>
              <a:chExt cx="0" cy="1676160"/>
            </a:xfrm>
          </p:grpSpPr>
          <p:sp>
            <p:nvSpPr>
              <p:cNvPr id="7941" name=""/>
              <p:cNvSpPr/>
              <p:nvPr/>
            </p:nvSpPr>
            <p:spPr>
              <a:xfrm>
                <a:off x="3014640" y="2141640"/>
                <a:ext cx="0" cy="78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3014640" y="296712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3014640" y="3125880"/>
                <a:ext cx="0" cy="69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44" name=""/>
            <p:cNvGrpSpPr/>
            <p:nvPr/>
          </p:nvGrpSpPr>
          <p:grpSpPr>
            <a:xfrm>
              <a:off x="2230560" y="3027240"/>
              <a:ext cx="1555560" cy="0"/>
              <a:chOff x="2230560" y="3027240"/>
              <a:chExt cx="1555560" cy="0"/>
            </a:xfrm>
          </p:grpSpPr>
          <p:sp>
            <p:nvSpPr>
              <p:cNvPr id="7945" name=""/>
              <p:cNvSpPr/>
              <p:nvPr/>
            </p:nvSpPr>
            <p:spPr>
              <a:xfrm>
                <a:off x="2230560" y="3027240"/>
                <a:ext cx="660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2954160" y="3027240"/>
                <a:ext cx="1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3144960" y="3027240"/>
                <a:ext cx="64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48" name=""/>
            <p:cNvSpPr/>
            <p:nvPr/>
          </p:nvSpPr>
          <p:spPr>
            <a:xfrm>
              <a:off x="5865840" y="2446200"/>
              <a:ext cx="0" cy="48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5859360" y="29732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5859360" y="3132000"/>
              <a:ext cx="0" cy="48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5256360" y="3033720"/>
              <a:ext cx="47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5799240" y="303372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5989680" y="3033720"/>
              <a:ext cx="453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684600" y="3127320"/>
              <a:ext cx="136800" cy="105120"/>
            </a:xfrm>
            <a:custGeom>
              <a:avLst/>
              <a:gdLst/>
              <a:ahLst/>
              <a:rect l="0" t="0" r="r" b="b"/>
              <a:pathLst>
                <a:path fill="none" w="380" h="292">
                  <a:moveTo>
                    <a:pt x="380" y="2"/>
                  </a:moveTo>
                  <a:lnTo>
                    <a:pt x="380" y="2"/>
                  </a:lnTo>
                  <a:cubicBezTo>
                    <a:pt x="367" y="0"/>
                    <a:pt x="353" y="0"/>
                    <a:pt x="340" y="0"/>
                  </a:cubicBezTo>
                  <a:cubicBezTo>
                    <a:pt x="279" y="0"/>
                    <a:pt x="220" y="16"/>
                    <a:pt x="168" y="46"/>
                  </a:cubicBezTo>
                  <a:cubicBezTo>
                    <a:pt x="116" y="76"/>
                    <a:pt x="72" y="120"/>
                    <a:pt x="42" y="172"/>
                  </a:cubicBezTo>
                  <a:cubicBezTo>
                    <a:pt x="21" y="209"/>
                    <a:pt x="7" y="250"/>
                    <a:pt x="0" y="29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5235840" y="3130560"/>
              <a:ext cx="130320" cy="80280"/>
            </a:xfrm>
            <a:custGeom>
              <a:avLst/>
              <a:gdLst/>
              <a:ahLst/>
              <a:rect l="0" t="0" r="r" b="b"/>
              <a:pathLst>
                <a:path fill="none" w="362" h="223">
                  <a:moveTo>
                    <a:pt x="362" y="223"/>
                  </a:moveTo>
                  <a:lnTo>
                    <a:pt x="362" y="223"/>
                  </a:lnTo>
                  <a:cubicBezTo>
                    <a:pt x="355" y="205"/>
                    <a:pt x="347" y="188"/>
                    <a:pt x="338" y="172"/>
                  </a:cubicBezTo>
                  <a:cubicBezTo>
                    <a:pt x="308" y="120"/>
                    <a:pt x="264" y="76"/>
                    <a:pt x="212" y="46"/>
                  </a:cubicBezTo>
                  <a:cubicBezTo>
                    <a:pt x="159" y="16"/>
                    <a:pt x="100" y="0"/>
                    <a:pt x="39" y="0"/>
                  </a:cubicBezTo>
                  <a:cubicBezTo>
                    <a:pt x="26" y="0"/>
                    <a:pt x="13" y="1"/>
                    <a:pt x="0" y="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683160" y="2804040"/>
              <a:ext cx="94680" cy="120600"/>
            </a:xfrm>
            <a:custGeom>
              <a:avLst/>
              <a:gdLst/>
              <a:ahLst/>
              <a:rect l="0" t="0" r="r" b="b"/>
              <a:pathLst>
                <a:path fill="none" w="263" h="335">
                  <a:moveTo>
                    <a:pt x="263" y="0"/>
                  </a:moveTo>
                  <a:lnTo>
                    <a:pt x="263" y="0"/>
                  </a:lnTo>
                  <a:cubicBezTo>
                    <a:pt x="231" y="8"/>
                    <a:pt x="201" y="20"/>
                    <a:pt x="173" y="36"/>
                  </a:cubicBezTo>
                  <a:cubicBezTo>
                    <a:pt x="120" y="66"/>
                    <a:pt x="77" y="110"/>
                    <a:pt x="46" y="162"/>
                  </a:cubicBezTo>
                  <a:cubicBezTo>
                    <a:pt x="16" y="214"/>
                    <a:pt x="0" y="274"/>
                    <a:pt x="0" y="334"/>
                  </a:cubicBezTo>
                  <a:lnTo>
                    <a:pt x="0" y="33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5279760" y="2802960"/>
              <a:ext cx="89640" cy="131040"/>
            </a:xfrm>
            <a:custGeom>
              <a:avLst/>
              <a:gdLst/>
              <a:ahLst/>
              <a:rect l="0" t="0" r="r" b="b"/>
              <a:pathLst>
                <a:path fill="none" w="249" h="364">
                  <a:moveTo>
                    <a:pt x="248" y="364"/>
                  </a:moveTo>
                  <a:lnTo>
                    <a:pt x="248" y="364"/>
                  </a:lnTo>
                  <a:cubicBezTo>
                    <a:pt x="249" y="354"/>
                    <a:pt x="249" y="343"/>
                    <a:pt x="249" y="333"/>
                  </a:cubicBezTo>
                  <a:cubicBezTo>
                    <a:pt x="249" y="272"/>
                    <a:pt x="234" y="213"/>
                    <a:pt x="204" y="160"/>
                  </a:cubicBezTo>
                  <a:cubicBezTo>
                    <a:pt x="174" y="108"/>
                    <a:pt x="132" y="64"/>
                    <a:pt x="81" y="34"/>
                  </a:cubicBezTo>
                  <a:cubicBezTo>
                    <a:pt x="55" y="19"/>
                    <a:pt x="28" y="8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Applications of Section Cutting Planes &amp; Design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8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9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60" name=""/>
          <p:cNvGrpSpPr/>
          <p:nvPr/>
        </p:nvGrpSpPr>
        <p:grpSpPr>
          <a:xfrm>
            <a:off x="2230560" y="2141640"/>
            <a:ext cx="4213080" cy="3956040"/>
            <a:chOff x="2230560" y="2141640"/>
            <a:chExt cx="4213080" cy="3956040"/>
          </a:xfrm>
        </p:grpSpPr>
        <p:sp>
          <p:nvSpPr>
            <p:cNvPr id="7961" name=""/>
            <p:cNvSpPr/>
            <p:nvPr/>
          </p:nvSpPr>
          <p:spPr>
            <a:xfrm>
              <a:off x="5516640" y="2685960"/>
              <a:ext cx="682560" cy="682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5334120" y="2503440"/>
              <a:ext cx="1049400" cy="1049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2517840" y="2529000"/>
              <a:ext cx="1000080" cy="100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2317680" y="2328840"/>
              <a:ext cx="1398600" cy="139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3078000" y="2332080"/>
              <a:ext cx="2781360" cy="171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6" name=""/>
            <p:cNvSpPr/>
            <p:nvPr/>
          </p:nvSpPr>
          <p:spPr>
            <a:xfrm flipV="1">
              <a:off x="3102120" y="3551400"/>
              <a:ext cx="2732040" cy="174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3790800" y="2927520"/>
              <a:ext cx="1457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3800520" y="3127320"/>
              <a:ext cx="144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69" name=""/>
            <p:cNvGrpSpPr/>
            <p:nvPr/>
          </p:nvGrpSpPr>
          <p:grpSpPr>
            <a:xfrm>
              <a:off x="3014640" y="2141640"/>
              <a:ext cx="0" cy="1676160"/>
              <a:chOff x="3014640" y="2141640"/>
              <a:chExt cx="0" cy="1676160"/>
            </a:xfrm>
          </p:grpSpPr>
          <p:sp>
            <p:nvSpPr>
              <p:cNvPr id="7970" name=""/>
              <p:cNvSpPr/>
              <p:nvPr/>
            </p:nvSpPr>
            <p:spPr>
              <a:xfrm>
                <a:off x="3014640" y="2141640"/>
                <a:ext cx="0" cy="78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3014640" y="296712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3014640" y="3125880"/>
                <a:ext cx="0" cy="69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3" name=""/>
            <p:cNvGrpSpPr/>
            <p:nvPr/>
          </p:nvGrpSpPr>
          <p:grpSpPr>
            <a:xfrm>
              <a:off x="2230560" y="3027240"/>
              <a:ext cx="1555560" cy="0"/>
              <a:chOff x="2230560" y="3027240"/>
              <a:chExt cx="1555560" cy="0"/>
            </a:xfrm>
          </p:grpSpPr>
          <p:sp>
            <p:nvSpPr>
              <p:cNvPr id="7974" name=""/>
              <p:cNvSpPr/>
              <p:nvPr/>
            </p:nvSpPr>
            <p:spPr>
              <a:xfrm>
                <a:off x="2230560" y="3027240"/>
                <a:ext cx="660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5" name=""/>
              <p:cNvSpPr/>
              <p:nvPr/>
            </p:nvSpPr>
            <p:spPr>
              <a:xfrm>
                <a:off x="2954160" y="3027240"/>
                <a:ext cx="1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6" name=""/>
              <p:cNvSpPr/>
              <p:nvPr/>
            </p:nvSpPr>
            <p:spPr>
              <a:xfrm>
                <a:off x="3144960" y="3027240"/>
                <a:ext cx="64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77" name=""/>
            <p:cNvSpPr/>
            <p:nvPr/>
          </p:nvSpPr>
          <p:spPr>
            <a:xfrm>
              <a:off x="5865840" y="2446200"/>
              <a:ext cx="0" cy="48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5859360" y="29732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5859360" y="3132000"/>
              <a:ext cx="0" cy="48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0" name=""/>
            <p:cNvSpPr/>
            <p:nvPr/>
          </p:nvSpPr>
          <p:spPr>
            <a:xfrm>
              <a:off x="5256360" y="3033720"/>
              <a:ext cx="47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5799240" y="303372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5989680" y="3033720"/>
              <a:ext cx="453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2317680" y="4500720"/>
              <a:ext cx="0" cy="1309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3732120" y="4502160"/>
              <a:ext cx="0" cy="954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6389640" y="4762440"/>
              <a:ext cx="0" cy="106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5329080" y="4764240"/>
              <a:ext cx="0" cy="70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2317680" y="5826240"/>
              <a:ext cx="4071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2317680" y="4503600"/>
              <a:ext cx="141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5329080" y="4765680"/>
              <a:ext cx="10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3147840" y="5584680"/>
              <a:ext cx="2583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91" name=""/>
            <p:cNvGrpSpPr/>
            <p:nvPr/>
          </p:nvGrpSpPr>
          <p:grpSpPr>
            <a:xfrm>
              <a:off x="3013200" y="4284720"/>
              <a:ext cx="0" cy="1676520"/>
              <a:chOff x="3013200" y="4284720"/>
              <a:chExt cx="0" cy="1676520"/>
            </a:xfrm>
          </p:grpSpPr>
          <p:sp>
            <p:nvSpPr>
              <p:cNvPr id="7992" name=""/>
              <p:cNvSpPr/>
              <p:nvPr/>
            </p:nvSpPr>
            <p:spPr>
              <a:xfrm>
                <a:off x="3013200" y="4284720"/>
                <a:ext cx="0" cy="78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3013200" y="511020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3013200" y="5268960"/>
                <a:ext cx="0" cy="69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95" name=""/>
            <p:cNvGrpSpPr/>
            <p:nvPr/>
          </p:nvGrpSpPr>
          <p:grpSpPr>
            <a:xfrm>
              <a:off x="5854680" y="4421160"/>
              <a:ext cx="0" cy="1676520"/>
              <a:chOff x="5854680" y="4421160"/>
              <a:chExt cx="0" cy="1676520"/>
            </a:xfrm>
          </p:grpSpPr>
          <p:sp>
            <p:nvSpPr>
              <p:cNvPr id="7996" name=""/>
              <p:cNvSpPr/>
              <p:nvPr/>
            </p:nvSpPr>
            <p:spPr>
              <a:xfrm>
                <a:off x="5854680" y="4421160"/>
                <a:ext cx="0" cy="781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5854680" y="524664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5854680" y="5405400"/>
                <a:ext cx="0" cy="69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99" name=""/>
            <p:cNvSpPr/>
            <p:nvPr/>
          </p:nvSpPr>
          <p:spPr>
            <a:xfrm>
              <a:off x="3803760" y="4641840"/>
              <a:ext cx="1361880" cy="40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3764160" y="4530960"/>
              <a:ext cx="88920" cy="119160"/>
            </a:xfrm>
            <a:custGeom>
              <a:avLst/>
              <a:gdLst/>
              <a:ahLst/>
              <a:rect l="0" t="0" r="r" b="b"/>
              <a:pathLst>
                <a:path fill="none" w="247" h="331">
                  <a:moveTo>
                    <a:pt x="247" y="331"/>
                  </a:moveTo>
                  <a:lnTo>
                    <a:pt x="247" y="331"/>
                  </a:lnTo>
                  <a:lnTo>
                    <a:pt x="247" y="331"/>
                  </a:lnTo>
                  <a:cubicBezTo>
                    <a:pt x="247" y="270"/>
                    <a:pt x="231" y="211"/>
                    <a:pt x="201" y="158"/>
                  </a:cubicBezTo>
                  <a:cubicBezTo>
                    <a:pt x="171" y="106"/>
                    <a:pt x="127" y="62"/>
                    <a:pt x="75" y="32"/>
                  </a:cubicBezTo>
                  <a:cubicBezTo>
                    <a:pt x="51" y="19"/>
                    <a:pt x="26" y="8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3732120" y="545148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5732640" y="545940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3022560" y="545940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5173920" y="4897440"/>
              <a:ext cx="138240" cy="178920"/>
            </a:xfrm>
            <a:custGeom>
              <a:avLst/>
              <a:gdLst/>
              <a:ahLst/>
              <a:rect l="0" t="0" r="r" b="b"/>
              <a:pathLst>
                <a:path fill="none" w="384" h="497">
                  <a:moveTo>
                    <a:pt x="348" y="497"/>
                  </a:moveTo>
                  <a:lnTo>
                    <a:pt x="348" y="497"/>
                  </a:lnTo>
                  <a:cubicBezTo>
                    <a:pt x="371" y="449"/>
                    <a:pt x="384" y="397"/>
                    <a:pt x="384" y="344"/>
                  </a:cubicBezTo>
                  <a:cubicBezTo>
                    <a:pt x="384" y="284"/>
                    <a:pt x="368" y="224"/>
                    <a:pt x="338" y="172"/>
                  </a:cubicBezTo>
                  <a:cubicBezTo>
                    <a:pt x="307" y="120"/>
                    <a:pt x="264" y="76"/>
                    <a:pt x="212" y="46"/>
                  </a:cubicBezTo>
                  <a:cubicBezTo>
                    <a:pt x="159" y="16"/>
                    <a:pt x="100" y="0"/>
                    <a:pt x="40" y="0"/>
                  </a:cubicBezTo>
                  <a:cubicBezTo>
                    <a:pt x="26" y="0"/>
                    <a:pt x="13" y="0"/>
                    <a:pt x="0" y="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5207040" y="545472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3684600" y="3127320"/>
              <a:ext cx="136800" cy="105120"/>
            </a:xfrm>
            <a:custGeom>
              <a:avLst/>
              <a:gdLst/>
              <a:ahLst/>
              <a:rect l="0" t="0" r="r" b="b"/>
              <a:pathLst>
                <a:path fill="none" w="380" h="292">
                  <a:moveTo>
                    <a:pt x="380" y="2"/>
                  </a:moveTo>
                  <a:lnTo>
                    <a:pt x="380" y="2"/>
                  </a:lnTo>
                  <a:cubicBezTo>
                    <a:pt x="367" y="0"/>
                    <a:pt x="353" y="0"/>
                    <a:pt x="340" y="0"/>
                  </a:cubicBezTo>
                  <a:cubicBezTo>
                    <a:pt x="279" y="0"/>
                    <a:pt x="220" y="16"/>
                    <a:pt x="168" y="46"/>
                  </a:cubicBezTo>
                  <a:cubicBezTo>
                    <a:pt x="116" y="76"/>
                    <a:pt x="72" y="120"/>
                    <a:pt x="42" y="172"/>
                  </a:cubicBezTo>
                  <a:cubicBezTo>
                    <a:pt x="21" y="209"/>
                    <a:pt x="7" y="250"/>
                    <a:pt x="0" y="29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5235840" y="3130560"/>
              <a:ext cx="130320" cy="80280"/>
            </a:xfrm>
            <a:custGeom>
              <a:avLst/>
              <a:gdLst/>
              <a:ahLst/>
              <a:rect l="0" t="0" r="r" b="b"/>
              <a:pathLst>
                <a:path fill="none" w="362" h="223">
                  <a:moveTo>
                    <a:pt x="362" y="223"/>
                  </a:moveTo>
                  <a:lnTo>
                    <a:pt x="362" y="223"/>
                  </a:lnTo>
                  <a:cubicBezTo>
                    <a:pt x="355" y="205"/>
                    <a:pt x="347" y="188"/>
                    <a:pt x="338" y="172"/>
                  </a:cubicBezTo>
                  <a:cubicBezTo>
                    <a:pt x="308" y="120"/>
                    <a:pt x="264" y="76"/>
                    <a:pt x="212" y="46"/>
                  </a:cubicBezTo>
                  <a:cubicBezTo>
                    <a:pt x="159" y="16"/>
                    <a:pt x="100" y="0"/>
                    <a:pt x="39" y="0"/>
                  </a:cubicBezTo>
                  <a:cubicBezTo>
                    <a:pt x="26" y="0"/>
                    <a:pt x="13" y="1"/>
                    <a:pt x="0" y="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3683160" y="2804040"/>
              <a:ext cx="94680" cy="120600"/>
            </a:xfrm>
            <a:custGeom>
              <a:avLst/>
              <a:gdLst/>
              <a:ahLst/>
              <a:rect l="0" t="0" r="r" b="b"/>
              <a:pathLst>
                <a:path fill="none" w="263" h="335">
                  <a:moveTo>
                    <a:pt x="263" y="0"/>
                  </a:moveTo>
                  <a:lnTo>
                    <a:pt x="263" y="0"/>
                  </a:lnTo>
                  <a:cubicBezTo>
                    <a:pt x="231" y="8"/>
                    <a:pt x="201" y="20"/>
                    <a:pt x="173" y="36"/>
                  </a:cubicBezTo>
                  <a:cubicBezTo>
                    <a:pt x="120" y="66"/>
                    <a:pt x="77" y="110"/>
                    <a:pt x="46" y="162"/>
                  </a:cubicBezTo>
                  <a:cubicBezTo>
                    <a:pt x="16" y="214"/>
                    <a:pt x="0" y="274"/>
                    <a:pt x="0" y="334"/>
                  </a:cubicBezTo>
                  <a:lnTo>
                    <a:pt x="0" y="33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5279760" y="2802960"/>
              <a:ext cx="89640" cy="131040"/>
            </a:xfrm>
            <a:custGeom>
              <a:avLst/>
              <a:gdLst/>
              <a:ahLst/>
              <a:rect l="0" t="0" r="r" b="b"/>
              <a:pathLst>
                <a:path fill="none" w="249" h="364">
                  <a:moveTo>
                    <a:pt x="248" y="364"/>
                  </a:moveTo>
                  <a:lnTo>
                    <a:pt x="248" y="364"/>
                  </a:lnTo>
                  <a:cubicBezTo>
                    <a:pt x="249" y="354"/>
                    <a:pt x="249" y="343"/>
                    <a:pt x="249" y="333"/>
                  </a:cubicBezTo>
                  <a:cubicBezTo>
                    <a:pt x="249" y="272"/>
                    <a:pt x="234" y="213"/>
                    <a:pt x="204" y="160"/>
                  </a:cubicBezTo>
                  <a:cubicBezTo>
                    <a:pt x="174" y="108"/>
                    <a:pt x="132" y="64"/>
                    <a:pt x="81" y="34"/>
                  </a:cubicBezTo>
                  <a:cubicBezTo>
                    <a:pt x="55" y="19"/>
                    <a:pt x="28" y="8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0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11" name=""/>
          <p:cNvGrpSpPr/>
          <p:nvPr/>
        </p:nvGrpSpPr>
        <p:grpSpPr>
          <a:xfrm>
            <a:off x="2230560" y="2141640"/>
            <a:ext cx="4213080" cy="4076640"/>
            <a:chOff x="2230560" y="2141640"/>
            <a:chExt cx="4213080" cy="4076640"/>
          </a:xfrm>
        </p:grpSpPr>
        <p:sp>
          <p:nvSpPr>
            <p:cNvPr id="8012" name=""/>
            <p:cNvSpPr/>
            <p:nvPr/>
          </p:nvSpPr>
          <p:spPr>
            <a:xfrm>
              <a:off x="5516640" y="2685960"/>
              <a:ext cx="682560" cy="682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5334120" y="2503440"/>
              <a:ext cx="1049400" cy="1049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2517840" y="2529000"/>
              <a:ext cx="1000080" cy="100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2317680" y="2328840"/>
              <a:ext cx="1398600" cy="139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3078000" y="2332080"/>
              <a:ext cx="2781360" cy="171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7" name=""/>
            <p:cNvSpPr/>
            <p:nvPr/>
          </p:nvSpPr>
          <p:spPr>
            <a:xfrm flipV="1">
              <a:off x="3102120" y="3551400"/>
              <a:ext cx="2732040" cy="174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3790800" y="2927520"/>
              <a:ext cx="1457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3800520" y="3127320"/>
              <a:ext cx="144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0" name=""/>
            <p:cNvGrpSpPr/>
            <p:nvPr/>
          </p:nvGrpSpPr>
          <p:grpSpPr>
            <a:xfrm>
              <a:off x="3014640" y="2141640"/>
              <a:ext cx="0" cy="1676160"/>
              <a:chOff x="3014640" y="2141640"/>
              <a:chExt cx="0" cy="1676160"/>
            </a:xfrm>
          </p:grpSpPr>
          <p:sp>
            <p:nvSpPr>
              <p:cNvPr id="8021" name=""/>
              <p:cNvSpPr/>
              <p:nvPr/>
            </p:nvSpPr>
            <p:spPr>
              <a:xfrm>
                <a:off x="3014640" y="2141640"/>
                <a:ext cx="0" cy="78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3014640" y="296712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3014640" y="3125880"/>
                <a:ext cx="0" cy="69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24" name=""/>
            <p:cNvGrpSpPr/>
            <p:nvPr/>
          </p:nvGrpSpPr>
          <p:grpSpPr>
            <a:xfrm>
              <a:off x="2230560" y="3027240"/>
              <a:ext cx="1555560" cy="0"/>
              <a:chOff x="2230560" y="3027240"/>
              <a:chExt cx="1555560" cy="0"/>
            </a:xfrm>
          </p:grpSpPr>
          <p:sp>
            <p:nvSpPr>
              <p:cNvPr id="8025" name=""/>
              <p:cNvSpPr/>
              <p:nvPr/>
            </p:nvSpPr>
            <p:spPr>
              <a:xfrm>
                <a:off x="2230560" y="3027240"/>
                <a:ext cx="660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2954160" y="3027240"/>
                <a:ext cx="1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3144960" y="3027240"/>
                <a:ext cx="64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28" name=""/>
            <p:cNvSpPr/>
            <p:nvPr/>
          </p:nvSpPr>
          <p:spPr>
            <a:xfrm>
              <a:off x="5865840" y="2446200"/>
              <a:ext cx="0" cy="48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5859360" y="29732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5859360" y="3132000"/>
              <a:ext cx="0" cy="48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5256360" y="3033720"/>
              <a:ext cx="47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5799240" y="303372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5989680" y="3033720"/>
              <a:ext cx="453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2317680" y="4500720"/>
              <a:ext cx="0" cy="1309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3732120" y="4502160"/>
              <a:ext cx="0" cy="954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6389640" y="4762440"/>
              <a:ext cx="0" cy="106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5329080" y="4764240"/>
              <a:ext cx="0" cy="70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2317680" y="5826240"/>
              <a:ext cx="4071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2317680" y="4503600"/>
              <a:ext cx="141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5329080" y="4765680"/>
              <a:ext cx="10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3147840" y="5584680"/>
              <a:ext cx="2583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42" name=""/>
            <p:cNvGrpSpPr/>
            <p:nvPr/>
          </p:nvGrpSpPr>
          <p:grpSpPr>
            <a:xfrm>
              <a:off x="3013200" y="4284720"/>
              <a:ext cx="0" cy="1676520"/>
              <a:chOff x="3013200" y="4284720"/>
              <a:chExt cx="0" cy="1676520"/>
            </a:xfrm>
          </p:grpSpPr>
          <p:sp>
            <p:nvSpPr>
              <p:cNvPr id="8043" name=""/>
              <p:cNvSpPr/>
              <p:nvPr/>
            </p:nvSpPr>
            <p:spPr>
              <a:xfrm>
                <a:off x="3013200" y="4284720"/>
                <a:ext cx="0" cy="78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3013200" y="511020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3013200" y="5268960"/>
                <a:ext cx="0" cy="69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46" name=""/>
            <p:cNvGrpSpPr/>
            <p:nvPr/>
          </p:nvGrpSpPr>
          <p:grpSpPr>
            <a:xfrm>
              <a:off x="5854680" y="4421160"/>
              <a:ext cx="0" cy="1676520"/>
              <a:chOff x="5854680" y="4421160"/>
              <a:chExt cx="0" cy="1676520"/>
            </a:xfrm>
          </p:grpSpPr>
          <p:sp>
            <p:nvSpPr>
              <p:cNvPr id="8047" name=""/>
              <p:cNvSpPr/>
              <p:nvPr/>
            </p:nvSpPr>
            <p:spPr>
              <a:xfrm>
                <a:off x="5854680" y="4421160"/>
                <a:ext cx="0" cy="781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5854680" y="524664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5854680" y="5405400"/>
                <a:ext cx="0" cy="69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50" name=""/>
            <p:cNvSpPr/>
            <p:nvPr/>
          </p:nvSpPr>
          <p:spPr>
            <a:xfrm>
              <a:off x="3803760" y="4641840"/>
              <a:ext cx="1361880" cy="40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3764160" y="4530960"/>
              <a:ext cx="88920" cy="119160"/>
            </a:xfrm>
            <a:custGeom>
              <a:avLst/>
              <a:gdLst/>
              <a:ahLst/>
              <a:rect l="0" t="0" r="r" b="b"/>
              <a:pathLst>
                <a:path fill="none" w="247" h="331">
                  <a:moveTo>
                    <a:pt x="247" y="331"/>
                  </a:moveTo>
                  <a:lnTo>
                    <a:pt x="247" y="331"/>
                  </a:lnTo>
                  <a:lnTo>
                    <a:pt x="247" y="331"/>
                  </a:lnTo>
                  <a:cubicBezTo>
                    <a:pt x="247" y="270"/>
                    <a:pt x="231" y="211"/>
                    <a:pt x="201" y="158"/>
                  </a:cubicBezTo>
                  <a:cubicBezTo>
                    <a:pt x="171" y="106"/>
                    <a:pt x="127" y="62"/>
                    <a:pt x="75" y="32"/>
                  </a:cubicBezTo>
                  <a:cubicBezTo>
                    <a:pt x="51" y="19"/>
                    <a:pt x="26" y="8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3732120" y="545148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5732640" y="545940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3022560" y="545940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5173920" y="4897440"/>
              <a:ext cx="138240" cy="178920"/>
            </a:xfrm>
            <a:custGeom>
              <a:avLst/>
              <a:gdLst/>
              <a:ahLst/>
              <a:rect l="0" t="0" r="r" b="b"/>
              <a:pathLst>
                <a:path fill="none" w="384" h="497">
                  <a:moveTo>
                    <a:pt x="348" y="497"/>
                  </a:moveTo>
                  <a:lnTo>
                    <a:pt x="348" y="497"/>
                  </a:lnTo>
                  <a:cubicBezTo>
                    <a:pt x="371" y="449"/>
                    <a:pt x="384" y="397"/>
                    <a:pt x="384" y="344"/>
                  </a:cubicBezTo>
                  <a:cubicBezTo>
                    <a:pt x="384" y="284"/>
                    <a:pt x="368" y="224"/>
                    <a:pt x="338" y="172"/>
                  </a:cubicBezTo>
                  <a:cubicBezTo>
                    <a:pt x="307" y="120"/>
                    <a:pt x="264" y="76"/>
                    <a:pt x="212" y="46"/>
                  </a:cubicBezTo>
                  <a:cubicBezTo>
                    <a:pt x="159" y="16"/>
                    <a:pt x="100" y="0"/>
                    <a:pt x="40" y="0"/>
                  </a:cubicBezTo>
                  <a:cubicBezTo>
                    <a:pt x="26" y="0"/>
                    <a:pt x="13" y="0"/>
                    <a:pt x="0" y="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5207040" y="545472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57" name=""/>
            <p:cNvGrpSpPr/>
            <p:nvPr/>
          </p:nvGrpSpPr>
          <p:grpSpPr>
            <a:xfrm>
              <a:off x="4456080" y="4541760"/>
              <a:ext cx="0" cy="1676520"/>
              <a:chOff x="4456080" y="4541760"/>
              <a:chExt cx="0" cy="1676520"/>
            </a:xfrm>
          </p:grpSpPr>
          <p:sp>
            <p:nvSpPr>
              <p:cNvPr id="8058" name=""/>
              <p:cNvSpPr/>
              <p:nvPr/>
            </p:nvSpPr>
            <p:spPr>
              <a:xfrm>
                <a:off x="4456080" y="4541760"/>
                <a:ext cx="0" cy="781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4456080" y="536724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4456080" y="5526000"/>
                <a:ext cx="0" cy="69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1" name=""/>
            <p:cNvSpPr/>
            <p:nvPr/>
          </p:nvSpPr>
          <p:spPr>
            <a:xfrm>
              <a:off x="3684600" y="3127320"/>
              <a:ext cx="136800" cy="105120"/>
            </a:xfrm>
            <a:custGeom>
              <a:avLst/>
              <a:gdLst/>
              <a:ahLst/>
              <a:rect l="0" t="0" r="r" b="b"/>
              <a:pathLst>
                <a:path fill="none" w="380" h="292">
                  <a:moveTo>
                    <a:pt x="380" y="2"/>
                  </a:moveTo>
                  <a:lnTo>
                    <a:pt x="380" y="2"/>
                  </a:lnTo>
                  <a:cubicBezTo>
                    <a:pt x="367" y="0"/>
                    <a:pt x="353" y="0"/>
                    <a:pt x="340" y="0"/>
                  </a:cubicBezTo>
                  <a:cubicBezTo>
                    <a:pt x="279" y="0"/>
                    <a:pt x="220" y="16"/>
                    <a:pt x="168" y="46"/>
                  </a:cubicBezTo>
                  <a:cubicBezTo>
                    <a:pt x="116" y="76"/>
                    <a:pt x="72" y="120"/>
                    <a:pt x="42" y="172"/>
                  </a:cubicBezTo>
                  <a:cubicBezTo>
                    <a:pt x="21" y="209"/>
                    <a:pt x="7" y="250"/>
                    <a:pt x="0" y="29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5235840" y="3130560"/>
              <a:ext cx="130320" cy="80280"/>
            </a:xfrm>
            <a:custGeom>
              <a:avLst/>
              <a:gdLst/>
              <a:ahLst/>
              <a:rect l="0" t="0" r="r" b="b"/>
              <a:pathLst>
                <a:path fill="none" w="362" h="223">
                  <a:moveTo>
                    <a:pt x="362" y="223"/>
                  </a:moveTo>
                  <a:lnTo>
                    <a:pt x="362" y="223"/>
                  </a:lnTo>
                  <a:cubicBezTo>
                    <a:pt x="355" y="205"/>
                    <a:pt x="347" y="188"/>
                    <a:pt x="338" y="172"/>
                  </a:cubicBezTo>
                  <a:cubicBezTo>
                    <a:pt x="308" y="120"/>
                    <a:pt x="264" y="76"/>
                    <a:pt x="212" y="46"/>
                  </a:cubicBezTo>
                  <a:cubicBezTo>
                    <a:pt x="159" y="16"/>
                    <a:pt x="100" y="0"/>
                    <a:pt x="39" y="0"/>
                  </a:cubicBezTo>
                  <a:cubicBezTo>
                    <a:pt x="26" y="0"/>
                    <a:pt x="13" y="1"/>
                    <a:pt x="0" y="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3" name=""/>
            <p:cNvSpPr/>
            <p:nvPr/>
          </p:nvSpPr>
          <p:spPr>
            <a:xfrm>
              <a:off x="3683160" y="2804040"/>
              <a:ext cx="94680" cy="120600"/>
            </a:xfrm>
            <a:custGeom>
              <a:avLst/>
              <a:gdLst/>
              <a:ahLst/>
              <a:rect l="0" t="0" r="r" b="b"/>
              <a:pathLst>
                <a:path fill="none" w="263" h="335">
                  <a:moveTo>
                    <a:pt x="263" y="0"/>
                  </a:moveTo>
                  <a:lnTo>
                    <a:pt x="263" y="0"/>
                  </a:lnTo>
                  <a:cubicBezTo>
                    <a:pt x="231" y="8"/>
                    <a:pt x="201" y="20"/>
                    <a:pt x="173" y="36"/>
                  </a:cubicBezTo>
                  <a:cubicBezTo>
                    <a:pt x="120" y="66"/>
                    <a:pt x="77" y="110"/>
                    <a:pt x="46" y="162"/>
                  </a:cubicBezTo>
                  <a:cubicBezTo>
                    <a:pt x="16" y="214"/>
                    <a:pt x="0" y="274"/>
                    <a:pt x="0" y="334"/>
                  </a:cubicBezTo>
                  <a:lnTo>
                    <a:pt x="0" y="33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5279760" y="2802960"/>
              <a:ext cx="89640" cy="131040"/>
            </a:xfrm>
            <a:custGeom>
              <a:avLst/>
              <a:gdLst/>
              <a:ahLst/>
              <a:rect l="0" t="0" r="r" b="b"/>
              <a:pathLst>
                <a:path fill="none" w="249" h="364">
                  <a:moveTo>
                    <a:pt x="248" y="364"/>
                  </a:moveTo>
                  <a:lnTo>
                    <a:pt x="248" y="364"/>
                  </a:lnTo>
                  <a:cubicBezTo>
                    <a:pt x="249" y="354"/>
                    <a:pt x="249" y="343"/>
                    <a:pt x="249" y="333"/>
                  </a:cubicBezTo>
                  <a:cubicBezTo>
                    <a:pt x="249" y="272"/>
                    <a:pt x="234" y="213"/>
                    <a:pt x="204" y="160"/>
                  </a:cubicBezTo>
                  <a:cubicBezTo>
                    <a:pt x="174" y="108"/>
                    <a:pt x="132" y="64"/>
                    <a:pt x="81" y="34"/>
                  </a:cubicBezTo>
                  <a:cubicBezTo>
                    <a:pt x="55" y="19"/>
                    <a:pt x="28" y="8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5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6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67" name=""/>
          <p:cNvGrpSpPr/>
          <p:nvPr/>
        </p:nvGrpSpPr>
        <p:grpSpPr>
          <a:xfrm>
            <a:off x="2230560" y="2141640"/>
            <a:ext cx="4213080" cy="4076640"/>
            <a:chOff x="2230560" y="2141640"/>
            <a:chExt cx="4213080" cy="4076640"/>
          </a:xfrm>
        </p:grpSpPr>
        <p:sp>
          <p:nvSpPr>
            <p:cNvPr id="8068" name=""/>
            <p:cNvSpPr/>
            <p:nvPr/>
          </p:nvSpPr>
          <p:spPr>
            <a:xfrm>
              <a:off x="5516640" y="2685960"/>
              <a:ext cx="682560" cy="682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9" name=""/>
            <p:cNvSpPr/>
            <p:nvPr/>
          </p:nvSpPr>
          <p:spPr>
            <a:xfrm>
              <a:off x="5334120" y="2503440"/>
              <a:ext cx="1049400" cy="1049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2517840" y="2529000"/>
              <a:ext cx="1000080" cy="100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1" name=""/>
            <p:cNvSpPr/>
            <p:nvPr/>
          </p:nvSpPr>
          <p:spPr>
            <a:xfrm>
              <a:off x="2317680" y="2328840"/>
              <a:ext cx="1398600" cy="139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3078000" y="2332080"/>
              <a:ext cx="2781360" cy="171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3" name=""/>
            <p:cNvSpPr/>
            <p:nvPr/>
          </p:nvSpPr>
          <p:spPr>
            <a:xfrm flipV="1">
              <a:off x="3102120" y="3551400"/>
              <a:ext cx="2732040" cy="174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4" name=""/>
            <p:cNvSpPr/>
            <p:nvPr/>
          </p:nvSpPr>
          <p:spPr>
            <a:xfrm>
              <a:off x="3790800" y="2927520"/>
              <a:ext cx="1457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3800520" y="3127320"/>
              <a:ext cx="144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76" name=""/>
            <p:cNvGrpSpPr/>
            <p:nvPr/>
          </p:nvGrpSpPr>
          <p:grpSpPr>
            <a:xfrm>
              <a:off x="3014640" y="2141640"/>
              <a:ext cx="0" cy="1676160"/>
              <a:chOff x="3014640" y="2141640"/>
              <a:chExt cx="0" cy="1676160"/>
            </a:xfrm>
          </p:grpSpPr>
          <p:sp>
            <p:nvSpPr>
              <p:cNvPr id="8077" name=""/>
              <p:cNvSpPr/>
              <p:nvPr/>
            </p:nvSpPr>
            <p:spPr>
              <a:xfrm>
                <a:off x="3014640" y="2141640"/>
                <a:ext cx="0" cy="78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3014640" y="296712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3014640" y="3125880"/>
                <a:ext cx="0" cy="69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80" name=""/>
            <p:cNvGrpSpPr/>
            <p:nvPr/>
          </p:nvGrpSpPr>
          <p:grpSpPr>
            <a:xfrm>
              <a:off x="2230560" y="3027240"/>
              <a:ext cx="1555560" cy="0"/>
              <a:chOff x="2230560" y="3027240"/>
              <a:chExt cx="1555560" cy="0"/>
            </a:xfrm>
          </p:grpSpPr>
          <p:sp>
            <p:nvSpPr>
              <p:cNvPr id="8081" name=""/>
              <p:cNvSpPr/>
              <p:nvPr/>
            </p:nvSpPr>
            <p:spPr>
              <a:xfrm>
                <a:off x="2230560" y="3027240"/>
                <a:ext cx="660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2954160" y="3027240"/>
                <a:ext cx="1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3144960" y="3027240"/>
                <a:ext cx="64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84" name=""/>
            <p:cNvSpPr/>
            <p:nvPr/>
          </p:nvSpPr>
          <p:spPr>
            <a:xfrm>
              <a:off x="5865840" y="2446200"/>
              <a:ext cx="0" cy="48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5859360" y="29732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5859360" y="3132000"/>
              <a:ext cx="0" cy="48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5256360" y="3033720"/>
              <a:ext cx="47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5799240" y="303372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5989680" y="3033720"/>
              <a:ext cx="453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2317680" y="4500720"/>
              <a:ext cx="0" cy="1309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3732120" y="4502160"/>
              <a:ext cx="0" cy="954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6389640" y="4762440"/>
              <a:ext cx="0" cy="106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5329080" y="4764240"/>
              <a:ext cx="0" cy="70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2317680" y="5826240"/>
              <a:ext cx="4071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2317680" y="4503600"/>
              <a:ext cx="141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5329080" y="4765680"/>
              <a:ext cx="10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3147840" y="5584680"/>
              <a:ext cx="2583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98" name=""/>
            <p:cNvGrpSpPr/>
            <p:nvPr/>
          </p:nvGrpSpPr>
          <p:grpSpPr>
            <a:xfrm>
              <a:off x="3013200" y="4284720"/>
              <a:ext cx="0" cy="1676520"/>
              <a:chOff x="3013200" y="4284720"/>
              <a:chExt cx="0" cy="1676520"/>
            </a:xfrm>
          </p:grpSpPr>
          <p:sp>
            <p:nvSpPr>
              <p:cNvPr id="8099" name=""/>
              <p:cNvSpPr/>
              <p:nvPr/>
            </p:nvSpPr>
            <p:spPr>
              <a:xfrm>
                <a:off x="3013200" y="4284720"/>
                <a:ext cx="0" cy="78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3013200" y="511020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3013200" y="5268960"/>
                <a:ext cx="0" cy="69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02" name=""/>
            <p:cNvGrpSpPr/>
            <p:nvPr/>
          </p:nvGrpSpPr>
          <p:grpSpPr>
            <a:xfrm>
              <a:off x="5854680" y="4421160"/>
              <a:ext cx="0" cy="1676520"/>
              <a:chOff x="5854680" y="4421160"/>
              <a:chExt cx="0" cy="1676520"/>
            </a:xfrm>
          </p:grpSpPr>
          <p:sp>
            <p:nvSpPr>
              <p:cNvPr id="8103" name=""/>
              <p:cNvSpPr/>
              <p:nvPr/>
            </p:nvSpPr>
            <p:spPr>
              <a:xfrm>
                <a:off x="5854680" y="4421160"/>
                <a:ext cx="0" cy="781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5854680" y="524664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5854680" y="5405400"/>
                <a:ext cx="0" cy="69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06" name=""/>
            <p:cNvSpPr/>
            <p:nvPr/>
          </p:nvSpPr>
          <p:spPr>
            <a:xfrm>
              <a:off x="3803760" y="4641840"/>
              <a:ext cx="1361880" cy="40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3764160" y="4530960"/>
              <a:ext cx="88920" cy="119160"/>
            </a:xfrm>
            <a:custGeom>
              <a:avLst/>
              <a:gdLst/>
              <a:ahLst/>
              <a:rect l="0" t="0" r="r" b="b"/>
              <a:pathLst>
                <a:path fill="none" w="247" h="331">
                  <a:moveTo>
                    <a:pt x="247" y="331"/>
                  </a:moveTo>
                  <a:lnTo>
                    <a:pt x="247" y="331"/>
                  </a:lnTo>
                  <a:lnTo>
                    <a:pt x="247" y="331"/>
                  </a:lnTo>
                  <a:cubicBezTo>
                    <a:pt x="247" y="270"/>
                    <a:pt x="231" y="211"/>
                    <a:pt x="201" y="158"/>
                  </a:cubicBezTo>
                  <a:cubicBezTo>
                    <a:pt x="171" y="106"/>
                    <a:pt x="127" y="62"/>
                    <a:pt x="75" y="32"/>
                  </a:cubicBezTo>
                  <a:cubicBezTo>
                    <a:pt x="51" y="19"/>
                    <a:pt x="26" y="8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8" name=""/>
            <p:cNvSpPr/>
            <p:nvPr/>
          </p:nvSpPr>
          <p:spPr>
            <a:xfrm>
              <a:off x="3732120" y="545148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9" name=""/>
            <p:cNvSpPr/>
            <p:nvPr/>
          </p:nvSpPr>
          <p:spPr>
            <a:xfrm>
              <a:off x="5732640" y="545940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0" name=""/>
            <p:cNvSpPr/>
            <p:nvPr/>
          </p:nvSpPr>
          <p:spPr>
            <a:xfrm>
              <a:off x="3022560" y="545940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1" name=""/>
            <p:cNvSpPr/>
            <p:nvPr/>
          </p:nvSpPr>
          <p:spPr>
            <a:xfrm>
              <a:off x="5173920" y="4897440"/>
              <a:ext cx="138240" cy="178920"/>
            </a:xfrm>
            <a:custGeom>
              <a:avLst/>
              <a:gdLst/>
              <a:ahLst/>
              <a:rect l="0" t="0" r="r" b="b"/>
              <a:pathLst>
                <a:path fill="none" w="384" h="497">
                  <a:moveTo>
                    <a:pt x="348" y="497"/>
                  </a:moveTo>
                  <a:lnTo>
                    <a:pt x="348" y="497"/>
                  </a:lnTo>
                  <a:cubicBezTo>
                    <a:pt x="371" y="449"/>
                    <a:pt x="384" y="397"/>
                    <a:pt x="384" y="344"/>
                  </a:cubicBezTo>
                  <a:cubicBezTo>
                    <a:pt x="384" y="284"/>
                    <a:pt x="368" y="224"/>
                    <a:pt x="338" y="172"/>
                  </a:cubicBezTo>
                  <a:cubicBezTo>
                    <a:pt x="307" y="120"/>
                    <a:pt x="264" y="76"/>
                    <a:pt x="212" y="46"/>
                  </a:cubicBezTo>
                  <a:cubicBezTo>
                    <a:pt x="159" y="16"/>
                    <a:pt x="100" y="0"/>
                    <a:pt x="40" y="0"/>
                  </a:cubicBezTo>
                  <a:cubicBezTo>
                    <a:pt x="26" y="0"/>
                    <a:pt x="13" y="0"/>
                    <a:pt x="0" y="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5207040" y="5454720"/>
              <a:ext cx="124200" cy="124200"/>
            </a:xfrm>
            <a:custGeom>
              <a:avLst/>
              <a:gdLst/>
              <a:ahLst/>
              <a:rect l="0" t="0" r="r" b="b"/>
              <a:pathLst>
                <a:path fill="none" w="345" h="345">
                  <a:moveTo>
                    <a:pt x="345" y="345"/>
                  </a:moveTo>
                  <a:lnTo>
                    <a:pt x="345" y="345"/>
                  </a:lnTo>
                  <a:lnTo>
                    <a:pt x="345" y="345"/>
                  </a:lnTo>
                  <a:cubicBezTo>
                    <a:pt x="345" y="284"/>
                    <a:pt x="329" y="225"/>
                    <a:pt x="299" y="172"/>
                  </a:cubicBezTo>
                  <a:cubicBezTo>
                    <a:pt x="268" y="120"/>
                    <a:pt x="225" y="77"/>
                    <a:pt x="172" y="46"/>
                  </a:cubicBezTo>
                  <a:cubicBezTo>
                    <a:pt x="120" y="16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3868560" y="4843440"/>
              <a:ext cx="1184760" cy="984600"/>
            </a:xfrm>
            <a:custGeom>
              <a:avLst/>
              <a:gdLst/>
              <a:ahLst/>
              <a:rect l="0" t="0" r="r" b="b"/>
              <a:pathLst>
                <a:path w="3291" h="2735">
                  <a:moveTo>
                    <a:pt x="1323" y="1782"/>
                  </a:moveTo>
                  <a:lnTo>
                    <a:pt x="1323" y="185"/>
                  </a:lnTo>
                  <a:lnTo>
                    <a:pt x="1509" y="0"/>
                  </a:lnTo>
                  <a:lnTo>
                    <a:pt x="1782" y="0"/>
                  </a:lnTo>
                  <a:lnTo>
                    <a:pt x="1963" y="180"/>
                  </a:lnTo>
                  <a:lnTo>
                    <a:pt x="1963" y="1782"/>
                  </a:lnTo>
                  <a:lnTo>
                    <a:pt x="2241" y="2060"/>
                  </a:lnTo>
                  <a:lnTo>
                    <a:pt x="3102" y="2060"/>
                  </a:lnTo>
                  <a:lnTo>
                    <a:pt x="3291" y="2249"/>
                  </a:lnTo>
                  <a:lnTo>
                    <a:pt x="3291" y="2563"/>
                  </a:lnTo>
                  <a:lnTo>
                    <a:pt x="3119" y="2735"/>
                  </a:lnTo>
                  <a:lnTo>
                    <a:pt x="185" y="2735"/>
                  </a:lnTo>
                  <a:lnTo>
                    <a:pt x="0" y="2549"/>
                  </a:lnTo>
                  <a:lnTo>
                    <a:pt x="0" y="2263"/>
                  </a:lnTo>
                  <a:lnTo>
                    <a:pt x="211" y="2051"/>
                  </a:lnTo>
                  <a:lnTo>
                    <a:pt x="1068" y="2051"/>
                  </a:lnTo>
                  <a:lnTo>
                    <a:pt x="1323" y="1782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4" name=""/>
            <p:cNvGrpSpPr/>
            <p:nvPr/>
          </p:nvGrpSpPr>
          <p:grpSpPr>
            <a:xfrm>
              <a:off x="4456080" y="4541760"/>
              <a:ext cx="0" cy="1676520"/>
              <a:chOff x="4456080" y="4541760"/>
              <a:chExt cx="0" cy="1676520"/>
            </a:xfrm>
          </p:grpSpPr>
          <p:sp>
            <p:nvSpPr>
              <p:cNvPr id="8115" name=""/>
              <p:cNvSpPr/>
              <p:nvPr/>
            </p:nvSpPr>
            <p:spPr>
              <a:xfrm>
                <a:off x="4456080" y="4541760"/>
                <a:ext cx="0" cy="781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4456080" y="536724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4456080" y="5526000"/>
                <a:ext cx="0" cy="69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18" name=""/>
            <p:cNvSpPr/>
            <p:nvPr/>
          </p:nvSpPr>
          <p:spPr>
            <a:xfrm>
              <a:off x="3684600" y="3127320"/>
              <a:ext cx="136800" cy="105120"/>
            </a:xfrm>
            <a:custGeom>
              <a:avLst/>
              <a:gdLst/>
              <a:ahLst/>
              <a:rect l="0" t="0" r="r" b="b"/>
              <a:pathLst>
                <a:path fill="none" w="380" h="292">
                  <a:moveTo>
                    <a:pt x="380" y="2"/>
                  </a:moveTo>
                  <a:lnTo>
                    <a:pt x="380" y="2"/>
                  </a:lnTo>
                  <a:cubicBezTo>
                    <a:pt x="367" y="0"/>
                    <a:pt x="353" y="0"/>
                    <a:pt x="340" y="0"/>
                  </a:cubicBezTo>
                  <a:cubicBezTo>
                    <a:pt x="279" y="0"/>
                    <a:pt x="220" y="16"/>
                    <a:pt x="168" y="46"/>
                  </a:cubicBezTo>
                  <a:cubicBezTo>
                    <a:pt x="116" y="76"/>
                    <a:pt x="72" y="120"/>
                    <a:pt x="42" y="172"/>
                  </a:cubicBezTo>
                  <a:cubicBezTo>
                    <a:pt x="21" y="209"/>
                    <a:pt x="7" y="250"/>
                    <a:pt x="0" y="29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5235840" y="3130560"/>
              <a:ext cx="130320" cy="80280"/>
            </a:xfrm>
            <a:custGeom>
              <a:avLst/>
              <a:gdLst/>
              <a:ahLst/>
              <a:rect l="0" t="0" r="r" b="b"/>
              <a:pathLst>
                <a:path fill="none" w="362" h="223">
                  <a:moveTo>
                    <a:pt x="362" y="223"/>
                  </a:moveTo>
                  <a:lnTo>
                    <a:pt x="362" y="223"/>
                  </a:lnTo>
                  <a:cubicBezTo>
                    <a:pt x="355" y="205"/>
                    <a:pt x="347" y="188"/>
                    <a:pt x="338" y="172"/>
                  </a:cubicBezTo>
                  <a:cubicBezTo>
                    <a:pt x="308" y="120"/>
                    <a:pt x="264" y="76"/>
                    <a:pt x="212" y="46"/>
                  </a:cubicBezTo>
                  <a:cubicBezTo>
                    <a:pt x="159" y="16"/>
                    <a:pt x="100" y="0"/>
                    <a:pt x="39" y="0"/>
                  </a:cubicBezTo>
                  <a:cubicBezTo>
                    <a:pt x="26" y="0"/>
                    <a:pt x="13" y="1"/>
                    <a:pt x="0" y="2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3683160" y="2804040"/>
              <a:ext cx="94680" cy="120600"/>
            </a:xfrm>
            <a:custGeom>
              <a:avLst/>
              <a:gdLst/>
              <a:ahLst/>
              <a:rect l="0" t="0" r="r" b="b"/>
              <a:pathLst>
                <a:path fill="none" w="263" h="335">
                  <a:moveTo>
                    <a:pt x="263" y="0"/>
                  </a:moveTo>
                  <a:lnTo>
                    <a:pt x="263" y="0"/>
                  </a:lnTo>
                  <a:cubicBezTo>
                    <a:pt x="231" y="8"/>
                    <a:pt x="201" y="20"/>
                    <a:pt x="173" y="36"/>
                  </a:cubicBezTo>
                  <a:cubicBezTo>
                    <a:pt x="120" y="66"/>
                    <a:pt x="77" y="110"/>
                    <a:pt x="46" y="162"/>
                  </a:cubicBezTo>
                  <a:cubicBezTo>
                    <a:pt x="16" y="214"/>
                    <a:pt x="0" y="274"/>
                    <a:pt x="0" y="334"/>
                  </a:cubicBezTo>
                  <a:lnTo>
                    <a:pt x="0" y="33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5279760" y="2802960"/>
              <a:ext cx="89640" cy="131040"/>
            </a:xfrm>
            <a:custGeom>
              <a:avLst/>
              <a:gdLst/>
              <a:ahLst/>
              <a:rect l="0" t="0" r="r" b="b"/>
              <a:pathLst>
                <a:path fill="none" w="249" h="364">
                  <a:moveTo>
                    <a:pt x="248" y="364"/>
                  </a:moveTo>
                  <a:lnTo>
                    <a:pt x="248" y="364"/>
                  </a:lnTo>
                  <a:cubicBezTo>
                    <a:pt x="249" y="354"/>
                    <a:pt x="249" y="343"/>
                    <a:pt x="249" y="333"/>
                  </a:cubicBezTo>
                  <a:cubicBezTo>
                    <a:pt x="249" y="272"/>
                    <a:pt x="234" y="213"/>
                    <a:pt x="204" y="160"/>
                  </a:cubicBezTo>
                  <a:cubicBezTo>
                    <a:pt x="174" y="108"/>
                    <a:pt x="132" y="64"/>
                    <a:pt x="81" y="34"/>
                  </a:cubicBezTo>
                  <a:cubicBezTo>
                    <a:pt x="55" y="19"/>
                    <a:pt x="28" y="8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2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3" name=""/>
          <p:cNvSpPr txBox="1"/>
          <p:nvPr/>
        </p:nvSpPr>
        <p:spPr>
          <a:xfrm>
            <a:off x="701640" y="2652840"/>
            <a:ext cx="7772400" cy="27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Within Conventional Break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4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5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26" name=""/>
          <p:cNvGrpSpPr/>
          <p:nvPr/>
        </p:nvGrpSpPr>
        <p:grpSpPr>
          <a:xfrm>
            <a:off x="254160" y="3371760"/>
            <a:ext cx="8697960" cy="1107000"/>
            <a:chOff x="254160" y="3371760"/>
            <a:chExt cx="8697960" cy="1107000"/>
          </a:xfrm>
        </p:grpSpPr>
        <p:sp>
          <p:nvSpPr>
            <p:cNvPr id="8127" name=""/>
            <p:cNvSpPr/>
            <p:nvPr/>
          </p:nvSpPr>
          <p:spPr>
            <a:xfrm>
              <a:off x="3444840" y="372744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3473280" y="4071960"/>
              <a:ext cx="1074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9" name=""/>
            <p:cNvGrpSpPr/>
            <p:nvPr/>
          </p:nvGrpSpPr>
          <p:grpSpPr>
            <a:xfrm>
              <a:off x="4927680" y="3473280"/>
              <a:ext cx="440280" cy="848160"/>
              <a:chOff x="4927680" y="3473280"/>
              <a:chExt cx="440280" cy="848160"/>
            </a:xfrm>
          </p:grpSpPr>
          <p:sp>
            <p:nvSpPr>
              <p:cNvPr id="8130" name=""/>
              <p:cNvSpPr/>
              <p:nvPr/>
            </p:nvSpPr>
            <p:spPr>
              <a:xfrm>
                <a:off x="4970520" y="3965400"/>
                <a:ext cx="397080" cy="109800"/>
              </a:xfrm>
              <a:custGeom>
                <a:avLst/>
                <a:gdLst/>
                <a:ahLst/>
                <a:rect l="0" t="0" r="r" b="b"/>
                <a:pathLst>
                  <a:path fill="none" w="1103" h="305">
                    <a:moveTo>
                      <a:pt x="0" y="305"/>
                    </a:moveTo>
                    <a:lnTo>
                      <a:pt x="0" y="305"/>
                    </a:lnTo>
                    <a:cubicBezTo>
                      <a:pt x="194" y="305"/>
                      <a:pt x="384" y="291"/>
                      <a:pt x="552" y="264"/>
                    </a:cubicBezTo>
                    <a:cubicBezTo>
                      <a:pt x="719" y="237"/>
                      <a:pt x="858" y="199"/>
                      <a:pt x="955" y="152"/>
                    </a:cubicBezTo>
                    <a:cubicBezTo>
                      <a:pt x="1052" y="106"/>
                      <a:pt x="1103" y="54"/>
                      <a:pt x="1103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4960800" y="3579840"/>
                <a:ext cx="406800" cy="149760"/>
              </a:xfrm>
              <a:custGeom>
                <a:avLst/>
                <a:gdLst/>
                <a:ahLst/>
                <a:rect l="0" t="0" r="r" b="b"/>
                <a:pathLst>
                  <a:path fill="none" w="1130" h="416">
                    <a:moveTo>
                      <a:pt x="0" y="416"/>
                    </a:moveTo>
                    <a:lnTo>
                      <a:pt x="0" y="416"/>
                    </a:lnTo>
                    <a:cubicBezTo>
                      <a:pt x="198" y="416"/>
                      <a:pt x="393" y="397"/>
                      <a:pt x="565" y="360"/>
                    </a:cubicBezTo>
                    <a:cubicBezTo>
                      <a:pt x="737" y="324"/>
                      <a:pt x="879" y="271"/>
                      <a:pt x="979" y="208"/>
                    </a:cubicBezTo>
                    <a:cubicBezTo>
                      <a:pt x="1078" y="145"/>
                      <a:pt x="1130" y="73"/>
                      <a:pt x="113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4950000" y="3724200"/>
                <a:ext cx="417960" cy="100440"/>
              </a:xfrm>
              <a:custGeom>
                <a:avLst/>
                <a:gdLst/>
                <a:ahLst/>
                <a:rect l="0" t="0" r="r" b="b"/>
                <a:pathLst>
                  <a:path fill="none" w="1161" h="279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9"/>
                      <a:pt x="54" y="97"/>
                      <a:pt x="156" y="140"/>
                    </a:cubicBezTo>
                    <a:cubicBezTo>
                      <a:pt x="257" y="182"/>
                      <a:pt x="404" y="217"/>
                      <a:pt x="581" y="242"/>
                    </a:cubicBezTo>
                    <a:cubicBezTo>
                      <a:pt x="757" y="266"/>
                      <a:pt x="957" y="279"/>
                      <a:pt x="1161" y="279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4927680" y="4070520"/>
                <a:ext cx="417960" cy="138600"/>
              </a:xfrm>
              <a:custGeom>
                <a:avLst/>
                <a:gdLst/>
                <a:ahLst/>
                <a:rect l="0" t="0" r="r" b="b"/>
                <a:pathLst>
                  <a:path fill="none" w="1161" h="385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68"/>
                      <a:pt x="54" y="134"/>
                      <a:pt x="156" y="193"/>
                    </a:cubicBezTo>
                    <a:cubicBezTo>
                      <a:pt x="257" y="251"/>
                      <a:pt x="404" y="300"/>
                      <a:pt x="581" y="333"/>
                    </a:cubicBezTo>
                    <a:cubicBezTo>
                      <a:pt x="757" y="367"/>
                      <a:pt x="957" y="385"/>
                      <a:pt x="1161" y="38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4948200" y="4197240"/>
                <a:ext cx="400320" cy="124200"/>
              </a:xfrm>
              <a:custGeom>
                <a:avLst/>
                <a:gdLst/>
                <a:ahLst/>
                <a:rect l="0" t="0" r="r" b="b"/>
                <a:pathLst>
                  <a:path fill="none" w="1112" h="345">
                    <a:moveTo>
                      <a:pt x="0" y="345"/>
                    </a:moveTo>
                    <a:lnTo>
                      <a:pt x="0" y="345"/>
                    </a:lnTo>
                    <a:cubicBezTo>
                      <a:pt x="195" y="345"/>
                      <a:pt x="387" y="329"/>
                      <a:pt x="556" y="299"/>
                    </a:cubicBezTo>
                    <a:cubicBezTo>
                      <a:pt x="725" y="268"/>
                      <a:pt x="865" y="225"/>
                      <a:pt x="963" y="172"/>
                    </a:cubicBezTo>
                    <a:cubicBezTo>
                      <a:pt x="1061" y="120"/>
                      <a:pt x="1112" y="61"/>
                      <a:pt x="1112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4967280" y="3473280"/>
                <a:ext cx="400320" cy="124200"/>
              </a:xfrm>
              <a:custGeom>
                <a:avLst/>
                <a:gdLst/>
                <a:ahLst/>
                <a:rect l="0" t="0" r="r" b="b"/>
                <a:pathLst>
                  <a:path fill="none" w="1112" h="345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61"/>
                      <a:pt x="51" y="120"/>
                      <a:pt x="149" y="173"/>
                    </a:cubicBezTo>
                    <a:cubicBezTo>
                      <a:pt x="247" y="225"/>
                      <a:pt x="387" y="268"/>
                      <a:pt x="556" y="299"/>
                    </a:cubicBezTo>
                    <a:cubicBezTo>
                      <a:pt x="725" y="329"/>
                      <a:pt x="917" y="345"/>
                      <a:pt x="1112" y="34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36" name=""/>
            <p:cNvSpPr/>
            <p:nvPr/>
          </p:nvSpPr>
          <p:spPr>
            <a:xfrm>
              <a:off x="3141720" y="3487320"/>
              <a:ext cx="306720" cy="240120"/>
            </a:xfrm>
            <a:custGeom>
              <a:avLst/>
              <a:gdLst/>
              <a:ahLst/>
              <a:rect l="0" t="0" r="r" b="b"/>
              <a:pathLst>
                <a:path fill="none" w="852" h="667">
                  <a:moveTo>
                    <a:pt x="0" y="0"/>
                  </a:moveTo>
                  <a:lnTo>
                    <a:pt x="0" y="0"/>
                  </a:lnTo>
                  <a:cubicBezTo>
                    <a:pt x="13" y="105"/>
                    <a:pt x="52" y="206"/>
                    <a:pt x="115" y="297"/>
                  </a:cubicBezTo>
                  <a:cubicBezTo>
                    <a:pt x="193" y="410"/>
                    <a:pt x="306" y="503"/>
                    <a:pt x="441" y="568"/>
                  </a:cubicBezTo>
                  <a:cubicBezTo>
                    <a:pt x="566" y="628"/>
                    <a:pt x="707" y="662"/>
                    <a:pt x="852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3205800" y="4098240"/>
              <a:ext cx="310320" cy="236520"/>
            </a:xfrm>
            <a:custGeom>
              <a:avLst/>
              <a:gdLst/>
              <a:ahLst/>
              <a:rect l="0" t="0" r="r" b="b"/>
              <a:pathLst>
                <a:path fill="none" w="862" h="657">
                  <a:moveTo>
                    <a:pt x="0" y="657"/>
                  </a:moveTo>
                  <a:lnTo>
                    <a:pt x="0" y="657"/>
                  </a:lnTo>
                  <a:cubicBezTo>
                    <a:pt x="128" y="644"/>
                    <a:pt x="252" y="613"/>
                    <a:pt x="364" y="565"/>
                  </a:cubicBezTo>
                  <a:cubicBezTo>
                    <a:pt x="517" y="500"/>
                    <a:pt x="644" y="406"/>
                    <a:pt x="733" y="294"/>
                  </a:cubicBezTo>
                  <a:cubicBezTo>
                    <a:pt x="803" y="203"/>
                    <a:pt x="847" y="103"/>
                    <a:pt x="86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6153120" y="3479760"/>
              <a:ext cx="2775960" cy="482400"/>
            </a:xfrm>
            <a:custGeom>
              <a:avLst/>
              <a:gdLst/>
              <a:ahLst/>
              <a:rect l="0" t="0" r="r" b="b"/>
              <a:pathLst>
                <a:path fill="none" w="7711" h="1340">
                  <a:moveTo>
                    <a:pt x="7711" y="1340"/>
                  </a:moveTo>
                  <a:lnTo>
                    <a:pt x="7711" y="1340"/>
                  </a:lnTo>
                  <a:cubicBezTo>
                    <a:pt x="7553" y="1153"/>
                    <a:pt x="7238" y="974"/>
                    <a:pt x="6779" y="810"/>
                  </a:cubicBezTo>
                  <a:cubicBezTo>
                    <a:pt x="6092" y="563"/>
                    <a:pt x="5104" y="359"/>
                    <a:pt x="3914" y="217"/>
                  </a:cubicBezTo>
                  <a:cubicBezTo>
                    <a:pt x="2724" y="75"/>
                    <a:pt x="1374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6156000" y="3697200"/>
              <a:ext cx="2778840" cy="459000"/>
            </a:xfrm>
            <a:custGeom>
              <a:avLst/>
              <a:gdLst/>
              <a:ahLst/>
              <a:rect l="0" t="0" r="r" b="b"/>
              <a:pathLst>
                <a:path fill="none" w="7719" h="1275">
                  <a:moveTo>
                    <a:pt x="7719" y="0"/>
                  </a:moveTo>
                  <a:lnTo>
                    <a:pt x="7719" y="0"/>
                  </a:lnTo>
                  <a:lnTo>
                    <a:pt x="7719" y="0"/>
                  </a:lnTo>
                  <a:cubicBezTo>
                    <a:pt x="6315" y="0"/>
                    <a:pt x="4936" y="80"/>
                    <a:pt x="3721" y="231"/>
                  </a:cubicBezTo>
                  <a:cubicBezTo>
                    <a:pt x="2505" y="383"/>
                    <a:pt x="1496" y="600"/>
                    <a:pt x="794" y="863"/>
                  </a:cubicBezTo>
                  <a:cubicBezTo>
                    <a:pt x="448" y="992"/>
                    <a:pt x="181" y="1131"/>
                    <a:pt x="0" y="127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7054920" y="3529080"/>
              <a:ext cx="57240" cy="7430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6323040" y="3371760"/>
              <a:ext cx="884520" cy="116280"/>
            </a:xfrm>
            <a:custGeom>
              <a:avLst/>
              <a:gdLst/>
              <a:ahLst/>
              <a:rect l="0" t="0" r="r" b="b"/>
              <a:pathLst>
                <a:path w="2457" h="323">
                  <a:moveTo>
                    <a:pt x="0" y="205"/>
                  </a:moveTo>
                  <a:lnTo>
                    <a:pt x="2457" y="323"/>
                  </a:lnTo>
                  <a:lnTo>
                    <a:pt x="2432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2" name=""/>
            <p:cNvSpPr/>
            <p:nvPr/>
          </p:nvSpPr>
          <p:spPr>
            <a:xfrm>
              <a:off x="6454800" y="4264200"/>
              <a:ext cx="1195920" cy="214560"/>
            </a:xfrm>
            <a:custGeom>
              <a:avLst/>
              <a:gdLst/>
              <a:ahLst/>
              <a:rect l="0" t="0" r="r" b="b"/>
              <a:pathLst>
                <a:path w="3322" h="596">
                  <a:moveTo>
                    <a:pt x="0" y="217"/>
                  </a:moveTo>
                  <a:lnTo>
                    <a:pt x="3322" y="0"/>
                  </a:lnTo>
                  <a:lnTo>
                    <a:pt x="3288" y="596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6873840" y="390528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4" name=""/>
            <p:cNvSpPr/>
            <p:nvPr/>
          </p:nvSpPr>
          <p:spPr>
            <a:xfrm flipV="1">
              <a:off x="254160" y="3476520"/>
              <a:ext cx="849240" cy="84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1101600" y="3476520"/>
              <a:ext cx="5040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254160" y="4317840"/>
              <a:ext cx="588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8" name=""/>
            <p:cNvSpPr/>
            <p:nvPr/>
          </p:nvSpPr>
          <p:spPr>
            <a:xfrm flipH="1">
              <a:off x="4494240" y="372600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9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8864640" y="3781440"/>
              <a:ext cx="87480" cy="24300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7045200" y="3905280"/>
              <a:ext cx="1886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5388120" y="3905280"/>
              <a:ext cx="14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3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4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5" name=""/>
          <p:cNvSpPr/>
          <p:nvPr/>
        </p:nvSpPr>
        <p:spPr>
          <a:xfrm>
            <a:off x="3441600" y="3727440"/>
            <a:ext cx="1008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6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157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63" name=""/>
          <p:cNvSpPr/>
          <p:nvPr/>
        </p:nvSpPr>
        <p:spPr>
          <a:xfrm>
            <a:off x="3141720" y="3487320"/>
            <a:ext cx="302400" cy="240120"/>
          </a:xfrm>
          <a:custGeom>
            <a:avLst/>
            <a:gdLst/>
            <a:ahLst/>
            <a:rect l="0" t="0" r="r" b="b"/>
            <a:pathLst>
              <a:path fill="none" w="840" h="667">
                <a:moveTo>
                  <a:pt x="0" y="0"/>
                </a:moveTo>
                <a:lnTo>
                  <a:pt x="0" y="0"/>
                </a:lnTo>
                <a:cubicBezTo>
                  <a:pt x="12" y="105"/>
                  <a:pt x="51" y="206"/>
                  <a:pt x="113" y="297"/>
                </a:cubicBezTo>
                <a:cubicBezTo>
                  <a:pt x="191" y="410"/>
                  <a:pt x="302" y="503"/>
                  <a:pt x="435" y="568"/>
                </a:cubicBezTo>
                <a:cubicBezTo>
                  <a:pt x="559" y="628"/>
                  <a:pt x="698" y="662"/>
                  <a:pt x="840" y="66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4" name=""/>
          <p:cNvSpPr/>
          <p:nvPr/>
        </p:nvSpPr>
        <p:spPr>
          <a:xfrm>
            <a:off x="3154320" y="4100400"/>
            <a:ext cx="374400" cy="232200"/>
          </a:xfrm>
          <a:custGeom>
            <a:avLst/>
            <a:gdLst/>
            <a:ahLst/>
            <a:rect l="0" t="0" r="r" b="b"/>
            <a:pathLst>
              <a:path fill="none" w="1040" h="645">
                <a:moveTo>
                  <a:pt x="0" y="645"/>
                </a:moveTo>
                <a:lnTo>
                  <a:pt x="0" y="645"/>
                </a:lnTo>
                <a:cubicBezTo>
                  <a:pt x="184" y="645"/>
                  <a:pt x="364" y="612"/>
                  <a:pt x="523" y="549"/>
                </a:cubicBezTo>
                <a:cubicBezTo>
                  <a:pt x="682" y="485"/>
                  <a:pt x="814" y="394"/>
                  <a:pt x="906" y="285"/>
                </a:cubicBezTo>
                <a:cubicBezTo>
                  <a:pt x="979" y="197"/>
                  <a:pt x="1025" y="100"/>
                  <a:pt x="104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5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6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7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8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9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0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1" name=""/>
          <p:cNvSpPr/>
          <p:nvPr/>
        </p:nvSpPr>
        <p:spPr>
          <a:xfrm flipV="1">
            <a:off x="254160" y="3476520"/>
            <a:ext cx="849240" cy="84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2" name=""/>
          <p:cNvSpPr/>
          <p:nvPr/>
        </p:nvSpPr>
        <p:spPr>
          <a:xfrm>
            <a:off x="4300560" y="344016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3" name=""/>
          <p:cNvSpPr/>
          <p:nvPr/>
        </p:nvSpPr>
        <p:spPr>
          <a:xfrm>
            <a:off x="1101600" y="347652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4" name=""/>
          <p:cNvSpPr/>
          <p:nvPr/>
        </p:nvSpPr>
        <p:spPr>
          <a:xfrm>
            <a:off x="254160" y="4317840"/>
            <a:ext cx="588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5" name=""/>
          <p:cNvSpPr/>
          <p:nvPr/>
        </p:nvSpPr>
        <p:spPr>
          <a:xfrm flipH="1">
            <a:off x="4449600" y="372600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6" name=""/>
          <p:cNvGrpSpPr/>
          <p:nvPr/>
        </p:nvGrpSpPr>
        <p:grpSpPr>
          <a:xfrm>
            <a:off x="3521160" y="4071960"/>
            <a:ext cx="1554120" cy="1440"/>
            <a:chOff x="3521160" y="4071960"/>
            <a:chExt cx="1554120" cy="1440"/>
          </a:xfrm>
        </p:grpSpPr>
        <p:sp>
          <p:nvSpPr>
            <p:cNvPr id="8177" name=""/>
            <p:cNvSpPr/>
            <p:nvPr/>
          </p:nvSpPr>
          <p:spPr>
            <a:xfrm>
              <a:off x="3521160" y="4071960"/>
              <a:ext cx="982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8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79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0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1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82" name=""/>
          <p:cNvGrpSpPr/>
          <p:nvPr/>
        </p:nvGrpSpPr>
        <p:grpSpPr>
          <a:xfrm>
            <a:off x="2063880" y="3306600"/>
            <a:ext cx="0" cy="1198800"/>
            <a:chOff x="2063880" y="3306600"/>
            <a:chExt cx="0" cy="1198800"/>
          </a:xfrm>
        </p:grpSpPr>
        <p:sp>
          <p:nvSpPr>
            <p:cNvPr id="8183" name=""/>
            <p:cNvSpPr/>
            <p:nvPr/>
          </p:nvSpPr>
          <p:spPr>
            <a:xfrm>
              <a:off x="2063880" y="38419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4" name=""/>
            <p:cNvSpPr/>
            <p:nvPr/>
          </p:nvSpPr>
          <p:spPr>
            <a:xfrm>
              <a:off x="2063880" y="40402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2063880" y="3306600"/>
              <a:ext cx="0" cy="443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6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7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8" name=""/>
          <p:cNvSpPr/>
          <p:nvPr/>
        </p:nvSpPr>
        <p:spPr>
          <a:xfrm>
            <a:off x="3441600" y="3727440"/>
            <a:ext cx="1008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89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190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4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6" name=""/>
          <p:cNvSpPr/>
          <p:nvPr/>
        </p:nvSpPr>
        <p:spPr>
          <a:xfrm>
            <a:off x="3141720" y="3487320"/>
            <a:ext cx="302400" cy="240120"/>
          </a:xfrm>
          <a:custGeom>
            <a:avLst/>
            <a:gdLst/>
            <a:ahLst/>
            <a:rect l="0" t="0" r="r" b="b"/>
            <a:pathLst>
              <a:path fill="none" w="840" h="667">
                <a:moveTo>
                  <a:pt x="0" y="0"/>
                </a:moveTo>
                <a:lnTo>
                  <a:pt x="0" y="0"/>
                </a:lnTo>
                <a:cubicBezTo>
                  <a:pt x="12" y="105"/>
                  <a:pt x="51" y="206"/>
                  <a:pt x="113" y="297"/>
                </a:cubicBezTo>
                <a:cubicBezTo>
                  <a:pt x="191" y="410"/>
                  <a:pt x="302" y="503"/>
                  <a:pt x="435" y="568"/>
                </a:cubicBezTo>
                <a:cubicBezTo>
                  <a:pt x="559" y="628"/>
                  <a:pt x="698" y="662"/>
                  <a:pt x="840" y="66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7" name=""/>
          <p:cNvSpPr/>
          <p:nvPr/>
        </p:nvSpPr>
        <p:spPr>
          <a:xfrm>
            <a:off x="3154320" y="4100400"/>
            <a:ext cx="374400" cy="232200"/>
          </a:xfrm>
          <a:custGeom>
            <a:avLst/>
            <a:gdLst/>
            <a:ahLst/>
            <a:rect l="0" t="0" r="r" b="b"/>
            <a:pathLst>
              <a:path fill="none" w="1040" h="645">
                <a:moveTo>
                  <a:pt x="0" y="645"/>
                </a:moveTo>
                <a:lnTo>
                  <a:pt x="0" y="645"/>
                </a:lnTo>
                <a:cubicBezTo>
                  <a:pt x="184" y="645"/>
                  <a:pt x="364" y="612"/>
                  <a:pt x="523" y="549"/>
                </a:cubicBezTo>
                <a:cubicBezTo>
                  <a:pt x="682" y="485"/>
                  <a:pt x="814" y="394"/>
                  <a:pt x="906" y="285"/>
                </a:cubicBezTo>
                <a:cubicBezTo>
                  <a:pt x="979" y="197"/>
                  <a:pt x="1025" y="100"/>
                  <a:pt x="104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8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9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0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1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2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3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4" name=""/>
          <p:cNvSpPr/>
          <p:nvPr/>
        </p:nvSpPr>
        <p:spPr>
          <a:xfrm flipV="1">
            <a:off x="254160" y="3476520"/>
            <a:ext cx="849240" cy="84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5" name=""/>
          <p:cNvSpPr/>
          <p:nvPr/>
        </p:nvSpPr>
        <p:spPr>
          <a:xfrm>
            <a:off x="4300560" y="344016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6" name=""/>
          <p:cNvSpPr/>
          <p:nvPr/>
        </p:nvSpPr>
        <p:spPr>
          <a:xfrm>
            <a:off x="1101600" y="347652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7" name=""/>
          <p:cNvSpPr/>
          <p:nvPr/>
        </p:nvSpPr>
        <p:spPr>
          <a:xfrm>
            <a:off x="254160" y="4317840"/>
            <a:ext cx="588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8" name=""/>
          <p:cNvSpPr/>
          <p:nvPr/>
        </p:nvSpPr>
        <p:spPr>
          <a:xfrm flipH="1">
            <a:off x="4449600" y="372600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9" name=""/>
          <p:cNvGrpSpPr/>
          <p:nvPr/>
        </p:nvGrpSpPr>
        <p:grpSpPr>
          <a:xfrm>
            <a:off x="3521160" y="4071960"/>
            <a:ext cx="1554120" cy="1440"/>
            <a:chOff x="3521160" y="4071960"/>
            <a:chExt cx="1554120" cy="1440"/>
          </a:xfrm>
        </p:grpSpPr>
        <p:sp>
          <p:nvSpPr>
            <p:cNvPr id="8210" name=""/>
            <p:cNvSpPr/>
            <p:nvPr/>
          </p:nvSpPr>
          <p:spPr>
            <a:xfrm>
              <a:off x="3521160" y="4071960"/>
              <a:ext cx="982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1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2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3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4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5" name=""/>
          <p:cNvSpPr/>
          <p:nvPr/>
        </p:nvSpPr>
        <p:spPr>
          <a:xfrm>
            <a:off x="1643040" y="3473280"/>
            <a:ext cx="84132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6" name=""/>
          <p:cNvGrpSpPr/>
          <p:nvPr/>
        </p:nvGrpSpPr>
        <p:grpSpPr>
          <a:xfrm>
            <a:off x="2063880" y="3306600"/>
            <a:ext cx="0" cy="1198800"/>
            <a:chOff x="2063880" y="3306600"/>
            <a:chExt cx="0" cy="1198800"/>
          </a:xfrm>
        </p:grpSpPr>
        <p:sp>
          <p:nvSpPr>
            <p:cNvPr id="8217" name=""/>
            <p:cNvSpPr/>
            <p:nvPr/>
          </p:nvSpPr>
          <p:spPr>
            <a:xfrm>
              <a:off x="2063880" y="38419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2063880" y="40402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2063880" y="3306600"/>
              <a:ext cx="0" cy="443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0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1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2" name=""/>
          <p:cNvSpPr/>
          <p:nvPr/>
        </p:nvSpPr>
        <p:spPr>
          <a:xfrm>
            <a:off x="3441600" y="3727440"/>
            <a:ext cx="1008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23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224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30" name=""/>
          <p:cNvSpPr/>
          <p:nvPr/>
        </p:nvSpPr>
        <p:spPr>
          <a:xfrm>
            <a:off x="3141720" y="3487320"/>
            <a:ext cx="302400" cy="240120"/>
          </a:xfrm>
          <a:custGeom>
            <a:avLst/>
            <a:gdLst/>
            <a:ahLst/>
            <a:rect l="0" t="0" r="r" b="b"/>
            <a:pathLst>
              <a:path fill="none" w="840" h="667">
                <a:moveTo>
                  <a:pt x="0" y="0"/>
                </a:moveTo>
                <a:lnTo>
                  <a:pt x="0" y="0"/>
                </a:lnTo>
                <a:cubicBezTo>
                  <a:pt x="12" y="105"/>
                  <a:pt x="51" y="206"/>
                  <a:pt x="113" y="297"/>
                </a:cubicBezTo>
                <a:cubicBezTo>
                  <a:pt x="191" y="410"/>
                  <a:pt x="302" y="503"/>
                  <a:pt x="435" y="568"/>
                </a:cubicBezTo>
                <a:cubicBezTo>
                  <a:pt x="559" y="628"/>
                  <a:pt x="698" y="662"/>
                  <a:pt x="840" y="66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1" name=""/>
          <p:cNvSpPr/>
          <p:nvPr/>
        </p:nvSpPr>
        <p:spPr>
          <a:xfrm>
            <a:off x="3154320" y="4100400"/>
            <a:ext cx="374400" cy="232200"/>
          </a:xfrm>
          <a:custGeom>
            <a:avLst/>
            <a:gdLst/>
            <a:ahLst/>
            <a:rect l="0" t="0" r="r" b="b"/>
            <a:pathLst>
              <a:path fill="none" w="1040" h="645">
                <a:moveTo>
                  <a:pt x="0" y="645"/>
                </a:moveTo>
                <a:lnTo>
                  <a:pt x="0" y="645"/>
                </a:lnTo>
                <a:cubicBezTo>
                  <a:pt x="184" y="645"/>
                  <a:pt x="364" y="612"/>
                  <a:pt x="523" y="549"/>
                </a:cubicBezTo>
                <a:cubicBezTo>
                  <a:pt x="682" y="485"/>
                  <a:pt x="814" y="394"/>
                  <a:pt x="906" y="285"/>
                </a:cubicBezTo>
                <a:cubicBezTo>
                  <a:pt x="979" y="197"/>
                  <a:pt x="1025" y="100"/>
                  <a:pt x="104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2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3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4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5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6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7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8" name=""/>
          <p:cNvSpPr/>
          <p:nvPr/>
        </p:nvSpPr>
        <p:spPr>
          <a:xfrm flipV="1">
            <a:off x="263520" y="3476520"/>
            <a:ext cx="839880" cy="839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9" name=""/>
          <p:cNvSpPr/>
          <p:nvPr/>
        </p:nvSpPr>
        <p:spPr>
          <a:xfrm>
            <a:off x="4300560" y="344016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0" name=""/>
          <p:cNvSpPr/>
          <p:nvPr/>
        </p:nvSpPr>
        <p:spPr>
          <a:xfrm>
            <a:off x="2692440" y="3476520"/>
            <a:ext cx="344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1" name=""/>
          <p:cNvSpPr/>
          <p:nvPr/>
        </p:nvSpPr>
        <p:spPr>
          <a:xfrm>
            <a:off x="2587680" y="4317840"/>
            <a:ext cx="355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2" name=""/>
          <p:cNvSpPr/>
          <p:nvPr/>
        </p:nvSpPr>
        <p:spPr>
          <a:xfrm flipH="1">
            <a:off x="4449600" y="372600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43" name=""/>
          <p:cNvGrpSpPr/>
          <p:nvPr/>
        </p:nvGrpSpPr>
        <p:grpSpPr>
          <a:xfrm>
            <a:off x="3521160" y="4071960"/>
            <a:ext cx="1554120" cy="1440"/>
            <a:chOff x="3521160" y="4071960"/>
            <a:chExt cx="1554120" cy="1440"/>
          </a:xfrm>
        </p:grpSpPr>
        <p:sp>
          <p:nvSpPr>
            <p:cNvPr id="8244" name=""/>
            <p:cNvSpPr/>
            <p:nvPr/>
          </p:nvSpPr>
          <p:spPr>
            <a:xfrm>
              <a:off x="3521160" y="4071960"/>
              <a:ext cx="982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5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46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7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8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9" name=""/>
          <p:cNvSpPr/>
          <p:nvPr/>
        </p:nvSpPr>
        <p:spPr>
          <a:xfrm>
            <a:off x="1643040" y="3473280"/>
            <a:ext cx="84132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0" name=""/>
          <p:cNvGrpSpPr/>
          <p:nvPr/>
        </p:nvGrpSpPr>
        <p:grpSpPr>
          <a:xfrm>
            <a:off x="2063880" y="3306600"/>
            <a:ext cx="0" cy="1198800"/>
            <a:chOff x="2063880" y="3306600"/>
            <a:chExt cx="0" cy="1198800"/>
          </a:xfrm>
        </p:grpSpPr>
        <p:sp>
          <p:nvSpPr>
            <p:cNvPr id="8251" name=""/>
            <p:cNvSpPr/>
            <p:nvPr/>
          </p:nvSpPr>
          <p:spPr>
            <a:xfrm>
              <a:off x="2063880" y="38419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2063880" y="40402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3" name=""/>
            <p:cNvSpPr/>
            <p:nvPr/>
          </p:nvSpPr>
          <p:spPr>
            <a:xfrm>
              <a:off x="2063880" y="3306600"/>
              <a:ext cx="0" cy="443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54" name=""/>
          <p:cNvSpPr/>
          <p:nvPr/>
        </p:nvSpPr>
        <p:spPr>
          <a:xfrm>
            <a:off x="2592360" y="3479760"/>
            <a:ext cx="105120" cy="835560"/>
          </a:xfrm>
          <a:custGeom>
            <a:avLst/>
            <a:gdLst/>
            <a:ahLst/>
            <a:rect l="0" t="0" r="r" b="b"/>
            <a:pathLst>
              <a:path fill="none" w="292" h="2321">
                <a:moveTo>
                  <a:pt x="292" y="0"/>
                </a:moveTo>
                <a:lnTo>
                  <a:pt x="292" y="0"/>
                </a:lnTo>
                <a:lnTo>
                  <a:pt x="274" y="26"/>
                </a:lnTo>
                <a:lnTo>
                  <a:pt x="274" y="52"/>
                </a:lnTo>
                <a:lnTo>
                  <a:pt x="274" y="88"/>
                </a:lnTo>
                <a:lnTo>
                  <a:pt x="274" y="132"/>
                </a:lnTo>
                <a:lnTo>
                  <a:pt x="274" y="158"/>
                </a:lnTo>
                <a:lnTo>
                  <a:pt x="274" y="202"/>
                </a:lnTo>
                <a:lnTo>
                  <a:pt x="274" y="246"/>
                </a:lnTo>
                <a:lnTo>
                  <a:pt x="274" y="282"/>
                </a:lnTo>
                <a:lnTo>
                  <a:pt x="274" y="317"/>
                </a:lnTo>
                <a:lnTo>
                  <a:pt x="256" y="343"/>
                </a:lnTo>
                <a:lnTo>
                  <a:pt x="256" y="370"/>
                </a:lnTo>
                <a:lnTo>
                  <a:pt x="247" y="414"/>
                </a:lnTo>
                <a:lnTo>
                  <a:pt x="247" y="449"/>
                </a:lnTo>
                <a:lnTo>
                  <a:pt x="247" y="476"/>
                </a:lnTo>
                <a:lnTo>
                  <a:pt x="247" y="502"/>
                </a:lnTo>
                <a:lnTo>
                  <a:pt x="247" y="529"/>
                </a:lnTo>
                <a:lnTo>
                  <a:pt x="247" y="564"/>
                </a:lnTo>
                <a:lnTo>
                  <a:pt x="256" y="591"/>
                </a:lnTo>
                <a:lnTo>
                  <a:pt x="256" y="618"/>
                </a:lnTo>
                <a:lnTo>
                  <a:pt x="256" y="680"/>
                </a:lnTo>
                <a:lnTo>
                  <a:pt x="247" y="715"/>
                </a:lnTo>
                <a:lnTo>
                  <a:pt x="239" y="741"/>
                </a:lnTo>
                <a:lnTo>
                  <a:pt x="239" y="768"/>
                </a:lnTo>
                <a:lnTo>
                  <a:pt x="239" y="803"/>
                </a:lnTo>
                <a:lnTo>
                  <a:pt x="239" y="882"/>
                </a:lnTo>
                <a:lnTo>
                  <a:pt x="239" y="918"/>
                </a:lnTo>
                <a:lnTo>
                  <a:pt x="239" y="953"/>
                </a:lnTo>
                <a:lnTo>
                  <a:pt x="221" y="997"/>
                </a:lnTo>
                <a:lnTo>
                  <a:pt x="212" y="1041"/>
                </a:lnTo>
                <a:lnTo>
                  <a:pt x="203" y="1068"/>
                </a:lnTo>
                <a:lnTo>
                  <a:pt x="195" y="1121"/>
                </a:lnTo>
                <a:lnTo>
                  <a:pt x="186" y="1147"/>
                </a:lnTo>
                <a:lnTo>
                  <a:pt x="186" y="1191"/>
                </a:lnTo>
                <a:lnTo>
                  <a:pt x="177" y="1235"/>
                </a:lnTo>
                <a:lnTo>
                  <a:pt x="177" y="1279"/>
                </a:lnTo>
                <a:lnTo>
                  <a:pt x="177" y="1306"/>
                </a:lnTo>
                <a:lnTo>
                  <a:pt x="177" y="1350"/>
                </a:lnTo>
                <a:lnTo>
                  <a:pt x="186" y="1385"/>
                </a:lnTo>
                <a:lnTo>
                  <a:pt x="186" y="1420"/>
                </a:lnTo>
                <a:lnTo>
                  <a:pt x="186" y="1473"/>
                </a:lnTo>
                <a:lnTo>
                  <a:pt x="186" y="1535"/>
                </a:lnTo>
                <a:lnTo>
                  <a:pt x="186" y="1597"/>
                </a:lnTo>
                <a:lnTo>
                  <a:pt x="186" y="1632"/>
                </a:lnTo>
                <a:lnTo>
                  <a:pt x="186" y="1667"/>
                </a:lnTo>
                <a:lnTo>
                  <a:pt x="177" y="1694"/>
                </a:lnTo>
                <a:lnTo>
                  <a:pt x="168" y="1720"/>
                </a:lnTo>
                <a:lnTo>
                  <a:pt x="141" y="1748"/>
                </a:lnTo>
                <a:lnTo>
                  <a:pt x="132" y="1774"/>
                </a:lnTo>
                <a:lnTo>
                  <a:pt x="123" y="1801"/>
                </a:lnTo>
                <a:lnTo>
                  <a:pt x="97" y="1871"/>
                </a:lnTo>
                <a:lnTo>
                  <a:pt x="97" y="1898"/>
                </a:lnTo>
                <a:lnTo>
                  <a:pt x="97" y="1924"/>
                </a:lnTo>
                <a:lnTo>
                  <a:pt x="97" y="1968"/>
                </a:lnTo>
                <a:lnTo>
                  <a:pt x="97" y="1995"/>
                </a:lnTo>
                <a:lnTo>
                  <a:pt x="105" y="2021"/>
                </a:lnTo>
                <a:lnTo>
                  <a:pt x="97" y="2048"/>
                </a:lnTo>
                <a:lnTo>
                  <a:pt x="70" y="2056"/>
                </a:lnTo>
                <a:lnTo>
                  <a:pt x="70" y="2118"/>
                </a:lnTo>
                <a:lnTo>
                  <a:pt x="52" y="2162"/>
                </a:lnTo>
                <a:lnTo>
                  <a:pt x="44" y="2189"/>
                </a:lnTo>
                <a:lnTo>
                  <a:pt x="35" y="2215"/>
                </a:lnTo>
                <a:lnTo>
                  <a:pt x="17" y="2259"/>
                </a:lnTo>
                <a:lnTo>
                  <a:pt x="8" y="2286"/>
                </a:lnTo>
                <a:lnTo>
                  <a:pt x="8" y="2312"/>
                </a:lnTo>
                <a:lnTo>
                  <a:pt x="0" y="232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5" name=""/>
          <p:cNvSpPr/>
          <p:nvPr/>
        </p:nvSpPr>
        <p:spPr>
          <a:xfrm>
            <a:off x="1441440" y="3473280"/>
            <a:ext cx="92520" cy="844920"/>
          </a:xfrm>
          <a:custGeom>
            <a:avLst/>
            <a:gdLst/>
            <a:ahLst/>
            <a:rect l="0" t="0" r="r" b="b"/>
            <a:pathLst>
              <a:path fill="none" w="257" h="2347">
                <a:moveTo>
                  <a:pt x="257" y="0"/>
                </a:moveTo>
                <a:lnTo>
                  <a:pt x="248" y="44"/>
                </a:lnTo>
                <a:lnTo>
                  <a:pt x="240" y="97"/>
                </a:lnTo>
                <a:lnTo>
                  <a:pt x="222" y="176"/>
                </a:lnTo>
                <a:lnTo>
                  <a:pt x="222" y="229"/>
                </a:lnTo>
                <a:lnTo>
                  <a:pt x="222" y="282"/>
                </a:lnTo>
                <a:lnTo>
                  <a:pt x="222" y="317"/>
                </a:lnTo>
                <a:lnTo>
                  <a:pt x="222" y="361"/>
                </a:lnTo>
                <a:lnTo>
                  <a:pt x="168" y="414"/>
                </a:lnTo>
                <a:lnTo>
                  <a:pt x="159" y="476"/>
                </a:lnTo>
                <a:lnTo>
                  <a:pt x="159" y="502"/>
                </a:lnTo>
                <a:lnTo>
                  <a:pt x="150" y="529"/>
                </a:lnTo>
                <a:lnTo>
                  <a:pt x="150" y="618"/>
                </a:lnTo>
                <a:lnTo>
                  <a:pt x="150" y="644"/>
                </a:lnTo>
                <a:lnTo>
                  <a:pt x="150" y="671"/>
                </a:lnTo>
                <a:lnTo>
                  <a:pt x="150" y="715"/>
                </a:lnTo>
                <a:lnTo>
                  <a:pt x="150" y="830"/>
                </a:lnTo>
                <a:lnTo>
                  <a:pt x="150" y="891"/>
                </a:lnTo>
                <a:lnTo>
                  <a:pt x="142" y="935"/>
                </a:lnTo>
                <a:lnTo>
                  <a:pt x="142" y="979"/>
                </a:lnTo>
                <a:lnTo>
                  <a:pt x="142" y="1015"/>
                </a:lnTo>
                <a:lnTo>
                  <a:pt x="142" y="1041"/>
                </a:lnTo>
                <a:lnTo>
                  <a:pt x="133" y="1103"/>
                </a:lnTo>
                <a:lnTo>
                  <a:pt x="124" y="1165"/>
                </a:lnTo>
                <a:lnTo>
                  <a:pt x="98" y="1235"/>
                </a:lnTo>
                <a:lnTo>
                  <a:pt x="89" y="1297"/>
                </a:lnTo>
                <a:lnTo>
                  <a:pt x="44" y="1473"/>
                </a:lnTo>
                <a:lnTo>
                  <a:pt x="35" y="1579"/>
                </a:lnTo>
                <a:lnTo>
                  <a:pt x="35" y="1641"/>
                </a:lnTo>
                <a:lnTo>
                  <a:pt x="26" y="1898"/>
                </a:lnTo>
                <a:lnTo>
                  <a:pt x="26" y="1959"/>
                </a:lnTo>
                <a:lnTo>
                  <a:pt x="26" y="1986"/>
                </a:lnTo>
                <a:lnTo>
                  <a:pt x="44" y="2012"/>
                </a:lnTo>
                <a:lnTo>
                  <a:pt x="52" y="2048"/>
                </a:lnTo>
                <a:lnTo>
                  <a:pt x="52" y="2074"/>
                </a:lnTo>
                <a:lnTo>
                  <a:pt x="52" y="2109"/>
                </a:lnTo>
                <a:lnTo>
                  <a:pt x="35" y="2136"/>
                </a:lnTo>
                <a:lnTo>
                  <a:pt x="35" y="2162"/>
                </a:lnTo>
                <a:lnTo>
                  <a:pt x="26" y="2189"/>
                </a:lnTo>
                <a:lnTo>
                  <a:pt x="17" y="2215"/>
                </a:lnTo>
                <a:lnTo>
                  <a:pt x="17" y="2242"/>
                </a:lnTo>
                <a:lnTo>
                  <a:pt x="8" y="2268"/>
                </a:lnTo>
                <a:lnTo>
                  <a:pt x="0" y="2295"/>
                </a:lnTo>
                <a:lnTo>
                  <a:pt x="0" y="2321"/>
                </a:lnTo>
                <a:lnTo>
                  <a:pt x="0" y="234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6" name=""/>
          <p:cNvSpPr/>
          <p:nvPr/>
        </p:nvSpPr>
        <p:spPr>
          <a:xfrm>
            <a:off x="1101600" y="3473280"/>
            <a:ext cx="422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7" name=""/>
          <p:cNvSpPr/>
          <p:nvPr/>
        </p:nvSpPr>
        <p:spPr>
          <a:xfrm>
            <a:off x="270000" y="4317840"/>
            <a:ext cx="1164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8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9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0" name=""/>
          <p:cNvSpPr/>
          <p:nvPr/>
        </p:nvSpPr>
        <p:spPr>
          <a:xfrm>
            <a:off x="3441600" y="3727440"/>
            <a:ext cx="1008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1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262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3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4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8" name=""/>
          <p:cNvSpPr/>
          <p:nvPr/>
        </p:nvSpPr>
        <p:spPr>
          <a:xfrm>
            <a:off x="3141720" y="3487320"/>
            <a:ext cx="302400" cy="240120"/>
          </a:xfrm>
          <a:custGeom>
            <a:avLst/>
            <a:gdLst/>
            <a:ahLst/>
            <a:rect l="0" t="0" r="r" b="b"/>
            <a:pathLst>
              <a:path fill="none" w="840" h="667">
                <a:moveTo>
                  <a:pt x="0" y="0"/>
                </a:moveTo>
                <a:lnTo>
                  <a:pt x="0" y="0"/>
                </a:lnTo>
                <a:cubicBezTo>
                  <a:pt x="12" y="105"/>
                  <a:pt x="51" y="206"/>
                  <a:pt x="113" y="297"/>
                </a:cubicBezTo>
                <a:cubicBezTo>
                  <a:pt x="191" y="410"/>
                  <a:pt x="302" y="503"/>
                  <a:pt x="435" y="568"/>
                </a:cubicBezTo>
                <a:cubicBezTo>
                  <a:pt x="559" y="628"/>
                  <a:pt x="698" y="662"/>
                  <a:pt x="840" y="66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9" name=""/>
          <p:cNvSpPr/>
          <p:nvPr/>
        </p:nvSpPr>
        <p:spPr>
          <a:xfrm>
            <a:off x="3154320" y="4100400"/>
            <a:ext cx="374400" cy="232200"/>
          </a:xfrm>
          <a:custGeom>
            <a:avLst/>
            <a:gdLst/>
            <a:ahLst/>
            <a:rect l="0" t="0" r="r" b="b"/>
            <a:pathLst>
              <a:path fill="none" w="1040" h="645">
                <a:moveTo>
                  <a:pt x="0" y="645"/>
                </a:moveTo>
                <a:lnTo>
                  <a:pt x="0" y="645"/>
                </a:lnTo>
                <a:cubicBezTo>
                  <a:pt x="184" y="645"/>
                  <a:pt x="364" y="612"/>
                  <a:pt x="523" y="549"/>
                </a:cubicBezTo>
                <a:cubicBezTo>
                  <a:pt x="682" y="485"/>
                  <a:pt x="814" y="394"/>
                  <a:pt x="906" y="285"/>
                </a:cubicBezTo>
                <a:cubicBezTo>
                  <a:pt x="979" y="197"/>
                  <a:pt x="1025" y="100"/>
                  <a:pt x="104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0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1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2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3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4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5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6" name=""/>
          <p:cNvSpPr/>
          <p:nvPr/>
        </p:nvSpPr>
        <p:spPr>
          <a:xfrm flipV="1">
            <a:off x="263520" y="3476520"/>
            <a:ext cx="839880" cy="839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7" name=""/>
          <p:cNvSpPr/>
          <p:nvPr/>
        </p:nvSpPr>
        <p:spPr>
          <a:xfrm>
            <a:off x="4300560" y="344016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8" name=""/>
          <p:cNvSpPr/>
          <p:nvPr/>
        </p:nvSpPr>
        <p:spPr>
          <a:xfrm>
            <a:off x="2692440" y="3476520"/>
            <a:ext cx="344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9" name=""/>
          <p:cNvSpPr/>
          <p:nvPr/>
        </p:nvSpPr>
        <p:spPr>
          <a:xfrm>
            <a:off x="2587680" y="4317840"/>
            <a:ext cx="355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0" name=""/>
          <p:cNvSpPr/>
          <p:nvPr/>
        </p:nvSpPr>
        <p:spPr>
          <a:xfrm flipH="1">
            <a:off x="4449600" y="372600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81" name=""/>
          <p:cNvGrpSpPr/>
          <p:nvPr/>
        </p:nvGrpSpPr>
        <p:grpSpPr>
          <a:xfrm>
            <a:off x="3521160" y="4071960"/>
            <a:ext cx="1554120" cy="1440"/>
            <a:chOff x="3521160" y="4071960"/>
            <a:chExt cx="1554120" cy="1440"/>
          </a:xfrm>
        </p:grpSpPr>
        <p:sp>
          <p:nvSpPr>
            <p:cNvPr id="8282" name=""/>
            <p:cNvSpPr/>
            <p:nvPr/>
          </p:nvSpPr>
          <p:spPr>
            <a:xfrm>
              <a:off x="3521160" y="4071960"/>
              <a:ext cx="982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3" name=""/>
            <p:cNvSpPr/>
            <p:nvPr/>
          </p:nvSpPr>
          <p:spPr>
            <a:xfrm flipH="1">
              <a:off x="4491000" y="407340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84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5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6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7" name=""/>
          <p:cNvSpPr/>
          <p:nvPr/>
        </p:nvSpPr>
        <p:spPr>
          <a:xfrm>
            <a:off x="1643040" y="3473280"/>
            <a:ext cx="84132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8" name=""/>
          <p:cNvGrpSpPr/>
          <p:nvPr/>
        </p:nvGrpSpPr>
        <p:grpSpPr>
          <a:xfrm>
            <a:off x="2063880" y="3306600"/>
            <a:ext cx="0" cy="1198800"/>
            <a:chOff x="2063880" y="3306600"/>
            <a:chExt cx="0" cy="1198800"/>
          </a:xfrm>
        </p:grpSpPr>
        <p:sp>
          <p:nvSpPr>
            <p:cNvPr id="8289" name=""/>
            <p:cNvSpPr/>
            <p:nvPr/>
          </p:nvSpPr>
          <p:spPr>
            <a:xfrm>
              <a:off x="2063880" y="38419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0" name=""/>
            <p:cNvSpPr/>
            <p:nvPr/>
          </p:nvSpPr>
          <p:spPr>
            <a:xfrm>
              <a:off x="2063880" y="40402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2063880" y="3306600"/>
              <a:ext cx="0" cy="443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2" name=""/>
          <p:cNvSpPr/>
          <p:nvPr/>
        </p:nvSpPr>
        <p:spPr>
          <a:xfrm>
            <a:off x="2592360" y="3479760"/>
            <a:ext cx="105120" cy="835560"/>
          </a:xfrm>
          <a:custGeom>
            <a:avLst/>
            <a:gdLst/>
            <a:ahLst/>
            <a:rect l="0" t="0" r="r" b="b"/>
            <a:pathLst>
              <a:path fill="none" w="292" h="2321">
                <a:moveTo>
                  <a:pt x="292" y="0"/>
                </a:moveTo>
                <a:lnTo>
                  <a:pt x="292" y="0"/>
                </a:lnTo>
                <a:lnTo>
                  <a:pt x="274" y="26"/>
                </a:lnTo>
                <a:lnTo>
                  <a:pt x="274" y="52"/>
                </a:lnTo>
                <a:lnTo>
                  <a:pt x="274" y="88"/>
                </a:lnTo>
                <a:lnTo>
                  <a:pt x="274" y="132"/>
                </a:lnTo>
                <a:lnTo>
                  <a:pt x="274" y="158"/>
                </a:lnTo>
                <a:lnTo>
                  <a:pt x="274" y="202"/>
                </a:lnTo>
                <a:lnTo>
                  <a:pt x="274" y="246"/>
                </a:lnTo>
                <a:lnTo>
                  <a:pt x="274" y="282"/>
                </a:lnTo>
                <a:lnTo>
                  <a:pt x="274" y="317"/>
                </a:lnTo>
                <a:lnTo>
                  <a:pt x="256" y="343"/>
                </a:lnTo>
                <a:lnTo>
                  <a:pt x="256" y="370"/>
                </a:lnTo>
                <a:lnTo>
                  <a:pt x="247" y="414"/>
                </a:lnTo>
                <a:lnTo>
                  <a:pt x="247" y="449"/>
                </a:lnTo>
                <a:lnTo>
                  <a:pt x="247" y="476"/>
                </a:lnTo>
                <a:lnTo>
                  <a:pt x="247" y="502"/>
                </a:lnTo>
                <a:lnTo>
                  <a:pt x="247" y="529"/>
                </a:lnTo>
                <a:lnTo>
                  <a:pt x="247" y="564"/>
                </a:lnTo>
                <a:lnTo>
                  <a:pt x="256" y="591"/>
                </a:lnTo>
                <a:lnTo>
                  <a:pt x="256" y="618"/>
                </a:lnTo>
                <a:lnTo>
                  <a:pt x="256" y="680"/>
                </a:lnTo>
                <a:lnTo>
                  <a:pt x="247" y="715"/>
                </a:lnTo>
                <a:lnTo>
                  <a:pt x="239" y="741"/>
                </a:lnTo>
                <a:lnTo>
                  <a:pt x="239" y="768"/>
                </a:lnTo>
                <a:lnTo>
                  <a:pt x="239" y="803"/>
                </a:lnTo>
                <a:lnTo>
                  <a:pt x="239" y="882"/>
                </a:lnTo>
                <a:lnTo>
                  <a:pt x="239" y="918"/>
                </a:lnTo>
                <a:lnTo>
                  <a:pt x="239" y="953"/>
                </a:lnTo>
                <a:lnTo>
                  <a:pt x="221" y="997"/>
                </a:lnTo>
                <a:lnTo>
                  <a:pt x="212" y="1041"/>
                </a:lnTo>
                <a:lnTo>
                  <a:pt x="203" y="1068"/>
                </a:lnTo>
                <a:lnTo>
                  <a:pt x="195" y="1121"/>
                </a:lnTo>
                <a:lnTo>
                  <a:pt x="186" y="1147"/>
                </a:lnTo>
                <a:lnTo>
                  <a:pt x="186" y="1191"/>
                </a:lnTo>
                <a:lnTo>
                  <a:pt x="177" y="1235"/>
                </a:lnTo>
                <a:lnTo>
                  <a:pt x="177" y="1279"/>
                </a:lnTo>
                <a:lnTo>
                  <a:pt x="177" y="1306"/>
                </a:lnTo>
                <a:lnTo>
                  <a:pt x="177" y="1350"/>
                </a:lnTo>
                <a:lnTo>
                  <a:pt x="186" y="1385"/>
                </a:lnTo>
                <a:lnTo>
                  <a:pt x="186" y="1420"/>
                </a:lnTo>
                <a:lnTo>
                  <a:pt x="186" y="1473"/>
                </a:lnTo>
                <a:lnTo>
                  <a:pt x="186" y="1535"/>
                </a:lnTo>
                <a:lnTo>
                  <a:pt x="186" y="1597"/>
                </a:lnTo>
                <a:lnTo>
                  <a:pt x="186" y="1632"/>
                </a:lnTo>
                <a:lnTo>
                  <a:pt x="186" y="1667"/>
                </a:lnTo>
                <a:lnTo>
                  <a:pt x="177" y="1694"/>
                </a:lnTo>
                <a:lnTo>
                  <a:pt x="168" y="1720"/>
                </a:lnTo>
                <a:lnTo>
                  <a:pt x="141" y="1748"/>
                </a:lnTo>
                <a:lnTo>
                  <a:pt x="132" y="1774"/>
                </a:lnTo>
                <a:lnTo>
                  <a:pt x="123" y="1801"/>
                </a:lnTo>
                <a:lnTo>
                  <a:pt x="97" y="1871"/>
                </a:lnTo>
                <a:lnTo>
                  <a:pt x="97" y="1898"/>
                </a:lnTo>
                <a:lnTo>
                  <a:pt x="97" y="1924"/>
                </a:lnTo>
                <a:lnTo>
                  <a:pt x="97" y="1968"/>
                </a:lnTo>
                <a:lnTo>
                  <a:pt x="97" y="1995"/>
                </a:lnTo>
                <a:lnTo>
                  <a:pt x="105" y="2021"/>
                </a:lnTo>
                <a:lnTo>
                  <a:pt x="97" y="2048"/>
                </a:lnTo>
                <a:lnTo>
                  <a:pt x="70" y="2056"/>
                </a:lnTo>
                <a:lnTo>
                  <a:pt x="70" y="2118"/>
                </a:lnTo>
                <a:lnTo>
                  <a:pt x="52" y="2162"/>
                </a:lnTo>
                <a:lnTo>
                  <a:pt x="44" y="2189"/>
                </a:lnTo>
                <a:lnTo>
                  <a:pt x="35" y="2215"/>
                </a:lnTo>
                <a:lnTo>
                  <a:pt x="17" y="2259"/>
                </a:lnTo>
                <a:lnTo>
                  <a:pt x="8" y="2286"/>
                </a:lnTo>
                <a:lnTo>
                  <a:pt x="8" y="2312"/>
                </a:lnTo>
                <a:lnTo>
                  <a:pt x="0" y="232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3" name=""/>
          <p:cNvSpPr/>
          <p:nvPr/>
        </p:nvSpPr>
        <p:spPr>
          <a:xfrm>
            <a:off x="1441440" y="3473280"/>
            <a:ext cx="92520" cy="844920"/>
          </a:xfrm>
          <a:custGeom>
            <a:avLst/>
            <a:gdLst/>
            <a:ahLst/>
            <a:rect l="0" t="0" r="r" b="b"/>
            <a:pathLst>
              <a:path fill="none" w="257" h="2347">
                <a:moveTo>
                  <a:pt x="257" y="0"/>
                </a:moveTo>
                <a:lnTo>
                  <a:pt x="248" y="44"/>
                </a:lnTo>
                <a:lnTo>
                  <a:pt x="240" y="97"/>
                </a:lnTo>
                <a:lnTo>
                  <a:pt x="222" y="176"/>
                </a:lnTo>
                <a:lnTo>
                  <a:pt x="222" y="229"/>
                </a:lnTo>
                <a:lnTo>
                  <a:pt x="222" y="282"/>
                </a:lnTo>
                <a:lnTo>
                  <a:pt x="222" y="317"/>
                </a:lnTo>
                <a:lnTo>
                  <a:pt x="222" y="361"/>
                </a:lnTo>
                <a:lnTo>
                  <a:pt x="168" y="414"/>
                </a:lnTo>
                <a:lnTo>
                  <a:pt x="159" y="476"/>
                </a:lnTo>
                <a:lnTo>
                  <a:pt x="159" y="502"/>
                </a:lnTo>
                <a:lnTo>
                  <a:pt x="150" y="529"/>
                </a:lnTo>
                <a:lnTo>
                  <a:pt x="150" y="618"/>
                </a:lnTo>
                <a:lnTo>
                  <a:pt x="150" y="644"/>
                </a:lnTo>
                <a:lnTo>
                  <a:pt x="150" y="671"/>
                </a:lnTo>
                <a:lnTo>
                  <a:pt x="150" y="715"/>
                </a:lnTo>
                <a:lnTo>
                  <a:pt x="150" y="830"/>
                </a:lnTo>
                <a:lnTo>
                  <a:pt x="150" y="891"/>
                </a:lnTo>
                <a:lnTo>
                  <a:pt x="142" y="935"/>
                </a:lnTo>
                <a:lnTo>
                  <a:pt x="142" y="979"/>
                </a:lnTo>
                <a:lnTo>
                  <a:pt x="142" y="1015"/>
                </a:lnTo>
                <a:lnTo>
                  <a:pt x="142" y="1041"/>
                </a:lnTo>
                <a:lnTo>
                  <a:pt x="133" y="1103"/>
                </a:lnTo>
                <a:lnTo>
                  <a:pt x="124" y="1165"/>
                </a:lnTo>
                <a:lnTo>
                  <a:pt x="98" y="1235"/>
                </a:lnTo>
                <a:lnTo>
                  <a:pt x="89" y="1297"/>
                </a:lnTo>
                <a:lnTo>
                  <a:pt x="44" y="1473"/>
                </a:lnTo>
                <a:lnTo>
                  <a:pt x="35" y="1579"/>
                </a:lnTo>
                <a:lnTo>
                  <a:pt x="35" y="1641"/>
                </a:lnTo>
                <a:lnTo>
                  <a:pt x="26" y="1898"/>
                </a:lnTo>
                <a:lnTo>
                  <a:pt x="26" y="1959"/>
                </a:lnTo>
                <a:lnTo>
                  <a:pt x="26" y="1986"/>
                </a:lnTo>
                <a:lnTo>
                  <a:pt x="44" y="2012"/>
                </a:lnTo>
                <a:lnTo>
                  <a:pt x="52" y="2048"/>
                </a:lnTo>
                <a:lnTo>
                  <a:pt x="52" y="2074"/>
                </a:lnTo>
                <a:lnTo>
                  <a:pt x="52" y="2109"/>
                </a:lnTo>
                <a:lnTo>
                  <a:pt x="35" y="2136"/>
                </a:lnTo>
                <a:lnTo>
                  <a:pt x="35" y="2162"/>
                </a:lnTo>
                <a:lnTo>
                  <a:pt x="26" y="2189"/>
                </a:lnTo>
                <a:lnTo>
                  <a:pt x="17" y="2215"/>
                </a:lnTo>
                <a:lnTo>
                  <a:pt x="17" y="2242"/>
                </a:lnTo>
                <a:lnTo>
                  <a:pt x="8" y="2268"/>
                </a:lnTo>
                <a:lnTo>
                  <a:pt x="0" y="2295"/>
                </a:lnTo>
                <a:lnTo>
                  <a:pt x="0" y="2321"/>
                </a:lnTo>
                <a:lnTo>
                  <a:pt x="0" y="234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4" name=""/>
          <p:cNvSpPr/>
          <p:nvPr/>
        </p:nvSpPr>
        <p:spPr>
          <a:xfrm>
            <a:off x="1101600" y="3473280"/>
            <a:ext cx="422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5" name=""/>
          <p:cNvSpPr/>
          <p:nvPr/>
        </p:nvSpPr>
        <p:spPr>
          <a:xfrm>
            <a:off x="270000" y="4317840"/>
            <a:ext cx="1164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96" name=""/>
          <p:cNvGrpSpPr/>
          <p:nvPr/>
        </p:nvGrpSpPr>
        <p:grpSpPr>
          <a:xfrm>
            <a:off x="4068720" y="3319560"/>
            <a:ext cx="0" cy="1198440"/>
            <a:chOff x="4068720" y="3319560"/>
            <a:chExt cx="0" cy="1198440"/>
          </a:xfrm>
        </p:grpSpPr>
        <p:sp>
          <p:nvSpPr>
            <p:cNvPr id="8297" name=""/>
            <p:cNvSpPr/>
            <p:nvPr/>
          </p:nvSpPr>
          <p:spPr>
            <a:xfrm>
              <a:off x="4068720" y="38545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8" name=""/>
            <p:cNvSpPr/>
            <p:nvPr/>
          </p:nvSpPr>
          <p:spPr>
            <a:xfrm>
              <a:off x="4068720" y="40528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4068720" y="33195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0" name=""/>
          <p:cNvSpPr/>
          <p:nvPr/>
        </p:nvSpPr>
        <p:spPr>
          <a:xfrm>
            <a:off x="3465360" y="3727440"/>
            <a:ext cx="1182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1" name=""/>
          <p:cNvSpPr/>
          <p:nvPr/>
        </p:nvSpPr>
        <p:spPr>
          <a:xfrm>
            <a:off x="3451320" y="406548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2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303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4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5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6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7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09" name=""/>
          <p:cNvSpPr/>
          <p:nvPr/>
        </p:nvSpPr>
        <p:spPr>
          <a:xfrm>
            <a:off x="3141720" y="3487320"/>
            <a:ext cx="302400" cy="240120"/>
          </a:xfrm>
          <a:custGeom>
            <a:avLst/>
            <a:gdLst/>
            <a:ahLst/>
            <a:rect l="0" t="0" r="r" b="b"/>
            <a:pathLst>
              <a:path fill="none" w="840" h="667">
                <a:moveTo>
                  <a:pt x="0" y="0"/>
                </a:moveTo>
                <a:lnTo>
                  <a:pt x="0" y="0"/>
                </a:lnTo>
                <a:cubicBezTo>
                  <a:pt x="12" y="105"/>
                  <a:pt x="51" y="206"/>
                  <a:pt x="113" y="297"/>
                </a:cubicBezTo>
                <a:cubicBezTo>
                  <a:pt x="191" y="410"/>
                  <a:pt x="302" y="503"/>
                  <a:pt x="435" y="568"/>
                </a:cubicBezTo>
                <a:cubicBezTo>
                  <a:pt x="559" y="628"/>
                  <a:pt x="698" y="662"/>
                  <a:pt x="840" y="66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0" name=""/>
          <p:cNvSpPr/>
          <p:nvPr/>
        </p:nvSpPr>
        <p:spPr>
          <a:xfrm>
            <a:off x="3154320" y="4100400"/>
            <a:ext cx="374400" cy="232200"/>
          </a:xfrm>
          <a:custGeom>
            <a:avLst/>
            <a:gdLst/>
            <a:ahLst/>
            <a:rect l="0" t="0" r="r" b="b"/>
            <a:pathLst>
              <a:path fill="none" w="1040" h="645">
                <a:moveTo>
                  <a:pt x="0" y="645"/>
                </a:moveTo>
                <a:lnTo>
                  <a:pt x="0" y="645"/>
                </a:lnTo>
                <a:cubicBezTo>
                  <a:pt x="184" y="645"/>
                  <a:pt x="364" y="612"/>
                  <a:pt x="523" y="549"/>
                </a:cubicBezTo>
                <a:cubicBezTo>
                  <a:pt x="682" y="485"/>
                  <a:pt x="814" y="394"/>
                  <a:pt x="906" y="285"/>
                </a:cubicBezTo>
                <a:cubicBezTo>
                  <a:pt x="979" y="197"/>
                  <a:pt x="1025" y="100"/>
                  <a:pt x="104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1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2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3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4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5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6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7" name=""/>
          <p:cNvSpPr/>
          <p:nvPr/>
        </p:nvSpPr>
        <p:spPr>
          <a:xfrm flipV="1">
            <a:off x="254160" y="3460680"/>
            <a:ext cx="865080" cy="865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8" name=""/>
          <p:cNvSpPr/>
          <p:nvPr/>
        </p:nvSpPr>
        <p:spPr>
          <a:xfrm>
            <a:off x="4300560" y="344016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9" name=""/>
          <p:cNvSpPr/>
          <p:nvPr/>
        </p:nvSpPr>
        <p:spPr>
          <a:xfrm>
            <a:off x="2711520" y="3476520"/>
            <a:ext cx="343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0" name=""/>
          <p:cNvSpPr/>
          <p:nvPr/>
        </p:nvSpPr>
        <p:spPr>
          <a:xfrm>
            <a:off x="2611440" y="4317840"/>
            <a:ext cx="3541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1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2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3" name=""/>
          <p:cNvSpPr/>
          <p:nvPr/>
        </p:nvSpPr>
        <p:spPr>
          <a:xfrm>
            <a:off x="2603520" y="3479760"/>
            <a:ext cx="105120" cy="835560"/>
          </a:xfrm>
          <a:custGeom>
            <a:avLst/>
            <a:gdLst/>
            <a:ahLst/>
            <a:rect l="0" t="0" r="r" b="b"/>
            <a:pathLst>
              <a:path fill="none" w="292" h="2321">
                <a:moveTo>
                  <a:pt x="292" y="0"/>
                </a:moveTo>
                <a:lnTo>
                  <a:pt x="292" y="0"/>
                </a:lnTo>
                <a:lnTo>
                  <a:pt x="274" y="26"/>
                </a:lnTo>
                <a:lnTo>
                  <a:pt x="274" y="52"/>
                </a:lnTo>
                <a:lnTo>
                  <a:pt x="274" y="88"/>
                </a:lnTo>
                <a:lnTo>
                  <a:pt x="274" y="132"/>
                </a:lnTo>
                <a:lnTo>
                  <a:pt x="274" y="158"/>
                </a:lnTo>
                <a:lnTo>
                  <a:pt x="274" y="202"/>
                </a:lnTo>
                <a:lnTo>
                  <a:pt x="274" y="246"/>
                </a:lnTo>
                <a:lnTo>
                  <a:pt x="274" y="282"/>
                </a:lnTo>
                <a:lnTo>
                  <a:pt x="274" y="317"/>
                </a:lnTo>
                <a:lnTo>
                  <a:pt x="256" y="343"/>
                </a:lnTo>
                <a:lnTo>
                  <a:pt x="256" y="370"/>
                </a:lnTo>
                <a:lnTo>
                  <a:pt x="247" y="414"/>
                </a:lnTo>
                <a:lnTo>
                  <a:pt x="247" y="449"/>
                </a:lnTo>
                <a:lnTo>
                  <a:pt x="247" y="476"/>
                </a:lnTo>
                <a:lnTo>
                  <a:pt x="247" y="502"/>
                </a:lnTo>
                <a:lnTo>
                  <a:pt x="247" y="529"/>
                </a:lnTo>
                <a:lnTo>
                  <a:pt x="247" y="564"/>
                </a:lnTo>
                <a:lnTo>
                  <a:pt x="256" y="591"/>
                </a:lnTo>
                <a:lnTo>
                  <a:pt x="256" y="618"/>
                </a:lnTo>
                <a:lnTo>
                  <a:pt x="256" y="680"/>
                </a:lnTo>
                <a:lnTo>
                  <a:pt x="247" y="715"/>
                </a:lnTo>
                <a:lnTo>
                  <a:pt x="239" y="741"/>
                </a:lnTo>
                <a:lnTo>
                  <a:pt x="239" y="768"/>
                </a:lnTo>
                <a:lnTo>
                  <a:pt x="239" y="803"/>
                </a:lnTo>
                <a:lnTo>
                  <a:pt x="239" y="882"/>
                </a:lnTo>
                <a:lnTo>
                  <a:pt x="239" y="918"/>
                </a:lnTo>
                <a:lnTo>
                  <a:pt x="239" y="953"/>
                </a:lnTo>
                <a:lnTo>
                  <a:pt x="221" y="997"/>
                </a:lnTo>
                <a:lnTo>
                  <a:pt x="212" y="1041"/>
                </a:lnTo>
                <a:lnTo>
                  <a:pt x="203" y="1068"/>
                </a:lnTo>
                <a:lnTo>
                  <a:pt x="195" y="1121"/>
                </a:lnTo>
                <a:lnTo>
                  <a:pt x="186" y="1147"/>
                </a:lnTo>
                <a:lnTo>
                  <a:pt x="186" y="1191"/>
                </a:lnTo>
                <a:lnTo>
                  <a:pt x="177" y="1235"/>
                </a:lnTo>
                <a:lnTo>
                  <a:pt x="177" y="1279"/>
                </a:lnTo>
                <a:lnTo>
                  <a:pt x="177" y="1306"/>
                </a:lnTo>
                <a:lnTo>
                  <a:pt x="177" y="1350"/>
                </a:lnTo>
                <a:lnTo>
                  <a:pt x="186" y="1385"/>
                </a:lnTo>
                <a:lnTo>
                  <a:pt x="186" y="1420"/>
                </a:lnTo>
                <a:lnTo>
                  <a:pt x="186" y="1473"/>
                </a:lnTo>
                <a:lnTo>
                  <a:pt x="186" y="1535"/>
                </a:lnTo>
                <a:lnTo>
                  <a:pt x="186" y="1597"/>
                </a:lnTo>
                <a:lnTo>
                  <a:pt x="186" y="1632"/>
                </a:lnTo>
                <a:lnTo>
                  <a:pt x="186" y="1667"/>
                </a:lnTo>
                <a:lnTo>
                  <a:pt x="177" y="1694"/>
                </a:lnTo>
                <a:lnTo>
                  <a:pt x="168" y="1720"/>
                </a:lnTo>
                <a:lnTo>
                  <a:pt x="141" y="1748"/>
                </a:lnTo>
                <a:lnTo>
                  <a:pt x="132" y="1774"/>
                </a:lnTo>
                <a:lnTo>
                  <a:pt x="123" y="1801"/>
                </a:lnTo>
                <a:lnTo>
                  <a:pt x="97" y="1871"/>
                </a:lnTo>
                <a:lnTo>
                  <a:pt x="97" y="1898"/>
                </a:lnTo>
                <a:lnTo>
                  <a:pt x="97" y="1924"/>
                </a:lnTo>
                <a:lnTo>
                  <a:pt x="97" y="1968"/>
                </a:lnTo>
                <a:lnTo>
                  <a:pt x="97" y="1995"/>
                </a:lnTo>
                <a:lnTo>
                  <a:pt x="105" y="2021"/>
                </a:lnTo>
                <a:lnTo>
                  <a:pt x="97" y="2048"/>
                </a:lnTo>
                <a:lnTo>
                  <a:pt x="70" y="2056"/>
                </a:lnTo>
                <a:lnTo>
                  <a:pt x="70" y="2118"/>
                </a:lnTo>
                <a:lnTo>
                  <a:pt x="52" y="2162"/>
                </a:lnTo>
                <a:lnTo>
                  <a:pt x="44" y="2189"/>
                </a:lnTo>
                <a:lnTo>
                  <a:pt x="35" y="2215"/>
                </a:lnTo>
                <a:lnTo>
                  <a:pt x="17" y="2259"/>
                </a:lnTo>
                <a:lnTo>
                  <a:pt x="8" y="2286"/>
                </a:lnTo>
                <a:lnTo>
                  <a:pt x="8" y="2312"/>
                </a:lnTo>
                <a:lnTo>
                  <a:pt x="0" y="232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4" name=""/>
          <p:cNvSpPr/>
          <p:nvPr/>
        </p:nvSpPr>
        <p:spPr>
          <a:xfrm>
            <a:off x="1441440" y="3473280"/>
            <a:ext cx="92520" cy="844920"/>
          </a:xfrm>
          <a:custGeom>
            <a:avLst/>
            <a:gdLst/>
            <a:ahLst/>
            <a:rect l="0" t="0" r="r" b="b"/>
            <a:pathLst>
              <a:path fill="none" w="257" h="2347">
                <a:moveTo>
                  <a:pt x="257" y="0"/>
                </a:moveTo>
                <a:lnTo>
                  <a:pt x="248" y="44"/>
                </a:lnTo>
                <a:lnTo>
                  <a:pt x="240" y="97"/>
                </a:lnTo>
                <a:lnTo>
                  <a:pt x="222" y="176"/>
                </a:lnTo>
                <a:lnTo>
                  <a:pt x="222" y="229"/>
                </a:lnTo>
                <a:lnTo>
                  <a:pt x="222" y="282"/>
                </a:lnTo>
                <a:lnTo>
                  <a:pt x="222" y="317"/>
                </a:lnTo>
                <a:lnTo>
                  <a:pt x="222" y="361"/>
                </a:lnTo>
                <a:lnTo>
                  <a:pt x="168" y="414"/>
                </a:lnTo>
                <a:lnTo>
                  <a:pt x="159" y="476"/>
                </a:lnTo>
                <a:lnTo>
                  <a:pt x="159" y="502"/>
                </a:lnTo>
                <a:lnTo>
                  <a:pt x="150" y="529"/>
                </a:lnTo>
                <a:lnTo>
                  <a:pt x="150" y="618"/>
                </a:lnTo>
                <a:lnTo>
                  <a:pt x="150" y="644"/>
                </a:lnTo>
                <a:lnTo>
                  <a:pt x="150" y="671"/>
                </a:lnTo>
                <a:lnTo>
                  <a:pt x="150" y="715"/>
                </a:lnTo>
                <a:lnTo>
                  <a:pt x="150" y="830"/>
                </a:lnTo>
                <a:lnTo>
                  <a:pt x="150" y="891"/>
                </a:lnTo>
                <a:lnTo>
                  <a:pt x="142" y="935"/>
                </a:lnTo>
                <a:lnTo>
                  <a:pt x="142" y="979"/>
                </a:lnTo>
                <a:lnTo>
                  <a:pt x="142" y="1015"/>
                </a:lnTo>
                <a:lnTo>
                  <a:pt x="142" y="1041"/>
                </a:lnTo>
                <a:lnTo>
                  <a:pt x="133" y="1103"/>
                </a:lnTo>
                <a:lnTo>
                  <a:pt x="124" y="1165"/>
                </a:lnTo>
                <a:lnTo>
                  <a:pt x="98" y="1235"/>
                </a:lnTo>
                <a:lnTo>
                  <a:pt x="89" y="1297"/>
                </a:lnTo>
                <a:lnTo>
                  <a:pt x="44" y="1473"/>
                </a:lnTo>
                <a:lnTo>
                  <a:pt x="35" y="1579"/>
                </a:lnTo>
                <a:lnTo>
                  <a:pt x="35" y="1641"/>
                </a:lnTo>
                <a:lnTo>
                  <a:pt x="26" y="1898"/>
                </a:lnTo>
                <a:lnTo>
                  <a:pt x="26" y="1959"/>
                </a:lnTo>
                <a:lnTo>
                  <a:pt x="26" y="1986"/>
                </a:lnTo>
                <a:lnTo>
                  <a:pt x="44" y="2012"/>
                </a:lnTo>
                <a:lnTo>
                  <a:pt x="52" y="2048"/>
                </a:lnTo>
                <a:lnTo>
                  <a:pt x="52" y="2074"/>
                </a:lnTo>
                <a:lnTo>
                  <a:pt x="52" y="2109"/>
                </a:lnTo>
                <a:lnTo>
                  <a:pt x="35" y="2136"/>
                </a:lnTo>
                <a:lnTo>
                  <a:pt x="35" y="2162"/>
                </a:lnTo>
                <a:lnTo>
                  <a:pt x="26" y="2189"/>
                </a:lnTo>
                <a:lnTo>
                  <a:pt x="17" y="2215"/>
                </a:lnTo>
                <a:lnTo>
                  <a:pt x="17" y="2242"/>
                </a:lnTo>
                <a:lnTo>
                  <a:pt x="8" y="2268"/>
                </a:lnTo>
                <a:lnTo>
                  <a:pt x="0" y="2295"/>
                </a:lnTo>
                <a:lnTo>
                  <a:pt x="0" y="2321"/>
                </a:lnTo>
                <a:lnTo>
                  <a:pt x="0" y="234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5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6" name=""/>
          <p:cNvSpPr/>
          <p:nvPr/>
        </p:nvSpPr>
        <p:spPr>
          <a:xfrm>
            <a:off x="4548240" y="3476520"/>
            <a:ext cx="133560" cy="838440"/>
          </a:xfrm>
          <a:custGeom>
            <a:avLst/>
            <a:gdLst/>
            <a:ahLst/>
            <a:rect l="0" t="0" r="r" b="b"/>
            <a:pathLst>
              <a:path fill="none" w="371" h="2329">
                <a:moveTo>
                  <a:pt x="331" y="0"/>
                </a:moveTo>
                <a:lnTo>
                  <a:pt x="344" y="39"/>
                </a:lnTo>
                <a:lnTo>
                  <a:pt x="358" y="79"/>
                </a:lnTo>
                <a:lnTo>
                  <a:pt x="371" y="119"/>
                </a:lnTo>
                <a:lnTo>
                  <a:pt x="371" y="185"/>
                </a:lnTo>
                <a:lnTo>
                  <a:pt x="358" y="251"/>
                </a:lnTo>
                <a:lnTo>
                  <a:pt x="344" y="291"/>
                </a:lnTo>
                <a:lnTo>
                  <a:pt x="331" y="343"/>
                </a:lnTo>
                <a:lnTo>
                  <a:pt x="318" y="383"/>
                </a:lnTo>
                <a:lnTo>
                  <a:pt x="305" y="436"/>
                </a:lnTo>
                <a:lnTo>
                  <a:pt x="305" y="489"/>
                </a:lnTo>
                <a:lnTo>
                  <a:pt x="305" y="529"/>
                </a:lnTo>
                <a:lnTo>
                  <a:pt x="305" y="568"/>
                </a:lnTo>
                <a:lnTo>
                  <a:pt x="292" y="608"/>
                </a:lnTo>
                <a:lnTo>
                  <a:pt x="265" y="648"/>
                </a:lnTo>
                <a:lnTo>
                  <a:pt x="252" y="687"/>
                </a:lnTo>
                <a:lnTo>
                  <a:pt x="239" y="727"/>
                </a:lnTo>
                <a:lnTo>
                  <a:pt x="225" y="780"/>
                </a:lnTo>
                <a:lnTo>
                  <a:pt x="212" y="820"/>
                </a:lnTo>
                <a:lnTo>
                  <a:pt x="199" y="899"/>
                </a:lnTo>
                <a:lnTo>
                  <a:pt x="199" y="939"/>
                </a:lnTo>
                <a:lnTo>
                  <a:pt x="199" y="992"/>
                </a:lnTo>
                <a:lnTo>
                  <a:pt x="199" y="1031"/>
                </a:lnTo>
                <a:lnTo>
                  <a:pt x="199" y="1098"/>
                </a:lnTo>
                <a:lnTo>
                  <a:pt x="199" y="1150"/>
                </a:lnTo>
                <a:lnTo>
                  <a:pt x="186" y="1191"/>
                </a:lnTo>
                <a:lnTo>
                  <a:pt x="171" y="1231"/>
                </a:lnTo>
                <a:lnTo>
                  <a:pt x="145" y="1270"/>
                </a:lnTo>
                <a:lnTo>
                  <a:pt x="145" y="1337"/>
                </a:lnTo>
                <a:lnTo>
                  <a:pt x="132" y="1390"/>
                </a:lnTo>
                <a:lnTo>
                  <a:pt x="119" y="1442"/>
                </a:lnTo>
                <a:lnTo>
                  <a:pt x="119" y="1522"/>
                </a:lnTo>
                <a:lnTo>
                  <a:pt x="119" y="1562"/>
                </a:lnTo>
                <a:lnTo>
                  <a:pt x="119" y="1614"/>
                </a:lnTo>
                <a:lnTo>
                  <a:pt x="105" y="1654"/>
                </a:lnTo>
                <a:lnTo>
                  <a:pt x="79" y="1694"/>
                </a:lnTo>
                <a:lnTo>
                  <a:pt x="66" y="1734"/>
                </a:lnTo>
                <a:lnTo>
                  <a:pt x="52" y="1800"/>
                </a:lnTo>
                <a:lnTo>
                  <a:pt x="52" y="1839"/>
                </a:lnTo>
                <a:lnTo>
                  <a:pt x="39" y="1892"/>
                </a:lnTo>
                <a:lnTo>
                  <a:pt x="39" y="1932"/>
                </a:lnTo>
                <a:lnTo>
                  <a:pt x="26" y="1972"/>
                </a:lnTo>
                <a:lnTo>
                  <a:pt x="26" y="2025"/>
                </a:lnTo>
                <a:lnTo>
                  <a:pt x="13" y="2064"/>
                </a:lnTo>
                <a:lnTo>
                  <a:pt x="13" y="2104"/>
                </a:lnTo>
                <a:lnTo>
                  <a:pt x="13" y="2170"/>
                </a:lnTo>
                <a:lnTo>
                  <a:pt x="0" y="2210"/>
                </a:lnTo>
                <a:lnTo>
                  <a:pt x="0" y="2249"/>
                </a:lnTo>
                <a:lnTo>
                  <a:pt x="0" y="2316"/>
                </a:lnTo>
                <a:lnTo>
                  <a:pt x="13" y="232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7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8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9" name=""/>
          <p:cNvSpPr/>
          <p:nvPr/>
        </p:nvSpPr>
        <p:spPr>
          <a:xfrm>
            <a:off x="263520" y="4321080"/>
            <a:ext cx="1174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0" name=""/>
          <p:cNvSpPr/>
          <p:nvPr/>
        </p:nvSpPr>
        <p:spPr>
          <a:xfrm>
            <a:off x="1119240" y="3473280"/>
            <a:ext cx="41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1" name=""/>
          <p:cNvSpPr/>
          <p:nvPr/>
        </p:nvSpPr>
        <p:spPr>
          <a:xfrm>
            <a:off x="1643040" y="3473280"/>
            <a:ext cx="84132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2" name=""/>
          <p:cNvGrpSpPr/>
          <p:nvPr/>
        </p:nvGrpSpPr>
        <p:grpSpPr>
          <a:xfrm>
            <a:off x="2063880" y="3306600"/>
            <a:ext cx="0" cy="1198800"/>
            <a:chOff x="2063880" y="3306600"/>
            <a:chExt cx="0" cy="1198800"/>
          </a:xfrm>
        </p:grpSpPr>
        <p:sp>
          <p:nvSpPr>
            <p:cNvPr id="8333" name=""/>
            <p:cNvSpPr/>
            <p:nvPr/>
          </p:nvSpPr>
          <p:spPr>
            <a:xfrm>
              <a:off x="2063880" y="38419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4" name=""/>
            <p:cNvSpPr/>
            <p:nvPr/>
          </p:nvSpPr>
          <p:spPr>
            <a:xfrm>
              <a:off x="2063880" y="40402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5" name=""/>
            <p:cNvSpPr/>
            <p:nvPr/>
          </p:nvSpPr>
          <p:spPr>
            <a:xfrm>
              <a:off x="2063880" y="3306600"/>
              <a:ext cx="0" cy="443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36" name=""/>
          <p:cNvSpPr/>
          <p:nvPr/>
        </p:nvSpPr>
        <p:spPr>
          <a:xfrm>
            <a:off x="4641840" y="372420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7" name=""/>
          <p:cNvSpPr/>
          <p:nvPr/>
        </p:nvSpPr>
        <p:spPr>
          <a:xfrm>
            <a:off x="4591080" y="4064040"/>
            <a:ext cx="333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8" name=""/>
          <p:cNvGrpSpPr/>
          <p:nvPr/>
        </p:nvGrpSpPr>
        <p:grpSpPr>
          <a:xfrm>
            <a:off x="4068720" y="3319560"/>
            <a:ext cx="0" cy="1198440"/>
            <a:chOff x="4068720" y="3319560"/>
            <a:chExt cx="0" cy="1198440"/>
          </a:xfrm>
        </p:grpSpPr>
        <p:sp>
          <p:nvSpPr>
            <p:cNvPr id="8339" name=""/>
            <p:cNvSpPr/>
            <p:nvPr/>
          </p:nvSpPr>
          <p:spPr>
            <a:xfrm>
              <a:off x="4068720" y="38545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4068720" y="40528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4068720" y="33195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Applications of Section Cutting Planes &amp; Design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300320" y="2811600"/>
            <a:ext cx="6324480" cy="0"/>
            <a:chOff x="1300320" y="2811600"/>
            <a:chExt cx="6324480" cy="0"/>
          </a:xfrm>
        </p:grpSpPr>
        <p:sp>
          <p:nvSpPr>
            <p:cNvPr id="204" name=""/>
            <p:cNvSpPr/>
            <p:nvPr/>
          </p:nvSpPr>
          <p:spPr>
            <a:xfrm>
              <a:off x="1300320" y="2811600"/>
              <a:ext cx="14475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76480" y="2811600"/>
              <a:ext cx="152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81400" y="28116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14760" y="2811600"/>
              <a:ext cx="15238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15040" y="28116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43720" y="28116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8280" y="2811600"/>
              <a:ext cx="1676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1303200" y="2384280"/>
            <a:ext cx="0" cy="430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27240" y="2170080"/>
            <a:ext cx="127440" cy="300240"/>
          </a:xfrm>
          <a:custGeom>
            <a:avLst/>
            <a:gdLst/>
            <a:ahLst/>
            <a:rect l="0" t="0" r="r" b="b"/>
            <a:pathLst>
              <a:path w="354" h="834">
                <a:moveTo>
                  <a:pt x="0" y="834"/>
                </a:moveTo>
                <a:lnTo>
                  <a:pt x="354" y="834"/>
                </a:lnTo>
                <a:lnTo>
                  <a:pt x="177" y="0"/>
                </a:lnTo>
                <a:lnTo>
                  <a:pt x="0" y="8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624800" y="2430360"/>
            <a:ext cx="0" cy="384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0280" y="2192400"/>
            <a:ext cx="127440" cy="300240"/>
          </a:xfrm>
          <a:custGeom>
            <a:avLst/>
            <a:gdLst/>
            <a:ahLst/>
            <a:rect l="0" t="0" r="r" b="b"/>
            <a:pathLst>
              <a:path w="354" h="834">
                <a:moveTo>
                  <a:pt x="0" y="834"/>
                </a:moveTo>
                <a:lnTo>
                  <a:pt x="354" y="834"/>
                </a:lnTo>
                <a:lnTo>
                  <a:pt x="177" y="0"/>
                </a:lnTo>
                <a:lnTo>
                  <a:pt x="0" y="8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69960" y="22320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832880" y="22510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2" name=""/>
          <p:cNvSpPr/>
          <p:nvPr/>
        </p:nvSpPr>
        <p:spPr>
          <a:xfrm>
            <a:off x="3465360" y="3727440"/>
            <a:ext cx="1182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3" name=""/>
          <p:cNvSpPr/>
          <p:nvPr/>
        </p:nvSpPr>
        <p:spPr>
          <a:xfrm>
            <a:off x="3451320" y="406548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44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345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7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8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1" name=""/>
          <p:cNvSpPr/>
          <p:nvPr/>
        </p:nvSpPr>
        <p:spPr>
          <a:xfrm>
            <a:off x="3141720" y="3487320"/>
            <a:ext cx="302400" cy="240120"/>
          </a:xfrm>
          <a:custGeom>
            <a:avLst/>
            <a:gdLst/>
            <a:ahLst/>
            <a:rect l="0" t="0" r="r" b="b"/>
            <a:pathLst>
              <a:path fill="none" w="840" h="667">
                <a:moveTo>
                  <a:pt x="0" y="0"/>
                </a:moveTo>
                <a:lnTo>
                  <a:pt x="0" y="0"/>
                </a:lnTo>
                <a:cubicBezTo>
                  <a:pt x="12" y="105"/>
                  <a:pt x="51" y="206"/>
                  <a:pt x="113" y="297"/>
                </a:cubicBezTo>
                <a:cubicBezTo>
                  <a:pt x="191" y="410"/>
                  <a:pt x="302" y="503"/>
                  <a:pt x="435" y="568"/>
                </a:cubicBezTo>
                <a:cubicBezTo>
                  <a:pt x="559" y="628"/>
                  <a:pt x="698" y="662"/>
                  <a:pt x="840" y="66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2" name=""/>
          <p:cNvSpPr/>
          <p:nvPr/>
        </p:nvSpPr>
        <p:spPr>
          <a:xfrm>
            <a:off x="3154320" y="4100400"/>
            <a:ext cx="374400" cy="232200"/>
          </a:xfrm>
          <a:custGeom>
            <a:avLst/>
            <a:gdLst/>
            <a:ahLst/>
            <a:rect l="0" t="0" r="r" b="b"/>
            <a:pathLst>
              <a:path fill="none" w="1040" h="645">
                <a:moveTo>
                  <a:pt x="0" y="645"/>
                </a:moveTo>
                <a:lnTo>
                  <a:pt x="0" y="645"/>
                </a:lnTo>
                <a:cubicBezTo>
                  <a:pt x="184" y="645"/>
                  <a:pt x="364" y="612"/>
                  <a:pt x="523" y="549"/>
                </a:cubicBezTo>
                <a:cubicBezTo>
                  <a:pt x="682" y="485"/>
                  <a:pt x="814" y="394"/>
                  <a:pt x="906" y="285"/>
                </a:cubicBezTo>
                <a:cubicBezTo>
                  <a:pt x="979" y="197"/>
                  <a:pt x="1025" y="100"/>
                  <a:pt x="104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3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4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5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6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7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8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9" name=""/>
          <p:cNvSpPr/>
          <p:nvPr/>
        </p:nvSpPr>
        <p:spPr>
          <a:xfrm flipV="1">
            <a:off x="254160" y="3460680"/>
            <a:ext cx="865080" cy="865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0" name=""/>
          <p:cNvSpPr/>
          <p:nvPr/>
        </p:nvSpPr>
        <p:spPr>
          <a:xfrm>
            <a:off x="4300560" y="344016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1" name=""/>
          <p:cNvSpPr/>
          <p:nvPr/>
        </p:nvSpPr>
        <p:spPr>
          <a:xfrm>
            <a:off x="2711520" y="3476520"/>
            <a:ext cx="343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2" name=""/>
          <p:cNvSpPr/>
          <p:nvPr/>
        </p:nvSpPr>
        <p:spPr>
          <a:xfrm>
            <a:off x="2611440" y="4317840"/>
            <a:ext cx="3541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3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4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5" name=""/>
          <p:cNvSpPr/>
          <p:nvPr/>
        </p:nvSpPr>
        <p:spPr>
          <a:xfrm>
            <a:off x="2603520" y="3479760"/>
            <a:ext cx="105120" cy="835560"/>
          </a:xfrm>
          <a:custGeom>
            <a:avLst/>
            <a:gdLst/>
            <a:ahLst/>
            <a:rect l="0" t="0" r="r" b="b"/>
            <a:pathLst>
              <a:path fill="none" w="292" h="2321">
                <a:moveTo>
                  <a:pt x="292" y="0"/>
                </a:moveTo>
                <a:lnTo>
                  <a:pt x="292" y="0"/>
                </a:lnTo>
                <a:lnTo>
                  <a:pt x="274" y="26"/>
                </a:lnTo>
                <a:lnTo>
                  <a:pt x="274" y="52"/>
                </a:lnTo>
                <a:lnTo>
                  <a:pt x="274" y="88"/>
                </a:lnTo>
                <a:lnTo>
                  <a:pt x="274" y="132"/>
                </a:lnTo>
                <a:lnTo>
                  <a:pt x="274" y="158"/>
                </a:lnTo>
                <a:lnTo>
                  <a:pt x="274" y="202"/>
                </a:lnTo>
                <a:lnTo>
                  <a:pt x="274" y="246"/>
                </a:lnTo>
                <a:lnTo>
                  <a:pt x="274" y="282"/>
                </a:lnTo>
                <a:lnTo>
                  <a:pt x="274" y="317"/>
                </a:lnTo>
                <a:lnTo>
                  <a:pt x="256" y="343"/>
                </a:lnTo>
                <a:lnTo>
                  <a:pt x="256" y="370"/>
                </a:lnTo>
                <a:lnTo>
                  <a:pt x="247" y="414"/>
                </a:lnTo>
                <a:lnTo>
                  <a:pt x="247" y="449"/>
                </a:lnTo>
                <a:lnTo>
                  <a:pt x="247" y="476"/>
                </a:lnTo>
                <a:lnTo>
                  <a:pt x="247" y="502"/>
                </a:lnTo>
                <a:lnTo>
                  <a:pt x="247" y="529"/>
                </a:lnTo>
                <a:lnTo>
                  <a:pt x="247" y="564"/>
                </a:lnTo>
                <a:lnTo>
                  <a:pt x="256" y="591"/>
                </a:lnTo>
                <a:lnTo>
                  <a:pt x="256" y="618"/>
                </a:lnTo>
                <a:lnTo>
                  <a:pt x="256" y="680"/>
                </a:lnTo>
                <a:lnTo>
                  <a:pt x="247" y="715"/>
                </a:lnTo>
                <a:lnTo>
                  <a:pt x="239" y="741"/>
                </a:lnTo>
                <a:lnTo>
                  <a:pt x="239" y="768"/>
                </a:lnTo>
                <a:lnTo>
                  <a:pt x="239" y="803"/>
                </a:lnTo>
                <a:lnTo>
                  <a:pt x="239" y="882"/>
                </a:lnTo>
                <a:lnTo>
                  <a:pt x="239" y="918"/>
                </a:lnTo>
                <a:lnTo>
                  <a:pt x="239" y="953"/>
                </a:lnTo>
                <a:lnTo>
                  <a:pt x="221" y="997"/>
                </a:lnTo>
                <a:lnTo>
                  <a:pt x="212" y="1041"/>
                </a:lnTo>
                <a:lnTo>
                  <a:pt x="203" y="1068"/>
                </a:lnTo>
                <a:lnTo>
                  <a:pt x="195" y="1121"/>
                </a:lnTo>
                <a:lnTo>
                  <a:pt x="186" y="1147"/>
                </a:lnTo>
                <a:lnTo>
                  <a:pt x="186" y="1191"/>
                </a:lnTo>
                <a:lnTo>
                  <a:pt x="177" y="1235"/>
                </a:lnTo>
                <a:lnTo>
                  <a:pt x="177" y="1279"/>
                </a:lnTo>
                <a:lnTo>
                  <a:pt x="177" y="1306"/>
                </a:lnTo>
                <a:lnTo>
                  <a:pt x="177" y="1350"/>
                </a:lnTo>
                <a:lnTo>
                  <a:pt x="186" y="1385"/>
                </a:lnTo>
                <a:lnTo>
                  <a:pt x="186" y="1420"/>
                </a:lnTo>
                <a:lnTo>
                  <a:pt x="186" y="1473"/>
                </a:lnTo>
                <a:lnTo>
                  <a:pt x="186" y="1535"/>
                </a:lnTo>
                <a:lnTo>
                  <a:pt x="186" y="1597"/>
                </a:lnTo>
                <a:lnTo>
                  <a:pt x="186" y="1632"/>
                </a:lnTo>
                <a:lnTo>
                  <a:pt x="186" y="1667"/>
                </a:lnTo>
                <a:lnTo>
                  <a:pt x="177" y="1694"/>
                </a:lnTo>
                <a:lnTo>
                  <a:pt x="168" y="1720"/>
                </a:lnTo>
                <a:lnTo>
                  <a:pt x="141" y="1748"/>
                </a:lnTo>
                <a:lnTo>
                  <a:pt x="132" y="1774"/>
                </a:lnTo>
                <a:lnTo>
                  <a:pt x="123" y="1801"/>
                </a:lnTo>
                <a:lnTo>
                  <a:pt x="97" y="1871"/>
                </a:lnTo>
                <a:lnTo>
                  <a:pt x="97" y="1898"/>
                </a:lnTo>
                <a:lnTo>
                  <a:pt x="97" y="1924"/>
                </a:lnTo>
                <a:lnTo>
                  <a:pt x="97" y="1968"/>
                </a:lnTo>
                <a:lnTo>
                  <a:pt x="97" y="1995"/>
                </a:lnTo>
                <a:lnTo>
                  <a:pt x="105" y="2021"/>
                </a:lnTo>
                <a:lnTo>
                  <a:pt x="97" y="2048"/>
                </a:lnTo>
                <a:lnTo>
                  <a:pt x="70" y="2056"/>
                </a:lnTo>
                <a:lnTo>
                  <a:pt x="70" y="2118"/>
                </a:lnTo>
                <a:lnTo>
                  <a:pt x="52" y="2162"/>
                </a:lnTo>
                <a:lnTo>
                  <a:pt x="44" y="2189"/>
                </a:lnTo>
                <a:lnTo>
                  <a:pt x="35" y="2215"/>
                </a:lnTo>
                <a:lnTo>
                  <a:pt x="17" y="2259"/>
                </a:lnTo>
                <a:lnTo>
                  <a:pt x="8" y="2286"/>
                </a:lnTo>
                <a:lnTo>
                  <a:pt x="8" y="2312"/>
                </a:lnTo>
                <a:lnTo>
                  <a:pt x="0" y="232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6" name=""/>
          <p:cNvSpPr/>
          <p:nvPr/>
        </p:nvSpPr>
        <p:spPr>
          <a:xfrm>
            <a:off x="1441440" y="3473280"/>
            <a:ext cx="92520" cy="844920"/>
          </a:xfrm>
          <a:custGeom>
            <a:avLst/>
            <a:gdLst/>
            <a:ahLst/>
            <a:rect l="0" t="0" r="r" b="b"/>
            <a:pathLst>
              <a:path fill="none" w="257" h="2347">
                <a:moveTo>
                  <a:pt x="257" y="0"/>
                </a:moveTo>
                <a:lnTo>
                  <a:pt x="248" y="44"/>
                </a:lnTo>
                <a:lnTo>
                  <a:pt x="240" y="97"/>
                </a:lnTo>
                <a:lnTo>
                  <a:pt x="222" y="176"/>
                </a:lnTo>
                <a:lnTo>
                  <a:pt x="222" y="229"/>
                </a:lnTo>
                <a:lnTo>
                  <a:pt x="222" y="282"/>
                </a:lnTo>
                <a:lnTo>
                  <a:pt x="222" y="317"/>
                </a:lnTo>
                <a:lnTo>
                  <a:pt x="222" y="361"/>
                </a:lnTo>
                <a:lnTo>
                  <a:pt x="168" y="414"/>
                </a:lnTo>
                <a:lnTo>
                  <a:pt x="159" y="476"/>
                </a:lnTo>
                <a:lnTo>
                  <a:pt x="159" y="502"/>
                </a:lnTo>
                <a:lnTo>
                  <a:pt x="150" y="529"/>
                </a:lnTo>
                <a:lnTo>
                  <a:pt x="150" y="618"/>
                </a:lnTo>
                <a:lnTo>
                  <a:pt x="150" y="644"/>
                </a:lnTo>
                <a:lnTo>
                  <a:pt x="150" y="671"/>
                </a:lnTo>
                <a:lnTo>
                  <a:pt x="150" y="715"/>
                </a:lnTo>
                <a:lnTo>
                  <a:pt x="150" y="830"/>
                </a:lnTo>
                <a:lnTo>
                  <a:pt x="150" y="891"/>
                </a:lnTo>
                <a:lnTo>
                  <a:pt x="142" y="935"/>
                </a:lnTo>
                <a:lnTo>
                  <a:pt x="142" y="979"/>
                </a:lnTo>
                <a:lnTo>
                  <a:pt x="142" y="1015"/>
                </a:lnTo>
                <a:lnTo>
                  <a:pt x="142" y="1041"/>
                </a:lnTo>
                <a:lnTo>
                  <a:pt x="133" y="1103"/>
                </a:lnTo>
                <a:lnTo>
                  <a:pt x="124" y="1165"/>
                </a:lnTo>
                <a:lnTo>
                  <a:pt x="98" y="1235"/>
                </a:lnTo>
                <a:lnTo>
                  <a:pt x="89" y="1297"/>
                </a:lnTo>
                <a:lnTo>
                  <a:pt x="44" y="1473"/>
                </a:lnTo>
                <a:lnTo>
                  <a:pt x="35" y="1579"/>
                </a:lnTo>
                <a:lnTo>
                  <a:pt x="35" y="1641"/>
                </a:lnTo>
                <a:lnTo>
                  <a:pt x="26" y="1898"/>
                </a:lnTo>
                <a:lnTo>
                  <a:pt x="26" y="1959"/>
                </a:lnTo>
                <a:lnTo>
                  <a:pt x="26" y="1986"/>
                </a:lnTo>
                <a:lnTo>
                  <a:pt x="44" y="2012"/>
                </a:lnTo>
                <a:lnTo>
                  <a:pt x="52" y="2048"/>
                </a:lnTo>
                <a:lnTo>
                  <a:pt x="52" y="2074"/>
                </a:lnTo>
                <a:lnTo>
                  <a:pt x="52" y="2109"/>
                </a:lnTo>
                <a:lnTo>
                  <a:pt x="35" y="2136"/>
                </a:lnTo>
                <a:lnTo>
                  <a:pt x="35" y="2162"/>
                </a:lnTo>
                <a:lnTo>
                  <a:pt x="26" y="2189"/>
                </a:lnTo>
                <a:lnTo>
                  <a:pt x="17" y="2215"/>
                </a:lnTo>
                <a:lnTo>
                  <a:pt x="17" y="2242"/>
                </a:lnTo>
                <a:lnTo>
                  <a:pt x="8" y="2268"/>
                </a:lnTo>
                <a:lnTo>
                  <a:pt x="0" y="2295"/>
                </a:lnTo>
                <a:lnTo>
                  <a:pt x="0" y="2321"/>
                </a:lnTo>
                <a:lnTo>
                  <a:pt x="0" y="234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7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8" name=""/>
          <p:cNvSpPr/>
          <p:nvPr/>
        </p:nvSpPr>
        <p:spPr>
          <a:xfrm>
            <a:off x="4548240" y="3476520"/>
            <a:ext cx="133560" cy="838440"/>
          </a:xfrm>
          <a:custGeom>
            <a:avLst/>
            <a:gdLst/>
            <a:ahLst/>
            <a:rect l="0" t="0" r="r" b="b"/>
            <a:pathLst>
              <a:path fill="none" w="371" h="2329">
                <a:moveTo>
                  <a:pt x="331" y="0"/>
                </a:moveTo>
                <a:lnTo>
                  <a:pt x="344" y="39"/>
                </a:lnTo>
                <a:lnTo>
                  <a:pt x="358" y="79"/>
                </a:lnTo>
                <a:lnTo>
                  <a:pt x="371" y="119"/>
                </a:lnTo>
                <a:lnTo>
                  <a:pt x="371" y="185"/>
                </a:lnTo>
                <a:lnTo>
                  <a:pt x="358" y="251"/>
                </a:lnTo>
                <a:lnTo>
                  <a:pt x="344" y="291"/>
                </a:lnTo>
                <a:lnTo>
                  <a:pt x="331" y="343"/>
                </a:lnTo>
                <a:lnTo>
                  <a:pt x="318" y="383"/>
                </a:lnTo>
                <a:lnTo>
                  <a:pt x="305" y="436"/>
                </a:lnTo>
                <a:lnTo>
                  <a:pt x="305" y="489"/>
                </a:lnTo>
                <a:lnTo>
                  <a:pt x="305" y="529"/>
                </a:lnTo>
                <a:lnTo>
                  <a:pt x="305" y="568"/>
                </a:lnTo>
                <a:lnTo>
                  <a:pt x="292" y="608"/>
                </a:lnTo>
                <a:lnTo>
                  <a:pt x="265" y="648"/>
                </a:lnTo>
                <a:lnTo>
                  <a:pt x="252" y="687"/>
                </a:lnTo>
                <a:lnTo>
                  <a:pt x="239" y="727"/>
                </a:lnTo>
                <a:lnTo>
                  <a:pt x="225" y="780"/>
                </a:lnTo>
                <a:lnTo>
                  <a:pt x="212" y="820"/>
                </a:lnTo>
                <a:lnTo>
                  <a:pt x="199" y="899"/>
                </a:lnTo>
                <a:lnTo>
                  <a:pt x="199" y="939"/>
                </a:lnTo>
                <a:lnTo>
                  <a:pt x="199" y="992"/>
                </a:lnTo>
                <a:lnTo>
                  <a:pt x="199" y="1031"/>
                </a:lnTo>
                <a:lnTo>
                  <a:pt x="199" y="1098"/>
                </a:lnTo>
                <a:lnTo>
                  <a:pt x="199" y="1150"/>
                </a:lnTo>
                <a:lnTo>
                  <a:pt x="186" y="1191"/>
                </a:lnTo>
                <a:lnTo>
                  <a:pt x="171" y="1231"/>
                </a:lnTo>
                <a:lnTo>
                  <a:pt x="145" y="1270"/>
                </a:lnTo>
                <a:lnTo>
                  <a:pt x="145" y="1337"/>
                </a:lnTo>
                <a:lnTo>
                  <a:pt x="132" y="1390"/>
                </a:lnTo>
                <a:lnTo>
                  <a:pt x="119" y="1442"/>
                </a:lnTo>
                <a:lnTo>
                  <a:pt x="119" y="1522"/>
                </a:lnTo>
                <a:lnTo>
                  <a:pt x="119" y="1562"/>
                </a:lnTo>
                <a:lnTo>
                  <a:pt x="119" y="1614"/>
                </a:lnTo>
                <a:lnTo>
                  <a:pt x="105" y="1654"/>
                </a:lnTo>
                <a:lnTo>
                  <a:pt x="79" y="1694"/>
                </a:lnTo>
                <a:lnTo>
                  <a:pt x="66" y="1734"/>
                </a:lnTo>
                <a:lnTo>
                  <a:pt x="52" y="1800"/>
                </a:lnTo>
                <a:lnTo>
                  <a:pt x="52" y="1839"/>
                </a:lnTo>
                <a:lnTo>
                  <a:pt x="39" y="1892"/>
                </a:lnTo>
                <a:lnTo>
                  <a:pt x="39" y="1932"/>
                </a:lnTo>
                <a:lnTo>
                  <a:pt x="26" y="1972"/>
                </a:lnTo>
                <a:lnTo>
                  <a:pt x="26" y="2025"/>
                </a:lnTo>
                <a:lnTo>
                  <a:pt x="13" y="2064"/>
                </a:lnTo>
                <a:lnTo>
                  <a:pt x="13" y="2104"/>
                </a:lnTo>
                <a:lnTo>
                  <a:pt x="13" y="2170"/>
                </a:lnTo>
                <a:lnTo>
                  <a:pt x="0" y="2210"/>
                </a:lnTo>
                <a:lnTo>
                  <a:pt x="0" y="2249"/>
                </a:lnTo>
                <a:lnTo>
                  <a:pt x="0" y="2316"/>
                </a:lnTo>
                <a:lnTo>
                  <a:pt x="13" y="232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9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0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1" name=""/>
          <p:cNvSpPr/>
          <p:nvPr/>
        </p:nvSpPr>
        <p:spPr>
          <a:xfrm>
            <a:off x="263520" y="4321080"/>
            <a:ext cx="1174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2" name=""/>
          <p:cNvSpPr/>
          <p:nvPr/>
        </p:nvSpPr>
        <p:spPr>
          <a:xfrm>
            <a:off x="1119240" y="3473280"/>
            <a:ext cx="41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3" name=""/>
          <p:cNvSpPr/>
          <p:nvPr/>
        </p:nvSpPr>
        <p:spPr>
          <a:xfrm>
            <a:off x="1643040" y="3473280"/>
            <a:ext cx="84132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4" name=""/>
          <p:cNvGrpSpPr/>
          <p:nvPr/>
        </p:nvGrpSpPr>
        <p:grpSpPr>
          <a:xfrm>
            <a:off x="2063880" y="3306600"/>
            <a:ext cx="0" cy="1198800"/>
            <a:chOff x="2063880" y="3306600"/>
            <a:chExt cx="0" cy="1198800"/>
          </a:xfrm>
        </p:grpSpPr>
        <p:sp>
          <p:nvSpPr>
            <p:cNvPr id="8375" name=""/>
            <p:cNvSpPr/>
            <p:nvPr/>
          </p:nvSpPr>
          <p:spPr>
            <a:xfrm>
              <a:off x="2063880" y="38419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2063880" y="40402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2063880" y="3306600"/>
              <a:ext cx="0" cy="443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78" name=""/>
          <p:cNvSpPr/>
          <p:nvPr/>
        </p:nvSpPr>
        <p:spPr>
          <a:xfrm>
            <a:off x="4641840" y="372420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9" name=""/>
          <p:cNvSpPr/>
          <p:nvPr/>
        </p:nvSpPr>
        <p:spPr>
          <a:xfrm>
            <a:off x="4591080" y="4064040"/>
            <a:ext cx="333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0" name=""/>
          <p:cNvGrpSpPr/>
          <p:nvPr/>
        </p:nvGrpSpPr>
        <p:grpSpPr>
          <a:xfrm>
            <a:off x="4068720" y="3319560"/>
            <a:ext cx="0" cy="1198440"/>
            <a:chOff x="4068720" y="3319560"/>
            <a:chExt cx="0" cy="1198440"/>
          </a:xfrm>
        </p:grpSpPr>
        <p:sp>
          <p:nvSpPr>
            <p:cNvPr id="8381" name=""/>
            <p:cNvSpPr/>
            <p:nvPr/>
          </p:nvSpPr>
          <p:spPr>
            <a:xfrm>
              <a:off x="4068720" y="38545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4068720" y="40528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4068720" y="33195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84" name=""/>
          <p:cNvSpPr/>
          <p:nvPr/>
        </p:nvSpPr>
        <p:spPr>
          <a:xfrm>
            <a:off x="3540240" y="3476520"/>
            <a:ext cx="68760" cy="841680"/>
          </a:xfrm>
          <a:custGeom>
            <a:avLst/>
            <a:gdLst/>
            <a:ahLst/>
            <a:rect l="0" t="0" r="r" b="b"/>
            <a:pathLst>
              <a:path fill="none" w="191" h="2338">
                <a:moveTo>
                  <a:pt x="0" y="0"/>
                </a:moveTo>
                <a:lnTo>
                  <a:pt x="4" y="52"/>
                </a:lnTo>
                <a:lnTo>
                  <a:pt x="35" y="145"/>
                </a:lnTo>
                <a:lnTo>
                  <a:pt x="160" y="299"/>
                </a:lnTo>
                <a:lnTo>
                  <a:pt x="191" y="392"/>
                </a:lnTo>
                <a:lnTo>
                  <a:pt x="128" y="485"/>
                </a:lnTo>
                <a:lnTo>
                  <a:pt x="98" y="665"/>
                </a:lnTo>
                <a:lnTo>
                  <a:pt x="67" y="820"/>
                </a:lnTo>
                <a:lnTo>
                  <a:pt x="67" y="1036"/>
                </a:lnTo>
                <a:lnTo>
                  <a:pt x="67" y="1128"/>
                </a:lnTo>
                <a:lnTo>
                  <a:pt x="67" y="1253"/>
                </a:lnTo>
                <a:lnTo>
                  <a:pt x="67" y="1345"/>
                </a:lnTo>
                <a:lnTo>
                  <a:pt x="67" y="1438"/>
                </a:lnTo>
                <a:lnTo>
                  <a:pt x="67" y="1531"/>
                </a:lnTo>
                <a:lnTo>
                  <a:pt x="98" y="1623"/>
                </a:lnTo>
                <a:lnTo>
                  <a:pt x="98" y="1716"/>
                </a:lnTo>
                <a:lnTo>
                  <a:pt x="98" y="1839"/>
                </a:lnTo>
                <a:lnTo>
                  <a:pt x="98" y="1989"/>
                </a:lnTo>
                <a:lnTo>
                  <a:pt x="160" y="2082"/>
                </a:lnTo>
                <a:lnTo>
                  <a:pt x="191" y="2174"/>
                </a:lnTo>
                <a:lnTo>
                  <a:pt x="191" y="2267"/>
                </a:lnTo>
                <a:lnTo>
                  <a:pt x="142" y="233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5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386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2" name=""/>
          <p:cNvSpPr/>
          <p:nvPr/>
        </p:nvSpPr>
        <p:spPr>
          <a:xfrm>
            <a:off x="3141720" y="3487320"/>
            <a:ext cx="302400" cy="240120"/>
          </a:xfrm>
          <a:custGeom>
            <a:avLst/>
            <a:gdLst/>
            <a:ahLst/>
            <a:rect l="0" t="0" r="r" b="b"/>
            <a:pathLst>
              <a:path fill="none" w="840" h="667">
                <a:moveTo>
                  <a:pt x="0" y="0"/>
                </a:moveTo>
                <a:lnTo>
                  <a:pt x="0" y="0"/>
                </a:lnTo>
                <a:cubicBezTo>
                  <a:pt x="12" y="105"/>
                  <a:pt x="51" y="206"/>
                  <a:pt x="113" y="297"/>
                </a:cubicBezTo>
                <a:cubicBezTo>
                  <a:pt x="191" y="410"/>
                  <a:pt x="302" y="503"/>
                  <a:pt x="435" y="568"/>
                </a:cubicBezTo>
                <a:cubicBezTo>
                  <a:pt x="559" y="628"/>
                  <a:pt x="698" y="662"/>
                  <a:pt x="840" y="66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3" name=""/>
          <p:cNvSpPr/>
          <p:nvPr/>
        </p:nvSpPr>
        <p:spPr>
          <a:xfrm>
            <a:off x="3154320" y="4100400"/>
            <a:ext cx="374400" cy="232200"/>
          </a:xfrm>
          <a:custGeom>
            <a:avLst/>
            <a:gdLst/>
            <a:ahLst/>
            <a:rect l="0" t="0" r="r" b="b"/>
            <a:pathLst>
              <a:path fill="none" w="1040" h="645">
                <a:moveTo>
                  <a:pt x="0" y="645"/>
                </a:moveTo>
                <a:lnTo>
                  <a:pt x="0" y="645"/>
                </a:lnTo>
                <a:cubicBezTo>
                  <a:pt x="184" y="645"/>
                  <a:pt x="364" y="612"/>
                  <a:pt x="523" y="549"/>
                </a:cubicBezTo>
                <a:cubicBezTo>
                  <a:pt x="682" y="485"/>
                  <a:pt x="814" y="394"/>
                  <a:pt x="906" y="285"/>
                </a:cubicBezTo>
                <a:cubicBezTo>
                  <a:pt x="979" y="197"/>
                  <a:pt x="1025" y="100"/>
                  <a:pt x="104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4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5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6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7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8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9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0" name=""/>
          <p:cNvSpPr/>
          <p:nvPr/>
        </p:nvSpPr>
        <p:spPr>
          <a:xfrm flipV="1">
            <a:off x="254160" y="3476520"/>
            <a:ext cx="849240" cy="84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1" name=""/>
          <p:cNvSpPr/>
          <p:nvPr/>
        </p:nvSpPr>
        <p:spPr>
          <a:xfrm>
            <a:off x="1101600" y="347652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2" name=""/>
          <p:cNvSpPr/>
          <p:nvPr/>
        </p:nvSpPr>
        <p:spPr>
          <a:xfrm>
            <a:off x="254160" y="4317840"/>
            <a:ext cx="588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3" name=""/>
          <p:cNvSpPr/>
          <p:nvPr/>
        </p:nvSpPr>
        <p:spPr>
          <a:xfrm flipH="1">
            <a:off x="4494240" y="372600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4" name=""/>
          <p:cNvSpPr/>
          <p:nvPr/>
        </p:nvSpPr>
        <p:spPr>
          <a:xfrm flipH="1">
            <a:off x="4491000" y="4073400"/>
            <a:ext cx="58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5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6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7" name=""/>
          <p:cNvSpPr/>
          <p:nvPr/>
        </p:nvSpPr>
        <p:spPr>
          <a:xfrm>
            <a:off x="2603520" y="3479760"/>
            <a:ext cx="105120" cy="835560"/>
          </a:xfrm>
          <a:custGeom>
            <a:avLst/>
            <a:gdLst/>
            <a:ahLst/>
            <a:rect l="0" t="0" r="r" b="b"/>
            <a:pathLst>
              <a:path fill="none" w="292" h="2321">
                <a:moveTo>
                  <a:pt x="292" y="0"/>
                </a:moveTo>
                <a:lnTo>
                  <a:pt x="292" y="0"/>
                </a:lnTo>
                <a:lnTo>
                  <a:pt x="274" y="26"/>
                </a:lnTo>
                <a:lnTo>
                  <a:pt x="274" y="52"/>
                </a:lnTo>
                <a:lnTo>
                  <a:pt x="274" y="88"/>
                </a:lnTo>
                <a:lnTo>
                  <a:pt x="274" y="132"/>
                </a:lnTo>
                <a:lnTo>
                  <a:pt x="274" y="158"/>
                </a:lnTo>
                <a:lnTo>
                  <a:pt x="274" y="202"/>
                </a:lnTo>
                <a:lnTo>
                  <a:pt x="274" y="246"/>
                </a:lnTo>
                <a:lnTo>
                  <a:pt x="274" y="282"/>
                </a:lnTo>
                <a:lnTo>
                  <a:pt x="274" y="317"/>
                </a:lnTo>
                <a:lnTo>
                  <a:pt x="256" y="343"/>
                </a:lnTo>
                <a:lnTo>
                  <a:pt x="256" y="370"/>
                </a:lnTo>
                <a:lnTo>
                  <a:pt x="247" y="414"/>
                </a:lnTo>
                <a:lnTo>
                  <a:pt x="247" y="449"/>
                </a:lnTo>
                <a:lnTo>
                  <a:pt x="247" y="476"/>
                </a:lnTo>
                <a:lnTo>
                  <a:pt x="247" y="502"/>
                </a:lnTo>
                <a:lnTo>
                  <a:pt x="247" y="529"/>
                </a:lnTo>
                <a:lnTo>
                  <a:pt x="247" y="564"/>
                </a:lnTo>
                <a:lnTo>
                  <a:pt x="256" y="591"/>
                </a:lnTo>
                <a:lnTo>
                  <a:pt x="256" y="618"/>
                </a:lnTo>
                <a:lnTo>
                  <a:pt x="256" y="680"/>
                </a:lnTo>
                <a:lnTo>
                  <a:pt x="247" y="715"/>
                </a:lnTo>
                <a:lnTo>
                  <a:pt x="239" y="741"/>
                </a:lnTo>
                <a:lnTo>
                  <a:pt x="239" y="768"/>
                </a:lnTo>
                <a:lnTo>
                  <a:pt x="239" y="803"/>
                </a:lnTo>
                <a:lnTo>
                  <a:pt x="239" y="882"/>
                </a:lnTo>
                <a:lnTo>
                  <a:pt x="239" y="918"/>
                </a:lnTo>
                <a:lnTo>
                  <a:pt x="239" y="953"/>
                </a:lnTo>
                <a:lnTo>
                  <a:pt x="221" y="997"/>
                </a:lnTo>
                <a:lnTo>
                  <a:pt x="212" y="1041"/>
                </a:lnTo>
                <a:lnTo>
                  <a:pt x="203" y="1068"/>
                </a:lnTo>
                <a:lnTo>
                  <a:pt x="195" y="1121"/>
                </a:lnTo>
                <a:lnTo>
                  <a:pt x="186" y="1147"/>
                </a:lnTo>
                <a:lnTo>
                  <a:pt x="186" y="1191"/>
                </a:lnTo>
                <a:lnTo>
                  <a:pt x="177" y="1235"/>
                </a:lnTo>
                <a:lnTo>
                  <a:pt x="177" y="1279"/>
                </a:lnTo>
                <a:lnTo>
                  <a:pt x="177" y="1306"/>
                </a:lnTo>
                <a:lnTo>
                  <a:pt x="177" y="1350"/>
                </a:lnTo>
                <a:lnTo>
                  <a:pt x="186" y="1385"/>
                </a:lnTo>
                <a:lnTo>
                  <a:pt x="186" y="1420"/>
                </a:lnTo>
                <a:lnTo>
                  <a:pt x="186" y="1473"/>
                </a:lnTo>
                <a:lnTo>
                  <a:pt x="186" y="1535"/>
                </a:lnTo>
                <a:lnTo>
                  <a:pt x="186" y="1597"/>
                </a:lnTo>
                <a:lnTo>
                  <a:pt x="186" y="1632"/>
                </a:lnTo>
                <a:lnTo>
                  <a:pt x="186" y="1667"/>
                </a:lnTo>
                <a:lnTo>
                  <a:pt x="177" y="1694"/>
                </a:lnTo>
                <a:lnTo>
                  <a:pt x="168" y="1720"/>
                </a:lnTo>
                <a:lnTo>
                  <a:pt x="141" y="1748"/>
                </a:lnTo>
                <a:lnTo>
                  <a:pt x="132" y="1774"/>
                </a:lnTo>
                <a:lnTo>
                  <a:pt x="123" y="1801"/>
                </a:lnTo>
                <a:lnTo>
                  <a:pt x="97" y="1871"/>
                </a:lnTo>
                <a:lnTo>
                  <a:pt x="97" y="1898"/>
                </a:lnTo>
                <a:lnTo>
                  <a:pt x="97" y="1924"/>
                </a:lnTo>
                <a:lnTo>
                  <a:pt x="97" y="1968"/>
                </a:lnTo>
                <a:lnTo>
                  <a:pt x="97" y="1995"/>
                </a:lnTo>
                <a:lnTo>
                  <a:pt x="105" y="2021"/>
                </a:lnTo>
                <a:lnTo>
                  <a:pt x="97" y="2048"/>
                </a:lnTo>
                <a:lnTo>
                  <a:pt x="70" y="2056"/>
                </a:lnTo>
                <a:lnTo>
                  <a:pt x="70" y="2118"/>
                </a:lnTo>
                <a:lnTo>
                  <a:pt x="52" y="2162"/>
                </a:lnTo>
                <a:lnTo>
                  <a:pt x="44" y="2189"/>
                </a:lnTo>
                <a:lnTo>
                  <a:pt x="35" y="2215"/>
                </a:lnTo>
                <a:lnTo>
                  <a:pt x="17" y="2259"/>
                </a:lnTo>
                <a:lnTo>
                  <a:pt x="8" y="2286"/>
                </a:lnTo>
                <a:lnTo>
                  <a:pt x="8" y="2312"/>
                </a:lnTo>
                <a:lnTo>
                  <a:pt x="0" y="232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8" name=""/>
          <p:cNvSpPr/>
          <p:nvPr/>
        </p:nvSpPr>
        <p:spPr>
          <a:xfrm>
            <a:off x="1441440" y="3473280"/>
            <a:ext cx="92520" cy="844920"/>
          </a:xfrm>
          <a:custGeom>
            <a:avLst/>
            <a:gdLst/>
            <a:ahLst/>
            <a:rect l="0" t="0" r="r" b="b"/>
            <a:pathLst>
              <a:path fill="none" w="257" h="2347">
                <a:moveTo>
                  <a:pt x="257" y="0"/>
                </a:moveTo>
                <a:lnTo>
                  <a:pt x="248" y="44"/>
                </a:lnTo>
                <a:lnTo>
                  <a:pt x="240" y="97"/>
                </a:lnTo>
                <a:lnTo>
                  <a:pt x="222" y="176"/>
                </a:lnTo>
                <a:lnTo>
                  <a:pt x="222" y="229"/>
                </a:lnTo>
                <a:lnTo>
                  <a:pt x="222" y="282"/>
                </a:lnTo>
                <a:lnTo>
                  <a:pt x="222" y="317"/>
                </a:lnTo>
                <a:lnTo>
                  <a:pt x="222" y="361"/>
                </a:lnTo>
                <a:lnTo>
                  <a:pt x="168" y="414"/>
                </a:lnTo>
                <a:lnTo>
                  <a:pt x="159" y="476"/>
                </a:lnTo>
                <a:lnTo>
                  <a:pt x="159" y="502"/>
                </a:lnTo>
                <a:lnTo>
                  <a:pt x="150" y="529"/>
                </a:lnTo>
                <a:lnTo>
                  <a:pt x="150" y="618"/>
                </a:lnTo>
                <a:lnTo>
                  <a:pt x="150" y="644"/>
                </a:lnTo>
                <a:lnTo>
                  <a:pt x="150" y="671"/>
                </a:lnTo>
                <a:lnTo>
                  <a:pt x="150" y="715"/>
                </a:lnTo>
                <a:lnTo>
                  <a:pt x="150" y="830"/>
                </a:lnTo>
                <a:lnTo>
                  <a:pt x="150" y="891"/>
                </a:lnTo>
                <a:lnTo>
                  <a:pt x="142" y="935"/>
                </a:lnTo>
                <a:lnTo>
                  <a:pt x="142" y="979"/>
                </a:lnTo>
                <a:lnTo>
                  <a:pt x="142" y="1015"/>
                </a:lnTo>
                <a:lnTo>
                  <a:pt x="142" y="1041"/>
                </a:lnTo>
                <a:lnTo>
                  <a:pt x="133" y="1103"/>
                </a:lnTo>
                <a:lnTo>
                  <a:pt x="124" y="1165"/>
                </a:lnTo>
                <a:lnTo>
                  <a:pt x="98" y="1235"/>
                </a:lnTo>
                <a:lnTo>
                  <a:pt x="89" y="1297"/>
                </a:lnTo>
                <a:lnTo>
                  <a:pt x="44" y="1473"/>
                </a:lnTo>
                <a:lnTo>
                  <a:pt x="35" y="1579"/>
                </a:lnTo>
                <a:lnTo>
                  <a:pt x="35" y="1641"/>
                </a:lnTo>
                <a:lnTo>
                  <a:pt x="26" y="1898"/>
                </a:lnTo>
                <a:lnTo>
                  <a:pt x="26" y="1959"/>
                </a:lnTo>
                <a:lnTo>
                  <a:pt x="26" y="1986"/>
                </a:lnTo>
                <a:lnTo>
                  <a:pt x="44" y="2012"/>
                </a:lnTo>
                <a:lnTo>
                  <a:pt x="52" y="2048"/>
                </a:lnTo>
                <a:lnTo>
                  <a:pt x="52" y="2074"/>
                </a:lnTo>
                <a:lnTo>
                  <a:pt x="52" y="2109"/>
                </a:lnTo>
                <a:lnTo>
                  <a:pt x="35" y="2136"/>
                </a:lnTo>
                <a:lnTo>
                  <a:pt x="35" y="2162"/>
                </a:lnTo>
                <a:lnTo>
                  <a:pt x="26" y="2189"/>
                </a:lnTo>
                <a:lnTo>
                  <a:pt x="17" y="2215"/>
                </a:lnTo>
                <a:lnTo>
                  <a:pt x="17" y="2242"/>
                </a:lnTo>
                <a:lnTo>
                  <a:pt x="8" y="2268"/>
                </a:lnTo>
                <a:lnTo>
                  <a:pt x="0" y="2295"/>
                </a:lnTo>
                <a:lnTo>
                  <a:pt x="0" y="2321"/>
                </a:lnTo>
                <a:lnTo>
                  <a:pt x="0" y="234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9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0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1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2" name=""/>
          <p:cNvSpPr/>
          <p:nvPr/>
        </p:nvSpPr>
        <p:spPr>
          <a:xfrm>
            <a:off x="1538280" y="3452760"/>
            <a:ext cx="154080" cy="4752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3" name=""/>
          <p:cNvSpPr/>
          <p:nvPr/>
        </p:nvSpPr>
        <p:spPr>
          <a:xfrm>
            <a:off x="1449360" y="4295880"/>
            <a:ext cx="243000" cy="7632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4" name=""/>
          <p:cNvSpPr/>
          <p:nvPr/>
        </p:nvSpPr>
        <p:spPr>
          <a:xfrm>
            <a:off x="1643040" y="3473280"/>
            <a:ext cx="84132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5" name=""/>
          <p:cNvGrpSpPr/>
          <p:nvPr/>
        </p:nvGrpSpPr>
        <p:grpSpPr>
          <a:xfrm>
            <a:off x="2063880" y="3306600"/>
            <a:ext cx="0" cy="1198800"/>
            <a:chOff x="2063880" y="3306600"/>
            <a:chExt cx="0" cy="1198800"/>
          </a:xfrm>
        </p:grpSpPr>
        <p:sp>
          <p:nvSpPr>
            <p:cNvPr id="8416" name=""/>
            <p:cNvSpPr/>
            <p:nvPr/>
          </p:nvSpPr>
          <p:spPr>
            <a:xfrm>
              <a:off x="2063880" y="38419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2063880" y="40402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2063880" y="3306600"/>
              <a:ext cx="0" cy="443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9" name=""/>
          <p:cNvSpPr/>
          <p:nvPr/>
        </p:nvSpPr>
        <p:spPr>
          <a:xfrm>
            <a:off x="2489040" y="3432240"/>
            <a:ext cx="200160" cy="698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0" name=""/>
          <p:cNvSpPr/>
          <p:nvPr/>
        </p:nvSpPr>
        <p:spPr>
          <a:xfrm>
            <a:off x="2486160" y="4289400"/>
            <a:ext cx="109440" cy="507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21" name=""/>
          <p:cNvGrpSpPr/>
          <p:nvPr/>
        </p:nvGrpSpPr>
        <p:grpSpPr>
          <a:xfrm>
            <a:off x="4068720" y="3319560"/>
            <a:ext cx="0" cy="1198440"/>
            <a:chOff x="4068720" y="3319560"/>
            <a:chExt cx="0" cy="1198440"/>
          </a:xfrm>
        </p:grpSpPr>
        <p:sp>
          <p:nvSpPr>
            <p:cNvPr id="8422" name=""/>
            <p:cNvSpPr/>
            <p:nvPr/>
          </p:nvSpPr>
          <p:spPr>
            <a:xfrm>
              <a:off x="4068720" y="38545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3" name=""/>
            <p:cNvSpPr/>
            <p:nvPr/>
          </p:nvSpPr>
          <p:spPr>
            <a:xfrm>
              <a:off x="4068720" y="40528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4" name=""/>
            <p:cNvSpPr/>
            <p:nvPr/>
          </p:nvSpPr>
          <p:spPr>
            <a:xfrm>
              <a:off x="4068720" y="33195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5" name=""/>
          <p:cNvSpPr/>
          <p:nvPr/>
        </p:nvSpPr>
        <p:spPr>
          <a:xfrm>
            <a:off x="3465360" y="3727440"/>
            <a:ext cx="106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6" name=""/>
          <p:cNvSpPr/>
          <p:nvPr/>
        </p:nvSpPr>
        <p:spPr>
          <a:xfrm>
            <a:off x="3510000" y="4071960"/>
            <a:ext cx="61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7" name=""/>
          <p:cNvSpPr/>
          <p:nvPr/>
        </p:nvSpPr>
        <p:spPr>
          <a:xfrm>
            <a:off x="4300560" y="344016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8" name=""/>
          <p:cNvSpPr/>
          <p:nvPr/>
        </p:nvSpPr>
        <p:spPr>
          <a:xfrm>
            <a:off x="4548240" y="3476520"/>
            <a:ext cx="133560" cy="838440"/>
          </a:xfrm>
          <a:custGeom>
            <a:avLst/>
            <a:gdLst/>
            <a:ahLst/>
            <a:rect l="0" t="0" r="r" b="b"/>
            <a:pathLst>
              <a:path fill="none" w="371" h="2329">
                <a:moveTo>
                  <a:pt x="331" y="0"/>
                </a:moveTo>
                <a:lnTo>
                  <a:pt x="344" y="39"/>
                </a:lnTo>
                <a:lnTo>
                  <a:pt x="358" y="79"/>
                </a:lnTo>
                <a:lnTo>
                  <a:pt x="371" y="119"/>
                </a:lnTo>
                <a:lnTo>
                  <a:pt x="371" y="185"/>
                </a:lnTo>
                <a:lnTo>
                  <a:pt x="358" y="251"/>
                </a:lnTo>
                <a:lnTo>
                  <a:pt x="344" y="291"/>
                </a:lnTo>
                <a:lnTo>
                  <a:pt x="331" y="343"/>
                </a:lnTo>
                <a:lnTo>
                  <a:pt x="318" y="383"/>
                </a:lnTo>
                <a:lnTo>
                  <a:pt x="305" y="436"/>
                </a:lnTo>
                <a:lnTo>
                  <a:pt x="305" y="489"/>
                </a:lnTo>
                <a:lnTo>
                  <a:pt x="305" y="529"/>
                </a:lnTo>
                <a:lnTo>
                  <a:pt x="305" y="568"/>
                </a:lnTo>
                <a:lnTo>
                  <a:pt x="292" y="608"/>
                </a:lnTo>
                <a:lnTo>
                  <a:pt x="265" y="648"/>
                </a:lnTo>
                <a:lnTo>
                  <a:pt x="252" y="687"/>
                </a:lnTo>
                <a:lnTo>
                  <a:pt x="239" y="727"/>
                </a:lnTo>
                <a:lnTo>
                  <a:pt x="225" y="780"/>
                </a:lnTo>
                <a:lnTo>
                  <a:pt x="212" y="820"/>
                </a:lnTo>
                <a:lnTo>
                  <a:pt x="199" y="899"/>
                </a:lnTo>
                <a:lnTo>
                  <a:pt x="199" y="939"/>
                </a:lnTo>
                <a:lnTo>
                  <a:pt x="199" y="992"/>
                </a:lnTo>
                <a:lnTo>
                  <a:pt x="199" y="1031"/>
                </a:lnTo>
                <a:lnTo>
                  <a:pt x="199" y="1098"/>
                </a:lnTo>
                <a:lnTo>
                  <a:pt x="199" y="1150"/>
                </a:lnTo>
                <a:lnTo>
                  <a:pt x="186" y="1191"/>
                </a:lnTo>
                <a:lnTo>
                  <a:pt x="171" y="1231"/>
                </a:lnTo>
                <a:lnTo>
                  <a:pt x="145" y="1270"/>
                </a:lnTo>
                <a:lnTo>
                  <a:pt x="145" y="1337"/>
                </a:lnTo>
                <a:lnTo>
                  <a:pt x="132" y="1390"/>
                </a:lnTo>
                <a:lnTo>
                  <a:pt x="119" y="1442"/>
                </a:lnTo>
                <a:lnTo>
                  <a:pt x="119" y="1522"/>
                </a:lnTo>
                <a:lnTo>
                  <a:pt x="119" y="1562"/>
                </a:lnTo>
                <a:lnTo>
                  <a:pt x="119" y="1614"/>
                </a:lnTo>
                <a:lnTo>
                  <a:pt x="105" y="1654"/>
                </a:lnTo>
                <a:lnTo>
                  <a:pt x="79" y="1694"/>
                </a:lnTo>
                <a:lnTo>
                  <a:pt x="66" y="1734"/>
                </a:lnTo>
                <a:lnTo>
                  <a:pt x="52" y="1800"/>
                </a:lnTo>
                <a:lnTo>
                  <a:pt x="52" y="1839"/>
                </a:lnTo>
                <a:lnTo>
                  <a:pt x="39" y="1892"/>
                </a:lnTo>
                <a:lnTo>
                  <a:pt x="39" y="1932"/>
                </a:lnTo>
                <a:lnTo>
                  <a:pt x="26" y="1972"/>
                </a:lnTo>
                <a:lnTo>
                  <a:pt x="26" y="2025"/>
                </a:lnTo>
                <a:lnTo>
                  <a:pt x="13" y="2064"/>
                </a:lnTo>
                <a:lnTo>
                  <a:pt x="13" y="2104"/>
                </a:lnTo>
                <a:lnTo>
                  <a:pt x="13" y="2170"/>
                </a:lnTo>
                <a:lnTo>
                  <a:pt x="0" y="2210"/>
                </a:lnTo>
                <a:lnTo>
                  <a:pt x="0" y="2249"/>
                </a:lnTo>
                <a:lnTo>
                  <a:pt x="0" y="2316"/>
                </a:lnTo>
                <a:lnTo>
                  <a:pt x="13" y="232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9" name=""/>
          <p:cNvSpPr/>
          <p:nvPr/>
        </p:nvSpPr>
        <p:spPr>
          <a:xfrm>
            <a:off x="3540240" y="3476520"/>
            <a:ext cx="68760" cy="841680"/>
          </a:xfrm>
          <a:custGeom>
            <a:avLst/>
            <a:gdLst/>
            <a:ahLst/>
            <a:rect l="0" t="0" r="r" b="b"/>
            <a:pathLst>
              <a:path fill="none" w="191" h="2338">
                <a:moveTo>
                  <a:pt x="0" y="0"/>
                </a:moveTo>
                <a:lnTo>
                  <a:pt x="4" y="52"/>
                </a:lnTo>
                <a:lnTo>
                  <a:pt x="35" y="145"/>
                </a:lnTo>
                <a:lnTo>
                  <a:pt x="160" y="299"/>
                </a:lnTo>
                <a:lnTo>
                  <a:pt x="191" y="392"/>
                </a:lnTo>
                <a:lnTo>
                  <a:pt x="128" y="485"/>
                </a:lnTo>
                <a:lnTo>
                  <a:pt x="98" y="665"/>
                </a:lnTo>
                <a:lnTo>
                  <a:pt x="67" y="820"/>
                </a:lnTo>
                <a:lnTo>
                  <a:pt x="67" y="1036"/>
                </a:lnTo>
                <a:lnTo>
                  <a:pt x="67" y="1128"/>
                </a:lnTo>
                <a:lnTo>
                  <a:pt x="67" y="1253"/>
                </a:lnTo>
                <a:lnTo>
                  <a:pt x="67" y="1345"/>
                </a:lnTo>
                <a:lnTo>
                  <a:pt x="67" y="1438"/>
                </a:lnTo>
                <a:lnTo>
                  <a:pt x="67" y="1531"/>
                </a:lnTo>
                <a:lnTo>
                  <a:pt x="98" y="1623"/>
                </a:lnTo>
                <a:lnTo>
                  <a:pt x="98" y="1716"/>
                </a:lnTo>
                <a:lnTo>
                  <a:pt x="98" y="1839"/>
                </a:lnTo>
                <a:lnTo>
                  <a:pt x="98" y="1989"/>
                </a:lnTo>
                <a:lnTo>
                  <a:pt x="160" y="2082"/>
                </a:lnTo>
                <a:lnTo>
                  <a:pt x="191" y="2174"/>
                </a:lnTo>
                <a:lnTo>
                  <a:pt x="191" y="2267"/>
                </a:lnTo>
                <a:lnTo>
                  <a:pt x="142" y="233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0" name=""/>
          <p:cNvSpPr/>
          <p:nvPr/>
        </p:nvSpPr>
        <p:spPr>
          <a:xfrm>
            <a:off x="3546360" y="3444840"/>
            <a:ext cx="339840" cy="4140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1" name=""/>
          <p:cNvSpPr/>
          <p:nvPr/>
        </p:nvSpPr>
        <p:spPr>
          <a:xfrm>
            <a:off x="4228920" y="3432240"/>
            <a:ext cx="432000" cy="70200"/>
          </a:xfrm>
          <a:custGeom>
            <a:avLst/>
            <a:gdLst/>
            <a:ahLst/>
            <a:rect l="0" t="0" r="r" b="b"/>
            <a:pathLst>
              <a:path w="1200" h="195">
                <a:moveTo>
                  <a:pt x="0" y="61"/>
                </a:moveTo>
                <a:lnTo>
                  <a:pt x="134" y="195"/>
                </a:lnTo>
                <a:lnTo>
                  <a:pt x="1200" y="195"/>
                </a:lnTo>
                <a:lnTo>
                  <a:pt x="1191" y="0"/>
                </a:lnTo>
                <a:lnTo>
                  <a:pt x="0" y="61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2" name=""/>
          <p:cNvSpPr/>
          <p:nvPr/>
        </p:nvSpPr>
        <p:spPr>
          <a:xfrm>
            <a:off x="3578400" y="3683160"/>
            <a:ext cx="66960" cy="63720"/>
          </a:xfrm>
          <a:custGeom>
            <a:avLst/>
            <a:gdLst/>
            <a:ahLst/>
            <a:rect l="0" t="0" r="r" b="b"/>
            <a:pathLst>
              <a:path w="186" h="177">
                <a:moveTo>
                  <a:pt x="26" y="70"/>
                </a:moveTo>
                <a:lnTo>
                  <a:pt x="0" y="168"/>
                </a:lnTo>
                <a:lnTo>
                  <a:pt x="186" y="177"/>
                </a:lnTo>
                <a:lnTo>
                  <a:pt x="168" y="0"/>
                </a:lnTo>
                <a:lnTo>
                  <a:pt x="26" y="7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3" name=""/>
          <p:cNvSpPr/>
          <p:nvPr/>
        </p:nvSpPr>
        <p:spPr>
          <a:xfrm>
            <a:off x="3584520" y="4048200"/>
            <a:ext cx="70200" cy="60840"/>
          </a:xfrm>
          <a:custGeom>
            <a:avLst/>
            <a:gdLst/>
            <a:ahLst/>
            <a:rect l="0" t="0" r="r" b="b"/>
            <a:pathLst>
              <a:path w="195" h="169">
                <a:moveTo>
                  <a:pt x="0" y="0"/>
                </a:moveTo>
                <a:lnTo>
                  <a:pt x="0" y="169"/>
                </a:lnTo>
                <a:lnTo>
                  <a:pt x="195" y="124"/>
                </a:lnTo>
                <a:lnTo>
                  <a:pt x="150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4" name=""/>
          <p:cNvSpPr/>
          <p:nvPr/>
        </p:nvSpPr>
        <p:spPr>
          <a:xfrm>
            <a:off x="3562200" y="4276800"/>
            <a:ext cx="356040" cy="82800"/>
          </a:xfrm>
          <a:custGeom>
            <a:avLst/>
            <a:gdLst/>
            <a:ahLst/>
            <a:rect l="0" t="0" r="r" b="b"/>
            <a:pathLst>
              <a:path w="989" h="230">
                <a:moveTo>
                  <a:pt x="167" y="44"/>
                </a:moveTo>
                <a:lnTo>
                  <a:pt x="0" y="230"/>
                </a:lnTo>
                <a:lnTo>
                  <a:pt x="989" y="195"/>
                </a:lnTo>
                <a:lnTo>
                  <a:pt x="778" y="0"/>
                </a:lnTo>
                <a:lnTo>
                  <a:pt x="167" y="44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5" name=""/>
          <p:cNvSpPr/>
          <p:nvPr/>
        </p:nvSpPr>
        <p:spPr>
          <a:xfrm>
            <a:off x="4489560" y="3689280"/>
            <a:ext cx="149760" cy="98640"/>
          </a:xfrm>
          <a:custGeom>
            <a:avLst/>
            <a:gdLst/>
            <a:ahLst/>
            <a:rect l="0" t="0" r="r" b="b"/>
            <a:pathLst>
              <a:path w="416" h="274">
                <a:moveTo>
                  <a:pt x="0" y="26"/>
                </a:moveTo>
                <a:lnTo>
                  <a:pt x="44" y="274"/>
                </a:lnTo>
                <a:lnTo>
                  <a:pt x="363" y="186"/>
                </a:lnTo>
                <a:lnTo>
                  <a:pt x="416" y="0"/>
                </a:lnTo>
                <a:lnTo>
                  <a:pt x="0" y="26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6" name=""/>
          <p:cNvSpPr/>
          <p:nvPr/>
        </p:nvSpPr>
        <p:spPr>
          <a:xfrm>
            <a:off x="4492800" y="4051440"/>
            <a:ext cx="82800" cy="101880"/>
          </a:xfrm>
          <a:custGeom>
            <a:avLst/>
            <a:gdLst/>
            <a:ahLst/>
            <a:rect l="0" t="0" r="r" b="b"/>
            <a:pathLst>
              <a:path w="230" h="283">
                <a:moveTo>
                  <a:pt x="8" y="0"/>
                </a:moveTo>
                <a:lnTo>
                  <a:pt x="0" y="283"/>
                </a:lnTo>
                <a:lnTo>
                  <a:pt x="203" y="123"/>
                </a:lnTo>
                <a:lnTo>
                  <a:pt x="230" y="0"/>
                </a:lnTo>
                <a:lnTo>
                  <a:pt x="8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7" name=""/>
          <p:cNvSpPr/>
          <p:nvPr/>
        </p:nvSpPr>
        <p:spPr>
          <a:xfrm>
            <a:off x="4181400" y="4280040"/>
            <a:ext cx="359280" cy="105120"/>
          </a:xfrm>
          <a:custGeom>
            <a:avLst/>
            <a:gdLst/>
            <a:ahLst/>
            <a:rect l="0" t="0" r="r" b="b"/>
            <a:pathLst>
              <a:path w="998" h="292">
                <a:moveTo>
                  <a:pt x="283" y="35"/>
                </a:moveTo>
                <a:lnTo>
                  <a:pt x="0" y="292"/>
                </a:lnTo>
                <a:lnTo>
                  <a:pt x="998" y="239"/>
                </a:lnTo>
                <a:lnTo>
                  <a:pt x="980" y="0"/>
                </a:lnTo>
                <a:lnTo>
                  <a:pt x="283" y="3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8" name=""/>
          <p:cNvSpPr/>
          <p:nvPr/>
        </p:nvSpPr>
        <p:spPr>
          <a:xfrm>
            <a:off x="3848040" y="4257720"/>
            <a:ext cx="457200" cy="14292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9" name=""/>
          <p:cNvSpPr/>
          <p:nvPr/>
        </p:nvSpPr>
        <p:spPr>
          <a:xfrm>
            <a:off x="3733920" y="3400560"/>
            <a:ext cx="581040" cy="13320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0" name=""/>
          <p:cNvGrpSpPr/>
          <p:nvPr/>
        </p:nvGrpSpPr>
        <p:grpSpPr>
          <a:xfrm>
            <a:off x="4068720" y="3319560"/>
            <a:ext cx="0" cy="1198440"/>
            <a:chOff x="4068720" y="3319560"/>
            <a:chExt cx="0" cy="1198440"/>
          </a:xfrm>
        </p:grpSpPr>
        <p:sp>
          <p:nvSpPr>
            <p:cNvPr id="8441" name=""/>
            <p:cNvSpPr/>
            <p:nvPr/>
          </p:nvSpPr>
          <p:spPr>
            <a:xfrm>
              <a:off x="4068720" y="38545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4068720" y="40528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4068720" y="33195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4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445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51" name=""/>
          <p:cNvSpPr/>
          <p:nvPr/>
        </p:nvSpPr>
        <p:spPr>
          <a:xfrm>
            <a:off x="3141720" y="3487320"/>
            <a:ext cx="302400" cy="240120"/>
          </a:xfrm>
          <a:custGeom>
            <a:avLst/>
            <a:gdLst/>
            <a:ahLst/>
            <a:rect l="0" t="0" r="r" b="b"/>
            <a:pathLst>
              <a:path fill="none" w="840" h="667">
                <a:moveTo>
                  <a:pt x="0" y="0"/>
                </a:moveTo>
                <a:lnTo>
                  <a:pt x="0" y="0"/>
                </a:lnTo>
                <a:cubicBezTo>
                  <a:pt x="12" y="105"/>
                  <a:pt x="51" y="206"/>
                  <a:pt x="113" y="297"/>
                </a:cubicBezTo>
                <a:cubicBezTo>
                  <a:pt x="191" y="410"/>
                  <a:pt x="302" y="503"/>
                  <a:pt x="435" y="568"/>
                </a:cubicBezTo>
                <a:cubicBezTo>
                  <a:pt x="559" y="628"/>
                  <a:pt x="698" y="662"/>
                  <a:pt x="840" y="66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2" name=""/>
          <p:cNvSpPr/>
          <p:nvPr/>
        </p:nvSpPr>
        <p:spPr>
          <a:xfrm>
            <a:off x="3154320" y="4100400"/>
            <a:ext cx="374400" cy="232200"/>
          </a:xfrm>
          <a:custGeom>
            <a:avLst/>
            <a:gdLst/>
            <a:ahLst/>
            <a:rect l="0" t="0" r="r" b="b"/>
            <a:pathLst>
              <a:path fill="none" w="1040" h="645">
                <a:moveTo>
                  <a:pt x="0" y="645"/>
                </a:moveTo>
                <a:lnTo>
                  <a:pt x="0" y="645"/>
                </a:lnTo>
                <a:cubicBezTo>
                  <a:pt x="184" y="645"/>
                  <a:pt x="364" y="612"/>
                  <a:pt x="523" y="549"/>
                </a:cubicBezTo>
                <a:cubicBezTo>
                  <a:pt x="682" y="485"/>
                  <a:pt x="814" y="394"/>
                  <a:pt x="906" y="285"/>
                </a:cubicBezTo>
                <a:cubicBezTo>
                  <a:pt x="979" y="197"/>
                  <a:pt x="1025" y="100"/>
                  <a:pt x="104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3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4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5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6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7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8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9" name=""/>
          <p:cNvSpPr/>
          <p:nvPr/>
        </p:nvSpPr>
        <p:spPr>
          <a:xfrm flipV="1">
            <a:off x="254160" y="3476520"/>
            <a:ext cx="849240" cy="84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0" name=""/>
          <p:cNvSpPr/>
          <p:nvPr/>
        </p:nvSpPr>
        <p:spPr>
          <a:xfrm>
            <a:off x="1101600" y="347652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1" name=""/>
          <p:cNvSpPr/>
          <p:nvPr/>
        </p:nvSpPr>
        <p:spPr>
          <a:xfrm>
            <a:off x="254160" y="4317840"/>
            <a:ext cx="588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2" name=""/>
          <p:cNvSpPr/>
          <p:nvPr/>
        </p:nvSpPr>
        <p:spPr>
          <a:xfrm flipH="1">
            <a:off x="4494240" y="372600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3" name=""/>
          <p:cNvSpPr/>
          <p:nvPr/>
        </p:nvSpPr>
        <p:spPr>
          <a:xfrm flipH="1">
            <a:off x="4491000" y="4073400"/>
            <a:ext cx="58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4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5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6" name=""/>
          <p:cNvSpPr/>
          <p:nvPr/>
        </p:nvSpPr>
        <p:spPr>
          <a:xfrm>
            <a:off x="2603520" y="3479760"/>
            <a:ext cx="105120" cy="835560"/>
          </a:xfrm>
          <a:custGeom>
            <a:avLst/>
            <a:gdLst/>
            <a:ahLst/>
            <a:rect l="0" t="0" r="r" b="b"/>
            <a:pathLst>
              <a:path fill="none" w="292" h="2321">
                <a:moveTo>
                  <a:pt x="292" y="0"/>
                </a:moveTo>
                <a:lnTo>
                  <a:pt x="292" y="0"/>
                </a:lnTo>
                <a:lnTo>
                  <a:pt x="274" y="26"/>
                </a:lnTo>
                <a:lnTo>
                  <a:pt x="274" y="52"/>
                </a:lnTo>
                <a:lnTo>
                  <a:pt x="274" y="88"/>
                </a:lnTo>
                <a:lnTo>
                  <a:pt x="274" y="132"/>
                </a:lnTo>
                <a:lnTo>
                  <a:pt x="274" y="158"/>
                </a:lnTo>
                <a:lnTo>
                  <a:pt x="274" y="202"/>
                </a:lnTo>
                <a:lnTo>
                  <a:pt x="274" y="246"/>
                </a:lnTo>
                <a:lnTo>
                  <a:pt x="274" y="282"/>
                </a:lnTo>
                <a:lnTo>
                  <a:pt x="274" y="317"/>
                </a:lnTo>
                <a:lnTo>
                  <a:pt x="256" y="343"/>
                </a:lnTo>
                <a:lnTo>
                  <a:pt x="256" y="370"/>
                </a:lnTo>
                <a:lnTo>
                  <a:pt x="247" y="414"/>
                </a:lnTo>
                <a:lnTo>
                  <a:pt x="247" y="449"/>
                </a:lnTo>
                <a:lnTo>
                  <a:pt x="247" y="476"/>
                </a:lnTo>
                <a:lnTo>
                  <a:pt x="247" y="502"/>
                </a:lnTo>
                <a:lnTo>
                  <a:pt x="247" y="529"/>
                </a:lnTo>
                <a:lnTo>
                  <a:pt x="247" y="564"/>
                </a:lnTo>
                <a:lnTo>
                  <a:pt x="256" y="591"/>
                </a:lnTo>
                <a:lnTo>
                  <a:pt x="256" y="618"/>
                </a:lnTo>
                <a:lnTo>
                  <a:pt x="256" y="680"/>
                </a:lnTo>
                <a:lnTo>
                  <a:pt x="247" y="715"/>
                </a:lnTo>
                <a:lnTo>
                  <a:pt x="239" y="741"/>
                </a:lnTo>
                <a:lnTo>
                  <a:pt x="239" y="768"/>
                </a:lnTo>
                <a:lnTo>
                  <a:pt x="239" y="803"/>
                </a:lnTo>
                <a:lnTo>
                  <a:pt x="239" y="882"/>
                </a:lnTo>
                <a:lnTo>
                  <a:pt x="239" y="918"/>
                </a:lnTo>
                <a:lnTo>
                  <a:pt x="239" y="953"/>
                </a:lnTo>
                <a:lnTo>
                  <a:pt x="221" y="997"/>
                </a:lnTo>
                <a:lnTo>
                  <a:pt x="212" y="1041"/>
                </a:lnTo>
                <a:lnTo>
                  <a:pt x="203" y="1068"/>
                </a:lnTo>
                <a:lnTo>
                  <a:pt x="195" y="1121"/>
                </a:lnTo>
                <a:lnTo>
                  <a:pt x="186" y="1147"/>
                </a:lnTo>
                <a:lnTo>
                  <a:pt x="186" y="1191"/>
                </a:lnTo>
                <a:lnTo>
                  <a:pt x="177" y="1235"/>
                </a:lnTo>
                <a:lnTo>
                  <a:pt x="177" y="1279"/>
                </a:lnTo>
                <a:lnTo>
                  <a:pt x="177" y="1306"/>
                </a:lnTo>
                <a:lnTo>
                  <a:pt x="177" y="1350"/>
                </a:lnTo>
                <a:lnTo>
                  <a:pt x="186" y="1385"/>
                </a:lnTo>
                <a:lnTo>
                  <a:pt x="186" y="1420"/>
                </a:lnTo>
                <a:lnTo>
                  <a:pt x="186" y="1473"/>
                </a:lnTo>
                <a:lnTo>
                  <a:pt x="186" y="1535"/>
                </a:lnTo>
                <a:lnTo>
                  <a:pt x="186" y="1597"/>
                </a:lnTo>
                <a:lnTo>
                  <a:pt x="186" y="1632"/>
                </a:lnTo>
                <a:lnTo>
                  <a:pt x="186" y="1667"/>
                </a:lnTo>
                <a:lnTo>
                  <a:pt x="177" y="1694"/>
                </a:lnTo>
                <a:lnTo>
                  <a:pt x="168" y="1720"/>
                </a:lnTo>
                <a:lnTo>
                  <a:pt x="141" y="1748"/>
                </a:lnTo>
                <a:lnTo>
                  <a:pt x="132" y="1774"/>
                </a:lnTo>
                <a:lnTo>
                  <a:pt x="123" y="1801"/>
                </a:lnTo>
                <a:lnTo>
                  <a:pt x="97" y="1871"/>
                </a:lnTo>
                <a:lnTo>
                  <a:pt x="97" y="1898"/>
                </a:lnTo>
                <a:lnTo>
                  <a:pt x="97" y="1924"/>
                </a:lnTo>
                <a:lnTo>
                  <a:pt x="97" y="1968"/>
                </a:lnTo>
                <a:lnTo>
                  <a:pt x="97" y="1995"/>
                </a:lnTo>
                <a:lnTo>
                  <a:pt x="105" y="2021"/>
                </a:lnTo>
                <a:lnTo>
                  <a:pt x="97" y="2048"/>
                </a:lnTo>
                <a:lnTo>
                  <a:pt x="70" y="2056"/>
                </a:lnTo>
                <a:lnTo>
                  <a:pt x="70" y="2118"/>
                </a:lnTo>
                <a:lnTo>
                  <a:pt x="52" y="2162"/>
                </a:lnTo>
                <a:lnTo>
                  <a:pt x="44" y="2189"/>
                </a:lnTo>
                <a:lnTo>
                  <a:pt x="35" y="2215"/>
                </a:lnTo>
                <a:lnTo>
                  <a:pt x="17" y="2259"/>
                </a:lnTo>
                <a:lnTo>
                  <a:pt x="8" y="2286"/>
                </a:lnTo>
                <a:lnTo>
                  <a:pt x="8" y="2312"/>
                </a:lnTo>
                <a:lnTo>
                  <a:pt x="0" y="232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7" name=""/>
          <p:cNvSpPr/>
          <p:nvPr/>
        </p:nvSpPr>
        <p:spPr>
          <a:xfrm>
            <a:off x="1441440" y="3473280"/>
            <a:ext cx="92520" cy="844920"/>
          </a:xfrm>
          <a:custGeom>
            <a:avLst/>
            <a:gdLst/>
            <a:ahLst/>
            <a:rect l="0" t="0" r="r" b="b"/>
            <a:pathLst>
              <a:path fill="none" w="257" h="2347">
                <a:moveTo>
                  <a:pt x="257" y="0"/>
                </a:moveTo>
                <a:lnTo>
                  <a:pt x="248" y="44"/>
                </a:lnTo>
                <a:lnTo>
                  <a:pt x="240" y="97"/>
                </a:lnTo>
                <a:lnTo>
                  <a:pt x="222" y="176"/>
                </a:lnTo>
                <a:lnTo>
                  <a:pt x="222" y="229"/>
                </a:lnTo>
                <a:lnTo>
                  <a:pt x="222" y="282"/>
                </a:lnTo>
                <a:lnTo>
                  <a:pt x="222" y="317"/>
                </a:lnTo>
                <a:lnTo>
                  <a:pt x="222" y="361"/>
                </a:lnTo>
                <a:lnTo>
                  <a:pt x="168" y="414"/>
                </a:lnTo>
                <a:lnTo>
                  <a:pt x="159" y="476"/>
                </a:lnTo>
                <a:lnTo>
                  <a:pt x="159" y="502"/>
                </a:lnTo>
                <a:lnTo>
                  <a:pt x="150" y="529"/>
                </a:lnTo>
                <a:lnTo>
                  <a:pt x="150" y="618"/>
                </a:lnTo>
                <a:lnTo>
                  <a:pt x="150" y="644"/>
                </a:lnTo>
                <a:lnTo>
                  <a:pt x="150" y="671"/>
                </a:lnTo>
                <a:lnTo>
                  <a:pt x="150" y="715"/>
                </a:lnTo>
                <a:lnTo>
                  <a:pt x="150" y="830"/>
                </a:lnTo>
                <a:lnTo>
                  <a:pt x="150" y="891"/>
                </a:lnTo>
                <a:lnTo>
                  <a:pt x="142" y="935"/>
                </a:lnTo>
                <a:lnTo>
                  <a:pt x="142" y="979"/>
                </a:lnTo>
                <a:lnTo>
                  <a:pt x="142" y="1015"/>
                </a:lnTo>
                <a:lnTo>
                  <a:pt x="142" y="1041"/>
                </a:lnTo>
                <a:lnTo>
                  <a:pt x="133" y="1103"/>
                </a:lnTo>
                <a:lnTo>
                  <a:pt x="124" y="1165"/>
                </a:lnTo>
                <a:lnTo>
                  <a:pt x="98" y="1235"/>
                </a:lnTo>
                <a:lnTo>
                  <a:pt x="89" y="1297"/>
                </a:lnTo>
                <a:lnTo>
                  <a:pt x="44" y="1473"/>
                </a:lnTo>
                <a:lnTo>
                  <a:pt x="35" y="1579"/>
                </a:lnTo>
                <a:lnTo>
                  <a:pt x="35" y="1641"/>
                </a:lnTo>
                <a:lnTo>
                  <a:pt x="26" y="1898"/>
                </a:lnTo>
                <a:lnTo>
                  <a:pt x="26" y="1959"/>
                </a:lnTo>
                <a:lnTo>
                  <a:pt x="26" y="1986"/>
                </a:lnTo>
                <a:lnTo>
                  <a:pt x="44" y="2012"/>
                </a:lnTo>
                <a:lnTo>
                  <a:pt x="52" y="2048"/>
                </a:lnTo>
                <a:lnTo>
                  <a:pt x="52" y="2074"/>
                </a:lnTo>
                <a:lnTo>
                  <a:pt x="52" y="2109"/>
                </a:lnTo>
                <a:lnTo>
                  <a:pt x="35" y="2136"/>
                </a:lnTo>
                <a:lnTo>
                  <a:pt x="35" y="2162"/>
                </a:lnTo>
                <a:lnTo>
                  <a:pt x="26" y="2189"/>
                </a:lnTo>
                <a:lnTo>
                  <a:pt x="17" y="2215"/>
                </a:lnTo>
                <a:lnTo>
                  <a:pt x="17" y="2242"/>
                </a:lnTo>
                <a:lnTo>
                  <a:pt x="8" y="2268"/>
                </a:lnTo>
                <a:lnTo>
                  <a:pt x="0" y="2295"/>
                </a:lnTo>
                <a:lnTo>
                  <a:pt x="0" y="2321"/>
                </a:lnTo>
                <a:lnTo>
                  <a:pt x="0" y="234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8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9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0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1" name=""/>
          <p:cNvSpPr/>
          <p:nvPr/>
        </p:nvSpPr>
        <p:spPr>
          <a:xfrm>
            <a:off x="1538280" y="3452760"/>
            <a:ext cx="154080" cy="4752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2" name=""/>
          <p:cNvSpPr/>
          <p:nvPr/>
        </p:nvSpPr>
        <p:spPr>
          <a:xfrm>
            <a:off x="1449360" y="4295880"/>
            <a:ext cx="243000" cy="7632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3" name=""/>
          <p:cNvSpPr/>
          <p:nvPr/>
        </p:nvSpPr>
        <p:spPr>
          <a:xfrm>
            <a:off x="1643040" y="3473280"/>
            <a:ext cx="841320" cy="84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4" name=""/>
          <p:cNvGrpSpPr/>
          <p:nvPr/>
        </p:nvGrpSpPr>
        <p:grpSpPr>
          <a:xfrm>
            <a:off x="2063880" y="3306600"/>
            <a:ext cx="0" cy="1198800"/>
            <a:chOff x="2063880" y="3306600"/>
            <a:chExt cx="0" cy="1198800"/>
          </a:xfrm>
        </p:grpSpPr>
        <p:sp>
          <p:nvSpPr>
            <p:cNvPr id="8475" name=""/>
            <p:cNvSpPr/>
            <p:nvPr/>
          </p:nvSpPr>
          <p:spPr>
            <a:xfrm>
              <a:off x="2063880" y="38419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2063880" y="40402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2063880" y="3306600"/>
              <a:ext cx="0" cy="443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78" name=""/>
          <p:cNvSpPr/>
          <p:nvPr/>
        </p:nvSpPr>
        <p:spPr>
          <a:xfrm>
            <a:off x="2489040" y="3432240"/>
            <a:ext cx="200160" cy="698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9" name=""/>
          <p:cNvSpPr/>
          <p:nvPr/>
        </p:nvSpPr>
        <p:spPr>
          <a:xfrm>
            <a:off x="2486160" y="4289400"/>
            <a:ext cx="109440" cy="507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0" name=""/>
          <p:cNvGrpSpPr/>
          <p:nvPr/>
        </p:nvGrpSpPr>
        <p:grpSpPr>
          <a:xfrm>
            <a:off x="4068720" y="3319560"/>
            <a:ext cx="0" cy="1198440"/>
            <a:chOff x="4068720" y="3319560"/>
            <a:chExt cx="0" cy="1198440"/>
          </a:xfrm>
        </p:grpSpPr>
        <p:sp>
          <p:nvSpPr>
            <p:cNvPr id="8481" name=""/>
            <p:cNvSpPr/>
            <p:nvPr/>
          </p:nvSpPr>
          <p:spPr>
            <a:xfrm>
              <a:off x="4068720" y="38545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2" name=""/>
            <p:cNvSpPr/>
            <p:nvPr/>
          </p:nvSpPr>
          <p:spPr>
            <a:xfrm>
              <a:off x="4068720" y="40528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3" name=""/>
            <p:cNvSpPr/>
            <p:nvPr/>
          </p:nvSpPr>
          <p:spPr>
            <a:xfrm>
              <a:off x="4068720" y="33195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4" name=""/>
          <p:cNvSpPr/>
          <p:nvPr/>
        </p:nvSpPr>
        <p:spPr>
          <a:xfrm>
            <a:off x="3465360" y="3727440"/>
            <a:ext cx="1076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5" name=""/>
          <p:cNvSpPr/>
          <p:nvPr/>
        </p:nvSpPr>
        <p:spPr>
          <a:xfrm>
            <a:off x="3510000" y="4071960"/>
            <a:ext cx="1062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6" name=""/>
          <p:cNvSpPr/>
          <p:nvPr/>
        </p:nvSpPr>
        <p:spPr>
          <a:xfrm>
            <a:off x="4300560" y="3440160"/>
            <a:ext cx="276120" cy="63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7" name=""/>
          <p:cNvSpPr/>
          <p:nvPr/>
        </p:nvSpPr>
        <p:spPr>
          <a:xfrm>
            <a:off x="4548240" y="3476520"/>
            <a:ext cx="133560" cy="838440"/>
          </a:xfrm>
          <a:custGeom>
            <a:avLst/>
            <a:gdLst/>
            <a:ahLst/>
            <a:rect l="0" t="0" r="r" b="b"/>
            <a:pathLst>
              <a:path fill="none" w="371" h="2329">
                <a:moveTo>
                  <a:pt x="331" y="0"/>
                </a:moveTo>
                <a:lnTo>
                  <a:pt x="344" y="39"/>
                </a:lnTo>
                <a:lnTo>
                  <a:pt x="358" y="79"/>
                </a:lnTo>
                <a:lnTo>
                  <a:pt x="371" y="119"/>
                </a:lnTo>
                <a:lnTo>
                  <a:pt x="371" y="185"/>
                </a:lnTo>
                <a:lnTo>
                  <a:pt x="358" y="251"/>
                </a:lnTo>
                <a:lnTo>
                  <a:pt x="344" y="291"/>
                </a:lnTo>
                <a:lnTo>
                  <a:pt x="331" y="343"/>
                </a:lnTo>
                <a:lnTo>
                  <a:pt x="318" y="383"/>
                </a:lnTo>
                <a:lnTo>
                  <a:pt x="305" y="436"/>
                </a:lnTo>
                <a:lnTo>
                  <a:pt x="305" y="489"/>
                </a:lnTo>
                <a:lnTo>
                  <a:pt x="305" y="529"/>
                </a:lnTo>
                <a:lnTo>
                  <a:pt x="305" y="568"/>
                </a:lnTo>
                <a:lnTo>
                  <a:pt x="292" y="608"/>
                </a:lnTo>
                <a:lnTo>
                  <a:pt x="265" y="648"/>
                </a:lnTo>
                <a:lnTo>
                  <a:pt x="252" y="687"/>
                </a:lnTo>
                <a:lnTo>
                  <a:pt x="239" y="727"/>
                </a:lnTo>
                <a:lnTo>
                  <a:pt x="225" y="780"/>
                </a:lnTo>
                <a:lnTo>
                  <a:pt x="212" y="820"/>
                </a:lnTo>
                <a:lnTo>
                  <a:pt x="199" y="899"/>
                </a:lnTo>
                <a:lnTo>
                  <a:pt x="199" y="939"/>
                </a:lnTo>
                <a:lnTo>
                  <a:pt x="199" y="992"/>
                </a:lnTo>
                <a:lnTo>
                  <a:pt x="199" y="1031"/>
                </a:lnTo>
                <a:lnTo>
                  <a:pt x="199" y="1098"/>
                </a:lnTo>
                <a:lnTo>
                  <a:pt x="199" y="1150"/>
                </a:lnTo>
                <a:lnTo>
                  <a:pt x="186" y="1191"/>
                </a:lnTo>
                <a:lnTo>
                  <a:pt x="171" y="1231"/>
                </a:lnTo>
                <a:lnTo>
                  <a:pt x="145" y="1270"/>
                </a:lnTo>
                <a:lnTo>
                  <a:pt x="145" y="1337"/>
                </a:lnTo>
                <a:lnTo>
                  <a:pt x="132" y="1390"/>
                </a:lnTo>
                <a:lnTo>
                  <a:pt x="119" y="1442"/>
                </a:lnTo>
                <a:lnTo>
                  <a:pt x="119" y="1522"/>
                </a:lnTo>
                <a:lnTo>
                  <a:pt x="119" y="1562"/>
                </a:lnTo>
                <a:lnTo>
                  <a:pt x="119" y="1614"/>
                </a:lnTo>
                <a:lnTo>
                  <a:pt x="105" y="1654"/>
                </a:lnTo>
                <a:lnTo>
                  <a:pt x="79" y="1694"/>
                </a:lnTo>
                <a:lnTo>
                  <a:pt x="66" y="1734"/>
                </a:lnTo>
                <a:lnTo>
                  <a:pt x="52" y="1800"/>
                </a:lnTo>
                <a:lnTo>
                  <a:pt x="52" y="1839"/>
                </a:lnTo>
                <a:lnTo>
                  <a:pt x="39" y="1892"/>
                </a:lnTo>
                <a:lnTo>
                  <a:pt x="39" y="1932"/>
                </a:lnTo>
                <a:lnTo>
                  <a:pt x="26" y="1972"/>
                </a:lnTo>
                <a:lnTo>
                  <a:pt x="26" y="2025"/>
                </a:lnTo>
                <a:lnTo>
                  <a:pt x="13" y="2064"/>
                </a:lnTo>
                <a:lnTo>
                  <a:pt x="13" y="2104"/>
                </a:lnTo>
                <a:lnTo>
                  <a:pt x="13" y="2170"/>
                </a:lnTo>
                <a:lnTo>
                  <a:pt x="0" y="2210"/>
                </a:lnTo>
                <a:lnTo>
                  <a:pt x="0" y="2249"/>
                </a:lnTo>
                <a:lnTo>
                  <a:pt x="0" y="2316"/>
                </a:lnTo>
                <a:lnTo>
                  <a:pt x="13" y="232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8" name=""/>
          <p:cNvSpPr/>
          <p:nvPr/>
        </p:nvSpPr>
        <p:spPr>
          <a:xfrm>
            <a:off x="3540240" y="3476520"/>
            <a:ext cx="68760" cy="841680"/>
          </a:xfrm>
          <a:custGeom>
            <a:avLst/>
            <a:gdLst/>
            <a:ahLst/>
            <a:rect l="0" t="0" r="r" b="b"/>
            <a:pathLst>
              <a:path fill="none" w="191" h="2338">
                <a:moveTo>
                  <a:pt x="0" y="0"/>
                </a:moveTo>
                <a:lnTo>
                  <a:pt x="4" y="52"/>
                </a:lnTo>
                <a:lnTo>
                  <a:pt x="35" y="145"/>
                </a:lnTo>
                <a:lnTo>
                  <a:pt x="160" y="299"/>
                </a:lnTo>
                <a:lnTo>
                  <a:pt x="191" y="392"/>
                </a:lnTo>
                <a:lnTo>
                  <a:pt x="128" y="485"/>
                </a:lnTo>
                <a:lnTo>
                  <a:pt x="98" y="665"/>
                </a:lnTo>
                <a:lnTo>
                  <a:pt x="67" y="820"/>
                </a:lnTo>
                <a:lnTo>
                  <a:pt x="67" y="1036"/>
                </a:lnTo>
                <a:lnTo>
                  <a:pt x="67" y="1128"/>
                </a:lnTo>
                <a:lnTo>
                  <a:pt x="67" y="1253"/>
                </a:lnTo>
                <a:lnTo>
                  <a:pt x="67" y="1345"/>
                </a:lnTo>
                <a:lnTo>
                  <a:pt x="67" y="1438"/>
                </a:lnTo>
                <a:lnTo>
                  <a:pt x="67" y="1531"/>
                </a:lnTo>
                <a:lnTo>
                  <a:pt x="98" y="1623"/>
                </a:lnTo>
                <a:lnTo>
                  <a:pt x="98" y="1716"/>
                </a:lnTo>
                <a:lnTo>
                  <a:pt x="98" y="1839"/>
                </a:lnTo>
                <a:lnTo>
                  <a:pt x="98" y="1989"/>
                </a:lnTo>
                <a:lnTo>
                  <a:pt x="160" y="2082"/>
                </a:lnTo>
                <a:lnTo>
                  <a:pt x="191" y="2174"/>
                </a:lnTo>
                <a:lnTo>
                  <a:pt x="191" y="2267"/>
                </a:lnTo>
                <a:lnTo>
                  <a:pt x="142" y="233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9" name=""/>
          <p:cNvSpPr/>
          <p:nvPr/>
        </p:nvSpPr>
        <p:spPr>
          <a:xfrm>
            <a:off x="3648240" y="3476520"/>
            <a:ext cx="844920" cy="841680"/>
          </a:xfrm>
          <a:custGeom>
            <a:avLst/>
            <a:gdLst/>
            <a:ahLst/>
            <a:rect l="0" t="0" r="r" b="b"/>
            <a:pathLst>
              <a:path w="2347" h="2338">
                <a:moveTo>
                  <a:pt x="0" y="701"/>
                </a:moveTo>
                <a:lnTo>
                  <a:pt x="0" y="1637"/>
                </a:lnTo>
                <a:lnTo>
                  <a:pt x="704" y="2338"/>
                </a:lnTo>
                <a:lnTo>
                  <a:pt x="1643" y="2338"/>
                </a:lnTo>
                <a:lnTo>
                  <a:pt x="2347" y="1637"/>
                </a:lnTo>
                <a:lnTo>
                  <a:pt x="2347" y="701"/>
                </a:lnTo>
                <a:lnTo>
                  <a:pt x="1643" y="0"/>
                </a:lnTo>
                <a:lnTo>
                  <a:pt x="704" y="0"/>
                </a:lnTo>
                <a:lnTo>
                  <a:pt x="0" y="701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0" name=""/>
          <p:cNvSpPr/>
          <p:nvPr/>
        </p:nvSpPr>
        <p:spPr>
          <a:xfrm>
            <a:off x="3546360" y="3444840"/>
            <a:ext cx="339840" cy="4140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1" name=""/>
          <p:cNvSpPr/>
          <p:nvPr/>
        </p:nvSpPr>
        <p:spPr>
          <a:xfrm>
            <a:off x="4228920" y="3432240"/>
            <a:ext cx="432000" cy="70200"/>
          </a:xfrm>
          <a:custGeom>
            <a:avLst/>
            <a:gdLst/>
            <a:ahLst/>
            <a:rect l="0" t="0" r="r" b="b"/>
            <a:pathLst>
              <a:path w="1200" h="195">
                <a:moveTo>
                  <a:pt x="0" y="61"/>
                </a:moveTo>
                <a:lnTo>
                  <a:pt x="134" y="195"/>
                </a:lnTo>
                <a:lnTo>
                  <a:pt x="1200" y="195"/>
                </a:lnTo>
                <a:lnTo>
                  <a:pt x="1191" y="0"/>
                </a:lnTo>
                <a:lnTo>
                  <a:pt x="0" y="61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92" name=""/>
          <p:cNvGrpSpPr/>
          <p:nvPr/>
        </p:nvGrpSpPr>
        <p:grpSpPr>
          <a:xfrm>
            <a:off x="4068720" y="3319560"/>
            <a:ext cx="0" cy="1198440"/>
            <a:chOff x="4068720" y="3319560"/>
            <a:chExt cx="0" cy="1198440"/>
          </a:xfrm>
        </p:grpSpPr>
        <p:sp>
          <p:nvSpPr>
            <p:cNvPr id="8493" name=""/>
            <p:cNvSpPr/>
            <p:nvPr/>
          </p:nvSpPr>
          <p:spPr>
            <a:xfrm>
              <a:off x="4068720" y="38545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4068720" y="40528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4068720" y="33195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96" name=""/>
          <p:cNvSpPr/>
          <p:nvPr/>
        </p:nvSpPr>
        <p:spPr>
          <a:xfrm>
            <a:off x="3578400" y="3683160"/>
            <a:ext cx="66960" cy="63720"/>
          </a:xfrm>
          <a:custGeom>
            <a:avLst/>
            <a:gdLst/>
            <a:ahLst/>
            <a:rect l="0" t="0" r="r" b="b"/>
            <a:pathLst>
              <a:path w="186" h="177">
                <a:moveTo>
                  <a:pt x="26" y="70"/>
                </a:moveTo>
                <a:lnTo>
                  <a:pt x="0" y="168"/>
                </a:lnTo>
                <a:lnTo>
                  <a:pt x="186" y="177"/>
                </a:lnTo>
                <a:lnTo>
                  <a:pt x="168" y="0"/>
                </a:lnTo>
                <a:lnTo>
                  <a:pt x="26" y="7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7" name=""/>
          <p:cNvSpPr/>
          <p:nvPr/>
        </p:nvSpPr>
        <p:spPr>
          <a:xfrm>
            <a:off x="3584520" y="4048200"/>
            <a:ext cx="70200" cy="60840"/>
          </a:xfrm>
          <a:custGeom>
            <a:avLst/>
            <a:gdLst/>
            <a:ahLst/>
            <a:rect l="0" t="0" r="r" b="b"/>
            <a:pathLst>
              <a:path w="195" h="169">
                <a:moveTo>
                  <a:pt x="0" y="0"/>
                </a:moveTo>
                <a:lnTo>
                  <a:pt x="0" y="169"/>
                </a:lnTo>
                <a:lnTo>
                  <a:pt x="195" y="124"/>
                </a:lnTo>
                <a:lnTo>
                  <a:pt x="150" y="0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8" name=""/>
          <p:cNvSpPr/>
          <p:nvPr/>
        </p:nvSpPr>
        <p:spPr>
          <a:xfrm>
            <a:off x="3562200" y="4276800"/>
            <a:ext cx="356040" cy="82800"/>
          </a:xfrm>
          <a:custGeom>
            <a:avLst/>
            <a:gdLst/>
            <a:ahLst/>
            <a:rect l="0" t="0" r="r" b="b"/>
            <a:pathLst>
              <a:path w="989" h="230">
                <a:moveTo>
                  <a:pt x="167" y="44"/>
                </a:moveTo>
                <a:lnTo>
                  <a:pt x="0" y="230"/>
                </a:lnTo>
                <a:lnTo>
                  <a:pt x="989" y="195"/>
                </a:lnTo>
                <a:lnTo>
                  <a:pt x="778" y="0"/>
                </a:lnTo>
                <a:lnTo>
                  <a:pt x="167" y="44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9" name=""/>
          <p:cNvSpPr/>
          <p:nvPr/>
        </p:nvSpPr>
        <p:spPr>
          <a:xfrm>
            <a:off x="4489560" y="3689280"/>
            <a:ext cx="149760" cy="98640"/>
          </a:xfrm>
          <a:custGeom>
            <a:avLst/>
            <a:gdLst/>
            <a:ahLst/>
            <a:rect l="0" t="0" r="r" b="b"/>
            <a:pathLst>
              <a:path w="416" h="274">
                <a:moveTo>
                  <a:pt x="0" y="26"/>
                </a:moveTo>
                <a:lnTo>
                  <a:pt x="44" y="274"/>
                </a:lnTo>
                <a:lnTo>
                  <a:pt x="363" y="186"/>
                </a:lnTo>
                <a:lnTo>
                  <a:pt x="416" y="0"/>
                </a:lnTo>
                <a:lnTo>
                  <a:pt x="0" y="26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0" name=""/>
          <p:cNvSpPr/>
          <p:nvPr/>
        </p:nvSpPr>
        <p:spPr>
          <a:xfrm>
            <a:off x="4492800" y="4051440"/>
            <a:ext cx="82800" cy="101880"/>
          </a:xfrm>
          <a:custGeom>
            <a:avLst/>
            <a:gdLst/>
            <a:ahLst/>
            <a:rect l="0" t="0" r="r" b="b"/>
            <a:pathLst>
              <a:path w="230" h="283">
                <a:moveTo>
                  <a:pt x="8" y="0"/>
                </a:moveTo>
                <a:lnTo>
                  <a:pt x="0" y="283"/>
                </a:lnTo>
                <a:lnTo>
                  <a:pt x="203" y="123"/>
                </a:lnTo>
                <a:lnTo>
                  <a:pt x="230" y="0"/>
                </a:lnTo>
                <a:lnTo>
                  <a:pt x="8" y="0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1" name=""/>
          <p:cNvSpPr/>
          <p:nvPr/>
        </p:nvSpPr>
        <p:spPr>
          <a:xfrm>
            <a:off x="4181400" y="4280040"/>
            <a:ext cx="359280" cy="105120"/>
          </a:xfrm>
          <a:custGeom>
            <a:avLst/>
            <a:gdLst/>
            <a:ahLst/>
            <a:rect l="0" t="0" r="r" b="b"/>
            <a:pathLst>
              <a:path w="998" h="292">
                <a:moveTo>
                  <a:pt x="283" y="35"/>
                </a:moveTo>
                <a:lnTo>
                  <a:pt x="0" y="292"/>
                </a:lnTo>
                <a:lnTo>
                  <a:pt x="998" y="239"/>
                </a:lnTo>
                <a:lnTo>
                  <a:pt x="980" y="0"/>
                </a:lnTo>
                <a:lnTo>
                  <a:pt x="283" y="3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2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3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4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505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7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11" name=""/>
          <p:cNvSpPr/>
          <p:nvPr/>
        </p:nvSpPr>
        <p:spPr>
          <a:xfrm>
            <a:off x="3141720" y="3487320"/>
            <a:ext cx="302400" cy="240120"/>
          </a:xfrm>
          <a:custGeom>
            <a:avLst/>
            <a:gdLst/>
            <a:ahLst/>
            <a:rect l="0" t="0" r="r" b="b"/>
            <a:pathLst>
              <a:path fill="none" w="840" h="667">
                <a:moveTo>
                  <a:pt x="0" y="0"/>
                </a:moveTo>
                <a:lnTo>
                  <a:pt x="0" y="0"/>
                </a:lnTo>
                <a:cubicBezTo>
                  <a:pt x="12" y="105"/>
                  <a:pt x="51" y="206"/>
                  <a:pt x="113" y="297"/>
                </a:cubicBezTo>
                <a:cubicBezTo>
                  <a:pt x="191" y="410"/>
                  <a:pt x="302" y="503"/>
                  <a:pt x="435" y="568"/>
                </a:cubicBezTo>
                <a:cubicBezTo>
                  <a:pt x="559" y="628"/>
                  <a:pt x="698" y="662"/>
                  <a:pt x="840" y="66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2" name=""/>
          <p:cNvSpPr/>
          <p:nvPr/>
        </p:nvSpPr>
        <p:spPr>
          <a:xfrm>
            <a:off x="3154320" y="4100400"/>
            <a:ext cx="374400" cy="232200"/>
          </a:xfrm>
          <a:custGeom>
            <a:avLst/>
            <a:gdLst/>
            <a:ahLst/>
            <a:rect l="0" t="0" r="r" b="b"/>
            <a:pathLst>
              <a:path fill="none" w="1040" h="645">
                <a:moveTo>
                  <a:pt x="0" y="645"/>
                </a:moveTo>
                <a:lnTo>
                  <a:pt x="0" y="645"/>
                </a:lnTo>
                <a:cubicBezTo>
                  <a:pt x="184" y="645"/>
                  <a:pt x="364" y="612"/>
                  <a:pt x="523" y="549"/>
                </a:cubicBezTo>
                <a:cubicBezTo>
                  <a:pt x="682" y="485"/>
                  <a:pt x="814" y="394"/>
                  <a:pt x="906" y="285"/>
                </a:cubicBezTo>
                <a:cubicBezTo>
                  <a:pt x="979" y="197"/>
                  <a:pt x="1025" y="100"/>
                  <a:pt x="104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3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4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5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6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7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8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254160" y="3476520"/>
            <a:ext cx="849240" cy="84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0" name=""/>
          <p:cNvSpPr/>
          <p:nvPr/>
        </p:nvSpPr>
        <p:spPr>
          <a:xfrm>
            <a:off x="1101600" y="347652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1" name=""/>
          <p:cNvSpPr/>
          <p:nvPr/>
        </p:nvSpPr>
        <p:spPr>
          <a:xfrm>
            <a:off x="254160" y="4317840"/>
            <a:ext cx="588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2" name=""/>
          <p:cNvSpPr/>
          <p:nvPr/>
        </p:nvSpPr>
        <p:spPr>
          <a:xfrm flipH="1">
            <a:off x="4494240" y="372888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3" name=""/>
          <p:cNvSpPr/>
          <p:nvPr/>
        </p:nvSpPr>
        <p:spPr>
          <a:xfrm flipH="1">
            <a:off x="4491000" y="4073400"/>
            <a:ext cx="58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4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5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6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7" name=""/>
          <p:cNvSpPr/>
          <p:nvPr/>
        </p:nvSpPr>
        <p:spPr>
          <a:xfrm>
            <a:off x="4548240" y="3476520"/>
            <a:ext cx="133560" cy="838440"/>
          </a:xfrm>
          <a:custGeom>
            <a:avLst/>
            <a:gdLst/>
            <a:ahLst/>
            <a:rect l="0" t="0" r="r" b="b"/>
            <a:pathLst>
              <a:path fill="none" w="371" h="2329">
                <a:moveTo>
                  <a:pt x="331" y="0"/>
                </a:moveTo>
                <a:lnTo>
                  <a:pt x="344" y="39"/>
                </a:lnTo>
                <a:lnTo>
                  <a:pt x="358" y="79"/>
                </a:lnTo>
                <a:lnTo>
                  <a:pt x="371" y="119"/>
                </a:lnTo>
                <a:lnTo>
                  <a:pt x="371" y="185"/>
                </a:lnTo>
                <a:lnTo>
                  <a:pt x="358" y="251"/>
                </a:lnTo>
                <a:lnTo>
                  <a:pt x="344" y="291"/>
                </a:lnTo>
                <a:lnTo>
                  <a:pt x="331" y="343"/>
                </a:lnTo>
                <a:lnTo>
                  <a:pt x="318" y="383"/>
                </a:lnTo>
                <a:lnTo>
                  <a:pt x="305" y="436"/>
                </a:lnTo>
                <a:lnTo>
                  <a:pt x="305" y="489"/>
                </a:lnTo>
                <a:lnTo>
                  <a:pt x="305" y="529"/>
                </a:lnTo>
                <a:lnTo>
                  <a:pt x="305" y="568"/>
                </a:lnTo>
                <a:lnTo>
                  <a:pt x="292" y="608"/>
                </a:lnTo>
                <a:lnTo>
                  <a:pt x="265" y="648"/>
                </a:lnTo>
                <a:lnTo>
                  <a:pt x="252" y="687"/>
                </a:lnTo>
                <a:lnTo>
                  <a:pt x="239" y="727"/>
                </a:lnTo>
                <a:lnTo>
                  <a:pt x="225" y="780"/>
                </a:lnTo>
                <a:lnTo>
                  <a:pt x="212" y="820"/>
                </a:lnTo>
                <a:lnTo>
                  <a:pt x="199" y="899"/>
                </a:lnTo>
                <a:lnTo>
                  <a:pt x="199" y="939"/>
                </a:lnTo>
                <a:lnTo>
                  <a:pt x="199" y="992"/>
                </a:lnTo>
                <a:lnTo>
                  <a:pt x="199" y="1031"/>
                </a:lnTo>
                <a:lnTo>
                  <a:pt x="199" y="1098"/>
                </a:lnTo>
                <a:lnTo>
                  <a:pt x="199" y="1150"/>
                </a:lnTo>
                <a:lnTo>
                  <a:pt x="186" y="1191"/>
                </a:lnTo>
                <a:lnTo>
                  <a:pt x="171" y="1231"/>
                </a:lnTo>
                <a:lnTo>
                  <a:pt x="145" y="1270"/>
                </a:lnTo>
                <a:lnTo>
                  <a:pt x="145" y="1337"/>
                </a:lnTo>
                <a:lnTo>
                  <a:pt x="132" y="1390"/>
                </a:lnTo>
                <a:lnTo>
                  <a:pt x="119" y="1442"/>
                </a:lnTo>
                <a:lnTo>
                  <a:pt x="119" y="1522"/>
                </a:lnTo>
                <a:lnTo>
                  <a:pt x="119" y="1562"/>
                </a:lnTo>
                <a:lnTo>
                  <a:pt x="119" y="1614"/>
                </a:lnTo>
                <a:lnTo>
                  <a:pt x="105" y="1654"/>
                </a:lnTo>
                <a:lnTo>
                  <a:pt x="79" y="1694"/>
                </a:lnTo>
                <a:lnTo>
                  <a:pt x="66" y="1734"/>
                </a:lnTo>
                <a:lnTo>
                  <a:pt x="52" y="1800"/>
                </a:lnTo>
                <a:lnTo>
                  <a:pt x="52" y="1839"/>
                </a:lnTo>
                <a:lnTo>
                  <a:pt x="39" y="1892"/>
                </a:lnTo>
                <a:lnTo>
                  <a:pt x="39" y="1932"/>
                </a:lnTo>
                <a:lnTo>
                  <a:pt x="26" y="1972"/>
                </a:lnTo>
                <a:lnTo>
                  <a:pt x="26" y="2025"/>
                </a:lnTo>
                <a:lnTo>
                  <a:pt x="13" y="2064"/>
                </a:lnTo>
                <a:lnTo>
                  <a:pt x="13" y="2104"/>
                </a:lnTo>
                <a:lnTo>
                  <a:pt x="13" y="2170"/>
                </a:lnTo>
                <a:lnTo>
                  <a:pt x="0" y="2210"/>
                </a:lnTo>
                <a:lnTo>
                  <a:pt x="0" y="2249"/>
                </a:lnTo>
                <a:lnTo>
                  <a:pt x="0" y="2316"/>
                </a:lnTo>
                <a:lnTo>
                  <a:pt x="13" y="232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8" name=""/>
          <p:cNvSpPr/>
          <p:nvPr/>
        </p:nvSpPr>
        <p:spPr>
          <a:xfrm>
            <a:off x="3540240" y="3476520"/>
            <a:ext cx="68760" cy="841680"/>
          </a:xfrm>
          <a:custGeom>
            <a:avLst/>
            <a:gdLst/>
            <a:ahLst/>
            <a:rect l="0" t="0" r="r" b="b"/>
            <a:pathLst>
              <a:path fill="none" w="191" h="2338">
                <a:moveTo>
                  <a:pt x="0" y="0"/>
                </a:moveTo>
                <a:lnTo>
                  <a:pt x="4" y="52"/>
                </a:lnTo>
                <a:lnTo>
                  <a:pt x="35" y="145"/>
                </a:lnTo>
                <a:lnTo>
                  <a:pt x="160" y="299"/>
                </a:lnTo>
                <a:lnTo>
                  <a:pt x="191" y="392"/>
                </a:lnTo>
                <a:lnTo>
                  <a:pt x="128" y="485"/>
                </a:lnTo>
                <a:lnTo>
                  <a:pt x="98" y="665"/>
                </a:lnTo>
                <a:lnTo>
                  <a:pt x="67" y="820"/>
                </a:lnTo>
                <a:lnTo>
                  <a:pt x="67" y="1036"/>
                </a:lnTo>
                <a:lnTo>
                  <a:pt x="67" y="1128"/>
                </a:lnTo>
                <a:lnTo>
                  <a:pt x="67" y="1253"/>
                </a:lnTo>
                <a:lnTo>
                  <a:pt x="67" y="1345"/>
                </a:lnTo>
                <a:lnTo>
                  <a:pt x="67" y="1438"/>
                </a:lnTo>
                <a:lnTo>
                  <a:pt x="67" y="1531"/>
                </a:lnTo>
                <a:lnTo>
                  <a:pt x="98" y="1623"/>
                </a:lnTo>
                <a:lnTo>
                  <a:pt x="98" y="1716"/>
                </a:lnTo>
                <a:lnTo>
                  <a:pt x="98" y="1839"/>
                </a:lnTo>
                <a:lnTo>
                  <a:pt x="98" y="1989"/>
                </a:lnTo>
                <a:lnTo>
                  <a:pt x="160" y="2082"/>
                </a:lnTo>
                <a:lnTo>
                  <a:pt x="191" y="2174"/>
                </a:lnTo>
                <a:lnTo>
                  <a:pt x="191" y="2267"/>
                </a:lnTo>
                <a:lnTo>
                  <a:pt x="142" y="233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9" name=""/>
          <p:cNvGrpSpPr/>
          <p:nvPr/>
        </p:nvGrpSpPr>
        <p:grpSpPr>
          <a:xfrm>
            <a:off x="3451320" y="3319560"/>
            <a:ext cx="1209600" cy="1198440"/>
            <a:chOff x="3451320" y="3319560"/>
            <a:chExt cx="1209600" cy="1198440"/>
          </a:xfrm>
        </p:grpSpPr>
        <p:sp>
          <p:nvSpPr>
            <p:cNvPr id="8530" name=""/>
            <p:cNvSpPr/>
            <p:nvPr/>
          </p:nvSpPr>
          <p:spPr>
            <a:xfrm>
              <a:off x="3465360" y="372744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3451320" y="4075200"/>
              <a:ext cx="19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3465360" y="3727440"/>
              <a:ext cx="1076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3510000" y="4071960"/>
              <a:ext cx="106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3648240" y="3476520"/>
              <a:ext cx="844920" cy="841680"/>
            </a:xfrm>
            <a:custGeom>
              <a:avLst/>
              <a:gdLst/>
              <a:ahLst/>
              <a:rect l="0" t="0" r="r" b="b"/>
              <a:pathLst>
                <a:path w="2347" h="2338">
                  <a:moveTo>
                    <a:pt x="0" y="701"/>
                  </a:moveTo>
                  <a:lnTo>
                    <a:pt x="0" y="1637"/>
                  </a:lnTo>
                  <a:lnTo>
                    <a:pt x="704" y="2338"/>
                  </a:lnTo>
                  <a:lnTo>
                    <a:pt x="1643" y="2338"/>
                  </a:lnTo>
                  <a:lnTo>
                    <a:pt x="2347" y="1637"/>
                  </a:lnTo>
                  <a:lnTo>
                    <a:pt x="2347" y="701"/>
                  </a:lnTo>
                  <a:lnTo>
                    <a:pt x="1643" y="0"/>
                  </a:lnTo>
                  <a:lnTo>
                    <a:pt x="704" y="0"/>
                  </a:lnTo>
                  <a:lnTo>
                    <a:pt x="0" y="701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3546360" y="3444840"/>
              <a:ext cx="339840" cy="4140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4228920" y="3432240"/>
              <a:ext cx="432000" cy="70200"/>
            </a:xfrm>
            <a:custGeom>
              <a:avLst/>
              <a:gdLst/>
              <a:ahLst/>
              <a:rect l="0" t="0" r="r" b="b"/>
              <a:pathLst>
                <a:path w="1200" h="195">
                  <a:moveTo>
                    <a:pt x="0" y="61"/>
                  </a:moveTo>
                  <a:lnTo>
                    <a:pt x="134" y="195"/>
                  </a:lnTo>
                  <a:lnTo>
                    <a:pt x="1200" y="195"/>
                  </a:lnTo>
                  <a:lnTo>
                    <a:pt x="119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3578400" y="368316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26" y="70"/>
                  </a:moveTo>
                  <a:lnTo>
                    <a:pt x="0" y="168"/>
                  </a:lnTo>
                  <a:lnTo>
                    <a:pt x="186" y="177"/>
                  </a:lnTo>
                  <a:lnTo>
                    <a:pt x="168" y="0"/>
                  </a:lnTo>
                  <a:lnTo>
                    <a:pt x="26" y="7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39" name=""/>
            <p:cNvGrpSpPr/>
            <p:nvPr/>
          </p:nvGrpSpPr>
          <p:grpSpPr>
            <a:xfrm>
              <a:off x="4068720" y="3319560"/>
              <a:ext cx="0" cy="1198440"/>
              <a:chOff x="4068720" y="3319560"/>
              <a:chExt cx="0" cy="1198440"/>
            </a:xfrm>
          </p:grpSpPr>
          <p:sp>
            <p:nvSpPr>
              <p:cNvPr id="8540" name=""/>
              <p:cNvSpPr/>
              <p:nvPr/>
            </p:nvSpPr>
            <p:spPr>
              <a:xfrm>
                <a:off x="4068720" y="38545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4068720" y="40528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4068720" y="3319560"/>
                <a:ext cx="0" cy="442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43" name=""/>
            <p:cNvSpPr/>
            <p:nvPr/>
          </p:nvSpPr>
          <p:spPr>
            <a:xfrm>
              <a:off x="3584520" y="4048200"/>
              <a:ext cx="70200" cy="60840"/>
            </a:xfrm>
            <a:custGeom>
              <a:avLst/>
              <a:gdLst/>
              <a:ahLst/>
              <a:rect l="0" t="0" r="r" b="b"/>
              <a:pathLst>
                <a:path w="195" h="169">
                  <a:moveTo>
                    <a:pt x="0" y="0"/>
                  </a:moveTo>
                  <a:lnTo>
                    <a:pt x="0" y="169"/>
                  </a:lnTo>
                  <a:lnTo>
                    <a:pt x="195" y="124"/>
                  </a:lnTo>
                  <a:lnTo>
                    <a:pt x="1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3562200" y="4276800"/>
              <a:ext cx="356040" cy="82800"/>
            </a:xfrm>
            <a:custGeom>
              <a:avLst/>
              <a:gdLst/>
              <a:ahLst/>
              <a:rect l="0" t="0" r="r" b="b"/>
              <a:pathLst>
                <a:path w="989" h="230">
                  <a:moveTo>
                    <a:pt x="167" y="44"/>
                  </a:moveTo>
                  <a:lnTo>
                    <a:pt x="0" y="230"/>
                  </a:lnTo>
                  <a:lnTo>
                    <a:pt x="989" y="195"/>
                  </a:lnTo>
                  <a:lnTo>
                    <a:pt x="778" y="0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4489560" y="3689280"/>
              <a:ext cx="149760" cy="98640"/>
            </a:xfrm>
            <a:custGeom>
              <a:avLst/>
              <a:gdLst/>
              <a:ahLst/>
              <a:rect l="0" t="0" r="r" b="b"/>
              <a:pathLst>
                <a:path w="416" h="274">
                  <a:moveTo>
                    <a:pt x="0" y="26"/>
                  </a:moveTo>
                  <a:lnTo>
                    <a:pt x="44" y="274"/>
                  </a:lnTo>
                  <a:lnTo>
                    <a:pt x="363" y="186"/>
                  </a:lnTo>
                  <a:lnTo>
                    <a:pt x="416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4492800" y="4051440"/>
              <a:ext cx="82800" cy="101880"/>
            </a:xfrm>
            <a:custGeom>
              <a:avLst/>
              <a:gdLst/>
              <a:ahLst/>
              <a:rect l="0" t="0" r="r" b="b"/>
              <a:pathLst>
                <a:path w="230" h="283">
                  <a:moveTo>
                    <a:pt x="8" y="0"/>
                  </a:moveTo>
                  <a:lnTo>
                    <a:pt x="0" y="283"/>
                  </a:lnTo>
                  <a:lnTo>
                    <a:pt x="203" y="123"/>
                  </a:lnTo>
                  <a:lnTo>
                    <a:pt x="23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7" name=""/>
            <p:cNvSpPr/>
            <p:nvPr/>
          </p:nvSpPr>
          <p:spPr>
            <a:xfrm>
              <a:off x="4181400" y="4280040"/>
              <a:ext cx="359280" cy="105120"/>
            </a:xfrm>
            <a:custGeom>
              <a:avLst/>
              <a:gdLst/>
              <a:ahLst/>
              <a:rect l="0" t="0" r="r" b="b"/>
              <a:pathLst>
                <a:path w="998" h="292">
                  <a:moveTo>
                    <a:pt x="283" y="35"/>
                  </a:moveTo>
                  <a:lnTo>
                    <a:pt x="0" y="292"/>
                  </a:lnTo>
                  <a:lnTo>
                    <a:pt x="998" y="239"/>
                  </a:lnTo>
                  <a:lnTo>
                    <a:pt x="980" y="0"/>
                  </a:lnTo>
                  <a:lnTo>
                    <a:pt x="283" y="3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8" name=""/>
          <p:cNvGrpSpPr/>
          <p:nvPr/>
        </p:nvGrpSpPr>
        <p:grpSpPr>
          <a:xfrm>
            <a:off x="6172200" y="3305160"/>
            <a:ext cx="0" cy="1198440"/>
            <a:chOff x="6172200" y="3305160"/>
            <a:chExt cx="0" cy="1198440"/>
          </a:xfrm>
        </p:grpSpPr>
        <p:sp>
          <p:nvSpPr>
            <p:cNvPr id="8549" name=""/>
            <p:cNvSpPr/>
            <p:nvPr/>
          </p:nvSpPr>
          <p:spPr>
            <a:xfrm>
              <a:off x="6172200" y="384012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0" name=""/>
            <p:cNvSpPr/>
            <p:nvPr/>
          </p:nvSpPr>
          <p:spPr>
            <a:xfrm>
              <a:off x="6172200" y="40384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1" name=""/>
            <p:cNvSpPr/>
            <p:nvPr/>
          </p:nvSpPr>
          <p:spPr>
            <a:xfrm>
              <a:off x="6172200" y="33051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52" name=""/>
          <p:cNvSpPr/>
          <p:nvPr/>
        </p:nvSpPr>
        <p:spPr>
          <a:xfrm>
            <a:off x="2603520" y="3479760"/>
            <a:ext cx="105120" cy="835560"/>
          </a:xfrm>
          <a:custGeom>
            <a:avLst/>
            <a:gdLst/>
            <a:ahLst/>
            <a:rect l="0" t="0" r="r" b="b"/>
            <a:pathLst>
              <a:path fill="none" w="292" h="2321">
                <a:moveTo>
                  <a:pt x="292" y="0"/>
                </a:moveTo>
                <a:lnTo>
                  <a:pt x="292" y="0"/>
                </a:lnTo>
                <a:lnTo>
                  <a:pt x="274" y="26"/>
                </a:lnTo>
                <a:lnTo>
                  <a:pt x="274" y="52"/>
                </a:lnTo>
                <a:lnTo>
                  <a:pt x="274" y="88"/>
                </a:lnTo>
                <a:lnTo>
                  <a:pt x="274" y="132"/>
                </a:lnTo>
                <a:lnTo>
                  <a:pt x="274" y="158"/>
                </a:lnTo>
                <a:lnTo>
                  <a:pt x="274" y="202"/>
                </a:lnTo>
                <a:lnTo>
                  <a:pt x="274" y="246"/>
                </a:lnTo>
                <a:lnTo>
                  <a:pt x="274" y="282"/>
                </a:lnTo>
                <a:lnTo>
                  <a:pt x="274" y="317"/>
                </a:lnTo>
                <a:lnTo>
                  <a:pt x="256" y="343"/>
                </a:lnTo>
                <a:lnTo>
                  <a:pt x="256" y="370"/>
                </a:lnTo>
                <a:lnTo>
                  <a:pt x="247" y="414"/>
                </a:lnTo>
                <a:lnTo>
                  <a:pt x="247" y="449"/>
                </a:lnTo>
                <a:lnTo>
                  <a:pt x="247" y="476"/>
                </a:lnTo>
                <a:lnTo>
                  <a:pt x="247" y="502"/>
                </a:lnTo>
                <a:lnTo>
                  <a:pt x="247" y="529"/>
                </a:lnTo>
                <a:lnTo>
                  <a:pt x="247" y="564"/>
                </a:lnTo>
                <a:lnTo>
                  <a:pt x="256" y="591"/>
                </a:lnTo>
                <a:lnTo>
                  <a:pt x="256" y="618"/>
                </a:lnTo>
                <a:lnTo>
                  <a:pt x="256" y="680"/>
                </a:lnTo>
                <a:lnTo>
                  <a:pt x="247" y="715"/>
                </a:lnTo>
                <a:lnTo>
                  <a:pt x="239" y="741"/>
                </a:lnTo>
                <a:lnTo>
                  <a:pt x="239" y="768"/>
                </a:lnTo>
                <a:lnTo>
                  <a:pt x="239" y="803"/>
                </a:lnTo>
                <a:lnTo>
                  <a:pt x="239" y="882"/>
                </a:lnTo>
                <a:lnTo>
                  <a:pt x="239" y="918"/>
                </a:lnTo>
                <a:lnTo>
                  <a:pt x="239" y="953"/>
                </a:lnTo>
                <a:lnTo>
                  <a:pt x="221" y="997"/>
                </a:lnTo>
                <a:lnTo>
                  <a:pt x="212" y="1041"/>
                </a:lnTo>
                <a:lnTo>
                  <a:pt x="203" y="1068"/>
                </a:lnTo>
                <a:lnTo>
                  <a:pt x="195" y="1121"/>
                </a:lnTo>
                <a:lnTo>
                  <a:pt x="186" y="1147"/>
                </a:lnTo>
                <a:lnTo>
                  <a:pt x="186" y="1191"/>
                </a:lnTo>
                <a:lnTo>
                  <a:pt x="177" y="1235"/>
                </a:lnTo>
                <a:lnTo>
                  <a:pt x="177" y="1279"/>
                </a:lnTo>
                <a:lnTo>
                  <a:pt x="177" y="1306"/>
                </a:lnTo>
                <a:lnTo>
                  <a:pt x="177" y="1350"/>
                </a:lnTo>
                <a:lnTo>
                  <a:pt x="186" y="1385"/>
                </a:lnTo>
                <a:lnTo>
                  <a:pt x="186" y="1420"/>
                </a:lnTo>
                <a:lnTo>
                  <a:pt x="186" y="1473"/>
                </a:lnTo>
                <a:lnTo>
                  <a:pt x="186" y="1535"/>
                </a:lnTo>
                <a:lnTo>
                  <a:pt x="186" y="1597"/>
                </a:lnTo>
                <a:lnTo>
                  <a:pt x="186" y="1632"/>
                </a:lnTo>
                <a:lnTo>
                  <a:pt x="186" y="1667"/>
                </a:lnTo>
                <a:lnTo>
                  <a:pt x="177" y="1694"/>
                </a:lnTo>
                <a:lnTo>
                  <a:pt x="168" y="1720"/>
                </a:lnTo>
                <a:lnTo>
                  <a:pt x="141" y="1748"/>
                </a:lnTo>
                <a:lnTo>
                  <a:pt x="132" y="1774"/>
                </a:lnTo>
                <a:lnTo>
                  <a:pt x="123" y="1801"/>
                </a:lnTo>
                <a:lnTo>
                  <a:pt x="97" y="1871"/>
                </a:lnTo>
                <a:lnTo>
                  <a:pt x="97" y="1898"/>
                </a:lnTo>
                <a:lnTo>
                  <a:pt x="97" y="1924"/>
                </a:lnTo>
                <a:lnTo>
                  <a:pt x="97" y="1968"/>
                </a:lnTo>
                <a:lnTo>
                  <a:pt x="97" y="1995"/>
                </a:lnTo>
                <a:lnTo>
                  <a:pt x="105" y="2021"/>
                </a:lnTo>
                <a:lnTo>
                  <a:pt x="97" y="2048"/>
                </a:lnTo>
                <a:lnTo>
                  <a:pt x="70" y="2056"/>
                </a:lnTo>
                <a:lnTo>
                  <a:pt x="70" y="2118"/>
                </a:lnTo>
                <a:lnTo>
                  <a:pt x="52" y="2162"/>
                </a:lnTo>
                <a:lnTo>
                  <a:pt x="44" y="2189"/>
                </a:lnTo>
                <a:lnTo>
                  <a:pt x="35" y="2215"/>
                </a:lnTo>
                <a:lnTo>
                  <a:pt x="17" y="2259"/>
                </a:lnTo>
                <a:lnTo>
                  <a:pt x="8" y="2286"/>
                </a:lnTo>
                <a:lnTo>
                  <a:pt x="8" y="2312"/>
                </a:lnTo>
                <a:lnTo>
                  <a:pt x="0" y="232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3" name=""/>
          <p:cNvSpPr/>
          <p:nvPr/>
        </p:nvSpPr>
        <p:spPr>
          <a:xfrm>
            <a:off x="1441440" y="3473280"/>
            <a:ext cx="92520" cy="844920"/>
          </a:xfrm>
          <a:custGeom>
            <a:avLst/>
            <a:gdLst/>
            <a:ahLst/>
            <a:rect l="0" t="0" r="r" b="b"/>
            <a:pathLst>
              <a:path fill="none" w="257" h="2347">
                <a:moveTo>
                  <a:pt x="257" y="0"/>
                </a:moveTo>
                <a:lnTo>
                  <a:pt x="248" y="44"/>
                </a:lnTo>
                <a:lnTo>
                  <a:pt x="240" y="97"/>
                </a:lnTo>
                <a:lnTo>
                  <a:pt x="222" y="176"/>
                </a:lnTo>
                <a:lnTo>
                  <a:pt x="222" y="229"/>
                </a:lnTo>
                <a:lnTo>
                  <a:pt x="222" y="282"/>
                </a:lnTo>
                <a:lnTo>
                  <a:pt x="222" y="317"/>
                </a:lnTo>
                <a:lnTo>
                  <a:pt x="222" y="361"/>
                </a:lnTo>
                <a:lnTo>
                  <a:pt x="168" y="414"/>
                </a:lnTo>
                <a:lnTo>
                  <a:pt x="159" y="476"/>
                </a:lnTo>
                <a:lnTo>
                  <a:pt x="159" y="502"/>
                </a:lnTo>
                <a:lnTo>
                  <a:pt x="150" y="529"/>
                </a:lnTo>
                <a:lnTo>
                  <a:pt x="150" y="618"/>
                </a:lnTo>
                <a:lnTo>
                  <a:pt x="150" y="644"/>
                </a:lnTo>
                <a:lnTo>
                  <a:pt x="150" y="671"/>
                </a:lnTo>
                <a:lnTo>
                  <a:pt x="150" y="715"/>
                </a:lnTo>
                <a:lnTo>
                  <a:pt x="150" y="830"/>
                </a:lnTo>
                <a:lnTo>
                  <a:pt x="150" y="891"/>
                </a:lnTo>
                <a:lnTo>
                  <a:pt x="142" y="935"/>
                </a:lnTo>
                <a:lnTo>
                  <a:pt x="142" y="979"/>
                </a:lnTo>
                <a:lnTo>
                  <a:pt x="142" y="1015"/>
                </a:lnTo>
                <a:lnTo>
                  <a:pt x="142" y="1041"/>
                </a:lnTo>
                <a:lnTo>
                  <a:pt x="133" y="1103"/>
                </a:lnTo>
                <a:lnTo>
                  <a:pt x="124" y="1165"/>
                </a:lnTo>
                <a:lnTo>
                  <a:pt x="98" y="1235"/>
                </a:lnTo>
                <a:lnTo>
                  <a:pt x="89" y="1297"/>
                </a:lnTo>
                <a:lnTo>
                  <a:pt x="44" y="1473"/>
                </a:lnTo>
                <a:lnTo>
                  <a:pt x="35" y="1579"/>
                </a:lnTo>
                <a:lnTo>
                  <a:pt x="35" y="1641"/>
                </a:lnTo>
                <a:lnTo>
                  <a:pt x="26" y="1898"/>
                </a:lnTo>
                <a:lnTo>
                  <a:pt x="26" y="1959"/>
                </a:lnTo>
                <a:lnTo>
                  <a:pt x="26" y="1986"/>
                </a:lnTo>
                <a:lnTo>
                  <a:pt x="44" y="2012"/>
                </a:lnTo>
                <a:lnTo>
                  <a:pt x="52" y="2048"/>
                </a:lnTo>
                <a:lnTo>
                  <a:pt x="52" y="2074"/>
                </a:lnTo>
                <a:lnTo>
                  <a:pt x="52" y="2109"/>
                </a:lnTo>
                <a:lnTo>
                  <a:pt x="35" y="2136"/>
                </a:lnTo>
                <a:lnTo>
                  <a:pt x="35" y="2162"/>
                </a:lnTo>
                <a:lnTo>
                  <a:pt x="26" y="2189"/>
                </a:lnTo>
                <a:lnTo>
                  <a:pt x="17" y="2215"/>
                </a:lnTo>
                <a:lnTo>
                  <a:pt x="17" y="2242"/>
                </a:lnTo>
                <a:lnTo>
                  <a:pt x="8" y="2268"/>
                </a:lnTo>
                <a:lnTo>
                  <a:pt x="0" y="2295"/>
                </a:lnTo>
                <a:lnTo>
                  <a:pt x="0" y="2321"/>
                </a:lnTo>
                <a:lnTo>
                  <a:pt x="0" y="234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4" name=""/>
          <p:cNvSpPr/>
          <p:nvPr/>
        </p:nvSpPr>
        <p:spPr>
          <a:xfrm>
            <a:off x="1538280" y="3452760"/>
            <a:ext cx="154080" cy="4752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5" name=""/>
          <p:cNvSpPr/>
          <p:nvPr/>
        </p:nvSpPr>
        <p:spPr>
          <a:xfrm>
            <a:off x="1449360" y="4295880"/>
            <a:ext cx="243000" cy="7632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6" name=""/>
          <p:cNvSpPr/>
          <p:nvPr/>
        </p:nvSpPr>
        <p:spPr>
          <a:xfrm>
            <a:off x="1643040" y="3473280"/>
            <a:ext cx="841320" cy="84456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7" name=""/>
          <p:cNvGrpSpPr/>
          <p:nvPr/>
        </p:nvGrpSpPr>
        <p:grpSpPr>
          <a:xfrm>
            <a:off x="2063880" y="3306600"/>
            <a:ext cx="0" cy="1198800"/>
            <a:chOff x="2063880" y="3306600"/>
            <a:chExt cx="0" cy="1198800"/>
          </a:xfrm>
        </p:grpSpPr>
        <p:sp>
          <p:nvSpPr>
            <p:cNvPr id="8558" name=""/>
            <p:cNvSpPr/>
            <p:nvPr/>
          </p:nvSpPr>
          <p:spPr>
            <a:xfrm>
              <a:off x="2063880" y="384192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9" name=""/>
            <p:cNvSpPr/>
            <p:nvPr/>
          </p:nvSpPr>
          <p:spPr>
            <a:xfrm>
              <a:off x="2063880" y="40402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0" name=""/>
            <p:cNvSpPr/>
            <p:nvPr/>
          </p:nvSpPr>
          <p:spPr>
            <a:xfrm>
              <a:off x="2063880" y="3306600"/>
              <a:ext cx="0" cy="443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1" name=""/>
          <p:cNvSpPr/>
          <p:nvPr/>
        </p:nvSpPr>
        <p:spPr>
          <a:xfrm>
            <a:off x="2489040" y="3432240"/>
            <a:ext cx="200160" cy="698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2" name=""/>
          <p:cNvSpPr/>
          <p:nvPr/>
        </p:nvSpPr>
        <p:spPr>
          <a:xfrm>
            <a:off x="2486160" y="4289400"/>
            <a:ext cx="109440" cy="507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3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564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5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6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0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1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2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3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4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5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6" name=""/>
          <p:cNvSpPr/>
          <p:nvPr/>
        </p:nvSpPr>
        <p:spPr>
          <a:xfrm flipV="1">
            <a:off x="254160" y="3476520"/>
            <a:ext cx="849240" cy="84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7" name=""/>
          <p:cNvSpPr/>
          <p:nvPr/>
        </p:nvSpPr>
        <p:spPr>
          <a:xfrm>
            <a:off x="1101600" y="347652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8" name=""/>
          <p:cNvSpPr/>
          <p:nvPr/>
        </p:nvSpPr>
        <p:spPr>
          <a:xfrm>
            <a:off x="254160" y="4317840"/>
            <a:ext cx="588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9" name=""/>
          <p:cNvSpPr/>
          <p:nvPr/>
        </p:nvSpPr>
        <p:spPr>
          <a:xfrm flipH="1">
            <a:off x="4494240" y="372888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0" name=""/>
          <p:cNvSpPr/>
          <p:nvPr/>
        </p:nvSpPr>
        <p:spPr>
          <a:xfrm flipH="1">
            <a:off x="4491000" y="4073400"/>
            <a:ext cx="58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1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2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83" name=""/>
          <p:cNvGrpSpPr/>
          <p:nvPr/>
        </p:nvGrpSpPr>
        <p:grpSpPr>
          <a:xfrm>
            <a:off x="6680160" y="3502080"/>
            <a:ext cx="160560" cy="802800"/>
            <a:chOff x="6680160" y="3502080"/>
            <a:chExt cx="160560" cy="802800"/>
          </a:xfrm>
        </p:grpSpPr>
        <p:sp>
          <p:nvSpPr>
            <p:cNvPr id="8584" name=""/>
            <p:cNvSpPr/>
            <p:nvPr/>
          </p:nvSpPr>
          <p:spPr>
            <a:xfrm>
              <a:off x="6737400" y="3894120"/>
              <a:ext cx="101880" cy="209880"/>
            </a:xfrm>
            <a:custGeom>
              <a:avLst/>
              <a:gdLst/>
              <a:ahLst/>
              <a:rect l="0" t="0" r="r" b="b"/>
              <a:pathLst>
                <a:path w="283" h="583">
                  <a:moveTo>
                    <a:pt x="0" y="583"/>
                  </a:moveTo>
                  <a:lnTo>
                    <a:pt x="283" y="583"/>
                  </a:lnTo>
                  <a:lnTo>
                    <a:pt x="283" y="583"/>
                  </a:lnTo>
                  <a:lnTo>
                    <a:pt x="283" y="583"/>
                  </a:lnTo>
                  <a:cubicBezTo>
                    <a:pt x="283" y="481"/>
                    <a:pt x="270" y="380"/>
                    <a:pt x="245" y="291"/>
                  </a:cubicBezTo>
                  <a:cubicBezTo>
                    <a:pt x="220" y="203"/>
                    <a:pt x="185" y="129"/>
                    <a:pt x="141" y="78"/>
                  </a:cubicBezTo>
                  <a:cubicBezTo>
                    <a:pt x="98" y="27"/>
                    <a:pt x="50" y="0"/>
                    <a:pt x="0" y="0"/>
                  </a:cubicBezTo>
                  <a:lnTo>
                    <a:pt x="0" y="583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6680160" y="3876480"/>
              <a:ext cx="82800" cy="229320"/>
            </a:xfrm>
            <a:custGeom>
              <a:avLst/>
              <a:gdLst/>
              <a:ahLst/>
              <a:rect l="0" t="0" r="r" b="b"/>
              <a:pathLst>
                <a:path w="230" h="637">
                  <a:moveTo>
                    <a:pt x="230" y="637"/>
                  </a:moveTo>
                  <a:lnTo>
                    <a:pt x="146" y="0"/>
                  </a:lnTo>
                  <a:lnTo>
                    <a:pt x="146" y="0"/>
                  </a:lnTo>
                  <a:cubicBezTo>
                    <a:pt x="135" y="12"/>
                    <a:pt x="125" y="27"/>
                    <a:pt x="115" y="44"/>
                  </a:cubicBezTo>
                  <a:cubicBezTo>
                    <a:pt x="80" y="104"/>
                    <a:pt x="51" y="191"/>
                    <a:pt x="31" y="295"/>
                  </a:cubicBezTo>
                  <a:cubicBezTo>
                    <a:pt x="11" y="399"/>
                    <a:pt x="0" y="517"/>
                    <a:pt x="0" y="637"/>
                  </a:cubicBezTo>
                  <a:lnTo>
                    <a:pt x="230" y="637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6762600" y="4097160"/>
              <a:ext cx="78120" cy="204480"/>
            </a:xfrm>
            <a:custGeom>
              <a:avLst/>
              <a:gdLst/>
              <a:ahLst/>
              <a:rect l="0" t="0" r="r" b="b"/>
              <a:pathLst>
                <a:path w="217" h="568">
                  <a:moveTo>
                    <a:pt x="217" y="568"/>
                  </a:moveTo>
                  <a:lnTo>
                    <a:pt x="217" y="0"/>
                  </a:lnTo>
                  <a:lnTo>
                    <a:pt x="217" y="0"/>
                  </a:lnTo>
                  <a:cubicBezTo>
                    <a:pt x="179" y="0"/>
                    <a:pt x="141" y="26"/>
                    <a:pt x="108" y="76"/>
                  </a:cubicBezTo>
                  <a:cubicBezTo>
                    <a:pt x="76" y="126"/>
                    <a:pt x="48" y="198"/>
                    <a:pt x="29" y="284"/>
                  </a:cubicBezTo>
                  <a:cubicBezTo>
                    <a:pt x="10" y="370"/>
                    <a:pt x="0" y="468"/>
                    <a:pt x="0" y="568"/>
                  </a:cubicBezTo>
                  <a:lnTo>
                    <a:pt x="217" y="568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6682680" y="4095720"/>
              <a:ext cx="80640" cy="209160"/>
            </a:xfrm>
            <a:custGeom>
              <a:avLst/>
              <a:gdLst/>
              <a:ahLst/>
              <a:rect l="0" t="0" r="r" b="b"/>
              <a:pathLst>
                <a:path w="224" h="581">
                  <a:moveTo>
                    <a:pt x="0" y="581"/>
                  </a:moveTo>
                  <a:lnTo>
                    <a:pt x="224" y="581"/>
                  </a:lnTo>
                  <a:lnTo>
                    <a:pt x="224" y="581"/>
                  </a:lnTo>
                  <a:lnTo>
                    <a:pt x="224" y="581"/>
                  </a:lnTo>
                  <a:cubicBezTo>
                    <a:pt x="224" y="479"/>
                    <a:pt x="214" y="379"/>
                    <a:pt x="194" y="290"/>
                  </a:cubicBezTo>
                  <a:cubicBezTo>
                    <a:pt x="174" y="202"/>
                    <a:pt x="146" y="129"/>
                    <a:pt x="112" y="78"/>
                  </a:cubicBezTo>
                  <a:cubicBezTo>
                    <a:pt x="78" y="27"/>
                    <a:pt x="39" y="0"/>
                    <a:pt x="0" y="0"/>
                  </a:cubicBezTo>
                  <a:lnTo>
                    <a:pt x="0" y="581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6689880" y="3502080"/>
              <a:ext cx="117000" cy="201240"/>
            </a:xfrm>
            <a:custGeom>
              <a:avLst/>
              <a:gdLst/>
              <a:ahLst/>
              <a:rect l="0" t="0" r="r" b="b"/>
              <a:pathLst>
                <a:path fill="none" w="325" h="559">
                  <a:moveTo>
                    <a:pt x="325" y="0"/>
                  </a:moveTo>
                  <a:lnTo>
                    <a:pt x="325" y="0"/>
                  </a:lnTo>
                  <a:cubicBezTo>
                    <a:pt x="268" y="0"/>
                    <a:pt x="212" y="26"/>
                    <a:pt x="162" y="75"/>
                  </a:cubicBezTo>
                  <a:cubicBezTo>
                    <a:pt x="113" y="124"/>
                    <a:pt x="72" y="195"/>
                    <a:pt x="44" y="280"/>
                  </a:cubicBezTo>
                  <a:cubicBezTo>
                    <a:pt x="15" y="364"/>
                    <a:pt x="0" y="461"/>
                    <a:pt x="0" y="5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6692040" y="3695760"/>
              <a:ext cx="83520" cy="211320"/>
            </a:xfrm>
            <a:custGeom>
              <a:avLst/>
              <a:gdLst/>
              <a:ahLst/>
              <a:rect l="0" t="0" r="r" b="b"/>
              <a:pathLst>
                <a:path fill="none" w="232" h="587">
                  <a:moveTo>
                    <a:pt x="232" y="587"/>
                  </a:moveTo>
                  <a:lnTo>
                    <a:pt x="232" y="587"/>
                  </a:lnTo>
                  <a:lnTo>
                    <a:pt x="232" y="587"/>
                  </a:lnTo>
                  <a:cubicBezTo>
                    <a:pt x="232" y="484"/>
                    <a:pt x="221" y="383"/>
                    <a:pt x="201" y="293"/>
                  </a:cubicBezTo>
                  <a:cubicBezTo>
                    <a:pt x="181" y="204"/>
                    <a:pt x="151" y="130"/>
                    <a:pt x="116" y="79"/>
                  </a:cubicBezTo>
                  <a:cubicBezTo>
                    <a:pt x="81" y="27"/>
                    <a:pt x="4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90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91" name=""/>
          <p:cNvGrpSpPr/>
          <p:nvPr/>
        </p:nvGrpSpPr>
        <p:grpSpPr>
          <a:xfrm>
            <a:off x="6172200" y="3305160"/>
            <a:ext cx="0" cy="1198440"/>
            <a:chOff x="6172200" y="3305160"/>
            <a:chExt cx="0" cy="1198440"/>
          </a:xfrm>
        </p:grpSpPr>
        <p:sp>
          <p:nvSpPr>
            <p:cNvPr id="8592" name=""/>
            <p:cNvSpPr/>
            <p:nvPr/>
          </p:nvSpPr>
          <p:spPr>
            <a:xfrm>
              <a:off x="6172200" y="384012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6172200" y="40384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6172200" y="33051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95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6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97" name=""/>
          <p:cNvGrpSpPr/>
          <p:nvPr/>
        </p:nvGrpSpPr>
        <p:grpSpPr>
          <a:xfrm>
            <a:off x="1441440" y="3306600"/>
            <a:ext cx="3240360" cy="1211400"/>
            <a:chOff x="1441440" y="3306600"/>
            <a:chExt cx="3240360" cy="1211400"/>
          </a:xfrm>
        </p:grpSpPr>
        <p:sp>
          <p:nvSpPr>
            <p:cNvPr id="8598" name=""/>
            <p:cNvSpPr/>
            <p:nvPr/>
          </p:nvSpPr>
          <p:spPr>
            <a:xfrm>
              <a:off x="3465360" y="372744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3451320" y="4075200"/>
              <a:ext cx="19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3141720" y="348732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3154320" y="410040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2603520" y="3479760"/>
              <a:ext cx="105120" cy="835560"/>
            </a:xfrm>
            <a:custGeom>
              <a:avLst/>
              <a:gdLst/>
              <a:ahLst/>
              <a:rect l="0" t="0" r="r" b="b"/>
              <a:pathLst>
                <a:path fill="none" w="292" h="2321">
                  <a:moveTo>
                    <a:pt x="292" y="0"/>
                  </a:moveTo>
                  <a:lnTo>
                    <a:pt x="292" y="0"/>
                  </a:lnTo>
                  <a:lnTo>
                    <a:pt x="274" y="26"/>
                  </a:lnTo>
                  <a:lnTo>
                    <a:pt x="274" y="52"/>
                  </a:lnTo>
                  <a:lnTo>
                    <a:pt x="274" y="88"/>
                  </a:lnTo>
                  <a:lnTo>
                    <a:pt x="274" y="132"/>
                  </a:lnTo>
                  <a:lnTo>
                    <a:pt x="274" y="158"/>
                  </a:lnTo>
                  <a:lnTo>
                    <a:pt x="274" y="202"/>
                  </a:lnTo>
                  <a:lnTo>
                    <a:pt x="274" y="246"/>
                  </a:lnTo>
                  <a:lnTo>
                    <a:pt x="274" y="282"/>
                  </a:lnTo>
                  <a:lnTo>
                    <a:pt x="274" y="317"/>
                  </a:lnTo>
                  <a:lnTo>
                    <a:pt x="256" y="343"/>
                  </a:lnTo>
                  <a:lnTo>
                    <a:pt x="256" y="370"/>
                  </a:lnTo>
                  <a:lnTo>
                    <a:pt x="247" y="414"/>
                  </a:lnTo>
                  <a:lnTo>
                    <a:pt x="247" y="449"/>
                  </a:lnTo>
                  <a:lnTo>
                    <a:pt x="247" y="476"/>
                  </a:lnTo>
                  <a:lnTo>
                    <a:pt x="247" y="502"/>
                  </a:lnTo>
                  <a:lnTo>
                    <a:pt x="247" y="529"/>
                  </a:lnTo>
                  <a:lnTo>
                    <a:pt x="247" y="564"/>
                  </a:lnTo>
                  <a:lnTo>
                    <a:pt x="256" y="591"/>
                  </a:lnTo>
                  <a:lnTo>
                    <a:pt x="256" y="618"/>
                  </a:lnTo>
                  <a:lnTo>
                    <a:pt x="256" y="680"/>
                  </a:lnTo>
                  <a:lnTo>
                    <a:pt x="247" y="715"/>
                  </a:lnTo>
                  <a:lnTo>
                    <a:pt x="239" y="741"/>
                  </a:lnTo>
                  <a:lnTo>
                    <a:pt x="239" y="768"/>
                  </a:lnTo>
                  <a:lnTo>
                    <a:pt x="239" y="803"/>
                  </a:lnTo>
                  <a:lnTo>
                    <a:pt x="239" y="882"/>
                  </a:lnTo>
                  <a:lnTo>
                    <a:pt x="239" y="918"/>
                  </a:lnTo>
                  <a:lnTo>
                    <a:pt x="239" y="953"/>
                  </a:lnTo>
                  <a:lnTo>
                    <a:pt x="221" y="997"/>
                  </a:lnTo>
                  <a:lnTo>
                    <a:pt x="212" y="1041"/>
                  </a:lnTo>
                  <a:lnTo>
                    <a:pt x="203" y="1068"/>
                  </a:lnTo>
                  <a:lnTo>
                    <a:pt x="195" y="1121"/>
                  </a:lnTo>
                  <a:lnTo>
                    <a:pt x="186" y="1147"/>
                  </a:lnTo>
                  <a:lnTo>
                    <a:pt x="186" y="1191"/>
                  </a:lnTo>
                  <a:lnTo>
                    <a:pt x="177" y="1235"/>
                  </a:lnTo>
                  <a:lnTo>
                    <a:pt x="177" y="1279"/>
                  </a:lnTo>
                  <a:lnTo>
                    <a:pt x="177" y="1306"/>
                  </a:lnTo>
                  <a:lnTo>
                    <a:pt x="177" y="1350"/>
                  </a:lnTo>
                  <a:lnTo>
                    <a:pt x="186" y="1385"/>
                  </a:lnTo>
                  <a:lnTo>
                    <a:pt x="186" y="1420"/>
                  </a:lnTo>
                  <a:lnTo>
                    <a:pt x="186" y="1473"/>
                  </a:lnTo>
                  <a:lnTo>
                    <a:pt x="186" y="1535"/>
                  </a:lnTo>
                  <a:lnTo>
                    <a:pt x="186" y="1597"/>
                  </a:lnTo>
                  <a:lnTo>
                    <a:pt x="186" y="1632"/>
                  </a:lnTo>
                  <a:lnTo>
                    <a:pt x="186" y="1667"/>
                  </a:lnTo>
                  <a:lnTo>
                    <a:pt x="177" y="1694"/>
                  </a:lnTo>
                  <a:lnTo>
                    <a:pt x="168" y="1720"/>
                  </a:lnTo>
                  <a:lnTo>
                    <a:pt x="141" y="1748"/>
                  </a:lnTo>
                  <a:lnTo>
                    <a:pt x="132" y="1774"/>
                  </a:lnTo>
                  <a:lnTo>
                    <a:pt x="123" y="1801"/>
                  </a:lnTo>
                  <a:lnTo>
                    <a:pt x="97" y="1871"/>
                  </a:lnTo>
                  <a:lnTo>
                    <a:pt x="97" y="1898"/>
                  </a:lnTo>
                  <a:lnTo>
                    <a:pt x="97" y="1924"/>
                  </a:lnTo>
                  <a:lnTo>
                    <a:pt x="97" y="1968"/>
                  </a:lnTo>
                  <a:lnTo>
                    <a:pt x="97" y="1995"/>
                  </a:lnTo>
                  <a:lnTo>
                    <a:pt x="105" y="2021"/>
                  </a:lnTo>
                  <a:lnTo>
                    <a:pt x="97" y="2048"/>
                  </a:lnTo>
                  <a:lnTo>
                    <a:pt x="70" y="2056"/>
                  </a:lnTo>
                  <a:lnTo>
                    <a:pt x="70" y="2118"/>
                  </a:lnTo>
                  <a:lnTo>
                    <a:pt x="52" y="2162"/>
                  </a:lnTo>
                  <a:lnTo>
                    <a:pt x="44" y="2189"/>
                  </a:lnTo>
                  <a:lnTo>
                    <a:pt x="35" y="2215"/>
                  </a:lnTo>
                  <a:lnTo>
                    <a:pt x="17" y="2259"/>
                  </a:lnTo>
                  <a:lnTo>
                    <a:pt x="8" y="2286"/>
                  </a:lnTo>
                  <a:lnTo>
                    <a:pt x="8" y="2312"/>
                  </a:lnTo>
                  <a:lnTo>
                    <a:pt x="0" y="232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1441440" y="3473280"/>
              <a:ext cx="92520" cy="844920"/>
            </a:xfrm>
            <a:custGeom>
              <a:avLst/>
              <a:gdLst/>
              <a:ahLst/>
              <a:rect l="0" t="0" r="r" b="b"/>
              <a:pathLst>
                <a:path fill="none" w="257" h="2347">
                  <a:moveTo>
                    <a:pt x="257" y="0"/>
                  </a:moveTo>
                  <a:lnTo>
                    <a:pt x="248" y="44"/>
                  </a:lnTo>
                  <a:lnTo>
                    <a:pt x="240" y="97"/>
                  </a:lnTo>
                  <a:lnTo>
                    <a:pt x="222" y="176"/>
                  </a:lnTo>
                  <a:lnTo>
                    <a:pt x="222" y="229"/>
                  </a:lnTo>
                  <a:lnTo>
                    <a:pt x="222" y="282"/>
                  </a:lnTo>
                  <a:lnTo>
                    <a:pt x="222" y="317"/>
                  </a:lnTo>
                  <a:lnTo>
                    <a:pt x="222" y="361"/>
                  </a:lnTo>
                  <a:lnTo>
                    <a:pt x="168" y="414"/>
                  </a:lnTo>
                  <a:lnTo>
                    <a:pt x="159" y="476"/>
                  </a:lnTo>
                  <a:lnTo>
                    <a:pt x="159" y="502"/>
                  </a:lnTo>
                  <a:lnTo>
                    <a:pt x="150" y="529"/>
                  </a:lnTo>
                  <a:lnTo>
                    <a:pt x="150" y="618"/>
                  </a:lnTo>
                  <a:lnTo>
                    <a:pt x="150" y="644"/>
                  </a:lnTo>
                  <a:lnTo>
                    <a:pt x="150" y="671"/>
                  </a:lnTo>
                  <a:lnTo>
                    <a:pt x="150" y="715"/>
                  </a:lnTo>
                  <a:lnTo>
                    <a:pt x="150" y="830"/>
                  </a:lnTo>
                  <a:lnTo>
                    <a:pt x="150" y="891"/>
                  </a:lnTo>
                  <a:lnTo>
                    <a:pt x="142" y="935"/>
                  </a:lnTo>
                  <a:lnTo>
                    <a:pt x="142" y="979"/>
                  </a:lnTo>
                  <a:lnTo>
                    <a:pt x="142" y="1015"/>
                  </a:lnTo>
                  <a:lnTo>
                    <a:pt x="142" y="1041"/>
                  </a:lnTo>
                  <a:lnTo>
                    <a:pt x="133" y="1103"/>
                  </a:lnTo>
                  <a:lnTo>
                    <a:pt x="124" y="1165"/>
                  </a:lnTo>
                  <a:lnTo>
                    <a:pt x="98" y="1235"/>
                  </a:lnTo>
                  <a:lnTo>
                    <a:pt x="89" y="1297"/>
                  </a:lnTo>
                  <a:lnTo>
                    <a:pt x="44" y="1473"/>
                  </a:lnTo>
                  <a:lnTo>
                    <a:pt x="35" y="1579"/>
                  </a:lnTo>
                  <a:lnTo>
                    <a:pt x="35" y="1641"/>
                  </a:lnTo>
                  <a:lnTo>
                    <a:pt x="26" y="1898"/>
                  </a:lnTo>
                  <a:lnTo>
                    <a:pt x="26" y="1959"/>
                  </a:lnTo>
                  <a:lnTo>
                    <a:pt x="26" y="1986"/>
                  </a:lnTo>
                  <a:lnTo>
                    <a:pt x="44" y="2012"/>
                  </a:lnTo>
                  <a:lnTo>
                    <a:pt x="52" y="2048"/>
                  </a:lnTo>
                  <a:lnTo>
                    <a:pt x="52" y="2074"/>
                  </a:lnTo>
                  <a:lnTo>
                    <a:pt x="52" y="2109"/>
                  </a:lnTo>
                  <a:lnTo>
                    <a:pt x="35" y="2136"/>
                  </a:lnTo>
                  <a:lnTo>
                    <a:pt x="35" y="2162"/>
                  </a:lnTo>
                  <a:lnTo>
                    <a:pt x="26" y="2189"/>
                  </a:lnTo>
                  <a:lnTo>
                    <a:pt x="17" y="2215"/>
                  </a:lnTo>
                  <a:lnTo>
                    <a:pt x="17" y="2242"/>
                  </a:lnTo>
                  <a:lnTo>
                    <a:pt x="8" y="2268"/>
                  </a:lnTo>
                  <a:lnTo>
                    <a:pt x="0" y="2295"/>
                  </a:lnTo>
                  <a:lnTo>
                    <a:pt x="0" y="2321"/>
                  </a:lnTo>
                  <a:lnTo>
                    <a:pt x="0" y="234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1538280" y="3452760"/>
              <a:ext cx="154080" cy="4752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1449360" y="4295880"/>
              <a:ext cx="243000" cy="7632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1643040" y="3473280"/>
              <a:ext cx="841320" cy="844560"/>
            </a:xfrm>
            <a:prstGeom prst="rect">
              <a:avLst/>
            </a:prstGeom>
            <a:blipFill rotWithShape="0">
              <a:blip r:embed="rId5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8" name=""/>
            <p:cNvGrpSpPr/>
            <p:nvPr/>
          </p:nvGrpSpPr>
          <p:grpSpPr>
            <a:xfrm>
              <a:off x="2063880" y="3306600"/>
              <a:ext cx="0" cy="1198800"/>
              <a:chOff x="2063880" y="3306600"/>
              <a:chExt cx="0" cy="1198800"/>
            </a:xfrm>
          </p:grpSpPr>
          <p:sp>
            <p:nvSpPr>
              <p:cNvPr id="8609" name=""/>
              <p:cNvSpPr/>
              <p:nvPr/>
            </p:nvSpPr>
            <p:spPr>
              <a:xfrm>
                <a:off x="2063880" y="38419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2063880" y="40402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>
                <a:off x="2063880" y="3306600"/>
                <a:ext cx="0" cy="4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12" name=""/>
            <p:cNvSpPr/>
            <p:nvPr/>
          </p:nvSpPr>
          <p:spPr>
            <a:xfrm>
              <a:off x="2489040" y="3432240"/>
              <a:ext cx="200160" cy="698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2486160" y="4289400"/>
              <a:ext cx="109440" cy="507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14" name=""/>
            <p:cNvGrpSpPr/>
            <p:nvPr/>
          </p:nvGrpSpPr>
          <p:grpSpPr>
            <a:xfrm>
              <a:off x="3451320" y="3319560"/>
              <a:ext cx="1209600" cy="1198440"/>
              <a:chOff x="3451320" y="3319560"/>
              <a:chExt cx="1209600" cy="1198440"/>
            </a:xfrm>
          </p:grpSpPr>
          <p:sp>
            <p:nvSpPr>
              <p:cNvPr id="8615" name=""/>
              <p:cNvSpPr/>
              <p:nvPr/>
            </p:nvSpPr>
            <p:spPr>
              <a:xfrm>
                <a:off x="3465360" y="3727440"/>
                <a:ext cx="184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3451320" y="4075200"/>
                <a:ext cx="198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3465360" y="3727440"/>
                <a:ext cx="1076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3510000" y="4071960"/>
                <a:ext cx="106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4300560" y="3440160"/>
                <a:ext cx="276120" cy="6336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3648240" y="3476520"/>
                <a:ext cx="844920" cy="841680"/>
              </a:xfrm>
              <a:custGeom>
                <a:avLst/>
                <a:gdLst/>
                <a:ahLst/>
                <a:rect l="0" t="0" r="r" b="b"/>
                <a:pathLst>
                  <a:path w="2347" h="2338">
                    <a:moveTo>
                      <a:pt x="0" y="701"/>
                    </a:moveTo>
                    <a:lnTo>
                      <a:pt x="0" y="1637"/>
                    </a:lnTo>
                    <a:lnTo>
                      <a:pt x="704" y="2338"/>
                    </a:lnTo>
                    <a:lnTo>
                      <a:pt x="1643" y="2338"/>
                    </a:lnTo>
                    <a:lnTo>
                      <a:pt x="2347" y="1637"/>
                    </a:lnTo>
                    <a:lnTo>
                      <a:pt x="2347" y="701"/>
                    </a:lnTo>
                    <a:lnTo>
                      <a:pt x="1643" y="0"/>
                    </a:lnTo>
                    <a:lnTo>
                      <a:pt x="704" y="0"/>
                    </a:lnTo>
                    <a:lnTo>
                      <a:pt x="0" y="701"/>
                    </a:lnTo>
                    <a:close/>
                  </a:path>
                </a:pathLst>
              </a:custGeom>
              <a:blipFill rotWithShape="0">
                <a:blip r:embed="rId6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3546360" y="3444840"/>
                <a:ext cx="339840" cy="4140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4228920" y="3432240"/>
                <a:ext cx="432000" cy="70200"/>
              </a:xfrm>
              <a:custGeom>
                <a:avLst/>
                <a:gdLst/>
                <a:ahLst/>
                <a:rect l="0" t="0" r="r" b="b"/>
                <a:pathLst>
                  <a:path w="1200" h="195">
                    <a:moveTo>
                      <a:pt x="0" y="61"/>
                    </a:moveTo>
                    <a:lnTo>
                      <a:pt x="134" y="195"/>
                    </a:lnTo>
                    <a:lnTo>
                      <a:pt x="1200" y="195"/>
                    </a:lnTo>
                    <a:lnTo>
                      <a:pt x="1191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3578400" y="3683160"/>
                <a:ext cx="66960" cy="63720"/>
              </a:xfrm>
              <a:custGeom>
                <a:avLst/>
                <a:gdLst/>
                <a:ahLst/>
                <a:rect l="0" t="0" r="r" b="b"/>
                <a:pathLst>
                  <a:path w="186" h="177">
                    <a:moveTo>
                      <a:pt x="26" y="70"/>
                    </a:moveTo>
                    <a:lnTo>
                      <a:pt x="0" y="168"/>
                    </a:lnTo>
                    <a:lnTo>
                      <a:pt x="186" y="177"/>
                    </a:lnTo>
                    <a:lnTo>
                      <a:pt x="168" y="0"/>
                    </a:lnTo>
                    <a:lnTo>
                      <a:pt x="26" y="7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24" name=""/>
              <p:cNvGrpSpPr/>
              <p:nvPr/>
            </p:nvGrpSpPr>
            <p:grpSpPr>
              <a:xfrm>
                <a:off x="4068720" y="3319560"/>
                <a:ext cx="0" cy="1198440"/>
                <a:chOff x="4068720" y="3319560"/>
                <a:chExt cx="0" cy="1198440"/>
              </a:xfrm>
            </p:grpSpPr>
            <p:sp>
              <p:nvSpPr>
                <p:cNvPr id="8625" name=""/>
                <p:cNvSpPr/>
                <p:nvPr/>
              </p:nvSpPr>
              <p:spPr>
                <a:xfrm>
                  <a:off x="4068720" y="3854520"/>
                  <a:ext cx="0" cy="106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6" name=""/>
                <p:cNvSpPr/>
                <p:nvPr/>
              </p:nvSpPr>
              <p:spPr>
                <a:xfrm>
                  <a:off x="4068720" y="4052880"/>
                  <a:ext cx="0" cy="465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7" name=""/>
                <p:cNvSpPr/>
                <p:nvPr/>
              </p:nvSpPr>
              <p:spPr>
                <a:xfrm>
                  <a:off x="4068720" y="3319560"/>
                  <a:ext cx="0" cy="442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28" name=""/>
              <p:cNvSpPr/>
              <p:nvPr/>
            </p:nvSpPr>
            <p:spPr>
              <a:xfrm>
                <a:off x="3584520" y="4048200"/>
                <a:ext cx="70200" cy="60840"/>
              </a:xfrm>
              <a:custGeom>
                <a:avLst/>
                <a:gdLst/>
                <a:ahLst/>
                <a:rect l="0" t="0" r="r" b="b"/>
                <a:pathLst>
                  <a:path w="195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95" y="124"/>
                    </a:lnTo>
                    <a:lnTo>
                      <a:pt x="1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3562200" y="4276800"/>
                <a:ext cx="356040" cy="82800"/>
              </a:xfrm>
              <a:custGeom>
                <a:avLst/>
                <a:gdLst/>
                <a:ahLst/>
                <a:rect l="0" t="0" r="r" b="b"/>
                <a:pathLst>
                  <a:path w="989" h="230">
                    <a:moveTo>
                      <a:pt x="167" y="44"/>
                    </a:moveTo>
                    <a:lnTo>
                      <a:pt x="0" y="230"/>
                    </a:lnTo>
                    <a:lnTo>
                      <a:pt x="989" y="195"/>
                    </a:lnTo>
                    <a:lnTo>
                      <a:pt x="778" y="0"/>
                    </a:lnTo>
                    <a:lnTo>
                      <a:pt x="167" y="44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4489560" y="3689280"/>
                <a:ext cx="149760" cy="98640"/>
              </a:xfrm>
              <a:custGeom>
                <a:avLst/>
                <a:gdLst/>
                <a:ahLst/>
                <a:rect l="0" t="0" r="r" b="b"/>
                <a:pathLst>
                  <a:path w="416" h="274">
                    <a:moveTo>
                      <a:pt x="0" y="26"/>
                    </a:moveTo>
                    <a:lnTo>
                      <a:pt x="44" y="274"/>
                    </a:lnTo>
                    <a:lnTo>
                      <a:pt x="363" y="186"/>
                    </a:lnTo>
                    <a:lnTo>
                      <a:pt x="416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>
                <a:off x="4492800" y="4051440"/>
                <a:ext cx="82800" cy="101880"/>
              </a:xfrm>
              <a:custGeom>
                <a:avLst/>
                <a:gdLst/>
                <a:ahLst/>
                <a:rect l="0" t="0" r="r" b="b"/>
                <a:pathLst>
                  <a:path w="230" h="283">
                    <a:moveTo>
                      <a:pt x="8" y="0"/>
                    </a:moveTo>
                    <a:lnTo>
                      <a:pt x="0" y="283"/>
                    </a:lnTo>
                    <a:lnTo>
                      <a:pt x="203" y="123"/>
                    </a:lnTo>
                    <a:lnTo>
                      <a:pt x="23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4181400" y="4280040"/>
                <a:ext cx="359280" cy="105120"/>
              </a:xfrm>
              <a:custGeom>
                <a:avLst/>
                <a:gdLst/>
                <a:ahLst/>
                <a:rect l="0" t="0" r="r" b="b"/>
                <a:pathLst>
                  <a:path w="998" h="292">
                    <a:moveTo>
                      <a:pt x="283" y="35"/>
                    </a:moveTo>
                    <a:lnTo>
                      <a:pt x="0" y="292"/>
                    </a:lnTo>
                    <a:lnTo>
                      <a:pt x="998" y="239"/>
                    </a:lnTo>
                    <a:lnTo>
                      <a:pt x="980" y="0"/>
                    </a:lnTo>
                    <a:lnTo>
                      <a:pt x="283" y="35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33" name=""/>
            <p:cNvSpPr/>
            <p:nvPr/>
          </p:nvSpPr>
          <p:spPr>
            <a:xfrm>
              <a:off x="4548240" y="3476520"/>
              <a:ext cx="133560" cy="838440"/>
            </a:xfrm>
            <a:custGeom>
              <a:avLst/>
              <a:gdLst/>
              <a:ahLst/>
              <a:rect l="0" t="0" r="r" b="b"/>
              <a:pathLst>
                <a:path fill="none" w="371" h="2329">
                  <a:moveTo>
                    <a:pt x="331" y="0"/>
                  </a:moveTo>
                  <a:lnTo>
                    <a:pt x="344" y="39"/>
                  </a:lnTo>
                  <a:lnTo>
                    <a:pt x="358" y="79"/>
                  </a:lnTo>
                  <a:lnTo>
                    <a:pt x="371" y="119"/>
                  </a:lnTo>
                  <a:lnTo>
                    <a:pt x="371" y="185"/>
                  </a:lnTo>
                  <a:lnTo>
                    <a:pt x="358" y="251"/>
                  </a:lnTo>
                  <a:lnTo>
                    <a:pt x="344" y="291"/>
                  </a:lnTo>
                  <a:lnTo>
                    <a:pt x="331" y="343"/>
                  </a:lnTo>
                  <a:lnTo>
                    <a:pt x="318" y="383"/>
                  </a:lnTo>
                  <a:lnTo>
                    <a:pt x="305" y="436"/>
                  </a:lnTo>
                  <a:lnTo>
                    <a:pt x="305" y="489"/>
                  </a:lnTo>
                  <a:lnTo>
                    <a:pt x="305" y="529"/>
                  </a:lnTo>
                  <a:lnTo>
                    <a:pt x="305" y="568"/>
                  </a:lnTo>
                  <a:lnTo>
                    <a:pt x="292" y="608"/>
                  </a:lnTo>
                  <a:lnTo>
                    <a:pt x="265" y="648"/>
                  </a:lnTo>
                  <a:lnTo>
                    <a:pt x="252" y="687"/>
                  </a:lnTo>
                  <a:lnTo>
                    <a:pt x="239" y="727"/>
                  </a:lnTo>
                  <a:lnTo>
                    <a:pt x="225" y="780"/>
                  </a:lnTo>
                  <a:lnTo>
                    <a:pt x="212" y="820"/>
                  </a:lnTo>
                  <a:lnTo>
                    <a:pt x="199" y="899"/>
                  </a:lnTo>
                  <a:lnTo>
                    <a:pt x="199" y="939"/>
                  </a:lnTo>
                  <a:lnTo>
                    <a:pt x="199" y="992"/>
                  </a:lnTo>
                  <a:lnTo>
                    <a:pt x="199" y="1031"/>
                  </a:lnTo>
                  <a:lnTo>
                    <a:pt x="199" y="1098"/>
                  </a:lnTo>
                  <a:lnTo>
                    <a:pt x="199" y="1150"/>
                  </a:lnTo>
                  <a:lnTo>
                    <a:pt x="186" y="1191"/>
                  </a:lnTo>
                  <a:lnTo>
                    <a:pt x="171" y="1231"/>
                  </a:lnTo>
                  <a:lnTo>
                    <a:pt x="145" y="1270"/>
                  </a:lnTo>
                  <a:lnTo>
                    <a:pt x="145" y="1337"/>
                  </a:lnTo>
                  <a:lnTo>
                    <a:pt x="132" y="1390"/>
                  </a:lnTo>
                  <a:lnTo>
                    <a:pt x="119" y="1442"/>
                  </a:lnTo>
                  <a:lnTo>
                    <a:pt x="119" y="1522"/>
                  </a:lnTo>
                  <a:lnTo>
                    <a:pt x="119" y="1562"/>
                  </a:lnTo>
                  <a:lnTo>
                    <a:pt x="119" y="1614"/>
                  </a:lnTo>
                  <a:lnTo>
                    <a:pt x="105" y="1654"/>
                  </a:lnTo>
                  <a:lnTo>
                    <a:pt x="79" y="1694"/>
                  </a:lnTo>
                  <a:lnTo>
                    <a:pt x="66" y="1734"/>
                  </a:lnTo>
                  <a:lnTo>
                    <a:pt x="52" y="1800"/>
                  </a:lnTo>
                  <a:lnTo>
                    <a:pt x="52" y="1839"/>
                  </a:lnTo>
                  <a:lnTo>
                    <a:pt x="39" y="1892"/>
                  </a:lnTo>
                  <a:lnTo>
                    <a:pt x="39" y="1932"/>
                  </a:lnTo>
                  <a:lnTo>
                    <a:pt x="26" y="1972"/>
                  </a:lnTo>
                  <a:lnTo>
                    <a:pt x="26" y="2025"/>
                  </a:lnTo>
                  <a:lnTo>
                    <a:pt x="13" y="2064"/>
                  </a:lnTo>
                  <a:lnTo>
                    <a:pt x="13" y="2104"/>
                  </a:lnTo>
                  <a:lnTo>
                    <a:pt x="13" y="2170"/>
                  </a:lnTo>
                  <a:lnTo>
                    <a:pt x="0" y="2210"/>
                  </a:lnTo>
                  <a:lnTo>
                    <a:pt x="0" y="2249"/>
                  </a:lnTo>
                  <a:lnTo>
                    <a:pt x="0" y="2316"/>
                  </a:lnTo>
                  <a:lnTo>
                    <a:pt x="13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3540240" y="3476520"/>
              <a:ext cx="68760" cy="841680"/>
            </a:xfrm>
            <a:custGeom>
              <a:avLst/>
              <a:gdLst/>
              <a:ahLst/>
              <a:rect l="0" t="0" r="r" b="b"/>
              <a:pathLst>
                <a:path fill="none" w="191" h="2338">
                  <a:moveTo>
                    <a:pt x="0" y="0"/>
                  </a:moveTo>
                  <a:lnTo>
                    <a:pt x="4" y="52"/>
                  </a:lnTo>
                  <a:lnTo>
                    <a:pt x="35" y="145"/>
                  </a:lnTo>
                  <a:lnTo>
                    <a:pt x="160" y="299"/>
                  </a:lnTo>
                  <a:lnTo>
                    <a:pt x="191" y="392"/>
                  </a:lnTo>
                  <a:lnTo>
                    <a:pt x="128" y="485"/>
                  </a:lnTo>
                  <a:lnTo>
                    <a:pt x="98" y="665"/>
                  </a:lnTo>
                  <a:lnTo>
                    <a:pt x="67" y="820"/>
                  </a:lnTo>
                  <a:lnTo>
                    <a:pt x="67" y="1036"/>
                  </a:lnTo>
                  <a:lnTo>
                    <a:pt x="67" y="1128"/>
                  </a:lnTo>
                  <a:lnTo>
                    <a:pt x="67" y="1253"/>
                  </a:lnTo>
                  <a:lnTo>
                    <a:pt x="67" y="1345"/>
                  </a:lnTo>
                  <a:lnTo>
                    <a:pt x="67" y="1438"/>
                  </a:lnTo>
                  <a:lnTo>
                    <a:pt x="67" y="1531"/>
                  </a:lnTo>
                  <a:lnTo>
                    <a:pt x="98" y="1623"/>
                  </a:lnTo>
                  <a:lnTo>
                    <a:pt x="98" y="1716"/>
                  </a:lnTo>
                  <a:lnTo>
                    <a:pt x="98" y="1839"/>
                  </a:lnTo>
                  <a:lnTo>
                    <a:pt x="98" y="1989"/>
                  </a:lnTo>
                  <a:lnTo>
                    <a:pt x="160" y="2082"/>
                  </a:lnTo>
                  <a:lnTo>
                    <a:pt x="191" y="2174"/>
                  </a:lnTo>
                  <a:lnTo>
                    <a:pt x="191" y="2267"/>
                  </a:lnTo>
                  <a:lnTo>
                    <a:pt x="142" y="233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5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636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42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3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4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5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6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7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8" name=""/>
          <p:cNvSpPr/>
          <p:nvPr/>
        </p:nvSpPr>
        <p:spPr>
          <a:xfrm flipV="1">
            <a:off x="254160" y="3476520"/>
            <a:ext cx="849240" cy="84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9" name=""/>
          <p:cNvSpPr/>
          <p:nvPr/>
        </p:nvSpPr>
        <p:spPr>
          <a:xfrm>
            <a:off x="1101600" y="347652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0" name=""/>
          <p:cNvSpPr/>
          <p:nvPr/>
        </p:nvSpPr>
        <p:spPr>
          <a:xfrm>
            <a:off x="254160" y="4317840"/>
            <a:ext cx="588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1" name=""/>
          <p:cNvSpPr/>
          <p:nvPr/>
        </p:nvSpPr>
        <p:spPr>
          <a:xfrm flipH="1">
            <a:off x="4494240" y="372888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2" name=""/>
          <p:cNvSpPr/>
          <p:nvPr/>
        </p:nvSpPr>
        <p:spPr>
          <a:xfrm flipH="1">
            <a:off x="4491000" y="4073400"/>
            <a:ext cx="58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3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4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55" name=""/>
          <p:cNvGrpSpPr/>
          <p:nvPr/>
        </p:nvGrpSpPr>
        <p:grpSpPr>
          <a:xfrm>
            <a:off x="6680160" y="3502080"/>
            <a:ext cx="160560" cy="802800"/>
            <a:chOff x="6680160" y="3502080"/>
            <a:chExt cx="160560" cy="802800"/>
          </a:xfrm>
        </p:grpSpPr>
        <p:sp>
          <p:nvSpPr>
            <p:cNvPr id="8656" name=""/>
            <p:cNvSpPr/>
            <p:nvPr/>
          </p:nvSpPr>
          <p:spPr>
            <a:xfrm>
              <a:off x="6737400" y="3894120"/>
              <a:ext cx="101880" cy="209880"/>
            </a:xfrm>
            <a:custGeom>
              <a:avLst/>
              <a:gdLst/>
              <a:ahLst/>
              <a:rect l="0" t="0" r="r" b="b"/>
              <a:pathLst>
                <a:path w="283" h="583">
                  <a:moveTo>
                    <a:pt x="0" y="583"/>
                  </a:moveTo>
                  <a:lnTo>
                    <a:pt x="283" y="583"/>
                  </a:lnTo>
                  <a:lnTo>
                    <a:pt x="283" y="583"/>
                  </a:lnTo>
                  <a:lnTo>
                    <a:pt x="283" y="583"/>
                  </a:lnTo>
                  <a:cubicBezTo>
                    <a:pt x="283" y="481"/>
                    <a:pt x="270" y="380"/>
                    <a:pt x="245" y="291"/>
                  </a:cubicBezTo>
                  <a:cubicBezTo>
                    <a:pt x="220" y="203"/>
                    <a:pt x="185" y="129"/>
                    <a:pt x="141" y="78"/>
                  </a:cubicBezTo>
                  <a:cubicBezTo>
                    <a:pt x="98" y="27"/>
                    <a:pt x="50" y="0"/>
                    <a:pt x="0" y="0"/>
                  </a:cubicBezTo>
                  <a:lnTo>
                    <a:pt x="0" y="583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6680160" y="3876480"/>
              <a:ext cx="82800" cy="229320"/>
            </a:xfrm>
            <a:custGeom>
              <a:avLst/>
              <a:gdLst/>
              <a:ahLst/>
              <a:rect l="0" t="0" r="r" b="b"/>
              <a:pathLst>
                <a:path w="230" h="637">
                  <a:moveTo>
                    <a:pt x="230" y="637"/>
                  </a:moveTo>
                  <a:lnTo>
                    <a:pt x="146" y="0"/>
                  </a:lnTo>
                  <a:lnTo>
                    <a:pt x="146" y="0"/>
                  </a:lnTo>
                  <a:cubicBezTo>
                    <a:pt x="135" y="12"/>
                    <a:pt x="125" y="27"/>
                    <a:pt x="115" y="44"/>
                  </a:cubicBezTo>
                  <a:cubicBezTo>
                    <a:pt x="80" y="104"/>
                    <a:pt x="51" y="191"/>
                    <a:pt x="31" y="295"/>
                  </a:cubicBezTo>
                  <a:cubicBezTo>
                    <a:pt x="11" y="399"/>
                    <a:pt x="0" y="517"/>
                    <a:pt x="0" y="637"/>
                  </a:cubicBezTo>
                  <a:lnTo>
                    <a:pt x="230" y="637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6762600" y="4097160"/>
              <a:ext cx="78120" cy="204480"/>
            </a:xfrm>
            <a:custGeom>
              <a:avLst/>
              <a:gdLst/>
              <a:ahLst/>
              <a:rect l="0" t="0" r="r" b="b"/>
              <a:pathLst>
                <a:path w="217" h="568">
                  <a:moveTo>
                    <a:pt x="217" y="568"/>
                  </a:moveTo>
                  <a:lnTo>
                    <a:pt x="217" y="0"/>
                  </a:lnTo>
                  <a:lnTo>
                    <a:pt x="217" y="0"/>
                  </a:lnTo>
                  <a:cubicBezTo>
                    <a:pt x="179" y="0"/>
                    <a:pt x="141" y="26"/>
                    <a:pt x="108" y="76"/>
                  </a:cubicBezTo>
                  <a:cubicBezTo>
                    <a:pt x="76" y="126"/>
                    <a:pt x="48" y="198"/>
                    <a:pt x="29" y="284"/>
                  </a:cubicBezTo>
                  <a:cubicBezTo>
                    <a:pt x="10" y="370"/>
                    <a:pt x="0" y="468"/>
                    <a:pt x="0" y="568"/>
                  </a:cubicBezTo>
                  <a:lnTo>
                    <a:pt x="217" y="568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6682680" y="4095720"/>
              <a:ext cx="80640" cy="209160"/>
            </a:xfrm>
            <a:custGeom>
              <a:avLst/>
              <a:gdLst/>
              <a:ahLst/>
              <a:rect l="0" t="0" r="r" b="b"/>
              <a:pathLst>
                <a:path w="224" h="581">
                  <a:moveTo>
                    <a:pt x="0" y="581"/>
                  </a:moveTo>
                  <a:lnTo>
                    <a:pt x="224" y="581"/>
                  </a:lnTo>
                  <a:lnTo>
                    <a:pt x="224" y="581"/>
                  </a:lnTo>
                  <a:lnTo>
                    <a:pt x="224" y="581"/>
                  </a:lnTo>
                  <a:cubicBezTo>
                    <a:pt x="224" y="479"/>
                    <a:pt x="214" y="379"/>
                    <a:pt x="194" y="290"/>
                  </a:cubicBezTo>
                  <a:cubicBezTo>
                    <a:pt x="174" y="202"/>
                    <a:pt x="146" y="129"/>
                    <a:pt x="112" y="78"/>
                  </a:cubicBezTo>
                  <a:cubicBezTo>
                    <a:pt x="78" y="27"/>
                    <a:pt x="39" y="0"/>
                    <a:pt x="0" y="0"/>
                  </a:cubicBezTo>
                  <a:lnTo>
                    <a:pt x="0" y="581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6689880" y="3502080"/>
              <a:ext cx="117000" cy="201240"/>
            </a:xfrm>
            <a:custGeom>
              <a:avLst/>
              <a:gdLst/>
              <a:ahLst/>
              <a:rect l="0" t="0" r="r" b="b"/>
              <a:pathLst>
                <a:path fill="none" w="325" h="559">
                  <a:moveTo>
                    <a:pt x="325" y="0"/>
                  </a:moveTo>
                  <a:lnTo>
                    <a:pt x="325" y="0"/>
                  </a:lnTo>
                  <a:cubicBezTo>
                    <a:pt x="268" y="0"/>
                    <a:pt x="212" y="26"/>
                    <a:pt x="162" y="75"/>
                  </a:cubicBezTo>
                  <a:cubicBezTo>
                    <a:pt x="113" y="124"/>
                    <a:pt x="72" y="195"/>
                    <a:pt x="44" y="280"/>
                  </a:cubicBezTo>
                  <a:cubicBezTo>
                    <a:pt x="15" y="364"/>
                    <a:pt x="0" y="461"/>
                    <a:pt x="0" y="5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6692040" y="3695760"/>
              <a:ext cx="83520" cy="211320"/>
            </a:xfrm>
            <a:custGeom>
              <a:avLst/>
              <a:gdLst/>
              <a:ahLst/>
              <a:rect l="0" t="0" r="r" b="b"/>
              <a:pathLst>
                <a:path fill="none" w="232" h="587">
                  <a:moveTo>
                    <a:pt x="232" y="587"/>
                  </a:moveTo>
                  <a:lnTo>
                    <a:pt x="232" y="587"/>
                  </a:lnTo>
                  <a:lnTo>
                    <a:pt x="232" y="587"/>
                  </a:lnTo>
                  <a:cubicBezTo>
                    <a:pt x="232" y="484"/>
                    <a:pt x="221" y="383"/>
                    <a:pt x="201" y="293"/>
                  </a:cubicBezTo>
                  <a:cubicBezTo>
                    <a:pt x="181" y="204"/>
                    <a:pt x="151" y="130"/>
                    <a:pt x="116" y="79"/>
                  </a:cubicBezTo>
                  <a:cubicBezTo>
                    <a:pt x="81" y="27"/>
                    <a:pt x="4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2" name=""/>
          <p:cNvGrpSpPr/>
          <p:nvPr/>
        </p:nvGrpSpPr>
        <p:grpSpPr>
          <a:xfrm>
            <a:off x="5518080" y="3475080"/>
            <a:ext cx="166320" cy="841680"/>
            <a:chOff x="5518080" y="3475080"/>
            <a:chExt cx="166320" cy="841680"/>
          </a:xfrm>
        </p:grpSpPr>
        <p:sp>
          <p:nvSpPr>
            <p:cNvPr id="8663" name=""/>
            <p:cNvSpPr/>
            <p:nvPr/>
          </p:nvSpPr>
          <p:spPr>
            <a:xfrm>
              <a:off x="5518080" y="3687840"/>
              <a:ext cx="106560" cy="220320"/>
            </a:xfrm>
            <a:custGeom>
              <a:avLst/>
              <a:gdLst/>
              <a:ahLst/>
              <a:rect l="0" t="0" r="r" b="b"/>
              <a:pathLst>
                <a:path w="296" h="612">
                  <a:moveTo>
                    <a:pt x="0" y="612"/>
                  </a:moveTo>
                  <a:lnTo>
                    <a:pt x="296" y="612"/>
                  </a:lnTo>
                  <a:lnTo>
                    <a:pt x="296" y="612"/>
                  </a:lnTo>
                  <a:lnTo>
                    <a:pt x="296" y="612"/>
                  </a:lnTo>
                  <a:cubicBezTo>
                    <a:pt x="296" y="505"/>
                    <a:pt x="282" y="399"/>
                    <a:pt x="256" y="306"/>
                  </a:cubicBezTo>
                  <a:cubicBezTo>
                    <a:pt x="230" y="213"/>
                    <a:pt x="193" y="136"/>
                    <a:pt x="148" y="82"/>
                  </a:cubicBezTo>
                  <a:cubicBezTo>
                    <a:pt x="103" y="28"/>
                    <a:pt x="52" y="0"/>
                    <a:pt x="0" y="0"/>
                  </a:cubicBezTo>
                  <a:lnTo>
                    <a:pt x="0" y="612"/>
                  </a:lnTo>
                  <a:close/>
                </a:path>
              </a:pathLst>
            </a:custGeom>
            <a:blipFill rotWithShape="0">
              <a:blip r:embed="rId5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5599080" y="3684960"/>
              <a:ext cx="85320" cy="241200"/>
            </a:xfrm>
            <a:custGeom>
              <a:avLst/>
              <a:gdLst/>
              <a:ahLst/>
              <a:rect l="0" t="0" r="r" b="b"/>
              <a:pathLst>
                <a:path w="237" h="670">
                  <a:moveTo>
                    <a:pt x="237" y="670"/>
                  </a:moveTo>
                  <a:lnTo>
                    <a:pt x="150" y="0"/>
                  </a:lnTo>
                  <a:lnTo>
                    <a:pt x="150" y="0"/>
                  </a:lnTo>
                  <a:cubicBezTo>
                    <a:pt x="139" y="13"/>
                    <a:pt x="129" y="29"/>
                    <a:pt x="118" y="47"/>
                  </a:cubicBezTo>
                  <a:cubicBezTo>
                    <a:pt x="82" y="110"/>
                    <a:pt x="53" y="201"/>
                    <a:pt x="32" y="310"/>
                  </a:cubicBezTo>
                  <a:cubicBezTo>
                    <a:pt x="11" y="420"/>
                    <a:pt x="0" y="544"/>
                    <a:pt x="0" y="670"/>
                  </a:cubicBezTo>
                  <a:lnTo>
                    <a:pt x="237" y="670"/>
                  </a:lnTo>
                  <a:close/>
                </a:path>
              </a:pathLst>
            </a:custGeom>
            <a:blipFill rotWithShape="0">
              <a:blip r:embed="rId6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5518080" y="3479760"/>
              <a:ext cx="82080" cy="214560"/>
            </a:xfrm>
            <a:custGeom>
              <a:avLst/>
              <a:gdLst/>
              <a:ahLst/>
              <a:rect l="0" t="0" r="r" b="b"/>
              <a:pathLst>
                <a:path w="228" h="596">
                  <a:moveTo>
                    <a:pt x="228" y="596"/>
                  </a:moveTo>
                  <a:lnTo>
                    <a:pt x="228" y="0"/>
                  </a:lnTo>
                  <a:lnTo>
                    <a:pt x="228" y="0"/>
                  </a:lnTo>
                  <a:cubicBezTo>
                    <a:pt x="188" y="0"/>
                    <a:pt x="149" y="28"/>
                    <a:pt x="114" y="80"/>
                  </a:cubicBezTo>
                  <a:cubicBezTo>
                    <a:pt x="79" y="132"/>
                    <a:pt x="51" y="207"/>
                    <a:pt x="31" y="298"/>
                  </a:cubicBezTo>
                  <a:cubicBezTo>
                    <a:pt x="11" y="389"/>
                    <a:pt x="0" y="491"/>
                    <a:pt x="0" y="596"/>
                  </a:cubicBezTo>
                  <a:lnTo>
                    <a:pt x="228" y="596"/>
                  </a:lnTo>
                  <a:close/>
                </a:path>
              </a:pathLst>
            </a:custGeom>
            <a:blipFill rotWithShape="0">
              <a:blip r:embed="rId7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5598360" y="3475080"/>
              <a:ext cx="83520" cy="219600"/>
            </a:xfrm>
            <a:custGeom>
              <a:avLst/>
              <a:gdLst/>
              <a:ahLst/>
              <a:rect l="0" t="0" r="r" b="b"/>
              <a:pathLst>
                <a:path w="232" h="610">
                  <a:moveTo>
                    <a:pt x="0" y="610"/>
                  </a:moveTo>
                  <a:lnTo>
                    <a:pt x="232" y="610"/>
                  </a:lnTo>
                  <a:lnTo>
                    <a:pt x="232" y="610"/>
                  </a:lnTo>
                  <a:lnTo>
                    <a:pt x="232" y="610"/>
                  </a:lnTo>
                  <a:cubicBezTo>
                    <a:pt x="232" y="503"/>
                    <a:pt x="221" y="398"/>
                    <a:pt x="201" y="305"/>
                  </a:cubicBezTo>
                  <a:cubicBezTo>
                    <a:pt x="181" y="212"/>
                    <a:pt x="151" y="135"/>
                    <a:pt x="116" y="82"/>
                  </a:cubicBezTo>
                  <a:cubicBezTo>
                    <a:pt x="81" y="28"/>
                    <a:pt x="41" y="0"/>
                    <a:pt x="0" y="0"/>
                  </a:cubicBezTo>
                  <a:lnTo>
                    <a:pt x="0" y="610"/>
                  </a:lnTo>
                  <a:close/>
                </a:path>
              </a:pathLst>
            </a:custGeom>
            <a:blipFill rotWithShape="0">
              <a:blip r:embed="rId8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5551560" y="4106880"/>
              <a:ext cx="123480" cy="209880"/>
            </a:xfrm>
            <a:custGeom>
              <a:avLst/>
              <a:gdLst/>
              <a:ahLst/>
              <a:rect l="0" t="0" r="r" b="b"/>
              <a:pathLst>
                <a:path fill="none" w="343" h="583">
                  <a:moveTo>
                    <a:pt x="343" y="0"/>
                  </a:moveTo>
                  <a:lnTo>
                    <a:pt x="343" y="0"/>
                  </a:lnTo>
                  <a:cubicBezTo>
                    <a:pt x="283" y="0"/>
                    <a:pt x="224" y="27"/>
                    <a:pt x="171" y="78"/>
                  </a:cubicBezTo>
                  <a:cubicBezTo>
                    <a:pt x="119" y="129"/>
                    <a:pt x="76" y="203"/>
                    <a:pt x="46" y="292"/>
                  </a:cubicBezTo>
                  <a:cubicBezTo>
                    <a:pt x="16" y="380"/>
                    <a:pt x="0" y="481"/>
                    <a:pt x="0" y="58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5586480" y="3894120"/>
              <a:ext cx="87840" cy="223560"/>
            </a:xfrm>
            <a:custGeom>
              <a:avLst/>
              <a:gdLst/>
              <a:ahLst/>
              <a:rect l="0" t="0" r="r" b="b"/>
              <a:pathLst>
                <a:path fill="none" w="244" h="621">
                  <a:moveTo>
                    <a:pt x="244" y="621"/>
                  </a:moveTo>
                  <a:lnTo>
                    <a:pt x="244" y="621"/>
                  </a:lnTo>
                  <a:lnTo>
                    <a:pt x="244" y="621"/>
                  </a:lnTo>
                  <a:cubicBezTo>
                    <a:pt x="244" y="512"/>
                    <a:pt x="233" y="405"/>
                    <a:pt x="211" y="310"/>
                  </a:cubicBezTo>
                  <a:cubicBezTo>
                    <a:pt x="190" y="216"/>
                    <a:pt x="159" y="138"/>
                    <a:pt x="122" y="83"/>
                  </a:cubicBezTo>
                  <a:cubicBezTo>
                    <a:pt x="85" y="29"/>
                    <a:pt x="43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69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0" name=""/>
          <p:cNvGrpSpPr/>
          <p:nvPr/>
        </p:nvGrpSpPr>
        <p:grpSpPr>
          <a:xfrm>
            <a:off x="6172200" y="3305160"/>
            <a:ext cx="0" cy="1198440"/>
            <a:chOff x="6172200" y="3305160"/>
            <a:chExt cx="0" cy="1198440"/>
          </a:xfrm>
        </p:grpSpPr>
        <p:sp>
          <p:nvSpPr>
            <p:cNvPr id="8671" name=""/>
            <p:cNvSpPr/>
            <p:nvPr/>
          </p:nvSpPr>
          <p:spPr>
            <a:xfrm>
              <a:off x="6172200" y="384012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6172200" y="40384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6172200" y="33051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74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5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6" name=""/>
          <p:cNvGrpSpPr/>
          <p:nvPr/>
        </p:nvGrpSpPr>
        <p:grpSpPr>
          <a:xfrm>
            <a:off x="1441440" y="3306600"/>
            <a:ext cx="3240360" cy="1211400"/>
            <a:chOff x="1441440" y="3306600"/>
            <a:chExt cx="3240360" cy="1211400"/>
          </a:xfrm>
        </p:grpSpPr>
        <p:sp>
          <p:nvSpPr>
            <p:cNvPr id="8677" name=""/>
            <p:cNvSpPr/>
            <p:nvPr/>
          </p:nvSpPr>
          <p:spPr>
            <a:xfrm>
              <a:off x="3465360" y="372744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3451320" y="4075200"/>
              <a:ext cx="19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3141720" y="348732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3154320" y="410040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2603520" y="3479760"/>
              <a:ext cx="105120" cy="835560"/>
            </a:xfrm>
            <a:custGeom>
              <a:avLst/>
              <a:gdLst/>
              <a:ahLst/>
              <a:rect l="0" t="0" r="r" b="b"/>
              <a:pathLst>
                <a:path fill="none" w="292" h="2321">
                  <a:moveTo>
                    <a:pt x="292" y="0"/>
                  </a:moveTo>
                  <a:lnTo>
                    <a:pt x="292" y="0"/>
                  </a:lnTo>
                  <a:lnTo>
                    <a:pt x="274" y="26"/>
                  </a:lnTo>
                  <a:lnTo>
                    <a:pt x="274" y="52"/>
                  </a:lnTo>
                  <a:lnTo>
                    <a:pt x="274" y="88"/>
                  </a:lnTo>
                  <a:lnTo>
                    <a:pt x="274" y="132"/>
                  </a:lnTo>
                  <a:lnTo>
                    <a:pt x="274" y="158"/>
                  </a:lnTo>
                  <a:lnTo>
                    <a:pt x="274" y="202"/>
                  </a:lnTo>
                  <a:lnTo>
                    <a:pt x="274" y="246"/>
                  </a:lnTo>
                  <a:lnTo>
                    <a:pt x="274" y="282"/>
                  </a:lnTo>
                  <a:lnTo>
                    <a:pt x="274" y="317"/>
                  </a:lnTo>
                  <a:lnTo>
                    <a:pt x="256" y="343"/>
                  </a:lnTo>
                  <a:lnTo>
                    <a:pt x="256" y="370"/>
                  </a:lnTo>
                  <a:lnTo>
                    <a:pt x="247" y="414"/>
                  </a:lnTo>
                  <a:lnTo>
                    <a:pt x="247" y="449"/>
                  </a:lnTo>
                  <a:lnTo>
                    <a:pt x="247" y="476"/>
                  </a:lnTo>
                  <a:lnTo>
                    <a:pt x="247" y="502"/>
                  </a:lnTo>
                  <a:lnTo>
                    <a:pt x="247" y="529"/>
                  </a:lnTo>
                  <a:lnTo>
                    <a:pt x="247" y="564"/>
                  </a:lnTo>
                  <a:lnTo>
                    <a:pt x="256" y="591"/>
                  </a:lnTo>
                  <a:lnTo>
                    <a:pt x="256" y="618"/>
                  </a:lnTo>
                  <a:lnTo>
                    <a:pt x="256" y="680"/>
                  </a:lnTo>
                  <a:lnTo>
                    <a:pt x="247" y="715"/>
                  </a:lnTo>
                  <a:lnTo>
                    <a:pt x="239" y="741"/>
                  </a:lnTo>
                  <a:lnTo>
                    <a:pt x="239" y="768"/>
                  </a:lnTo>
                  <a:lnTo>
                    <a:pt x="239" y="803"/>
                  </a:lnTo>
                  <a:lnTo>
                    <a:pt x="239" y="882"/>
                  </a:lnTo>
                  <a:lnTo>
                    <a:pt x="239" y="918"/>
                  </a:lnTo>
                  <a:lnTo>
                    <a:pt x="239" y="953"/>
                  </a:lnTo>
                  <a:lnTo>
                    <a:pt x="221" y="997"/>
                  </a:lnTo>
                  <a:lnTo>
                    <a:pt x="212" y="1041"/>
                  </a:lnTo>
                  <a:lnTo>
                    <a:pt x="203" y="1068"/>
                  </a:lnTo>
                  <a:lnTo>
                    <a:pt x="195" y="1121"/>
                  </a:lnTo>
                  <a:lnTo>
                    <a:pt x="186" y="1147"/>
                  </a:lnTo>
                  <a:lnTo>
                    <a:pt x="186" y="1191"/>
                  </a:lnTo>
                  <a:lnTo>
                    <a:pt x="177" y="1235"/>
                  </a:lnTo>
                  <a:lnTo>
                    <a:pt x="177" y="1279"/>
                  </a:lnTo>
                  <a:lnTo>
                    <a:pt x="177" y="1306"/>
                  </a:lnTo>
                  <a:lnTo>
                    <a:pt x="177" y="1350"/>
                  </a:lnTo>
                  <a:lnTo>
                    <a:pt x="186" y="1385"/>
                  </a:lnTo>
                  <a:lnTo>
                    <a:pt x="186" y="1420"/>
                  </a:lnTo>
                  <a:lnTo>
                    <a:pt x="186" y="1473"/>
                  </a:lnTo>
                  <a:lnTo>
                    <a:pt x="186" y="1535"/>
                  </a:lnTo>
                  <a:lnTo>
                    <a:pt x="186" y="1597"/>
                  </a:lnTo>
                  <a:lnTo>
                    <a:pt x="186" y="1632"/>
                  </a:lnTo>
                  <a:lnTo>
                    <a:pt x="186" y="1667"/>
                  </a:lnTo>
                  <a:lnTo>
                    <a:pt x="177" y="1694"/>
                  </a:lnTo>
                  <a:lnTo>
                    <a:pt x="168" y="1720"/>
                  </a:lnTo>
                  <a:lnTo>
                    <a:pt x="141" y="1748"/>
                  </a:lnTo>
                  <a:lnTo>
                    <a:pt x="132" y="1774"/>
                  </a:lnTo>
                  <a:lnTo>
                    <a:pt x="123" y="1801"/>
                  </a:lnTo>
                  <a:lnTo>
                    <a:pt x="97" y="1871"/>
                  </a:lnTo>
                  <a:lnTo>
                    <a:pt x="97" y="1898"/>
                  </a:lnTo>
                  <a:lnTo>
                    <a:pt x="97" y="1924"/>
                  </a:lnTo>
                  <a:lnTo>
                    <a:pt x="97" y="1968"/>
                  </a:lnTo>
                  <a:lnTo>
                    <a:pt x="97" y="1995"/>
                  </a:lnTo>
                  <a:lnTo>
                    <a:pt x="105" y="2021"/>
                  </a:lnTo>
                  <a:lnTo>
                    <a:pt x="97" y="2048"/>
                  </a:lnTo>
                  <a:lnTo>
                    <a:pt x="70" y="2056"/>
                  </a:lnTo>
                  <a:lnTo>
                    <a:pt x="70" y="2118"/>
                  </a:lnTo>
                  <a:lnTo>
                    <a:pt x="52" y="2162"/>
                  </a:lnTo>
                  <a:lnTo>
                    <a:pt x="44" y="2189"/>
                  </a:lnTo>
                  <a:lnTo>
                    <a:pt x="35" y="2215"/>
                  </a:lnTo>
                  <a:lnTo>
                    <a:pt x="17" y="2259"/>
                  </a:lnTo>
                  <a:lnTo>
                    <a:pt x="8" y="2286"/>
                  </a:lnTo>
                  <a:lnTo>
                    <a:pt x="8" y="2312"/>
                  </a:lnTo>
                  <a:lnTo>
                    <a:pt x="0" y="232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3" name=""/>
            <p:cNvSpPr/>
            <p:nvPr/>
          </p:nvSpPr>
          <p:spPr>
            <a:xfrm>
              <a:off x="1441440" y="3473280"/>
              <a:ext cx="92520" cy="844920"/>
            </a:xfrm>
            <a:custGeom>
              <a:avLst/>
              <a:gdLst/>
              <a:ahLst/>
              <a:rect l="0" t="0" r="r" b="b"/>
              <a:pathLst>
                <a:path fill="none" w="257" h="2347">
                  <a:moveTo>
                    <a:pt x="257" y="0"/>
                  </a:moveTo>
                  <a:lnTo>
                    <a:pt x="248" y="44"/>
                  </a:lnTo>
                  <a:lnTo>
                    <a:pt x="240" y="97"/>
                  </a:lnTo>
                  <a:lnTo>
                    <a:pt x="222" y="176"/>
                  </a:lnTo>
                  <a:lnTo>
                    <a:pt x="222" y="229"/>
                  </a:lnTo>
                  <a:lnTo>
                    <a:pt x="222" y="282"/>
                  </a:lnTo>
                  <a:lnTo>
                    <a:pt x="222" y="317"/>
                  </a:lnTo>
                  <a:lnTo>
                    <a:pt x="222" y="361"/>
                  </a:lnTo>
                  <a:lnTo>
                    <a:pt x="168" y="414"/>
                  </a:lnTo>
                  <a:lnTo>
                    <a:pt x="159" y="476"/>
                  </a:lnTo>
                  <a:lnTo>
                    <a:pt x="159" y="502"/>
                  </a:lnTo>
                  <a:lnTo>
                    <a:pt x="150" y="529"/>
                  </a:lnTo>
                  <a:lnTo>
                    <a:pt x="150" y="618"/>
                  </a:lnTo>
                  <a:lnTo>
                    <a:pt x="150" y="644"/>
                  </a:lnTo>
                  <a:lnTo>
                    <a:pt x="150" y="671"/>
                  </a:lnTo>
                  <a:lnTo>
                    <a:pt x="150" y="715"/>
                  </a:lnTo>
                  <a:lnTo>
                    <a:pt x="150" y="830"/>
                  </a:lnTo>
                  <a:lnTo>
                    <a:pt x="150" y="891"/>
                  </a:lnTo>
                  <a:lnTo>
                    <a:pt x="142" y="935"/>
                  </a:lnTo>
                  <a:lnTo>
                    <a:pt x="142" y="979"/>
                  </a:lnTo>
                  <a:lnTo>
                    <a:pt x="142" y="1015"/>
                  </a:lnTo>
                  <a:lnTo>
                    <a:pt x="142" y="1041"/>
                  </a:lnTo>
                  <a:lnTo>
                    <a:pt x="133" y="1103"/>
                  </a:lnTo>
                  <a:lnTo>
                    <a:pt x="124" y="1165"/>
                  </a:lnTo>
                  <a:lnTo>
                    <a:pt x="98" y="1235"/>
                  </a:lnTo>
                  <a:lnTo>
                    <a:pt x="89" y="1297"/>
                  </a:lnTo>
                  <a:lnTo>
                    <a:pt x="44" y="1473"/>
                  </a:lnTo>
                  <a:lnTo>
                    <a:pt x="35" y="1579"/>
                  </a:lnTo>
                  <a:lnTo>
                    <a:pt x="35" y="1641"/>
                  </a:lnTo>
                  <a:lnTo>
                    <a:pt x="26" y="1898"/>
                  </a:lnTo>
                  <a:lnTo>
                    <a:pt x="26" y="1959"/>
                  </a:lnTo>
                  <a:lnTo>
                    <a:pt x="26" y="1986"/>
                  </a:lnTo>
                  <a:lnTo>
                    <a:pt x="44" y="2012"/>
                  </a:lnTo>
                  <a:lnTo>
                    <a:pt x="52" y="2048"/>
                  </a:lnTo>
                  <a:lnTo>
                    <a:pt x="52" y="2074"/>
                  </a:lnTo>
                  <a:lnTo>
                    <a:pt x="52" y="2109"/>
                  </a:lnTo>
                  <a:lnTo>
                    <a:pt x="35" y="2136"/>
                  </a:lnTo>
                  <a:lnTo>
                    <a:pt x="35" y="2162"/>
                  </a:lnTo>
                  <a:lnTo>
                    <a:pt x="26" y="2189"/>
                  </a:lnTo>
                  <a:lnTo>
                    <a:pt x="17" y="2215"/>
                  </a:lnTo>
                  <a:lnTo>
                    <a:pt x="17" y="2242"/>
                  </a:lnTo>
                  <a:lnTo>
                    <a:pt x="8" y="2268"/>
                  </a:lnTo>
                  <a:lnTo>
                    <a:pt x="0" y="2295"/>
                  </a:lnTo>
                  <a:lnTo>
                    <a:pt x="0" y="2321"/>
                  </a:lnTo>
                  <a:lnTo>
                    <a:pt x="0" y="234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1538280" y="3452760"/>
              <a:ext cx="154080" cy="4752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5" name=""/>
            <p:cNvSpPr/>
            <p:nvPr/>
          </p:nvSpPr>
          <p:spPr>
            <a:xfrm>
              <a:off x="1449360" y="4295880"/>
              <a:ext cx="243000" cy="7632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6" name=""/>
            <p:cNvSpPr/>
            <p:nvPr/>
          </p:nvSpPr>
          <p:spPr>
            <a:xfrm>
              <a:off x="1643040" y="3473280"/>
              <a:ext cx="841320" cy="844560"/>
            </a:xfrm>
            <a:prstGeom prst="rect">
              <a:avLst/>
            </a:prstGeom>
            <a:blipFill rotWithShape="0">
              <a:blip r:embed="rId9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7" name=""/>
            <p:cNvGrpSpPr/>
            <p:nvPr/>
          </p:nvGrpSpPr>
          <p:grpSpPr>
            <a:xfrm>
              <a:off x="2063880" y="3306600"/>
              <a:ext cx="0" cy="1198800"/>
              <a:chOff x="2063880" y="3306600"/>
              <a:chExt cx="0" cy="1198800"/>
            </a:xfrm>
          </p:grpSpPr>
          <p:sp>
            <p:nvSpPr>
              <p:cNvPr id="8688" name=""/>
              <p:cNvSpPr/>
              <p:nvPr/>
            </p:nvSpPr>
            <p:spPr>
              <a:xfrm>
                <a:off x="2063880" y="38419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2063880" y="40402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2063880" y="3306600"/>
                <a:ext cx="0" cy="4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91" name=""/>
            <p:cNvSpPr/>
            <p:nvPr/>
          </p:nvSpPr>
          <p:spPr>
            <a:xfrm>
              <a:off x="2489040" y="3432240"/>
              <a:ext cx="200160" cy="698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2" name=""/>
            <p:cNvSpPr/>
            <p:nvPr/>
          </p:nvSpPr>
          <p:spPr>
            <a:xfrm>
              <a:off x="2486160" y="4289400"/>
              <a:ext cx="109440" cy="507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93" name=""/>
            <p:cNvGrpSpPr/>
            <p:nvPr/>
          </p:nvGrpSpPr>
          <p:grpSpPr>
            <a:xfrm>
              <a:off x="3451320" y="3319560"/>
              <a:ext cx="1209600" cy="1198440"/>
              <a:chOff x="3451320" y="3319560"/>
              <a:chExt cx="1209600" cy="1198440"/>
            </a:xfrm>
          </p:grpSpPr>
          <p:sp>
            <p:nvSpPr>
              <p:cNvPr id="8694" name=""/>
              <p:cNvSpPr/>
              <p:nvPr/>
            </p:nvSpPr>
            <p:spPr>
              <a:xfrm>
                <a:off x="3465360" y="3727440"/>
                <a:ext cx="184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3451320" y="4075200"/>
                <a:ext cx="198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3465360" y="3727440"/>
                <a:ext cx="1076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3510000" y="4071960"/>
                <a:ext cx="106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4300560" y="3440160"/>
                <a:ext cx="276120" cy="6336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3648240" y="3476520"/>
                <a:ext cx="844920" cy="841680"/>
              </a:xfrm>
              <a:custGeom>
                <a:avLst/>
                <a:gdLst/>
                <a:ahLst/>
                <a:rect l="0" t="0" r="r" b="b"/>
                <a:pathLst>
                  <a:path w="2347" h="2338">
                    <a:moveTo>
                      <a:pt x="0" y="701"/>
                    </a:moveTo>
                    <a:lnTo>
                      <a:pt x="0" y="1637"/>
                    </a:lnTo>
                    <a:lnTo>
                      <a:pt x="704" y="2338"/>
                    </a:lnTo>
                    <a:lnTo>
                      <a:pt x="1643" y="2338"/>
                    </a:lnTo>
                    <a:lnTo>
                      <a:pt x="2347" y="1637"/>
                    </a:lnTo>
                    <a:lnTo>
                      <a:pt x="2347" y="701"/>
                    </a:lnTo>
                    <a:lnTo>
                      <a:pt x="1643" y="0"/>
                    </a:lnTo>
                    <a:lnTo>
                      <a:pt x="704" y="0"/>
                    </a:lnTo>
                    <a:lnTo>
                      <a:pt x="0" y="701"/>
                    </a:lnTo>
                    <a:close/>
                  </a:path>
                </a:pathLst>
              </a:custGeom>
              <a:blipFill rotWithShape="0">
                <a:blip r:embed="rId10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3546360" y="3444840"/>
                <a:ext cx="339840" cy="4140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4228920" y="3432240"/>
                <a:ext cx="432000" cy="70200"/>
              </a:xfrm>
              <a:custGeom>
                <a:avLst/>
                <a:gdLst/>
                <a:ahLst/>
                <a:rect l="0" t="0" r="r" b="b"/>
                <a:pathLst>
                  <a:path w="1200" h="195">
                    <a:moveTo>
                      <a:pt x="0" y="61"/>
                    </a:moveTo>
                    <a:lnTo>
                      <a:pt x="134" y="195"/>
                    </a:lnTo>
                    <a:lnTo>
                      <a:pt x="1200" y="195"/>
                    </a:lnTo>
                    <a:lnTo>
                      <a:pt x="1191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3578400" y="3683160"/>
                <a:ext cx="66960" cy="63720"/>
              </a:xfrm>
              <a:custGeom>
                <a:avLst/>
                <a:gdLst/>
                <a:ahLst/>
                <a:rect l="0" t="0" r="r" b="b"/>
                <a:pathLst>
                  <a:path w="186" h="177">
                    <a:moveTo>
                      <a:pt x="26" y="70"/>
                    </a:moveTo>
                    <a:lnTo>
                      <a:pt x="0" y="168"/>
                    </a:lnTo>
                    <a:lnTo>
                      <a:pt x="186" y="177"/>
                    </a:lnTo>
                    <a:lnTo>
                      <a:pt x="168" y="0"/>
                    </a:lnTo>
                    <a:lnTo>
                      <a:pt x="26" y="7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03" name=""/>
              <p:cNvGrpSpPr/>
              <p:nvPr/>
            </p:nvGrpSpPr>
            <p:grpSpPr>
              <a:xfrm>
                <a:off x="4068720" y="3319560"/>
                <a:ext cx="0" cy="1198440"/>
                <a:chOff x="4068720" y="3319560"/>
                <a:chExt cx="0" cy="1198440"/>
              </a:xfrm>
            </p:grpSpPr>
            <p:sp>
              <p:nvSpPr>
                <p:cNvPr id="8704" name=""/>
                <p:cNvSpPr/>
                <p:nvPr/>
              </p:nvSpPr>
              <p:spPr>
                <a:xfrm>
                  <a:off x="4068720" y="3854520"/>
                  <a:ext cx="0" cy="106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5" name=""/>
                <p:cNvSpPr/>
                <p:nvPr/>
              </p:nvSpPr>
              <p:spPr>
                <a:xfrm>
                  <a:off x="4068720" y="4052880"/>
                  <a:ext cx="0" cy="465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6" name=""/>
                <p:cNvSpPr/>
                <p:nvPr/>
              </p:nvSpPr>
              <p:spPr>
                <a:xfrm>
                  <a:off x="4068720" y="3319560"/>
                  <a:ext cx="0" cy="442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7" name=""/>
              <p:cNvSpPr/>
              <p:nvPr/>
            </p:nvSpPr>
            <p:spPr>
              <a:xfrm>
                <a:off x="3584520" y="4048200"/>
                <a:ext cx="70200" cy="60840"/>
              </a:xfrm>
              <a:custGeom>
                <a:avLst/>
                <a:gdLst/>
                <a:ahLst/>
                <a:rect l="0" t="0" r="r" b="b"/>
                <a:pathLst>
                  <a:path w="195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95" y="124"/>
                    </a:lnTo>
                    <a:lnTo>
                      <a:pt x="1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3562200" y="4276800"/>
                <a:ext cx="356040" cy="82800"/>
              </a:xfrm>
              <a:custGeom>
                <a:avLst/>
                <a:gdLst/>
                <a:ahLst/>
                <a:rect l="0" t="0" r="r" b="b"/>
                <a:pathLst>
                  <a:path w="989" h="230">
                    <a:moveTo>
                      <a:pt x="167" y="44"/>
                    </a:moveTo>
                    <a:lnTo>
                      <a:pt x="0" y="230"/>
                    </a:lnTo>
                    <a:lnTo>
                      <a:pt x="989" y="195"/>
                    </a:lnTo>
                    <a:lnTo>
                      <a:pt x="778" y="0"/>
                    </a:lnTo>
                    <a:lnTo>
                      <a:pt x="167" y="44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4489560" y="3689280"/>
                <a:ext cx="149760" cy="98640"/>
              </a:xfrm>
              <a:custGeom>
                <a:avLst/>
                <a:gdLst/>
                <a:ahLst/>
                <a:rect l="0" t="0" r="r" b="b"/>
                <a:pathLst>
                  <a:path w="416" h="274">
                    <a:moveTo>
                      <a:pt x="0" y="26"/>
                    </a:moveTo>
                    <a:lnTo>
                      <a:pt x="44" y="274"/>
                    </a:lnTo>
                    <a:lnTo>
                      <a:pt x="363" y="186"/>
                    </a:lnTo>
                    <a:lnTo>
                      <a:pt x="416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4492800" y="4051440"/>
                <a:ext cx="82800" cy="101880"/>
              </a:xfrm>
              <a:custGeom>
                <a:avLst/>
                <a:gdLst/>
                <a:ahLst/>
                <a:rect l="0" t="0" r="r" b="b"/>
                <a:pathLst>
                  <a:path w="230" h="283">
                    <a:moveTo>
                      <a:pt x="8" y="0"/>
                    </a:moveTo>
                    <a:lnTo>
                      <a:pt x="0" y="283"/>
                    </a:lnTo>
                    <a:lnTo>
                      <a:pt x="203" y="123"/>
                    </a:lnTo>
                    <a:lnTo>
                      <a:pt x="23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4181400" y="4280040"/>
                <a:ext cx="359280" cy="105120"/>
              </a:xfrm>
              <a:custGeom>
                <a:avLst/>
                <a:gdLst/>
                <a:ahLst/>
                <a:rect l="0" t="0" r="r" b="b"/>
                <a:pathLst>
                  <a:path w="998" h="292">
                    <a:moveTo>
                      <a:pt x="283" y="35"/>
                    </a:moveTo>
                    <a:lnTo>
                      <a:pt x="0" y="292"/>
                    </a:lnTo>
                    <a:lnTo>
                      <a:pt x="998" y="239"/>
                    </a:lnTo>
                    <a:lnTo>
                      <a:pt x="980" y="0"/>
                    </a:lnTo>
                    <a:lnTo>
                      <a:pt x="283" y="35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12" name=""/>
            <p:cNvSpPr/>
            <p:nvPr/>
          </p:nvSpPr>
          <p:spPr>
            <a:xfrm>
              <a:off x="4548240" y="3476520"/>
              <a:ext cx="133560" cy="838440"/>
            </a:xfrm>
            <a:custGeom>
              <a:avLst/>
              <a:gdLst/>
              <a:ahLst/>
              <a:rect l="0" t="0" r="r" b="b"/>
              <a:pathLst>
                <a:path fill="none" w="371" h="2329">
                  <a:moveTo>
                    <a:pt x="331" y="0"/>
                  </a:moveTo>
                  <a:lnTo>
                    <a:pt x="344" y="39"/>
                  </a:lnTo>
                  <a:lnTo>
                    <a:pt x="358" y="79"/>
                  </a:lnTo>
                  <a:lnTo>
                    <a:pt x="371" y="119"/>
                  </a:lnTo>
                  <a:lnTo>
                    <a:pt x="371" y="185"/>
                  </a:lnTo>
                  <a:lnTo>
                    <a:pt x="358" y="251"/>
                  </a:lnTo>
                  <a:lnTo>
                    <a:pt x="344" y="291"/>
                  </a:lnTo>
                  <a:lnTo>
                    <a:pt x="331" y="343"/>
                  </a:lnTo>
                  <a:lnTo>
                    <a:pt x="318" y="383"/>
                  </a:lnTo>
                  <a:lnTo>
                    <a:pt x="305" y="436"/>
                  </a:lnTo>
                  <a:lnTo>
                    <a:pt x="305" y="489"/>
                  </a:lnTo>
                  <a:lnTo>
                    <a:pt x="305" y="529"/>
                  </a:lnTo>
                  <a:lnTo>
                    <a:pt x="305" y="568"/>
                  </a:lnTo>
                  <a:lnTo>
                    <a:pt x="292" y="608"/>
                  </a:lnTo>
                  <a:lnTo>
                    <a:pt x="265" y="648"/>
                  </a:lnTo>
                  <a:lnTo>
                    <a:pt x="252" y="687"/>
                  </a:lnTo>
                  <a:lnTo>
                    <a:pt x="239" y="727"/>
                  </a:lnTo>
                  <a:lnTo>
                    <a:pt x="225" y="780"/>
                  </a:lnTo>
                  <a:lnTo>
                    <a:pt x="212" y="820"/>
                  </a:lnTo>
                  <a:lnTo>
                    <a:pt x="199" y="899"/>
                  </a:lnTo>
                  <a:lnTo>
                    <a:pt x="199" y="939"/>
                  </a:lnTo>
                  <a:lnTo>
                    <a:pt x="199" y="992"/>
                  </a:lnTo>
                  <a:lnTo>
                    <a:pt x="199" y="1031"/>
                  </a:lnTo>
                  <a:lnTo>
                    <a:pt x="199" y="1098"/>
                  </a:lnTo>
                  <a:lnTo>
                    <a:pt x="199" y="1150"/>
                  </a:lnTo>
                  <a:lnTo>
                    <a:pt x="186" y="1191"/>
                  </a:lnTo>
                  <a:lnTo>
                    <a:pt x="171" y="1231"/>
                  </a:lnTo>
                  <a:lnTo>
                    <a:pt x="145" y="1270"/>
                  </a:lnTo>
                  <a:lnTo>
                    <a:pt x="145" y="1337"/>
                  </a:lnTo>
                  <a:lnTo>
                    <a:pt x="132" y="1390"/>
                  </a:lnTo>
                  <a:lnTo>
                    <a:pt x="119" y="1442"/>
                  </a:lnTo>
                  <a:lnTo>
                    <a:pt x="119" y="1522"/>
                  </a:lnTo>
                  <a:lnTo>
                    <a:pt x="119" y="1562"/>
                  </a:lnTo>
                  <a:lnTo>
                    <a:pt x="119" y="1614"/>
                  </a:lnTo>
                  <a:lnTo>
                    <a:pt x="105" y="1654"/>
                  </a:lnTo>
                  <a:lnTo>
                    <a:pt x="79" y="1694"/>
                  </a:lnTo>
                  <a:lnTo>
                    <a:pt x="66" y="1734"/>
                  </a:lnTo>
                  <a:lnTo>
                    <a:pt x="52" y="1800"/>
                  </a:lnTo>
                  <a:lnTo>
                    <a:pt x="52" y="1839"/>
                  </a:lnTo>
                  <a:lnTo>
                    <a:pt x="39" y="1892"/>
                  </a:lnTo>
                  <a:lnTo>
                    <a:pt x="39" y="1932"/>
                  </a:lnTo>
                  <a:lnTo>
                    <a:pt x="26" y="1972"/>
                  </a:lnTo>
                  <a:lnTo>
                    <a:pt x="26" y="2025"/>
                  </a:lnTo>
                  <a:lnTo>
                    <a:pt x="13" y="2064"/>
                  </a:lnTo>
                  <a:lnTo>
                    <a:pt x="13" y="2104"/>
                  </a:lnTo>
                  <a:lnTo>
                    <a:pt x="13" y="2170"/>
                  </a:lnTo>
                  <a:lnTo>
                    <a:pt x="0" y="2210"/>
                  </a:lnTo>
                  <a:lnTo>
                    <a:pt x="0" y="2249"/>
                  </a:lnTo>
                  <a:lnTo>
                    <a:pt x="0" y="2316"/>
                  </a:lnTo>
                  <a:lnTo>
                    <a:pt x="13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3540240" y="3476520"/>
              <a:ext cx="68760" cy="841680"/>
            </a:xfrm>
            <a:custGeom>
              <a:avLst/>
              <a:gdLst/>
              <a:ahLst/>
              <a:rect l="0" t="0" r="r" b="b"/>
              <a:pathLst>
                <a:path fill="none" w="191" h="2338">
                  <a:moveTo>
                    <a:pt x="0" y="0"/>
                  </a:moveTo>
                  <a:lnTo>
                    <a:pt x="4" y="52"/>
                  </a:lnTo>
                  <a:lnTo>
                    <a:pt x="35" y="145"/>
                  </a:lnTo>
                  <a:lnTo>
                    <a:pt x="160" y="299"/>
                  </a:lnTo>
                  <a:lnTo>
                    <a:pt x="191" y="392"/>
                  </a:lnTo>
                  <a:lnTo>
                    <a:pt x="128" y="485"/>
                  </a:lnTo>
                  <a:lnTo>
                    <a:pt x="98" y="665"/>
                  </a:lnTo>
                  <a:lnTo>
                    <a:pt x="67" y="820"/>
                  </a:lnTo>
                  <a:lnTo>
                    <a:pt x="67" y="1036"/>
                  </a:lnTo>
                  <a:lnTo>
                    <a:pt x="67" y="1128"/>
                  </a:lnTo>
                  <a:lnTo>
                    <a:pt x="67" y="1253"/>
                  </a:lnTo>
                  <a:lnTo>
                    <a:pt x="67" y="1345"/>
                  </a:lnTo>
                  <a:lnTo>
                    <a:pt x="67" y="1438"/>
                  </a:lnTo>
                  <a:lnTo>
                    <a:pt x="67" y="1531"/>
                  </a:lnTo>
                  <a:lnTo>
                    <a:pt x="98" y="1623"/>
                  </a:lnTo>
                  <a:lnTo>
                    <a:pt x="98" y="1716"/>
                  </a:lnTo>
                  <a:lnTo>
                    <a:pt x="98" y="1839"/>
                  </a:lnTo>
                  <a:lnTo>
                    <a:pt x="98" y="1989"/>
                  </a:lnTo>
                  <a:lnTo>
                    <a:pt x="160" y="2082"/>
                  </a:lnTo>
                  <a:lnTo>
                    <a:pt x="191" y="2174"/>
                  </a:lnTo>
                  <a:lnTo>
                    <a:pt x="191" y="2267"/>
                  </a:lnTo>
                  <a:lnTo>
                    <a:pt x="142" y="233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4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715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21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2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3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4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5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6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7" name=""/>
          <p:cNvSpPr/>
          <p:nvPr/>
        </p:nvSpPr>
        <p:spPr>
          <a:xfrm flipV="1">
            <a:off x="254160" y="3476520"/>
            <a:ext cx="849240" cy="84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8" name=""/>
          <p:cNvSpPr/>
          <p:nvPr/>
        </p:nvSpPr>
        <p:spPr>
          <a:xfrm>
            <a:off x="1101600" y="347652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9" name=""/>
          <p:cNvSpPr/>
          <p:nvPr/>
        </p:nvSpPr>
        <p:spPr>
          <a:xfrm>
            <a:off x="254160" y="4317840"/>
            <a:ext cx="588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0" name=""/>
          <p:cNvSpPr/>
          <p:nvPr/>
        </p:nvSpPr>
        <p:spPr>
          <a:xfrm flipH="1">
            <a:off x="4494240" y="372888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1" name=""/>
          <p:cNvSpPr/>
          <p:nvPr/>
        </p:nvSpPr>
        <p:spPr>
          <a:xfrm flipH="1">
            <a:off x="4491000" y="4073400"/>
            <a:ext cx="58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2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3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4" name=""/>
          <p:cNvGrpSpPr/>
          <p:nvPr/>
        </p:nvGrpSpPr>
        <p:grpSpPr>
          <a:xfrm>
            <a:off x="6680160" y="3502080"/>
            <a:ext cx="160560" cy="802800"/>
            <a:chOff x="6680160" y="3502080"/>
            <a:chExt cx="160560" cy="802800"/>
          </a:xfrm>
        </p:grpSpPr>
        <p:sp>
          <p:nvSpPr>
            <p:cNvPr id="8735" name=""/>
            <p:cNvSpPr/>
            <p:nvPr/>
          </p:nvSpPr>
          <p:spPr>
            <a:xfrm>
              <a:off x="6737400" y="3894120"/>
              <a:ext cx="101880" cy="209880"/>
            </a:xfrm>
            <a:custGeom>
              <a:avLst/>
              <a:gdLst/>
              <a:ahLst/>
              <a:rect l="0" t="0" r="r" b="b"/>
              <a:pathLst>
                <a:path w="283" h="583">
                  <a:moveTo>
                    <a:pt x="0" y="583"/>
                  </a:moveTo>
                  <a:lnTo>
                    <a:pt x="283" y="583"/>
                  </a:lnTo>
                  <a:lnTo>
                    <a:pt x="283" y="583"/>
                  </a:lnTo>
                  <a:lnTo>
                    <a:pt x="283" y="583"/>
                  </a:lnTo>
                  <a:cubicBezTo>
                    <a:pt x="283" y="481"/>
                    <a:pt x="270" y="380"/>
                    <a:pt x="245" y="291"/>
                  </a:cubicBezTo>
                  <a:cubicBezTo>
                    <a:pt x="220" y="203"/>
                    <a:pt x="185" y="129"/>
                    <a:pt x="141" y="78"/>
                  </a:cubicBezTo>
                  <a:cubicBezTo>
                    <a:pt x="98" y="27"/>
                    <a:pt x="50" y="0"/>
                    <a:pt x="0" y="0"/>
                  </a:cubicBezTo>
                  <a:lnTo>
                    <a:pt x="0" y="583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6" name=""/>
            <p:cNvSpPr/>
            <p:nvPr/>
          </p:nvSpPr>
          <p:spPr>
            <a:xfrm>
              <a:off x="6680160" y="3876480"/>
              <a:ext cx="82800" cy="229320"/>
            </a:xfrm>
            <a:custGeom>
              <a:avLst/>
              <a:gdLst/>
              <a:ahLst/>
              <a:rect l="0" t="0" r="r" b="b"/>
              <a:pathLst>
                <a:path w="230" h="637">
                  <a:moveTo>
                    <a:pt x="230" y="637"/>
                  </a:moveTo>
                  <a:lnTo>
                    <a:pt x="146" y="0"/>
                  </a:lnTo>
                  <a:lnTo>
                    <a:pt x="146" y="0"/>
                  </a:lnTo>
                  <a:cubicBezTo>
                    <a:pt x="135" y="12"/>
                    <a:pt x="125" y="27"/>
                    <a:pt x="115" y="44"/>
                  </a:cubicBezTo>
                  <a:cubicBezTo>
                    <a:pt x="80" y="104"/>
                    <a:pt x="51" y="191"/>
                    <a:pt x="31" y="295"/>
                  </a:cubicBezTo>
                  <a:cubicBezTo>
                    <a:pt x="11" y="399"/>
                    <a:pt x="0" y="517"/>
                    <a:pt x="0" y="637"/>
                  </a:cubicBezTo>
                  <a:lnTo>
                    <a:pt x="230" y="637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7" name=""/>
            <p:cNvSpPr/>
            <p:nvPr/>
          </p:nvSpPr>
          <p:spPr>
            <a:xfrm>
              <a:off x="6762600" y="4097160"/>
              <a:ext cx="78120" cy="204480"/>
            </a:xfrm>
            <a:custGeom>
              <a:avLst/>
              <a:gdLst/>
              <a:ahLst/>
              <a:rect l="0" t="0" r="r" b="b"/>
              <a:pathLst>
                <a:path w="217" h="568">
                  <a:moveTo>
                    <a:pt x="217" y="568"/>
                  </a:moveTo>
                  <a:lnTo>
                    <a:pt x="217" y="0"/>
                  </a:lnTo>
                  <a:lnTo>
                    <a:pt x="217" y="0"/>
                  </a:lnTo>
                  <a:cubicBezTo>
                    <a:pt x="179" y="0"/>
                    <a:pt x="141" y="26"/>
                    <a:pt x="108" y="76"/>
                  </a:cubicBezTo>
                  <a:cubicBezTo>
                    <a:pt x="76" y="126"/>
                    <a:pt x="48" y="198"/>
                    <a:pt x="29" y="284"/>
                  </a:cubicBezTo>
                  <a:cubicBezTo>
                    <a:pt x="10" y="370"/>
                    <a:pt x="0" y="468"/>
                    <a:pt x="0" y="568"/>
                  </a:cubicBezTo>
                  <a:lnTo>
                    <a:pt x="217" y="568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8" name=""/>
            <p:cNvSpPr/>
            <p:nvPr/>
          </p:nvSpPr>
          <p:spPr>
            <a:xfrm>
              <a:off x="6682680" y="4095720"/>
              <a:ext cx="80640" cy="209160"/>
            </a:xfrm>
            <a:custGeom>
              <a:avLst/>
              <a:gdLst/>
              <a:ahLst/>
              <a:rect l="0" t="0" r="r" b="b"/>
              <a:pathLst>
                <a:path w="224" h="581">
                  <a:moveTo>
                    <a:pt x="0" y="581"/>
                  </a:moveTo>
                  <a:lnTo>
                    <a:pt x="224" y="581"/>
                  </a:lnTo>
                  <a:lnTo>
                    <a:pt x="224" y="581"/>
                  </a:lnTo>
                  <a:lnTo>
                    <a:pt x="224" y="581"/>
                  </a:lnTo>
                  <a:cubicBezTo>
                    <a:pt x="224" y="479"/>
                    <a:pt x="214" y="379"/>
                    <a:pt x="194" y="290"/>
                  </a:cubicBezTo>
                  <a:cubicBezTo>
                    <a:pt x="174" y="202"/>
                    <a:pt x="146" y="129"/>
                    <a:pt x="112" y="78"/>
                  </a:cubicBezTo>
                  <a:cubicBezTo>
                    <a:pt x="78" y="27"/>
                    <a:pt x="39" y="0"/>
                    <a:pt x="0" y="0"/>
                  </a:cubicBezTo>
                  <a:lnTo>
                    <a:pt x="0" y="581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9" name=""/>
            <p:cNvSpPr/>
            <p:nvPr/>
          </p:nvSpPr>
          <p:spPr>
            <a:xfrm>
              <a:off x="6689880" y="3502080"/>
              <a:ext cx="117000" cy="201240"/>
            </a:xfrm>
            <a:custGeom>
              <a:avLst/>
              <a:gdLst/>
              <a:ahLst/>
              <a:rect l="0" t="0" r="r" b="b"/>
              <a:pathLst>
                <a:path fill="none" w="325" h="559">
                  <a:moveTo>
                    <a:pt x="325" y="0"/>
                  </a:moveTo>
                  <a:lnTo>
                    <a:pt x="325" y="0"/>
                  </a:lnTo>
                  <a:cubicBezTo>
                    <a:pt x="268" y="0"/>
                    <a:pt x="212" y="26"/>
                    <a:pt x="162" y="75"/>
                  </a:cubicBezTo>
                  <a:cubicBezTo>
                    <a:pt x="113" y="124"/>
                    <a:pt x="72" y="195"/>
                    <a:pt x="44" y="280"/>
                  </a:cubicBezTo>
                  <a:cubicBezTo>
                    <a:pt x="15" y="364"/>
                    <a:pt x="0" y="461"/>
                    <a:pt x="0" y="5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0" name=""/>
            <p:cNvSpPr/>
            <p:nvPr/>
          </p:nvSpPr>
          <p:spPr>
            <a:xfrm>
              <a:off x="6692040" y="3695760"/>
              <a:ext cx="83520" cy="211320"/>
            </a:xfrm>
            <a:custGeom>
              <a:avLst/>
              <a:gdLst/>
              <a:ahLst/>
              <a:rect l="0" t="0" r="r" b="b"/>
              <a:pathLst>
                <a:path fill="none" w="232" h="587">
                  <a:moveTo>
                    <a:pt x="232" y="587"/>
                  </a:moveTo>
                  <a:lnTo>
                    <a:pt x="232" y="587"/>
                  </a:lnTo>
                  <a:lnTo>
                    <a:pt x="232" y="587"/>
                  </a:lnTo>
                  <a:cubicBezTo>
                    <a:pt x="232" y="484"/>
                    <a:pt x="221" y="383"/>
                    <a:pt x="201" y="293"/>
                  </a:cubicBezTo>
                  <a:cubicBezTo>
                    <a:pt x="181" y="204"/>
                    <a:pt x="151" y="130"/>
                    <a:pt x="116" y="79"/>
                  </a:cubicBezTo>
                  <a:cubicBezTo>
                    <a:pt x="81" y="27"/>
                    <a:pt x="4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41" name=""/>
          <p:cNvSpPr/>
          <p:nvPr/>
        </p:nvSpPr>
        <p:spPr>
          <a:xfrm>
            <a:off x="5600520" y="3327480"/>
            <a:ext cx="562320" cy="162360"/>
          </a:xfrm>
          <a:custGeom>
            <a:avLst/>
            <a:gdLst/>
            <a:ahLst/>
            <a:rect l="0" t="0" r="r" b="b"/>
            <a:pathLst>
              <a:path w="1562" h="451">
                <a:moveTo>
                  <a:pt x="0" y="0"/>
                </a:moveTo>
                <a:lnTo>
                  <a:pt x="0" y="451"/>
                </a:lnTo>
                <a:lnTo>
                  <a:pt x="1341" y="451"/>
                </a:lnTo>
                <a:lnTo>
                  <a:pt x="1562" y="416"/>
                </a:lnTo>
                <a:lnTo>
                  <a:pt x="1368" y="44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2" name=""/>
          <p:cNvSpPr/>
          <p:nvPr/>
        </p:nvSpPr>
        <p:spPr>
          <a:xfrm>
            <a:off x="5514840" y="4270320"/>
            <a:ext cx="594000" cy="187560"/>
          </a:xfrm>
          <a:custGeom>
            <a:avLst/>
            <a:gdLst/>
            <a:ahLst/>
            <a:rect l="0" t="0" r="r" b="b"/>
            <a:pathLst>
              <a:path w="1650" h="521">
                <a:moveTo>
                  <a:pt x="0" y="265"/>
                </a:moveTo>
                <a:lnTo>
                  <a:pt x="361" y="0"/>
                </a:lnTo>
                <a:lnTo>
                  <a:pt x="1650" y="132"/>
                </a:lnTo>
                <a:lnTo>
                  <a:pt x="1623" y="521"/>
                </a:lnTo>
                <a:lnTo>
                  <a:pt x="0" y="265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3" name=""/>
          <p:cNvGrpSpPr/>
          <p:nvPr/>
        </p:nvGrpSpPr>
        <p:grpSpPr>
          <a:xfrm>
            <a:off x="5518080" y="3475080"/>
            <a:ext cx="166320" cy="841680"/>
            <a:chOff x="5518080" y="3475080"/>
            <a:chExt cx="166320" cy="841680"/>
          </a:xfrm>
        </p:grpSpPr>
        <p:sp>
          <p:nvSpPr>
            <p:cNvPr id="8744" name=""/>
            <p:cNvSpPr/>
            <p:nvPr/>
          </p:nvSpPr>
          <p:spPr>
            <a:xfrm>
              <a:off x="5518080" y="3687840"/>
              <a:ext cx="106560" cy="220320"/>
            </a:xfrm>
            <a:custGeom>
              <a:avLst/>
              <a:gdLst/>
              <a:ahLst/>
              <a:rect l="0" t="0" r="r" b="b"/>
              <a:pathLst>
                <a:path w="296" h="612">
                  <a:moveTo>
                    <a:pt x="0" y="612"/>
                  </a:moveTo>
                  <a:lnTo>
                    <a:pt x="296" y="612"/>
                  </a:lnTo>
                  <a:lnTo>
                    <a:pt x="296" y="612"/>
                  </a:lnTo>
                  <a:lnTo>
                    <a:pt x="296" y="612"/>
                  </a:lnTo>
                  <a:cubicBezTo>
                    <a:pt x="296" y="505"/>
                    <a:pt x="282" y="399"/>
                    <a:pt x="256" y="306"/>
                  </a:cubicBezTo>
                  <a:cubicBezTo>
                    <a:pt x="230" y="213"/>
                    <a:pt x="193" y="136"/>
                    <a:pt x="148" y="82"/>
                  </a:cubicBezTo>
                  <a:cubicBezTo>
                    <a:pt x="103" y="28"/>
                    <a:pt x="52" y="0"/>
                    <a:pt x="0" y="0"/>
                  </a:cubicBezTo>
                  <a:lnTo>
                    <a:pt x="0" y="612"/>
                  </a:lnTo>
                  <a:close/>
                </a:path>
              </a:pathLst>
            </a:custGeom>
            <a:blipFill rotWithShape="0">
              <a:blip r:embed="rId5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5599080" y="3684960"/>
              <a:ext cx="85320" cy="241200"/>
            </a:xfrm>
            <a:custGeom>
              <a:avLst/>
              <a:gdLst/>
              <a:ahLst/>
              <a:rect l="0" t="0" r="r" b="b"/>
              <a:pathLst>
                <a:path w="237" h="670">
                  <a:moveTo>
                    <a:pt x="237" y="670"/>
                  </a:moveTo>
                  <a:lnTo>
                    <a:pt x="150" y="0"/>
                  </a:lnTo>
                  <a:lnTo>
                    <a:pt x="150" y="0"/>
                  </a:lnTo>
                  <a:cubicBezTo>
                    <a:pt x="139" y="13"/>
                    <a:pt x="129" y="29"/>
                    <a:pt x="118" y="47"/>
                  </a:cubicBezTo>
                  <a:cubicBezTo>
                    <a:pt x="82" y="110"/>
                    <a:pt x="53" y="201"/>
                    <a:pt x="32" y="310"/>
                  </a:cubicBezTo>
                  <a:cubicBezTo>
                    <a:pt x="11" y="420"/>
                    <a:pt x="0" y="544"/>
                    <a:pt x="0" y="670"/>
                  </a:cubicBezTo>
                  <a:lnTo>
                    <a:pt x="237" y="670"/>
                  </a:lnTo>
                  <a:close/>
                </a:path>
              </a:pathLst>
            </a:custGeom>
            <a:blipFill rotWithShape="0">
              <a:blip r:embed="rId6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6" name=""/>
            <p:cNvSpPr/>
            <p:nvPr/>
          </p:nvSpPr>
          <p:spPr>
            <a:xfrm>
              <a:off x="5518080" y="3479760"/>
              <a:ext cx="82080" cy="214560"/>
            </a:xfrm>
            <a:custGeom>
              <a:avLst/>
              <a:gdLst/>
              <a:ahLst/>
              <a:rect l="0" t="0" r="r" b="b"/>
              <a:pathLst>
                <a:path w="228" h="596">
                  <a:moveTo>
                    <a:pt x="228" y="596"/>
                  </a:moveTo>
                  <a:lnTo>
                    <a:pt x="228" y="0"/>
                  </a:lnTo>
                  <a:lnTo>
                    <a:pt x="228" y="0"/>
                  </a:lnTo>
                  <a:cubicBezTo>
                    <a:pt x="188" y="0"/>
                    <a:pt x="149" y="28"/>
                    <a:pt x="114" y="80"/>
                  </a:cubicBezTo>
                  <a:cubicBezTo>
                    <a:pt x="79" y="132"/>
                    <a:pt x="51" y="207"/>
                    <a:pt x="31" y="298"/>
                  </a:cubicBezTo>
                  <a:cubicBezTo>
                    <a:pt x="11" y="389"/>
                    <a:pt x="0" y="491"/>
                    <a:pt x="0" y="596"/>
                  </a:cubicBezTo>
                  <a:lnTo>
                    <a:pt x="228" y="596"/>
                  </a:lnTo>
                  <a:close/>
                </a:path>
              </a:pathLst>
            </a:custGeom>
            <a:blipFill rotWithShape="0">
              <a:blip r:embed="rId7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7" name=""/>
            <p:cNvSpPr/>
            <p:nvPr/>
          </p:nvSpPr>
          <p:spPr>
            <a:xfrm>
              <a:off x="5598360" y="3475080"/>
              <a:ext cx="83520" cy="219600"/>
            </a:xfrm>
            <a:custGeom>
              <a:avLst/>
              <a:gdLst/>
              <a:ahLst/>
              <a:rect l="0" t="0" r="r" b="b"/>
              <a:pathLst>
                <a:path w="232" h="610">
                  <a:moveTo>
                    <a:pt x="0" y="610"/>
                  </a:moveTo>
                  <a:lnTo>
                    <a:pt x="232" y="610"/>
                  </a:lnTo>
                  <a:lnTo>
                    <a:pt x="232" y="610"/>
                  </a:lnTo>
                  <a:lnTo>
                    <a:pt x="232" y="610"/>
                  </a:lnTo>
                  <a:cubicBezTo>
                    <a:pt x="232" y="503"/>
                    <a:pt x="221" y="398"/>
                    <a:pt x="201" y="305"/>
                  </a:cubicBezTo>
                  <a:cubicBezTo>
                    <a:pt x="181" y="212"/>
                    <a:pt x="151" y="135"/>
                    <a:pt x="116" y="82"/>
                  </a:cubicBezTo>
                  <a:cubicBezTo>
                    <a:pt x="81" y="28"/>
                    <a:pt x="41" y="0"/>
                    <a:pt x="0" y="0"/>
                  </a:cubicBezTo>
                  <a:lnTo>
                    <a:pt x="0" y="610"/>
                  </a:lnTo>
                  <a:close/>
                </a:path>
              </a:pathLst>
            </a:custGeom>
            <a:blipFill rotWithShape="0">
              <a:blip r:embed="rId8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8" name=""/>
            <p:cNvSpPr/>
            <p:nvPr/>
          </p:nvSpPr>
          <p:spPr>
            <a:xfrm>
              <a:off x="5551560" y="4106880"/>
              <a:ext cx="123480" cy="209880"/>
            </a:xfrm>
            <a:custGeom>
              <a:avLst/>
              <a:gdLst/>
              <a:ahLst/>
              <a:rect l="0" t="0" r="r" b="b"/>
              <a:pathLst>
                <a:path fill="none" w="343" h="583">
                  <a:moveTo>
                    <a:pt x="343" y="0"/>
                  </a:moveTo>
                  <a:lnTo>
                    <a:pt x="343" y="0"/>
                  </a:lnTo>
                  <a:cubicBezTo>
                    <a:pt x="283" y="0"/>
                    <a:pt x="224" y="27"/>
                    <a:pt x="171" y="78"/>
                  </a:cubicBezTo>
                  <a:cubicBezTo>
                    <a:pt x="119" y="129"/>
                    <a:pt x="76" y="203"/>
                    <a:pt x="46" y="292"/>
                  </a:cubicBezTo>
                  <a:cubicBezTo>
                    <a:pt x="16" y="380"/>
                    <a:pt x="0" y="481"/>
                    <a:pt x="0" y="58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9" name=""/>
            <p:cNvSpPr/>
            <p:nvPr/>
          </p:nvSpPr>
          <p:spPr>
            <a:xfrm>
              <a:off x="5586480" y="3894120"/>
              <a:ext cx="87840" cy="223560"/>
            </a:xfrm>
            <a:custGeom>
              <a:avLst/>
              <a:gdLst/>
              <a:ahLst/>
              <a:rect l="0" t="0" r="r" b="b"/>
              <a:pathLst>
                <a:path fill="none" w="244" h="621">
                  <a:moveTo>
                    <a:pt x="244" y="621"/>
                  </a:moveTo>
                  <a:lnTo>
                    <a:pt x="244" y="621"/>
                  </a:lnTo>
                  <a:lnTo>
                    <a:pt x="244" y="621"/>
                  </a:lnTo>
                  <a:cubicBezTo>
                    <a:pt x="244" y="512"/>
                    <a:pt x="233" y="405"/>
                    <a:pt x="211" y="310"/>
                  </a:cubicBezTo>
                  <a:cubicBezTo>
                    <a:pt x="190" y="216"/>
                    <a:pt x="159" y="138"/>
                    <a:pt x="122" y="83"/>
                  </a:cubicBezTo>
                  <a:cubicBezTo>
                    <a:pt x="85" y="29"/>
                    <a:pt x="43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50" name=""/>
          <p:cNvSpPr/>
          <p:nvPr/>
        </p:nvSpPr>
        <p:spPr>
          <a:xfrm>
            <a:off x="6086520" y="3327480"/>
            <a:ext cx="765360" cy="203400"/>
          </a:xfrm>
          <a:custGeom>
            <a:avLst/>
            <a:gdLst/>
            <a:ahLst/>
            <a:rect l="0" t="0" r="r" b="b"/>
            <a:pathLst>
              <a:path w="2126" h="565">
                <a:moveTo>
                  <a:pt x="0" y="389"/>
                </a:moveTo>
                <a:lnTo>
                  <a:pt x="715" y="556"/>
                </a:lnTo>
                <a:lnTo>
                  <a:pt x="1695" y="565"/>
                </a:lnTo>
                <a:lnTo>
                  <a:pt x="2126" y="380"/>
                </a:lnTo>
                <a:lnTo>
                  <a:pt x="378" y="0"/>
                </a:lnTo>
                <a:lnTo>
                  <a:pt x="0" y="389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1" name=""/>
          <p:cNvSpPr/>
          <p:nvPr/>
        </p:nvSpPr>
        <p:spPr>
          <a:xfrm>
            <a:off x="6039000" y="4267080"/>
            <a:ext cx="771840" cy="194040"/>
          </a:xfrm>
          <a:custGeom>
            <a:avLst/>
            <a:gdLst/>
            <a:ahLst/>
            <a:rect l="0" t="0" r="r" b="b"/>
            <a:pathLst>
              <a:path w="2144" h="539">
                <a:moveTo>
                  <a:pt x="0" y="177"/>
                </a:moveTo>
                <a:lnTo>
                  <a:pt x="734" y="0"/>
                </a:lnTo>
                <a:lnTo>
                  <a:pt x="1691" y="0"/>
                </a:lnTo>
                <a:lnTo>
                  <a:pt x="2144" y="239"/>
                </a:lnTo>
                <a:lnTo>
                  <a:pt x="502" y="539"/>
                </a:lnTo>
                <a:lnTo>
                  <a:pt x="0" y="177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2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53" name=""/>
          <p:cNvGrpSpPr/>
          <p:nvPr/>
        </p:nvGrpSpPr>
        <p:grpSpPr>
          <a:xfrm>
            <a:off x="6172200" y="3305160"/>
            <a:ext cx="0" cy="1198440"/>
            <a:chOff x="6172200" y="3305160"/>
            <a:chExt cx="0" cy="1198440"/>
          </a:xfrm>
        </p:grpSpPr>
        <p:sp>
          <p:nvSpPr>
            <p:cNvPr id="8754" name=""/>
            <p:cNvSpPr/>
            <p:nvPr/>
          </p:nvSpPr>
          <p:spPr>
            <a:xfrm>
              <a:off x="6172200" y="384012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5" name=""/>
            <p:cNvSpPr/>
            <p:nvPr/>
          </p:nvSpPr>
          <p:spPr>
            <a:xfrm>
              <a:off x="6172200" y="40384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6" name=""/>
            <p:cNvSpPr/>
            <p:nvPr/>
          </p:nvSpPr>
          <p:spPr>
            <a:xfrm>
              <a:off x="6172200" y="33051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57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8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59" name=""/>
          <p:cNvGrpSpPr/>
          <p:nvPr/>
        </p:nvGrpSpPr>
        <p:grpSpPr>
          <a:xfrm>
            <a:off x="1441440" y="3306600"/>
            <a:ext cx="3240360" cy="1211400"/>
            <a:chOff x="1441440" y="3306600"/>
            <a:chExt cx="3240360" cy="1211400"/>
          </a:xfrm>
        </p:grpSpPr>
        <p:sp>
          <p:nvSpPr>
            <p:cNvPr id="8760" name=""/>
            <p:cNvSpPr/>
            <p:nvPr/>
          </p:nvSpPr>
          <p:spPr>
            <a:xfrm>
              <a:off x="3465360" y="372744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1" name=""/>
            <p:cNvSpPr/>
            <p:nvPr/>
          </p:nvSpPr>
          <p:spPr>
            <a:xfrm>
              <a:off x="3451320" y="4075200"/>
              <a:ext cx="19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2" name=""/>
            <p:cNvSpPr/>
            <p:nvPr/>
          </p:nvSpPr>
          <p:spPr>
            <a:xfrm>
              <a:off x="3141720" y="348732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3" name=""/>
            <p:cNvSpPr/>
            <p:nvPr/>
          </p:nvSpPr>
          <p:spPr>
            <a:xfrm>
              <a:off x="3154320" y="410040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2603520" y="3479760"/>
              <a:ext cx="105120" cy="835560"/>
            </a:xfrm>
            <a:custGeom>
              <a:avLst/>
              <a:gdLst/>
              <a:ahLst/>
              <a:rect l="0" t="0" r="r" b="b"/>
              <a:pathLst>
                <a:path fill="none" w="292" h="2321">
                  <a:moveTo>
                    <a:pt x="292" y="0"/>
                  </a:moveTo>
                  <a:lnTo>
                    <a:pt x="292" y="0"/>
                  </a:lnTo>
                  <a:lnTo>
                    <a:pt x="274" y="26"/>
                  </a:lnTo>
                  <a:lnTo>
                    <a:pt x="274" y="52"/>
                  </a:lnTo>
                  <a:lnTo>
                    <a:pt x="274" y="88"/>
                  </a:lnTo>
                  <a:lnTo>
                    <a:pt x="274" y="132"/>
                  </a:lnTo>
                  <a:lnTo>
                    <a:pt x="274" y="158"/>
                  </a:lnTo>
                  <a:lnTo>
                    <a:pt x="274" y="202"/>
                  </a:lnTo>
                  <a:lnTo>
                    <a:pt x="274" y="246"/>
                  </a:lnTo>
                  <a:lnTo>
                    <a:pt x="274" y="282"/>
                  </a:lnTo>
                  <a:lnTo>
                    <a:pt x="274" y="317"/>
                  </a:lnTo>
                  <a:lnTo>
                    <a:pt x="256" y="343"/>
                  </a:lnTo>
                  <a:lnTo>
                    <a:pt x="256" y="370"/>
                  </a:lnTo>
                  <a:lnTo>
                    <a:pt x="247" y="414"/>
                  </a:lnTo>
                  <a:lnTo>
                    <a:pt x="247" y="449"/>
                  </a:lnTo>
                  <a:lnTo>
                    <a:pt x="247" y="476"/>
                  </a:lnTo>
                  <a:lnTo>
                    <a:pt x="247" y="502"/>
                  </a:lnTo>
                  <a:lnTo>
                    <a:pt x="247" y="529"/>
                  </a:lnTo>
                  <a:lnTo>
                    <a:pt x="247" y="564"/>
                  </a:lnTo>
                  <a:lnTo>
                    <a:pt x="256" y="591"/>
                  </a:lnTo>
                  <a:lnTo>
                    <a:pt x="256" y="618"/>
                  </a:lnTo>
                  <a:lnTo>
                    <a:pt x="256" y="680"/>
                  </a:lnTo>
                  <a:lnTo>
                    <a:pt x="247" y="715"/>
                  </a:lnTo>
                  <a:lnTo>
                    <a:pt x="239" y="741"/>
                  </a:lnTo>
                  <a:lnTo>
                    <a:pt x="239" y="768"/>
                  </a:lnTo>
                  <a:lnTo>
                    <a:pt x="239" y="803"/>
                  </a:lnTo>
                  <a:lnTo>
                    <a:pt x="239" y="882"/>
                  </a:lnTo>
                  <a:lnTo>
                    <a:pt x="239" y="918"/>
                  </a:lnTo>
                  <a:lnTo>
                    <a:pt x="239" y="953"/>
                  </a:lnTo>
                  <a:lnTo>
                    <a:pt x="221" y="997"/>
                  </a:lnTo>
                  <a:lnTo>
                    <a:pt x="212" y="1041"/>
                  </a:lnTo>
                  <a:lnTo>
                    <a:pt x="203" y="1068"/>
                  </a:lnTo>
                  <a:lnTo>
                    <a:pt x="195" y="1121"/>
                  </a:lnTo>
                  <a:lnTo>
                    <a:pt x="186" y="1147"/>
                  </a:lnTo>
                  <a:lnTo>
                    <a:pt x="186" y="1191"/>
                  </a:lnTo>
                  <a:lnTo>
                    <a:pt x="177" y="1235"/>
                  </a:lnTo>
                  <a:lnTo>
                    <a:pt x="177" y="1279"/>
                  </a:lnTo>
                  <a:lnTo>
                    <a:pt x="177" y="1306"/>
                  </a:lnTo>
                  <a:lnTo>
                    <a:pt x="177" y="1350"/>
                  </a:lnTo>
                  <a:lnTo>
                    <a:pt x="186" y="1385"/>
                  </a:lnTo>
                  <a:lnTo>
                    <a:pt x="186" y="1420"/>
                  </a:lnTo>
                  <a:lnTo>
                    <a:pt x="186" y="1473"/>
                  </a:lnTo>
                  <a:lnTo>
                    <a:pt x="186" y="1535"/>
                  </a:lnTo>
                  <a:lnTo>
                    <a:pt x="186" y="1597"/>
                  </a:lnTo>
                  <a:lnTo>
                    <a:pt x="186" y="1632"/>
                  </a:lnTo>
                  <a:lnTo>
                    <a:pt x="186" y="1667"/>
                  </a:lnTo>
                  <a:lnTo>
                    <a:pt x="177" y="1694"/>
                  </a:lnTo>
                  <a:lnTo>
                    <a:pt x="168" y="1720"/>
                  </a:lnTo>
                  <a:lnTo>
                    <a:pt x="141" y="1748"/>
                  </a:lnTo>
                  <a:lnTo>
                    <a:pt x="132" y="1774"/>
                  </a:lnTo>
                  <a:lnTo>
                    <a:pt x="123" y="1801"/>
                  </a:lnTo>
                  <a:lnTo>
                    <a:pt x="97" y="1871"/>
                  </a:lnTo>
                  <a:lnTo>
                    <a:pt x="97" y="1898"/>
                  </a:lnTo>
                  <a:lnTo>
                    <a:pt x="97" y="1924"/>
                  </a:lnTo>
                  <a:lnTo>
                    <a:pt x="97" y="1968"/>
                  </a:lnTo>
                  <a:lnTo>
                    <a:pt x="97" y="1995"/>
                  </a:lnTo>
                  <a:lnTo>
                    <a:pt x="105" y="2021"/>
                  </a:lnTo>
                  <a:lnTo>
                    <a:pt x="97" y="2048"/>
                  </a:lnTo>
                  <a:lnTo>
                    <a:pt x="70" y="2056"/>
                  </a:lnTo>
                  <a:lnTo>
                    <a:pt x="70" y="2118"/>
                  </a:lnTo>
                  <a:lnTo>
                    <a:pt x="52" y="2162"/>
                  </a:lnTo>
                  <a:lnTo>
                    <a:pt x="44" y="2189"/>
                  </a:lnTo>
                  <a:lnTo>
                    <a:pt x="35" y="2215"/>
                  </a:lnTo>
                  <a:lnTo>
                    <a:pt x="17" y="2259"/>
                  </a:lnTo>
                  <a:lnTo>
                    <a:pt x="8" y="2286"/>
                  </a:lnTo>
                  <a:lnTo>
                    <a:pt x="8" y="2312"/>
                  </a:lnTo>
                  <a:lnTo>
                    <a:pt x="0" y="232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1441440" y="3473280"/>
              <a:ext cx="92520" cy="844920"/>
            </a:xfrm>
            <a:custGeom>
              <a:avLst/>
              <a:gdLst/>
              <a:ahLst/>
              <a:rect l="0" t="0" r="r" b="b"/>
              <a:pathLst>
                <a:path fill="none" w="257" h="2347">
                  <a:moveTo>
                    <a:pt x="257" y="0"/>
                  </a:moveTo>
                  <a:lnTo>
                    <a:pt x="248" y="44"/>
                  </a:lnTo>
                  <a:lnTo>
                    <a:pt x="240" y="97"/>
                  </a:lnTo>
                  <a:lnTo>
                    <a:pt x="222" y="176"/>
                  </a:lnTo>
                  <a:lnTo>
                    <a:pt x="222" y="229"/>
                  </a:lnTo>
                  <a:lnTo>
                    <a:pt x="222" y="282"/>
                  </a:lnTo>
                  <a:lnTo>
                    <a:pt x="222" y="317"/>
                  </a:lnTo>
                  <a:lnTo>
                    <a:pt x="222" y="361"/>
                  </a:lnTo>
                  <a:lnTo>
                    <a:pt x="168" y="414"/>
                  </a:lnTo>
                  <a:lnTo>
                    <a:pt x="159" y="476"/>
                  </a:lnTo>
                  <a:lnTo>
                    <a:pt x="159" y="502"/>
                  </a:lnTo>
                  <a:lnTo>
                    <a:pt x="150" y="529"/>
                  </a:lnTo>
                  <a:lnTo>
                    <a:pt x="150" y="618"/>
                  </a:lnTo>
                  <a:lnTo>
                    <a:pt x="150" y="644"/>
                  </a:lnTo>
                  <a:lnTo>
                    <a:pt x="150" y="671"/>
                  </a:lnTo>
                  <a:lnTo>
                    <a:pt x="150" y="715"/>
                  </a:lnTo>
                  <a:lnTo>
                    <a:pt x="150" y="830"/>
                  </a:lnTo>
                  <a:lnTo>
                    <a:pt x="150" y="891"/>
                  </a:lnTo>
                  <a:lnTo>
                    <a:pt x="142" y="935"/>
                  </a:lnTo>
                  <a:lnTo>
                    <a:pt x="142" y="979"/>
                  </a:lnTo>
                  <a:lnTo>
                    <a:pt x="142" y="1015"/>
                  </a:lnTo>
                  <a:lnTo>
                    <a:pt x="142" y="1041"/>
                  </a:lnTo>
                  <a:lnTo>
                    <a:pt x="133" y="1103"/>
                  </a:lnTo>
                  <a:lnTo>
                    <a:pt x="124" y="1165"/>
                  </a:lnTo>
                  <a:lnTo>
                    <a:pt x="98" y="1235"/>
                  </a:lnTo>
                  <a:lnTo>
                    <a:pt x="89" y="1297"/>
                  </a:lnTo>
                  <a:lnTo>
                    <a:pt x="44" y="1473"/>
                  </a:lnTo>
                  <a:lnTo>
                    <a:pt x="35" y="1579"/>
                  </a:lnTo>
                  <a:lnTo>
                    <a:pt x="35" y="1641"/>
                  </a:lnTo>
                  <a:lnTo>
                    <a:pt x="26" y="1898"/>
                  </a:lnTo>
                  <a:lnTo>
                    <a:pt x="26" y="1959"/>
                  </a:lnTo>
                  <a:lnTo>
                    <a:pt x="26" y="1986"/>
                  </a:lnTo>
                  <a:lnTo>
                    <a:pt x="44" y="2012"/>
                  </a:lnTo>
                  <a:lnTo>
                    <a:pt x="52" y="2048"/>
                  </a:lnTo>
                  <a:lnTo>
                    <a:pt x="52" y="2074"/>
                  </a:lnTo>
                  <a:lnTo>
                    <a:pt x="52" y="2109"/>
                  </a:lnTo>
                  <a:lnTo>
                    <a:pt x="35" y="2136"/>
                  </a:lnTo>
                  <a:lnTo>
                    <a:pt x="35" y="2162"/>
                  </a:lnTo>
                  <a:lnTo>
                    <a:pt x="26" y="2189"/>
                  </a:lnTo>
                  <a:lnTo>
                    <a:pt x="17" y="2215"/>
                  </a:lnTo>
                  <a:lnTo>
                    <a:pt x="17" y="2242"/>
                  </a:lnTo>
                  <a:lnTo>
                    <a:pt x="8" y="2268"/>
                  </a:lnTo>
                  <a:lnTo>
                    <a:pt x="0" y="2295"/>
                  </a:lnTo>
                  <a:lnTo>
                    <a:pt x="0" y="2321"/>
                  </a:lnTo>
                  <a:lnTo>
                    <a:pt x="0" y="234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1538280" y="3452760"/>
              <a:ext cx="154080" cy="4752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1449360" y="4295880"/>
              <a:ext cx="243000" cy="7632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1643040" y="3473280"/>
              <a:ext cx="841320" cy="844560"/>
            </a:xfrm>
            <a:prstGeom prst="rect">
              <a:avLst/>
            </a:prstGeom>
            <a:blipFill rotWithShape="0">
              <a:blip r:embed="rId9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70" name=""/>
            <p:cNvGrpSpPr/>
            <p:nvPr/>
          </p:nvGrpSpPr>
          <p:grpSpPr>
            <a:xfrm>
              <a:off x="2063880" y="3306600"/>
              <a:ext cx="0" cy="1198800"/>
              <a:chOff x="2063880" y="3306600"/>
              <a:chExt cx="0" cy="1198800"/>
            </a:xfrm>
          </p:grpSpPr>
          <p:sp>
            <p:nvSpPr>
              <p:cNvPr id="8771" name=""/>
              <p:cNvSpPr/>
              <p:nvPr/>
            </p:nvSpPr>
            <p:spPr>
              <a:xfrm>
                <a:off x="2063880" y="38419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2063880" y="40402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2063880" y="3306600"/>
                <a:ext cx="0" cy="4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74" name=""/>
            <p:cNvSpPr/>
            <p:nvPr/>
          </p:nvSpPr>
          <p:spPr>
            <a:xfrm>
              <a:off x="2489040" y="3432240"/>
              <a:ext cx="200160" cy="698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5" name=""/>
            <p:cNvSpPr/>
            <p:nvPr/>
          </p:nvSpPr>
          <p:spPr>
            <a:xfrm>
              <a:off x="2486160" y="4289400"/>
              <a:ext cx="109440" cy="507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76" name=""/>
            <p:cNvGrpSpPr/>
            <p:nvPr/>
          </p:nvGrpSpPr>
          <p:grpSpPr>
            <a:xfrm>
              <a:off x="3451320" y="3319560"/>
              <a:ext cx="1209600" cy="1198440"/>
              <a:chOff x="3451320" y="3319560"/>
              <a:chExt cx="1209600" cy="1198440"/>
            </a:xfrm>
          </p:grpSpPr>
          <p:sp>
            <p:nvSpPr>
              <p:cNvPr id="8777" name=""/>
              <p:cNvSpPr/>
              <p:nvPr/>
            </p:nvSpPr>
            <p:spPr>
              <a:xfrm>
                <a:off x="3465360" y="3727440"/>
                <a:ext cx="184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3451320" y="4075200"/>
                <a:ext cx="198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3465360" y="3727440"/>
                <a:ext cx="1076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3510000" y="4071960"/>
                <a:ext cx="106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4300560" y="3440160"/>
                <a:ext cx="276120" cy="6336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3648240" y="3476520"/>
                <a:ext cx="844920" cy="841680"/>
              </a:xfrm>
              <a:custGeom>
                <a:avLst/>
                <a:gdLst/>
                <a:ahLst/>
                <a:rect l="0" t="0" r="r" b="b"/>
                <a:pathLst>
                  <a:path w="2347" h="2338">
                    <a:moveTo>
                      <a:pt x="0" y="701"/>
                    </a:moveTo>
                    <a:lnTo>
                      <a:pt x="0" y="1637"/>
                    </a:lnTo>
                    <a:lnTo>
                      <a:pt x="704" y="2338"/>
                    </a:lnTo>
                    <a:lnTo>
                      <a:pt x="1643" y="2338"/>
                    </a:lnTo>
                    <a:lnTo>
                      <a:pt x="2347" y="1637"/>
                    </a:lnTo>
                    <a:lnTo>
                      <a:pt x="2347" y="701"/>
                    </a:lnTo>
                    <a:lnTo>
                      <a:pt x="1643" y="0"/>
                    </a:lnTo>
                    <a:lnTo>
                      <a:pt x="704" y="0"/>
                    </a:lnTo>
                    <a:lnTo>
                      <a:pt x="0" y="701"/>
                    </a:lnTo>
                    <a:close/>
                  </a:path>
                </a:pathLst>
              </a:custGeom>
              <a:blipFill rotWithShape="0">
                <a:blip r:embed="rId10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3546360" y="3444840"/>
                <a:ext cx="339840" cy="4140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4228920" y="3432240"/>
                <a:ext cx="432000" cy="70200"/>
              </a:xfrm>
              <a:custGeom>
                <a:avLst/>
                <a:gdLst/>
                <a:ahLst/>
                <a:rect l="0" t="0" r="r" b="b"/>
                <a:pathLst>
                  <a:path w="1200" h="195">
                    <a:moveTo>
                      <a:pt x="0" y="61"/>
                    </a:moveTo>
                    <a:lnTo>
                      <a:pt x="134" y="195"/>
                    </a:lnTo>
                    <a:lnTo>
                      <a:pt x="1200" y="195"/>
                    </a:lnTo>
                    <a:lnTo>
                      <a:pt x="1191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3578400" y="3683160"/>
                <a:ext cx="66960" cy="63720"/>
              </a:xfrm>
              <a:custGeom>
                <a:avLst/>
                <a:gdLst/>
                <a:ahLst/>
                <a:rect l="0" t="0" r="r" b="b"/>
                <a:pathLst>
                  <a:path w="186" h="177">
                    <a:moveTo>
                      <a:pt x="26" y="70"/>
                    </a:moveTo>
                    <a:lnTo>
                      <a:pt x="0" y="168"/>
                    </a:lnTo>
                    <a:lnTo>
                      <a:pt x="186" y="177"/>
                    </a:lnTo>
                    <a:lnTo>
                      <a:pt x="168" y="0"/>
                    </a:lnTo>
                    <a:lnTo>
                      <a:pt x="26" y="7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86" name=""/>
              <p:cNvGrpSpPr/>
              <p:nvPr/>
            </p:nvGrpSpPr>
            <p:grpSpPr>
              <a:xfrm>
                <a:off x="4068720" y="3319560"/>
                <a:ext cx="0" cy="1198440"/>
                <a:chOff x="4068720" y="3319560"/>
                <a:chExt cx="0" cy="1198440"/>
              </a:xfrm>
            </p:grpSpPr>
            <p:sp>
              <p:nvSpPr>
                <p:cNvPr id="8787" name=""/>
                <p:cNvSpPr/>
                <p:nvPr/>
              </p:nvSpPr>
              <p:spPr>
                <a:xfrm>
                  <a:off x="4068720" y="3854520"/>
                  <a:ext cx="0" cy="106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8" name=""/>
                <p:cNvSpPr/>
                <p:nvPr/>
              </p:nvSpPr>
              <p:spPr>
                <a:xfrm>
                  <a:off x="4068720" y="4052880"/>
                  <a:ext cx="0" cy="465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9" name=""/>
                <p:cNvSpPr/>
                <p:nvPr/>
              </p:nvSpPr>
              <p:spPr>
                <a:xfrm>
                  <a:off x="4068720" y="3319560"/>
                  <a:ext cx="0" cy="442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0" name=""/>
              <p:cNvSpPr/>
              <p:nvPr/>
            </p:nvSpPr>
            <p:spPr>
              <a:xfrm>
                <a:off x="3584520" y="4048200"/>
                <a:ext cx="70200" cy="60840"/>
              </a:xfrm>
              <a:custGeom>
                <a:avLst/>
                <a:gdLst/>
                <a:ahLst/>
                <a:rect l="0" t="0" r="r" b="b"/>
                <a:pathLst>
                  <a:path w="195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95" y="124"/>
                    </a:lnTo>
                    <a:lnTo>
                      <a:pt x="1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3562200" y="4276800"/>
                <a:ext cx="356040" cy="82800"/>
              </a:xfrm>
              <a:custGeom>
                <a:avLst/>
                <a:gdLst/>
                <a:ahLst/>
                <a:rect l="0" t="0" r="r" b="b"/>
                <a:pathLst>
                  <a:path w="989" h="230">
                    <a:moveTo>
                      <a:pt x="167" y="44"/>
                    </a:moveTo>
                    <a:lnTo>
                      <a:pt x="0" y="230"/>
                    </a:lnTo>
                    <a:lnTo>
                      <a:pt x="989" y="195"/>
                    </a:lnTo>
                    <a:lnTo>
                      <a:pt x="778" y="0"/>
                    </a:lnTo>
                    <a:lnTo>
                      <a:pt x="167" y="44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4489560" y="3689280"/>
                <a:ext cx="149760" cy="98640"/>
              </a:xfrm>
              <a:custGeom>
                <a:avLst/>
                <a:gdLst/>
                <a:ahLst/>
                <a:rect l="0" t="0" r="r" b="b"/>
                <a:pathLst>
                  <a:path w="416" h="274">
                    <a:moveTo>
                      <a:pt x="0" y="26"/>
                    </a:moveTo>
                    <a:lnTo>
                      <a:pt x="44" y="274"/>
                    </a:lnTo>
                    <a:lnTo>
                      <a:pt x="363" y="186"/>
                    </a:lnTo>
                    <a:lnTo>
                      <a:pt x="416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4492800" y="4051440"/>
                <a:ext cx="82800" cy="101880"/>
              </a:xfrm>
              <a:custGeom>
                <a:avLst/>
                <a:gdLst/>
                <a:ahLst/>
                <a:rect l="0" t="0" r="r" b="b"/>
                <a:pathLst>
                  <a:path w="230" h="283">
                    <a:moveTo>
                      <a:pt x="8" y="0"/>
                    </a:moveTo>
                    <a:lnTo>
                      <a:pt x="0" y="283"/>
                    </a:lnTo>
                    <a:lnTo>
                      <a:pt x="203" y="123"/>
                    </a:lnTo>
                    <a:lnTo>
                      <a:pt x="23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4181400" y="4280040"/>
                <a:ext cx="359280" cy="105120"/>
              </a:xfrm>
              <a:custGeom>
                <a:avLst/>
                <a:gdLst/>
                <a:ahLst/>
                <a:rect l="0" t="0" r="r" b="b"/>
                <a:pathLst>
                  <a:path w="998" h="292">
                    <a:moveTo>
                      <a:pt x="283" y="35"/>
                    </a:moveTo>
                    <a:lnTo>
                      <a:pt x="0" y="292"/>
                    </a:lnTo>
                    <a:lnTo>
                      <a:pt x="998" y="239"/>
                    </a:lnTo>
                    <a:lnTo>
                      <a:pt x="980" y="0"/>
                    </a:lnTo>
                    <a:lnTo>
                      <a:pt x="283" y="35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95" name=""/>
            <p:cNvSpPr/>
            <p:nvPr/>
          </p:nvSpPr>
          <p:spPr>
            <a:xfrm>
              <a:off x="4548240" y="3476520"/>
              <a:ext cx="133560" cy="838440"/>
            </a:xfrm>
            <a:custGeom>
              <a:avLst/>
              <a:gdLst/>
              <a:ahLst/>
              <a:rect l="0" t="0" r="r" b="b"/>
              <a:pathLst>
                <a:path fill="none" w="371" h="2329">
                  <a:moveTo>
                    <a:pt x="331" y="0"/>
                  </a:moveTo>
                  <a:lnTo>
                    <a:pt x="344" y="39"/>
                  </a:lnTo>
                  <a:lnTo>
                    <a:pt x="358" y="79"/>
                  </a:lnTo>
                  <a:lnTo>
                    <a:pt x="371" y="119"/>
                  </a:lnTo>
                  <a:lnTo>
                    <a:pt x="371" y="185"/>
                  </a:lnTo>
                  <a:lnTo>
                    <a:pt x="358" y="251"/>
                  </a:lnTo>
                  <a:lnTo>
                    <a:pt x="344" y="291"/>
                  </a:lnTo>
                  <a:lnTo>
                    <a:pt x="331" y="343"/>
                  </a:lnTo>
                  <a:lnTo>
                    <a:pt x="318" y="383"/>
                  </a:lnTo>
                  <a:lnTo>
                    <a:pt x="305" y="436"/>
                  </a:lnTo>
                  <a:lnTo>
                    <a:pt x="305" y="489"/>
                  </a:lnTo>
                  <a:lnTo>
                    <a:pt x="305" y="529"/>
                  </a:lnTo>
                  <a:lnTo>
                    <a:pt x="305" y="568"/>
                  </a:lnTo>
                  <a:lnTo>
                    <a:pt x="292" y="608"/>
                  </a:lnTo>
                  <a:lnTo>
                    <a:pt x="265" y="648"/>
                  </a:lnTo>
                  <a:lnTo>
                    <a:pt x="252" y="687"/>
                  </a:lnTo>
                  <a:lnTo>
                    <a:pt x="239" y="727"/>
                  </a:lnTo>
                  <a:lnTo>
                    <a:pt x="225" y="780"/>
                  </a:lnTo>
                  <a:lnTo>
                    <a:pt x="212" y="820"/>
                  </a:lnTo>
                  <a:lnTo>
                    <a:pt x="199" y="899"/>
                  </a:lnTo>
                  <a:lnTo>
                    <a:pt x="199" y="939"/>
                  </a:lnTo>
                  <a:lnTo>
                    <a:pt x="199" y="992"/>
                  </a:lnTo>
                  <a:lnTo>
                    <a:pt x="199" y="1031"/>
                  </a:lnTo>
                  <a:lnTo>
                    <a:pt x="199" y="1098"/>
                  </a:lnTo>
                  <a:lnTo>
                    <a:pt x="199" y="1150"/>
                  </a:lnTo>
                  <a:lnTo>
                    <a:pt x="186" y="1191"/>
                  </a:lnTo>
                  <a:lnTo>
                    <a:pt x="171" y="1231"/>
                  </a:lnTo>
                  <a:lnTo>
                    <a:pt x="145" y="1270"/>
                  </a:lnTo>
                  <a:lnTo>
                    <a:pt x="145" y="1337"/>
                  </a:lnTo>
                  <a:lnTo>
                    <a:pt x="132" y="1390"/>
                  </a:lnTo>
                  <a:lnTo>
                    <a:pt x="119" y="1442"/>
                  </a:lnTo>
                  <a:lnTo>
                    <a:pt x="119" y="1522"/>
                  </a:lnTo>
                  <a:lnTo>
                    <a:pt x="119" y="1562"/>
                  </a:lnTo>
                  <a:lnTo>
                    <a:pt x="119" y="1614"/>
                  </a:lnTo>
                  <a:lnTo>
                    <a:pt x="105" y="1654"/>
                  </a:lnTo>
                  <a:lnTo>
                    <a:pt x="79" y="1694"/>
                  </a:lnTo>
                  <a:lnTo>
                    <a:pt x="66" y="1734"/>
                  </a:lnTo>
                  <a:lnTo>
                    <a:pt x="52" y="1800"/>
                  </a:lnTo>
                  <a:lnTo>
                    <a:pt x="52" y="1839"/>
                  </a:lnTo>
                  <a:lnTo>
                    <a:pt x="39" y="1892"/>
                  </a:lnTo>
                  <a:lnTo>
                    <a:pt x="39" y="1932"/>
                  </a:lnTo>
                  <a:lnTo>
                    <a:pt x="26" y="1972"/>
                  </a:lnTo>
                  <a:lnTo>
                    <a:pt x="26" y="2025"/>
                  </a:lnTo>
                  <a:lnTo>
                    <a:pt x="13" y="2064"/>
                  </a:lnTo>
                  <a:lnTo>
                    <a:pt x="13" y="2104"/>
                  </a:lnTo>
                  <a:lnTo>
                    <a:pt x="13" y="2170"/>
                  </a:lnTo>
                  <a:lnTo>
                    <a:pt x="0" y="2210"/>
                  </a:lnTo>
                  <a:lnTo>
                    <a:pt x="0" y="2249"/>
                  </a:lnTo>
                  <a:lnTo>
                    <a:pt x="0" y="2316"/>
                  </a:lnTo>
                  <a:lnTo>
                    <a:pt x="13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6" name=""/>
            <p:cNvSpPr/>
            <p:nvPr/>
          </p:nvSpPr>
          <p:spPr>
            <a:xfrm>
              <a:off x="3540240" y="3476520"/>
              <a:ext cx="68760" cy="841680"/>
            </a:xfrm>
            <a:custGeom>
              <a:avLst/>
              <a:gdLst/>
              <a:ahLst/>
              <a:rect l="0" t="0" r="r" b="b"/>
              <a:pathLst>
                <a:path fill="none" w="191" h="2338">
                  <a:moveTo>
                    <a:pt x="0" y="0"/>
                  </a:moveTo>
                  <a:lnTo>
                    <a:pt x="4" y="52"/>
                  </a:lnTo>
                  <a:lnTo>
                    <a:pt x="35" y="145"/>
                  </a:lnTo>
                  <a:lnTo>
                    <a:pt x="160" y="299"/>
                  </a:lnTo>
                  <a:lnTo>
                    <a:pt x="191" y="392"/>
                  </a:lnTo>
                  <a:lnTo>
                    <a:pt x="128" y="485"/>
                  </a:lnTo>
                  <a:lnTo>
                    <a:pt x="98" y="665"/>
                  </a:lnTo>
                  <a:lnTo>
                    <a:pt x="67" y="820"/>
                  </a:lnTo>
                  <a:lnTo>
                    <a:pt x="67" y="1036"/>
                  </a:lnTo>
                  <a:lnTo>
                    <a:pt x="67" y="1128"/>
                  </a:lnTo>
                  <a:lnTo>
                    <a:pt x="67" y="1253"/>
                  </a:lnTo>
                  <a:lnTo>
                    <a:pt x="67" y="1345"/>
                  </a:lnTo>
                  <a:lnTo>
                    <a:pt x="67" y="1438"/>
                  </a:lnTo>
                  <a:lnTo>
                    <a:pt x="67" y="1531"/>
                  </a:lnTo>
                  <a:lnTo>
                    <a:pt x="98" y="1623"/>
                  </a:lnTo>
                  <a:lnTo>
                    <a:pt x="98" y="1716"/>
                  </a:lnTo>
                  <a:lnTo>
                    <a:pt x="98" y="1839"/>
                  </a:lnTo>
                  <a:lnTo>
                    <a:pt x="98" y="1989"/>
                  </a:lnTo>
                  <a:lnTo>
                    <a:pt x="160" y="2082"/>
                  </a:lnTo>
                  <a:lnTo>
                    <a:pt x="191" y="2174"/>
                  </a:lnTo>
                  <a:lnTo>
                    <a:pt x="191" y="2267"/>
                  </a:lnTo>
                  <a:lnTo>
                    <a:pt x="142" y="233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7" name=""/>
          <p:cNvGrpSpPr/>
          <p:nvPr/>
        </p:nvGrpSpPr>
        <p:grpSpPr>
          <a:xfrm>
            <a:off x="4927680" y="3473280"/>
            <a:ext cx="440280" cy="848160"/>
            <a:chOff x="4927680" y="3473280"/>
            <a:chExt cx="440280" cy="848160"/>
          </a:xfrm>
        </p:grpSpPr>
        <p:sp>
          <p:nvSpPr>
            <p:cNvPr id="8798" name=""/>
            <p:cNvSpPr/>
            <p:nvPr/>
          </p:nvSpPr>
          <p:spPr>
            <a:xfrm>
              <a:off x="4970520" y="3965400"/>
              <a:ext cx="397080" cy="109800"/>
            </a:xfrm>
            <a:custGeom>
              <a:avLst/>
              <a:gdLst/>
              <a:ahLst/>
              <a:rect l="0" t="0" r="r" b="b"/>
              <a:pathLst>
                <a:path fill="none" w="1103" h="305">
                  <a:moveTo>
                    <a:pt x="0" y="305"/>
                  </a:moveTo>
                  <a:lnTo>
                    <a:pt x="0" y="305"/>
                  </a:lnTo>
                  <a:cubicBezTo>
                    <a:pt x="194" y="305"/>
                    <a:pt x="384" y="291"/>
                    <a:pt x="552" y="264"/>
                  </a:cubicBezTo>
                  <a:cubicBezTo>
                    <a:pt x="719" y="237"/>
                    <a:pt x="858" y="199"/>
                    <a:pt x="955" y="152"/>
                  </a:cubicBezTo>
                  <a:cubicBezTo>
                    <a:pt x="1052" y="106"/>
                    <a:pt x="1103" y="54"/>
                    <a:pt x="1103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9" name=""/>
            <p:cNvSpPr/>
            <p:nvPr/>
          </p:nvSpPr>
          <p:spPr>
            <a:xfrm>
              <a:off x="4960800" y="3579840"/>
              <a:ext cx="406800" cy="149760"/>
            </a:xfrm>
            <a:custGeom>
              <a:avLst/>
              <a:gdLst/>
              <a:ahLst/>
              <a:rect l="0" t="0" r="r" b="b"/>
              <a:pathLst>
                <a:path fill="none" w="1130" h="416">
                  <a:moveTo>
                    <a:pt x="0" y="416"/>
                  </a:moveTo>
                  <a:lnTo>
                    <a:pt x="0" y="416"/>
                  </a:lnTo>
                  <a:cubicBezTo>
                    <a:pt x="198" y="416"/>
                    <a:pt x="393" y="397"/>
                    <a:pt x="565" y="360"/>
                  </a:cubicBezTo>
                  <a:cubicBezTo>
                    <a:pt x="737" y="324"/>
                    <a:pt x="879" y="271"/>
                    <a:pt x="979" y="208"/>
                  </a:cubicBezTo>
                  <a:cubicBezTo>
                    <a:pt x="1078" y="145"/>
                    <a:pt x="1130" y="73"/>
                    <a:pt x="113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0" name=""/>
            <p:cNvSpPr/>
            <p:nvPr/>
          </p:nvSpPr>
          <p:spPr>
            <a:xfrm>
              <a:off x="4950000" y="3724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0" y="0"/>
                  </a:moveTo>
                  <a:lnTo>
                    <a:pt x="0" y="0"/>
                  </a:lnTo>
                  <a:cubicBezTo>
                    <a:pt x="0" y="49"/>
                    <a:pt x="54" y="97"/>
                    <a:pt x="156" y="140"/>
                  </a:cubicBezTo>
                  <a:cubicBezTo>
                    <a:pt x="257" y="182"/>
                    <a:pt x="404" y="217"/>
                    <a:pt x="581" y="242"/>
                  </a:cubicBezTo>
                  <a:cubicBezTo>
                    <a:pt x="757" y="266"/>
                    <a:pt x="957" y="279"/>
                    <a:pt x="1161" y="27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1" name=""/>
            <p:cNvSpPr/>
            <p:nvPr/>
          </p:nvSpPr>
          <p:spPr>
            <a:xfrm>
              <a:off x="4927680" y="4070520"/>
              <a:ext cx="417960" cy="138600"/>
            </a:xfrm>
            <a:custGeom>
              <a:avLst/>
              <a:gdLst/>
              <a:ahLst/>
              <a:rect l="0" t="0" r="r" b="b"/>
              <a:pathLst>
                <a:path fill="none" w="1161" h="385">
                  <a:moveTo>
                    <a:pt x="0" y="0"/>
                  </a:moveTo>
                  <a:lnTo>
                    <a:pt x="0" y="0"/>
                  </a:lnTo>
                  <a:cubicBezTo>
                    <a:pt x="0" y="68"/>
                    <a:pt x="54" y="134"/>
                    <a:pt x="156" y="193"/>
                  </a:cubicBezTo>
                  <a:cubicBezTo>
                    <a:pt x="257" y="251"/>
                    <a:pt x="404" y="300"/>
                    <a:pt x="581" y="333"/>
                  </a:cubicBezTo>
                  <a:cubicBezTo>
                    <a:pt x="757" y="367"/>
                    <a:pt x="957" y="385"/>
                    <a:pt x="1161" y="38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2" name=""/>
            <p:cNvSpPr/>
            <p:nvPr/>
          </p:nvSpPr>
          <p:spPr>
            <a:xfrm>
              <a:off x="4948200" y="419724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345"/>
                  </a:moveTo>
                  <a:lnTo>
                    <a:pt x="0" y="345"/>
                  </a:lnTo>
                  <a:cubicBezTo>
                    <a:pt x="195" y="345"/>
                    <a:pt x="387" y="329"/>
                    <a:pt x="556" y="299"/>
                  </a:cubicBezTo>
                  <a:cubicBezTo>
                    <a:pt x="725" y="268"/>
                    <a:pt x="865" y="225"/>
                    <a:pt x="963" y="172"/>
                  </a:cubicBezTo>
                  <a:cubicBezTo>
                    <a:pt x="1061" y="120"/>
                    <a:pt x="1112" y="61"/>
                    <a:pt x="1112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4967280" y="3473280"/>
              <a:ext cx="400320" cy="124200"/>
            </a:xfrm>
            <a:custGeom>
              <a:avLst/>
              <a:gdLst/>
              <a:ahLst/>
              <a:rect l="0" t="0" r="r" b="b"/>
              <a:pathLst>
                <a:path fill="none" w="1112" h="345">
                  <a:moveTo>
                    <a:pt x="0" y="0"/>
                  </a:moveTo>
                  <a:lnTo>
                    <a:pt x="0" y="0"/>
                  </a:lnTo>
                  <a:cubicBezTo>
                    <a:pt x="0" y="61"/>
                    <a:pt x="51" y="120"/>
                    <a:pt x="149" y="173"/>
                  </a:cubicBezTo>
                  <a:cubicBezTo>
                    <a:pt x="247" y="225"/>
                    <a:pt x="387" y="268"/>
                    <a:pt x="556" y="299"/>
                  </a:cubicBezTo>
                  <a:cubicBezTo>
                    <a:pt x="725" y="329"/>
                    <a:pt x="917" y="345"/>
                    <a:pt x="1112" y="345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04" name=""/>
          <p:cNvSpPr/>
          <p:nvPr/>
        </p:nvSpPr>
        <p:spPr>
          <a:xfrm>
            <a:off x="6153120" y="3479760"/>
            <a:ext cx="2775960" cy="482400"/>
          </a:xfrm>
          <a:custGeom>
            <a:avLst/>
            <a:gdLst/>
            <a:ahLst/>
            <a:rect l="0" t="0" r="r" b="b"/>
            <a:pathLst>
              <a:path fill="none" w="7711" h="1340">
                <a:moveTo>
                  <a:pt x="7711" y="1340"/>
                </a:moveTo>
                <a:lnTo>
                  <a:pt x="7711" y="1340"/>
                </a:lnTo>
                <a:cubicBezTo>
                  <a:pt x="7553" y="1153"/>
                  <a:pt x="7238" y="974"/>
                  <a:pt x="6779" y="810"/>
                </a:cubicBezTo>
                <a:cubicBezTo>
                  <a:pt x="6092" y="563"/>
                  <a:pt x="5104" y="359"/>
                  <a:pt x="3914" y="217"/>
                </a:cubicBezTo>
                <a:cubicBezTo>
                  <a:pt x="2724" y="75"/>
                  <a:pt x="137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5" name=""/>
          <p:cNvSpPr/>
          <p:nvPr/>
        </p:nvSpPr>
        <p:spPr>
          <a:xfrm>
            <a:off x="6156000" y="3697200"/>
            <a:ext cx="2778840" cy="459000"/>
          </a:xfrm>
          <a:custGeom>
            <a:avLst/>
            <a:gdLst/>
            <a:ahLst/>
            <a:rect l="0" t="0" r="r" b="b"/>
            <a:pathLst>
              <a:path fill="none" w="7719" h="1275">
                <a:moveTo>
                  <a:pt x="7719" y="0"/>
                </a:moveTo>
                <a:lnTo>
                  <a:pt x="7719" y="0"/>
                </a:lnTo>
                <a:lnTo>
                  <a:pt x="7719" y="0"/>
                </a:lnTo>
                <a:cubicBezTo>
                  <a:pt x="6315" y="0"/>
                  <a:pt x="4936" y="80"/>
                  <a:pt x="3721" y="231"/>
                </a:cubicBezTo>
                <a:cubicBezTo>
                  <a:pt x="2505" y="383"/>
                  <a:pt x="1496" y="600"/>
                  <a:pt x="794" y="863"/>
                </a:cubicBezTo>
                <a:cubicBezTo>
                  <a:pt x="448" y="992"/>
                  <a:pt x="181" y="1131"/>
                  <a:pt x="0" y="127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6" name=""/>
          <p:cNvSpPr/>
          <p:nvPr/>
        </p:nvSpPr>
        <p:spPr>
          <a:xfrm>
            <a:off x="7054920" y="3529080"/>
            <a:ext cx="57240" cy="7430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7" name=""/>
          <p:cNvSpPr/>
          <p:nvPr/>
        </p:nvSpPr>
        <p:spPr>
          <a:xfrm>
            <a:off x="6323040" y="3371760"/>
            <a:ext cx="884520" cy="116280"/>
          </a:xfrm>
          <a:custGeom>
            <a:avLst/>
            <a:gdLst/>
            <a:ahLst/>
            <a:rect l="0" t="0" r="r" b="b"/>
            <a:pathLst>
              <a:path w="2457" h="323">
                <a:moveTo>
                  <a:pt x="0" y="205"/>
                </a:moveTo>
                <a:lnTo>
                  <a:pt x="2457" y="323"/>
                </a:lnTo>
                <a:lnTo>
                  <a:pt x="2432" y="0"/>
                </a:lnTo>
                <a:lnTo>
                  <a:pt x="0" y="205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8" name=""/>
          <p:cNvSpPr/>
          <p:nvPr/>
        </p:nvSpPr>
        <p:spPr>
          <a:xfrm>
            <a:off x="6454800" y="4264200"/>
            <a:ext cx="1195920" cy="214560"/>
          </a:xfrm>
          <a:custGeom>
            <a:avLst/>
            <a:gdLst/>
            <a:ahLst/>
            <a:rect l="0" t="0" r="r" b="b"/>
            <a:pathLst>
              <a:path w="3322" h="596">
                <a:moveTo>
                  <a:pt x="0" y="217"/>
                </a:moveTo>
                <a:lnTo>
                  <a:pt x="3322" y="0"/>
                </a:lnTo>
                <a:lnTo>
                  <a:pt x="3288" y="596"/>
                </a:lnTo>
                <a:lnTo>
                  <a:pt x="0" y="217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9" name=""/>
          <p:cNvSpPr/>
          <p:nvPr/>
        </p:nvSpPr>
        <p:spPr>
          <a:xfrm>
            <a:off x="6873840" y="390528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0" name=""/>
          <p:cNvSpPr/>
          <p:nvPr/>
        </p:nvSpPr>
        <p:spPr>
          <a:xfrm flipV="1">
            <a:off x="254160" y="3476520"/>
            <a:ext cx="849240" cy="84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1" name=""/>
          <p:cNvSpPr/>
          <p:nvPr/>
        </p:nvSpPr>
        <p:spPr>
          <a:xfrm>
            <a:off x="1101600" y="347652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2" name=""/>
          <p:cNvSpPr/>
          <p:nvPr/>
        </p:nvSpPr>
        <p:spPr>
          <a:xfrm>
            <a:off x="254160" y="4317840"/>
            <a:ext cx="588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3" name=""/>
          <p:cNvSpPr/>
          <p:nvPr/>
        </p:nvSpPr>
        <p:spPr>
          <a:xfrm flipH="1">
            <a:off x="4494240" y="372888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4" name=""/>
          <p:cNvSpPr/>
          <p:nvPr/>
        </p:nvSpPr>
        <p:spPr>
          <a:xfrm flipH="1">
            <a:off x="4491000" y="4073400"/>
            <a:ext cx="58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5" name=""/>
          <p:cNvSpPr/>
          <p:nvPr/>
        </p:nvSpPr>
        <p:spPr>
          <a:xfrm>
            <a:off x="8864640" y="3781440"/>
            <a:ext cx="87480" cy="24300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6" name=""/>
          <p:cNvSpPr/>
          <p:nvPr/>
        </p:nvSpPr>
        <p:spPr>
          <a:xfrm>
            <a:off x="7045200" y="3905280"/>
            <a:ext cx="18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7" name=""/>
          <p:cNvGrpSpPr/>
          <p:nvPr/>
        </p:nvGrpSpPr>
        <p:grpSpPr>
          <a:xfrm>
            <a:off x="6680160" y="3502080"/>
            <a:ext cx="160560" cy="802800"/>
            <a:chOff x="6680160" y="3502080"/>
            <a:chExt cx="160560" cy="802800"/>
          </a:xfrm>
        </p:grpSpPr>
        <p:sp>
          <p:nvSpPr>
            <p:cNvPr id="8818" name=""/>
            <p:cNvSpPr/>
            <p:nvPr/>
          </p:nvSpPr>
          <p:spPr>
            <a:xfrm>
              <a:off x="6737400" y="3894120"/>
              <a:ext cx="101880" cy="209880"/>
            </a:xfrm>
            <a:custGeom>
              <a:avLst/>
              <a:gdLst/>
              <a:ahLst/>
              <a:rect l="0" t="0" r="r" b="b"/>
              <a:pathLst>
                <a:path w="283" h="583">
                  <a:moveTo>
                    <a:pt x="0" y="583"/>
                  </a:moveTo>
                  <a:lnTo>
                    <a:pt x="283" y="583"/>
                  </a:lnTo>
                  <a:lnTo>
                    <a:pt x="283" y="583"/>
                  </a:lnTo>
                  <a:lnTo>
                    <a:pt x="283" y="583"/>
                  </a:lnTo>
                  <a:cubicBezTo>
                    <a:pt x="283" y="481"/>
                    <a:pt x="270" y="380"/>
                    <a:pt x="245" y="291"/>
                  </a:cubicBezTo>
                  <a:cubicBezTo>
                    <a:pt x="220" y="203"/>
                    <a:pt x="185" y="129"/>
                    <a:pt x="141" y="78"/>
                  </a:cubicBezTo>
                  <a:cubicBezTo>
                    <a:pt x="98" y="27"/>
                    <a:pt x="50" y="0"/>
                    <a:pt x="0" y="0"/>
                  </a:cubicBezTo>
                  <a:lnTo>
                    <a:pt x="0" y="583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6680160" y="3876480"/>
              <a:ext cx="82800" cy="229320"/>
            </a:xfrm>
            <a:custGeom>
              <a:avLst/>
              <a:gdLst/>
              <a:ahLst/>
              <a:rect l="0" t="0" r="r" b="b"/>
              <a:pathLst>
                <a:path w="230" h="637">
                  <a:moveTo>
                    <a:pt x="230" y="637"/>
                  </a:moveTo>
                  <a:lnTo>
                    <a:pt x="146" y="0"/>
                  </a:lnTo>
                  <a:lnTo>
                    <a:pt x="146" y="0"/>
                  </a:lnTo>
                  <a:cubicBezTo>
                    <a:pt x="135" y="12"/>
                    <a:pt x="125" y="27"/>
                    <a:pt x="115" y="44"/>
                  </a:cubicBezTo>
                  <a:cubicBezTo>
                    <a:pt x="80" y="104"/>
                    <a:pt x="51" y="191"/>
                    <a:pt x="31" y="295"/>
                  </a:cubicBezTo>
                  <a:cubicBezTo>
                    <a:pt x="11" y="399"/>
                    <a:pt x="0" y="517"/>
                    <a:pt x="0" y="637"/>
                  </a:cubicBezTo>
                  <a:lnTo>
                    <a:pt x="230" y="637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6762600" y="4097160"/>
              <a:ext cx="78120" cy="204480"/>
            </a:xfrm>
            <a:custGeom>
              <a:avLst/>
              <a:gdLst/>
              <a:ahLst/>
              <a:rect l="0" t="0" r="r" b="b"/>
              <a:pathLst>
                <a:path w="217" h="568">
                  <a:moveTo>
                    <a:pt x="217" y="568"/>
                  </a:moveTo>
                  <a:lnTo>
                    <a:pt x="217" y="0"/>
                  </a:lnTo>
                  <a:lnTo>
                    <a:pt x="217" y="0"/>
                  </a:lnTo>
                  <a:cubicBezTo>
                    <a:pt x="179" y="0"/>
                    <a:pt x="141" y="26"/>
                    <a:pt x="108" y="76"/>
                  </a:cubicBezTo>
                  <a:cubicBezTo>
                    <a:pt x="76" y="126"/>
                    <a:pt x="48" y="198"/>
                    <a:pt x="29" y="284"/>
                  </a:cubicBezTo>
                  <a:cubicBezTo>
                    <a:pt x="10" y="370"/>
                    <a:pt x="0" y="468"/>
                    <a:pt x="0" y="568"/>
                  </a:cubicBezTo>
                  <a:lnTo>
                    <a:pt x="217" y="568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1" name=""/>
            <p:cNvSpPr/>
            <p:nvPr/>
          </p:nvSpPr>
          <p:spPr>
            <a:xfrm>
              <a:off x="6682680" y="4095720"/>
              <a:ext cx="80640" cy="209160"/>
            </a:xfrm>
            <a:custGeom>
              <a:avLst/>
              <a:gdLst/>
              <a:ahLst/>
              <a:rect l="0" t="0" r="r" b="b"/>
              <a:pathLst>
                <a:path w="224" h="581">
                  <a:moveTo>
                    <a:pt x="0" y="581"/>
                  </a:moveTo>
                  <a:lnTo>
                    <a:pt x="224" y="581"/>
                  </a:lnTo>
                  <a:lnTo>
                    <a:pt x="224" y="581"/>
                  </a:lnTo>
                  <a:lnTo>
                    <a:pt x="224" y="581"/>
                  </a:lnTo>
                  <a:cubicBezTo>
                    <a:pt x="224" y="479"/>
                    <a:pt x="214" y="379"/>
                    <a:pt x="194" y="290"/>
                  </a:cubicBezTo>
                  <a:cubicBezTo>
                    <a:pt x="174" y="202"/>
                    <a:pt x="146" y="129"/>
                    <a:pt x="112" y="78"/>
                  </a:cubicBezTo>
                  <a:cubicBezTo>
                    <a:pt x="78" y="27"/>
                    <a:pt x="39" y="0"/>
                    <a:pt x="0" y="0"/>
                  </a:cubicBezTo>
                  <a:lnTo>
                    <a:pt x="0" y="581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2" name=""/>
            <p:cNvSpPr/>
            <p:nvPr/>
          </p:nvSpPr>
          <p:spPr>
            <a:xfrm>
              <a:off x="6689880" y="3502080"/>
              <a:ext cx="117000" cy="201240"/>
            </a:xfrm>
            <a:custGeom>
              <a:avLst/>
              <a:gdLst/>
              <a:ahLst/>
              <a:rect l="0" t="0" r="r" b="b"/>
              <a:pathLst>
                <a:path fill="none" w="325" h="559">
                  <a:moveTo>
                    <a:pt x="325" y="0"/>
                  </a:moveTo>
                  <a:lnTo>
                    <a:pt x="325" y="0"/>
                  </a:lnTo>
                  <a:cubicBezTo>
                    <a:pt x="268" y="0"/>
                    <a:pt x="212" y="26"/>
                    <a:pt x="162" y="75"/>
                  </a:cubicBezTo>
                  <a:cubicBezTo>
                    <a:pt x="113" y="124"/>
                    <a:pt x="72" y="195"/>
                    <a:pt x="44" y="280"/>
                  </a:cubicBezTo>
                  <a:cubicBezTo>
                    <a:pt x="15" y="364"/>
                    <a:pt x="0" y="461"/>
                    <a:pt x="0" y="559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6692040" y="3695760"/>
              <a:ext cx="83520" cy="211320"/>
            </a:xfrm>
            <a:custGeom>
              <a:avLst/>
              <a:gdLst/>
              <a:ahLst/>
              <a:rect l="0" t="0" r="r" b="b"/>
              <a:pathLst>
                <a:path fill="none" w="232" h="587">
                  <a:moveTo>
                    <a:pt x="232" y="587"/>
                  </a:moveTo>
                  <a:lnTo>
                    <a:pt x="232" y="587"/>
                  </a:lnTo>
                  <a:lnTo>
                    <a:pt x="232" y="587"/>
                  </a:lnTo>
                  <a:cubicBezTo>
                    <a:pt x="232" y="484"/>
                    <a:pt x="221" y="383"/>
                    <a:pt x="201" y="293"/>
                  </a:cubicBezTo>
                  <a:cubicBezTo>
                    <a:pt x="181" y="204"/>
                    <a:pt x="151" y="130"/>
                    <a:pt x="116" y="79"/>
                  </a:cubicBezTo>
                  <a:cubicBezTo>
                    <a:pt x="81" y="27"/>
                    <a:pt x="4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24" name=""/>
          <p:cNvSpPr/>
          <p:nvPr/>
        </p:nvSpPr>
        <p:spPr>
          <a:xfrm>
            <a:off x="5600520" y="3327480"/>
            <a:ext cx="562320" cy="162360"/>
          </a:xfrm>
          <a:custGeom>
            <a:avLst/>
            <a:gdLst/>
            <a:ahLst/>
            <a:rect l="0" t="0" r="r" b="b"/>
            <a:pathLst>
              <a:path w="1562" h="451">
                <a:moveTo>
                  <a:pt x="0" y="0"/>
                </a:moveTo>
                <a:lnTo>
                  <a:pt x="0" y="451"/>
                </a:lnTo>
                <a:lnTo>
                  <a:pt x="1341" y="451"/>
                </a:lnTo>
                <a:lnTo>
                  <a:pt x="1562" y="416"/>
                </a:lnTo>
                <a:lnTo>
                  <a:pt x="1368" y="44"/>
                </a:lnTo>
                <a:lnTo>
                  <a:pt x="0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5" name=""/>
          <p:cNvSpPr/>
          <p:nvPr/>
        </p:nvSpPr>
        <p:spPr>
          <a:xfrm>
            <a:off x="5514840" y="4270320"/>
            <a:ext cx="594000" cy="187560"/>
          </a:xfrm>
          <a:custGeom>
            <a:avLst/>
            <a:gdLst/>
            <a:ahLst/>
            <a:rect l="0" t="0" r="r" b="b"/>
            <a:pathLst>
              <a:path w="1650" h="521">
                <a:moveTo>
                  <a:pt x="0" y="265"/>
                </a:moveTo>
                <a:lnTo>
                  <a:pt x="361" y="0"/>
                </a:lnTo>
                <a:lnTo>
                  <a:pt x="1650" y="132"/>
                </a:lnTo>
                <a:lnTo>
                  <a:pt x="1623" y="521"/>
                </a:lnTo>
                <a:lnTo>
                  <a:pt x="0" y="265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26" name=""/>
          <p:cNvGrpSpPr/>
          <p:nvPr/>
        </p:nvGrpSpPr>
        <p:grpSpPr>
          <a:xfrm>
            <a:off x="5518080" y="3475080"/>
            <a:ext cx="166320" cy="841680"/>
            <a:chOff x="5518080" y="3475080"/>
            <a:chExt cx="166320" cy="841680"/>
          </a:xfrm>
        </p:grpSpPr>
        <p:sp>
          <p:nvSpPr>
            <p:cNvPr id="8827" name=""/>
            <p:cNvSpPr/>
            <p:nvPr/>
          </p:nvSpPr>
          <p:spPr>
            <a:xfrm>
              <a:off x="5518080" y="3687840"/>
              <a:ext cx="106560" cy="220320"/>
            </a:xfrm>
            <a:custGeom>
              <a:avLst/>
              <a:gdLst/>
              <a:ahLst/>
              <a:rect l="0" t="0" r="r" b="b"/>
              <a:pathLst>
                <a:path w="296" h="612">
                  <a:moveTo>
                    <a:pt x="0" y="612"/>
                  </a:moveTo>
                  <a:lnTo>
                    <a:pt x="296" y="612"/>
                  </a:lnTo>
                  <a:lnTo>
                    <a:pt x="296" y="612"/>
                  </a:lnTo>
                  <a:lnTo>
                    <a:pt x="296" y="612"/>
                  </a:lnTo>
                  <a:cubicBezTo>
                    <a:pt x="296" y="505"/>
                    <a:pt x="282" y="399"/>
                    <a:pt x="256" y="306"/>
                  </a:cubicBezTo>
                  <a:cubicBezTo>
                    <a:pt x="230" y="213"/>
                    <a:pt x="193" y="136"/>
                    <a:pt x="148" y="82"/>
                  </a:cubicBezTo>
                  <a:cubicBezTo>
                    <a:pt x="103" y="28"/>
                    <a:pt x="52" y="0"/>
                    <a:pt x="0" y="0"/>
                  </a:cubicBezTo>
                  <a:lnTo>
                    <a:pt x="0" y="612"/>
                  </a:lnTo>
                  <a:close/>
                </a:path>
              </a:pathLst>
            </a:custGeom>
            <a:blipFill rotWithShape="0">
              <a:blip r:embed="rId5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5599080" y="3684960"/>
              <a:ext cx="85320" cy="241200"/>
            </a:xfrm>
            <a:custGeom>
              <a:avLst/>
              <a:gdLst/>
              <a:ahLst/>
              <a:rect l="0" t="0" r="r" b="b"/>
              <a:pathLst>
                <a:path w="237" h="670">
                  <a:moveTo>
                    <a:pt x="237" y="670"/>
                  </a:moveTo>
                  <a:lnTo>
                    <a:pt x="150" y="0"/>
                  </a:lnTo>
                  <a:lnTo>
                    <a:pt x="150" y="0"/>
                  </a:lnTo>
                  <a:cubicBezTo>
                    <a:pt x="139" y="13"/>
                    <a:pt x="129" y="29"/>
                    <a:pt x="118" y="47"/>
                  </a:cubicBezTo>
                  <a:cubicBezTo>
                    <a:pt x="82" y="110"/>
                    <a:pt x="53" y="201"/>
                    <a:pt x="32" y="310"/>
                  </a:cubicBezTo>
                  <a:cubicBezTo>
                    <a:pt x="11" y="420"/>
                    <a:pt x="0" y="544"/>
                    <a:pt x="0" y="670"/>
                  </a:cubicBezTo>
                  <a:lnTo>
                    <a:pt x="237" y="670"/>
                  </a:lnTo>
                  <a:close/>
                </a:path>
              </a:pathLst>
            </a:custGeom>
            <a:blipFill rotWithShape="0">
              <a:blip r:embed="rId6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5518080" y="3479760"/>
              <a:ext cx="82080" cy="214560"/>
            </a:xfrm>
            <a:custGeom>
              <a:avLst/>
              <a:gdLst/>
              <a:ahLst/>
              <a:rect l="0" t="0" r="r" b="b"/>
              <a:pathLst>
                <a:path w="228" h="596">
                  <a:moveTo>
                    <a:pt x="228" y="596"/>
                  </a:moveTo>
                  <a:lnTo>
                    <a:pt x="228" y="0"/>
                  </a:lnTo>
                  <a:lnTo>
                    <a:pt x="228" y="0"/>
                  </a:lnTo>
                  <a:cubicBezTo>
                    <a:pt x="188" y="0"/>
                    <a:pt x="149" y="28"/>
                    <a:pt x="114" y="80"/>
                  </a:cubicBezTo>
                  <a:cubicBezTo>
                    <a:pt x="79" y="132"/>
                    <a:pt x="51" y="207"/>
                    <a:pt x="31" y="298"/>
                  </a:cubicBezTo>
                  <a:cubicBezTo>
                    <a:pt x="11" y="389"/>
                    <a:pt x="0" y="491"/>
                    <a:pt x="0" y="596"/>
                  </a:cubicBezTo>
                  <a:lnTo>
                    <a:pt x="228" y="596"/>
                  </a:lnTo>
                  <a:close/>
                </a:path>
              </a:pathLst>
            </a:custGeom>
            <a:blipFill rotWithShape="0">
              <a:blip r:embed="rId7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5598360" y="3475080"/>
              <a:ext cx="83520" cy="219600"/>
            </a:xfrm>
            <a:custGeom>
              <a:avLst/>
              <a:gdLst/>
              <a:ahLst/>
              <a:rect l="0" t="0" r="r" b="b"/>
              <a:pathLst>
                <a:path w="232" h="610">
                  <a:moveTo>
                    <a:pt x="0" y="610"/>
                  </a:moveTo>
                  <a:lnTo>
                    <a:pt x="232" y="610"/>
                  </a:lnTo>
                  <a:lnTo>
                    <a:pt x="232" y="610"/>
                  </a:lnTo>
                  <a:lnTo>
                    <a:pt x="232" y="610"/>
                  </a:lnTo>
                  <a:cubicBezTo>
                    <a:pt x="232" y="503"/>
                    <a:pt x="221" y="398"/>
                    <a:pt x="201" y="305"/>
                  </a:cubicBezTo>
                  <a:cubicBezTo>
                    <a:pt x="181" y="212"/>
                    <a:pt x="151" y="135"/>
                    <a:pt x="116" y="82"/>
                  </a:cubicBezTo>
                  <a:cubicBezTo>
                    <a:pt x="81" y="28"/>
                    <a:pt x="41" y="0"/>
                    <a:pt x="0" y="0"/>
                  </a:cubicBezTo>
                  <a:lnTo>
                    <a:pt x="0" y="610"/>
                  </a:lnTo>
                  <a:close/>
                </a:path>
              </a:pathLst>
            </a:custGeom>
            <a:blipFill rotWithShape="0">
              <a:blip r:embed="rId8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5551560" y="4106880"/>
              <a:ext cx="123480" cy="209880"/>
            </a:xfrm>
            <a:custGeom>
              <a:avLst/>
              <a:gdLst/>
              <a:ahLst/>
              <a:rect l="0" t="0" r="r" b="b"/>
              <a:pathLst>
                <a:path fill="none" w="343" h="583">
                  <a:moveTo>
                    <a:pt x="343" y="0"/>
                  </a:moveTo>
                  <a:lnTo>
                    <a:pt x="343" y="0"/>
                  </a:lnTo>
                  <a:cubicBezTo>
                    <a:pt x="283" y="0"/>
                    <a:pt x="224" y="27"/>
                    <a:pt x="171" y="78"/>
                  </a:cubicBezTo>
                  <a:cubicBezTo>
                    <a:pt x="119" y="129"/>
                    <a:pt x="76" y="203"/>
                    <a:pt x="46" y="292"/>
                  </a:cubicBezTo>
                  <a:cubicBezTo>
                    <a:pt x="16" y="380"/>
                    <a:pt x="0" y="481"/>
                    <a:pt x="0" y="58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5586480" y="3894120"/>
              <a:ext cx="87840" cy="223560"/>
            </a:xfrm>
            <a:custGeom>
              <a:avLst/>
              <a:gdLst/>
              <a:ahLst/>
              <a:rect l="0" t="0" r="r" b="b"/>
              <a:pathLst>
                <a:path fill="none" w="244" h="621">
                  <a:moveTo>
                    <a:pt x="244" y="621"/>
                  </a:moveTo>
                  <a:lnTo>
                    <a:pt x="244" y="621"/>
                  </a:lnTo>
                  <a:lnTo>
                    <a:pt x="244" y="621"/>
                  </a:lnTo>
                  <a:cubicBezTo>
                    <a:pt x="244" y="512"/>
                    <a:pt x="233" y="405"/>
                    <a:pt x="211" y="310"/>
                  </a:cubicBezTo>
                  <a:cubicBezTo>
                    <a:pt x="190" y="216"/>
                    <a:pt x="159" y="138"/>
                    <a:pt x="122" y="83"/>
                  </a:cubicBezTo>
                  <a:cubicBezTo>
                    <a:pt x="85" y="29"/>
                    <a:pt x="43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33" name=""/>
          <p:cNvSpPr/>
          <p:nvPr/>
        </p:nvSpPr>
        <p:spPr>
          <a:xfrm>
            <a:off x="6210360" y="3327480"/>
            <a:ext cx="641880" cy="203400"/>
          </a:xfrm>
          <a:custGeom>
            <a:avLst/>
            <a:gdLst/>
            <a:ahLst/>
            <a:rect l="0" t="0" r="r" b="b"/>
            <a:pathLst>
              <a:path w="1783" h="565">
                <a:moveTo>
                  <a:pt x="0" y="389"/>
                </a:moveTo>
                <a:lnTo>
                  <a:pt x="600" y="556"/>
                </a:lnTo>
                <a:lnTo>
                  <a:pt x="1421" y="565"/>
                </a:lnTo>
                <a:lnTo>
                  <a:pt x="1783" y="380"/>
                </a:lnTo>
                <a:lnTo>
                  <a:pt x="317" y="0"/>
                </a:lnTo>
                <a:lnTo>
                  <a:pt x="0" y="389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4" name=""/>
          <p:cNvSpPr/>
          <p:nvPr/>
        </p:nvSpPr>
        <p:spPr>
          <a:xfrm>
            <a:off x="6254640" y="4267080"/>
            <a:ext cx="555840" cy="194040"/>
          </a:xfrm>
          <a:custGeom>
            <a:avLst/>
            <a:gdLst/>
            <a:ahLst/>
            <a:rect l="0" t="0" r="r" b="b"/>
            <a:pathLst>
              <a:path w="1544" h="539">
                <a:moveTo>
                  <a:pt x="0" y="177"/>
                </a:moveTo>
                <a:lnTo>
                  <a:pt x="529" y="0"/>
                </a:lnTo>
                <a:lnTo>
                  <a:pt x="1218" y="0"/>
                </a:lnTo>
                <a:lnTo>
                  <a:pt x="1544" y="239"/>
                </a:lnTo>
                <a:lnTo>
                  <a:pt x="361" y="539"/>
                </a:lnTo>
                <a:lnTo>
                  <a:pt x="0" y="177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5" name=""/>
          <p:cNvSpPr/>
          <p:nvPr/>
        </p:nvSpPr>
        <p:spPr>
          <a:xfrm>
            <a:off x="5761080" y="3478320"/>
            <a:ext cx="844560" cy="844560"/>
          </a:xfrm>
          <a:prstGeom prst="ellipse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6" name=""/>
          <p:cNvSpPr/>
          <p:nvPr/>
        </p:nvSpPr>
        <p:spPr>
          <a:xfrm>
            <a:off x="5388120" y="3905280"/>
            <a:ext cx="14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7" name=""/>
          <p:cNvGrpSpPr/>
          <p:nvPr/>
        </p:nvGrpSpPr>
        <p:grpSpPr>
          <a:xfrm>
            <a:off x="6172200" y="3305160"/>
            <a:ext cx="0" cy="1198440"/>
            <a:chOff x="6172200" y="3305160"/>
            <a:chExt cx="0" cy="1198440"/>
          </a:xfrm>
        </p:grpSpPr>
        <p:sp>
          <p:nvSpPr>
            <p:cNvPr id="8838" name=""/>
            <p:cNvSpPr/>
            <p:nvPr/>
          </p:nvSpPr>
          <p:spPr>
            <a:xfrm>
              <a:off x="6172200" y="384012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6172200" y="403848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6172200" y="3305160"/>
              <a:ext cx="0" cy="44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41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2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43" name=""/>
          <p:cNvGrpSpPr/>
          <p:nvPr/>
        </p:nvGrpSpPr>
        <p:grpSpPr>
          <a:xfrm>
            <a:off x="1441440" y="3306600"/>
            <a:ext cx="3240360" cy="1211400"/>
            <a:chOff x="1441440" y="3306600"/>
            <a:chExt cx="3240360" cy="1211400"/>
          </a:xfrm>
        </p:grpSpPr>
        <p:sp>
          <p:nvSpPr>
            <p:cNvPr id="8844" name=""/>
            <p:cNvSpPr/>
            <p:nvPr/>
          </p:nvSpPr>
          <p:spPr>
            <a:xfrm>
              <a:off x="3465360" y="372744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451320" y="4075200"/>
              <a:ext cx="19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3141720" y="3487320"/>
              <a:ext cx="302400" cy="240120"/>
            </a:xfrm>
            <a:custGeom>
              <a:avLst/>
              <a:gdLst/>
              <a:ahLst/>
              <a:rect l="0" t="0" r="r" b="b"/>
              <a:pathLst>
                <a:path fill="none" w="840" h="667">
                  <a:moveTo>
                    <a:pt x="0" y="0"/>
                  </a:moveTo>
                  <a:lnTo>
                    <a:pt x="0" y="0"/>
                  </a:lnTo>
                  <a:cubicBezTo>
                    <a:pt x="12" y="105"/>
                    <a:pt x="51" y="206"/>
                    <a:pt x="113" y="297"/>
                  </a:cubicBezTo>
                  <a:cubicBezTo>
                    <a:pt x="191" y="410"/>
                    <a:pt x="302" y="503"/>
                    <a:pt x="435" y="568"/>
                  </a:cubicBezTo>
                  <a:cubicBezTo>
                    <a:pt x="559" y="628"/>
                    <a:pt x="698" y="662"/>
                    <a:pt x="840" y="66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3154320" y="4100400"/>
              <a:ext cx="374400" cy="232200"/>
            </a:xfrm>
            <a:custGeom>
              <a:avLst/>
              <a:gdLst/>
              <a:ahLst/>
              <a:rect l="0" t="0" r="r" b="b"/>
              <a:pathLst>
                <a:path fill="none" w="1040" h="645">
                  <a:moveTo>
                    <a:pt x="0" y="645"/>
                  </a:moveTo>
                  <a:lnTo>
                    <a:pt x="0" y="645"/>
                  </a:lnTo>
                  <a:cubicBezTo>
                    <a:pt x="184" y="645"/>
                    <a:pt x="364" y="612"/>
                    <a:pt x="523" y="549"/>
                  </a:cubicBezTo>
                  <a:cubicBezTo>
                    <a:pt x="682" y="485"/>
                    <a:pt x="814" y="394"/>
                    <a:pt x="906" y="285"/>
                  </a:cubicBezTo>
                  <a:cubicBezTo>
                    <a:pt x="979" y="197"/>
                    <a:pt x="1025" y="100"/>
                    <a:pt x="104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4300560" y="3440160"/>
              <a:ext cx="276120" cy="633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2603520" y="3479760"/>
              <a:ext cx="105120" cy="835560"/>
            </a:xfrm>
            <a:custGeom>
              <a:avLst/>
              <a:gdLst/>
              <a:ahLst/>
              <a:rect l="0" t="0" r="r" b="b"/>
              <a:pathLst>
                <a:path fill="none" w="292" h="2321">
                  <a:moveTo>
                    <a:pt x="292" y="0"/>
                  </a:moveTo>
                  <a:lnTo>
                    <a:pt x="292" y="0"/>
                  </a:lnTo>
                  <a:lnTo>
                    <a:pt x="274" y="26"/>
                  </a:lnTo>
                  <a:lnTo>
                    <a:pt x="274" y="52"/>
                  </a:lnTo>
                  <a:lnTo>
                    <a:pt x="274" y="88"/>
                  </a:lnTo>
                  <a:lnTo>
                    <a:pt x="274" y="132"/>
                  </a:lnTo>
                  <a:lnTo>
                    <a:pt x="274" y="158"/>
                  </a:lnTo>
                  <a:lnTo>
                    <a:pt x="274" y="202"/>
                  </a:lnTo>
                  <a:lnTo>
                    <a:pt x="274" y="246"/>
                  </a:lnTo>
                  <a:lnTo>
                    <a:pt x="274" y="282"/>
                  </a:lnTo>
                  <a:lnTo>
                    <a:pt x="274" y="317"/>
                  </a:lnTo>
                  <a:lnTo>
                    <a:pt x="256" y="343"/>
                  </a:lnTo>
                  <a:lnTo>
                    <a:pt x="256" y="370"/>
                  </a:lnTo>
                  <a:lnTo>
                    <a:pt x="247" y="414"/>
                  </a:lnTo>
                  <a:lnTo>
                    <a:pt x="247" y="449"/>
                  </a:lnTo>
                  <a:lnTo>
                    <a:pt x="247" y="476"/>
                  </a:lnTo>
                  <a:lnTo>
                    <a:pt x="247" y="502"/>
                  </a:lnTo>
                  <a:lnTo>
                    <a:pt x="247" y="529"/>
                  </a:lnTo>
                  <a:lnTo>
                    <a:pt x="247" y="564"/>
                  </a:lnTo>
                  <a:lnTo>
                    <a:pt x="256" y="591"/>
                  </a:lnTo>
                  <a:lnTo>
                    <a:pt x="256" y="618"/>
                  </a:lnTo>
                  <a:lnTo>
                    <a:pt x="256" y="680"/>
                  </a:lnTo>
                  <a:lnTo>
                    <a:pt x="247" y="715"/>
                  </a:lnTo>
                  <a:lnTo>
                    <a:pt x="239" y="741"/>
                  </a:lnTo>
                  <a:lnTo>
                    <a:pt x="239" y="768"/>
                  </a:lnTo>
                  <a:lnTo>
                    <a:pt x="239" y="803"/>
                  </a:lnTo>
                  <a:lnTo>
                    <a:pt x="239" y="882"/>
                  </a:lnTo>
                  <a:lnTo>
                    <a:pt x="239" y="918"/>
                  </a:lnTo>
                  <a:lnTo>
                    <a:pt x="239" y="953"/>
                  </a:lnTo>
                  <a:lnTo>
                    <a:pt x="221" y="997"/>
                  </a:lnTo>
                  <a:lnTo>
                    <a:pt x="212" y="1041"/>
                  </a:lnTo>
                  <a:lnTo>
                    <a:pt x="203" y="1068"/>
                  </a:lnTo>
                  <a:lnTo>
                    <a:pt x="195" y="1121"/>
                  </a:lnTo>
                  <a:lnTo>
                    <a:pt x="186" y="1147"/>
                  </a:lnTo>
                  <a:lnTo>
                    <a:pt x="186" y="1191"/>
                  </a:lnTo>
                  <a:lnTo>
                    <a:pt x="177" y="1235"/>
                  </a:lnTo>
                  <a:lnTo>
                    <a:pt x="177" y="1279"/>
                  </a:lnTo>
                  <a:lnTo>
                    <a:pt x="177" y="1306"/>
                  </a:lnTo>
                  <a:lnTo>
                    <a:pt x="177" y="1350"/>
                  </a:lnTo>
                  <a:lnTo>
                    <a:pt x="186" y="1385"/>
                  </a:lnTo>
                  <a:lnTo>
                    <a:pt x="186" y="1420"/>
                  </a:lnTo>
                  <a:lnTo>
                    <a:pt x="186" y="1473"/>
                  </a:lnTo>
                  <a:lnTo>
                    <a:pt x="186" y="1535"/>
                  </a:lnTo>
                  <a:lnTo>
                    <a:pt x="186" y="1597"/>
                  </a:lnTo>
                  <a:lnTo>
                    <a:pt x="186" y="1632"/>
                  </a:lnTo>
                  <a:lnTo>
                    <a:pt x="186" y="1667"/>
                  </a:lnTo>
                  <a:lnTo>
                    <a:pt x="177" y="1694"/>
                  </a:lnTo>
                  <a:lnTo>
                    <a:pt x="168" y="1720"/>
                  </a:lnTo>
                  <a:lnTo>
                    <a:pt x="141" y="1748"/>
                  </a:lnTo>
                  <a:lnTo>
                    <a:pt x="132" y="1774"/>
                  </a:lnTo>
                  <a:lnTo>
                    <a:pt x="123" y="1801"/>
                  </a:lnTo>
                  <a:lnTo>
                    <a:pt x="97" y="1871"/>
                  </a:lnTo>
                  <a:lnTo>
                    <a:pt x="97" y="1898"/>
                  </a:lnTo>
                  <a:lnTo>
                    <a:pt x="97" y="1924"/>
                  </a:lnTo>
                  <a:lnTo>
                    <a:pt x="97" y="1968"/>
                  </a:lnTo>
                  <a:lnTo>
                    <a:pt x="97" y="1995"/>
                  </a:lnTo>
                  <a:lnTo>
                    <a:pt x="105" y="2021"/>
                  </a:lnTo>
                  <a:lnTo>
                    <a:pt x="97" y="2048"/>
                  </a:lnTo>
                  <a:lnTo>
                    <a:pt x="70" y="2056"/>
                  </a:lnTo>
                  <a:lnTo>
                    <a:pt x="70" y="2118"/>
                  </a:lnTo>
                  <a:lnTo>
                    <a:pt x="52" y="2162"/>
                  </a:lnTo>
                  <a:lnTo>
                    <a:pt x="44" y="2189"/>
                  </a:lnTo>
                  <a:lnTo>
                    <a:pt x="35" y="2215"/>
                  </a:lnTo>
                  <a:lnTo>
                    <a:pt x="17" y="2259"/>
                  </a:lnTo>
                  <a:lnTo>
                    <a:pt x="8" y="2286"/>
                  </a:lnTo>
                  <a:lnTo>
                    <a:pt x="8" y="2312"/>
                  </a:lnTo>
                  <a:lnTo>
                    <a:pt x="0" y="232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1441440" y="3473280"/>
              <a:ext cx="92520" cy="844920"/>
            </a:xfrm>
            <a:custGeom>
              <a:avLst/>
              <a:gdLst/>
              <a:ahLst/>
              <a:rect l="0" t="0" r="r" b="b"/>
              <a:pathLst>
                <a:path fill="none" w="257" h="2347">
                  <a:moveTo>
                    <a:pt x="257" y="0"/>
                  </a:moveTo>
                  <a:lnTo>
                    <a:pt x="248" y="44"/>
                  </a:lnTo>
                  <a:lnTo>
                    <a:pt x="240" y="97"/>
                  </a:lnTo>
                  <a:lnTo>
                    <a:pt x="222" y="176"/>
                  </a:lnTo>
                  <a:lnTo>
                    <a:pt x="222" y="229"/>
                  </a:lnTo>
                  <a:lnTo>
                    <a:pt x="222" y="282"/>
                  </a:lnTo>
                  <a:lnTo>
                    <a:pt x="222" y="317"/>
                  </a:lnTo>
                  <a:lnTo>
                    <a:pt x="222" y="361"/>
                  </a:lnTo>
                  <a:lnTo>
                    <a:pt x="168" y="414"/>
                  </a:lnTo>
                  <a:lnTo>
                    <a:pt x="159" y="476"/>
                  </a:lnTo>
                  <a:lnTo>
                    <a:pt x="159" y="502"/>
                  </a:lnTo>
                  <a:lnTo>
                    <a:pt x="150" y="529"/>
                  </a:lnTo>
                  <a:lnTo>
                    <a:pt x="150" y="618"/>
                  </a:lnTo>
                  <a:lnTo>
                    <a:pt x="150" y="644"/>
                  </a:lnTo>
                  <a:lnTo>
                    <a:pt x="150" y="671"/>
                  </a:lnTo>
                  <a:lnTo>
                    <a:pt x="150" y="715"/>
                  </a:lnTo>
                  <a:lnTo>
                    <a:pt x="150" y="830"/>
                  </a:lnTo>
                  <a:lnTo>
                    <a:pt x="150" y="891"/>
                  </a:lnTo>
                  <a:lnTo>
                    <a:pt x="142" y="935"/>
                  </a:lnTo>
                  <a:lnTo>
                    <a:pt x="142" y="979"/>
                  </a:lnTo>
                  <a:lnTo>
                    <a:pt x="142" y="1015"/>
                  </a:lnTo>
                  <a:lnTo>
                    <a:pt x="142" y="1041"/>
                  </a:lnTo>
                  <a:lnTo>
                    <a:pt x="133" y="1103"/>
                  </a:lnTo>
                  <a:lnTo>
                    <a:pt x="124" y="1165"/>
                  </a:lnTo>
                  <a:lnTo>
                    <a:pt x="98" y="1235"/>
                  </a:lnTo>
                  <a:lnTo>
                    <a:pt x="89" y="1297"/>
                  </a:lnTo>
                  <a:lnTo>
                    <a:pt x="44" y="1473"/>
                  </a:lnTo>
                  <a:lnTo>
                    <a:pt x="35" y="1579"/>
                  </a:lnTo>
                  <a:lnTo>
                    <a:pt x="35" y="1641"/>
                  </a:lnTo>
                  <a:lnTo>
                    <a:pt x="26" y="1898"/>
                  </a:lnTo>
                  <a:lnTo>
                    <a:pt x="26" y="1959"/>
                  </a:lnTo>
                  <a:lnTo>
                    <a:pt x="26" y="1986"/>
                  </a:lnTo>
                  <a:lnTo>
                    <a:pt x="44" y="2012"/>
                  </a:lnTo>
                  <a:lnTo>
                    <a:pt x="52" y="2048"/>
                  </a:lnTo>
                  <a:lnTo>
                    <a:pt x="52" y="2074"/>
                  </a:lnTo>
                  <a:lnTo>
                    <a:pt x="52" y="2109"/>
                  </a:lnTo>
                  <a:lnTo>
                    <a:pt x="35" y="2136"/>
                  </a:lnTo>
                  <a:lnTo>
                    <a:pt x="35" y="2162"/>
                  </a:lnTo>
                  <a:lnTo>
                    <a:pt x="26" y="2189"/>
                  </a:lnTo>
                  <a:lnTo>
                    <a:pt x="17" y="2215"/>
                  </a:lnTo>
                  <a:lnTo>
                    <a:pt x="17" y="2242"/>
                  </a:lnTo>
                  <a:lnTo>
                    <a:pt x="8" y="2268"/>
                  </a:lnTo>
                  <a:lnTo>
                    <a:pt x="0" y="2295"/>
                  </a:lnTo>
                  <a:lnTo>
                    <a:pt x="0" y="2321"/>
                  </a:lnTo>
                  <a:lnTo>
                    <a:pt x="0" y="234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1538280" y="3452760"/>
              <a:ext cx="154080" cy="4752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1449360" y="4295880"/>
              <a:ext cx="243000" cy="7632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1643040" y="3473280"/>
              <a:ext cx="841320" cy="844560"/>
            </a:xfrm>
            <a:prstGeom prst="rect">
              <a:avLst/>
            </a:prstGeom>
            <a:blipFill rotWithShape="0">
              <a:blip r:embed="rId10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4" name=""/>
            <p:cNvGrpSpPr/>
            <p:nvPr/>
          </p:nvGrpSpPr>
          <p:grpSpPr>
            <a:xfrm>
              <a:off x="2063880" y="3306600"/>
              <a:ext cx="0" cy="1198800"/>
              <a:chOff x="2063880" y="3306600"/>
              <a:chExt cx="0" cy="1198800"/>
            </a:xfrm>
          </p:grpSpPr>
          <p:sp>
            <p:nvSpPr>
              <p:cNvPr id="8855" name=""/>
              <p:cNvSpPr/>
              <p:nvPr/>
            </p:nvSpPr>
            <p:spPr>
              <a:xfrm>
                <a:off x="2063880" y="384192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2063880" y="4040280"/>
                <a:ext cx="0" cy="46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2063880" y="3306600"/>
                <a:ext cx="0" cy="44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58" name=""/>
            <p:cNvSpPr/>
            <p:nvPr/>
          </p:nvSpPr>
          <p:spPr>
            <a:xfrm>
              <a:off x="2489040" y="3432240"/>
              <a:ext cx="200160" cy="698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2486160" y="4289400"/>
              <a:ext cx="109440" cy="507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60" name=""/>
            <p:cNvGrpSpPr/>
            <p:nvPr/>
          </p:nvGrpSpPr>
          <p:grpSpPr>
            <a:xfrm>
              <a:off x="3451320" y="3319560"/>
              <a:ext cx="1209600" cy="1198440"/>
              <a:chOff x="3451320" y="3319560"/>
              <a:chExt cx="1209600" cy="1198440"/>
            </a:xfrm>
          </p:grpSpPr>
          <p:sp>
            <p:nvSpPr>
              <p:cNvPr id="8861" name=""/>
              <p:cNvSpPr/>
              <p:nvPr/>
            </p:nvSpPr>
            <p:spPr>
              <a:xfrm>
                <a:off x="3465360" y="3727440"/>
                <a:ext cx="184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3451320" y="4075200"/>
                <a:ext cx="198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3465360" y="3727440"/>
                <a:ext cx="1076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3510000" y="4071960"/>
                <a:ext cx="106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4300560" y="3440160"/>
                <a:ext cx="276120" cy="6336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3648240" y="3476520"/>
                <a:ext cx="844920" cy="841680"/>
              </a:xfrm>
              <a:custGeom>
                <a:avLst/>
                <a:gdLst/>
                <a:ahLst/>
                <a:rect l="0" t="0" r="r" b="b"/>
                <a:pathLst>
                  <a:path w="2347" h="2338">
                    <a:moveTo>
                      <a:pt x="0" y="701"/>
                    </a:moveTo>
                    <a:lnTo>
                      <a:pt x="0" y="1637"/>
                    </a:lnTo>
                    <a:lnTo>
                      <a:pt x="704" y="2338"/>
                    </a:lnTo>
                    <a:lnTo>
                      <a:pt x="1643" y="2338"/>
                    </a:lnTo>
                    <a:lnTo>
                      <a:pt x="2347" y="1637"/>
                    </a:lnTo>
                    <a:lnTo>
                      <a:pt x="2347" y="701"/>
                    </a:lnTo>
                    <a:lnTo>
                      <a:pt x="1643" y="0"/>
                    </a:lnTo>
                    <a:lnTo>
                      <a:pt x="704" y="0"/>
                    </a:lnTo>
                    <a:lnTo>
                      <a:pt x="0" y="701"/>
                    </a:lnTo>
                    <a:close/>
                  </a:path>
                </a:pathLst>
              </a:custGeom>
              <a:blipFill rotWithShape="0">
                <a:blip r:embed="rId1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3546360" y="3444840"/>
                <a:ext cx="339840" cy="4140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4228920" y="3432240"/>
                <a:ext cx="432000" cy="70200"/>
              </a:xfrm>
              <a:custGeom>
                <a:avLst/>
                <a:gdLst/>
                <a:ahLst/>
                <a:rect l="0" t="0" r="r" b="b"/>
                <a:pathLst>
                  <a:path w="1200" h="195">
                    <a:moveTo>
                      <a:pt x="0" y="61"/>
                    </a:moveTo>
                    <a:lnTo>
                      <a:pt x="134" y="195"/>
                    </a:lnTo>
                    <a:lnTo>
                      <a:pt x="1200" y="195"/>
                    </a:lnTo>
                    <a:lnTo>
                      <a:pt x="1191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3578400" y="3683160"/>
                <a:ext cx="66960" cy="63720"/>
              </a:xfrm>
              <a:custGeom>
                <a:avLst/>
                <a:gdLst/>
                <a:ahLst/>
                <a:rect l="0" t="0" r="r" b="b"/>
                <a:pathLst>
                  <a:path w="186" h="177">
                    <a:moveTo>
                      <a:pt x="26" y="70"/>
                    </a:moveTo>
                    <a:lnTo>
                      <a:pt x="0" y="168"/>
                    </a:lnTo>
                    <a:lnTo>
                      <a:pt x="186" y="177"/>
                    </a:lnTo>
                    <a:lnTo>
                      <a:pt x="168" y="0"/>
                    </a:lnTo>
                    <a:lnTo>
                      <a:pt x="26" y="7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70" name=""/>
              <p:cNvGrpSpPr/>
              <p:nvPr/>
            </p:nvGrpSpPr>
            <p:grpSpPr>
              <a:xfrm>
                <a:off x="4068720" y="3319560"/>
                <a:ext cx="0" cy="1198440"/>
                <a:chOff x="4068720" y="3319560"/>
                <a:chExt cx="0" cy="1198440"/>
              </a:xfrm>
            </p:grpSpPr>
            <p:sp>
              <p:nvSpPr>
                <p:cNvPr id="8871" name=""/>
                <p:cNvSpPr/>
                <p:nvPr/>
              </p:nvSpPr>
              <p:spPr>
                <a:xfrm>
                  <a:off x="4068720" y="3854520"/>
                  <a:ext cx="0" cy="106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2" name=""/>
                <p:cNvSpPr/>
                <p:nvPr/>
              </p:nvSpPr>
              <p:spPr>
                <a:xfrm>
                  <a:off x="4068720" y="4052880"/>
                  <a:ext cx="0" cy="465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3" name=""/>
                <p:cNvSpPr/>
                <p:nvPr/>
              </p:nvSpPr>
              <p:spPr>
                <a:xfrm>
                  <a:off x="4068720" y="3319560"/>
                  <a:ext cx="0" cy="442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74" name=""/>
              <p:cNvSpPr/>
              <p:nvPr/>
            </p:nvSpPr>
            <p:spPr>
              <a:xfrm>
                <a:off x="3584520" y="4048200"/>
                <a:ext cx="70200" cy="60840"/>
              </a:xfrm>
              <a:custGeom>
                <a:avLst/>
                <a:gdLst/>
                <a:ahLst/>
                <a:rect l="0" t="0" r="r" b="b"/>
                <a:pathLst>
                  <a:path w="195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95" y="124"/>
                    </a:lnTo>
                    <a:lnTo>
                      <a:pt x="1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3562200" y="4276800"/>
                <a:ext cx="356040" cy="82800"/>
              </a:xfrm>
              <a:custGeom>
                <a:avLst/>
                <a:gdLst/>
                <a:ahLst/>
                <a:rect l="0" t="0" r="r" b="b"/>
                <a:pathLst>
                  <a:path w="989" h="230">
                    <a:moveTo>
                      <a:pt x="167" y="44"/>
                    </a:moveTo>
                    <a:lnTo>
                      <a:pt x="0" y="230"/>
                    </a:lnTo>
                    <a:lnTo>
                      <a:pt x="989" y="195"/>
                    </a:lnTo>
                    <a:lnTo>
                      <a:pt x="778" y="0"/>
                    </a:lnTo>
                    <a:lnTo>
                      <a:pt x="167" y="44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4489560" y="3689280"/>
                <a:ext cx="149760" cy="98640"/>
              </a:xfrm>
              <a:custGeom>
                <a:avLst/>
                <a:gdLst/>
                <a:ahLst/>
                <a:rect l="0" t="0" r="r" b="b"/>
                <a:pathLst>
                  <a:path w="416" h="274">
                    <a:moveTo>
                      <a:pt x="0" y="26"/>
                    </a:moveTo>
                    <a:lnTo>
                      <a:pt x="44" y="274"/>
                    </a:lnTo>
                    <a:lnTo>
                      <a:pt x="363" y="186"/>
                    </a:lnTo>
                    <a:lnTo>
                      <a:pt x="416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4492800" y="4051440"/>
                <a:ext cx="82800" cy="101880"/>
              </a:xfrm>
              <a:custGeom>
                <a:avLst/>
                <a:gdLst/>
                <a:ahLst/>
                <a:rect l="0" t="0" r="r" b="b"/>
                <a:pathLst>
                  <a:path w="230" h="283">
                    <a:moveTo>
                      <a:pt x="8" y="0"/>
                    </a:moveTo>
                    <a:lnTo>
                      <a:pt x="0" y="283"/>
                    </a:lnTo>
                    <a:lnTo>
                      <a:pt x="203" y="123"/>
                    </a:lnTo>
                    <a:lnTo>
                      <a:pt x="23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4181400" y="4280040"/>
                <a:ext cx="359280" cy="105120"/>
              </a:xfrm>
              <a:custGeom>
                <a:avLst/>
                <a:gdLst/>
                <a:ahLst/>
                <a:rect l="0" t="0" r="r" b="b"/>
                <a:pathLst>
                  <a:path w="998" h="292">
                    <a:moveTo>
                      <a:pt x="283" y="35"/>
                    </a:moveTo>
                    <a:lnTo>
                      <a:pt x="0" y="292"/>
                    </a:lnTo>
                    <a:lnTo>
                      <a:pt x="998" y="239"/>
                    </a:lnTo>
                    <a:lnTo>
                      <a:pt x="980" y="0"/>
                    </a:lnTo>
                    <a:lnTo>
                      <a:pt x="283" y="35"/>
                    </a:lnTo>
                    <a:close/>
                  </a:path>
                </a:pathLst>
              </a:cu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79" name=""/>
            <p:cNvSpPr/>
            <p:nvPr/>
          </p:nvSpPr>
          <p:spPr>
            <a:xfrm>
              <a:off x="4548240" y="3476520"/>
              <a:ext cx="133560" cy="838440"/>
            </a:xfrm>
            <a:custGeom>
              <a:avLst/>
              <a:gdLst/>
              <a:ahLst/>
              <a:rect l="0" t="0" r="r" b="b"/>
              <a:pathLst>
                <a:path fill="none" w="371" h="2329">
                  <a:moveTo>
                    <a:pt x="331" y="0"/>
                  </a:moveTo>
                  <a:lnTo>
                    <a:pt x="344" y="39"/>
                  </a:lnTo>
                  <a:lnTo>
                    <a:pt x="358" y="79"/>
                  </a:lnTo>
                  <a:lnTo>
                    <a:pt x="371" y="119"/>
                  </a:lnTo>
                  <a:lnTo>
                    <a:pt x="371" y="185"/>
                  </a:lnTo>
                  <a:lnTo>
                    <a:pt x="358" y="251"/>
                  </a:lnTo>
                  <a:lnTo>
                    <a:pt x="344" y="291"/>
                  </a:lnTo>
                  <a:lnTo>
                    <a:pt x="331" y="343"/>
                  </a:lnTo>
                  <a:lnTo>
                    <a:pt x="318" y="383"/>
                  </a:lnTo>
                  <a:lnTo>
                    <a:pt x="305" y="436"/>
                  </a:lnTo>
                  <a:lnTo>
                    <a:pt x="305" y="489"/>
                  </a:lnTo>
                  <a:lnTo>
                    <a:pt x="305" y="529"/>
                  </a:lnTo>
                  <a:lnTo>
                    <a:pt x="305" y="568"/>
                  </a:lnTo>
                  <a:lnTo>
                    <a:pt x="292" y="608"/>
                  </a:lnTo>
                  <a:lnTo>
                    <a:pt x="265" y="648"/>
                  </a:lnTo>
                  <a:lnTo>
                    <a:pt x="252" y="687"/>
                  </a:lnTo>
                  <a:lnTo>
                    <a:pt x="239" y="727"/>
                  </a:lnTo>
                  <a:lnTo>
                    <a:pt x="225" y="780"/>
                  </a:lnTo>
                  <a:lnTo>
                    <a:pt x="212" y="820"/>
                  </a:lnTo>
                  <a:lnTo>
                    <a:pt x="199" y="899"/>
                  </a:lnTo>
                  <a:lnTo>
                    <a:pt x="199" y="939"/>
                  </a:lnTo>
                  <a:lnTo>
                    <a:pt x="199" y="992"/>
                  </a:lnTo>
                  <a:lnTo>
                    <a:pt x="199" y="1031"/>
                  </a:lnTo>
                  <a:lnTo>
                    <a:pt x="199" y="1098"/>
                  </a:lnTo>
                  <a:lnTo>
                    <a:pt x="199" y="1150"/>
                  </a:lnTo>
                  <a:lnTo>
                    <a:pt x="186" y="1191"/>
                  </a:lnTo>
                  <a:lnTo>
                    <a:pt x="171" y="1231"/>
                  </a:lnTo>
                  <a:lnTo>
                    <a:pt x="145" y="1270"/>
                  </a:lnTo>
                  <a:lnTo>
                    <a:pt x="145" y="1337"/>
                  </a:lnTo>
                  <a:lnTo>
                    <a:pt x="132" y="1390"/>
                  </a:lnTo>
                  <a:lnTo>
                    <a:pt x="119" y="1442"/>
                  </a:lnTo>
                  <a:lnTo>
                    <a:pt x="119" y="1522"/>
                  </a:lnTo>
                  <a:lnTo>
                    <a:pt x="119" y="1562"/>
                  </a:lnTo>
                  <a:lnTo>
                    <a:pt x="119" y="1614"/>
                  </a:lnTo>
                  <a:lnTo>
                    <a:pt x="105" y="1654"/>
                  </a:lnTo>
                  <a:lnTo>
                    <a:pt x="79" y="1694"/>
                  </a:lnTo>
                  <a:lnTo>
                    <a:pt x="66" y="1734"/>
                  </a:lnTo>
                  <a:lnTo>
                    <a:pt x="52" y="1800"/>
                  </a:lnTo>
                  <a:lnTo>
                    <a:pt x="52" y="1839"/>
                  </a:lnTo>
                  <a:lnTo>
                    <a:pt x="39" y="1892"/>
                  </a:lnTo>
                  <a:lnTo>
                    <a:pt x="39" y="1932"/>
                  </a:lnTo>
                  <a:lnTo>
                    <a:pt x="26" y="1972"/>
                  </a:lnTo>
                  <a:lnTo>
                    <a:pt x="26" y="2025"/>
                  </a:lnTo>
                  <a:lnTo>
                    <a:pt x="13" y="2064"/>
                  </a:lnTo>
                  <a:lnTo>
                    <a:pt x="13" y="2104"/>
                  </a:lnTo>
                  <a:lnTo>
                    <a:pt x="13" y="2170"/>
                  </a:lnTo>
                  <a:lnTo>
                    <a:pt x="0" y="2210"/>
                  </a:lnTo>
                  <a:lnTo>
                    <a:pt x="0" y="2249"/>
                  </a:lnTo>
                  <a:lnTo>
                    <a:pt x="0" y="2316"/>
                  </a:lnTo>
                  <a:lnTo>
                    <a:pt x="13" y="23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3540240" y="3476520"/>
              <a:ext cx="68760" cy="841680"/>
            </a:xfrm>
            <a:custGeom>
              <a:avLst/>
              <a:gdLst/>
              <a:ahLst/>
              <a:rect l="0" t="0" r="r" b="b"/>
              <a:pathLst>
                <a:path fill="none" w="191" h="2338">
                  <a:moveTo>
                    <a:pt x="0" y="0"/>
                  </a:moveTo>
                  <a:lnTo>
                    <a:pt x="4" y="52"/>
                  </a:lnTo>
                  <a:lnTo>
                    <a:pt x="35" y="145"/>
                  </a:lnTo>
                  <a:lnTo>
                    <a:pt x="160" y="299"/>
                  </a:lnTo>
                  <a:lnTo>
                    <a:pt x="191" y="392"/>
                  </a:lnTo>
                  <a:lnTo>
                    <a:pt x="128" y="485"/>
                  </a:lnTo>
                  <a:lnTo>
                    <a:pt x="98" y="665"/>
                  </a:lnTo>
                  <a:lnTo>
                    <a:pt x="67" y="820"/>
                  </a:lnTo>
                  <a:lnTo>
                    <a:pt x="67" y="1036"/>
                  </a:lnTo>
                  <a:lnTo>
                    <a:pt x="67" y="1128"/>
                  </a:lnTo>
                  <a:lnTo>
                    <a:pt x="67" y="1253"/>
                  </a:lnTo>
                  <a:lnTo>
                    <a:pt x="67" y="1345"/>
                  </a:lnTo>
                  <a:lnTo>
                    <a:pt x="67" y="1438"/>
                  </a:lnTo>
                  <a:lnTo>
                    <a:pt x="67" y="1531"/>
                  </a:lnTo>
                  <a:lnTo>
                    <a:pt x="98" y="1623"/>
                  </a:lnTo>
                  <a:lnTo>
                    <a:pt x="98" y="1716"/>
                  </a:lnTo>
                  <a:lnTo>
                    <a:pt x="98" y="1839"/>
                  </a:lnTo>
                  <a:lnTo>
                    <a:pt x="98" y="1989"/>
                  </a:lnTo>
                  <a:lnTo>
                    <a:pt x="160" y="2082"/>
                  </a:lnTo>
                  <a:lnTo>
                    <a:pt x="191" y="2174"/>
                  </a:lnTo>
                  <a:lnTo>
                    <a:pt x="191" y="2267"/>
                  </a:lnTo>
                  <a:lnTo>
                    <a:pt x="142" y="233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1" name=""/>
          <p:cNvGrpSpPr/>
          <p:nvPr/>
        </p:nvGrpSpPr>
        <p:grpSpPr>
          <a:xfrm>
            <a:off x="2117880" y="2246400"/>
            <a:ext cx="4740120" cy="3647880"/>
            <a:chOff x="2117880" y="2246400"/>
            <a:chExt cx="4740120" cy="3647880"/>
          </a:xfrm>
        </p:grpSpPr>
        <p:grpSp>
          <p:nvGrpSpPr>
            <p:cNvPr id="8882" name=""/>
            <p:cNvGrpSpPr/>
            <p:nvPr/>
          </p:nvGrpSpPr>
          <p:grpSpPr>
            <a:xfrm>
              <a:off x="2117880" y="2246400"/>
              <a:ext cx="4740120" cy="1458720"/>
              <a:chOff x="2117880" y="2246400"/>
              <a:chExt cx="4740120" cy="1458720"/>
            </a:xfrm>
          </p:grpSpPr>
          <p:grpSp>
            <p:nvGrpSpPr>
              <p:cNvPr id="8883" name=""/>
              <p:cNvGrpSpPr/>
              <p:nvPr/>
            </p:nvGrpSpPr>
            <p:grpSpPr>
              <a:xfrm>
                <a:off x="2117880" y="2409840"/>
                <a:ext cx="1544760" cy="1108440"/>
                <a:chOff x="2117880" y="2409840"/>
                <a:chExt cx="1544760" cy="1108440"/>
              </a:xfrm>
            </p:grpSpPr>
            <p:sp>
              <p:nvSpPr>
                <p:cNvPr id="8884" name=""/>
                <p:cNvSpPr/>
                <p:nvPr/>
              </p:nvSpPr>
              <p:spPr>
                <a:xfrm flipV="1">
                  <a:off x="2432160" y="2409840"/>
                  <a:ext cx="0" cy="1090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5" name=""/>
                <p:cNvSpPr/>
                <p:nvPr/>
              </p:nvSpPr>
              <p:spPr>
                <a:xfrm>
                  <a:off x="2432160" y="3514680"/>
                  <a:ext cx="1117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6" name=""/>
                <p:cNvSpPr/>
                <p:nvPr/>
              </p:nvSpPr>
              <p:spPr>
                <a:xfrm>
                  <a:off x="2432160" y="2409840"/>
                  <a:ext cx="106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7" name=""/>
                <p:cNvSpPr/>
                <p:nvPr/>
              </p:nvSpPr>
              <p:spPr>
                <a:xfrm>
                  <a:off x="2117880" y="2962440"/>
                  <a:ext cx="792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8" name=""/>
                <p:cNvSpPr/>
                <p:nvPr/>
              </p:nvSpPr>
              <p:spPr>
                <a:xfrm>
                  <a:off x="2984400" y="2962440"/>
                  <a:ext cx="100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9" name=""/>
                <p:cNvSpPr/>
                <p:nvPr/>
              </p:nvSpPr>
              <p:spPr>
                <a:xfrm>
                  <a:off x="3443400" y="2949480"/>
                  <a:ext cx="140040" cy="289440"/>
                </a:xfrm>
                <a:custGeom>
                  <a:avLst/>
                  <a:gdLst/>
                  <a:ahLst/>
                  <a:rect l="0" t="0" r="r" b="b"/>
                  <a:pathLst>
                    <a:path w="389" h="804">
                      <a:moveTo>
                        <a:pt x="389" y="804"/>
                      </a:moveTo>
                      <a:lnTo>
                        <a:pt x="389" y="0"/>
                      </a:lnTo>
                      <a:lnTo>
                        <a:pt x="389" y="0"/>
                      </a:lnTo>
                      <a:cubicBezTo>
                        <a:pt x="321" y="0"/>
                        <a:pt x="254" y="37"/>
                        <a:pt x="194" y="108"/>
                      </a:cubicBezTo>
                      <a:cubicBezTo>
                        <a:pt x="135" y="178"/>
                        <a:pt x="86" y="280"/>
                        <a:pt x="52" y="402"/>
                      </a:cubicBezTo>
                      <a:cubicBezTo>
                        <a:pt x="18" y="524"/>
                        <a:pt x="0" y="663"/>
                        <a:pt x="0" y="804"/>
                      </a:cubicBezTo>
                      <a:lnTo>
                        <a:pt x="389" y="804"/>
                      </a:lnTo>
                      <a:close/>
                    </a:path>
                  </a:pathLst>
                </a:custGeom>
                <a:blipFill rotWithShape="0">
                  <a:blip r:embed="rId1"/>
                  <a:tile tx="0" ty="0" sx="133018" sy="133018" algn="ctr"/>
                </a:blip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0" name=""/>
                <p:cNvSpPr/>
                <p:nvPr/>
              </p:nvSpPr>
              <p:spPr>
                <a:xfrm>
                  <a:off x="3591000" y="2925720"/>
                  <a:ext cx="71640" cy="31644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879">
                      <a:moveTo>
                        <a:pt x="199" y="879"/>
                      </a:moveTo>
                      <a:lnTo>
                        <a:pt x="199" y="879"/>
                      </a:lnTo>
                      <a:lnTo>
                        <a:pt x="199" y="878"/>
                      </a:lnTo>
                      <a:cubicBezTo>
                        <a:pt x="199" y="712"/>
                        <a:pt x="184" y="550"/>
                        <a:pt x="157" y="406"/>
                      </a:cubicBezTo>
                      <a:cubicBezTo>
                        <a:pt x="129" y="262"/>
                        <a:pt x="90" y="143"/>
                        <a:pt x="42" y="60"/>
                      </a:cubicBezTo>
                      <a:cubicBezTo>
                        <a:pt x="28" y="37"/>
                        <a:pt x="14" y="17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1" name=""/>
                <p:cNvSpPr/>
                <p:nvPr/>
              </p:nvSpPr>
              <p:spPr>
                <a:xfrm>
                  <a:off x="3444120" y="3230640"/>
                  <a:ext cx="109080" cy="281520"/>
                </a:xfrm>
                <a:custGeom>
                  <a:avLst/>
                  <a:gdLst/>
                  <a:ahLst/>
                  <a:rect l="0" t="0" r="r" b="b"/>
                  <a:pathLst>
                    <a:path w="303" h="782">
                      <a:moveTo>
                        <a:pt x="0" y="782"/>
                      </a:moveTo>
                      <a:lnTo>
                        <a:pt x="303" y="782"/>
                      </a:lnTo>
                      <a:lnTo>
                        <a:pt x="303" y="782"/>
                      </a:lnTo>
                      <a:lnTo>
                        <a:pt x="303" y="782"/>
                      </a:lnTo>
                      <a:cubicBezTo>
                        <a:pt x="303" y="645"/>
                        <a:pt x="289" y="510"/>
                        <a:pt x="262" y="391"/>
                      </a:cubicBezTo>
                      <a:cubicBezTo>
                        <a:pt x="236" y="272"/>
                        <a:pt x="198" y="173"/>
                        <a:pt x="151" y="105"/>
                      </a:cubicBezTo>
                      <a:cubicBezTo>
                        <a:pt x="105" y="36"/>
                        <a:pt x="53" y="0"/>
                        <a:pt x="0" y="0"/>
                      </a:cubicBezTo>
                      <a:lnTo>
                        <a:pt x="0" y="782"/>
                      </a:lnTo>
                      <a:close/>
                    </a:path>
                  </a:pathLst>
                </a:custGeom>
                <a:blipFill rotWithShape="0">
                  <a:blip r:embed="rId2"/>
                  <a:tile tx="0" ty="0" sx="133018" sy="133018" algn="ctr"/>
                </a:blip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2" name=""/>
                <p:cNvSpPr/>
                <p:nvPr/>
              </p:nvSpPr>
              <p:spPr>
                <a:xfrm>
                  <a:off x="3549600" y="3230640"/>
                  <a:ext cx="111600" cy="287640"/>
                </a:xfrm>
                <a:custGeom>
                  <a:avLst/>
                  <a:gdLst/>
                  <a:ahLst/>
                  <a:rect l="0" t="0" r="r" b="b"/>
                  <a:pathLst>
                    <a:path w="310" h="799">
                      <a:moveTo>
                        <a:pt x="310" y="799"/>
                      </a:moveTo>
                      <a:lnTo>
                        <a:pt x="310" y="0"/>
                      </a:lnTo>
                      <a:lnTo>
                        <a:pt x="310" y="0"/>
                      </a:lnTo>
                      <a:cubicBezTo>
                        <a:pt x="256" y="0"/>
                        <a:pt x="202" y="37"/>
                        <a:pt x="155" y="107"/>
                      </a:cubicBezTo>
                      <a:cubicBezTo>
                        <a:pt x="108" y="177"/>
                        <a:pt x="69" y="278"/>
                        <a:pt x="42" y="400"/>
                      </a:cubicBezTo>
                      <a:cubicBezTo>
                        <a:pt x="14" y="521"/>
                        <a:pt x="0" y="659"/>
                        <a:pt x="0" y="799"/>
                      </a:cubicBezTo>
                      <a:lnTo>
                        <a:pt x="310" y="799"/>
                      </a:lnTo>
                      <a:close/>
                    </a:path>
                  </a:pathLst>
                </a:custGeom>
                <a:blipFill rotWithShape="0">
                  <a:blip r:embed="rId3"/>
                  <a:tile tx="0" ty="0" sx="133018" sy="133018" algn="ctr"/>
                </a:blip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3" name=""/>
                <p:cNvSpPr/>
                <p:nvPr/>
              </p:nvSpPr>
              <p:spPr>
                <a:xfrm>
                  <a:off x="3487680" y="2409840"/>
                  <a:ext cx="162360" cy="276480"/>
                </a:xfrm>
                <a:custGeom>
                  <a:avLst/>
                  <a:gdLst/>
                  <a:ahLst/>
                  <a:rect l="0" t="0" r="r" b="b"/>
                  <a:pathLst>
                    <a:path fill="none" w="451" h="768">
                      <a:moveTo>
                        <a:pt x="451" y="768"/>
                      </a:moveTo>
                      <a:lnTo>
                        <a:pt x="451" y="768"/>
                      </a:lnTo>
                      <a:lnTo>
                        <a:pt x="451" y="768"/>
                      </a:lnTo>
                      <a:cubicBezTo>
                        <a:pt x="451" y="633"/>
                        <a:pt x="430" y="501"/>
                        <a:pt x="391" y="384"/>
                      </a:cubicBezTo>
                      <a:cubicBezTo>
                        <a:pt x="351" y="267"/>
                        <a:pt x="294" y="170"/>
                        <a:pt x="225" y="103"/>
                      </a:cubicBezTo>
                      <a:cubicBezTo>
                        <a:pt x="157" y="35"/>
                        <a:pt x="79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4" name=""/>
                <p:cNvSpPr/>
                <p:nvPr/>
              </p:nvSpPr>
              <p:spPr>
                <a:xfrm>
                  <a:off x="3532320" y="2674800"/>
                  <a:ext cx="115560" cy="293400"/>
                </a:xfrm>
                <a:custGeom>
                  <a:avLst/>
                  <a:gdLst/>
                  <a:ahLst/>
                  <a:rect l="0" t="0" r="r" b="b"/>
                  <a:pathLst>
                    <a:path fill="none" w="321" h="815">
                      <a:moveTo>
                        <a:pt x="321" y="0"/>
                      </a:moveTo>
                      <a:lnTo>
                        <a:pt x="321" y="0"/>
                      </a:lnTo>
                      <a:cubicBezTo>
                        <a:pt x="265" y="0"/>
                        <a:pt x="209" y="38"/>
                        <a:pt x="160" y="109"/>
                      </a:cubicBezTo>
                      <a:cubicBezTo>
                        <a:pt x="112" y="181"/>
                        <a:pt x="71" y="284"/>
                        <a:pt x="43" y="408"/>
                      </a:cubicBezTo>
                      <a:cubicBezTo>
                        <a:pt x="15" y="531"/>
                        <a:pt x="0" y="672"/>
                        <a:pt x="0" y="815"/>
                      </a:cubicBez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5" name=""/>
                <p:cNvSpPr/>
                <p:nvPr/>
              </p:nvSpPr>
              <p:spPr>
                <a:xfrm>
                  <a:off x="3495600" y="2930400"/>
                  <a:ext cx="149760" cy="444960"/>
                </a:xfrm>
                <a:custGeom>
                  <a:avLst/>
                  <a:gdLst/>
                  <a:ahLst/>
                  <a:rect l="0" t="0" r="r" b="b"/>
                  <a:pathLst>
                    <a:path w="416" h="1236">
                      <a:moveTo>
                        <a:pt x="243" y="30"/>
                      </a:moveTo>
                      <a:lnTo>
                        <a:pt x="203" y="83"/>
                      </a:lnTo>
                      <a:lnTo>
                        <a:pt x="172" y="123"/>
                      </a:lnTo>
                      <a:lnTo>
                        <a:pt x="124" y="171"/>
                      </a:lnTo>
                      <a:lnTo>
                        <a:pt x="120" y="198"/>
                      </a:lnTo>
                      <a:lnTo>
                        <a:pt x="83" y="251"/>
                      </a:lnTo>
                      <a:lnTo>
                        <a:pt x="70" y="291"/>
                      </a:lnTo>
                      <a:lnTo>
                        <a:pt x="57" y="331"/>
                      </a:lnTo>
                      <a:lnTo>
                        <a:pt x="44" y="371"/>
                      </a:lnTo>
                      <a:lnTo>
                        <a:pt x="39" y="411"/>
                      </a:lnTo>
                      <a:lnTo>
                        <a:pt x="26" y="464"/>
                      </a:lnTo>
                      <a:lnTo>
                        <a:pt x="17" y="508"/>
                      </a:lnTo>
                      <a:lnTo>
                        <a:pt x="13" y="547"/>
                      </a:lnTo>
                      <a:lnTo>
                        <a:pt x="13" y="574"/>
                      </a:lnTo>
                      <a:lnTo>
                        <a:pt x="4" y="600"/>
                      </a:lnTo>
                      <a:lnTo>
                        <a:pt x="4" y="640"/>
                      </a:lnTo>
                      <a:lnTo>
                        <a:pt x="0" y="688"/>
                      </a:lnTo>
                      <a:lnTo>
                        <a:pt x="4" y="719"/>
                      </a:lnTo>
                      <a:lnTo>
                        <a:pt x="0" y="746"/>
                      </a:lnTo>
                      <a:lnTo>
                        <a:pt x="0" y="812"/>
                      </a:lnTo>
                      <a:lnTo>
                        <a:pt x="0" y="825"/>
                      </a:lnTo>
                      <a:lnTo>
                        <a:pt x="4" y="865"/>
                      </a:lnTo>
                      <a:lnTo>
                        <a:pt x="4" y="891"/>
                      </a:lnTo>
                      <a:lnTo>
                        <a:pt x="13" y="928"/>
                      </a:lnTo>
                      <a:lnTo>
                        <a:pt x="26" y="998"/>
                      </a:lnTo>
                      <a:lnTo>
                        <a:pt x="39" y="1060"/>
                      </a:lnTo>
                      <a:lnTo>
                        <a:pt x="52" y="1104"/>
                      </a:lnTo>
                      <a:lnTo>
                        <a:pt x="70" y="1152"/>
                      </a:lnTo>
                      <a:lnTo>
                        <a:pt x="106" y="1197"/>
                      </a:lnTo>
                      <a:lnTo>
                        <a:pt x="146" y="1223"/>
                      </a:lnTo>
                      <a:lnTo>
                        <a:pt x="190" y="1236"/>
                      </a:lnTo>
                      <a:lnTo>
                        <a:pt x="239" y="1232"/>
                      </a:lnTo>
                      <a:lnTo>
                        <a:pt x="283" y="1219"/>
                      </a:lnTo>
                      <a:lnTo>
                        <a:pt x="309" y="1192"/>
                      </a:lnTo>
                      <a:lnTo>
                        <a:pt x="337" y="1152"/>
                      </a:lnTo>
                      <a:lnTo>
                        <a:pt x="350" y="1113"/>
                      </a:lnTo>
                      <a:lnTo>
                        <a:pt x="363" y="1073"/>
                      </a:lnTo>
                      <a:lnTo>
                        <a:pt x="376" y="1033"/>
                      </a:lnTo>
                      <a:lnTo>
                        <a:pt x="390" y="994"/>
                      </a:lnTo>
                      <a:lnTo>
                        <a:pt x="390" y="954"/>
                      </a:lnTo>
                      <a:lnTo>
                        <a:pt x="403" y="913"/>
                      </a:lnTo>
                      <a:lnTo>
                        <a:pt x="403" y="874"/>
                      </a:lnTo>
                      <a:lnTo>
                        <a:pt x="416" y="834"/>
                      </a:lnTo>
                      <a:lnTo>
                        <a:pt x="416" y="794"/>
                      </a:lnTo>
                      <a:lnTo>
                        <a:pt x="416" y="741"/>
                      </a:lnTo>
                      <a:lnTo>
                        <a:pt x="416" y="702"/>
                      </a:lnTo>
                      <a:lnTo>
                        <a:pt x="416" y="662"/>
                      </a:lnTo>
                      <a:lnTo>
                        <a:pt x="416" y="622"/>
                      </a:lnTo>
                      <a:lnTo>
                        <a:pt x="416" y="583"/>
                      </a:lnTo>
                      <a:lnTo>
                        <a:pt x="416" y="543"/>
                      </a:lnTo>
                      <a:lnTo>
                        <a:pt x="412" y="508"/>
                      </a:lnTo>
                      <a:lnTo>
                        <a:pt x="403" y="468"/>
                      </a:lnTo>
                      <a:lnTo>
                        <a:pt x="398" y="437"/>
                      </a:lnTo>
                      <a:lnTo>
                        <a:pt x="390" y="384"/>
                      </a:lnTo>
                      <a:lnTo>
                        <a:pt x="376" y="344"/>
                      </a:lnTo>
                      <a:lnTo>
                        <a:pt x="363" y="291"/>
                      </a:lnTo>
                      <a:lnTo>
                        <a:pt x="359" y="251"/>
                      </a:lnTo>
                      <a:lnTo>
                        <a:pt x="337" y="211"/>
                      </a:lnTo>
                      <a:lnTo>
                        <a:pt x="323" y="171"/>
                      </a:lnTo>
                      <a:lnTo>
                        <a:pt x="309" y="132"/>
                      </a:lnTo>
                      <a:lnTo>
                        <a:pt x="296" y="92"/>
                      </a:lnTo>
                      <a:lnTo>
                        <a:pt x="269" y="57"/>
                      </a:lnTo>
                      <a:lnTo>
                        <a:pt x="256" y="0"/>
                      </a:lnTo>
                      <a:lnTo>
                        <a:pt x="243" y="30"/>
                      </a:lnTo>
                      <a:close/>
                    </a:path>
                  </a:pathLst>
                </a:custGeom>
                <a:solidFill>
                  <a:srgbClr val="0101ff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6" name=""/>
              <p:cNvSpPr/>
              <p:nvPr/>
            </p:nvSpPr>
            <p:spPr>
              <a:xfrm>
                <a:off x="4378320" y="2962440"/>
                <a:ext cx="158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6543720" y="2424240"/>
                <a:ext cx="0" cy="109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 flipH="1">
                <a:off x="5425920" y="2409840"/>
                <a:ext cx="1117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 flipH="1">
                <a:off x="5478480" y="3514680"/>
                <a:ext cx="1065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0" name=""/>
              <p:cNvSpPr/>
              <p:nvPr/>
            </p:nvSpPr>
            <p:spPr>
              <a:xfrm flipH="1">
                <a:off x="6066000" y="2962440"/>
                <a:ext cx="792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1" name=""/>
              <p:cNvSpPr/>
              <p:nvPr/>
            </p:nvSpPr>
            <p:spPr>
              <a:xfrm>
                <a:off x="5919840" y="2971800"/>
                <a:ext cx="73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5392800" y="2685960"/>
                <a:ext cx="140040" cy="289440"/>
              </a:xfrm>
              <a:custGeom>
                <a:avLst/>
                <a:gdLst/>
                <a:ahLst/>
                <a:rect l="0" t="0" r="r" b="b"/>
                <a:pathLst>
                  <a:path w="389" h="804">
                    <a:moveTo>
                      <a:pt x="389" y="804"/>
                    </a:moveTo>
                    <a:lnTo>
                      <a:pt x="389" y="0"/>
                    </a:lnTo>
                    <a:lnTo>
                      <a:pt x="389" y="0"/>
                    </a:lnTo>
                    <a:cubicBezTo>
                      <a:pt x="321" y="0"/>
                      <a:pt x="254" y="37"/>
                      <a:pt x="194" y="108"/>
                    </a:cubicBezTo>
                    <a:cubicBezTo>
                      <a:pt x="135" y="178"/>
                      <a:pt x="86" y="280"/>
                      <a:pt x="52" y="402"/>
                    </a:cubicBezTo>
                    <a:cubicBezTo>
                      <a:pt x="18" y="524"/>
                      <a:pt x="0" y="663"/>
                      <a:pt x="0" y="804"/>
                    </a:cubicBezTo>
                    <a:lnTo>
                      <a:pt x="389" y="804"/>
                    </a:lnTo>
                    <a:close/>
                  </a:path>
                </a:pathLst>
              </a:custGeom>
              <a:blipFill rotWithShape="0">
                <a:blip r:embed="rId4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5356440" y="2684160"/>
                <a:ext cx="71640" cy="316440"/>
              </a:xfrm>
              <a:custGeom>
                <a:avLst/>
                <a:gdLst/>
                <a:ahLst/>
                <a:rect l="0" t="0" r="r" b="b"/>
                <a:pathLst>
                  <a:path fill="none" w="199" h="879">
                    <a:moveTo>
                      <a:pt x="199" y="879"/>
                    </a:moveTo>
                    <a:lnTo>
                      <a:pt x="199" y="879"/>
                    </a:lnTo>
                    <a:lnTo>
                      <a:pt x="199" y="878"/>
                    </a:lnTo>
                    <a:cubicBezTo>
                      <a:pt x="199" y="712"/>
                      <a:pt x="184" y="550"/>
                      <a:pt x="157" y="406"/>
                    </a:cubicBezTo>
                    <a:cubicBezTo>
                      <a:pt x="129" y="262"/>
                      <a:pt x="90" y="143"/>
                      <a:pt x="42" y="60"/>
                    </a:cubicBezTo>
                    <a:cubicBezTo>
                      <a:pt x="28" y="37"/>
                      <a:pt x="14" y="17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5425200" y="2414520"/>
                <a:ext cx="109080" cy="281520"/>
              </a:xfrm>
              <a:custGeom>
                <a:avLst/>
                <a:gdLst/>
                <a:ahLst/>
                <a:rect l="0" t="0" r="r" b="b"/>
                <a:pathLst>
                  <a:path w="303" h="782">
                    <a:moveTo>
                      <a:pt x="0" y="782"/>
                    </a:moveTo>
                    <a:lnTo>
                      <a:pt x="303" y="782"/>
                    </a:lnTo>
                    <a:lnTo>
                      <a:pt x="303" y="782"/>
                    </a:lnTo>
                    <a:lnTo>
                      <a:pt x="303" y="782"/>
                    </a:lnTo>
                    <a:cubicBezTo>
                      <a:pt x="303" y="645"/>
                      <a:pt x="289" y="510"/>
                      <a:pt x="262" y="391"/>
                    </a:cubicBezTo>
                    <a:cubicBezTo>
                      <a:pt x="236" y="272"/>
                      <a:pt x="198" y="173"/>
                      <a:pt x="151" y="105"/>
                    </a:cubicBezTo>
                    <a:cubicBezTo>
                      <a:pt x="105" y="36"/>
                      <a:pt x="53" y="0"/>
                      <a:pt x="0" y="0"/>
                    </a:cubicBezTo>
                    <a:lnTo>
                      <a:pt x="0" y="782"/>
                    </a:lnTo>
                    <a:close/>
                  </a:path>
                </a:pathLst>
              </a:custGeom>
              <a:blipFill rotWithShape="0">
                <a:blip r:embed="rId5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5315040" y="2408400"/>
                <a:ext cx="111600" cy="287640"/>
              </a:xfrm>
              <a:custGeom>
                <a:avLst/>
                <a:gdLst/>
                <a:ahLst/>
                <a:rect l="0" t="0" r="r" b="b"/>
                <a:pathLst>
                  <a:path w="310" h="799">
                    <a:moveTo>
                      <a:pt x="310" y="799"/>
                    </a:moveTo>
                    <a:lnTo>
                      <a:pt x="310" y="0"/>
                    </a:lnTo>
                    <a:lnTo>
                      <a:pt x="310" y="0"/>
                    </a:lnTo>
                    <a:cubicBezTo>
                      <a:pt x="256" y="0"/>
                      <a:pt x="202" y="37"/>
                      <a:pt x="155" y="107"/>
                    </a:cubicBezTo>
                    <a:cubicBezTo>
                      <a:pt x="108" y="177"/>
                      <a:pt x="69" y="278"/>
                      <a:pt x="42" y="400"/>
                    </a:cubicBezTo>
                    <a:cubicBezTo>
                      <a:pt x="14" y="521"/>
                      <a:pt x="0" y="659"/>
                      <a:pt x="0" y="799"/>
                    </a:cubicBezTo>
                    <a:lnTo>
                      <a:pt x="310" y="799"/>
                    </a:lnTo>
                    <a:close/>
                  </a:path>
                </a:pathLst>
              </a:custGeom>
              <a:blipFill rotWithShape="0">
                <a:blip r:embed="rId6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5326200" y="3238560"/>
                <a:ext cx="162360" cy="276480"/>
              </a:xfrm>
              <a:custGeom>
                <a:avLst/>
                <a:gdLst/>
                <a:ahLst/>
                <a:rect l="0" t="0" r="r" b="b"/>
                <a:pathLst>
                  <a:path fill="none" w="451" h="768">
                    <a:moveTo>
                      <a:pt x="451" y="768"/>
                    </a:moveTo>
                    <a:lnTo>
                      <a:pt x="451" y="768"/>
                    </a:lnTo>
                    <a:lnTo>
                      <a:pt x="451" y="768"/>
                    </a:lnTo>
                    <a:cubicBezTo>
                      <a:pt x="451" y="633"/>
                      <a:pt x="430" y="501"/>
                      <a:pt x="391" y="384"/>
                    </a:cubicBezTo>
                    <a:cubicBezTo>
                      <a:pt x="351" y="267"/>
                      <a:pt x="294" y="170"/>
                      <a:pt x="225" y="103"/>
                    </a:cubicBezTo>
                    <a:cubicBezTo>
                      <a:pt x="157" y="35"/>
                      <a:pt x="79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5329080" y="2957400"/>
                <a:ext cx="115560" cy="293400"/>
              </a:xfrm>
              <a:custGeom>
                <a:avLst/>
                <a:gdLst/>
                <a:ahLst/>
                <a:rect l="0" t="0" r="r" b="b"/>
                <a:pathLst>
                  <a:path fill="none" w="321" h="815">
                    <a:moveTo>
                      <a:pt x="321" y="0"/>
                    </a:moveTo>
                    <a:lnTo>
                      <a:pt x="321" y="0"/>
                    </a:lnTo>
                    <a:cubicBezTo>
                      <a:pt x="265" y="0"/>
                      <a:pt x="209" y="38"/>
                      <a:pt x="160" y="109"/>
                    </a:cubicBezTo>
                    <a:cubicBezTo>
                      <a:pt x="112" y="181"/>
                      <a:pt x="71" y="284"/>
                      <a:pt x="43" y="408"/>
                    </a:cubicBezTo>
                    <a:cubicBezTo>
                      <a:pt x="15" y="531"/>
                      <a:pt x="0" y="672"/>
                      <a:pt x="0" y="81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5337000" y="2557440"/>
                <a:ext cx="149760" cy="444960"/>
              </a:xfrm>
              <a:custGeom>
                <a:avLst/>
                <a:gdLst/>
                <a:ahLst/>
                <a:rect l="0" t="0" r="r" b="b"/>
                <a:pathLst>
                  <a:path w="416" h="1236">
                    <a:moveTo>
                      <a:pt x="172" y="1205"/>
                    </a:moveTo>
                    <a:lnTo>
                      <a:pt x="212" y="1152"/>
                    </a:lnTo>
                    <a:lnTo>
                      <a:pt x="243" y="1113"/>
                    </a:lnTo>
                    <a:lnTo>
                      <a:pt x="292" y="1064"/>
                    </a:lnTo>
                    <a:lnTo>
                      <a:pt x="296" y="1038"/>
                    </a:lnTo>
                    <a:lnTo>
                      <a:pt x="332" y="985"/>
                    </a:lnTo>
                    <a:lnTo>
                      <a:pt x="345" y="945"/>
                    </a:lnTo>
                    <a:lnTo>
                      <a:pt x="359" y="904"/>
                    </a:lnTo>
                    <a:lnTo>
                      <a:pt x="372" y="865"/>
                    </a:lnTo>
                    <a:lnTo>
                      <a:pt x="376" y="825"/>
                    </a:lnTo>
                    <a:lnTo>
                      <a:pt x="390" y="772"/>
                    </a:lnTo>
                    <a:lnTo>
                      <a:pt x="398" y="728"/>
                    </a:lnTo>
                    <a:lnTo>
                      <a:pt x="403" y="688"/>
                    </a:lnTo>
                    <a:lnTo>
                      <a:pt x="403" y="662"/>
                    </a:lnTo>
                    <a:lnTo>
                      <a:pt x="398" y="636"/>
                    </a:lnTo>
                    <a:lnTo>
                      <a:pt x="412" y="596"/>
                    </a:lnTo>
                    <a:lnTo>
                      <a:pt x="416" y="547"/>
                    </a:lnTo>
                    <a:lnTo>
                      <a:pt x="412" y="516"/>
                    </a:lnTo>
                    <a:lnTo>
                      <a:pt x="416" y="490"/>
                    </a:lnTo>
                    <a:lnTo>
                      <a:pt x="416" y="424"/>
                    </a:lnTo>
                    <a:lnTo>
                      <a:pt x="416" y="411"/>
                    </a:lnTo>
                    <a:lnTo>
                      <a:pt x="412" y="371"/>
                    </a:lnTo>
                    <a:lnTo>
                      <a:pt x="412" y="344"/>
                    </a:lnTo>
                    <a:lnTo>
                      <a:pt x="403" y="308"/>
                    </a:lnTo>
                    <a:lnTo>
                      <a:pt x="390" y="238"/>
                    </a:lnTo>
                    <a:lnTo>
                      <a:pt x="376" y="176"/>
                    </a:lnTo>
                    <a:lnTo>
                      <a:pt x="363" y="132"/>
                    </a:lnTo>
                    <a:lnTo>
                      <a:pt x="345" y="83"/>
                    </a:lnTo>
                    <a:lnTo>
                      <a:pt x="309" y="39"/>
                    </a:lnTo>
                    <a:lnTo>
                      <a:pt x="269" y="13"/>
                    </a:lnTo>
                    <a:lnTo>
                      <a:pt x="225" y="0"/>
                    </a:lnTo>
                    <a:lnTo>
                      <a:pt x="177" y="4"/>
                    </a:lnTo>
                    <a:lnTo>
                      <a:pt x="133" y="17"/>
                    </a:lnTo>
                    <a:lnTo>
                      <a:pt x="106" y="44"/>
                    </a:lnTo>
                    <a:lnTo>
                      <a:pt x="79" y="83"/>
                    </a:lnTo>
                    <a:lnTo>
                      <a:pt x="66" y="123"/>
                    </a:lnTo>
                    <a:lnTo>
                      <a:pt x="52" y="163"/>
                    </a:lnTo>
                    <a:lnTo>
                      <a:pt x="39" y="202"/>
                    </a:lnTo>
                    <a:lnTo>
                      <a:pt x="26" y="242"/>
                    </a:lnTo>
                    <a:lnTo>
                      <a:pt x="26" y="282"/>
                    </a:lnTo>
                    <a:lnTo>
                      <a:pt x="13" y="322"/>
                    </a:lnTo>
                    <a:lnTo>
                      <a:pt x="13" y="362"/>
                    </a:lnTo>
                    <a:lnTo>
                      <a:pt x="0" y="402"/>
                    </a:lnTo>
                    <a:lnTo>
                      <a:pt x="0" y="441"/>
                    </a:lnTo>
                    <a:lnTo>
                      <a:pt x="0" y="494"/>
                    </a:lnTo>
                    <a:lnTo>
                      <a:pt x="0" y="534"/>
                    </a:lnTo>
                    <a:lnTo>
                      <a:pt x="0" y="574"/>
                    </a:lnTo>
                    <a:lnTo>
                      <a:pt x="0" y="613"/>
                    </a:lnTo>
                    <a:lnTo>
                      <a:pt x="0" y="653"/>
                    </a:lnTo>
                    <a:lnTo>
                      <a:pt x="0" y="693"/>
                    </a:lnTo>
                    <a:lnTo>
                      <a:pt x="4" y="728"/>
                    </a:lnTo>
                    <a:lnTo>
                      <a:pt x="13" y="768"/>
                    </a:lnTo>
                    <a:lnTo>
                      <a:pt x="17" y="799"/>
                    </a:lnTo>
                    <a:lnTo>
                      <a:pt x="26" y="852"/>
                    </a:lnTo>
                    <a:lnTo>
                      <a:pt x="39" y="891"/>
                    </a:lnTo>
                    <a:lnTo>
                      <a:pt x="52" y="945"/>
                    </a:lnTo>
                    <a:lnTo>
                      <a:pt x="79" y="985"/>
                    </a:lnTo>
                    <a:lnTo>
                      <a:pt x="79" y="1025"/>
                    </a:lnTo>
                    <a:lnTo>
                      <a:pt x="92" y="1064"/>
                    </a:lnTo>
                    <a:lnTo>
                      <a:pt x="106" y="1104"/>
                    </a:lnTo>
                    <a:lnTo>
                      <a:pt x="120" y="1144"/>
                    </a:lnTo>
                    <a:lnTo>
                      <a:pt x="146" y="1179"/>
                    </a:lnTo>
                    <a:lnTo>
                      <a:pt x="159" y="1236"/>
                    </a:lnTo>
                    <a:lnTo>
                      <a:pt x="172" y="1205"/>
                    </a:lnTo>
                    <a:close/>
                  </a:path>
                </a:pathLst>
              </a:custGeom>
              <a:solidFill>
                <a:srgbClr val="0101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 flipV="1">
                <a:off x="4479840" y="2917800"/>
                <a:ext cx="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3924360" y="2416320"/>
                <a:ext cx="1106640" cy="1106640"/>
              </a:xfrm>
              <a:prstGeom prst="ellipse">
                <a:avLst/>
              </a:prstGeom>
              <a:blipFill rotWithShape="0">
                <a:blip r:embed="rId7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4057560" y="2549520"/>
                <a:ext cx="826920" cy="826920"/>
              </a:xfrm>
              <a:prstGeom prst="ellipse">
                <a:avLst/>
              </a:prstGeom>
              <a:solidFill>
                <a:srgbClr val="0101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3184560" y="2962440"/>
                <a:ext cx="1103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 flipH="1">
                <a:off x="4629240" y="2962440"/>
                <a:ext cx="1190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 flipV="1">
                <a:off x="4479840" y="3105000"/>
                <a:ext cx="0" cy="60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4479840" y="2246400"/>
                <a:ext cx="0" cy="582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4475160" y="2922480"/>
                <a:ext cx="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4429080" y="2968560"/>
                <a:ext cx="92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18" name=""/>
            <p:cNvSpPr/>
            <p:nvPr/>
          </p:nvSpPr>
          <p:spPr>
            <a:xfrm>
              <a:off x="6485040" y="4665600"/>
              <a:ext cx="0" cy="109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9" name=""/>
            <p:cNvSpPr/>
            <p:nvPr/>
          </p:nvSpPr>
          <p:spPr>
            <a:xfrm flipH="1">
              <a:off x="5367240" y="4635360"/>
              <a:ext cx="1117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0" name=""/>
            <p:cNvSpPr/>
            <p:nvPr/>
          </p:nvSpPr>
          <p:spPr>
            <a:xfrm flipH="1">
              <a:off x="5419800" y="575640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1" name=""/>
            <p:cNvSpPr/>
            <p:nvPr/>
          </p:nvSpPr>
          <p:spPr>
            <a:xfrm flipH="1">
              <a:off x="6006960" y="5203800"/>
              <a:ext cx="792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2" name=""/>
            <p:cNvSpPr/>
            <p:nvPr/>
          </p:nvSpPr>
          <p:spPr>
            <a:xfrm flipH="1">
              <a:off x="5832360" y="5203800"/>
              <a:ext cx="100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23" name=""/>
            <p:cNvGrpSpPr/>
            <p:nvPr/>
          </p:nvGrpSpPr>
          <p:grpSpPr>
            <a:xfrm>
              <a:off x="5256360" y="4649760"/>
              <a:ext cx="219240" cy="1106640"/>
              <a:chOff x="5256360" y="4649760"/>
              <a:chExt cx="219240" cy="1106640"/>
            </a:xfrm>
          </p:grpSpPr>
          <p:sp>
            <p:nvSpPr>
              <p:cNvPr id="8924" name=""/>
              <p:cNvSpPr/>
              <p:nvPr/>
            </p:nvSpPr>
            <p:spPr>
              <a:xfrm>
                <a:off x="5334120" y="4927680"/>
                <a:ext cx="140040" cy="289440"/>
              </a:xfrm>
              <a:custGeom>
                <a:avLst/>
                <a:gdLst/>
                <a:ahLst/>
                <a:rect l="0" t="0" r="r" b="b"/>
                <a:pathLst>
                  <a:path w="389" h="804">
                    <a:moveTo>
                      <a:pt x="389" y="804"/>
                    </a:moveTo>
                    <a:lnTo>
                      <a:pt x="389" y="0"/>
                    </a:lnTo>
                    <a:lnTo>
                      <a:pt x="389" y="0"/>
                    </a:lnTo>
                    <a:cubicBezTo>
                      <a:pt x="321" y="0"/>
                      <a:pt x="254" y="37"/>
                      <a:pt x="194" y="108"/>
                    </a:cubicBezTo>
                    <a:cubicBezTo>
                      <a:pt x="135" y="178"/>
                      <a:pt x="86" y="280"/>
                      <a:pt x="52" y="402"/>
                    </a:cubicBezTo>
                    <a:cubicBezTo>
                      <a:pt x="18" y="524"/>
                      <a:pt x="0" y="663"/>
                      <a:pt x="0" y="804"/>
                    </a:cubicBezTo>
                    <a:lnTo>
                      <a:pt x="389" y="804"/>
                    </a:lnTo>
                    <a:close/>
                  </a:path>
                </a:pathLst>
              </a:custGeom>
              <a:blipFill rotWithShape="0">
                <a:blip r:embed="rId8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5256360" y="4925880"/>
                <a:ext cx="113040" cy="316440"/>
              </a:xfrm>
              <a:custGeom>
                <a:avLst/>
                <a:gdLst/>
                <a:ahLst/>
                <a:rect l="0" t="0" r="r" b="b"/>
                <a:pathLst>
                  <a:path w="314" h="879">
                    <a:moveTo>
                      <a:pt x="0" y="879"/>
                    </a:moveTo>
                    <a:lnTo>
                      <a:pt x="314" y="879"/>
                    </a:lnTo>
                    <a:lnTo>
                      <a:pt x="314" y="879"/>
                    </a:lnTo>
                    <a:cubicBezTo>
                      <a:pt x="314" y="713"/>
                      <a:pt x="299" y="551"/>
                      <a:pt x="272" y="407"/>
                    </a:cubicBezTo>
                    <a:cubicBezTo>
                      <a:pt x="244" y="264"/>
                      <a:pt x="205" y="144"/>
                      <a:pt x="157" y="62"/>
                    </a:cubicBezTo>
                    <a:cubicBezTo>
                      <a:pt x="143" y="38"/>
                      <a:pt x="129" y="17"/>
                      <a:pt x="114" y="0"/>
                    </a:cubicBezTo>
                    <a:lnTo>
                      <a:pt x="0" y="879"/>
                    </a:lnTo>
                    <a:close/>
                  </a:path>
                </a:pathLst>
              </a:custGeom>
              <a:blipFill rotWithShape="0">
                <a:blip r:embed="rId9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5366520" y="4656240"/>
                <a:ext cx="109080" cy="281520"/>
              </a:xfrm>
              <a:custGeom>
                <a:avLst/>
                <a:gdLst/>
                <a:ahLst/>
                <a:rect l="0" t="0" r="r" b="b"/>
                <a:pathLst>
                  <a:path w="303" h="782">
                    <a:moveTo>
                      <a:pt x="0" y="782"/>
                    </a:moveTo>
                    <a:lnTo>
                      <a:pt x="303" y="782"/>
                    </a:lnTo>
                    <a:lnTo>
                      <a:pt x="303" y="782"/>
                    </a:lnTo>
                    <a:lnTo>
                      <a:pt x="303" y="782"/>
                    </a:lnTo>
                    <a:cubicBezTo>
                      <a:pt x="303" y="645"/>
                      <a:pt x="289" y="510"/>
                      <a:pt x="262" y="391"/>
                    </a:cubicBezTo>
                    <a:cubicBezTo>
                      <a:pt x="236" y="272"/>
                      <a:pt x="198" y="173"/>
                      <a:pt x="151" y="105"/>
                    </a:cubicBezTo>
                    <a:cubicBezTo>
                      <a:pt x="105" y="36"/>
                      <a:pt x="53" y="0"/>
                      <a:pt x="0" y="0"/>
                    </a:cubicBezTo>
                    <a:lnTo>
                      <a:pt x="0" y="782"/>
                    </a:lnTo>
                    <a:close/>
                  </a:path>
                </a:pathLst>
              </a:custGeom>
              <a:blipFill rotWithShape="0">
                <a:blip r:embed="rId10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5256360" y="4649760"/>
                <a:ext cx="111600" cy="287640"/>
              </a:xfrm>
              <a:custGeom>
                <a:avLst/>
                <a:gdLst/>
                <a:ahLst/>
                <a:rect l="0" t="0" r="r" b="b"/>
                <a:pathLst>
                  <a:path w="310" h="799">
                    <a:moveTo>
                      <a:pt x="310" y="799"/>
                    </a:moveTo>
                    <a:lnTo>
                      <a:pt x="310" y="0"/>
                    </a:lnTo>
                    <a:lnTo>
                      <a:pt x="310" y="0"/>
                    </a:lnTo>
                    <a:cubicBezTo>
                      <a:pt x="256" y="0"/>
                      <a:pt x="202" y="37"/>
                      <a:pt x="155" y="107"/>
                    </a:cubicBezTo>
                    <a:cubicBezTo>
                      <a:pt x="108" y="177"/>
                      <a:pt x="69" y="278"/>
                      <a:pt x="42" y="400"/>
                    </a:cubicBezTo>
                    <a:cubicBezTo>
                      <a:pt x="14" y="521"/>
                      <a:pt x="0" y="659"/>
                      <a:pt x="0" y="799"/>
                    </a:cubicBezTo>
                    <a:lnTo>
                      <a:pt x="310" y="799"/>
                    </a:lnTo>
                    <a:close/>
                  </a:path>
                </a:pathLst>
              </a:custGeom>
              <a:blipFill rotWithShape="0">
                <a:blip r:embed="rId11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5267160" y="5479920"/>
                <a:ext cx="162360" cy="276480"/>
              </a:xfrm>
              <a:custGeom>
                <a:avLst/>
                <a:gdLst/>
                <a:ahLst/>
                <a:rect l="0" t="0" r="r" b="b"/>
                <a:pathLst>
                  <a:path fill="none" w="451" h="768">
                    <a:moveTo>
                      <a:pt x="451" y="768"/>
                    </a:moveTo>
                    <a:lnTo>
                      <a:pt x="451" y="768"/>
                    </a:lnTo>
                    <a:lnTo>
                      <a:pt x="451" y="768"/>
                    </a:lnTo>
                    <a:cubicBezTo>
                      <a:pt x="451" y="633"/>
                      <a:pt x="430" y="501"/>
                      <a:pt x="391" y="384"/>
                    </a:cubicBezTo>
                    <a:cubicBezTo>
                      <a:pt x="351" y="267"/>
                      <a:pt x="294" y="170"/>
                      <a:pt x="225" y="103"/>
                    </a:cubicBezTo>
                    <a:cubicBezTo>
                      <a:pt x="157" y="35"/>
                      <a:pt x="79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5270400" y="5199120"/>
                <a:ext cx="115560" cy="293400"/>
              </a:xfrm>
              <a:custGeom>
                <a:avLst/>
                <a:gdLst/>
                <a:ahLst/>
                <a:rect l="0" t="0" r="r" b="b"/>
                <a:pathLst>
                  <a:path fill="none" w="321" h="815">
                    <a:moveTo>
                      <a:pt x="321" y="0"/>
                    </a:moveTo>
                    <a:lnTo>
                      <a:pt x="321" y="0"/>
                    </a:lnTo>
                    <a:cubicBezTo>
                      <a:pt x="265" y="0"/>
                      <a:pt x="209" y="38"/>
                      <a:pt x="160" y="109"/>
                    </a:cubicBezTo>
                    <a:cubicBezTo>
                      <a:pt x="112" y="181"/>
                      <a:pt x="71" y="284"/>
                      <a:pt x="43" y="408"/>
                    </a:cubicBezTo>
                    <a:cubicBezTo>
                      <a:pt x="15" y="531"/>
                      <a:pt x="0" y="672"/>
                      <a:pt x="0" y="81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30" name=""/>
            <p:cNvSpPr/>
            <p:nvPr/>
          </p:nvSpPr>
          <p:spPr>
            <a:xfrm>
              <a:off x="4307040" y="5203800"/>
              <a:ext cx="137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1" name=""/>
            <p:cNvSpPr/>
            <p:nvPr/>
          </p:nvSpPr>
          <p:spPr>
            <a:xfrm flipV="1">
              <a:off x="2452680" y="4651200"/>
              <a:ext cx="0" cy="1090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2452680" y="5756400"/>
              <a:ext cx="1117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2452680" y="4651200"/>
              <a:ext cx="1065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2138400" y="5203800"/>
              <a:ext cx="792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3005280" y="5203800"/>
              <a:ext cx="9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36" name=""/>
            <p:cNvGrpSpPr/>
            <p:nvPr/>
          </p:nvGrpSpPr>
          <p:grpSpPr>
            <a:xfrm>
              <a:off x="3463920" y="4651200"/>
              <a:ext cx="219240" cy="1108440"/>
              <a:chOff x="3463920" y="4651200"/>
              <a:chExt cx="219240" cy="1108440"/>
            </a:xfrm>
          </p:grpSpPr>
          <p:sp>
            <p:nvSpPr>
              <p:cNvPr id="8937" name=""/>
              <p:cNvSpPr/>
              <p:nvPr/>
            </p:nvSpPr>
            <p:spPr>
              <a:xfrm>
                <a:off x="3463920" y="5191200"/>
                <a:ext cx="140040" cy="289440"/>
              </a:xfrm>
              <a:custGeom>
                <a:avLst/>
                <a:gdLst/>
                <a:ahLst/>
                <a:rect l="0" t="0" r="r" b="b"/>
                <a:pathLst>
                  <a:path w="389" h="804">
                    <a:moveTo>
                      <a:pt x="389" y="804"/>
                    </a:moveTo>
                    <a:lnTo>
                      <a:pt x="389" y="0"/>
                    </a:lnTo>
                    <a:lnTo>
                      <a:pt x="389" y="0"/>
                    </a:lnTo>
                    <a:cubicBezTo>
                      <a:pt x="321" y="0"/>
                      <a:pt x="254" y="37"/>
                      <a:pt x="194" y="108"/>
                    </a:cubicBezTo>
                    <a:cubicBezTo>
                      <a:pt x="135" y="178"/>
                      <a:pt x="86" y="280"/>
                      <a:pt x="52" y="402"/>
                    </a:cubicBezTo>
                    <a:cubicBezTo>
                      <a:pt x="18" y="524"/>
                      <a:pt x="0" y="663"/>
                      <a:pt x="0" y="804"/>
                    </a:cubicBezTo>
                    <a:lnTo>
                      <a:pt x="389" y="804"/>
                    </a:lnTo>
                    <a:close/>
                  </a:path>
                </a:pathLst>
              </a:custGeom>
              <a:blipFill rotWithShape="0">
                <a:blip r:embed="rId12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3570120" y="5167080"/>
                <a:ext cx="113040" cy="316440"/>
              </a:xfrm>
              <a:custGeom>
                <a:avLst/>
                <a:gdLst/>
                <a:ahLst/>
                <a:rect l="0" t="0" r="r" b="b"/>
                <a:pathLst>
                  <a:path w="314" h="879">
                    <a:moveTo>
                      <a:pt x="0" y="879"/>
                    </a:moveTo>
                    <a:lnTo>
                      <a:pt x="314" y="879"/>
                    </a:lnTo>
                    <a:lnTo>
                      <a:pt x="314" y="879"/>
                    </a:lnTo>
                    <a:cubicBezTo>
                      <a:pt x="314" y="713"/>
                      <a:pt x="299" y="551"/>
                      <a:pt x="272" y="407"/>
                    </a:cubicBezTo>
                    <a:cubicBezTo>
                      <a:pt x="244" y="264"/>
                      <a:pt x="205" y="144"/>
                      <a:pt x="157" y="62"/>
                    </a:cubicBezTo>
                    <a:cubicBezTo>
                      <a:pt x="143" y="38"/>
                      <a:pt x="129" y="17"/>
                      <a:pt x="114" y="0"/>
                    </a:cubicBezTo>
                    <a:lnTo>
                      <a:pt x="0" y="879"/>
                    </a:lnTo>
                    <a:close/>
                  </a:path>
                </a:pathLst>
              </a:custGeom>
              <a:blipFill rotWithShape="0">
                <a:blip r:embed="rId13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3464640" y="5472000"/>
                <a:ext cx="109080" cy="281520"/>
              </a:xfrm>
              <a:custGeom>
                <a:avLst/>
                <a:gdLst/>
                <a:ahLst/>
                <a:rect l="0" t="0" r="r" b="b"/>
                <a:pathLst>
                  <a:path w="303" h="782">
                    <a:moveTo>
                      <a:pt x="0" y="782"/>
                    </a:moveTo>
                    <a:lnTo>
                      <a:pt x="303" y="782"/>
                    </a:lnTo>
                    <a:lnTo>
                      <a:pt x="303" y="782"/>
                    </a:lnTo>
                    <a:lnTo>
                      <a:pt x="303" y="782"/>
                    </a:lnTo>
                    <a:cubicBezTo>
                      <a:pt x="303" y="645"/>
                      <a:pt x="289" y="510"/>
                      <a:pt x="262" y="391"/>
                    </a:cubicBezTo>
                    <a:cubicBezTo>
                      <a:pt x="236" y="272"/>
                      <a:pt x="198" y="173"/>
                      <a:pt x="151" y="105"/>
                    </a:cubicBezTo>
                    <a:cubicBezTo>
                      <a:pt x="105" y="36"/>
                      <a:pt x="53" y="0"/>
                      <a:pt x="0" y="0"/>
                    </a:cubicBezTo>
                    <a:lnTo>
                      <a:pt x="0" y="782"/>
                    </a:lnTo>
                    <a:close/>
                  </a:path>
                </a:pathLst>
              </a:custGeom>
              <a:blipFill rotWithShape="0">
                <a:blip r:embed="rId14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3570120" y="5472000"/>
                <a:ext cx="111600" cy="287640"/>
              </a:xfrm>
              <a:custGeom>
                <a:avLst/>
                <a:gdLst/>
                <a:ahLst/>
                <a:rect l="0" t="0" r="r" b="b"/>
                <a:pathLst>
                  <a:path w="310" h="799">
                    <a:moveTo>
                      <a:pt x="310" y="799"/>
                    </a:moveTo>
                    <a:lnTo>
                      <a:pt x="310" y="0"/>
                    </a:lnTo>
                    <a:lnTo>
                      <a:pt x="310" y="0"/>
                    </a:lnTo>
                    <a:cubicBezTo>
                      <a:pt x="256" y="0"/>
                      <a:pt x="202" y="37"/>
                      <a:pt x="155" y="107"/>
                    </a:cubicBezTo>
                    <a:cubicBezTo>
                      <a:pt x="108" y="177"/>
                      <a:pt x="69" y="278"/>
                      <a:pt x="42" y="400"/>
                    </a:cubicBezTo>
                    <a:cubicBezTo>
                      <a:pt x="14" y="521"/>
                      <a:pt x="0" y="659"/>
                      <a:pt x="0" y="799"/>
                    </a:cubicBezTo>
                    <a:lnTo>
                      <a:pt x="310" y="799"/>
                    </a:lnTo>
                    <a:close/>
                  </a:path>
                </a:pathLst>
              </a:custGeom>
              <a:blipFill rotWithShape="0">
                <a:blip r:embed="rId15"/>
                <a:tile tx="0" ty="0" sx="133018" sy="133018" algn="ctr"/>
              </a:blip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3508200" y="4651200"/>
                <a:ext cx="162360" cy="276480"/>
              </a:xfrm>
              <a:custGeom>
                <a:avLst/>
                <a:gdLst/>
                <a:ahLst/>
                <a:rect l="0" t="0" r="r" b="b"/>
                <a:pathLst>
                  <a:path fill="none" w="451" h="768">
                    <a:moveTo>
                      <a:pt x="451" y="768"/>
                    </a:moveTo>
                    <a:lnTo>
                      <a:pt x="451" y="768"/>
                    </a:lnTo>
                    <a:lnTo>
                      <a:pt x="451" y="768"/>
                    </a:lnTo>
                    <a:cubicBezTo>
                      <a:pt x="451" y="633"/>
                      <a:pt x="430" y="501"/>
                      <a:pt x="391" y="384"/>
                    </a:cubicBezTo>
                    <a:cubicBezTo>
                      <a:pt x="351" y="267"/>
                      <a:pt x="294" y="170"/>
                      <a:pt x="225" y="103"/>
                    </a:cubicBezTo>
                    <a:cubicBezTo>
                      <a:pt x="157" y="35"/>
                      <a:pt x="79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3552840" y="4916520"/>
                <a:ext cx="115560" cy="293400"/>
              </a:xfrm>
              <a:custGeom>
                <a:avLst/>
                <a:gdLst/>
                <a:ahLst/>
                <a:rect l="0" t="0" r="r" b="b"/>
                <a:pathLst>
                  <a:path fill="none" w="321" h="815">
                    <a:moveTo>
                      <a:pt x="321" y="0"/>
                    </a:moveTo>
                    <a:lnTo>
                      <a:pt x="321" y="0"/>
                    </a:lnTo>
                    <a:cubicBezTo>
                      <a:pt x="265" y="0"/>
                      <a:pt x="209" y="38"/>
                      <a:pt x="160" y="109"/>
                    </a:cubicBezTo>
                    <a:cubicBezTo>
                      <a:pt x="112" y="181"/>
                      <a:pt x="71" y="284"/>
                      <a:pt x="43" y="408"/>
                    </a:cubicBezTo>
                    <a:cubicBezTo>
                      <a:pt x="15" y="531"/>
                      <a:pt x="0" y="672"/>
                      <a:pt x="0" y="815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43" name=""/>
            <p:cNvSpPr/>
            <p:nvPr/>
          </p:nvSpPr>
          <p:spPr>
            <a:xfrm>
              <a:off x="2376360" y="4727520"/>
              <a:ext cx="0" cy="95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4" name=""/>
            <p:cNvSpPr/>
            <p:nvPr/>
          </p:nvSpPr>
          <p:spPr>
            <a:xfrm flipV="1">
              <a:off x="2376360" y="4667400"/>
              <a:ext cx="60480" cy="60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2392200" y="5695920"/>
              <a:ext cx="61920" cy="6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46" name=""/>
            <p:cNvGrpSpPr/>
            <p:nvPr/>
          </p:nvGrpSpPr>
          <p:grpSpPr>
            <a:xfrm>
              <a:off x="6494400" y="4649760"/>
              <a:ext cx="76320" cy="1106640"/>
              <a:chOff x="6494400" y="4649760"/>
              <a:chExt cx="76320" cy="1106640"/>
            </a:xfrm>
          </p:grpSpPr>
          <p:sp>
            <p:nvSpPr>
              <p:cNvPr id="8947" name=""/>
              <p:cNvSpPr/>
              <p:nvPr/>
            </p:nvSpPr>
            <p:spPr>
              <a:xfrm>
                <a:off x="6570720" y="4711680"/>
                <a:ext cx="0" cy="96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8" name=""/>
              <p:cNvSpPr/>
              <p:nvPr/>
            </p:nvSpPr>
            <p:spPr>
              <a:xfrm>
                <a:off x="6508800" y="4649760"/>
                <a:ext cx="61920" cy="6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9" name=""/>
              <p:cNvSpPr/>
              <p:nvPr/>
            </p:nvSpPr>
            <p:spPr>
              <a:xfrm flipV="1">
                <a:off x="6494400" y="5695920"/>
                <a:ext cx="60480" cy="6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50" name=""/>
            <p:cNvSpPr/>
            <p:nvPr/>
          </p:nvSpPr>
          <p:spPr>
            <a:xfrm>
              <a:off x="3897360" y="4649760"/>
              <a:ext cx="1104840" cy="1104840"/>
            </a:xfrm>
            <a:prstGeom prst="ellipse">
              <a:avLst/>
            </a:prstGeom>
            <a:blipFill rotWithShape="0">
              <a:blip r:embed="rId16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4370400" y="5202360"/>
              <a:ext cx="144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4448160" y="4525920"/>
              <a:ext cx="0" cy="55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3" name=""/>
            <p:cNvSpPr/>
            <p:nvPr/>
          </p:nvSpPr>
          <p:spPr>
            <a:xfrm flipH="1">
              <a:off x="4586400" y="5203800"/>
              <a:ext cx="1157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4448160" y="513396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4448160" y="5356080"/>
              <a:ext cx="0" cy="538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3193920" y="5203800"/>
              <a:ext cx="1086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7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8" name=""/>
          <p:cNvSpPr txBox="1"/>
          <p:nvPr/>
        </p:nvSpPr>
        <p:spPr>
          <a:xfrm>
            <a:off x="1228680" y="944640"/>
            <a:ext cx="6350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SECTIONS WI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9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0" name=""/>
          <p:cNvSpPr/>
          <p:nvPr/>
        </p:nvSpPr>
        <p:spPr>
          <a:xfrm>
            <a:off x="6548400" y="2685960"/>
            <a:ext cx="682560" cy="682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1" name=""/>
          <p:cNvSpPr/>
          <p:nvPr/>
        </p:nvSpPr>
        <p:spPr>
          <a:xfrm>
            <a:off x="6365880" y="2503440"/>
            <a:ext cx="1049400" cy="10494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2" name=""/>
          <p:cNvSpPr/>
          <p:nvPr/>
        </p:nvSpPr>
        <p:spPr>
          <a:xfrm>
            <a:off x="2517840" y="2529000"/>
            <a:ext cx="1000080" cy="1000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3" name=""/>
          <p:cNvSpPr/>
          <p:nvPr/>
        </p:nvSpPr>
        <p:spPr>
          <a:xfrm>
            <a:off x="2317680" y="2328840"/>
            <a:ext cx="1398600" cy="139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4" name=""/>
          <p:cNvSpPr/>
          <p:nvPr/>
        </p:nvSpPr>
        <p:spPr>
          <a:xfrm>
            <a:off x="3629160" y="2630520"/>
            <a:ext cx="285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5" name=""/>
          <p:cNvSpPr/>
          <p:nvPr/>
        </p:nvSpPr>
        <p:spPr>
          <a:xfrm>
            <a:off x="3681360" y="34131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6" name=""/>
          <p:cNvSpPr/>
          <p:nvPr/>
        </p:nvSpPr>
        <p:spPr>
          <a:xfrm>
            <a:off x="3790800" y="2927520"/>
            <a:ext cx="24861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7" name=""/>
          <p:cNvSpPr/>
          <p:nvPr/>
        </p:nvSpPr>
        <p:spPr>
          <a:xfrm>
            <a:off x="3800520" y="3127320"/>
            <a:ext cx="2492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8" name=""/>
          <p:cNvGrpSpPr/>
          <p:nvPr/>
        </p:nvGrpSpPr>
        <p:grpSpPr>
          <a:xfrm>
            <a:off x="3014640" y="2141640"/>
            <a:ext cx="0" cy="1676160"/>
            <a:chOff x="3014640" y="2141640"/>
            <a:chExt cx="0" cy="1676160"/>
          </a:xfrm>
        </p:grpSpPr>
        <p:sp>
          <p:nvSpPr>
            <p:cNvPr id="8969" name=""/>
            <p:cNvSpPr/>
            <p:nvPr/>
          </p:nvSpPr>
          <p:spPr>
            <a:xfrm>
              <a:off x="3014640" y="2141640"/>
              <a:ext cx="0" cy="78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3014640" y="29671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3014640" y="3125880"/>
              <a:ext cx="0" cy="69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72" name=""/>
          <p:cNvGrpSpPr/>
          <p:nvPr/>
        </p:nvGrpSpPr>
        <p:grpSpPr>
          <a:xfrm>
            <a:off x="2230560" y="3027240"/>
            <a:ext cx="1555560" cy="0"/>
            <a:chOff x="2230560" y="3027240"/>
            <a:chExt cx="1555560" cy="0"/>
          </a:xfrm>
        </p:grpSpPr>
        <p:sp>
          <p:nvSpPr>
            <p:cNvPr id="8973" name=""/>
            <p:cNvSpPr/>
            <p:nvPr/>
          </p:nvSpPr>
          <p:spPr>
            <a:xfrm>
              <a:off x="2230560" y="3027240"/>
              <a:ext cx="660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2954160" y="302724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144960" y="3027240"/>
              <a:ext cx="641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76" name=""/>
          <p:cNvSpPr/>
          <p:nvPr/>
        </p:nvSpPr>
        <p:spPr>
          <a:xfrm>
            <a:off x="6897600" y="2446200"/>
            <a:ext cx="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7" name=""/>
          <p:cNvSpPr/>
          <p:nvPr/>
        </p:nvSpPr>
        <p:spPr>
          <a:xfrm>
            <a:off x="6891480" y="2973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8" name=""/>
          <p:cNvSpPr/>
          <p:nvPr/>
        </p:nvSpPr>
        <p:spPr>
          <a:xfrm>
            <a:off x="6891480" y="3132000"/>
            <a:ext cx="0" cy="51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9" name=""/>
          <p:cNvSpPr/>
          <p:nvPr/>
        </p:nvSpPr>
        <p:spPr>
          <a:xfrm>
            <a:off x="6288120" y="3033720"/>
            <a:ext cx="47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0" name=""/>
          <p:cNvSpPr/>
          <p:nvPr/>
        </p:nvSpPr>
        <p:spPr>
          <a:xfrm>
            <a:off x="6831000" y="303372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1" name=""/>
          <p:cNvSpPr/>
          <p:nvPr/>
        </p:nvSpPr>
        <p:spPr>
          <a:xfrm>
            <a:off x="7021440" y="3033720"/>
            <a:ext cx="45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2" name=""/>
          <p:cNvSpPr/>
          <p:nvPr/>
        </p:nvSpPr>
        <p:spPr>
          <a:xfrm>
            <a:off x="2317680" y="450072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3" name=""/>
          <p:cNvSpPr/>
          <p:nvPr/>
        </p:nvSpPr>
        <p:spPr>
          <a:xfrm>
            <a:off x="3732120" y="450216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4" name=""/>
          <p:cNvSpPr/>
          <p:nvPr/>
        </p:nvSpPr>
        <p:spPr>
          <a:xfrm>
            <a:off x="7421400" y="4762440"/>
            <a:ext cx="0" cy="1063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5" name=""/>
          <p:cNvSpPr/>
          <p:nvPr/>
        </p:nvSpPr>
        <p:spPr>
          <a:xfrm>
            <a:off x="6361200" y="4764240"/>
            <a:ext cx="0" cy="169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6" name=""/>
          <p:cNvSpPr/>
          <p:nvPr/>
        </p:nvSpPr>
        <p:spPr>
          <a:xfrm>
            <a:off x="2317680" y="5826240"/>
            <a:ext cx="509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7" name=""/>
          <p:cNvSpPr/>
          <p:nvPr/>
        </p:nvSpPr>
        <p:spPr>
          <a:xfrm>
            <a:off x="2317680" y="4503600"/>
            <a:ext cx="1414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8" name=""/>
          <p:cNvSpPr/>
          <p:nvPr/>
        </p:nvSpPr>
        <p:spPr>
          <a:xfrm>
            <a:off x="6361200" y="476568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9" name=""/>
          <p:cNvSpPr/>
          <p:nvPr/>
        </p:nvSpPr>
        <p:spPr>
          <a:xfrm>
            <a:off x="3672000" y="5584680"/>
            <a:ext cx="2771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0" name=""/>
          <p:cNvGrpSpPr/>
          <p:nvPr/>
        </p:nvGrpSpPr>
        <p:grpSpPr>
          <a:xfrm>
            <a:off x="3013200" y="4284720"/>
            <a:ext cx="0" cy="1676520"/>
            <a:chOff x="3013200" y="4284720"/>
            <a:chExt cx="0" cy="1676520"/>
          </a:xfrm>
        </p:grpSpPr>
        <p:sp>
          <p:nvSpPr>
            <p:cNvPr id="8991" name=""/>
            <p:cNvSpPr/>
            <p:nvPr/>
          </p:nvSpPr>
          <p:spPr>
            <a:xfrm>
              <a:off x="3013200" y="4284720"/>
              <a:ext cx="0" cy="78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3013200" y="511020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3013200" y="526896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4" name=""/>
          <p:cNvGrpSpPr/>
          <p:nvPr/>
        </p:nvGrpSpPr>
        <p:grpSpPr>
          <a:xfrm>
            <a:off x="6886440" y="4421160"/>
            <a:ext cx="0" cy="1676520"/>
            <a:chOff x="6886440" y="4421160"/>
            <a:chExt cx="0" cy="1676520"/>
          </a:xfrm>
        </p:grpSpPr>
        <p:sp>
          <p:nvSpPr>
            <p:cNvPr id="8995" name=""/>
            <p:cNvSpPr/>
            <p:nvPr/>
          </p:nvSpPr>
          <p:spPr>
            <a:xfrm>
              <a:off x="6886440" y="4421160"/>
              <a:ext cx="0" cy="781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6886440" y="5246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6886440" y="540540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8" name=""/>
          <p:cNvSpPr/>
          <p:nvPr/>
        </p:nvSpPr>
        <p:spPr>
          <a:xfrm>
            <a:off x="3587760" y="4605480"/>
            <a:ext cx="2627280" cy="43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9" name=""/>
          <p:cNvSpPr/>
          <p:nvPr/>
        </p:nvSpPr>
        <p:spPr>
          <a:xfrm>
            <a:off x="3583080" y="4502520"/>
            <a:ext cx="80640" cy="74520"/>
          </a:xfrm>
          <a:custGeom>
            <a:avLst/>
            <a:gdLst/>
            <a:ahLst/>
            <a:rect l="0" t="0" r="r" b="b"/>
            <a:pathLst>
              <a:path fill="none" w="224" h="207">
                <a:moveTo>
                  <a:pt x="224" y="207"/>
                </a:moveTo>
                <a:lnTo>
                  <a:pt x="224" y="207"/>
                </a:lnTo>
                <a:cubicBezTo>
                  <a:pt x="218" y="190"/>
                  <a:pt x="210" y="174"/>
                  <a:pt x="201" y="158"/>
                </a:cubicBezTo>
                <a:cubicBezTo>
                  <a:pt x="170" y="106"/>
                  <a:pt x="127" y="62"/>
                  <a:pt x="75" y="32"/>
                </a:cubicBezTo>
                <a:cubicBezTo>
                  <a:pt x="51" y="18"/>
                  <a:pt x="26" y="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0" name=""/>
          <p:cNvSpPr/>
          <p:nvPr/>
        </p:nvSpPr>
        <p:spPr>
          <a:xfrm>
            <a:off x="3687840" y="5451480"/>
            <a:ext cx="121320" cy="96840"/>
          </a:xfrm>
          <a:custGeom>
            <a:avLst/>
            <a:gdLst/>
            <a:ahLst/>
            <a:rect l="0" t="0" r="r" b="b"/>
            <a:pathLst>
              <a:path fill="none" w="337" h="269">
                <a:moveTo>
                  <a:pt x="337" y="269"/>
                </a:moveTo>
                <a:lnTo>
                  <a:pt x="337" y="269"/>
                </a:lnTo>
                <a:cubicBezTo>
                  <a:pt x="329" y="235"/>
                  <a:pt x="317" y="202"/>
                  <a:pt x="299" y="172"/>
                </a:cubicBezTo>
                <a:cubicBezTo>
                  <a:pt x="269" y="120"/>
                  <a:pt x="225" y="76"/>
                  <a:pt x="173" y="46"/>
                </a:cubicBezTo>
                <a:cubicBezTo>
                  <a:pt x="120" y="16"/>
                  <a:pt x="61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1" name=""/>
          <p:cNvSpPr/>
          <p:nvPr/>
        </p:nvSpPr>
        <p:spPr>
          <a:xfrm>
            <a:off x="6421320" y="5459400"/>
            <a:ext cx="124200" cy="124200"/>
          </a:xfrm>
          <a:custGeom>
            <a:avLst/>
            <a:gdLst/>
            <a:ahLst/>
            <a:rect l="0" t="0" r="r" b="b"/>
            <a:pathLst>
              <a:path fill="none" w="345" h="345">
                <a:moveTo>
                  <a:pt x="345" y="345"/>
                </a:moveTo>
                <a:lnTo>
                  <a:pt x="345" y="345"/>
                </a:lnTo>
                <a:lnTo>
                  <a:pt x="345" y="345"/>
                </a:lnTo>
                <a:cubicBezTo>
                  <a:pt x="345" y="284"/>
                  <a:pt x="329" y="225"/>
                  <a:pt x="299" y="172"/>
                </a:cubicBezTo>
                <a:cubicBezTo>
                  <a:pt x="268" y="120"/>
                  <a:pt x="225" y="77"/>
                  <a:pt x="172" y="46"/>
                </a:cubicBezTo>
                <a:cubicBezTo>
                  <a:pt x="120" y="16"/>
                  <a:pt x="61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2" name=""/>
          <p:cNvSpPr/>
          <p:nvPr/>
        </p:nvSpPr>
        <p:spPr>
          <a:xfrm>
            <a:off x="3557520" y="5459400"/>
            <a:ext cx="117720" cy="84600"/>
          </a:xfrm>
          <a:custGeom>
            <a:avLst/>
            <a:gdLst/>
            <a:ahLst/>
            <a:rect l="0" t="0" r="r" b="b"/>
            <a:pathLst>
              <a:path fill="none" w="327" h="235">
                <a:moveTo>
                  <a:pt x="327" y="235"/>
                </a:moveTo>
                <a:lnTo>
                  <a:pt x="327" y="235"/>
                </a:lnTo>
                <a:cubicBezTo>
                  <a:pt x="320" y="213"/>
                  <a:pt x="310" y="193"/>
                  <a:pt x="299" y="173"/>
                </a:cubicBezTo>
                <a:cubicBezTo>
                  <a:pt x="269" y="120"/>
                  <a:pt x="225" y="77"/>
                  <a:pt x="173" y="46"/>
                </a:cubicBezTo>
                <a:cubicBezTo>
                  <a:pt x="120" y="16"/>
                  <a:pt x="61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3" name=""/>
          <p:cNvSpPr/>
          <p:nvPr/>
        </p:nvSpPr>
        <p:spPr>
          <a:xfrm>
            <a:off x="6205680" y="4897440"/>
            <a:ext cx="138240" cy="178920"/>
          </a:xfrm>
          <a:custGeom>
            <a:avLst/>
            <a:gdLst/>
            <a:ahLst/>
            <a:rect l="0" t="0" r="r" b="b"/>
            <a:pathLst>
              <a:path fill="none" w="384" h="497">
                <a:moveTo>
                  <a:pt x="348" y="497"/>
                </a:moveTo>
                <a:lnTo>
                  <a:pt x="348" y="497"/>
                </a:lnTo>
                <a:cubicBezTo>
                  <a:pt x="371" y="449"/>
                  <a:pt x="384" y="397"/>
                  <a:pt x="384" y="344"/>
                </a:cubicBezTo>
                <a:cubicBezTo>
                  <a:pt x="384" y="284"/>
                  <a:pt x="368" y="224"/>
                  <a:pt x="338" y="172"/>
                </a:cubicBezTo>
                <a:cubicBezTo>
                  <a:pt x="307" y="120"/>
                  <a:pt x="264" y="76"/>
                  <a:pt x="212" y="46"/>
                </a:cubicBezTo>
                <a:cubicBezTo>
                  <a:pt x="159" y="16"/>
                  <a:pt x="100" y="0"/>
                  <a:pt x="40" y="0"/>
                </a:cubicBezTo>
                <a:cubicBezTo>
                  <a:pt x="26" y="0"/>
                  <a:pt x="13" y="0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4" name=""/>
          <p:cNvSpPr/>
          <p:nvPr/>
        </p:nvSpPr>
        <p:spPr>
          <a:xfrm>
            <a:off x="6343920" y="5459760"/>
            <a:ext cx="76320" cy="114480"/>
          </a:xfrm>
          <a:custGeom>
            <a:avLst/>
            <a:gdLst/>
            <a:ahLst/>
            <a:rect l="0" t="0" r="r" b="b"/>
            <a:pathLst>
              <a:path fill="none" w="212" h="318">
                <a:moveTo>
                  <a:pt x="212" y="318"/>
                </a:moveTo>
                <a:lnTo>
                  <a:pt x="212" y="318"/>
                </a:lnTo>
                <a:lnTo>
                  <a:pt x="212" y="317"/>
                </a:lnTo>
                <a:cubicBezTo>
                  <a:pt x="212" y="257"/>
                  <a:pt x="196" y="197"/>
                  <a:pt x="166" y="145"/>
                </a:cubicBezTo>
                <a:cubicBezTo>
                  <a:pt x="135" y="93"/>
                  <a:pt x="92" y="49"/>
                  <a:pt x="39" y="19"/>
                </a:cubicBezTo>
                <a:cubicBezTo>
                  <a:pt x="26" y="12"/>
                  <a:pt x="13" y="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5" name=""/>
          <p:cNvSpPr/>
          <p:nvPr/>
        </p:nvSpPr>
        <p:spPr>
          <a:xfrm>
            <a:off x="3684600" y="3127320"/>
            <a:ext cx="136800" cy="105120"/>
          </a:xfrm>
          <a:custGeom>
            <a:avLst/>
            <a:gdLst/>
            <a:ahLst/>
            <a:rect l="0" t="0" r="r" b="b"/>
            <a:pathLst>
              <a:path fill="none" w="380" h="292">
                <a:moveTo>
                  <a:pt x="380" y="2"/>
                </a:moveTo>
                <a:lnTo>
                  <a:pt x="380" y="2"/>
                </a:lnTo>
                <a:cubicBezTo>
                  <a:pt x="367" y="0"/>
                  <a:pt x="353" y="0"/>
                  <a:pt x="340" y="0"/>
                </a:cubicBezTo>
                <a:cubicBezTo>
                  <a:pt x="279" y="0"/>
                  <a:pt x="220" y="16"/>
                  <a:pt x="168" y="46"/>
                </a:cubicBezTo>
                <a:cubicBezTo>
                  <a:pt x="116" y="76"/>
                  <a:pt x="72" y="120"/>
                  <a:pt x="42" y="172"/>
                </a:cubicBezTo>
                <a:cubicBezTo>
                  <a:pt x="21" y="209"/>
                  <a:pt x="7" y="250"/>
                  <a:pt x="0" y="29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6" name=""/>
          <p:cNvSpPr/>
          <p:nvPr/>
        </p:nvSpPr>
        <p:spPr>
          <a:xfrm>
            <a:off x="6267600" y="3130560"/>
            <a:ext cx="130320" cy="80280"/>
          </a:xfrm>
          <a:custGeom>
            <a:avLst/>
            <a:gdLst/>
            <a:ahLst/>
            <a:rect l="0" t="0" r="r" b="b"/>
            <a:pathLst>
              <a:path fill="none" w="362" h="223">
                <a:moveTo>
                  <a:pt x="362" y="223"/>
                </a:moveTo>
                <a:lnTo>
                  <a:pt x="362" y="223"/>
                </a:lnTo>
                <a:cubicBezTo>
                  <a:pt x="355" y="205"/>
                  <a:pt x="347" y="188"/>
                  <a:pt x="338" y="172"/>
                </a:cubicBezTo>
                <a:cubicBezTo>
                  <a:pt x="308" y="120"/>
                  <a:pt x="264" y="76"/>
                  <a:pt x="212" y="46"/>
                </a:cubicBezTo>
                <a:cubicBezTo>
                  <a:pt x="159" y="16"/>
                  <a:pt x="100" y="0"/>
                  <a:pt x="39" y="0"/>
                </a:cubicBezTo>
                <a:cubicBezTo>
                  <a:pt x="26" y="0"/>
                  <a:pt x="13" y="1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7" name=""/>
          <p:cNvSpPr/>
          <p:nvPr/>
        </p:nvSpPr>
        <p:spPr>
          <a:xfrm>
            <a:off x="3683160" y="2804040"/>
            <a:ext cx="94680" cy="120600"/>
          </a:xfrm>
          <a:custGeom>
            <a:avLst/>
            <a:gdLst/>
            <a:ahLst/>
            <a:rect l="0" t="0" r="r" b="b"/>
            <a:pathLst>
              <a:path fill="none" w="263" h="335">
                <a:moveTo>
                  <a:pt x="263" y="0"/>
                </a:moveTo>
                <a:lnTo>
                  <a:pt x="263" y="0"/>
                </a:lnTo>
                <a:cubicBezTo>
                  <a:pt x="231" y="8"/>
                  <a:pt x="201" y="20"/>
                  <a:pt x="173" y="36"/>
                </a:cubicBezTo>
                <a:cubicBezTo>
                  <a:pt x="120" y="66"/>
                  <a:pt x="77" y="110"/>
                  <a:pt x="46" y="162"/>
                </a:cubicBezTo>
                <a:cubicBezTo>
                  <a:pt x="16" y="214"/>
                  <a:pt x="0" y="274"/>
                  <a:pt x="0" y="334"/>
                </a:cubicBezTo>
                <a:lnTo>
                  <a:pt x="0" y="33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8" name=""/>
          <p:cNvSpPr/>
          <p:nvPr/>
        </p:nvSpPr>
        <p:spPr>
          <a:xfrm>
            <a:off x="6311520" y="2802960"/>
            <a:ext cx="89640" cy="131040"/>
          </a:xfrm>
          <a:custGeom>
            <a:avLst/>
            <a:gdLst/>
            <a:ahLst/>
            <a:rect l="0" t="0" r="r" b="b"/>
            <a:pathLst>
              <a:path fill="none" w="249" h="364">
                <a:moveTo>
                  <a:pt x="248" y="364"/>
                </a:moveTo>
                <a:lnTo>
                  <a:pt x="248" y="364"/>
                </a:lnTo>
                <a:cubicBezTo>
                  <a:pt x="249" y="354"/>
                  <a:pt x="249" y="343"/>
                  <a:pt x="249" y="333"/>
                </a:cubicBezTo>
                <a:cubicBezTo>
                  <a:pt x="249" y="272"/>
                  <a:pt x="234" y="213"/>
                  <a:pt x="204" y="160"/>
                </a:cubicBezTo>
                <a:cubicBezTo>
                  <a:pt x="174" y="108"/>
                  <a:pt x="132" y="64"/>
                  <a:pt x="81" y="34"/>
                </a:cubicBezTo>
                <a:cubicBezTo>
                  <a:pt x="55" y="19"/>
                  <a:pt x="28" y="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9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0" name=""/>
          <p:cNvSpPr/>
          <p:nvPr/>
        </p:nvSpPr>
        <p:spPr>
          <a:xfrm>
            <a:off x="3687840" y="4848120"/>
            <a:ext cx="2620800" cy="443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1" name=""/>
          <p:cNvSpPr/>
          <p:nvPr/>
        </p:nvSpPr>
        <p:spPr>
          <a:xfrm>
            <a:off x="3578400" y="4827960"/>
            <a:ext cx="88920" cy="119160"/>
          </a:xfrm>
          <a:custGeom>
            <a:avLst/>
            <a:gdLst/>
            <a:ahLst/>
            <a:rect l="0" t="0" r="r" b="b"/>
            <a:pathLst>
              <a:path fill="none" w="247" h="331">
                <a:moveTo>
                  <a:pt x="247" y="0"/>
                </a:moveTo>
                <a:lnTo>
                  <a:pt x="247" y="0"/>
                </a:lnTo>
                <a:cubicBezTo>
                  <a:pt x="221" y="8"/>
                  <a:pt x="196" y="19"/>
                  <a:pt x="172" y="32"/>
                </a:cubicBezTo>
                <a:cubicBezTo>
                  <a:pt x="120" y="62"/>
                  <a:pt x="76" y="106"/>
                  <a:pt x="46" y="158"/>
                </a:cubicBezTo>
                <a:cubicBezTo>
                  <a:pt x="16" y="211"/>
                  <a:pt x="0" y="270"/>
                  <a:pt x="0" y="331"/>
                </a:cubicBezTo>
                <a:lnTo>
                  <a:pt x="0" y="33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2" name=""/>
          <p:cNvSpPr/>
          <p:nvPr/>
        </p:nvSpPr>
        <p:spPr>
          <a:xfrm>
            <a:off x="6307200" y="5256360"/>
            <a:ext cx="71280" cy="165240"/>
          </a:xfrm>
          <a:custGeom>
            <a:avLst/>
            <a:gdLst/>
            <a:ahLst/>
            <a:rect l="0" t="0" r="r" b="b"/>
            <a:pathLst>
              <a:path fill="none" w="198" h="459">
                <a:moveTo>
                  <a:pt x="198" y="2"/>
                </a:moveTo>
                <a:lnTo>
                  <a:pt x="198" y="2"/>
                </a:lnTo>
                <a:cubicBezTo>
                  <a:pt x="191" y="1"/>
                  <a:pt x="184" y="0"/>
                  <a:pt x="178" y="0"/>
                </a:cubicBezTo>
                <a:cubicBezTo>
                  <a:pt x="146" y="0"/>
                  <a:pt x="116" y="15"/>
                  <a:pt x="89" y="43"/>
                </a:cubicBezTo>
                <a:cubicBezTo>
                  <a:pt x="62" y="71"/>
                  <a:pt x="39" y="111"/>
                  <a:pt x="24" y="159"/>
                </a:cubicBezTo>
                <a:cubicBezTo>
                  <a:pt x="8" y="208"/>
                  <a:pt x="0" y="262"/>
                  <a:pt x="0" y="318"/>
                </a:cubicBezTo>
                <a:cubicBezTo>
                  <a:pt x="0" y="367"/>
                  <a:pt x="6" y="415"/>
                  <a:pt x="18" y="4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3" name=""/>
          <p:cNvSpPr/>
          <p:nvPr/>
        </p:nvSpPr>
        <p:spPr>
          <a:xfrm>
            <a:off x="3559680" y="3417840"/>
            <a:ext cx="121680" cy="62280"/>
          </a:xfrm>
          <a:custGeom>
            <a:avLst/>
            <a:gdLst/>
            <a:ahLst/>
            <a:rect l="0" t="0" r="r" b="b"/>
            <a:pathLst>
              <a:path fill="none" w="338" h="173">
                <a:moveTo>
                  <a:pt x="338" y="2"/>
                </a:moveTo>
                <a:lnTo>
                  <a:pt x="338" y="2"/>
                </a:lnTo>
                <a:cubicBezTo>
                  <a:pt x="325" y="0"/>
                  <a:pt x="312" y="0"/>
                  <a:pt x="298" y="0"/>
                </a:cubicBezTo>
                <a:cubicBezTo>
                  <a:pt x="238" y="0"/>
                  <a:pt x="179" y="16"/>
                  <a:pt x="126" y="46"/>
                </a:cubicBezTo>
                <a:cubicBezTo>
                  <a:pt x="74" y="76"/>
                  <a:pt x="31" y="120"/>
                  <a:pt x="0" y="172"/>
                </a:cubicBezTo>
                <a:lnTo>
                  <a:pt x="0" y="17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4" name=""/>
          <p:cNvSpPr/>
          <p:nvPr/>
        </p:nvSpPr>
        <p:spPr>
          <a:xfrm>
            <a:off x="6480360" y="3416400"/>
            <a:ext cx="94320" cy="29520"/>
          </a:xfrm>
          <a:custGeom>
            <a:avLst/>
            <a:gdLst/>
            <a:ahLst/>
            <a:rect l="0" t="0" r="r" b="b"/>
            <a:pathLst>
              <a:path fill="none" w="262" h="82">
                <a:moveTo>
                  <a:pt x="262" y="82"/>
                </a:moveTo>
                <a:lnTo>
                  <a:pt x="262" y="82"/>
                </a:lnTo>
                <a:cubicBezTo>
                  <a:pt x="246" y="69"/>
                  <a:pt x="229" y="57"/>
                  <a:pt x="212" y="46"/>
                </a:cubicBezTo>
                <a:cubicBezTo>
                  <a:pt x="159" y="16"/>
                  <a:pt x="100" y="0"/>
                  <a:pt x="39" y="0"/>
                </a:cubicBezTo>
                <a:cubicBezTo>
                  <a:pt x="26" y="0"/>
                  <a:pt x="13" y="0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5" name=""/>
          <p:cNvSpPr/>
          <p:nvPr/>
        </p:nvSpPr>
        <p:spPr>
          <a:xfrm>
            <a:off x="3537000" y="2521440"/>
            <a:ext cx="52920" cy="101520"/>
          </a:xfrm>
          <a:custGeom>
            <a:avLst/>
            <a:gdLst/>
            <a:ahLst/>
            <a:rect l="0" t="0" r="r" b="b"/>
            <a:pathLst>
              <a:path fill="none" w="147" h="282">
                <a:moveTo>
                  <a:pt x="147" y="0"/>
                </a:moveTo>
                <a:lnTo>
                  <a:pt x="147" y="0"/>
                </a:lnTo>
                <a:cubicBezTo>
                  <a:pt x="106" y="29"/>
                  <a:pt x="71" y="66"/>
                  <a:pt x="46" y="110"/>
                </a:cubicBezTo>
                <a:cubicBezTo>
                  <a:pt x="16" y="162"/>
                  <a:pt x="0" y="221"/>
                  <a:pt x="0" y="282"/>
                </a:cubicBezTo>
                <a:lnTo>
                  <a:pt x="0" y="28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6" name=""/>
          <p:cNvSpPr/>
          <p:nvPr/>
        </p:nvSpPr>
        <p:spPr>
          <a:xfrm>
            <a:off x="6567120" y="2520720"/>
            <a:ext cx="35280" cy="99000"/>
          </a:xfrm>
          <a:custGeom>
            <a:avLst/>
            <a:gdLst/>
            <a:ahLst/>
            <a:rect l="0" t="0" r="r" b="b"/>
            <a:pathLst>
              <a:path fill="none" w="98" h="275">
                <a:moveTo>
                  <a:pt x="97" y="275"/>
                </a:moveTo>
                <a:lnTo>
                  <a:pt x="97" y="275"/>
                </a:lnTo>
                <a:cubicBezTo>
                  <a:pt x="98" y="265"/>
                  <a:pt x="98" y="254"/>
                  <a:pt x="98" y="244"/>
                </a:cubicBezTo>
                <a:cubicBezTo>
                  <a:pt x="98" y="183"/>
                  <a:pt x="83" y="123"/>
                  <a:pt x="53" y="71"/>
                </a:cubicBezTo>
                <a:cubicBezTo>
                  <a:pt x="38" y="45"/>
                  <a:pt x="21" y="21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7880" bIns="47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7" name=""/>
          <p:cNvSpPr/>
          <p:nvPr/>
        </p:nvSpPr>
        <p:spPr>
          <a:xfrm>
            <a:off x="3571920" y="5629320"/>
            <a:ext cx="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8" name=""/>
          <p:cNvSpPr/>
          <p:nvPr/>
        </p:nvSpPr>
        <p:spPr>
          <a:xfrm>
            <a:off x="3600360" y="567216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9" name=""/>
          <p:cNvSpPr/>
          <p:nvPr/>
        </p:nvSpPr>
        <p:spPr>
          <a:xfrm>
            <a:off x="6486480" y="5629320"/>
            <a:ext cx="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0" name=""/>
          <p:cNvSpPr/>
          <p:nvPr/>
        </p:nvSpPr>
        <p:spPr>
          <a:xfrm>
            <a:off x="6529320" y="5572080"/>
            <a:ext cx="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1" name=""/>
          <p:cNvSpPr/>
          <p:nvPr/>
        </p:nvSpPr>
        <p:spPr>
          <a:xfrm>
            <a:off x="3705120" y="4643280"/>
            <a:ext cx="81360" cy="190800"/>
          </a:xfrm>
          <a:custGeom>
            <a:avLst/>
            <a:gdLst/>
            <a:ahLst/>
            <a:rect l="0" t="0" r="r" b="b"/>
            <a:pathLst>
              <a:path w="226" h="530">
                <a:moveTo>
                  <a:pt x="16" y="0"/>
                </a:moveTo>
                <a:lnTo>
                  <a:pt x="226" y="24"/>
                </a:lnTo>
                <a:lnTo>
                  <a:pt x="226" y="530"/>
                </a:lnTo>
                <a:lnTo>
                  <a:pt x="0" y="517"/>
                </a:lnTo>
                <a:lnTo>
                  <a:pt x="16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2" name=""/>
          <p:cNvSpPr/>
          <p:nvPr/>
        </p:nvSpPr>
        <p:spPr>
          <a:xfrm>
            <a:off x="3663720" y="4865760"/>
            <a:ext cx="121320" cy="96840"/>
          </a:xfrm>
          <a:custGeom>
            <a:avLst/>
            <a:gdLst/>
            <a:ahLst/>
            <a:rect l="0" t="0" r="r" b="b"/>
            <a:pathLst>
              <a:path fill="none" w="337" h="269">
                <a:moveTo>
                  <a:pt x="337" y="0"/>
                </a:moveTo>
                <a:lnTo>
                  <a:pt x="337" y="0"/>
                </a:lnTo>
                <a:lnTo>
                  <a:pt x="337" y="0"/>
                </a:lnTo>
                <a:cubicBezTo>
                  <a:pt x="276" y="0"/>
                  <a:pt x="217" y="16"/>
                  <a:pt x="164" y="46"/>
                </a:cubicBezTo>
                <a:cubicBezTo>
                  <a:pt x="112" y="76"/>
                  <a:pt x="68" y="120"/>
                  <a:pt x="38" y="172"/>
                </a:cubicBezTo>
                <a:cubicBezTo>
                  <a:pt x="20" y="202"/>
                  <a:pt x="8" y="235"/>
                  <a:pt x="0" y="26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3" name=""/>
          <p:cNvSpPr/>
          <p:nvPr/>
        </p:nvSpPr>
        <p:spPr>
          <a:xfrm>
            <a:off x="3662280" y="50245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4" name=""/>
          <p:cNvSpPr/>
          <p:nvPr/>
        </p:nvSpPr>
        <p:spPr>
          <a:xfrm>
            <a:off x="3691080" y="5057640"/>
            <a:ext cx="0" cy="31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5" name=""/>
          <p:cNvSpPr/>
          <p:nvPr/>
        </p:nvSpPr>
        <p:spPr>
          <a:xfrm>
            <a:off x="6553080" y="4772160"/>
            <a:ext cx="0" cy="10573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6" name=""/>
          <p:cNvSpPr/>
          <p:nvPr/>
        </p:nvSpPr>
        <p:spPr>
          <a:xfrm>
            <a:off x="7238880" y="476244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7" name=""/>
          <p:cNvSpPr/>
          <p:nvPr/>
        </p:nvSpPr>
        <p:spPr>
          <a:xfrm>
            <a:off x="3514680" y="4505400"/>
            <a:ext cx="0" cy="13240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8" name=""/>
          <p:cNvSpPr/>
          <p:nvPr/>
        </p:nvSpPr>
        <p:spPr>
          <a:xfrm>
            <a:off x="2514600" y="45054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Applications of Section Cutting Planes &amp; Design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300320" y="2811600"/>
            <a:ext cx="6324480" cy="0"/>
            <a:chOff x="1300320" y="2811600"/>
            <a:chExt cx="6324480" cy="0"/>
          </a:xfrm>
        </p:grpSpPr>
        <p:sp>
          <p:nvSpPr>
            <p:cNvPr id="219" name=""/>
            <p:cNvSpPr/>
            <p:nvPr/>
          </p:nvSpPr>
          <p:spPr>
            <a:xfrm>
              <a:off x="1300320" y="2811600"/>
              <a:ext cx="14475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76480" y="2811600"/>
              <a:ext cx="152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81400" y="28116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14760" y="2811600"/>
              <a:ext cx="15238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15040" y="28116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43720" y="2811600"/>
              <a:ext cx="152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8280" y="2811600"/>
              <a:ext cx="1676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303200" y="2430360"/>
            <a:ext cx="0" cy="384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7240" y="2170080"/>
            <a:ext cx="127440" cy="300240"/>
          </a:xfrm>
          <a:custGeom>
            <a:avLst/>
            <a:gdLst/>
            <a:ahLst/>
            <a:rect l="0" t="0" r="r" b="b"/>
            <a:pathLst>
              <a:path w="354" h="834">
                <a:moveTo>
                  <a:pt x="0" y="834"/>
                </a:moveTo>
                <a:lnTo>
                  <a:pt x="354" y="834"/>
                </a:lnTo>
                <a:lnTo>
                  <a:pt x="177" y="0"/>
                </a:lnTo>
                <a:lnTo>
                  <a:pt x="0" y="8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624800" y="2430360"/>
            <a:ext cx="0" cy="384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0280" y="2192400"/>
            <a:ext cx="127440" cy="300240"/>
          </a:xfrm>
          <a:custGeom>
            <a:avLst/>
            <a:gdLst/>
            <a:ahLst/>
            <a:rect l="0" t="0" r="r" b="b"/>
            <a:pathLst>
              <a:path w="354" h="834">
                <a:moveTo>
                  <a:pt x="0" y="834"/>
                </a:moveTo>
                <a:lnTo>
                  <a:pt x="354" y="834"/>
                </a:lnTo>
                <a:lnTo>
                  <a:pt x="177" y="0"/>
                </a:lnTo>
                <a:lnTo>
                  <a:pt x="0" y="8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00040" y="3867120"/>
            <a:ext cx="6059520" cy="6480"/>
            <a:chOff x="1400040" y="3867120"/>
            <a:chExt cx="6059520" cy="6480"/>
          </a:xfrm>
        </p:grpSpPr>
        <p:sp>
          <p:nvSpPr>
            <p:cNvPr id="231" name=""/>
            <p:cNvSpPr/>
            <p:nvPr/>
          </p:nvSpPr>
          <p:spPr>
            <a:xfrm>
              <a:off x="1400040" y="386712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9800" y="386856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82960" y="387036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6120" y="387036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65520" y="386712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21160" y="387180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9120" y="386856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4760" y="3873600"/>
              <a:ext cx="60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 flipV="1">
            <a:off x="1392120" y="3490920"/>
            <a:ext cx="0" cy="384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16160" y="3214800"/>
            <a:ext cx="127440" cy="300240"/>
          </a:xfrm>
          <a:custGeom>
            <a:avLst/>
            <a:gdLst/>
            <a:ahLst/>
            <a:rect l="0" t="0" r="r" b="b"/>
            <a:pathLst>
              <a:path w="354" h="834">
                <a:moveTo>
                  <a:pt x="0" y="834"/>
                </a:moveTo>
                <a:lnTo>
                  <a:pt x="354" y="834"/>
                </a:lnTo>
                <a:lnTo>
                  <a:pt x="177" y="0"/>
                </a:lnTo>
                <a:lnTo>
                  <a:pt x="0" y="8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453440" y="3489480"/>
            <a:ext cx="0" cy="385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77120" y="3230640"/>
            <a:ext cx="127440" cy="300240"/>
          </a:xfrm>
          <a:custGeom>
            <a:avLst/>
            <a:gdLst/>
            <a:ahLst/>
            <a:rect l="0" t="0" r="r" b="b"/>
            <a:pathLst>
              <a:path w="354" h="834">
                <a:moveTo>
                  <a:pt x="0" y="834"/>
                </a:moveTo>
                <a:lnTo>
                  <a:pt x="354" y="834"/>
                </a:lnTo>
                <a:lnTo>
                  <a:pt x="177" y="0"/>
                </a:lnTo>
                <a:lnTo>
                  <a:pt x="0" y="8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69960" y="22320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832880" y="22510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65280" y="32418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65840" y="32608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9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0" name=""/>
          <p:cNvSpPr/>
          <p:nvPr/>
        </p:nvSpPr>
        <p:spPr>
          <a:xfrm>
            <a:off x="6548400" y="2685960"/>
            <a:ext cx="682560" cy="682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1" name=""/>
          <p:cNvSpPr/>
          <p:nvPr/>
        </p:nvSpPr>
        <p:spPr>
          <a:xfrm>
            <a:off x="6365880" y="2503440"/>
            <a:ext cx="1049400" cy="10494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2" name=""/>
          <p:cNvSpPr/>
          <p:nvPr/>
        </p:nvSpPr>
        <p:spPr>
          <a:xfrm>
            <a:off x="2517840" y="2529000"/>
            <a:ext cx="1000080" cy="1000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3" name=""/>
          <p:cNvSpPr/>
          <p:nvPr/>
        </p:nvSpPr>
        <p:spPr>
          <a:xfrm>
            <a:off x="2317680" y="2328840"/>
            <a:ext cx="1398600" cy="139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4" name=""/>
          <p:cNvSpPr/>
          <p:nvPr/>
        </p:nvSpPr>
        <p:spPr>
          <a:xfrm>
            <a:off x="3629160" y="2630520"/>
            <a:ext cx="285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5" name=""/>
          <p:cNvSpPr/>
          <p:nvPr/>
        </p:nvSpPr>
        <p:spPr>
          <a:xfrm>
            <a:off x="3681360" y="34131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6" name=""/>
          <p:cNvSpPr/>
          <p:nvPr/>
        </p:nvSpPr>
        <p:spPr>
          <a:xfrm>
            <a:off x="3790800" y="2927520"/>
            <a:ext cx="24861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7" name=""/>
          <p:cNvSpPr/>
          <p:nvPr/>
        </p:nvSpPr>
        <p:spPr>
          <a:xfrm>
            <a:off x="3800520" y="3127320"/>
            <a:ext cx="2492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38" name=""/>
          <p:cNvGrpSpPr/>
          <p:nvPr/>
        </p:nvGrpSpPr>
        <p:grpSpPr>
          <a:xfrm>
            <a:off x="3014640" y="2141640"/>
            <a:ext cx="0" cy="1676160"/>
            <a:chOff x="3014640" y="2141640"/>
            <a:chExt cx="0" cy="1676160"/>
          </a:xfrm>
        </p:grpSpPr>
        <p:sp>
          <p:nvSpPr>
            <p:cNvPr id="9039" name=""/>
            <p:cNvSpPr/>
            <p:nvPr/>
          </p:nvSpPr>
          <p:spPr>
            <a:xfrm>
              <a:off x="3014640" y="2141640"/>
              <a:ext cx="0" cy="78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3014640" y="29671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3014640" y="3125880"/>
              <a:ext cx="0" cy="69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42" name=""/>
          <p:cNvGrpSpPr/>
          <p:nvPr/>
        </p:nvGrpSpPr>
        <p:grpSpPr>
          <a:xfrm>
            <a:off x="2230560" y="3027240"/>
            <a:ext cx="1555560" cy="0"/>
            <a:chOff x="2230560" y="3027240"/>
            <a:chExt cx="1555560" cy="0"/>
          </a:xfrm>
        </p:grpSpPr>
        <p:sp>
          <p:nvSpPr>
            <p:cNvPr id="9043" name=""/>
            <p:cNvSpPr/>
            <p:nvPr/>
          </p:nvSpPr>
          <p:spPr>
            <a:xfrm>
              <a:off x="2230560" y="3027240"/>
              <a:ext cx="660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2954160" y="302724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3144960" y="3027240"/>
              <a:ext cx="641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6" name=""/>
          <p:cNvSpPr/>
          <p:nvPr/>
        </p:nvSpPr>
        <p:spPr>
          <a:xfrm>
            <a:off x="6897600" y="2446200"/>
            <a:ext cx="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7" name=""/>
          <p:cNvSpPr/>
          <p:nvPr/>
        </p:nvSpPr>
        <p:spPr>
          <a:xfrm>
            <a:off x="6891480" y="2973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8" name=""/>
          <p:cNvSpPr/>
          <p:nvPr/>
        </p:nvSpPr>
        <p:spPr>
          <a:xfrm>
            <a:off x="6891480" y="3132000"/>
            <a:ext cx="0" cy="51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9" name=""/>
          <p:cNvSpPr/>
          <p:nvPr/>
        </p:nvSpPr>
        <p:spPr>
          <a:xfrm>
            <a:off x="6288120" y="3033720"/>
            <a:ext cx="47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0" name=""/>
          <p:cNvSpPr/>
          <p:nvPr/>
        </p:nvSpPr>
        <p:spPr>
          <a:xfrm>
            <a:off x="6831000" y="303372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1" name=""/>
          <p:cNvSpPr/>
          <p:nvPr/>
        </p:nvSpPr>
        <p:spPr>
          <a:xfrm>
            <a:off x="7021440" y="3033720"/>
            <a:ext cx="45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2" name=""/>
          <p:cNvSpPr/>
          <p:nvPr/>
        </p:nvSpPr>
        <p:spPr>
          <a:xfrm>
            <a:off x="2317680" y="450072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3" name=""/>
          <p:cNvSpPr/>
          <p:nvPr/>
        </p:nvSpPr>
        <p:spPr>
          <a:xfrm>
            <a:off x="3732120" y="450216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4" name=""/>
          <p:cNvSpPr/>
          <p:nvPr/>
        </p:nvSpPr>
        <p:spPr>
          <a:xfrm>
            <a:off x="7421400" y="4762440"/>
            <a:ext cx="0" cy="1063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5" name=""/>
          <p:cNvSpPr/>
          <p:nvPr/>
        </p:nvSpPr>
        <p:spPr>
          <a:xfrm>
            <a:off x="6361200" y="4764240"/>
            <a:ext cx="0" cy="169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6" name=""/>
          <p:cNvSpPr/>
          <p:nvPr/>
        </p:nvSpPr>
        <p:spPr>
          <a:xfrm>
            <a:off x="2317680" y="5826240"/>
            <a:ext cx="509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7" name=""/>
          <p:cNvSpPr/>
          <p:nvPr/>
        </p:nvSpPr>
        <p:spPr>
          <a:xfrm>
            <a:off x="2317680" y="4503600"/>
            <a:ext cx="1414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8" name=""/>
          <p:cNvSpPr/>
          <p:nvPr/>
        </p:nvSpPr>
        <p:spPr>
          <a:xfrm>
            <a:off x="6361200" y="476568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9" name=""/>
          <p:cNvSpPr/>
          <p:nvPr/>
        </p:nvSpPr>
        <p:spPr>
          <a:xfrm>
            <a:off x="3672000" y="5584680"/>
            <a:ext cx="2771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60" name=""/>
          <p:cNvGrpSpPr/>
          <p:nvPr/>
        </p:nvGrpSpPr>
        <p:grpSpPr>
          <a:xfrm>
            <a:off x="3013200" y="4284720"/>
            <a:ext cx="0" cy="1676520"/>
            <a:chOff x="3013200" y="4284720"/>
            <a:chExt cx="0" cy="1676520"/>
          </a:xfrm>
        </p:grpSpPr>
        <p:sp>
          <p:nvSpPr>
            <p:cNvPr id="9061" name=""/>
            <p:cNvSpPr/>
            <p:nvPr/>
          </p:nvSpPr>
          <p:spPr>
            <a:xfrm>
              <a:off x="3013200" y="4284720"/>
              <a:ext cx="0" cy="78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3013200" y="511020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3013200" y="526896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64" name=""/>
          <p:cNvGrpSpPr/>
          <p:nvPr/>
        </p:nvGrpSpPr>
        <p:grpSpPr>
          <a:xfrm>
            <a:off x="6886440" y="4421160"/>
            <a:ext cx="0" cy="1676520"/>
            <a:chOff x="6886440" y="4421160"/>
            <a:chExt cx="0" cy="1676520"/>
          </a:xfrm>
        </p:grpSpPr>
        <p:sp>
          <p:nvSpPr>
            <p:cNvPr id="9065" name=""/>
            <p:cNvSpPr/>
            <p:nvPr/>
          </p:nvSpPr>
          <p:spPr>
            <a:xfrm>
              <a:off x="6886440" y="4421160"/>
              <a:ext cx="0" cy="781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6886440" y="5246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6886440" y="540540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8" name=""/>
          <p:cNvSpPr/>
          <p:nvPr/>
        </p:nvSpPr>
        <p:spPr>
          <a:xfrm>
            <a:off x="3587760" y="4605480"/>
            <a:ext cx="2627280" cy="43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9" name=""/>
          <p:cNvSpPr/>
          <p:nvPr/>
        </p:nvSpPr>
        <p:spPr>
          <a:xfrm>
            <a:off x="3583080" y="4502520"/>
            <a:ext cx="80640" cy="74520"/>
          </a:xfrm>
          <a:custGeom>
            <a:avLst/>
            <a:gdLst/>
            <a:ahLst/>
            <a:rect l="0" t="0" r="r" b="b"/>
            <a:pathLst>
              <a:path fill="none" w="224" h="207">
                <a:moveTo>
                  <a:pt x="224" y="207"/>
                </a:moveTo>
                <a:lnTo>
                  <a:pt x="224" y="207"/>
                </a:lnTo>
                <a:cubicBezTo>
                  <a:pt x="218" y="190"/>
                  <a:pt x="210" y="174"/>
                  <a:pt x="201" y="158"/>
                </a:cubicBezTo>
                <a:cubicBezTo>
                  <a:pt x="170" y="106"/>
                  <a:pt x="127" y="62"/>
                  <a:pt x="75" y="32"/>
                </a:cubicBezTo>
                <a:cubicBezTo>
                  <a:pt x="51" y="18"/>
                  <a:pt x="26" y="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0" name=""/>
          <p:cNvSpPr/>
          <p:nvPr/>
        </p:nvSpPr>
        <p:spPr>
          <a:xfrm>
            <a:off x="3687840" y="5451480"/>
            <a:ext cx="121320" cy="96840"/>
          </a:xfrm>
          <a:custGeom>
            <a:avLst/>
            <a:gdLst/>
            <a:ahLst/>
            <a:rect l="0" t="0" r="r" b="b"/>
            <a:pathLst>
              <a:path fill="none" w="337" h="269">
                <a:moveTo>
                  <a:pt x="337" y="269"/>
                </a:moveTo>
                <a:lnTo>
                  <a:pt x="337" y="269"/>
                </a:lnTo>
                <a:cubicBezTo>
                  <a:pt x="329" y="235"/>
                  <a:pt x="317" y="202"/>
                  <a:pt x="299" y="172"/>
                </a:cubicBezTo>
                <a:cubicBezTo>
                  <a:pt x="269" y="120"/>
                  <a:pt x="225" y="76"/>
                  <a:pt x="173" y="46"/>
                </a:cubicBezTo>
                <a:cubicBezTo>
                  <a:pt x="120" y="16"/>
                  <a:pt x="61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1" name=""/>
          <p:cNvSpPr/>
          <p:nvPr/>
        </p:nvSpPr>
        <p:spPr>
          <a:xfrm>
            <a:off x="6421320" y="5459400"/>
            <a:ext cx="124200" cy="124200"/>
          </a:xfrm>
          <a:custGeom>
            <a:avLst/>
            <a:gdLst/>
            <a:ahLst/>
            <a:rect l="0" t="0" r="r" b="b"/>
            <a:pathLst>
              <a:path fill="none" w="345" h="345">
                <a:moveTo>
                  <a:pt x="345" y="345"/>
                </a:moveTo>
                <a:lnTo>
                  <a:pt x="345" y="345"/>
                </a:lnTo>
                <a:lnTo>
                  <a:pt x="345" y="345"/>
                </a:lnTo>
                <a:cubicBezTo>
                  <a:pt x="345" y="284"/>
                  <a:pt x="329" y="225"/>
                  <a:pt x="299" y="172"/>
                </a:cubicBezTo>
                <a:cubicBezTo>
                  <a:pt x="268" y="120"/>
                  <a:pt x="225" y="77"/>
                  <a:pt x="172" y="46"/>
                </a:cubicBezTo>
                <a:cubicBezTo>
                  <a:pt x="120" y="16"/>
                  <a:pt x="61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2" name=""/>
          <p:cNvSpPr/>
          <p:nvPr/>
        </p:nvSpPr>
        <p:spPr>
          <a:xfrm>
            <a:off x="3557520" y="5459400"/>
            <a:ext cx="117720" cy="84600"/>
          </a:xfrm>
          <a:custGeom>
            <a:avLst/>
            <a:gdLst/>
            <a:ahLst/>
            <a:rect l="0" t="0" r="r" b="b"/>
            <a:pathLst>
              <a:path fill="none" w="327" h="235">
                <a:moveTo>
                  <a:pt x="327" y="235"/>
                </a:moveTo>
                <a:lnTo>
                  <a:pt x="327" y="235"/>
                </a:lnTo>
                <a:cubicBezTo>
                  <a:pt x="320" y="213"/>
                  <a:pt x="310" y="193"/>
                  <a:pt x="299" y="173"/>
                </a:cubicBezTo>
                <a:cubicBezTo>
                  <a:pt x="269" y="120"/>
                  <a:pt x="225" y="77"/>
                  <a:pt x="173" y="46"/>
                </a:cubicBezTo>
                <a:cubicBezTo>
                  <a:pt x="120" y="16"/>
                  <a:pt x="61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3" name=""/>
          <p:cNvSpPr/>
          <p:nvPr/>
        </p:nvSpPr>
        <p:spPr>
          <a:xfrm>
            <a:off x="6205680" y="4897440"/>
            <a:ext cx="138240" cy="178920"/>
          </a:xfrm>
          <a:custGeom>
            <a:avLst/>
            <a:gdLst/>
            <a:ahLst/>
            <a:rect l="0" t="0" r="r" b="b"/>
            <a:pathLst>
              <a:path fill="none" w="384" h="497">
                <a:moveTo>
                  <a:pt x="348" y="497"/>
                </a:moveTo>
                <a:lnTo>
                  <a:pt x="348" y="497"/>
                </a:lnTo>
                <a:cubicBezTo>
                  <a:pt x="371" y="449"/>
                  <a:pt x="384" y="397"/>
                  <a:pt x="384" y="344"/>
                </a:cubicBezTo>
                <a:cubicBezTo>
                  <a:pt x="384" y="284"/>
                  <a:pt x="368" y="224"/>
                  <a:pt x="338" y="172"/>
                </a:cubicBezTo>
                <a:cubicBezTo>
                  <a:pt x="307" y="120"/>
                  <a:pt x="264" y="76"/>
                  <a:pt x="212" y="46"/>
                </a:cubicBezTo>
                <a:cubicBezTo>
                  <a:pt x="159" y="16"/>
                  <a:pt x="100" y="0"/>
                  <a:pt x="40" y="0"/>
                </a:cubicBezTo>
                <a:cubicBezTo>
                  <a:pt x="26" y="0"/>
                  <a:pt x="13" y="0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4" name=""/>
          <p:cNvSpPr/>
          <p:nvPr/>
        </p:nvSpPr>
        <p:spPr>
          <a:xfrm>
            <a:off x="6343920" y="5459760"/>
            <a:ext cx="76320" cy="114480"/>
          </a:xfrm>
          <a:custGeom>
            <a:avLst/>
            <a:gdLst/>
            <a:ahLst/>
            <a:rect l="0" t="0" r="r" b="b"/>
            <a:pathLst>
              <a:path fill="none" w="212" h="318">
                <a:moveTo>
                  <a:pt x="212" y="318"/>
                </a:moveTo>
                <a:lnTo>
                  <a:pt x="212" y="318"/>
                </a:lnTo>
                <a:lnTo>
                  <a:pt x="212" y="317"/>
                </a:lnTo>
                <a:cubicBezTo>
                  <a:pt x="212" y="257"/>
                  <a:pt x="196" y="197"/>
                  <a:pt x="166" y="145"/>
                </a:cubicBezTo>
                <a:cubicBezTo>
                  <a:pt x="135" y="93"/>
                  <a:pt x="92" y="49"/>
                  <a:pt x="39" y="19"/>
                </a:cubicBezTo>
                <a:cubicBezTo>
                  <a:pt x="26" y="12"/>
                  <a:pt x="13" y="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5" name=""/>
          <p:cNvSpPr/>
          <p:nvPr/>
        </p:nvSpPr>
        <p:spPr>
          <a:xfrm>
            <a:off x="3684600" y="3127320"/>
            <a:ext cx="136800" cy="105120"/>
          </a:xfrm>
          <a:custGeom>
            <a:avLst/>
            <a:gdLst/>
            <a:ahLst/>
            <a:rect l="0" t="0" r="r" b="b"/>
            <a:pathLst>
              <a:path fill="none" w="380" h="292">
                <a:moveTo>
                  <a:pt x="380" y="2"/>
                </a:moveTo>
                <a:lnTo>
                  <a:pt x="380" y="2"/>
                </a:lnTo>
                <a:cubicBezTo>
                  <a:pt x="367" y="0"/>
                  <a:pt x="353" y="0"/>
                  <a:pt x="340" y="0"/>
                </a:cubicBezTo>
                <a:cubicBezTo>
                  <a:pt x="279" y="0"/>
                  <a:pt x="220" y="16"/>
                  <a:pt x="168" y="46"/>
                </a:cubicBezTo>
                <a:cubicBezTo>
                  <a:pt x="116" y="76"/>
                  <a:pt x="72" y="120"/>
                  <a:pt x="42" y="172"/>
                </a:cubicBezTo>
                <a:cubicBezTo>
                  <a:pt x="21" y="209"/>
                  <a:pt x="7" y="250"/>
                  <a:pt x="0" y="29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6" name=""/>
          <p:cNvSpPr/>
          <p:nvPr/>
        </p:nvSpPr>
        <p:spPr>
          <a:xfrm>
            <a:off x="6267600" y="3130560"/>
            <a:ext cx="130320" cy="80280"/>
          </a:xfrm>
          <a:custGeom>
            <a:avLst/>
            <a:gdLst/>
            <a:ahLst/>
            <a:rect l="0" t="0" r="r" b="b"/>
            <a:pathLst>
              <a:path fill="none" w="362" h="223">
                <a:moveTo>
                  <a:pt x="362" y="223"/>
                </a:moveTo>
                <a:lnTo>
                  <a:pt x="362" y="223"/>
                </a:lnTo>
                <a:cubicBezTo>
                  <a:pt x="355" y="205"/>
                  <a:pt x="347" y="188"/>
                  <a:pt x="338" y="172"/>
                </a:cubicBezTo>
                <a:cubicBezTo>
                  <a:pt x="308" y="120"/>
                  <a:pt x="264" y="76"/>
                  <a:pt x="212" y="46"/>
                </a:cubicBezTo>
                <a:cubicBezTo>
                  <a:pt x="159" y="16"/>
                  <a:pt x="100" y="0"/>
                  <a:pt x="39" y="0"/>
                </a:cubicBezTo>
                <a:cubicBezTo>
                  <a:pt x="26" y="0"/>
                  <a:pt x="13" y="1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7" name=""/>
          <p:cNvSpPr/>
          <p:nvPr/>
        </p:nvSpPr>
        <p:spPr>
          <a:xfrm>
            <a:off x="3683160" y="2804040"/>
            <a:ext cx="94680" cy="120600"/>
          </a:xfrm>
          <a:custGeom>
            <a:avLst/>
            <a:gdLst/>
            <a:ahLst/>
            <a:rect l="0" t="0" r="r" b="b"/>
            <a:pathLst>
              <a:path fill="none" w="263" h="335">
                <a:moveTo>
                  <a:pt x="263" y="0"/>
                </a:moveTo>
                <a:lnTo>
                  <a:pt x="263" y="0"/>
                </a:lnTo>
                <a:cubicBezTo>
                  <a:pt x="231" y="8"/>
                  <a:pt x="201" y="20"/>
                  <a:pt x="173" y="36"/>
                </a:cubicBezTo>
                <a:cubicBezTo>
                  <a:pt x="120" y="66"/>
                  <a:pt x="77" y="110"/>
                  <a:pt x="46" y="162"/>
                </a:cubicBezTo>
                <a:cubicBezTo>
                  <a:pt x="16" y="214"/>
                  <a:pt x="0" y="274"/>
                  <a:pt x="0" y="334"/>
                </a:cubicBezTo>
                <a:lnTo>
                  <a:pt x="0" y="33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8" name=""/>
          <p:cNvSpPr/>
          <p:nvPr/>
        </p:nvSpPr>
        <p:spPr>
          <a:xfrm>
            <a:off x="6311520" y="2802960"/>
            <a:ext cx="89640" cy="131040"/>
          </a:xfrm>
          <a:custGeom>
            <a:avLst/>
            <a:gdLst/>
            <a:ahLst/>
            <a:rect l="0" t="0" r="r" b="b"/>
            <a:pathLst>
              <a:path fill="none" w="249" h="364">
                <a:moveTo>
                  <a:pt x="248" y="364"/>
                </a:moveTo>
                <a:lnTo>
                  <a:pt x="248" y="364"/>
                </a:lnTo>
                <a:cubicBezTo>
                  <a:pt x="249" y="354"/>
                  <a:pt x="249" y="343"/>
                  <a:pt x="249" y="333"/>
                </a:cubicBezTo>
                <a:cubicBezTo>
                  <a:pt x="249" y="272"/>
                  <a:pt x="234" y="213"/>
                  <a:pt x="204" y="160"/>
                </a:cubicBezTo>
                <a:cubicBezTo>
                  <a:pt x="174" y="108"/>
                  <a:pt x="132" y="64"/>
                  <a:pt x="81" y="34"/>
                </a:cubicBezTo>
                <a:cubicBezTo>
                  <a:pt x="55" y="19"/>
                  <a:pt x="28" y="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9" name=""/>
          <p:cNvSpPr txBox="1"/>
          <p:nvPr/>
        </p:nvSpPr>
        <p:spPr>
          <a:xfrm>
            <a:off x="930240" y="944640"/>
            <a:ext cx="6946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 PLAC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0" name=""/>
          <p:cNvSpPr/>
          <p:nvPr/>
        </p:nvSpPr>
        <p:spPr>
          <a:xfrm>
            <a:off x="3687840" y="4848120"/>
            <a:ext cx="2620800" cy="443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1" name=""/>
          <p:cNvSpPr/>
          <p:nvPr/>
        </p:nvSpPr>
        <p:spPr>
          <a:xfrm>
            <a:off x="3578400" y="4827960"/>
            <a:ext cx="88920" cy="119160"/>
          </a:xfrm>
          <a:custGeom>
            <a:avLst/>
            <a:gdLst/>
            <a:ahLst/>
            <a:rect l="0" t="0" r="r" b="b"/>
            <a:pathLst>
              <a:path fill="none" w="247" h="331">
                <a:moveTo>
                  <a:pt x="247" y="0"/>
                </a:moveTo>
                <a:lnTo>
                  <a:pt x="247" y="0"/>
                </a:lnTo>
                <a:cubicBezTo>
                  <a:pt x="221" y="8"/>
                  <a:pt x="196" y="19"/>
                  <a:pt x="172" y="32"/>
                </a:cubicBezTo>
                <a:cubicBezTo>
                  <a:pt x="120" y="62"/>
                  <a:pt x="76" y="106"/>
                  <a:pt x="46" y="158"/>
                </a:cubicBezTo>
                <a:cubicBezTo>
                  <a:pt x="16" y="211"/>
                  <a:pt x="0" y="270"/>
                  <a:pt x="0" y="331"/>
                </a:cubicBezTo>
                <a:lnTo>
                  <a:pt x="0" y="33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2" name=""/>
          <p:cNvSpPr/>
          <p:nvPr/>
        </p:nvSpPr>
        <p:spPr>
          <a:xfrm>
            <a:off x="6307200" y="5256360"/>
            <a:ext cx="71280" cy="165240"/>
          </a:xfrm>
          <a:custGeom>
            <a:avLst/>
            <a:gdLst/>
            <a:ahLst/>
            <a:rect l="0" t="0" r="r" b="b"/>
            <a:pathLst>
              <a:path fill="none" w="198" h="459">
                <a:moveTo>
                  <a:pt x="198" y="2"/>
                </a:moveTo>
                <a:lnTo>
                  <a:pt x="198" y="2"/>
                </a:lnTo>
                <a:cubicBezTo>
                  <a:pt x="191" y="1"/>
                  <a:pt x="184" y="0"/>
                  <a:pt x="178" y="0"/>
                </a:cubicBezTo>
                <a:cubicBezTo>
                  <a:pt x="146" y="0"/>
                  <a:pt x="116" y="15"/>
                  <a:pt x="89" y="43"/>
                </a:cubicBezTo>
                <a:cubicBezTo>
                  <a:pt x="62" y="71"/>
                  <a:pt x="39" y="111"/>
                  <a:pt x="24" y="159"/>
                </a:cubicBezTo>
                <a:cubicBezTo>
                  <a:pt x="8" y="208"/>
                  <a:pt x="0" y="262"/>
                  <a:pt x="0" y="318"/>
                </a:cubicBezTo>
                <a:cubicBezTo>
                  <a:pt x="0" y="367"/>
                  <a:pt x="6" y="415"/>
                  <a:pt x="18" y="4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3" name=""/>
          <p:cNvSpPr/>
          <p:nvPr/>
        </p:nvSpPr>
        <p:spPr>
          <a:xfrm>
            <a:off x="3559680" y="3417840"/>
            <a:ext cx="121680" cy="62280"/>
          </a:xfrm>
          <a:custGeom>
            <a:avLst/>
            <a:gdLst/>
            <a:ahLst/>
            <a:rect l="0" t="0" r="r" b="b"/>
            <a:pathLst>
              <a:path fill="none" w="338" h="173">
                <a:moveTo>
                  <a:pt x="338" y="2"/>
                </a:moveTo>
                <a:lnTo>
                  <a:pt x="338" y="2"/>
                </a:lnTo>
                <a:cubicBezTo>
                  <a:pt x="325" y="0"/>
                  <a:pt x="312" y="0"/>
                  <a:pt x="298" y="0"/>
                </a:cubicBezTo>
                <a:cubicBezTo>
                  <a:pt x="238" y="0"/>
                  <a:pt x="179" y="16"/>
                  <a:pt x="126" y="46"/>
                </a:cubicBezTo>
                <a:cubicBezTo>
                  <a:pt x="74" y="76"/>
                  <a:pt x="31" y="120"/>
                  <a:pt x="0" y="172"/>
                </a:cubicBezTo>
                <a:lnTo>
                  <a:pt x="0" y="17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4" name=""/>
          <p:cNvSpPr/>
          <p:nvPr/>
        </p:nvSpPr>
        <p:spPr>
          <a:xfrm>
            <a:off x="6480360" y="3416400"/>
            <a:ext cx="94320" cy="29520"/>
          </a:xfrm>
          <a:custGeom>
            <a:avLst/>
            <a:gdLst/>
            <a:ahLst/>
            <a:rect l="0" t="0" r="r" b="b"/>
            <a:pathLst>
              <a:path fill="none" w="262" h="82">
                <a:moveTo>
                  <a:pt x="262" y="82"/>
                </a:moveTo>
                <a:lnTo>
                  <a:pt x="262" y="82"/>
                </a:lnTo>
                <a:cubicBezTo>
                  <a:pt x="246" y="69"/>
                  <a:pt x="229" y="57"/>
                  <a:pt x="212" y="46"/>
                </a:cubicBezTo>
                <a:cubicBezTo>
                  <a:pt x="159" y="16"/>
                  <a:pt x="100" y="0"/>
                  <a:pt x="39" y="0"/>
                </a:cubicBezTo>
                <a:cubicBezTo>
                  <a:pt x="26" y="0"/>
                  <a:pt x="13" y="0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5" name=""/>
          <p:cNvSpPr/>
          <p:nvPr/>
        </p:nvSpPr>
        <p:spPr>
          <a:xfrm>
            <a:off x="3537000" y="2521440"/>
            <a:ext cx="52920" cy="101520"/>
          </a:xfrm>
          <a:custGeom>
            <a:avLst/>
            <a:gdLst/>
            <a:ahLst/>
            <a:rect l="0" t="0" r="r" b="b"/>
            <a:pathLst>
              <a:path fill="none" w="147" h="282">
                <a:moveTo>
                  <a:pt x="147" y="0"/>
                </a:moveTo>
                <a:lnTo>
                  <a:pt x="147" y="0"/>
                </a:lnTo>
                <a:cubicBezTo>
                  <a:pt x="106" y="29"/>
                  <a:pt x="71" y="66"/>
                  <a:pt x="46" y="110"/>
                </a:cubicBezTo>
                <a:cubicBezTo>
                  <a:pt x="16" y="162"/>
                  <a:pt x="0" y="221"/>
                  <a:pt x="0" y="282"/>
                </a:cubicBezTo>
                <a:lnTo>
                  <a:pt x="0" y="28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6" name=""/>
          <p:cNvSpPr/>
          <p:nvPr/>
        </p:nvSpPr>
        <p:spPr>
          <a:xfrm>
            <a:off x="6567120" y="2520720"/>
            <a:ext cx="35280" cy="99000"/>
          </a:xfrm>
          <a:custGeom>
            <a:avLst/>
            <a:gdLst/>
            <a:ahLst/>
            <a:rect l="0" t="0" r="r" b="b"/>
            <a:pathLst>
              <a:path fill="none" w="98" h="275">
                <a:moveTo>
                  <a:pt x="97" y="275"/>
                </a:moveTo>
                <a:lnTo>
                  <a:pt x="97" y="275"/>
                </a:lnTo>
                <a:cubicBezTo>
                  <a:pt x="98" y="265"/>
                  <a:pt x="98" y="254"/>
                  <a:pt x="98" y="244"/>
                </a:cubicBezTo>
                <a:cubicBezTo>
                  <a:pt x="98" y="183"/>
                  <a:pt x="83" y="123"/>
                  <a:pt x="53" y="71"/>
                </a:cubicBezTo>
                <a:cubicBezTo>
                  <a:pt x="38" y="45"/>
                  <a:pt x="21" y="21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7880" bIns="47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7" name=""/>
          <p:cNvSpPr/>
          <p:nvPr/>
        </p:nvSpPr>
        <p:spPr>
          <a:xfrm>
            <a:off x="3571920" y="5629320"/>
            <a:ext cx="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8" name=""/>
          <p:cNvSpPr/>
          <p:nvPr/>
        </p:nvSpPr>
        <p:spPr>
          <a:xfrm>
            <a:off x="3600360" y="567216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9" name=""/>
          <p:cNvSpPr/>
          <p:nvPr/>
        </p:nvSpPr>
        <p:spPr>
          <a:xfrm>
            <a:off x="6486480" y="5629320"/>
            <a:ext cx="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0" name=""/>
          <p:cNvSpPr/>
          <p:nvPr/>
        </p:nvSpPr>
        <p:spPr>
          <a:xfrm>
            <a:off x="6529320" y="5572080"/>
            <a:ext cx="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1" name=""/>
          <p:cNvSpPr/>
          <p:nvPr/>
        </p:nvSpPr>
        <p:spPr>
          <a:xfrm>
            <a:off x="4262400" y="4591080"/>
            <a:ext cx="1486080" cy="139536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2" name=""/>
          <p:cNvSpPr/>
          <p:nvPr/>
        </p:nvSpPr>
        <p:spPr>
          <a:xfrm>
            <a:off x="4629240" y="4834080"/>
            <a:ext cx="736920" cy="989280"/>
          </a:xfrm>
          <a:custGeom>
            <a:avLst/>
            <a:gdLst/>
            <a:ahLst/>
            <a:rect l="0" t="0" r="r" b="b"/>
            <a:pathLst>
              <a:path w="2047" h="2748">
                <a:moveTo>
                  <a:pt x="154" y="0"/>
                </a:moveTo>
                <a:lnTo>
                  <a:pt x="1879" y="0"/>
                </a:lnTo>
                <a:lnTo>
                  <a:pt x="2047" y="167"/>
                </a:lnTo>
                <a:lnTo>
                  <a:pt x="2047" y="471"/>
                </a:lnTo>
                <a:lnTo>
                  <a:pt x="1901" y="617"/>
                </a:lnTo>
                <a:lnTo>
                  <a:pt x="1504" y="617"/>
                </a:lnTo>
                <a:lnTo>
                  <a:pt x="1372" y="749"/>
                </a:lnTo>
                <a:lnTo>
                  <a:pt x="1372" y="1928"/>
                </a:lnTo>
                <a:lnTo>
                  <a:pt x="1522" y="2077"/>
                </a:lnTo>
                <a:lnTo>
                  <a:pt x="1892" y="2077"/>
                </a:lnTo>
                <a:lnTo>
                  <a:pt x="2047" y="2232"/>
                </a:lnTo>
                <a:lnTo>
                  <a:pt x="2047" y="2580"/>
                </a:lnTo>
                <a:lnTo>
                  <a:pt x="1879" y="2748"/>
                </a:lnTo>
                <a:lnTo>
                  <a:pt x="158" y="2748"/>
                </a:lnTo>
                <a:lnTo>
                  <a:pt x="0" y="2589"/>
                </a:lnTo>
                <a:lnTo>
                  <a:pt x="0" y="2249"/>
                </a:lnTo>
                <a:lnTo>
                  <a:pt x="176" y="2073"/>
                </a:lnTo>
                <a:lnTo>
                  <a:pt x="524" y="2073"/>
                </a:lnTo>
                <a:lnTo>
                  <a:pt x="696" y="1901"/>
                </a:lnTo>
                <a:lnTo>
                  <a:pt x="696" y="749"/>
                </a:lnTo>
                <a:lnTo>
                  <a:pt x="564" y="617"/>
                </a:lnTo>
                <a:lnTo>
                  <a:pt x="154" y="617"/>
                </a:lnTo>
                <a:lnTo>
                  <a:pt x="8" y="471"/>
                </a:lnTo>
                <a:lnTo>
                  <a:pt x="8" y="141"/>
                </a:lnTo>
                <a:lnTo>
                  <a:pt x="149" y="0"/>
                </a:lnTo>
                <a:lnTo>
                  <a:pt x="154" y="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3" name=""/>
          <p:cNvGrpSpPr/>
          <p:nvPr/>
        </p:nvGrpSpPr>
        <p:grpSpPr>
          <a:xfrm>
            <a:off x="5002200" y="4541760"/>
            <a:ext cx="0" cy="1676520"/>
            <a:chOff x="5002200" y="4541760"/>
            <a:chExt cx="0" cy="1676520"/>
          </a:xfrm>
        </p:grpSpPr>
        <p:sp>
          <p:nvSpPr>
            <p:cNvPr id="9094" name=""/>
            <p:cNvSpPr/>
            <p:nvPr/>
          </p:nvSpPr>
          <p:spPr>
            <a:xfrm>
              <a:off x="5002200" y="4541760"/>
              <a:ext cx="0" cy="781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5002200" y="53672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5002200" y="552600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97" name=""/>
          <p:cNvSpPr/>
          <p:nvPr/>
        </p:nvSpPr>
        <p:spPr>
          <a:xfrm>
            <a:off x="3705120" y="4643280"/>
            <a:ext cx="81360" cy="190800"/>
          </a:xfrm>
          <a:custGeom>
            <a:avLst/>
            <a:gdLst/>
            <a:ahLst/>
            <a:rect l="0" t="0" r="r" b="b"/>
            <a:pathLst>
              <a:path w="226" h="530">
                <a:moveTo>
                  <a:pt x="16" y="0"/>
                </a:moveTo>
                <a:lnTo>
                  <a:pt x="226" y="24"/>
                </a:lnTo>
                <a:lnTo>
                  <a:pt x="226" y="530"/>
                </a:lnTo>
                <a:lnTo>
                  <a:pt x="0" y="517"/>
                </a:lnTo>
                <a:lnTo>
                  <a:pt x="16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8" name=""/>
          <p:cNvSpPr/>
          <p:nvPr/>
        </p:nvSpPr>
        <p:spPr>
          <a:xfrm>
            <a:off x="3663720" y="4865760"/>
            <a:ext cx="121320" cy="96840"/>
          </a:xfrm>
          <a:custGeom>
            <a:avLst/>
            <a:gdLst/>
            <a:ahLst/>
            <a:rect l="0" t="0" r="r" b="b"/>
            <a:pathLst>
              <a:path fill="none" w="337" h="269">
                <a:moveTo>
                  <a:pt x="337" y="0"/>
                </a:moveTo>
                <a:lnTo>
                  <a:pt x="337" y="0"/>
                </a:lnTo>
                <a:lnTo>
                  <a:pt x="337" y="0"/>
                </a:lnTo>
                <a:cubicBezTo>
                  <a:pt x="276" y="0"/>
                  <a:pt x="217" y="16"/>
                  <a:pt x="164" y="46"/>
                </a:cubicBezTo>
                <a:cubicBezTo>
                  <a:pt x="112" y="76"/>
                  <a:pt x="68" y="120"/>
                  <a:pt x="38" y="172"/>
                </a:cubicBezTo>
                <a:cubicBezTo>
                  <a:pt x="20" y="202"/>
                  <a:pt x="8" y="235"/>
                  <a:pt x="0" y="26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9" name=""/>
          <p:cNvSpPr/>
          <p:nvPr/>
        </p:nvSpPr>
        <p:spPr>
          <a:xfrm>
            <a:off x="3662280" y="50245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0" name=""/>
          <p:cNvSpPr/>
          <p:nvPr/>
        </p:nvSpPr>
        <p:spPr>
          <a:xfrm>
            <a:off x="3691080" y="5057640"/>
            <a:ext cx="0" cy="31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1" name=""/>
          <p:cNvSpPr/>
          <p:nvPr/>
        </p:nvSpPr>
        <p:spPr>
          <a:xfrm>
            <a:off x="6553080" y="4772160"/>
            <a:ext cx="0" cy="10573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2" name=""/>
          <p:cNvSpPr/>
          <p:nvPr/>
        </p:nvSpPr>
        <p:spPr>
          <a:xfrm>
            <a:off x="7238880" y="476244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3" name=""/>
          <p:cNvSpPr/>
          <p:nvPr/>
        </p:nvSpPr>
        <p:spPr>
          <a:xfrm>
            <a:off x="3514680" y="4505400"/>
            <a:ext cx="0" cy="13240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4" name=""/>
          <p:cNvSpPr/>
          <p:nvPr/>
        </p:nvSpPr>
        <p:spPr>
          <a:xfrm>
            <a:off x="2514600" y="45054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5" name=""/>
          <p:cNvSpPr/>
          <p:nvPr/>
        </p:nvSpPr>
        <p:spPr>
          <a:xfrm>
            <a:off x="4257720" y="4714920"/>
            <a:ext cx="743040" cy="12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6" name=""/>
          <p:cNvSpPr/>
          <p:nvPr/>
        </p:nvSpPr>
        <p:spPr>
          <a:xfrm>
            <a:off x="4253040" y="4943520"/>
            <a:ext cx="380880" cy="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7" name=""/>
          <p:cNvSpPr/>
          <p:nvPr/>
        </p:nvSpPr>
        <p:spPr>
          <a:xfrm>
            <a:off x="4243320" y="558648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8" name=""/>
          <p:cNvSpPr/>
          <p:nvPr/>
        </p:nvSpPr>
        <p:spPr>
          <a:xfrm>
            <a:off x="4262400" y="5824440"/>
            <a:ext cx="438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9" name=""/>
          <p:cNvSpPr/>
          <p:nvPr/>
        </p:nvSpPr>
        <p:spPr>
          <a:xfrm flipH="1">
            <a:off x="5291280" y="558648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0" name=""/>
          <p:cNvSpPr/>
          <p:nvPr/>
        </p:nvSpPr>
        <p:spPr>
          <a:xfrm flipH="1">
            <a:off x="5286240" y="5824440"/>
            <a:ext cx="509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1" name=""/>
          <p:cNvSpPr/>
          <p:nvPr/>
        </p:nvSpPr>
        <p:spPr>
          <a:xfrm flipH="1" flipV="1">
            <a:off x="5357880" y="4896000"/>
            <a:ext cx="40464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2" name=""/>
          <p:cNvSpPr/>
          <p:nvPr/>
        </p:nvSpPr>
        <p:spPr>
          <a:xfrm flipH="1" flipV="1">
            <a:off x="5138640" y="5091120"/>
            <a:ext cx="62892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3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4" name=""/>
          <p:cNvSpPr/>
          <p:nvPr/>
        </p:nvSpPr>
        <p:spPr>
          <a:xfrm>
            <a:off x="6548400" y="2685960"/>
            <a:ext cx="682560" cy="682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5" name=""/>
          <p:cNvSpPr/>
          <p:nvPr/>
        </p:nvSpPr>
        <p:spPr>
          <a:xfrm>
            <a:off x="6365880" y="2503440"/>
            <a:ext cx="1049400" cy="10494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6" name=""/>
          <p:cNvSpPr/>
          <p:nvPr/>
        </p:nvSpPr>
        <p:spPr>
          <a:xfrm>
            <a:off x="2517840" y="2529000"/>
            <a:ext cx="1000080" cy="1000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7" name=""/>
          <p:cNvSpPr/>
          <p:nvPr/>
        </p:nvSpPr>
        <p:spPr>
          <a:xfrm>
            <a:off x="2317680" y="2328840"/>
            <a:ext cx="1398600" cy="139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8" name=""/>
          <p:cNvSpPr/>
          <p:nvPr/>
        </p:nvSpPr>
        <p:spPr>
          <a:xfrm>
            <a:off x="3629160" y="2630520"/>
            <a:ext cx="285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9" name=""/>
          <p:cNvSpPr/>
          <p:nvPr/>
        </p:nvSpPr>
        <p:spPr>
          <a:xfrm>
            <a:off x="3681360" y="34131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0" name=""/>
          <p:cNvSpPr/>
          <p:nvPr/>
        </p:nvSpPr>
        <p:spPr>
          <a:xfrm>
            <a:off x="3790800" y="2927520"/>
            <a:ext cx="24861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1" name=""/>
          <p:cNvSpPr/>
          <p:nvPr/>
        </p:nvSpPr>
        <p:spPr>
          <a:xfrm>
            <a:off x="3800520" y="3127320"/>
            <a:ext cx="2492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22" name=""/>
          <p:cNvGrpSpPr/>
          <p:nvPr/>
        </p:nvGrpSpPr>
        <p:grpSpPr>
          <a:xfrm>
            <a:off x="3014640" y="2141640"/>
            <a:ext cx="0" cy="1676160"/>
            <a:chOff x="3014640" y="2141640"/>
            <a:chExt cx="0" cy="1676160"/>
          </a:xfrm>
        </p:grpSpPr>
        <p:sp>
          <p:nvSpPr>
            <p:cNvPr id="9123" name=""/>
            <p:cNvSpPr/>
            <p:nvPr/>
          </p:nvSpPr>
          <p:spPr>
            <a:xfrm>
              <a:off x="3014640" y="2141640"/>
              <a:ext cx="0" cy="78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3014640" y="29671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3014640" y="3125880"/>
              <a:ext cx="0" cy="69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6" name=""/>
          <p:cNvGrpSpPr/>
          <p:nvPr/>
        </p:nvGrpSpPr>
        <p:grpSpPr>
          <a:xfrm>
            <a:off x="2230560" y="3027240"/>
            <a:ext cx="1555560" cy="0"/>
            <a:chOff x="2230560" y="3027240"/>
            <a:chExt cx="1555560" cy="0"/>
          </a:xfrm>
        </p:grpSpPr>
        <p:sp>
          <p:nvSpPr>
            <p:cNvPr id="9127" name=""/>
            <p:cNvSpPr/>
            <p:nvPr/>
          </p:nvSpPr>
          <p:spPr>
            <a:xfrm>
              <a:off x="2230560" y="3027240"/>
              <a:ext cx="660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8" name=""/>
            <p:cNvSpPr/>
            <p:nvPr/>
          </p:nvSpPr>
          <p:spPr>
            <a:xfrm>
              <a:off x="2954160" y="302724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9" name=""/>
            <p:cNvSpPr/>
            <p:nvPr/>
          </p:nvSpPr>
          <p:spPr>
            <a:xfrm>
              <a:off x="3144960" y="3027240"/>
              <a:ext cx="641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30" name=""/>
          <p:cNvSpPr/>
          <p:nvPr/>
        </p:nvSpPr>
        <p:spPr>
          <a:xfrm>
            <a:off x="6897600" y="2446200"/>
            <a:ext cx="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1" name=""/>
          <p:cNvSpPr/>
          <p:nvPr/>
        </p:nvSpPr>
        <p:spPr>
          <a:xfrm>
            <a:off x="6891480" y="2973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2" name=""/>
          <p:cNvSpPr/>
          <p:nvPr/>
        </p:nvSpPr>
        <p:spPr>
          <a:xfrm>
            <a:off x="6891480" y="3132000"/>
            <a:ext cx="0" cy="51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3" name=""/>
          <p:cNvSpPr/>
          <p:nvPr/>
        </p:nvSpPr>
        <p:spPr>
          <a:xfrm>
            <a:off x="6288120" y="3033720"/>
            <a:ext cx="47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4" name=""/>
          <p:cNvSpPr/>
          <p:nvPr/>
        </p:nvSpPr>
        <p:spPr>
          <a:xfrm>
            <a:off x="6831000" y="303372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5" name=""/>
          <p:cNvSpPr/>
          <p:nvPr/>
        </p:nvSpPr>
        <p:spPr>
          <a:xfrm>
            <a:off x="7021440" y="3033720"/>
            <a:ext cx="45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6" name=""/>
          <p:cNvSpPr/>
          <p:nvPr/>
        </p:nvSpPr>
        <p:spPr>
          <a:xfrm>
            <a:off x="2317680" y="450072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7" name=""/>
          <p:cNvSpPr/>
          <p:nvPr/>
        </p:nvSpPr>
        <p:spPr>
          <a:xfrm>
            <a:off x="3732120" y="450216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8" name=""/>
          <p:cNvSpPr/>
          <p:nvPr/>
        </p:nvSpPr>
        <p:spPr>
          <a:xfrm>
            <a:off x="7421400" y="4762440"/>
            <a:ext cx="0" cy="1063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9" name=""/>
          <p:cNvSpPr/>
          <p:nvPr/>
        </p:nvSpPr>
        <p:spPr>
          <a:xfrm>
            <a:off x="6361200" y="4764240"/>
            <a:ext cx="0" cy="169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0" name=""/>
          <p:cNvSpPr/>
          <p:nvPr/>
        </p:nvSpPr>
        <p:spPr>
          <a:xfrm>
            <a:off x="2317680" y="5826240"/>
            <a:ext cx="509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1" name=""/>
          <p:cNvSpPr/>
          <p:nvPr/>
        </p:nvSpPr>
        <p:spPr>
          <a:xfrm>
            <a:off x="2317680" y="4503600"/>
            <a:ext cx="1414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2" name=""/>
          <p:cNvSpPr/>
          <p:nvPr/>
        </p:nvSpPr>
        <p:spPr>
          <a:xfrm>
            <a:off x="6361200" y="476568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3" name=""/>
          <p:cNvSpPr/>
          <p:nvPr/>
        </p:nvSpPr>
        <p:spPr>
          <a:xfrm>
            <a:off x="3672000" y="5584680"/>
            <a:ext cx="2771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44" name=""/>
          <p:cNvGrpSpPr/>
          <p:nvPr/>
        </p:nvGrpSpPr>
        <p:grpSpPr>
          <a:xfrm>
            <a:off x="3013200" y="4284720"/>
            <a:ext cx="0" cy="1676520"/>
            <a:chOff x="3013200" y="4284720"/>
            <a:chExt cx="0" cy="1676520"/>
          </a:xfrm>
        </p:grpSpPr>
        <p:sp>
          <p:nvSpPr>
            <p:cNvPr id="9145" name=""/>
            <p:cNvSpPr/>
            <p:nvPr/>
          </p:nvSpPr>
          <p:spPr>
            <a:xfrm>
              <a:off x="3013200" y="4284720"/>
              <a:ext cx="0" cy="78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3013200" y="511020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3013200" y="526896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8" name=""/>
          <p:cNvGrpSpPr/>
          <p:nvPr/>
        </p:nvGrpSpPr>
        <p:grpSpPr>
          <a:xfrm>
            <a:off x="6886440" y="4421160"/>
            <a:ext cx="0" cy="1676520"/>
            <a:chOff x="6886440" y="4421160"/>
            <a:chExt cx="0" cy="1676520"/>
          </a:xfrm>
        </p:grpSpPr>
        <p:sp>
          <p:nvSpPr>
            <p:cNvPr id="9149" name=""/>
            <p:cNvSpPr/>
            <p:nvPr/>
          </p:nvSpPr>
          <p:spPr>
            <a:xfrm>
              <a:off x="6886440" y="4421160"/>
              <a:ext cx="0" cy="781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6886440" y="5246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6886440" y="540540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2" name=""/>
          <p:cNvSpPr/>
          <p:nvPr/>
        </p:nvSpPr>
        <p:spPr>
          <a:xfrm>
            <a:off x="3587760" y="4605480"/>
            <a:ext cx="2627280" cy="43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3" name=""/>
          <p:cNvSpPr/>
          <p:nvPr/>
        </p:nvSpPr>
        <p:spPr>
          <a:xfrm>
            <a:off x="3583080" y="4502520"/>
            <a:ext cx="80640" cy="74520"/>
          </a:xfrm>
          <a:custGeom>
            <a:avLst/>
            <a:gdLst/>
            <a:ahLst/>
            <a:rect l="0" t="0" r="r" b="b"/>
            <a:pathLst>
              <a:path fill="none" w="224" h="207">
                <a:moveTo>
                  <a:pt x="224" y="207"/>
                </a:moveTo>
                <a:lnTo>
                  <a:pt x="224" y="207"/>
                </a:lnTo>
                <a:cubicBezTo>
                  <a:pt x="218" y="190"/>
                  <a:pt x="210" y="174"/>
                  <a:pt x="201" y="158"/>
                </a:cubicBezTo>
                <a:cubicBezTo>
                  <a:pt x="170" y="106"/>
                  <a:pt x="127" y="62"/>
                  <a:pt x="75" y="32"/>
                </a:cubicBezTo>
                <a:cubicBezTo>
                  <a:pt x="51" y="18"/>
                  <a:pt x="26" y="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4" name=""/>
          <p:cNvSpPr/>
          <p:nvPr/>
        </p:nvSpPr>
        <p:spPr>
          <a:xfrm>
            <a:off x="3687840" y="5451480"/>
            <a:ext cx="121320" cy="96840"/>
          </a:xfrm>
          <a:custGeom>
            <a:avLst/>
            <a:gdLst/>
            <a:ahLst/>
            <a:rect l="0" t="0" r="r" b="b"/>
            <a:pathLst>
              <a:path fill="none" w="337" h="269">
                <a:moveTo>
                  <a:pt x="337" y="269"/>
                </a:moveTo>
                <a:lnTo>
                  <a:pt x="337" y="269"/>
                </a:lnTo>
                <a:cubicBezTo>
                  <a:pt x="329" y="235"/>
                  <a:pt x="317" y="202"/>
                  <a:pt x="299" y="172"/>
                </a:cubicBezTo>
                <a:cubicBezTo>
                  <a:pt x="269" y="120"/>
                  <a:pt x="225" y="76"/>
                  <a:pt x="173" y="46"/>
                </a:cubicBezTo>
                <a:cubicBezTo>
                  <a:pt x="120" y="16"/>
                  <a:pt x="61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5" name=""/>
          <p:cNvSpPr/>
          <p:nvPr/>
        </p:nvSpPr>
        <p:spPr>
          <a:xfrm>
            <a:off x="6421320" y="5459400"/>
            <a:ext cx="124200" cy="124200"/>
          </a:xfrm>
          <a:custGeom>
            <a:avLst/>
            <a:gdLst/>
            <a:ahLst/>
            <a:rect l="0" t="0" r="r" b="b"/>
            <a:pathLst>
              <a:path fill="none" w="345" h="345">
                <a:moveTo>
                  <a:pt x="345" y="345"/>
                </a:moveTo>
                <a:lnTo>
                  <a:pt x="345" y="345"/>
                </a:lnTo>
                <a:lnTo>
                  <a:pt x="345" y="345"/>
                </a:lnTo>
                <a:cubicBezTo>
                  <a:pt x="345" y="284"/>
                  <a:pt x="329" y="225"/>
                  <a:pt x="299" y="172"/>
                </a:cubicBezTo>
                <a:cubicBezTo>
                  <a:pt x="268" y="120"/>
                  <a:pt x="225" y="77"/>
                  <a:pt x="172" y="46"/>
                </a:cubicBezTo>
                <a:cubicBezTo>
                  <a:pt x="120" y="16"/>
                  <a:pt x="61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6" name=""/>
          <p:cNvSpPr/>
          <p:nvPr/>
        </p:nvSpPr>
        <p:spPr>
          <a:xfrm>
            <a:off x="3557520" y="5459400"/>
            <a:ext cx="117720" cy="84600"/>
          </a:xfrm>
          <a:custGeom>
            <a:avLst/>
            <a:gdLst/>
            <a:ahLst/>
            <a:rect l="0" t="0" r="r" b="b"/>
            <a:pathLst>
              <a:path fill="none" w="327" h="235">
                <a:moveTo>
                  <a:pt x="327" y="235"/>
                </a:moveTo>
                <a:lnTo>
                  <a:pt x="327" y="235"/>
                </a:lnTo>
                <a:cubicBezTo>
                  <a:pt x="320" y="213"/>
                  <a:pt x="310" y="193"/>
                  <a:pt x="299" y="173"/>
                </a:cubicBezTo>
                <a:cubicBezTo>
                  <a:pt x="269" y="120"/>
                  <a:pt x="225" y="77"/>
                  <a:pt x="173" y="46"/>
                </a:cubicBezTo>
                <a:cubicBezTo>
                  <a:pt x="120" y="16"/>
                  <a:pt x="61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7" name=""/>
          <p:cNvSpPr/>
          <p:nvPr/>
        </p:nvSpPr>
        <p:spPr>
          <a:xfrm>
            <a:off x="6205680" y="4897440"/>
            <a:ext cx="138240" cy="178920"/>
          </a:xfrm>
          <a:custGeom>
            <a:avLst/>
            <a:gdLst/>
            <a:ahLst/>
            <a:rect l="0" t="0" r="r" b="b"/>
            <a:pathLst>
              <a:path fill="none" w="384" h="497">
                <a:moveTo>
                  <a:pt x="348" y="497"/>
                </a:moveTo>
                <a:lnTo>
                  <a:pt x="348" y="497"/>
                </a:lnTo>
                <a:cubicBezTo>
                  <a:pt x="371" y="449"/>
                  <a:pt x="384" y="397"/>
                  <a:pt x="384" y="344"/>
                </a:cubicBezTo>
                <a:cubicBezTo>
                  <a:pt x="384" y="284"/>
                  <a:pt x="368" y="224"/>
                  <a:pt x="338" y="172"/>
                </a:cubicBezTo>
                <a:cubicBezTo>
                  <a:pt x="307" y="120"/>
                  <a:pt x="264" y="76"/>
                  <a:pt x="212" y="46"/>
                </a:cubicBezTo>
                <a:cubicBezTo>
                  <a:pt x="159" y="16"/>
                  <a:pt x="100" y="0"/>
                  <a:pt x="40" y="0"/>
                </a:cubicBezTo>
                <a:cubicBezTo>
                  <a:pt x="26" y="0"/>
                  <a:pt x="13" y="0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8" name=""/>
          <p:cNvSpPr/>
          <p:nvPr/>
        </p:nvSpPr>
        <p:spPr>
          <a:xfrm>
            <a:off x="6343920" y="5459760"/>
            <a:ext cx="76320" cy="114480"/>
          </a:xfrm>
          <a:custGeom>
            <a:avLst/>
            <a:gdLst/>
            <a:ahLst/>
            <a:rect l="0" t="0" r="r" b="b"/>
            <a:pathLst>
              <a:path fill="none" w="212" h="318">
                <a:moveTo>
                  <a:pt x="212" y="318"/>
                </a:moveTo>
                <a:lnTo>
                  <a:pt x="212" y="318"/>
                </a:lnTo>
                <a:lnTo>
                  <a:pt x="212" y="317"/>
                </a:lnTo>
                <a:cubicBezTo>
                  <a:pt x="212" y="257"/>
                  <a:pt x="196" y="197"/>
                  <a:pt x="166" y="145"/>
                </a:cubicBezTo>
                <a:cubicBezTo>
                  <a:pt x="135" y="93"/>
                  <a:pt x="92" y="49"/>
                  <a:pt x="39" y="19"/>
                </a:cubicBezTo>
                <a:cubicBezTo>
                  <a:pt x="26" y="12"/>
                  <a:pt x="13" y="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9" name=""/>
          <p:cNvSpPr/>
          <p:nvPr/>
        </p:nvSpPr>
        <p:spPr>
          <a:xfrm>
            <a:off x="3684600" y="3127320"/>
            <a:ext cx="136800" cy="105120"/>
          </a:xfrm>
          <a:custGeom>
            <a:avLst/>
            <a:gdLst/>
            <a:ahLst/>
            <a:rect l="0" t="0" r="r" b="b"/>
            <a:pathLst>
              <a:path fill="none" w="380" h="292">
                <a:moveTo>
                  <a:pt x="380" y="2"/>
                </a:moveTo>
                <a:lnTo>
                  <a:pt x="380" y="2"/>
                </a:lnTo>
                <a:cubicBezTo>
                  <a:pt x="367" y="0"/>
                  <a:pt x="353" y="0"/>
                  <a:pt x="340" y="0"/>
                </a:cubicBezTo>
                <a:cubicBezTo>
                  <a:pt x="279" y="0"/>
                  <a:pt x="220" y="16"/>
                  <a:pt x="168" y="46"/>
                </a:cubicBezTo>
                <a:cubicBezTo>
                  <a:pt x="116" y="76"/>
                  <a:pt x="72" y="120"/>
                  <a:pt x="42" y="172"/>
                </a:cubicBezTo>
                <a:cubicBezTo>
                  <a:pt x="21" y="209"/>
                  <a:pt x="7" y="250"/>
                  <a:pt x="0" y="29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0" name=""/>
          <p:cNvSpPr/>
          <p:nvPr/>
        </p:nvSpPr>
        <p:spPr>
          <a:xfrm>
            <a:off x="6267600" y="3130560"/>
            <a:ext cx="130320" cy="80280"/>
          </a:xfrm>
          <a:custGeom>
            <a:avLst/>
            <a:gdLst/>
            <a:ahLst/>
            <a:rect l="0" t="0" r="r" b="b"/>
            <a:pathLst>
              <a:path fill="none" w="362" h="223">
                <a:moveTo>
                  <a:pt x="362" y="223"/>
                </a:moveTo>
                <a:lnTo>
                  <a:pt x="362" y="223"/>
                </a:lnTo>
                <a:cubicBezTo>
                  <a:pt x="355" y="205"/>
                  <a:pt x="347" y="188"/>
                  <a:pt x="338" y="172"/>
                </a:cubicBezTo>
                <a:cubicBezTo>
                  <a:pt x="308" y="120"/>
                  <a:pt x="264" y="76"/>
                  <a:pt x="212" y="46"/>
                </a:cubicBezTo>
                <a:cubicBezTo>
                  <a:pt x="159" y="16"/>
                  <a:pt x="100" y="0"/>
                  <a:pt x="39" y="0"/>
                </a:cubicBezTo>
                <a:cubicBezTo>
                  <a:pt x="26" y="0"/>
                  <a:pt x="13" y="1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1" name=""/>
          <p:cNvSpPr/>
          <p:nvPr/>
        </p:nvSpPr>
        <p:spPr>
          <a:xfrm>
            <a:off x="3683160" y="2804040"/>
            <a:ext cx="94680" cy="120600"/>
          </a:xfrm>
          <a:custGeom>
            <a:avLst/>
            <a:gdLst/>
            <a:ahLst/>
            <a:rect l="0" t="0" r="r" b="b"/>
            <a:pathLst>
              <a:path fill="none" w="263" h="335">
                <a:moveTo>
                  <a:pt x="263" y="0"/>
                </a:moveTo>
                <a:lnTo>
                  <a:pt x="263" y="0"/>
                </a:lnTo>
                <a:cubicBezTo>
                  <a:pt x="231" y="8"/>
                  <a:pt x="201" y="20"/>
                  <a:pt x="173" y="36"/>
                </a:cubicBezTo>
                <a:cubicBezTo>
                  <a:pt x="120" y="66"/>
                  <a:pt x="77" y="110"/>
                  <a:pt x="46" y="162"/>
                </a:cubicBezTo>
                <a:cubicBezTo>
                  <a:pt x="16" y="214"/>
                  <a:pt x="0" y="274"/>
                  <a:pt x="0" y="334"/>
                </a:cubicBezTo>
                <a:lnTo>
                  <a:pt x="0" y="33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2" name=""/>
          <p:cNvSpPr/>
          <p:nvPr/>
        </p:nvSpPr>
        <p:spPr>
          <a:xfrm>
            <a:off x="6311520" y="2802960"/>
            <a:ext cx="89640" cy="131040"/>
          </a:xfrm>
          <a:custGeom>
            <a:avLst/>
            <a:gdLst/>
            <a:ahLst/>
            <a:rect l="0" t="0" r="r" b="b"/>
            <a:pathLst>
              <a:path fill="none" w="249" h="364">
                <a:moveTo>
                  <a:pt x="248" y="364"/>
                </a:moveTo>
                <a:lnTo>
                  <a:pt x="248" y="364"/>
                </a:lnTo>
                <a:cubicBezTo>
                  <a:pt x="249" y="354"/>
                  <a:pt x="249" y="343"/>
                  <a:pt x="249" y="333"/>
                </a:cubicBezTo>
                <a:cubicBezTo>
                  <a:pt x="249" y="272"/>
                  <a:pt x="234" y="213"/>
                  <a:pt x="204" y="160"/>
                </a:cubicBezTo>
                <a:cubicBezTo>
                  <a:pt x="174" y="108"/>
                  <a:pt x="132" y="64"/>
                  <a:pt x="81" y="34"/>
                </a:cubicBezTo>
                <a:cubicBezTo>
                  <a:pt x="55" y="19"/>
                  <a:pt x="28" y="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3" name=""/>
          <p:cNvSpPr txBox="1"/>
          <p:nvPr/>
        </p:nvSpPr>
        <p:spPr>
          <a:xfrm>
            <a:off x="1692360" y="944640"/>
            <a:ext cx="5421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ithin Conventional Breaks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4" name=""/>
          <p:cNvSpPr/>
          <p:nvPr/>
        </p:nvSpPr>
        <p:spPr>
          <a:xfrm>
            <a:off x="3687840" y="4848120"/>
            <a:ext cx="2620800" cy="443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5" name=""/>
          <p:cNvSpPr/>
          <p:nvPr/>
        </p:nvSpPr>
        <p:spPr>
          <a:xfrm>
            <a:off x="3578400" y="4827960"/>
            <a:ext cx="88920" cy="119160"/>
          </a:xfrm>
          <a:custGeom>
            <a:avLst/>
            <a:gdLst/>
            <a:ahLst/>
            <a:rect l="0" t="0" r="r" b="b"/>
            <a:pathLst>
              <a:path fill="none" w="247" h="331">
                <a:moveTo>
                  <a:pt x="247" y="0"/>
                </a:moveTo>
                <a:lnTo>
                  <a:pt x="247" y="0"/>
                </a:lnTo>
                <a:cubicBezTo>
                  <a:pt x="221" y="8"/>
                  <a:pt x="196" y="19"/>
                  <a:pt x="172" y="32"/>
                </a:cubicBezTo>
                <a:cubicBezTo>
                  <a:pt x="120" y="62"/>
                  <a:pt x="76" y="106"/>
                  <a:pt x="46" y="158"/>
                </a:cubicBezTo>
                <a:cubicBezTo>
                  <a:pt x="16" y="211"/>
                  <a:pt x="0" y="270"/>
                  <a:pt x="0" y="331"/>
                </a:cubicBezTo>
                <a:lnTo>
                  <a:pt x="0" y="33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6" name=""/>
          <p:cNvSpPr/>
          <p:nvPr/>
        </p:nvSpPr>
        <p:spPr>
          <a:xfrm>
            <a:off x="6307200" y="5256360"/>
            <a:ext cx="71280" cy="165240"/>
          </a:xfrm>
          <a:custGeom>
            <a:avLst/>
            <a:gdLst/>
            <a:ahLst/>
            <a:rect l="0" t="0" r="r" b="b"/>
            <a:pathLst>
              <a:path fill="none" w="198" h="459">
                <a:moveTo>
                  <a:pt x="198" y="2"/>
                </a:moveTo>
                <a:lnTo>
                  <a:pt x="198" y="2"/>
                </a:lnTo>
                <a:cubicBezTo>
                  <a:pt x="191" y="1"/>
                  <a:pt x="184" y="0"/>
                  <a:pt x="178" y="0"/>
                </a:cubicBezTo>
                <a:cubicBezTo>
                  <a:pt x="146" y="0"/>
                  <a:pt x="116" y="15"/>
                  <a:pt x="89" y="43"/>
                </a:cubicBezTo>
                <a:cubicBezTo>
                  <a:pt x="62" y="71"/>
                  <a:pt x="39" y="111"/>
                  <a:pt x="24" y="159"/>
                </a:cubicBezTo>
                <a:cubicBezTo>
                  <a:pt x="8" y="208"/>
                  <a:pt x="0" y="262"/>
                  <a:pt x="0" y="318"/>
                </a:cubicBezTo>
                <a:cubicBezTo>
                  <a:pt x="0" y="367"/>
                  <a:pt x="6" y="415"/>
                  <a:pt x="18" y="4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7" name=""/>
          <p:cNvSpPr/>
          <p:nvPr/>
        </p:nvSpPr>
        <p:spPr>
          <a:xfrm>
            <a:off x="3559680" y="3417840"/>
            <a:ext cx="121680" cy="62280"/>
          </a:xfrm>
          <a:custGeom>
            <a:avLst/>
            <a:gdLst/>
            <a:ahLst/>
            <a:rect l="0" t="0" r="r" b="b"/>
            <a:pathLst>
              <a:path fill="none" w="338" h="173">
                <a:moveTo>
                  <a:pt x="338" y="2"/>
                </a:moveTo>
                <a:lnTo>
                  <a:pt x="338" y="2"/>
                </a:lnTo>
                <a:cubicBezTo>
                  <a:pt x="325" y="0"/>
                  <a:pt x="312" y="0"/>
                  <a:pt x="298" y="0"/>
                </a:cubicBezTo>
                <a:cubicBezTo>
                  <a:pt x="238" y="0"/>
                  <a:pt x="179" y="16"/>
                  <a:pt x="126" y="46"/>
                </a:cubicBezTo>
                <a:cubicBezTo>
                  <a:pt x="74" y="76"/>
                  <a:pt x="31" y="120"/>
                  <a:pt x="0" y="172"/>
                </a:cubicBezTo>
                <a:lnTo>
                  <a:pt x="0" y="17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8" name=""/>
          <p:cNvSpPr/>
          <p:nvPr/>
        </p:nvSpPr>
        <p:spPr>
          <a:xfrm>
            <a:off x="6480360" y="3416400"/>
            <a:ext cx="94320" cy="29520"/>
          </a:xfrm>
          <a:custGeom>
            <a:avLst/>
            <a:gdLst/>
            <a:ahLst/>
            <a:rect l="0" t="0" r="r" b="b"/>
            <a:pathLst>
              <a:path fill="none" w="262" h="82">
                <a:moveTo>
                  <a:pt x="262" y="82"/>
                </a:moveTo>
                <a:lnTo>
                  <a:pt x="262" y="82"/>
                </a:lnTo>
                <a:cubicBezTo>
                  <a:pt x="246" y="69"/>
                  <a:pt x="229" y="57"/>
                  <a:pt x="212" y="46"/>
                </a:cubicBezTo>
                <a:cubicBezTo>
                  <a:pt x="159" y="16"/>
                  <a:pt x="100" y="0"/>
                  <a:pt x="39" y="0"/>
                </a:cubicBezTo>
                <a:cubicBezTo>
                  <a:pt x="26" y="0"/>
                  <a:pt x="13" y="0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9" name=""/>
          <p:cNvSpPr/>
          <p:nvPr/>
        </p:nvSpPr>
        <p:spPr>
          <a:xfrm>
            <a:off x="3537000" y="2521440"/>
            <a:ext cx="52920" cy="101520"/>
          </a:xfrm>
          <a:custGeom>
            <a:avLst/>
            <a:gdLst/>
            <a:ahLst/>
            <a:rect l="0" t="0" r="r" b="b"/>
            <a:pathLst>
              <a:path fill="none" w="147" h="282">
                <a:moveTo>
                  <a:pt x="147" y="0"/>
                </a:moveTo>
                <a:lnTo>
                  <a:pt x="147" y="0"/>
                </a:lnTo>
                <a:cubicBezTo>
                  <a:pt x="106" y="29"/>
                  <a:pt x="71" y="66"/>
                  <a:pt x="46" y="110"/>
                </a:cubicBezTo>
                <a:cubicBezTo>
                  <a:pt x="16" y="162"/>
                  <a:pt x="0" y="221"/>
                  <a:pt x="0" y="282"/>
                </a:cubicBezTo>
                <a:lnTo>
                  <a:pt x="0" y="28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0" name=""/>
          <p:cNvSpPr/>
          <p:nvPr/>
        </p:nvSpPr>
        <p:spPr>
          <a:xfrm>
            <a:off x="6567120" y="2520720"/>
            <a:ext cx="35280" cy="99000"/>
          </a:xfrm>
          <a:custGeom>
            <a:avLst/>
            <a:gdLst/>
            <a:ahLst/>
            <a:rect l="0" t="0" r="r" b="b"/>
            <a:pathLst>
              <a:path fill="none" w="98" h="275">
                <a:moveTo>
                  <a:pt x="97" y="275"/>
                </a:moveTo>
                <a:lnTo>
                  <a:pt x="97" y="275"/>
                </a:lnTo>
                <a:cubicBezTo>
                  <a:pt x="98" y="265"/>
                  <a:pt x="98" y="254"/>
                  <a:pt x="98" y="244"/>
                </a:cubicBezTo>
                <a:cubicBezTo>
                  <a:pt x="98" y="183"/>
                  <a:pt x="83" y="123"/>
                  <a:pt x="53" y="71"/>
                </a:cubicBezTo>
                <a:cubicBezTo>
                  <a:pt x="38" y="45"/>
                  <a:pt x="21" y="21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7880" bIns="47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1" name=""/>
          <p:cNvSpPr/>
          <p:nvPr/>
        </p:nvSpPr>
        <p:spPr>
          <a:xfrm>
            <a:off x="3571920" y="5629320"/>
            <a:ext cx="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2" name=""/>
          <p:cNvSpPr/>
          <p:nvPr/>
        </p:nvSpPr>
        <p:spPr>
          <a:xfrm>
            <a:off x="3600360" y="567216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3" name=""/>
          <p:cNvSpPr/>
          <p:nvPr/>
        </p:nvSpPr>
        <p:spPr>
          <a:xfrm>
            <a:off x="6486480" y="5629320"/>
            <a:ext cx="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4" name=""/>
          <p:cNvSpPr/>
          <p:nvPr/>
        </p:nvSpPr>
        <p:spPr>
          <a:xfrm>
            <a:off x="6529320" y="5572080"/>
            <a:ext cx="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5" name=""/>
          <p:cNvSpPr/>
          <p:nvPr/>
        </p:nvSpPr>
        <p:spPr>
          <a:xfrm>
            <a:off x="3705120" y="4643280"/>
            <a:ext cx="81360" cy="190800"/>
          </a:xfrm>
          <a:custGeom>
            <a:avLst/>
            <a:gdLst/>
            <a:ahLst/>
            <a:rect l="0" t="0" r="r" b="b"/>
            <a:pathLst>
              <a:path w="226" h="530">
                <a:moveTo>
                  <a:pt x="16" y="0"/>
                </a:moveTo>
                <a:lnTo>
                  <a:pt x="226" y="24"/>
                </a:lnTo>
                <a:lnTo>
                  <a:pt x="226" y="530"/>
                </a:lnTo>
                <a:lnTo>
                  <a:pt x="0" y="517"/>
                </a:lnTo>
                <a:lnTo>
                  <a:pt x="16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6" name=""/>
          <p:cNvSpPr/>
          <p:nvPr/>
        </p:nvSpPr>
        <p:spPr>
          <a:xfrm>
            <a:off x="3663720" y="4865760"/>
            <a:ext cx="121320" cy="96840"/>
          </a:xfrm>
          <a:custGeom>
            <a:avLst/>
            <a:gdLst/>
            <a:ahLst/>
            <a:rect l="0" t="0" r="r" b="b"/>
            <a:pathLst>
              <a:path fill="none" w="337" h="269">
                <a:moveTo>
                  <a:pt x="337" y="0"/>
                </a:moveTo>
                <a:lnTo>
                  <a:pt x="337" y="0"/>
                </a:lnTo>
                <a:lnTo>
                  <a:pt x="337" y="0"/>
                </a:lnTo>
                <a:cubicBezTo>
                  <a:pt x="276" y="0"/>
                  <a:pt x="217" y="16"/>
                  <a:pt x="164" y="46"/>
                </a:cubicBezTo>
                <a:cubicBezTo>
                  <a:pt x="112" y="76"/>
                  <a:pt x="68" y="120"/>
                  <a:pt x="38" y="172"/>
                </a:cubicBezTo>
                <a:cubicBezTo>
                  <a:pt x="20" y="202"/>
                  <a:pt x="8" y="235"/>
                  <a:pt x="0" y="26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7" name=""/>
          <p:cNvSpPr/>
          <p:nvPr/>
        </p:nvSpPr>
        <p:spPr>
          <a:xfrm>
            <a:off x="3662280" y="50245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8" name=""/>
          <p:cNvSpPr/>
          <p:nvPr/>
        </p:nvSpPr>
        <p:spPr>
          <a:xfrm>
            <a:off x="3691080" y="5057640"/>
            <a:ext cx="0" cy="31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9" name=""/>
          <p:cNvSpPr/>
          <p:nvPr/>
        </p:nvSpPr>
        <p:spPr>
          <a:xfrm>
            <a:off x="6553080" y="4772160"/>
            <a:ext cx="0" cy="10573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0" name=""/>
          <p:cNvSpPr/>
          <p:nvPr/>
        </p:nvSpPr>
        <p:spPr>
          <a:xfrm>
            <a:off x="7238880" y="476244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1" name=""/>
          <p:cNvSpPr/>
          <p:nvPr/>
        </p:nvSpPr>
        <p:spPr>
          <a:xfrm>
            <a:off x="3514680" y="4505400"/>
            <a:ext cx="0" cy="13240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2" name=""/>
          <p:cNvSpPr/>
          <p:nvPr/>
        </p:nvSpPr>
        <p:spPr>
          <a:xfrm>
            <a:off x="2514600" y="45054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3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4" name=""/>
          <p:cNvSpPr/>
          <p:nvPr/>
        </p:nvSpPr>
        <p:spPr>
          <a:xfrm>
            <a:off x="6548400" y="2685960"/>
            <a:ext cx="682560" cy="682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5" name=""/>
          <p:cNvSpPr/>
          <p:nvPr/>
        </p:nvSpPr>
        <p:spPr>
          <a:xfrm>
            <a:off x="6365880" y="2503440"/>
            <a:ext cx="1049400" cy="10494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6" name=""/>
          <p:cNvSpPr/>
          <p:nvPr/>
        </p:nvSpPr>
        <p:spPr>
          <a:xfrm>
            <a:off x="2517840" y="2529000"/>
            <a:ext cx="1000080" cy="1000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7" name=""/>
          <p:cNvSpPr/>
          <p:nvPr/>
        </p:nvSpPr>
        <p:spPr>
          <a:xfrm>
            <a:off x="2317680" y="2328840"/>
            <a:ext cx="1398600" cy="139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8" name=""/>
          <p:cNvSpPr/>
          <p:nvPr/>
        </p:nvSpPr>
        <p:spPr>
          <a:xfrm>
            <a:off x="3629160" y="2630520"/>
            <a:ext cx="285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9" name=""/>
          <p:cNvSpPr/>
          <p:nvPr/>
        </p:nvSpPr>
        <p:spPr>
          <a:xfrm>
            <a:off x="3681360" y="34131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0" name=""/>
          <p:cNvSpPr/>
          <p:nvPr/>
        </p:nvSpPr>
        <p:spPr>
          <a:xfrm>
            <a:off x="3790800" y="2927520"/>
            <a:ext cx="24861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1" name=""/>
          <p:cNvSpPr/>
          <p:nvPr/>
        </p:nvSpPr>
        <p:spPr>
          <a:xfrm>
            <a:off x="3800520" y="3127320"/>
            <a:ext cx="2492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2" name=""/>
          <p:cNvGrpSpPr/>
          <p:nvPr/>
        </p:nvGrpSpPr>
        <p:grpSpPr>
          <a:xfrm>
            <a:off x="3014640" y="2141640"/>
            <a:ext cx="0" cy="1676160"/>
            <a:chOff x="3014640" y="2141640"/>
            <a:chExt cx="0" cy="1676160"/>
          </a:xfrm>
        </p:grpSpPr>
        <p:sp>
          <p:nvSpPr>
            <p:cNvPr id="9193" name=""/>
            <p:cNvSpPr/>
            <p:nvPr/>
          </p:nvSpPr>
          <p:spPr>
            <a:xfrm>
              <a:off x="3014640" y="2141640"/>
              <a:ext cx="0" cy="78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4" name=""/>
            <p:cNvSpPr/>
            <p:nvPr/>
          </p:nvSpPr>
          <p:spPr>
            <a:xfrm>
              <a:off x="3014640" y="29671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5" name=""/>
            <p:cNvSpPr/>
            <p:nvPr/>
          </p:nvSpPr>
          <p:spPr>
            <a:xfrm>
              <a:off x="3014640" y="3125880"/>
              <a:ext cx="0" cy="69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96" name=""/>
          <p:cNvGrpSpPr/>
          <p:nvPr/>
        </p:nvGrpSpPr>
        <p:grpSpPr>
          <a:xfrm>
            <a:off x="2230560" y="3027240"/>
            <a:ext cx="1555560" cy="0"/>
            <a:chOff x="2230560" y="3027240"/>
            <a:chExt cx="1555560" cy="0"/>
          </a:xfrm>
        </p:grpSpPr>
        <p:sp>
          <p:nvSpPr>
            <p:cNvPr id="9197" name=""/>
            <p:cNvSpPr/>
            <p:nvPr/>
          </p:nvSpPr>
          <p:spPr>
            <a:xfrm>
              <a:off x="2230560" y="3027240"/>
              <a:ext cx="660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2954160" y="302724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3144960" y="3027240"/>
              <a:ext cx="641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00" name=""/>
          <p:cNvSpPr/>
          <p:nvPr/>
        </p:nvSpPr>
        <p:spPr>
          <a:xfrm>
            <a:off x="6897600" y="2446200"/>
            <a:ext cx="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1" name=""/>
          <p:cNvSpPr/>
          <p:nvPr/>
        </p:nvSpPr>
        <p:spPr>
          <a:xfrm>
            <a:off x="6891480" y="2973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2" name=""/>
          <p:cNvSpPr/>
          <p:nvPr/>
        </p:nvSpPr>
        <p:spPr>
          <a:xfrm>
            <a:off x="6891480" y="3132000"/>
            <a:ext cx="0" cy="51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3" name=""/>
          <p:cNvSpPr/>
          <p:nvPr/>
        </p:nvSpPr>
        <p:spPr>
          <a:xfrm>
            <a:off x="6288120" y="3033720"/>
            <a:ext cx="47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4" name=""/>
          <p:cNvSpPr/>
          <p:nvPr/>
        </p:nvSpPr>
        <p:spPr>
          <a:xfrm>
            <a:off x="6831000" y="303372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5" name=""/>
          <p:cNvSpPr/>
          <p:nvPr/>
        </p:nvSpPr>
        <p:spPr>
          <a:xfrm>
            <a:off x="7021440" y="3033720"/>
            <a:ext cx="45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6" name=""/>
          <p:cNvSpPr/>
          <p:nvPr/>
        </p:nvSpPr>
        <p:spPr>
          <a:xfrm>
            <a:off x="2317680" y="450072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7" name=""/>
          <p:cNvSpPr/>
          <p:nvPr/>
        </p:nvSpPr>
        <p:spPr>
          <a:xfrm>
            <a:off x="3732120" y="450216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8" name=""/>
          <p:cNvSpPr/>
          <p:nvPr/>
        </p:nvSpPr>
        <p:spPr>
          <a:xfrm>
            <a:off x="7421400" y="4762440"/>
            <a:ext cx="0" cy="1063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9" name=""/>
          <p:cNvSpPr/>
          <p:nvPr/>
        </p:nvSpPr>
        <p:spPr>
          <a:xfrm>
            <a:off x="6361200" y="4764240"/>
            <a:ext cx="0" cy="169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0" name=""/>
          <p:cNvSpPr/>
          <p:nvPr/>
        </p:nvSpPr>
        <p:spPr>
          <a:xfrm>
            <a:off x="2317680" y="5826240"/>
            <a:ext cx="509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>
            <a:off x="2317680" y="4503600"/>
            <a:ext cx="1414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2" name=""/>
          <p:cNvSpPr/>
          <p:nvPr/>
        </p:nvSpPr>
        <p:spPr>
          <a:xfrm>
            <a:off x="6361200" y="476568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3" name=""/>
          <p:cNvSpPr/>
          <p:nvPr/>
        </p:nvSpPr>
        <p:spPr>
          <a:xfrm>
            <a:off x="3672000" y="5584680"/>
            <a:ext cx="2771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4" name=""/>
          <p:cNvGrpSpPr/>
          <p:nvPr/>
        </p:nvGrpSpPr>
        <p:grpSpPr>
          <a:xfrm>
            <a:off x="3013200" y="4284720"/>
            <a:ext cx="0" cy="1676520"/>
            <a:chOff x="3013200" y="4284720"/>
            <a:chExt cx="0" cy="1676520"/>
          </a:xfrm>
        </p:grpSpPr>
        <p:sp>
          <p:nvSpPr>
            <p:cNvPr id="9215" name=""/>
            <p:cNvSpPr/>
            <p:nvPr/>
          </p:nvSpPr>
          <p:spPr>
            <a:xfrm>
              <a:off x="3013200" y="4284720"/>
              <a:ext cx="0" cy="78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3013200" y="511020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3013200" y="526896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18" name=""/>
          <p:cNvGrpSpPr/>
          <p:nvPr/>
        </p:nvGrpSpPr>
        <p:grpSpPr>
          <a:xfrm>
            <a:off x="6886440" y="4421160"/>
            <a:ext cx="0" cy="1676520"/>
            <a:chOff x="6886440" y="4421160"/>
            <a:chExt cx="0" cy="1676520"/>
          </a:xfrm>
        </p:grpSpPr>
        <p:sp>
          <p:nvSpPr>
            <p:cNvPr id="9219" name=""/>
            <p:cNvSpPr/>
            <p:nvPr/>
          </p:nvSpPr>
          <p:spPr>
            <a:xfrm>
              <a:off x="6886440" y="4421160"/>
              <a:ext cx="0" cy="781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6886440" y="5246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6886440" y="540540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22" name=""/>
          <p:cNvSpPr/>
          <p:nvPr/>
        </p:nvSpPr>
        <p:spPr>
          <a:xfrm>
            <a:off x="3587760" y="4605480"/>
            <a:ext cx="2627280" cy="43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3" name=""/>
          <p:cNvSpPr/>
          <p:nvPr/>
        </p:nvSpPr>
        <p:spPr>
          <a:xfrm>
            <a:off x="3583080" y="4502520"/>
            <a:ext cx="80640" cy="74520"/>
          </a:xfrm>
          <a:custGeom>
            <a:avLst/>
            <a:gdLst/>
            <a:ahLst/>
            <a:rect l="0" t="0" r="r" b="b"/>
            <a:pathLst>
              <a:path fill="none" w="224" h="207">
                <a:moveTo>
                  <a:pt x="224" y="207"/>
                </a:moveTo>
                <a:lnTo>
                  <a:pt x="224" y="207"/>
                </a:lnTo>
                <a:cubicBezTo>
                  <a:pt x="218" y="190"/>
                  <a:pt x="210" y="174"/>
                  <a:pt x="201" y="158"/>
                </a:cubicBezTo>
                <a:cubicBezTo>
                  <a:pt x="170" y="106"/>
                  <a:pt x="127" y="62"/>
                  <a:pt x="75" y="32"/>
                </a:cubicBezTo>
                <a:cubicBezTo>
                  <a:pt x="51" y="18"/>
                  <a:pt x="26" y="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4" name=""/>
          <p:cNvSpPr/>
          <p:nvPr/>
        </p:nvSpPr>
        <p:spPr>
          <a:xfrm>
            <a:off x="3687840" y="5451480"/>
            <a:ext cx="121320" cy="96840"/>
          </a:xfrm>
          <a:custGeom>
            <a:avLst/>
            <a:gdLst/>
            <a:ahLst/>
            <a:rect l="0" t="0" r="r" b="b"/>
            <a:pathLst>
              <a:path fill="none" w="337" h="269">
                <a:moveTo>
                  <a:pt x="337" y="269"/>
                </a:moveTo>
                <a:lnTo>
                  <a:pt x="337" y="269"/>
                </a:lnTo>
                <a:cubicBezTo>
                  <a:pt x="329" y="235"/>
                  <a:pt x="317" y="202"/>
                  <a:pt x="299" y="172"/>
                </a:cubicBezTo>
                <a:cubicBezTo>
                  <a:pt x="269" y="120"/>
                  <a:pt x="225" y="76"/>
                  <a:pt x="173" y="46"/>
                </a:cubicBezTo>
                <a:cubicBezTo>
                  <a:pt x="120" y="16"/>
                  <a:pt x="61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5" name=""/>
          <p:cNvSpPr/>
          <p:nvPr/>
        </p:nvSpPr>
        <p:spPr>
          <a:xfrm>
            <a:off x="6421320" y="5459400"/>
            <a:ext cx="124200" cy="124200"/>
          </a:xfrm>
          <a:custGeom>
            <a:avLst/>
            <a:gdLst/>
            <a:ahLst/>
            <a:rect l="0" t="0" r="r" b="b"/>
            <a:pathLst>
              <a:path fill="none" w="345" h="345">
                <a:moveTo>
                  <a:pt x="345" y="345"/>
                </a:moveTo>
                <a:lnTo>
                  <a:pt x="345" y="345"/>
                </a:lnTo>
                <a:lnTo>
                  <a:pt x="345" y="345"/>
                </a:lnTo>
                <a:cubicBezTo>
                  <a:pt x="345" y="284"/>
                  <a:pt x="329" y="225"/>
                  <a:pt x="299" y="172"/>
                </a:cubicBezTo>
                <a:cubicBezTo>
                  <a:pt x="268" y="120"/>
                  <a:pt x="225" y="77"/>
                  <a:pt x="172" y="46"/>
                </a:cubicBezTo>
                <a:cubicBezTo>
                  <a:pt x="120" y="16"/>
                  <a:pt x="61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6" name=""/>
          <p:cNvSpPr/>
          <p:nvPr/>
        </p:nvSpPr>
        <p:spPr>
          <a:xfrm>
            <a:off x="3557520" y="5459400"/>
            <a:ext cx="117720" cy="84600"/>
          </a:xfrm>
          <a:custGeom>
            <a:avLst/>
            <a:gdLst/>
            <a:ahLst/>
            <a:rect l="0" t="0" r="r" b="b"/>
            <a:pathLst>
              <a:path fill="none" w="327" h="235">
                <a:moveTo>
                  <a:pt x="327" y="235"/>
                </a:moveTo>
                <a:lnTo>
                  <a:pt x="327" y="235"/>
                </a:lnTo>
                <a:cubicBezTo>
                  <a:pt x="320" y="213"/>
                  <a:pt x="310" y="193"/>
                  <a:pt x="299" y="173"/>
                </a:cubicBezTo>
                <a:cubicBezTo>
                  <a:pt x="269" y="120"/>
                  <a:pt x="225" y="77"/>
                  <a:pt x="173" y="46"/>
                </a:cubicBezTo>
                <a:cubicBezTo>
                  <a:pt x="120" y="16"/>
                  <a:pt x="61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7" name=""/>
          <p:cNvSpPr/>
          <p:nvPr/>
        </p:nvSpPr>
        <p:spPr>
          <a:xfrm>
            <a:off x="6205680" y="4897440"/>
            <a:ext cx="138240" cy="178920"/>
          </a:xfrm>
          <a:custGeom>
            <a:avLst/>
            <a:gdLst/>
            <a:ahLst/>
            <a:rect l="0" t="0" r="r" b="b"/>
            <a:pathLst>
              <a:path fill="none" w="384" h="497">
                <a:moveTo>
                  <a:pt x="348" y="497"/>
                </a:moveTo>
                <a:lnTo>
                  <a:pt x="348" y="497"/>
                </a:lnTo>
                <a:cubicBezTo>
                  <a:pt x="371" y="449"/>
                  <a:pt x="384" y="397"/>
                  <a:pt x="384" y="344"/>
                </a:cubicBezTo>
                <a:cubicBezTo>
                  <a:pt x="384" y="284"/>
                  <a:pt x="368" y="224"/>
                  <a:pt x="338" y="172"/>
                </a:cubicBezTo>
                <a:cubicBezTo>
                  <a:pt x="307" y="120"/>
                  <a:pt x="264" y="76"/>
                  <a:pt x="212" y="46"/>
                </a:cubicBezTo>
                <a:cubicBezTo>
                  <a:pt x="159" y="16"/>
                  <a:pt x="100" y="0"/>
                  <a:pt x="40" y="0"/>
                </a:cubicBezTo>
                <a:cubicBezTo>
                  <a:pt x="26" y="0"/>
                  <a:pt x="13" y="0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8" name=""/>
          <p:cNvSpPr/>
          <p:nvPr/>
        </p:nvSpPr>
        <p:spPr>
          <a:xfrm>
            <a:off x="6343920" y="5459760"/>
            <a:ext cx="76320" cy="114480"/>
          </a:xfrm>
          <a:custGeom>
            <a:avLst/>
            <a:gdLst/>
            <a:ahLst/>
            <a:rect l="0" t="0" r="r" b="b"/>
            <a:pathLst>
              <a:path fill="none" w="212" h="318">
                <a:moveTo>
                  <a:pt x="212" y="318"/>
                </a:moveTo>
                <a:lnTo>
                  <a:pt x="212" y="318"/>
                </a:lnTo>
                <a:lnTo>
                  <a:pt x="212" y="317"/>
                </a:lnTo>
                <a:cubicBezTo>
                  <a:pt x="212" y="257"/>
                  <a:pt x="196" y="197"/>
                  <a:pt x="166" y="145"/>
                </a:cubicBezTo>
                <a:cubicBezTo>
                  <a:pt x="135" y="93"/>
                  <a:pt x="92" y="49"/>
                  <a:pt x="39" y="19"/>
                </a:cubicBezTo>
                <a:cubicBezTo>
                  <a:pt x="26" y="12"/>
                  <a:pt x="13" y="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9" name=""/>
          <p:cNvSpPr/>
          <p:nvPr/>
        </p:nvSpPr>
        <p:spPr>
          <a:xfrm>
            <a:off x="3684600" y="3127320"/>
            <a:ext cx="136800" cy="105120"/>
          </a:xfrm>
          <a:custGeom>
            <a:avLst/>
            <a:gdLst/>
            <a:ahLst/>
            <a:rect l="0" t="0" r="r" b="b"/>
            <a:pathLst>
              <a:path fill="none" w="380" h="292">
                <a:moveTo>
                  <a:pt x="380" y="2"/>
                </a:moveTo>
                <a:lnTo>
                  <a:pt x="380" y="2"/>
                </a:lnTo>
                <a:cubicBezTo>
                  <a:pt x="367" y="0"/>
                  <a:pt x="353" y="0"/>
                  <a:pt x="340" y="0"/>
                </a:cubicBezTo>
                <a:cubicBezTo>
                  <a:pt x="279" y="0"/>
                  <a:pt x="220" y="16"/>
                  <a:pt x="168" y="46"/>
                </a:cubicBezTo>
                <a:cubicBezTo>
                  <a:pt x="116" y="76"/>
                  <a:pt x="72" y="120"/>
                  <a:pt x="42" y="172"/>
                </a:cubicBezTo>
                <a:cubicBezTo>
                  <a:pt x="21" y="209"/>
                  <a:pt x="7" y="250"/>
                  <a:pt x="0" y="29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0" name=""/>
          <p:cNvSpPr/>
          <p:nvPr/>
        </p:nvSpPr>
        <p:spPr>
          <a:xfrm>
            <a:off x="6267600" y="3130560"/>
            <a:ext cx="130320" cy="80280"/>
          </a:xfrm>
          <a:custGeom>
            <a:avLst/>
            <a:gdLst/>
            <a:ahLst/>
            <a:rect l="0" t="0" r="r" b="b"/>
            <a:pathLst>
              <a:path fill="none" w="362" h="223">
                <a:moveTo>
                  <a:pt x="362" y="223"/>
                </a:moveTo>
                <a:lnTo>
                  <a:pt x="362" y="223"/>
                </a:lnTo>
                <a:cubicBezTo>
                  <a:pt x="355" y="205"/>
                  <a:pt x="347" y="188"/>
                  <a:pt x="338" y="172"/>
                </a:cubicBezTo>
                <a:cubicBezTo>
                  <a:pt x="308" y="120"/>
                  <a:pt x="264" y="76"/>
                  <a:pt x="212" y="46"/>
                </a:cubicBezTo>
                <a:cubicBezTo>
                  <a:pt x="159" y="16"/>
                  <a:pt x="100" y="0"/>
                  <a:pt x="39" y="0"/>
                </a:cubicBezTo>
                <a:cubicBezTo>
                  <a:pt x="26" y="0"/>
                  <a:pt x="13" y="1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1" name=""/>
          <p:cNvSpPr/>
          <p:nvPr/>
        </p:nvSpPr>
        <p:spPr>
          <a:xfrm>
            <a:off x="3683160" y="2804040"/>
            <a:ext cx="94680" cy="120600"/>
          </a:xfrm>
          <a:custGeom>
            <a:avLst/>
            <a:gdLst/>
            <a:ahLst/>
            <a:rect l="0" t="0" r="r" b="b"/>
            <a:pathLst>
              <a:path fill="none" w="263" h="335">
                <a:moveTo>
                  <a:pt x="263" y="0"/>
                </a:moveTo>
                <a:lnTo>
                  <a:pt x="263" y="0"/>
                </a:lnTo>
                <a:cubicBezTo>
                  <a:pt x="231" y="8"/>
                  <a:pt x="201" y="20"/>
                  <a:pt x="173" y="36"/>
                </a:cubicBezTo>
                <a:cubicBezTo>
                  <a:pt x="120" y="66"/>
                  <a:pt x="77" y="110"/>
                  <a:pt x="46" y="162"/>
                </a:cubicBezTo>
                <a:cubicBezTo>
                  <a:pt x="16" y="214"/>
                  <a:pt x="0" y="274"/>
                  <a:pt x="0" y="334"/>
                </a:cubicBezTo>
                <a:lnTo>
                  <a:pt x="0" y="33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2" name=""/>
          <p:cNvSpPr/>
          <p:nvPr/>
        </p:nvSpPr>
        <p:spPr>
          <a:xfrm>
            <a:off x="6311520" y="2802960"/>
            <a:ext cx="89640" cy="131040"/>
          </a:xfrm>
          <a:custGeom>
            <a:avLst/>
            <a:gdLst/>
            <a:ahLst/>
            <a:rect l="0" t="0" r="r" b="b"/>
            <a:pathLst>
              <a:path fill="none" w="249" h="364">
                <a:moveTo>
                  <a:pt x="248" y="364"/>
                </a:moveTo>
                <a:lnTo>
                  <a:pt x="248" y="364"/>
                </a:lnTo>
                <a:cubicBezTo>
                  <a:pt x="249" y="354"/>
                  <a:pt x="249" y="343"/>
                  <a:pt x="249" y="333"/>
                </a:cubicBezTo>
                <a:cubicBezTo>
                  <a:pt x="249" y="272"/>
                  <a:pt x="234" y="213"/>
                  <a:pt x="204" y="160"/>
                </a:cubicBezTo>
                <a:cubicBezTo>
                  <a:pt x="174" y="108"/>
                  <a:pt x="132" y="64"/>
                  <a:pt x="81" y="34"/>
                </a:cubicBezTo>
                <a:cubicBezTo>
                  <a:pt x="55" y="19"/>
                  <a:pt x="28" y="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3" name=""/>
          <p:cNvSpPr txBox="1"/>
          <p:nvPr/>
        </p:nvSpPr>
        <p:spPr>
          <a:xfrm>
            <a:off x="1692360" y="944640"/>
            <a:ext cx="5421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ithin Conventional Breaks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4" name=""/>
          <p:cNvSpPr/>
          <p:nvPr/>
        </p:nvSpPr>
        <p:spPr>
          <a:xfrm>
            <a:off x="3687840" y="4848120"/>
            <a:ext cx="2620800" cy="443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5" name=""/>
          <p:cNvSpPr/>
          <p:nvPr/>
        </p:nvSpPr>
        <p:spPr>
          <a:xfrm>
            <a:off x="3578400" y="4827960"/>
            <a:ext cx="88920" cy="119160"/>
          </a:xfrm>
          <a:custGeom>
            <a:avLst/>
            <a:gdLst/>
            <a:ahLst/>
            <a:rect l="0" t="0" r="r" b="b"/>
            <a:pathLst>
              <a:path fill="none" w="247" h="331">
                <a:moveTo>
                  <a:pt x="247" y="0"/>
                </a:moveTo>
                <a:lnTo>
                  <a:pt x="247" y="0"/>
                </a:lnTo>
                <a:cubicBezTo>
                  <a:pt x="221" y="8"/>
                  <a:pt x="196" y="19"/>
                  <a:pt x="172" y="32"/>
                </a:cubicBezTo>
                <a:cubicBezTo>
                  <a:pt x="120" y="62"/>
                  <a:pt x="76" y="106"/>
                  <a:pt x="46" y="158"/>
                </a:cubicBezTo>
                <a:cubicBezTo>
                  <a:pt x="16" y="211"/>
                  <a:pt x="0" y="270"/>
                  <a:pt x="0" y="331"/>
                </a:cubicBezTo>
                <a:lnTo>
                  <a:pt x="0" y="33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6" name=""/>
          <p:cNvSpPr/>
          <p:nvPr/>
        </p:nvSpPr>
        <p:spPr>
          <a:xfrm>
            <a:off x="6307200" y="5256360"/>
            <a:ext cx="71280" cy="165240"/>
          </a:xfrm>
          <a:custGeom>
            <a:avLst/>
            <a:gdLst/>
            <a:ahLst/>
            <a:rect l="0" t="0" r="r" b="b"/>
            <a:pathLst>
              <a:path fill="none" w="198" h="459">
                <a:moveTo>
                  <a:pt x="198" y="2"/>
                </a:moveTo>
                <a:lnTo>
                  <a:pt x="198" y="2"/>
                </a:lnTo>
                <a:cubicBezTo>
                  <a:pt x="191" y="1"/>
                  <a:pt x="184" y="0"/>
                  <a:pt x="178" y="0"/>
                </a:cubicBezTo>
                <a:cubicBezTo>
                  <a:pt x="146" y="0"/>
                  <a:pt x="116" y="15"/>
                  <a:pt x="89" y="43"/>
                </a:cubicBezTo>
                <a:cubicBezTo>
                  <a:pt x="62" y="71"/>
                  <a:pt x="39" y="111"/>
                  <a:pt x="24" y="159"/>
                </a:cubicBezTo>
                <a:cubicBezTo>
                  <a:pt x="8" y="208"/>
                  <a:pt x="0" y="262"/>
                  <a:pt x="0" y="318"/>
                </a:cubicBezTo>
                <a:cubicBezTo>
                  <a:pt x="0" y="367"/>
                  <a:pt x="6" y="415"/>
                  <a:pt x="18" y="4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7" name=""/>
          <p:cNvSpPr/>
          <p:nvPr/>
        </p:nvSpPr>
        <p:spPr>
          <a:xfrm>
            <a:off x="3559680" y="3417840"/>
            <a:ext cx="121680" cy="62280"/>
          </a:xfrm>
          <a:custGeom>
            <a:avLst/>
            <a:gdLst/>
            <a:ahLst/>
            <a:rect l="0" t="0" r="r" b="b"/>
            <a:pathLst>
              <a:path fill="none" w="338" h="173">
                <a:moveTo>
                  <a:pt x="338" y="2"/>
                </a:moveTo>
                <a:lnTo>
                  <a:pt x="338" y="2"/>
                </a:lnTo>
                <a:cubicBezTo>
                  <a:pt x="325" y="0"/>
                  <a:pt x="312" y="0"/>
                  <a:pt x="298" y="0"/>
                </a:cubicBezTo>
                <a:cubicBezTo>
                  <a:pt x="238" y="0"/>
                  <a:pt x="179" y="16"/>
                  <a:pt x="126" y="46"/>
                </a:cubicBezTo>
                <a:cubicBezTo>
                  <a:pt x="74" y="76"/>
                  <a:pt x="31" y="120"/>
                  <a:pt x="0" y="172"/>
                </a:cubicBezTo>
                <a:lnTo>
                  <a:pt x="0" y="17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8" name=""/>
          <p:cNvSpPr/>
          <p:nvPr/>
        </p:nvSpPr>
        <p:spPr>
          <a:xfrm>
            <a:off x="6480360" y="3416400"/>
            <a:ext cx="94320" cy="29520"/>
          </a:xfrm>
          <a:custGeom>
            <a:avLst/>
            <a:gdLst/>
            <a:ahLst/>
            <a:rect l="0" t="0" r="r" b="b"/>
            <a:pathLst>
              <a:path fill="none" w="262" h="82">
                <a:moveTo>
                  <a:pt x="262" y="82"/>
                </a:moveTo>
                <a:lnTo>
                  <a:pt x="262" y="82"/>
                </a:lnTo>
                <a:cubicBezTo>
                  <a:pt x="246" y="69"/>
                  <a:pt x="229" y="57"/>
                  <a:pt x="212" y="46"/>
                </a:cubicBezTo>
                <a:cubicBezTo>
                  <a:pt x="159" y="16"/>
                  <a:pt x="100" y="0"/>
                  <a:pt x="39" y="0"/>
                </a:cubicBezTo>
                <a:cubicBezTo>
                  <a:pt x="26" y="0"/>
                  <a:pt x="13" y="0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9" name=""/>
          <p:cNvSpPr/>
          <p:nvPr/>
        </p:nvSpPr>
        <p:spPr>
          <a:xfrm>
            <a:off x="3537000" y="2521440"/>
            <a:ext cx="52920" cy="101520"/>
          </a:xfrm>
          <a:custGeom>
            <a:avLst/>
            <a:gdLst/>
            <a:ahLst/>
            <a:rect l="0" t="0" r="r" b="b"/>
            <a:pathLst>
              <a:path fill="none" w="147" h="282">
                <a:moveTo>
                  <a:pt x="147" y="0"/>
                </a:moveTo>
                <a:lnTo>
                  <a:pt x="147" y="0"/>
                </a:lnTo>
                <a:cubicBezTo>
                  <a:pt x="106" y="29"/>
                  <a:pt x="71" y="66"/>
                  <a:pt x="46" y="110"/>
                </a:cubicBezTo>
                <a:cubicBezTo>
                  <a:pt x="16" y="162"/>
                  <a:pt x="0" y="221"/>
                  <a:pt x="0" y="282"/>
                </a:cubicBezTo>
                <a:lnTo>
                  <a:pt x="0" y="28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0" name=""/>
          <p:cNvSpPr/>
          <p:nvPr/>
        </p:nvSpPr>
        <p:spPr>
          <a:xfrm>
            <a:off x="6567120" y="2520720"/>
            <a:ext cx="35280" cy="99000"/>
          </a:xfrm>
          <a:custGeom>
            <a:avLst/>
            <a:gdLst/>
            <a:ahLst/>
            <a:rect l="0" t="0" r="r" b="b"/>
            <a:pathLst>
              <a:path fill="none" w="98" h="275">
                <a:moveTo>
                  <a:pt x="97" y="275"/>
                </a:moveTo>
                <a:lnTo>
                  <a:pt x="97" y="275"/>
                </a:lnTo>
                <a:cubicBezTo>
                  <a:pt x="98" y="265"/>
                  <a:pt x="98" y="254"/>
                  <a:pt x="98" y="244"/>
                </a:cubicBezTo>
                <a:cubicBezTo>
                  <a:pt x="98" y="183"/>
                  <a:pt x="83" y="123"/>
                  <a:pt x="53" y="71"/>
                </a:cubicBezTo>
                <a:cubicBezTo>
                  <a:pt x="38" y="45"/>
                  <a:pt x="21" y="21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7880" bIns="47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1" name=""/>
          <p:cNvSpPr/>
          <p:nvPr/>
        </p:nvSpPr>
        <p:spPr>
          <a:xfrm>
            <a:off x="3571920" y="5629320"/>
            <a:ext cx="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2" name=""/>
          <p:cNvSpPr/>
          <p:nvPr/>
        </p:nvSpPr>
        <p:spPr>
          <a:xfrm>
            <a:off x="3600360" y="567216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3" name=""/>
          <p:cNvSpPr/>
          <p:nvPr/>
        </p:nvSpPr>
        <p:spPr>
          <a:xfrm>
            <a:off x="6486480" y="5629320"/>
            <a:ext cx="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4" name=""/>
          <p:cNvSpPr/>
          <p:nvPr/>
        </p:nvSpPr>
        <p:spPr>
          <a:xfrm>
            <a:off x="6529320" y="5572080"/>
            <a:ext cx="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5" name=""/>
          <p:cNvSpPr/>
          <p:nvPr/>
        </p:nvSpPr>
        <p:spPr>
          <a:xfrm>
            <a:off x="4262400" y="4591080"/>
            <a:ext cx="1486080" cy="139536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6" name=""/>
          <p:cNvSpPr/>
          <p:nvPr/>
        </p:nvSpPr>
        <p:spPr>
          <a:xfrm>
            <a:off x="5734080" y="4967280"/>
            <a:ext cx="28800" cy="857520"/>
          </a:xfrm>
          <a:custGeom>
            <a:avLst/>
            <a:gdLst/>
            <a:ahLst/>
            <a:rect l="0" t="0" r="r" b="b"/>
            <a:pathLst>
              <a:path fill="none" w="80" h="2382">
                <a:moveTo>
                  <a:pt x="39" y="0"/>
                </a:moveTo>
                <a:lnTo>
                  <a:pt x="53" y="39"/>
                </a:lnTo>
                <a:lnTo>
                  <a:pt x="53" y="79"/>
                </a:lnTo>
                <a:lnTo>
                  <a:pt x="39" y="119"/>
                </a:lnTo>
                <a:lnTo>
                  <a:pt x="26" y="158"/>
                </a:lnTo>
                <a:lnTo>
                  <a:pt x="13" y="198"/>
                </a:lnTo>
                <a:lnTo>
                  <a:pt x="0" y="291"/>
                </a:lnTo>
                <a:lnTo>
                  <a:pt x="0" y="357"/>
                </a:lnTo>
                <a:lnTo>
                  <a:pt x="0" y="396"/>
                </a:lnTo>
                <a:lnTo>
                  <a:pt x="0" y="449"/>
                </a:lnTo>
                <a:lnTo>
                  <a:pt x="13" y="489"/>
                </a:lnTo>
                <a:lnTo>
                  <a:pt x="26" y="529"/>
                </a:lnTo>
                <a:lnTo>
                  <a:pt x="39" y="568"/>
                </a:lnTo>
                <a:lnTo>
                  <a:pt x="53" y="608"/>
                </a:lnTo>
                <a:lnTo>
                  <a:pt x="67" y="661"/>
                </a:lnTo>
                <a:lnTo>
                  <a:pt x="80" y="727"/>
                </a:lnTo>
                <a:lnTo>
                  <a:pt x="67" y="767"/>
                </a:lnTo>
                <a:lnTo>
                  <a:pt x="67" y="820"/>
                </a:lnTo>
                <a:lnTo>
                  <a:pt x="39" y="899"/>
                </a:lnTo>
                <a:lnTo>
                  <a:pt x="39" y="992"/>
                </a:lnTo>
                <a:lnTo>
                  <a:pt x="26" y="1045"/>
                </a:lnTo>
                <a:lnTo>
                  <a:pt x="26" y="1111"/>
                </a:lnTo>
                <a:lnTo>
                  <a:pt x="13" y="1150"/>
                </a:lnTo>
                <a:lnTo>
                  <a:pt x="13" y="1218"/>
                </a:lnTo>
                <a:lnTo>
                  <a:pt x="13" y="1310"/>
                </a:lnTo>
                <a:lnTo>
                  <a:pt x="26" y="1363"/>
                </a:lnTo>
                <a:lnTo>
                  <a:pt x="26" y="1416"/>
                </a:lnTo>
                <a:lnTo>
                  <a:pt x="26" y="1495"/>
                </a:lnTo>
                <a:lnTo>
                  <a:pt x="26" y="1535"/>
                </a:lnTo>
                <a:lnTo>
                  <a:pt x="26" y="1614"/>
                </a:lnTo>
                <a:lnTo>
                  <a:pt x="26" y="1654"/>
                </a:lnTo>
                <a:lnTo>
                  <a:pt x="26" y="1694"/>
                </a:lnTo>
                <a:lnTo>
                  <a:pt x="26" y="1734"/>
                </a:lnTo>
                <a:lnTo>
                  <a:pt x="39" y="1773"/>
                </a:lnTo>
                <a:lnTo>
                  <a:pt x="53" y="1813"/>
                </a:lnTo>
                <a:lnTo>
                  <a:pt x="53" y="1853"/>
                </a:lnTo>
                <a:lnTo>
                  <a:pt x="53" y="1892"/>
                </a:lnTo>
                <a:lnTo>
                  <a:pt x="53" y="1932"/>
                </a:lnTo>
                <a:lnTo>
                  <a:pt x="53" y="1972"/>
                </a:lnTo>
                <a:lnTo>
                  <a:pt x="53" y="2011"/>
                </a:lnTo>
                <a:lnTo>
                  <a:pt x="53" y="2077"/>
                </a:lnTo>
                <a:lnTo>
                  <a:pt x="53" y="2117"/>
                </a:lnTo>
                <a:lnTo>
                  <a:pt x="53" y="2157"/>
                </a:lnTo>
                <a:lnTo>
                  <a:pt x="53" y="2197"/>
                </a:lnTo>
                <a:lnTo>
                  <a:pt x="53" y="2236"/>
                </a:lnTo>
                <a:lnTo>
                  <a:pt x="53" y="2276"/>
                </a:lnTo>
                <a:lnTo>
                  <a:pt x="53" y="2342"/>
                </a:lnTo>
                <a:lnTo>
                  <a:pt x="53" y="238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7" name=""/>
          <p:cNvSpPr/>
          <p:nvPr/>
        </p:nvSpPr>
        <p:spPr>
          <a:xfrm>
            <a:off x="4228920" y="4714920"/>
            <a:ext cx="33840" cy="1114920"/>
          </a:xfrm>
          <a:custGeom>
            <a:avLst/>
            <a:gdLst/>
            <a:ahLst/>
            <a:rect l="0" t="0" r="r" b="b"/>
            <a:pathLst>
              <a:path fill="none" w="94" h="3097">
                <a:moveTo>
                  <a:pt x="81" y="0"/>
                </a:moveTo>
                <a:lnTo>
                  <a:pt x="94" y="39"/>
                </a:lnTo>
                <a:lnTo>
                  <a:pt x="94" y="79"/>
                </a:lnTo>
                <a:lnTo>
                  <a:pt x="94" y="119"/>
                </a:lnTo>
                <a:lnTo>
                  <a:pt x="94" y="158"/>
                </a:lnTo>
                <a:lnTo>
                  <a:pt x="94" y="211"/>
                </a:lnTo>
                <a:lnTo>
                  <a:pt x="94" y="251"/>
                </a:lnTo>
                <a:lnTo>
                  <a:pt x="94" y="291"/>
                </a:lnTo>
                <a:lnTo>
                  <a:pt x="81" y="343"/>
                </a:lnTo>
                <a:lnTo>
                  <a:pt x="67" y="383"/>
                </a:lnTo>
                <a:lnTo>
                  <a:pt x="67" y="423"/>
                </a:lnTo>
                <a:lnTo>
                  <a:pt x="67" y="489"/>
                </a:lnTo>
                <a:lnTo>
                  <a:pt x="67" y="542"/>
                </a:lnTo>
                <a:lnTo>
                  <a:pt x="67" y="595"/>
                </a:lnTo>
                <a:lnTo>
                  <a:pt x="67" y="648"/>
                </a:lnTo>
                <a:lnTo>
                  <a:pt x="67" y="701"/>
                </a:lnTo>
                <a:lnTo>
                  <a:pt x="67" y="740"/>
                </a:lnTo>
                <a:lnTo>
                  <a:pt x="67" y="807"/>
                </a:lnTo>
                <a:lnTo>
                  <a:pt x="53" y="874"/>
                </a:lnTo>
                <a:lnTo>
                  <a:pt x="40" y="913"/>
                </a:lnTo>
                <a:lnTo>
                  <a:pt x="13" y="966"/>
                </a:lnTo>
                <a:lnTo>
                  <a:pt x="0" y="1059"/>
                </a:lnTo>
                <a:lnTo>
                  <a:pt x="0" y="1099"/>
                </a:lnTo>
                <a:lnTo>
                  <a:pt x="0" y="1138"/>
                </a:lnTo>
                <a:lnTo>
                  <a:pt x="27" y="1218"/>
                </a:lnTo>
                <a:lnTo>
                  <a:pt x="40" y="1257"/>
                </a:lnTo>
                <a:lnTo>
                  <a:pt x="53" y="1297"/>
                </a:lnTo>
                <a:lnTo>
                  <a:pt x="67" y="1337"/>
                </a:lnTo>
                <a:lnTo>
                  <a:pt x="67" y="1403"/>
                </a:lnTo>
                <a:lnTo>
                  <a:pt x="53" y="1469"/>
                </a:lnTo>
                <a:lnTo>
                  <a:pt x="40" y="1562"/>
                </a:lnTo>
                <a:lnTo>
                  <a:pt x="27" y="1601"/>
                </a:lnTo>
                <a:lnTo>
                  <a:pt x="27" y="1641"/>
                </a:lnTo>
                <a:lnTo>
                  <a:pt x="27" y="1681"/>
                </a:lnTo>
                <a:lnTo>
                  <a:pt x="27" y="1760"/>
                </a:lnTo>
                <a:lnTo>
                  <a:pt x="27" y="1800"/>
                </a:lnTo>
                <a:lnTo>
                  <a:pt x="40" y="1839"/>
                </a:lnTo>
                <a:lnTo>
                  <a:pt x="53" y="1879"/>
                </a:lnTo>
                <a:lnTo>
                  <a:pt x="53" y="1919"/>
                </a:lnTo>
                <a:lnTo>
                  <a:pt x="67" y="1958"/>
                </a:lnTo>
                <a:lnTo>
                  <a:pt x="81" y="2025"/>
                </a:lnTo>
                <a:lnTo>
                  <a:pt x="81" y="2091"/>
                </a:lnTo>
                <a:lnTo>
                  <a:pt x="81" y="2130"/>
                </a:lnTo>
                <a:lnTo>
                  <a:pt x="81" y="2170"/>
                </a:lnTo>
                <a:lnTo>
                  <a:pt x="81" y="2210"/>
                </a:lnTo>
                <a:lnTo>
                  <a:pt x="81" y="2249"/>
                </a:lnTo>
                <a:lnTo>
                  <a:pt x="81" y="2302"/>
                </a:lnTo>
                <a:lnTo>
                  <a:pt x="81" y="2343"/>
                </a:lnTo>
                <a:lnTo>
                  <a:pt x="81" y="2383"/>
                </a:lnTo>
                <a:lnTo>
                  <a:pt x="81" y="2449"/>
                </a:lnTo>
                <a:lnTo>
                  <a:pt x="81" y="2489"/>
                </a:lnTo>
                <a:lnTo>
                  <a:pt x="81" y="2555"/>
                </a:lnTo>
                <a:lnTo>
                  <a:pt x="81" y="2594"/>
                </a:lnTo>
                <a:lnTo>
                  <a:pt x="67" y="2634"/>
                </a:lnTo>
                <a:lnTo>
                  <a:pt x="53" y="2674"/>
                </a:lnTo>
                <a:lnTo>
                  <a:pt x="53" y="2713"/>
                </a:lnTo>
                <a:lnTo>
                  <a:pt x="40" y="2766"/>
                </a:lnTo>
                <a:lnTo>
                  <a:pt x="40" y="2819"/>
                </a:lnTo>
                <a:lnTo>
                  <a:pt x="40" y="2899"/>
                </a:lnTo>
                <a:lnTo>
                  <a:pt x="40" y="2952"/>
                </a:lnTo>
                <a:lnTo>
                  <a:pt x="40" y="2991"/>
                </a:lnTo>
                <a:lnTo>
                  <a:pt x="53" y="3057"/>
                </a:lnTo>
                <a:lnTo>
                  <a:pt x="81" y="309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8" name=""/>
          <p:cNvSpPr/>
          <p:nvPr/>
        </p:nvSpPr>
        <p:spPr>
          <a:xfrm>
            <a:off x="3705120" y="4643280"/>
            <a:ext cx="81360" cy="190800"/>
          </a:xfrm>
          <a:custGeom>
            <a:avLst/>
            <a:gdLst/>
            <a:ahLst/>
            <a:rect l="0" t="0" r="r" b="b"/>
            <a:pathLst>
              <a:path w="226" h="530">
                <a:moveTo>
                  <a:pt x="16" y="0"/>
                </a:moveTo>
                <a:lnTo>
                  <a:pt x="226" y="24"/>
                </a:lnTo>
                <a:lnTo>
                  <a:pt x="226" y="530"/>
                </a:lnTo>
                <a:lnTo>
                  <a:pt x="0" y="517"/>
                </a:lnTo>
                <a:lnTo>
                  <a:pt x="16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9" name=""/>
          <p:cNvSpPr/>
          <p:nvPr/>
        </p:nvSpPr>
        <p:spPr>
          <a:xfrm>
            <a:off x="3663720" y="4865760"/>
            <a:ext cx="121320" cy="96840"/>
          </a:xfrm>
          <a:custGeom>
            <a:avLst/>
            <a:gdLst/>
            <a:ahLst/>
            <a:rect l="0" t="0" r="r" b="b"/>
            <a:pathLst>
              <a:path fill="none" w="337" h="269">
                <a:moveTo>
                  <a:pt x="337" y="0"/>
                </a:moveTo>
                <a:lnTo>
                  <a:pt x="337" y="0"/>
                </a:lnTo>
                <a:lnTo>
                  <a:pt x="337" y="0"/>
                </a:lnTo>
                <a:cubicBezTo>
                  <a:pt x="276" y="0"/>
                  <a:pt x="217" y="16"/>
                  <a:pt x="164" y="46"/>
                </a:cubicBezTo>
                <a:cubicBezTo>
                  <a:pt x="112" y="76"/>
                  <a:pt x="68" y="120"/>
                  <a:pt x="38" y="172"/>
                </a:cubicBezTo>
                <a:cubicBezTo>
                  <a:pt x="20" y="202"/>
                  <a:pt x="8" y="235"/>
                  <a:pt x="0" y="26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0" name=""/>
          <p:cNvSpPr/>
          <p:nvPr/>
        </p:nvSpPr>
        <p:spPr>
          <a:xfrm>
            <a:off x="3662280" y="50245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1" name=""/>
          <p:cNvSpPr/>
          <p:nvPr/>
        </p:nvSpPr>
        <p:spPr>
          <a:xfrm>
            <a:off x="3691080" y="5057640"/>
            <a:ext cx="0" cy="31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2" name=""/>
          <p:cNvSpPr/>
          <p:nvPr/>
        </p:nvSpPr>
        <p:spPr>
          <a:xfrm>
            <a:off x="6553080" y="4772160"/>
            <a:ext cx="0" cy="10573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3" name=""/>
          <p:cNvSpPr/>
          <p:nvPr/>
        </p:nvSpPr>
        <p:spPr>
          <a:xfrm>
            <a:off x="7238880" y="476244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4" name=""/>
          <p:cNvSpPr/>
          <p:nvPr/>
        </p:nvSpPr>
        <p:spPr>
          <a:xfrm>
            <a:off x="3514680" y="4505400"/>
            <a:ext cx="0" cy="13240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5" name=""/>
          <p:cNvSpPr/>
          <p:nvPr/>
        </p:nvSpPr>
        <p:spPr>
          <a:xfrm>
            <a:off x="2514600" y="45054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6" name=""/>
          <p:cNvSpPr txBox="1"/>
          <p:nvPr/>
        </p:nvSpPr>
        <p:spPr>
          <a:xfrm>
            <a:off x="1619280" y="98280"/>
            <a:ext cx="575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7" name=""/>
          <p:cNvSpPr/>
          <p:nvPr/>
        </p:nvSpPr>
        <p:spPr>
          <a:xfrm>
            <a:off x="6548400" y="2685960"/>
            <a:ext cx="682560" cy="682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8" name=""/>
          <p:cNvSpPr/>
          <p:nvPr/>
        </p:nvSpPr>
        <p:spPr>
          <a:xfrm>
            <a:off x="6365880" y="2503440"/>
            <a:ext cx="1049400" cy="10494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9" name=""/>
          <p:cNvSpPr/>
          <p:nvPr/>
        </p:nvSpPr>
        <p:spPr>
          <a:xfrm>
            <a:off x="2517840" y="2529000"/>
            <a:ext cx="1000080" cy="1000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0" name=""/>
          <p:cNvSpPr/>
          <p:nvPr/>
        </p:nvSpPr>
        <p:spPr>
          <a:xfrm>
            <a:off x="2317680" y="2328840"/>
            <a:ext cx="1398600" cy="1398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1" name=""/>
          <p:cNvSpPr/>
          <p:nvPr/>
        </p:nvSpPr>
        <p:spPr>
          <a:xfrm>
            <a:off x="3629160" y="2630520"/>
            <a:ext cx="285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2" name=""/>
          <p:cNvSpPr/>
          <p:nvPr/>
        </p:nvSpPr>
        <p:spPr>
          <a:xfrm>
            <a:off x="3681360" y="34131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3" name=""/>
          <p:cNvSpPr/>
          <p:nvPr/>
        </p:nvSpPr>
        <p:spPr>
          <a:xfrm>
            <a:off x="3790800" y="2927520"/>
            <a:ext cx="24861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4" name=""/>
          <p:cNvSpPr/>
          <p:nvPr/>
        </p:nvSpPr>
        <p:spPr>
          <a:xfrm>
            <a:off x="3800520" y="3127320"/>
            <a:ext cx="2492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65" name=""/>
          <p:cNvGrpSpPr/>
          <p:nvPr/>
        </p:nvGrpSpPr>
        <p:grpSpPr>
          <a:xfrm>
            <a:off x="3014640" y="2141640"/>
            <a:ext cx="0" cy="1676160"/>
            <a:chOff x="3014640" y="2141640"/>
            <a:chExt cx="0" cy="1676160"/>
          </a:xfrm>
        </p:grpSpPr>
        <p:sp>
          <p:nvSpPr>
            <p:cNvPr id="9266" name=""/>
            <p:cNvSpPr/>
            <p:nvPr/>
          </p:nvSpPr>
          <p:spPr>
            <a:xfrm>
              <a:off x="3014640" y="2141640"/>
              <a:ext cx="0" cy="78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3014640" y="29671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3014640" y="3125880"/>
              <a:ext cx="0" cy="69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69" name=""/>
          <p:cNvGrpSpPr/>
          <p:nvPr/>
        </p:nvGrpSpPr>
        <p:grpSpPr>
          <a:xfrm>
            <a:off x="2230560" y="3027240"/>
            <a:ext cx="1555560" cy="0"/>
            <a:chOff x="2230560" y="3027240"/>
            <a:chExt cx="1555560" cy="0"/>
          </a:xfrm>
        </p:grpSpPr>
        <p:sp>
          <p:nvSpPr>
            <p:cNvPr id="9270" name=""/>
            <p:cNvSpPr/>
            <p:nvPr/>
          </p:nvSpPr>
          <p:spPr>
            <a:xfrm>
              <a:off x="2230560" y="3027240"/>
              <a:ext cx="660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2954160" y="302724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3144960" y="3027240"/>
              <a:ext cx="641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73" name=""/>
          <p:cNvSpPr/>
          <p:nvPr/>
        </p:nvSpPr>
        <p:spPr>
          <a:xfrm>
            <a:off x="6897600" y="2446200"/>
            <a:ext cx="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4" name=""/>
          <p:cNvSpPr/>
          <p:nvPr/>
        </p:nvSpPr>
        <p:spPr>
          <a:xfrm>
            <a:off x="6891480" y="2973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5" name=""/>
          <p:cNvSpPr/>
          <p:nvPr/>
        </p:nvSpPr>
        <p:spPr>
          <a:xfrm>
            <a:off x="6891480" y="3132000"/>
            <a:ext cx="0" cy="51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6" name=""/>
          <p:cNvSpPr/>
          <p:nvPr/>
        </p:nvSpPr>
        <p:spPr>
          <a:xfrm>
            <a:off x="6288120" y="3033720"/>
            <a:ext cx="47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7" name=""/>
          <p:cNvSpPr/>
          <p:nvPr/>
        </p:nvSpPr>
        <p:spPr>
          <a:xfrm>
            <a:off x="6831000" y="303372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8" name=""/>
          <p:cNvSpPr/>
          <p:nvPr/>
        </p:nvSpPr>
        <p:spPr>
          <a:xfrm>
            <a:off x="7021440" y="3033720"/>
            <a:ext cx="45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9" name=""/>
          <p:cNvSpPr/>
          <p:nvPr/>
        </p:nvSpPr>
        <p:spPr>
          <a:xfrm>
            <a:off x="2317680" y="450072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0" name=""/>
          <p:cNvSpPr/>
          <p:nvPr/>
        </p:nvSpPr>
        <p:spPr>
          <a:xfrm>
            <a:off x="3732120" y="450216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1" name=""/>
          <p:cNvSpPr/>
          <p:nvPr/>
        </p:nvSpPr>
        <p:spPr>
          <a:xfrm>
            <a:off x="7421400" y="4762440"/>
            <a:ext cx="0" cy="1063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2" name=""/>
          <p:cNvSpPr/>
          <p:nvPr/>
        </p:nvSpPr>
        <p:spPr>
          <a:xfrm>
            <a:off x="6361200" y="4764240"/>
            <a:ext cx="0" cy="169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3" name=""/>
          <p:cNvSpPr/>
          <p:nvPr/>
        </p:nvSpPr>
        <p:spPr>
          <a:xfrm>
            <a:off x="2317680" y="5826240"/>
            <a:ext cx="509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4" name=""/>
          <p:cNvSpPr/>
          <p:nvPr/>
        </p:nvSpPr>
        <p:spPr>
          <a:xfrm>
            <a:off x="2317680" y="4503600"/>
            <a:ext cx="1414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5" name=""/>
          <p:cNvSpPr/>
          <p:nvPr/>
        </p:nvSpPr>
        <p:spPr>
          <a:xfrm>
            <a:off x="6361200" y="476568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6" name=""/>
          <p:cNvSpPr/>
          <p:nvPr/>
        </p:nvSpPr>
        <p:spPr>
          <a:xfrm>
            <a:off x="3672000" y="5584680"/>
            <a:ext cx="2771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7" name=""/>
          <p:cNvGrpSpPr/>
          <p:nvPr/>
        </p:nvGrpSpPr>
        <p:grpSpPr>
          <a:xfrm>
            <a:off x="3013200" y="4284720"/>
            <a:ext cx="0" cy="1676520"/>
            <a:chOff x="3013200" y="4284720"/>
            <a:chExt cx="0" cy="1676520"/>
          </a:xfrm>
        </p:grpSpPr>
        <p:sp>
          <p:nvSpPr>
            <p:cNvPr id="9288" name=""/>
            <p:cNvSpPr/>
            <p:nvPr/>
          </p:nvSpPr>
          <p:spPr>
            <a:xfrm>
              <a:off x="3013200" y="4284720"/>
              <a:ext cx="0" cy="78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3013200" y="511020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3013200" y="526896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1" name=""/>
          <p:cNvGrpSpPr/>
          <p:nvPr/>
        </p:nvGrpSpPr>
        <p:grpSpPr>
          <a:xfrm>
            <a:off x="6886440" y="4421160"/>
            <a:ext cx="0" cy="1676520"/>
            <a:chOff x="6886440" y="4421160"/>
            <a:chExt cx="0" cy="1676520"/>
          </a:xfrm>
        </p:grpSpPr>
        <p:sp>
          <p:nvSpPr>
            <p:cNvPr id="9292" name=""/>
            <p:cNvSpPr/>
            <p:nvPr/>
          </p:nvSpPr>
          <p:spPr>
            <a:xfrm>
              <a:off x="6886440" y="4421160"/>
              <a:ext cx="0" cy="781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6886440" y="5246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6886440" y="540540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95" name=""/>
          <p:cNvSpPr/>
          <p:nvPr/>
        </p:nvSpPr>
        <p:spPr>
          <a:xfrm>
            <a:off x="3587760" y="4605480"/>
            <a:ext cx="2627280" cy="43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6" name=""/>
          <p:cNvSpPr/>
          <p:nvPr/>
        </p:nvSpPr>
        <p:spPr>
          <a:xfrm>
            <a:off x="3583080" y="4502520"/>
            <a:ext cx="80640" cy="74520"/>
          </a:xfrm>
          <a:custGeom>
            <a:avLst/>
            <a:gdLst/>
            <a:ahLst/>
            <a:rect l="0" t="0" r="r" b="b"/>
            <a:pathLst>
              <a:path fill="none" w="224" h="207">
                <a:moveTo>
                  <a:pt x="224" y="207"/>
                </a:moveTo>
                <a:lnTo>
                  <a:pt x="224" y="207"/>
                </a:lnTo>
                <a:cubicBezTo>
                  <a:pt x="218" y="190"/>
                  <a:pt x="210" y="174"/>
                  <a:pt x="201" y="158"/>
                </a:cubicBezTo>
                <a:cubicBezTo>
                  <a:pt x="170" y="106"/>
                  <a:pt x="127" y="62"/>
                  <a:pt x="75" y="32"/>
                </a:cubicBezTo>
                <a:cubicBezTo>
                  <a:pt x="51" y="18"/>
                  <a:pt x="26" y="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7" name=""/>
          <p:cNvSpPr/>
          <p:nvPr/>
        </p:nvSpPr>
        <p:spPr>
          <a:xfrm>
            <a:off x="3687840" y="5451480"/>
            <a:ext cx="121320" cy="96840"/>
          </a:xfrm>
          <a:custGeom>
            <a:avLst/>
            <a:gdLst/>
            <a:ahLst/>
            <a:rect l="0" t="0" r="r" b="b"/>
            <a:pathLst>
              <a:path fill="none" w="337" h="269">
                <a:moveTo>
                  <a:pt x="337" y="269"/>
                </a:moveTo>
                <a:lnTo>
                  <a:pt x="337" y="269"/>
                </a:lnTo>
                <a:cubicBezTo>
                  <a:pt x="329" y="235"/>
                  <a:pt x="317" y="202"/>
                  <a:pt x="299" y="172"/>
                </a:cubicBezTo>
                <a:cubicBezTo>
                  <a:pt x="269" y="120"/>
                  <a:pt x="225" y="76"/>
                  <a:pt x="173" y="46"/>
                </a:cubicBezTo>
                <a:cubicBezTo>
                  <a:pt x="120" y="16"/>
                  <a:pt x="61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8" name=""/>
          <p:cNvSpPr/>
          <p:nvPr/>
        </p:nvSpPr>
        <p:spPr>
          <a:xfrm>
            <a:off x="6421320" y="5459400"/>
            <a:ext cx="124200" cy="124200"/>
          </a:xfrm>
          <a:custGeom>
            <a:avLst/>
            <a:gdLst/>
            <a:ahLst/>
            <a:rect l="0" t="0" r="r" b="b"/>
            <a:pathLst>
              <a:path fill="none" w="345" h="345">
                <a:moveTo>
                  <a:pt x="345" y="345"/>
                </a:moveTo>
                <a:lnTo>
                  <a:pt x="345" y="345"/>
                </a:lnTo>
                <a:lnTo>
                  <a:pt x="345" y="345"/>
                </a:lnTo>
                <a:cubicBezTo>
                  <a:pt x="345" y="284"/>
                  <a:pt x="329" y="225"/>
                  <a:pt x="299" y="172"/>
                </a:cubicBezTo>
                <a:cubicBezTo>
                  <a:pt x="268" y="120"/>
                  <a:pt x="225" y="77"/>
                  <a:pt x="172" y="46"/>
                </a:cubicBezTo>
                <a:cubicBezTo>
                  <a:pt x="120" y="16"/>
                  <a:pt x="61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9" name=""/>
          <p:cNvSpPr/>
          <p:nvPr/>
        </p:nvSpPr>
        <p:spPr>
          <a:xfrm>
            <a:off x="3557520" y="5459400"/>
            <a:ext cx="117720" cy="84600"/>
          </a:xfrm>
          <a:custGeom>
            <a:avLst/>
            <a:gdLst/>
            <a:ahLst/>
            <a:rect l="0" t="0" r="r" b="b"/>
            <a:pathLst>
              <a:path fill="none" w="327" h="235">
                <a:moveTo>
                  <a:pt x="327" y="235"/>
                </a:moveTo>
                <a:lnTo>
                  <a:pt x="327" y="235"/>
                </a:lnTo>
                <a:cubicBezTo>
                  <a:pt x="320" y="213"/>
                  <a:pt x="310" y="193"/>
                  <a:pt x="299" y="173"/>
                </a:cubicBezTo>
                <a:cubicBezTo>
                  <a:pt x="269" y="120"/>
                  <a:pt x="225" y="77"/>
                  <a:pt x="173" y="46"/>
                </a:cubicBezTo>
                <a:cubicBezTo>
                  <a:pt x="120" y="16"/>
                  <a:pt x="61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0" name=""/>
          <p:cNvSpPr/>
          <p:nvPr/>
        </p:nvSpPr>
        <p:spPr>
          <a:xfrm>
            <a:off x="6205680" y="4897440"/>
            <a:ext cx="138240" cy="178920"/>
          </a:xfrm>
          <a:custGeom>
            <a:avLst/>
            <a:gdLst/>
            <a:ahLst/>
            <a:rect l="0" t="0" r="r" b="b"/>
            <a:pathLst>
              <a:path fill="none" w="384" h="497">
                <a:moveTo>
                  <a:pt x="348" y="497"/>
                </a:moveTo>
                <a:lnTo>
                  <a:pt x="348" y="497"/>
                </a:lnTo>
                <a:cubicBezTo>
                  <a:pt x="371" y="449"/>
                  <a:pt x="384" y="397"/>
                  <a:pt x="384" y="344"/>
                </a:cubicBezTo>
                <a:cubicBezTo>
                  <a:pt x="384" y="284"/>
                  <a:pt x="368" y="224"/>
                  <a:pt x="338" y="172"/>
                </a:cubicBezTo>
                <a:cubicBezTo>
                  <a:pt x="307" y="120"/>
                  <a:pt x="264" y="76"/>
                  <a:pt x="212" y="46"/>
                </a:cubicBezTo>
                <a:cubicBezTo>
                  <a:pt x="159" y="16"/>
                  <a:pt x="100" y="0"/>
                  <a:pt x="40" y="0"/>
                </a:cubicBezTo>
                <a:cubicBezTo>
                  <a:pt x="26" y="0"/>
                  <a:pt x="13" y="0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1" name=""/>
          <p:cNvSpPr/>
          <p:nvPr/>
        </p:nvSpPr>
        <p:spPr>
          <a:xfrm>
            <a:off x="6343920" y="5459760"/>
            <a:ext cx="76320" cy="114480"/>
          </a:xfrm>
          <a:custGeom>
            <a:avLst/>
            <a:gdLst/>
            <a:ahLst/>
            <a:rect l="0" t="0" r="r" b="b"/>
            <a:pathLst>
              <a:path fill="none" w="212" h="318">
                <a:moveTo>
                  <a:pt x="212" y="318"/>
                </a:moveTo>
                <a:lnTo>
                  <a:pt x="212" y="318"/>
                </a:lnTo>
                <a:lnTo>
                  <a:pt x="212" y="317"/>
                </a:lnTo>
                <a:cubicBezTo>
                  <a:pt x="212" y="257"/>
                  <a:pt x="196" y="197"/>
                  <a:pt x="166" y="145"/>
                </a:cubicBezTo>
                <a:cubicBezTo>
                  <a:pt x="135" y="93"/>
                  <a:pt x="92" y="49"/>
                  <a:pt x="39" y="19"/>
                </a:cubicBezTo>
                <a:cubicBezTo>
                  <a:pt x="26" y="12"/>
                  <a:pt x="13" y="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2" name=""/>
          <p:cNvSpPr/>
          <p:nvPr/>
        </p:nvSpPr>
        <p:spPr>
          <a:xfrm>
            <a:off x="3684600" y="3127320"/>
            <a:ext cx="136800" cy="105120"/>
          </a:xfrm>
          <a:custGeom>
            <a:avLst/>
            <a:gdLst/>
            <a:ahLst/>
            <a:rect l="0" t="0" r="r" b="b"/>
            <a:pathLst>
              <a:path fill="none" w="380" h="292">
                <a:moveTo>
                  <a:pt x="380" y="2"/>
                </a:moveTo>
                <a:lnTo>
                  <a:pt x="380" y="2"/>
                </a:lnTo>
                <a:cubicBezTo>
                  <a:pt x="367" y="0"/>
                  <a:pt x="353" y="0"/>
                  <a:pt x="340" y="0"/>
                </a:cubicBezTo>
                <a:cubicBezTo>
                  <a:pt x="279" y="0"/>
                  <a:pt x="220" y="16"/>
                  <a:pt x="168" y="46"/>
                </a:cubicBezTo>
                <a:cubicBezTo>
                  <a:pt x="116" y="76"/>
                  <a:pt x="72" y="120"/>
                  <a:pt x="42" y="172"/>
                </a:cubicBezTo>
                <a:cubicBezTo>
                  <a:pt x="21" y="209"/>
                  <a:pt x="7" y="250"/>
                  <a:pt x="0" y="29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3" name=""/>
          <p:cNvSpPr/>
          <p:nvPr/>
        </p:nvSpPr>
        <p:spPr>
          <a:xfrm>
            <a:off x="6267600" y="3130560"/>
            <a:ext cx="130320" cy="80280"/>
          </a:xfrm>
          <a:custGeom>
            <a:avLst/>
            <a:gdLst/>
            <a:ahLst/>
            <a:rect l="0" t="0" r="r" b="b"/>
            <a:pathLst>
              <a:path fill="none" w="362" h="223">
                <a:moveTo>
                  <a:pt x="362" y="223"/>
                </a:moveTo>
                <a:lnTo>
                  <a:pt x="362" y="223"/>
                </a:lnTo>
                <a:cubicBezTo>
                  <a:pt x="355" y="205"/>
                  <a:pt x="347" y="188"/>
                  <a:pt x="338" y="172"/>
                </a:cubicBezTo>
                <a:cubicBezTo>
                  <a:pt x="308" y="120"/>
                  <a:pt x="264" y="76"/>
                  <a:pt x="212" y="46"/>
                </a:cubicBezTo>
                <a:cubicBezTo>
                  <a:pt x="159" y="16"/>
                  <a:pt x="100" y="0"/>
                  <a:pt x="39" y="0"/>
                </a:cubicBezTo>
                <a:cubicBezTo>
                  <a:pt x="26" y="0"/>
                  <a:pt x="13" y="1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4" name=""/>
          <p:cNvSpPr/>
          <p:nvPr/>
        </p:nvSpPr>
        <p:spPr>
          <a:xfrm>
            <a:off x="3683160" y="2804040"/>
            <a:ext cx="94680" cy="120600"/>
          </a:xfrm>
          <a:custGeom>
            <a:avLst/>
            <a:gdLst/>
            <a:ahLst/>
            <a:rect l="0" t="0" r="r" b="b"/>
            <a:pathLst>
              <a:path fill="none" w="263" h="335">
                <a:moveTo>
                  <a:pt x="263" y="0"/>
                </a:moveTo>
                <a:lnTo>
                  <a:pt x="263" y="0"/>
                </a:lnTo>
                <a:cubicBezTo>
                  <a:pt x="231" y="8"/>
                  <a:pt x="201" y="20"/>
                  <a:pt x="173" y="36"/>
                </a:cubicBezTo>
                <a:cubicBezTo>
                  <a:pt x="120" y="66"/>
                  <a:pt x="77" y="110"/>
                  <a:pt x="46" y="162"/>
                </a:cubicBezTo>
                <a:cubicBezTo>
                  <a:pt x="16" y="214"/>
                  <a:pt x="0" y="274"/>
                  <a:pt x="0" y="334"/>
                </a:cubicBezTo>
                <a:lnTo>
                  <a:pt x="0" y="33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5" name=""/>
          <p:cNvSpPr/>
          <p:nvPr/>
        </p:nvSpPr>
        <p:spPr>
          <a:xfrm>
            <a:off x="6311520" y="2802960"/>
            <a:ext cx="89640" cy="131040"/>
          </a:xfrm>
          <a:custGeom>
            <a:avLst/>
            <a:gdLst/>
            <a:ahLst/>
            <a:rect l="0" t="0" r="r" b="b"/>
            <a:pathLst>
              <a:path fill="none" w="249" h="364">
                <a:moveTo>
                  <a:pt x="248" y="364"/>
                </a:moveTo>
                <a:lnTo>
                  <a:pt x="248" y="364"/>
                </a:lnTo>
                <a:cubicBezTo>
                  <a:pt x="249" y="354"/>
                  <a:pt x="249" y="343"/>
                  <a:pt x="249" y="333"/>
                </a:cubicBezTo>
                <a:cubicBezTo>
                  <a:pt x="249" y="272"/>
                  <a:pt x="234" y="213"/>
                  <a:pt x="204" y="160"/>
                </a:cubicBezTo>
                <a:cubicBezTo>
                  <a:pt x="174" y="108"/>
                  <a:pt x="132" y="64"/>
                  <a:pt x="81" y="34"/>
                </a:cubicBezTo>
                <a:cubicBezTo>
                  <a:pt x="55" y="19"/>
                  <a:pt x="28" y="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6" name=""/>
          <p:cNvSpPr txBox="1"/>
          <p:nvPr/>
        </p:nvSpPr>
        <p:spPr>
          <a:xfrm>
            <a:off x="1692360" y="944640"/>
            <a:ext cx="5421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S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ithin Conventional Breaks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7" name=""/>
          <p:cNvSpPr/>
          <p:nvPr/>
        </p:nvSpPr>
        <p:spPr>
          <a:xfrm>
            <a:off x="3687840" y="4848120"/>
            <a:ext cx="2620800" cy="443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8" name=""/>
          <p:cNvSpPr/>
          <p:nvPr/>
        </p:nvSpPr>
        <p:spPr>
          <a:xfrm>
            <a:off x="3578400" y="4827960"/>
            <a:ext cx="88920" cy="119160"/>
          </a:xfrm>
          <a:custGeom>
            <a:avLst/>
            <a:gdLst/>
            <a:ahLst/>
            <a:rect l="0" t="0" r="r" b="b"/>
            <a:pathLst>
              <a:path fill="none" w="247" h="331">
                <a:moveTo>
                  <a:pt x="247" y="0"/>
                </a:moveTo>
                <a:lnTo>
                  <a:pt x="247" y="0"/>
                </a:lnTo>
                <a:cubicBezTo>
                  <a:pt x="221" y="8"/>
                  <a:pt x="196" y="19"/>
                  <a:pt x="172" y="32"/>
                </a:cubicBezTo>
                <a:cubicBezTo>
                  <a:pt x="120" y="62"/>
                  <a:pt x="76" y="106"/>
                  <a:pt x="46" y="158"/>
                </a:cubicBezTo>
                <a:cubicBezTo>
                  <a:pt x="16" y="211"/>
                  <a:pt x="0" y="270"/>
                  <a:pt x="0" y="331"/>
                </a:cubicBezTo>
                <a:lnTo>
                  <a:pt x="0" y="33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9" name=""/>
          <p:cNvSpPr/>
          <p:nvPr/>
        </p:nvSpPr>
        <p:spPr>
          <a:xfrm>
            <a:off x="6307200" y="5256360"/>
            <a:ext cx="71280" cy="165240"/>
          </a:xfrm>
          <a:custGeom>
            <a:avLst/>
            <a:gdLst/>
            <a:ahLst/>
            <a:rect l="0" t="0" r="r" b="b"/>
            <a:pathLst>
              <a:path fill="none" w="198" h="459">
                <a:moveTo>
                  <a:pt x="198" y="2"/>
                </a:moveTo>
                <a:lnTo>
                  <a:pt x="198" y="2"/>
                </a:lnTo>
                <a:cubicBezTo>
                  <a:pt x="191" y="1"/>
                  <a:pt x="184" y="0"/>
                  <a:pt x="178" y="0"/>
                </a:cubicBezTo>
                <a:cubicBezTo>
                  <a:pt x="146" y="0"/>
                  <a:pt x="116" y="15"/>
                  <a:pt x="89" y="43"/>
                </a:cubicBezTo>
                <a:cubicBezTo>
                  <a:pt x="62" y="71"/>
                  <a:pt x="39" y="111"/>
                  <a:pt x="24" y="159"/>
                </a:cubicBezTo>
                <a:cubicBezTo>
                  <a:pt x="8" y="208"/>
                  <a:pt x="0" y="262"/>
                  <a:pt x="0" y="318"/>
                </a:cubicBezTo>
                <a:cubicBezTo>
                  <a:pt x="0" y="367"/>
                  <a:pt x="6" y="415"/>
                  <a:pt x="18" y="4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0" name=""/>
          <p:cNvSpPr/>
          <p:nvPr/>
        </p:nvSpPr>
        <p:spPr>
          <a:xfrm>
            <a:off x="3559680" y="3417840"/>
            <a:ext cx="121680" cy="62280"/>
          </a:xfrm>
          <a:custGeom>
            <a:avLst/>
            <a:gdLst/>
            <a:ahLst/>
            <a:rect l="0" t="0" r="r" b="b"/>
            <a:pathLst>
              <a:path fill="none" w="338" h="173">
                <a:moveTo>
                  <a:pt x="338" y="2"/>
                </a:moveTo>
                <a:lnTo>
                  <a:pt x="338" y="2"/>
                </a:lnTo>
                <a:cubicBezTo>
                  <a:pt x="325" y="0"/>
                  <a:pt x="312" y="0"/>
                  <a:pt x="298" y="0"/>
                </a:cubicBezTo>
                <a:cubicBezTo>
                  <a:pt x="238" y="0"/>
                  <a:pt x="179" y="16"/>
                  <a:pt x="126" y="46"/>
                </a:cubicBezTo>
                <a:cubicBezTo>
                  <a:pt x="74" y="76"/>
                  <a:pt x="31" y="120"/>
                  <a:pt x="0" y="172"/>
                </a:cubicBezTo>
                <a:lnTo>
                  <a:pt x="0" y="17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1" name=""/>
          <p:cNvSpPr/>
          <p:nvPr/>
        </p:nvSpPr>
        <p:spPr>
          <a:xfrm>
            <a:off x="6480360" y="3416400"/>
            <a:ext cx="94320" cy="29520"/>
          </a:xfrm>
          <a:custGeom>
            <a:avLst/>
            <a:gdLst/>
            <a:ahLst/>
            <a:rect l="0" t="0" r="r" b="b"/>
            <a:pathLst>
              <a:path fill="none" w="262" h="82">
                <a:moveTo>
                  <a:pt x="262" y="82"/>
                </a:moveTo>
                <a:lnTo>
                  <a:pt x="262" y="82"/>
                </a:lnTo>
                <a:cubicBezTo>
                  <a:pt x="246" y="69"/>
                  <a:pt x="229" y="57"/>
                  <a:pt x="212" y="46"/>
                </a:cubicBezTo>
                <a:cubicBezTo>
                  <a:pt x="159" y="16"/>
                  <a:pt x="100" y="0"/>
                  <a:pt x="39" y="0"/>
                </a:cubicBezTo>
                <a:cubicBezTo>
                  <a:pt x="26" y="0"/>
                  <a:pt x="13" y="0"/>
                  <a:pt x="0" y="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2" name=""/>
          <p:cNvSpPr/>
          <p:nvPr/>
        </p:nvSpPr>
        <p:spPr>
          <a:xfrm>
            <a:off x="3537000" y="2521440"/>
            <a:ext cx="52920" cy="101520"/>
          </a:xfrm>
          <a:custGeom>
            <a:avLst/>
            <a:gdLst/>
            <a:ahLst/>
            <a:rect l="0" t="0" r="r" b="b"/>
            <a:pathLst>
              <a:path fill="none" w="147" h="282">
                <a:moveTo>
                  <a:pt x="147" y="0"/>
                </a:moveTo>
                <a:lnTo>
                  <a:pt x="147" y="0"/>
                </a:lnTo>
                <a:cubicBezTo>
                  <a:pt x="106" y="29"/>
                  <a:pt x="71" y="66"/>
                  <a:pt x="46" y="110"/>
                </a:cubicBezTo>
                <a:cubicBezTo>
                  <a:pt x="16" y="162"/>
                  <a:pt x="0" y="221"/>
                  <a:pt x="0" y="282"/>
                </a:cubicBezTo>
                <a:lnTo>
                  <a:pt x="0" y="28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3" name=""/>
          <p:cNvSpPr/>
          <p:nvPr/>
        </p:nvSpPr>
        <p:spPr>
          <a:xfrm>
            <a:off x="6567120" y="2520720"/>
            <a:ext cx="35280" cy="99000"/>
          </a:xfrm>
          <a:custGeom>
            <a:avLst/>
            <a:gdLst/>
            <a:ahLst/>
            <a:rect l="0" t="0" r="r" b="b"/>
            <a:pathLst>
              <a:path fill="none" w="98" h="275">
                <a:moveTo>
                  <a:pt x="97" y="275"/>
                </a:moveTo>
                <a:lnTo>
                  <a:pt x="97" y="275"/>
                </a:lnTo>
                <a:cubicBezTo>
                  <a:pt x="98" y="265"/>
                  <a:pt x="98" y="254"/>
                  <a:pt x="98" y="244"/>
                </a:cubicBezTo>
                <a:cubicBezTo>
                  <a:pt x="98" y="183"/>
                  <a:pt x="83" y="123"/>
                  <a:pt x="53" y="71"/>
                </a:cubicBezTo>
                <a:cubicBezTo>
                  <a:pt x="38" y="45"/>
                  <a:pt x="21" y="21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47880" bIns="47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4" name=""/>
          <p:cNvSpPr/>
          <p:nvPr/>
        </p:nvSpPr>
        <p:spPr>
          <a:xfrm>
            <a:off x="3571920" y="5629320"/>
            <a:ext cx="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5" name=""/>
          <p:cNvSpPr/>
          <p:nvPr/>
        </p:nvSpPr>
        <p:spPr>
          <a:xfrm>
            <a:off x="3600360" y="567216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6" name=""/>
          <p:cNvSpPr/>
          <p:nvPr/>
        </p:nvSpPr>
        <p:spPr>
          <a:xfrm>
            <a:off x="6486480" y="5629320"/>
            <a:ext cx="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7" name=""/>
          <p:cNvSpPr/>
          <p:nvPr/>
        </p:nvSpPr>
        <p:spPr>
          <a:xfrm>
            <a:off x="6529320" y="5572080"/>
            <a:ext cx="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8" name=""/>
          <p:cNvSpPr/>
          <p:nvPr/>
        </p:nvSpPr>
        <p:spPr>
          <a:xfrm>
            <a:off x="4262400" y="4591080"/>
            <a:ext cx="1486080" cy="139536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9" name=""/>
          <p:cNvSpPr/>
          <p:nvPr/>
        </p:nvSpPr>
        <p:spPr>
          <a:xfrm>
            <a:off x="4629240" y="4838760"/>
            <a:ext cx="736920" cy="989280"/>
          </a:xfrm>
          <a:custGeom>
            <a:avLst/>
            <a:gdLst/>
            <a:ahLst/>
            <a:rect l="0" t="0" r="r" b="b"/>
            <a:pathLst>
              <a:path w="2047" h="2748">
                <a:moveTo>
                  <a:pt x="154" y="0"/>
                </a:moveTo>
                <a:lnTo>
                  <a:pt x="1879" y="0"/>
                </a:lnTo>
                <a:lnTo>
                  <a:pt x="2047" y="167"/>
                </a:lnTo>
                <a:lnTo>
                  <a:pt x="2047" y="471"/>
                </a:lnTo>
                <a:lnTo>
                  <a:pt x="1901" y="617"/>
                </a:lnTo>
                <a:lnTo>
                  <a:pt x="1504" y="617"/>
                </a:lnTo>
                <a:lnTo>
                  <a:pt x="1372" y="749"/>
                </a:lnTo>
                <a:lnTo>
                  <a:pt x="1372" y="1928"/>
                </a:lnTo>
                <a:lnTo>
                  <a:pt x="1522" y="2077"/>
                </a:lnTo>
                <a:lnTo>
                  <a:pt x="1892" y="2077"/>
                </a:lnTo>
                <a:lnTo>
                  <a:pt x="2047" y="2232"/>
                </a:lnTo>
                <a:lnTo>
                  <a:pt x="2047" y="2580"/>
                </a:lnTo>
                <a:lnTo>
                  <a:pt x="1879" y="2748"/>
                </a:lnTo>
                <a:lnTo>
                  <a:pt x="158" y="2748"/>
                </a:lnTo>
                <a:lnTo>
                  <a:pt x="0" y="2589"/>
                </a:lnTo>
                <a:lnTo>
                  <a:pt x="0" y="2249"/>
                </a:lnTo>
                <a:lnTo>
                  <a:pt x="176" y="2073"/>
                </a:lnTo>
                <a:lnTo>
                  <a:pt x="524" y="2073"/>
                </a:lnTo>
                <a:lnTo>
                  <a:pt x="696" y="1901"/>
                </a:lnTo>
                <a:lnTo>
                  <a:pt x="696" y="749"/>
                </a:lnTo>
                <a:lnTo>
                  <a:pt x="564" y="617"/>
                </a:lnTo>
                <a:lnTo>
                  <a:pt x="154" y="617"/>
                </a:lnTo>
                <a:lnTo>
                  <a:pt x="8" y="471"/>
                </a:lnTo>
                <a:lnTo>
                  <a:pt x="8" y="141"/>
                </a:lnTo>
                <a:lnTo>
                  <a:pt x="149" y="0"/>
                </a:lnTo>
                <a:lnTo>
                  <a:pt x="154" y="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0" name=""/>
          <p:cNvGrpSpPr/>
          <p:nvPr/>
        </p:nvGrpSpPr>
        <p:grpSpPr>
          <a:xfrm>
            <a:off x="5002200" y="4541760"/>
            <a:ext cx="0" cy="1676520"/>
            <a:chOff x="5002200" y="4541760"/>
            <a:chExt cx="0" cy="1676520"/>
          </a:xfrm>
        </p:grpSpPr>
        <p:sp>
          <p:nvSpPr>
            <p:cNvPr id="9321" name=""/>
            <p:cNvSpPr/>
            <p:nvPr/>
          </p:nvSpPr>
          <p:spPr>
            <a:xfrm>
              <a:off x="5002200" y="4541760"/>
              <a:ext cx="0" cy="781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5002200" y="53672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5002200" y="5526000"/>
              <a:ext cx="0" cy="69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4" name=""/>
          <p:cNvSpPr/>
          <p:nvPr/>
        </p:nvSpPr>
        <p:spPr>
          <a:xfrm>
            <a:off x="5734080" y="4967280"/>
            <a:ext cx="28800" cy="857520"/>
          </a:xfrm>
          <a:custGeom>
            <a:avLst/>
            <a:gdLst/>
            <a:ahLst/>
            <a:rect l="0" t="0" r="r" b="b"/>
            <a:pathLst>
              <a:path fill="none" w="80" h="2382">
                <a:moveTo>
                  <a:pt x="39" y="0"/>
                </a:moveTo>
                <a:lnTo>
                  <a:pt x="53" y="39"/>
                </a:lnTo>
                <a:lnTo>
                  <a:pt x="53" y="79"/>
                </a:lnTo>
                <a:lnTo>
                  <a:pt x="39" y="119"/>
                </a:lnTo>
                <a:lnTo>
                  <a:pt x="26" y="158"/>
                </a:lnTo>
                <a:lnTo>
                  <a:pt x="13" y="198"/>
                </a:lnTo>
                <a:lnTo>
                  <a:pt x="0" y="291"/>
                </a:lnTo>
                <a:lnTo>
                  <a:pt x="0" y="357"/>
                </a:lnTo>
                <a:lnTo>
                  <a:pt x="0" y="396"/>
                </a:lnTo>
                <a:lnTo>
                  <a:pt x="0" y="449"/>
                </a:lnTo>
                <a:lnTo>
                  <a:pt x="13" y="489"/>
                </a:lnTo>
                <a:lnTo>
                  <a:pt x="26" y="529"/>
                </a:lnTo>
                <a:lnTo>
                  <a:pt x="39" y="568"/>
                </a:lnTo>
                <a:lnTo>
                  <a:pt x="53" y="608"/>
                </a:lnTo>
                <a:lnTo>
                  <a:pt x="67" y="661"/>
                </a:lnTo>
                <a:lnTo>
                  <a:pt x="80" y="727"/>
                </a:lnTo>
                <a:lnTo>
                  <a:pt x="67" y="767"/>
                </a:lnTo>
                <a:lnTo>
                  <a:pt x="67" y="820"/>
                </a:lnTo>
                <a:lnTo>
                  <a:pt x="39" y="899"/>
                </a:lnTo>
                <a:lnTo>
                  <a:pt x="39" y="992"/>
                </a:lnTo>
                <a:lnTo>
                  <a:pt x="26" y="1045"/>
                </a:lnTo>
                <a:lnTo>
                  <a:pt x="26" y="1111"/>
                </a:lnTo>
                <a:lnTo>
                  <a:pt x="13" y="1150"/>
                </a:lnTo>
                <a:lnTo>
                  <a:pt x="13" y="1218"/>
                </a:lnTo>
                <a:lnTo>
                  <a:pt x="13" y="1310"/>
                </a:lnTo>
                <a:lnTo>
                  <a:pt x="26" y="1363"/>
                </a:lnTo>
                <a:lnTo>
                  <a:pt x="26" y="1416"/>
                </a:lnTo>
                <a:lnTo>
                  <a:pt x="26" y="1495"/>
                </a:lnTo>
                <a:lnTo>
                  <a:pt x="26" y="1535"/>
                </a:lnTo>
                <a:lnTo>
                  <a:pt x="26" y="1614"/>
                </a:lnTo>
                <a:lnTo>
                  <a:pt x="26" y="1654"/>
                </a:lnTo>
                <a:lnTo>
                  <a:pt x="26" y="1694"/>
                </a:lnTo>
                <a:lnTo>
                  <a:pt x="26" y="1734"/>
                </a:lnTo>
                <a:lnTo>
                  <a:pt x="39" y="1773"/>
                </a:lnTo>
                <a:lnTo>
                  <a:pt x="53" y="1813"/>
                </a:lnTo>
                <a:lnTo>
                  <a:pt x="53" y="1853"/>
                </a:lnTo>
                <a:lnTo>
                  <a:pt x="53" y="1892"/>
                </a:lnTo>
                <a:lnTo>
                  <a:pt x="53" y="1932"/>
                </a:lnTo>
                <a:lnTo>
                  <a:pt x="53" y="1972"/>
                </a:lnTo>
                <a:lnTo>
                  <a:pt x="53" y="2011"/>
                </a:lnTo>
                <a:lnTo>
                  <a:pt x="53" y="2077"/>
                </a:lnTo>
                <a:lnTo>
                  <a:pt x="53" y="2117"/>
                </a:lnTo>
                <a:lnTo>
                  <a:pt x="53" y="2157"/>
                </a:lnTo>
                <a:lnTo>
                  <a:pt x="53" y="2197"/>
                </a:lnTo>
                <a:lnTo>
                  <a:pt x="53" y="2236"/>
                </a:lnTo>
                <a:lnTo>
                  <a:pt x="53" y="2276"/>
                </a:lnTo>
                <a:lnTo>
                  <a:pt x="53" y="2342"/>
                </a:lnTo>
                <a:lnTo>
                  <a:pt x="53" y="238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5" name=""/>
          <p:cNvSpPr/>
          <p:nvPr/>
        </p:nvSpPr>
        <p:spPr>
          <a:xfrm>
            <a:off x="4228920" y="4714920"/>
            <a:ext cx="33840" cy="1114920"/>
          </a:xfrm>
          <a:custGeom>
            <a:avLst/>
            <a:gdLst/>
            <a:ahLst/>
            <a:rect l="0" t="0" r="r" b="b"/>
            <a:pathLst>
              <a:path fill="none" w="94" h="3097">
                <a:moveTo>
                  <a:pt x="81" y="0"/>
                </a:moveTo>
                <a:lnTo>
                  <a:pt x="94" y="39"/>
                </a:lnTo>
                <a:lnTo>
                  <a:pt x="94" y="79"/>
                </a:lnTo>
                <a:lnTo>
                  <a:pt x="94" y="119"/>
                </a:lnTo>
                <a:lnTo>
                  <a:pt x="94" y="158"/>
                </a:lnTo>
                <a:lnTo>
                  <a:pt x="94" y="211"/>
                </a:lnTo>
                <a:lnTo>
                  <a:pt x="94" y="251"/>
                </a:lnTo>
                <a:lnTo>
                  <a:pt x="94" y="291"/>
                </a:lnTo>
                <a:lnTo>
                  <a:pt x="81" y="343"/>
                </a:lnTo>
                <a:lnTo>
                  <a:pt x="67" y="383"/>
                </a:lnTo>
                <a:lnTo>
                  <a:pt x="67" y="423"/>
                </a:lnTo>
                <a:lnTo>
                  <a:pt x="67" y="489"/>
                </a:lnTo>
                <a:lnTo>
                  <a:pt x="67" y="542"/>
                </a:lnTo>
                <a:lnTo>
                  <a:pt x="67" y="595"/>
                </a:lnTo>
                <a:lnTo>
                  <a:pt x="67" y="648"/>
                </a:lnTo>
                <a:lnTo>
                  <a:pt x="67" y="701"/>
                </a:lnTo>
                <a:lnTo>
                  <a:pt x="67" y="740"/>
                </a:lnTo>
                <a:lnTo>
                  <a:pt x="67" y="807"/>
                </a:lnTo>
                <a:lnTo>
                  <a:pt x="53" y="874"/>
                </a:lnTo>
                <a:lnTo>
                  <a:pt x="40" y="913"/>
                </a:lnTo>
                <a:lnTo>
                  <a:pt x="13" y="966"/>
                </a:lnTo>
                <a:lnTo>
                  <a:pt x="0" y="1059"/>
                </a:lnTo>
                <a:lnTo>
                  <a:pt x="0" y="1099"/>
                </a:lnTo>
                <a:lnTo>
                  <a:pt x="0" y="1138"/>
                </a:lnTo>
                <a:lnTo>
                  <a:pt x="27" y="1218"/>
                </a:lnTo>
                <a:lnTo>
                  <a:pt x="40" y="1257"/>
                </a:lnTo>
                <a:lnTo>
                  <a:pt x="53" y="1297"/>
                </a:lnTo>
                <a:lnTo>
                  <a:pt x="67" y="1337"/>
                </a:lnTo>
                <a:lnTo>
                  <a:pt x="67" y="1403"/>
                </a:lnTo>
                <a:lnTo>
                  <a:pt x="53" y="1469"/>
                </a:lnTo>
                <a:lnTo>
                  <a:pt x="40" y="1562"/>
                </a:lnTo>
                <a:lnTo>
                  <a:pt x="27" y="1601"/>
                </a:lnTo>
                <a:lnTo>
                  <a:pt x="27" y="1641"/>
                </a:lnTo>
                <a:lnTo>
                  <a:pt x="27" y="1681"/>
                </a:lnTo>
                <a:lnTo>
                  <a:pt x="27" y="1760"/>
                </a:lnTo>
                <a:lnTo>
                  <a:pt x="27" y="1800"/>
                </a:lnTo>
                <a:lnTo>
                  <a:pt x="40" y="1839"/>
                </a:lnTo>
                <a:lnTo>
                  <a:pt x="53" y="1879"/>
                </a:lnTo>
                <a:lnTo>
                  <a:pt x="53" y="1919"/>
                </a:lnTo>
                <a:lnTo>
                  <a:pt x="67" y="1958"/>
                </a:lnTo>
                <a:lnTo>
                  <a:pt x="81" y="2025"/>
                </a:lnTo>
                <a:lnTo>
                  <a:pt x="81" y="2091"/>
                </a:lnTo>
                <a:lnTo>
                  <a:pt x="81" y="2130"/>
                </a:lnTo>
                <a:lnTo>
                  <a:pt x="81" y="2170"/>
                </a:lnTo>
                <a:lnTo>
                  <a:pt x="81" y="2210"/>
                </a:lnTo>
                <a:lnTo>
                  <a:pt x="81" y="2249"/>
                </a:lnTo>
                <a:lnTo>
                  <a:pt x="81" y="2302"/>
                </a:lnTo>
                <a:lnTo>
                  <a:pt x="81" y="2343"/>
                </a:lnTo>
                <a:lnTo>
                  <a:pt x="81" y="2383"/>
                </a:lnTo>
                <a:lnTo>
                  <a:pt x="81" y="2449"/>
                </a:lnTo>
                <a:lnTo>
                  <a:pt x="81" y="2489"/>
                </a:lnTo>
                <a:lnTo>
                  <a:pt x="81" y="2555"/>
                </a:lnTo>
                <a:lnTo>
                  <a:pt x="81" y="2594"/>
                </a:lnTo>
                <a:lnTo>
                  <a:pt x="67" y="2634"/>
                </a:lnTo>
                <a:lnTo>
                  <a:pt x="53" y="2674"/>
                </a:lnTo>
                <a:lnTo>
                  <a:pt x="53" y="2713"/>
                </a:lnTo>
                <a:lnTo>
                  <a:pt x="40" y="2766"/>
                </a:lnTo>
                <a:lnTo>
                  <a:pt x="40" y="2819"/>
                </a:lnTo>
                <a:lnTo>
                  <a:pt x="40" y="2899"/>
                </a:lnTo>
                <a:lnTo>
                  <a:pt x="40" y="2952"/>
                </a:lnTo>
                <a:lnTo>
                  <a:pt x="40" y="2991"/>
                </a:lnTo>
                <a:lnTo>
                  <a:pt x="53" y="3057"/>
                </a:lnTo>
                <a:lnTo>
                  <a:pt x="81" y="309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6" name=""/>
          <p:cNvSpPr/>
          <p:nvPr/>
        </p:nvSpPr>
        <p:spPr>
          <a:xfrm>
            <a:off x="3705120" y="4643280"/>
            <a:ext cx="81360" cy="190800"/>
          </a:xfrm>
          <a:custGeom>
            <a:avLst/>
            <a:gdLst/>
            <a:ahLst/>
            <a:rect l="0" t="0" r="r" b="b"/>
            <a:pathLst>
              <a:path w="226" h="530">
                <a:moveTo>
                  <a:pt x="16" y="0"/>
                </a:moveTo>
                <a:lnTo>
                  <a:pt x="226" y="24"/>
                </a:lnTo>
                <a:lnTo>
                  <a:pt x="226" y="530"/>
                </a:lnTo>
                <a:lnTo>
                  <a:pt x="0" y="517"/>
                </a:lnTo>
                <a:lnTo>
                  <a:pt x="16" y="0"/>
                </a:lnTo>
                <a:close/>
              </a:path>
            </a:pathLst>
          </a:cu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7" name=""/>
          <p:cNvSpPr/>
          <p:nvPr/>
        </p:nvSpPr>
        <p:spPr>
          <a:xfrm>
            <a:off x="3663720" y="4865760"/>
            <a:ext cx="121320" cy="96840"/>
          </a:xfrm>
          <a:custGeom>
            <a:avLst/>
            <a:gdLst/>
            <a:ahLst/>
            <a:rect l="0" t="0" r="r" b="b"/>
            <a:pathLst>
              <a:path fill="none" w="337" h="269">
                <a:moveTo>
                  <a:pt x="337" y="0"/>
                </a:moveTo>
                <a:lnTo>
                  <a:pt x="337" y="0"/>
                </a:lnTo>
                <a:lnTo>
                  <a:pt x="337" y="0"/>
                </a:lnTo>
                <a:cubicBezTo>
                  <a:pt x="276" y="0"/>
                  <a:pt x="217" y="16"/>
                  <a:pt x="164" y="46"/>
                </a:cubicBezTo>
                <a:cubicBezTo>
                  <a:pt x="112" y="76"/>
                  <a:pt x="68" y="120"/>
                  <a:pt x="38" y="172"/>
                </a:cubicBezTo>
                <a:cubicBezTo>
                  <a:pt x="20" y="202"/>
                  <a:pt x="8" y="235"/>
                  <a:pt x="0" y="26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8" name=""/>
          <p:cNvSpPr/>
          <p:nvPr/>
        </p:nvSpPr>
        <p:spPr>
          <a:xfrm>
            <a:off x="3662280" y="50245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9" name=""/>
          <p:cNvSpPr/>
          <p:nvPr/>
        </p:nvSpPr>
        <p:spPr>
          <a:xfrm>
            <a:off x="3691080" y="5057640"/>
            <a:ext cx="0" cy="31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0" name=""/>
          <p:cNvSpPr/>
          <p:nvPr/>
        </p:nvSpPr>
        <p:spPr>
          <a:xfrm>
            <a:off x="6553080" y="4772160"/>
            <a:ext cx="0" cy="10573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1" name=""/>
          <p:cNvSpPr/>
          <p:nvPr/>
        </p:nvSpPr>
        <p:spPr>
          <a:xfrm>
            <a:off x="7238880" y="476244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2" name=""/>
          <p:cNvSpPr/>
          <p:nvPr/>
        </p:nvSpPr>
        <p:spPr>
          <a:xfrm>
            <a:off x="3514680" y="4505400"/>
            <a:ext cx="0" cy="13240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3" name=""/>
          <p:cNvSpPr/>
          <p:nvPr/>
        </p:nvSpPr>
        <p:spPr>
          <a:xfrm>
            <a:off x="2514600" y="45054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4" name=""/>
          <p:cNvSpPr txBox="1"/>
          <p:nvPr/>
        </p:nvSpPr>
        <p:spPr>
          <a:xfrm>
            <a:off x="730080" y="38592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5" name=""/>
          <p:cNvSpPr txBox="1"/>
          <p:nvPr/>
        </p:nvSpPr>
        <p:spPr>
          <a:xfrm>
            <a:off x="471600" y="1859040"/>
            <a:ext cx="8326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the most complex conventions used in orthographic projection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ing is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aligned features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eatures are revolv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 the projection or cutting plane to provide greater clarity in relational and positional character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kes of wheels, ribs, holes, and webs in castings are classical exam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6" name=""/>
          <p:cNvSpPr txBox="1"/>
          <p:nvPr/>
        </p:nvSpPr>
        <p:spPr>
          <a:xfrm>
            <a:off x="1901880" y="1020600"/>
            <a:ext cx="54784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volved Features in Se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7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8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9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0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1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2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3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4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5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6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7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8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9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0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1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2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3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4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5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6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9357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8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9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9360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1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2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9363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4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5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9366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7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68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9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0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1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2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3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4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5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6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7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8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9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0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1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2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3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4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5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6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7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8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9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0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1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2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3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4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5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6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7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8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9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0" name=""/>
          <p:cNvSpPr/>
          <p:nvPr/>
        </p:nvSpPr>
        <p:spPr>
          <a:xfrm flipV="1">
            <a:off x="6615000" y="4243320"/>
            <a:ext cx="800280" cy="35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1" name=""/>
          <p:cNvSpPr/>
          <p:nvPr/>
        </p:nvSpPr>
        <p:spPr>
          <a:xfrm flipV="1">
            <a:off x="6615000" y="4262400"/>
            <a:ext cx="1452600" cy="652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2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3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4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5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6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7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8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9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0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1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2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3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4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5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6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7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8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9419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21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9422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24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9425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27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9428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9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30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1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2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3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4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5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6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7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8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9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0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1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2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3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4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5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6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7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8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9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0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1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2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3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4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5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6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7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8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9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0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1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2" name=""/>
          <p:cNvSpPr/>
          <p:nvPr/>
        </p:nvSpPr>
        <p:spPr>
          <a:xfrm flipV="1">
            <a:off x="6615000" y="4243320"/>
            <a:ext cx="800280" cy="35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3" name=""/>
          <p:cNvSpPr/>
          <p:nvPr/>
        </p:nvSpPr>
        <p:spPr>
          <a:xfrm flipV="1">
            <a:off x="6615000" y="4262400"/>
            <a:ext cx="1452600" cy="652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4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5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6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7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8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9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0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1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2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3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4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5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6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7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8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9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0" name=""/>
          <p:cNvSpPr txBox="1"/>
          <p:nvPr/>
        </p:nvSpPr>
        <p:spPr>
          <a:xfrm>
            <a:off x="4424400" y="5240160"/>
            <a:ext cx="1581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60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81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9482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3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4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9485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6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87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88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9489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91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92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9493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4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95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6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7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8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9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0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1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2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3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4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5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6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7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8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9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0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1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2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3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4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5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6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7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8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9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0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1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2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3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4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5" name=""/>
          <p:cNvSpPr/>
          <p:nvPr/>
        </p:nvSpPr>
        <p:spPr>
          <a:xfrm flipV="1">
            <a:off x="6615000" y="4243320"/>
            <a:ext cx="800280" cy="35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6" name=""/>
          <p:cNvSpPr/>
          <p:nvPr/>
        </p:nvSpPr>
        <p:spPr>
          <a:xfrm flipV="1">
            <a:off x="6615000" y="4262400"/>
            <a:ext cx="1452600" cy="652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7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8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9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0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1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2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3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4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5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6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7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8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9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0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1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2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3" name=""/>
          <p:cNvSpPr txBox="1"/>
          <p:nvPr/>
        </p:nvSpPr>
        <p:spPr>
          <a:xfrm>
            <a:off x="4178160" y="5383080"/>
            <a:ext cx="1898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tate the ang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ke into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ing pl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4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9545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6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47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9548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9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50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9551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2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53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9554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5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6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7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8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9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0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1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2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3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4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5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6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7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8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9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0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1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2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3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4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5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6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7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8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9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0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1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2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3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4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5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6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7" name=""/>
          <p:cNvSpPr/>
          <p:nvPr/>
        </p:nvSpPr>
        <p:spPr>
          <a:xfrm flipV="1">
            <a:off x="6615000" y="4243320"/>
            <a:ext cx="800280" cy="35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8" name=""/>
          <p:cNvSpPr/>
          <p:nvPr/>
        </p:nvSpPr>
        <p:spPr>
          <a:xfrm flipV="1">
            <a:off x="6615000" y="4262400"/>
            <a:ext cx="1452600" cy="652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9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0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1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2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3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4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5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6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7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8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9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0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1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2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3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4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5" name=""/>
          <p:cNvSpPr/>
          <p:nvPr/>
        </p:nvSpPr>
        <p:spPr>
          <a:xfrm>
            <a:off x="2614680" y="4240080"/>
            <a:ext cx="0" cy="125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6" name=""/>
          <p:cNvSpPr/>
          <p:nvPr/>
        </p:nvSpPr>
        <p:spPr>
          <a:xfrm>
            <a:off x="2963880" y="4240080"/>
            <a:ext cx="0" cy="125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7" name=""/>
          <p:cNvSpPr/>
          <p:nvPr/>
        </p:nvSpPr>
        <p:spPr>
          <a:xfrm>
            <a:off x="2787480" y="3797280"/>
            <a:ext cx="1099080" cy="636120"/>
          </a:xfrm>
          <a:custGeom>
            <a:avLst/>
            <a:gdLst/>
            <a:ahLst/>
            <a:rect l="0" t="0" r="r" b="b"/>
            <a:pathLst>
              <a:path fill="none" w="3053" h="1767">
                <a:moveTo>
                  <a:pt x="3053" y="0"/>
                </a:moveTo>
                <a:lnTo>
                  <a:pt x="3053" y="0"/>
                </a:lnTo>
                <a:lnTo>
                  <a:pt x="3053" y="0"/>
                </a:lnTo>
                <a:cubicBezTo>
                  <a:pt x="2408" y="0"/>
                  <a:pt x="1774" y="184"/>
                  <a:pt x="1216" y="534"/>
                </a:cubicBezTo>
                <a:cubicBezTo>
                  <a:pt x="729" y="838"/>
                  <a:pt x="313" y="1260"/>
                  <a:pt x="0" y="1767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8" name=""/>
          <p:cNvSpPr txBox="1"/>
          <p:nvPr/>
        </p:nvSpPr>
        <p:spPr>
          <a:xfrm>
            <a:off x="4178160" y="5383080"/>
            <a:ext cx="1898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tate the ang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ke into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ing pl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9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9610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2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9613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5" name=""/>
          <p:cNvSpPr/>
          <p:nvPr/>
        </p:nvSpPr>
        <p:spPr>
          <a:xfrm>
            <a:off x="3946680" y="4551480"/>
            <a:ext cx="347760" cy="380880"/>
          </a:xfrm>
          <a:prstGeom prst="ellipse">
            <a:avLst/>
          </a:prstGeom>
          <a:solidFill>
            <a:srgbClr val="0101ff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6" name=""/>
          <p:cNvSpPr/>
          <p:nvPr/>
        </p:nvSpPr>
        <p:spPr>
          <a:xfrm>
            <a:off x="3882960" y="4541760"/>
            <a:ext cx="332280" cy="354240"/>
          </a:xfrm>
          <a:custGeom>
            <a:avLst/>
            <a:gdLst/>
            <a:ahLst/>
            <a:rect l="0" t="0" r="r" b="b"/>
            <a:pathLst>
              <a:path w="923" h="984">
                <a:moveTo>
                  <a:pt x="923" y="176"/>
                </a:moveTo>
                <a:lnTo>
                  <a:pt x="459" y="984"/>
                </a:lnTo>
                <a:lnTo>
                  <a:pt x="0" y="706"/>
                </a:lnTo>
                <a:lnTo>
                  <a:pt x="154" y="154"/>
                </a:lnTo>
                <a:lnTo>
                  <a:pt x="605" y="0"/>
                </a:lnTo>
                <a:lnTo>
                  <a:pt x="923" y="176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17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9618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0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1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2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3" name=""/>
          <p:cNvGrpSpPr/>
          <p:nvPr/>
        </p:nvGrpSpPr>
        <p:grpSpPr>
          <a:xfrm>
            <a:off x="2611440" y="5249880"/>
            <a:ext cx="347760" cy="414360"/>
            <a:chOff x="2611440" y="5249880"/>
            <a:chExt cx="347760" cy="414360"/>
          </a:xfrm>
        </p:grpSpPr>
        <p:sp>
          <p:nvSpPr>
            <p:cNvPr id="9624" name=""/>
            <p:cNvSpPr/>
            <p:nvPr/>
          </p:nvSpPr>
          <p:spPr>
            <a:xfrm>
              <a:off x="2611440" y="528336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2620800" y="524988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662"/>
                  </a:moveTo>
                  <a:lnTo>
                    <a:pt x="927" y="662"/>
                  </a:lnTo>
                  <a:lnTo>
                    <a:pt x="913" y="132"/>
                  </a:lnTo>
                  <a:lnTo>
                    <a:pt x="357" y="0"/>
                  </a:lnTo>
                  <a:lnTo>
                    <a:pt x="0" y="304"/>
                  </a:lnTo>
                  <a:lnTo>
                    <a:pt x="0" y="662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6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19200" y="652320"/>
            <a:ext cx="7772400" cy="16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chanical Engineering 17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05000" y="2865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ing Graphic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0320" y="6375240"/>
            <a:ext cx="1871640" cy="387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Applications of Section Cutting Planes &amp; Design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00320" y="2811600"/>
            <a:ext cx="14475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6480" y="2811600"/>
            <a:ext cx="152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81400" y="2811600"/>
            <a:ext cx="152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14760" y="2811600"/>
            <a:ext cx="15238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15040" y="2811600"/>
            <a:ext cx="152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43720" y="2811600"/>
            <a:ext cx="152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8280" y="2811600"/>
            <a:ext cx="16765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303200" y="2398680"/>
            <a:ext cx="0" cy="415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28680" y="217476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624800" y="2430360"/>
            <a:ext cx="0" cy="384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1720" y="219708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0040" y="386712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79800" y="386856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82960" y="387036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86120" y="387036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65520" y="386712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21160" y="387180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9120" y="386856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4760" y="387360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392120" y="3459240"/>
            <a:ext cx="0" cy="415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17600" y="321948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453440" y="3475080"/>
            <a:ext cx="0" cy="399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78560" y="323532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06360" y="4865760"/>
            <a:ext cx="1627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95560" y="4865760"/>
            <a:ext cx="163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4760" y="4865760"/>
            <a:ext cx="185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5800" y="4865760"/>
            <a:ext cx="162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67480" y="4865760"/>
            <a:ext cx="1904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943760" y="4443480"/>
            <a:ext cx="0" cy="4363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869240" y="422424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35200" y="4489560"/>
            <a:ext cx="0" cy="3902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0320" y="422424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870440"/>
            <a:ext cx="247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77000" y="4870440"/>
            <a:ext cx="2667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69960" y="22320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832880" y="22510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65280" y="32418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765840" y="32608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12680" y="4270320"/>
            <a:ext cx="6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994440" y="4251240"/>
            <a:ext cx="6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7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8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9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0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1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2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3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4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5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6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7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8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9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0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1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2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3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4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5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6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7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8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9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0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1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2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3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4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5" name=""/>
          <p:cNvSpPr/>
          <p:nvPr/>
        </p:nvSpPr>
        <p:spPr>
          <a:xfrm flipV="1">
            <a:off x="6615000" y="4243320"/>
            <a:ext cx="800280" cy="35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6" name=""/>
          <p:cNvSpPr/>
          <p:nvPr/>
        </p:nvSpPr>
        <p:spPr>
          <a:xfrm flipV="1">
            <a:off x="6615000" y="4262400"/>
            <a:ext cx="1452600" cy="652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7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8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9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0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1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2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3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4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5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6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7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8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9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0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1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2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3" name=""/>
          <p:cNvSpPr/>
          <p:nvPr/>
        </p:nvSpPr>
        <p:spPr>
          <a:xfrm>
            <a:off x="2614680" y="4240080"/>
            <a:ext cx="0" cy="125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4" name=""/>
          <p:cNvSpPr/>
          <p:nvPr/>
        </p:nvSpPr>
        <p:spPr>
          <a:xfrm>
            <a:off x="2963880" y="4240080"/>
            <a:ext cx="0" cy="125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5" name=""/>
          <p:cNvSpPr/>
          <p:nvPr/>
        </p:nvSpPr>
        <p:spPr>
          <a:xfrm>
            <a:off x="2787480" y="3797280"/>
            <a:ext cx="1099080" cy="636120"/>
          </a:xfrm>
          <a:custGeom>
            <a:avLst/>
            <a:gdLst/>
            <a:ahLst/>
            <a:rect l="0" t="0" r="r" b="b"/>
            <a:pathLst>
              <a:path fill="none" w="3053" h="1767">
                <a:moveTo>
                  <a:pt x="3053" y="0"/>
                </a:moveTo>
                <a:lnTo>
                  <a:pt x="3053" y="0"/>
                </a:lnTo>
                <a:lnTo>
                  <a:pt x="3053" y="0"/>
                </a:lnTo>
                <a:cubicBezTo>
                  <a:pt x="2408" y="0"/>
                  <a:pt x="1774" y="184"/>
                  <a:pt x="1216" y="534"/>
                </a:cubicBezTo>
                <a:cubicBezTo>
                  <a:pt x="729" y="838"/>
                  <a:pt x="313" y="1260"/>
                  <a:pt x="0" y="1767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6" name=""/>
          <p:cNvSpPr txBox="1"/>
          <p:nvPr/>
        </p:nvSpPr>
        <p:spPr>
          <a:xfrm>
            <a:off x="4032360" y="1484280"/>
            <a:ext cx="21207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 rot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 into the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77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9678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0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9681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3" name=""/>
          <p:cNvSpPr/>
          <p:nvPr/>
        </p:nvSpPr>
        <p:spPr>
          <a:xfrm>
            <a:off x="3946680" y="4551480"/>
            <a:ext cx="347760" cy="380880"/>
          </a:xfrm>
          <a:prstGeom prst="ellipse">
            <a:avLst/>
          </a:prstGeom>
          <a:solidFill>
            <a:srgbClr val="0101ff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4" name=""/>
          <p:cNvSpPr/>
          <p:nvPr/>
        </p:nvSpPr>
        <p:spPr>
          <a:xfrm>
            <a:off x="3882960" y="4541760"/>
            <a:ext cx="332280" cy="354240"/>
          </a:xfrm>
          <a:custGeom>
            <a:avLst/>
            <a:gdLst/>
            <a:ahLst/>
            <a:rect l="0" t="0" r="r" b="b"/>
            <a:pathLst>
              <a:path w="923" h="984">
                <a:moveTo>
                  <a:pt x="923" y="176"/>
                </a:moveTo>
                <a:lnTo>
                  <a:pt x="459" y="984"/>
                </a:lnTo>
                <a:lnTo>
                  <a:pt x="0" y="706"/>
                </a:lnTo>
                <a:lnTo>
                  <a:pt x="154" y="154"/>
                </a:lnTo>
                <a:lnTo>
                  <a:pt x="605" y="0"/>
                </a:lnTo>
                <a:lnTo>
                  <a:pt x="923" y="176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85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9686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8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9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0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1" name=""/>
          <p:cNvGrpSpPr/>
          <p:nvPr/>
        </p:nvGrpSpPr>
        <p:grpSpPr>
          <a:xfrm>
            <a:off x="2611440" y="5249880"/>
            <a:ext cx="347760" cy="414360"/>
            <a:chOff x="2611440" y="5249880"/>
            <a:chExt cx="347760" cy="414360"/>
          </a:xfrm>
        </p:grpSpPr>
        <p:sp>
          <p:nvSpPr>
            <p:cNvPr id="9692" name=""/>
            <p:cNvSpPr/>
            <p:nvPr/>
          </p:nvSpPr>
          <p:spPr>
            <a:xfrm>
              <a:off x="2611440" y="528336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2620800" y="524988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662"/>
                  </a:moveTo>
                  <a:lnTo>
                    <a:pt x="927" y="662"/>
                  </a:lnTo>
                  <a:lnTo>
                    <a:pt x="913" y="132"/>
                  </a:lnTo>
                  <a:lnTo>
                    <a:pt x="357" y="0"/>
                  </a:lnTo>
                  <a:lnTo>
                    <a:pt x="0" y="304"/>
                  </a:lnTo>
                  <a:lnTo>
                    <a:pt x="0" y="662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4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5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6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7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8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9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0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1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2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3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4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5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6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7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8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9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0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1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2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3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4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5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6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7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8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9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0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1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2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3" name=""/>
          <p:cNvSpPr/>
          <p:nvPr/>
        </p:nvSpPr>
        <p:spPr>
          <a:xfrm flipV="1">
            <a:off x="6615000" y="4243320"/>
            <a:ext cx="800280" cy="35712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4" name=""/>
          <p:cNvSpPr/>
          <p:nvPr/>
        </p:nvSpPr>
        <p:spPr>
          <a:xfrm flipV="1">
            <a:off x="6615000" y="4262400"/>
            <a:ext cx="1452600" cy="6526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5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6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7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8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9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0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1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2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3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4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5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6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7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8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9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0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1" name=""/>
          <p:cNvSpPr/>
          <p:nvPr/>
        </p:nvSpPr>
        <p:spPr>
          <a:xfrm>
            <a:off x="2614680" y="4240080"/>
            <a:ext cx="0" cy="125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2" name=""/>
          <p:cNvSpPr/>
          <p:nvPr/>
        </p:nvSpPr>
        <p:spPr>
          <a:xfrm>
            <a:off x="2963880" y="4240080"/>
            <a:ext cx="0" cy="125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3" name=""/>
          <p:cNvSpPr/>
          <p:nvPr/>
        </p:nvSpPr>
        <p:spPr>
          <a:xfrm>
            <a:off x="2787480" y="3797280"/>
            <a:ext cx="1099080" cy="636120"/>
          </a:xfrm>
          <a:custGeom>
            <a:avLst/>
            <a:gdLst/>
            <a:ahLst/>
            <a:rect l="0" t="0" r="r" b="b"/>
            <a:pathLst>
              <a:path fill="none" w="3053" h="1767">
                <a:moveTo>
                  <a:pt x="3053" y="0"/>
                </a:moveTo>
                <a:lnTo>
                  <a:pt x="3053" y="0"/>
                </a:lnTo>
                <a:lnTo>
                  <a:pt x="3053" y="0"/>
                </a:lnTo>
                <a:cubicBezTo>
                  <a:pt x="2408" y="0"/>
                  <a:pt x="1774" y="184"/>
                  <a:pt x="1216" y="534"/>
                </a:cubicBezTo>
                <a:cubicBezTo>
                  <a:pt x="729" y="838"/>
                  <a:pt x="313" y="1260"/>
                  <a:pt x="0" y="1767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4" name=""/>
          <p:cNvSpPr/>
          <p:nvPr/>
        </p:nvSpPr>
        <p:spPr>
          <a:xfrm>
            <a:off x="3092400" y="5502240"/>
            <a:ext cx="2925720" cy="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5" name=""/>
          <p:cNvSpPr/>
          <p:nvPr/>
        </p:nvSpPr>
        <p:spPr>
          <a:xfrm flipV="1">
            <a:off x="6615000" y="4262400"/>
            <a:ext cx="1030320" cy="10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6" name=""/>
          <p:cNvSpPr/>
          <p:nvPr/>
        </p:nvSpPr>
        <p:spPr>
          <a:xfrm flipV="1">
            <a:off x="6600960" y="4262400"/>
            <a:ext cx="1466640" cy="146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7" name=""/>
          <p:cNvSpPr txBox="1"/>
          <p:nvPr/>
        </p:nvSpPr>
        <p:spPr>
          <a:xfrm>
            <a:off x="4032360" y="1484280"/>
            <a:ext cx="21207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 rot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 into the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48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9749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1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9752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3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54" name=""/>
          <p:cNvSpPr/>
          <p:nvPr/>
        </p:nvSpPr>
        <p:spPr>
          <a:xfrm>
            <a:off x="3946680" y="4551480"/>
            <a:ext cx="347760" cy="380880"/>
          </a:xfrm>
          <a:prstGeom prst="ellipse">
            <a:avLst/>
          </a:prstGeom>
          <a:solidFill>
            <a:srgbClr val="0101ff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5" name=""/>
          <p:cNvSpPr/>
          <p:nvPr/>
        </p:nvSpPr>
        <p:spPr>
          <a:xfrm>
            <a:off x="3882960" y="4541760"/>
            <a:ext cx="332280" cy="354240"/>
          </a:xfrm>
          <a:custGeom>
            <a:avLst/>
            <a:gdLst/>
            <a:ahLst/>
            <a:rect l="0" t="0" r="r" b="b"/>
            <a:pathLst>
              <a:path w="923" h="984">
                <a:moveTo>
                  <a:pt x="923" y="176"/>
                </a:moveTo>
                <a:lnTo>
                  <a:pt x="459" y="984"/>
                </a:lnTo>
                <a:lnTo>
                  <a:pt x="0" y="706"/>
                </a:lnTo>
                <a:lnTo>
                  <a:pt x="154" y="154"/>
                </a:lnTo>
                <a:lnTo>
                  <a:pt x="605" y="0"/>
                </a:lnTo>
                <a:lnTo>
                  <a:pt x="923" y="176"/>
                </a:lnTo>
                <a:close/>
              </a:path>
            </a:pathLst>
          </a:cu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56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9757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59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0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1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2" name=""/>
          <p:cNvGrpSpPr/>
          <p:nvPr/>
        </p:nvGrpSpPr>
        <p:grpSpPr>
          <a:xfrm>
            <a:off x="2611440" y="5249880"/>
            <a:ext cx="347760" cy="414360"/>
            <a:chOff x="2611440" y="5249880"/>
            <a:chExt cx="347760" cy="414360"/>
          </a:xfrm>
        </p:grpSpPr>
        <p:sp>
          <p:nvSpPr>
            <p:cNvPr id="9763" name=""/>
            <p:cNvSpPr/>
            <p:nvPr/>
          </p:nvSpPr>
          <p:spPr>
            <a:xfrm>
              <a:off x="2611440" y="528336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4" name=""/>
            <p:cNvSpPr/>
            <p:nvPr/>
          </p:nvSpPr>
          <p:spPr>
            <a:xfrm>
              <a:off x="2620800" y="524988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662"/>
                  </a:moveTo>
                  <a:lnTo>
                    <a:pt x="927" y="662"/>
                  </a:lnTo>
                  <a:lnTo>
                    <a:pt x="913" y="132"/>
                  </a:lnTo>
                  <a:lnTo>
                    <a:pt x="357" y="0"/>
                  </a:lnTo>
                  <a:lnTo>
                    <a:pt x="0" y="304"/>
                  </a:lnTo>
                  <a:lnTo>
                    <a:pt x="0" y="662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5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6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7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8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9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0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1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2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3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4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5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6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7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8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9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0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1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2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3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4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5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6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7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8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9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0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1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2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3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4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5" name=""/>
          <p:cNvSpPr/>
          <p:nvPr/>
        </p:nvSpPr>
        <p:spPr>
          <a:xfrm flipV="1">
            <a:off x="6615000" y="4262400"/>
            <a:ext cx="1030320" cy="10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6" name=""/>
          <p:cNvSpPr/>
          <p:nvPr/>
        </p:nvSpPr>
        <p:spPr>
          <a:xfrm flipV="1">
            <a:off x="6600960" y="4262400"/>
            <a:ext cx="1466640" cy="146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7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8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9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0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1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2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3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4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5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6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7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8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9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0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1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2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3" name=""/>
          <p:cNvSpPr txBox="1"/>
          <p:nvPr/>
        </p:nvSpPr>
        <p:spPr>
          <a:xfrm>
            <a:off x="4280040" y="5373720"/>
            <a:ext cx="1949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 the spo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far side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file 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4" name=""/>
          <p:cNvSpPr/>
          <p:nvPr/>
        </p:nvSpPr>
        <p:spPr>
          <a:xfrm flipV="1">
            <a:off x="6615000" y="4243320"/>
            <a:ext cx="800280" cy="35712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5" name=""/>
          <p:cNvSpPr/>
          <p:nvPr/>
        </p:nvSpPr>
        <p:spPr>
          <a:xfrm flipV="1">
            <a:off x="6615000" y="4262400"/>
            <a:ext cx="1452600" cy="6526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16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9817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8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19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9820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1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22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9823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4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25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9826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7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28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9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0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1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2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3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4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5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6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7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8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9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0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1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2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3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4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5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6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7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8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9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0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1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2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3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4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5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6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7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8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9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0" name=""/>
          <p:cNvSpPr/>
          <p:nvPr/>
        </p:nvSpPr>
        <p:spPr>
          <a:xfrm flipV="1">
            <a:off x="6615000" y="4262400"/>
            <a:ext cx="1030320" cy="10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1" name=""/>
          <p:cNvSpPr/>
          <p:nvPr/>
        </p:nvSpPr>
        <p:spPr>
          <a:xfrm flipV="1">
            <a:off x="6600960" y="4262400"/>
            <a:ext cx="1466640" cy="146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2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3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4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5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6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7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8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9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0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1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2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3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4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5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6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7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8" name=""/>
          <p:cNvSpPr txBox="1"/>
          <p:nvPr/>
        </p:nvSpPr>
        <p:spPr>
          <a:xfrm>
            <a:off x="3465360" y="6012000"/>
            <a:ext cx="3036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ct Pro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9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9880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1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82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9883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4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85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9886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7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88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9889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0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91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2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3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4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5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6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7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8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9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0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1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2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3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4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5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6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7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8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9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0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1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2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3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4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5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6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7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8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9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0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1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2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3" name=""/>
          <p:cNvSpPr/>
          <p:nvPr/>
        </p:nvSpPr>
        <p:spPr>
          <a:xfrm flipV="1">
            <a:off x="6615000" y="4262400"/>
            <a:ext cx="1030320" cy="10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4" name=""/>
          <p:cNvSpPr/>
          <p:nvPr/>
        </p:nvSpPr>
        <p:spPr>
          <a:xfrm flipV="1">
            <a:off x="6600960" y="4262400"/>
            <a:ext cx="1466640" cy="146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5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6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7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8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9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0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1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2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3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4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5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6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7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8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9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0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1" name=""/>
          <p:cNvSpPr txBox="1"/>
          <p:nvPr/>
        </p:nvSpPr>
        <p:spPr>
          <a:xfrm>
            <a:off x="4235400" y="1547640"/>
            <a:ext cx="19368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 the cu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e in the fro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42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9943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45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9946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7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48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9949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0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51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9952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3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54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5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6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7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8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9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0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1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2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3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4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5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6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7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8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9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0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1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2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3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4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5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6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7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8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9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0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1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2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3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4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5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6" name=""/>
          <p:cNvSpPr/>
          <p:nvPr/>
        </p:nvSpPr>
        <p:spPr>
          <a:xfrm flipV="1">
            <a:off x="6615000" y="4262400"/>
            <a:ext cx="1030320" cy="10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7" name=""/>
          <p:cNvSpPr/>
          <p:nvPr/>
        </p:nvSpPr>
        <p:spPr>
          <a:xfrm flipV="1">
            <a:off x="6600960" y="4262400"/>
            <a:ext cx="1466640" cy="146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8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9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0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1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2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3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4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5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6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7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8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9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0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1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2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3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4" name=""/>
          <p:cNvSpPr/>
          <p:nvPr/>
        </p:nvSpPr>
        <p:spPr>
          <a:xfrm flipV="1">
            <a:off x="2774880" y="1461960"/>
            <a:ext cx="0" cy="441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5" name=""/>
          <p:cNvSpPr/>
          <p:nvPr/>
        </p:nvSpPr>
        <p:spPr>
          <a:xfrm flipH="1">
            <a:off x="2406600" y="1461960"/>
            <a:ext cx="368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6" name=""/>
          <p:cNvSpPr/>
          <p:nvPr/>
        </p:nvSpPr>
        <p:spPr>
          <a:xfrm>
            <a:off x="2292480" y="1386000"/>
            <a:ext cx="313200" cy="165600"/>
          </a:xfrm>
          <a:custGeom>
            <a:avLst/>
            <a:gdLst/>
            <a:ahLst/>
            <a:rect l="0" t="0" r="r" b="b"/>
            <a:pathLst>
              <a:path w="870" h="460">
                <a:moveTo>
                  <a:pt x="870" y="460"/>
                </a:moveTo>
                <a:lnTo>
                  <a:pt x="870" y="0"/>
                </a:lnTo>
                <a:lnTo>
                  <a:pt x="0" y="230"/>
                </a:lnTo>
                <a:lnTo>
                  <a:pt x="870" y="4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7" name=""/>
          <p:cNvSpPr/>
          <p:nvPr/>
        </p:nvSpPr>
        <p:spPr>
          <a:xfrm>
            <a:off x="2774880" y="5840280"/>
            <a:ext cx="0" cy="405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8" name=""/>
          <p:cNvSpPr/>
          <p:nvPr/>
        </p:nvSpPr>
        <p:spPr>
          <a:xfrm flipH="1">
            <a:off x="2370240" y="6245280"/>
            <a:ext cx="40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9" name=""/>
          <p:cNvSpPr/>
          <p:nvPr/>
        </p:nvSpPr>
        <p:spPr>
          <a:xfrm>
            <a:off x="2276640" y="6172200"/>
            <a:ext cx="313200" cy="165600"/>
          </a:xfrm>
          <a:custGeom>
            <a:avLst/>
            <a:gdLst/>
            <a:ahLst/>
            <a:rect l="0" t="0" r="r" b="b"/>
            <a:pathLst>
              <a:path w="870" h="460">
                <a:moveTo>
                  <a:pt x="870" y="460"/>
                </a:moveTo>
                <a:lnTo>
                  <a:pt x="870" y="0"/>
                </a:lnTo>
                <a:lnTo>
                  <a:pt x="0" y="230"/>
                </a:lnTo>
                <a:lnTo>
                  <a:pt x="870" y="4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0" name=""/>
          <p:cNvSpPr txBox="1"/>
          <p:nvPr/>
        </p:nvSpPr>
        <p:spPr>
          <a:xfrm>
            <a:off x="4095720" y="5419800"/>
            <a:ext cx="2082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 the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 view into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11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10012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14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10015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6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17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10018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20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10021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3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4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5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6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7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8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9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0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1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2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3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4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5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6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7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8" name=""/>
          <p:cNvSpPr/>
          <p:nvPr/>
        </p:nvSpPr>
        <p:spPr>
          <a:xfrm flipV="1">
            <a:off x="2806560" y="1461960"/>
            <a:ext cx="0" cy="441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9" name=""/>
          <p:cNvSpPr/>
          <p:nvPr/>
        </p:nvSpPr>
        <p:spPr>
          <a:xfrm flipH="1">
            <a:off x="2438280" y="1461960"/>
            <a:ext cx="368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0" name=""/>
          <p:cNvSpPr/>
          <p:nvPr/>
        </p:nvSpPr>
        <p:spPr>
          <a:xfrm>
            <a:off x="2324160" y="1386000"/>
            <a:ext cx="313200" cy="165600"/>
          </a:xfrm>
          <a:custGeom>
            <a:avLst/>
            <a:gdLst/>
            <a:ahLst/>
            <a:rect l="0" t="0" r="r" b="b"/>
            <a:pathLst>
              <a:path w="870" h="460">
                <a:moveTo>
                  <a:pt x="870" y="460"/>
                </a:moveTo>
                <a:lnTo>
                  <a:pt x="870" y="0"/>
                </a:lnTo>
                <a:lnTo>
                  <a:pt x="0" y="230"/>
                </a:lnTo>
                <a:lnTo>
                  <a:pt x="870" y="4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1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2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3" name=""/>
          <p:cNvSpPr/>
          <p:nvPr/>
        </p:nvSpPr>
        <p:spPr>
          <a:xfrm>
            <a:off x="2806560" y="5840280"/>
            <a:ext cx="0" cy="405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4" name=""/>
          <p:cNvSpPr/>
          <p:nvPr/>
        </p:nvSpPr>
        <p:spPr>
          <a:xfrm flipH="1">
            <a:off x="2401920" y="6245280"/>
            <a:ext cx="40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5" name=""/>
          <p:cNvSpPr/>
          <p:nvPr/>
        </p:nvSpPr>
        <p:spPr>
          <a:xfrm>
            <a:off x="2308320" y="6172200"/>
            <a:ext cx="313200" cy="165600"/>
          </a:xfrm>
          <a:custGeom>
            <a:avLst/>
            <a:gdLst/>
            <a:ahLst/>
            <a:rect l="0" t="0" r="r" b="b"/>
            <a:pathLst>
              <a:path w="870" h="460">
                <a:moveTo>
                  <a:pt x="870" y="460"/>
                </a:moveTo>
                <a:lnTo>
                  <a:pt x="870" y="0"/>
                </a:lnTo>
                <a:lnTo>
                  <a:pt x="0" y="230"/>
                </a:lnTo>
                <a:lnTo>
                  <a:pt x="870" y="46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6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7" name=""/>
          <p:cNvSpPr/>
          <p:nvPr/>
        </p:nvSpPr>
        <p:spPr>
          <a:xfrm>
            <a:off x="27874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8" name=""/>
          <p:cNvSpPr/>
          <p:nvPr/>
        </p:nvSpPr>
        <p:spPr>
          <a:xfrm>
            <a:off x="2787480" y="4167360"/>
            <a:ext cx="0" cy="182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9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0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1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2" name=""/>
          <p:cNvSpPr/>
          <p:nvPr/>
        </p:nvSpPr>
        <p:spPr>
          <a:xfrm>
            <a:off x="6222960" y="5511960"/>
            <a:ext cx="385920" cy="387360"/>
          </a:xfrm>
          <a:prstGeom prst="ellipse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3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4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5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6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7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8" name=""/>
          <p:cNvSpPr/>
          <p:nvPr/>
        </p:nvSpPr>
        <p:spPr>
          <a:xfrm>
            <a:off x="6419880" y="2225520"/>
            <a:ext cx="1246320" cy="12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9" name=""/>
          <p:cNvSpPr/>
          <p:nvPr/>
        </p:nvSpPr>
        <p:spPr>
          <a:xfrm flipV="1">
            <a:off x="6383160" y="4262400"/>
            <a:ext cx="1262160" cy="12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0" name=""/>
          <p:cNvSpPr/>
          <p:nvPr/>
        </p:nvSpPr>
        <p:spPr>
          <a:xfrm flipV="1">
            <a:off x="6600960" y="4262400"/>
            <a:ext cx="1466640" cy="146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1" name=""/>
          <p:cNvSpPr/>
          <p:nvPr/>
        </p:nvSpPr>
        <p:spPr>
          <a:xfrm>
            <a:off x="6616800" y="2422440"/>
            <a:ext cx="0" cy="285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2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3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4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5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6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67" name=""/>
          <p:cNvGrpSpPr/>
          <p:nvPr/>
        </p:nvGrpSpPr>
        <p:grpSpPr>
          <a:xfrm>
            <a:off x="7415280" y="4044960"/>
            <a:ext cx="261720" cy="149040"/>
            <a:chOff x="7415280" y="4044960"/>
            <a:chExt cx="261720" cy="149040"/>
          </a:xfrm>
        </p:grpSpPr>
        <p:sp>
          <p:nvSpPr>
            <p:cNvPr id="10068" name=""/>
            <p:cNvSpPr/>
            <p:nvPr/>
          </p:nvSpPr>
          <p:spPr>
            <a:xfrm>
              <a:off x="7415280" y="4194000"/>
              <a:ext cx="125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9" name=""/>
            <p:cNvSpPr/>
            <p:nvPr/>
          </p:nvSpPr>
          <p:spPr>
            <a:xfrm flipV="1">
              <a:off x="7540560" y="412416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7540560" y="4124160"/>
              <a:ext cx="136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1" name=""/>
            <p:cNvSpPr/>
            <p:nvPr/>
          </p:nvSpPr>
          <p:spPr>
            <a:xfrm flipV="1">
              <a:off x="7677000" y="404496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72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3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4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5" name=""/>
          <p:cNvSpPr/>
          <p:nvPr/>
        </p:nvSpPr>
        <p:spPr>
          <a:xfrm>
            <a:off x="7405560" y="3465360"/>
            <a:ext cx="822600" cy="233640"/>
          </a:xfrm>
          <a:custGeom>
            <a:avLst/>
            <a:gdLst/>
            <a:ahLst/>
            <a:rect l="0" t="0" r="r" b="b"/>
            <a:pathLst>
              <a:path w="2285" h="649">
                <a:moveTo>
                  <a:pt x="0" y="0"/>
                </a:moveTo>
                <a:lnTo>
                  <a:pt x="2285" y="0"/>
                </a:lnTo>
                <a:lnTo>
                  <a:pt x="2285" y="649"/>
                </a:lnTo>
                <a:lnTo>
                  <a:pt x="757" y="649"/>
                </a:lnTo>
                <a:lnTo>
                  <a:pt x="757" y="436"/>
                </a:lnTo>
                <a:lnTo>
                  <a:pt x="368" y="436"/>
                </a:lnTo>
                <a:lnTo>
                  <a:pt x="368" y="244"/>
                </a:lnTo>
                <a:lnTo>
                  <a:pt x="10" y="2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6" name=""/>
          <p:cNvSpPr/>
          <p:nvPr/>
        </p:nvSpPr>
        <p:spPr>
          <a:xfrm>
            <a:off x="7400880" y="4044960"/>
            <a:ext cx="827280" cy="217800"/>
          </a:xfrm>
          <a:custGeom>
            <a:avLst/>
            <a:gdLst/>
            <a:ahLst/>
            <a:rect l="0" t="0" r="r" b="b"/>
            <a:pathLst>
              <a:path w="2298" h="605">
                <a:moveTo>
                  <a:pt x="0" y="414"/>
                </a:moveTo>
                <a:lnTo>
                  <a:pt x="381" y="414"/>
                </a:lnTo>
                <a:lnTo>
                  <a:pt x="381" y="211"/>
                </a:lnTo>
                <a:lnTo>
                  <a:pt x="762" y="211"/>
                </a:lnTo>
                <a:lnTo>
                  <a:pt x="762" y="0"/>
                </a:lnTo>
                <a:lnTo>
                  <a:pt x="2298" y="0"/>
                </a:lnTo>
                <a:lnTo>
                  <a:pt x="2298" y="605"/>
                </a:lnTo>
                <a:lnTo>
                  <a:pt x="0" y="605"/>
                </a:lnTo>
                <a:lnTo>
                  <a:pt x="0" y="414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7" name=""/>
          <p:cNvSpPr/>
          <p:nvPr/>
        </p:nvSpPr>
        <p:spPr>
          <a:xfrm>
            <a:off x="7677000" y="3645000"/>
            <a:ext cx="549360" cy="54000"/>
          </a:xfrm>
          <a:prstGeom prst="rect">
            <a:avLst/>
          </a:prstGeom>
          <a:solidFill>
            <a:srgbClr val="0101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8" name=""/>
          <p:cNvGrpSpPr/>
          <p:nvPr/>
        </p:nvGrpSpPr>
        <p:grpSpPr>
          <a:xfrm>
            <a:off x="2752560" y="3657600"/>
            <a:ext cx="60480" cy="66960"/>
            <a:chOff x="2752560" y="3657600"/>
            <a:chExt cx="60480" cy="66960"/>
          </a:xfrm>
        </p:grpSpPr>
        <p:sp>
          <p:nvSpPr>
            <p:cNvPr id="10079" name=""/>
            <p:cNvSpPr/>
            <p:nvPr/>
          </p:nvSpPr>
          <p:spPr>
            <a:xfrm>
              <a:off x="2752560" y="3657600"/>
              <a:ext cx="60480" cy="5076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2763720" y="3691080"/>
              <a:ext cx="36360" cy="3348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0101ff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81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2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83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10084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86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10087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8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89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10090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1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2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3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4" name=""/>
          <p:cNvSpPr/>
          <p:nvPr/>
        </p:nvSpPr>
        <p:spPr>
          <a:xfrm flipV="1">
            <a:off x="2786040" y="1812960"/>
            <a:ext cx="0" cy="182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5" name=""/>
          <p:cNvSpPr txBox="1"/>
          <p:nvPr/>
        </p:nvSpPr>
        <p:spPr>
          <a:xfrm>
            <a:off x="655560" y="1386000"/>
            <a:ext cx="77724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 Alternative Cutting Plane Placemen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6" name=""/>
          <p:cNvSpPr txBox="1"/>
          <p:nvPr/>
        </p:nvSpPr>
        <p:spPr>
          <a:xfrm>
            <a:off x="685800" y="6094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alternatives for the placement of the cutting plane in the preceding probl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sulting section view would be the same if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n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utting plane was used,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lternative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ol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ientation would produce the same section vi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8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9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0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1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2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3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4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5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6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7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8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9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0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1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2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3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4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5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6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7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8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9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0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1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2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3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4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5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6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7" name=""/>
          <p:cNvSpPr/>
          <p:nvPr/>
        </p:nvSpPr>
        <p:spPr>
          <a:xfrm flipV="1">
            <a:off x="6615000" y="4262400"/>
            <a:ext cx="1030320" cy="10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8" name=""/>
          <p:cNvSpPr/>
          <p:nvPr/>
        </p:nvSpPr>
        <p:spPr>
          <a:xfrm flipV="1">
            <a:off x="6600960" y="4262400"/>
            <a:ext cx="1466640" cy="146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9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0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1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2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3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4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5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6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7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8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9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0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1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2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3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4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5" name=""/>
          <p:cNvSpPr txBox="1"/>
          <p:nvPr/>
        </p:nvSpPr>
        <p:spPr>
          <a:xfrm>
            <a:off x="4219560" y="5187960"/>
            <a:ext cx="20574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 the cu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e such that 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s through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, along bo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k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46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10147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8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49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10150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1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2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10153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4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55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6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7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Applications of Section Cutting Planes &amp; Design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00320" y="2811600"/>
            <a:ext cx="14475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6480" y="2811600"/>
            <a:ext cx="152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81400" y="2811600"/>
            <a:ext cx="152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14760" y="2811600"/>
            <a:ext cx="15238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15040" y="2811600"/>
            <a:ext cx="152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43720" y="2811600"/>
            <a:ext cx="152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8280" y="2811600"/>
            <a:ext cx="16765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303200" y="2398680"/>
            <a:ext cx="0" cy="415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28680" y="217476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624800" y="2444760"/>
            <a:ext cx="0" cy="369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51720" y="219708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0040" y="386712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79800" y="386856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82960" y="387036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86120" y="387036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65520" y="386712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21160" y="387180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9120" y="386856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4760" y="3873600"/>
            <a:ext cx="6048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392120" y="3475080"/>
            <a:ext cx="0" cy="399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17600" y="321948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453440" y="3459240"/>
            <a:ext cx="0" cy="415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78560" y="323532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06360" y="4865760"/>
            <a:ext cx="1627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4865760"/>
            <a:ext cx="163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4760" y="4865760"/>
            <a:ext cx="185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5800" y="4865760"/>
            <a:ext cx="162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67480" y="4865760"/>
            <a:ext cx="1904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943760" y="4473720"/>
            <a:ext cx="0" cy="406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69240" y="422424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35200" y="4503600"/>
            <a:ext cx="0" cy="376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0320" y="4224240"/>
            <a:ext cx="125640" cy="294120"/>
          </a:xfrm>
          <a:custGeom>
            <a:avLst/>
            <a:gdLst/>
            <a:ahLst/>
            <a:rect l="0" t="0" r="r" b="b"/>
            <a:pathLst>
              <a:path w="349" h="817">
                <a:moveTo>
                  <a:pt x="0" y="817"/>
                </a:moveTo>
                <a:lnTo>
                  <a:pt x="349" y="817"/>
                </a:lnTo>
                <a:lnTo>
                  <a:pt x="174" y="0"/>
                </a:lnTo>
                <a:lnTo>
                  <a:pt x="0" y="8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4870440"/>
            <a:ext cx="247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77000" y="4870440"/>
            <a:ext cx="2667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282680" y="5875200"/>
            <a:ext cx="6365880" cy="0"/>
            <a:chOff x="1282680" y="5875200"/>
            <a:chExt cx="6365880" cy="0"/>
          </a:xfrm>
        </p:grpSpPr>
        <p:sp>
          <p:nvSpPr>
            <p:cNvPr id="324" name=""/>
            <p:cNvSpPr/>
            <p:nvPr/>
          </p:nvSpPr>
          <p:spPr>
            <a:xfrm>
              <a:off x="1282680" y="5875200"/>
              <a:ext cx="1627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71880" y="5875200"/>
              <a:ext cx="163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1080" y="5875200"/>
              <a:ext cx="185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42120" y="5875200"/>
              <a:ext cx="161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3440" y="5875200"/>
              <a:ext cx="190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"/>
          <p:cNvSpPr txBox="1"/>
          <p:nvPr/>
        </p:nvSpPr>
        <p:spPr>
          <a:xfrm>
            <a:off x="669960" y="22320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832880" y="22510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65280" y="32418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765840" y="32608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12680" y="4270320"/>
            <a:ext cx="6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994440" y="4251240"/>
            <a:ext cx="6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G Times (WN)"/>
                <a:ea typeface="CG Times (WN)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8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9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0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1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2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3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4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5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6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7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8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9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0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1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2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3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4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5" name=""/>
          <p:cNvSpPr/>
          <p:nvPr/>
        </p:nvSpPr>
        <p:spPr>
          <a:xfrm>
            <a:off x="27748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6" name=""/>
          <p:cNvSpPr/>
          <p:nvPr/>
        </p:nvSpPr>
        <p:spPr>
          <a:xfrm>
            <a:off x="2774880" y="4167360"/>
            <a:ext cx="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7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8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9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0" name=""/>
          <p:cNvSpPr/>
          <p:nvPr/>
        </p:nvSpPr>
        <p:spPr>
          <a:xfrm>
            <a:off x="6232680" y="5511960"/>
            <a:ext cx="385920" cy="387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1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2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3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4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5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6" name=""/>
          <p:cNvSpPr/>
          <p:nvPr/>
        </p:nvSpPr>
        <p:spPr>
          <a:xfrm>
            <a:off x="6615000" y="2430360"/>
            <a:ext cx="1051200" cy="10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7" name=""/>
          <p:cNvSpPr/>
          <p:nvPr/>
        </p:nvSpPr>
        <p:spPr>
          <a:xfrm flipV="1">
            <a:off x="6615000" y="4262400"/>
            <a:ext cx="1030320" cy="10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8" name=""/>
          <p:cNvSpPr/>
          <p:nvPr/>
        </p:nvSpPr>
        <p:spPr>
          <a:xfrm flipV="1">
            <a:off x="6600960" y="4262400"/>
            <a:ext cx="1466640" cy="146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9" name=""/>
          <p:cNvSpPr/>
          <p:nvPr/>
        </p:nvSpPr>
        <p:spPr>
          <a:xfrm>
            <a:off x="6616800" y="2016000"/>
            <a:ext cx="0" cy="367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0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1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2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3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4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5" name=""/>
          <p:cNvSpPr/>
          <p:nvPr/>
        </p:nvSpPr>
        <p:spPr>
          <a:xfrm>
            <a:off x="7415280" y="4194000"/>
            <a:ext cx="1252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6" name=""/>
          <p:cNvSpPr/>
          <p:nvPr/>
        </p:nvSpPr>
        <p:spPr>
          <a:xfrm flipV="1">
            <a:off x="7540560" y="4124160"/>
            <a:ext cx="0" cy="69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7" name=""/>
          <p:cNvSpPr/>
          <p:nvPr/>
        </p:nvSpPr>
        <p:spPr>
          <a:xfrm>
            <a:off x="7540560" y="412416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8" name=""/>
          <p:cNvSpPr/>
          <p:nvPr/>
        </p:nvSpPr>
        <p:spPr>
          <a:xfrm flipV="1">
            <a:off x="7677000" y="4044960"/>
            <a:ext cx="0" cy="792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9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0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1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2" name=""/>
          <p:cNvSpPr/>
          <p:nvPr/>
        </p:nvSpPr>
        <p:spPr>
          <a:xfrm>
            <a:off x="7675560" y="36385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3" name=""/>
          <p:cNvSpPr/>
          <p:nvPr/>
        </p:nvSpPr>
        <p:spPr>
          <a:xfrm>
            <a:off x="6238800" y="2044800"/>
            <a:ext cx="368280" cy="1936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4" name=""/>
          <p:cNvSpPr/>
          <p:nvPr/>
        </p:nvSpPr>
        <p:spPr>
          <a:xfrm>
            <a:off x="6238800" y="5448240"/>
            <a:ext cx="365040" cy="25704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5" name=""/>
          <p:cNvGrpSpPr/>
          <p:nvPr/>
        </p:nvGrpSpPr>
        <p:grpSpPr>
          <a:xfrm>
            <a:off x="2290680" y="1397160"/>
            <a:ext cx="2498760" cy="4119840"/>
            <a:chOff x="2290680" y="1397160"/>
            <a:chExt cx="2498760" cy="4119840"/>
          </a:xfrm>
        </p:grpSpPr>
        <p:sp>
          <p:nvSpPr>
            <p:cNvPr id="10206" name=""/>
            <p:cNvSpPr/>
            <p:nvPr/>
          </p:nvSpPr>
          <p:spPr>
            <a:xfrm flipV="1">
              <a:off x="2773440" y="1461960"/>
              <a:ext cx="0" cy="4413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7" name=""/>
            <p:cNvSpPr/>
            <p:nvPr/>
          </p:nvSpPr>
          <p:spPr>
            <a:xfrm flipH="1">
              <a:off x="2405160" y="1484280"/>
              <a:ext cx="3682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8" name=""/>
            <p:cNvSpPr/>
            <p:nvPr/>
          </p:nvSpPr>
          <p:spPr>
            <a:xfrm>
              <a:off x="2290680" y="1397160"/>
              <a:ext cx="313200" cy="165600"/>
            </a:xfrm>
            <a:custGeom>
              <a:avLst/>
              <a:gdLst/>
              <a:ahLst/>
              <a:rect l="0" t="0" r="r" b="b"/>
              <a:pathLst>
                <a:path w="870" h="460">
                  <a:moveTo>
                    <a:pt x="870" y="460"/>
                  </a:moveTo>
                  <a:lnTo>
                    <a:pt x="870" y="0"/>
                  </a:lnTo>
                  <a:lnTo>
                    <a:pt x="0" y="230"/>
                  </a:lnTo>
                  <a:lnTo>
                    <a:pt x="870" y="4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9" name=""/>
            <p:cNvSpPr/>
            <p:nvPr/>
          </p:nvSpPr>
          <p:spPr>
            <a:xfrm>
              <a:off x="4449600" y="4951440"/>
              <a:ext cx="339840" cy="2188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0" name=""/>
            <p:cNvSpPr/>
            <p:nvPr/>
          </p:nvSpPr>
          <p:spPr>
            <a:xfrm flipH="1">
              <a:off x="4557600" y="5148360"/>
              <a:ext cx="220680" cy="33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1" name=""/>
            <p:cNvSpPr/>
            <p:nvPr/>
          </p:nvSpPr>
          <p:spPr>
            <a:xfrm>
              <a:off x="4444920" y="5351400"/>
              <a:ext cx="313200" cy="165600"/>
            </a:xfrm>
            <a:custGeom>
              <a:avLst/>
              <a:gdLst/>
              <a:ahLst/>
              <a:rect l="0" t="0" r="r" b="b"/>
              <a:pathLst>
                <a:path w="870" h="460">
                  <a:moveTo>
                    <a:pt x="870" y="460"/>
                  </a:moveTo>
                  <a:lnTo>
                    <a:pt x="870" y="0"/>
                  </a:lnTo>
                  <a:lnTo>
                    <a:pt x="0" y="230"/>
                  </a:lnTo>
                  <a:lnTo>
                    <a:pt x="870" y="4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2" name=""/>
          <p:cNvSpPr txBox="1"/>
          <p:nvPr/>
        </p:nvSpPr>
        <p:spPr>
          <a:xfrm>
            <a:off x="4280040" y="1533600"/>
            <a:ext cx="1886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 the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into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section 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3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10214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5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6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10217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8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9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10220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1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2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3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4" name=""/>
          <p:cNvSpPr/>
          <p:nvPr/>
        </p:nvSpPr>
        <p:spPr>
          <a:xfrm flipV="1">
            <a:off x="2773440" y="1631880"/>
            <a:ext cx="0" cy="20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5" name=""/>
          <p:cNvSpPr/>
          <p:nvPr/>
        </p:nvSpPr>
        <p:spPr>
          <a:xfrm>
            <a:off x="750960" y="1832040"/>
            <a:ext cx="4078440" cy="4078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6" name=""/>
          <p:cNvSpPr/>
          <p:nvPr/>
        </p:nvSpPr>
        <p:spPr>
          <a:xfrm>
            <a:off x="2617920" y="3699000"/>
            <a:ext cx="343080" cy="343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7" name=""/>
          <p:cNvSpPr/>
          <p:nvPr/>
        </p:nvSpPr>
        <p:spPr>
          <a:xfrm>
            <a:off x="1158840" y="2239920"/>
            <a:ext cx="3262320" cy="326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8" name=""/>
          <p:cNvSpPr/>
          <p:nvPr/>
        </p:nvSpPr>
        <p:spPr>
          <a:xfrm>
            <a:off x="2398680" y="3479760"/>
            <a:ext cx="784080" cy="784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9" name=""/>
          <p:cNvSpPr/>
          <p:nvPr/>
        </p:nvSpPr>
        <p:spPr>
          <a:xfrm>
            <a:off x="2463840" y="3544920"/>
            <a:ext cx="652320" cy="652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0" name=""/>
          <p:cNvSpPr/>
          <p:nvPr/>
        </p:nvSpPr>
        <p:spPr>
          <a:xfrm>
            <a:off x="26067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1" name=""/>
          <p:cNvSpPr/>
          <p:nvPr/>
        </p:nvSpPr>
        <p:spPr>
          <a:xfrm>
            <a:off x="2955960" y="2251080"/>
            <a:ext cx="0" cy="12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2" name=""/>
          <p:cNvSpPr/>
          <p:nvPr/>
        </p:nvSpPr>
        <p:spPr>
          <a:xfrm>
            <a:off x="3197160" y="3927600"/>
            <a:ext cx="1032120" cy="66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3" name=""/>
          <p:cNvSpPr/>
          <p:nvPr/>
        </p:nvSpPr>
        <p:spPr>
          <a:xfrm>
            <a:off x="2987640" y="4222800"/>
            <a:ext cx="1041480" cy="68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4" name=""/>
          <p:cNvSpPr/>
          <p:nvPr/>
        </p:nvSpPr>
        <p:spPr>
          <a:xfrm flipH="1">
            <a:off x="1352520" y="3882960"/>
            <a:ext cx="1033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5" name=""/>
          <p:cNvSpPr/>
          <p:nvPr/>
        </p:nvSpPr>
        <p:spPr>
          <a:xfrm flipH="1">
            <a:off x="1542960" y="4186080"/>
            <a:ext cx="1046160" cy="73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6" name=""/>
          <p:cNvSpPr/>
          <p:nvPr/>
        </p:nvSpPr>
        <p:spPr>
          <a:xfrm>
            <a:off x="2544840" y="3625920"/>
            <a:ext cx="490680" cy="488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7" name=""/>
          <p:cNvSpPr/>
          <p:nvPr/>
        </p:nvSpPr>
        <p:spPr>
          <a:xfrm flipH="1">
            <a:off x="447840" y="3873600"/>
            <a:ext cx="20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8" name=""/>
          <p:cNvSpPr/>
          <p:nvPr/>
        </p:nvSpPr>
        <p:spPr>
          <a:xfrm>
            <a:off x="2643120" y="3871800"/>
            <a:ext cx="25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9" name=""/>
          <p:cNvSpPr/>
          <p:nvPr/>
        </p:nvSpPr>
        <p:spPr>
          <a:xfrm>
            <a:off x="3048120" y="387180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0" name=""/>
          <p:cNvSpPr/>
          <p:nvPr/>
        </p:nvSpPr>
        <p:spPr>
          <a:xfrm>
            <a:off x="2787480" y="3760920"/>
            <a:ext cx="0" cy="25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1" name=""/>
          <p:cNvSpPr/>
          <p:nvPr/>
        </p:nvSpPr>
        <p:spPr>
          <a:xfrm>
            <a:off x="2787480" y="4167360"/>
            <a:ext cx="0" cy="182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2" name=""/>
          <p:cNvSpPr/>
          <p:nvPr/>
        </p:nvSpPr>
        <p:spPr>
          <a:xfrm>
            <a:off x="6227640" y="1833480"/>
            <a:ext cx="387360" cy="387360"/>
          </a:xfrm>
          <a:prstGeom prst="ellipse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3" name=""/>
          <p:cNvSpPr/>
          <p:nvPr/>
        </p:nvSpPr>
        <p:spPr>
          <a:xfrm>
            <a:off x="7405560" y="347184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4" name=""/>
          <p:cNvSpPr/>
          <p:nvPr/>
        </p:nvSpPr>
        <p:spPr>
          <a:xfrm>
            <a:off x="7405560" y="4262400"/>
            <a:ext cx="822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5" name=""/>
          <p:cNvSpPr/>
          <p:nvPr/>
        </p:nvSpPr>
        <p:spPr>
          <a:xfrm>
            <a:off x="6222960" y="5511960"/>
            <a:ext cx="385920" cy="387360"/>
          </a:xfrm>
          <a:prstGeom prst="ellipse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6" name=""/>
          <p:cNvSpPr/>
          <p:nvPr/>
        </p:nvSpPr>
        <p:spPr>
          <a:xfrm>
            <a:off x="6227640" y="2044800"/>
            <a:ext cx="0" cy="36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7" name=""/>
          <p:cNvSpPr/>
          <p:nvPr/>
        </p:nvSpPr>
        <p:spPr>
          <a:xfrm>
            <a:off x="82281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8" name=""/>
          <p:cNvSpPr/>
          <p:nvPr/>
        </p:nvSpPr>
        <p:spPr>
          <a:xfrm>
            <a:off x="7678800" y="369900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9" name=""/>
          <p:cNvSpPr/>
          <p:nvPr/>
        </p:nvSpPr>
        <p:spPr>
          <a:xfrm>
            <a:off x="7678800" y="4044960"/>
            <a:ext cx="549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0" name=""/>
          <p:cNvSpPr/>
          <p:nvPr/>
        </p:nvSpPr>
        <p:spPr>
          <a:xfrm>
            <a:off x="6620040" y="2009880"/>
            <a:ext cx="1452240" cy="146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1" name=""/>
          <p:cNvSpPr/>
          <p:nvPr/>
        </p:nvSpPr>
        <p:spPr>
          <a:xfrm>
            <a:off x="6419880" y="2225520"/>
            <a:ext cx="1246320" cy="12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2" name=""/>
          <p:cNvSpPr/>
          <p:nvPr/>
        </p:nvSpPr>
        <p:spPr>
          <a:xfrm flipV="1">
            <a:off x="6383160" y="4262400"/>
            <a:ext cx="1262160" cy="12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3" name=""/>
          <p:cNvSpPr/>
          <p:nvPr/>
        </p:nvSpPr>
        <p:spPr>
          <a:xfrm flipV="1">
            <a:off x="6600960" y="4262400"/>
            <a:ext cx="1466640" cy="146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4" name=""/>
          <p:cNvSpPr/>
          <p:nvPr/>
        </p:nvSpPr>
        <p:spPr>
          <a:xfrm>
            <a:off x="6616800" y="2422440"/>
            <a:ext cx="0" cy="285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5" name=""/>
          <p:cNvSpPr/>
          <p:nvPr/>
        </p:nvSpPr>
        <p:spPr>
          <a:xfrm>
            <a:off x="7405560" y="347328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6" name=""/>
          <p:cNvSpPr/>
          <p:nvPr/>
        </p:nvSpPr>
        <p:spPr>
          <a:xfrm>
            <a:off x="7412040" y="3554280"/>
            <a:ext cx="127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7" name=""/>
          <p:cNvSpPr/>
          <p:nvPr/>
        </p:nvSpPr>
        <p:spPr>
          <a:xfrm>
            <a:off x="7539120" y="3554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8" name=""/>
          <p:cNvSpPr/>
          <p:nvPr/>
        </p:nvSpPr>
        <p:spPr>
          <a:xfrm>
            <a:off x="7539120" y="362268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9" name=""/>
          <p:cNvSpPr/>
          <p:nvPr/>
        </p:nvSpPr>
        <p:spPr>
          <a:xfrm>
            <a:off x="7675560" y="3622680"/>
            <a:ext cx="0" cy="433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0" name=""/>
          <p:cNvGrpSpPr/>
          <p:nvPr/>
        </p:nvGrpSpPr>
        <p:grpSpPr>
          <a:xfrm>
            <a:off x="7415280" y="4044960"/>
            <a:ext cx="261720" cy="149040"/>
            <a:chOff x="7415280" y="4044960"/>
            <a:chExt cx="261720" cy="149040"/>
          </a:xfrm>
        </p:grpSpPr>
        <p:sp>
          <p:nvSpPr>
            <p:cNvPr id="10261" name=""/>
            <p:cNvSpPr/>
            <p:nvPr/>
          </p:nvSpPr>
          <p:spPr>
            <a:xfrm>
              <a:off x="7415280" y="4194000"/>
              <a:ext cx="125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2" name=""/>
            <p:cNvSpPr/>
            <p:nvPr/>
          </p:nvSpPr>
          <p:spPr>
            <a:xfrm flipV="1">
              <a:off x="7540560" y="412416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3" name=""/>
            <p:cNvSpPr/>
            <p:nvPr/>
          </p:nvSpPr>
          <p:spPr>
            <a:xfrm>
              <a:off x="7540560" y="4124160"/>
              <a:ext cx="136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4" name=""/>
            <p:cNvSpPr/>
            <p:nvPr/>
          </p:nvSpPr>
          <p:spPr>
            <a:xfrm flipV="1">
              <a:off x="7677000" y="404496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65" name=""/>
          <p:cNvSpPr/>
          <p:nvPr/>
        </p:nvSpPr>
        <p:spPr>
          <a:xfrm flipH="1">
            <a:off x="7226280" y="3875040"/>
            <a:ext cx="12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6" name=""/>
          <p:cNvSpPr/>
          <p:nvPr/>
        </p:nvSpPr>
        <p:spPr>
          <a:xfrm flipH="1">
            <a:off x="6939000" y="387360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7" name=""/>
          <p:cNvSpPr/>
          <p:nvPr/>
        </p:nvSpPr>
        <p:spPr>
          <a:xfrm flipH="1">
            <a:off x="5877000" y="3873600"/>
            <a:ext cx="97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8" name=""/>
          <p:cNvSpPr/>
          <p:nvPr/>
        </p:nvSpPr>
        <p:spPr>
          <a:xfrm>
            <a:off x="7405560" y="3465360"/>
            <a:ext cx="822600" cy="233640"/>
          </a:xfrm>
          <a:custGeom>
            <a:avLst/>
            <a:gdLst/>
            <a:ahLst/>
            <a:rect l="0" t="0" r="r" b="b"/>
            <a:pathLst>
              <a:path w="2285" h="649">
                <a:moveTo>
                  <a:pt x="0" y="0"/>
                </a:moveTo>
                <a:lnTo>
                  <a:pt x="2285" y="0"/>
                </a:lnTo>
                <a:lnTo>
                  <a:pt x="2285" y="649"/>
                </a:lnTo>
                <a:lnTo>
                  <a:pt x="757" y="649"/>
                </a:lnTo>
                <a:lnTo>
                  <a:pt x="757" y="436"/>
                </a:lnTo>
                <a:lnTo>
                  <a:pt x="368" y="436"/>
                </a:lnTo>
                <a:lnTo>
                  <a:pt x="368" y="244"/>
                </a:lnTo>
                <a:lnTo>
                  <a:pt x="10" y="2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9" name=""/>
          <p:cNvSpPr/>
          <p:nvPr/>
        </p:nvSpPr>
        <p:spPr>
          <a:xfrm>
            <a:off x="7400880" y="4044960"/>
            <a:ext cx="827280" cy="217800"/>
          </a:xfrm>
          <a:custGeom>
            <a:avLst/>
            <a:gdLst/>
            <a:ahLst/>
            <a:rect l="0" t="0" r="r" b="b"/>
            <a:pathLst>
              <a:path w="2298" h="605">
                <a:moveTo>
                  <a:pt x="0" y="414"/>
                </a:moveTo>
                <a:lnTo>
                  <a:pt x="381" y="414"/>
                </a:lnTo>
                <a:lnTo>
                  <a:pt x="381" y="211"/>
                </a:lnTo>
                <a:lnTo>
                  <a:pt x="762" y="211"/>
                </a:lnTo>
                <a:lnTo>
                  <a:pt x="762" y="0"/>
                </a:lnTo>
                <a:lnTo>
                  <a:pt x="2298" y="0"/>
                </a:lnTo>
                <a:lnTo>
                  <a:pt x="2298" y="605"/>
                </a:lnTo>
                <a:lnTo>
                  <a:pt x="0" y="605"/>
                </a:lnTo>
                <a:lnTo>
                  <a:pt x="0" y="414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0" name=""/>
          <p:cNvSpPr/>
          <p:nvPr/>
        </p:nvSpPr>
        <p:spPr>
          <a:xfrm>
            <a:off x="7677000" y="3645000"/>
            <a:ext cx="549360" cy="54000"/>
          </a:xfrm>
          <a:prstGeom prst="rect">
            <a:avLst/>
          </a:prstGeom>
          <a:solidFill>
            <a:srgbClr val="0101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1" name=""/>
          <p:cNvSpPr/>
          <p:nvPr/>
        </p:nvSpPr>
        <p:spPr>
          <a:xfrm>
            <a:off x="2752560" y="3657600"/>
            <a:ext cx="60480" cy="50760"/>
          </a:xfrm>
          <a:prstGeom prst="rect">
            <a:avLst/>
          </a:prstGeom>
          <a:solidFill>
            <a:srgbClr val="0101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2" name=""/>
          <p:cNvSpPr/>
          <p:nvPr/>
        </p:nvSpPr>
        <p:spPr>
          <a:xfrm>
            <a:off x="2763720" y="3691080"/>
            <a:ext cx="36360" cy="334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3" name=""/>
          <p:cNvSpPr txBox="1"/>
          <p:nvPr/>
        </p:nvSpPr>
        <p:spPr>
          <a:xfrm>
            <a:off x="844560" y="880920"/>
            <a:ext cx="7240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4" name=""/>
          <p:cNvSpPr txBox="1"/>
          <p:nvPr/>
        </p:nvSpPr>
        <p:spPr>
          <a:xfrm>
            <a:off x="790560" y="29376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IGNED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5" name=""/>
          <p:cNvSpPr txBox="1"/>
          <p:nvPr/>
        </p:nvSpPr>
        <p:spPr>
          <a:xfrm>
            <a:off x="2954160" y="6064200"/>
            <a:ext cx="56451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ce that the spokes are not crosshatched even th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utting plane passes through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76" name=""/>
          <p:cNvGrpSpPr/>
          <p:nvPr/>
        </p:nvGrpSpPr>
        <p:grpSpPr>
          <a:xfrm>
            <a:off x="2290680" y="1397160"/>
            <a:ext cx="2498760" cy="4119840"/>
            <a:chOff x="2290680" y="1397160"/>
            <a:chExt cx="2498760" cy="4119840"/>
          </a:xfrm>
        </p:grpSpPr>
        <p:sp>
          <p:nvSpPr>
            <p:cNvPr id="10277" name=""/>
            <p:cNvSpPr/>
            <p:nvPr/>
          </p:nvSpPr>
          <p:spPr>
            <a:xfrm flipV="1">
              <a:off x="2773440" y="1461960"/>
              <a:ext cx="0" cy="4413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8" name=""/>
            <p:cNvSpPr/>
            <p:nvPr/>
          </p:nvSpPr>
          <p:spPr>
            <a:xfrm flipH="1">
              <a:off x="2405160" y="1484280"/>
              <a:ext cx="3682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9" name=""/>
            <p:cNvSpPr/>
            <p:nvPr/>
          </p:nvSpPr>
          <p:spPr>
            <a:xfrm>
              <a:off x="2290680" y="1397160"/>
              <a:ext cx="313200" cy="165600"/>
            </a:xfrm>
            <a:custGeom>
              <a:avLst/>
              <a:gdLst/>
              <a:ahLst/>
              <a:rect l="0" t="0" r="r" b="b"/>
              <a:pathLst>
                <a:path w="870" h="460">
                  <a:moveTo>
                    <a:pt x="870" y="460"/>
                  </a:moveTo>
                  <a:lnTo>
                    <a:pt x="870" y="0"/>
                  </a:lnTo>
                  <a:lnTo>
                    <a:pt x="0" y="230"/>
                  </a:lnTo>
                  <a:lnTo>
                    <a:pt x="870" y="4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0" name=""/>
            <p:cNvSpPr/>
            <p:nvPr/>
          </p:nvSpPr>
          <p:spPr>
            <a:xfrm>
              <a:off x="4449600" y="4951440"/>
              <a:ext cx="339840" cy="2188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1" name=""/>
            <p:cNvSpPr/>
            <p:nvPr/>
          </p:nvSpPr>
          <p:spPr>
            <a:xfrm flipH="1">
              <a:off x="4557600" y="5148360"/>
              <a:ext cx="220680" cy="33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2" name=""/>
            <p:cNvSpPr/>
            <p:nvPr/>
          </p:nvSpPr>
          <p:spPr>
            <a:xfrm>
              <a:off x="4444920" y="5351400"/>
              <a:ext cx="313200" cy="165600"/>
            </a:xfrm>
            <a:custGeom>
              <a:avLst/>
              <a:gdLst/>
              <a:ahLst/>
              <a:rect l="0" t="0" r="r" b="b"/>
              <a:pathLst>
                <a:path w="870" h="460">
                  <a:moveTo>
                    <a:pt x="870" y="460"/>
                  </a:moveTo>
                  <a:lnTo>
                    <a:pt x="870" y="0"/>
                  </a:lnTo>
                  <a:lnTo>
                    <a:pt x="0" y="230"/>
                  </a:lnTo>
                  <a:lnTo>
                    <a:pt x="870" y="4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3" name=""/>
          <p:cNvGrpSpPr/>
          <p:nvPr/>
        </p:nvGrpSpPr>
        <p:grpSpPr>
          <a:xfrm>
            <a:off x="2604960" y="2076480"/>
            <a:ext cx="347760" cy="414360"/>
            <a:chOff x="2604960" y="2076480"/>
            <a:chExt cx="347760" cy="414360"/>
          </a:xfrm>
        </p:grpSpPr>
        <p:sp>
          <p:nvSpPr>
            <p:cNvPr id="10284" name=""/>
            <p:cNvSpPr/>
            <p:nvPr/>
          </p:nvSpPr>
          <p:spPr>
            <a:xfrm>
              <a:off x="2604960" y="2076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5" name=""/>
            <p:cNvSpPr/>
            <p:nvPr/>
          </p:nvSpPr>
          <p:spPr>
            <a:xfrm>
              <a:off x="2614680" y="2252520"/>
              <a:ext cx="333720" cy="238320"/>
            </a:xfrm>
            <a:custGeom>
              <a:avLst/>
              <a:gdLst/>
              <a:ahLst/>
              <a:rect l="0" t="0" r="r" b="b"/>
              <a:pathLst>
                <a:path w="927" h="662">
                  <a:moveTo>
                    <a:pt x="0" y="0"/>
                  </a:moveTo>
                  <a:lnTo>
                    <a:pt x="927" y="0"/>
                  </a:lnTo>
                  <a:lnTo>
                    <a:pt x="913" y="530"/>
                  </a:lnTo>
                  <a:lnTo>
                    <a:pt x="357" y="662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6" name=""/>
          <p:cNvGrpSpPr/>
          <p:nvPr/>
        </p:nvGrpSpPr>
        <p:grpSpPr>
          <a:xfrm>
            <a:off x="3882960" y="4541760"/>
            <a:ext cx="411480" cy="390600"/>
            <a:chOff x="3882960" y="4541760"/>
            <a:chExt cx="411480" cy="390600"/>
          </a:xfrm>
        </p:grpSpPr>
        <p:sp>
          <p:nvSpPr>
            <p:cNvPr id="10287" name=""/>
            <p:cNvSpPr/>
            <p:nvPr/>
          </p:nvSpPr>
          <p:spPr>
            <a:xfrm>
              <a:off x="3946680" y="455148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8" name=""/>
            <p:cNvSpPr/>
            <p:nvPr/>
          </p:nvSpPr>
          <p:spPr>
            <a:xfrm>
              <a:off x="3882960" y="4541760"/>
              <a:ext cx="332280" cy="354240"/>
            </a:xfrm>
            <a:custGeom>
              <a:avLst/>
              <a:gdLst/>
              <a:ahLst/>
              <a:rect l="0" t="0" r="r" b="b"/>
              <a:pathLst>
                <a:path w="923" h="984">
                  <a:moveTo>
                    <a:pt x="923" y="176"/>
                  </a:moveTo>
                  <a:lnTo>
                    <a:pt x="459" y="984"/>
                  </a:lnTo>
                  <a:lnTo>
                    <a:pt x="0" y="706"/>
                  </a:lnTo>
                  <a:lnTo>
                    <a:pt x="154" y="154"/>
                  </a:lnTo>
                  <a:lnTo>
                    <a:pt x="605" y="0"/>
                  </a:lnTo>
                  <a:lnTo>
                    <a:pt x="923" y="176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9" name=""/>
          <p:cNvGrpSpPr/>
          <p:nvPr/>
        </p:nvGrpSpPr>
        <p:grpSpPr>
          <a:xfrm>
            <a:off x="1262160" y="4535640"/>
            <a:ext cx="387720" cy="418680"/>
            <a:chOff x="1262160" y="4535640"/>
            <a:chExt cx="387720" cy="418680"/>
          </a:xfrm>
        </p:grpSpPr>
        <p:sp>
          <p:nvSpPr>
            <p:cNvPr id="10290" name=""/>
            <p:cNvSpPr/>
            <p:nvPr/>
          </p:nvSpPr>
          <p:spPr>
            <a:xfrm>
              <a:off x="1262160" y="4573440"/>
              <a:ext cx="347760" cy="380880"/>
            </a:xfrm>
            <a:prstGeom prst="ellipse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1" name=""/>
            <p:cNvSpPr/>
            <p:nvPr/>
          </p:nvSpPr>
          <p:spPr>
            <a:xfrm>
              <a:off x="1343160" y="4535640"/>
              <a:ext cx="306720" cy="379800"/>
            </a:xfrm>
            <a:custGeom>
              <a:avLst/>
              <a:gdLst/>
              <a:ahLst/>
              <a:rect l="0" t="0" r="r" b="b"/>
              <a:pathLst>
                <a:path w="852" h="1055">
                  <a:moveTo>
                    <a:pt x="433" y="1055"/>
                  </a:moveTo>
                  <a:lnTo>
                    <a:pt x="0" y="233"/>
                  </a:lnTo>
                  <a:lnTo>
                    <a:pt x="472" y="0"/>
                  </a:lnTo>
                  <a:lnTo>
                    <a:pt x="852" y="424"/>
                  </a:lnTo>
                  <a:lnTo>
                    <a:pt x="750" y="883"/>
                  </a:lnTo>
                  <a:lnTo>
                    <a:pt x="433" y="1055"/>
                  </a:lnTo>
                  <a:close/>
                </a:path>
              </a:pathLst>
            </a:cu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92" name=""/>
          <p:cNvSpPr/>
          <p:nvPr/>
        </p:nvSpPr>
        <p:spPr>
          <a:xfrm>
            <a:off x="2779560" y="3865680"/>
            <a:ext cx="1909800" cy="12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3" name=""/>
          <p:cNvSpPr/>
          <p:nvPr/>
        </p:nvSpPr>
        <p:spPr>
          <a:xfrm flipH="1">
            <a:off x="892080" y="3854520"/>
            <a:ext cx="1898640" cy="13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4" name=""/>
          <p:cNvSpPr/>
          <p:nvPr/>
        </p:nvSpPr>
        <p:spPr>
          <a:xfrm flipV="1">
            <a:off x="2786040" y="1812960"/>
            <a:ext cx="0" cy="182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5" name=""/>
          <p:cNvSpPr txBox="1"/>
          <p:nvPr/>
        </p:nvSpPr>
        <p:spPr>
          <a:xfrm>
            <a:off x="654120" y="22536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itudinal Section 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6" name=""/>
          <p:cNvSpPr txBox="1"/>
          <p:nvPr/>
        </p:nvSpPr>
        <p:spPr>
          <a:xfrm>
            <a:off x="407880" y="2009880"/>
            <a:ext cx="846612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 cutting plane runs along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itudin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long) axis of a “thin” member (such as webs, spokes or all standard hardware), no crosshatching is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utting plane creates a “cross section” of a thin member, crosshatching is displayed (such as the rim of the wheel in the previous example drawing)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7" name=""/>
          <p:cNvSpPr txBox="1"/>
          <p:nvPr/>
        </p:nvSpPr>
        <p:spPr>
          <a:xfrm>
            <a:off x="1501920" y="1081080"/>
            <a:ext cx="5742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omething to Remembe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8" name=""/>
          <p:cNvGrpSpPr/>
          <p:nvPr/>
        </p:nvGrpSpPr>
        <p:grpSpPr>
          <a:xfrm>
            <a:off x="1862280" y="1479600"/>
            <a:ext cx="5238720" cy="4581720"/>
            <a:chOff x="1862280" y="1479600"/>
            <a:chExt cx="5238720" cy="4581720"/>
          </a:xfrm>
        </p:grpSpPr>
        <p:sp>
          <p:nvSpPr>
            <p:cNvPr id="10299" name=""/>
            <p:cNvSpPr/>
            <p:nvPr/>
          </p:nvSpPr>
          <p:spPr>
            <a:xfrm flipV="1">
              <a:off x="1862280" y="2595600"/>
              <a:ext cx="0" cy="345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0" name=""/>
            <p:cNvSpPr/>
            <p:nvPr/>
          </p:nvSpPr>
          <p:spPr>
            <a:xfrm>
              <a:off x="1862280" y="2595600"/>
              <a:ext cx="3369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1" name=""/>
            <p:cNvSpPr/>
            <p:nvPr/>
          </p:nvSpPr>
          <p:spPr>
            <a:xfrm>
              <a:off x="3570120" y="2595600"/>
              <a:ext cx="0" cy="171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2" name=""/>
            <p:cNvSpPr/>
            <p:nvPr/>
          </p:nvSpPr>
          <p:spPr>
            <a:xfrm>
              <a:off x="3592440" y="4309920"/>
              <a:ext cx="1644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3" name=""/>
            <p:cNvSpPr/>
            <p:nvPr/>
          </p:nvSpPr>
          <p:spPr>
            <a:xfrm flipV="1">
              <a:off x="5243400" y="2602080"/>
              <a:ext cx="0" cy="1699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4" name=""/>
            <p:cNvSpPr/>
            <p:nvPr/>
          </p:nvSpPr>
          <p:spPr>
            <a:xfrm>
              <a:off x="5248440" y="2595600"/>
              <a:ext cx="1842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5" name=""/>
            <p:cNvSpPr/>
            <p:nvPr/>
          </p:nvSpPr>
          <p:spPr>
            <a:xfrm>
              <a:off x="7091280" y="2595600"/>
              <a:ext cx="0" cy="332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6" name=""/>
            <p:cNvSpPr/>
            <p:nvPr/>
          </p:nvSpPr>
          <p:spPr>
            <a:xfrm>
              <a:off x="4005360" y="4309920"/>
              <a:ext cx="0" cy="630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7" name=""/>
            <p:cNvSpPr/>
            <p:nvPr/>
          </p:nvSpPr>
          <p:spPr>
            <a:xfrm>
              <a:off x="4890960" y="4309920"/>
              <a:ext cx="0" cy="62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8" name=""/>
            <p:cNvSpPr/>
            <p:nvPr/>
          </p:nvSpPr>
          <p:spPr>
            <a:xfrm flipH="1">
              <a:off x="4005360" y="4938840"/>
              <a:ext cx="885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9" name=""/>
            <p:cNvSpPr/>
            <p:nvPr/>
          </p:nvSpPr>
          <p:spPr>
            <a:xfrm flipH="1">
              <a:off x="3701880" y="4950000"/>
              <a:ext cx="468360" cy="469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0" name=""/>
            <p:cNvSpPr/>
            <p:nvPr/>
          </p:nvSpPr>
          <p:spPr>
            <a:xfrm>
              <a:off x="4627440" y="4950000"/>
              <a:ext cx="343080" cy="34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1" name=""/>
            <p:cNvSpPr/>
            <p:nvPr/>
          </p:nvSpPr>
          <p:spPr>
            <a:xfrm>
              <a:off x="1865160" y="5281560"/>
              <a:ext cx="5235840" cy="779760"/>
            </a:xfrm>
            <a:custGeom>
              <a:avLst/>
              <a:gdLst/>
              <a:ahLst/>
              <a:rect l="0" t="0" r="r" b="b"/>
              <a:pathLst>
                <a:path fill="none" w="14544" h="2166">
                  <a:moveTo>
                    <a:pt x="0" y="2166"/>
                  </a:moveTo>
                  <a:lnTo>
                    <a:pt x="119" y="2118"/>
                  </a:lnTo>
                  <a:lnTo>
                    <a:pt x="222" y="2118"/>
                  </a:lnTo>
                  <a:lnTo>
                    <a:pt x="365" y="2078"/>
                  </a:lnTo>
                  <a:lnTo>
                    <a:pt x="468" y="2047"/>
                  </a:lnTo>
                  <a:lnTo>
                    <a:pt x="571" y="2007"/>
                  </a:lnTo>
                  <a:lnTo>
                    <a:pt x="682" y="1904"/>
                  </a:lnTo>
                  <a:lnTo>
                    <a:pt x="817" y="1833"/>
                  </a:lnTo>
                  <a:lnTo>
                    <a:pt x="928" y="1761"/>
                  </a:lnTo>
                  <a:lnTo>
                    <a:pt x="1071" y="1618"/>
                  </a:lnTo>
                  <a:lnTo>
                    <a:pt x="1206" y="1618"/>
                  </a:lnTo>
                  <a:lnTo>
                    <a:pt x="1349" y="1618"/>
                  </a:lnTo>
                  <a:lnTo>
                    <a:pt x="1492" y="1587"/>
                  </a:lnTo>
                  <a:lnTo>
                    <a:pt x="1635" y="1484"/>
                  </a:lnTo>
                  <a:lnTo>
                    <a:pt x="1738" y="1412"/>
                  </a:lnTo>
                  <a:lnTo>
                    <a:pt x="1841" y="1301"/>
                  </a:lnTo>
                  <a:lnTo>
                    <a:pt x="2056" y="1127"/>
                  </a:lnTo>
                  <a:lnTo>
                    <a:pt x="2159" y="1095"/>
                  </a:lnTo>
                  <a:lnTo>
                    <a:pt x="2302" y="1023"/>
                  </a:lnTo>
                  <a:lnTo>
                    <a:pt x="2405" y="983"/>
                  </a:lnTo>
                  <a:lnTo>
                    <a:pt x="2762" y="951"/>
                  </a:lnTo>
                  <a:lnTo>
                    <a:pt x="2865" y="920"/>
                  </a:lnTo>
                  <a:lnTo>
                    <a:pt x="3294" y="808"/>
                  </a:lnTo>
                  <a:lnTo>
                    <a:pt x="3429" y="777"/>
                  </a:lnTo>
                  <a:lnTo>
                    <a:pt x="3786" y="737"/>
                  </a:lnTo>
                  <a:lnTo>
                    <a:pt x="3961" y="737"/>
                  </a:lnTo>
                  <a:lnTo>
                    <a:pt x="4104" y="737"/>
                  </a:lnTo>
                  <a:lnTo>
                    <a:pt x="4207" y="705"/>
                  </a:lnTo>
                  <a:lnTo>
                    <a:pt x="4628" y="666"/>
                  </a:lnTo>
                  <a:lnTo>
                    <a:pt x="4771" y="563"/>
                  </a:lnTo>
                  <a:lnTo>
                    <a:pt x="4882" y="491"/>
                  </a:lnTo>
                  <a:lnTo>
                    <a:pt x="4985" y="420"/>
                  </a:lnTo>
                  <a:lnTo>
                    <a:pt x="5128" y="348"/>
                  </a:lnTo>
                  <a:lnTo>
                    <a:pt x="5302" y="285"/>
                  </a:lnTo>
                  <a:lnTo>
                    <a:pt x="5652" y="285"/>
                  </a:lnTo>
                  <a:lnTo>
                    <a:pt x="5795" y="285"/>
                  </a:lnTo>
                  <a:lnTo>
                    <a:pt x="6215" y="285"/>
                  </a:lnTo>
                  <a:lnTo>
                    <a:pt x="6326" y="285"/>
                  </a:lnTo>
                  <a:lnTo>
                    <a:pt x="6430" y="285"/>
                  </a:lnTo>
                  <a:lnTo>
                    <a:pt x="6533" y="285"/>
                  </a:lnTo>
                  <a:lnTo>
                    <a:pt x="6676" y="285"/>
                  </a:lnTo>
                  <a:lnTo>
                    <a:pt x="7104" y="285"/>
                  </a:lnTo>
                  <a:lnTo>
                    <a:pt x="7280" y="285"/>
                  </a:lnTo>
                  <a:lnTo>
                    <a:pt x="7701" y="317"/>
                  </a:lnTo>
                  <a:lnTo>
                    <a:pt x="7875" y="317"/>
                  </a:lnTo>
                  <a:lnTo>
                    <a:pt x="7987" y="285"/>
                  </a:lnTo>
                  <a:lnTo>
                    <a:pt x="8193" y="214"/>
                  </a:lnTo>
                  <a:lnTo>
                    <a:pt x="8304" y="142"/>
                  </a:lnTo>
                  <a:lnTo>
                    <a:pt x="8407" y="103"/>
                  </a:lnTo>
                  <a:lnTo>
                    <a:pt x="8511" y="31"/>
                  </a:lnTo>
                  <a:lnTo>
                    <a:pt x="8622" y="31"/>
                  </a:lnTo>
                  <a:lnTo>
                    <a:pt x="8725" y="0"/>
                  </a:lnTo>
                  <a:lnTo>
                    <a:pt x="8868" y="0"/>
                  </a:lnTo>
                  <a:lnTo>
                    <a:pt x="9011" y="0"/>
                  </a:lnTo>
                  <a:lnTo>
                    <a:pt x="9114" y="0"/>
                  </a:lnTo>
                  <a:lnTo>
                    <a:pt x="9257" y="0"/>
                  </a:lnTo>
                  <a:lnTo>
                    <a:pt x="9431" y="103"/>
                  </a:lnTo>
                  <a:lnTo>
                    <a:pt x="9574" y="142"/>
                  </a:lnTo>
                  <a:lnTo>
                    <a:pt x="9709" y="174"/>
                  </a:lnTo>
                  <a:lnTo>
                    <a:pt x="9820" y="214"/>
                  </a:lnTo>
                  <a:lnTo>
                    <a:pt x="9963" y="285"/>
                  </a:lnTo>
                  <a:lnTo>
                    <a:pt x="10098" y="388"/>
                  </a:lnTo>
                  <a:lnTo>
                    <a:pt x="10209" y="460"/>
                  </a:lnTo>
                  <a:lnTo>
                    <a:pt x="10313" y="563"/>
                  </a:lnTo>
                  <a:lnTo>
                    <a:pt x="11583" y="983"/>
                  </a:lnTo>
                  <a:lnTo>
                    <a:pt x="12567" y="1341"/>
                  </a:lnTo>
                  <a:lnTo>
                    <a:pt x="12996" y="1484"/>
                  </a:lnTo>
                  <a:lnTo>
                    <a:pt x="14123" y="1833"/>
                  </a:lnTo>
                  <a:lnTo>
                    <a:pt x="14226" y="1801"/>
                  </a:lnTo>
                  <a:lnTo>
                    <a:pt x="14369" y="1801"/>
                  </a:lnTo>
                  <a:lnTo>
                    <a:pt x="14544" y="1761"/>
                  </a:lnTo>
                  <a:lnTo>
                    <a:pt x="14480" y="183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2" name=""/>
            <p:cNvSpPr/>
            <p:nvPr/>
          </p:nvSpPr>
          <p:spPr>
            <a:xfrm>
              <a:off x="1882800" y="5575320"/>
              <a:ext cx="325440" cy="32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1878120" y="4992840"/>
              <a:ext cx="725400" cy="725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1878120" y="4381560"/>
              <a:ext cx="1193760" cy="119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5" name=""/>
            <p:cNvSpPr/>
            <p:nvPr/>
          </p:nvSpPr>
          <p:spPr>
            <a:xfrm>
              <a:off x="1865160" y="3781440"/>
              <a:ext cx="1703520" cy="170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6" name=""/>
            <p:cNvSpPr/>
            <p:nvPr/>
          </p:nvSpPr>
          <p:spPr>
            <a:xfrm>
              <a:off x="1871640" y="3164040"/>
              <a:ext cx="2046240" cy="2046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7" name=""/>
            <p:cNvSpPr/>
            <p:nvPr/>
          </p:nvSpPr>
          <p:spPr>
            <a:xfrm>
              <a:off x="2049480" y="2614680"/>
              <a:ext cx="1515960" cy="151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8" name=""/>
            <p:cNvSpPr/>
            <p:nvPr/>
          </p:nvSpPr>
          <p:spPr>
            <a:xfrm>
              <a:off x="3078000" y="3000240"/>
              <a:ext cx="490680" cy="490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9" name=""/>
            <p:cNvSpPr/>
            <p:nvPr/>
          </p:nvSpPr>
          <p:spPr>
            <a:xfrm>
              <a:off x="3306600" y="2595600"/>
              <a:ext cx="262080" cy="262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0" name=""/>
            <p:cNvSpPr/>
            <p:nvPr/>
          </p:nvSpPr>
          <p:spPr>
            <a:xfrm>
              <a:off x="4894200" y="4649760"/>
              <a:ext cx="881280" cy="879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1" name=""/>
            <p:cNvSpPr/>
            <p:nvPr/>
          </p:nvSpPr>
          <p:spPr>
            <a:xfrm>
              <a:off x="5245200" y="4302000"/>
              <a:ext cx="1604880" cy="1605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2" name=""/>
            <p:cNvSpPr/>
            <p:nvPr/>
          </p:nvSpPr>
          <p:spPr>
            <a:xfrm>
              <a:off x="5256360" y="3662280"/>
              <a:ext cx="1822320" cy="18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3" name=""/>
            <p:cNvSpPr/>
            <p:nvPr/>
          </p:nvSpPr>
          <p:spPr>
            <a:xfrm>
              <a:off x="5245200" y="2987640"/>
              <a:ext cx="1846080" cy="1846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4" name=""/>
            <p:cNvSpPr/>
            <p:nvPr/>
          </p:nvSpPr>
          <p:spPr>
            <a:xfrm>
              <a:off x="5500800" y="2603520"/>
              <a:ext cx="361800" cy="361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5" name=""/>
            <p:cNvSpPr/>
            <p:nvPr/>
          </p:nvSpPr>
          <p:spPr>
            <a:xfrm>
              <a:off x="6197760" y="3243240"/>
              <a:ext cx="880920" cy="88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6" name=""/>
            <p:cNvSpPr/>
            <p:nvPr/>
          </p:nvSpPr>
          <p:spPr>
            <a:xfrm>
              <a:off x="6243480" y="2625840"/>
              <a:ext cx="835200" cy="834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7" name=""/>
            <p:cNvSpPr/>
            <p:nvPr/>
          </p:nvSpPr>
          <p:spPr>
            <a:xfrm>
              <a:off x="6894360" y="2614680"/>
              <a:ext cx="195480" cy="19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8" name=""/>
            <p:cNvGrpSpPr/>
            <p:nvPr/>
          </p:nvGrpSpPr>
          <p:grpSpPr>
            <a:xfrm>
              <a:off x="2658960" y="2600280"/>
              <a:ext cx="378000" cy="781200"/>
              <a:chOff x="2658960" y="2600280"/>
              <a:chExt cx="378000" cy="781200"/>
            </a:xfrm>
          </p:grpSpPr>
          <p:sp>
            <p:nvSpPr>
              <p:cNvPr id="10329" name=""/>
              <p:cNvSpPr/>
              <p:nvPr/>
            </p:nvSpPr>
            <p:spPr>
              <a:xfrm>
                <a:off x="2709720" y="3297240"/>
                <a:ext cx="27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2658960" y="2614680"/>
                <a:ext cx="0" cy="592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3036960" y="2600280"/>
                <a:ext cx="0" cy="606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2658960" y="3211560"/>
                <a:ext cx="376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2709720" y="2629080"/>
                <a:ext cx="0" cy="668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2992320" y="2600280"/>
                <a:ext cx="0" cy="70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 flipH="1">
                <a:off x="2844720" y="3300480"/>
                <a:ext cx="14148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2714760" y="3295800"/>
                <a:ext cx="137880" cy="82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37" name=""/>
            <p:cNvGrpSpPr/>
            <p:nvPr/>
          </p:nvGrpSpPr>
          <p:grpSpPr>
            <a:xfrm>
              <a:off x="5853240" y="2598840"/>
              <a:ext cx="377640" cy="780840"/>
              <a:chOff x="5853240" y="2598840"/>
              <a:chExt cx="377640" cy="780840"/>
            </a:xfrm>
          </p:grpSpPr>
          <p:sp>
            <p:nvSpPr>
              <p:cNvPr id="10338" name=""/>
              <p:cNvSpPr/>
              <p:nvPr/>
            </p:nvSpPr>
            <p:spPr>
              <a:xfrm>
                <a:off x="5904000" y="3295800"/>
                <a:ext cx="27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5853240" y="2612880"/>
                <a:ext cx="0" cy="592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6230880" y="2598840"/>
                <a:ext cx="0" cy="606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5853240" y="3209760"/>
                <a:ext cx="376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5904000" y="2627280"/>
                <a:ext cx="0" cy="66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6186600" y="2598840"/>
                <a:ext cx="0" cy="70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 flipH="1">
                <a:off x="6039000" y="3298680"/>
                <a:ext cx="14112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5908680" y="3294000"/>
                <a:ext cx="138240" cy="82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46" name=""/>
            <p:cNvSpPr/>
            <p:nvPr/>
          </p:nvSpPr>
          <p:spPr>
            <a:xfrm flipV="1">
              <a:off x="6045120" y="2523960"/>
              <a:ext cx="0" cy="139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7" name=""/>
            <p:cNvSpPr/>
            <p:nvPr/>
          </p:nvSpPr>
          <p:spPr>
            <a:xfrm flipV="1">
              <a:off x="6045120" y="234000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8" name=""/>
            <p:cNvSpPr/>
            <p:nvPr/>
          </p:nvSpPr>
          <p:spPr>
            <a:xfrm flipV="1">
              <a:off x="6045120" y="1482840"/>
              <a:ext cx="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9" name=""/>
            <p:cNvSpPr/>
            <p:nvPr/>
          </p:nvSpPr>
          <p:spPr>
            <a:xfrm flipV="1">
              <a:off x="2852640" y="2519280"/>
              <a:ext cx="0" cy="139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0" name=""/>
            <p:cNvSpPr/>
            <p:nvPr/>
          </p:nvSpPr>
          <p:spPr>
            <a:xfrm flipV="1">
              <a:off x="2852640" y="233676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1" name=""/>
            <p:cNvSpPr/>
            <p:nvPr/>
          </p:nvSpPr>
          <p:spPr>
            <a:xfrm flipV="1">
              <a:off x="2852640" y="1479600"/>
              <a:ext cx="0" cy="74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2" name=""/>
          <p:cNvGrpSpPr/>
          <p:nvPr/>
        </p:nvGrpSpPr>
        <p:grpSpPr>
          <a:xfrm>
            <a:off x="1862280" y="1479600"/>
            <a:ext cx="5238720" cy="4581720"/>
            <a:chOff x="1862280" y="1479600"/>
            <a:chExt cx="5238720" cy="4581720"/>
          </a:xfrm>
        </p:grpSpPr>
        <p:sp>
          <p:nvSpPr>
            <p:cNvPr id="10353" name=""/>
            <p:cNvSpPr/>
            <p:nvPr/>
          </p:nvSpPr>
          <p:spPr>
            <a:xfrm flipV="1">
              <a:off x="1862280" y="2595600"/>
              <a:ext cx="0" cy="345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4" name=""/>
            <p:cNvSpPr/>
            <p:nvPr/>
          </p:nvSpPr>
          <p:spPr>
            <a:xfrm>
              <a:off x="1862280" y="2595600"/>
              <a:ext cx="3369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5" name=""/>
            <p:cNvSpPr/>
            <p:nvPr/>
          </p:nvSpPr>
          <p:spPr>
            <a:xfrm>
              <a:off x="3570120" y="2595600"/>
              <a:ext cx="0" cy="171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6" name=""/>
            <p:cNvSpPr/>
            <p:nvPr/>
          </p:nvSpPr>
          <p:spPr>
            <a:xfrm>
              <a:off x="3592440" y="4309920"/>
              <a:ext cx="1644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7" name=""/>
            <p:cNvSpPr/>
            <p:nvPr/>
          </p:nvSpPr>
          <p:spPr>
            <a:xfrm flipV="1">
              <a:off x="5243400" y="2602080"/>
              <a:ext cx="0" cy="1699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8" name=""/>
            <p:cNvSpPr/>
            <p:nvPr/>
          </p:nvSpPr>
          <p:spPr>
            <a:xfrm>
              <a:off x="5248440" y="2595600"/>
              <a:ext cx="1842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9" name=""/>
            <p:cNvSpPr/>
            <p:nvPr/>
          </p:nvSpPr>
          <p:spPr>
            <a:xfrm>
              <a:off x="7091280" y="2595600"/>
              <a:ext cx="0" cy="332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0" name=""/>
            <p:cNvSpPr/>
            <p:nvPr/>
          </p:nvSpPr>
          <p:spPr>
            <a:xfrm>
              <a:off x="4005360" y="4309920"/>
              <a:ext cx="0" cy="630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1" name=""/>
            <p:cNvSpPr/>
            <p:nvPr/>
          </p:nvSpPr>
          <p:spPr>
            <a:xfrm>
              <a:off x="4890960" y="4309920"/>
              <a:ext cx="0" cy="62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2" name=""/>
            <p:cNvSpPr/>
            <p:nvPr/>
          </p:nvSpPr>
          <p:spPr>
            <a:xfrm flipH="1">
              <a:off x="4005360" y="4938840"/>
              <a:ext cx="885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3" name=""/>
            <p:cNvSpPr/>
            <p:nvPr/>
          </p:nvSpPr>
          <p:spPr>
            <a:xfrm flipH="1">
              <a:off x="3701880" y="4950000"/>
              <a:ext cx="468360" cy="469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4" name=""/>
            <p:cNvSpPr/>
            <p:nvPr/>
          </p:nvSpPr>
          <p:spPr>
            <a:xfrm>
              <a:off x="4627440" y="4950000"/>
              <a:ext cx="343080" cy="34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5" name=""/>
            <p:cNvSpPr/>
            <p:nvPr/>
          </p:nvSpPr>
          <p:spPr>
            <a:xfrm>
              <a:off x="1865160" y="5281560"/>
              <a:ext cx="5235840" cy="779760"/>
            </a:xfrm>
            <a:custGeom>
              <a:avLst/>
              <a:gdLst/>
              <a:ahLst/>
              <a:rect l="0" t="0" r="r" b="b"/>
              <a:pathLst>
                <a:path fill="none" w="14544" h="2166">
                  <a:moveTo>
                    <a:pt x="0" y="2166"/>
                  </a:moveTo>
                  <a:lnTo>
                    <a:pt x="119" y="2118"/>
                  </a:lnTo>
                  <a:lnTo>
                    <a:pt x="222" y="2118"/>
                  </a:lnTo>
                  <a:lnTo>
                    <a:pt x="365" y="2078"/>
                  </a:lnTo>
                  <a:lnTo>
                    <a:pt x="468" y="2047"/>
                  </a:lnTo>
                  <a:lnTo>
                    <a:pt x="571" y="2007"/>
                  </a:lnTo>
                  <a:lnTo>
                    <a:pt x="682" y="1904"/>
                  </a:lnTo>
                  <a:lnTo>
                    <a:pt x="817" y="1833"/>
                  </a:lnTo>
                  <a:lnTo>
                    <a:pt x="928" y="1761"/>
                  </a:lnTo>
                  <a:lnTo>
                    <a:pt x="1071" y="1618"/>
                  </a:lnTo>
                  <a:lnTo>
                    <a:pt x="1206" y="1618"/>
                  </a:lnTo>
                  <a:lnTo>
                    <a:pt x="1349" y="1618"/>
                  </a:lnTo>
                  <a:lnTo>
                    <a:pt x="1492" y="1587"/>
                  </a:lnTo>
                  <a:lnTo>
                    <a:pt x="1635" y="1484"/>
                  </a:lnTo>
                  <a:lnTo>
                    <a:pt x="1738" y="1412"/>
                  </a:lnTo>
                  <a:lnTo>
                    <a:pt x="1841" y="1301"/>
                  </a:lnTo>
                  <a:lnTo>
                    <a:pt x="2056" y="1127"/>
                  </a:lnTo>
                  <a:lnTo>
                    <a:pt x="2159" y="1095"/>
                  </a:lnTo>
                  <a:lnTo>
                    <a:pt x="2302" y="1023"/>
                  </a:lnTo>
                  <a:lnTo>
                    <a:pt x="2405" y="983"/>
                  </a:lnTo>
                  <a:lnTo>
                    <a:pt x="2762" y="951"/>
                  </a:lnTo>
                  <a:lnTo>
                    <a:pt x="2865" y="920"/>
                  </a:lnTo>
                  <a:lnTo>
                    <a:pt x="3294" y="808"/>
                  </a:lnTo>
                  <a:lnTo>
                    <a:pt x="3429" y="777"/>
                  </a:lnTo>
                  <a:lnTo>
                    <a:pt x="3786" y="737"/>
                  </a:lnTo>
                  <a:lnTo>
                    <a:pt x="3961" y="737"/>
                  </a:lnTo>
                  <a:lnTo>
                    <a:pt x="4104" y="737"/>
                  </a:lnTo>
                  <a:lnTo>
                    <a:pt x="4207" y="705"/>
                  </a:lnTo>
                  <a:lnTo>
                    <a:pt x="4628" y="666"/>
                  </a:lnTo>
                  <a:lnTo>
                    <a:pt x="4771" y="563"/>
                  </a:lnTo>
                  <a:lnTo>
                    <a:pt x="4882" y="491"/>
                  </a:lnTo>
                  <a:lnTo>
                    <a:pt x="4985" y="420"/>
                  </a:lnTo>
                  <a:lnTo>
                    <a:pt x="5128" y="348"/>
                  </a:lnTo>
                  <a:lnTo>
                    <a:pt x="5302" y="285"/>
                  </a:lnTo>
                  <a:lnTo>
                    <a:pt x="5652" y="285"/>
                  </a:lnTo>
                  <a:lnTo>
                    <a:pt x="5795" y="285"/>
                  </a:lnTo>
                  <a:lnTo>
                    <a:pt x="6215" y="285"/>
                  </a:lnTo>
                  <a:lnTo>
                    <a:pt x="6326" y="285"/>
                  </a:lnTo>
                  <a:lnTo>
                    <a:pt x="6430" y="285"/>
                  </a:lnTo>
                  <a:lnTo>
                    <a:pt x="6533" y="285"/>
                  </a:lnTo>
                  <a:lnTo>
                    <a:pt x="6676" y="285"/>
                  </a:lnTo>
                  <a:lnTo>
                    <a:pt x="7104" y="285"/>
                  </a:lnTo>
                  <a:lnTo>
                    <a:pt x="7280" y="285"/>
                  </a:lnTo>
                  <a:lnTo>
                    <a:pt x="7701" y="317"/>
                  </a:lnTo>
                  <a:lnTo>
                    <a:pt x="7875" y="317"/>
                  </a:lnTo>
                  <a:lnTo>
                    <a:pt x="7987" y="285"/>
                  </a:lnTo>
                  <a:lnTo>
                    <a:pt x="8193" y="214"/>
                  </a:lnTo>
                  <a:lnTo>
                    <a:pt x="8304" y="142"/>
                  </a:lnTo>
                  <a:lnTo>
                    <a:pt x="8407" y="103"/>
                  </a:lnTo>
                  <a:lnTo>
                    <a:pt x="8511" y="31"/>
                  </a:lnTo>
                  <a:lnTo>
                    <a:pt x="8622" y="31"/>
                  </a:lnTo>
                  <a:lnTo>
                    <a:pt x="8725" y="0"/>
                  </a:lnTo>
                  <a:lnTo>
                    <a:pt x="8868" y="0"/>
                  </a:lnTo>
                  <a:lnTo>
                    <a:pt x="9011" y="0"/>
                  </a:lnTo>
                  <a:lnTo>
                    <a:pt x="9114" y="0"/>
                  </a:lnTo>
                  <a:lnTo>
                    <a:pt x="9257" y="0"/>
                  </a:lnTo>
                  <a:lnTo>
                    <a:pt x="9431" y="103"/>
                  </a:lnTo>
                  <a:lnTo>
                    <a:pt x="9574" y="142"/>
                  </a:lnTo>
                  <a:lnTo>
                    <a:pt x="9709" y="174"/>
                  </a:lnTo>
                  <a:lnTo>
                    <a:pt x="9820" y="214"/>
                  </a:lnTo>
                  <a:lnTo>
                    <a:pt x="9963" y="285"/>
                  </a:lnTo>
                  <a:lnTo>
                    <a:pt x="10098" y="388"/>
                  </a:lnTo>
                  <a:lnTo>
                    <a:pt x="10209" y="460"/>
                  </a:lnTo>
                  <a:lnTo>
                    <a:pt x="10313" y="563"/>
                  </a:lnTo>
                  <a:lnTo>
                    <a:pt x="11583" y="983"/>
                  </a:lnTo>
                  <a:lnTo>
                    <a:pt x="12567" y="1341"/>
                  </a:lnTo>
                  <a:lnTo>
                    <a:pt x="12996" y="1484"/>
                  </a:lnTo>
                  <a:lnTo>
                    <a:pt x="14123" y="1833"/>
                  </a:lnTo>
                  <a:lnTo>
                    <a:pt x="14226" y="1801"/>
                  </a:lnTo>
                  <a:lnTo>
                    <a:pt x="14369" y="1801"/>
                  </a:lnTo>
                  <a:lnTo>
                    <a:pt x="14544" y="1761"/>
                  </a:lnTo>
                  <a:lnTo>
                    <a:pt x="14480" y="183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6" name=""/>
            <p:cNvSpPr/>
            <p:nvPr/>
          </p:nvSpPr>
          <p:spPr>
            <a:xfrm>
              <a:off x="1882800" y="5575320"/>
              <a:ext cx="325440" cy="32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7" name=""/>
            <p:cNvSpPr/>
            <p:nvPr/>
          </p:nvSpPr>
          <p:spPr>
            <a:xfrm>
              <a:off x="1878120" y="4992840"/>
              <a:ext cx="725400" cy="725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8" name=""/>
            <p:cNvSpPr/>
            <p:nvPr/>
          </p:nvSpPr>
          <p:spPr>
            <a:xfrm>
              <a:off x="1878120" y="4381560"/>
              <a:ext cx="1193760" cy="119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9" name=""/>
            <p:cNvSpPr/>
            <p:nvPr/>
          </p:nvSpPr>
          <p:spPr>
            <a:xfrm>
              <a:off x="1865160" y="3781440"/>
              <a:ext cx="1703520" cy="170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0" name=""/>
            <p:cNvSpPr/>
            <p:nvPr/>
          </p:nvSpPr>
          <p:spPr>
            <a:xfrm>
              <a:off x="1871640" y="3164040"/>
              <a:ext cx="2046240" cy="2046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1" name=""/>
            <p:cNvSpPr/>
            <p:nvPr/>
          </p:nvSpPr>
          <p:spPr>
            <a:xfrm>
              <a:off x="2049480" y="2614680"/>
              <a:ext cx="1515960" cy="151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2" name=""/>
            <p:cNvSpPr/>
            <p:nvPr/>
          </p:nvSpPr>
          <p:spPr>
            <a:xfrm>
              <a:off x="3078000" y="3000240"/>
              <a:ext cx="490680" cy="490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3" name=""/>
            <p:cNvSpPr/>
            <p:nvPr/>
          </p:nvSpPr>
          <p:spPr>
            <a:xfrm>
              <a:off x="3306600" y="2595600"/>
              <a:ext cx="262080" cy="262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4" name=""/>
            <p:cNvSpPr/>
            <p:nvPr/>
          </p:nvSpPr>
          <p:spPr>
            <a:xfrm>
              <a:off x="4894200" y="4649760"/>
              <a:ext cx="881280" cy="879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5" name=""/>
            <p:cNvSpPr/>
            <p:nvPr/>
          </p:nvSpPr>
          <p:spPr>
            <a:xfrm>
              <a:off x="5245200" y="4302000"/>
              <a:ext cx="1604880" cy="1605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6" name=""/>
            <p:cNvSpPr/>
            <p:nvPr/>
          </p:nvSpPr>
          <p:spPr>
            <a:xfrm>
              <a:off x="5256360" y="3662280"/>
              <a:ext cx="1822320" cy="18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7" name=""/>
            <p:cNvSpPr/>
            <p:nvPr/>
          </p:nvSpPr>
          <p:spPr>
            <a:xfrm>
              <a:off x="5245200" y="2987640"/>
              <a:ext cx="1846080" cy="1846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8" name=""/>
            <p:cNvSpPr/>
            <p:nvPr/>
          </p:nvSpPr>
          <p:spPr>
            <a:xfrm>
              <a:off x="5500800" y="2603520"/>
              <a:ext cx="361800" cy="361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9" name=""/>
            <p:cNvSpPr/>
            <p:nvPr/>
          </p:nvSpPr>
          <p:spPr>
            <a:xfrm>
              <a:off x="6197760" y="3243240"/>
              <a:ext cx="880920" cy="88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6243480" y="2625840"/>
              <a:ext cx="835200" cy="834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6894360" y="2614680"/>
              <a:ext cx="195480" cy="19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82" name=""/>
            <p:cNvGrpSpPr/>
            <p:nvPr/>
          </p:nvGrpSpPr>
          <p:grpSpPr>
            <a:xfrm>
              <a:off x="2658960" y="2600280"/>
              <a:ext cx="378000" cy="781200"/>
              <a:chOff x="2658960" y="2600280"/>
              <a:chExt cx="378000" cy="781200"/>
            </a:xfrm>
          </p:grpSpPr>
          <p:sp>
            <p:nvSpPr>
              <p:cNvPr id="10383" name=""/>
              <p:cNvSpPr/>
              <p:nvPr/>
            </p:nvSpPr>
            <p:spPr>
              <a:xfrm>
                <a:off x="2709720" y="3297240"/>
                <a:ext cx="27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2658960" y="2614680"/>
                <a:ext cx="0" cy="592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3036960" y="2600280"/>
                <a:ext cx="0" cy="606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2658960" y="3211560"/>
                <a:ext cx="376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7" name=""/>
              <p:cNvSpPr/>
              <p:nvPr/>
            </p:nvSpPr>
            <p:spPr>
              <a:xfrm>
                <a:off x="2709720" y="2629080"/>
                <a:ext cx="0" cy="668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8" name=""/>
              <p:cNvSpPr/>
              <p:nvPr/>
            </p:nvSpPr>
            <p:spPr>
              <a:xfrm>
                <a:off x="2992320" y="2600280"/>
                <a:ext cx="0" cy="70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 flipH="1">
                <a:off x="2844720" y="3300480"/>
                <a:ext cx="14148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2714760" y="3295800"/>
                <a:ext cx="137880" cy="82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91" name=""/>
            <p:cNvGrpSpPr/>
            <p:nvPr/>
          </p:nvGrpSpPr>
          <p:grpSpPr>
            <a:xfrm>
              <a:off x="5853240" y="2598840"/>
              <a:ext cx="377640" cy="780840"/>
              <a:chOff x="5853240" y="2598840"/>
              <a:chExt cx="377640" cy="780840"/>
            </a:xfrm>
          </p:grpSpPr>
          <p:sp>
            <p:nvSpPr>
              <p:cNvPr id="10392" name=""/>
              <p:cNvSpPr/>
              <p:nvPr/>
            </p:nvSpPr>
            <p:spPr>
              <a:xfrm>
                <a:off x="5904000" y="3295800"/>
                <a:ext cx="27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5853240" y="2612880"/>
                <a:ext cx="0" cy="592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6230880" y="2598840"/>
                <a:ext cx="0" cy="606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5853240" y="3209760"/>
                <a:ext cx="376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5904000" y="2627280"/>
                <a:ext cx="0" cy="66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6186600" y="2598840"/>
                <a:ext cx="0" cy="70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 flipH="1">
                <a:off x="6039000" y="3298680"/>
                <a:ext cx="14112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5908680" y="3294000"/>
                <a:ext cx="138240" cy="82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0" name=""/>
            <p:cNvSpPr/>
            <p:nvPr/>
          </p:nvSpPr>
          <p:spPr>
            <a:xfrm flipV="1">
              <a:off x="6045120" y="2523960"/>
              <a:ext cx="0" cy="139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1" name=""/>
            <p:cNvSpPr/>
            <p:nvPr/>
          </p:nvSpPr>
          <p:spPr>
            <a:xfrm flipV="1">
              <a:off x="6045120" y="234000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2" name=""/>
            <p:cNvSpPr/>
            <p:nvPr/>
          </p:nvSpPr>
          <p:spPr>
            <a:xfrm flipV="1">
              <a:off x="6045120" y="1482840"/>
              <a:ext cx="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3" name=""/>
            <p:cNvSpPr/>
            <p:nvPr/>
          </p:nvSpPr>
          <p:spPr>
            <a:xfrm flipV="1">
              <a:off x="2852640" y="2519280"/>
              <a:ext cx="0" cy="139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4" name=""/>
            <p:cNvSpPr/>
            <p:nvPr/>
          </p:nvSpPr>
          <p:spPr>
            <a:xfrm flipV="1">
              <a:off x="2852640" y="233676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5" name=""/>
            <p:cNvSpPr/>
            <p:nvPr/>
          </p:nvSpPr>
          <p:spPr>
            <a:xfrm flipV="1">
              <a:off x="2852640" y="1479600"/>
              <a:ext cx="0" cy="74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06" name=""/>
          <p:cNvSpPr/>
          <p:nvPr/>
        </p:nvSpPr>
        <p:spPr>
          <a:xfrm>
            <a:off x="2236680" y="2552760"/>
            <a:ext cx="39996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7" name=""/>
          <p:cNvSpPr/>
          <p:nvPr/>
        </p:nvSpPr>
        <p:spPr>
          <a:xfrm>
            <a:off x="3081240" y="2552760"/>
            <a:ext cx="47628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8" name=""/>
          <p:cNvSpPr/>
          <p:nvPr/>
        </p:nvSpPr>
        <p:spPr>
          <a:xfrm>
            <a:off x="5278320" y="2552760"/>
            <a:ext cx="55404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9" name=""/>
          <p:cNvSpPr/>
          <p:nvPr/>
        </p:nvSpPr>
        <p:spPr>
          <a:xfrm>
            <a:off x="6276960" y="2552760"/>
            <a:ext cx="41436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0" name=""/>
          <p:cNvSpPr txBox="1"/>
          <p:nvPr/>
        </p:nvSpPr>
        <p:spPr>
          <a:xfrm>
            <a:off x="6429240" y="1127160"/>
            <a:ext cx="2589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 items, regard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the material typ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olored in sol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1" name=""/>
          <p:cNvSpPr/>
          <p:nvPr/>
        </p:nvSpPr>
        <p:spPr>
          <a:xfrm>
            <a:off x="3552840" y="2554200"/>
            <a:ext cx="1717560" cy="44280"/>
          </a:xfrm>
          <a:prstGeom prst="rect">
            <a:avLst/>
          </a:prstGeom>
          <a:solidFill>
            <a:srgbClr val="0101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2" name=""/>
          <p:cNvSpPr txBox="1"/>
          <p:nvPr/>
        </p:nvSpPr>
        <p:spPr>
          <a:xfrm>
            <a:off x="654120" y="22536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itudinal Section 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3" name=""/>
          <p:cNvSpPr txBox="1"/>
          <p:nvPr/>
        </p:nvSpPr>
        <p:spPr>
          <a:xfrm>
            <a:off x="3467160" y="912960"/>
            <a:ext cx="19670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4" name=""/>
          <p:cNvGrpSpPr/>
          <p:nvPr/>
        </p:nvGrpSpPr>
        <p:grpSpPr>
          <a:xfrm>
            <a:off x="1862280" y="1479600"/>
            <a:ext cx="5238720" cy="4581720"/>
            <a:chOff x="1862280" y="1479600"/>
            <a:chExt cx="5238720" cy="4581720"/>
          </a:xfrm>
        </p:grpSpPr>
        <p:sp>
          <p:nvSpPr>
            <p:cNvPr id="10415" name=""/>
            <p:cNvSpPr/>
            <p:nvPr/>
          </p:nvSpPr>
          <p:spPr>
            <a:xfrm flipV="1">
              <a:off x="2255760" y="22240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6" name=""/>
            <p:cNvSpPr/>
            <p:nvPr/>
          </p:nvSpPr>
          <p:spPr>
            <a:xfrm>
              <a:off x="2262240" y="2211480"/>
              <a:ext cx="4429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7" name=""/>
            <p:cNvSpPr/>
            <p:nvPr/>
          </p:nvSpPr>
          <p:spPr>
            <a:xfrm>
              <a:off x="6691320" y="2235240"/>
              <a:ext cx="0" cy="360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8" name=""/>
            <p:cNvSpPr/>
            <p:nvPr/>
          </p:nvSpPr>
          <p:spPr>
            <a:xfrm flipV="1">
              <a:off x="4427640" y="1670040"/>
              <a:ext cx="0" cy="1114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9" name=""/>
            <p:cNvSpPr/>
            <p:nvPr/>
          </p:nvSpPr>
          <p:spPr>
            <a:xfrm>
              <a:off x="2239920" y="2214720"/>
              <a:ext cx="419400" cy="381240"/>
            </a:xfrm>
            <a:custGeom>
              <a:avLst/>
              <a:gdLst/>
              <a:ahLst/>
              <a:rect l="0" t="0" r="r" b="b"/>
              <a:pathLst>
                <a:path w="1165" h="1059">
                  <a:moveTo>
                    <a:pt x="0" y="1059"/>
                  </a:moveTo>
                  <a:lnTo>
                    <a:pt x="0" y="0"/>
                  </a:lnTo>
                  <a:lnTo>
                    <a:pt x="1165" y="0"/>
                  </a:lnTo>
                  <a:lnTo>
                    <a:pt x="1165" y="1059"/>
                  </a:lnTo>
                  <a:lnTo>
                    <a:pt x="0" y="105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0" name=""/>
            <p:cNvSpPr/>
            <p:nvPr/>
          </p:nvSpPr>
          <p:spPr>
            <a:xfrm>
              <a:off x="3059280" y="2214720"/>
              <a:ext cx="1078200" cy="1143360"/>
            </a:xfrm>
            <a:custGeom>
              <a:avLst/>
              <a:gdLst/>
              <a:ahLst/>
              <a:rect l="0" t="0" r="r" b="b"/>
              <a:pathLst>
                <a:path w="2995" h="3176">
                  <a:moveTo>
                    <a:pt x="0" y="1077"/>
                  </a:moveTo>
                  <a:lnTo>
                    <a:pt x="0" y="0"/>
                  </a:lnTo>
                  <a:lnTo>
                    <a:pt x="2995" y="0"/>
                  </a:lnTo>
                  <a:lnTo>
                    <a:pt x="2995" y="3176"/>
                  </a:lnTo>
                  <a:lnTo>
                    <a:pt x="1695" y="3176"/>
                  </a:lnTo>
                  <a:lnTo>
                    <a:pt x="1412" y="2961"/>
                  </a:lnTo>
                  <a:lnTo>
                    <a:pt x="1412" y="1077"/>
                  </a:lnTo>
                  <a:lnTo>
                    <a:pt x="0" y="1077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1" name=""/>
            <p:cNvSpPr/>
            <p:nvPr/>
          </p:nvSpPr>
          <p:spPr>
            <a:xfrm>
              <a:off x="4721400" y="2214720"/>
              <a:ext cx="1119600" cy="1143360"/>
            </a:xfrm>
            <a:custGeom>
              <a:avLst/>
              <a:gdLst/>
              <a:ahLst/>
              <a:rect l="0" t="0" r="r" b="b"/>
              <a:pathLst>
                <a:path w="3110" h="3176">
                  <a:moveTo>
                    <a:pt x="0" y="0"/>
                  </a:moveTo>
                  <a:lnTo>
                    <a:pt x="3110" y="0"/>
                  </a:lnTo>
                  <a:lnTo>
                    <a:pt x="3110" y="1061"/>
                  </a:lnTo>
                  <a:lnTo>
                    <a:pt x="1444" y="1077"/>
                  </a:lnTo>
                  <a:lnTo>
                    <a:pt x="1444" y="2907"/>
                  </a:lnTo>
                  <a:lnTo>
                    <a:pt x="1166" y="3176"/>
                  </a:lnTo>
                  <a:lnTo>
                    <a:pt x="0" y="317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2" name=""/>
            <p:cNvSpPr/>
            <p:nvPr/>
          </p:nvSpPr>
          <p:spPr>
            <a:xfrm>
              <a:off x="6259680" y="2214720"/>
              <a:ext cx="438480" cy="381240"/>
            </a:xfrm>
            <a:custGeom>
              <a:avLst/>
              <a:gdLst/>
              <a:ahLst/>
              <a:rect l="0" t="0" r="r" b="b"/>
              <a:pathLst>
                <a:path w="1218" h="1059">
                  <a:moveTo>
                    <a:pt x="0" y="1059"/>
                  </a:moveTo>
                  <a:lnTo>
                    <a:pt x="0" y="0"/>
                  </a:lnTo>
                  <a:lnTo>
                    <a:pt x="1218" y="0"/>
                  </a:lnTo>
                  <a:lnTo>
                    <a:pt x="1218" y="1059"/>
                  </a:lnTo>
                  <a:lnTo>
                    <a:pt x="0" y="1059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3" name=""/>
            <p:cNvSpPr/>
            <p:nvPr/>
          </p:nvSpPr>
          <p:spPr>
            <a:xfrm flipV="1">
              <a:off x="6045120" y="234000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4" name=""/>
            <p:cNvSpPr/>
            <p:nvPr/>
          </p:nvSpPr>
          <p:spPr>
            <a:xfrm flipV="1">
              <a:off x="6045120" y="1482840"/>
              <a:ext cx="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5" name=""/>
            <p:cNvSpPr/>
            <p:nvPr/>
          </p:nvSpPr>
          <p:spPr>
            <a:xfrm flipV="1">
              <a:off x="2852640" y="233676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6" name=""/>
            <p:cNvSpPr/>
            <p:nvPr/>
          </p:nvSpPr>
          <p:spPr>
            <a:xfrm flipV="1">
              <a:off x="2852640" y="1479600"/>
              <a:ext cx="0" cy="74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7" name=""/>
            <p:cNvSpPr/>
            <p:nvPr/>
          </p:nvSpPr>
          <p:spPr>
            <a:xfrm flipV="1">
              <a:off x="1862280" y="2595600"/>
              <a:ext cx="0" cy="345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8" name=""/>
            <p:cNvSpPr/>
            <p:nvPr/>
          </p:nvSpPr>
          <p:spPr>
            <a:xfrm>
              <a:off x="1862280" y="2595600"/>
              <a:ext cx="1711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9" name=""/>
            <p:cNvSpPr/>
            <p:nvPr/>
          </p:nvSpPr>
          <p:spPr>
            <a:xfrm>
              <a:off x="3570120" y="2595600"/>
              <a:ext cx="0" cy="171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0" name=""/>
            <p:cNvSpPr/>
            <p:nvPr/>
          </p:nvSpPr>
          <p:spPr>
            <a:xfrm>
              <a:off x="3592440" y="4309920"/>
              <a:ext cx="1644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1" name=""/>
            <p:cNvSpPr/>
            <p:nvPr/>
          </p:nvSpPr>
          <p:spPr>
            <a:xfrm flipV="1">
              <a:off x="5243400" y="2602080"/>
              <a:ext cx="0" cy="1699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2" name=""/>
            <p:cNvSpPr/>
            <p:nvPr/>
          </p:nvSpPr>
          <p:spPr>
            <a:xfrm>
              <a:off x="5248440" y="2595600"/>
              <a:ext cx="1842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3" name=""/>
            <p:cNvSpPr/>
            <p:nvPr/>
          </p:nvSpPr>
          <p:spPr>
            <a:xfrm>
              <a:off x="7091280" y="2595600"/>
              <a:ext cx="0" cy="332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4" name=""/>
            <p:cNvSpPr/>
            <p:nvPr/>
          </p:nvSpPr>
          <p:spPr>
            <a:xfrm>
              <a:off x="4005360" y="4309920"/>
              <a:ext cx="0" cy="630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5" name=""/>
            <p:cNvSpPr/>
            <p:nvPr/>
          </p:nvSpPr>
          <p:spPr>
            <a:xfrm>
              <a:off x="4890960" y="4309920"/>
              <a:ext cx="0" cy="62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6" name=""/>
            <p:cNvSpPr/>
            <p:nvPr/>
          </p:nvSpPr>
          <p:spPr>
            <a:xfrm flipH="1">
              <a:off x="4005360" y="4938840"/>
              <a:ext cx="885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7" name=""/>
            <p:cNvSpPr/>
            <p:nvPr/>
          </p:nvSpPr>
          <p:spPr>
            <a:xfrm flipH="1">
              <a:off x="3701880" y="4950000"/>
              <a:ext cx="468360" cy="469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8" name=""/>
            <p:cNvSpPr/>
            <p:nvPr/>
          </p:nvSpPr>
          <p:spPr>
            <a:xfrm>
              <a:off x="4627440" y="4950000"/>
              <a:ext cx="343080" cy="34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9" name=""/>
            <p:cNvSpPr/>
            <p:nvPr/>
          </p:nvSpPr>
          <p:spPr>
            <a:xfrm>
              <a:off x="1865160" y="5281560"/>
              <a:ext cx="5235840" cy="779760"/>
            </a:xfrm>
            <a:custGeom>
              <a:avLst/>
              <a:gdLst/>
              <a:ahLst/>
              <a:rect l="0" t="0" r="r" b="b"/>
              <a:pathLst>
                <a:path fill="none" w="14544" h="2166">
                  <a:moveTo>
                    <a:pt x="0" y="2166"/>
                  </a:moveTo>
                  <a:lnTo>
                    <a:pt x="119" y="2118"/>
                  </a:lnTo>
                  <a:lnTo>
                    <a:pt x="222" y="2118"/>
                  </a:lnTo>
                  <a:lnTo>
                    <a:pt x="365" y="2078"/>
                  </a:lnTo>
                  <a:lnTo>
                    <a:pt x="468" y="2047"/>
                  </a:lnTo>
                  <a:lnTo>
                    <a:pt x="571" y="2007"/>
                  </a:lnTo>
                  <a:lnTo>
                    <a:pt x="682" y="1904"/>
                  </a:lnTo>
                  <a:lnTo>
                    <a:pt x="817" y="1833"/>
                  </a:lnTo>
                  <a:lnTo>
                    <a:pt x="928" y="1761"/>
                  </a:lnTo>
                  <a:lnTo>
                    <a:pt x="1071" y="1618"/>
                  </a:lnTo>
                  <a:lnTo>
                    <a:pt x="1206" y="1618"/>
                  </a:lnTo>
                  <a:lnTo>
                    <a:pt x="1349" y="1618"/>
                  </a:lnTo>
                  <a:lnTo>
                    <a:pt x="1492" y="1587"/>
                  </a:lnTo>
                  <a:lnTo>
                    <a:pt x="1635" y="1484"/>
                  </a:lnTo>
                  <a:lnTo>
                    <a:pt x="1738" y="1412"/>
                  </a:lnTo>
                  <a:lnTo>
                    <a:pt x="1841" y="1301"/>
                  </a:lnTo>
                  <a:lnTo>
                    <a:pt x="2056" y="1127"/>
                  </a:lnTo>
                  <a:lnTo>
                    <a:pt x="2159" y="1095"/>
                  </a:lnTo>
                  <a:lnTo>
                    <a:pt x="2302" y="1023"/>
                  </a:lnTo>
                  <a:lnTo>
                    <a:pt x="2405" y="983"/>
                  </a:lnTo>
                  <a:lnTo>
                    <a:pt x="2762" y="951"/>
                  </a:lnTo>
                  <a:lnTo>
                    <a:pt x="2865" y="920"/>
                  </a:lnTo>
                  <a:lnTo>
                    <a:pt x="3294" y="808"/>
                  </a:lnTo>
                  <a:lnTo>
                    <a:pt x="3429" y="777"/>
                  </a:lnTo>
                  <a:lnTo>
                    <a:pt x="3786" y="737"/>
                  </a:lnTo>
                  <a:lnTo>
                    <a:pt x="3961" y="737"/>
                  </a:lnTo>
                  <a:lnTo>
                    <a:pt x="4104" y="737"/>
                  </a:lnTo>
                  <a:lnTo>
                    <a:pt x="4207" y="705"/>
                  </a:lnTo>
                  <a:lnTo>
                    <a:pt x="4628" y="666"/>
                  </a:lnTo>
                  <a:lnTo>
                    <a:pt x="4771" y="563"/>
                  </a:lnTo>
                  <a:lnTo>
                    <a:pt x="4882" y="491"/>
                  </a:lnTo>
                  <a:lnTo>
                    <a:pt x="4985" y="420"/>
                  </a:lnTo>
                  <a:lnTo>
                    <a:pt x="5128" y="348"/>
                  </a:lnTo>
                  <a:lnTo>
                    <a:pt x="5302" y="285"/>
                  </a:lnTo>
                  <a:lnTo>
                    <a:pt x="5652" y="285"/>
                  </a:lnTo>
                  <a:lnTo>
                    <a:pt x="5795" y="285"/>
                  </a:lnTo>
                  <a:lnTo>
                    <a:pt x="6215" y="285"/>
                  </a:lnTo>
                  <a:lnTo>
                    <a:pt x="6326" y="285"/>
                  </a:lnTo>
                  <a:lnTo>
                    <a:pt x="6430" y="285"/>
                  </a:lnTo>
                  <a:lnTo>
                    <a:pt x="6533" y="285"/>
                  </a:lnTo>
                  <a:lnTo>
                    <a:pt x="6676" y="285"/>
                  </a:lnTo>
                  <a:lnTo>
                    <a:pt x="7104" y="285"/>
                  </a:lnTo>
                  <a:lnTo>
                    <a:pt x="7280" y="285"/>
                  </a:lnTo>
                  <a:lnTo>
                    <a:pt x="7701" y="317"/>
                  </a:lnTo>
                  <a:lnTo>
                    <a:pt x="7875" y="317"/>
                  </a:lnTo>
                  <a:lnTo>
                    <a:pt x="7987" y="285"/>
                  </a:lnTo>
                  <a:lnTo>
                    <a:pt x="8193" y="214"/>
                  </a:lnTo>
                  <a:lnTo>
                    <a:pt x="8304" y="142"/>
                  </a:lnTo>
                  <a:lnTo>
                    <a:pt x="8407" y="103"/>
                  </a:lnTo>
                  <a:lnTo>
                    <a:pt x="8511" y="31"/>
                  </a:lnTo>
                  <a:lnTo>
                    <a:pt x="8622" y="31"/>
                  </a:lnTo>
                  <a:lnTo>
                    <a:pt x="8725" y="0"/>
                  </a:lnTo>
                  <a:lnTo>
                    <a:pt x="8868" y="0"/>
                  </a:lnTo>
                  <a:lnTo>
                    <a:pt x="9011" y="0"/>
                  </a:lnTo>
                  <a:lnTo>
                    <a:pt x="9114" y="0"/>
                  </a:lnTo>
                  <a:lnTo>
                    <a:pt x="9257" y="0"/>
                  </a:lnTo>
                  <a:lnTo>
                    <a:pt x="9431" y="103"/>
                  </a:lnTo>
                  <a:lnTo>
                    <a:pt x="9574" y="142"/>
                  </a:lnTo>
                  <a:lnTo>
                    <a:pt x="9709" y="174"/>
                  </a:lnTo>
                  <a:lnTo>
                    <a:pt x="9820" y="214"/>
                  </a:lnTo>
                  <a:lnTo>
                    <a:pt x="9963" y="285"/>
                  </a:lnTo>
                  <a:lnTo>
                    <a:pt x="10098" y="388"/>
                  </a:lnTo>
                  <a:lnTo>
                    <a:pt x="10209" y="460"/>
                  </a:lnTo>
                  <a:lnTo>
                    <a:pt x="10313" y="563"/>
                  </a:lnTo>
                  <a:lnTo>
                    <a:pt x="11583" y="983"/>
                  </a:lnTo>
                  <a:lnTo>
                    <a:pt x="12567" y="1341"/>
                  </a:lnTo>
                  <a:lnTo>
                    <a:pt x="12996" y="1484"/>
                  </a:lnTo>
                  <a:lnTo>
                    <a:pt x="14123" y="1833"/>
                  </a:lnTo>
                  <a:lnTo>
                    <a:pt x="14226" y="1801"/>
                  </a:lnTo>
                  <a:lnTo>
                    <a:pt x="14369" y="1801"/>
                  </a:lnTo>
                  <a:lnTo>
                    <a:pt x="14544" y="1761"/>
                  </a:lnTo>
                  <a:lnTo>
                    <a:pt x="14480" y="183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0" name=""/>
            <p:cNvSpPr/>
            <p:nvPr/>
          </p:nvSpPr>
          <p:spPr>
            <a:xfrm>
              <a:off x="1882800" y="5575320"/>
              <a:ext cx="325440" cy="32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1" name=""/>
            <p:cNvSpPr/>
            <p:nvPr/>
          </p:nvSpPr>
          <p:spPr>
            <a:xfrm>
              <a:off x="1878120" y="4992840"/>
              <a:ext cx="725400" cy="725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2" name=""/>
            <p:cNvSpPr/>
            <p:nvPr/>
          </p:nvSpPr>
          <p:spPr>
            <a:xfrm>
              <a:off x="1878120" y="4381560"/>
              <a:ext cx="1193760" cy="119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3" name=""/>
            <p:cNvSpPr/>
            <p:nvPr/>
          </p:nvSpPr>
          <p:spPr>
            <a:xfrm>
              <a:off x="1865160" y="3781440"/>
              <a:ext cx="1703520" cy="170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4" name=""/>
            <p:cNvSpPr/>
            <p:nvPr/>
          </p:nvSpPr>
          <p:spPr>
            <a:xfrm>
              <a:off x="1871640" y="3164040"/>
              <a:ext cx="2046240" cy="2046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5" name=""/>
            <p:cNvSpPr/>
            <p:nvPr/>
          </p:nvSpPr>
          <p:spPr>
            <a:xfrm>
              <a:off x="2049480" y="2614680"/>
              <a:ext cx="1515960" cy="151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6" name=""/>
            <p:cNvSpPr/>
            <p:nvPr/>
          </p:nvSpPr>
          <p:spPr>
            <a:xfrm>
              <a:off x="3078000" y="3000240"/>
              <a:ext cx="490680" cy="490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7" name=""/>
            <p:cNvSpPr/>
            <p:nvPr/>
          </p:nvSpPr>
          <p:spPr>
            <a:xfrm>
              <a:off x="3306600" y="2595600"/>
              <a:ext cx="262080" cy="262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8" name=""/>
            <p:cNvSpPr/>
            <p:nvPr/>
          </p:nvSpPr>
          <p:spPr>
            <a:xfrm>
              <a:off x="4894200" y="4649760"/>
              <a:ext cx="881280" cy="879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9" name=""/>
            <p:cNvSpPr/>
            <p:nvPr/>
          </p:nvSpPr>
          <p:spPr>
            <a:xfrm>
              <a:off x="5245200" y="4302000"/>
              <a:ext cx="1604880" cy="1605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0" name=""/>
            <p:cNvSpPr/>
            <p:nvPr/>
          </p:nvSpPr>
          <p:spPr>
            <a:xfrm>
              <a:off x="5256360" y="3662280"/>
              <a:ext cx="1822320" cy="18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1" name=""/>
            <p:cNvSpPr/>
            <p:nvPr/>
          </p:nvSpPr>
          <p:spPr>
            <a:xfrm>
              <a:off x="5245200" y="2987640"/>
              <a:ext cx="1846080" cy="1846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2" name=""/>
            <p:cNvSpPr/>
            <p:nvPr/>
          </p:nvSpPr>
          <p:spPr>
            <a:xfrm>
              <a:off x="5500800" y="2603520"/>
              <a:ext cx="361800" cy="361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3" name=""/>
            <p:cNvSpPr/>
            <p:nvPr/>
          </p:nvSpPr>
          <p:spPr>
            <a:xfrm>
              <a:off x="6197760" y="3243240"/>
              <a:ext cx="880920" cy="88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4" name=""/>
            <p:cNvSpPr/>
            <p:nvPr/>
          </p:nvSpPr>
          <p:spPr>
            <a:xfrm>
              <a:off x="6243480" y="2625840"/>
              <a:ext cx="835200" cy="834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5" name=""/>
            <p:cNvSpPr/>
            <p:nvPr/>
          </p:nvSpPr>
          <p:spPr>
            <a:xfrm>
              <a:off x="6894360" y="2614680"/>
              <a:ext cx="195480" cy="19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56" name=""/>
            <p:cNvGrpSpPr/>
            <p:nvPr/>
          </p:nvGrpSpPr>
          <p:grpSpPr>
            <a:xfrm>
              <a:off x="2658960" y="2600280"/>
              <a:ext cx="378000" cy="781200"/>
              <a:chOff x="2658960" y="2600280"/>
              <a:chExt cx="378000" cy="781200"/>
            </a:xfrm>
          </p:grpSpPr>
          <p:sp>
            <p:nvSpPr>
              <p:cNvPr id="10457" name=""/>
              <p:cNvSpPr/>
              <p:nvPr/>
            </p:nvSpPr>
            <p:spPr>
              <a:xfrm>
                <a:off x="2709720" y="3297240"/>
                <a:ext cx="27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2658960" y="2614680"/>
                <a:ext cx="0" cy="592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3036960" y="2600280"/>
                <a:ext cx="0" cy="606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2658960" y="3211560"/>
                <a:ext cx="376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2709720" y="2629080"/>
                <a:ext cx="0" cy="668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2992320" y="2600280"/>
                <a:ext cx="0" cy="70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 flipH="1">
                <a:off x="2844720" y="3300480"/>
                <a:ext cx="14148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2714760" y="3295800"/>
                <a:ext cx="137880" cy="82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65" name=""/>
            <p:cNvGrpSpPr/>
            <p:nvPr/>
          </p:nvGrpSpPr>
          <p:grpSpPr>
            <a:xfrm>
              <a:off x="5853240" y="2598840"/>
              <a:ext cx="377640" cy="780840"/>
              <a:chOff x="5853240" y="2598840"/>
              <a:chExt cx="377640" cy="780840"/>
            </a:xfrm>
          </p:grpSpPr>
          <p:sp>
            <p:nvSpPr>
              <p:cNvPr id="10466" name=""/>
              <p:cNvSpPr/>
              <p:nvPr/>
            </p:nvSpPr>
            <p:spPr>
              <a:xfrm>
                <a:off x="5904000" y="3295800"/>
                <a:ext cx="27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5853240" y="2612880"/>
                <a:ext cx="0" cy="592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6230880" y="2598840"/>
                <a:ext cx="0" cy="606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5853240" y="3209760"/>
                <a:ext cx="376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5904000" y="2627280"/>
                <a:ext cx="0" cy="66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6186600" y="2598840"/>
                <a:ext cx="0" cy="70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 flipH="1">
                <a:off x="6039000" y="3298680"/>
                <a:ext cx="141120" cy="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5908680" y="3294000"/>
                <a:ext cx="138240" cy="82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74" name=""/>
            <p:cNvSpPr/>
            <p:nvPr/>
          </p:nvSpPr>
          <p:spPr>
            <a:xfrm flipV="1">
              <a:off x="6045120" y="2523960"/>
              <a:ext cx="0" cy="139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5" name=""/>
            <p:cNvSpPr/>
            <p:nvPr/>
          </p:nvSpPr>
          <p:spPr>
            <a:xfrm flipV="1">
              <a:off x="6045120" y="234000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6" name=""/>
            <p:cNvSpPr/>
            <p:nvPr/>
          </p:nvSpPr>
          <p:spPr>
            <a:xfrm flipV="1">
              <a:off x="6045120" y="1482840"/>
              <a:ext cx="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7" name=""/>
            <p:cNvSpPr/>
            <p:nvPr/>
          </p:nvSpPr>
          <p:spPr>
            <a:xfrm flipV="1">
              <a:off x="2852640" y="2519280"/>
              <a:ext cx="0" cy="139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8" name=""/>
            <p:cNvSpPr/>
            <p:nvPr/>
          </p:nvSpPr>
          <p:spPr>
            <a:xfrm flipV="1">
              <a:off x="2852640" y="233676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9" name=""/>
            <p:cNvSpPr/>
            <p:nvPr/>
          </p:nvSpPr>
          <p:spPr>
            <a:xfrm flipV="1">
              <a:off x="2852640" y="1479600"/>
              <a:ext cx="0" cy="74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0" name=""/>
            <p:cNvSpPr/>
            <p:nvPr/>
          </p:nvSpPr>
          <p:spPr>
            <a:xfrm flipV="1">
              <a:off x="4438800" y="3133800"/>
              <a:ext cx="0" cy="2585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1" name=""/>
            <p:cNvSpPr/>
            <p:nvPr/>
          </p:nvSpPr>
          <p:spPr>
            <a:xfrm flipV="1">
              <a:off x="4427640" y="2892600"/>
              <a:ext cx="0" cy="14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2" name=""/>
            <p:cNvSpPr/>
            <p:nvPr/>
          </p:nvSpPr>
          <p:spPr>
            <a:xfrm>
              <a:off x="4141800" y="3352680"/>
              <a:ext cx="584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83" name=""/>
          <p:cNvSpPr/>
          <p:nvPr/>
        </p:nvSpPr>
        <p:spPr>
          <a:xfrm>
            <a:off x="2236680" y="2552760"/>
            <a:ext cx="39996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4" name=""/>
          <p:cNvSpPr/>
          <p:nvPr/>
        </p:nvSpPr>
        <p:spPr>
          <a:xfrm>
            <a:off x="3081240" y="2552760"/>
            <a:ext cx="47628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5" name=""/>
          <p:cNvSpPr/>
          <p:nvPr/>
        </p:nvSpPr>
        <p:spPr>
          <a:xfrm>
            <a:off x="5278320" y="2552760"/>
            <a:ext cx="55404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6" name=""/>
          <p:cNvSpPr/>
          <p:nvPr/>
        </p:nvSpPr>
        <p:spPr>
          <a:xfrm>
            <a:off x="6276960" y="2552760"/>
            <a:ext cx="41436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7" name=""/>
          <p:cNvSpPr txBox="1"/>
          <p:nvPr/>
        </p:nvSpPr>
        <p:spPr>
          <a:xfrm>
            <a:off x="6429240" y="1127160"/>
            <a:ext cx="2589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 items, regard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the material typ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olored in sol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8" name=""/>
          <p:cNvSpPr txBox="1"/>
          <p:nvPr/>
        </p:nvSpPr>
        <p:spPr>
          <a:xfrm>
            <a:off x="654120" y="22536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itudinal Section 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9" name=""/>
          <p:cNvSpPr/>
          <p:nvPr/>
        </p:nvSpPr>
        <p:spPr>
          <a:xfrm>
            <a:off x="2262240" y="2595600"/>
            <a:ext cx="4429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0" name=""/>
          <p:cNvSpPr/>
          <p:nvPr/>
        </p:nvSpPr>
        <p:spPr>
          <a:xfrm flipV="1">
            <a:off x="2255760" y="2224080"/>
            <a:ext cx="0" cy="3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1" name=""/>
          <p:cNvSpPr/>
          <p:nvPr/>
        </p:nvSpPr>
        <p:spPr>
          <a:xfrm flipV="1">
            <a:off x="4438800" y="3133800"/>
            <a:ext cx="0" cy="2585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2" name=""/>
          <p:cNvSpPr/>
          <p:nvPr/>
        </p:nvSpPr>
        <p:spPr>
          <a:xfrm flipV="1">
            <a:off x="4427640" y="2892600"/>
            <a:ext cx="0" cy="142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3" name=""/>
          <p:cNvSpPr/>
          <p:nvPr/>
        </p:nvSpPr>
        <p:spPr>
          <a:xfrm flipV="1">
            <a:off x="4427640" y="1670040"/>
            <a:ext cx="0" cy="11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4" name=""/>
          <p:cNvSpPr/>
          <p:nvPr/>
        </p:nvSpPr>
        <p:spPr>
          <a:xfrm>
            <a:off x="4124160" y="335916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5" name=""/>
          <p:cNvSpPr/>
          <p:nvPr/>
        </p:nvSpPr>
        <p:spPr>
          <a:xfrm flipH="1">
            <a:off x="5079960" y="3241800"/>
            <a:ext cx="125280" cy="12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6" name=""/>
          <p:cNvSpPr/>
          <p:nvPr/>
        </p:nvSpPr>
        <p:spPr>
          <a:xfrm>
            <a:off x="3627360" y="2527200"/>
            <a:ext cx="789120" cy="9828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7" name=""/>
          <p:cNvSpPr/>
          <p:nvPr/>
        </p:nvSpPr>
        <p:spPr>
          <a:xfrm>
            <a:off x="4443480" y="2517840"/>
            <a:ext cx="749160" cy="12528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8" name=""/>
          <p:cNvSpPr/>
          <p:nvPr/>
        </p:nvSpPr>
        <p:spPr>
          <a:xfrm>
            <a:off x="2579760" y="2603520"/>
            <a:ext cx="74520" cy="74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9" name=""/>
          <p:cNvSpPr/>
          <p:nvPr/>
        </p:nvSpPr>
        <p:spPr>
          <a:xfrm>
            <a:off x="3751200" y="4317840"/>
            <a:ext cx="252360" cy="25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0" name=""/>
          <p:cNvSpPr/>
          <p:nvPr/>
        </p:nvSpPr>
        <p:spPr>
          <a:xfrm>
            <a:off x="2239920" y="2214720"/>
            <a:ext cx="419400" cy="381240"/>
          </a:xfrm>
          <a:custGeom>
            <a:avLst/>
            <a:gdLst/>
            <a:ahLst/>
            <a:rect l="0" t="0" r="r" b="b"/>
            <a:pathLst>
              <a:path w="1165" h="1059">
                <a:moveTo>
                  <a:pt x="0" y="1059"/>
                </a:moveTo>
                <a:lnTo>
                  <a:pt x="0" y="0"/>
                </a:lnTo>
                <a:lnTo>
                  <a:pt x="1165" y="0"/>
                </a:lnTo>
                <a:lnTo>
                  <a:pt x="1165" y="1059"/>
                </a:lnTo>
                <a:lnTo>
                  <a:pt x="0" y="1059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1" name=""/>
          <p:cNvSpPr/>
          <p:nvPr/>
        </p:nvSpPr>
        <p:spPr>
          <a:xfrm>
            <a:off x="3059280" y="2214720"/>
            <a:ext cx="1078200" cy="1143360"/>
          </a:xfrm>
          <a:custGeom>
            <a:avLst/>
            <a:gdLst/>
            <a:ahLst/>
            <a:rect l="0" t="0" r="r" b="b"/>
            <a:pathLst>
              <a:path w="2995" h="3176">
                <a:moveTo>
                  <a:pt x="0" y="1077"/>
                </a:moveTo>
                <a:lnTo>
                  <a:pt x="0" y="0"/>
                </a:lnTo>
                <a:lnTo>
                  <a:pt x="2995" y="0"/>
                </a:lnTo>
                <a:lnTo>
                  <a:pt x="2995" y="3176"/>
                </a:lnTo>
                <a:lnTo>
                  <a:pt x="1695" y="3176"/>
                </a:lnTo>
                <a:lnTo>
                  <a:pt x="1412" y="2961"/>
                </a:lnTo>
                <a:lnTo>
                  <a:pt x="1412" y="1077"/>
                </a:lnTo>
                <a:lnTo>
                  <a:pt x="0" y="1077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2" name=""/>
          <p:cNvSpPr/>
          <p:nvPr/>
        </p:nvSpPr>
        <p:spPr>
          <a:xfrm>
            <a:off x="4721400" y="2214720"/>
            <a:ext cx="1124280" cy="1143360"/>
          </a:xfrm>
          <a:custGeom>
            <a:avLst/>
            <a:gdLst/>
            <a:ahLst/>
            <a:rect l="0" t="0" r="r" b="b"/>
            <a:pathLst>
              <a:path w="3123" h="3176">
                <a:moveTo>
                  <a:pt x="0" y="0"/>
                </a:moveTo>
                <a:lnTo>
                  <a:pt x="3111" y="0"/>
                </a:lnTo>
                <a:lnTo>
                  <a:pt x="3123" y="1071"/>
                </a:lnTo>
                <a:lnTo>
                  <a:pt x="1444" y="1077"/>
                </a:lnTo>
                <a:lnTo>
                  <a:pt x="1444" y="2907"/>
                </a:lnTo>
                <a:lnTo>
                  <a:pt x="1166" y="3176"/>
                </a:lnTo>
                <a:lnTo>
                  <a:pt x="0" y="317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3" name=""/>
          <p:cNvSpPr/>
          <p:nvPr/>
        </p:nvSpPr>
        <p:spPr>
          <a:xfrm>
            <a:off x="6243480" y="2214720"/>
            <a:ext cx="438480" cy="386280"/>
          </a:xfrm>
          <a:custGeom>
            <a:avLst/>
            <a:gdLst/>
            <a:ahLst/>
            <a:rect l="0" t="0" r="r" b="b"/>
            <a:pathLst>
              <a:path w="1218" h="1073">
                <a:moveTo>
                  <a:pt x="0" y="1073"/>
                </a:moveTo>
                <a:lnTo>
                  <a:pt x="0" y="0"/>
                </a:lnTo>
                <a:lnTo>
                  <a:pt x="1218" y="0"/>
                </a:lnTo>
                <a:lnTo>
                  <a:pt x="1218" y="1073"/>
                </a:lnTo>
                <a:lnTo>
                  <a:pt x="0" y="1073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4" name=""/>
          <p:cNvSpPr/>
          <p:nvPr/>
        </p:nvSpPr>
        <p:spPr>
          <a:xfrm>
            <a:off x="6208560" y="3952800"/>
            <a:ext cx="881280" cy="87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5" name=""/>
          <p:cNvSpPr/>
          <p:nvPr/>
        </p:nvSpPr>
        <p:spPr>
          <a:xfrm flipV="1">
            <a:off x="1865160" y="2595600"/>
            <a:ext cx="0" cy="345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6" name=""/>
          <p:cNvSpPr/>
          <p:nvPr/>
        </p:nvSpPr>
        <p:spPr>
          <a:xfrm>
            <a:off x="1865160" y="2595600"/>
            <a:ext cx="792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7" name=""/>
          <p:cNvSpPr/>
          <p:nvPr/>
        </p:nvSpPr>
        <p:spPr>
          <a:xfrm>
            <a:off x="3568680" y="2595600"/>
            <a:ext cx="0" cy="17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8" name=""/>
          <p:cNvSpPr/>
          <p:nvPr/>
        </p:nvSpPr>
        <p:spPr>
          <a:xfrm>
            <a:off x="3571920" y="4309920"/>
            <a:ext cx="1668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9" name=""/>
          <p:cNvSpPr/>
          <p:nvPr/>
        </p:nvSpPr>
        <p:spPr>
          <a:xfrm flipV="1">
            <a:off x="5246640" y="2602080"/>
            <a:ext cx="0" cy="1699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0" name=""/>
          <p:cNvSpPr/>
          <p:nvPr/>
        </p:nvSpPr>
        <p:spPr>
          <a:xfrm>
            <a:off x="6243480" y="2600280"/>
            <a:ext cx="851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1" name=""/>
          <p:cNvSpPr/>
          <p:nvPr/>
        </p:nvSpPr>
        <p:spPr>
          <a:xfrm>
            <a:off x="7094520" y="2595600"/>
            <a:ext cx="0" cy="332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2" name=""/>
          <p:cNvSpPr/>
          <p:nvPr/>
        </p:nvSpPr>
        <p:spPr>
          <a:xfrm>
            <a:off x="4008600" y="4309920"/>
            <a:ext cx="0" cy="63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3" name=""/>
          <p:cNvSpPr/>
          <p:nvPr/>
        </p:nvSpPr>
        <p:spPr>
          <a:xfrm>
            <a:off x="4894200" y="4309920"/>
            <a:ext cx="0" cy="62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4" name=""/>
          <p:cNvSpPr/>
          <p:nvPr/>
        </p:nvSpPr>
        <p:spPr>
          <a:xfrm flipH="1">
            <a:off x="4008600" y="4938840"/>
            <a:ext cx="885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5" name=""/>
          <p:cNvSpPr/>
          <p:nvPr/>
        </p:nvSpPr>
        <p:spPr>
          <a:xfrm flipH="1">
            <a:off x="3705120" y="4950000"/>
            <a:ext cx="468360" cy="46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6" name=""/>
          <p:cNvSpPr/>
          <p:nvPr/>
        </p:nvSpPr>
        <p:spPr>
          <a:xfrm>
            <a:off x="4630680" y="4950000"/>
            <a:ext cx="343080" cy="3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7" name=""/>
          <p:cNvSpPr/>
          <p:nvPr/>
        </p:nvSpPr>
        <p:spPr>
          <a:xfrm>
            <a:off x="1868400" y="5281560"/>
            <a:ext cx="5235840" cy="779760"/>
          </a:xfrm>
          <a:custGeom>
            <a:avLst/>
            <a:gdLst/>
            <a:ahLst/>
            <a:rect l="0" t="0" r="r" b="b"/>
            <a:pathLst>
              <a:path fill="none" w="14544" h="2166">
                <a:moveTo>
                  <a:pt x="0" y="2166"/>
                </a:moveTo>
                <a:lnTo>
                  <a:pt x="119" y="2118"/>
                </a:lnTo>
                <a:lnTo>
                  <a:pt x="222" y="2118"/>
                </a:lnTo>
                <a:lnTo>
                  <a:pt x="365" y="2078"/>
                </a:lnTo>
                <a:lnTo>
                  <a:pt x="468" y="2047"/>
                </a:lnTo>
                <a:lnTo>
                  <a:pt x="571" y="2007"/>
                </a:lnTo>
                <a:lnTo>
                  <a:pt x="682" y="1904"/>
                </a:lnTo>
                <a:lnTo>
                  <a:pt x="817" y="1833"/>
                </a:lnTo>
                <a:lnTo>
                  <a:pt x="928" y="1761"/>
                </a:lnTo>
                <a:lnTo>
                  <a:pt x="1071" y="1618"/>
                </a:lnTo>
                <a:lnTo>
                  <a:pt x="1206" y="1618"/>
                </a:lnTo>
                <a:lnTo>
                  <a:pt x="1349" y="1618"/>
                </a:lnTo>
                <a:lnTo>
                  <a:pt x="1492" y="1587"/>
                </a:lnTo>
                <a:lnTo>
                  <a:pt x="1635" y="1484"/>
                </a:lnTo>
                <a:lnTo>
                  <a:pt x="1738" y="1412"/>
                </a:lnTo>
                <a:lnTo>
                  <a:pt x="1841" y="1301"/>
                </a:lnTo>
                <a:lnTo>
                  <a:pt x="2056" y="1127"/>
                </a:lnTo>
                <a:lnTo>
                  <a:pt x="2159" y="1095"/>
                </a:lnTo>
                <a:lnTo>
                  <a:pt x="2302" y="1023"/>
                </a:lnTo>
                <a:lnTo>
                  <a:pt x="2405" y="983"/>
                </a:lnTo>
                <a:lnTo>
                  <a:pt x="2762" y="951"/>
                </a:lnTo>
                <a:lnTo>
                  <a:pt x="2865" y="920"/>
                </a:lnTo>
                <a:lnTo>
                  <a:pt x="3294" y="808"/>
                </a:lnTo>
                <a:lnTo>
                  <a:pt x="3429" y="777"/>
                </a:lnTo>
                <a:lnTo>
                  <a:pt x="3786" y="737"/>
                </a:lnTo>
                <a:lnTo>
                  <a:pt x="3961" y="737"/>
                </a:lnTo>
                <a:lnTo>
                  <a:pt x="4104" y="737"/>
                </a:lnTo>
                <a:lnTo>
                  <a:pt x="4207" y="705"/>
                </a:lnTo>
                <a:lnTo>
                  <a:pt x="4628" y="666"/>
                </a:lnTo>
                <a:lnTo>
                  <a:pt x="4771" y="563"/>
                </a:lnTo>
                <a:lnTo>
                  <a:pt x="4882" y="491"/>
                </a:lnTo>
                <a:lnTo>
                  <a:pt x="4985" y="420"/>
                </a:lnTo>
                <a:lnTo>
                  <a:pt x="5128" y="348"/>
                </a:lnTo>
                <a:lnTo>
                  <a:pt x="5302" y="285"/>
                </a:lnTo>
                <a:lnTo>
                  <a:pt x="5652" y="285"/>
                </a:lnTo>
                <a:lnTo>
                  <a:pt x="5795" y="285"/>
                </a:lnTo>
                <a:lnTo>
                  <a:pt x="6215" y="285"/>
                </a:lnTo>
                <a:lnTo>
                  <a:pt x="6326" y="285"/>
                </a:lnTo>
                <a:lnTo>
                  <a:pt x="6430" y="285"/>
                </a:lnTo>
                <a:lnTo>
                  <a:pt x="6533" y="285"/>
                </a:lnTo>
                <a:lnTo>
                  <a:pt x="6676" y="285"/>
                </a:lnTo>
                <a:lnTo>
                  <a:pt x="7104" y="285"/>
                </a:lnTo>
                <a:lnTo>
                  <a:pt x="7280" y="285"/>
                </a:lnTo>
                <a:lnTo>
                  <a:pt x="7701" y="317"/>
                </a:lnTo>
                <a:lnTo>
                  <a:pt x="7875" y="317"/>
                </a:lnTo>
                <a:lnTo>
                  <a:pt x="7987" y="285"/>
                </a:lnTo>
                <a:lnTo>
                  <a:pt x="8193" y="214"/>
                </a:lnTo>
                <a:lnTo>
                  <a:pt x="8304" y="142"/>
                </a:lnTo>
                <a:lnTo>
                  <a:pt x="8407" y="103"/>
                </a:lnTo>
                <a:lnTo>
                  <a:pt x="8511" y="31"/>
                </a:lnTo>
                <a:lnTo>
                  <a:pt x="8622" y="31"/>
                </a:lnTo>
                <a:lnTo>
                  <a:pt x="8725" y="0"/>
                </a:lnTo>
                <a:lnTo>
                  <a:pt x="8868" y="0"/>
                </a:lnTo>
                <a:lnTo>
                  <a:pt x="9011" y="0"/>
                </a:lnTo>
                <a:lnTo>
                  <a:pt x="9114" y="0"/>
                </a:lnTo>
                <a:lnTo>
                  <a:pt x="9257" y="0"/>
                </a:lnTo>
                <a:lnTo>
                  <a:pt x="9431" y="103"/>
                </a:lnTo>
                <a:lnTo>
                  <a:pt x="9574" y="142"/>
                </a:lnTo>
                <a:lnTo>
                  <a:pt x="9709" y="174"/>
                </a:lnTo>
                <a:lnTo>
                  <a:pt x="9820" y="214"/>
                </a:lnTo>
                <a:lnTo>
                  <a:pt x="9963" y="285"/>
                </a:lnTo>
                <a:lnTo>
                  <a:pt x="10098" y="388"/>
                </a:lnTo>
                <a:lnTo>
                  <a:pt x="10209" y="460"/>
                </a:lnTo>
                <a:lnTo>
                  <a:pt x="10313" y="563"/>
                </a:lnTo>
                <a:lnTo>
                  <a:pt x="11583" y="983"/>
                </a:lnTo>
                <a:lnTo>
                  <a:pt x="12567" y="1341"/>
                </a:lnTo>
                <a:lnTo>
                  <a:pt x="12996" y="1484"/>
                </a:lnTo>
                <a:lnTo>
                  <a:pt x="14123" y="1833"/>
                </a:lnTo>
                <a:lnTo>
                  <a:pt x="14226" y="1801"/>
                </a:lnTo>
                <a:lnTo>
                  <a:pt x="14369" y="1801"/>
                </a:lnTo>
                <a:lnTo>
                  <a:pt x="14544" y="1761"/>
                </a:lnTo>
                <a:lnTo>
                  <a:pt x="14480" y="183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8" name=""/>
          <p:cNvSpPr/>
          <p:nvPr/>
        </p:nvSpPr>
        <p:spPr>
          <a:xfrm>
            <a:off x="1886040" y="5575320"/>
            <a:ext cx="325440" cy="325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9" name=""/>
          <p:cNvSpPr/>
          <p:nvPr/>
        </p:nvSpPr>
        <p:spPr>
          <a:xfrm>
            <a:off x="1881360" y="4992840"/>
            <a:ext cx="725400" cy="725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0" name=""/>
          <p:cNvSpPr/>
          <p:nvPr/>
        </p:nvSpPr>
        <p:spPr>
          <a:xfrm>
            <a:off x="1881360" y="4381560"/>
            <a:ext cx="1193760" cy="119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1" name=""/>
          <p:cNvSpPr/>
          <p:nvPr/>
        </p:nvSpPr>
        <p:spPr>
          <a:xfrm>
            <a:off x="1868400" y="3781440"/>
            <a:ext cx="1703520" cy="170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2" name=""/>
          <p:cNvSpPr/>
          <p:nvPr/>
        </p:nvSpPr>
        <p:spPr>
          <a:xfrm>
            <a:off x="1874880" y="3164040"/>
            <a:ext cx="2046240" cy="20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3" name=""/>
          <p:cNvSpPr/>
          <p:nvPr/>
        </p:nvSpPr>
        <p:spPr>
          <a:xfrm>
            <a:off x="2052720" y="2614680"/>
            <a:ext cx="1515960" cy="151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4" name=""/>
          <p:cNvSpPr/>
          <p:nvPr/>
        </p:nvSpPr>
        <p:spPr>
          <a:xfrm>
            <a:off x="3043080" y="2962440"/>
            <a:ext cx="528840" cy="52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5" name=""/>
          <p:cNvSpPr/>
          <p:nvPr/>
        </p:nvSpPr>
        <p:spPr>
          <a:xfrm>
            <a:off x="3325680" y="2611440"/>
            <a:ext cx="243000" cy="2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6" name=""/>
          <p:cNvSpPr/>
          <p:nvPr/>
        </p:nvSpPr>
        <p:spPr>
          <a:xfrm>
            <a:off x="4897440" y="4649760"/>
            <a:ext cx="880920" cy="87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7" name=""/>
          <p:cNvSpPr/>
          <p:nvPr/>
        </p:nvSpPr>
        <p:spPr>
          <a:xfrm>
            <a:off x="5248440" y="4302000"/>
            <a:ext cx="1604880" cy="160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8" name=""/>
          <p:cNvSpPr/>
          <p:nvPr/>
        </p:nvSpPr>
        <p:spPr>
          <a:xfrm>
            <a:off x="5259240" y="3662280"/>
            <a:ext cx="1822680" cy="182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9" name=""/>
          <p:cNvSpPr/>
          <p:nvPr/>
        </p:nvSpPr>
        <p:spPr>
          <a:xfrm>
            <a:off x="5248440" y="2987640"/>
            <a:ext cx="952200" cy="952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0" name=""/>
          <p:cNvSpPr/>
          <p:nvPr/>
        </p:nvSpPr>
        <p:spPr>
          <a:xfrm>
            <a:off x="5504040" y="2603520"/>
            <a:ext cx="344160" cy="344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1" name=""/>
          <p:cNvSpPr/>
          <p:nvPr/>
        </p:nvSpPr>
        <p:spPr>
          <a:xfrm>
            <a:off x="6200640" y="3243240"/>
            <a:ext cx="881280" cy="88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2" name=""/>
          <p:cNvSpPr/>
          <p:nvPr/>
        </p:nvSpPr>
        <p:spPr>
          <a:xfrm>
            <a:off x="6246720" y="2625840"/>
            <a:ext cx="835200" cy="83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3" name=""/>
          <p:cNvSpPr/>
          <p:nvPr/>
        </p:nvSpPr>
        <p:spPr>
          <a:xfrm>
            <a:off x="6897600" y="2614680"/>
            <a:ext cx="195480" cy="195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4" name=""/>
          <p:cNvSpPr/>
          <p:nvPr/>
        </p:nvSpPr>
        <p:spPr>
          <a:xfrm>
            <a:off x="5848200" y="2546280"/>
            <a:ext cx="388800" cy="651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5" name=""/>
          <p:cNvSpPr/>
          <p:nvPr/>
        </p:nvSpPr>
        <p:spPr>
          <a:xfrm flipV="1">
            <a:off x="6045120" y="2523960"/>
            <a:ext cx="0" cy="139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6" name=""/>
          <p:cNvSpPr/>
          <p:nvPr/>
        </p:nvSpPr>
        <p:spPr>
          <a:xfrm flipV="1">
            <a:off x="6045120" y="2171880"/>
            <a:ext cx="0" cy="107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7" name=""/>
          <p:cNvSpPr/>
          <p:nvPr/>
        </p:nvSpPr>
        <p:spPr>
          <a:xfrm flipV="1">
            <a:off x="6232680" y="2209680"/>
            <a:ext cx="0" cy="776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8" name=""/>
          <p:cNvSpPr/>
          <p:nvPr/>
        </p:nvSpPr>
        <p:spPr>
          <a:xfrm>
            <a:off x="5664240" y="2212920"/>
            <a:ext cx="738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9" name=""/>
          <p:cNvSpPr/>
          <p:nvPr/>
        </p:nvSpPr>
        <p:spPr>
          <a:xfrm flipV="1">
            <a:off x="5664240" y="1811160"/>
            <a:ext cx="0" cy="40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0" name=""/>
          <p:cNvSpPr/>
          <p:nvPr/>
        </p:nvSpPr>
        <p:spPr>
          <a:xfrm>
            <a:off x="5748480" y="1700280"/>
            <a:ext cx="568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1" name=""/>
          <p:cNvSpPr/>
          <p:nvPr/>
        </p:nvSpPr>
        <p:spPr>
          <a:xfrm flipV="1">
            <a:off x="5843520" y="1811160"/>
            <a:ext cx="0" cy="40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2" name=""/>
          <p:cNvSpPr/>
          <p:nvPr/>
        </p:nvSpPr>
        <p:spPr>
          <a:xfrm flipV="1">
            <a:off x="6224760" y="1795320"/>
            <a:ext cx="0" cy="41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3" name=""/>
          <p:cNvSpPr/>
          <p:nvPr/>
        </p:nvSpPr>
        <p:spPr>
          <a:xfrm>
            <a:off x="5912280" y="1647720"/>
            <a:ext cx="264960" cy="285480"/>
          </a:xfrm>
          <a:custGeom>
            <a:avLst/>
            <a:gdLst/>
            <a:ahLst/>
            <a:rect l="0" t="0" r="r" b="b"/>
            <a:pathLst>
              <a:path fill="none" w="736" h="793">
                <a:moveTo>
                  <a:pt x="736" y="793"/>
                </a:moveTo>
                <a:lnTo>
                  <a:pt x="736" y="793"/>
                </a:lnTo>
                <a:cubicBezTo>
                  <a:pt x="732" y="658"/>
                  <a:pt x="697" y="527"/>
                  <a:pt x="636" y="410"/>
                </a:cubicBezTo>
                <a:cubicBezTo>
                  <a:pt x="570" y="286"/>
                  <a:pt x="475" y="182"/>
                  <a:pt x="361" y="110"/>
                </a:cubicBezTo>
                <a:cubicBezTo>
                  <a:pt x="251" y="40"/>
                  <a:pt x="127" y="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4" name=""/>
          <p:cNvSpPr/>
          <p:nvPr/>
        </p:nvSpPr>
        <p:spPr>
          <a:xfrm>
            <a:off x="5646600" y="1724040"/>
            <a:ext cx="124200" cy="88560"/>
          </a:xfrm>
          <a:custGeom>
            <a:avLst/>
            <a:gdLst/>
            <a:ahLst/>
            <a:rect l="0" t="0" r="r" b="b"/>
            <a:pathLst>
              <a:path fill="none" w="345" h="246">
                <a:moveTo>
                  <a:pt x="345" y="246"/>
                </a:moveTo>
                <a:lnTo>
                  <a:pt x="345" y="246"/>
                </a:lnTo>
                <a:lnTo>
                  <a:pt x="345" y="246"/>
                </a:lnTo>
                <a:cubicBezTo>
                  <a:pt x="345" y="203"/>
                  <a:pt x="329" y="160"/>
                  <a:pt x="299" y="123"/>
                </a:cubicBezTo>
                <a:cubicBezTo>
                  <a:pt x="268" y="86"/>
                  <a:pt x="225" y="55"/>
                  <a:pt x="172" y="33"/>
                </a:cubicBezTo>
                <a:cubicBezTo>
                  <a:pt x="120" y="11"/>
                  <a:pt x="61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5" name=""/>
          <p:cNvSpPr/>
          <p:nvPr/>
        </p:nvSpPr>
        <p:spPr>
          <a:xfrm>
            <a:off x="5740560" y="1724040"/>
            <a:ext cx="123480" cy="88560"/>
          </a:xfrm>
          <a:custGeom>
            <a:avLst/>
            <a:gdLst/>
            <a:ahLst/>
            <a:rect l="0" t="0" r="r" b="b"/>
            <a:pathLst>
              <a:path fill="none" w="343" h="246">
                <a:moveTo>
                  <a:pt x="343" y="0"/>
                </a:moveTo>
                <a:lnTo>
                  <a:pt x="343" y="0"/>
                </a:lnTo>
                <a:cubicBezTo>
                  <a:pt x="283" y="0"/>
                  <a:pt x="224" y="11"/>
                  <a:pt x="171" y="33"/>
                </a:cubicBezTo>
                <a:cubicBezTo>
                  <a:pt x="119" y="55"/>
                  <a:pt x="76" y="86"/>
                  <a:pt x="46" y="123"/>
                </a:cubicBezTo>
                <a:cubicBezTo>
                  <a:pt x="16" y="160"/>
                  <a:pt x="0" y="203"/>
                  <a:pt x="0" y="2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6" name=""/>
          <p:cNvSpPr/>
          <p:nvPr/>
        </p:nvSpPr>
        <p:spPr>
          <a:xfrm>
            <a:off x="6217560" y="1711440"/>
            <a:ext cx="101160" cy="89280"/>
          </a:xfrm>
          <a:custGeom>
            <a:avLst/>
            <a:gdLst/>
            <a:ahLst/>
            <a:rect l="0" t="0" r="r" b="b"/>
            <a:pathLst>
              <a:path fill="none" w="281" h="248">
                <a:moveTo>
                  <a:pt x="281" y="248"/>
                </a:moveTo>
                <a:lnTo>
                  <a:pt x="281" y="248"/>
                </a:lnTo>
                <a:lnTo>
                  <a:pt x="281" y="248"/>
                </a:lnTo>
                <a:cubicBezTo>
                  <a:pt x="281" y="204"/>
                  <a:pt x="268" y="162"/>
                  <a:pt x="243" y="124"/>
                </a:cubicBezTo>
                <a:cubicBezTo>
                  <a:pt x="219" y="86"/>
                  <a:pt x="183" y="55"/>
                  <a:pt x="140" y="33"/>
                </a:cubicBezTo>
                <a:cubicBezTo>
                  <a:pt x="98" y="11"/>
                  <a:pt x="49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7" name=""/>
          <p:cNvSpPr/>
          <p:nvPr/>
        </p:nvSpPr>
        <p:spPr>
          <a:xfrm>
            <a:off x="6308640" y="1711440"/>
            <a:ext cx="100440" cy="89280"/>
          </a:xfrm>
          <a:custGeom>
            <a:avLst/>
            <a:gdLst/>
            <a:ahLst/>
            <a:rect l="0" t="0" r="r" b="b"/>
            <a:pathLst>
              <a:path fill="none" w="279" h="248">
                <a:moveTo>
                  <a:pt x="279" y="0"/>
                </a:moveTo>
                <a:lnTo>
                  <a:pt x="279" y="0"/>
                </a:lnTo>
                <a:cubicBezTo>
                  <a:pt x="230" y="0"/>
                  <a:pt x="182" y="11"/>
                  <a:pt x="139" y="33"/>
                </a:cubicBezTo>
                <a:cubicBezTo>
                  <a:pt x="97" y="55"/>
                  <a:pt x="62" y="86"/>
                  <a:pt x="37" y="124"/>
                </a:cubicBezTo>
                <a:cubicBezTo>
                  <a:pt x="13" y="162"/>
                  <a:pt x="0" y="204"/>
                  <a:pt x="0" y="24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8" name=""/>
          <p:cNvSpPr/>
          <p:nvPr/>
        </p:nvSpPr>
        <p:spPr>
          <a:xfrm flipV="1">
            <a:off x="6402240" y="1795320"/>
            <a:ext cx="0" cy="40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9" name=""/>
          <p:cNvSpPr/>
          <p:nvPr/>
        </p:nvSpPr>
        <p:spPr>
          <a:xfrm flipV="1">
            <a:off x="5851440" y="2222640"/>
            <a:ext cx="0" cy="76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0" name=""/>
          <p:cNvSpPr/>
          <p:nvPr/>
        </p:nvSpPr>
        <p:spPr>
          <a:xfrm>
            <a:off x="5854680" y="2306520"/>
            <a:ext cx="378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1" name=""/>
          <p:cNvSpPr/>
          <p:nvPr/>
        </p:nvSpPr>
        <p:spPr>
          <a:xfrm flipV="1">
            <a:off x="5902200" y="2301840"/>
            <a:ext cx="0" cy="6811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2" name=""/>
          <p:cNvSpPr/>
          <p:nvPr/>
        </p:nvSpPr>
        <p:spPr>
          <a:xfrm flipV="1">
            <a:off x="6184800" y="2309760"/>
            <a:ext cx="0" cy="6778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3" name=""/>
          <p:cNvSpPr/>
          <p:nvPr/>
        </p:nvSpPr>
        <p:spPr>
          <a:xfrm>
            <a:off x="5859360" y="2982960"/>
            <a:ext cx="37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4" name=""/>
          <p:cNvSpPr/>
          <p:nvPr/>
        </p:nvSpPr>
        <p:spPr>
          <a:xfrm>
            <a:off x="5908680" y="3301920"/>
            <a:ext cx="133200" cy="98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7520" bIns="47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5" name=""/>
          <p:cNvSpPr/>
          <p:nvPr/>
        </p:nvSpPr>
        <p:spPr>
          <a:xfrm flipV="1">
            <a:off x="6041880" y="3306600"/>
            <a:ext cx="141480" cy="93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6" name=""/>
          <p:cNvSpPr/>
          <p:nvPr/>
        </p:nvSpPr>
        <p:spPr>
          <a:xfrm>
            <a:off x="5902200" y="3300480"/>
            <a:ext cx="27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7" name=""/>
          <p:cNvSpPr/>
          <p:nvPr/>
        </p:nvSpPr>
        <p:spPr>
          <a:xfrm>
            <a:off x="5851440" y="3014640"/>
            <a:ext cx="0" cy="1969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8" name=""/>
          <p:cNvSpPr/>
          <p:nvPr/>
        </p:nvSpPr>
        <p:spPr>
          <a:xfrm>
            <a:off x="6230880" y="301140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9" name=""/>
          <p:cNvSpPr/>
          <p:nvPr/>
        </p:nvSpPr>
        <p:spPr>
          <a:xfrm>
            <a:off x="5851440" y="321480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0" name=""/>
          <p:cNvSpPr/>
          <p:nvPr/>
        </p:nvSpPr>
        <p:spPr>
          <a:xfrm>
            <a:off x="5902200" y="3038400"/>
            <a:ext cx="281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1" name=""/>
          <p:cNvSpPr/>
          <p:nvPr/>
        </p:nvSpPr>
        <p:spPr>
          <a:xfrm>
            <a:off x="5853240" y="2982960"/>
            <a:ext cx="50760" cy="5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2" name=""/>
          <p:cNvSpPr/>
          <p:nvPr/>
        </p:nvSpPr>
        <p:spPr>
          <a:xfrm flipH="1">
            <a:off x="6178680" y="2986200"/>
            <a:ext cx="52200" cy="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3" name=""/>
          <p:cNvSpPr/>
          <p:nvPr/>
        </p:nvSpPr>
        <p:spPr>
          <a:xfrm>
            <a:off x="5902200" y="30337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4" name=""/>
          <p:cNvSpPr/>
          <p:nvPr/>
        </p:nvSpPr>
        <p:spPr>
          <a:xfrm>
            <a:off x="6184800" y="3038400"/>
            <a:ext cx="0" cy="270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5" name=""/>
          <p:cNvSpPr/>
          <p:nvPr/>
        </p:nvSpPr>
        <p:spPr>
          <a:xfrm flipV="1">
            <a:off x="6045120" y="2340000"/>
            <a:ext cx="0" cy="103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6" name=""/>
          <p:cNvSpPr/>
          <p:nvPr/>
        </p:nvSpPr>
        <p:spPr>
          <a:xfrm>
            <a:off x="5607000" y="2130480"/>
            <a:ext cx="846000" cy="76320"/>
          </a:xfrm>
          <a:prstGeom prst="rect">
            <a:avLst/>
          </a:prstGeom>
          <a:solidFill>
            <a:srgbClr val="0101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7" name=""/>
          <p:cNvSpPr/>
          <p:nvPr/>
        </p:nvSpPr>
        <p:spPr>
          <a:xfrm flipV="1">
            <a:off x="6045120" y="1482840"/>
            <a:ext cx="0" cy="74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8" name=""/>
          <p:cNvSpPr/>
          <p:nvPr/>
        </p:nvSpPr>
        <p:spPr>
          <a:xfrm>
            <a:off x="2652840" y="2546280"/>
            <a:ext cx="399960" cy="651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9" name=""/>
          <p:cNvSpPr/>
          <p:nvPr/>
        </p:nvSpPr>
        <p:spPr>
          <a:xfrm flipV="1">
            <a:off x="2852640" y="2519280"/>
            <a:ext cx="0" cy="139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0" name=""/>
          <p:cNvSpPr/>
          <p:nvPr/>
        </p:nvSpPr>
        <p:spPr>
          <a:xfrm flipV="1">
            <a:off x="2852640" y="2166840"/>
            <a:ext cx="0" cy="10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1" name=""/>
          <p:cNvSpPr/>
          <p:nvPr/>
        </p:nvSpPr>
        <p:spPr>
          <a:xfrm flipV="1">
            <a:off x="3040200" y="2205000"/>
            <a:ext cx="0" cy="777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2" name=""/>
          <p:cNvSpPr/>
          <p:nvPr/>
        </p:nvSpPr>
        <p:spPr>
          <a:xfrm>
            <a:off x="2471760" y="2209680"/>
            <a:ext cx="736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3" name=""/>
          <p:cNvSpPr/>
          <p:nvPr/>
        </p:nvSpPr>
        <p:spPr>
          <a:xfrm flipV="1">
            <a:off x="2471760" y="1806480"/>
            <a:ext cx="0" cy="40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4" name=""/>
          <p:cNvSpPr/>
          <p:nvPr/>
        </p:nvSpPr>
        <p:spPr>
          <a:xfrm>
            <a:off x="2584440" y="1704960"/>
            <a:ext cx="538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5" name=""/>
          <p:cNvSpPr/>
          <p:nvPr/>
        </p:nvSpPr>
        <p:spPr>
          <a:xfrm flipV="1">
            <a:off x="2651040" y="1806480"/>
            <a:ext cx="0" cy="40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6" name=""/>
          <p:cNvSpPr/>
          <p:nvPr/>
        </p:nvSpPr>
        <p:spPr>
          <a:xfrm flipV="1">
            <a:off x="3032280" y="1792440"/>
            <a:ext cx="0" cy="417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7" name=""/>
          <p:cNvSpPr/>
          <p:nvPr/>
        </p:nvSpPr>
        <p:spPr>
          <a:xfrm>
            <a:off x="2714400" y="1641600"/>
            <a:ext cx="270000" cy="280800"/>
          </a:xfrm>
          <a:custGeom>
            <a:avLst/>
            <a:gdLst/>
            <a:ahLst/>
            <a:rect l="0" t="0" r="r" b="b"/>
            <a:pathLst>
              <a:path fill="none" w="750" h="780">
                <a:moveTo>
                  <a:pt x="750" y="780"/>
                </a:moveTo>
                <a:lnTo>
                  <a:pt x="750" y="780"/>
                </a:lnTo>
                <a:cubicBezTo>
                  <a:pt x="743" y="651"/>
                  <a:pt x="708" y="526"/>
                  <a:pt x="649" y="415"/>
                </a:cubicBezTo>
                <a:cubicBezTo>
                  <a:pt x="581" y="289"/>
                  <a:pt x="484" y="184"/>
                  <a:pt x="368" y="111"/>
                </a:cubicBezTo>
                <a:cubicBezTo>
                  <a:pt x="256" y="41"/>
                  <a:pt x="129" y="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8" name=""/>
          <p:cNvGrpSpPr/>
          <p:nvPr/>
        </p:nvGrpSpPr>
        <p:grpSpPr>
          <a:xfrm>
            <a:off x="2454120" y="1719360"/>
            <a:ext cx="217440" cy="89280"/>
            <a:chOff x="2454120" y="1719360"/>
            <a:chExt cx="217440" cy="89280"/>
          </a:xfrm>
        </p:grpSpPr>
        <p:sp>
          <p:nvSpPr>
            <p:cNvPr id="10579" name=""/>
            <p:cNvSpPr/>
            <p:nvPr/>
          </p:nvSpPr>
          <p:spPr>
            <a:xfrm>
              <a:off x="2454120" y="1719360"/>
              <a:ext cx="124200" cy="89280"/>
            </a:xfrm>
            <a:custGeom>
              <a:avLst/>
              <a:gdLst/>
              <a:ahLst/>
              <a:rect l="0" t="0" r="r" b="b"/>
              <a:pathLst>
                <a:path fill="none" w="345" h="248">
                  <a:moveTo>
                    <a:pt x="345" y="248"/>
                  </a:moveTo>
                  <a:lnTo>
                    <a:pt x="345" y="248"/>
                  </a:lnTo>
                  <a:lnTo>
                    <a:pt x="345" y="248"/>
                  </a:lnTo>
                  <a:cubicBezTo>
                    <a:pt x="345" y="204"/>
                    <a:pt x="329" y="162"/>
                    <a:pt x="299" y="124"/>
                  </a:cubicBezTo>
                  <a:cubicBezTo>
                    <a:pt x="268" y="86"/>
                    <a:pt x="225" y="55"/>
                    <a:pt x="172" y="33"/>
                  </a:cubicBezTo>
                  <a:cubicBezTo>
                    <a:pt x="120" y="11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0" name=""/>
            <p:cNvSpPr/>
            <p:nvPr/>
          </p:nvSpPr>
          <p:spPr>
            <a:xfrm>
              <a:off x="2548080" y="1719360"/>
              <a:ext cx="123480" cy="89280"/>
            </a:xfrm>
            <a:custGeom>
              <a:avLst/>
              <a:gdLst/>
              <a:ahLst/>
              <a:rect l="0" t="0" r="r" b="b"/>
              <a:pathLst>
                <a:path fill="none" w="343" h="248">
                  <a:moveTo>
                    <a:pt x="343" y="0"/>
                  </a:moveTo>
                  <a:lnTo>
                    <a:pt x="343" y="0"/>
                  </a:lnTo>
                  <a:cubicBezTo>
                    <a:pt x="283" y="0"/>
                    <a:pt x="224" y="11"/>
                    <a:pt x="171" y="33"/>
                  </a:cubicBezTo>
                  <a:cubicBezTo>
                    <a:pt x="119" y="55"/>
                    <a:pt x="76" y="86"/>
                    <a:pt x="46" y="124"/>
                  </a:cubicBezTo>
                  <a:cubicBezTo>
                    <a:pt x="16" y="162"/>
                    <a:pt x="0" y="204"/>
                    <a:pt x="0" y="24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81" name=""/>
          <p:cNvGrpSpPr/>
          <p:nvPr/>
        </p:nvGrpSpPr>
        <p:grpSpPr>
          <a:xfrm>
            <a:off x="3024360" y="1708200"/>
            <a:ext cx="192240" cy="89280"/>
            <a:chOff x="3024360" y="1708200"/>
            <a:chExt cx="192240" cy="89280"/>
          </a:xfrm>
        </p:grpSpPr>
        <p:sp>
          <p:nvSpPr>
            <p:cNvPr id="10582" name=""/>
            <p:cNvSpPr/>
            <p:nvPr/>
          </p:nvSpPr>
          <p:spPr>
            <a:xfrm>
              <a:off x="3024360" y="1708200"/>
              <a:ext cx="101880" cy="89280"/>
            </a:xfrm>
            <a:custGeom>
              <a:avLst/>
              <a:gdLst/>
              <a:ahLst/>
              <a:rect l="0" t="0" r="r" b="b"/>
              <a:pathLst>
                <a:path fill="none" w="283" h="248">
                  <a:moveTo>
                    <a:pt x="283" y="248"/>
                  </a:moveTo>
                  <a:lnTo>
                    <a:pt x="283" y="248"/>
                  </a:lnTo>
                  <a:lnTo>
                    <a:pt x="283" y="248"/>
                  </a:lnTo>
                  <a:cubicBezTo>
                    <a:pt x="283" y="204"/>
                    <a:pt x="270" y="162"/>
                    <a:pt x="245" y="124"/>
                  </a:cubicBezTo>
                  <a:cubicBezTo>
                    <a:pt x="220" y="86"/>
                    <a:pt x="185" y="55"/>
                    <a:pt x="141" y="33"/>
                  </a:cubicBezTo>
                  <a:cubicBezTo>
                    <a:pt x="98" y="11"/>
                    <a:pt x="5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3" name=""/>
            <p:cNvSpPr/>
            <p:nvPr/>
          </p:nvSpPr>
          <p:spPr>
            <a:xfrm>
              <a:off x="3116160" y="1708200"/>
              <a:ext cx="100440" cy="89280"/>
            </a:xfrm>
            <a:custGeom>
              <a:avLst/>
              <a:gdLst/>
              <a:ahLst/>
              <a:rect l="0" t="0" r="r" b="b"/>
              <a:pathLst>
                <a:path fill="none" w="279" h="248">
                  <a:moveTo>
                    <a:pt x="279" y="0"/>
                  </a:moveTo>
                  <a:lnTo>
                    <a:pt x="279" y="0"/>
                  </a:lnTo>
                  <a:cubicBezTo>
                    <a:pt x="230" y="0"/>
                    <a:pt x="182" y="11"/>
                    <a:pt x="139" y="33"/>
                  </a:cubicBezTo>
                  <a:cubicBezTo>
                    <a:pt x="97" y="55"/>
                    <a:pt x="62" y="86"/>
                    <a:pt x="37" y="124"/>
                  </a:cubicBezTo>
                  <a:cubicBezTo>
                    <a:pt x="13" y="162"/>
                    <a:pt x="0" y="204"/>
                    <a:pt x="0" y="24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84" name=""/>
          <p:cNvSpPr/>
          <p:nvPr/>
        </p:nvSpPr>
        <p:spPr>
          <a:xfrm flipV="1">
            <a:off x="3208320" y="1792440"/>
            <a:ext cx="0" cy="4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5" name=""/>
          <p:cNvSpPr/>
          <p:nvPr/>
        </p:nvSpPr>
        <p:spPr>
          <a:xfrm flipV="1">
            <a:off x="2658960" y="2219400"/>
            <a:ext cx="0" cy="76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6" name=""/>
          <p:cNvSpPr/>
          <p:nvPr/>
        </p:nvSpPr>
        <p:spPr>
          <a:xfrm>
            <a:off x="2662200" y="2301840"/>
            <a:ext cx="378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7" name=""/>
          <p:cNvSpPr/>
          <p:nvPr/>
        </p:nvSpPr>
        <p:spPr>
          <a:xfrm flipV="1">
            <a:off x="2709720" y="2298600"/>
            <a:ext cx="0" cy="6796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8" name=""/>
          <p:cNvSpPr/>
          <p:nvPr/>
        </p:nvSpPr>
        <p:spPr>
          <a:xfrm flipV="1">
            <a:off x="2992320" y="2306520"/>
            <a:ext cx="0" cy="6778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9" name=""/>
          <p:cNvSpPr/>
          <p:nvPr/>
        </p:nvSpPr>
        <p:spPr>
          <a:xfrm>
            <a:off x="2665440" y="2978280"/>
            <a:ext cx="37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0" name=""/>
          <p:cNvSpPr/>
          <p:nvPr/>
        </p:nvSpPr>
        <p:spPr>
          <a:xfrm>
            <a:off x="2716200" y="3298680"/>
            <a:ext cx="1332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1" name=""/>
          <p:cNvSpPr/>
          <p:nvPr/>
        </p:nvSpPr>
        <p:spPr>
          <a:xfrm flipV="1">
            <a:off x="2849400" y="3301920"/>
            <a:ext cx="140040" cy="93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2" name=""/>
          <p:cNvSpPr/>
          <p:nvPr/>
        </p:nvSpPr>
        <p:spPr>
          <a:xfrm>
            <a:off x="2709720" y="3297240"/>
            <a:ext cx="27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3" name=""/>
          <p:cNvSpPr/>
          <p:nvPr/>
        </p:nvSpPr>
        <p:spPr>
          <a:xfrm>
            <a:off x="2658960" y="3011400"/>
            <a:ext cx="0" cy="1954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4" name=""/>
          <p:cNvSpPr/>
          <p:nvPr/>
        </p:nvSpPr>
        <p:spPr>
          <a:xfrm>
            <a:off x="3036960" y="300672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5" name=""/>
          <p:cNvSpPr/>
          <p:nvPr/>
        </p:nvSpPr>
        <p:spPr>
          <a:xfrm>
            <a:off x="2658960" y="321156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6" name=""/>
          <p:cNvSpPr/>
          <p:nvPr/>
        </p:nvSpPr>
        <p:spPr>
          <a:xfrm>
            <a:off x="2709720" y="3033720"/>
            <a:ext cx="279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7" name=""/>
          <p:cNvSpPr/>
          <p:nvPr/>
        </p:nvSpPr>
        <p:spPr>
          <a:xfrm>
            <a:off x="2660760" y="2978280"/>
            <a:ext cx="50760" cy="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8" name=""/>
          <p:cNvSpPr/>
          <p:nvPr/>
        </p:nvSpPr>
        <p:spPr>
          <a:xfrm flipH="1">
            <a:off x="2986200" y="2982960"/>
            <a:ext cx="50760" cy="5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9" name=""/>
          <p:cNvSpPr/>
          <p:nvPr/>
        </p:nvSpPr>
        <p:spPr>
          <a:xfrm>
            <a:off x="2709720" y="303048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0" name=""/>
          <p:cNvSpPr/>
          <p:nvPr/>
        </p:nvSpPr>
        <p:spPr>
          <a:xfrm>
            <a:off x="2992320" y="3033720"/>
            <a:ext cx="0" cy="271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1" name=""/>
          <p:cNvSpPr/>
          <p:nvPr/>
        </p:nvSpPr>
        <p:spPr>
          <a:xfrm flipV="1">
            <a:off x="2852640" y="2336760"/>
            <a:ext cx="0" cy="103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2" name=""/>
          <p:cNvSpPr/>
          <p:nvPr/>
        </p:nvSpPr>
        <p:spPr>
          <a:xfrm>
            <a:off x="2398680" y="2124000"/>
            <a:ext cx="846000" cy="82440"/>
          </a:xfrm>
          <a:prstGeom prst="rect">
            <a:avLst/>
          </a:prstGeom>
          <a:solidFill>
            <a:srgbClr val="0101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3" name=""/>
          <p:cNvSpPr/>
          <p:nvPr/>
        </p:nvSpPr>
        <p:spPr>
          <a:xfrm flipV="1">
            <a:off x="2852640" y="1479600"/>
            <a:ext cx="0" cy="74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4" name=""/>
          <p:cNvSpPr/>
          <p:nvPr/>
        </p:nvSpPr>
        <p:spPr>
          <a:xfrm flipH="1" flipV="1">
            <a:off x="2741760" y="2124000"/>
            <a:ext cx="7596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5" name=""/>
          <p:cNvSpPr/>
          <p:nvPr/>
        </p:nvSpPr>
        <p:spPr>
          <a:xfrm flipH="1" flipV="1">
            <a:off x="2825640" y="2124000"/>
            <a:ext cx="84240" cy="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6" name=""/>
          <p:cNvSpPr/>
          <p:nvPr/>
        </p:nvSpPr>
        <p:spPr>
          <a:xfrm>
            <a:off x="5996160" y="2130480"/>
            <a:ext cx="68040" cy="6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7" name=""/>
          <p:cNvSpPr/>
          <p:nvPr/>
        </p:nvSpPr>
        <p:spPr>
          <a:xfrm>
            <a:off x="6087960" y="2130480"/>
            <a:ext cx="68400" cy="6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8" name=""/>
          <p:cNvSpPr txBox="1"/>
          <p:nvPr/>
        </p:nvSpPr>
        <p:spPr>
          <a:xfrm>
            <a:off x="3467160" y="912960"/>
            <a:ext cx="19670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9" name=""/>
          <p:cNvSpPr/>
          <p:nvPr/>
        </p:nvSpPr>
        <p:spPr>
          <a:xfrm>
            <a:off x="4157640" y="2214720"/>
            <a:ext cx="568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0" name=""/>
          <p:cNvSpPr/>
          <p:nvPr/>
        </p:nvSpPr>
        <p:spPr>
          <a:xfrm>
            <a:off x="2236680" y="2552760"/>
            <a:ext cx="39996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1" name=""/>
          <p:cNvSpPr/>
          <p:nvPr/>
        </p:nvSpPr>
        <p:spPr>
          <a:xfrm>
            <a:off x="3081240" y="2552760"/>
            <a:ext cx="47628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2" name=""/>
          <p:cNvSpPr/>
          <p:nvPr/>
        </p:nvSpPr>
        <p:spPr>
          <a:xfrm>
            <a:off x="5278320" y="2552760"/>
            <a:ext cx="55404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3" name=""/>
          <p:cNvSpPr/>
          <p:nvPr/>
        </p:nvSpPr>
        <p:spPr>
          <a:xfrm>
            <a:off x="6276960" y="2552760"/>
            <a:ext cx="41436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4" name=""/>
          <p:cNvGrpSpPr/>
          <p:nvPr/>
        </p:nvGrpSpPr>
        <p:grpSpPr>
          <a:xfrm>
            <a:off x="738360" y="419040"/>
            <a:ext cx="7454880" cy="5642280"/>
            <a:chOff x="738360" y="419040"/>
            <a:chExt cx="7454880" cy="5642280"/>
          </a:xfrm>
        </p:grpSpPr>
        <p:sp>
          <p:nvSpPr>
            <p:cNvPr id="10615" name=""/>
            <p:cNvSpPr/>
            <p:nvPr/>
          </p:nvSpPr>
          <p:spPr>
            <a:xfrm>
              <a:off x="2262240" y="2595600"/>
              <a:ext cx="4429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6" name=""/>
            <p:cNvSpPr/>
            <p:nvPr/>
          </p:nvSpPr>
          <p:spPr>
            <a:xfrm flipV="1">
              <a:off x="2255760" y="22240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7" name=""/>
            <p:cNvSpPr/>
            <p:nvPr/>
          </p:nvSpPr>
          <p:spPr>
            <a:xfrm flipV="1">
              <a:off x="4438800" y="3133800"/>
              <a:ext cx="0" cy="2585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8" name=""/>
            <p:cNvSpPr/>
            <p:nvPr/>
          </p:nvSpPr>
          <p:spPr>
            <a:xfrm flipV="1">
              <a:off x="4427640" y="2892600"/>
              <a:ext cx="0" cy="14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9" name=""/>
            <p:cNvSpPr/>
            <p:nvPr/>
          </p:nvSpPr>
          <p:spPr>
            <a:xfrm flipV="1">
              <a:off x="4427640" y="1670040"/>
              <a:ext cx="0" cy="1114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0" name=""/>
            <p:cNvSpPr/>
            <p:nvPr/>
          </p:nvSpPr>
          <p:spPr>
            <a:xfrm>
              <a:off x="4124160" y="335916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1" name=""/>
            <p:cNvSpPr/>
            <p:nvPr/>
          </p:nvSpPr>
          <p:spPr>
            <a:xfrm flipH="1">
              <a:off x="5079960" y="3241800"/>
              <a:ext cx="125280" cy="125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2" name=""/>
            <p:cNvSpPr/>
            <p:nvPr/>
          </p:nvSpPr>
          <p:spPr>
            <a:xfrm>
              <a:off x="3627360" y="2527200"/>
              <a:ext cx="789120" cy="9828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3" name=""/>
            <p:cNvSpPr/>
            <p:nvPr/>
          </p:nvSpPr>
          <p:spPr>
            <a:xfrm>
              <a:off x="4443480" y="2517840"/>
              <a:ext cx="749160" cy="12528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4" name=""/>
            <p:cNvSpPr/>
            <p:nvPr/>
          </p:nvSpPr>
          <p:spPr>
            <a:xfrm>
              <a:off x="3751200" y="4317840"/>
              <a:ext cx="252360" cy="25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2239920" y="2214720"/>
              <a:ext cx="419400" cy="381240"/>
            </a:xfrm>
            <a:custGeom>
              <a:avLst/>
              <a:gdLst/>
              <a:ahLst/>
              <a:rect l="0" t="0" r="r" b="b"/>
              <a:pathLst>
                <a:path w="1165" h="1059">
                  <a:moveTo>
                    <a:pt x="0" y="1059"/>
                  </a:moveTo>
                  <a:lnTo>
                    <a:pt x="0" y="0"/>
                  </a:lnTo>
                  <a:lnTo>
                    <a:pt x="1165" y="0"/>
                  </a:lnTo>
                  <a:lnTo>
                    <a:pt x="1165" y="1059"/>
                  </a:lnTo>
                  <a:lnTo>
                    <a:pt x="0" y="105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6" name=""/>
            <p:cNvSpPr/>
            <p:nvPr/>
          </p:nvSpPr>
          <p:spPr>
            <a:xfrm>
              <a:off x="3059280" y="2214720"/>
              <a:ext cx="1078200" cy="1143360"/>
            </a:xfrm>
            <a:custGeom>
              <a:avLst/>
              <a:gdLst/>
              <a:ahLst/>
              <a:rect l="0" t="0" r="r" b="b"/>
              <a:pathLst>
                <a:path w="2995" h="3176">
                  <a:moveTo>
                    <a:pt x="0" y="1077"/>
                  </a:moveTo>
                  <a:lnTo>
                    <a:pt x="0" y="0"/>
                  </a:lnTo>
                  <a:lnTo>
                    <a:pt x="2995" y="0"/>
                  </a:lnTo>
                  <a:lnTo>
                    <a:pt x="2995" y="3176"/>
                  </a:lnTo>
                  <a:lnTo>
                    <a:pt x="1695" y="3176"/>
                  </a:lnTo>
                  <a:lnTo>
                    <a:pt x="1412" y="2961"/>
                  </a:lnTo>
                  <a:lnTo>
                    <a:pt x="1412" y="1077"/>
                  </a:lnTo>
                  <a:lnTo>
                    <a:pt x="0" y="1077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7" name=""/>
            <p:cNvSpPr/>
            <p:nvPr/>
          </p:nvSpPr>
          <p:spPr>
            <a:xfrm>
              <a:off x="4721400" y="2214720"/>
              <a:ext cx="1124280" cy="1143360"/>
            </a:xfrm>
            <a:custGeom>
              <a:avLst/>
              <a:gdLst/>
              <a:ahLst/>
              <a:rect l="0" t="0" r="r" b="b"/>
              <a:pathLst>
                <a:path w="3123" h="3176">
                  <a:moveTo>
                    <a:pt x="0" y="0"/>
                  </a:moveTo>
                  <a:lnTo>
                    <a:pt x="3111" y="0"/>
                  </a:lnTo>
                  <a:lnTo>
                    <a:pt x="3123" y="1071"/>
                  </a:lnTo>
                  <a:lnTo>
                    <a:pt x="1444" y="1077"/>
                  </a:lnTo>
                  <a:lnTo>
                    <a:pt x="1444" y="2907"/>
                  </a:lnTo>
                  <a:lnTo>
                    <a:pt x="1166" y="3176"/>
                  </a:lnTo>
                  <a:lnTo>
                    <a:pt x="0" y="317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8" name=""/>
            <p:cNvSpPr/>
            <p:nvPr/>
          </p:nvSpPr>
          <p:spPr>
            <a:xfrm>
              <a:off x="6243480" y="2214720"/>
              <a:ext cx="438480" cy="386280"/>
            </a:xfrm>
            <a:custGeom>
              <a:avLst/>
              <a:gdLst/>
              <a:ahLst/>
              <a:rect l="0" t="0" r="r" b="b"/>
              <a:pathLst>
                <a:path w="1218" h="1073">
                  <a:moveTo>
                    <a:pt x="0" y="1073"/>
                  </a:moveTo>
                  <a:lnTo>
                    <a:pt x="0" y="0"/>
                  </a:lnTo>
                  <a:lnTo>
                    <a:pt x="1218" y="0"/>
                  </a:lnTo>
                  <a:lnTo>
                    <a:pt x="1218" y="1073"/>
                  </a:lnTo>
                  <a:lnTo>
                    <a:pt x="0" y="1073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9" name=""/>
            <p:cNvSpPr/>
            <p:nvPr/>
          </p:nvSpPr>
          <p:spPr>
            <a:xfrm>
              <a:off x="6208560" y="3952800"/>
              <a:ext cx="881280" cy="879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0" name=""/>
            <p:cNvSpPr/>
            <p:nvPr/>
          </p:nvSpPr>
          <p:spPr>
            <a:xfrm flipV="1">
              <a:off x="1865160" y="2595600"/>
              <a:ext cx="0" cy="345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1" name=""/>
            <p:cNvSpPr/>
            <p:nvPr/>
          </p:nvSpPr>
          <p:spPr>
            <a:xfrm>
              <a:off x="1865160" y="2595600"/>
              <a:ext cx="792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2" name=""/>
            <p:cNvSpPr/>
            <p:nvPr/>
          </p:nvSpPr>
          <p:spPr>
            <a:xfrm>
              <a:off x="3568680" y="2595600"/>
              <a:ext cx="0" cy="171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3" name=""/>
            <p:cNvSpPr/>
            <p:nvPr/>
          </p:nvSpPr>
          <p:spPr>
            <a:xfrm>
              <a:off x="3571920" y="4309920"/>
              <a:ext cx="1668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4" name=""/>
            <p:cNvSpPr/>
            <p:nvPr/>
          </p:nvSpPr>
          <p:spPr>
            <a:xfrm flipV="1">
              <a:off x="5246640" y="2602080"/>
              <a:ext cx="0" cy="1699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5" name=""/>
            <p:cNvSpPr/>
            <p:nvPr/>
          </p:nvSpPr>
          <p:spPr>
            <a:xfrm>
              <a:off x="6243480" y="2600280"/>
              <a:ext cx="851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6" name=""/>
            <p:cNvSpPr/>
            <p:nvPr/>
          </p:nvSpPr>
          <p:spPr>
            <a:xfrm>
              <a:off x="7094520" y="2595600"/>
              <a:ext cx="0" cy="332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7" name=""/>
            <p:cNvSpPr/>
            <p:nvPr/>
          </p:nvSpPr>
          <p:spPr>
            <a:xfrm>
              <a:off x="4008600" y="4309920"/>
              <a:ext cx="0" cy="630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8" name=""/>
            <p:cNvSpPr/>
            <p:nvPr/>
          </p:nvSpPr>
          <p:spPr>
            <a:xfrm>
              <a:off x="4894200" y="4309920"/>
              <a:ext cx="0" cy="62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9" name=""/>
            <p:cNvSpPr/>
            <p:nvPr/>
          </p:nvSpPr>
          <p:spPr>
            <a:xfrm flipH="1">
              <a:off x="4008600" y="4938840"/>
              <a:ext cx="885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0" name=""/>
            <p:cNvSpPr/>
            <p:nvPr/>
          </p:nvSpPr>
          <p:spPr>
            <a:xfrm flipH="1">
              <a:off x="3705120" y="4950000"/>
              <a:ext cx="468360" cy="469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1" name=""/>
            <p:cNvSpPr/>
            <p:nvPr/>
          </p:nvSpPr>
          <p:spPr>
            <a:xfrm>
              <a:off x="4630680" y="4950000"/>
              <a:ext cx="343080" cy="34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2" name=""/>
            <p:cNvSpPr/>
            <p:nvPr/>
          </p:nvSpPr>
          <p:spPr>
            <a:xfrm>
              <a:off x="1868400" y="5281560"/>
              <a:ext cx="5235840" cy="779760"/>
            </a:xfrm>
            <a:custGeom>
              <a:avLst/>
              <a:gdLst/>
              <a:ahLst/>
              <a:rect l="0" t="0" r="r" b="b"/>
              <a:pathLst>
                <a:path fill="none" w="14544" h="2166">
                  <a:moveTo>
                    <a:pt x="0" y="2166"/>
                  </a:moveTo>
                  <a:lnTo>
                    <a:pt x="119" y="2118"/>
                  </a:lnTo>
                  <a:lnTo>
                    <a:pt x="222" y="2118"/>
                  </a:lnTo>
                  <a:lnTo>
                    <a:pt x="365" y="2078"/>
                  </a:lnTo>
                  <a:lnTo>
                    <a:pt x="468" y="2047"/>
                  </a:lnTo>
                  <a:lnTo>
                    <a:pt x="571" y="2007"/>
                  </a:lnTo>
                  <a:lnTo>
                    <a:pt x="682" y="1904"/>
                  </a:lnTo>
                  <a:lnTo>
                    <a:pt x="817" y="1833"/>
                  </a:lnTo>
                  <a:lnTo>
                    <a:pt x="928" y="1761"/>
                  </a:lnTo>
                  <a:lnTo>
                    <a:pt x="1071" y="1618"/>
                  </a:lnTo>
                  <a:lnTo>
                    <a:pt x="1206" y="1618"/>
                  </a:lnTo>
                  <a:lnTo>
                    <a:pt x="1349" y="1618"/>
                  </a:lnTo>
                  <a:lnTo>
                    <a:pt x="1492" y="1587"/>
                  </a:lnTo>
                  <a:lnTo>
                    <a:pt x="1635" y="1484"/>
                  </a:lnTo>
                  <a:lnTo>
                    <a:pt x="1738" y="1412"/>
                  </a:lnTo>
                  <a:lnTo>
                    <a:pt x="1841" y="1301"/>
                  </a:lnTo>
                  <a:lnTo>
                    <a:pt x="2056" y="1127"/>
                  </a:lnTo>
                  <a:lnTo>
                    <a:pt x="2159" y="1095"/>
                  </a:lnTo>
                  <a:lnTo>
                    <a:pt x="2302" y="1023"/>
                  </a:lnTo>
                  <a:lnTo>
                    <a:pt x="2405" y="983"/>
                  </a:lnTo>
                  <a:lnTo>
                    <a:pt x="2762" y="951"/>
                  </a:lnTo>
                  <a:lnTo>
                    <a:pt x="2865" y="920"/>
                  </a:lnTo>
                  <a:lnTo>
                    <a:pt x="3294" y="808"/>
                  </a:lnTo>
                  <a:lnTo>
                    <a:pt x="3429" y="777"/>
                  </a:lnTo>
                  <a:lnTo>
                    <a:pt x="3786" y="737"/>
                  </a:lnTo>
                  <a:lnTo>
                    <a:pt x="3961" y="737"/>
                  </a:lnTo>
                  <a:lnTo>
                    <a:pt x="4104" y="737"/>
                  </a:lnTo>
                  <a:lnTo>
                    <a:pt x="4207" y="705"/>
                  </a:lnTo>
                  <a:lnTo>
                    <a:pt x="4628" y="666"/>
                  </a:lnTo>
                  <a:lnTo>
                    <a:pt x="4771" y="563"/>
                  </a:lnTo>
                  <a:lnTo>
                    <a:pt x="4882" y="491"/>
                  </a:lnTo>
                  <a:lnTo>
                    <a:pt x="4985" y="420"/>
                  </a:lnTo>
                  <a:lnTo>
                    <a:pt x="5128" y="348"/>
                  </a:lnTo>
                  <a:lnTo>
                    <a:pt x="5302" y="285"/>
                  </a:lnTo>
                  <a:lnTo>
                    <a:pt x="5652" y="285"/>
                  </a:lnTo>
                  <a:lnTo>
                    <a:pt x="5795" y="285"/>
                  </a:lnTo>
                  <a:lnTo>
                    <a:pt x="6215" y="285"/>
                  </a:lnTo>
                  <a:lnTo>
                    <a:pt x="6326" y="285"/>
                  </a:lnTo>
                  <a:lnTo>
                    <a:pt x="6430" y="285"/>
                  </a:lnTo>
                  <a:lnTo>
                    <a:pt x="6533" y="285"/>
                  </a:lnTo>
                  <a:lnTo>
                    <a:pt x="6676" y="285"/>
                  </a:lnTo>
                  <a:lnTo>
                    <a:pt x="7104" y="285"/>
                  </a:lnTo>
                  <a:lnTo>
                    <a:pt x="7280" y="285"/>
                  </a:lnTo>
                  <a:lnTo>
                    <a:pt x="7701" y="317"/>
                  </a:lnTo>
                  <a:lnTo>
                    <a:pt x="7875" y="317"/>
                  </a:lnTo>
                  <a:lnTo>
                    <a:pt x="7987" y="285"/>
                  </a:lnTo>
                  <a:lnTo>
                    <a:pt x="8193" y="214"/>
                  </a:lnTo>
                  <a:lnTo>
                    <a:pt x="8304" y="142"/>
                  </a:lnTo>
                  <a:lnTo>
                    <a:pt x="8407" y="103"/>
                  </a:lnTo>
                  <a:lnTo>
                    <a:pt x="8511" y="31"/>
                  </a:lnTo>
                  <a:lnTo>
                    <a:pt x="8622" y="31"/>
                  </a:lnTo>
                  <a:lnTo>
                    <a:pt x="8725" y="0"/>
                  </a:lnTo>
                  <a:lnTo>
                    <a:pt x="8868" y="0"/>
                  </a:lnTo>
                  <a:lnTo>
                    <a:pt x="9011" y="0"/>
                  </a:lnTo>
                  <a:lnTo>
                    <a:pt x="9114" y="0"/>
                  </a:lnTo>
                  <a:lnTo>
                    <a:pt x="9257" y="0"/>
                  </a:lnTo>
                  <a:lnTo>
                    <a:pt x="9431" y="103"/>
                  </a:lnTo>
                  <a:lnTo>
                    <a:pt x="9574" y="142"/>
                  </a:lnTo>
                  <a:lnTo>
                    <a:pt x="9709" y="174"/>
                  </a:lnTo>
                  <a:lnTo>
                    <a:pt x="9820" y="214"/>
                  </a:lnTo>
                  <a:lnTo>
                    <a:pt x="9963" y="285"/>
                  </a:lnTo>
                  <a:lnTo>
                    <a:pt x="10098" y="388"/>
                  </a:lnTo>
                  <a:lnTo>
                    <a:pt x="10209" y="460"/>
                  </a:lnTo>
                  <a:lnTo>
                    <a:pt x="10313" y="563"/>
                  </a:lnTo>
                  <a:lnTo>
                    <a:pt x="11583" y="983"/>
                  </a:lnTo>
                  <a:lnTo>
                    <a:pt x="12567" y="1341"/>
                  </a:lnTo>
                  <a:lnTo>
                    <a:pt x="12996" y="1484"/>
                  </a:lnTo>
                  <a:lnTo>
                    <a:pt x="14123" y="1833"/>
                  </a:lnTo>
                  <a:lnTo>
                    <a:pt x="14226" y="1801"/>
                  </a:lnTo>
                  <a:lnTo>
                    <a:pt x="14369" y="1801"/>
                  </a:lnTo>
                  <a:lnTo>
                    <a:pt x="14544" y="1761"/>
                  </a:lnTo>
                  <a:lnTo>
                    <a:pt x="14480" y="183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3" name=""/>
            <p:cNvSpPr/>
            <p:nvPr/>
          </p:nvSpPr>
          <p:spPr>
            <a:xfrm>
              <a:off x="1886040" y="5575320"/>
              <a:ext cx="325440" cy="32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4" name=""/>
            <p:cNvSpPr/>
            <p:nvPr/>
          </p:nvSpPr>
          <p:spPr>
            <a:xfrm>
              <a:off x="1881360" y="4992840"/>
              <a:ext cx="725400" cy="725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5" name=""/>
            <p:cNvSpPr/>
            <p:nvPr/>
          </p:nvSpPr>
          <p:spPr>
            <a:xfrm>
              <a:off x="1881360" y="4381560"/>
              <a:ext cx="1193760" cy="119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6" name=""/>
            <p:cNvSpPr/>
            <p:nvPr/>
          </p:nvSpPr>
          <p:spPr>
            <a:xfrm>
              <a:off x="1868400" y="3781440"/>
              <a:ext cx="1703520" cy="170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7" name=""/>
            <p:cNvSpPr/>
            <p:nvPr/>
          </p:nvSpPr>
          <p:spPr>
            <a:xfrm>
              <a:off x="1874880" y="3164040"/>
              <a:ext cx="2046240" cy="2046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8" name=""/>
            <p:cNvSpPr/>
            <p:nvPr/>
          </p:nvSpPr>
          <p:spPr>
            <a:xfrm>
              <a:off x="2052720" y="2614680"/>
              <a:ext cx="1515960" cy="151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9" name=""/>
            <p:cNvSpPr/>
            <p:nvPr/>
          </p:nvSpPr>
          <p:spPr>
            <a:xfrm>
              <a:off x="3043080" y="2962440"/>
              <a:ext cx="528840" cy="528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0" name=""/>
            <p:cNvSpPr/>
            <p:nvPr/>
          </p:nvSpPr>
          <p:spPr>
            <a:xfrm>
              <a:off x="3325680" y="2611440"/>
              <a:ext cx="243000" cy="24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1" name=""/>
            <p:cNvSpPr/>
            <p:nvPr/>
          </p:nvSpPr>
          <p:spPr>
            <a:xfrm>
              <a:off x="4897440" y="4649760"/>
              <a:ext cx="880920" cy="879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2" name=""/>
            <p:cNvSpPr/>
            <p:nvPr/>
          </p:nvSpPr>
          <p:spPr>
            <a:xfrm>
              <a:off x="5248440" y="4302000"/>
              <a:ext cx="1604880" cy="1605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3" name=""/>
            <p:cNvSpPr/>
            <p:nvPr/>
          </p:nvSpPr>
          <p:spPr>
            <a:xfrm>
              <a:off x="5259240" y="3662280"/>
              <a:ext cx="1822680" cy="18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4" name=""/>
            <p:cNvSpPr/>
            <p:nvPr/>
          </p:nvSpPr>
          <p:spPr>
            <a:xfrm>
              <a:off x="5248440" y="2987640"/>
              <a:ext cx="952200" cy="95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5" name=""/>
            <p:cNvSpPr/>
            <p:nvPr/>
          </p:nvSpPr>
          <p:spPr>
            <a:xfrm>
              <a:off x="6200640" y="3243240"/>
              <a:ext cx="881280" cy="88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6" name=""/>
            <p:cNvSpPr/>
            <p:nvPr/>
          </p:nvSpPr>
          <p:spPr>
            <a:xfrm>
              <a:off x="6246720" y="2625840"/>
              <a:ext cx="835200" cy="834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7" name=""/>
            <p:cNvSpPr/>
            <p:nvPr/>
          </p:nvSpPr>
          <p:spPr>
            <a:xfrm>
              <a:off x="6897600" y="2614680"/>
              <a:ext cx="195480" cy="19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58" name=""/>
            <p:cNvGrpSpPr/>
            <p:nvPr/>
          </p:nvGrpSpPr>
          <p:grpSpPr>
            <a:xfrm>
              <a:off x="2398680" y="1479600"/>
              <a:ext cx="846000" cy="2438280"/>
              <a:chOff x="2398680" y="1479600"/>
              <a:chExt cx="846000" cy="2438280"/>
            </a:xfrm>
          </p:grpSpPr>
          <p:sp>
            <p:nvSpPr>
              <p:cNvPr id="10659" name=""/>
              <p:cNvSpPr/>
              <p:nvPr/>
            </p:nvSpPr>
            <p:spPr>
              <a:xfrm>
                <a:off x="3024360" y="1708200"/>
                <a:ext cx="101880" cy="89280"/>
              </a:xfrm>
              <a:custGeom>
                <a:avLst/>
                <a:gdLst/>
                <a:ahLst/>
                <a:rect l="0" t="0" r="r" b="b"/>
                <a:pathLst>
                  <a:path fill="none" w="283" h="248">
                    <a:moveTo>
                      <a:pt x="283" y="248"/>
                    </a:moveTo>
                    <a:lnTo>
                      <a:pt x="283" y="248"/>
                    </a:lnTo>
                    <a:lnTo>
                      <a:pt x="283" y="248"/>
                    </a:lnTo>
                    <a:cubicBezTo>
                      <a:pt x="283" y="204"/>
                      <a:pt x="270" y="162"/>
                      <a:pt x="245" y="124"/>
                    </a:cubicBezTo>
                    <a:cubicBezTo>
                      <a:pt x="220" y="86"/>
                      <a:pt x="185" y="55"/>
                      <a:pt x="141" y="33"/>
                    </a:cubicBezTo>
                    <a:cubicBezTo>
                      <a:pt x="98" y="11"/>
                      <a:pt x="50" y="0"/>
                      <a:pt x="0" y="0"/>
                    </a:cubicBez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3116160" y="1708200"/>
                <a:ext cx="100440" cy="89280"/>
              </a:xfrm>
              <a:custGeom>
                <a:avLst/>
                <a:gdLst/>
                <a:ahLst/>
                <a:rect l="0" t="0" r="r" b="b"/>
                <a:pathLst>
                  <a:path fill="none" w="279" h="248">
                    <a:moveTo>
                      <a:pt x="279" y="0"/>
                    </a:moveTo>
                    <a:lnTo>
                      <a:pt x="279" y="0"/>
                    </a:lnTo>
                    <a:cubicBezTo>
                      <a:pt x="230" y="0"/>
                      <a:pt x="182" y="11"/>
                      <a:pt x="139" y="33"/>
                    </a:cubicBezTo>
                    <a:cubicBezTo>
                      <a:pt x="97" y="55"/>
                      <a:pt x="62" y="86"/>
                      <a:pt x="37" y="124"/>
                    </a:cubicBezTo>
                    <a:cubicBezTo>
                      <a:pt x="13" y="162"/>
                      <a:pt x="0" y="204"/>
                      <a:pt x="0" y="248"/>
                    </a:cubicBez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2579760" y="2603520"/>
                <a:ext cx="74520" cy="74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2652840" y="2546280"/>
                <a:ext cx="399960" cy="6516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 flipV="1">
                <a:off x="2852640" y="2519280"/>
                <a:ext cx="0" cy="13986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 flipV="1">
                <a:off x="2852640" y="2166840"/>
                <a:ext cx="0" cy="10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 flipV="1">
                <a:off x="3040200" y="2205000"/>
                <a:ext cx="0" cy="7779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 flipV="1">
                <a:off x="2471760" y="1806480"/>
                <a:ext cx="0" cy="403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2584440" y="1704960"/>
                <a:ext cx="538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 flipV="1">
                <a:off x="2651040" y="1806480"/>
                <a:ext cx="0" cy="403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 flipV="1">
                <a:off x="3032280" y="1792440"/>
                <a:ext cx="0" cy="417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2714400" y="1641600"/>
                <a:ext cx="270000" cy="280800"/>
              </a:xfrm>
              <a:custGeom>
                <a:avLst/>
                <a:gdLst/>
                <a:ahLst/>
                <a:rect l="0" t="0" r="r" b="b"/>
                <a:pathLst>
                  <a:path fill="none" w="750" h="780">
                    <a:moveTo>
                      <a:pt x="750" y="780"/>
                    </a:moveTo>
                    <a:lnTo>
                      <a:pt x="750" y="780"/>
                    </a:lnTo>
                    <a:cubicBezTo>
                      <a:pt x="743" y="651"/>
                      <a:pt x="708" y="526"/>
                      <a:pt x="649" y="415"/>
                    </a:cubicBezTo>
                    <a:cubicBezTo>
                      <a:pt x="581" y="289"/>
                      <a:pt x="484" y="184"/>
                      <a:pt x="368" y="111"/>
                    </a:cubicBezTo>
                    <a:cubicBezTo>
                      <a:pt x="256" y="41"/>
                      <a:pt x="129" y="3"/>
                      <a:pt x="0" y="0"/>
                    </a:cubicBez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671" name=""/>
              <p:cNvGrpSpPr/>
              <p:nvPr/>
            </p:nvGrpSpPr>
            <p:grpSpPr>
              <a:xfrm>
                <a:off x="2454120" y="1719360"/>
                <a:ext cx="217440" cy="89280"/>
                <a:chOff x="2454120" y="1719360"/>
                <a:chExt cx="217440" cy="89280"/>
              </a:xfrm>
            </p:grpSpPr>
            <p:sp>
              <p:nvSpPr>
                <p:cNvPr id="10672" name=""/>
                <p:cNvSpPr/>
                <p:nvPr/>
              </p:nvSpPr>
              <p:spPr>
                <a:xfrm>
                  <a:off x="2454120" y="1719360"/>
                  <a:ext cx="124200" cy="89280"/>
                </a:xfrm>
                <a:custGeom>
                  <a:avLst/>
                  <a:gdLst/>
                  <a:ahLst/>
                  <a:rect l="0" t="0" r="r" b="b"/>
                  <a:pathLst>
                    <a:path fill="none" w="345" h="248">
                      <a:moveTo>
                        <a:pt x="345" y="248"/>
                      </a:moveTo>
                      <a:lnTo>
                        <a:pt x="345" y="248"/>
                      </a:lnTo>
                      <a:lnTo>
                        <a:pt x="345" y="248"/>
                      </a:lnTo>
                      <a:cubicBezTo>
                        <a:pt x="345" y="204"/>
                        <a:pt x="329" y="162"/>
                        <a:pt x="299" y="124"/>
                      </a:cubicBezTo>
                      <a:cubicBezTo>
                        <a:pt x="268" y="86"/>
                        <a:pt x="225" y="55"/>
                        <a:pt x="172" y="33"/>
                      </a:cubicBezTo>
                      <a:cubicBezTo>
                        <a:pt x="120" y="11"/>
                        <a:pt x="61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fafd00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3" name=""/>
                <p:cNvSpPr/>
                <p:nvPr/>
              </p:nvSpPr>
              <p:spPr>
                <a:xfrm>
                  <a:off x="2548080" y="1719360"/>
                  <a:ext cx="123480" cy="89280"/>
                </a:xfrm>
                <a:custGeom>
                  <a:avLst/>
                  <a:gdLst/>
                  <a:ahLst/>
                  <a:rect l="0" t="0" r="r" b="b"/>
                  <a:pathLst>
                    <a:path fill="none" w="343" h="248">
                      <a:moveTo>
                        <a:pt x="343" y="0"/>
                      </a:moveTo>
                      <a:lnTo>
                        <a:pt x="343" y="0"/>
                      </a:lnTo>
                      <a:cubicBezTo>
                        <a:pt x="283" y="0"/>
                        <a:pt x="224" y="11"/>
                        <a:pt x="171" y="33"/>
                      </a:cubicBezTo>
                      <a:cubicBezTo>
                        <a:pt x="119" y="55"/>
                        <a:pt x="76" y="86"/>
                        <a:pt x="46" y="124"/>
                      </a:cubicBezTo>
                      <a:cubicBezTo>
                        <a:pt x="16" y="162"/>
                        <a:pt x="0" y="204"/>
                        <a:pt x="0" y="248"/>
                      </a:cubicBezTo>
                    </a:path>
                  </a:pathLst>
                </a:custGeom>
                <a:ln w="12600">
                  <a:solidFill>
                    <a:srgbClr val="fafd00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74" name=""/>
              <p:cNvSpPr/>
              <p:nvPr/>
            </p:nvSpPr>
            <p:spPr>
              <a:xfrm flipV="1">
                <a:off x="3208320" y="1792440"/>
                <a:ext cx="0" cy="407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 flipV="1">
                <a:off x="2658960" y="2219400"/>
                <a:ext cx="0" cy="7650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2662200" y="2301840"/>
                <a:ext cx="3780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 flipV="1">
                <a:off x="2709720" y="2298600"/>
                <a:ext cx="0" cy="67968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 flipV="1">
                <a:off x="2992320" y="2306520"/>
                <a:ext cx="0" cy="677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2665440" y="2978280"/>
                <a:ext cx="3715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2716200" y="3298680"/>
                <a:ext cx="133200" cy="96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 flipV="1">
                <a:off x="2849400" y="3301920"/>
                <a:ext cx="140040" cy="936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2709720" y="3297240"/>
                <a:ext cx="2764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2658960" y="3011400"/>
                <a:ext cx="0" cy="195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3036960" y="3006720"/>
                <a:ext cx="0" cy="200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2658960" y="3211560"/>
                <a:ext cx="376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2709720" y="3033720"/>
                <a:ext cx="2797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2660760" y="2978280"/>
                <a:ext cx="50760" cy="52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 flipH="1">
                <a:off x="2986200" y="2982960"/>
                <a:ext cx="50760" cy="507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2709720" y="3030480"/>
                <a:ext cx="0" cy="2667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2992320" y="3033720"/>
                <a:ext cx="0" cy="27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 flipV="1">
                <a:off x="2852640" y="2336760"/>
                <a:ext cx="0" cy="1033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2398680" y="2124000"/>
                <a:ext cx="846000" cy="85680"/>
              </a:xfrm>
              <a:prstGeom prst="rect">
                <a:avLst/>
              </a:prstGeom>
              <a:solidFill>
                <a:srgbClr val="0101ff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 flipV="1">
                <a:off x="2852640" y="1479600"/>
                <a:ext cx="0" cy="744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 flipH="1" flipV="1">
                <a:off x="2741760" y="2124000"/>
                <a:ext cx="75960" cy="763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 flipH="1" flipV="1">
                <a:off x="2825640" y="2124000"/>
                <a:ext cx="84240" cy="82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96" name=""/>
            <p:cNvGrpSpPr/>
            <p:nvPr/>
          </p:nvGrpSpPr>
          <p:grpSpPr>
            <a:xfrm>
              <a:off x="5504040" y="1482840"/>
              <a:ext cx="948960" cy="2438280"/>
              <a:chOff x="5504040" y="1482840"/>
              <a:chExt cx="948960" cy="2438280"/>
            </a:xfrm>
          </p:grpSpPr>
          <p:sp>
            <p:nvSpPr>
              <p:cNvPr id="10697" name=""/>
              <p:cNvSpPr/>
              <p:nvPr/>
            </p:nvSpPr>
            <p:spPr>
              <a:xfrm>
                <a:off x="5504040" y="2603520"/>
                <a:ext cx="344160" cy="344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5848200" y="2546280"/>
                <a:ext cx="388800" cy="65160"/>
              </a:xfrm>
              <a:prstGeom prst="rect">
                <a:avLst/>
              </a:prstGeom>
              <a:solidFill>
                <a:srgbClr val="0101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 flipV="1">
                <a:off x="6045120" y="2523960"/>
                <a:ext cx="0" cy="1397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 flipV="1">
                <a:off x="6045120" y="2171880"/>
                <a:ext cx="0" cy="1076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 flipV="1">
                <a:off x="6232680" y="2209680"/>
                <a:ext cx="0" cy="776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 flipV="1">
                <a:off x="5664240" y="1811160"/>
                <a:ext cx="0" cy="389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5748480" y="1700280"/>
                <a:ext cx="5680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 flipV="1">
                <a:off x="5843520" y="1811160"/>
                <a:ext cx="0" cy="3906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 flipV="1">
                <a:off x="6224760" y="1795320"/>
                <a:ext cx="0" cy="4050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5912280" y="1647720"/>
                <a:ext cx="264960" cy="285480"/>
              </a:xfrm>
              <a:custGeom>
                <a:avLst/>
                <a:gdLst/>
                <a:ahLst/>
                <a:rect l="0" t="0" r="r" b="b"/>
                <a:pathLst>
                  <a:path fill="none" w="736" h="793">
                    <a:moveTo>
                      <a:pt x="736" y="793"/>
                    </a:moveTo>
                    <a:lnTo>
                      <a:pt x="736" y="793"/>
                    </a:lnTo>
                    <a:cubicBezTo>
                      <a:pt x="732" y="658"/>
                      <a:pt x="697" y="527"/>
                      <a:pt x="636" y="410"/>
                    </a:cubicBezTo>
                    <a:cubicBezTo>
                      <a:pt x="570" y="286"/>
                      <a:pt x="475" y="182"/>
                      <a:pt x="361" y="110"/>
                    </a:cubicBezTo>
                    <a:cubicBezTo>
                      <a:pt x="251" y="40"/>
                      <a:pt x="127" y="3"/>
                      <a:pt x="0" y="0"/>
                    </a:cubicBez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5646600" y="1724040"/>
                <a:ext cx="124200" cy="88560"/>
              </a:xfrm>
              <a:custGeom>
                <a:avLst/>
                <a:gdLst/>
                <a:ahLst/>
                <a:rect l="0" t="0" r="r" b="b"/>
                <a:pathLst>
                  <a:path fill="none" w="345" h="246">
                    <a:moveTo>
                      <a:pt x="345" y="246"/>
                    </a:moveTo>
                    <a:lnTo>
                      <a:pt x="345" y="246"/>
                    </a:lnTo>
                    <a:lnTo>
                      <a:pt x="345" y="246"/>
                    </a:lnTo>
                    <a:cubicBezTo>
                      <a:pt x="345" y="203"/>
                      <a:pt x="329" y="160"/>
                      <a:pt x="299" y="123"/>
                    </a:cubicBezTo>
                    <a:cubicBezTo>
                      <a:pt x="268" y="86"/>
                      <a:pt x="225" y="55"/>
                      <a:pt x="172" y="33"/>
                    </a:cubicBezTo>
                    <a:cubicBezTo>
                      <a:pt x="120" y="11"/>
                      <a:pt x="61" y="0"/>
                      <a:pt x="0" y="0"/>
                    </a:cubicBez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5740560" y="1724040"/>
                <a:ext cx="123480" cy="88560"/>
              </a:xfrm>
              <a:custGeom>
                <a:avLst/>
                <a:gdLst/>
                <a:ahLst/>
                <a:rect l="0" t="0" r="r" b="b"/>
                <a:pathLst>
                  <a:path fill="none" w="343" h="246">
                    <a:moveTo>
                      <a:pt x="343" y="0"/>
                    </a:moveTo>
                    <a:lnTo>
                      <a:pt x="343" y="0"/>
                    </a:lnTo>
                    <a:cubicBezTo>
                      <a:pt x="283" y="0"/>
                      <a:pt x="224" y="11"/>
                      <a:pt x="171" y="33"/>
                    </a:cubicBezTo>
                    <a:cubicBezTo>
                      <a:pt x="119" y="55"/>
                      <a:pt x="76" y="86"/>
                      <a:pt x="46" y="123"/>
                    </a:cubicBezTo>
                    <a:cubicBezTo>
                      <a:pt x="16" y="160"/>
                      <a:pt x="0" y="203"/>
                      <a:pt x="0" y="246"/>
                    </a:cubicBez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6217560" y="1711440"/>
                <a:ext cx="101160" cy="89280"/>
              </a:xfrm>
              <a:custGeom>
                <a:avLst/>
                <a:gdLst/>
                <a:ahLst/>
                <a:rect l="0" t="0" r="r" b="b"/>
                <a:pathLst>
                  <a:path fill="none" w="281" h="248">
                    <a:moveTo>
                      <a:pt x="281" y="248"/>
                    </a:moveTo>
                    <a:lnTo>
                      <a:pt x="281" y="248"/>
                    </a:lnTo>
                    <a:lnTo>
                      <a:pt x="281" y="248"/>
                    </a:lnTo>
                    <a:cubicBezTo>
                      <a:pt x="281" y="204"/>
                      <a:pt x="268" y="162"/>
                      <a:pt x="243" y="124"/>
                    </a:cubicBezTo>
                    <a:cubicBezTo>
                      <a:pt x="219" y="86"/>
                      <a:pt x="183" y="55"/>
                      <a:pt x="140" y="33"/>
                    </a:cubicBezTo>
                    <a:cubicBezTo>
                      <a:pt x="98" y="11"/>
                      <a:pt x="49" y="0"/>
                      <a:pt x="0" y="0"/>
                    </a:cubicBez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6308640" y="1711440"/>
                <a:ext cx="100440" cy="89280"/>
              </a:xfrm>
              <a:custGeom>
                <a:avLst/>
                <a:gdLst/>
                <a:ahLst/>
                <a:rect l="0" t="0" r="r" b="b"/>
                <a:pathLst>
                  <a:path fill="none" w="279" h="248">
                    <a:moveTo>
                      <a:pt x="279" y="0"/>
                    </a:moveTo>
                    <a:lnTo>
                      <a:pt x="279" y="0"/>
                    </a:lnTo>
                    <a:cubicBezTo>
                      <a:pt x="230" y="0"/>
                      <a:pt x="182" y="11"/>
                      <a:pt x="139" y="33"/>
                    </a:cubicBezTo>
                    <a:cubicBezTo>
                      <a:pt x="97" y="55"/>
                      <a:pt x="62" y="86"/>
                      <a:pt x="37" y="124"/>
                    </a:cubicBezTo>
                    <a:cubicBezTo>
                      <a:pt x="13" y="162"/>
                      <a:pt x="0" y="204"/>
                      <a:pt x="0" y="248"/>
                    </a:cubicBez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 flipV="1">
                <a:off x="6402240" y="1795320"/>
                <a:ext cx="0" cy="408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 flipV="1">
                <a:off x="5851440" y="2222640"/>
                <a:ext cx="0" cy="7650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5854680" y="2306520"/>
                <a:ext cx="3780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 flipV="1">
                <a:off x="5902200" y="2301840"/>
                <a:ext cx="0" cy="681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 flipV="1">
                <a:off x="6184800" y="2309760"/>
                <a:ext cx="0" cy="677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5859360" y="2982960"/>
                <a:ext cx="3715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5908680" y="3301920"/>
                <a:ext cx="133200" cy="986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 flipV="1">
                <a:off x="6041880" y="3306600"/>
                <a:ext cx="141480" cy="939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5902200" y="3300480"/>
                <a:ext cx="2764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5851440" y="3014640"/>
                <a:ext cx="0" cy="196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6230880" y="3011400"/>
                <a:ext cx="0" cy="200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5851440" y="3214800"/>
                <a:ext cx="376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5902200" y="3038400"/>
                <a:ext cx="2811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5853240" y="2982960"/>
                <a:ext cx="50760" cy="507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 flipH="1">
                <a:off x="6178680" y="2986200"/>
                <a:ext cx="52200" cy="52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5902200" y="3033720"/>
                <a:ext cx="0" cy="2667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6184800" y="3038400"/>
                <a:ext cx="0" cy="2700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 flipV="1">
                <a:off x="6045120" y="2340000"/>
                <a:ext cx="0" cy="1033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5607000" y="2130480"/>
                <a:ext cx="846000" cy="76320"/>
              </a:xfrm>
              <a:prstGeom prst="rect">
                <a:avLst/>
              </a:prstGeom>
              <a:solidFill>
                <a:srgbClr val="0101ff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 flipV="1">
                <a:off x="6045120" y="1482840"/>
                <a:ext cx="0" cy="745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5996160" y="2130480"/>
                <a:ext cx="68040" cy="69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6087960" y="2130480"/>
                <a:ext cx="68400" cy="69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33" name=""/>
            <p:cNvSpPr/>
            <p:nvPr/>
          </p:nvSpPr>
          <p:spPr>
            <a:xfrm>
              <a:off x="4157640" y="2214720"/>
              <a:ext cx="568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4" name=""/>
            <p:cNvSpPr txBox="1"/>
            <p:nvPr/>
          </p:nvSpPr>
          <p:spPr>
            <a:xfrm>
              <a:off x="738360" y="419040"/>
              <a:ext cx="745488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tandard hardware is not shown in crosshatc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f the cutting plane follows the longitudinal axis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5" name=""/>
            <p:cNvSpPr/>
            <p:nvPr/>
          </p:nvSpPr>
          <p:spPr>
            <a:xfrm>
              <a:off x="2236680" y="2552760"/>
              <a:ext cx="399960" cy="460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6" name=""/>
            <p:cNvSpPr/>
            <p:nvPr/>
          </p:nvSpPr>
          <p:spPr>
            <a:xfrm>
              <a:off x="3081240" y="2552760"/>
              <a:ext cx="476280" cy="460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7" name=""/>
            <p:cNvSpPr/>
            <p:nvPr/>
          </p:nvSpPr>
          <p:spPr>
            <a:xfrm>
              <a:off x="5278320" y="2552760"/>
              <a:ext cx="554040" cy="460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8" name=""/>
            <p:cNvSpPr/>
            <p:nvPr/>
          </p:nvSpPr>
          <p:spPr>
            <a:xfrm>
              <a:off x="6276960" y="2552760"/>
              <a:ext cx="414360" cy="460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9" name=""/>
          <p:cNvSpPr txBox="1"/>
          <p:nvPr/>
        </p:nvSpPr>
        <p:spPr>
          <a:xfrm>
            <a:off x="654120" y="22536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itudinal Section 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0" name=""/>
          <p:cNvSpPr txBox="1"/>
          <p:nvPr/>
        </p:nvSpPr>
        <p:spPr>
          <a:xfrm>
            <a:off x="3467160" y="912960"/>
            <a:ext cx="19670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41" name=""/>
          <p:cNvGrpSpPr/>
          <p:nvPr/>
        </p:nvGrpSpPr>
        <p:grpSpPr>
          <a:xfrm>
            <a:off x="1865160" y="1479600"/>
            <a:ext cx="5239080" cy="4581720"/>
            <a:chOff x="1865160" y="1479600"/>
            <a:chExt cx="5239080" cy="4581720"/>
          </a:xfrm>
        </p:grpSpPr>
        <p:sp>
          <p:nvSpPr>
            <p:cNvPr id="10742" name=""/>
            <p:cNvSpPr/>
            <p:nvPr/>
          </p:nvSpPr>
          <p:spPr>
            <a:xfrm>
              <a:off x="2262240" y="2595600"/>
              <a:ext cx="4429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3" name=""/>
            <p:cNvSpPr/>
            <p:nvPr/>
          </p:nvSpPr>
          <p:spPr>
            <a:xfrm flipV="1">
              <a:off x="2255760" y="22240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4" name=""/>
            <p:cNvSpPr/>
            <p:nvPr/>
          </p:nvSpPr>
          <p:spPr>
            <a:xfrm flipV="1">
              <a:off x="4438800" y="3133800"/>
              <a:ext cx="0" cy="2585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5" name=""/>
            <p:cNvSpPr/>
            <p:nvPr/>
          </p:nvSpPr>
          <p:spPr>
            <a:xfrm flipV="1">
              <a:off x="4427640" y="2892600"/>
              <a:ext cx="0" cy="14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6" name=""/>
            <p:cNvSpPr/>
            <p:nvPr/>
          </p:nvSpPr>
          <p:spPr>
            <a:xfrm flipV="1">
              <a:off x="4427640" y="1670040"/>
              <a:ext cx="0" cy="1114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7" name=""/>
            <p:cNvSpPr/>
            <p:nvPr/>
          </p:nvSpPr>
          <p:spPr>
            <a:xfrm>
              <a:off x="4124160" y="3359160"/>
              <a:ext cx="600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8" name=""/>
            <p:cNvSpPr/>
            <p:nvPr/>
          </p:nvSpPr>
          <p:spPr>
            <a:xfrm flipH="1">
              <a:off x="5079960" y="3241800"/>
              <a:ext cx="125280" cy="125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9" name=""/>
            <p:cNvSpPr/>
            <p:nvPr/>
          </p:nvSpPr>
          <p:spPr>
            <a:xfrm>
              <a:off x="3627360" y="2527200"/>
              <a:ext cx="789120" cy="9828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0" name=""/>
            <p:cNvSpPr/>
            <p:nvPr/>
          </p:nvSpPr>
          <p:spPr>
            <a:xfrm>
              <a:off x="4443480" y="2517840"/>
              <a:ext cx="749160" cy="12528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1" name=""/>
            <p:cNvSpPr/>
            <p:nvPr/>
          </p:nvSpPr>
          <p:spPr>
            <a:xfrm>
              <a:off x="2579760" y="2603520"/>
              <a:ext cx="74520" cy="74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2" name=""/>
            <p:cNvSpPr/>
            <p:nvPr/>
          </p:nvSpPr>
          <p:spPr>
            <a:xfrm>
              <a:off x="3751200" y="4317840"/>
              <a:ext cx="252360" cy="25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3" name=""/>
            <p:cNvSpPr/>
            <p:nvPr/>
          </p:nvSpPr>
          <p:spPr>
            <a:xfrm>
              <a:off x="2239920" y="2214720"/>
              <a:ext cx="419400" cy="381240"/>
            </a:xfrm>
            <a:custGeom>
              <a:avLst/>
              <a:gdLst/>
              <a:ahLst/>
              <a:rect l="0" t="0" r="r" b="b"/>
              <a:pathLst>
                <a:path w="1165" h="1059">
                  <a:moveTo>
                    <a:pt x="0" y="1059"/>
                  </a:moveTo>
                  <a:lnTo>
                    <a:pt x="0" y="0"/>
                  </a:lnTo>
                  <a:lnTo>
                    <a:pt x="1165" y="0"/>
                  </a:lnTo>
                  <a:lnTo>
                    <a:pt x="1165" y="1059"/>
                  </a:lnTo>
                  <a:lnTo>
                    <a:pt x="0" y="105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4" name=""/>
            <p:cNvSpPr/>
            <p:nvPr/>
          </p:nvSpPr>
          <p:spPr>
            <a:xfrm>
              <a:off x="3059280" y="2214720"/>
              <a:ext cx="1078200" cy="1143360"/>
            </a:xfrm>
            <a:custGeom>
              <a:avLst/>
              <a:gdLst/>
              <a:ahLst/>
              <a:rect l="0" t="0" r="r" b="b"/>
              <a:pathLst>
                <a:path w="2995" h="3176">
                  <a:moveTo>
                    <a:pt x="0" y="1077"/>
                  </a:moveTo>
                  <a:lnTo>
                    <a:pt x="0" y="0"/>
                  </a:lnTo>
                  <a:lnTo>
                    <a:pt x="2995" y="0"/>
                  </a:lnTo>
                  <a:lnTo>
                    <a:pt x="2995" y="3176"/>
                  </a:lnTo>
                  <a:lnTo>
                    <a:pt x="1695" y="3176"/>
                  </a:lnTo>
                  <a:lnTo>
                    <a:pt x="1412" y="2961"/>
                  </a:lnTo>
                  <a:lnTo>
                    <a:pt x="1412" y="1077"/>
                  </a:lnTo>
                  <a:lnTo>
                    <a:pt x="0" y="1077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5" name=""/>
            <p:cNvSpPr/>
            <p:nvPr/>
          </p:nvSpPr>
          <p:spPr>
            <a:xfrm>
              <a:off x="4721400" y="2214720"/>
              <a:ext cx="1124280" cy="1143360"/>
            </a:xfrm>
            <a:custGeom>
              <a:avLst/>
              <a:gdLst/>
              <a:ahLst/>
              <a:rect l="0" t="0" r="r" b="b"/>
              <a:pathLst>
                <a:path w="3123" h="3176">
                  <a:moveTo>
                    <a:pt x="0" y="0"/>
                  </a:moveTo>
                  <a:lnTo>
                    <a:pt x="3111" y="0"/>
                  </a:lnTo>
                  <a:lnTo>
                    <a:pt x="3123" y="1071"/>
                  </a:lnTo>
                  <a:lnTo>
                    <a:pt x="1444" y="1077"/>
                  </a:lnTo>
                  <a:lnTo>
                    <a:pt x="1444" y="2907"/>
                  </a:lnTo>
                  <a:lnTo>
                    <a:pt x="1166" y="3176"/>
                  </a:lnTo>
                  <a:lnTo>
                    <a:pt x="0" y="317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6" name=""/>
            <p:cNvSpPr/>
            <p:nvPr/>
          </p:nvSpPr>
          <p:spPr>
            <a:xfrm>
              <a:off x="6243480" y="2214720"/>
              <a:ext cx="438480" cy="386280"/>
            </a:xfrm>
            <a:custGeom>
              <a:avLst/>
              <a:gdLst/>
              <a:ahLst/>
              <a:rect l="0" t="0" r="r" b="b"/>
              <a:pathLst>
                <a:path w="1218" h="1073">
                  <a:moveTo>
                    <a:pt x="0" y="1073"/>
                  </a:moveTo>
                  <a:lnTo>
                    <a:pt x="0" y="0"/>
                  </a:lnTo>
                  <a:lnTo>
                    <a:pt x="1218" y="0"/>
                  </a:lnTo>
                  <a:lnTo>
                    <a:pt x="1218" y="1073"/>
                  </a:lnTo>
                  <a:lnTo>
                    <a:pt x="0" y="1073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7" name=""/>
            <p:cNvSpPr/>
            <p:nvPr/>
          </p:nvSpPr>
          <p:spPr>
            <a:xfrm>
              <a:off x="6208560" y="3952800"/>
              <a:ext cx="881280" cy="879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8" name=""/>
            <p:cNvSpPr/>
            <p:nvPr/>
          </p:nvSpPr>
          <p:spPr>
            <a:xfrm flipV="1">
              <a:off x="1865160" y="2595600"/>
              <a:ext cx="0" cy="3459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9" name=""/>
            <p:cNvSpPr/>
            <p:nvPr/>
          </p:nvSpPr>
          <p:spPr>
            <a:xfrm>
              <a:off x="1865160" y="2595600"/>
              <a:ext cx="792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0" name=""/>
            <p:cNvSpPr/>
            <p:nvPr/>
          </p:nvSpPr>
          <p:spPr>
            <a:xfrm>
              <a:off x="3568680" y="2595600"/>
              <a:ext cx="0" cy="1714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1" name=""/>
            <p:cNvSpPr/>
            <p:nvPr/>
          </p:nvSpPr>
          <p:spPr>
            <a:xfrm>
              <a:off x="3571920" y="4309920"/>
              <a:ext cx="1668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2" name=""/>
            <p:cNvSpPr/>
            <p:nvPr/>
          </p:nvSpPr>
          <p:spPr>
            <a:xfrm flipV="1">
              <a:off x="5246640" y="2602080"/>
              <a:ext cx="0" cy="1699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3" name=""/>
            <p:cNvSpPr/>
            <p:nvPr/>
          </p:nvSpPr>
          <p:spPr>
            <a:xfrm>
              <a:off x="6243480" y="2600280"/>
              <a:ext cx="851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4" name=""/>
            <p:cNvSpPr/>
            <p:nvPr/>
          </p:nvSpPr>
          <p:spPr>
            <a:xfrm>
              <a:off x="7094520" y="2595600"/>
              <a:ext cx="0" cy="332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5" name=""/>
            <p:cNvSpPr/>
            <p:nvPr/>
          </p:nvSpPr>
          <p:spPr>
            <a:xfrm>
              <a:off x="4008600" y="4309920"/>
              <a:ext cx="0" cy="630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6" name=""/>
            <p:cNvSpPr/>
            <p:nvPr/>
          </p:nvSpPr>
          <p:spPr>
            <a:xfrm>
              <a:off x="4894200" y="4309920"/>
              <a:ext cx="0" cy="62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7" name=""/>
            <p:cNvSpPr/>
            <p:nvPr/>
          </p:nvSpPr>
          <p:spPr>
            <a:xfrm flipH="1">
              <a:off x="4008600" y="4938840"/>
              <a:ext cx="885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8" name=""/>
            <p:cNvSpPr/>
            <p:nvPr/>
          </p:nvSpPr>
          <p:spPr>
            <a:xfrm flipH="1">
              <a:off x="3705120" y="4950000"/>
              <a:ext cx="468360" cy="469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9" name=""/>
            <p:cNvSpPr/>
            <p:nvPr/>
          </p:nvSpPr>
          <p:spPr>
            <a:xfrm>
              <a:off x="4630680" y="4950000"/>
              <a:ext cx="343080" cy="34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0" name=""/>
            <p:cNvSpPr/>
            <p:nvPr/>
          </p:nvSpPr>
          <p:spPr>
            <a:xfrm>
              <a:off x="1868400" y="5281560"/>
              <a:ext cx="5235840" cy="779760"/>
            </a:xfrm>
            <a:custGeom>
              <a:avLst/>
              <a:gdLst/>
              <a:ahLst/>
              <a:rect l="0" t="0" r="r" b="b"/>
              <a:pathLst>
                <a:path fill="none" w="14544" h="2166">
                  <a:moveTo>
                    <a:pt x="0" y="2166"/>
                  </a:moveTo>
                  <a:lnTo>
                    <a:pt x="119" y="2118"/>
                  </a:lnTo>
                  <a:lnTo>
                    <a:pt x="222" y="2118"/>
                  </a:lnTo>
                  <a:lnTo>
                    <a:pt x="365" y="2078"/>
                  </a:lnTo>
                  <a:lnTo>
                    <a:pt x="468" y="2047"/>
                  </a:lnTo>
                  <a:lnTo>
                    <a:pt x="571" y="2007"/>
                  </a:lnTo>
                  <a:lnTo>
                    <a:pt x="682" y="1904"/>
                  </a:lnTo>
                  <a:lnTo>
                    <a:pt x="817" y="1833"/>
                  </a:lnTo>
                  <a:lnTo>
                    <a:pt x="928" y="1761"/>
                  </a:lnTo>
                  <a:lnTo>
                    <a:pt x="1071" y="1618"/>
                  </a:lnTo>
                  <a:lnTo>
                    <a:pt x="1206" y="1618"/>
                  </a:lnTo>
                  <a:lnTo>
                    <a:pt x="1349" y="1618"/>
                  </a:lnTo>
                  <a:lnTo>
                    <a:pt x="1492" y="1587"/>
                  </a:lnTo>
                  <a:lnTo>
                    <a:pt x="1635" y="1484"/>
                  </a:lnTo>
                  <a:lnTo>
                    <a:pt x="1738" y="1412"/>
                  </a:lnTo>
                  <a:lnTo>
                    <a:pt x="1841" y="1301"/>
                  </a:lnTo>
                  <a:lnTo>
                    <a:pt x="2056" y="1127"/>
                  </a:lnTo>
                  <a:lnTo>
                    <a:pt x="2159" y="1095"/>
                  </a:lnTo>
                  <a:lnTo>
                    <a:pt x="2302" y="1023"/>
                  </a:lnTo>
                  <a:lnTo>
                    <a:pt x="2405" y="983"/>
                  </a:lnTo>
                  <a:lnTo>
                    <a:pt x="2762" y="951"/>
                  </a:lnTo>
                  <a:lnTo>
                    <a:pt x="2865" y="920"/>
                  </a:lnTo>
                  <a:lnTo>
                    <a:pt x="3294" y="808"/>
                  </a:lnTo>
                  <a:lnTo>
                    <a:pt x="3429" y="777"/>
                  </a:lnTo>
                  <a:lnTo>
                    <a:pt x="3786" y="737"/>
                  </a:lnTo>
                  <a:lnTo>
                    <a:pt x="3961" y="737"/>
                  </a:lnTo>
                  <a:lnTo>
                    <a:pt x="4104" y="737"/>
                  </a:lnTo>
                  <a:lnTo>
                    <a:pt x="4207" y="705"/>
                  </a:lnTo>
                  <a:lnTo>
                    <a:pt x="4628" y="666"/>
                  </a:lnTo>
                  <a:lnTo>
                    <a:pt x="4771" y="563"/>
                  </a:lnTo>
                  <a:lnTo>
                    <a:pt x="4882" y="491"/>
                  </a:lnTo>
                  <a:lnTo>
                    <a:pt x="4985" y="420"/>
                  </a:lnTo>
                  <a:lnTo>
                    <a:pt x="5128" y="348"/>
                  </a:lnTo>
                  <a:lnTo>
                    <a:pt x="5302" y="285"/>
                  </a:lnTo>
                  <a:lnTo>
                    <a:pt x="5652" y="285"/>
                  </a:lnTo>
                  <a:lnTo>
                    <a:pt x="5795" y="285"/>
                  </a:lnTo>
                  <a:lnTo>
                    <a:pt x="6215" y="285"/>
                  </a:lnTo>
                  <a:lnTo>
                    <a:pt x="6326" y="285"/>
                  </a:lnTo>
                  <a:lnTo>
                    <a:pt x="6430" y="285"/>
                  </a:lnTo>
                  <a:lnTo>
                    <a:pt x="6533" y="285"/>
                  </a:lnTo>
                  <a:lnTo>
                    <a:pt x="6676" y="285"/>
                  </a:lnTo>
                  <a:lnTo>
                    <a:pt x="7104" y="285"/>
                  </a:lnTo>
                  <a:lnTo>
                    <a:pt x="7280" y="285"/>
                  </a:lnTo>
                  <a:lnTo>
                    <a:pt x="7701" y="317"/>
                  </a:lnTo>
                  <a:lnTo>
                    <a:pt x="7875" y="317"/>
                  </a:lnTo>
                  <a:lnTo>
                    <a:pt x="7987" y="285"/>
                  </a:lnTo>
                  <a:lnTo>
                    <a:pt x="8193" y="214"/>
                  </a:lnTo>
                  <a:lnTo>
                    <a:pt x="8304" y="142"/>
                  </a:lnTo>
                  <a:lnTo>
                    <a:pt x="8407" y="103"/>
                  </a:lnTo>
                  <a:lnTo>
                    <a:pt x="8511" y="31"/>
                  </a:lnTo>
                  <a:lnTo>
                    <a:pt x="8622" y="31"/>
                  </a:lnTo>
                  <a:lnTo>
                    <a:pt x="8725" y="0"/>
                  </a:lnTo>
                  <a:lnTo>
                    <a:pt x="8868" y="0"/>
                  </a:lnTo>
                  <a:lnTo>
                    <a:pt x="9011" y="0"/>
                  </a:lnTo>
                  <a:lnTo>
                    <a:pt x="9114" y="0"/>
                  </a:lnTo>
                  <a:lnTo>
                    <a:pt x="9257" y="0"/>
                  </a:lnTo>
                  <a:lnTo>
                    <a:pt x="9431" y="103"/>
                  </a:lnTo>
                  <a:lnTo>
                    <a:pt x="9574" y="142"/>
                  </a:lnTo>
                  <a:lnTo>
                    <a:pt x="9709" y="174"/>
                  </a:lnTo>
                  <a:lnTo>
                    <a:pt x="9820" y="214"/>
                  </a:lnTo>
                  <a:lnTo>
                    <a:pt x="9963" y="285"/>
                  </a:lnTo>
                  <a:lnTo>
                    <a:pt x="10098" y="388"/>
                  </a:lnTo>
                  <a:lnTo>
                    <a:pt x="10209" y="460"/>
                  </a:lnTo>
                  <a:lnTo>
                    <a:pt x="10313" y="563"/>
                  </a:lnTo>
                  <a:lnTo>
                    <a:pt x="11583" y="983"/>
                  </a:lnTo>
                  <a:lnTo>
                    <a:pt x="12567" y="1341"/>
                  </a:lnTo>
                  <a:lnTo>
                    <a:pt x="12996" y="1484"/>
                  </a:lnTo>
                  <a:lnTo>
                    <a:pt x="14123" y="1833"/>
                  </a:lnTo>
                  <a:lnTo>
                    <a:pt x="14226" y="1801"/>
                  </a:lnTo>
                  <a:lnTo>
                    <a:pt x="14369" y="1801"/>
                  </a:lnTo>
                  <a:lnTo>
                    <a:pt x="14544" y="1761"/>
                  </a:lnTo>
                  <a:lnTo>
                    <a:pt x="14480" y="183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1" name=""/>
            <p:cNvSpPr/>
            <p:nvPr/>
          </p:nvSpPr>
          <p:spPr>
            <a:xfrm>
              <a:off x="1886040" y="5575320"/>
              <a:ext cx="325440" cy="325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2" name=""/>
            <p:cNvSpPr/>
            <p:nvPr/>
          </p:nvSpPr>
          <p:spPr>
            <a:xfrm>
              <a:off x="1881360" y="4992840"/>
              <a:ext cx="725400" cy="725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3" name=""/>
            <p:cNvSpPr/>
            <p:nvPr/>
          </p:nvSpPr>
          <p:spPr>
            <a:xfrm>
              <a:off x="1881360" y="4381560"/>
              <a:ext cx="1193760" cy="119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4" name=""/>
            <p:cNvSpPr/>
            <p:nvPr/>
          </p:nvSpPr>
          <p:spPr>
            <a:xfrm>
              <a:off x="1868400" y="3781440"/>
              <a:ext cx="1703520" cy="170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5" name=""/>
            <p:cNvSpPr/>
            <p:nvPr/>
          </p:nvSpPr>
          <p:spPr>
            <a:xfrm>
              <a:off x="1874880" y="3164040"/>
              <a:ext cx="2046240" cy="2046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6" name=""/>
            <p:cNvSpPr/>
            <p:nvPr/>
          </p:nvSpPr>
          <p:spPr>
            <a:xfrm>
              <a:off x="2052720" y="2614680"/>
              <a:ext cx="1515960" cy="151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7" name=""/>
            <p:cNvSpPr/>
            <p:nvPr/>
          </p:nvSpPr>
          <p:spPr>
            <a:xfrm>
              <a:off x="3043080" y="2962440"/>
              <a:ext cx="528840" cy="528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8" name=""/>
            <p:cNvSpPr/>
            <p:nvPr/>
          </p:nvSpPr>
          <p:spPr>
            <a:xfrm>
              <a:off x="3325680" y="2611440"/>
              <a:ext cx="243000" cy="24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9" name=""/>
            <p:cNvSpPr/>
            <p:nvPr/>
          </p:nvSpPr>
          <p:spPr>
            <a:xfrm>
              <a:off x="4897440" y="4649760"/>
              <a:ext cx="880920" cy="879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0" name=""/>
            <p:cNvSpPr/>
            <p:nvPr/>
          </p:nvSpPr>
          <p:spPr>
            <a:xfrm>
              <a:off x="5248440" y="4302000"/>
              <a:ext cx="1604880" cy="1605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1" name=""/>
            <p:cNvSpPr/>
            <p:nvPr/>
          </p:nvSpPr>
          <p:spPr>
            <a:xfrm>
              <a:off x="5259240" y="3662280"/>
              <a:ext cx="1822680" cy="18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2" name=""/>
            <p:cNvSpPr/>
            <p:nvPr/>
          </p:nvSpPr>
          <p:spPr>
            <a:xfrm>
              <a:off x="5248440" y="2987640"/>
              <a:ext cx="952200" cy="95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3" name=""/>
            <p:cNvSpPr/>
            <p:nvPr/>
          </p:nvSpPr>
          <p:spPr>
            <a:xfrm>
              <a:off x="5504040" y="2603520"/>
              <a:ext cx="344160" cy="344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4" name=""/>
            <p:cNvSpPr/>
            <p:nvPr/>
          </p:nvSpPr>
          <p:spPr>
            <a:xfrm>
              <a:off x="6200640" y="3243240"/>
              <a:ext cx="881280" cy="88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5" name=""/>
            <p:cNvSpPr/>
            <p:nvPr/>
          </p:nvSpPr>
          <p:spPr>
            <a:xfrm>
              <a:off x="6246720" y="2625840"/>
              <a:ext cx="835200" cy="834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6" name=""/>
            <p:cNvSpPr/>
            <p:nvPr/>
          </p:nvSpPr>
          <p:spPr>
            <a:xfrm>
              <a:off x="6897600" y="2614680"/>
              <a:ext cx="195480" cy="19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7" name=""/>
            <p:cNvSpPr/>
            <p:nvPr/>
          </p:nvSpPr>
          <p:spPr>
            <a:xfrm>
              <a:off x="5848200" y="2546280"/>
              <a:ext cx="388800" cy="651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8" name=""/>
            <p:cNvSpPr/>
            <p:nvPr/>
          </p:nvSpPr>
          <p:spPr>
            <a:xfrm flipV="1">
              <a:off x="6045120" y="2523960"/>
              <a:ext cx="0" cy="139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9" name=""/>
            <p:cNvSpPr/>
            <p:nvPr/>
          </p:nvSpPr>
          <p:spPr>
            <a:xfrm flipV="1">
              <a:off x="6045120" y="2171880"/>
              <a:ext cx="0" cy="107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0" name=""/>
            <p:cNvSpPr/>
            <p:nvPr/>
          </p:nvSpPr>
          <p:spPr>
            <a:xfrm flipV="1">
              <a:off x="6232680" y="2209680"/>
              <a:ext cx="0" cy="776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1" name=""/>
            <p:cNvSpPr/>
            <p:nvPr/>
          </p:nvSpPr>
          <p:spPr>
            <a:xfrm>
              <a:off x="5664240" y="2212920"/>
              <a:ext cx="738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2" name=""/>
            <p:cNvSpPr/>
            <p:nvPr/>
          </p:nvSpPr>
          <p:spPr>
            <a:xfrm flipV="1">
              <a:off x="5664240" y="181116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3" name=""/>
            <p:cNvSpPr/>
            <p:nvPr/>
          </p:nvSpPr>
          <p:spPr>
            <a:xfrm>
              <a:off x="5748480" y="1700280"/>
              <a:ext cx="568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4" name=""/>
            <p:cNvSpPr/>
            <p:nvPr/>
          </p:nvSpPr>
          <p:spPr>
            <a:xfrm flipV="1">
              <a:off x="5843520" y="181116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5" name=""/>
            <p:cNvSpPr/>
            <p:nvPr/>
          </p:nvSpPr>
          <p:spPr>
            <a:xfrm flipV="1">
              <a:off x="6224760" y="1795320"/>
              <a:ext cx="0" cy="417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6" name=""/>
            <p:cNvSpPr/>
            <p:nvPr/>
          </p:nvSpPr>
          <p:spPr>
            <a:xfrm>
              <a:off x="5912280" y="1647720"/>
              <a:ext cx="264960" cy="285480"/>
            </a:xfrm>
            <a:custGeom>
              <a:avLst/>
              <a:gdLst/>
              <a:ahLst/>
              <a:rect l="0" t="0" r="r" b="b"/>
              <a:pathLst>
                <a:path fill="none" w="736" h="793">
                  <a:moveTo>
                    <a:pt x="736" y="793"/>
                  </a:moveTo>
                  <a:lnTo>
                    <a:pt x="736" y="793"/>
                  </a:lnTo>
                  <a:cubicBezTo>
                    <a:pt x="732" y="658"/>
                    <a:pt x="697" y="527"/>
                    <a:pt x="636" y="410"/>
                  </a:cubicBezTo>
                  <a:cubicBezTo>
                    <a:pt x="570" y="286"/>
                    <a:pt x="475" y="182"/>
                    <a:pt x="361" y="110"/>
                  </a:cubicBezTo>
                  <a:cubicBezTo>
                    <a:pt x="251" y="40"/>
                    <a:pt x="127" y="3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7" name=""/>
            <p:cNvSpPr/>
            <p:nvPr/>
          </p:nvSpPr>
          <p:spPr>
            <a:xfrm>
              <a:off x="5646600" y="1724040"/>
              <a:ext cx="124200" cy="88560"/>
            </a:xfrm>
            <a:custGeom>
              <a:avLst/>
              <a:gdLst/>
              <a:ahLst/>
              <a:rect l="0" t="0" r="r" b="b"/>
              <a:pathLst>
                <a:path fill="none" w="345" h="246">
                  <a:moveTo>
                    <a:pt x="345" y="246"/>
                  </a:moveTo>
                  <a:lnTo>
                    <a:pt x="345" y="246"/>
                  </a:lnTo>
                  <a:lnTo>
                    <a:pt x="345" y="246"/>
                  </a:lnTo>
                  <a:cubicBezTo>
                    <a:pt x="345" y="203"/>
                    <a:pt x="329" y="160"/>
                    <a:pt x="299" y="123"/>
                  </a:cubicBezTo>
                  <a:cubicBezTo>
                    <a:pt x="268" y="86"/>
                    <a:pt x="225" y="55"/>
                    <a:pt x="172" y="33"/>
                  </a:cubicBezTo>
                  <a:cubicBezTo>
                    <a:pt x="120" y="11"/>
                    <a:pt x="6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8" name=""/>
            <p:cNvSpPr/>
            <p:nvPr/>
          </p:nvSpPr>
          <p:spPr>
            <a:xfrm>
              <a:off x="5740560" y="1724040"/>
              <a:ext cx="123480" cy="88560"/>
            </a:xfrm>
            <a:custGeom>
              <a:avLst/>
              <a:gdLst/>
              <a:ahLst/>
              <a:rect l="0" t="0" r="r" b="b"/>
              <a:pathLst>
                <a:path fill="none" w="343" h="246">
                  <a:moveTo>
                    <a:pt x="343" y="0"/>
                  </a:moveTo>
                  <a:lnTo>
                    <a:pt x="343" y="0"/>
                  </a:lnTo>
                  <a:cubicBezTo>
                    <a:pt x="283" y="0"/>
                    <a:pt x="224" y="11"/>
                    <a:pt x="171" y="33"/>
                  </a:cubicBezTo>
                  <a:cubicBezTo>
                    <a:pt x="119" y="55"/>
                    <a:pt x="76" y="86"/>
                    <a:pt x="46" y="123"/>
                  </a:cubicBezTo>
                  <a:cubicBezTo>
                    <a:pt x="16" y="160"/>
                    <a:pt x="0" y="203"/>
                    <a:pt x="0" y="246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9" name=""/>
            <p:cNvSpPr/>
            <p:nvPr/>
          </p:nvSpPr>
          <p:spPr>
            <a:xfrm>
              <a:off x="6217560" y="1711440"/>
              <a:ext cx="101160" cy="89280"/>
            </a:xfrm>
            <a:custGeom>
              <a:avLst/>
              <a:gdLst/>
              <a:ahLst/>
              <a:rect l="0" t="0" r="r" b="b"/>
              <a:pathLst>
                <a:path fill="none" w="281" h="248">
                  <a:moveTo>
                    <a:pt x="281" y="248"/>
                  </a:moveTo>
                  <a:lnTo>
                    <a:pt x="281" y="248"/>
                  </a:lnTo>
                  <a:lnTo>
                    <a:pt x="281" y="248"/>
                  </a:lnTo>
                  <a:cubicBezTo>
                    <a:pt x="281" y="204"/>
                    <a:pt x="268" y="162"/>
                    <a:pt x="243" y="124"/>
                  </a:cubicBezTo>
                  <a:cubicBezTo>
                    <a:pt x="219" y="86"/>
                    <a:pt x="183" y="55"/>
                    <a:pt x="140" y="33"/>
                  </a:cubicBezTo>
                  <a:cubicBezTo>
                    <a:pt x="98" y="11"/>
                    <a:pt x="4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0" name=""/>
            <p:cNvSpPr/>
            <p:nvPr/>
          </p:nvSpPr>
          <p:spPr>
            <a:xfrm>
              <a:off x="6308640" y="1711440"/>
              <a:ext cx="100440" cy="89280"/>
            </a:xfrm>
            <a:custGeom>
              <a:avLst/>
              <a:gdLst/>
              <a:ahLst/>
              <a:rect l="0" t="0" r="r" b="b"/>
              <a:pathLst>
                <a:path fill="none" w="279" h="248">
                  <a:moveTo>
                    <a:pt x="279" y="0"/>
                  </a:moveTo>
                  <a:lnTo>
                    <a:pt x="279" y="0"/>
                  </a:lnTo>
                  <a:cubicBezTo>
                    <a:pt x="230" y="0"/>
                    <a:pt x="182" y="11"/>
                    <a:pt x="139" y="33"/>
                  </a:cubicBezTo>
                  <a:cubicBezTo>
                    <a:pt x="97" y="55"/>
                    <a:pt x="62" y="86"/>
                    <a:pt x="37" y="124"/>
                  </a:cubicBezTo>
                  <a:cubicBezTo>
                    <a:pt x="13" y="162"/>
                    <a:pt x="0" y="204"/>
                    <a:pt x="0" y="248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1" name=""/>
            <p:cNvSpPr/>
            <p:nvPr/>
          </p:nvSpPr>
          <p:spPr>
            <a:xfrm flipV="1">
              <a:off x="6402240" y="1795320"/>
              <a:ext cx="0" cy="408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2" name=""/>
            <p:cNvSpPr/>
            <p:nvPr/>
          </p:nvSpPr>
          <p:spPr>
            <a:xfrm flipV="1">
              <a:off x="5851440" y="2222640"/>
              <a:ext cx="0" cy="765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3" name=""/>
            <p:cNvSpPr/>
            <p:nvPr/>
          </p:nvSpPr>
          <p:spPr>
            <a:xfrm>
              <a:off x="5854680" y="2306520"/>
              <a:ext cx="378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4" name=""/>
            <p:cNvSpPr/>
            <p:nvPr/>
          </p:nvSpPr>
          <p:spPr>
            <a:xfrm flipV="1">
              <a:off x="5902200" y="2301840"/>
              <a:ext cx="0" cy="68112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5" name=""/>
            <p:cNvSpPr/>
            <p:nvPr/>
          </p:nvSpPr>
          <p:spPr>
            <a:xfrm flipV="1">
              <a:off x="6184800" y="2309760"/>
              <a:ext cx="0" cy="6778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6" name=""/>
            <p:cNvSpPr/>
            <p:nvPr/>
          </p:nvSpPr>
          <p:spPr>
            <a:xfrm>
              <a:off x="5859360" y="2982960"/>
              <a:ext cx="371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7" name=""/>
            <p:cNvSpPr/>
            <p:nvPr/>
          </p:nvSpPr>
          <p:spPr>
            <a:xfrm>
              <a:off x="5908680" y="3301920"/>
              <a:ext cx="133200" cy="98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8" name=""/>
            <p:cNvSpPr/>
            <p:nvPr/>
          </p:nvSpPr>
          <p:spPr>
            <a:xfrm flipV="1">
              <a:off x="6041880" y="3306600"/>
              <a:ext cx="141480" cy="93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9" name=""/>
            <p:cNvSpPr/>
            <p:nvPr/>
          </p:nvSpPr>
          <p:spPr>
            <a:xfrm>
              <a:off x="5902200" y="3300480"/>
              <a:ext cx="276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0" name=""/>
            <p:cNvSpPr/>
            <p:nvPr/>
          </p:nvSpPr>
          <p:spPr>
            <a:xfrm>
              <a:off x="5851440" y="3014640"/>
              <a:ext cx="0" cy="19692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1" name=""/>
            <p:cNvSpPr/>
            <p:nvPr/>
          </p:nvSpPr>
          <p:spPr>
            <a:xfrm>
              <a:off x="6230880" y="3011400"/>
              <a:ext cx="0" cy="2001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2" name=""/>
            <p:cNvSpPr/>
            <p:nvPr/>
          </p:nvSpPr>
          <p:spPr>
            <a:xfrm>
              <a:off x="5851440" y="3214800"/>
              <a:ext cx="37620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5902200" y="3038400"/>
              <a:ext cx="281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5853240" y="2982960"/>
              <a:ext cx="5076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5" name=""/>
            <p:cNvSpPr/>
            <p:nvPr/>
          </p:nvSpPr>
          <p:spPr>
            <a:xfrm flipH="1">
              <a:off x="6178680" y="2986200"/>
              <a:ext cx="52200" cy="52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6" name=""/>
            <p:cNvSpPr/>
            <p:nvPr/>
          </p:nvSpPr>
          <p:spPr>
            <a:xfrm>
              <a:off x="5902200" y="30337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7" name=""/>
            <p:cNvSpPr/>
            <p:nvPr/>
          </p:nvSpPr>
          <p:spPr>
            <a:xfrm>
              <a:off x="6184800" y="3038400"/>
              <a:ext cx="0" cy="27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8" name=""/>
            <p:cNvSpPr/>
            <p:nvPr/>
          </p:nvSpPr>
          <p:spPr>
            <a:xfrm flipV="1">
              <a:off x="6045120" y="234000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9" name=""/>
            <p:cNvSpPr/>
            <p:nvPr/>
          </p:nvSpPr>
          <p:spPr>
            <a:xfrm>
              <a:off x="5607000" y="2130480"/>
              <a:ext cx="846000" cy="7632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0" name=""/>
            <p:cNvSpPr/>
            <p:nvPr/>
          </p:nvSpPr>
          <p:spPr>
            <a:xfrm flipV="1">
              <a:off x="6045120" y="1482840"/>
              <a:ext cx="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1" name=""/>
            <p:cNvSpPr/>
            <p:nvPr/>
          </p:nvSpPr>
          <p:spPr>
            <a:xfrm>
              <a:off x="2652840" y="2546280"/>
              <a:ext cx="399960" cy="6516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2" name=""/>
            <p:cNvSpPr/>
            <p:nvPr/>
          </p:nvSpPr>
          <p:spPr>
            <a:xfrm flipV="1">
              <a:off x="2852640" y="2519280"/>
              <a:ext cx="0" cy="1398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3" name=""/>
            <p:cNvSpPr/>
            <p:nvPr/>
          </p:nvSpPr>
          <p:spPr>
            <a:xfrm flipV="1">
              <a:off x="2852640" y="2166840"/>
              <a:ext cx="0" cy="109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4" name=""/>
            <p:cNvSpPr/>
            <p:nvPr/>
          </p:nvSpPr>
          <p:spPr>
            <a:xfrm flipV="1">
              <a:off x="3040200" y="2205000"/>
              <a:ext cx="0" cy="77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5" name=""/>
            <p:cNvSpPr/>
            <p:nvPr/>
          </p:nvSpPr>
          <p:spPr>
            <a:xfrm>
              <a:off x="2471760" y="2209680"/>
              <a:ext cx="736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6" name=""/>
            <p:cNvSpPr/>
            <p:nvPr/>
          </p:nvSpPr>
          <p:spPr>
            <a:xfrm flipV="1">
              <a:off x="2471760" y="180648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7" name=""/>
            <p:cNvSpPr/>
            <p:nvPr/>
          </p:nvSpPr>
          <p:spPr>
            <a:xfrm>
              <a:off x="2584440" y="1704960"/>
              <a:ext cx="538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8" name=""/>
            <p:cNvSpPr/>
            <p:nvPr/>
          </p:nvSpPr>
          <p:spPr>
            <a:xfrm flipV="1">
              <a:off x="2651040" y="1806480"/>
              <a:ext cx="0" cy="40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9" name=""/>
            <p:cNvSpPr/>
            <p:nvPr/>
          </p:nvSpPr>
          <p:spPr>
            <a:xfrm flipV="1">
              <a:off x="3032280" y="1792440"/>
              <a:ext cx="0" cy="41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0" name=""/>
            <p:cNvSpPr/>
            <p:nvPr/>
          </p:nvSpPr>
          <p:spPr>
            <a:xfrm>
              <a:off x="2714400" y="1641600"/>
              <a:ext cx="270000" cy="280800"/>
            </a:xfrm>
            <a:custGeom>
              <a:avLst/>
              <a:gdLst/>
              <a:ahLst/>
              <a:rect l="0" t="0" r="r" b="b"/>
              <a:pathLst>
                <a:path fill="none" w="750" h="780">
                  <a:moveTo>
                    <a:pt x="750" y="780"/>
                  </a:moveTo>
                  <a:lnTo>
                    <a:pt x="750" y="780"/>
                  </a:lnTo>
                  <a:cubicBezTo>
                    <a:pt x="743" y="651"/>
                    <a:pt x="708" y="526"/>
                    <a:pt x="649" y="415"/>
                  </a:cubicBezTo>
                  <a:cubicBezTo>
                    <a:pt x="581" y="289"/>
                    <a:pt x="484" y="184"/>
                    <a:pt x="368" y="111"/>
                  </a:cubicBezTo>
                  <a:cubicBezTo>
                    <a:pt x="256" y="41"/>
                    <a:pt x="129" y="3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31" name=""/>
            <p:cNvGrpSpPr/>
            <p:nvPr/>
          </p:nvGrpSpPr>
          <p:grpSpPr>
            <a:xfrm>
              <a:off x="2454120" y="1719360"/>
              <a:ext cx="217440" cy="89280"/>
              <a:chOff x="2454120" y="1719360"/>
              <a:chExt cx="217440" cy="89280"/>
            </a:xfrm>
          </p:grpSpPr>
          <p:sp>
            <p:nvSpPr>
              <p:cNvPr id="10832" name=""/>
              <p:cNvSpPr/>
              <p:nvPr/>
            </p:nvSpPr>
            <p:spPr>
              <a:xfrm>
                <a:off x="2454120" y="1719360"/>
                <a:ext cx="124200" cy="89280"/>
              </a:xfrm>
              <a:custGeom>
                <a:avLst/>
                <a:gdLst/>
                <a:ahLst/>
                <a:rect l="0" t="0" r="r" b="b"/>
                <a:pathLst>
                  <a:path fill="none" w="345" h="248">
                    <a:moveTo>
                      <a:pt x="345" y="248"/>
                    </a:moveTo>
                    <a:lnTo>
                      <a:pt x="345" y="248"/>
                    </a:lnTo>
                    <a:lnTo>
                      <a:pt x="345" y="248"/>
                    </a:lnTo>
                    <a:cubicBezTo>
                      <a:pt x="345" y="204"/>
                      <a:pt x="329" y="162"/>
                      <a:pt x="299" y="124"/>
                    </a:cubicBezTo>
                    <a:cubicBezTo>
                      <a:pt x="268" y="86"/>
                      <a:pt x="225" y="55"/>
                      <a:pt x="172" y="33"/>
                    </a:cubicBezTo>
                    <a:cubicBezTo>
                      <a:pt x="120" y="11"/>
                      <a:pt x="61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2548080" y="1719360"/>
                <a:ext cx="123480" cy="89280"/>
              </a:xfrm>
              <a:custGeom>
                <a:avLst/>
                <a:gdLst/>
                <a:ahLst/>
                <a:rect l="0" t="0" r="r" b="b"/>
                <a:pathLst>
                  <a:path fill="none" w="343" h="248">
                    <a:moveTo>
                      <a:pt x="343" y="0"/>
                    </a:moveTo>
                    <a:lnTo>
                      <a:pt x="343" y="0"/>
                    </a:lnTo>
                    <a:cubicBezTo>
                      <a:pt x="283" y="0"/>
                      <a:pt x="224" y="11"/>
                      <a:pt x="171" y="33"/>
                    </a:cubicBezTo>
                    <a:cubicBezTo>
                      <a:pt x="119" y="55"/>
                      <a:pt x="76" y="86"/>
                      <a:pt x="46" y="124"/>
                    </a:cubicBezTo>
                    <a:cubicBezTo>
                      <a:pt x="16" y="162"/>
                      <a:pt x="0" y="204"/>
                      <a:pt x="0" y="248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34" name=""/>
            <p:cNvGrpSpPr/>
            <p:nvPr/>
          </p:nvGrpSpPr>
          <p:grpSpPr>
            <a:xfrm>
              <a:off x="3024360" y="1708200"/>
              <a:ext cx="192240" cy="89280"/>
              <a:chOff x="3024360" y="1708200"/>
              <a:chExt cx="192240" cy="89280"/>
            </a:xfrm>
          </p:grpSpPr>
          <p:sp>
            <p:nvSpPr>
              <p:cNvPr id="10835" name=""/>
              <p:cNvSpPr/>
              <p:nvPr/>
            </p:nvSpPr>
            <p:spPr>
              <a:xfrm>
                <a:off x="3024360" y="1708200"/>
                <a:ext cx="101880" cy="89280"/>
              </a:xfrm>
              <a:custGeom>
                <a:avLst/>
                <a:gdLst/>
                <a:ahLst/>
                <a:rect l="0" t="0" r="r" b="b"/>
                <a:pathLst>
                  <a:path fill="none" w="283" h="248">
                    <a:moveTo>
                      <a:pt x="283" y="248"/>
                    </a:moveTo>
                    <a:lnTo>
                      <a:pt x="283" y="248"/>
                    </a:lnTo>
                    <a:lnTo>
                      <a:pt x="283" y="248"/>
                    </a:lnTo>
                    <a:cubicBezTo>
                      <a:pt x="283" y="204"/>
                      <a:pt x="270" y="162"/>
                      <a:pt x="245" y="124"/>
                    </a:cubicBezTo>
                    <a:cubicBezTo>
                      <a:pt x="220" y="86"/>
                      <a:pt x="185" y="55"/>
                      <a:pt x="141" y="33"/>
                    </a:cubicBezTo>
                    <a:cubicBezTo>
                      <a:pt x="98" y="11"/>
                      <a:pt x="50" y="0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3116160" y="1708200"/>
                <a:ext cx="100440" cy="89280"/>
              </a:xfrm>
              <a:custGeom>
                <a:avLst/>
                <a:gdLst/>
                <a:ahLst/>
                <a:rect l="0" t="0" r="r" b="b"/>
                <a:pathLst>
                  <a:path fill="none" w="279" h="248">
                    <a:moveTo>
                      <a:pt x="279" y="0"/>
                    </a:moveTo>
                    <a:lnTo>
                      <a:pt x="279" y="0"/>
                    </a:lnTo>
                    <a:cubicBezTo>
                      <a:pt x="230" y="0"/>
                      <a:pt x="182" y="11"/>
                      <a:pt x="139" y="33"/>
                    </a:cubicBezTo>
                    <a:cubicBezTo>
                      <a:pt x="97" y="55"/>
                      <a:pt x="62" y="86"/>
                      <a:pt x="37" y="124"/>
                    </a:cubicBezTo>
                    <a:cubicBezTo>
                      <a:pt x="13" y="162"/>
                      <a:pt x="0" y="204"/>
                      <a:pt x="0" y="248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37" name=""/>
            <p:cNvSpPr/>
            <p:nvPr/>
          </p:nvSpPr>
          <p:spPr>
            <a:xfrm flipV="1">
              <a:off x="3208320" y="1792440"/>
              <a:ext cx="0" cy="407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8" name=""/>
            <p:cNvSpPr/>
            <p:nvPr/>
          </p:nvSpPr>
          <p:spPr>
            <a:xfrm flipV="1">
              <a:off x="2658960" y="2219400"/>
              <a:ext cx="0" cy="765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9" name=""/>
            <p:cNvSpPr/>
            <p:nvPr/>
          </p:nvSpPr>
          <p:spPr>
            <a:xfrm>
              <a:off x="2662200" y="2301840"/>
              <a:ext cx="378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0" name=""/>
            <p:cNvSpPr/>
            <p:nvPr/>
          </p:nvSpPr>
          <p:spPr>
            <a:xfrm flipV="1">
              <a:off x="2709720" y="2298600"/>
              <a:ext cx="0" cy="6796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1" name=""/>
            <p:cNvSpPr/>
            <p:nvPr/>
          </p:nvSpPr>
          <p:spPr>
            <a:xfrm flipV="1">
              <a:off x="2992320" y="2306520"/>
              <a:ext cx="0" cy="6778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2" name=""/>
            <p:cNvSpPr/>
            <p:nvPr/>
          </p:nvSpPr>
          <p:spPr>
            <a:xfrm>
              <a:off x="2665440" y="2978280"/>
              <a:ext cx="371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3" name=""/>
            <p:cNvSpPr/>
            <p:nvPr/>
          </p:nvSpPr>
          <p:spPr>
            <a:xfrm>
              <a:off x="2716200" y="3298680"/>
              <a:ext cx="133200" cy="96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4" name=""/>
            <p:cNvSpPr/>
            <p:nvPr/>
          </p:nvSpPr>
          <p:spPr>
            <a:xfrm flipV="1">
              <a:off x="2849400" y="3301920"/>
              <a:ext cx="140040" cy="9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5" name=""/>
            <p:cNvSpPr/>
            <p:nvPr/>
          </p:nvSpPr>
          <p:spPr>
            <a:xfrm>
              <a:off x="2709720" y="3297240"/>
              <a:ext cx="276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6" name=""/>
            <p:cNvSpPr/>
            <p:nvPr/>
          </p:nvSpPr>
          <p:spPr>
            <a:xfrm>
              <a:off x="2658960" y="3011400"/>
              <a:ext cx="0" cy="1954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7" name=""/>
            <p:cNvSpPr/>
            <p:nvPr/>
          </p:nvSpPr>
          <p:spPr>
            <a:xfrm>
              <a:off x="3036960" y="3006720"/>
              <a:ext cx="0" cy="2001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8" name=""/>
            <p:cNvSpPr/>
            <p:nvPr/>
          </p:nvSpPr>
          <p:spPr>
            <a:xfrm>
              <a:off x="2658960" y="3211560"/>
              <a:ext cx="37620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9" name=""/>
            <p:cNvSpPr/>
            <p:nvPr/>
          </p:nvSpPr>
          <p:spPr>
            <a:xfrm>
              <a:off x="2709720" y="3033720"/>
              <a:ext cx="27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0" name=""/>
            <p:cNvSpPr/>
            <p:nvPr/>
          </p:nvSpPr>
          <p:spPr>
            <a:xfrm>
              <a:off x="2660760" y="2978280"/>
              <a:ext cx="50760" cy="52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1" name=""/>
            <p:cNvSpPr/>
            <p:nvPr/>
          </p:nvSpPr>
          <p:spPr>
            <a:xfrm flipH="1">
              <a:off x="2986200" y="2982960"/>
              <a:ext cx="5076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2" name=""/>
            <p:cNvSpPr/>
            <p:nvPr/>
          </p:nvSpPr>
          <p:spPr>
            <a:xfrm>
              <a:off x="2709720" y="30304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3" name=""/>
            <p:cNvSpPr/>
            <p:nvPr/>
          </p:nvSpPr>
          <p:spPr>
            <a:xfrm>
              <a:off x="2992320" y="3033720"/>
              <a:ext cx="0" cy="271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4" name=""/>
            <p:cNvSpPr/>
            <p:nvPr/>
          </p:nvSpPr>
          <p:spPr>
            <a:xfrm flipV="1">
              <a:off x="2852640" y="233676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5" name=""/>
            <p:cNvSpPr/>
            <p:nvPr/>
          </p:nvSpPr>
          <p:spPr>
            <a:xfrm>
              <a:off x="2398680" y="2124000"/>
              <a:ext cx="846000" cy="82440"/>
            </a:xfrm>
            <a:prstGeom prst="rect">
              <a:avLst/>
            </a:prstGeom>
            <a:solidFill>
              <a:srgbClr val="0101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6" name=""/>
            <p:cNvSpPr/>
            <p:nvPr/>
          </p:nvSpPr>
          <p:spPr>
            <a:xfrm flipV="1">
              <a:off x="2852640" y="1479600"/>
              <a:ext cx="0" cy="74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7" name=""/>
            <p:cNvSpPr/>
            <p:nvPr/>
          </p:nvSpPr>
          <p:spPr>
            <a:xfrm flipH="1" flipV="1">
              <a:off x="2741760" y="212400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8" name=""/>
            <p:cNvSpPr/>
            <p:nvPr/>
          </p:nvSpPr>
          <p:spPr>
            <a:xfrm flipH="1" flipV="1">
              <a:off x="2825640" y="2124000"/>
              <a:ext cx="84240" cy="82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9" name=""/>
            <p:cNvSpPr/>
            <p:nvPr/>
          </p:nvSpPr>
          <p:spPr>
            <a:xfrm>
              <a:off x="5996160" y="2130480"/>
              <a:ext cx="6804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6087960" y="2130480"/>
              <a:ext cx="6840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1" name=""/>
            <p:cNvSpPr/>
            <p:nvPr/>
          </p:nvSpPr>
          <p:spPr>
            <a:xfrm>
              <a:off x="4157640" y="2214720"/>
              <a:ext cx="568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62" name=""/>
          <p:cNvSpPr/>
          <p:nvPr/>
        </p:nvSpPr>
        <p:spPr>
          <a:xfrm>
            <a:off x="2236680" y="2552760"/>
            <a:ext cx="39996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3" name=""/>
          <p:cNvSpPr/>
          <p:nvPr/>
        </p:nvSpPr>
        <p:spPr>
          <a:xfrm>
            <a:off x="3081240" y="2552760"/>
            <a:ext cx="47628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4" name=""/>
          <p:cNvSpPr/>
          <p:nvPr/>
        </p:nvSpPr>
        <p:spPr>
          <a:xfrm>
            <a:off x="5278320" y="2552760"/>
            <a:ext cx="55404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5" name=""/>
          <p:cNvSpPr/>
          <p:nvPr/>
        </p:nvSpPr>
        <p:spPr>
          <a:xfrm>
            <a:off x="6276960" y="2552760"/>
            <a:ext cx="414360" cy="460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6" name=""/>
          <p:cNvSpPr txBox="1"/>
          <p:nvPr/>
        </p:nvSpPr>
        <p:spPr>
          <a:xfrm>
            <a:off x="654120" y="22536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itudinal Section 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7" name=""/>
          <p:cNvSpPr txBox="1"/>
          <p:nvPr/>
        </p:nvSpPr>
        <p:spPr>
          <a:xfrm>
            <a:off x="3467160" y="912960"/>
            <a:ext cx="19670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8" name=""/>
          <p:cNvSpPr/>
          <p:nvPr/>
        </p:nvSpPr>
        <p:spPr>
          <a:xfrm flipV="1">
            <a:off x="1166760" y="3191040"/>
            <a:ext cx="0" cy="37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9" name=""/>
          <p:cNvSpPr/>
          <p:nvPr/>
        </p:nvSpPr>
        <p:spPr>
          <a:xfrm>
            <a:off x="1547640" y="3513240"/>
            <a:ext cx="474840" cy="651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0" name=""/>
          <p:cNvSpPr/>
          <p:nvPr/>
        </p:nvSpPr>
        <p:spPr>
          <a:xfrm>
            <a:off x="1135080" y="3181320"/>
            <a:ext cx="419400" cy="381240"/>
          </a:xfrm>
          <a:custGeom>
            <a:avLst/>
            <a:gdLst/>
            <a:ahLst/>
            <a:rect l="0" t="0" r="r" b="b"/>
            <a:pathLst>
              <a:path w="1165" h="1059">
                <a:moveTo>
                  <a:pt x="0" y="1059"/>
                </a:moveTo>
                <a:lnTo>
                  <a:pt x="0" y="0"/>
                </a:lnTo>
                <a:lnTo>
                  <a:pt x="1165" y="0"/>
                </a:lnTo>
                <a:lnTo>
                  <a:pt x="1165" y="1059"/>
                </a:lnTo>
                <a:lnTo>
                  <a:pt x="0" y="1059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1" name=""/>
          <p:cNvSpPr/>
          <p:nvPr/>
        </p:nvSpPr>
        <p:spPr>
          <a:xfrm flipV="1">
            <a:off x="1763640" y="313380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2" name=""/>
          <p:cNvSpPr/>
          <p:nvPr/>
        </p:nvSpPr>
        <p:spPr>
          <a:xfrm flipV="1">
            <a:off x="1951200" y="317196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3" name=""/>
          <p:cNvSpPr/>
          <p:nvPr/>
        </p:nvSpPr>
        <p:spPr>
          <a:xfrm>
            <a:off x="1382760" y="3176640"/>
            <a:ext cx="736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4" name=""/>
          <p:cNvSpPr/>
          <p:nvPr/>
        </p:nvSpPr>
        <p:spPr>
          <a:xfrm flipV="1">
            <a:off x="1382760" y="2773440"/>
            <a:ext cx="0" cy="40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5" name=""/>
          <p:cNvSpPr/>
          <p:nvPr/>
        </p:nvSpPr>
        <p:spPr>
          <a:xfrm>
            <a:off x="1495440" y="2668680"/>
            <a:ext cx="538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6" name=""/>
          <p:cNvSpPr/>
          <p:nvPr/>
        </p:nvSpPr>
        <p:spPr>
          <a:xfrm flipV="1">
            <a:off x="1562040" y="2773440"/>
            <a:ext cx="0" cy="40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7" name=""/>
          <p:cNvSpPr/>
          <p:nvPr/>
        </p:nvSpPr>
        <p:spPr>
          <a:xfrm flipV="1">
            <a:off x="1943280" y="2759040"/>
            <a:ext cx="0" cy="41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8" name=""/>
          <p:cNvSpPr/>
          <p:nvPr/>
        </p:nvSpPr>
        <p:spPr>
          <a:xfrm>
            <a:off x="1625400" y="2608200"/>
            <a:ext cx="270000" cy="280800"/>
          </a:xfrm>
          <a:custGeom>
            <a:avLst/>
            <a:gdLst/>
            <a:ahLst/>
            <a:rect l="0" t="0" r="r" b="b"/>
            <a:pathLst>
              <a:path fill="none" w="750" h="780">
                <a:moveTo>
                  <a:pt x="750" y="780"/>
                </a:moveTo>
                <a:lnTo>
                  <a:pt x="750" y="780"/>
                </a:lnTo>
                <a:cubicBezTo>
                  <a:pt x="743" y="651"/>
                  <a:pt x="708" y="526"/>
                  <a:pt x="649" y="415"/>
                </a:cubicBezTo>
                <a:cubicBezTo>
                  <a:pt x="581" y="289"/>
                  <a:pt x="484" y="184"/>
                  <a:pt x="368" y="111"/>
                </a:cubicBezTo>
                <a:cubicBezTo>
                  <a:pt x="256" y="41"/>
                  <a:pt x="129" y="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9" name=""/>
          <p:cNvSpPr/>
          <p:nvPr/>
        </p:nvSpPr>
        <p:spPr>
          <a:xfrm>
            <a:off x="1365120" y="2685960"/>
            <a:ext cx="124200" cy="89280"/>
          </a:xfrm>
          <a:custGeom>
            <a:avLst/>
            <a:gdLst/>
            <a:ahLst/>
            <a:rect l="0" t="0" r="r" b="b"/>
            <a:pathLst>
              <a:path fill="none" w="345" h="248">
                <a:moveTo>
                  <a:pt x="345" y="248"/>
                </a:moveTo>
                <a:lnTo>
                  <a:pt x="345" y="248"/>
                </a:lnTo>
                <a:lnTo>
                  <a:pt x="345" y="248"/>
                </a:lnTo>
                <a:cubicBezTo>
                  <a:pt x="345" y="204"/>
                  <a:pt x="329" y="162"/>
                  <a:pt x="299" y="124"/>
                </a:cubicBezTo>
                <a:cubicBezTo>
                  <a:pt x="268" y="86"/>
                  <a:pt x="225" y="55"/>
                  <a:pt x="172" y="33"/>
                </a:cubicBezTo>
                <a:cubicBezTo>
                  <a:pt x="120" y="11"/>
                  <a:pt x="61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0" name=""/>
          <p:cNvSpPr/>
          <p:nvPr/>
        </p:nvSpPr>
        <p:spPr>
          <a:xfrm>
            <a:off x="1459080" y="2685960"/>
            <a:ext cx="123480" cy="89280"/>
          </a:xfrm>
          <a:custGeom>
            <a:avLst/>
            <a:gdLst/>
            <a:ahLst/>
            <a:rect l="0" t="0" r="r" b="b"/>
            <a:pathLst>
              <a:path fill="none" w="343" h="248">
                <a:moveTo>
                  <a:pt x="343" y="0"/>
                </a:moveTo>
                <a:lnTo>
                  <a:pt x="343" y="0"/>
                </a:lnTo>
                <a:cubicBezTo>
                  <a:pt x="283" y="0"/>
                  <a:pt x="224" y="11"/>
                  <a:pt x="171" y="33"/>
                </a:cubicBezTo>
                <a:cubicBezTo>
                  <a:pt x="119" y="55"/>
                  <a:pt x="76" y="86"/>
                  <a:pt x="46" y="124"/>
                </a:cubicBezTo>
                <a:cubicBezTo>
                  <a:pt x="16" y="162"/>
                  <a:pt x="0" y="204"/>
                  <a:pt x="0" y="24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1" name=""/>
          <p:cNvSpPr/>
          <p:nvPr/>
        </p:nvSpPr>
        <p:spPr>
          <a:xfrm>
            <a:off x="1935000" y="2674800"/>
            <a:ext cx="101880" cy="89280"/>
          </a:xfrm>
          <a:custGeom>
            <a:avLst/>
            <a:gdLst/>
            <a:ahLst/>
            <a:rect l="0" t="0" r="r" b="b"/>
            <a:pathLst>
              <a:path fill="none" w="283" h="248">
                <a:moveTo>
                  <a:pt x="283" y="248"/>
                </a:moveTo>
                <a:lnTo>
                  <a:pt x="283" y="248"/>
                </a:lnTo>
                <a:lnTo>
                  <a:pt x="283" y="248"/>
                </a:lnTo>
                <a:cubicBezTo>
                  <a:pt x="283" y="204"/>
                  <a:pt x="270" y="162"/>
                  <a:pt x="245" y="124"/>
                </a:cubicBezTo>
                <a:cubicBezTo>
                  <a:pt x="220" y="86"/>
                  <a:pt x="185" y="55"/>
                  <a:pt x="141" y="33"/>
                </a:cubicBezTo>
                <a:cubicBezTo>
                  <a:pt x="98" y="11"/>
                  <a:pt x="50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2" name=""/>
          <p:cNvSpPr/>
          <p:nvPr/>
        </p:nvSpPr>
        <p:spPr>
          <a:xfrm>
            <a:off x="2027160" y="2674800"/>
            <a:ext cx="100440" cy="89280"/>
          </a:xfrm>
          <a:custGeom>
            <a:avLst/>
            <a:gdLst/>
            <a:ahLst/>
            <a:rect l="0" t="0" r="r" b="b"/>
            <a:pathLst>
              <a:path fill="none" w="279" h="248">
                <a:moveTo>
                  <a:pt x="279" y="0"/>
                </a:moveTo>
                <a:lnTo>
                  <a:pt x="279" y="0"/>
                </a:lnTo>
                <a:cubicBezTo>
                  <a:pt x="230" y="0"/>
                  <a:pt x="182" y="11"/>
                  <a:pt x="139" y="33"/>
                </a:cubicBezTo>
                <a:cubicBezTo>
                  <a:pt x="97" y="55"/>
                  <a:pt x="62" y="86"/>
                  <a:pt x="37" y="124"/>
                </a:cubicBezTo>
                <a:cubicBezTo>
                  <a:pt x="13" y="162"/>
                  <a:pt x="0" y="204"/>
                  <a:pt x="0" y="24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3" name=""/>
          <p:cNvSpPr/>
          <p:nvPr/>
        </p:nvSpPr>
        <p:spPr>
          <a:xfrm flipV="1">
            <a:off x="2119320" y="2759040"/>
            <a:ext cx="0" cy="4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4" name=""/>
          <p:cNvSpPr/>
          <p:nvPr/>
        </p:nvSpPr>
        <p:spPr>
          <a:xfrm flipV="1">
            <a:off x="1569960" y="3186000"/>
            <a:ext cx="0" cy="765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5" name=""/>
          <p:cNvSpPr/>
          <p:nvPr/>
        </p:nvSpPr>
        <p:spPr>
          <a:xfrm>
            <a:off x="1573200" y="3268800"/>
            <a:ext cx="378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6" name=""/>
          <p:cNvSpPr/>
          <p:nvPr/>
        </p:nvSpPr>
        <p:spPr>
          <a:xfrm flipV="1">
            <a:off x="1620720" y="3265560"/>
            <a:ext cx="0" cy="6793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7" name=""/>
          <p:cNvSpPr/>
          <p:nvPr/>
        </p:nvSpPr>
        <p:spPr>
          <a:xfrm flipV="1">
            <a:off x="1903320" y="3273480"/>
            <a:ext cx="0" cy="6778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8" name=""/>
          <p:cNvSpPr/>
          <p:nvPr/>
        </p:nvSpPr>
        <p:spPr>
          <a:xfrm>
            <a:off x="1576440" y="3944880"/>
            <a:ext cx="37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9" name=""/>
          <p:cNvSpPr/>
          <p:nvPr/>
        </p:nvSpPr>
        <p:spPr>
          <a:xfrm>
            <a:off x="1627200" y="4265640"/>
            <a:ext cx="1332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0" name=""/>
          <p:cNvSpPr/>
          <p:nvPr/>
        </p:nvSpPr>
        <p:spPr>
          <a:xfrm flipV="1">
            <a:off x="1760400" y="4268880"/>
            <a:ext cx="139680" cy="93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1" name=""/>
          <p:cNvSpPr/>
          <p:nvPr/>
        </p:nvSpPr>
        <p:spPr>
          <a:xfrm>
            <a:off x="1620720" y="4264200"/>
            <a:ext cx="27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2" name=""/>
          <p:cNvSpPr/>
          <p:nvPr/>
        </p:nvSpPr>
        <p:spPr>
          <a:xfrm>
            <a:off x="1569960" y="3978360"/>
            <a:ext cx="0" cy="1951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3" name=""/>
          <p:cNvSpPr/>
          <p:nvPr/>
        </p:nvSpPr>
        <p:spPr>
          <a:xfrm>
            <a:off x="1947960" y="3973680"/>
            <a:ext cx="0" cy="1998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4" name=""/>
          <p:cNvSpPr/>
          <p:nvPr/>
        </p:nvSpPr>
        <p:spPr>
          <a:xfrm>
            <a:off x="1569960" y="417816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5" name=""/>
          <p:cNvSpPr/>
          <p:nvPr/>
        </p:nvSpPr>
        <p:spPr>
          <a:xfrm>
            <a:off x="1620720" y="400068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6" name=""/>
          <p:cNvSpPr/>
          <p:nvPr/>
        </p:nvSpPr>
        <p:spPr>
          <a:xfrm>
            <a:off x="1571760" y="3944880"/>
            <a:ext cx="50760" cy="52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7" name=""/>
          <p:cNvSpPr/>
          <p:nvPr/>
        </p:nvSpPr>
        <p:spPr>
          <a:xfrm flipH="1">
            <a:off x="1897200" y="3949560"/>
            <a:ext cx="50760" cy="5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8" name=""/>
          <p:cNvSpPr/>
          <p:nvPr/>
        </p:nvSpPr>
        <p:spPr>
          <a:xfrm>
            <a:off x="1620720" y="39974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9" name=""/>
          <p:cNvSpPr/>
          <p:nvPr/>
        </p:nvSpPr>
        <p:spPr>
          <a:xfrm>
            <a:off x="1903320" y="4000680"/>
            <a:ext cx="0" cy="271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0" name=""/>
          <p:cNvSpPr/>
          <p:nvPr/>
        </p:nvSpPr>
        <p:spPr>
          <a:xfrm flipV="1">
            <a:off x="1763640" y="3303720"/>
            <a:ext cx="0" cy="10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1" name=""/>
          <p:cNvSpPr/>
          <p:nvPr/>
        </p:nvSpPr>
        <p:spPr>
          <a:xfrm>
            <a:off x="1309680" y="3081240"/>
            <a:ext cx="846000" cy="82440"/>
          </a:xfrm>
          <a:prstGeom prst="rect">
            <a:avLst/>
          </a:prstGeom>
          <a:solidFill>
            <a:srgbClr val="0101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2" name=""/>
          <p:cNvSpPr/>
          <p:nvPr/>
        </p:nvSpPr>
        <p:spPr>
          <a:xfrm flipV="1">
            <a:off x="1763640" y="2446200"/>
            <a:ext cx="0" cy="74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3" name=""/>
          <p:cNvSpPr/>
          <p:nvPr/>
        </p:nvSpPr>
        <p:spPr>
          <a:xfrm flipH="1" flipV="1">
            <a:off x="1652760" y="3081240"/>
            <a:ext cx="7596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4" name=""/>
          <p:cNvSpPr/>
          <p:nvPr/>
        </p:nvSpPr>
        <p:spPr>
          <a:xfrm flipH="1" flipV="1">
            <a:off x="1736640" y="3081240"/>
            <a:ext cx="84240" cy="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5" name=""/>
          <p:cNvSpPr/>
          <p:nvPr/>
        </p:nvSpPr>
        <p:spPr>
          <a:xfrm>
            <a:off x="1960560" y="3182760"/>
            <a:ext cx="5054760" cy="3985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6" name=""/>
          <p:cNvSpPr/>
          <p:nvPr/>
        </p:nvSpPr>
        <p:spPr>
          <a:xfrm>
            <a:off x="1146240" y="3567240"/>
            <a:ext cx="0" cy="115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7" name=""/>
          <p:cNvSpPr/>
          <p:nvPr/>
        </p:nvSpPr>
        <p:spPr>
          <a:xfrm>
            <a:off x="1162080" y="4718160"/>
            <a:ext cx="6683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8" name=""/>
          <p:cNvSpPr/>
          <p:nvPr/>
        </p:nvSpPr>
        <p:spPr>
          <a:xfrm flipV="1">
            <a:off x="7861320" y="3597120"/>
            <a:ext cx="0" cy="112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9" name=""/>
          <p:cNvSpPr/>
          <p:nvPr/>
        </p:nvSpPr>
        <p:spPr>
          <a:xfrm>
            <a:off x="3635280" y="2998800"/>
            <a:ext cx="1612800" cy="582480"/>
          </a:xfrm>
          <a:prstGeom prst="rect">
            <a:avLst/>
          </a:prstGeom>
          <a:solidFill>
            <a:srgbClr val="0101ff"/>
          </a:solidFill>
          <a:ln w="12600">
            <a:solidFill>
              <a:srgbClr val="0101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0" name=""/>
          <p:cNvSpPr/>
          <p:nvPr/>
        </p:nvSpPr>
        <p:spPr>
          <a:xfrm>
            <a:off x="3629160" y="3197160"/>
            <a:ext cx="0" cy="38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1" name=""/>
          <p:cNvSpPr/>
          <p:nvPr/>
        </p:nvSpPr>
        <p:spPr>
          <a:xfrm>
            <a:off x="5248440" y="3182760"/>
            <a:ext cx="0" cy="39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2" name=""/>
          <p:cNvSpPr/>
          <p:nvPr/>
        </p:nvSpPr>
        <p:spPr>
          <a:xfrm>
            <a:off x="3665520" y="3243240"/>
            <a:ext cx="154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3" name=""/>
          <p:cNvSpPr/>
          <p:nvPr/>
        </p:nvSpPr>
        <p:spPr>
          <a:xfrm>
            <a:off x="5216400" y="3243240"/>
            <a:ext cx="0" cy="338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4" name=""/>
          <p:cNvSpPr/>
          <p:nvPr/>
        </p:nvSpPr>
        <p:spPr>
          <a:xfrm>
            <a:off x="3665520" y="3243240"/>
            <a:ext cx="0" cy="338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5" name=""/>
          <p:cNvSpPr/>
          <p:nvPr/>
        </p:nvSpPr>
        <p:spPr>
          <a:xfrm flipH="1">
            <a:off x="3619440" y="3581280"/>
            <a:ext cx="3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6" name=""/>
          <p:cNvSpPr/>
          <p:nvPr/>
        </p:nvSpPr>
        <p:spPr>
          <a:xfrm>
            <a:off x="5221440" y="3578400"/>
            <a:ext cx="3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7" name=""/>
          <p:cNvSpPr/>
          <p:nvPr/>
        </p:nvSpPr>
        <p:spPr>
          <a:xfrm>
            <a:off x="2774880" y="3029040"/>
            <a:ext cx="262080" cy="1182600"/>
          </a:xfrm>
          <a:prstGeom prst="rect">
            <a:avLst/>
          </a:prstGeom>
          <a:solidFill>
            <a:srgbClr val="0101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8" name=""/>
          <p:cNvSpPr/>
          <p:nvPr/>
        </p:nvSpPr>
        <p:spPr>
          <a:xfrm flipV="1">
            <a:off x="2779560" y="2998800"/>
            <a:ext cx="36720" cy="3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9" name=""/>
          <p:cNvSpPr/>
          <p:nvPr/>
        </p:nvSpPr>
        <p:spPr>
          <a:xfrm>
            <a:off x="2813040" y="2997360"/>
            <a:ext cx="181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0" name=""/>
          <p:cNvSpPr/>
          <p:nvPr/>
        </p:nvSpPr>
        <p:spPr>
          <a:xfrm>
            <a:off x="2987640" y="2997360"/>
            <a:ext cx="47520" cy="4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1" name=""/>
          <p:cNvSpPr/>
          <p:nvPr/>
        </p:nvSpPr>
        <p:spPr>
          <a:xfrm>
            <a:off x="2784600" y="4022640"/>
            <a:ext cx="242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2" name=""/>
          <p:cNvSpPr/>
          <p:nvPr/>
        </p:nvSpPr>
        <p:spPr>
          <a:xfrm>
            <a:off x="2779560" y="4022640"/>
            <a:ext cx="41400" cy="41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3" name=""/>
          <p:cNvSpPr/>
          <p:nvPr/>
        </p:nvSpPr>
        <p:spPr>
          <a:xfrm>
            <a:off x="2816280" y="4060800"/>
            <a:ext cx="17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4" name=""/>
          <p:cNvSpPr/>
          <p:nvPr/>
        </p:nvSpPr>
        <p:spPr>
          <a:xfrm flipV="1">
            <a:off x="2992320" y="4029120"/>
            <a:ext cx="34920" cy="3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5" name=""/>
          <p:cNvSpPr/>
          <p:nvPr/>
        </p:nvSpPr>
        <p:spPr>
          <a:xfrm>
            <a:off x="2779560" y="4206960"/>
            <a:ext cx="141480" cy="85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6" name=""/>
          <p:cNvSpPr/>
          <p:nvPr/>
        </p:nvSpPr>
        <p:spPr>
          <a:xfrm flipH="1">
            <a:off x="2909880" y="4206960"/>
            <a:ext cx="120600" cy="79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7" name=""/>
          <p:cNvSpPr/>
          <p:nvPr/>
        </p:nvSpPr>
        <p:spPr>
          <a:xfrm>
            <a:off x="2919240" y="2901960"/>
            <a:ext cx="0" cy="51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8" name=""/>
          <p:cNvSpPr/>
          <p:nvPr/>
        </p:nvSpPr>
        <p:spPr>
          <a:xfrm>
            <a:off x="2906640" y="3467160"/>
            <a:ext cx="0" cy="7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9" name=""/>
          <p:cNvSpPr/>
          <p:nvPr/>
        </p:nvSpPr>
        <p:spPr>
          <a:xfrm>
            <a:off x="1150920" y="3230640"/>
            <a:ext cx="6718680" cy="1475280"/>
          </a:xfrm>
          <a:custGeom>
            <a:avLst/>
            <a:gdLst/>
            <a:ahLst/>
            <a:rect l="0" t="0" r="r" b="b"/>
            <a:pathLst>
              <a:path w="18663" h="4098">
                <a:moveTo>
                  <a:pt x="0" y="921"/>
                </a:moveTo>
                <a:lnTo>
                  <a:pt x="0" y="4098"/>
                </a:lnTo>
                <a:lnTo>
                  <a:pt x="18663" y="4098"/>
                </a:lnTo>
                <a:lnTo>
                  <a:pt x="18663" y="978"/>
                </a:lnTo>
                <a:lnTo>
                  <a:pt x="17407" y="978"/>
                </a:lnTo>
                <a:lnTo>
                  <a:pt x="17407" y="2677"/>
                </a:lnTo>
                <a:lnTo>
                  <a:pt x="17296" y="2677"/>
                </a:lnTo>
                <a:lnTo>
                  <a:pt x="17296" y="2898"/>
                </a:lnTo>
                <a:lnTo>
                  <a:pt x="16908" y="3207"/>
                </a:lnTo>
                <a:lnTo>
                  <a:pt x="16489" y="2929"/>
                </a:lnTo>
                <a:lnTo>
                  <a:pt x="16489" y="2677"/>
                </a:lnTo>
                <a:lnTo>
                  <a:pt x="16348" y="2677"/>
                </a:lnTo>
                <a:lnTo>
                  <a:pt x="16348" y="978"/>
                </a:lnTo>
                <a:lnTo>
                  <a:pt x="11281" y="978"/>
                </a:lnTo>
                <a:lnTo>
                  <a:pt x="11281" y="0"/>
                </a:lnTo>
                <a:lnTo>
                  <a:pt x="6990" y="0"/>
                </a:lnTo>
                <a:lnTo>
                  <a:pt x="6990" y="978"/>
                </a:lnTo>
                <a:lnTo>
                  <a:pt x="5235" y="978"/>
                </a:lnTo>
                <a:lnTo>
                  <a:pt x="5235" y="2704"/>
                </a:lnTo>
                <a:lnTo>
                  <a:pt x="4873" y="2929"/>
                </a:lnTo>
                <a:lnTo>
                  <a:pt x="4511" y="2730"/>
                </a:lnTo>
                <a:lnTo>
                  <a:pt x="4511" y="948"/>
                </a:lnTo>
                <a:lnTo>
                  <a:pt x="2226" y="978"/>
                </a:lnTo>
                <a:lnTo>
                  <a:pt x="2226" y="2646"/>
                </a:lnTo>
                <a:lnTo>
                  <a:pt x="2090" y="2646"/>
                </a:lnTo>
                <a:lnTo>
                  <a:pt x="2090" y="2871"/>
                </a:lnTo>
                <a:lnTo>
                  <a:pt x="1697" y="3150"/>
                </a:lnTo>
                <a:lnTo>
                  <a:pt x="1309" y="2871"/>
                </a:lnTo>
                <a:lnTo>
                  <a:pt x="1309" y="2646"/>
                </a:lnTo>
                <a:lnTo>
                  <a:pt x="1199" y="2646"/>
                </a:lnTo>
                <a:lnTo>
                  <a:pt x="1199" y="921"/>
                </a:lnTo>
                <a:lnTo>
                  <a:pt x="0" y="921"/>
                </a:lnTo>
                <a:close/>
              </a:path>
            </a:pathLst>
          </a:cu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0" name=""/>
          <p:cNvSpPr/>
          <p:nvPr/>
        </p:nvSpPr>
        <p:spPr>
          <a:xfrm>
            <a:off x="2909880" y="3597120"/>
            <a:ext cx="0" cy="78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1" name=""/>
          <p:cNvSpPr/>
          <p:nvPr/>
        </p:nvSpPr>
        <p:spPr>
          <a:xfrm>
            <a:off x="7875720" y="321804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2" name=""/>
          <p:cNvSpPr/>
          <p:nvPr/>
        </p:nvSpPr>
        <p:spPr>
          <a:xfrm>
            <a:off x="7027920" y="3529080"/>
            <a:ext cx="426960" cy="651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3" name=""/>
          <p:cNvSpPr/>
          <p:nvPr/>
        </p:nvSpPr>
        <p:spPr>
          <a:xfrm>
            <a:off x="7443720" y="3197160"/>
            <a:ext cx="438480" cy="381240"/>
          </a:xfrm>
          <a:custGeom>
            <a:avLst/>
            <a:gdLst/>
            <a:ahLst/>
            <a:rect l="0" t="0" r="r" b="b"/>
            <a:pathLst>
              <a:path w="1218" h="1059">
                <a:moveTo>
                  <a:pt x="0" y="1059"/>
                </a:moveTo>
                <a:lnTo>
                  <a:pt x="0" y="0"/>
                </a:lnTo>
                <a:lnTo>
                  <a:pt x="1218" y="0"/>
                </a:lnTo>
                <a:lnTo>
                  <a:pt x="1218" y="1059"/>
                </a:lnTo>
                <a:lnTo>
                  <a:pt x="0" y="1059"/>
                </a:lnTo>
                <a:close/>
              </a:path>
            </a:pathLst>
          </a:custGeom>
          <a:blipFill rotWithShape="0">
            <a:blip r:embed="rId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4" name=""/>
          <p:cNvSpPr/>
          <p:nvPr/>
        </p:nvSpPr>
        <p:spPr>
          <a:xfrm flipV="1">
            <a:off x="7229520" y="3506760"/>
            <a:ext cx="0" cy="139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5" name=""/>
          <p:cNvSpPr/>
          <p:nvPr/>
        </p:nvSpPr>
        <p:spPr>
          <a:xfrm flipV="1">
            <a:off x="7229520" y="315432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6" name=""/>
          <p:cNvSpPr/>
          <p:nvPr/>
        </p:nvSpPr>
        <p:spPr>
          <a:xfrm flipV="1">
            <a:off x="7416720" y="3192480"/>
            <a:ext cx="0" cy="77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7" name=""/>
          <p:cNvSpPr/>
          <p:nvPr/>
        </p:nvSpPr>
        <p:spPr>
          <a:xfrm>
            <a:off x="6848640" y="3195720"/>
            <a:ext cx="738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8" name=""/>
          <p:cNvSpPr/>
          <p:nvPr/>
        </p:nvSpPr>
        <p:spPr>
          <a:xfrm flipV="1">
            <a:off x="6848640" y="2793960"/>
            <a:ext cx="0" cy="40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9" name=""/>
          <p:cNvSpPr/>
          <p:nvPr/>
        </p:nvSpPr>
        <p:spPr>
          <a:xfrm>
            <a:off x="6932520" y="2682720"/>
            <a:ext cx="568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0" name=""/>
          <p:cNvSpPr/>
          <p:nvPr/>
        </p:nvSpPr>
        <p:spPr>
          <a:xfrm flipV="1">
            <a:off x="7027920" y="2793960"/>
            <a:ext cx="0" cy="40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1" name=""/>
          <p:cNvSpPr/>
          <p:nvPr/>
        </p:nvSpPr>
        <p:spPr>
          <a:xfrm flipV="1">
            <a:off x="7408800" y="2778120"/>
            <a:ext cx="0" cy="41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2" name=""/>
          <p:cNvSpPr/>
          <p:nvPr/>
        </p:nvSpPr>
        <p:spPr>
          <a:xfrm>
            <a:off x="7092000" y="2624400"/>
            <a:ext cx="270000" cy="274320"/>
          </a:xfrm>
          <a:custGeom>
            <a:avLst/>
            <a:gdLst/>
            <a:ahLst/>
            <a:rect l="0" t="0" r="r" b="b"/>
            <a:pathLst>
              <a:path fill="none" w="750" h="762">
                <a:moveTo>
                  <a:pt x="750" y="762"/>
                </a:moveTo>
                <a:lnTo>
                  <a:pt x="750" y="762"/>
                </a:lnTo>
                <a:cubicBezTo>
                  <a:pt x="740" y="641"/>
                  <a:pt x="706" y="524"/>
                  <a:pt x="650" y="419"/>
                </a:cubicBezTo>
                <a:cubicBezTo>
                  <a:pt x="583" y="291"/>
                  <a:pt x="486" y="186"/>
                  <a:pt x="369" y="112"/>
                </a:cubicBezTo>
                <a:cubicBezTo>
                  <a:pt x="257" y="41"/>
                  <a:pt x="130" y="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3" name=""/>
          <p:cNvSpPr/>
          <p:nvPr/>
        </p:nvSpPr>
        <p:spPr>
          <a:xfrm>
            <a:off x="6831000" y="2706840"/>
            <a:ext cx="124200" cy="88560"/>
          </a:xfrm>
          <a:custGeom>
            <a:avLst/>
            <a:gdLst/>
            <a:ahLst/>
            <a:rect l="0" t="0" r="r" b="b"/>
            <a:pathLst>
              <a:path fill="none" w="345" h="246">
                <a:moveTo>
                  <a:pt x="345" y="246"/>
                </a:moveTo>
                <a:lnTo>
                  <a:pt x="345" y="246"/>
                </a:lnTo>
                <a:lnTo>
                  <a:pt x="345" y="246"/>
                </a:lnTo>
                <a:cubicBezTo>
                  <a:pt x="345" y="203"/>
                  <a:pt x="329" y="160"/>
                  <a:pt x="299" y="123"/>
                </a:cubicBezTo>
                <a:cubicBezTo>
                  <a:pt x="268" y="86"/>
                  <a:pt x="225" y="55"/>
                  <a:pt x="172" y="33"/>
                </a:cubicBezTo>
                <a:cubicBezTo>
                  <a:pt x="120" y="11"/>
                  <a:pt x="61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4" name=""/>
          <p:cNvSpPr/>
          <p:nvPr/>
        </p:nvSpPr>
        <p:spPr>
          <a:xfrm>
            <a:off x="6924600" y="2706840"/>
            <a:ext cx="123480" cy="88560"/>
          </a:xfrm>
          <a:custGeom>
            <a:avLst/>
            <a:gdLst/>
            <a:ahLst/>
            <a:rect l="0" t="0" r="r" b="b"/>
            <a:pathLst>
              <a:path fill="none" w="343" h="246">
                <a:moveTo>
                  <a:pt x="343" y="0"/>
                </a:moveTo>
                <a:lnTo>
                  <a:pt x="343" y="0"/>
                </a:lnTo>
                <a:cubicBezTo>
                  <a:pt x="283" y="0"/>
                  <a:pt x="224" y="11"/>
                  <a:pt x="171" y="33"/>
                </a:cubicBezTo>
                <a:cubicBezTo>
                  <a:pt x="119" y="55"/>
                  <a:pt x="76" y="86"/>
                  <a:pt x="46" y="123"/>
                </a:cubicBezTo>
                <a:cubicBezTo>
                  <a:pt x="16" y="160"/>
                  <a:pt x="0" y="203"/>
                  <a:pt x="0" y="2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5" name=""/>
          <p:cNvSpPr/>
          <p:nvPr/>
        </p:nvSpPr>
        <p:spPr>
          <a:xfrm>
            <a:off x="7401600" y="2693880"/>
            <a:ext cx="101160" cy="89280"/>
          </a:xfrm>
          <a:custGeom>
            <a:avLst/>
            <a:gdLst/>
            <a:ahLst/>
            <a:rect l="0" t="0" r="r" b="b"/>
            <a:pathLst>
              <a:path fill="none" w="281" h="248">
                <a:moveTo>
                  <a:pt x="281" y="248"/>
                </a:moveTo>
                <a:lnTo>
                  <a:pt x="281" y="248"/>
                </a:lnTo>
                <a:lnTo>
                  <a:pt x="281" y="248"/>
                </a:lnTo>
                <a:cubicBezTo>
                  <a:pt x="281" y="204"/>
                  <a:pt x="268" y="162"/>
                  <a:pt x="243" y="124"/>
                </a:cubicBezTo>
                <a:cubicBezTo>
                  <a:pt x="219" y="86"/>
                  <a:pt x="183" y="55"/>
                  <a:pt x="140" y="33"/>
                </a:cubicBezTo>
                <a:cubicBezTo>
                  <a:pt x="98" y="11"/>
                  <a:pt x="49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6" name=""/>
          <p:cNvSpPr/>
          <p:nvPr/>
        </p:nvSpPr>
        <p:spPr>
          <a:xfrm>
            <a:off x="7493040" y="2693880"/>
            <a:ext cx="100440" cy="89280"/>
          </a:xfrm>
          <a:custGeom>
            <a:avLst/>
            <a:gdLst/>
            <a:ahLst/>
            <a:rect l="0" t="0" r="r" b="b"/>
            <a:pathLst>
              <a:path fill="none" w="279" h="248">
                <a:moveTo>
                  <a:pt x="279" y="0"/>
                </a:moveTo>
                <a:lnTo>
                  <a:pt x="279" y="0"/>
                </a:lnTo>
                <a:cubicBezTo>
                  <a:pt x="230" y="0"/>
                  <a:pt x="182" y="11"/>
                  <a:pt x="139" y="33"/>
                </a:cubicBezTo>
                <a:cubicBezTo>
                  <a:pt x="97" y="55"/>
                  <a:pt x="62" y="86"/>
                  <a:pt x="37" y="124"/>
                </a:cubicBezTo>
                <a:cubicBezTo>
                  <a:pt x="13" y="162"/>
                  <a:pt x="0" y="204"/>
                  <a:pt x="0" y="24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7" name=""/>
          <p:cNvSpPr/>
          <p:nvPr/>
        </p:nvSpPr>
        <p:spPr>
          <a:xfrm flipV="1">
            <a:off x="7586640" y="2778120"/>
            <a:ext cx="0" cy="40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8" name=""/>
          <p:cNvSpPr/>
          <p:nvPr/>
        </p:nvSpPr>
        <p:spPr>
          <a:xfrm flipV="1">
            <a:off x="7035840" y="3205080"/>
            <a:ext cx="0" cy="765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9" name=""/>
          <p:cNvSpPr/>
          <p:nvPr/>
        </p:nvSpPr>
        <p:spPr>
          <a:xfrm>
            <a:off x="7039080" y="3289320"/>
            <a:ext cx="377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0" name=""/>
          <p:cNvSpPr/>
          <p:nvPr/>
        </p:nvSpPr>
        <p:spPr>
          <a:xfrm flipV="1">
            <a:off x="7086600" y="3306600"/>
            <a:ext cx="0" cy="6588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1" name=""/>
          <p:cNvSpPr/>
          <p:nvPr/>
        </p:nvSpPr>
        <p:spPr>
          <a:xfrm flipV="1">
            <a:off x="7369200" y="3292560"/>
            <a:ext cx="0" cy="6778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2" name=""/>
          <p:cNvSpPr/>
          <p:nvPr/>
        </p:nvSpPr>
        <p:spPr>
          <a:xfrm>
            <a:off x="7043760" y="3965400"/>
            <a:ext cx="37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3" name=""/>
          <p:cNvSpPr/>
          <p:nvPr/>
        </p:nvSpPr>
        <p:spPr>
          <a:xfrm>
            <a:off x="7093080" y="4284720"/>
            <a:ext cx="133200" cy="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4" name=""/>
          <p:cNvSpPr/>
          <p:nvPr/>
        </p:nvSpPr>
        <p:spPr>
          <a:xfrm flipV="1">
            <a:off x="7226280" y="4289400"/>
            <a:ext cx="141480" cy="93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5" name=""/>
          <p:cNvSpPr/>
          <p:nvPr/>
        </p:nvSpPr>
        <p:spPr>
          <a:xfrm>
            <a:off x="7086600" y="4282920"/>
            <a:ext cx="276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6" name=""/>
          <p:cNvSpPr/>
          <p:nvPr/>
        </p:nvSpPr>
        <p:spPr>
          <a:xfrm>
            <a:off x="7035840" y="3997440"/>
            <a:ext cx="0" cy="1965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7" name=""/>
          <p:cNvSpPr/>
          <p:nvPr/>
        </p:nvSpPr>
        <p:spPr>
          <a:xfrm>
            <a:off x="7415280" y="3994200"/>
            <a:ext cx="0" cy="1998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8" name=""/>
          <p:cNvSpPr/>
          <p:nvPr/>
        </p:nvSpPr>
        <p:spPr>
          <a:xfrm>
            <a:off x="7035840" y="4197240"/>
            <a:ext cx="3762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9" name=""/>
          <p:cNvSpPr/>
          <p:nvPr/>
        </p:nvSpPr>
        <p:spPr>
          <a:xfrm>
            <a:off x="7086600" y="4021200"/>
            <a:ext cx="281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0" name=""/>
          <p:cNvSpPr/>
          <p:nvPr/>
        </p:nvSpPr>
        <p:spPr>
          <a:xfrm>
            <a:off x="7037280" y="3965400"/>
            <a:ext cx="50760" cy="51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1" name=""/>
          <p:cNvSpPr/>
          <p:nvPr/>
        </p:nvSpPr>
        <p:spPr>
          <a:xfrm flipH="1">
            <a:off x="7362720" y="3968640"/>
            <a:ext cx="52560" cy="52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2" name=""/>
          <p:cNvSpPr/>
          <p:nvPr/>
        </p:nvSpPr>
        <p:spPr>
          <a:xfrm>
            <a:off x="7086600" y="4016520"/>
            <a:ext cx="0" cy="266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3" name=""/>
          <p:cNvSpPr/>
          <p:nvPr/>
        </p:nvSpPr>
        <p:spPr>
          <a:xfrm>
            <a:off x="7369200" y="4021200"/>
            <a:ext cx="0" cy="26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4" name=""/>
          <p:cNvSpPr/>
          <p:nvPr/>
        </p:nvSpPr>
        <p:spPr>
          <a:xfrm flipV="1">
            <a:off x="7229520" y="3322800"/>
            <a:ext cx="0" cy="10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5" name=""/>
          <p:cNvSpPr/>
          <p:nvPr/>
        </p:nvSpPr>
        <p:spPr>
          <a:xfrm>
            <a:off x="6791400" y="3103560"/>
            <a:ext cx="846000" cy="76320"/>
          </a:xfrm>
          <a:prstGeom prst="rect">
            <a:avLst/>
          </a:prstGeom>
          <a:solidFill>
            <a:srgbClr val="0101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6" name=""/>
          <p:cNvSpPr/>
          <p:nvPr/>
        </p:nvSpPr>
        <p:spPr>
          <a:xfrm flipV="1">
            <a:off x="7229520" y="2465280"/>
            <a:ext cx="0" cy="74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7" name=""/>
          <p:cNvSpPr/>
          <p:nvPr/>
        </p:nvSpPr>
        <p:spPr>
          <a:xfrm>
            <a:off x="7180200" y="3103560"/>
            <a:ext cx="68400" cy="6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8" name=""/>
          <p:cNvSpPr/>
          <p:nvPr/>
        </p:nvSpPr>
        <p:spPr>
          <a:xfrm>
            <a:off x="7272360" y="3103560"/>
            <a:ext cx="68400" cy="6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9" name=""/>
          <p:cNvSpPr/>
          <p:nvPr/>
        </p:nvSpPr>
        <p:spPr>
          <a:xfrm flipV="1">
            <a:off x="1763640" y="3486240"/>
            <a:ext cx="0" cy="139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0" name=""/>
          <p:cNvSpPr txBox="1"/>
          <p:nvPr/>
        </p:nvSpPr>
        <p:spPr>
          <a:xfrm>
            <a:off x="3468600" y="1709640"/>
            <a:ext cx="2075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-fit loca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el 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1" name=""/>
          <p:cNvSpPr/>
          <p:nvPr/>
        </p:nvSpPr>
        <p:spPr>
          <a:xfrm flipV="1">
            <a:off x="2992320" y="1878120"/>
            <a:ext cx="338400" cy="1120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2" name=""/>
          <p:cNvSpPr/>
          <p:nvPr/>
        </p:nvSpPr>
        <p:spPr>
          <a:xfrm>
            <a:off x="3330720" y="187812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17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hatching Section 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0720" y="1204920"/>
            <a:ext cx="8278920" cy="46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hatch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graphic pattern which is repeated throughout all areas of the part that is in contact with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utting plan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commended angl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standard crosshatch pattern ar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5 degrees, 30 degrees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0 degre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void vertical or horizontal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hatc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nes should b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ither parallel nor perpendicula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utlin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feature in section--if avoid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00040" y="19810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large areas are to be crosshatched, section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utlin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y be used where appropri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itudinal sections of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mbers of sectioned parts, such as spokes of wheels and ribs of sections, are not crosshatc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 components, such as gaskets, shims, etc., in section, are colored in soli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01640" y="501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hatching Section 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Continue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746280" y="156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n-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xiliary (Parti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gned (four different applic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33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gned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gned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,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gned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,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,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gned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,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,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, within conventional 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gned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,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,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, within conventional 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ved features in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19200" y="652320"/>
            <a:ext cx="7772400" cy="16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chanical Engineering 17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05000" y="2865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ing Graphic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25960" y="5148360"/>
            <a:ext cx="2825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Rights Reser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4240" y="5057640"/>
            <a:ext cx="3179880" cy="1150920"/>
          </a:xfrm>
          <a:prstGeom prst="rect">
            <a:avLst/>
          </a:prstGeom>
          <a:noFill/>
          <a:ln w="50760">
            <a:solidFill>
              <a:srgbClr val="ffffff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0320" y="6375240"/>
            <a:ext cx="1871640" cy="38736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85800" y="210672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ll Section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38600" y="863640"/>
            <a:ext cx="352584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thographic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ront views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 geome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356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732120" y="3111480"/>
            <a:ext cx="0" cy="771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2880" y="3111480"/>
            <a:ext cx="0" cy="74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4152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27240" y="5086440"/>
            <a:ext cx="0" cy="3157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74840" y="23288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79840" y="23288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62360" y="23288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38600" y="863640"/>
            <a:ext cx="36720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thographic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ront vie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ing inter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ity and ho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the bot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377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732120" y="3111480"/>
            <a:ext cx="0" cy="771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42880" y="3111480"/>
            <a:ext cx="0" cy="74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54160" y="2952720"/>
            <a:ext cx="0" cy="88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14600" y="2952720"/>
            <a:ext cx="0" cy="90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728800" y="4795920"/>
            <a:ext cx="0" cy="906480"/>
            <a:chOff x="2728800" y="4795920"/>
            <a:chExt cx="0" cy="906480"/>
          </a:xfrm>
        </p:grpSpPr>
        <p:sp>
          <p:nvSpPr>
            <p:cNvPr id="386" name=""/>
            <p:cNvSpPr/>
            <p:nvPr/>
          </p:nvSpPr>
          <p:spPr>
            <a:xfrm>
              <a:off x="2728800" y="4795920"/>
              <a:ext cx="0" cy="317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28800" y="516888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28800" y="5342040"/>
              <a:ext cx="0" cy="360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732040" y="3406680"/>
            <a:ext cx="0" cy="123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638600" y="863640"/>
            <a:ext cx="429408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thographic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ront views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izontal hole th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4152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2724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74840" y="23288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79840" y="23288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62360" y="23288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386080" y="4186080"/>
            <a:ext cx="664920" cy="628920"/>
            <a:chOff x="2386080" y="4186080"/>
            <a:chExt cx="664920" cy="628920"/>
          </a:xfrm>
        </p:grpSpPr>
        <p:sp>
          <p:nvSpPr>
            <p:cNvPr id="410" name=""/>
            <p:cNvSpPr/>
            <p:nvPr/>
          </p:nvSpPr>
          <p:spPr>
            <a:xfrm>
              <a:off x="2728800" y="4186080"/>
              <a:ext cx="0" cy="2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28800" y="44528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28800" y="462600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6080" y="450864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74800" y="450864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57680" y="4508640"/>
              <a:ext cx="193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417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728800" y="4795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28800" y="51688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728800" y="5364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4152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02724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74840" y="23288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79840" y="23288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62360" y="23288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386080" y="4186080"/>
            <a:ext cx="664920" cy="628920"/>
            <a:chOff x="2386080" y="4186080"/>
            <a:chExt cx="664920" cy="628920"/>
          </a:xfrm>
        </p:grpSpPr>
        <p:sp>
          <p:nvSpPr>
            <p:cNvPr id="441" name=""/>
            <p:cNvSpPr/>
            <p:nvPr/>
          </p:nvSpPr>
          <p:spPr>
            <a:xfrm>
              <a:off x="2728800" y="4186080"/>
              <a:ext cx="0" cy="2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28800" y="44528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28800" y="462600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86080" y="450864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74800" y="450864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57680" y="4508640"/>
              <a:ext cx="193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448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2728800" y="4795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728800" y="51688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28800" y="5364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729320" y="1724040"/>
            <a:ext cx="40068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 a cutting (view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e in the horizon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op) vi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4152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02724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74840" y="23288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79840" y="23288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62360" y="23288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386080" y="4186080"/>
            <a:ext cx="664920" cy="628920"/>
            <a:chOff x="2386080" y="4186080"/>
            <a:chExt cx="664920" cy="628920"/>
          </a:xfrm>
        </p:grpSpPr>
        <p:sp>
          <p:nvSpPr>
            <p:cNvPr id="475" name=""/>
            <p:cNvSpPr/>
            <p:nvPr/>
          </p:nvSpPr>
          <p:spPr>
            <a:xfrm>
              <a:off x="2728800" y="4186080"/>
              <a:ext cx="0" cy="2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800" y="44528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28800" y="462600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86080" y="450864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74800" y="450864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57680" y="4508640"/>
              <a:ext cx="193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482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2728800" y="4795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0" y="51688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28800" y="5364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912960" y="1892160"/>
            <a:ext cx="3319560" cy="439920"/>
            <a:chOff x="912960" y="1892160"/>
            <a:chExt cx="3319560" cy="439920"/>
          </a:xfrm>
        </p:grpSpPr>
        <p:sp>
          <p:nvSpPr>
            <p:cNvPr id="490" name=""/>
            <p:cNvSpPr/>
            <p:nvPr/>
          </p:nvSpPr>
          <p:spPr>
            <a:xfrm>
              <a:off x="1006560" y="2332080"/>
              <a:ext cx="1384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00200" y="2332080"/>
              <a:ext cx="136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36800" y="2332080"/>
              <a:ext cx="1364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94200" y="2332080"/>
              <a:ext cx="1069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164120" y="2149560"/>
              <a:ext cx="0" cy="1807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988920" y="2171880"/>
              <a:ext cx="0" cy="1584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95720" y="18986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12960" y="18921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 txBox="1"/>
          <p:nvPr/>
        </p:nvSpPr>
        <p:spPr>
          <a:xfrm>
            <a:off x="4729320" y="1724040"/>
            <a:ext cx="40068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 a cutting (view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e in the horizon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op) vi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4152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2724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74840" y="23288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79840" y="23288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62360" y="23288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386080" y="4186080"/>
            <a:ext cx="664920" cy="628920"/>
            <a:chOff x="2386080" y="4186080"/>
            <a:chExt cx="664920" cy="628920"/>
          </a:xfrm>
        </p:grpSpPr>
        <p:sp>
          <p:nvSpPr>
            <p:cNvPr id="518" name=""/>
            <p:cNvSpPr/>
            <p:nvPr/>
          </p:nvSpPr>
          <p:spPr>
            <a:xfrm>
              <a:off x="2728800" y="4186080"/>
              <a:ext cx="0" cy="2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28800" y="44528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28800" y="462600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86080" y="450864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74800" y="450864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57680" y="4508640"/>
              <a:ext cx="193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525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2728800" y="4795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728800" y="51688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28800" y="5364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912960" y="1892160"/>
            <a:ext cx="3319560" cy="439920"/>
            <a:chOff x="912960" y="1892160"/>
            <a:chExt cx="3319560" cy="439920"/>
          </a:xfrm>
        </p:grpSpPr>
        <p:sp>
          <p:nvSpPr>
            <p:cNvPr id="533" name=""/>
            <p:cNvSpPr/>
            <p:nvPr/>
          </p:nvSpPr>
          <p:spPr>
            <a:xfrm>
              <a:off x="1006560" y="2332080"/>
              <a:ext cx="1384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00200" y="2332080"/>
              <a:ext cx="136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36800" y="2332080"/>
              <a:ext cx="1364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4200" y="2332080"/>
              <a:ext cx="1069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164120" y="2149560"/>
              <a:ext cx="0" cy="1807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988920" y="2171880"/>
              <a:ext cx="0" cy="1584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95720" y="18986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12960" y="18921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 txBox="1"/>
          <p:nvPr/>
        </p:nvSpPr>
        <p:spPr>
          <a:xfrm>
            <a:off x="5024520" y="1928880"/>
            <a:ext cx="32958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the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esignator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4152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2724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274840" y="23288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79840" y="23288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62360" y="23288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386080" y="4186080"/>
            <a:ext cx="664920" cy="628920"/>
            <a:chOff x="2386080" y="4186080"/>
            <a:chExt cx="664920" cy="628920"/>
          </a:xfrm>
        </p:grpSpPr>
        <p:sp>
          <p:nvSpPr>
            <p:cNvPr id="561" name=""/>
            <p:cNvSpPr/>
            <p:nvPr/>
          </p:nvSpPr>
          <p:spPr>
            <a:xfrm>
              <a:off x="2728800" y="4186080"/>
              <a:ext cx="0" cy="2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28800" y="44528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28800" y="462600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86080" y="450864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74800" y="450864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57680" y="4508640"/>
              <a:ext cx="193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568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728800" y="4795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28800" y="51688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28800" y="5364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12960" y="1892160"/>
            <a:ext cx="3319560" cy="439920"/>
            <a:chOff x="912960" y="1892160"/>
            <a:chExt cx="3319560" cy="439920"/>
          </a:xfrm>
        </p:grpSpPr>
        <p:sp>
          <p:nvSpPr>
            <p:cNvPr id="576" name=""/>
            <p:cNvSpPr/>
            <p:nvPr/>
          </p:nvSpPr>
          <p:spPr>
            <a:xfrm>
              <a:off x="1006560" y="2332080"/>
              <a:ext cx="1384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00200" y="2332080"/>
              <a:ext cx="136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836800" y="2332080"/>
              <a:ext cx="1364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94200" y="2332080"/>
              <a:ext cx="1069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164120" y="2149560"/>
              <a:ext cx="0" cy="1807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988920" y="2171880"/>
              <a:ext cx="0" cy="1584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95720" y="18986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12960" y="18921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 txBox="1"/>
          <p:nvPr/>
        </p:nvSpPr>
        <p:spPr>
          <a:xfrm>
            <a:off x="777960" y="14446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971880" y="14605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024520" y="1928880"/>
            <a:ext cx="32958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the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designator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4152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02724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74840" y="23288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79840" y="23288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862360" y="23288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386080" y="4186080"/>
            <a:ext cx="664920" cy="628920"/>
            <a:chOff x="2386080" y="4186080"/>
            <a:chExt cx="664920" cy="628920"/>
          </a:xfrm>
        </p:grpSpPr>
        <p:sp>
          <p:nvSpPr>
            <p:cNvPr id="606" name=""/>
            <p:cNvSpPr/>
            <p:nvPr/>
          </p:nvSpPr>
          <p:spPr>
            <a:xfrm>
              <a:off x="2728800" y="4186080"/>
              <a:ext cx="0" cy="2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28800" y="44528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28800" y="462600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386080" y="450864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74800" y="450864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57680" y="4508640"/>
              <a:ext cx="193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613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2728800" y="4795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728800" y="51688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728800" y="5364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912960" y="1892160"/>
            <a:ext cx="3319560" cy="439920"/>
            <a:chOff x="912960" y="1892160"/>
            <a:chExt cx="3319560" cy="439920"/>
          </a:xfrm>
        </p:grpSpPr>
        <p:sp>
          <p:nvSpPr>
            <p:cNvPr id="621" name=""/>
            <p:cNvSpPr/>
            <p:nvPr/>
          </p:nvSpPr>
          <p:spPr>
            <a:xfrm>
              <a:off x="1006560" y="2332080"/>
              <a:ext cx="1384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00200" y="2332080"/>
              <a:ext cx="136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36800" y="2332080"/>
              <a:ext cx="1364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94200" y="2332080"/>
              <a:ext cx="1069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164120" y="2149560"/>
              <a:ext cx="0" cy="1807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988920" y="2171880"/>
              <a:ext cx="0" cy="1584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95720" y="18986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12960" y="18921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 txBox="1"/>
          <p:nvPr/>
        </p:nvSpPr>
        <p:spPr>
          <a:xfrm>
            <a:off x="777960" y="14446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971880" y="14605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0560" y="1928880"/>
            <a:ext cx="40654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ine that th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hind the cutting pl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been removed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4152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02724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274840" y="23288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679840" y="23288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862360" y="23288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386080" y="4186080"/>
            <a:ext cx="664920" cy="628920"/>
            <a:chOff x="2386080" y="4186080"/>
            <a:chExt cx="664920" cy="628920"/>
          </a:xfrm>
        </p:grpSpPr>
        <p:sp>
          <p:nvSpPr>
            <p:cNvPr id="648" name=""/>
            <p:cNvSpPr/>
            <p:nvPr/>
          </p:nvSpPr>
          <p:spPr>
            <a:xfrm>
              <a:off x="2728800" y="4186080"/>
              <a:ext cx="0" cy="2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28800" y="44528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728800" y="462600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86080" y="450864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74800" y="450864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57680" y="4508640"/>
              <a:ext cx="193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655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2728800" y="4795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728800" y="51688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728800" y="5364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912960" y="1892160"/>
            <a:ext cx="3319560" cy="439920"/>
            <a:chOff x="912960" y="1892160"/>
            <a:chExt cx="3319560" cy="439920"/>
          </a:xfrm>
        </p:grpSpPr>
        <p:sp>
          <p:nvSpPr>
            <p:cNvPr id="663" name=""/>
            <p:cNvSpPr/>
            <p:nvPr/>
          </p:nvSpPr>
          <p:spPr>
            <a:xfrm>
              <a:off x="1006560" y="2332080"/>
              <a:ext cx="1384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00200" y="2332080"/>
              <a:ext cx="136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36800" y="2332080"/>
              <a:ext cx="1364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94200" y="2332080"/>
              <a:ext cx="1069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164120" y="2149560"/>
              <a:ext cx="0" cy="1807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988920" y="2171880"/>
              <a:ext cx="0" cy="1584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95720" y="18986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2960" y="18921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 txBox="1"/>
          <p:nvPr/>
        </p:nvSpPr>
        <p:spPr>
          <a:xfrm>
            <a:off x="777960" y="14446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71880" y="14605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305000" y="2349360"/>
            <a:ext cx="2536920" cy="78732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733840" y="1093680"/>
            <a:ext cx="0" cy="2130480"/>
            <a:chOff x="2733840" y="1093680"/>
            <a:chExt cx="0" cy="2130480"/>
          </a:xfrm>
        </p:grpSpPr>
        <p:sp>
          <p:nvSpPr>
            <p:cNvPr id="677" name=""/>
            <p:cNvSpPr/>
            <p:nvPr/>
          </p:nvSpPr>
          <p:spPr>
            <a:xfrm>
              <a:off x="2733840" y="1093680"/>
              <a:ext cx="0" cy="11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33840" y="22604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33840" y="243360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"/>
          <p:cNvSpPr txBox="1"/>
          <p:nvPr/>
        </p:nvSpPr>
        <p:spPr>
          <a:xfrm>
            <a:off x="4570560" y="1928880"/>
            <a:ext cx="40654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ine that th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hind the cutting pl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been removed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348000" y="1019160"/>
            <a:ext cx="1994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Unit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44152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02724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74840" y="23288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679840" y="23288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62360" y="23288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386080" y="4186080"/>
            <a:ext cx="664920" cy="628920"/>
            <a:chOff x="2386080" y="4186080"/>
            <a:chExt cx="664920" cy="628920"/>
          </a:xfrm>
        </p:grpSpPr>
        <p:sp>
          <p:nvSpPr>
            <p:cNvPr id="695" name=""/>
            <p:cNvSpPr/>
            <p:nvPr/>
          </p:nvSpPr>
          <p:spPr>
            <a:xfrm>
              <a:off x="2728800" y="4186080"/>
              <a:ext cx="0" cy="2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728800" y="44528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728800" y="462600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86080" y="450864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74800" y="450864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57680" y="4508640"/>
              <a:ext cx="193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702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728800" y="4795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728800" y="51688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728800" y="5364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912960" y="1892160"/>
            <a:ext cx="3319560" cy="439920"/>
            <a:chOff x="912960" y="1892160"/>
            <a:chExt cx="3319560" cy="439920"/>
          </a:xfrm>
        </p:grpSpPr>
        <p:sp>
          <p:nvSpPr>
            <p:cNvPr id="710" name=""/>
            <p:cNvSpPr/>
            <p:nvPr/>
          </p:nvSpPr>
          <p:spPr>
            <a:xfrm>
              <a:off x="1006560" y="2332080"/>
              <a:ext cx="1384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00200" y="2332080"/>
              <a:ext cx="136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836800" y="2332080"/>
              <a:ext cx="1364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94200" y="2332080"/>
              <a:ext cx="1069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4164120" y="2149560"/>
              <a:ext cx="0" cy="1807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988920" y="2171880"/>
              <a:ext cx="0" cy="1584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95720" y="18986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12960" y="18921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 txBox="1"/>
          <p:nvPr/>
        </p:nvSpPr>
        <p:spPr>
          <a:xfrm>
            <a:off x="777960" y="14446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71880" y="14605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5024520" y="1928880"/>
            <a:ext cx="38386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an orthogra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the rem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on of the 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05000" y="2349360"/>
            <a:ext cx="2536920" cy="78732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733840" y="1093680"/>
            <a:ext cx="0" cy="2130480"/>
            <a:chOff x="2733840" y="1093680"/>
            <a:chExt cx="0" cy="2130480"/>
          </a:xfrm>
        </p:grpSpPr>
        <p:sp>
          <p:nvSpPr>
            <p:cNvPr id="725" name=""/>
            <p:cNvSpPr/>
            <p:nvPr/>
          </p:nvSpPr>
          <p:spPr>
            <a:xfrm>
              <a:off x="2733840" y="1093680"/>
              <a:ext cx="0" cy="11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33840" y="22604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33840" y="243360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4152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27240" y="5076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386080" y="4186080"/>
            <a:ext cx="664920" cy="628920"/>
            <a:chOff x="2386080" y="4186080"/>
            <a:chExt cx="664920" cy="628920"/>
          </a:xfrm>
        </p:grpSpPr>
        <p:sp>
          <p:nvSpPr>
            <p:cNvPr id="734" name=""/>
            <p:cNvSpPr/>
            <p:nvPr/>
          </p:nvSpPr>
          <p:spPr>
            <a:xfrm>
              <a:off x="2728800" y="4186080"/>
              <a:ext cx="0" cy="2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28800" y="44528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28800" y="462600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86080" y="4508640"/>
              <a:ext cx="223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74800" y="450864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857680" y="4508640"/>
              <a:ext cx="193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741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2728800" y="4795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728800" y="51688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28800" y="5364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0560" y="3652920"/>
            <a:ext cx="41940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 the 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dden lines to object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front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777960" y="1093680"/>
            <a:ext cx="3598560" cy="2130480"/>
            <a:chOff x="777960" y="1093680"/>
            <a:chExt cx="3598560" cy="2130480"/>
          </a:xfrm>
        </p:grpSpPr>
        <p:sp>
          <p:nvSpPr>
            <p:cNvPr id="750" name=""/>
            <p:cNvSpPr/>
            <p:nvPr/>
          </p:nvSpPr>
          <p:spPr>
            <a:xfrm>
              <a:off x="1442880" y="1365120"/>
              <a:ext cx="2289240" cy="16336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052720" y="1844640"/>
              <a:ext cx="1373040" cy="979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30360" y="2013120"/>
              <a:ext cx="612720" cy="612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38320" y="136512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530440" y="136512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274840" y="2328840"/>
              <a:ext cx="339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679840" y="232884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62360" y="2328840"/>
              <a:ext cx="271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912960" y="1892160"/>
              <a:ext cx="3319560" cy="439920"/>
              <a:chOff x="912960" y="1892160"/>
              <a:chExt cx="3319560" cy="439920"/>
            </a:xfrm>
          </p:grpSpPr>
          <p:sp>
            <p:nvSpPr>
              <p:cNvPr id="759" name=""/>
              <p:cNvSpPr/>
              <p:nvPr/>
            </p:nvSpPr>
            <p:spPr>
              <a:xfrm>
                <a:off x="1006560" y="2332080"/>
                <a:ext cx="138420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500200" y="2332080"/>
                <a:ext cx="13680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836800" y="2332080"/>
                <a:ext cx="1364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094200" y="2332080"/>
                <a:ext cx="10699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4164120" y="2149560"/>
                <a:ext cx="0" cy="180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988920" y="2171880"/>
                <a:ext cx="0" cy="15840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095720" y="1898640"/>
                <a:ext cx="136800" cy="295560"/>
              </a:xfrm>
              <a:custGeom>
                <a:avLst/>
                <a:gdLst/>
                <a:ahLst/>
                <a:rect l="0" t="0" r="r" b="b"/>
                <a:pathLst>
                  <a:path w="380" h="821">
                    <a:moveTo>
                      <a:pt x="0" y="821"/>
                    </a:moveTo>
                    <a:lnTo>
                      <a:pt x="380" y="821"/>
                    </a:lnTo>
                    <a:lnTo>
                      <a:pt x="189" y="0"/>
                    </a:lnTo>
                    <a:lnTo>
                      <a:pt x="0" y="821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912960" y="1892160"/>
                <a:ext cx="136800" cy="295560"/>
              </a:xfrm>
              <a:custGeom>
                <a:avLst/>
                <a:gdLst/>
                <a:ahLst/>
                <a:rect l="0" t="0" r="r" b="b"/>
                <a:pathLst>
                  <a:path w="380" h="821">
                    <a:moveTo>
                      <a:pt x="0" y="821"/>
                    </a:moveTo>
                    <a:lnTo>
                      <a:pt x="380" y="821"/>
                    </a:lnTo>
                    <a:lnTo>
                      <a:pt x="189" y="0"/>
                    </a:lnTo>
                    <a:lnTo>
                      <a:pt x="0" y="821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"/>
            <p:cNvSpPr txBox="1"/>
            <p:nvPr/>
          </p:nvSpPr>
          <p:spPr>
            <a:xfrm>
              <a:off x="777960" y="144468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3971880" y="146052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38320" y="2824200"/>
              <a:ext cx="0" cy="1746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30440" y="2825640"/>
              <a:ext cx="0" cy="1731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05000" y="2349360"/>
              <a:ext cx="2536920" cy="78732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2733840" y="1093680"/>
              <a:ext cx="0" cy="2130480"/>
              <a:chOff x="2733840" y="1093680"/>
              <a:chExt cx="0" cy="2130480"/>
            </a:xfrm>
          </p:grpSpPr>
          <p:sp>
            <p:nvSpPr>
              <p:cNvPr id="773" name=""/>
              <p:cNvSpPr/>
              <p:nvPr/>
            </p:nvSpPr>
            <p:spPr>
              <a:xfrm>
                <a:off x="2733840" y="1093680"/>
                <a:ext cx="0" cy="11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733840" y="22604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733840" y="243360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1571760" y="5699160"/>
            <a:ext cx="203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41520" y="5062680"/>
            <a:ext cx="0" cy="339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027240" y="5062680"/>
            <a:ext cx="0" cy="339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728800" y="4079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728800" y="44528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728800" y="462600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270160" y="45086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4800" y="45086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57680" y="45086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84080" y="3519360"/>
            <a:ext cx="3878280" cy="0"/>
            <a:chOff x="784080" y="3519360"/>
            <a:chExt cx="3878280" cy="0"/>
          </a:xfrm>
        </p:grpSpPr>
        <p:sp>
          <p:nvSpPr>
            <p:cNvPr id="789" name=""/>
            <p:cNvSpPr/>
            <p:nvPr/>
          </p:nvSpPr>
          <p:spPr>
            <a:xfrm>
              <a:off x="784080" y="3519360"/>
              <a:ext cx="1384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0364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576520" y="3519360"/>
              <a:ext cx="1364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1720" y="3519360"/>
              <a:ext cx="17906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"/>
          <p:cNvSpPr txBox="1"/>
          <p:nvPr/>
        </p:nvSpPr>
        <p:spPr>
          <a:xfrm>
            <a:off x="4570560" y="3652920"/>
            <a:ext cx="41940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 the 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dden lines to object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front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777960" y="1093680"/>
            <a:ext cx="3598560" cy="2130480"/>
            <a:chOff x="777960" y="1093680"/>
            <a:chExt cx="3598560" cy="2130480"/>
          </a:xfrm>
        </p:grpSpPr>
        <p:sp>
          <p:nvSpPr>
            <p:cNvPr id="795" name=""/>
            <p:cNvSpPr/>
            <p:nvPr/>
          </p:nvSpPr>
          <p:spPr>
            <a:xfrm>
              <a:off x="1442880" y="1365120"/>
              <a:ext cx="2289240" cy="16336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52720" y="1844640"/>
              <a:ext cx="1373040" cy="979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30360" y="2013120"/>
              <a:ext cx="612720" cy="612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38320" y="136512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30440" y="136512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74840" y="2328840"/>
              <a:ext cx="339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79840" y="2328840"/>
              <a:ext cx="112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62360" y="2328840"/>
              <a:ext cx="271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912960" y="1892160"/>
              <a:ext cx="3319560" cy="439920"/>
              <a:chOff x="912960" y="1892160"/>
              <a:chExt cx="3319560" cy="439920"/>
            </a:xfrm>
          </p:grpSpPr>
          <p:sp>
            <p:nvSpPr>
              <p:cNvPr id="804" name=""/>
              <p:cNvSpPr/>
              <p:nvPr/>
            </p:nvSpPr>
            <p:spPr>
              <a:xfrm>
                <a:off x="1006560" y="2332080"/>
                <a:ext cx="138420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00200" y="2332080"/>
                <a:ext cx="13680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836800" y="2332080"/>
                <a:ext cx="1364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094200" y="2332080"/>
                <a:ext cx="10699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4164120" y="2149560"/>
                <a:ext cx="0" cy="180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988920" y="2171880"/>
                <a:ext cx="0" cy="15840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095720" y="1898640"/>
                <a:ext cx="136800" cy="295560"/>
              </a:xfrm>
              <a:custGeom>
                <a:avLst/>
                <a:gdLst/>
                <a:ahLst/>
                <a:rect l="0" t="0" r="r" b="b"/>
                <a:pathLst>
                  <a:path w="380" h="821">
                    <a:moveTo>
                      <a:pt x="0" y="821"/>
                    </a:moveTo>
                    <a:lnTo>
                      <a:pt x="380" y="821"/>
                    </a:lnTo>
                    <a:lnTo>
                      <a:pt x="189" y="0"/>
                    </a:lnTo>
                    <a:lnTo>
                      <a:pt x="0" y="821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12960" y="1892160"/>
                <a:ext cx="136800" cy="295560"/>
              </a:xfrm>
              <a:custGeom>
                <a:avLst/>
                <a:gdLst/>
                <a:ahLst/>
                <a:rect l="0" t="0" r="r" b="b"/>
                <a:pathLst>
                  <a:path w="380" h="821">
                    <a:moveTo>
                      <a:pt x="0" y="821"/>
                    </a:moveTo>
                    <a:lnTo>
                      <a:pt x="380" y="821"/>
                    </a:lnTo>
                    <a:lnTo>
                      <a:pt x="189" y="0"/>
                    </a:lnTo>
                    <a:lnTo>
                      <a:pt x="0" y="821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 txBox="1"/>
            <p:nvPr/>
          </p:nvSpPr>
          <p:spPr>
            <a:xfrm>
              <a:off x="777960" y="144468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 txBox="1"/>
            <p:nvPr/>
          </p:nvSpPr>
          <p:spPr>
            <a:xfrm>
              <a:off x="3971880" y="146052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38320" y="2824200"/>
              <a:ext cx="0" cy="17460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30440" y="2825640"/>
              <a:ext cx="0" cy="1731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05000" y="2349360"/>
              <a:ext cx="2536920" cy="78732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2733840" y="1093680"/>
              <a:ext cx="0" cy="2130480"/>
              <a:chOff x="2733840" y="1093680"/>
              <a:chExt cx="0" cy="2130480"/>
            </a:xfrm>
          </p:grpSpPr>
          <p:sp>
            <p:nvSpPr>
              <p:cNvPr id="818" name=""/>
              <p:cNvSpPr/>
              <p:nvPr/>
            </p:nvSpPr>
            <p:spPr>
              <a:xfrm>
                <a:off x="2733840" y="1093680"/>
                <a:ext cx="0" cy="11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733840" y="22604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733840" y="243360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41520" y="5062680"/>
            <a:ext cx="0" cy="339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027240" y="5062680"/>
            <a:ext cx="0" cy="339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679840" y="23162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728800" y="4079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728800" y="44528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28800" y="462600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270160" y="45086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674800" y="45086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857680" y="45086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912960" y="1879560"/>
            <a:ext cx="3319560" cy="439920"/>
            <a:chOff x="912960" y="1879560"/>
            <a:chExt cx="3319560" cy="439920"/>
          </a:xfrm>
        </p:grpSpPr>
        <p:sp>
          <p:nvSpPr>
            <p:cNvPr id="842" name=""/>
            <p:cNvSpPr/>
            <p:nvPr/>
          </p:nvSpPr>
          <p:spPr>
            <a:xfrm>
              <a:off x="1006560" y="2319480"/>
              <a:ext cx="1384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500200" y="2319480"/>
              <a:ext cx="136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836800" y="2319480"/>
              <a:ext cx="1364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94200" y="2319480"/>
              <a:ext cx="1069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164120" y="2136600"/>
              <a:ext cx="0" cy="1810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988920" y="2158920"/>
              <a:ext cx="0" cy="1587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95720" y="18860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912960" y="18795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 txBox="1"/>
          <p:nvPr/>
        </p:nvSpPr>
        <p:spPr>
          <a:xfrm>
            <a:off x="777960" y="14446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71880" y="14605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571760" y="5699160"/>
            <a:ext cx="203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5205240" y="2744640"/>
            <a:ext cx="38480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section lines (cross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tching) to the fro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"/>
          <p:cNvGrpSpPr/>
          <p:nvPr/>
        </p:nvGrpSpPr>
        <p:grpSpPr>
          <a:xfrm>
            <a:off x="912960" y="1879560"/>
            <a:ext cx="3319560" cy="439920"/>
            <a:chOff x="912960" y="1879560"/>
            <a:chExt cx="3319560" cy="439920"/>
          </a:xfrm>
        </p:grpSpPr>
        <p:sp>
          <p:nvSpPr>
            <p:cNvPr id="857" name=""/>
            <p:cNvSpPr/>
            <p:nvPr/>
          </p:nvSpPr>
          <p:spPr>
            <a:xfrm>
              <a:off x="1006560" y="2319480"/>
              <a:ext cx="1384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00200" y="2319480"/>
              <a:ext cx="136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36800" y="2319480"/>
              <a:ext cx="1364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94200" y="2319480"/>
              <a:ext cx="1069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4164120" y="2136600"/>
              <a:ext cx="0" cy="1810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988920" y="2158920"/>
              <a:ext cx="0" cy="1587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95720" y="18860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912960" y="18795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"/>
          <p:cNvSpPr txBox="1"/>
          <p:nvPr/>
        </p:nvSpPr>
        <p:spPr>
          <a:xfrm>
            <a:off x="777960" y="14446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971880" y="14605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571760" y="5699160"/>
            <a:ext cx="203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679840" y="23162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44152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2724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728800" y="4079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728800" y="44528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728800" y="462600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270160" y="45086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74800" y="45086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857680" y="45086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447920" y="397656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1452600" y="3976560"/>
            <a:ext cx="452520" cy="45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452600" y="413388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1457280" y="443376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452600" y="4738680"/>
            <a:ext cx="604800" cy="60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700280" y="5048280"/>
            <a:ext cx="35244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2009880" y="5072040"/>
            <a:ext cx="32364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2314440" y="5272200"/>
            <a:ext cx="123840" cy="12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09920" y="397656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409920" y="428148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414600" y="4591080"/>
            <a:ext cx="319320" cy="3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3233880" y="4896000"/>
            <a:ext cx="495000" cy="49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3529080" y="5195880"/>
            <a:ext cx="204840" cy="20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029040" y="506736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5205240" y="2744640"/>
            <a:ext cx="38480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section lines (cross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tching) to the fro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"/>
          <p:cNvGrpSpPr/>
          <p:nvPr/>
        </p:nvGrpSpPr>
        <p:grpSpPr>
          <a:xfrm>
            <a:off x="912960" y="1879560"/>
            <a:ext cx="3319560" cy="439920"/>
            <a:chOff x="912960" y="1879560"/>
            <a:chExt cx="3319560" cy="439920"/>
          </a:xfrm>
        </p:grpSpPr>
        <p:sp>
          <p:nvSpPr>
            <p:cNvPr id="906" name=""/>
            <p:cNvSpPr/>
            <p:nvPr/>
          </p:nvSpPr>
          <p:spPr>
            <a:xfrm>
              <a:off x="1006560" y="2319480"/>
              <a:ext cx="1384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00200" y="2319480"/>
              <a:ext cx="136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36800" y="2319480"/>
              <a:ext cx="1364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94200" y="2319480"/>
              <a:ext cx="1069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4164120" y="2136600"/>
              <a:ext cx="0" cy="1810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988920" y="2158920"/>
              <a:ext cx="0" cy="1587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095720" y="18860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12960" y="18795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"/>
          <p:cNvSpPr txBox="1"/>
          <p:nvPr/>
        </p:nvSpPr>
        <p:spPr>
          <a:xfrm>
            <a:off x="777960" y="14446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971880" y="14605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679840" y="23162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525920" y="4876920"/>
            <a:ext cx="3532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el the section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44152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02724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28800" y="4079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28800" y="44528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728800" y="462600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270160" y="45086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674800" y="45086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857680" y="45086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1447920" y="397656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452600" y="3976560"/>
            <a:ext cx="452520" cy="45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1452600" y="413388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457280" y="443376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1452600" y="4738680"/>
            <a:ext cx="604800" cy="60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1700280" y="5048280"/>
            <a:ext cx="35244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2009880" y="5072040"/>
            <a:ext cx="32364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314440" y="5272200"/>
            <a:ext cx="123840" cy="12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409920" y="397656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3409920" y="428148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3414600" y="4591080"/>
            <a:ext cx="319320" cy="3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3233880" y="4896000"/>
            <a:ext cx="495000" cy="49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3529080" y="5195880"/>
            <a:ext cx="204840" cy="20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029040" y="506736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"/>
          <p:cNvGrpSpPr/>
          <p:nvPr/>
        </p:nvGrpSpPr>
        <p:grpSpPr>
          <a:xfrm>
            <a:off x="912960" y="1879560"/>
            <a:ext cx="3319560" cy="439920"/>
            <a:chOff x="912960" y="1879560"/>
            <a:chExt cx="3319560" cy="439920"/>
          </a:xfrm>
        </p:grpSpPr>
        <p:sp>
          <p:nvSpPr>
            <p:cNvPr id="954" name=""/>
            <p:cNvSpPr/>
            <p:nvPr/>
          </p:nvSpPr>
          <p:spPr>
            <a:xfrm>
              <a:off x="1006560" y="2319480"/>
              <a:ext cx="13842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00200" y="2319480"/>
              <a:ext cx="136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836800" y="2319480"/>
              <a:ext cx="1364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094200" y="2319480"/>
              <a:ext cx="1069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164120" y="2136600"/>
              <a:ext cx="0" cy="1810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988920" y="2158920"/>
              <a:ext cx="0" cy="1587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95720" y="18860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12960" y="18795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 txBox="1"/>
          <p:nvPr/>
        </p:nvSpPr>
        <p:spPr>
          <a:xfrm>
            <a:off x="777960" y="14446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971880" y="14605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1571760" y="5699160"/>
            <a:ext cx="2039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-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679840" y="23162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525920" y="4876920"/>
            <a:ext cx="3532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el the section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44152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02724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728800" y="4079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728800" y="44528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728800" y="462600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270160" y="45086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674800" y="45086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57680" y="45086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1447920" y="397656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452600" y="3976560"/>
            <a:ext cx="452520" cy="45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452600" y="413388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1457280" y="443376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1452600" y="4738680"/>
            <a:ext cx="604800" cy="60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700280" y="5048280"/>
            <a:ext cx="35244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2009880" y="5072040"/>
            <a:ext cx="32364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2314440" y="5272200"/>
            <a:ext cx="123840" cy="12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409920" y="397656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3409920" y="428148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3414600" y="4591080"/>
            <a:ext cx="319320" cy="3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233880" y="4896000"/>
            <a:ext cx="495000" cy="49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3529080" y="5195880"/>
            <a:ext cx="204840" cy="20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3029040" y="506736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912960" y="1879560"/>
            <a:ext cx="3319560" cy="439920"/>
            <a:chOff x="912960" y="1879560"/>
            <a:chExt cx="3319560" cy="439920"/>
          </a:xfrm>
        </p:grpSpPr>
        <p:sp>
          <p:nvSpPr>
            <p:cNvPr id="1003" name=""/>
            <p:cNvSpPr/>
            <p:nvPr/>
          </p:nvSpPr>
          <p:spPr>
            <a:xfrm>
              <a:off x="1006560" y="2319480"/>
              <a:ext cx="1384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00200" y="2319480"/>
              <a:ext cx="136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36800" y="231948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94200" y="2319480"/>
              <a:ext cx="10699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4164120" y="2136600"/>
              <a:ext cx="0" cy="181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988920" y="2158920"/>
              <a:ext cx="0" cy="158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95720" y="18860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12960" y="18795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679840" y="23162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777960" y="14446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971880" y="14605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1571760" y="5699160"/>
            <a:ext cx="2039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-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44152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02724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728800" y="4079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728800" y="44528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728800" y="462600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270160" y="45086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674800" y="45086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857680" y="45086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1447920" y="397656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1452600" y="3976560"/>
            <a:ext cx="452520" cy="45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1452600" y="413388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457280" y="443376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452600" y="4738680"/>
            <a:ext cx="604800" cy="60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1700280" y="5048280"/>
            <a:ext cx="35244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2009880" y="5072040"/>
            <a:ext cx="32364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2314440" y="5272200"/>
            <a:ext cx="123840" cy="12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3409920" y="397656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3409920" y="428148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3414600" y="4591080"/>
            <a:ext cx="319320" cy="3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3233880" y="4896000"/>
            <a:ext cx="495000" cy="49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529080" y="5195880"/>
            <a:ext cx="204840" cy="20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3029040" y="506736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"/>
          <p:cNvGrpSpPr/>
          <p:nvPr/>
        </p:nvGrpSpPr>
        <p:grpSpPr>
          <a:xfrm>
            <a:off x="912960" y="1879560"/>
            <a:ext cx="3319560" cy="439920"/>
            <a:chOff x="912960" y="1879560"/>
            <a:chExt cx="3319560" cy="439920"/>
          </a:xfrm>
        </p:grpSpPr>
        <p:sp>
          <p:nvSpPr>
            <p:cNvPr id="1051" name=""/>
            <p:cNvSpPr/>
            <p:nvPr/>
          </p:nvSpPr>
          <p:spPr>
            <a:xfrm>
              <a:off x="1006560" y="2319480"/>
              <a:ext cx="1384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500200" y="2319480"/>
              <a:ext cx="136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36800" y="2319480"/>
              <a:ext cx="136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94200" y="2319480"/>
              <a:ext cx="10699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164120" y="2136600"/>
              <a:ext cx="0" cy="181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988920" y="2158920"/>
              <a:ext cx="0" cy="158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95720" y="188604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12960" y="1879560"/>
              <a:ext cx="136800" cy="295560"/>
            </a:xfrm>
            <a:custGeom>
              <a:avLst/>
              <a:gdLst/>
              <a:ahLst/>
              <a:rect l="0" t="0" r="r" b="b"/>
              <a:pathLst>
                <a:path w="380" h="821">
                  <a:moveTo>
                    <a:pt x="0" y="821"/>
                  </a:moveTo>
                  <a:lnTo>
                    <a:pt x="380" y="821"/>
                  </a:lnTo>
                  <a:lnTo>
                    <a:pt x="189" y="0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679840" y="23162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777960" y="14446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971880" y="14605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1571760" y="5699160"/>
            <a:ext cx="2039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-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0560" y="1521000"/>
            <a:ext cx="42642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f the origin of the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is obvious, the cu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e is neither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r considered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44152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02724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728800" y="4079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728800" y="44528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728800" y="462600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270160" y="45086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674800" y="45086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857680" y="45086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1447920" y="397656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1452600" y="3976560"/>
            <a:ext cx="452520" cy="45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452600" y="413388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457280" y="443376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1452600" y="4738680"/>
            <a:ext cx="604800" cy="60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1700280" y="5048280"/>
            <a:ext cx="35244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009880" y="5072040"/>
            <a:ext cx="32364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2314440" y="5272200"/>
            <a:ext cx="123840" cy="12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3409920" y="397656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409920" y="428148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3414600" y="4591080"/>
            <a:ext cx="319320" cy="3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3233880" y="4896000"/>
            <a:ext cx="495000" cy="49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3529080" y="5195880"/>
            <a:ext cx="204840" cy="20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3029040" y="506736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1442880" y="1365120"/>
            <a:ext cx="2289240" cy="16336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052720" y="1844640"/>
            <a:ext cx="1373040" cy="979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430360" y="2013120"/>
            <a:ext cx="612720" cy="61272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93832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530440" y="136512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733840" y="10936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733840" y="22604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733840" y="243360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79840" y="23162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0560" y="1521000"/>
            <a:ext cx="42642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f the origin of the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is obvious, the cu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e is neither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r considered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442880" y="3973680"/>
            <a:ext cx="2289240" cy="1428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054160" y="3976560"/>
            <a:ext cx="1360440" cy="10875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523960" y="4308480"/>
            <a:ext cx="407880" cy="407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44152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027240" y="507204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728800" y="4079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28800" y="445284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728800" y="462600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270160" y="450864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674800" y="4508640"/>
            <a:ext cx="112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857680" y="450864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447920" y="397656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452600" y="3976560"/>
            <a:ext cx="452520" cy="45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452600" y="413388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1457280" y="4433760"/>
            <a:ext cx="600120" cy="60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1452600" y="4738680"/>
            <a:ext cx="604800" cy="60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1700280" y="5048280"/>
            <a:ext cx="35244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2009880" y="5072040"/>
            <a:ext cx="32364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2314440" y="5272200"/>
            <a:ext cx="123840" cy="12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409920" y="397656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3409920" y="4281480"/>
            <a:ext cx="32400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3414600" y="4591080"/>
            <a:ext cx="319320" cy="3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233880" y="4896000"/>
            <a:ext cx="495000" cy="49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529080" y="5195880"/>
            <a:ext cx="204840" cy="20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3029040" y="506736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938320" y="2824200"/>
            <a:ext cx="0" cy="17460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530440" y="2825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3124080"/>
            <a:ext cx="777240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ING </a:t>
            </a: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Sectioning Conven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48000" y="1019160"/>
            <a:ext cx="1994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Unit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85800" y="228744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44600" y="19810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sections are section views resulting from cutting planes being positioned so that only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of the resulting section view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jection) is shown in s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sections are generally used on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s of symmetry, individual cylindrical parts, or assemblies of par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sections depict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al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rn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figuration in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same vie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ost instances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 do not require a cutting plan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the resulting section view makes obvious the orig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ecessary to show the cutting plane, it has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y one arrowhea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dicating the line of s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"/>
          <p:cNvGrpSpPr/>
          <p:nvPr/>
        </p:nvGrpSpPr>
        <p:grpSpPr>
          <a:xfrm>
            <a:off x="663480" y="2409840"/>
            <a:ext cx="7997760" cy="3695760"/>
            <a:chOff x="663480" y="2409840"/>
            <a:chExt cx="7997760" cy="3695760"/>
          </a:xfrm>
        </p:grpSpPr>
        <p:sp>
          <p:nvSpPr>
            <p:cNvPr id="1143" name=""/>
            <p:cNvSpPr/>
            <p:nvPr/>
          </p:nvSpPr>
          <p:spPr>
            <a:xfrm>
              <a:off x="1670040" y="3382920"/>
              <a:ext cx="1882800" cy="1882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01880" y="3637080"/>
              <a:ext cx="1413000" cy="141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27080" y="2749680"/>
              <a:ext cx="3152880" cy="315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63480" y="4346640"/>
              <a:ext cx="174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44840" y="434664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71640" y="4346640"/>
              <a:ext cx="16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2622600" y="2409840"/>
              <a:ext cx="0" cy="3695760"/>
              <a:chOff x="2622600" y="2409840"/>
              <a:chExt cx="0" cy="3695760"/>
            </a:xfrm>
          </p:grpSpPr>
          <p:sp>
            <p:nvSpPr>
              <p:cNvPr id="1150" name=""/>
              <p:cNvSpPr/>
              <p:nvPr/>
            </p:nvSpPr>
            <p:spPr>
              <a:xfrm>
                <a:off x="2622600" y="2409840"/>
                <a:ext cx="0" cy="17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622600" y="42908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622600" y="4518000"/>
                <a:ext cx="0" cy="158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"/>
            <p:cNvSpPr/>
            <p:nvPr/>
          </p:nvSpPr>
          <p:spPr>
            <a:xfrm>
              <a:off x="7748640" y="27478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48640" y="59230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066160" y="2747880"/>
              <a:ext cx="0" cy="3175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748640" y="2747880"/>
              <a:ext cx="0" cy="1587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570640" y="3633840"/>
              <a:ext cx="0" cy="1404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5570640" y="3382920"/>
              <a:ext cx="2178000" cy="25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43480" y="4341960"/>
              <a:ext cx="136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46840" y="434196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074000" y="434196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48640" y="435924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570640" y="5038560"/>
              <a:ext cx="2178000" cy="22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"/>
          <p:cNvGrpSpPr/>
          <p:nvPr/>
        </p:nvGrpSpPr>
        <p:grpSpPr>
          <a:xfrm>
            <a:off x="663480" y="2409840"/>
            <a:ext cx="7997760" cy="3695760"/>
            <a:chOff x="663480" y="2409840"/>
            <a:chExt cx="7997760" cy="3695760"/>
          </a:xfrm>
        </p:grpSpPr>
        <p:sp>
          <p:nvSpPr>
            <p:cNvPr id="1166" name=""/>
            <p:cNvSpPr/>
            <p:nvPr/>
          </p:nvSpPr>
          <p:spPr>
            <a:xfrm>
              <a:off x="1670040" y="3382920"/>
              <a:ext cx="1882800" cy="1882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901880" y="3637080"/>
              <a:ext cx="1413000" cy="141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27080" y="2749680"/>
              <a:ext cx="3152880" cy="315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443320" y="288432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83160" y="417024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82600" y="418608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448000" y="542916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63480" y="4346640"/>
              <a:ext cx="174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44840" y="434664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771640" y="4346640"/>
              <a:ext cx="16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6" name=""/>
            <p:cNvGrpSpPr/>
            <p:nvPr/>
          </p:nvGrpSpPr>
          <p:grpSpPr>
            <a:xfrm>
              <a:off x="2622600" y="2409840"/>
              <a:ext cx="0" cy="3695760"/>
              <a:chOff x="2622600" y="2409840"/>
              <a:chExt cx="0" cy="3695760"/>
            </a:xfrm>
          </p:grpSpPr>
          <p:sp>
            <p:nvSpPr>
              <p:cNvPr id="1177" name=""/>
              <p:cNvSpPr/>
              <p:nvPr/>
            </p:nvSpPr>
            <p:spPr>
              <a:xfrm>
                <a:off x="2622600" y="2409840"/>
                <a:ext cx="0" cy="17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22600" y="42908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22600" y="4518000"/>
                <a:ext cx="0" cy="158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0" name=""/>
            <p:cNvSpPr/>
            <p:nvPr/>
          </p:nvSpPr>
          <p:spPr>
            <a:xfrm>
              <a:off x="7748640" y="27478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748640" y="59230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066160" y="2747880"/>
              <a:ext cx="0" cy="3175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748640" y="2747880"/>
              <a:ext cx="0" cy="1587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570640" y="3633840"/>
              <a:ext cx="0" cy="1404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5570640" y="3382920"/>
              <a:ext cx="2178000" cy="25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343480" y="4341960"/>
              <a:ext cx="136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46840" y="434196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074000" y="434196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48640" y="435924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570640" y="5038560"/>
              <a:ext cx="2178000" cy="22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48640" y="2884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748640" y="3224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7556400" y="3048120"/>
              <a:ext cx="666720" cy="1440"/>
              <a:chOff x="7556400" y="3048120"/>
              <a:chExt cx="666720" cy="1440"/>
            </a:xfrm>
          </p:grpSpPr>
          <p:sp>
            <p:nvSpPr>
              <p:cNvPr id="1194" name=""/>
              <p:cNvSpPr/>
              <p:nvPr/>
            </p:nvSpPr>
            <p:spPr>
              <a:xfrm>
                <a:off x="7556400" y="304956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861320" y="304812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972560" y="3048120"/>
                <a:ext cx="250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7743960" y="5440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743960" y="5780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7551720" y="5626080"/>
              <a:ext cx="666720" cy="1440"/>
              <a:chOff x="7551720" y="5626080"/>
              <a:chExt cx="666720" cy="1440"/>
            </a:xfrm>
          </p:grpSpPr>
          <p:sp>
            <p:nvSpPr>
              <p:cNvPr id="1200" name=""/>
              <p:cNvSpPr/>
              <p:nvPr/>
            </p:nvSpPr>
            <p:spPr>
              <a:xfrm>
                <a:off x="7551720" y="562752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856640" y="562608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967520" y="562608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"/>
          <p:cNvGrpSpPr/>
          <p:nvPr/>
        </p:nvGrpSpPr>
        <p:grpSpPr>
          <a:xfrm>
            <a:off x="663480" y="2409840"/>
            <a:ext cx="7997760" cy="3695760"/>
            <a:chOff x="663480" y="2409840"/>
            <a:chExt cx="7997760" cy="3695760"/>
          </a:xfrm>
        </p:grpSpPr>
        <p:sp>
          <p:nvSpPr>
            <p:cNvPr id="1205" name=""/>
            <p:cNvSpPr/>
            <p:nvPr/>
          </p:nvSpPr>
          <p:spPr>
            <a:xfrm>
              <a:off x="1670040" y="3382920"/>
              <a:ext cx="1882800" cy="1882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901880" y="3637080"/>
              <a:ext cx="1413000" cy="141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027080" y="2749680"/>
              <a:ext cx="3152880" cy="315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57560" y="3975120"/>
              <a:ext cx="725400" cy="725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443320" y="288432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683160" y="417024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182600" y="418608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48000" y="542916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63480" y="4346640"/>
              <a:ext cx="174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544840" y="434664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71640" y="4346640"/>
              <a:ext cx="16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2622600" y="2409840"/>
              <a:ext cx="0" cy="3695760"/>
              <a:chOff x="2622600" y="2409840"/>
              <a:chExt cx="0" cy="3695760"/>
            </a:xfrm>
          </p:grpSpPr>
          <p:sp>
            <p:nvSpPr>
              <p:cNvPr id="1217" name=""/>
              <p:cNvSpPr/>
              <p:nvPr/>
            </p:nvSpPr>
            <p:spPr>
              <a:xfrm>
                <a:off x="2622600" y="2409840"/>
                <a:ext cx="0" cy="17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622600" y="42908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622600" y="4518000"/>
                <a:ext cx="0" cy="158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7748640" y="27478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748640" y="59230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66160" y="2747880"/>
              <a:ext cx="0" cy="3175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48640" y="2747880"/>
              <a:ext cx="0" cy="1587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570640" y="3633840"/>
              <a:ext cx="0" cy="1404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5570640" y="3382920"/>
              <a:ext cx="2178000" cy="25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570640" y="3973680"/>
              <a:ext cx="27288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570640" y="4699080"/>
              <a:ext cx="27288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43480" y="4341960"/>
              <a:ext cx="136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846840" y="434196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74000" y="434196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48640" y="435924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70640" y="5038560"/>
              <a:ext cx="2178000" cy="22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910120" y="39736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10120" y="46990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748640" y="2884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48640" y="3224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7556400" y="3048120"/>
              <a:ext cx="666720" cy="1440"/>
              <a:chOff x="7556400" y="3048120"/>
              <a:chExt cx="666720" cy="1440"/>
            </a:xfrm>
          </p:grpSpPr>
          <p:sp>
            <p:nvSpPr>
              <p:cNvPr id="1238" name=""/>
              <p:cNvSpPr/>
              <p:nvPr/>
            </p:nvSpPr>
            <p:spPr>
              <a:xfrm>
                <a:off x="7556400" y="304956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861320" y="304812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972560" y="3048120"/>
                <a:ext cx="250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1" name=""/>
            <p:cNvSpPr/>
            <p:nvPr/>
          </p:nvSpPr>
          <p:spPr>
            <a:xfrm>
              <a:off x="7743960" y="5440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743960" y="5780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3" name=""/>
            <p:cNvGrpSpPr/>
            <p:nvPr/>
          </p:nvGrpSpPr>
          <p:grpSpPr>
            <a:xfrm>
              <a:off x="7551720" y="5626080"/>
              <a:ext cx="666720" cy="1440"/>
              <a:chOff x="7551720" y="5626080"/>
              <a:chExt cx="666720" cy="1440"/>
            </a:xfrm>
          </p:grpSpPr>
          <p:sp>
            <p:nvSpPr>
              <p:cNvPr id="1244" name=""/>
              <p:cNvSpPr/>
              <p:nvPr/>
            </p:nvSpPr>
            <p:spPr>
              <a:xfrm>
                <a:off x="7551720" y="562752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856640" y="562608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967520" y="562608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"/>
          <p:cNvGrpSpPr/>
          <p:nvPr/>
        </p:nvGrpSpPr>
        <p:grpSpPr>
          <a:xfrm>
            <a:off x="663480" y="2409840"/>
            <a:ext cx="7997760" cy="3695760"/>
            <a:chOff x="663480" y="2409840"/>
            <a:chExt cx="7997760" cy="3695760"/>
          </a:xfrm>
        </p:grpSpPr>
        <p:grpSp>
          <p:nvGrpSpPr>
            <p:cNvPr id="1249" name=""/>
            <p:cNvGrpSpPr/>
            <p:nvPr/>
          </p:nvGrpSpPr>
          <p:grpSpPr>
            <a:xfrm>
              <a:off x="663480" y="2409840"/>
              <a:ext cx="3727440" cy="3695760"/>
              <a:chOff x="663480" y="2409840"/>
              <a:chExt cx="3727440" cy="3695760"/>
            </a:xfrm>
          </p:grpSpPr>
          <p:sp>
            <p:nvSpPr>
              <p:cNvPr id="1250" name=""/>
              <p:cNvSpPr/>
              <p:nvPr/>
            </p:nvSpPr>
            <p:spPr>
              <a:xfrm>
                <a:off x="1670040" y="3382920"/>
                <a:ext cx="1882800" cy="188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901880" y="3637080"/>
                <a:ext cx="1413000" cy="1413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027080" y="2749680"/>
                <a:ext cx="3152880" cy="3152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163600" y="3881520"/>
                <a:ext cx="914400" cy="914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257560" y="3975120"/>
                <a:ext cx="725400" cy="72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443320" y="288432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683160" y="417024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182600" y="418608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448000" y="542916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63480" y="4346640"/>
                <a:ext cx="1746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544840" y="4346640"/>
                <a:ext cx="114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771640" y="4346640"/>
                <a:ext cx="1619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2" name=""/>
              <p:cNvGrpSpPr/>
              <p:nvPr/>
            </p:nvGrpSpPr>
            <p:grpSpPr>
              <a:xfrm>
                <a:off x="2622600" y="2409840"/>
                <a:ext cx="0" cy="3695760"/>
                <a:chOff x="2622600" y="2409840"/>
                <a:chExt cx="0" cy="369576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2622600" y="2409840"/>
                  <a:ext cx="0" cy="174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622600" y="4290840"/>
                  <a:ext cx="0" cy="114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622600" y="4518000"/>
                  <a:ext cx="0" cy="1587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6" name=""/>
            <p:cNvSpPr/>
            <p:nvPr/>
          </p:nvSpPr>
          <p:spPr>
            <a:xfrm>
              <a:off x="7748640" y="27478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748640" y="59230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066160" y="2747880"/>
              <a:ext cx="0" cy="3175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48640" y="2747880"/>
              <a:ext cx="0" cy="635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570640" y="3633840"/>
              <a:ext cx="0" cy="1404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5570640" y="3382920"/>
              <a:ext cx="2178000" cy="25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570640" y="397368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70640" y="4699080"/>
              <a:ext cx="27288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343480" y="4341960"/>
              <a:ext cx="136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846840" y="434196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74000" y="434196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748640" y="3378240"/>
              <a:ext cx="0" cy="2544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570640" y="5038560"/>
              <a:ext cx="2178000" cy="22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18320" y="3859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29480" y="385920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99320" y="3859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5829480" y="483552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910120" y="39736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910120" y="46990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900760" y="4335480"/>
              <a:ext cx="0" cy="500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821200" y="4335480"/>
              <a:ext cx="0" cy="5014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748640" y="2884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748640" y="3224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7556400" y="3048120"/>
              <a:ext cx="666720" cy="1440"/>
              <a:chOff x="7556400" y="3048120"/>
              <a:chExt cx="666720" cy="1440"/>
            </a:xfrm>
          </p:grpSpPr>
          <p:sp>
            <p:nvSpPr>
              <p:cNvPr id="1290" name=""/>
              <p:cNvSpPr/>
              <p:nvPr/>
            </p:nvSpPr>
            <p:spPr>
              <a:xfrm>
                <a:off x="7556400" y="304956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861320" y="304812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972560" y="3048120"/>
                <a:ext cx="250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7743960" y="5440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743960" y="5780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5" name=""/>
            <p:cNvGrpSpPr/>
            <p:nvPr/>
          </p:nvGrpSpPr>
          <p:grpSpPr>
            <a:xfrm>
              <a:off x="7551720" y="5626080"/>
              <a:ext cx="666720" cy="1440"/>
              <a:chOff x="7551720" y="5626080"/>
              <a:chExt cx="666720" cy="1440"/>
            </a:xfrm>
          </p:grpSpPr>
          <p:sp>
            <p:nvSpPr>
              <p:cNvPr id="1296" name=""/>
              <p:cNvSpPr/>
              <p:nvPr/>
            </p:nvSpPr>
            <p:spPr>
              <a:xfrm>
                <a:off x="7551720" y="562752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856640" y="562608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967520" y="562608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0" name=""/>
          <p:cNvGrpSpPr/>
          <p:nvPr/>
        </p:nvGrpSpPr>
        <p:grpSpPr>
          <a:xfrm>
            <a:off x="663480" y="2409840"/>
            <a:ext cx="7997760" cy="3695760"/>
            <a:chOff x="663480" y="2409840"/>
            <a:chExt cx="7997760" cy="3695760"/>
          </a:xfrm>
        </p:grpSpPr>
        <p:grpSp>
          <p:nvGrpSpPr>
            <p:cNvPr id="1301" name=""/>
            <p:cNvGrpSpPr/>
            <p:nvPr/>
          </p:nvGrpSpPr>
          <p:grpSpPr>
            <a:xfrm>
              <a:off x="663480" y="2409840"/>
              <a:ext cx="3727440" cy="3695760"/>
              <a:chOff x="663480" y="2409840"/>
              <a:chExt cx="3727440" cy="3695760"/>
            </a:xfrm>
          </p:grpSpPr>
          <p:sp>
            <p:nvSpPr>
              <p:cNvPr id="1302" name=""/>
              <p:cNvSpPr/>
              <p:nvPr/>
            </p:nvSpPr>
            <p:spPr>
              <a:xfrm>
                <a:off x="1670040" y="3382920"/>
                <a:ext cx="1882800" cy="188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901880" y="3637080"/>
                <a:ext cx="1413000" cy="1413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027080" y="2749680"/>
                <a:ext cx="3152880" cy="3152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163600" y="3881520"/>
                <a:ext cx="914400" cy="914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257560" y="3975120"/>
                <a:ext cx="725400" cy="72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443320" y="288432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683160" y="417024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82600" y="418608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448000" y="542916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63480" y="4346640"/>
                <a:ext cx="1746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544840" y="4346640"/>
                <a:ext cx="114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771640" y="4346640"/>
                <a:ext cx="1619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4" name=""/>
              <p:cNvGrpSpPr/>
              <p:nvPr/>
            </p:nvGrpSpPr>
            <p:grpSpPr>
              <a:xfrm>
                <a:off x="2622600" y="2409840"/>
                <a:ext cx="0" cy="3695760"/>
                <a:chOff x="2622600" y="2409840"/>
                <a:chExt cx="0" cy="369576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2622600" y="2409840"/>
                  <a:ext cx="0" cy="174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622600" y="4290840"/>
                  <a:ext cx="0" cy="114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622600" y="4518000"/>
                  <a:ext cx="0" cy="1587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8" name=""/>
            <p:cNvSpPr/>
            <p:nvPr/>
          </p:nvSpPr>
          <p:spPr>
            <a:xfrm>
              <a:off x="7748640" y="27478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48640" y="59230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066160" y="2747880"/>
              <a:ext cx="0" cy="3175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748640" y="2747880"/>
              <a:ext cx="0" cy="635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570640" y="3633840"/>
              <a:ext cx="0" cy="1404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5570640" y="3382920"/>
              <a:ext cx="2178000" cy="25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570640" y="397368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70640" y="4699080"/>
              <a:ext cx="27288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343480" y="4341960"/>
              <a:ext cx="136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46840" y="434196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074000" y="434196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48640" y="3378240"/>
              <a:ext cx="0" cy="2544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70640" y="5038560"/>
              <a:ext cx="2178000" cy="22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818320" y="3859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829480" y="385920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899320" y="3859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5829480" y="483552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10120" y="39736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910120" y="46990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900760" y="4335480"/>
              <a:ext cx="0" cy="500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821200" y="4335480"/>
              <a:ext cx="0" cy="5014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748640" y="2884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748640" y="3224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1" name=""/>
            <p:cNvGrpSpPr/>
            <p:nvPr/>
          </p:nvGrpSpPr>
          <p:grpSpPr>
            <a:xfrm>
              <a:off x="7556400" y="3048120"/>
              <a:ext cx="666720" cy="1440"/>
              <a:chOff x="7556400" y="3048120"/>
              <a:chExt cx="666720" cy="1440"/>
            </a:xfrm>
          </p:grpSpPr>
          <p:sp>
            <p:nvSpPr>
              <p:cNvPr id="1342" name=""/>
              <p:cNvSpPr/>
              <p:nvPr/>
            </p:nvSpPr>
            <p:spPr>
              <a:xfrm>
                <a:off x="7556400" y="304956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861320" y="304812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972560" y="3048120"/>
                <a:ext cx="250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5" name=""/>
            <p:cNvSpPr/>
            <p:nvPr/>
          </p:nvSpPr>
          <p:spPr>
            <a:xfrm>
              <a:off x="7743960" y="5440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743960" y="5780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7551720" y="5626080"/>
              <a:ext cx="666720" cy="1440"/>
              <a:chOff x="7551720" y="5626080"/>
              <a:chExt cx="666720" cy="1440"/>
            </a:xfrm>
          </p:grpSpPr>
          <p:sp>
            <p:nvSpPr>
              <p:cNvPr id="1348" name=""/>
              <p:cNvSpPr/>
              <p:nvPr/>
            </p:nvSpPr>
            <p:spPr>
              <a:xfrm>
                <a:off x="7551720" y="562752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856640" y="562608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967520" y="562608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4446720" y="1792440"/>
            <a:ext cx="4248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purpose of this example, a cu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e will be inserted to illustrate 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"/>
          <p:cNvGrpSpPr/>
          <p:nvPr/>
        </p:nvGrpSpPr>
        <p:grpSpPr>
          <a:xfrm>
            <a:off x="663480" y="2409840"/>
            <a:ext cx="7997760" cy="3695760"/>
            <a:chOff x="663480" y="2409840"/>
            <a:chExt cx="7997760" cy="3695760"/>
          </a:xfrm>
        </p:grpSpPr>
        <p:grpSp>
          <p:nvGrpSpPr>
            <p:cNvPr id="1354" name=""/>
            <p:cNvGrpSpPr/>
            <p:nvPr/>
          </p:nvGrpSpPr>
          <p:grpSpPr>
            <a:xfrm>
              <a:off x="663480" y="2409840"/>
              <a:ext cx="3727440" cy="3695760"/>
              <a:chOff x="663480" y="2409840"/>
              <a:chExt cx="3727440" cy="3695760"/>
            </a:xfrm>
          </p:grpSpPr>
          <p:sp>
            <p:nvSpPr>
              <p:cNvPr id="1355" name=""/>
              <p:cNvSpPr/>
              <p:nvPr/>
            </p:nvSpPr>
            <p:spPr>
              <a:xfrm>
                <a:off x="1670040" y="3382920"/>
                <a:ext cx="1882800" cy="188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901880" y="3637080"/>
                <a:ext cx="1413000" cy="1413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027080" y="2749680"/>
                <a:ext cx="3152880" cy="3152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163600" y="3881520"/>
                <a:ext cx="914400" cy="914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257560" y="3975120"/>
                <a:ext cx="725400" cy="72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443320" y="288432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683160" y="417024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182600" y="418608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48000" y="542916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3480" y="4346640"/>
                <a:ext cx="1746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544840" y="4346640"/>
                <a:ext cx="114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771640" y="4346640"/>
                <a:ext cx="1619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7" name=""/>
              <p:cNvGrpSpPr/>
              <p:nvPr/>
            </p:nvGrpSpPr>
            <p:grpSpPr>
              <a:xfrm>
                <a:off x="2622600" y="2409840"/>
                <a:ext cx="0" cy="3695760"/>
                <a:chOff x="2622600" y="2409840"/>
                <a:chExt cx="0" cy="369576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2622600" y="2409840"/>
                  <a:ext cx="0" cy="174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622600" y="4290840"/>
                  <a:ext cx="0" cy="114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622600" y="4518000"/>
                  <a:ext cx="0" cy="1587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1" name=""/>
            <p:cNvSpPr/>
            <p:nvPr/>
          </p:nvSpPr>
          <p:spPr>
            <a:xfrm>
              <a:off x="7748640" y="27478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748640" y="59230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066160" y="2747880"/>
              <a:ext cx="0" cy="3175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748640" y="2747880"/>
              <a:ext cx="0" cy="635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570640" y="3633840"/>
              <a:ext cx="0" cy="1404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5570640" y="3382920"/>
              <a:ext cx="2178000" cy="25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70640" y="397368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570640" y="4699080"/>
              <a:ext cx="27288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343480" y="4341960"/>
              <a:ext cx="136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846840" y="434196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74000" y="434196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748640" y="3378240"/>
              <a:ext cx="0" cy="2544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70640" y="5038560"/>
              <a:ext cx="2178000" cy="22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818320" y="3859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829480" y="385920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99320" y="3859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5829480" y="483552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910120" y="39736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910120" y="46990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900760" y="4335480"/>
              <a:ext cx="0" cy="500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821200" y="4335480"/>
              <a:ext cx="0" cy="5014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748640" y="2884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48640" y="3224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4" name=""/>
            <p:cNvGrpSpPr/>
            <p:nvPr/>
          </p:nvGrpSpPr>
          <p:grpSpPr>
            <a:xfrm>
              <a:off x="7556400" y="3048120"/>
              <a:ext cx="666720" cy="1440"/>
              <a:chOff x="7556400" y="3048120"/>
              <a:chExt cx="666720" cy="1440"/>
            </a:xfrm>
          </p:grpSpPr>
          <p:sp>
            <p:nvSpPr>
              <p:cNvPr id="1395" name=""/>
              <p:cNvSpPr/>
              <p:nvPr/>
            </p:nvSpPr>
            <p:spPr>
              <a:xfrm>
                <a:off x="7556400" y="304956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861320" y="304812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72560" y="3048120"/>
                <a:ext cx="250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7743960" y="5440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43960" y="5780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0" name=""/>
            <p:cNvGrpSpPr/>
            <p:nvPr/>
          </p:nvGrpSpPr>
          <p:grpSpPr>
            <a:xfrm>
              <a:off x="7551720" y="5626080"/>
              <a:ext cx="666720" cy="1440"/>
              <a:chOff x="7551720" y="5626080"/>
              <a:chExt cx="666720" cy="1440"/>
            </a:xfrm>
          </p:grpSpPr>
          <p:sp>
            <p:nvSpPr>
              <p:cNvPr id="1401" name=""/>
              <p:cNvSpPr/>
              <p:nvPr/>
            </p:nvSpPr>
            <p:spPr>
              <a:xfrm>
                <a:off x="7551720" y="562752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856640" y="562608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967520" y="562608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2139840" y="2262240"/>
            <a:ext cx="2416320" cy="2111400"/>
            <a:chOff x="2139840" y="2262240"/>
            <a:chExt cx="2416320" cy="2111400"/>
          </a:xfrm>
        </p:grpSpPr>
        <p:sp>
          <p:nvSpPr>
            <p:cNvPr id="1406" name=""/>
            <p:cNvSpPr/>
            <p:nvPr/>
          </p:nvSpPr>
          <p:spPr>
            <a:xfrm>
              <a:off x="2438280" y="233856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20800" y="23385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620800" y="4157640"/>
              <a:ext cx="0" cy="2160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620800" y="435132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30992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39840" y="2262240"/>
              <a:ext cx="313200" cy="144720"/>
            </a:xfrm>
            <a:custGeom>
              <a:avLst/>
              <a:gdLst/>
              <a:ahLst/>
              <a:rect l="0" t="0" r="r" b="b"/>
              <a:pathLst>
                <a:path w="870" h="402">
                  <a:moveTo>
                    <a:pt x="870" y="402"/>
                  </a:moveTo>
                  <a:lnTo>
                    <a:pt x="870" y="0"/>
                  </a:lnTo>
                  <a:lnTo>
                    <a:pt x="0" y="200"/>
                  </a:lnTo>
                  <a:lnTo>
                    <a:pt x="870" y="4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617920" y="26337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627280" y="2941560"/>
              <a:ext cx="0" cy="2145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624040" y="32497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20800" y="355608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17920" y="38545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911320" y="434808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240000" y="434664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71920" y="4343400"/>
              <a:ext cx="2458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92256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1" name=""/>
          <p:cNvSpPr txBox="1"/>
          <p:nvPr/>
        </p:nvSpPr>
        <p:spPr>
          <a:xfrm>
            <a:off x="4446720" y="1792440"/>
            <a:ext cx="4248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purpose of this example, a cu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e will be inserted to illustrate 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68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ing in Multiview Draw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30120" y="1344600"/>
            <a:ext cx="8663040" cy="42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Foreword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views are orthographically projected views that reveal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al configurati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structures and/or geometric par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result from orienting a theoretical ‘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utting plan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 so that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al geometr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displayed in the resulting projected view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(otherwise hidden) surfaces are constructed as though visible to the observ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2" name=""/>
          <p:cNvGrpSpPr/>
          <p:nvPr/>
        </p:nvGrpSpPr>
        <p:grpSpPr>
          <a:xfrm>
            <a:off x="663480" y="2409840"/>
            <a:ext cx="7997760" cy="3695760"/>
            <a:chOff x="663480" y="2409840"/>
            <a:chExt cx="7997760" cy="3695760"/>
          </a:xfrm>
        </p:grpSpPr>
        <p:grpSp>
          <p:nvGrpSpPr>
            <p:cNvPr id="1423" name=""/>
            <p:cNvGrpSpPr/>
            <p:nvPr/>
          </p:nvGrpSpPr>
          <p:grpSpPr>
            <a:xfrm>
              <a:off x="663480" y="2409840"/>
              <a:ext cx="3727440" cy="3695760"/>
              <a:chOff x="663480" y="2409840"/>
              <a:chExt cx="3727440" cy="3695760"/>
            </a:xfrm>
          </p:grpSpPr>
          <p:sp>
            <p:nvSpPr>
              <p:cNvPr id="1424" name=""/>
              <p:cNvSpPr/>
              <p:nvPr/>
            </p:nvSpPr>
            <p:spPr>
              <a:xfrm>
                <a:off x="1670040" y="3382920"/>
                <a:ext cx="1882800" cy="188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901880" y="3637080"/>
                <a:ext cx="1413000" cy="1413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027080" y="2749680"/>
                <a:ext cx="3152880" cy="3152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163600" y="3881520"/>
                <a:ext cx="914400" cy="914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257560" y="3975120"/>
                <a:ext cx="725400" cy="72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443320" y="288432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683160" y="417024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182600" y="418608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448000" y="542916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63480" y="4346640"/>
                <a:ext cx="1746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544840" y="4346640"/>
                <a:ext cx="114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771640" y="4346640"/>
                <a:ext cx="1619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36" name=""/>
              <p:cNvGrpSpPr/>
              <p:nvPr/>
            </p:nvGrpSpPr>
            <p:grpSpPr>
              <a:xfrm>
                <a:off x="2622600" y="2409840"/>
                <a:ext cx="0" cy="3695760"/>
                <a:chOff x="2622600" y="2409840"/>
                <a:chExt cx="0" cy="369576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2622600" y="2409840"/>
                  <a:ext cx="0" cy="174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622600" y="4290840"/>
                  <a:ext cx="0" cy="114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2622600" y="4518000"/>
                  <a:ext cx="0" cy="1587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0" name=""/>
            <p:cNvSpPr/>
            <p:nvPr/>
          </p:nvSpPr>
          <p:spPr>
            <a:xfrm>
              <a:off x="7748640" y="27478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748640" y="59230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066160" y="2747880"/>
              <a:ext cx="0" cy="3175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48640" y="2747880"/>
              <a:ext cx="0" cy="635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570640" y="3633840"/>
              <a:ext cx="0" cy="1404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5570640" y="3382920"/>
              <a:ext cx="2178000" cy="25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570640" y="397368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570640" y="4699080"/>
              <a:ext cx="27288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343480" y="4341960"/>
              <a:ext cx="136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846840" y="434196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74000" y="434196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48640" y="3378240"/>
              <a:ext cx="0" cy="2544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570640" y="5038560"/>
              <a:ext cx="2178000" cy="22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818320" y="3859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829480" y="385920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899320" y="3859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5829480" y="483552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10120" y="39736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910120" y="46990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900760" y="4335480"/>
              <a:ext cx="0" cy="500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21200" y="4335480"/>
              <a:ext cx="0" cy="5014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48640" y="2884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748640" y="3224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3" name=""/>
            <p:cNvGrpSpPr/>
            <p:nvPr/>
          </p:nvGrpSpPr>
          <p:grpSpPr>
            <a:xfrm>
              <a:off x="7556400" y="3048120"/>
              <a:ext cx="666720" cy="1440"/>
              <a:chOff x="7556400" y="3048120"/>
              <a:chExt cx="666720" cy="1440"/>
            </a:xfrm>
          </p:grpSpPr>
          <p:sp>
            <p:nvSpPr>
              <p:cNvPr id="1464" name=""/>
              <p:cNvSpPr/>
              <p:nvPr/>
            </p:nvSpPr>
            <p:spPr>
              <a:xfrm>
                <a:off x="7556400" y="304956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861320" y="304812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972560" y="3048120"/>
                <a:ext cx="250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>
              <a:off x="7743960" y="5440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743960" y="5780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7551720" y="5626080"/>
              <a:ext cx="666720" cy="1440"/>
              <a:chOff x="7551720" y="5626080"/>
              <a:chExt cx="666720" cy="1440"/>
            </a:xfrm>
          </p:grpSpPr>
          <p:sp>
            <p:nvSpPr>
              <p:cNvPr id="1470" name=""/>
              <p:cNvSpPr/>
              <p:nvPr/>
            </p:nvSpPr>
            <p:spPr>
              <a:xfrm>
                <a:off x="7551720" y="562752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856640" y="562608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67520" y="562608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2139840" y="2262240"/>
            <a:ext cx="2416320" cy="2111400"/>
            <a:chOff x="2139840" y="2262240"/>
            <a:chExt cx="2416320" cy="2111400"/>
          </a:xfrm>
        </p:grpSpPr>
        <p:sp>
          <p:nvSpPr>
            <p:cNvPr id="1475" name=""/>
            <p:cNvSpPr/>
            <p:nvPr/>
          </p:nvSpPr>
          <p:spPr>
            <a:xfrm>
              <a:off x="2438280" y="233856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620800" y="23385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20800" y="4157640"/>
              <a:ext cx="0" cy="2160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620800" y="435132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0992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139840" y="2262240"/>
              <a:ext cx="313200" cy="144720"/>
            </a:xfrm>
            <a:custGeom>
              <a:avLst/>
              <a:gdLst/>
              <a:ahLst/>
              <a:rect l="0" t="0" r="r" b="b"/>
              <a:pathLst>
                <a:path w="870" h="402">
                  <a:moveTo>
                    <a:pt x="870" y="402"/>
                  </a:moveTo>
                  <a:lnTo>
                    <a:pt x="870" y="0"/>
                  </a:lnTo>
                  <a:lnTo>
                    <a:pt x="0" y="200"/>
                  </a:lnTo>
                  <a:lnTo>
                    <a:pt x="870" y="4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617920" y="26337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627280" y="2941560"/>
              <a:ext cx="0" cy="2145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624040" y="32497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620800" y="355608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617920" y="38545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911320" y="434808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240000" y="434664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571920" y="4343400"/>
              <a:ext cx="2458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92256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0" name=""/>
          <p:cNvSpPr txBox="1"/>
          <p:nvPr/>
        </p:nvSpPr>
        <p:spPr>
          <a:xfrm>
            <a:off x="3936960" y="5646600"/>
            <a:ext cx="3409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 clarified earlier, half 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utting planes are not consid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ssential in most applic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4446720" y="1792440"/>
            <a:ext cx="4248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For the purpose of this example, a cu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lane will be inserted to illustrate 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pplic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2" name=""/>
          <p:cNvGrpSpPr/>
          <p:nvPr/>
        </p:nvGrpSpPr>
        <p:grpSpPr>
          <a:xfrm>
            <a:off x="663480" y="2409840"/>
            <a:ext cx="7997760" cy="3695760"/>
            <a:chOff x="663480" y="2409840"/>
            <a:chExt cx="7997760" cy="3695760"/>
          </a:xfrm>
        </p:grpSpPr>
        <p:grpSp>
          <p:nvGrpSpPr>
            <p:cNvPr id="1493" name=""/>
            <p:cNvGrpSpPr/>
            <p:nvPr/>
          </p:nvGrpSpPr>
          <p:grpSpPr>
            <a:xfrm>
              <a:off x="663480" y="2409840"/>
              <a:ext cx="3727440" cy="3695760"/>
              <a:chOff x="663480" y="2409840"/>
              <a:chExt cx="3727440" cy="3695760"/>
            </a:xfrm>
          </p:grpSpPr>
          <p:sp>
            <p:nvSpPr>
              <p:cNvPr id="1494" name=""/>
              <p:cNvSpPr/>
              <p:nvPr/>
            </p:nvSpPr>
            <p:spPr>
              <a:xfrm>
                <a:off x="1670040" y="3382920"/>
                <a:ext cx="1882800" cy="188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901880" y="3637080"/>
                <a:ext cx="1413000" cy="1413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027080" y="2749680"/>
                <a:ext cx="3152880" cy="3152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163600" y="3881520"/>
                <a:ext cx="914400" cy="914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257560" y="3975120"/>
                <a:ext cx="725400" cy="72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443320" y="288432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683160" y="417024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182600" y="418608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448000" y="5429160"/>
                <a:ext cx="339840" cy="33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63480" y="4346640"/>
                <a:ext cx="1746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544840" y="4346640"/>
                <a:ext cx="114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771640" y="4346640"/>
                <a:ext cx="1619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6" name=""/>
              <p:cNvGrpSpPr/>
              <p:nvPr/>
            </p:nvGrpSpPr>
            <p:grpSpPr>
              <a:xfrm>
                <a:off x="2622600" y="2409840"/>
                <a:ext cx="0" cy="3695760"/>
                <a:chOff x="2622600" y="2409840"/>
                <a:chExt cx="0" cy="369576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2622600" y="2409840"/>
                  <a:ext cx="0" cy="174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2622600" y="4290840"/>
                  <a:ext cx="0" cy="114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2622600" y="4518000"/>
                  <a:ext cx="0" cy="1587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0" name=""/>
            <p:cNvSpPr/>
            <p:nvPr/>
          </p:nvSpPr>
          <p:spPr>
            <a:xfrm>
              <a:off x="7748640" y="27478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748640" y="59230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66160" y="2747880"/>
              <a:ext cx="0" cy="3175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748640" y="2747880"/>
              <a:ext cx="0" cy="635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570640" y="3633840"/>
              <a:ext cx="0" cy="1404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570640" y="3382920"/>
              <a:ext cx="2178000" cy="250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70640" y="397368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570640" y="4699080"/>
              <a:ext cx="27288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343480" y="4341960"/>
              <a:ext cx="1368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46840" y="4341960"/>
              <a:ext cx="114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74000" y="434196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748640" y="3378240"/>
              <a:ext cx="0" cy="2544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570640" y="5038560"/>
              <a:ext cx="2178000" cy="22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818320" y="3859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829480" y="385920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899320" y="38592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5829480" y="483552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910120" y="39736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910120" y="4699080"/>
              <a:ext cx="21560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900760" y="4335480"/>
              <a:ext cx="0" cy="50004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21200" y="4335480"/>
              <a:ext cx="0" cy="50148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748640" y="2884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748640" y="3224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7556400" y="3048120"/>
              <a:ext cx="666720" cy="1440"/>
              <a:chOff x="7556400" y="3048120"/>
              <a:chExt cx="666720" cy="1440"/>
            </a:xfrm>
          </p:grpSpPr>
          <p:sp>
            <p:nvSpPr>
              <p:cNvPr id="1534" name=""/>
              <p:cNvSpPr/>
              <p:nvPr/>
            </p:nvSpPr>
            <p:spPr>
              <a:xfrm>
                <a:off x="7556400" y="304956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861320" y="304812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972560" y="3048120"/>
                <a:ext cx="250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7" name=""/>
            <p:cNvSpPr/>
            <p:nvPr/>
          </p:nvSpPr>
          <p:spPr>
            <a:xfrm>
              <a:off x="7743960" y="544032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743960" y="578016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9" name=""/>
            <p:cNvGrpSpPr/>
            <p:nvPr/>
          </p:nvGrpSpPr>
          <p:grpSpPr>
            <a:xfrm>
              <a:off x="7551720" y="5626080"/>
              <a:ext cx="666720" cy="1440"/>
              <a:chOff x="7551720" y="5626080"/>
              <a:chExt cx="666720" cy="1440"/>
            </a:xfrm>
          </p:grpSpPr>
          <p:sp>
            <p:nvSpPr>
              <p:cNvPr id="1540" name=""/>
              <p:cNvSpPr/>
              <p:nvPr/>
            </p:nvSpPr>
            <p:spPr>
              <a:xfrm>
                <a:off x="7551720" y="5627520"/>
                <a:ext cx="26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856640" y="562608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967520" y="5626080"/>
                <a:ext cx="25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2139840" y="2262240"/>
            <a:ext cx="2416320" cy="2111400"/>
            <a:chOff x="2139840" y="2262240"/>
            <a:chExt cx="2416320" cy="2111400"/>
          </a:xfrm>
        </p:grpSpPr>
        <p:sp>
          <p:nvSpPr>
            <p:cNvPr id="1545" name=""/>
            <p:cNvSpPr/>
            <p:nvPr/>
          </p:nvSpPr>
          <p:spPr>
            <a:xfrm>
              <a:off x="2438280" y="233856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620800" y="23385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620800" y="4157640"/>
              <a:ext cx="0" cy="2160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620800" y="435132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30992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139840" y="2262240"/>
              <a:ext cx="313200" cy="144720"/>
            </a:xfrm>
            <a:custGeom>
              <a:avLst/>
              <a:gdLst/>
              <a:ahLst/>
              <a:rect l="0" t="0" r="r" b="b"/>
              <a:pathLst>
                <a:path w="870" h="402">
                  <a:moveTo>
                    <a:pt x="870" y="402"/>
                  </a:moveTo>
                  <a:lnTo>
                    <a:pt x="870" y="0"/>
                  </a:lnTo>
                  <a:lnTo>
                    <a:pt x="0" y="200"/>
                  </a:lnTo>
                  <a:lnTo>
                    <a:pt x="870" y="4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617920" y="26337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627280" y="2941560"/>
              <a:ext cx="0" cy="2145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624040" y="32497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620800" y="355608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617920" y="38545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911320" y="434808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240000" y="434664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571920" y="4343400"/>
              <a:ext cx="2458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92256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0" name=""/>
          <p:cNvSpPr txBox="1"/>
          <p:nvPr/>
        </p:nvSpPr>
        <p:spPr>
          <a:xfrm>
            <a:off x="4368960" y="1859040"/>
            <a:ext cx="344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 the right side view i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ropriate half section 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1" name=""/>
          <p:cNvGrpSpPr/>
          <p:nvPr/>
        </p:nvGrpSpPr>
        <p:grpSpPr>
          <a:xfrm>
            <a:off x="663480" y="2409840"/>
            <a:ext cx="3727440" cy="3695760"/>
            <a:chOff x="663480" y="2409840"/>
            <a:chExt cx="3727440" cy="3695760"/>
          </a:xfrm>
        </p:grpSpPr>
        <p:sp>
          <p:nvSpPr>
            <p:cNvPr id="1562" name=""/>
            <p:cNvSpPr/>
            <p:nvPr/>
          </p:nvSpPr>
          <p:spPr>
            <a:xfrm>
              <a:off x="1670040" y="3382920"/>
              <a:ext cx="1882800" cy="1882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901880" y="3637080"/>
              <a:ext cx="1413000" cy="141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27080" y="2749680"/>
              <a:ext cx="3152880" cy="315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163600" y="3881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257560" y="3975120"/>
              <a:ext cx="725400" cy="725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443320" y="288432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83160" y="417024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182600" y="418608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448000" y="542916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3480" y="4346640"/>
              <a:ext cx="174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544840" y="434664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771640" y="4346640"/>
              <a:ext cx="16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4" name=""/>
            <p:cNvGrpSpPr/>
            <p:nvPr/>
          </p:nvGrpSpPr>
          <p:grpSpPr>
            <a:xfrm>
              <a:off x="2622600" y="2409840"/>
              <a:ext cx="0" cy="3695760"/>
              <a:chOff x="2622600" y="2409840"/>
              <a:chExt cx="0" cy="3695760"/>
            </a:xfrm>
          </p:grpSpPr>
          <p:sp>
            <p:nvSpPr>
              <p:cNvPr id="1575" name=""/>
              <p:cNvSpPr/>
              <p:nvPr/>
            </p:nvSpPr>
            <p:spPr>
              <a:xfrm>
                <a:off x="2622600" y="2409840"/>
                <a:ext cx="0" cy="17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622600" y="42908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622600" y="4518000"/>
                <a:ext cx="0" cy="158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78" name=""/>
          <p:cNvSpPr/>
          <p:nvPr/>
        </p:nvSpPr>
        <p:spPr>
          <a:xfrm>
            <a:off x="7748640" y="27478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748640" y="59230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066160" y="2747880"/>
            <a:ext cx="0" cy="317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7748640" y="2747880"/>
            <a:ext cx="0" cy="63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570640" y="3633840"/>
            <a:ext cx="0" cy="140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5570640" y="3382920"/>
            <a:ext cx="2178000" cy="25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5570640" y="3971880"/>
            <a:ext cx="253800" cy="1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570640" y="4699080"/>
            <a:ext cx="2728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343480" y="4341960"/>
            <a:ext cx="1368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6846840" y="434196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074000" y="434196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7748640" y="4359240"/>
            <a:ext cx="0" cy="156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570640" y="5038560"/>
            <a:ext cx="2178000" cy="22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82768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826240" y="385920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590220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5834160" y="483552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910120" y="39736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5910120" y="46990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900760" y="433548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821200" y="4335480"/>
            <a:ext cx="0" cy="5014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7748640" y="2884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7748640" y="3224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7556400" y="3048120"/>
            <a:ext cx="666720" cy="1440"/>
            <a:chOff x="7556400" y="3048120"/>
            <a:chExt cx="666720" cy="1440"/>
          </a:xfrm>
        </p:grpSpPr>
        <p:sp>
          <p:nvSpPr>
            <p:cNvPr id="1602" name=""/>
            <p:cNvSpPr/>
            <p:nvPr/>
          </p:nvSpPr>
          <p:spPr>
            <a:xfrm>
              <a:off x="7556400" y="3049560"/>
              <a:ext cx="263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861320" y="304812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972560" y="3048120"/>
              <a:ext cx="250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5" name=""/>
          <p:cNvSpPr/>
          <p:nvPr/>
        </p:nvSpPr>
        <p:spPr>
          <a:xfrm>
            <a:off x="7743960" y="5440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743960" y="5780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7551720" y="5626080"/>
            <a:ext cx="666720" cy="1440"/>
            <a:chOff x="7551720" y="5626080"/>
            <a:chExt cx="666720" cy="1440"/>
          </a:xfrm>
        </p:grpSpPr>
        <p:sp>
          <p:nvSpPr>
            <p:cNvPr id="1608" name=""/>
            <p:cNvSpPr/>
            <p:nvPr/>
          </p:nvSpPr>
          <p:spPr>
            <a:xfrm>
              <a:off x="7551720" y="5627520"/>
              <a:ext cx="263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856640" y="562608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967520" y="562608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2139840" y="2262240"/>
            <a:ext cx="2416320" cy="2111400"/>
            <a:chOff x="2139840" y="2262240"/>
            <a:chExt cx="2416320" cy="2111400"/>
          </a:xfrm>
        </p:grpSpPr>
        <p:sp>
          <p:nvSpPr>
            <p:cNvPr id="1613" name=""/>
            <p:cNvSpPr/>
            <p:nvPr/>
          </p:nvSpPr>
          <p:spPr>
            <a:xfrm>
              <a:off x="2438280" y="233856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620800" y="23385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20800" y="4157640"/>
              <a:ext cx="0" cy="2160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20800" y="435132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30992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139840" y="2262240"/>
              <a:ext cx="313200" cy="144720"/>
            </a:xfrm>
            <a:custGeom>
              <a:avLst/>
              <a:gdLst/>
              <a:ahLst/>
              <a:rect l="0" t="0" r="r" b="b"/>
              <a:pathLst>
                <a:path w="870" h="402">
                  <a:moveTo>
                    <a:pt x="870" y="402"/>
                  </a:moveTo>
                  <a:lnTo>
                    <a:pt x="870" y="0"/>
                  </a:lnTo>
                  <a:lnTo>
                    <a:pt x="0" y="200"/>
                  </a:lnTo>
                  <a:lnTo>
                    <a:pt x="870" y="4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17920" y="26337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27280" y="2941560"/>
              <a:ext cx="0" cy="2145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624040" y="32497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620800" y="355608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617920" y="38545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320" y="434808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240000" y="434664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571920" y="4343400"/>
              <a:ext cx="2458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92256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8" name=""/>
          <p:cNvSpPr txBox="1"/>
          <p:nvPr/>
        </p:nvSpPr>
        <p:spPr>
          <a:xfrm>
            <a:off x="4368960" y="1859040"/>
            <a:ext cx="344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 the right side view i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ropriate half section 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"/>
          <p:cNvGrpSpPr/>
          <p:nvPr/>
        </p:nvGrpSpPr>
        <p:grpSpPr>
          <a:xfrm>
            <a:off x="663480" y="2409840"/>
            <a:ext cx="3727440" cy="3695760"/>
            <a:chOff x="663480" y="2409840"/>
            <a:chExt cx="3727440" cy="3695760"/>
          </a:xfrm>
        </p:grpSpPr>
        <p:sp>
          <p:nvSpPr>
            <p:cNvPr id="1630" name=""/>
            <p:cNvSpPr/>
            <p:nvPr/>
          </p:nvSpPr>
          <p:spPr>
            <a:xfrm>
              <a:off x="1670040" y="3382920"/>
              <a:ext cx="1882800" cy="1882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901880" y="3637080"/>
              <a:ext cx="1413000" cy="141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027080" y="2749680"/>
              <a:ext cx="3152880" cy="315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163600" y="3881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257560" y="3975120"/>
              <a:ext cx="725400" cy="725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443320" y="288432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83160" y="417024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182600" y="418608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448000" y="542916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63480" y="4346640"/>
              <a:ext cx="174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44840" y="434664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71640" y="4346640"/>
              <a:ext cx="16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2" name=""/>
            <p:cNvGrpSpPr/>
            <p:nvPr/>
          </p:nvGrpSpPr>
          <p:grpSpPr>
            <a:xfrm>
              <a:off x="2622600" y="2409840"/>
              <a:ext cx="0" cy="3695760"/>
              <a:chOff x="2622600" y="2409840"/>
              <a:chExt cx="0" cy="3695760"/>
            </a:xfrm>
          </p:grpSpPr>
          <p:sp>
            <p:nvSpPr>
              <p:cNvPr id="1643" name=""/>
              <p:cNvSpPr/>
              <p:nvPr/>
            </p:nvSpPr>
            <p:spPr>
              <a:xfrm>
                <a:off x="2622600" y="2409840"/>
                <a:ext cx="0" cy="17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622600" y="42908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622600" y="4518000"/>
                <a:ext cx="0" cy="158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6" name=""/>
          <p:cNvSpPr/>
          <p:nvPr/>
        </p:nvSpPr>
        <p:spPr>
          <a:xfrm>
            <a:off x="7748640" y="27478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7748640" y="59230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8066160" y="2747880"/>
            <a:ext cx="0" cy="317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748640" y="2747880"/>
            <a:ext cx="0" cy="63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570640" y="3633840"/>
            <a:ext cx="0" cy="140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5570640" y="3382920"/>
            <a:ext cx="2178000" cy="25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5570640" y="3971880"/>
            <a:ext cx="253800" cy="1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570640" y="4699080"/>
            <a:ext cx="2728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5343480" y="4341960"/>
            <a:ext cx="1368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846840" y="434196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7074000" y="434196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7748640" y="4359240"/>
            <a:ext cx="0" cy="156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5570640" y="5038560"/>
            <a:ext cx="2178000" cy="22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582768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5826240" y="385920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90220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5834160" y="483552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5910120" y="39736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5910120" y="46990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900760" y="433548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5821200" y="4335480"/>
            <a:ext cx="0" cy="5014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7748640" y="2884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7748640" y="3224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7556400" y="3048120"/>
            <a:ext cx="666720" cy="1440"/>
            <a:chOff x="7556400" y="3048120"/>
            <a:chExt cx="666720" cy="1440"/>
          </a:xfrm>
        </p:grpSpPr>
        <p:sp>
          <p:nvSpPr>
            <p:cNvPr id="1670" name=""/>
            <p:cNvSpPr/>
            <p:nvPr/>
          </p:nvSpPr>
          <p:spPr>
            <a:xfrm>
              <a:off x="7556400" y="3049560"/>
              <a:ext cx="263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861320" y="304812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972560" y="3048120"/>
              <a:ext cx="250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3" name=""/>
          <p:cNvSpPr/>
          <p:nvPr/>
        </p:nvSpPr>
        <p:spPr>
          <a:xfrm>
            <a:off x="7743960" y="5440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7743960" y="5780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7551720" y="5626080"/>
            <a:ext cx="666720" cy="1440"/>
            <a:chOff x="7551720" y="5626080"/>
            <a:chExt cx="666720" cy="1440"/>
          </a:xfrm>
        </p:grpSpPr>
        <p:sp>
          <p:nvSpPr>
            <p:cNvPr id="1676" name=""/>
            <p:cNvSpPr/>
            <p:nvPr/>
          </p:nvSpPr>
          <p:spPr>
            <a:xfrm>
              <a:off x="7551720" y="5627520"/>
              <a:ext cx="263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856640" y="562608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967520" y="562608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2139840" y="2262240"/>
            <a:ext cx="2416320" cy="2111400"/>
            <a:chOff x="2139840" y="2262240"/>
            <a:chExt cx="2416320" cy="2111400"/>
          </a:xfrm>
        </p:grpSpPr>
        <p:sp>
          <p:nvSpPr>
            <p:cNvPr id="1681" name=""/>
            <p:cNvSpPr/>
            <p:nvPr/>
          </p:nvSpPr>
          <p:spPr>
            <a:xfrm>
              <a:off x="2438280" y="233856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620800" y="23385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620800" y="4157640"/>
              <a:ext cx="0" cy="2160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20800" y="435132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30992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139840" y="2262240"/>
              <a:ext cx="313200" cy="144720"/>
            </a:xfrm>
            <a:custGeom>
              <a:avLst/>
              <a:gdLst/>
              <a:ahLst/>
              <a:rect l="0" t="0" r="r" b="b"/>
              <a:pathLst>
                <a:path w="870" h="402">
                  <a:moveTo>
                    <a:pt x="870" y="402"/>
                  </a:moveTo>
                  <a:lnTo>
                    <a:pt x="870" y="0"/>
                  </a:lnTo>
                  <a:lnTo>
                    <a:pt x="0" y="200"/>
                  </a:lnTo>
                  <a:lnTo>
                    <a:pt x="870" y="4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617920" y="26337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627280" y="2941560"/>
              <a:ext cx="0" cy="2145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624040" y="32497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620800" y="355608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617920" y="38545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911320" y="434808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240000" y="434664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571920" y="4343400"/>
              <a:ext cx="2458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92256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4368960" y="1859040"/>
            <a:ext cx="3441600" cy="1460160"/>
            <a:chOff x="4368960" y="1859040"/>
            <a:chExt cx="3441600" cy="1460160"/>
          </a:xfrm>
        </p:grpSpPr>
        <p:sp>
          <p:nvSpPr>
            <p:cNvPr id="1697" name=""/>
            <p:cNvSpPr txBox="1"/>
            <p:nvPr/>
          </p:nvSpPr>
          <p:spPr>
            <a:xfrm>
              <a:off x="4368960" y="2403360"/>
              <a:ext cx="324468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osshatch the area that woul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e in contact with the cut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n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"/>
            <p:cNvSpPr txBox="1"/>
            <p:nvPr/>
          </p:nvSpPr>
          <p:spPr>
            <a:xfrm>
              <a:off x="4368960" y="1859040"/>
              <a:ext cx="34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618ffd"/>
                  </a:solidFill>
                  <a:latin typeface="Times New Roman"/>
                  <a:ea typeface="Times New Roman"/>
                </a:rPr>
                <a:t>Convert the right side view int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618ffd"/>
                  </a:solidFill>
                  <a:latin typeface="Times New Roman"/>
                  <a:ea typeface="Times New Roman"/>
                </a:rPr>
                <a:t>the appropriate half section view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9" name=""/>
          <p:cNvGrpSpPr/>
          <p:nvPr/>
        </p:nvGrpSpPr>
        <p:grpSpPr>
          <a:xfrm>
            <a:off x="663480" y="2409840"/>
            <a:ext cx="3727440" cy="3695760"/>
            <a:chOff x="663480" y="2409840"/>
            <a:chExt cx="3727440" cy="3695760"/>
          </a:xfrm>
        </p:grpSpPr>
        <p:sp>
          <p:nvSpPr>
            <p:cNvPr id="1700" name=""/>
            <p:cNvSpPr/>
            <p:nvPr/>
          </p:nvSpPr>
          <p:spPr>
            <a:xfrm>
              <a:off x="1670040" y="3382920"/>
              <a:ext cx="1882800" cy="1882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901880" y="3637080"/>
              <a:ext cx="1413000" cy="141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027080" y="2749680"/>
              <a:ext cx="3152880" cy="315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163600" y="3881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257560" y="3975120"/>
              <a:ext cx="725400" cy="725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43320" y="288432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683160" y="417024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182600" y="418608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448000" y="542916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63480" y="4346640"/>
              <a:ext cx="174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544840" y="434664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771640" y="4346640"/>
              <a:ext cx="16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2622600" y="2409840"/>
              <a:ext cx="0" cy="3695760"/>
              <a:chOff x="2622600" y="2409840"/>
              <a:chExt cx="0" cy="3695760"/>
            </a:xfrm>
          </p:grpSpPr>
          <p:sp>
            <p:nvSpPr>
              <p:cNvPr id="1713" name=""/>
              <p:cNvSpPr/>
              <p:nvPr/>
            </p:nvSpPr>
            <p:spPr>
              <a:xfrm>
                <a:off x="2622600" y="2409840"/>
                <a:ext cx="0" cy="17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622600" y="42908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622600" y="4518000"/>
                <a:ext cx="0" cy="158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6" name=""/>
          <p:cNvSpPr/>
          <p:nvPr/>
        </p:nvSpPr>
        <p:spPr>
          <a:xfrm>
            <a:off x="7748640" y="27478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748640" y="59230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66160" y="2747880"/>
            <a:ext cx="0" cy="317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748640" y="2747880"/>
            <a:ext cx="0" cy="63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570640" y="3633840"/>
            <a:ext cx="0" cy="140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5570640" y="3382920"/>
            <a:ext cx="2178000" cy="25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570640" y="3973680"/>
            <a:ext cx="252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570640" y="4699080"/>
            <a:ext cx="2728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343480" y="4341960"/>
            <a:ext cx="1368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6846840" y="434196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7074000" y="434196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7748640" y="4359240"/>
            <a:ext cx="0" cy="156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570640" y="5038560"/>
            <a:ext cx="2178000" cy="22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8309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830920" y="385920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8975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5824440" y="483552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910120" y="39736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910120" y="46990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5900760" y="433548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821200" y="4335480"/>
            <a:ext cx="0" cy="5014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7748640" y="2884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7748640" y="3224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9" name=""/>
          <p:cNvGrpSpPr/>
          <p:nvPr/>
        </p:nvGrpSpPr>
        <p:grpSpPr>
          <a:xfrm>
            <a:off x="7556400" y="3048120"/>
            <a:ext cx="666720" cy="1440"/>
            <a:chOff x="7556400" y="3048120"/>
            <a:chExt cx="666720" cy="1440"/>
          </a:xfrm>
        </p:grpSpPr>
        <p:sp>
          <p:nvSpPr>
            <p:cNvPr id="1740" name=""/>
            <p:cNvSpPr/>
            <p:nvPr/>
          </p:nvSpPr>
          <p:spPr>
            <a:xfrm>
              <a:off x="7556400" y="3049560"/>
              <a:ext cx="263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861320" y="304812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972560" y="3048120"/>
              <a:ext cx="250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3" name=""/>
          <p:cNvSpPr/>
          <p:nvPr/>
        </p:nvSpPr>
        <p:spPr>
          <a:xfrm>
            <a:off x="7743960" y="5440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743960" y="5780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7551720" y="5626080"/>
            <a:ext cx="666720" cy="1440"/>
            <a:chOff x="7551720" y="5626080"/>
            <a:chExt cx="666720" cy="1440"/>
          </a:xfrm>
        </p:grpSpPr>
        <p:sp>
          <p:nvSpPr>
            <p:cNvPr id="1746" name=""/>
            <p:cNvSpPr/>
            <p:nvPr/>
          </p:nvSpPr>
          <p:spPr>
            <a:xfrm>
              <a:off x="7551720" y="5627520"/>
              <a:ext cx="263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856640" y="562608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967520" y="562608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9" name=""/>
          <p:cNvSpPr/>
          <p:nvPr/>
        </p:nvSpPr>
        <p:spPr>
          <a:xfrm flipV="1">
            <a:off x="5568840" y="3613320"/>
            <a:ext cx="146160" cy="14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664240" y="3568680"/>
            <a:ext cx="399960" cy="39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962680" y="3530520"/>
            <a:ext cx="44460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267600" y="3492360"/>
            <a:ext cx="48240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72160" y="3454560"/>
            <a:ext cx="520920" cy="52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883560" y="3416400"/>
            <a:ext cx="55224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188120" y="3225960"/>
            <a:ext cx="743040" cy="742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493040" y="3403440"/>
            <a:ext cx="56520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7797960" y="3708360"/>
            <a:ext cx="260280" cy="260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7962840" y="2781360"/>
            <a:ext cx="95400" cy="9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7746840" y="2749680"/>
            <a:ext cx="76320" cy="7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2139840" y="2262240"/>
            <a:ext cx="2416320" cy="2111400"/>
            <a:chOff x="2139840" y="2262240"/>
            <a:chExt cx="2416320" cy="2111400"/>
          </a:xfrm>
        </p:grpSpPr>
        <p:sp>
          <p:nvSpPr>
            <p:cNvPr id="1762" name=""/>
            <p:cNvSpPr/>
            <p:nvPr/>
          </p:nvSpPr>
          <p:spPr>
            <a:xfrm>
              <a:off x="2438280" y="233856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20800" y="23385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20800" y="4157640"/>
              <a:ext cx="0" cy="2160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620800" y="435132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30992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139840" y="2262240"/>
              <a:ext cx="313200" cy="144720"/>
            </a:xfrm>
            <a:custGeom>
              <a:avLst/>
              <a:gdLst/>
              <a:ahLst/>
              <a:rect l="0" t="0" r="r" b="b"/>
              <a:pathLst>
                <a:path w="870" h="402">
                  <a:moveTo>
                    <a:pt x="870" y="402"/>
                  </a:moveTo>
                  <a:lnTo>
                    <a:pt x="870" y="0"/>
                  </a:lnTo>
                  <a:lnTo>
                    <a:pt x="0" y="200"/>
                  </a:lnTo>
                  <a:lnTo>
                    <a:pt x="870" y="4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617920" y="26337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627280" y="2941560"/>
              <a:ext cx="0" cy="2145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24040" y="32497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620800" y="355608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617920" y="38545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911320" y="434808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240000" y="434664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571920" y="4343400"/>
              <a:ext cx="2458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2256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4368960" y="1859040"/>
            <a:ext cx="3441600" cy="1460160"/>
            <a:chOff x="4368960" y="1859040"/>
            <a:chExt cx="3441600" cy="1460160"/>
          </a:xfrm>
        </p:grpSpPr>
        <p:sp>
          <p:nvSpPr>
            <p:cNvPr id="1778" name=""/>
            <p:cNvSpPr txBox="1"/>
            <p:nvPr/>
          </p:nvSpPr>
          <p:spPr>
            <a:xfrm>
              <a:off x="4368960" y="2403360"/>
              <a:ext cx="324468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osshatch the area that woul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e in contact with the cut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n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"/>
            <p:cNvSpPr txBox="1"/>
            <p:nvPr/>
          </p:nvSpPr>
          <p:spPr>
            <a:xfrm>
              <a:off x="4368960" y="1859040"/>
              <a:ext cx="34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618ffd"/>
                  </a:solidFill>
                  <a:latin typeface="Times New Roman"/>
                  <a:ea typeface="Times New Roman"/>
                </a:rPr>
                <a:t>Convert the right side view int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618ffd"/>
                  </a:solidFill>
                  <a:latin typeface="Times New Roman"/>
                  <a:ea typeface="Times New Roman"/>
                </a:rPr>
                <a:t>the appropriate half section view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"/>
          <p:cNvGrpSpPr/>
          <p:nvPr/>
        </p:nvGrpSpPr>
        <p:grpSpPr>
          <a:xfrm>
            <a:off x="663480" y="2409840"/>
            <a:ext cx="3727440" cy="3695760"/>
            <a:chOff x="663480" y="2409840"/>
            <a:chExt cx="3727440" cy="3695760"/>
          </a:xfrm>
        </p:grpSpPr>
        <p:sp>
          <p:nvSpPr>
            <p:cNvPr id="1781" name=""/>
            <p:cNvSpPr/>
            <p:nvPr/>
          </p:nvSpPr>
          <p:spPr>
            <a:xfrm>
              <a:off x="1670040" y="3382920"/>
              <a:ext cx="1882800" cy="1882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901880" y="3637080"/>
              <a:ext cx="1413000" cy="141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027080" y="2749680"/>
              <a:ext cx="3152880" cy="315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163600" y="3881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257560" y="3975120"/>
              <a:ext cx="725400" cy="725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443320" y="288432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683160" y="417024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182600" y="418608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448000" y="542916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63480" y="4346640"/>
              <a:ext cx="174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544840" y="434664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771640" y="4346640"/>
              <a:ext cx="16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3" name=""/>
            <p:cNvGrpSpPr/>
            <p:nvPr/>
          </p:nvGrpSpPr>
          <p:grpSpPr>
            <a:xfrm>
              <a:off x="2622600" y="2409840"/>
              <a:ext cx="0" cy="3695760"/>
              <a:chOff x="2622600" y="2409840"/>
              <a:chExt cx="0" cy="3695760"/>
            </a:xfrm>
          </p:grpSpPr>
          <p:sp>
            <p:nvSpPr>
              <p:cNvPr id="1794" name=""/>
              <p:cNvSpPr/>
              <p:nvPr/>
            </p:nvSpPr>
            <p:spPr>
              <a:xfrm>
                <a:off x="2622600" y="2409840"/>
                <a:ext cx="0" cy="17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622600" y="42908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622600" y="4518000"/>
                <a:ext cx="0" cy="158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7" name=""/>
          <p:cNvSpPr/>
          <p:nvPr/>
        </p:nvSpPr>
        <p:spPr>
          <a:xfrm>
            <a:off x="7748640" y="27478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7748640" y="59230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8066160" y="2747880"/>
            <a:ext cx="0" cy="317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748640" y="2747880"/>
            <a:ext cx="0" cy="63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570640" y="3633840"/>
            <a:ext cx="0" cy="140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V="1">
            <a:off x="5570640" y="3382920"/>
            <a:ext cx="2178000" cy="25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5570640" y="3973680"/>
            <a:ext cx="252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5570640" y="4699080"/>
            <a:ext cx="2728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343480" y="4341960"/>
            <a:ext cx="1368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846840" y="434196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7074000" y="434196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7748640" y="4359240"/>
            <a:ext cx="0" cy="156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570640" y="5038560"/>
            <a:ext cx="2178000" cy="22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8309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830920" y="385920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8975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H="1">
            <a:off x="5824440" y="483552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5910120" y="39736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910120" y="46990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5900760" y="433548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821200" y="4335480"/>
            <a:ext cx="0" cy="5014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7748640" y="2884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7748640" y="3224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7556400" y="3048120"/>
            <a:ext cx="666720" cy="1440"/>
            <a:chOff x="7556400" y="3048120"/>
            <a:chExt cx="666720" cy="1440"/>
          </a:xfrm>
        </p:grpSpPr>
        <p:sp>
          <p:nvSpPr>
            <p:cNvPr id="1821" name=""/>
            <p:cNvSpPr/>
            <p:nvPr/>
          </p:nvSpPr>
          <p:spPr>
            <a:xfrm>
              <a:off x="7556400" y="3049560"/>
              <a:ext cx="263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61320" y="304812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972560" y="3048120"/>
              <a:ext cx="250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4" name=""/>
          <p:cNvSpPr/>
          <p:nvPr/>
        </p:nvSpPr>
        <p:spPr>
          <a:xfrm>
            <a:off x="7743960" y="5440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7743960" y="5780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7551720" y="5626080"/>
            <a:ext cx="666720" cy="1440"/>
            <a:chOff x="7551720" y="5626080"/>
            <a:chExt cx="666720" cy="1440"/>
          </a:xfrm>
        </p:grpSpPr>
        <p:sp>
          <p:nvSpPr>
            <p:cNvPr id="1827" name=""/>
            <p:cNvSpPr/>
            <p:nvPr/>
          </p:nvSpPr>
          <p:spPr>
            <a:xfrm>
              <a:off x="7551720" y="5627520"/>
              <a:ext cx="263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56640" y="562608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67520" y="562608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0" name=""/>
          <p:cNvSpPr/>
          <p:nvPr/>
        </p:nvSpPr>
        <p:spPr>
          <a:xfrm flipV="1">
            <a:off x="5568840" y="3613320"/>
            <a:ext cx="146160" cy="14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5664240" y="3568680"/>
            <a:ext cx="399960" cy="39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5962680" y="3530520"/>
            <a:ext cx="44460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6267600" y="3492360"/>
            <a:ext cx="48240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6572160" y="3454560"/>
            <a:ext cx="520920" cy="52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6883560" y="3416400"/>
            <a:ext cx="55224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7188120" y="3225960"/>
            <a:ext cx="743040" cy="742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7493040" y="3403440"/>
            <a:ext cx="56520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7797960" y="3708360"/>
            <a:ext cx="260280" cy="260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7962840" y="2781360"/>
            <a:ext cx="95400" cy="9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7746840" y="2749680"/>
            <a:ext cx="76320" cy="7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2139840" y="2262240"/>
            <a:ext cx="2416320" cy="2111400"/>
            <a:chOff x="2139840" y="2262240"/>
            <a:chExt cx="2416320" cy="2111400"/>
          </a:xfrm>
        </p:grpSpPr>
        <p:sp>
          <p:nvSpPr>
            <p:cNvPr id="1843" name=""/>
            <p:cNvSpPr/>
            <p:nvPr/>
          </p:nvSpPr>
          <p:spPr>
            <a:xfrm>
              <a:off x="2438280" y="233856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20800" y="23385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620800" y="4157640"/>
              <a:ext cx="0" cy="2160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620800" y="435132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30992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139840" y="2262240"/>
              <a:ext cx="313200" cy="144720"/>
            </a:xfrm>
            <a:custGeom>
              <a:avLst/>
              <a:gdLst/>
              <a:ahLst/>
              <a:rect l="0" t="0" r="r" b="b"/>
              <a:pathLst>
                <a:path w="870" h="402">
                  <a:moveTo>
                    <a:pt x="870" y="402"/>
                  </a:moveTo>
                  <a:lnTo>
                    <a:pt x="870" y="0"/>
                  </a:lnTo>
                  <a:lnTo>
                    <a:pt x="0" y="200"/>
                  </a:lnTo>
                  <a:lnTo>
                    <a:pt x="870" y="4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617920" y="26337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627280" y="2941560"/>
              <a:ext cx="0" cy="2145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624040" y="32497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20800" y="355608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617920" y="38545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911320" y="434808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40000" y="434664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571920" y="4343400"/>
              <a:ext cx="2458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92256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8" name=""/>
          <p:cNvSpPr txBox="1"/>
          <p:nvPr/>
        </p:nvSpPr>
        <p:spPr>
          <a:xfrm>
            <a:off x="2984400" y="1636560"/>
            <a:ext cx="54928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ory, you have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ve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art of th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d by the section cutting plane, and constru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jected view of the remaining portion of the pa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670040" y="3382920"/>
            <a:ext cx="1882800" cy="1882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901880" y="3637080"/>
            <a:ext cx="1413000" cy="14130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027080" y="2749680"/>
            <a:ext cx="3152880" cy="3152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2163600" y="3881520"/>
            <a:ext cx="914400" cy="914400"/>
          </a:xfrm>
          <a:prstGeom prst="ellipse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2257560" y="3975120"/>
            <a:ext cx="7254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2443320" y="2884320"/>
            <a:ext cx="339840" cy="339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683160" y="4170240"/>
            <a:ext cx="339840" cy="339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182600" y="4186080"/>
            <a:ext cx="339840" cy="339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448000" y="5429160"/>
            <a:ext cx="339840" cy="339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663480" y="4346640"/>
            <a:ext cx="174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2544840" y="4346640"/>
            <a:ext cx="114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2771640" y="4346640"/>
            <a:ext cx="1619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748640" y="27478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748640" y="59230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8066160" y="2747880"/>
            <a:ext cx="0" cy="317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748640" y="2747880"/>
            <a:ext cx="0" cy="63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570640" y="3633840"/>
            <a:ext cx="0" cy="140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5570640" y="3382920"/>
            <a:ext cx="2178000" cy="25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570640" y="3973680"/>
            <a:ext cx="253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5570640" y="4699080"/>
            <a:ext cx="2728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5343480" y="4341960"/>
            <a:ext cx="1368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846840" y="434196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7074000" y="434196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7748640" y="4359240"/>
            <a:ext cx="0" cy="156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570640" y="5038560"/>
            <a:ext cx="2178000" cy="22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H="1">
            <a:off x="5843520" y="483552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5910120" y="39736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910120" y="46990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900760" y="433548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821200" y="4335480"/>
            <a:ext cx="0" cy="5014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7748640" y="2884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7748640" y="3224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7556400" y="3049560"/>
            <a:ext cx="26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7861320" y="3048120"/>
            <a:ext cx="63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7972560" y="3048120"/>
            <a:ext cx="25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7743960" y="5440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7743960" y="5780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7551720" y="5627520"/>
            <a:ext cx="26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7856640" y="5626080"/>
            <a:ext cx="63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7967520" y="5626080"/>
            <a:ext cx="250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5568840" y="3613320"/>
            <a:ext cx="146160" cy="14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5664240" y="3568680"/>
            <a:ext cx="399960" cy="39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5962680" y="3530520"/>
            <a:ext cx="44460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6267600" y="3492360"/>
            <a:ext cx="48240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6572160" y="3454560"/>
            <a:ext cx="520920" cy="52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6883560" y="3416400"/>
            <a:ext cx="55224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7188120" y="3225960"/>
            <a:ext cx="743040" cy="742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7493040" y="3403440"/>
            <a:ext cx="56520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flipV="1">
            <a:off x="7797960" y="3708360"/>
            <a:ext cx="260280" cy="260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7962840" y="2781360"/>
            <a:ext cx="95400" cy="9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7746840" y="2749680"/>
            <a:ext cx="76320" cy="7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2622600" y="2249640"/>
            <a:ext cx="2085840" cy="2085840"/>
          </a:xfrm>
          <a:prstGeom prst="rect">
            <a:avLst/>
          </a:prstGeom>
          <a:solidFill>
            <a:srgbClr val="010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2622600" y="2409840"/>
            <a:ext cx="0" cy="3695760"/>
            <a:chOff x="2622600" y="2409840"/>
            <a:chExt cx="0" cy="3695760"/>
          </a:xfrm>
        </p:grpSpPr>
        <p:sp>
          <p:nvSpPr>
            <p:cNvPr id="1913" name=""/>
            <p:cNvSpPr/>
            <p:nvPr/>
          </p:nvSpPr>
          <p:spPr>
            <a:xfrm>
              <a:off x="2622600" y="2409840"/>
              <a:ext cx="0" cy="174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22600" y="42908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622600" y="4518000"/>
              <a:ext cx="0" cy="1587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2768760" y="4343400"/>
            <a:ext cx="161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2139840" y="2262240"/>
            <a:ext cx="2416320" cy="2111400"/>
            <a:chOff x="2139840" y="2262240"/>
            <a:chExt cx="2416320" cy="2111400"/>
          </a:xfrm>
        </p:grpSpPr>
        <p:sp>
          <p:nvSpPr>
            <p:cNvPr id="1918" name=""/>
            <p:cNvSpPr/>
            <p:nvPr/>
          </p:nvSpPr>
          <p:spPr>
            <a:xfrm>
              <a:off x="2438280" y="233856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620800" y="23385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620800" y="4157640"/>
              <a:ext cx="0" cy="2160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620800" y="4351320"/>
              <a:ext cx="200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30992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139840" y="2262240"/>
              <a:ext cx="313200" cy="144720"/>
            </a:xfrm>
            <a:custGeom>
              <a:avLst/>
              <a:gdLst/>
              <a:ahLst/>
              <a:rect l="0" t="0" r="r" b="b"/>
              <a:pathLst>
                <a:path w="870" h="402">
                  <a:moveTo>
                    <a:pt x="870" y="402"/>
                  </a:moveTo>
                  <a:lnTo>
                    <a:pt x="870" y="0"/>
                  </a:lnTo>
                  <a:lnTo>
                    <a:pt x="0" y="200"/>
                  </a:lnTo>
                  <a:lnTo>
                    <a:pt x="870" y="4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617920" y="263376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627280" y="2941560"/>
              <a:ext cx="0" cy="2145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624040" y="32497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620800" y="355608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617920" y="3854520"/>
              <a:ext cx="0" cy="214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911320" y="434808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40000" y="434664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571920" y="4343400"/>
              <a:ext cx="2458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22560" y="4351320"/>
              <a:ext cx="2462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58309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830920" y="385920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8975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2984400" y="1636560"/>
            <a:ext cx="54928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ory, you have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ve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art of th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d by the section cutting plane, and constru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jected view of the remaining portion of the pa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8" name=""/>
          <p:cNvGrpSpPr/>
          <p:nvPr/>
        </p:nvGrpSpPr>
        <p:grpSpPr>
          <a:xfrm>
            <a:off x="663480" y="2409840"/>
            <a:ext cx="3727440" cy="3695760"/>
            <a:chOff x="663480" y="2409840"/>
            <a:chExt cx="3727440" cy="3695760"/>
          </a:xfrm>
        </p:grpSpPr>
        <p:sp>
          <p:nvSpPr>
            <p:cNvPr id="1939" name=""/>
            <p:cNvSpPr/>
            <p:nvPr/>
          </p:nvSpPr>
          <p:spPr>
            <a:xfrm>
              <a:off x="1670040" y="3382920"/>
              <a:ext cx="1882800" cy="1882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901880" y="3637080"/>
              <a:ext cx="1413000" cy="141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027080" y="2749680"/>
              <a:ext cx="3152880" cy="315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163600" y="3881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257560" y="3975120"/>
              <a:ext cx="725400" cy="725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443320" y="288432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683160" y="417024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182600" y="418608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448000" y="542916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63480" y="4346640"/>
              <a:ext cx="174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44840" y="434664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771640" y="4346640"/>
              <a:ext cx="16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2622600" y="2409840"/>
              <a:ext cx="0" cy="3695760"/>
              <a:chOff x="2622600" y="2409840"/>
              <a:chExt cx="0" cy="3695760"/>
            </a:xfrm>
          </p:grpSpPr>
          <p:sp>
            <p:nvSpPr>
              <p:cNvPr id="1952" name=""/>
              <p:cNvSpPr/>
              <p:nvPr/>
            </p:nvSpPr>
            <p:spPr>
              <a:xfrm>
                <a:off x="2622600" y="2409840"/>
                <a:ext cx="0" cy="17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622600" y="42908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622600" y="4518000"/>
                <a:ext cx="0" cy="158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55" name=""/>
          <p:cNvSpPr/>
          <p:nvPr/>
        </p:nvSpPr>
        <p:spPr>
          <a:xfrm>
            <a:off x="7748640" y="27478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7748640" y="59230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8066160" y="2747880"/>
            <a:ext cx="0" cy="317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7748640" y="2747880"/>
            <a:ext cx="0" cy="63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570640" y="3633840"/>
            <a:ext cx="0" cy="140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5570640" y="3382920"/>
            <a:ext cx="2178000" cy="25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570640" y="3973680"/>
            <a:ext cx="253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570640" y="4699080"/>
            <a:ext cx="2728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343480" y="4341960"/>
            <a:ext cx="1368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846840" y="434196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7074000" y="434196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7748640" y="4359240"/>
            <a:ext cx="0" cy="156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570640" y="5038560"/>
            <a:ext cx="2178000" cy="22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5843520" y="483552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910120" y="39736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910120" y="46990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900760" y="433548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821200" y="4335480"/>
            <a:ext cx="0" cy="5014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748640" y="2884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748640" y="3224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7556400" y="3049560"/>
            <a:ext cx="26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7861320" y="3048120"/>
            <a:ext cx="63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7972560" y="3048120"/>
            <a:ext cx="25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7743960" y="5440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7743960" y="5780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7551720" y="5627520"/>
            <a:ext cx="26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7856640" y="5626080"/>
            <a:ext cx="63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7967520" y="5626080"/>
            <a:ext cx="250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5568840" y="3613320"/>
            <a:ext cx="146160" cy="14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5664240" y="3568680"/>
            <a:ext cx="399960" cy="39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5962680" y="3530520"/>
            <a:ext cx="44460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6267600" y="3492360"/>
            <a:ext cx="48240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6572160" y="3454560"/>
            <a:ext cx="520920" cy="52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6883560" y="3416400"/>
            <a:ext cx="55224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7188120" y="3225960"/>
            <a:ext cx="743040" cy="742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7493040" y="3403440"/>
            <a:ext cx="56520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7797960" y="3708360"/>
            <a:ext cx="260280" cy="260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7962840" y="2781360"/>
            <a:ext cx="95400" cy="9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7746840" y="2749680"/>
            <a:ext cx="76320" cy="7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8309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830920" y="385920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58975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663480" y="2409840"/>
            <a:ext cx="3727440" cy="3695760"/>
            <a:chOff x="663480" y="2409840"/>
            <a:chExt cx="3727440" cy="3695760"/>
          </a:xfrm>
        </p:grpSpPr>
        <p:sp>
          <p:nvSpPr>
            <p:cNvPr id="1999" name=""/>
            <p:cNvSpPr/>
            <p:nvPr/>
          </p:nvSpPr>
          <p:spPr>
            <a:xfrm>
              <a:off x="1670040" y="3382920"/>
              <a:ext cx="1882800" cy="1882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901880" y="3637080"/>
              <a:ext cx="1413000" cy="141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027080" y="2749680"/>
              <a:ext cx="3152880" cy="315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163600" y="3881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257560" y="3975120"/>
              <a:ext cx="725400" cy="725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443320" y="288432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683160" y="417024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182600" y="418608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448000" y="542916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63480" y="4346640"/>
              <a:ext cx="174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544840" y="434664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771640" y="4346640"/>
              <a:ext cx="16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1" name=""/>
            <p:cNvGrpSpPr/>
            <p:nvPr/>
          </p:nvGrpSpPr>
          <p:grpSpPr>
            <a:xfrm>
              <a:off x="2622600" y="2409840"/>
              <a:ext cx="0" cy="3695760"/>
              <a:chOff x="2622600" y="2409840"/>
              <a:chExt cx="0" cy="3695760"/>
            </a:xfrm>
          </p:grpSpPr>
          <p:sp>
            <p:nvSpPr>
              <p:cNvPr id="2012" name=""/>
              <p:cNvSpPr/>
              <p:nvPr/>
            </p:nvSpPr>
            <p:spPr>
              <a:xfrm>
                <a:off x="2622600" y="2409840"/>
                <a:ext cx="0" cy="17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2622600" y="42908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2622600" y="4518000"/>
                <a:ext cx="0" cy="158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15" name=""/>
          <p:cNvSpPr/>
          <p:nvPr/>
        </p:nvSpPr>
        <p:spPr>
          <a:xfrm>
            <a:off x="7748640" y="27478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748640" y="59230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066160" y="2747880"/>
            <a:ext cx="0" cy="317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7748640" y="2747880"/>
            <a:ext cx="0" cy="63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570640" y="3633840"/>
            <a:ext cx="0" cy="140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 flipV="1">
            <a:off x="5570640" y="3382920"/>
            <a:ext cx="2178000" cy="25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570640" y="3973680"/>
            <a:ext cx="253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570640" y="4699080"/>
            <a:ext cx="2728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343480" y="4341960"/>
            <a:ext cx="1368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6846840" y="434196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7074000" y="434196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7748640" y="4359240"/>
            <a:ext cx="0" cy="156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570640" y="5038560"/>
            <a:ext cx="2178000" cy="22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5843520" y="483552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910120" y="39736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5910120" y="46990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5900760" y="433548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821200" y="4335480"/>
            <a:ext cx="0" cy="5014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7748640" y="2884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7748640" y="3224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7556400" y="3049560"/>
            <a:ext cx="26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7861320" y="3048120"/>
            <a:ext cx="63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7972560" y="3048120"/>
            <a:ext cx="25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7743960" y="5440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7743960" y="5780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7551720" y="5627520"/>
            <a:ext cx="26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7856640" y="5626080"/>
            <a:ext cx="63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7967520" y="5626080"/>
            <a:ext cx="250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5568840" y="3613320"/>
            <a:ext cx="146160" cy="14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5664240" y="3568680"/>
            <a:ext cx="399960" cy="39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5962680" y="3530520"/>
            <a:ext cx="44460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6267600" y="3492360"/>
            <a:ext cx="48240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V="1">
            <a:off x="6572160" y="3454560"/>
            <a:ext cx="520920" cy="52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V="1">
            <a:off x="6883560" y="3416400"/>
            <a:ext cx="55224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V="1">
            <a:off x="7188120" y="3225960"/>
            <a:ext cx="743040" cy="742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V="1">
            <a:off x="7493040" y="3403440"/>
            <a:ext cx="56520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V="1">
            <a:off x="7797960" y="3708360"/>
            <a:ext cx="260280" cy="260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V="1">
            <a:off x="7962840" y="2781360"/>
            <a:ext cx="95400" cy="9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7746840" y="2749680"/>
            <a:ext cx="76320" cy="7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58309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5830920" y="385920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8975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3825720" y="5600520"/>
            <a:ext cx="44877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the correct projection of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section view of the part.  Hid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s may be removed from the section 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8" name=""/>
          <p:cNvGrpSpPr/>
          <p:nvPr/>
        </p:nvGrpSpPr>
        <p:grpSpPr>
          <a:xfrm>
            <a:off x="663480" y="2409840"/>
            <a:ext cx="3727440" cy="3695760"/>
            <a:chOff x="663480" y="2409840"/>
            <a:chExt cx="3727440" cy="3695760"/>
          </a:xfrm>
        </p:grpSpPr>
        <p:sp>
          <p:nvSpPr>
            <p:cNvPr id="2059" name=""/>
            <p:cNvSpPr/>
            <p:nvPr/>
          </p:nvSpPr>
          <p:spPr>
            <a:xfrm>
              <a:off x="1670040" y="3382920"/>
              <a:ext cx="1882800" cy="1882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901880" y="3637080"/>
              <a:ext cx="1413000" cy="141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027080" y="2749680"/>
              <a:ext cx="3152880" cy="3152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163600" y="3881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257560" y="3975120"/>
              <a:ext cx="725400" cy="725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443320" y="288432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683160" y="417024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182600" y="418608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448000" y="5429160"/>
              <a:ext cx="339840" cy="3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63480" y="4346640"/>
              <a:ext cx="1746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544840" y="4346640"/>
              <a:ext cx="114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771640" y="4346640"/>
              <a:ext cx="161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1" name=""/>
            <p:cNvGrpSpPr/>
            <p:nvPr/>
          </p:nvGrpSpPr>
          <p:grpSpPr>
            <a:xfrm>
              <a:off x="2622600" y="2409840"/>
              <a:ext cx="0" cy="3695760"/>
              <a:chOff x="2622600" y="2409840"/>
              <a:chExt cx="0" cy="3695760"/>
            </a:xfrm>
          </p:grpSpPr>
          <p:sp>
            <p:nvSpPr>
              <p:cNvPr id="2072" name=""/>
              <p:cNvSpPr/>
              <p:nvPr/>
            </p:nvSpPr>
            <p:spPr>
              <a:xfrm>
                <a:off x="2622600" y="2409840"/>
                <a:ext cx="0" cy="17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622600" y="4290840"/>
                <a:ext cx="0" cy="11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622600" y="4518000"/>
                <a:ext cx="0" cy="158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75" name=""/>
          <p:cNvSpPr/>
          <p:nvPr/>
        </p:nvSpPr>
        <p:spPr>
          <a:xfrm>
            <a:off x="7748640" y="27478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7748640" y="592308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8066160" y="2747880"/>
            <a:ext cx="0" cy="317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7748640" y="2747880"/>
            <a:ext cx="0" cy="63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5570640" y="3633840"/>
            <a:ext cx="0" cy="140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5570640" y="3382920"/>
            <a:ext cx="2178000" cy="25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570640" y="3973680"/>
            <a:ext cx="252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343480" y="4341960"/>
            <a:ext cx="1368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6846840" y="434196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7074000" y="434196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748640" y="4359240"/>
            <a:ext cx="0" cy="156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570640" y="5038560"/>
            <a:ext cx="2178000" cy="22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910120" y="3973680"/>
            <a:ext cx="215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7748640" y="2884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7748640" y="3224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0" name=""/>
          <p:cNvGrpSpPr/>
          <p:nvPr/>
        </p:nvGrpSpPr>
        <p:grpSpPr>
          <a:xfrm>
            <a:off x="7556400" y="3048120"/>
            <a:ext cx="666720" cy="1440"/>
            <a:chOff x="7556400" y="3048120"/>
            <a:chExt cx="666720" cy="1440"/>
          </a:xfrm>
        </p:grpSpPr>
        <p:sp>
          <p:nvSpPr>
            <p:cNvPr id="2091" name=""/>
            <p:cNvSpPr/>
            <p:nvPr/>
          </p:nvSpPr>
          <p:spPr>
            <a:xfrm>
              <a:off x="7556400" y="3049560"/>
              <a:ext cx="263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861320" y="304812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972560" y="3048120"/>
              <a:ext cx="250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4" name=""/>
          <p:cNvSpPr/>
          <p:nvPr/>
        </p:nvSpPr>
        <p:spPr>
          <a:xfrm>
            <a:off x="7743960" y="54403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7743960" y="5780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7551720" y="5626080"/>
            <a:ext cx="666720" cy="1440"/>
            <a:chOff x="7551720" y="5626080"/>
            <a:chExt cx="666720" cy="1440"/>
          </a:xfrm>
        </p:grpSpPr>
        <p:sp>
          <p:nvSpPr>
            <p:cNvPr id="2097" name=""/>
            <p:cNvSpPr/>
            <p:nvPr/>
          </p:nvSpPr>
          <p:spPr>
            <a:xfrm>
              <a:off x="7551720" y="5627520"/>
              <a:ext cx="263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856640" y="562608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967520" y="5626080"/>
              <a:ext cx="250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0" name=""/>
          <p:cNvSpPr/>
          <p:nvPr/>
        </p:nvSpPr>
        <p:spPr>
          <a:xfrm flipV="1">
            <a:off x="5568840" y="3613320"/>
            <a:ext cx="146160" cy="14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5664240" y="3568680"/>
            <a:ext cx="399960" cy="39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5962680" y="3530520"/>
            <a:ext cx="44460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6267600" y="3492360"/>
            <a:ext cx="48240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V="1">
            <a:off x="6572160" y="3454560"/>
            <a:ext cx="520920" cy="52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 flipV="1">
            <a:off x="6883560" y="3416400"/>
            <a:ext cx="55224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7188120" y="3225960"/>
            <a:ext cx="743040" cy="742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7493040" y="3403440"/>
            <a:ext cx="56520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7797960" y="3708360"/>
            <a:ext cx="260280" cy="260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7962840" y="2781360"/>
            <a:ext cx="95400" cy="9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7746840" y="2749680"/>
            <a:ext cx="76320" cy="7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lf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8309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830920" y="3859200"/>
            <a:ext cx="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5897520" y="3859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3825720" y="5600520"/>
            <a:ext cx="44877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the correct projection of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section view of the part.  Hid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s may be removed from the section 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jecting Section 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5600" y="1073160"/>
            <a:ext cx="864864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 arrowheads, when used, 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way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icate the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ine of sigh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r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 section views (full, half, offset, etc.), are usually projected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hin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utting plane (</a:t>
            </a:r>
            <a:r>
              <a:rPr b="1" i="1" lang="en-US" sz="32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behind meaning in the direction opposite to that indicated by the cutting plane arrowhead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ocating the section view may be necessary and appropriate, but th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ient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view, relative to the parent view,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hould not be chang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708120" y="2355840"/>
            <a:ext cx="7772400" cy="12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 txBox="1"/>
          <p:nvPr/>
        </p:nvSpPr>
        <p:spPr>
          <a:xfrm>
            <a:off x="685800" y="28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422280" y="1660680"/>
            <a:ext cx="838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sections result from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than one right-angle directional chang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utting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features are aligned into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e same projection plan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se in interpreting dimensional data and drawing specif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sections allow us to provid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r breadth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detail with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ewer section vi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1216080" y="2112840"/>
            <a:ext cx="2516040" cy="36752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7021440" y="2112840"/>
            <a:ext cx="339840" cy="36752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6000840" y="2112840"/>
            <a:ext cx="1020600" cy="976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6386400" y="3089160"/>
            <a:ext cx="635040" cy="18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216080" y="2112840"/>
            <a:ext cx="2516040" cy="36752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7021440" y="2112840"/>
            <a:ext cx="339840" cy="36752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6000840" y="2112840"/>
            <a:ext cx="1020600" cy="976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386400" y="3089160"/>
            <a:ext cx="635040" cy="18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2131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2138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2145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2152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5" name=""/>
          <p:cNvSpPr/>
          <p:nvPr/>
        </p:nvSpPr>
        <p:spPr>
          <a:xfrm flipH="1">
            <a:off x="6792840" y="46162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6589800" y="461628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H="1">
            <a:off x="6191280" y="46162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6811920" y="353052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6608880" y="353052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6172200" y="353052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1" name=""/>
          <p:cNvGrpSpPr/>
          <p:nvPr/>
        </p:nvGrpSpPr>
        <p:grpSpPr>
          <a:xfrm>
            <a:off x="6904080" y="2370240"/>
            <a:ext cx="501480" cy="0"/>
            <a:chOff x="6904080" y="2370240"/>
            <a:chExt cx="501480" cy="0"/>
          </a:xfrm>
        </p:grpSpPr>
        <p:sp>
          <p:nvSpPr>
            <p:cNvPr id="2162" name=""/>
            <p:cNvSpPr/>
            <p:nvPr/>
          </p:nvSpPr>
          <p:spPr>
            <a:xfrm flipH="1">
              <a:off x="7251840" y="237024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7093080" y="237024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6904080" y="237024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6885000" y="5513400"/>
            <a:ext cx="501480" cy="0"/>
            <a:chOff x="6885000" y="5513400"/>
            <a:chExt cx="501480" cy="0"/>
          </a:xfrm>
        </p:grpSpPr>
        <p:sp>
          <p:nvSpPr>
            <p:cNvPr id="2166" name=""/>
            <p:cNvSpPr/>
            <p:nvPr/>
          </p:nvSpPr>
          <p:spPr>
            <a:xfrm flipH="1">
              <a:off x="723276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H="1">
              <a:off x="707400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688500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1257480" y="5254560"/>
            <a:ext cx="501480" cy="528840"/>
            <a:chOff x="1257480" y="5254560"/>
            <a:chExt cx="501480" cy="528840"/>
          </a:xfrm>
        </p:grpSpPr>
        <p:sp>
          <p:nvSpPr>
            <p:cNvPr id="2170" name=""/>
            <p:cNvSpPr/>
            <p:nvPr/>
          </p:nvSpPr>
          <p:spPr>
            <a:xfrm>
              <a:off x="1501920" y="525456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01920" y="544680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501920" y="56214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1604880" y="55198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>
              <a:off x="1446120" y="5519880"/>
              <a:ext cx="106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257480" y="55198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7021440" y="2112840"/>
            <a:ext cx="339840" cy="36752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6000840" y="2112840"/>
            <a:ext cx="1020600" cy="976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6386400" y="3089160"/>
            <a:ext cx="635040" cy="18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0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2181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2188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2195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1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2202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5" name=""/>
          <p:cNvSpPr/>
          <p:nvPr/>
        </p:nvSpPr>
        <p:spPr>
          <a:xfrm flipH="1">
            <a:off x="6792840" y="46162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6589800" y="461628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 flipH="1">
            <a:off x="6191280" y="46162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6811920" y="353052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6608880" y="353052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 flipH="1">
            <a:off x="6172200" y="353052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1" name=""/>
          <p:cNvGrpSpPr/>
          <p:nvPr/>
        </p:nvGrpSpPr>
        <p:grpSpPr>
          <a:xfrm>
            <a:off x="6904080" y="2370240"/>
            <a:ext cx="501480" cy="0"/>
            <a:chOff x="6904080" y="2370240"/>
            <a:chExt cx="501480" cy="0"/>
          </a:xfrm>
        </p:grpSpPr>
        <p:sp>
          <p:nvSpPr>
            <p:cNvPr id="2212" name=""/>
            <p:cNvSpPr/>
            <p:nvPr/>
          </p:nvSpPr>
          <p:spPr>
            <a:xfrm flipH="1">
              <a:off x="7251840" y="237024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7093080" y="237024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>
              <a:off x="6904080" y="237024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5" name=""/>
          <p:cNvGrpSpPr/>
          <p:nvPr/>
        </p:nvGrpSpPr>
        <p:grpSpPr>
          <a:xfrm>
            <a:off x="6885000" y="5513400"/>
            <a:ext cx="501480" cy="0"/>
            <a:chOff x="6885000" y="5513400"/>
            <a:chExt cx="501480" cy="0"/>
          </a:xfrm>
        </p:grpSpPr>
        <p:sp>
          <p:nvSpPr>
            <p:cNvPr id="2216" name=""/>
            <p:cNvSpPr/>
            <p:nvPr/>
          </p:nvSpPr>
          <p:spPr>
            <a:xfrm flipH="1">
              <a:off x="723276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>
              <a:off x="707400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688500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1270080" y="5234040"/>
            <a:ext cx="501480" cy="528480"/>
            <a:chOff x="1270080" y="5234040"/>
            <a:chExt cx="501480" cy="528480"/>
          </a:xfrm>
        </p:grpSpPr>
        <p:sp>
          <p:nvSpPr>
            <p:cNvPr id="2220" name=""/>
            <p:cNvSpPr/>
            <p:nvPr/>
          </p:nvSpPr>
          <p:spPr>
            <a:xfrm>
              <a:off x="1514520" y="523404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514520" y="54259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514520" y="5600880"/>
              <a:ext cx="0" cy="161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>
              <a:off x="1617840" y="54990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1459080" y="5499000"/>
              <a:ext cx="106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1270080" y="54990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1346040" y="53262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4" name=""/>
          <p:cNvGrpSpPr/>
          <p:nvPr/>
        </p:nvGrpSpPr>
        <p:grpSpPr>
          <a:xfrm>
            <a:off x="2647800" y="3076560"/>
            <a:ext cx="909720" cy="907920"/>
            <a:chOff x="2647800" y="3076560"/>
            <a:chExt cx="909720" cy="907920"/>
          </a:xfrm>
        </p:grpSpPr>
        <p:grpSp>
          <p:nvGrpSpPr>
            <p:cNvPr id="2235" name=""/>
            <p:cNvGrpSpPr/>
            <p:nvPr/>
          </p:nvGrpSpPr>
          <p:grpSpPr>
            <a:xfrm>
              <a:off x="3102120" y="3076560"/>
              <a:ext cx="0" cy="907920"/>
              <a:chOff x="3102120" y="3076560"/>
              <a:chExt cx="0" cy="907920"/>
            </a:xfrm>
          </p:grpSpPr>
          <p:sp>
            <p:nvSpPr>
              <p:cNvPr id="2236" name=""/>
              <p:cNvSpPr/>
              <p:nvPr/>
            </p:nvSpPr>
            <p:spPr>
              <a:xfrm>
                <a:off x="3102120" y="307656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102120" y="3457440"/>
                <a:ext cx="0" cy="12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102120" y="363384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9" name=""/>
            <p:cNvGrpSpPr/>
            <p:nvPr/>
          </p:nvGrpSpPr>
          <p:grpSpPr>
            <a:xfrm>
              <a:off x="2647800" y="3530520"/>
              <a:ext cx="909720" cy="0"/>
              <a:chOff x="2647800" y="3530520"/>
              <a:chExt cx="909720" cy="0"/>
            </a:xfrm>
          </p:grpSpPr>
          <p:sp>
            <p:nvSpPr>
              <p:cNvPr id="2240" name=""/>
              <p:cNvSpPr/>
              <p:nvPr/>
            </p:nvSpPr>
            <p:spPr>
              <a:xfrm flipH="1">
                <a:off x="3205080" y="353052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H="1">
                <a:off x="3046320" y="353052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H="1">
                <a:off x="2647800" y="3530520"/>
                <a:ext cx="351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3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7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2248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2253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5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8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2259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2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2263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9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2270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2277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7010280" y="2249640"/>
            <a:ext cx="0" cy="274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6877080" y="304956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H="1">
            <a:off x="6792840" y="46162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 flipH="1">
            <a:off x="6589800" y="461628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 flipH="1">
            <a:off x="6191280" y="46162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 flipV="1">
            <a:off x="6388200" y="3181320"/>
            <a:ext cx="0" cy="723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7010280" y="211284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6391440" y="3179880"/>
            <a:ext cx="490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6391440" y="3900600"/>
            <a:ext cx="51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6843600" y="3101040"/>
            <a:ext cx="52200" cy="105840"/>
          </a:xfrm>
          <a:custGeom>
            <a:avLst/>
            <a:gdLst/>
            <a:ahLst/>
            <a:rect l="0" t="0" r="r" b="b"/>
            <a:pathLst>
              <a:path fill="none" w="145" h="294">
                <a:moveTo>
                  <a:pt x="145" y="0"/>
                </a:moveTo>
                <a:lnTo>
                  <a:pt x="145" y="0"/>
                </a:lnTo>
                <a:cubicBezTo>
                  <a:pt x="107" y="29"/>
                  <a:pt x="75" y="66"/>
                  <a:pt x="50" y="108"/>
                </a:cubicBezTo>
                <a:cubicBezTo>
                  <a:pt x="17" y="164"/>
                  <a:pt x="0" y="228"/>
                  <a:pt x="0" y="293"/>
                </a:cubicBezTo>
                <a:lnTo>
                  <a:pt x="0" y="29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 flipH="1">
            <a:off x="6811920" y="353052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 flipH="1">
            <a:off x="6608880" y="353052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6172200" y="353052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7020000" y="2200320"/>
            <a:ext cx="333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7010280" y="253368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4" name=""/>
          <p:cNvGrpSpPr/>
          <p:nvPr/>
        </p:nvGrpSpPr>
        <p:grpSpPr>
          <a:xfrm>
            <a:off x="6904080" y="2370240"/>
            <a:ext cx="501480" cy="0"/>
            <a:chOff x="6904080" y="2370240"/>
            <a:chExt cx="501480" cy="0"/>
          </a:xfrm>
        </p:grpSpPr>
        <p:sp>
          <p:nvSpPr>
            <p:cNvPr id="2315" name=""/>
            <p:cNvSpPr/>
            <p:nvPr/>
          </p:nvSpPr>
          <p:spPr>
            <a:xfrm flipH="1">
              <a:off x="7251840" y="237024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>
              <a:off x="7093080" y="237024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>
              <a:off x="6904080" y="237024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6885000" y="5513400"/>
            <a:ext cx="501480" cy="0"/>
            <a:chOff x="6885000" y="5513400"/>
            <a:chExt cx="501480" cy="0"/>
          </a:xfrm>
        </p:grpSpPr>
        <p:sp>
          <p:nvSpPr>
            <p:cNvPr id="2319" name=""/>
            <p:cNvSpPr/>
            <p:nvPr/>
          </p:nvSpPr>
          <p:spPr>
            <a:xfrm flipH="1">
              <a:off x="723276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707400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688500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2" name=""/>
          <p:cNvSpPr/>
          <p:nvPr/>
        </p:nvSpPr>
        <p:spPr>
          <a:xfrm>
            <a:off x="7010280" y="534348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7010280" y="567684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1924200" y="417672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1924200" y="4543560"/>
            <a:ext cx="0" cy="12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924200" y="474012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289080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2647800" y="3076560"/>
            <a:ext cx="909720" cy="907920"/>
            <a:chOff x="2647800" y="3076560"/>
            <a:chExt cx="909720" cy="907920"/>
          </a:xfrm>
        </p:grpSpPr>
        <p:grpSp>
          <p:nvGrpSpPr>
            <p:cNvPr id="2332" name=""/>
            <p:cNvGrpSpPr/>
            <p:nvPr/>
          </p:nvGrpSpPr>
          <p:grpSpPr>
            <a:xfrm>
              <a:off x="3102120" y="3076560"/>
              <a:ext cx="0" cy="907920"/>
              <a:chOff x="3102120" y="3076560"/>
              <a:chExt cx="0" cy="907920"/>
            </a:xfrm>
          </p:grpSpPr>
          <p:sp>
            <p:nvSpPr>
              <p:cNvPr id="2333" name=""/>
              <p:cNvSpPr/>
              <p:nvPr/>
            </p:nvSpPr>
            <p:spPr>
              <a:xfrm>
                <a:off x="3102120" y="307656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102120" y="3457440"/>
                <a:ext cx="0" cy="12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102120" y="363384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6" name=""/>
            <p:cNvGrpSpPr/>
            <p:nvPr/>
          </p:nvGrpSpPr>
          <p:grpSpPr>
            <a:xfrm>
              <a:off x="2647800" y="3530520"/>
              <a:ext cx="909720" cy="0"/>
              <a:chOff x="2647800" y="3530520"/>
              <a:chExt cx="909720" cy="0"/>
            </a:xfrm>
          </p:grpSpPr>
          <p:sp>
            <p:nvSpPr>
              <p:cNvPr id="2337" name=""/>
              <p:cNvSpPr/>
              <p:nvPr/>
            </p:nvSpPr>
            <p:spPr>
              <a:xfrm flipH="1">
                <a:off x="3205080" y="353052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3046320" y="353052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2647800" y="3530520"/>
                <a:ext cx="351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0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2346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2351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3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6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2357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9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2362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2292480" y="1987560"/>
            <a:ext cx="0" cy="1114560"/>
            <a:chOff x="2292480" y="1987560"/>
            <a:chExt cx="0" cy="1114560"/>
          </a:xfrm>
        </p:grpSpPr>
        <p:sp>
          <p:nvSpPr>
            <p:cNvPr id="2369" name=""/>
            <p:cNvSpPr/>
            <p:nvPr/>
          </p:nvSpPr>
          <p:spPr>
            <a:xfrm>
              <a:off x="2292480" y="1987560"/>
              <a:ext cx="0" cy="490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292480" y="255276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292480" y="274968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2373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9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2380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6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7010280" y="2249640"/>
            <a:ext cx="0" cy="274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9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2400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3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 flipH="1">
            <a:off x="6792840" y="46162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 flipH="1">
            <a:off x="6589800" y="461628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H="1">
            <a:off x="6191280" y="46162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6388200" y="3181320"/>
            <a:ext cx="0" cy="723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7010280" y="211284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6391440" y="3179880"/>
            <a:ext cx="490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6391440" y="3900600"/>
            <a:ext cx="51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6391440" y="332424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6391440" y="375300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6811920" y="353052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6608880" y="353052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6172200" y="353052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7020000" y="2200320"/>
            <a:ext cx="333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7010280" y="253368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6904080" y="2370240"/>
            <a:ext cx="501480" cy="0"/>
            <a:chOff x="6904080" y="2370240"/>
            <a:chExt cx="501480" cy="0"/>
          </a:xfrm>
        </p:grpSpPr>
        <p:sp>
          <p:nvSpPr>
            <p:cNvPr id="2422" name=""/>
            <p:cNvSpPr/>
            <p:nvPr/>
          </p:nvSpPr>
          <p:spPr>
            <a:xfrm flipH="1">
              <a:off x="7251840" y="237024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7093080" y="237024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>
              <a:off x="6904080" y="237024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5" name=""/>
          <p:cNvGrpSpPr/>
          <p:nvPr/>
        </p:nvGrpSpPr>
        <p:grpSpPr>
          <a:xfrm>
            <a:off x="6885000" y="5513400"/>
            <a:ext cx="501480" cy="0"/>
            <a:chOff x="6885000" y="5513400"/>
            <a:chExt cx="501480" cy="0"/>
          </a:xfrm>
        </p:grpSpPr>
        <p:sp>
          <p:nvSpPr>
            <p:cNvPr id="2426" name=""/>
            <p:cNvSpPr/>
            <p:nvPr/>
          </p:nvSpPr>
          <p:spPr>
            <a:xfrm flipH="1">
              <a:off x="723276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H="1">
              <a:off x="707400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688500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7010280" y="534348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7010280" y="567684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1" name=""/>
          <p:cNvGrpSpPr/>
          <p:nvPr/>
        </p:nvGrpSpPr>
        <p:grpSpPr>
          <a:xfrm>
            <a:off x="1801800" y="2611440"/>
            <a:ext cx="1114560" cy="0"/>
            <a:chOff x="1801800" y="2611440"/>
            <a:chExt cx="1114560" cy="0"/>
          </a:xfrm>
        </p:grpSpPr>
        <p:sp>
          <p:nvSpPr>
            <p:cNvPr id="2432" name=""/>
            <p:cNvSpPr/>
            <p:nvPr/>
          </p:nvSpPr>
          <p:spPr>
            <a:xfrm flipH="1">
              <a:off x="2425680" y="2611440"/>
              <a:ext cx="490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2222640" y="261144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1801800" y="2611440"/>
              <a:ext cx="352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5" name=""/>
          <p:cNvSpPr/>
          <p:nvPr/>
        </p:nvSpPr>
        <p:spPr>
          <a:xfrm>
            <a:off x="1924200" y="417672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1924200" y="4543560"/>
            <a:ext cx="0" cy="12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1924200" y="474012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6877080" y="304956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6843600" y="3101040"/>
            <a:ext cx="52200" cy="105840"/>
          </a:xfrm>
          <a:custGeom>
            <a:avLst/>
            <a:gdLst/>
            <a:ahLst/>
            <a:rect l="0" t="0" r="r" b="b"/>
            <a:pathLst>
              <a:path fill="none" w="145" h="294">
                <a:moveTo>
                  <a:pt x="145" y="0"/>
                </a:moveTo>
                <a:lnTo>
                  <a:pt x="145" y="0"/>
                </a:lnTo>
                <a:cubicBezTo>
                  <a:pt x="107" y="29"/>
                  <a:pt x="75" y="66"/>
                  <a:pt x="50" y="108"/>
                </a:cubicBezTo>
                <a:cubicBezTo>
                  <a:pt x="17" y="164"/>
                  <a:pt x="0" y="228"/>
                  <a:pt x="0" y="293"/>
                </a:cubicBezTo>
                <a:lnTo>
                  <a:pt x="0" y="29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289080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2647800" y="3076560"/>
            <a:ext cx="909720" cy="907920"/>
            <a:chOff x="2647800" y="3076560"/>
            <a:chExt cx="909720" cy="907920"/>
          </a:xfrm>
        </p:grpSpPr>
        <p:grpSp>
          <p:nvGrpSpPr>
            <p:cNvPr id="2449" name=""/>
            <p:cNvGrpSpPr/>
            <p:nvPr/>
          </p:nvGrpSpPr>
          <p:grpSpPr>
            <a:xfrm>
              <a:off x="3102120" y="3076560"/>
              <a:ext cx="0" cy="907920"/>
              <a:chOff x="3102120" y="3076560"/>
              <a:chExt cx="0" cy="907920"/>
            </a:xfrm>
          </p:grpSpPr>
          <p:sp>
            <p:nvSpPr>
              <p:cNvPr id="2450" name=""/>
              <p:cNvSpPr/>
              <p:nvPr/>
            </p:nvSpPr>
            <p:spPr>
              <a:xfrm>
                <a:off x="3102120" y="307656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3102120" y="3457440"/>
                <a:ext cx="0" cy="12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102120" y="363384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3" name=""/>
            <p:cNvGrpSpPr/>
            <p:nvPr/>
          </p:nvGrpSpPr>
          <p:grpSpPr>
            <a:xfrm>
              <a:off x="2647800" y="3530520"/>
              <a:ext cx="909720" cy="0"/>
              <a:chOff x="2647800" y="3530520"/>
              <a:chExt cx="909720" cy="0"/>
            </a:xfrm>
          </p:grpSpPr>
          <p:sp>
            <p:nvSpPr>
              <p:cNvPr id="2454" name=""/>
              <p:cNvSpPr/>
              <p:nvPr/>
            </p:nvSpPr>
            <p:spPr>
              <a:xfrm flipH="1">
                <a:off x="3205080" y="353052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H="1">
                <a:off x="3046320" y="353052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H="1">
                <a:off x="2647800" y="3530520"/>
                <a:ext cx="351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2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2463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7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2468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0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3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2474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6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8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2479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5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8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2489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2496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2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7010280" y="2249640"/>
            <a:ext cx="0" cy="274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5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2516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H="1">
            <a:off x="6792840" y="46162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6589800" y="461628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 flipH="1">
            <a:off x="6191280" y="46162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V="1">
            <a:off x="6388200" y="3181320"/>
            <a:ext cx="0" cy="723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7010280" y="211284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6391440" y="3179880"/>
            <a:ext cx="490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6391440" y="3900600"/>
            <a:ext cx="51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6391440" y="332424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6391440" y="375300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6811920" y="353052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6608880" y="353052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6172200" y="353052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7020000" y="2200320"/>
            <a:ext cx="333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7010280" y="253368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6904080" y="2370240"/>
            <a:ext cx="501480" cy="0"/>
            <a:chOff x="6904080" y="2370240"/>
            <a:chExt cx="501480" cy="0"/>
          </a:xfrm>
        </p:grpSpPr>
        <p:sp>
          <p:nvSpPr>
            <p:cNvPr id="2538" name=""/>
            <p:cNvSpPr/>
            <p:nvPr/>
          </p:nvSpPr>
          <p:spPr>
            <a:xfrm flipH="1">
              <a:off x="7251840" y="237024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H="1">
              <a:off x="7093080" y="237024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904080" y="237024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1" name=""/>
          <p:cNvGrpSpPr/>
          <p:nvPr/>
        </p:nvGrpSpPr>
        <p:grpSpPr>
          <a:xfrm>
            <a:off x="6885000" y="5513400"/>
            <a:ext cx="501480" cy="0"/>
            <a:chOff x="6885000" y="5513400"/>
            <a:chExt cx="501480" cy="0"/>
          </a:xfrm>
        </p:grpSpPr>
        <p:sp>
          <p:nvSpPr>
            <p:cNvPr id="2542" name=""/>
            <p:cNvSpPr/>
            <p:nvPr/>
          </p:nvSpPr>
          <p:spPr>
            <a:xfrm flipH="1">
              <a:off x="723276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H="1">
              <a:off x="707400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H="1">
              <a:off x="688500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5" name=""/>
          <p:cNvSpPr/>
          <p:nvPr/>
        </p:nvSpPr>
        <p:spPr>
          <a:xfrm>
            <a:off x="7010280" y="534348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7010280" y="567684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7" name=""/>
          <p:cNvGrpSpPr/>
          <p:nvPr/>
        </p:nvGrpSpPr>
        <p:grpSpPr>
          <a:xfrm>
            <a:off x="1189080" y="1531800"/>
            <a:ext cx="1087560" cy="4583520"/>
            <a:chOff x="1189080" y="1531800"/>
            <a:chExt cx="1087560" cy="4583520"/>
          </a:xfrm>
        </p:grpSpPr>
        <p:sp>
          <p:nvSpPr>
            <p:cNvPr id="2548" name=""/>
            <p:cNvSpPr/>
            <p:nvPr/>
          </p:nvSpPr>
          <p:spPr>
            <a:xfrm flipH="1">
              <a:off x="2085840" y="1577880"/>
              <a:ext cx="190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H="1">
              <a:off x="1314360" y="6073920"/>
              <a:ext cx="2001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189080" y="6022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951200" y="1531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270160" y="1571760"/>
              <a:ext cx="0" cy="3175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270160" y="2000160"/>
              <a:ext cx="0" cy="3016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270160" y="2444760"/>
              <a:ext cx="0" cy="3333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270160" y="2873520"/>
              <a:ext cx="0" cy="380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270160" y="3365640"/>
              <a:ext cx="0" cy="28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270160" y="3794040"/>
              <a:ext cx="0" cy="238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H="1">
              <a:off x="2127240" y="4032360"/>
              <a:ext cx="142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>
              <a:off x="1920960" y="4032360"/>
              <a:ext cx="950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920960" y="403236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920960" y="4381560"/>
              <a:ext cx="0" cy="412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920960" y="4873680"/>
              <a:ext cx="0" cy="2062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>
              <a:off x="1762200" y="5079960"/>
              <a:ext cx="1587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H="1">
              <a:off x="1523880" y="5079960"/>
              <a:ext cx="1270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523880" y="5079960"/>
              <a:ext cx="0" cy="174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523880" y="5419800"/>
              <a:ext cx="0" cy="2858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523880" y="582300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8" name=""/>
          <p:cNvSpPr/>
          <p:nvPr/>
        </p:nvSpPr>
        <p:spPr>
          <a:xfrm>
            <a:off x="6877080" y="304956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6843600" y="3101040"/>
            <a:ext cx="52200" cy="105840"/>
          </a:xfrm>
          <a:custGeom>
            <a:avLst/>
            <a:gdLst/>
            <a:ahLst/>
            <a:rect l="0" t="0" r="r" b="b"/>
            <a:pathLst>
              <a:path fill="none" w="145" h="294">
                <a:moveTo>
                  <a:pt x="145" y="0"/>
                </a:moveTo>
                <a:lnTo>
                  <a:pt x="145" y="0"/>
                </a:lnTo>
                <a:cubicBezTo>
                  <a:pt x="107" y="29"/>
                  <a:pt x="75" y="66"/>
                  <a:pt x="50" y="108"/>
                </a:cubicBezTo>
                <a:cubicBezTo>
                  <a:pt x="17" y="164"/>
                  <a:pt x="0" y="228"/>
                  <a:pt x="0" y="293"/>
                </a:cubicBezTo>
                <a:lnTo>
                  <a:pt x="0" y="29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289080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8" name=""/>
          <p:cNvGrpSpPr/>
          <p:nvPr/>
        </p:nvGrpSpPr>
        <p:grpSpPr>
          <a:xfrm>
            <a:off x="2647800" y="3076560"/>
            <a:ext cx="909720" cy="907920"/>
            <a:chOff x="2647800" y="3076560"/>
            <a:chExt cx="909720" cy="907920"/>
          </a:xfrm>
        </p:grpSpPr>
        <p:grpSp>
          <p:nvGrpSpPr>
            <p:cNvPr id="2579" name=""/>
            <p:cNvGrpSpPr/>
            <p:nvPr/>
          </p:nvGrpSpPr>
          <p:grpSpPr>
            <a:xfrm>
              <a:off x="3102120" y="3076560"/>
              <a:ext cx="0" cy="907920"/>
              <a:chOff x="3102120" y="3076560"/>
              <a:chExt cx="0" cy="907920"/>
            </a:xfrm>
          </p:grpSpPr>
          <p:sp>
            <p:nvSpPr>
              <p:cNvPr id="2580" name=""/>
              <p:cNvSpPr/>
              <p:nvPr/>
            </p:nvSpPr>
            <p:spPr>
              <a:xfrm>
                <a:off x="3102120" y="307656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102120" y="3457440"/>
                <a:ext cx="0" cy="12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102120" y="363384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3" name=""/>
            <p:cNvGrpSpPr/>
            <p:nvPr/>
          </p:nvGrpSpPr>
          <p:grpSpPr>
            <a:xfrm>
              <a:off x="2647800" y="3530520"/>
              <a:ext cx="909720" cy="0"/>
              <a:chOff x="2647800" y="3530520"/>
              <a:chExt cx="909720" cy="0"/>
            </a:xfrm>
          </p:grpSpPr>
          <p:sp>
            <p:nvSpPr>
              <p:cNvPr id="2584" name=""/>
              <p:cNvSpPr/>
              <p:nvPr/>
            </p:nvSpPr>
            <p:spPr>
              <a:xfrm flipH="1">
                <a:off x="3205080" y="353052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>
                <a:off x="3046320" y="353052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>
                <a:off x="2647800" y="3530520"/>
                <a:ext cx="351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87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2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2593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2598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0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3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2604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6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8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2609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5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8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2619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2626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2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7010280" y="2249640"/>
            <a:ext cx="0" cy="274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5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2646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9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 flipH="1">
            <a:off x="6792840" y="46162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 flipH="1">
            <a:off x="6589800" y="461628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6191280" y="46162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 flipV="1">
            <a:off x="6388200" y="3181320"/>
            <a:ext cx="0" cy="723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7010280" y="211284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6391440" y="3179880"/>
            <a:ext cx="490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6391440" y="3900600"/>
            <a:ext cx="51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6391440" y="332424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6391440" y="375300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6811920" y="353052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 flipH="1">
            <a:off x="6608880" y="353052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6172200" y="353052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7020000" y="2200320"/>
            <a:ext cx="333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7010280" y="253368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6904080" y="2370240"/>
            <a:ext cx="501480" cy="0"/>
            <a:chOff x="6904080" y="2370240"/>
            <a:chExt cx="501480" cy="0"/>
          </a:xfrm>
        </p:grpSpPr>
        <p:sp>
          <p:nvSpPr>
            <p:cNvPr id="2668" name=""/>
            <p:cNvSpPr/>
            <p:nvPr/>
          </p:nvSpPr>
          <p:spPr>
            <a:xfrm flipH="1">
              <a:off x="7251840" y="237024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H="1">
              <a:off x="7093080" y="237024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>
              <a:off x="6904080" y="237024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6885000" y="5513400"/>
            <a:ext cx="501480" cy="0"/>
            <a:chOff x="6885000" y="5513400"/>
            <a:chExt cx="501480" cy="0"/>
          </a:xfrm>
        </p:grpSpPr>
        <p:sp>
          <p:nvSpPr>
            <p:cNvPr id="2672" name=""/>
            <p:cNvSpPr/>
            <p:nvPr/>
          </p:nvSpPr>
          <p:spPr>
            <a:xfrm flipH="1">
              <a:off x="723276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>
              <a:off x="707400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688500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5" name=""/>
          <p:cNvSpPr/>
          <p:nvPr/>
        </p:nvSpPr>
        <p:spPr>
          <a:xfrm>
            <a:off x="7010280" y="534348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7010280" y="567684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7" name=""/>
          <p:cNvGrpSpPr/>
          <p:nvPr/>
        </p:nvGrpSpPr>
        <p:grpSpPr>
          <a:xfrm>
            <a:off x="1189080" y="1531800"/>
            <a:ext cx="1087560" cy="4583520"/>
            <a:chOff x="1189080" y="1531800"/>
            <a:chExt cx="1087560" cy="4583520"/>
          </a:xfrm>
        </p:grpSpPr>
        <p:sp>
          <p:nvSpPr>
            <p:cNvPr id="2678" name=""/>
            <p:cNvSpPr/>
            <p:nvPr/>
          </p:nvSpPr>
          <p:spPr>
            <a:xfrm flipH="1">
              <a:off x="2085840" y="1577880"/>
              <a:ext cx="190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H="1">
              <a:off x="1314360" y="6073920"/>
              <a:ext cx="2001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189080" y="6022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951200" y="1531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270160" y="1571760"/>
              <a:ext cx="0" cy="3175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270160" y="2000160"/>
              <a:ext cx="0" cy="3016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270160" y="2444760"/>
              <a:ext cx="0" cy="3333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270160" y="2873520"/>
              <a:ext cx="0" cy="380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270160" y="3365640"/>
              <a:ext cx="0" cy="28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270160" y="3794040"/>
              <a:ext cx="0" cy="238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2127240" y="4032360"/>
              <a:ext cx="142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1920960" y="4032360"/>
              <a:ext cx="950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920960" y="403236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920960" y="4381560"/>
              <a:ext cx="0" cy="412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920960" y="4873680"/>
              <a:ext cx="0" cy="2062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1762200" y="5079960"/>
              <a:ext cx="1587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1523880" y="5079960"/>
              <a:ext cx="1270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23880" y="5079960"/>
              <a:ext cx="0" cy="174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523880" y="5419800"/>
              <a:ext cx="0" cy="2858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523880" y="582300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8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6877080" y="304956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6843600" y="3101040"/>
            <a:ext cx="52200" cy="105840"/>
          </a:xfrm>
          <a:custGeom>
            <a:avLst/>
            <a:gdLst/>
            <a:ahLst/>
            <a:rect l="0" t="0" r="r" b="b"/>
            <a:pathLst>
              <a:path fill="none" w="145" h="294">
                <a:moveTo>
                  <a:pt x="145" y="0"/>
                </a:moveTo>
                <a:lnTo>
                  <a:pt x="145" y="0"/>
                </a:lnTo>
                <a:cubicBezTo>
                  <a:pt x="107" y="29"/>
                  <a:pt x="75" y="66"/>
                  <a:pt x="50" y="108"/>
                </a:cubicBezTo>
                <a:cubicBezTo>
                  <a:pt x="17" y="164"/>
                  <a:pt x="0" y="228"/>
                  <a:pt x="0" y="293"/>
                </a:cubicBezTo>
                <a:lnTo>
                  <a:pt x="0" y="29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120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tory Concep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0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2711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2712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5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2716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19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4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2725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9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2730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2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5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2736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8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0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2741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7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0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2751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2758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4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6" name=""/>
          <p:cNvGrpSpPr/>
          <p:nvPr/>
        </p:nvGrpSpPr>
        <p:grpSpPr>
          <a:xfrm>
            <a:off x="1189080" y="1531800"/>
            <a:ext cx="1087560" cy="4583520"/>
            <a:chOff x="1189080" y="1531800"/>
            <a:chExt cx="1087560" cy="4583520"/>
          </a:xfrm>
        </p:grpSpPr>
        <p:sp>
          <p:nvSpPr>
            <p:cNvPr id="2767" name=""/>
            <p:cNvSpPr/>
            <p:nvPr/>
          </p:nvSpPr>
          <p:spPr>
            <a:xfrm flipH="1">
              <a:off x="2085840" y="1577880"/>
              <a:ext cx="190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 flipH="1">
              <a:off x="1314360" y="6073920"/>
              <a:ext cx="2001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189080" y="6022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951200" y="1531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270160" y="1571760"/>
              <a:ext cx="0" cy="3175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270160" y="2000160"/>
              <a:ext cx="0" cy="3016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270160" y="2444760"/>
              <a:ext cx="0" cy="3333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270160" y="2873520"/>
              <a:ext cx="0" cy="380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270160" y="3365640"/>
              <a:ext cx="0" cy="28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270160" y="3794040"/>
              <a:ext cx="0" cy="238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H="1">
              <a:off x="2127240" y="4032360"/>
              <a:ext cx="142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>
              <a:off x="1920960" y="4032360"/>
              <a:ext cx="950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920960" y="403236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920960" y="4381560"/>
              <a:ext cx="0" cy="412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920960" y="4873680"/>
              <a:ext cx="0" cy="2062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>
              <a:off x="1762200" y="5079960"/>
              <a:ext cx="1587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H="1">
              <a:off x="1523880" y="5079960"/>
              <a:ext cx="1270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523880" y="5079960"/>
              <a:ext cx="0" cy="174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523880" y="5419800"/>
              <a:ext cx="0" cy="2858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523880" y="582300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7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7010280" y="3206880"/>
            <a:ext cx="0" cy="100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2799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2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3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2804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7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7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2818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1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0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2831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2832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5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2836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9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4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2845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2850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2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5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2856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8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0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2861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7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0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2871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7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2878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4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 flipH="1">
            <a:off x="2085840" y="1577880"/>
            <a:ext cx="19080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H="1">
            <a:off x="1314360" y="607392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1189080" y="6022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1951200" y="1531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270160" y="1571760"/>
            <a:ext cx="0" cy="31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270160" y="2000160"/>
            <a:ext cx="0" cy="3016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2270160" y="2444760"/>
            <a:ext cx="0" cy="333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2270160" y="2873520"/>
            <a:ext cx="0" cy="380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2270160" y="3365640"/>
            <a:ext cx="0" cy="285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2270160" y="3794040"/>
            <a:ext cx="0" cy="2383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2127240" y="4032360"/>
            <a:ext cx="1429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H="1">
            <a:off x="1920960" y="4032360"/>
            <a:ext cx="950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920960" y="403236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1920960" y="4381560"/>
            <a:ext cx="0" cy="4125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1920960" y="4873680"/>
            <a:ext cx="0" cy="2062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 flipH="1">
            <a:off x="1762200" y="5079960"/>
            <a:ext cx="1587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 flipH="1">
            <a:off x="1523880" y="5079960"/>
            <a:ext cx="127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1523880" y="5079960"/>
            <a:ext cx="0" cy="1746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1523880" y="5419800"/>
            <a:ext cx="0" cy="2858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523880" y="582300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9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2920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3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4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2925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6006960" y="2120760"/>
            <a:ext cx="8892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flipV="1">
            <a:off x="62355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flipV="1">
            <a:off x="6540480" y="2114640"/>
            <a:ext cx="17136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6845400" y="212076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flipV="1">
            <a:off x="7149960" y="2114640"/>
            <a:ext cx="1717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flipV="1">
            <a:off x="6661080" y="2895480"/>
            <a:ext cx="184320" cy="18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flipV="1">
            <a:off x="6946920" y="2908440"/>
            <a:ext cx="19044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flipV="1">
            <a:off x="6051600" y="2901960"/>
            <a:ext cx="177840" cy="17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V="1">
            <a:off x="6343560" y="2895480"/>
            <a:ext cx="196920" cy="19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flipV="1">
            <a:off x="7010280" y="3003480"/>
            <a:ext cx="336600" cy="33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flipV="1">
            <a:off x="7023240" y="3314880"/>
            <a:ext cx="317520" cy="31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flipV="1">
            <a:off x="7010280" y="3613320"/>
            <a:ext cx="336600" cy="33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6800760" y="3911760"/>
            <a:ext cx="55260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flipV="1">
            <a:off x="6489720" y="4330800"/>
            <a:ext cx="13320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flipV="1">
            <a:off x="7105680" y="4222800"/>
            <a:ext cx="241200" cy="24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flipV="1">
            <a:off x="6953400" y="4762440"/>
            <a:ext cx="15876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V="1">
            <a:off x="7023240" y="4826160"/>
            <a:ext cx="330120" cy="33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V="1">
            <a:off x="6680160" y="476892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V="1">
            <a:off x="6426360" y="476244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flipV="1">
            <a:off x="7149960" y="5130720"/>
            <a:ext cx="203400" cy="20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flipV="1">
            <a:off x="7061040" y="5673600"/>
            <a:ext cx="54000" cy="5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flipV="1">
            <a:off x="7308720" y="5740560"/>
            <a:ext cx="44640" cy="4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7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2958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1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1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2972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2973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6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2977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80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5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2986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0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2991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3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6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2997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9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3002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8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1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3012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3019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 flipH="1">
            <a:off x="2085840" y="1577880"/>
            <a:ext cx="19080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 flipH="1">
            <a:off x="1314360" y="607392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1189080" y="6022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1951200" y="1531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2270160" y="1571760"/>
            <a:ext cx="0" cy="31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2270160" y="2000160"/>
            <a:ext cx="0" cy="3016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2270160" y="2444760"/>
            <a:ext cx="0" cy="333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2270160" y="2873520"/>
            <a:ext cx="0" cy="380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2270160" y="3365640"/>
            <a:ext cx="0" cy="285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2270160" y="3794040"/>
            <a:ext cx="0" cy="2383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 flipH="1">
            <a:off x="2127240" y="4032360"/>
            <a:ext cx="1429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H="1">
            <a:off x="1920960" y="4032360"/>
            <a:ext cx="950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1920960" y="403236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1920960" y="4381560"/>
            <a:ext cx="0" cy="4125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1920960" y="4873680"/>
            <a:ext cx="0" cy="2062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1762200" y="5079960"/>
            <a:ext cx="1587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 flipH="1">
            <a:off x="1523880" y="5079960"/>
            <a:ext cx="127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1523880" y="5079960"/>
            <a:ext cx="0" cy="1746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1523880" y="5419800"/>
            <a:ext cx="0" cy="2858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1523880" y="582300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7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8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0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3061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4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5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3066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9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 flipV="1">
            <a:off x="6006960" y="2120760"/>
            <a:ext cx="8892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flipV="1">
            <a:off x="62355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 flipV="1">
            <a:off x="6540480" y="2114640"/>
            <a:ext cx="17136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 flipV="1">
            <a:off x="6845400" y="212076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 flipV="1">
            <a:off x="7149960" y="2114640"/>
            <a:ext cx="1717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 flipV="1">
            <a:off x="6661080" y="2895480"/>
            <a:ext cx="184320" cy="18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 flipV="1">
            <a:off x="6946920" y="2908440"/>
            <a:ext cx="19044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 flipV="1">
            <a:off x="6051600" y="2901960"/>
            <a:ext cx="177840" cy="17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 flipV="1">
            <a:off x="6343560" y="2895480"/>
            <a:ext cx="196920" cy="19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 flipV="1">
            <a:off x="7010280" y="3003480"/>
            <a:ext cx="336600" cy="33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 flipV="1">
            <a:off x="7023240" y="3314880"/>
            <a:ext cx="317520" cy="31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 flipV="1">
            <a:off x="7010280" y="3613320"/>
            <a:ext cx="336600" cy="33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 flipV="1">
            <a:off x="6800760" y="3911760"/>
            <a:ext cx="55260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 flipV="1">
            <a:off x="6489720" y="4330800"/>
            <a:ext cx="13320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 flipV="1">
            <a:off x="7105680" y="4222800"/>
            <a:ext cx="241200" cy="24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6953400" y="4762440"/>
            <a:ext cx="15876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 flipV="1">
            <a:off x="7023240" y="4826160"/>
            <a:ext cx="330120" cy="33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 flipV="1">
            <a:off x="6680160" y="476892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 flipV="1">
            <a:off x="6426360" y="476244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7149960" y="5130720"/>
            <a:ext cx="203400" cy="20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 flipV="1">
            <a:off x="7061040" y="5673600"/>
            <a:ext cx="54000" cy="5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 flipV="1">
            <a:off x="7308720" y="5740560"/>
            <a:ext cx="44640" cy="4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9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3100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3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 Peculia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"/>
          <p:cNvSpPr txBox="1"/>
          <p:nvPr/>
        </p:nvSpPr>
        <p:spPr>
          <a:xfrm>
            <a:off x="372960" y="1981080"/>
            <a:ext cx="8462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sections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genera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quire the use of a cutting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section cutting planes generally have more than one right-angle direction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onal offsets do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ject into the section view as a li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 Peculia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"/>
          <p:cNvSpPr txBox="1"/>
          <p:nvPr/>
        </p:nvSpPr>
        <p:spPr>
          <a:xfrm>
            <a:off x="372960" y="1981080"/>
            <a:ext cx="8462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sections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genera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quire the use of a cutting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section cutting planes generally have more than one right-angle direction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onal offsets do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ject into the section view as a li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s denote intersections of pla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Section Peculia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"/>
          <p:cNvSpPr txBox="1"/>
          <p:nvPr/>
        </p:nvSpPr>
        <p:spPr>
          <a:xfrm>
            <a:off x="372960" y="1981080"/>
            <a:ext cx="8462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sections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genera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quire the use of a cutting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section cutting planes generally hav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than on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-angle direction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onal offsets do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ject into the section view as a li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s denote intersections of pla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s are only theoret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correct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9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3120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3121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4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3125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28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3134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8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3139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1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4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3145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7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9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3150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6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9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3160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6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3167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3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2085840" y="1577880"/>
            <a:ext cx="19080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1314360" y="607392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1189080" y="6022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1951200" y="1531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2270160" y="1571760"/>
            <a:ext cx="0" cy="31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2270160" y="2000160"/>
            <a:ext cx="0" cy="3016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2270160" y="2444760"/>
            <a:ext cx="0" cy="333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2270160" y="2873520"/>
            <a:ext cx="0" cy="380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2270160" y="3365640"/>
            <a:ext cx="0" cy="285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2270160" y="3794040"/>
            <a:ext cx="0" cy="2383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2127240" y="4032360"/>
            <a:ext cx="1429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 flipH="1">
            <a:off x="1920960" y="4032360"/>
            <a:ext cx="950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1920960" y="403236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1920960" y="4381560"/>
            <a:ext cx="0" cy="4125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1920960" y="4873680"/>
            <a:ext cx="0" cy="2062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1762200" y="5079960"/>
            <a:ext cx="1587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1523880" y="5079960"/>
            <a:ext cx="127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1523880" y="5079960"/>
            <a:ext cx="0" cy="1746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1523880" y="5419800"/>
            <a:ext cx="0" cy="2858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1523880" y="5823000"/>
            <a:ext cx="0" cy="249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6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3207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0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1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3212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5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 flipV="1">
            <a:off x="6006960" y="2120760"/>
            <a:ext cx="8892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 flipV="1">
            <a:off x="62355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 flipV="1">
            <a:off x="6540480" y="2114640"/>
            <a:ext cx="17136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 flipV="1">
            <a:off x="6845400" y="212076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 flipV="1">
            <a:off x="7149960" y="2114640"/>
            <a:ext cx="1717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 flipV="1">
            <a:off x="6661080" y="2895480"/>
            <a:ext cx="184320" cy="18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 flipV="1">
            <a:off x="6946920" y="2908440"/>
            <a:ext cx="19044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 flipV="1">
            <a:off x="6051600" y="2901960"/>
            <a:ext cx="177840" cy="17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 flipV="1">
            <a:off x="6343560" y="2895480"/>
            <a:ext cx="196920" cy="19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 flipV="1">
            <a:off x="7010280" y="3003480"/>
            <a:ext cx="336600" cy="33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 flipV="1">
            <a:off x="7023240" y="3314880"/>
            <a:ext cx="317520" cy="31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 flipV="1">
            <a:off x="7010280" y="3613320"/>
            <a:ext cx="336600" cy="33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 flipV="1">
            <a:off x="6800760" y="3911760"/>
            <a:ext cx="55260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 flipV="1">
            <a:off x="6489720" y="4330800"/>
            <a:ext cx="13320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 flipV="1">
            <a:off x="7105680" y="4222800"/>
            <a:ext cx="241200" cy="24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 flipV="1">
            <a:off x="6953400" y="4762440"/>
            <a:ext cx="15876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 flipV="1">
            <a:off x="7023240" y="4826160"/>
            <a:ext cx="330120" cy="33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 flipV="1">
            <a:off x="6680160" y="476892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flipV="1">
            <a:off x="6426360" y="476244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 flipV="1">
            <a:off x="7149960" y="5130720"/>
            <a:ext cx="203400" cy="20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 flipV="1">
            <a:off x="7061040" y="5670720"/>
            <a:ext cx="57240" cy="56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 flipV="1">
            <a:off x="7308720" y="5740560"/>
            <a:ext cx="44640" cy="4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4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3245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8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0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correct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1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3262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3263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66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3267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0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5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3276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3281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3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6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3287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9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1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3292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8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1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3302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8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3309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5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 flipH="1">
            <a:off x="2070000" y="1592280"/>
            <a:ext cx="1904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1314360" y="607392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1189080" y="6022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1951200" y="15462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2270160" y="1617840"/>
            <a:ext cx="0" cy="3171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2270160" y="2014560"/>
            <a:ext cx="0" cy="3016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2270160" y="2444760"/>
            <a:ext cx="0" cy="333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2270160" y="2873520"/>
            <a:ext cx="0" cy="380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2270160" y="3365640"/>
            <a:ext cx="0" cy="285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2270160" y="3794040"/>
            <a:ext cx="0" cy="2383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 flipH="1">
            <a:off x="2127240" y="4032360"/>
            <a:ext cx="1429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 flipH="1">
            <a:off x="1920960" y="4032360"/>
            <a:ext cx="950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1920960" y="403236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1920960" y="4381560"/>
            <a:ext cx="0" cy="4125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1920960" y="4873680"/>
            <a:ext cx="0" cy="2062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 flipH="1">
            <a:off x="1762200" y="5079960"/>
            <a:ext cx="1587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 flipH="1">
            <a:off x="1523880" y="5079960"/>
            <a:ext cx="127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1523880" y="5079960"/>
            <a:ext cx="0" cy="1746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1523880" y="5419800"/>
            <a:ext cx="0" cy="2858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1523880" y="582300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8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3349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2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3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3354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7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 flipV="1">
            <a:off x="6006960" y="2120760"/>
            <a:ext cx="8892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 flipV="1">
            <a:off x="62355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6540480" y="2114640"/>
            <a:ext cx="17136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 flipV="1">
            <a:off x="6845400" y="212076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 flipV="1">
            <a:off x="7149960" y="2114640"/>
            <a:ext cx="1717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 flipV="1">
            <a:off x="6661080" y="2895480"/>
            <a:ext cx="184320" cy="18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6946920" y="2908440"/>
            <a:ext cx="19044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 flipV="1">
            <a:off x="6051600" y="2901960"/>
            <a:ext cx="177840" cy="17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flipV="1">
            <a:off x="6343560" y="2895480"/>
            <a:ext cx="196920" cy="19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 flipV="1">
            <a:off x="7010280" y="3003480"/>
            <a:ext cx="336600" cy="33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 flipV="1">
            <a:off x="7023240" y="3314880"/>
            <a:ext cx="317520" cy="31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 flipV="1">
            <a:off x="7010280" y="3613320"/>
            <a:ext cx="336600" cy="33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 flipV="1">
            <a:off x="6800760" y="3911760"/>
            <a:ext cx="55260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 flipV="1">
            <a:off x="6489720" y="4330800"/>
            <a:ext cx="13320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 flipV="1">
            <a:off x="7105680" y="4222800"/>
            <a:ext cx="241200" cy="24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 flipV="1">
            <a:off x="6953400" y="4762440"/>
            <a:ext cx="15876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 flipV="1">
            <a:off x="7023240" y="4826160"/>
            <a:ext cx="330120" cy="33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 flipV="1">
            <a:off x="6680160" y="476892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 flipV="1">
            <a:off x="6426360" y="476244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7308720" y="5740560"/>
            <a:ext cx="44640" cy="4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4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3385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8" name=""/>
          <p:cNvSpPr/>
          <p:nvPr/>
        </p:nvSpPr>
        <p:spPr>
          <a:xfrm>
            <a:off x="7018200" y="4035600"/>
            <a:ext cx="32400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7018200" y="5073480"/>
            <a:ext cx="32400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0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1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2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 flipV="1">
            <a:off x="7149960" y="5130720"/>
            <a:ext cx="203400" cy="20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 flipV="1">
            <a:off x="7061040" y="5670720"/>
            <a:ext cx="57240" cy="56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correct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5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3406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3407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10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3411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14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9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3420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3425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7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0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3431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3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5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3436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2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5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3446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2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3453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9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 flipH="1">
            <a:off x="2085840" y="1577880"/>
            <a:ext cx="19080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 flipH="1">
            <a:off x="1314360" y="607392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1189080" y="6022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1951200" y="1531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2270160" y="1571760"/>
            <a:ext cx="0" cy="31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2270160" y="2000160"/>
            <a:ext cx="0" cy="3016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2270160" y="2444760"/>
            <a:ext cx="0" cy="333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2270160" y="2873520"/>
            <a:ext cx="0" cy="380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2270160" y="3365640"/>
            <a:ext cx="0" cy="285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270160" y="3794040"/>
            <a:ext cx="0" cy="2383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 flipH="1">
            <a:off x="2127240" y="4032360"/>
            <a:ext cx="1429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 flipH="1">
            <a:off x="1920960" y="4032360"/>
            <a:ext cx="950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1920960" y="403236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1920960" y="4381560"/>
            <a:ext cx="0" cy="4125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1920960" y="4873680"/>
            <a:ext cx="0" cy="2062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 flipH="1">
            <a:off x="1762200" y="5079960"/>
            <a:ext cx="1587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 flipH="1">
            <a:off x="1523880" y="5079960"/>
            <a:ext cx="127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1523880" y="5079960"/>
            <a:ext cx="0" cy="1746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1523880" y="5419800"/>
            <a:ext cx="0" cy="2858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1523880" y="582300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2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3493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6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7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3498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1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 flipV="1">
            <a:off x="6006960" y="2120760"/>
            <a:ext cx="8892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 flipV="1">
            <a:off x="62355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 flipV="1">
            <a:off x="6540480" y="2114640"/>
            <a:ext cx="17136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 flipV="1">
            <a:off x="6845400" y="212076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 flipV="1">
            <a:off x="7149960" y="2114640"/>
            <a:ext cx="1717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 flipV="1">
            <a:off x="6661080" y="2895480"/>
            <a:ext cx="184320" cy="18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6946920" y="2908440"/>
            <a:ext cx="19044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 flipV="1">
            <a:off x="6051600" y="2901960"/>
            <a:ext cx="177840" cy="17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6343560" y="2895480"/>
            <a:ext cx="196920" cy="19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7010280" y="3003480"/>
            <a:ext cx="336600" cy="33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7023240" y="3314880"/>
            <a:ext cx="317520" cy="31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7010280" y="3613320"/>
            <a:ext cx="336600" cy="33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6800760" y="3911760"/>
            <a:ext cx="55260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 flipV="1">
            <a:off x="6489720" y="4330800"/>
            <a:ext cx="13320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7105680" y="4222800"/>
            <a:ext cx="241200" cy="24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6953400" y="4762440"/>
            <a:ext cx="15876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7023240" y="4826160"/>
            <a:ext cx="330120" cy="33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6680160" y="476892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6426360" y="476244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 flipV="1">
            <a:off x="7308720" y="5740560"/>
            <a:ext cx="44640" cy="4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8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3529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2" name=""/>
          <p:cNvSpPr/>
          <p:nvPr/>
        </p:nvSpPr>
        <p:spPr>
          <a:xfrm>
            <a:off x="7018200" y="4035600"/>
            <a:ext cx="3240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7018200" y="5073480"/>
            <a:ext cx="3240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5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6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7149960" y="5130720"/>
            <a:ext cx="203400" cy="20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7061040" y="5670720"/>
            <a:ext cx="57240" cy="56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"/>
          <p:cNvSpPr txBox="1"/>
          <p:nvPr/>
        </p:nvSpPr>
        <p:spPr>
          <a:xfrm>
            <a:off x="685800" y="27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rrect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9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3550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3551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54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3555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58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3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3564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8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3569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1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4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3575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7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9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3580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6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9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3590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6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3597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3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 flipH="1">
            <a:off x="2085840" y="1577880"/>
            <a:ext cx="19080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1314360" y="607392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1189080" y="6022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1951200" y="1531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2270160" y="1571760"/>
            <a:ext cx="0" cy="31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2270160" y="2000160"/>
            <a:ext cx="0" cy="3016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2270160" y="2444760"/>
            <a:ext cx="0" cy="333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2270160" y="2873520"/>
            <a:ext cx="0" cy="380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2270160" y="3365640"/>
            <a:ext cx="0" cy="285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2270160" y="3794040"/>
            <a:ext cx="0" cy="2383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 flipH="1">
            <a:off x="2127240" y="4032360"/>
            <a:ext cx="1429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1920960" y="4032360"/>
            <a:ext cx="950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1920960" y="403236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1920960" y="4381560"/>
            <a:ext cx="0" cy="4125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1920960" y="4873680"/>
            <a:ext cx="0" cy="2062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 flipH="1">
            <a:off x="1762200" y="5079960"/>
            <a:ext cx="1587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 flipH="1">
            <a:off x="1523880" y="5079960"/>
            <a:ext cx="127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1523880" y="5079960"/>
            <a:ext cx="0" cy="1746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1523880" y="5419800"/>
            <a:ext cx="0" cy="2858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1523880" y="582300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6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3637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0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1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3642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5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6006960" y="2120760"/>
            <a:ext cx="8892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V="1">
            <a:off x="62355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6540480" y="2114640"/>
            <a:ext cx="17136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6845400" y="212076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 flipV="1">
            <a:off x="7149960" y="2114640"/>
            <a:ext cx="1717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 flipV="1">
            <a:off x="6661080" y="2895480"/>
            <a:ext cx="184320" cy="18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V="1">
            <a:off x="6946920" y="2908440"/>
            <a:ext cx="19044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 flipV="1">
            <a:off x="6051600" y="2901960"/>
            <a:ext cx="177840" cy="17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6343560" y="2895480"/>
            <a:ext cx="196920" cy="19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7010280" y="3003480"/>
            <a:ext cx="336600" cy="33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 flipV="1">
            <a:off x="7023240" y="3314880"/>
            <a:ext cx="317520" cy="31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 flipV="1">
            <a:off x="7010280" y="3613320"/>
            <a:ext cx="336600" cy="33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6800760" y="3911760"/>
            <a:ext cx="55260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 flipV="1">
            <a:off x="6489720" y="4330800"/>
            <a:ext cx="13320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7105680" y="4222800"/>
            <a:ext cx="241200" cy="24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6953400" y="4762440"/>
            <a:ext cx="15876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 flipV="1">
            <a:off x="7023240" y="4826160"/>
            <a:ext cx="330120" cy="33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6680160" y="476892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6426360" y="476244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7308720" y="5740560"/>
            <a:ext cx="44640" cy="4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2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3673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6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7149960" y="5130720"/>
            <a:ext cx="203400" cy="20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 flipV="1">
            <a:off x="7061040" y="5670720"/>
            <a:ext cx="57240" cy="56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120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tory Concep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ting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"/>
          <p:cNvSpPr txBox="1"/>
          <p:nvPr/>
        </p:nvSpPr>
        <p:spPr>
          <a:xfrm>
            <a:off x="469800" y="1657440"/>
            <a:ext cx="804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hatch (section) lines, for the same part--regardless of the number of section views taken--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st alway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consistent in direction and sty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hatch (section) lines are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nes --unless specific material types (if used) dictate otherw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n Crosshatching l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"/>
          <p:cNvSpPr txBox="1"/>
          <p:nvPr/>
        </p:nvSpPr>
        <p:spPr>
          <a:xfrm>
            <a:off x="68580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osshatching Guide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"/>
          <p:cNvSpPr txBox="1"/>
          <p:nvPr/>
        </p:nvSpPr>
        <p:spPr>
          <a:xfrm>
            <a:off x="685800" y="295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correct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 of Crossha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3694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3695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8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3699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02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7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3708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2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3713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5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8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3719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1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3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3724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0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3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3734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0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3741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7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 flipH="1">
            <a:off x="2085840" y="1577880"/>
            <a:ext cx="19080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 flipH="1">
            <a:off x="1314360" y="607392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189080" y="6022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951200" y="1531800"/>
            <a:ext cx="194040" cy="92520"/>
          </a:xfrm>
          <a:custGeom>
            <a:avLst/>
            <a:gdLst/>
            <a:ahLst/>
            <a:rect l="0" t="0" r="r" b="b"/>
            <a:pathLst>
              <a:path w="539" h="257">
                <a:moveTo>
                  <a:pt x="539" y="257"/>
                </a:moveTo>
                <a:lnTo>
                  <a:pt x="539" y="0"/>
                </a:lnTo>
                <a:lnTo>
                  <a:pt x="0" y="128"/>
                </a:lnTo>
                <a:lnTo>
                  <a:pt x="539" y="25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2270160" y="1571760"/>
            <a:ext cx="0" cy="31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2270160" y="2000160"/>
            <a:ext cx="0" cy="3016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2270160" y="2444760"/>
            <a:ext cx="0" cy="333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2270160" y="2873520"/>
            <a:ext cx="0" cy="380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2270160" y="3365640"/>
            <a:ext cx="0" cy="285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2270160" y="3794040"/>
            <a:ext cx="0" cy="2383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 flipH="1">
            <a:off x="2127240" y="4032360"/>
            <a:ext cx="1429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 flipH="1">
            <a:off x="1920960" y="4032360"/>
            <a:ext cx="950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1920960" y="403236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1920960" y="4381560"/>
            <a:ext cx="0" cy="4125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1920960" y="4873680"/>
            <a:ext cx="0" cy="2062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 flipH="1">
            <a:off x="1762200" y="5079960"/>
            <a:ext cx="1587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 flipH="1">
            <a:off x="1523880" y="5079960"/>
            <a:ext cx="12708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1523880" y="5079960"/>
            <a:ext cx="0" cy="1746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1523880" y="5419800"/>
            <a:ext cx="0" cy="2858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1523880" y="5823000"/>
            <a:ext cx="0" cy="25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0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3781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4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5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3786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9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6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3797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0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1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2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"/>
          <p:cNvSpPr txBox="1"/>
          <p:nvPr/>
        </p:nvSpPr>
        <p:spPr>
          <a:xfrm>
            <a:off x="685800" y="295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correct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 of Crossha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3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3814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3815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18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3819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22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7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3828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2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3833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5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8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3839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1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3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3844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0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3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3854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3861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7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9" name=""/>
          <p:cNvGrpSpPr/>
          <p:nvPr/>
        </p:nvGrpSpPr>
        <p:grpSpPr>
          <a:xfrm>
            <a:off x="1189080" y="1531800"/>
            <a:ext cx="1087560" cy="4583520"/>
            <a:chOff x="1189080" y="1531800"/>
            <a:chExt cx="1087560" cy="4583520"/>
          </a:xfrm>
        </p:grpSpPr>
        <p:sp>
          <p:nvSpPr>
            <p:cNvPr id="3870" name=""/>
            <p:cNvSpPr/>
            <p:nvPr/>
          </p:nvSpPr>
          <p:spPr>
            <a:xfrm flipH="1">
              <a:off x="2085840" y="1577880"/>
              <a:ext cx="190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H="1">
              <a:off x="1314360" y="6073920"/>
              <a:ext cx="2001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189080" y="6022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951200" y="1531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2270160" y="1571760"/>
              <a:ext cx="0" cy="3175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270160" y="2000160"/>
              <a:ext cx="0" cy="3016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270160" y="2444760"/>
              <a:ext cx="0" cy="3333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270160" y="2873520"/>
              <a:ext cx="0" cy="380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270160" y="3365640"/>
              <a:ext cx="0" cy="28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2270160" y="3794040"/>
              <a:ext cx="0" cy="238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 flipH="1">
              <a:off x="2127240" y="4032360"/>
              <a:ext cx="142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1920960" y="4032360"/>
              <a:ext cx="950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920960" y="403236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920960" y="4381560"/>
              <a:ext cx="0" cy="412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920960" y="4873680"/>
              <a:ext cx="0" cy="2062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H="1">
              <a:off x="1762200" y="5079960"/>
              <a:ext cx="1587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H="1">
              <a:off x="1523880" y="5079960"/>
              <a:ext cx="1270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1523880" y="5079960"/>
              <a:ext cx="0" cy="174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1523880" y="5419800"/>
              <a:ext cx="0" cy="2858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1523880" y="582300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0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1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3902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5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6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3907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0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 flipH="1" flipV="1">
            <a:off x="60069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62355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 flipH="1" flipV="1">
            <a:off x="6540480" y="2114640"/>
            <a:ext cx="17136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 flipH="1" flipV="1">
            <a:off x="6845400" y="212076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 flipH="1" flipV="1">
            <a:off x="7149960" y="2114640"/>
            <a:ext cx="1717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2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3923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6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7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8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"/>
          <p:cNvSpPr txBox="1"/>
          <p:nvPr/>
        </p:nvSpPr>
        <p:spPr>
          <a:xfrm>
            <a:off x="685800" y="295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correct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 of Crossha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9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3940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3941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4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3945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48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3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3954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8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3959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1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4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3965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7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9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3970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6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9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3980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6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3987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3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6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4007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0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1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4012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5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 flipH="1" flipV="1">
            <a:off x="60069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 flipH="1" flipV="1">
            <a:off x="62355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 flipH="1" flipV="1">
            <a:off x="6540480" y="2114640"/>
            <a:ext cx="17136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 flipH="1" flipV="1">
            <a:off x="6845400" y="212076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 flipH="1" flipV="1">
            <a:off x="7149960" y="2114640"/>
            <a:ext cx="1717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 flipV="1">
            <a:off x="6661080" y="2895480"/>
            <a:ext cx="184320" cy="18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 flipV="1">
            <a:off x="6946920" y="2892600"/>
            <a:ext cx="206280" cy="20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 flipV="1">
            <a:off x="6051600" y="2901960"/>
            <a:ext cx="177840" cy="17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 flipV="1">
            <a:off x="6343560" y="2895480"/>
            <a:ext cx="196920" cy="19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 flipV="1">
            <a:off x="7010280" y="3003480"/>
            <a:ext cx="336600" cy="33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 flipV="1">
            <a:off x="7005600" y="3300480"/>
            <a:ext cx="349200" cy="349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 flipV="1">
            <a:off x="7010280" y="3613320"/>
            <a:ext cx="336600" cy="33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 flipV="1">
            <a:off x="6805440" y="3925800"/>
            <a:ext cx="547920" cy="54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5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4036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9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0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1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2" name=""/>
          <p:cNvGrpSpPr/>
          <p:nvPr/>
        </p:nvGrpSpPr>
        <p:grpSpPr>
          <a:xfrm>
            <a:off x="1189080" y="1531800"/>
            <a:ext cx="1087560" cy="4583520"/>
            <a:chOff x="1189080" y="1531800"/>
            <a:chExt cx="1087560" cy="4583520"/>
          </a:xfrm>
        </p:grpSpPr>
        <p:sp>
          <p:nvSpPr>
            <p:cNvPr id="4043" name=""/>
            <p:cNvSpPr/>
            <p:nvPr/>
          </p:nvSpPr>
          <p:spPr>
            <a:xfrm flipH="1">
              <a:off x="2085840" y="1577880"/>
              <a:ext cx="190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H="1">
              <a:off x="1314360" y="6073920"/>
              <a:ext cx="2001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189080" y="6022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951200" y="1531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270160" y="1571760"/>
              <a:ext cx="0" cy="3175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270160" y="2000160"/>
              <a:ext cx="0" cy="3016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270160" y="2444760"/>
              <a:ext cx="0" cy="3333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270160" y="2873520"/>
              <a:ext cx="0" cy="380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270160" y="3365640"/>
              <a:ext cx="0" cy="28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270160" y="3794040"/>
              <a:ext cx="0" cy="238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H="1">
              <a:off x="2127240" y="4032360"/>
              <a:ext cx="142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 flipH="1">
              <a:off x="1920960" y="4032360"/>
              <a:ext cx="950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920960" y="403236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920960" y="4381560"/>
              <a:ext cx="0" cy="412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920960" y="4873680"/>
              <a:ext cx="0" cy="2062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H="1">
              <a:off x="1762200" y="5079960"/>
              <a:ext cx="1587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 flipH="1">
              <a:off x="1523880" y="5079960"/>
              <a:ext cx="1270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523880" y="5079960"/>
              <a:ext cx="0" cy="174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523880" y="5419800"/>
              <a:ext cx="0" cy="2858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523880" y="582300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3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 flipH="1">
            <a:off x="6500880" y="4338720"/>
            <a:ext cx="128520" cy="12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 flipH="1">
            <a:off x="7134120" y="4253040"/>
            <a:ext cx="21456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"/>
          <p:cNvSpPr txBox="1"/>
          <p:nvPr/>
        </p:nvSpPr>
        <p:spPr>
          <a:xfrm>
            <a:off x="685800" y="295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correct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 of Crossha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5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4076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4077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0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4081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84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9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4090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4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4095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7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0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4101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3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5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4106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2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5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4116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4123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9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2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4143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6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7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4148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1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 flipH="1" flipV="1">
            <a:off x="60069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 flipH="1" flipV="1">
            <a:off x="62355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 flipH="1" flipV="1">
            <a:off x="6540480" y="2114640"/>
            <a:ext cx="17136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 flipH="1" flipV="1">
            <a:off x="6845400" y="212076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 flipH="1" flipV="1">
            <a:off x="7149960" y="2114640"/>
            <a:ext cx="1717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 flipV="1">
            <a:off x="6661080" y="2895480"/>
            <a:ext cx="184320" cy="18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 flipV="1">
            <a:off x="6946920" y="2892600"/>
            <a:ext cx="206280" cy="20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 flipV="1">
            <a:off x="6051600" y="2901960"/>
            <a:ext cx="177840" cy="17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 flipV="1">
            <a:off x="6343560" y="2895480"/>
            <a:ext cx="196920" cy="19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 flipV="1">
            <a:off x="7010280" y="3003480"/>
            <a:ext cx="336600" cy="33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 flipV="1">
            <a:off x="7005600" y="3300480"/>
            <a:ext cx="349200" cy="349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 flipV="1">
            <a:off x="7010280" y="3613320"/>
            <a:ext cx="336600" cy="33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 flipV="1">
            <a:off x="6805440" y="3925800"/>
            <a:ext cx="547920" cy="54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 flipH="1" flipV="1">
            <a:off x="6408720" y="4764240"/>
            <a:ext cx="13320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 flipH="1" flipV="1">
            <a:off x="7083360" y="4767120"/>
            <a:ext cx="263520" cy="26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 flipH="1" flipV="1">
            <a:off x="7015320" y="5025960"/>
            <a:ext cx="298440" cy="29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4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4175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8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9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0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 flipH="1" flipV="1">
            <a:off x="6729480" y="4756320"/>
            <a:ext cx="139680" cy="139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2" name=""/>
          <p:cNvGrpSpPr/>
          <p:nvPr/>
        </p:nvGrpSpPr>
        <p:grpSpPr>
          <a:xfrm>
            <a:off x="1189080" y="1531800"/>
            <a:ext cx="1087560" cy="4583520"/>
            <a:chOff x="1189080" y="1531800"/>
            <a:chExt cx="1087560" cy="4583520"/>
          </a:xfrm>
        </p:grpSpPr>
        <p:sp>
          <p:nvSpPr>
            <p:cNvPr id="4183" name=""/>
            <p:cNvSpPr/>
            <p:nvPr/>
          </p:nvSpPr>
          <p:spPr>
            <a:xfrm flipH="1">
              <a:off x="2085840" y="1577880"/>
              <a:ext cx="190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 flipH="1">
              <a:off x="1314360" y="6073920"/>
              <a:ext cx="2001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189080" y="6022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951200" y="1531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2270160" y="1571760"/>
              <a:ext cx="0" cy="3175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2270160" y="2000160"/>
              <a:ext cx="0" cy="3016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2270160" y="2444760"/>
              <a:ext cx="0" cy="3333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270160" y="2873520"/>
              <a:ext cx="0" cy="380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2270160" y="3365640"/>
              <a:ext cx="0" cy="28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2270160" y="3794040"/>
              <a:ext cx="0" cy="238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 flipH="1">
              <a:off x="2127240" y="4032360"/>
              <a:ext cx="142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 flipH="1">
              <a:off x="1920960" y="4032360"/>
              <a:ext cx="950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920960" y="403236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920960" y="4381560"/>
              <a:ext cx="0" cy="412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1920960" y="4873680"/>
              <a:ext cx="0" cy="2062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 flipH="1">
              <a:off x="1762200" y="5079960"/>
              <a:ext cx="1587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 flipH="1">
              <a:off x="1523880" y="5079960"/>
              <a:ext cx="1270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1523880" y="5079960"/>
              <a:ext cx="0" cy="174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1523880" y="5419800"/>
              <a:ext cx="0" cy="2858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1523880" y="582300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3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flipH="1">
            <a:off x="6500880" y="4338720"/>
            <a:ext cx="128520" cy="12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 flipH="1">
            <a:off x="7134120" y="4253040"/>
            <a:ext cx="21456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"/>
          <p:cNvSpPr txBox="1"/>
          <p:nvPr/>
        </p:nvSpPr>
        <p:spPr>
          <a:xfrm>
            <a:off x="685800" y="295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correct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 of Crossha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5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4216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4217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0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4221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24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9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4230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4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4235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7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0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4241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3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5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4246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2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5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4256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2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4263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9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2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4283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6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7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4288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1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 flipH="1" flipV="1">
            <a:off x="60069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 flipH="1" flipV="1">
            <a:off x="62355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 flipH="1" flipV="1">
            <a:off x="6540480" y="2114640"/>
            <a:ext cx="17136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 flipH="1" flipV="1">
            <a:off x="6845400" y="212076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 flipH="1" flipV="1">
            <a:off x="7149960" y="2114640"/>
            <a:ext cx="1717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 flipV="1">
            <a:off x="6661080" y="2895480"/>
            <a:ext cx="184320" cy="18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 flipV="1">
            <a:off x="6946920" y="2892600"/>
            <a:ext cx="206280" cy="20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 flipV="1">
            <a:off x="6051600" y="2901960"/>
            <a:ext cx="177840" cy="17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6343560" y="2895480"/>
            <a:ext cx="196920" cy="19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 flipV="1">
            <a:off x="7010280" y="3003480"/>
            <a:ext cx="336600" cy="33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 flipV="1">
            <a:off x="7005600" y="3300480"/>
            <a:ext cx="349200" cy="349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 flipV="1">
            <a:off x="7010280" y="3613320"/>
            <a:ext cx="336600" cy="33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 flipV="1">
            <a:off x="6805440" y="3925800"/>
            <a:ext cx="547920" cy="54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 flipH="1" flipV="1">
            <a:off x="6408720" y="4764240"/>
            <a:ext cx="13320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 flipH="1" flipV="1">
            <a:off x="7083360" y="4767120"/>
            <a:ext cx="263520" cy="26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 flipH="1" flipV="1">
            <a:off x="7015320" y="5025960"/>
            <a:ext cx="298440" cy="29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 flipV="1">
            <a:off x="7040520" y="5667480"/>
            <a:ext cx="8100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 flipV="1">
            <a:off x="7308720" y="5740560"/>
            <a:ext cx="44640" cy="4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6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4317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0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 flipH="1" flipV="1">
            <a:off x="6729480" y="4756320"/>
            <a:ext cx="139680" cy="139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4" name=""/>
          <p:cNvGrpSpPr/>
          <p:nvPr/>
        </p:nvGrpSpPr>
        <p:grpSpPr>
          <a:xfrm>
            <a:off x="1189080" y="1531800"/>
            <a:ext cx="1087560" cy="4583520"/>
            <a:chOff x="1189080" y="1531800"/>
            <a:chExt cx="1087560" cy="4583520"/>
          </a:xfrm>
        </p:grpSpPr>
        <p:sp>
          <p:nvSpPr>
            <p:cNvPr id="4325" name=""/>
            <p:cNvSpPr/>
            <p:nvPr/>
          </p:nvSpPr>
          <p:spPr>
            <a:xfrm flipH="1">
              <a:off x="2085840" y="1577880"/>
              <a:ext cx="190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 flipH="1">
              <a:off x="1314360" y="6073920"/>
              <a:ext cx="2001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1189080" y="6022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951200" y="1531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2270160" y="1571760"/>
              <a:ext cx="0" cy="3175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2270160" y="2000160"/>
              <a:ext cx="0" cy="3016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2270160" y="2444760"/>
              <a:ext cx="0" cy="3333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2270160" y="2873520"/>
              <a:ext cx="0" cy="380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2270160" y="3365640"/>
              <a:ext cx="0" cy="28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2270160" y="3794040"/>
              <a:ext cx="0" cy="238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>
              <a:off x="2127240" y="4032360"/>
              <a:ext cx="142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H="1">
              <a:off x="1920960" y="4032360"/>
              <a:ext cx="950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920960" y="403236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920960" y="4381560"/>
              <a:ext cx="0" cy="412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920960" y="4873680"/>
              <a:ext cx="0" cy="2062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H="1">
              <a:off x="1762200" y="5079960"/>
              <a:ext cx="1587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 flipH="1">
              <a:off x="1523880" y="5079960"/>
              <a:ext cx="1270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523880" y="5079960"/>
              <a:ext cx="0" cy="174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523880" y="5419800"/>
              <a:ext cx="0" cy="2858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523880" y="582300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5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 flipH="1">
            <a:off x="6500880" y="4338720"/>
            <a:ext cx="128520" cy="12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 flipH="1">
            <a:off x="7134120" y="4253040"/>
            <a:ext cx="21456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"/>
          <p:cNvSpPr txBox="1"/>
          <p:nvPr/>
        </p:nvSpPr>
        <p:spPr>
          <a:xfrm>
            <a:off x="685800" y="270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rrect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 of an Offset 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7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4358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4359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2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4363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66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1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4372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6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4377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9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2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4383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5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7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4388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4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7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4398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4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4405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1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4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4425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8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9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4430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3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0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4441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4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5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6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7" name=""/>
          <p:cNvGrpSpPr/>
          <p:nvPr/>
        </p:nvGrpSpPr>
        <p:grpSpPr>
          <a:xfrm>
            <a:off x="1189080" y="1531800"/>
            <a:ext cx="1087560" cy="4583520"/>
            <a:chOff x="1189080" y="1531800"/>
            <a:chExt cx="1087560" cy="4583520"/>
          </a:xfrm>
        </p:grpSpPr>
        <p:sp>
          <p:nvSpPr>
            <p:cNvPr id="4448" name=""/>
            <p:cNvSpPr/>
            <p:nvPr/>
          </p:nvSpPr>
          <p:spPr>
            <a:xfrm flipH="1">
              <a:off x="2085840" y="1577880"/>
              <a:ext cx="190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H="1">
              <a:off x="1314360" y="6073920"/>
              <a:ext cx="2001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1189080" y="6022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1951200" y="1531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2270160" y="1571760"/>
              <a:ext cx="0" cy="3175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2270160" y="2000160"/>
              <a:ext cx="0" cy="3016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2270160" y="2444760"/>
              <a:ext cx="0" cy="3333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2270160" y="2873520"/>
              <a:ext cx="0" cy="380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2270160" y="3365640"/>
              <a:ext cx="0" cy="28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2270160" y="3794040"/>
              <a:ext cx="0" cy="238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 flipH="1">
              <a:off x="2127240" y="4032360"/>
              <a:ext cx="142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H="1">
              <a:off x="1920960" y="4032360"/>
              <a:ext cx="950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1920960" y="403236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1920960" y="4381560"/>
              <a:ext cx="0" cy="412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1920960" y="4873680"/>
              <a:ext cx="0" cy="2062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H="1">
              <a:off x="1762200" y="5079960"/>
              <a:ext cx="1587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 flipH="1">
              <a:off x="1523880" y="5079960"/>
              <a:ext cx="1270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1523880" y="5079960"/>
              <a:ext cx="0" cy="174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1523880" y="5419800"/>
              <a:ext cx="0" cy="2858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1523880" y="582300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8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"/>
          <p:cNvSpPr txBox="1"/>
          <p:nvPr/>
        </p:nvSpPr>
        <p:spPr>
          <a:xfrm>
            <a:off x="685800" y="270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rrect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 of an Offset 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1219320" y="2109960"/>
            <a:ext cx="2513160" cy="36752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2752560" y="3181320"/>
            <a:ext cx="703440" cy="703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2900520" y="3325680"/>
            <a:ext cx="428760" cy="42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8" name=""/>
          <p:cNvGrpSpPr/>
          <p:nvPr/>
        </p:nvGrpSpPr>
        <p:grpSpPr>
          <a:xfrm>
            <a:off x="2657520" y="3086280"/>
            <a:ext cx="909720" cy="907920"/>
            <a:chOff x="2657520" y="3086280"/>
            <a:chExt cx="909720" cy="907920"/>
          </a:xfrm>
        </p:grpSpPr>
        <p:grpSp>
          <p:nvGrpSpPr>
            <p:cNvPr id="4479" name=""/>
            <p:cNvGrpSpPr/>
            <p:nvPr/>
          </p:nvGrpSpPr>
          <p:grpSpPr>
            <a:xfrm>
              <a:off x="3111480" y="3086280"/>
              <a:ext cx="0" cy="907920"/>
              <a:chOff x="3111480" y="3086280"/>
              <a:chExt cx="0" cy="907920"/>
            </a:xfrm>
          </p:grpSpPr>
          <p:sp>
            <p:nvSpPr>
              <p:cNvPr id="4480" name=""/>
              <p:cNvSpPr/>
              <p:nvPr/>
            </p:nvSpPr>
            <p:spPr>
              <a:xfrm>
                <a:off x="3111480" y="3086280"/>
                <a:ext cx="0" cy="350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111480" y="3467160"/>
                <a:ext cx="0" cy="1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111480" y="3643200"/>
                <a:ext cx="0" cy="3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3" name=""/>
            <p:cNvGrpSpPr/>
            <p:nvPr/>
          </p:nvGrpSpPr>
          <p:grpSpPr>
            <a:xfrm>
              <a:off x="2657520" y="3540240"/>
              <a:ext cx="909720" cy="0"/>
              <a:chOff x="2657520" y="3540240"/>
              <a:chExt cx="909720" cy="0"/>
            </a:xfrm>
          </p:grpSpPr>
          <p:sp>
            <p:nvSpPr>
              <p:cNvPr id="4484" name=""/>
              <p:cNvSpPr/>
              <p:nvPr/>
            </p:nvSpPr>
            <p:spPr>
              <a:xfrm flipH="1">
                <a:off x="3214800" y="3540240"/>
                <a:ext cx="35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 flipH="1">
                <a:off x="3056040" y="354024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 flipH="1">
                <a:off x="2657520" y="3540240"/>
                <a:ext cx="35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7" name=""/>
          <p:cNvSpPr/>
          <p:nvPr/>
        </p:nvSpPr>
        <p:spPr>
          <a:xfrm>
            <a:off x="1629000" y="4314960"/>
            <a:ext cx="581040" cy="581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>
            <a:off x="1765440" y="4454640"/>
            <a:ext cx="306360" cy="306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 flipH="1">
            <a:off x="2022480" y="46101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 flipH="1">
            <a:off x="1863720" y="461016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 flipH="1">
            <a:off x="1465200" y="4610160"/>
            <a:ext cx="35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2" name=""/>
          <p:cNvGrpSpPr/>
          <p:nvPr/>
        </p:nvGrpSpPr>
        <p:grpSpPr>
          <a:xfrm>
            <a:off x="1166760" y="5326200"/>
            <a:ext cx="590760" cy="336600"/>
            <a:chOff x="1166760" y="5326200"/>
            <a:chExt cx="590760" cy="336600"/>
          </a:xfrm>
        </p:grpSpPr>
        <p:sp>
          <p:nvSpPr>
            <p:cNvPr id="4493" name=""/>
            <p:cNvSpPr/>
            <p:nvPr/>
          </p:nvSpPr>
          <p:spPr>
            <a:xfrm>
              <a:off x="1346040" y="5326200"/>
              <a:ext cx="336600" cy="336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 flipH="1">
              <a:off x="1616040" y="55008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 flipH="1">
              <a:off x="1457280" y="55008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 flipH="1">
              <a:off x="1166760" y="550080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7" name=""/>
          <p:cNvGrpSpPr/>
          <p:nvPr/>
        </p:nvGrpSpPr>
        <p:grpSpPr>
          <a:xfrm>
            <a:off x="2313000" y="2111400"/>
            <a:ext cx="495720" cy="977760"/>
            <a:chOff x="2313000" y="2111400"/>
            <a:chExt cx="495720" cy="977760"/>
          </a:xfrm>
        </p:grpSpPr>
        <p:sp>
          <p:nvSpPr>
            <p:cNvPr id="4498" name=""/>
            <p:cNvSpPr/>
            <p:nvPr/>
          </p:nvSpPr>
          <p:spPr>
            <a:xfrm>
              <a:off x="2313000" y="2111400"/>
              <a:ext cx="491040" cy="486000"/>
            </a:xfrm>
            <a:custGeom>
              <a:avLst/>
              <a:gdLst/>
              <a:ahLst/>
              <a:rect l="0" t="0" r="r" b="b"/>
              <a:pathLst>
                <a:path fill="none" w="1364" h="1350">
                  <a:moveTo>
                    <a:pt x="1364" y="1350"/>
                  </a:moveTo>
                  <a:lnTo>
                    <a:pt x="1364" y="1350"/>
                  </a:lnTo>
                  <a:lnTo>
                    <a:pt x="1364" y="1350"/>
                  </a:lnTo>
                  <a:cubicBezTo>
                    <a:pt x="1364" y="1113"/>
                    <a:pt x="1301" y="880"/>
                    <a:pt x="1181" y="675"/>
                  </a:cubicBezTo>
                  <a:cubicBezTo>
                    <a:pt x="1062" y="470"/>
                    <a:pt x="889" y="299"/>
                    <a:pt x="682" y="181"/>
                  </a:cubicBezTo>
                  <a:cubicBezTo>
                    <a:pt x="475" y="62"/>
                    <a:pt x="23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317680" y="2602080"/>
              <a:ext cx="491040" cy="487080"/>
            </a:xfrm>
            <a:custGeom>
              <a:avLst/>
              <a:gdLst/>
              <a:ahLst/>
              <a:rect l="0" t="0" r="r" b="b"/>
              <a:pathLst>
                <a:path fill="none" w="1364" h="1353">
                  <a:moveTo>
                    <a:pt x="1364" y="0"/>
                  </a:moveTo>
                  <a:lnTo>
                    <a:pt x="1364" y="0"/>
                  </a:lnTo>
                  <a:cubicBezTo>
                    <a:pt x="1125" y="0"/>
                    <a:pt x="889" y="63"/>
                    <a:pt x="682" y="181"/>
                  </a:cubicBezTo>
                  <a:cubicBezTo>
                    <a:pt x="475" y="300"/>
                    <a:pt x="302" y="471"/>
                    <a:pt x="183" y="677"/>
                  </a:cubicBezTo>
                  <a:cubicBezTo>
                    <a:pt x="63" y="882"/>
                    <a:pt x="0" y="1115"/>
                    <a:pt x="0" y="135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0" name=""/>
          <p:cNvSpPr/>
          <p:nvPr/>
        </p:nvSpPr>
        <p:spPr>
          <a:xfrm flipH="1">
            <a:off x="1771560" y="3102120"/>
            <a:ext cx="554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1582560" y="3102120"/>
            <a:ext cx="184680" cy="185400"/>
          </a:xfrm>
          <a:custGeom>
            <a:avLst/>
            <a:gdLst/>
            <a:ahLst/>
            <a:rect l="0" t="0" r="r" b="b"/>
            <a:pathLst>
              <a:path fill="none" w="513" h="515">
                <a:moveTo>
                  <a:pt x="513" y="0"/>
                </a:moveTo>
                <a:lnTo>
                  <a:pt x="513" y="0"/>
                </a:lnTo>
                <a:cubicBezTo>
                  <a:pt x="423" y="0"/>
                  <a:pt x="334" y="24"/>
                  <a:pt x="256" y="69"/>
                </a:cubicBezTo>
                <a:cubicBezTo>
                  <a:pt x="179" y="114"/>
                  <a:pt x="114" y="179"/>
                  <a:pt x="69" y="258"/>
                </a:cubicBezTo>
                <a:cubicBezTo>
                  <a:pt x="24" y="336"/>
                  <a:pt x="0" y="425"/>
                  <a:pt x="0" y="51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1584360" y="3282840"/>
            <a:ext cx="0" cy="4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3" name=""/>
          <p:cNvGrpSpPr/>
          <p:nvPr/>
        </p:nvGrpSpPr>
        <p:grpSpPr>
          <a:xfrm>
            <a:off x="1224000" y="3719520"/>
            <a:ext cx="360720" cy="184680"/>
            <a:chOff x="1224000" y="3719520"/>
            <a:chExt cx="360720" cy="184680"/>
          </a:xfrm>
        </p:grpSpPr>
        <p:sp>
          <p:nvSpPr>
            <p:cNvPr id="4504" name=""/>
            <p:cNvSpPr/>
            <p:nvPr/>
          </p:nvSpPr>
          <p:spPr>
            <a:xfrm>
              <a:off x="122400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0"/>
                  </a:moveTo>
                  <a:lnTo>
                    <a:pt x="513" y="0"/>
                  </a:lnTo>
                  <a:cubicBezTo>
                    <a:pt x="423" y="0"/>
                    <a:pt x="334" y="24"/>
                    <a:pt x="256" y="69"/>
                  </a:cubicBezTo>
                  <a:cubicBezTo>
                    <a:pt x="179" y="114"/>
                    <a:pt x="114" y="179"/>
                    <a:pt x="69" y="257"/>
                  </a:cubicBezTo>
                  <a:cubicBezTo>
                    <a:pt x="24" y="334"/>
                    <a:pt x="0" y="423"/>
                    <a:pt x="0" y="51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1400040" y="3719520"/>
              <a:ext cx="184680" cy="184680"/>
            </a:xfrm>
            <a:custGeom>
              <a:avLst/>
              <a:gdLst/>
              <a:ahLst/>
              <a:rect l="0" t="0" r="r" b="b"/>
              <a:pathLst>
                <a:path fill="none" w="513" h="513">
                  <a:moveTo>
                    <a:pt x="513" y="513"/>
                  </a:moveTo>
                  <a:lnTo>
                    <a:pt x="513" y="513"/>
                  </a:lnTo>
                  <a:lnTo>
                    <a:pt x="513" y="513"/>
                  </a:lnTo>
                  <a:cubicBezTo>
                    <a:pt x="513" y="423"/>
                    <a:pt x="489" y="334"/>
                    <a:pt x="444" y="256"/>
                  </a:cubicBezTo>
                  <a:cubicBezTo>
                    <a:pt x="399" y="179"/>
                    <a:pt x="334" y="114"/>
                    <a:pt x="256" y="69"/>
                  </a:cubicBezTo>
                  <a:cubicBezTo>
                    <a:pt x="179" y="24"/>
                    <a:pt x="90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6" name=""/>
          <p:cNvSpPr/>
          <p:nvPr/>
        </p:nvSpPr>
        <p:spPr>
          <a:xfrm>
            <a:off x="1982880" y="2295360"/>
            <a:ext cx="604800" cy="6048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1352520" y="22194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8" name=""/>
          <p:cNvGrpSpPr/>
          <p:nvPr/>
        </p:nvGrpSpPr>
        <p:grpSpPr>
          <a:xfrm>
            <a:off x="1276200" y="2128680"/>
            <a:ext cx="501840" cy="527040"/>
            <a:chOff x="1276200" y="2128680"/>
            <a:chExt cx="501840" cy="527040"/>
          </a:xfrm>
        </p:grpSpPr>
        <p:sp>
          <p:nvSpPr>
            <p:cNvPr id="4509" name=""/>
            <p:cNvSpPr/>
            <p:nvPr/>
          </p:nvSpPr>
          <p:spPr>
            <a:xfrm>
              <a:off x="1519200" y="21286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1519200" y="23194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1519200" y="24955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 flipH="1">
              <a:off x="1622520" y="2392200"/>
              <a:ext cx="15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 flipH="1">
              <a:off x="1463760" y="23922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 flipH="1">
              <a:off x="1276200" y="2392200"/>
              <a:ext cx="141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5" name=""/>
          <p:cNvSpPr/>
          <p:nvPr/>
        </p:nvSpPr>
        <p:spPr>
          <a:xfrm flipH="1">
            <a:off x="2425680" y="26114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 flipH="1">
            <a:off x="2222640" y="2611440"/>
            <a:ext cx="1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 flipH="1">
            <a:off x="1801800" y="261144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8" name=""/>
          <p:cNvGrpSpPr/>
          <p:nvPr/>
        </p:nvGrpSpPr>
        <p:grpSpPr>
          <a:xfrm>
            <a:off x="3218040" y="2116080"/>
            <a:ext cx="501480" cy="527040"/>
            <a:chOff x="3218040" y="2116080"/>
            <a:chExt cx="501480" cy="527040"/>
          </a:xfrm>
        </p:grpSpPr>
        <p:sp>
          <p:nvSpPr>
            <p:cNvPr id="4519" name=""/>
            <p:cNvSpPr/>
            <p:nvPr/>
          </p:nvSpPr>
          <p:spPr>
            <a:xfrm>
              <a:off x="3462480" y="2116080"/>
              <a:ext cx="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462480" y="2306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462480" y="248292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 flipH="1">
              <a:off x="3565440" y="237960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H="1">
              <a:off x="3406680" y="237960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H="1">
              <a:off x="3218040" y="23796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3218040" y="5253120"/>
            <a:ext cx="501480" cy="528480"/>
            <a:chOff x="3218040" y="5253120"/>
            <a:chExt cx="501480" cy="528480"/>
          </a:xfrm>
        </p:grpSpPr>
        <p:sp>
          <p:nvSpPr>
            <p:cNvPr id="4526" name=""/>
            <p:cNvSpPr/>
            <p:nvPr/>
          </p:nvSpPr>
          <p:spPr>
            <a:xfrm>
              <a:off x="3462480" y="525312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462480" y="544500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462480" y="5619600"/>
              <a:ext cx="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 flipH="1">
              <a:off x="3565440" y="55180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H="1">
              <a:off x="3406680" y="5518080"/>
              <a:ext cx="1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H="1">
              <a:off x="3218040" y="551808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2" name=""/>
          <p:cNvSpPr/>
          <p:nvPr/>
        </p:nvSpPr>
        <p:spPr>
          <a:xfrm>
            <a:off x="3281400" y="220176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3295800" y="5338800"/>
            <a:ext cx="336600" cy="336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6000840" y="211464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7130880" y="579132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7353360" y="2114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6000840" y="211464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6000840" y="30862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7010280" y="3214800"/>
            <a:ext cx="0" cy="99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6381720" y="4324320"/>
            <a:ext cx="49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6381720" y="48960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7010280" y="5016600"/>
            <a:ext cx="0" cy="63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6000840" y="228600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6000840" y="2895480"/>
            <a:ext cx="1352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5" name=""/>
          <p:cNvGrpSpPr/>
          <p:nvPr/>
        </p:nvGrpSpPr>
        <p:grpSpPr>
          <a:xfrm>
            <a:off x="5791320" y="2611440"/>
            <a:ext cx="1847880" cy="0"/>
            <a:chOff x="5791320" y="2611440"/>
            <a:chExt cx="1847880" cy="0"/>
          </a:xfrm>
        </p:grpSpPr>
        <p:sp>
          <p:nvSpPr>
            <p:cNvPr id="4546" name=""/>
            <p:cNvSpPr/>
            <p:nvPr/>
          </p:nvSpPr>
          <p:spPr>
            <a:xfrm flipH="1">
              <a:off x="6826320" y="261144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 flipH="1">
              <a:off x="6622920" y="261144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 flipH="1">
              <a:off x="5791320" y="261144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9" name=""/>
          <p:cNvSpPr/>
          <p:nvPr/>
        </p:nvSpPr>
        <p:spPr>
          <a:xfrm>
            <a:off x="6381720" y="432432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0" name=""/>
          <p:cNvGrpSpPr/>
          <p:nvPr/>
        </p:nvGrpSpPr>
        <p:grpSpPr>
          <a:xfrm>
            <a:off x="5938920" y="4616280"/>
            <a:ext cx="1847880" cy="0"/>
            <a:chOff x="5938920" y="4616280"/>
            <a:chExt cx="1847880" cy="0"/>
          </a:xfrm>
        </p:grpSpPr>
        <p:sp>
          <p:nvSpPr>
            <p:cNvPr id="4551" name=""/>
            <p:cNvSpPr/>
            <p:nvPr/>
          </p:nvSpPr>
          <p:spPr>
            <a:xfrm flipH="1">
              <a:off x="6973920" y="46162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 flipH="1">
              <a:off x="6770520" y="4616280"/>
              <a:ext cx="1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 flipH="1">
              <a:off x="5938920" y="46162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4" name=""/>
          <p:cNvSpPr/>
          <p:nvPr/>
        </p:nvSpPr>
        <p:spPr>
          <a:xfrm>
            <a:off x="6388200" y="447048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6388200" y="4762440"/>
            <a:ext cx="965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6521400" y="38988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 flipV="1">
            <a:off x="6388200" y="3200400"/>
            <a:ext cx="0" cy="5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7010280" y="5656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 flipV="1">
            <a:off x="6006960" y="2120760"/>
            <a:ext cx="8892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 flipV="1">
            <a:off x="6235560" y="2120760"/>
            <a:ext cx="16524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 flipV="1">
            <a:off x="6540480" y="2114640"/>
            <a:ext cx="17136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 flipV="1">
            <a:off x="6845400" y="2120760"/>
            <a:ext cx="164880" cy="1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 flipV="1">
            <a:off x="7149960" y="2114640"/>
            <a:ext cx="1717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 flipV="1">
            <a:off x="6661080" y="2895480"/>
            <a:ext cx="184320" cy="18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 flipV="1">
            <a:off x="6946920" y="2908440"/>
            <a:ext cx="19044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 flipV="1">
            <a:off x="6051600" y="2901960"/>
            <a:ext cx="177840" cy="17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 flipV="1">
            <a:off x="6343560" y="2895480"/>
            <a:ext cx="196920" cy="196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 flipV="1">
            <a:off x="7010280" y="3003480"/>
            <a:ext cx="336600" cy="33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 flipV="1">
            <a:off x="7023240" y="3314880"/>
            <a:ext cx="317520" cy="317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 flipV="1">
            <a:off x="7010280" y="3613320"/>
            <a:ext cx="336600" cy="33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 flipV="1">
            <a:off x="6800760" y="3911760"/>
            <a:ext cx="55260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 flipV="1">
            <a:off x="6489720" y="4330800"/>
            <a:ext cx="133200" cy="133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 flipV="1">
            <a:off x="7105680" y="4222800"/>
            <a:ext cx="241200" cy="24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 flipV="1">
            <a:off x="6953400" y="4762440"/>
            <a:ext cx="158760" cy="15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 flipV="1">
            <a:off x="7023240" y="4826160"/>
            <a:ext cx="330120" cy="33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 flipV="1">
            <a:off x="6680160" y="476892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 flipV="1">
            <a:off x="6426360" y="4762440"/>
            <a:ext cx="1206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 flipV="1">
            <a:off x="7148520" y="5130720"/>
            <a:ext cx="204840" cy="20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 flipV="1">
            <a:off x="7061040" y="5668920"/>
            <a:ext cx="59040" cy="5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 flipV="1">
            <a:off x="7308720" y="5740560"/>
            <a:ext cx="44640" cy="4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7010280" y="533412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7010280" y="5673600"/>
            <a:ext cx="343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3" name=""/>
          <p:cNvGrpSpPr/>
          <p:nvPr/>
        </p:nvGrpSpPr>
        <p:grpSpPr>
          <a:xfrm>
            <a:off x="6923160" y="5513400"/>
            <a:ext cx="501480" cy="0"/>
            <a:chOff x="6923160" y="5513400"/>
            <a:chExt cx="501480" cy="0"/>
          </a:xfrm>
        </p:grpSpPr>
        <p:sp>
          <p:nvSpPr>
            <p:cNvPr id="4584" name=""/>
            <p:cNvSpPr/>
            <p:nvPr/>
          </p:nvSpPr>
          <p:spPr>
            <a:xfrm flipH="1">
              <a:off x="7270920" y="5513400"/>
              <a:ext cx="15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 flipH="1">
              <a:off x="7112160" y="5513400"/>
              <a:ext cx="98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 flipH="1">
              <a:off x="6923160" y="551340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7" name=""/>
          <p:cNvSpPr txBox="1"/>
          <p:nvPr/>
        </p:nvSpPr>
        <p:spPr>
          <a:xfrm>
            <a:off x="1531800" y="131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8" name=""/>
          <p:cNvSpPr txBox="1"/>
          <p:nvPr/>
        </p:nvSpPr>
        <p:spPr>
          <a:xfrm>
            <a:off x="782640" y="58737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9" name=""/>
          <p:cNvSpPr txBox="1"/>
          <p:nvPr/>
        </p:nvSpPr>
        <p:spPr>
          <a:xfrm>
            <a:off x="6272280" y="60120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0" name=""/>
          <p:cNvGrpSpPr/>
          <p:nvPr/>
        </p:nvGrpSpPr>
        <p:grpSpPr>
          <a:xfrm>
            <a:off x="1189080" y="1531800"/>
            <a:ext cx="1087560" cy="4583520"/>
            <a:chOff x="1189080" y="1531800"/>
            <a:chExt cx="1087560" cy="4583520"/>
          </a:xfrm>
        </p:grpSpPr>
        <p:sp>
          <p:nvSpPr>
            <p:cNvPr id="4591" name=""/>
            <p:cNvSpPr/>
            <p:nvPr/>
          </p:nvSpPr>
          <p:spPr>
            <a:xfrm flipH="1">
              <a:off x="2085840" y="1577880"/>
              <a:ext cx="190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 flipH="1">
              <a:off x="1314360" y="6073920"/>
              <a:ext cx="2001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1189080" y="6022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1951200" y="1531800"/>
              <a:ext cx="194040" cy="92520"/>
            </a:xfrm>
            <a:custGeom>
              <a:avLst/>
              <a:gdLst/>
              <a:ahLst/>
              <a:rect l="0" t="0" r="r" b="b"/>
              <a:pathLst>
                <a:path w="539" h="257">
                  <a:moveTo>
                    <a:pt x="539" y="257"/>
                  </a:moveTo>
                  <a:lnTo>
                    <a:pt x="539" y="0"/>
                  </a:lnTo>
                  <a:lnTo>
                    <a:pt x="0" y="128"/>
                  </a:lnTo>
                  <a:lnTo>
                    <a:pt x="539" y="25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2270160" y="1571760"/>
              <a:ext cx="0" cy="3175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2270160" y="2000160"/>
              <a:ext cx="0" cy="3016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2270160" y="2444760"/>
              <a:ext cx="0" cy="3333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2270160" y="2873520"/>
              <a:ext cx="0" cy="380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2270160" y="3365640"/>
              <a:ext cx="0" cy="2854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2270160" y="3794040"/>
              <a:ext cx="0" cy="238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 flipH="1">
              <a:off x="2127240" y="4032360"/>
              <a:ext cx="142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 flipH="1">
              <a:off x="1920960" y="4032360"/>
              <a:ext cx="950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1920960" y="403236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1920960" y="4381560"/>
              <a:ext cx="0" cy="412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1920960" y="4873680"/>
              <a:ext cx="0" cy="2062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 flipH="1">
              <a:off x="1762200" y="5079960"/>
              <a:ext cx="1587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 flipH="1">
              <a:off x="1523880" y="5079960"/>
              <a:ext cx="1270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1523880" y="5079960"/>
              <a:ext cx="0" cy="174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523880" y="5419800"/>
              <a:ext cx="0" cy="2858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1523880" y="5823000"/>
              <a:ext cx="0" cy="2538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1" name=""/>
          <p:cNvSpPr/>
          <p:nvPr/>
        </p:nvSpPr>
        <p:spPr>
          <a:xfrm>
            <a:off x="6388200" y="376380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6877080" y="488808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6877080" y="41893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371"/>
                </a:moveTo>
                <a:lnTo>
                  <a:pt x="371" y="371"/>
                </a:lnTo>
                <a:lnTo>
                  <a:pt x="371" y="371"/>
                </a:lnTo>
                <a:cubicBezTo>
                  <a:pt x="371" y="306"/>
                  <a:pt x="354" y="242"/>
                  <a:pt x="321" y="185"/>
                </a:cubicBezTo>
                <a:cubicBezTo>
                  <a:pt x="289" y="129"/>
                  <a:pt x="242" y="82"/>
                  <a:pt x="185" y="50"/>
                </a:cubicBezTo>
                <a:cubicBezTo>
                  <a:pt x="129" y="17"/>
                  <a:pt x="65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>
            <a:off x="6253200" y="3087000"/>
            <a:ext cx="101160" cy="129600"/>
          </a:xfrm>
          <a:custGeom>
            <a:avLst/>
            <a:gdLst/>
            <a:ahLst/>
            <a:rect l="0" t="0" r="r" b="b"/>
            <a:pathLst>
              <a:path fill="none" w="281" h="360">
                <a:moveTo>
                  <a:pt x="281" y="0"/>
                </a:moveTo>
                <a:lnTo>
                  <a:pt x="281" y="0"/>
                </a:lnTo>
                <a:cubicBezTo>
                  <a:pt x="248" y="8"/>
                  <a:pt x="216" y="21"/>
                  <a:pt x="186" y="38"/>
                </a:cubicBezTo>
                <a:cubicBezTo>
                  <a:pt x="130" y="71"/>
                  <a:pt x="83" y="118"/>
                  <a:pt x="50" y="174"/>
                </a:cubicBezTo>
                <a:cubicBezTo>
                  <a:pt x="17" y="231"/>
                  <a:pt x="0" y="295"/>
                  <a:pt x="0" y="360"/>
                </a:cubicBezTo>
                <a:lnTo>
                  <a:pt x="0" y="36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>
            <a:off x="6877080" y="3894120"/>
            <a:ext cx="133560" cy="133560"/>
          </a:xfrm>
          <a:custGeom>
            <a:avLst/>
            <a:gdLst/>
            <a:ahLst/>
            <a:rect l="0" t="0" r="r" b="b"/>
            <a:pathLst>
              <a:path fill="none" w="371" h="371">
                <a:moveTo>
                  <a:pt x="371" y="0"/>
                </a:moveTo>
                <a:lnTo>
                  <a:pt x="371" y="0"/>
                </a:lnTo>
                <a:cubicBezTo>
                  <a:pt x="306" y="0"/>
                  <a:pt x="242" y="17"/>
                  <a:pt x="185" y="50"/>
                </a:cubicBezTo>
                <a:cubicBezTo>
                  <a:pt x="129" y="82"/>
                  <a:pt x="82" y="129"/>
                  <a:pt x="50" y="186"/>
                </a:cubicBezTo>
                <a:cubicBezTo>
                  <a:pt x="17" y="242"/>
                  <a:pt x="0" y="306"/>
                  <a:pt x="0" y="37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6877080" y="3087720"/>
            <a:ext cx="132120" cy="133560"/>
          </a:xfrm>
          <a:custGeom>
            <a:avLst/>
            <a:gdLst/>
            <a:ahLst/>
            <a:rect l="0" t="0" r="r" b="b"/>
            <a:pathLst>
              <a:path fill="none" w="367" h="371">
                <a:moveTo>
                  <a:pt x="367" y="0"/>
                </a:moveTo>
                <a:lnTo>
                  <a:pt x="367" y="0"/>
                </a:lnTo>
                <a:cubicBezTo>
                  <a:pt x="303" y="1"/>
                  <a:pt x="241" y="18"/>
                  <a:pt x="186" y="50"/>
                </a:cubicBezTo>
                <a:cubicBezTo>
                  <a:pt x="129" y="82"/>
                  <a:pt x="82" y="129"/>
                  <a:pt x="50" y="185"/>
                </a:cubicBezTo>
                <a:cubicBezTo>
                  <a:pt x="17" y="242"/>
                  <a:pt x="0" y="306"/>
                  <a:pt x="0" y="371"/>
                </a:cubicBezTo>
                <a:lnTo>
                  <a:pt x="0" y="3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"/>
          <p:cNvSpPr txBox="1"/>
          <p:nvPr/>
        </p:nvSpPr>
        <p:spPr>
          <a:xfrm>
            <a:off x="685800" y="2538360"/>
            <a:ext cx="7772400" cy="22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oken-Out Section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"/>
          <p:cNvSpPr/>
          <p:nvPr/>
        </p:nvSpPr>
        <p:spPr>
          <a:xfrm>
            <a:off x="1958760" y="2725560"/>
            <a:ext cx="2410200" cy="1008720"/>
          </a:xfrm>
          <a:custGeom>
            <a:avLst/>
            <a:gdLst/>
            <a:ahLst/>
            <a:rect l="0" t="0" r="r" b="b"/>
            <a:pathLst>
              <a:path fill="none" w="6695" h="2802">
                <a:moveTo>
                  <a:pt x="6695" y="0"/>
                </a:moveTo>
                <a:lnTo>
                  <a:pt x="6695" y="0"/>
                </a:lnTo>
                <a:lnTo>
                  <a:pt x="6695" y="0"/>
                </a:lnTo>
                <a:cubicBezTo>
                  <a:pt x="5056" y="0"/>
                  <a:pt x="3446" y="427"/>
                  <a:pt x="2026" y="1239"/>
                </a:cubicBezTo>
                <a:cubicBezTo>
                  <a:pt x="1281" y="1665"/>
                  <a:pt x="600" y="2191"/>
                  <a:pt x="0" y="280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9" name=""/>
          <p:cNvGrpSpPr/>
          <p:nvPr/>
        </p:nvGrpSpPr>
        <p:grpSpPr>
          <a:xfrm>
            <a:off x="1652400" y="2932200"/>
            <a:ext cx="5477400" cy="1352160"/>
            <a:chOff x="1652400" y="2932200"/>
            <a:chExt cx="5477400" cy="1352160"/>
          </a:xfrm>
        </p:grpSpPr>
        <p:sp>
          <p:nvSpPr>
            <p:cNvPr id="4620" name=""/>
            <p:cNvSpPr/>
            <p:nvPr/>
          </p:nvSpPr>
          <p:spPr>
            <a:xfrm>
              <a:off x="1652400" y="2932200"/>
              <a:ext cx="2715120" cy="1352160"/>
            </a:xfrm>
            <a:custGeom>
              <a:avLst/>
              <a:gdLst/>
              <a:ahLst/>
              <a:rect l="0" t="0" r="r" b="b"/>
              <a:pathLst>
                <a:path fill="none" w="7542" h="3756">
                  <a:moveTo>
                    <a:pt x="7542" y="0"/>
                  </a:moveTo>
                  <a:lnTo>
                    <a:pt x="7542" y="0"/>
                  </a:lnTo>
                  <a:cubicBezTo>
                    <a:pt x="5883" y="0"/>
                    <a:pt x="4253" y="437"/>
                    <a:pt x="2816" y="1267"/>
                  </a:cubicBezTo>
                  <a:cubicBezTo>
                    <a:pt x="1720" y="1900"/>
                    <a:pt x="763" y="2746"/>
                    <a:pt x="0" y="3756"/>
                  </a:cubicBezTo>
                </a:path>
              </a:pathLst>
            </a:cu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414680" y="2932200"/>
              <a:ext cx="2715120" cy="1352160"/>
            </a:xfrm>
            <a:custGeom>
              <a:avLst/>
              <a:gdLst/>
              <a:ahLst/>
              <a:rect l="0" t="0" r="r" b="b"/>
              <a:pathLst>
                <a:path fill="none" w="7542" h="3756">
                  <a:moveTo>
                    <a:pt x="7542" y="3756"/>
                  </a:moveTo>
                  <a:lnTo>
                    <a:pt x="7542" y="3756"/>
                  </a:lnTo>
                  <a:cubicBezTo>
                    <a:pt x="6779" y="2746"/>
                    <a:pt x="5822" y="1900"/>
                    <a:pt x="4726" y="1267"/>
                  </a:cubicBezTo>
                  <a:cubicBezTo>
                    <a:pt x="3289" y="437"/>
                    <a:pt x="1659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2" name=""/>
          <p:cNvSpPr/>
          <p:nvPr/>
        </p:nvSpPr>
        <p:spPr>
          <a:xfrm>
            <a:off x="4413240" y="2725560"/>
            <a:ext cx="2410200" cy="1008720"/>
          </a:xfrm>
          <a:custGeom>
            <a:avLst/>
            <a:gdLst/>
            <a:ahLst/>
            <a:rect l="0" t="0" r="r" b="b"/>
            <a:pathLst>
              <a:path fill="none" w="6695" h="2802">
                <a:moveTo>
                  <a:pt x="6695" y="2802"/>
                </a:moveTo>
                <a:lnTo>
                  <a:pt x="6695" y="2802"/>
                </a:lnTo>
                <a:cubicBezTo>
                  <a:pt x="6095" y="2191"/>
                  <a:pt x="5414" y="1665"/>
                  <a:pt x="4669" y="1239"/>
                </a:cubicBezTo>
                <a:cubicBezTo>
                  <a:pt x="3249" y="427"/>
                  <a:pt x="1639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3" name=""/>
          <p:cNvSpPr txBox="1"/>
          <p:nvPr/>
        </p:nvSpPr>
        <p:spPr>
          <a:xfrm>
            <a:off x="787320" y="1062000"/>
            <a:ext cx="2033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d with in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tical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4" name=""/>
          <p:cNvGrpSpPr/>
          <p:nvPr/>
        </p:nvGrpSpPr>
        <p:grpSpPr>
          <a:xfrm>
            <a:off x="1282680" y="1841400"/>
            <a:ext cx="6216840" cy="3660840"/>
            <a:chOff x="1282680" y="1841400"/>
            <a:chExt cx="6216840" cy="3660840"/>
          </a:xfrm>
        </p:grpSpPr>
        <p:sp>
          <p:nvSpPr>
            <p:cNvPr id="4625" name=""/>
            <p:cNvSpPr/>
            <p:nvPr/>
          </p:nvSpPr>
          <p:spPr>
            <a:xfrm>
              <a:off x="1782720" y="3836880"/>
              <a:ext cx="5556240" cy="11336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1589040" y="3411360"/>
              <a:ext cx="383040" cy="152640"/>
            </a:xfrm>
            <a:custGeom>
              <a:avLst/>
              <a:gdLst/>
              <a:ahLst/>
              <a:rect l="0" t="0" r="r" b="b"/>
              <a:pathLst>
                <a:path fill="none" w="1064" h="424">
                  <a:moveTo>
                    <a:pt x="1064" y="0"/>
                  </a:moveTo>
                  <a:lnTo>
                    <a:pt x="1064" y="0"/>
                  </a:lnTo>
                  <a:lnTo>
                    <a:pt x="1063" y="0"/>
                  </a:lnTo>
                  <a:cubicBezTo>
                    <a:pt x="808" y="0"/>
                    <a:pt x="558" y="61"/>
                    <a:pt x="337" y="178"/>
                  </a:cubicBezTo>
                  <a:cubicBezTo>
                    <a:pt x="212" y="244"/>
                    <a:pt x="98" y="327"/>
                    <a:pt x="0" y="424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1587600" y="387360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 flipH="1">
              <a:off x="1282680" y="40194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1282680" y="4013280"/>
              <a:ext cx="0" cy="8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1282680" y="4102200"/>
              <a:ext cx="203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1486080" y="4102200"/>
              <a:ext cx="0" cy="183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486080" y="4286160"/>
              <a:ext cx="2889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406760" y="3448080"/>
              <a:ext cx="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406760" y="3581280"/>
              <a:ext cx="0" cy="978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6811920" y="3411360"/>
              <a:ext cx="383040" cy="152640"/>
            </a:xfrm>
            <a:custGeom>
              <a:avLst/>
              <a:gdLst/>
              <a:ahLst/>
              <a:rect l="0" t="0" r="r" b="b"/>
              <a:pathLst>
                <a:path fill="none" w="1064" h="424">
                  <a:moveTo>
                    <a:pt x="1064" y="424"/>
                  </a:moveTo>
                  <a:lnTo>
                    <a:pt x="1064" y="424"/>
                  </a:lnTo>
                  <a:cubicBezTo>
                    <a:pt x="966" y="327"/>
                    <a:pt x="852" y="244"/>
                    <a:pt x="727" y="178"/>
                  </a:cubicBezTo>
                  <a:cubicBezTo>
                    <a:pt x="506" y="61"/>
                    <a:pt x="256" y="0"/>
                    <a:pt x="1" y="0"/>
                  </a:cubicBezTo>
                  <a:lnTo>
                    <a:pt x="0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194600" y="387360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7194600" y="40194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7499520" y="4013280"/>
              <a:ext cx="0" cy="8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H="1">
              <a:off x="7296120" y="4102200"/>
              <a:ext cx="203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7296120" y="4102200"/>
              <a:ext cx="0" cy="183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 flipH="1">
              <a:off x="4406760" y="4286160"/>
              <a:ext cx="2889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1587600" y="3886200"/>
              <a:ext cx="5600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1587600" y="4025880"/>
              <a:ext cx="5626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1486080" y="4102200"/>
              <a:ext cx="5816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5" name=""/>
            <p:cNvGrpSpPr/>
            <p:nvPr/>
          </p:nvGrpSpPr>
          <p:grpSpPr>
            <a:xfrm>
              <a:off x="4043520" y="2138400"/>
              <a:ext cx="707760" cy="585720"/>
              <a:chOff x="4043520" y="2138400"/>
              <a:chExt cx="707760" cy="585720"/>
            </a:xfrm>
          </p:grpSpPr>
          <p:sp>
            <p:nvSpPr>
              <p:cNvPr id="4646" name=""/>
              <p:cNvSpPr/>
              <p:nvPr/>
            </p:nvSpPr>
            <p:spPr>
              <a:xfrm>
                <a:off x="4044240" y="2243160"/>
                <a:ext cx="199440" cy="475200"/>
              </a:xfrm>
              <a:custGeom>
                <a:avLst/>
                <a:gdLst/>
                <a:ahLst/>
                <a:rect l="0" t="0" r="r" b="b"/>
                <a:pathLst>
                  <a:path fill="none" w="554" h="1320">
                    <a:moveTo>
                      <a:pt x="554" y="1320"/>
                    </a:moveTo>
                    <a:lnTo>
                      <a:pt x="554" y="1320"/>
                    </a:lnTo>
                    <a:cubicBezTo>
                      <a:pt x="552" y="1062"/>
                      <a:pt x="504" y="810"/>
                      <a:pt x="417" y="586"/>
                    </a:cubicBezTo>
                    <a:cubicBezTo>
                      <a:pt x="327" y="357"/>
                      <a:pt x="197" y="166"/>
                      <a:pt x="42" y="34"/>
                    </a:cubicBezTo>
                    <a:cubicBezTo>
                      <a:pt x="28" y="22"/>
                      <a:pt x="14" y="11"/>
                      <a:pt x="0" y="0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4573440" y="2244240"/>
                <a:ext cx="171000" cy="478440"/>
              </a:xfrm>
              <a:custGeom>
                <a:avLst/>
                <a:gdLst/>
                <a:ahLst/>
                <a:rect l="0" t="0" r="r" b="b"/>
                <a:pathLst>
                  <a:path fill="none" w="475" h="1329">
                    <a:moveTo>
                      <a:pt x="475" y="0"/>
                    </a:moveTo>
                    <a:lnTo>
                      <a:pt x="475" y="0"/>
                    </a:lnTo>
                    <a:cubicBezTo>
                      <a:pt x="470" y="5"/>
                      <a:pt x="465" y="10"/>
                      <a:pt x="459" y="14"/>
                    </a:cubicBezTo>
                    <a:cubicBezTo>
                      <a:pt x="320" y="148"/>
                      <a:pt x="204" y="339"/>
                      <a:pt x="123" y="570"/>
                    </a:cubicBezTo>
                    <a:cubicBezTo>
                      <a:pt x="42" y="800"/>
                      <a:pt x="0" y="1062"/>
                      <a:pt x="0" y="1328"/>
                    </a:cubicBezTo>
                    <a:cubicBezTo>
                      <a:pt x="0" y="1329"/>
                      <a:pt x="0" y="1329"/>
                      <a:pt x="0" y="1329"/>
                    </a:cubicBez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237200" y="272412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043520" y="2239920"/>
                <a:ext cx="701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 flipV="1">
                <a:off x="4046400" y="2138400"/>
                <a:ext cx="101880" cy="10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4145040" y="2138400"/>
                <a:ext cx="50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4649760" y="2138400"/>
                <a:ext cx="101520" cy="10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53" name=""/>
            <p:cNvSpPr/>
            <p:nvPr/>
          </p:nvSpPr>
          <p:spPr>
            <a:xfrm>
              <a:off x="4406760" y="1841400"/>
              <a:ext cx="0" cy="150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4" name=""/>
            <p:cNvSpPr txBox="1"/>
            <p:nvPr/>
          </p:nvSpPr>
          <p:spPr>
            <a:xfrm>
              <a:off x="3627360" y="5105520"/>
              <a:ext cx="14749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file view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5" name=""/>
          <p:cNvSpPr txBox="1"/>
          <p:nvPr/>
        </p:nvSpPr>
        <p:spPr>
          <a:xfrm>
            <a:off x="6037200" y="1657440"/>
            <a:ext cx="2752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The Problem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mension the in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our without dim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oning to hidden 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/>
  <dc:title>Sectioning Conventions</dc:title>
</cp:coreProperties>
</file>