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11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Geomtric Tolerancing</a:t>
            </a:r>
            <a:br>
              <a:rPr sz="4400"/>
            </a:br>
            <a:r>
              <a:rPr b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pplications Us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644400" y="2833560"/>
            <a:ext cx="7821720" cy="27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ed with modification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40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Geometric Dimensiong &amp; Tolera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lex Krulikows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230480" y="838080"/>
            <a:ext cx="6750000" cy="1889280"/>
          </a:xfrm>
          <a:prstGeom prst="round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67160" y="619200"/>
            <a:ext cx="2209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CHANICAL ENGINEERING 1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14720" y="8082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OMETRIC DIMENSIONING AND TOLERANCING—APPLICATIONS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54280" y="993600"/>
            <a:ext cx="2025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Per ANSI/ASME Y14.5 M-199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720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720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1473120"/>
            <a:ext cx="7128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4920" y="147312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61920" y="1473120"/>
            <a:ext cx="12812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5252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8080" y="1473120"/>
            <a:ext cx="614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0196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27520" y="1473120"/>
            <a:ext cx="11574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9428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9480" y="1473120"/>
            <a:ext cx="6811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996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35520" y="1473120"/>
            <a:ext cx="601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4500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72000" y="1473120"/>
            <a:ext cx="5619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4368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68880" y="1473120"/>
            <a:ext cx="666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4532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70520" y="1473120"/>
            <a:ext cx="12654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4384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0840" y="1473120"/>
            <a:ext cx="8222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90100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01000" y="147312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7200" y="1501920"/>
            <a:ext cx="1584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34920" y="1501920"/>
            <a:ext cx="36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52520" y="1501920"/>
            <a:ext cx="36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01960" y="1501920"/>
            <a:ext cx="36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94280" y="1501920"/>
            <a:ext cx="36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9960" y="1501920"/>
            <a:ext cx="36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5000" y="1501920"/>
            <a:ext cx="36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43680" y="1501920"/>
            <a:ext cx="36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45320" y="1501920"/>
            <a:ext cx="36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43840" y="1501920"/>
            <a:ext cx="36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01000" y="1501920"/>
            <a:ext cx="15840" cy="4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4680" y="1604880"/>
            <a:ext cx="608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ype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0960" y="1751040"/>
            <a:ext cx="749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8680" y="1604880"/>
            <a:ext cx="770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ometr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38320" y="1751040"/>
            <a:ext cx="960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acter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7440" y="1604880"/>
            <a:ext cx="608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ymb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87560" y="1604880"/>
            <a:ext cx="1285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n be applied to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954160" y="1751040"/>
            <a:ext cx="1136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eature     F of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071960" y="1604880"/>
            <a:ext cx="790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um 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4240" y="1751040"/>
            <a:ext cx="480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88000" y="1460520"/>
            <a:ext cx="677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n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97440" y="1604880"/>
            <a:ext cx="487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M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21120" y="1751040"/>
            <a:ext cx="636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if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24480" y="1460520"/>
            <a:ext cx="677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n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533920" y="1604880"/>
            <a:ext cx="438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24480" y="1751040"/>
            <a:ext cx="636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if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29280" y="1460520"/>
            <a:ext cx="763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n aff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32600" y="160488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53040" y="175104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746760" y="1460520"/>
            <a:ext cx="1355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n be affected by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760" y="1604880"/>
            <a:ext cx="1144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nus 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85240" y="1460520"/>
            <a:ext cx="819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ffect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265960" y="1604880"/>
            <a:ext cx="438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123400" y="1751040"/>
            <a:ext cx="749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7200" y="193680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1936800"/>
            <a:ext cx="712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4200" y="1955880"/>
            <a:ext cx="712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4920" y="193680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34920" y="195588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920" y="1936800"/>
            <a:ext cx="1281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61920" y="1955880"/>
            <a:ext cx="1281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2520" y="19368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52520" y="19558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78080" y="1936800"/>
            <a:ext cx="6145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78080" y="1955880"/>
            <a:ext cx="6145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01960" y="19368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01960" y="19558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27520" y="1936800"/>
            <a:ext cx="5587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27520" y="1955880"/>
            <a:ext cx="5587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5600" y="19368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5600" y="19558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22600" y="1936800"/>
            <a:ext cx="561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22600" y="1955880"/>
            <a:ext cx="561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94280" y="19368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94280" y="19558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9480" y="1936800"/>
            <a:ext cx="6811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9480" y="1955880"/>
            <a:ext cx="6811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9960" y="19368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9960" y="19558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35520" y="1936800"/>
            <a:ext cx="6015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35520" y="1955880"/>
            <a:ext cx="6015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45000" y="19368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45000" y="19558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72000" y="1936800"/>
            <a:ext cx="561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72000" y="1955880"/>
            <a:ext cx="561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43680" y="19368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43680" y="19558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68880" y="1936800"/>
            <a:ext cx="6667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68880" y="1955880"/>
            <a:ext cx="6667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5320" y="19368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45320" y="19558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70520" y="1936800"/>
            <a:ext cx="12654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70520" y="1955880"/>
            <a:ext cx="12654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43840" y="19368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3840" y="19558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0840" y="1936800"/>
            <a:ext cx="822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70840" y="1955880"/>
            <a:ext cx="822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01000" y="193680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7200" y="1963800"/>
            <a:ext cx="1584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492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5252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0196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560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9428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996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4500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4368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4532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43840" y="1963800"/>
            <a:ext cx="3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901000" y="1963800"/>
            <a:ext cx="1584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4680" y="1925640"/>
            <a:ext cx="890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a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06840" y="192240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03640" y="1963800"/>
            <a:ext cx="69696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03640" y="2109960"/>
            <a:ext cx="696960" cy="460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915080" y="192240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54720" y="1963800"/>
            <a:ext cx="5796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54720" y="2109960"/>
            <a:ext cx="579600" cy="460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81560" y="192240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151760" y="1932120"/>
            <a:ext cx="438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391520" y="1932120"/>
            <a:ext cx="262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Symbol"/>
                <a:ea typeface="Symbol"/>
              </a:rPr>
              <a:t>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53560" y="1963800"/>
            <a:ext cx="83808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53560" y="2109960"/>
            <a:ext cx="838080" cy="460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7200" y="21636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3492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42840" y="216360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5252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2240" y="216360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196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560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16360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9428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03640" y="2163600"/>
            <a:ext cx="69696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996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18240" y="2163600"/>
            <a:ext cx="6192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500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54720" y="216360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4368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53040" y="2163600"/>
            <a:ext cx="684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4532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53240" y="2163600"/>
            <a:ext cx="1281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3840" y="2163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53560" y="2163600"/>
            <a:ext cx="83808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901000" y="21636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7200" y="217332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3492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5252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0196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9560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9428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996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4500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4368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4532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43840" y="21733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01000" y="217332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36600" y="2131920"/>
            <a:ext cx="480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81240" y="2131920"/>
            <a:ext cx="663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Fla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11400" y="213192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2173320"/>
            <a:ext cx="5796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319480"/>
            <a:ext cx="57960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03640" y="2173320"/>
            <a:ext cx="69696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7960" y="213192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03640" y="2319480"/>
            <a:ext cx="69696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18240" y="2173320"/>
            <a:ext cx="6192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18240" y="2319480"/>
            <a:ext cx="61920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54720" y="2173320"/>
            <a:ext cx="5796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54720" y="2319480"/>
            <a:ext cx="57960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53040" y="2173320"/>
            <a:ext cx="68436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53040" y="2319480"/>
            <a:ext cx="68436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53240" y="2173320"/>
            <a:ext cx="128124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53240" y="2319480"/>
            <a:ext cx="128124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053560" y="2173320"/>
            <a:ext cx="83808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315280" y="213192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053560" y="2319480"/>
            <a:ext cx="83808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7200" y="239076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492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42840" y="239076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5252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62240" y="239076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0196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560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239076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9428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03640" y="2390760"/>
            <a:ext cx="69696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996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8240" y="2390760"/>
            <a:ext cx="6192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4500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54720" y="239076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4368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53040" y="2390760"/>
            <a:ext cx="68436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4532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53240" y="2390760"/>
            <a:ext cx="12812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43840" y="23907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53560" y="2390760"/>
            <a:ext cx="83808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01000" y="239076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7200" y="240048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3492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5252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0196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560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9428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996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4500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4368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4532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43840" y="24004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901000" y="240048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36600" y="2359080"/>
            <a:ext cx="749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Circula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2400480"/>
            <a:ext cx="5796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632040" y="235908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2546280"/>
            <a:ext cx="57960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03640" y="2400480"/>
            <a:ext cx="69696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03640" y="2546280"/>
            <a:ext cx="69696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18240" y="2400480"/>
            <a:ext cx="6192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62600" y="235908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18240" y="2546280"/>
            <a:ext cx="61920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54720" y="2400480"/>
            <a:ext cx="5796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529240" y="235908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 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54720" y="2546280"/>
            <a:ext cx="57960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53040" y="2400480"/>
            <a:ext cx="68436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30880" y="235908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53040" y="2546280"/>
            <a:ext cx="68436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53240" y="2400480"/>
            <a:ext cx="128124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232760" y="235908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53240" y="2546280"/>
            <a:ext cx="128124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53560" y="2400480"/>
            <a:ext cx="83808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53560" y="2546280"/>
            <a:ext cx="83808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7200" y="261792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3492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42840" y="261792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5252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62240" y="261792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0196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9560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261792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9428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03640" y="2617920"/>
            <a:ext cx="69696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0996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18240" y="2617920"/>
            <a:ext cx="6192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4500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54720" y="261792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4368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53040" y="2617920"/>
            <a:ext cx="68436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4532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53240" y="2617920"/>
            <a:ext cx="12812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43840" y="26179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53560" y="2617920"/>
            <a:ext cx="83808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01000" y="261792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200" y="262728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3492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5252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0196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9560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9428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0996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4500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4368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4532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043840" y="26272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901000" y="262728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12840" y="2585880"/>
            <a:ext cx="798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Cylindr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2627280"/>
            <a:ext cx="5796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277164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03640" y="2627280"/>
            <a:ext cx="69696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03640" y="2771640"/>
            <a:ext cx="69696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18240" y="2627280"/>
            <a:ext cx="6192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18240" y="2771640"/>
            <a:ext cx="6192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54720" y="2627280"/>
            <a:ext cx="5796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54720" y="277164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53040" y="2627280"/>
            <a:ext cx="68436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53040" y="2771640"/>
            <a:ext cx="68436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53240" y="2627280"/>
            <a:ext cx="128124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53240" y="2771640"/>
            <a:ext cx="128124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53560" y="2627280"/>
            <a:ext cx="83808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53560" y="2771640"/>
            <a:ext cx="83808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7200" y="284472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4200" y="2844720"/>
            <a:ext cx="712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3492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42840" y="284472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5252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62240" y="284472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0196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09880" y="2844720"/>
            <a:ext cx="577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9560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284472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9428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03640" y="2844720"/>
            <a:ext cx="696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0996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18240" y="2844720"/>
            <a:ext cx="6192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4500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54720" y="284472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4368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53040" y="2844720"/>
            <a:ext cx="684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4532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53240" y="2844720"/>
            <a:ext cx="1281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043840" y="28447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53560" y="2844720"/>
            <a:ext cx="838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01000" y="284472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7200" y="2854440"/>
            <a:ext cx="158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3492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5252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0196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560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09428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0996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4500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4368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4532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043840" y="285444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901000" y="2854440"/>
            <a:ext cx="158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281304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Pro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82520" y="281304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Profile of a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11400" y="281304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05320" y="2854440"/>
            <a:ext cx="5796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632040" y="281304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300024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16320" y="2813040"/>
            <a:ext cx="501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18240" y="2854440"/>
            <a:ext cx="6192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962600" y="281304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18240" y="3000240"/>
            <a:ext cx="6192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54720" y="2854440"/>
            <a:ext cx="5796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529240" y="28130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 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4720" y="300024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53040" y="2854440"/>
            <a:ext cx="68436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230880" y="281304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53040" y="3000240"/>
            <a:ext cx="68436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53240" y="2854440"/>
            <a:ext cx="128124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232760" y="281304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53240" y="3000240"/>
            <a:ext cx="128124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51920" y="2813040"/>
            <a:ext cx="477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7200" y="307332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3492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42840" y="307332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5252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62240" y="307332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0196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9560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05320" y="307332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9428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0996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18240" y="3073320"/>
            <a:ext cx="6192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4500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54720" y="307332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4368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53040" y="3073320"/>
            <a:ext cx="68436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4532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53240" y="3073320"/>
            <a:ext cx="12812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043840" y="30733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901000" y="307332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200" y="308304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3492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5252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0196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9560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09428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0996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4500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4368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4532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43840" y="308304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901000" y="308304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88920" y="3041640"/>
            <a:ext cx="1263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Profile of a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3083040"/>
            <a:ext cx="5796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05320" y="322740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18240" y="3083040"/>
            <a:ext cx="6192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18240" y="3227400"/>
            <a:ext cx="6192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54720" y="3083040"/>
            <a:ext cx="5796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54720" y="322740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53040" y="3083040"/>
            <a:ext cx="68436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53040" y="3227400"/>
            <a:ext cx="68436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53240" y="3083040"/>
            <a:ext cx="128124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753240" y="3227400"/>
            <a:ext cx="128124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7200" y="32986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4200" y="3298680"/>
            <a:ext cx="712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3492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42840" y="329868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5252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62240" y="329868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0196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09880" y="3298680"/>
            <a:ext cx="577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9560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9868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09428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03640" y="3298680"/>
            <a:ext cx="696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0996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18240" y="3298680"/>
            <a:ext cx="6192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4500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54720" y="329868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4368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53040" y="3298680"/>
            <a:ext cx="684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4532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53240" y="3298680"/>
            <a:ext cx="1281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043840" y="329868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53560" y="3298680"/>
            <a:ext cx="838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901000" y="329868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7200" y="330840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3492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5252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0196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49560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9428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0996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4500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4368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4532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043840" y="33084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901000" y="330840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073160" y="3267000"/>
            <a:ext cx="1095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Perpendicula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454720" y="3308400"/>
            <a:ext cx="5796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54720" y="3454560"/>
            <a:ext cx="579600" cy="61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7200" y="352584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3492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42840" y="352584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5252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62240" y="352584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0196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9560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428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0996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4500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454720" y="352584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4368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4532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043840" y="35258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901000" y="352584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7200" y="3535200"/>
            <a:ext cx="158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3492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5252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0196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49560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9428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996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44500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4368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74532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043840" y="353520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901000" y="3535200"/>
            <a:ext cx="158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82520" y="3494160"/>
            <a:ext cx="804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208160" y="3494160"/>
            <a:ext cx="804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Paralle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11400" y="349416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606840" y="349416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262400" y="349416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915080" y="349416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454720" y="3535200"/>
            <a:ext cx="5796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529240" y="349416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 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54720" y="368136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181560" y="349416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151760" y="3503520"/>
            <a:ext cx="438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391520" y="3503520"/>
            <a:ext cx="262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Symbol"/>
                <a:ea typeface="Symbol"/>
              </a:rPr>
              <a:t>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251920" y="3494160"/>
            <a:ext cx="477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7200" y="375444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492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42840" y="375444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5252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262240" y="375444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0196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9560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09428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0996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4500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454720" y="375444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4368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4532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043840" y="375444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901000" y="375444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376380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3492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5252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0196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9560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09428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996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44500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4368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4532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043840" y="376380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901000" y="376380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239840" y="3722760"/>
            <a:ext cx="749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Angula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54720" y="3763800"/>
            <a:ext cx="5796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54720" y="390852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7200" y="39816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4200" y="3981600"/>
            <a:ext cx="712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3492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42840" y="398160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5252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62240" y="398160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0196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09880" y="3981600"/>
            <a:ext cx="577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560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398160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9428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103640" y="3981600"/>
            <a:ext cx="696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0996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18240" y="3981600"/>
            <a:ext cx="6192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4500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454720" y="398160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4368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53040" y="3981600"/>
            <a:ext cx="684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4532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53240" y="3981600"/>
            <a:ext cx="1281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043840" y="39816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53560" y="3981600"/>
            <a:ext cx="838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01000" y="39816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7200" y="399096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3492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5252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0196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560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9428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0996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4500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04368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4532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043840" y="399096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901000" y="399096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87280" y="3949560"/>
            <a:ext cx="593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Run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89000" y="394956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Circular Run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011400" y="394956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606840" y="394956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262400" y="394956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18240" y="3990960"/>
            <a:ext cx="6192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62600" y="394956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818240" y="4135320"/>
            <a:ext cx="6192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54720" y="3990960"/>
            <a:ext cx="5796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529240" y="394956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 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413532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81560" y="394956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753240" y="3990960"/>
            <a:ext cx="128124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232760" y="394956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53240" y="4135320"/>
            <a:ext cx="128124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53560" y="3990960"/>
            <a:ext cx="83808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15280" y="394956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053560" y="4135320"/>
            <a:ext cx="83808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7200" y="42084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3492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42840" y="420840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5252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262240" y="420840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0196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9560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9428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0996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18240" y="4208400"/>
            <a:ext cx="6192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4500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454720" y="420840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04368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74532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53240" y="4208400"/>
            <a:ext cx="12812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043840" y="4208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053560" y="4208400"/>
            <a:ext cx="83808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901000" y="420840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87200" y="4216320"/>
            <a:ext cx="158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3492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5252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0196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9560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09428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0996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4500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04368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4532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043840" y="4216320"/>
            <a:ext cx="36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901000" y="4216320"/>
            <a:ext cx="158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162080" y="4175280"/>
            <a:ext cx="911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Total Run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18240" y="4216320"/>
            <a:ext cx="6192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18240" y="4362480"/>
            <a:ext cx="6192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54720" y="4216320"/>
            <a:ext cx="5796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454720" y="436248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53240" y="4216320"/>
            <a:ext cx="128124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753240" y="4362480"/>
            <a:ext cx="128124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053560" y="4216320"/>
            <a:ext cx="83808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53560" y="4362480"/>
            <a:ext cx="83808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7200" y="443556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4200" y="4435560"/>
            <a:ext cx="712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3492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42840" y="443556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5252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62240" y="443556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0196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909880" y="4435560"/>
            <a:ext cx="5778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49560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05320" y="443556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09428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03640" y="4435560"/>
            <a:ext cx="696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0996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18240" y="4435560"/>
            <a:ext cx="6192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4500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54720" y="443556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4368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53040" y="4435560"/>
            <a:ext cx="684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74532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753240" y="4435560"/>
            <a:ext cx="1281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043840" y="44355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053560" y="4435560"/>
            <a:ext cx="838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901000" y="443556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7200" y="444492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3492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25252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90196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9560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09428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80996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44500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4368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74532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043840" y="444492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901000" y="444492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957240" y="4403880"/>
            <a:ext cx="1335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Positional 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909880" y="4444920"/>
            <a:ext cx="577800" cy="1364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909880" y="4589640"/>
            <a:ext cx="5778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937040" y="440388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504040" y="4403880"/>
            <a:ext cx="509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 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205680" y="440388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151760" y="4411800"/>
            <a:ext cx="438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391520" y="4413240"/>
            <a:ext cx="262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Symbol"/>
                <a:ea typeface="Symbol"/>
              </a:rPr>
              <a:t>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251920" y="4403880"/>
            <a:ext cx="477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7200" y="466236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3492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42840" y="466236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5252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62240" y="466236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90196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09880" y="4662360"/>
            <a:ext cx="5778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49560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9428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80996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818240" y="4662360"/>
            <a:ext cx="6192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44500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454720" y="4662360"/>
            <a:ext cx="5796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4368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053040" y="4662360"/>
            <a:ext cx="684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4532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753240" y="4662360"/>
            <a:ext cx="1281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043840" y="466236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053560" y="4662360"/>
            <a:ext cx="838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901000" y="466236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87200" y="467208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3492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25252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90196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9560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09428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80996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44500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4368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74532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043840" y="46720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8901000" y="467208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50920" y="4630680"/>
            <a:ext cx="663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158840" y="4630680"/>
            <a:ext cx="917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Concentr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909880" y="4672080"/>
            <a:ext cx="5778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38400" y="463068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909880" y="4816440"/>
            <a:ext cx="5778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606840" y="463068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262400" y="463068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818240" y="4672080"/>
            <a:ext cx="6192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962600" y="463068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18240" y="4816440"/>
            <a:ext cx="6192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454720" y="4672080"/>
            <a:ext cx="5796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529240" y="463068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 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454720" y="481644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230880" y="4730760"/>
            <a:ext cx="403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753240" y="4672080"/>
            <a:ext cx="128124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7232760" y="463068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753240" y="4816440"/>
            <a:ext cx="128124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053560" y="4672080"/>
            <a:ext cx="83808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8315280" y="4630680"/>
            <a:ext cx="34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053560" y="4816440"/>
            <a:ext cx="83808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7200" y="488952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3492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942840" y="4889520"/>
            <a:ext cx="13003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25252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262240" y="4889520"/>
            <a:ext cx="63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90196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09880" y="4889520"/>
            <a:ext cx="577800" cy="360"/>
          </a:xfrm>
          <a:prstGeom prst="rect">
            <a:avLst/>
          </a:prstGeom>
          <a:solidFill>
            <a:srgbClr val="cccccc"/>
          </a:solidFill>
          <a:ln w="12600">
            <a:solidFill>
              <a:srgbClr val="cecece"/>
            </a:solidFill>
            <a:round/>
          </a:ln>
        </p:spPr>
        <p:txBody>
          <a:bodyPr lIns="96120" rIns="96120" tIns="-50760" bIns="-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9560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9428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80996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18240" y="4889520"/>
            <a:ext cx="6192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4500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54720" y="4889520"/>
            <a:ext cx="5796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4368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4532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753240" y="4889520"/>
            <a:ext cx="12812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043840" y="488952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053560" y="4889520"/>
            <a:ext cx="83808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901000" y="488952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7200" y="489888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8720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8720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4200" y="5116680"/>
            <a:ext cx="7128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93492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34920" y="511668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961920" y="5116680"/>
            <a:ext cx="12812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5252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25252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78080" y="5116680"/>
            <a:ext cx="614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0196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0196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927520" y="5116680"/>
            <a:ext cx="558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9560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49560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522600" y="5116680"/>
            <a:ext cx="5619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09428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09428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119480" y="5116680"/>
            <a:ext cx="6811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0996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0996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35520" y="5116680"/>
            <a:ext cx="601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4500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44500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472000" y="5116680"/>
            <a:ext cx="5619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4368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4368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068880" y="5116680"/>
            <a:ext cx="666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4532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4532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70520" y="5116680"/>
            <a:ext cx="12654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043840" y="4898880"/>
            <a:ext cx="36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04384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070840" y="5116680"/>
            <a:ext cx="8222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901000" y="4898880"/>
            <a:ext cx="15840" cy="2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90100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901000" y="5116680"/>
            <a:ext cx="158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1233360" y="485784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Sym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09880" y="4898880"/>
            <a:ext cx="5778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09880" y="5043600"/>
            <a:ext cx="5778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818240" y="4898880"/>
            <a:ext cx="6192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818240" y="5043600"/>
            <a:ext cx="6192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54720" y="4898880"/>
            <a:ext cx="57960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454720" y="5043600"/>
            <a:ext cx="57960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753240" y="4898880"/>
            <a:ext cx="128124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753240" y="5043600"/>
            <a:ext cx="128124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053560" y="4898880"/>
            <a:ext cx="838080" cy="13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053560" y="5043600"/>
            <a:ext cx="838080" cy="6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92280" y="5321160"/>
            <a:ext cx="233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149480" y="5321160"/>
            <a:ext cx="2041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When applied to a feature of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92280" y="5467320"/>
            <a:ext cx="282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149480" y="5467320"/>
            <a:ext cx="3657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Can also be used as a form control without a datum re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92280" y="5614920"/>
            <a:ext cx="258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1149480" y="5614920"/>
            <a:ext cx="3911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When a datum feature of size is referenced with the MMC modif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92280" y="5770440"/>
            <a:ext cx="262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Symbol"/>
                <a:ea typeface="Symbol"/>
              </a:rPr>
              <a:t>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149480" y="5769000"/>
            <a:ext cx="1955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When an MMC modifier is 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92280" y="591660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9480" y="5916600"/>
            <a:ext cx="1857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Automatic per Rule Numbe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92280" y="606276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149480" y="6062760"/>
            <a:ext cx="4319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  <a:ea typeface="Arial"/>
              </a:rPr>
              <a:t>Per Rule Number 2a (U.S. Only -- Used as an interim alternative pract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>Use Chart</dc:subject>
  <dc:title>Geometric Tolerance Applications</dc:title>
</cp:coreProperties>
</file>