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41360" y="6469200"/>
            <a:ext cx="1650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1800" y="6302520"/>
            <a:ext cx="1874880" cy="49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79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8120" y="4159080"/>
            <a:ext cx="0" cy="70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37280" y="411624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8120" y="5024520"/>
            <a:ext cx="2484360" cy="752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5024520"/>
            <a:ext cx="389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91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778120" y="4159080"/>
            <a:ext cx="0" cy="70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37280" y="411624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8120" y="5024520"/>
            <a:ext cx="2484360" cy="752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33680" y="5024520"/>
            <a:ext cx="389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5843520"/>
            <a:ext cx="863640" cy="26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104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78120" y="4159080"/>
            <a:ext cx="0" cy="70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7280" y="411624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8120" y="5024520"/>
            <a:ext cx="2484360" cy="752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33680" y="5024520"/>
            <a:ext cx="389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5843520"/>
            <a:ext cx="863640" cy="26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1360" y="5026680"/>
            <a:ext cx="162360" cy="1010160"/>
          </a:xfrm>
          <a:custGeom>
            <a:avLst/>
            <a:gdLst/>
            <a:ahLst/>
            <a:rect l="0" t="0" r="r" b="b"/>
            <a:pathLst>
              <a:path fill="none" w="451" h="2806">
                <a:moveTo>
                  <a:pt x="451" y="0"/>
                </a:moveTo>
                <a:lnTo>
                  <a:pt x="451" y="0"/>
                </a:lnTo>
                <a:cubicBezTo>
                  <a:pt x="152" y="747"/>
                  <a:pt x="0" y="1526"/>
                  <a:pt x="0" y="2309"/>
                </a:cubicBezTo>
                <a:cubicBezTo>
                  <a:pt x="0" y="2475"/>
                  <a:pt x="6" y="2641"/>
                  <a:pt x="20" y="2806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118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778120" y="4159080"/>
            <a:ext cx="0" cy="70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37280" y="411624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8120" y="5024520"/>
            <a:ext cx="2484360" cy="752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33680" y="5024520"/>
            <a:ext cx="389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5843520"/>
            <a:ext cx="863640" cy="26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81360" y="5026680"/>
            <a:ext cx="162360" cy="1010160"/>
          </a:xfrm>
          <a:custGeom>
            <a:avLst/>
            <a:gdLst/>
            <a:ahLst/>
            <a:rect l="0" t="0" r="r" b="b"/>
            <a:pathLst>
              <a:path fill="none" w="451" h="2806">
                <a:moveTo>
                  <a:pt x="451" y="0"/>
                </a:moveTo>
                <a:lnTo>
                  <a:pt x="451" y="0"/>
                </a:lnTo>
                <a:cubicBezTo>
                  <a:pt x="152" y="747"/>
                  <a:pt x="0" y="1526"/>
                  <a:pt x="0" y="2309"/>
                </a:cubicBezTo>
                <a:cubicBezTo>
                  <a:pt x="0" y="2475"/>
                  <a:pt x="6" y="2641"/>
                  <a:pt x="20" y="2806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18360" y="5232240"/>
            <a:ext cx="2228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[Angl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410080"/>
            <a:ext cx="2119320" cy="952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346480" y="5318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61080" y="60800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147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5410080"/>
            <a:ext cx="2119320" cy="952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346480" y="5318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61080" y="60800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160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5410080"/>
            <a:ext cx="2119320" cy="952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346480" y="5318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861080" y="60800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5029200"/>
            <a:ext cx="2514600" cy="380880"/>
            <a:chOff x="2666880" y="5029200"/>
            <a:chExt cx="2514600" cy="380880"/>
          </a:xfrm>
        </p:grpSpPr>
        <p:sp>
          <p:nvSpPr>
            <p:cNvPr id="171" name=""/>
            <p:cNvSpPr/>
            <p:nvPr/>
          </p:nvSpPr>
          <p:spPr>
            <a:xfrm>
              <a:off x="2666880" y="54100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6688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718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62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4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112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95800" y="5410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189240" y="4670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188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5410080"/>
            <a:ext cx="2119320" cy="952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346480" y="5318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61080" y="60800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666880" y="5029200"/>
            <a:ext cx="2514600" cy="380880"/>
            <a:chOff x="2666880" y="5029200"/>
            <a:chExt cx="2514600" cy="380880"/>
          </a:xfrm>
        </p:grpSpPr>
        <p:sp>
          <p:nvSpPr>
            <p:cNvPr id="199" name=""/>
            <p:cNvSpPr/>
            <p:nvPr/>
          </p:nvSpPr>
          <p:spPr>
            <a:xfrm>
              <a:off x="2666880" y="54100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688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95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718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767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12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39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62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384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9112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195800" y="5410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5800" y="55627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95800" y="5715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5800" y="5867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5800" y="60199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89320" y="540396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86080" y="61722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479840" y="5537160"/>
            <a:ext cx="565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189240" y="4670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223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5410080"/>
            <a:ext cx="2119320" cy="952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346480" y="5318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861080" y="60800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5029200"/>
            <a:ext cx="2514600" cy="380880"/>
            <a:chOff x="2666880" y="5029200"/>
            <a:chExt cx="2514600" cy="380880"/>
          </a:xfrm>
        </p:grpSpPr>
        <p:sp>
          <p:nvSpPr>
            <p:cNvPr id="234" name=""/>
            <p:cNvSpPr/>
            <p:nvPr/>
          </p:nvSpPr>
          <p:spPr>
            <a:xfrm>
              <a:off x="2666880" y="54100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195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18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812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339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862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195800" y="5410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5800" y="55627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95800" y="5715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95800" y="5867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5800" y="60199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89320" y="540396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86080" y="61722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479840" y="5537160"/>
            <a:ext cx="565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189240" y="4670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508720" y="5127480"/>
            <a:ext cx="1814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/ 10 = 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259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5410080"/>
            <a:ext cx="2119320" cy="952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346480" y="5318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61080" y="60800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666880" y="5029200"/>
            <a:ext cx="2514600" cy="380880"/>
            <a:chOff x="2666880" y="5029200"/>
            <a:chExt cx="2514600" cy="380880"/>
          </a:xfrm>
        </p:grpSpPr>
        <p:sp>
          <p:nvSpPr>
            <p:cNvPr id="270" name=""/>
            <p:cNvSpPr/>
            <p:nvPr/>
          </p:nvSpPr>
          <p:spPr>
            <a:xfrm>
              <a:off x="2666880" y="54100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688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5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8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240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67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339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862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112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5800" y="5410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5800" y="55627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5800" y="5715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5800" y="5867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5800" y="60199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89320" y="540396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6080" y="61722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479840" y="5537160"/>
            <a:ext cx="565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89240" y="4670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508720" y="5127480"/>
            <a:ext cx="3083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/ 10 = 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45 = tan of 24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the vertical (rise) divided by the horizontal (run), expressed as an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cent Grad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295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666880" y="3962520"/>
            <a:ext cx="2210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5410080"/>
            <a:ext cx="2119320" cy="952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346480" y="35654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861080" y="35654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346480" y="5318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861080" y="60800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66880" y="5029200"/>
            <a:ext cx="2514600" cy="380880"/>
            <a:chOff x="2666880" y="5029200"/>
            <a:chExt cx="2514600" cy="380880"/>
          </a:xfrm>
        </p:grpSpPr>
        <p:sp>
          <p:nvSpPr>
            <p:cNvPr id="306" name=""/>
            <p:cNvSpPr/>
            <p:nvPr/>
          </p:nvSpPr>
          <p:spPr>
            <a:xfrm>
              <a:off x="2666880" y="54100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6688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718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767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12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392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8620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38480" y="5181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112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195800" y="5410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95800" y="55627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95800" y="5715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95800" y="5867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5800" y="60199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89320" y="540396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86080" y="61722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479840" y="5537160"/>
            <a:ext cx="565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189240" y="46702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508720" y="5127480"/>
            <a:ext cx="3240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/ 10 = 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45 = tan of 24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45% grade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762120" y="1981080"/>
            <a:ext cx="7772400" cy="29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1 (rise), followed by a colon (:) and then the value (XX) representing the run.  1:2, 1:4, 1:10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ise is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way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qual to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Percent Grade, and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762120" y="19810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1 (rise), followed by a colon (:) and then the value (XX) representing the run.  1:2, 1:4, 1:10, 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Percent Grade, and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133720" y="4260960"/>
            <a:ext cx="3276360" cy="14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62120" y="19810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1 (rise), followed by a colon (:) and then the value (XX) representing the run.  1:2, 1:4, 1:10, 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Percent Grade, and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133720" y="4260960"/>
            <a:ext cx="3276360" cy="14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0" cy="1752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965240" y="4784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762120" y="19810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1 (rise), followed by a colon (:) and then the value (XX) representing the run.  1:2, 1:4, 1:10, 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Percent Grade, and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260960"/>
            <a:ext cx="3276360" cy="14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4191120"/>
            <a:ext cx="0" cy="1752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4419720"/>
            <a:ext cx="327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965240" y="4784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489480" y="39466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62120" y="19810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ratio of 1 (rise), followed by a colon (:) and then the value (XX) representing the run.  1:2, 1:4, 1:10, 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Percent Grade, and 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4260960"/>
            <a:ext cx="3276360" cy="14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62320" y="4191120"/>
            <a:ext cx="0" cy="1752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4419720"/>
            <a:ext cx="327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965240" y="4784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489480" y="39466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03880" y="5195880"/>
            <a:ext cx="2787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Ratio = 1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356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994120"/>
            <a:ext cx="7772400" cy="12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of a L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95560" y="1073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ing Graph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365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377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393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409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98560" y="1198440"/>
            <a:ext cx="7037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the slope angle and true length for line a-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426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431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98560" y="1198440"/>
            <a:ext cx="7037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the slope angle and true length for line a-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450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V="1">
            <a:off x="4883040" y="4048200"/>
            <a:ext cx="13356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44880" y="2076480"/>
            <a:ext cx="642960" cy="6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460680" y="15350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167440" y="3728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467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477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flipV="1">
            <a:off x="4883040" y="4048200"/>
            <a:ext cx="13356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044880" y="2076480"/>
            <a:ext cx="642960" cy="6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19600" y="1965240"/>
            <a:ext cx="1284120" cy="1994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460680" y="15350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167440" y="3728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495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505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V="1">
            <a:off x="4883040" y="4048200"/>
            <a:ext cx="13356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044880" y="2076480"/>
            <a:ext cx="642960" cy="6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19600" y="1965240"/>
            <a:ext cx="1284120" cy="1994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460680" y="15350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167440" y="3728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523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 txBox="1"/>
          <p:nvPr/>
        </p:nvSpPr>
        <p:spPr>
          <a:xfrm>
            <a:off x="5057640" y="1700280"/>
            <a:ext cx="338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 Length of line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813200" y="193356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206960" y="1933560"/>
            <a:ext cx="608040" cy="608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536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V="1">
            <a:off x="4883040" y="4048200"/>
            <a:ext cx="13356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044880" y="2076480"/>
            <a:ext cx="642960" cy="6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19600" y="1965240"/>
            <a:ext cx="1284120" cy="1994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460680" y="15350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167440" y="3728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554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564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4883040" y="4048200"/>
            <a:ext cx="13356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044880" y="2076480"/>
            <a:ext cx="642960" cy="6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19600" y="1965240"/>
            <a:ext cx="1284120" cy="1994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460680" y="15350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167440" y="3728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74960" y="1928880"/>
            <a:ext cx="2635200" cy="218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92640" y="4094280"/>
            <a:ext cx="443160" cy="73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584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98320" y="282744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length line that is inclined to the horizontal plane may be expressed as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, slope angle, percent grade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ratio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594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4883040" y="4048200"/>
            <a:ext cx="13356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3044880" y="2076480"/>
            <a:ext cx="642960" cy="6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19600" y="1965240"/>
            <a:ext cx="1284120" cy="1994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460680" y="15350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5167440" y="3728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774960" y="1928880"/>
            <a:ext cx="2635200" cy="218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92640" y="4094280"/>
            <a:ext cx="443160" cy="73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89840" y="2180880"/>
            <a:ext cx="462600" cy="858960"/>
          </a:xfrm>
          <a:custGeom>
            <a:avLst/>
            <a:gdLst/>
            <a:ahLst/>
            <a:rect l="0" t="0" r="r" b="b"/>
            <a:pathLst>
              <a:path fill="none" w="1285" h="2386">
                <a:moveTo>
                  <a:pt x="1285" y="2386"/>
                </a:moveTo>
                <a:lnTo>
                  <a:pt x="1285" y="2386"/>
                </a:lnTo>
                <a:cubicBezTo>
                  <a:pt x="1100" y="1874"/>
                  <a:pt x="870" y="1379"/>
                  <a:pt x="597" y="907"/>
                </a:cubicBezTo>
                <a:cubicBezTo>
                  <a:pt x="416" y="593"/>
                  <a:pt x="217" y="29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615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685800" y="23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 of Obliqu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955960" y="2852640"/>
            <a:ext cx="1793880" cy="1460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749840" y="444672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33640" y="3029040"/>
            <a:ext cx="0" cy="30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33640" y="5532480"/>
            <a:ext cx="1793880" cy="642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967040" y="5281560"/>
            <a:ext cx="4495680" cy="0"/>
            <a:chOff x="1967040" y="5281560"/>
            <a:chExt cx="4495680" cy="0"/>
          </a:xfrm>
        </p:grpSpPr>
        <p:sp>
          <p:nvSpPr>
            <p:cNvPr id="625" name=""/>
            <p:cNvSpPr/>
            <p:nvPr/>
          </p:nvSpPr>
          <p:spPr>
            <a:xfrm>
              <a:off x="1967040" y="528156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71800" y="528156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3040" y="528156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33920" y="528156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 flipV="1">
            <a:off x="4883040" y="4048200"/>
            <a:ext cx="13356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044880" y="2076480"/>
            <a:ext cx="642960" cy="6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19600" y="1965240"/>
            <a:ext cx="1284120" cy="1994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486160" y="25988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834080" y="42163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460680" y="153504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167440" y="3728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463840" y="592128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811760" y="53452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774960" y="1928880"/>
            <a:ext cx="2635200" cy="218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92640" y="4094280"/>
            <a:ext cx="443160" cy="73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89840" y="2180880"/>
            <a:ext cx="462600" cy="858960"/>
          </a:xfrm>
          <a:custGeom>
            <a:avLst/>
            <a:gdLst/>
            <a:ahLst/>
            <a:rect l="0" t="0" r="r" b="b"/>
            <a:pathLst>
              <a:path fill="none" w="1285" h="2386">
                <a:moveTo>
                  <a:pt x="1285" y="2386"/>
                </a:moveTo>
                <a:lnTo>
                  <a:pt x="1285" y="2386"/>
                </a:lnTo>
                <a:cubicBezTo>
                  <a:pt x="1100" y="1874"/>
                  <a:pt x="870" y="1379"/>
                  <a:pt x="597" y="907"/>
                </a:cubicBezTo>
                <a:cubicBezTo>
                  <a:pt x="416" y="593"/>
                  <a:pt x="217" y="29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162840" y="4257720"/>
            <a:ext cx="1952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800360" y="47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844640" y="532296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154240" y="20890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486160" y="157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405160" y="2022480"/>
            <a:ext cx="2763720" cy="2235240"/>
            <a:chOff x="2405160" y="2022480"/>
            <a:chExt cx="2763720" cy="2235240"/>
          </a:xfrm>
        </p:grpSpPr>
        <p:sp>
          <p:nvSpPr>
            <p:cNvPr id="647" name=""/>
            <p:cNvSpPr/>
            <p:nvPr/>
          </p:nvSpPr>
          <p:spPr>
            <a:xfrm>
              <a:off x="2405160" y="2022480"/>
              <a:ext cx="1301760" cy="10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86200" y="3219480"/>
              <a:ext cx="11916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81400" y="3460680"/>
              <a:ext cx="11772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76600" y="3700440"/>
              <a:ext cx="692280" cy="5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685800" y="698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 and Azimuth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939960" y="226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ypes of compass bearings for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ass Bea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zimu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ass Bear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n angular measurement from North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zimuth Bear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lways read from N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aring of a line is toward the low end of the line unless otherwise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60520" y="4737240"/>
            <a:ext cx="4495680" cy="0"/>
            <a:chOff x="560520" y="4737240"/>
            <a:chExt cx="4495680" cy="0"/>
          </a:xfrm>
        </p:grpSpPr>
        <p:sp>
          <p:nvSpPr>
            <p:cNvPr id="656" name=""/>
            <p:cNvSpPr/>
            <p:nvPr/>
          </p:nvSpPr>
          <p:spPr>
            <a:xfrm>
              <a:off x="560520" y="4737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65280" y="473724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46520" y="473724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27400" y="473724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5137200" y="2949480"/>
            <a:ext cx="391788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n in the </a:t>
            </a:r>
            <a:r>
              <a:rPr b="1" lang="en-US" sz="28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  They are 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ther North or Sou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lope to the low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962000" y="2158920"/>
            <a:ext cx="1973520" cy="197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40040" y="5153040"/>
            <a:ext cx="1995480" cy="8031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40040" y="433548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7480" y="2363760"/>
            <a:ext cx="0" cy="340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508040" y="378792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548160" y="16794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484280" y="483084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002120" y="57150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60520" y="4737240"/>
            <a:ext cx="4495680" cy="0"/>
            <a:chOff x="560520" y="4737240"/>
            <a:chExt cx="4495680" cy="0"/>
          </a:xfrm>
        </p:grpSpPr>
        <p:sp>
          <p:nvSpPr>
            <p:cNvPr id="671" name=""/>
            <p:cNvSpPr/>
            <p:nvPr/>
          </p:nvSpPr>
          <p:spPr>
            <a:xfrm>
              <a:off x="560520" y="4737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65280" y="473724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46520" y="473724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27400" y="473724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 txBox="1"/>
          <p:nvPr/>
        </p:nvSpPr>
        <p:spPr>
          <a:xfrm>
            <a:off x="5137200" y="2949480"/>
            <a:ext cx="391788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n in the </a:t>
            </a:r>
            <a:r>
              <a:rPr b="1" lang="en-US" sz="28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  They are 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ther North or Sou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lope to the low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1962000" y="2158920"/>
            <a:ext cx="1973520" cy="197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940040" y="5153040"/>
            <a:ext cx="1995480" cy="8031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940040" y="433548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57480" y="2363760"/>
            <a:ext cx="0" cy="340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273400" y="2859120"/>
            <a:ext cx="966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45 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508040" y="378792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548160" y="16794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484280" y="483084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002120" y="57150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00440" y="2865600"/>
            <a:ext cx="55440" cy="5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60520" y="4737240"/>
            <a:ext cx="4495680" cy="0"/>
            <a:chOff x="560520" y="4737240"/>
            <a:chExt cx="4495680" cy="0"/>
          </a:xfrm>
        </p:grpSpPr>
        <p:sp>
          <p:nvSpPr>
            <p:cNvPr id="688" name=""/>
            <p:cNvSpPr/>
            <p:nvPr/>
          </p:nvSpPr>
          <p:spPr>
            <a:xfrm>
              <a:off x="560520" y="4737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65280" y="473724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46520" y="473724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27400" y="473724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 txBox="1"/>
          <p:nvPr/>
        </p:nvSpPr>
        <p:spPr>
          <a:xfrm>
            <a:off x="5137200" y="2949480"/>
            <a:ext cx="391788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n in the </a:t>
            </a:r>
            <a:r>
              <a:rPr b="1" lang="en-US" sz="28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  They are 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ther North or Sou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lope to the low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962000" y="2158920"/>
            <a:ext cx="1973520" cy="197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940040" y="4335480"/>
            <a:ext cx="0" cy="143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7480" y="2363760"/>
            <a:ext cx="0" cy="2560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217600" y="2881440"/>
            <a:ext cx="100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45 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917720" y="5062680"/>
            <a:ext cx="2039760" cy="83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508040" y="378792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548160" y="16794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024440" y="47862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530360" y="573876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00360" y="2943360"/>
            <a:ext cx="55440" cy="5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60520" y="4737240"/>
            <a:ext cx="4495680" cy="0"/>
            <a:chOff x="560520" y="4737240"/>
            <a:chExt cx="4495680" cy="0"/>
          </a:xfrm>
        </p:grpSpPr>
        <p:sp>
          <p:nvSpPr>
            <p:cNvPr id="705" name=""/>
            <p:cNvSpPr/>
            <p:nvPr/>
          </p:nvSpPr>
          <p:spPr>
            <a:xfrm>
              <a:off x="560520" y="4737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65280" y="473724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46520" y="473724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7400" y="473724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 txBox="1"/>
          <p:nvPr/>
        </p:nvSpPr>
        <p:spPr>
          <a:xfrm>
            <a:off x="5137200" y="2949480"/>
            <a:ext cx="391788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Bearing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n in the </a:t>
            </a:r>
            <a:r>
              <a:rPr b="1" lang="en-US" sz="28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  They are 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ther North or Sou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lope to the low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962000" y="2158920"/>
            <a:ext cx="1973520" cy="1973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40040" y="5153040"/>
            <a:ext cx="1995480" cy="8031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40040" y="433548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957480" y="2363760"/>
            <a:ext cx="0" cy="340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917720" y="5062680"/>
            <a:ext cx="2039760" cy="83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940040" y="5334120"/>
            <a:ext cx="0" cy="4539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508040" y="378792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548160" y="16794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84280" y="483084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024440" y="47862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002120" y="571500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530360" y="573876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131920" y="2576520"/>
            <a:ext cx="1009800" cy="701640"/>
            <a:chOff x="2131920" y="2576520"/>
            <a:chExt cx="1009800" cy="701640"/>
          </a:xfrm>
        </p:grpSpPr>
        <p:sp>
          <p:nvSpPr>
            <p:cNvPr id="723" name=""/>
            <p:cNvSpPr txBox="1"/>
            <p:nvPr/>
          </p:nvSpPr>
          <p:spPr>
            <a:xfrm>
              <a:off x="2131920" y="2576520"/>
              <a:ext cx="1009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45 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 45  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27360" y="2889360"/>
              <a:ext cx="47520" cy="475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46280" y="2651040"/>
              <a:ext cx="47520" cy="47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imu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61240" y="595440"/>
            <a:ext cx="2031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imuth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d clock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orth up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imu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01680" y="3678120"/>
            <a:ext cx="42386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86080" y="1833480"/>
            <a:ext cx="0" cy="3772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957480" y="1225440"/>
            <a:ext cx="441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475320" y="3448080"/>
            <a:ext cx="88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659040" y="5745240"/>
            <a:ext cx="1063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896760" y="3448080"/>
            <a:ext cx="1063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186080" y="2195640"/>
            <a:ext cx="1482840" cy="1482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686560" y="1758960"/>
            <a:ext cx="944640" cy="519120"/>
            <a:chOff x="5686560" y="1758960"/>
            <a:chExt cx="944640" cy="519120"/>
          </a:xfrm>
        </p:grpSpPr>
        <p:sp>
          <p:nvSpPr>
            <p:cNvPr id="737" name=""/>
            <p:cNvSpPr txBox="1"/>
            <p:nvPr/>
          </p:nvSpPr>
          <p:spPr>
            <a:xfrm>
              <a:off x="5686560" y="1758960"/>
              <a:ext cx="8859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35800" y="1863720"/>
              <a:ext cx="95400" cy="95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4186080" y="3678120"/>
            <a:ext cx="1449720" cy="1449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661000" y="5048280"/>
            <a:ext cx="1152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1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97800" y="5164200"/>
            <a:ext cx="95400" cy="95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2711520" y="3678120"/>
            <a:ext cx="1474560" cy="147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701720" y="5222880"/>
            <a:ext cx="1063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2735280" y="2227320"/>
            <a:ext cx="1450800" cy="1450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798560" y="1649520"/>
            <a:ext cx="1063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3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867040" y="1768320"/>
            <a:ext cx="95400" cy="95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83240" y="5848200"/>
            <a:ext cx="95400" cy="95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04040" y="3554280"/>
            <a:ext cx="95400" cy="95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1880" y="3552840"/>
            <a:ext cx="95400" cy="95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39960" y="5334120"/>
            <a:ext cx="95400" cy="95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61240" y="595440"/>
            <a:ext cx="2031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imuth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d clock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orth up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98108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685800" y="29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imu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186080" y="1833480"/>
            <a:ext cx="0" cy="184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902040" y="1244520"/>
            <a:ext cx="590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rus Blk BT"/>
                <a:ea typeface="Arrus Blk BT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2489040" y="2598840"/>
            <a:ext cx="1697040" cy="107928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687680" y="2116080"/>
            <a:ext cx="93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585880" y="2185920"/>
            <a:ext cx="81000" cy="81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861240" y="595440"/>
            <a:ext cx="2031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imuth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d clock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orth up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002480" y="2870280"/>
            <a:ext cx="1349280" cy="984600"/>
          </a:xfrm>
          <a:custGeom>
            <a:avLst/>
            <a:gdLst/>
            <a:ahLst/>
            <a:rect l="0" t="0" r="r" b="b"/>
            <a:pathLst>
              <a:path fill="none" w="3748" h="2735">
                <a:moveTo>
                  <a:pt x="0" y="2540"/>
                </a:moveTo>
                <a:lnTo>
                  <a:pt x="0" y="2540"/>
                </a:lnTo>
                <a:cubicBezTo>
                  <a:pt x="322" y="2669"/>
                  <a:pt x="666" y="2735"/>
                  <a:pt x="1013" y="2735"/>
                </a:cubicBezTo>
                <a:cubicBezTo>
                  <a:pt x="1493" y="2735"/>
                  <a:pt x="1965" y="2608"/>
                  <a:pt x="2381" y="2368"/>
                </a:cubicBezTo>
                <a:cubicBezTo>
                  <a:pt x="2796" y="2128"/>
                  <a:pt x="3142" y="1783"/>
                  <a:pt x="3382" y="1367"/>
                </a:cubicBezTo>
                <a:cubicBezTo>
                  <a:pt x="3622" y="951"/>
                  <a:pt x="3748" y="480"/>
                  <a:pt x="3748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206960" y="3693960"/>
            <a:ext cx="1904760" cy="7765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240600" y="4272120"/>
            <a:ext cx="93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162920" y="4356000"/>
            <a:ext cx="81000" cy="81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735280" y="2200320"/>
            <a:ext cx="2943360" cy="2943360"/>
          </a:xfrm>
          <a:custGeom>
            <a:avLst/>
            <a:gdLst/>
            <a:ahLst/>
            <a:rect l="0" t="0" r="r" b="b"/>
            <a:pathLst>
              <a:path fill="none" w="8176" h="8176">
                <a:moveTo>
                  <a:pt x="619" y="1925"/>
                </a:moveTo>
                <a:lnTo>
                  <a:pt x="619" y="1925"/>
                </a:lnTo>
                <a:cubicBezTo>
                  <a:pt x="595" y="1965"/>
                  <a:pt x="571" y="2004"/>
                  <a:pt x="548" y="2044"/>
                </a:cubicBezTo>
                <a:cubicBezTo>
                  <a:pt x="189" y="2665"/>
                  <a:pt x="0" y="3370"/>
                  <a:pt x="0" y="4088"/>
                </a:cubicBezTo>
                <a:cubicBezTo>
                  <a:pt x="0" y="4806"/>
                  <a:pt x="189" y="5511"/>
                  <a:pt x="548" y="6132"/>
                </a:cubicBezTo>
                <a:cubicBezTo>
                  <a:pt x="907" y="6753"/>
                  <a:pt x="1423" y="7270"/>
                  <a:pt x="2044" y="7628"/>
                </a:cubicBezTo>
                <a:cubicBezTo>
                  <a:pt x="2666" y="7987"/>
                  <a:pt x="3371" y="8176"/>
                  <a:pt x="4088" y="8176"/>
                </a:cubicBezTo>
                <a:cubicBezTo>
                  <a:pt x="4806" y="8176"/>
                  <a:pt x="5511" y="7987"/>
                  <a:pt x="6132" y="7628"/>
                </a:cubicBezTo>
                <a:cubicBezTo>
                  <a:pt x="6754" y="7270"/>
                  <a:pt x="7270" y="6753"/>
                  <a:pt x="7629" y="6132"/>
                </a:cubicBezTo>
                <a:cubicBezTo>
                  <a:pt x="7987" y="5511"/>
                  <a:pt x="8176" y="4806"/>
                  <a:pt x="8176" y="4088"/>
                </a:cubicBezTo>
                <a:cubicBezTo>
                  <a:pt x="8176" y="3370"/>
                  <a:pt x="7987" y="2665"/>
                  <a:pt x="7629" y="2044"/>
                </a:cubicBezTo>
                <a:cubicBezTo>
                  <a:pt x="7270" y="1423"/>
                  <a:pt x="6754" y="906"/>
                  <a:pt x="6132" y="548"/>
                </a:cubicBezTo>
                <a:cubicBezTo>
                  <a:pt x="5511" y="189"/>
                  <a:pt x="4806" y="0"/>
                  <a:pt x="4089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x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786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791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792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797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x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812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817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818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823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x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839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845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848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849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854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870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877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658960" y="2481120"/>
            <a:ext cx="3178440" cy="3178440"/>
            <a:chOff x="2658960" y="2481120"/>
            <a:chExt cx="3178440" cy="3178440"/>
          </a:xfrm>
        </p:grpSpPr>
        <p:sp>
          <p:nvSpPr>
            <p:cNvPr id="880" name=""/>
            <p:cNvSpPr/>
            <p:nvPr/>
          </p:nvSpPr>
          <p:spPr>
            <a:xfrm>
              <a:off x="2658960" y="2481120"/>
              <a:ext cx="1184400" cy="118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005360" y="3827520"/>
              <a:ext cx="10800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75000" y="4097160"/>
              <a:ext cx="10800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45000" y="4367160"/>
              <a:ext cx="1292400" cy="1292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885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886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891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907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689200" y="2727360"/>
            <a:ext cx="146160" cy="1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662360" y="394956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2752560" y="2573280"/>
            <a:ext cx="250920" cy="228600"/>
            <a:chOff x="2752560" y="2573280"/>
            <a:chExt cx="250920" cy="228600"/>
          </a:xfrm>
        </p:grpSpPr>
        <p:sp>
          <p:nvSpPr>
            <p:cNvPr id="915" name=""/>
            <p:cNvSpPr/>
            <p:nvPr/>
          </p:nvSpPr>
          <p:spPr>
            <a:xfrm>
              <a:off x="2879640" y="2573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52560" y="2689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052800" y="22622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920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2658960" y="2481120"/>
            <a:ext cx="3178440" cy="3178440"/>
            <a:chOff x="2658960" y="2481120"/>
            <a:chExt cx="3178440" cy="3178440"/>
          </a:xfrm>
        </p:grpSpPr>
        <p:sp>
          <p:nvSpPr>
            <p:cNvPr id="923" name=""/>
            <p:cNvSpPr/>
            <p:nvPr/>
          </p:nvSpPr>
          <p:spPr>
            <a:xfrm>
              <a:off x="2658960" y="2481120"/>
              <a:ext cx="1184400" cy="118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05360" y="3827520"/>
              <a:ext cx="10800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75000" y="4097160"/>
              <a:ext cx="10800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45000" y="4367160"/>
              <a:ext cx="1292400" cy="1292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928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929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934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950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2689200" y="2727360"/>
            <a:ext cx="146160" cy="1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62360" y="3654360"/>
            <a:ext cx="1067040" cy="106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752560" y="2573280"/>
            <a:ext cx="250920" cy="228600"/>
            <a:chOff x="2752560" y="2573280"/>
            <a:chExt cx="250920" cy="228600"/>
          </a:xfrm>
        </p:grpSpPr>
        <p:sp>
          <p:nvSpPr>
            <p:cNvPr id="958" name=""/>
            <p:cNvSpPr/>
            <p:nvPr/>
          </p:nvSpPr>
          <p:spPr>
            <a:xfrm>
              <a:off x="2879640" y="2573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52560" y="2689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5589720" y="2768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52800" y="22622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5718240" y="3419640"/>
            <a:ext cx="250920" cy="228600"/>
            <a:chOff x="5718240" y="3419640"/>
            <a:chExt cx="250920" cy="228600"/>
          </a:xfrm>
        </p:grpSpPr>
        <p:sp>
          <p:nvSpPr>
            <p:cNvPr id="964" name=""/>
            <p:cNvSpPr/>
            <p:nvPr/>
          </p:nvSpPr>
          <p:spPr>
            <a:xfrm>
              <a:off x="5845320" y="34196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18240" y="3535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967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2658960" y="2481120"/>
            <a:ext cx="2978280" cy="2978280"/>
            <a:chOff x="2658960" y="2481120"/>
            <a:chExt cx="2978280" cy="2978280"/>
          </a:xfrm>
        </p:grpSpPr>
        <p:sp>
          <p:nvSpPr>
            <p:cNvPr id="970" name=""/>
            <p:cNvSpPr/>
            <p:nvPr/>
          </p:nvSpPr>
          <p:spPr>
            <a:xfrm>
              <a:off x="2658960" y="2481120"/>
              <a:ext cx="1109880" cy="1109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21120" y="3743280"/>
              <a:ext cx="10008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173480" y="399564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425840" y="4248000"/>
              <a:ext cx="1211400" cy="121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975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976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981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997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689200" y="2727360"/>
            <a:ext cx="146160" cy="1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662360" y="3654360"/>
            <a:ext cx="1067040" cy="106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752560" y="2573280"/>
            <a:ext cx="250920" cy="228600"/>
            <a:chOff x="2752560" y="2573280"/>
            <a:chExt cx="250920" cy="228600"/>
          </a:xfrm>
        </p:grpSpPr>
        <p:sp>
          <p:nvSpPr>
            <p:cNvPr id="1005" name=""/>
            <p:cNvSpPr/>
            <p:nvPr/>
          </p:nvSpPr>
          <p:spPr>
            <a:xfrm>
              <a:off x="2879640" y="2573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752560" y="2689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2876400" y="2685960"/>
            <a:ext cx="2971800" cy="847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5589720" y="2768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3052800" y="22622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5718240" y="3419640"/>
            <a:ext cx="250920" cy="228600"/>
            <a:chOff x="5718240" y="3419640"/>
            <a:chExt cx="250920" cy="228600"/>
          </a:xfrm>
        </p:grpSpPr>
        <p:sp>
          <p:nvSpPr>
            <p:cNvPr id="1012" name=""/>
            <p:cNvSpPr/>
            <p:nvPr/>
          </p:nvSpPr>
          <p:spPr>
            <a:xfrm>
              <a:off x="5845320" y="34196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18240" y="3535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1015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658960" y="2481120"/>
            <a:ext cx="2978280" cy="2978280"/>
            <a:chOff x="2658960" y="2481120"/>
            <a:chExt cx="2978280" cy="2978280"/>
          </a:xfrm>
        </p:grpSpPr>
        <p:sp>
          <p:nvSpPr>
            <p:cNvPr id="1018" name=""/>
            <p:cNvSpPr/>
            <p:nvPr/>
          </p:nvSpPr>
          <p:spPr>
            <a:xfrm>
              <a:off x="2658960" y="2481120"/>
              <a:ext cx="1109880" cy="1109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921120" y="3743280"/>
              <a:ext cx="10008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73480" y="399564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25840" y="4248000"/>
              <a:ext cx="1211400" cy="121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1023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1024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1029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1045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689200" y="2727360"/>
            <a:ext cx="146160" cy="1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662360" y="3654360"/>
            <a:ext cx="1067040" cy="106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2752560" y="2573280"/>
            <a:ext cx="250920" cy="228600"/>
            <a:chOff x="2752560" y="2573280"/>
            <a:chExt cx="250920" cy="228600"/>
          </a:xfrm>
        </p:grpSpPr>
        <p:sp>
          <p:nvSpPr>
            <p:cNvPr id="1053" name=""/>
            <p:cNvSpPr/>
            <p:nvPr/>
          </p:nvSpPr>
          <p:spPr>
            <a:xfrm>
              <a:off x="2879640" y="2573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52560" y="2689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2876400" y="2685960"/>
            <a:ext cx="2971800" cy="847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589720" y="2768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3052800" y="22622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5718240" y="3419640"/>
            <a:ext cx="250920" cy="228600"/>
            <a:chOff x="5718240" y="3419640"/>
            <a:chExt cx="250920" cy="228600"/>
          </a:xfrm>
        </p:grpSpPr>
        <p:sp>
          <p:nvSpPr>
            <p:cNvPr id="1060" name=""/>
            <p:cNvSpPr/>
            <p:nvPr/>
          </p:nvSpPr>
          <p:spPr>
            <a:xfrm>
              <a:off x="5845320" y="34196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18240" y="3535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1063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2658960" y="2481120"/>
            <a:ext cx="2978280" cy="2978280"/>
            <a:chOff x="2658960" y="2481120"/>
            <a:chExt cx="2978280" cy="2978280"/>
          </a:xfrm>
        </p:grpSpPr>
        <p:sp>
          <p:nvSpPr>
            <p:cNvPr id="1066" name=""/>
            <p:cNvSpPr/>
            <p:nvPr/>
          </p:nvSpPr>
          <p:spPr>
            <a:xfrm>
              <a:off x="2658960" y="2481120"/>
              <a:ext cx="1109880" cy="1109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21120" y="3743280"/>
              <a:ext cx="10008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73480" y="399564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25840" y="4248000"/>
              <a:ext cx="1211400" cy="121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6046920" y="3610080"/>
            <a:ext cx="55080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423680" y="2228040"/>
            <a:ext cx="1530720" cy="910080"/>
          </a:xfrm>
          <a:custGeom>
            <a:avLst/>
            <a:gdLst/>
            <a:ahLst/>
            <a:rect l="0" t="0" r="r" b="b"/>
            <a:pathLst>
              <a:path fill="none" w="4252" h="2528">
                <a:moveTo>
                  <a:pt x="4252" y="2528"/>
                </a:moveTo>
                <a:lnTo>
                  <a:pt x="4252" y="2528"/>
                </a:lnTo>
                <a:cubicBezTo>
                  <a:pt x="3619" y="1897"/>
                  <a:pt x="2903" y="1353"/>
                  <a:pt x="2124" y="909"/>
                </a:cubicBezTo>
                <a:cubicBezTo>
                  <a:pt x="1453" y="527"/>
                  <a:pt x="741" y="222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1073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1074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1079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1095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689200" y="2727360"/>
            <a:ext cx="146160" cy="1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4662360" y="3654360"/>
            <a:ext cx="1067040" cy="106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2752560" y="2573280"/>
            <a:ext cx="250920" cy="228600"/>
            <a:chOff x="2752560" y="2573280"/>
            <a:chExt cx="250920" cy="228600"/>
          </a:xfrm>
        </p:grpSpPr>
        <p:sp>
          <p:nvSpPr>
            <p:cNvPr id="1103" name=""/>
            <p:cNvSpPr/>
            <p:nvPr/>
          </p:nvSpPr>
          <p:spPr>
            <a:xfrm>
              <a:off x="2879640" y="2573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2560" y="2689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876400" y="2685960"/>
            <a:ext cx="2971800" cy="847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5589720" y="2768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052800" y="22622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5718240" y="3419640"/>
            <a:ext cx="250920" cy="228600"/>
            <a:chOff x="5718240" y="3419640"/>
            <a:chExt cx="250920" cy="228600"/>
          </a:xfrm>
        </p:grpSpPr>
        <p:sp>
          <p:nvSpPr>
            <p:cNvPr id="1110" name=""/>
            <p:cNvSpPr/>
            <p:nvPr/>
          </p:nvSpPr>
          <p:spPr>
            <a:xfrm>
              <a:off x="5845320" y="34196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18240" y="3535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1113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2658960" y="2481120"/>
            <a:ext cx="2978280" cy="2978280"/>
            <a:chOff x="2658960" y="2481120"/>
            <a:chExt cx="2978280" cy="2978280"/>
          </a:xfrm>
        </p:grpSpPr>
        <p:sp>
          <p:nvSpPr>
            <p:cNvPr id="1116" name=""/>
            <p:cNvSpPr/>
            <p:nvPr/>
          </p:nvSpPr>
          <p:spPr>
            <a:xfrm>
              <a:off x="2658960" y="2481120"/>
              <a:ext cx="1109880" cy="1109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21120" y="3743280"/>
              <a:ext cx="10008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73480" y="399564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25840" y="4248000"/>
              <a:ext cx="1211400" cy="121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6046920" y="3610080"/>
            <a:ext cx="55080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23680" y="2228040"/>
            <a:ext cx="1530720" cy="910080"/>
          </a:xfrm>
          <a:custGeom>
            <a:avLst/>
            <a:gdLst/>
            <a:ahLst/>
            <a:rect l="0" t="0" r="r" b="b"/>
            <a:pathLst>
              <a:path fill="none" w="4252" h="2528">
                <a:moveTo>
                  <a:pt x="4252" y="2528"/>
                </a:moveTo>
                <a:lnTo>
                  <a:pt x="4252" y="2528"/>
                </a:lnTo>
                <a:cubicBezTo>
                  <a:pt x="3619" y="1897"/>
                  <a:pt x="2903" y="1353"/>
                  <a:pt x="2124" y="909"/>
                </a:cubicBezTo>
                <a:cubicBezTo>
                  <a:pt x="1453" y="527"/>
                  <a:pt x="741" y="222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6157800" y="4309920"/>
            <a:ext cx="156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1124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1125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1130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1146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689200" y="2727360"/>
            <a:ext cx="146160" cy="1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662360" y="3654360"/>
            <a:ext cx="1067040" cy="106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2752560" y="2573280"/>
            <a:ext cx="250920" cy="228600"/>
            <a:chOff x="2752560" y="2573280"/>
            <a:chExt cx="250920" cy="228600"/>
          </a:xfrm>
        </p:grpSpPr>
        <p:sp>
          <p:nvSpPr>
            <p:cNvPr id="1154" name=""/>
            <p:cNvSpPr/>
            <p:nvPr/>
          </p:nvSpPr>
          <p:spPr>
            <a:xfrm>
              <a:off x="2879640" y="2573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52560" y="2689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2876400" y="2685960"/>
            <a:ext cx="2971800" cy="847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572000" y="4994280"/>
            <a:ext cx="0" cy="13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4441680" y="6616800"/>
            <a:ext cx="250920" cy="228600"/>
            <a:chOff x="4441680" y="6616800"/>
            <a:chExt cx="250920" cy="228600"/>
          </a:xfrm>
        </p:grpSpPr>
        <p:sp>
          <p:nvSpPr>
            <p:cNvPr id="1159" name=""/>
            <p:cNvSpPr/>
            <p:nvPr/>
          </p:nvSpPr>
          <p:spPr>
            <a:xfrm>
              <a:off x="4568760" y="66168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41680" y="673272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5589720" y="2768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052800" y="22622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718240" y="3419640"/>
            <a:ext cx="250920" cy="228600"/>
            <a:chOff x="5718240" y="3419640"/>
            <a:chExt cx="250920" cy="228600"/>
          </a:xfrm>
        </p:grpSpPr>
        <p:sp>
          <p:nvSpPr>
            <p:cNvPr id="1165" name=""/>
            <p:cNvSpPr/>
            <p:nvPr/>
          </p:nvSpPr>
          <p:spPr>
            <a:xfrm>
              <a:off x="5845320" y="34196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718240" y="3535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1168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2658960" y="2481120"/>
            <a:ext cx="2978280" cy="2978280"/>
            <a:chOff x="2658960" y="2481120"/>
            <a:chExt cx="2978280" cy="2978280"/>
          </a:xfrm>
        </p:grpSpPr>
        <p:sp>
          <p:nvSpPr>
            <p:cNvPr id="1171" name=""/>
            <p:cNvSpPr/>
            <p:nvPr/>
          </p:nvSpPr>
          <p:spPr>
            <a:xfrm>
              <a:off x="2658960" y="2481120"/>
              <a:ext cx="1109880" cy="1109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21120" y="3743280"/>
              <a:ext cx="10008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73480" y="399564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425840" y="4248000"/>
              <a:ext cx="1211400" cy="121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6046920" y="3610080"/>
            <a:ext cx="55080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423680" y="2228040"/>
            <a:ext cx="1530720" cy="910080"/>
          </a:xfrm>
          <a:custGeom>
            <a:avLst/>
            <a:gdLst/>
            <a:ahLst/>
            <a:rect l="0" t="0" r="r" b="b"/>
            <a:pathLst>
              <a:path fill="none" w="4252" h="2528">
                <a:moveTo>
                  <a:pt x="4252" y="2528"/>
                </a:moveTo>
                <a:lnTo>
                  <a:pt x="4252" y="2528"/>
                </a:lnTo>
                <a:cubicBezTo>
                  <a:pt x="3619" y="1897"/>
                  <a:pt x="2903" y="1353"/>
                  <a:pt x="2124" y="909"/>
                </a:cubicBezTo>
                <a:cubicBezTo>
                  <a:pt x="1453" y="527"/>
                  <a:pt x="741" y="222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6157800" y="4309920"/>
            <a:ext cx="156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729320" y="61466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1180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1181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1186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52400" y="21600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pe and Bearing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69800" y="1114560"/>
            <a:ext cx="8167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:  Draw a line through point 1 that bears S 45  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feet horizontally and slopes at 30 degrees.  Find the fr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line x-y.  Scale: 1” = 50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38040" y="25272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00120" y="3184560"/>
            <a:ext cx="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6880" y="3174840"/>
            <a:ext cx="6336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590400" y="354348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52600" y="4311720"/>
            <a:ext cx="44280" cy="8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52600" y="4395960"/>
            <a:ext cx="0" cy="34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554040" y="4670280"/>
            <a:ext cx="4752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88880" y="3811680"/>
            <a:ext cx="228600" cy="22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41360" y="39337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2516040" y="2801880"/>
            <a:ext cx="250920" cy="228600"/>
            <a:chOff x="2516040" y="2801880"/>
            <a:chExt cx="250920" cy="228600"/>
          </a:xfrm>
        </p:grpSpPr>
        <p:sp>
          <p:nvSpPr>
            <p:cNvPr id="1202" name=""/>
            <p:cNvSpPr/>
            <p:nvPr/>
          </p:nvSpPr>
          <p:spPr>
            <a:xfrm>
              <a:off x="2643120" y="28018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16040" y="29178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2644920" y="3133800"/>
            <a:ext cx="0" cy="23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144880" y="2585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1525680" y="5249880"/>
            <a:ext cx="4495680" cy="515880"/>
            <a:chOff x="1525680" y="5249880"/>
            <a:chExt cx="4495680" cy="515880"/>
          </a:xfrm>
        </p:grpSpPr>
        <p:grpSp>
          <p:nvGrpSpPr>
            <p:cNvPr id="1207" name=""/>
            <p:cNvGrpSpPr/>
            <p:nvPr/>
          </p:nvGrpSpPr>
          <p:grpSpPr>
            <a:xfrm>
              <a:off x="1525680" y="5364000"/>
              <a:ext cx="4495680" cy="0"/>
              <a:chOff x="1525680" y="5364000"/>
              <a:chExt cx="4495680" cy="0"/>
            </a:xfrm>
          </p:grpSpPr>
          <p:sp>
            <p:nvSpPr>
              <p:cNvPr id="1208" name=""/>
              <p:cNvSpPr/>
              <p:nvPr/>
            </p:nvSpPr>
            <p:spPr>
              <a:xfrm>
                <a:off x="1525680" y="5364000"/>
                <a:ext cx="167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30440" y="5364000"/>
                <a:ext cx="1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811680" y="536400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192560" y="536400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2517840" y="5249880"/>
              <a:ext cx="250920" cy="228600"/>
              <a:chOff x="2517840" y="5249880"/>
              <a:chExt cx="250920" cy="228600"/>
            </a:xfrm>
          </p:grpSpPr>
          <p:sp>
            <p:nvSpPr>
              <p:cNvPr id="1213" name=""/>
              <p:cNvSpPr/>
              <p:nvPr/>
            </p:nvSpPr>
            <p:spPr>
              <a:xfrm>
                <a:off x="2644920" y="52498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517840" y="536580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 txBox="1"/>
            <p:nvPr/>
          </p:nvSpPr>
          <p:spPr>
            <a:xfrm>
              <a:off x="2189160" y="530856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44920" y="2914560"/>
            <a:ext cx="1919160" cy="1919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2689200" y="2727360"/>
            <a:ext cx="146160" cy="1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662360" y="3654360"/>
            <a:ext cx="1067040" cy="106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752560" y="2573280"/>
            <a:ext cx="250920" cy="228600"/>
            <a:chOff x="2752560" y="2573280"/>
            <a:chExt cx="250920" cy="228600"/>
          </a:xfrm>
        </p:grpSpPr>
        <p:sp>
          <p:nvSpPr>
            <p:cNvPr id="1220" name=""/>
            <p:cNvSpPr/>
            <p:nvPr/>
          </p:nvSpPr>
          <p:spPr>
            <a:xfrm>
              <a:off x="2879640" y="25732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52560" y="2689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2876400" y="2685960"/>
            <a:ext cx="2971800" cy="847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572000" y="4994280"/>
            <a:ext cx="0" cy="13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4441680" y="6616800"/>
            <a:ext cx="250920" cy="228600"/>
            <a:chOff x="4441680" y="6616800"/>
            <a:chExt cx="250920" cy="228600"/>
          </a:xfrm>
        </p:grpSpPr>
        <p:sp>
          <p:nvSpPr>
            <p:cNvPr id="1225" name=""/>
            <p:cNvSpPr/>
            <p:nvPr/>
          </p:nvSpPr>
          <p:spPr>
            <a:xfrm>
              <a:off x="4568760" y="66168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41680" y="673272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 txBox="1"/>
          <p:nvPr/>
        </p:nvSpPr>
        <p:spPr>
          <a:xfrm>
            <a:off x="4729320" y="61466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162320" y="45831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5589720" y="2768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052800" y="226224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18240" y="3419640"/>
            <a:ext cx="250920" cy="228600"/>
            <a:chOff x="5718240" y="3419640"/>
            <a:chExt cx="250920" cy="228600"/>
          </a:xfrm>
        </p:grpSpPr>
        <p:sp>
          <p:nvSpPr>
            <p:cNvPr id="1232" name=""/>
            <p:cNvSpPr/>
            <p:nvPr/>
          </p:nvSpPr>
          <p:spPr>
            <a:xfrm>
              <a:off x="5845320" y="34196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18240" y="353520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4437000" y="4714920"/>
            <a:ext cx="250920" cy="228600"/>
            <a:chOff x="4437000" y="4714920"/>
            <a:chExt cx="250920" cy="228600"/>
          </a:xfrm>
        </p:grpSpPr>
        <p:sp>
          <p:nvSpPr>
            <p:cNvPr id="1235" name=""/>
            <p:cNvSpPr/>
            <p:nvPr/>
          </p:nvSpPr>
          <p:spPr>
            <a:xfrm>
              <a:off x="4564080" y="47149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437000" y="483084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658960" y="2481120"/>
            <a:ext cx="2978280" cy="2978280"/>
            <a:chOff x="2658960" y="2481120"/>
            <a:chExt cx="2978280" cy="2978280"/>
          </a:xfrm>
        </p:grpSpPr>
        <p:sp>
          <p:nvSpPr>
            <p:cNvPr id="1238" name=""/>
            <p:cNvSpPr/>
            <p:nvPr/>
          </p:nvSpPr>
          <p:spPr>
            <a:xfrm>
              <a:off x="2658960" y="2481120"/>
              <a:ext cx="1109880" cy="1109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21120" y="3743280"/>
              <a:ext cx="10008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73480" y="399564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25840" y="4248000"/>
              <a:ext cx="1211400" cy="1211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2644920" y="5356080"/>
            <a:ext cx="1908000" cy="136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046920" y="3610080"/>
            <a:ext cx="55080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423680" y="2228040"/>
            <a:ext cx="1530720" cy="910080"/>
          </a:xfrm>
          <a:custGeom>
            <a:avLst/>
            <a:gdLst/>
            <a:ahLst/>
            <a:rect l="0" t="0" r="r" b="b"/>
            <a:pathLst>
              <a:path fill="none" w="4252" h="2528">
                <a:moveTo>
                  <a:pt x="4252" y="2528"/>
                </a:moveTo>
                <a:lnTo>
                  <a:pt x="4252" y="2528"/>
                </a:lnTo>
                <a:cubicBezTo>
                  <a:pt x="3619" y="1897"/>
                  <a:pt x="2903" y="1353"/>
                  <a:pt x="2124" y="909"/>
                </a:cubicBezTo>
                <a:cubicBezTo>
                  <a:pt x="1453" y="527"/>
                  <a:pt x="741" y="222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6157800" y="4309920"/>
            <a:ext cx="156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710480" y="11826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285840" y="6453360"/>
            <a:ext cx="199404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4159080"/>
            <a:ext cx="0" cy="70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37280" y="411624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58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778120" y="4159080"/>
            <a:ext cx="0" cy="70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37280" y="411624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when a true length line intersects with an edge view of the horizontal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p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ercent Grade, and Slope Ratio of a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8120" y="4027320"/>
            <a:ext cx="2459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76520" y="4419720"/>
            <a:ext cx="4495680" cy="0"/>
            <a:chOff x="1676520" y="4419720"/>
            <a:chExt cx="4495680" cy="0"/>
          </a:xfrm>
        </p:grpSpPr>
        <p:sp>
          <p:nvSpPr>
            <p:cNvPr id="68" name=""/>
            <p:cNvSpPr/>
            <p:nvPr/>
          </p:nvSpPr>
          <p:spPr>
            <a:xfrm>
              <a:off x="1676520" y="4419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44197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62520" y="4419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44197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778120" y="4159080"/>
            <a:ext cx="0" cy="70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37280" y="411624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8120" y="5024520"/>
            <a:ext cx="2484360" cy="752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x Raisor</dc:creator>
  <dc:description/>
  <dc:language>en-US</dc:language>
  <cp:lastModifiedBy>E. Max Raisor</cp:lastModifiedBy>
  <cp:revision>0</cp:revision>
  <dc:subject/>
  <dc:title>Slope and Bearing of a Line</dc:title>
</cp:coreProperties>
</file>