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209520" y="6445080"/>
            <a:ext cx="1504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 1996, 199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gham Young Univer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85760" y="6475320"/>
            <a:ext cx="1517760" cy="343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4520" y="6431040"/>
            <a:ext cx="1795320" cy="414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81080" y="228600"/>
            <a:ext cx="5029200" cy="6400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87560" y="236520"/>
            <a:ext cx="779760" cy="681480"/>
          </a:xfrm>
          <a:custGeom>
            <a:avLst/>
            <a:gdLst/>
            <a:ahLst/>
            <a:rect l="0" t="0" r="r" b="b"/>
            <a:pathLst>
              <a:path fill="none" w="2166" h="1893">
                <a:moveTo>
                  <a:pt x="2166" y="0"/>
                </a:moveTo>
                <a:lnTo>
                  <a:pt x="2166" y="141"/>
                </a:lnTo>
                <a:lnTo>
                  <a:pt x="2122" y="282"/>
                </a:lnTo>
                <a:lnTo>
                  <a:pt x="2029" y="467"/>
                </a:lnTo>
                <a:lnTo>
                  <a:pt x="1936" y="697"/>
                </a:lnTo>
                <a:lnTo>
                  <a:pt x="1888" y="882"/>
                </a:lnTo>
                <a:lnTo>
                  <a:pt x="1747" y="979"/>
                </a:lnTo>
                <a:lnTo>
                  <a:pt x="1562" y="979"/>
                </a:lnTo>
                <a:lnTo>
                  <a:pt x="1376" y="1116"/>
                </a:lnTo>
                <a:lnTo>
                  <a:pt x="1191" y="1165"/>
                </a:lnTo>
                <a:lnTo>
                  <a:pt x="1005" y="1301"/>
                </a:lnTo>
                <a:lnTo>
                  <a:pt x="912" y="1443"/>
                </a:lnTo>
                <a:lnTo>
                  <a:pt x="771" y="1488"/>
                </a:lnTo>
                <a:lnTo>
                  <a:pt x="586" y="1536"/>
                </a:lnTo>
                <a:lnTo>
                  <a:pt x="401" y="1673"/>
                </a:lnTo>
                <a:lnTo>
                  <a:pt x="264" y="1814"/>
                </a:lnTo>
                <a:lnTo>
                  <a:pt x="123" y="1862"/>
                </a:lnTo>
                <a:lnTo>
                  <a:pt x="0" y="1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81080" y="237960"/>
            <a:ext cx="1136880" cy="5191560"/>
          </a:xfrm>
          <a:custGeom>
            <a:avLst/>
            <a:gdLst/>
            <a:ahLst/>
            <a:rect l="0" t="0" r="r" b="b"/>
            <a:pathLst>
              <a:path fill="none" w="3158" h="14421">
                <a:moveTo>
                  <a:pt x="3140" y="0"/>
                </a:moveTo>
                <a:lnTo>
                  <a:pt x="3158" y="92"/>
                </a:lnTo>
                <a:lnTo>
                  <a:pt x="3114" y="277"/>
                </a:lnTo>
                <a:lnTo>
                  <a:pt x="3114" y="463"/>
                </a:lnTo>
                <a:lnTo>
                  <a:pt x="3114" y="648"/>
                </a:lnTo>
                <a:lnTo>
                  <a:pt x="2973" y="833"/>
                </a:lnTo>
                <a:lnTo>
                  <a:pt x="2880" y="974"/>
                </a:lnTo>
                <a:lnTo>
                  <a:pt x="2739" y="1111"/>
                </a:lnTo>
                <a:lnTo>
                  <a:pt x="2554" y="1296"/>
                </a:lnTo>
                <a:lnTo>
                  <a:pt x="2510" y="1437"/>
                </a:lnTo>
                <a:lnTo>
                  <a:pt x="2417" y="1622"/>
                </a:lnTo>
                <a:lnTo>
                  <a:pt x="2324" y="1807"/>
                </a:lnTo>
                <a:lnTo>
                  <a:pt x="2232" y="1993"/>
                </a:lnTo>
                <a:lnTo>
                  <a:pt x="2139" y="2134"/>
                </a:lnTo>
                <a:lnTo>
                  <a:pt x="1998" y="2271"/>
                </a:lnTo>
                <a:lnTo>
                  <a:pt x="1954" y="2412"/>
                </a:lnTo>
                <a:lnTo>
                  <a:pt x="1813" y="2504"/>
                </a:lnTo>
                <a:lnTo>
                  <a:pt x="1720" y="2689"/>
                </a:lnTo>
                <a:lnTo>
                  <a:pt x="1578" y="2831"/>
                </a:lnTo>
                <a:lnTo>
                  <a:pt x="1393" y="2967"/>
                </a:lnTo>
                <a:lnTo>
                  <a:pt x="1300" y="3108"/>
                </a:lnTo>
                <a:lnTo>
                  <a:pt x="1208" y="3294"/>
                </a:lnTo>
                <a:lnTo>
                  <a:pt x="1071" y="3479"/>
                </a:lnTo>
                <a:lnTo>
                  <a:pt x="974" y="3621"/>
                </a:lnTo>
                <a:lnTo>
                  <a:pt x="789" y="3758"/>
                </a:lnTo>
                <a:lnTo>
                  <a:pt x="652" y="3899"/>
                </a:lnTo>
                <a:lnTo>
                  <a:pt x="511" y="3943"/>
                </a:lnTo>
                <a:lnTo>
                  <a:pt x="374" y="4084"/>
                </a:lnTo>
                <a:lnTo>
                  <a:pt x="233" y="4177"/>
                </a:lnTo>
                <a:lnTo>
                  <a:pt x="141" y="4362"/>
                </a:lnTo>
                <a:lnTo>
                  <a:pt x="48" y="4503"/>
                </a:lnTo>
                <a:lnTo>
                  <a:pt x="0" y="4688"/>
                </a:lnTo>
                <a:lnTo>
                  <a:pt x="92" y="4873"/>
                </a:lnTo>
                <a:lnTo>
                  <a:pt x="189" y="5058"/>
                </a:lnTo>
                <a:lnTo>
                  <a:pt x="233" y="5288"/>
                </a:lnTo>
                <a:lnTo>
                  <a:pt x="282" y="5429"/>
                </a:lnTo>
                <a:lnTo>
                  <a:pt x="326" y="5614"/>
                </a:lnTo>
                <a:lnTo>
                  <a:pt x="418" y="5755"/>
                </a:lnTo>
                <a:lnTo>
                  <a:pt x="511" y="5984"/>
                </a:lnTo>
                <a:lnTo>
                  <a:pt x="652" y="6126"/>
                </a:lnTo>
                <a:lnTo>
                  <a:pt x="745" y="6267"/>
                </a:lnTo>
                <a:lnTo>
                  <a:pt x="837" y="6452"/>
                </a:lnTo>
                <a:lnTo>
                  <a:pt x="930" y="6637"/>
                </a:lnTo>
                <a:lnTo>
                  <a:pt x="1071" y="6822"/>
                </a:lnTo>
                <a:lnTo>
                  <a:pt x="1164" y="7008"/>
                </a:lnTo>
                <a:lnTo>
                  <a:pt x="1208" y="7149"/>
                </a:lnTo>
                <a:lnTo>
                  <a:pt x="1300" y="7334"/>
                </a:lnTo>
                <a:lnTo>
                  <a:pt x="1300" y="7519"/>
                </a:lnTo>
                <a:lnTo>
                  <a:pt x="1300" y="7704"/>
                </a:lnTo>
                <a:lnTo>
                  <a:pt x="1300" y="7934"/>
                </a:lnTo>
                <a:lnTo>
                  <a:pt x="1349" y="8123"/>
                </a:lnTo>
                <a:lnTo>
                  <a:pt x="1393" y="8308"/>
                </a:lnTo>
                <a:lnTo>
                  <a:pt x="1534" y="8494"/>
                </a:lnTo>
                <a:lnTo>
                  <a:pt x="1672" y="8723"/>
                </a:lnTo>
                <a:lnTo>
                  <a:pt x="1764" y="8864"/>
                </a:lnTo>
                <a:lnTo>
                  <a:pt x="1813" y="9005"/>
                </a:lnTo>
                <a:lnTo>
                  <a:pt x="1954" y="9234"/>
                </a:lnTo>
                <a:lnTo>
                  <a:pt x="2047" y="9376"/>
                </a:lnTo>
                <a:lnTo>
                  <a:pt x="2232" y="9561"/>
                </a:lnTo>
                <a:lnTo>
                  <a:pt x="2324" y="9746"/>
                </a:lnTo>
                <a:lnTo>
                  <a:pt x="2417" y="9887"/>
                </a:lnTo>
                <a:lnTo>
                  <a:pt x="2461" y="10072"/>
                </a:lnTo>
                <a:lnTo>
                  <a:pt x="2554" y="10258"/>
                </a:lnTo>
                <a:lnTo>
                  <a:pt x="2602" y="10443"/>
                </a:lnTo>
                <a:lnTo>
                  <a:pt x="2602" y="10628"/>
                </a:lnTo>
                <a:lnTo>
                  <a:pt x="2602" y="10769"/>
                </a:lnTo>
                <a:lnTo>
                  <a:pt x="2646" y="11092"/>
                </a:lnTo>
                <a:lnTo>
                  <a:pt x="2695" y="11233"/>
                </a:lnTo>
                <a:lnTo>
                  <a:pt x="2695" y="11462"/>
                </a:lnTo>
                <a:lnTo>
                  <a:pt x="2646" y="11696"/>
                </a:lnTo>
                <a:lnTo>
                  <a:pt x="2646" y="11837"/>
                </a:lnTo>
                <a:lnTo>
                  <a:pt x="2602" y="12022"/>
                </a:lnTo>
                <a:lnTo>
                  <a:pt x="2461" y="12159"/>
                </a:lnTo>
                <a:lnTo>
                  <a:pt x="2417" y="12300"/>
                </a:lnTo>
                <a:lnTo>
                  <a:pt x="2276" y="12441"/>
                </a:lnTo>
                <a:lnTo>
                  <a:pt x="2139" y="12627"/>
                </a:lnTo>
                <a:lnTo>
                  <a:pt x="1998" y="12763"/>
                </a:lnTo>
                <a:lnTo>
                  <a:pt x="1906" y="12904"/>
                </a:lnTo>
                <a:lnTo>
                  <a:pt x="1764" y="13134"/>
                </a:lnTo>
                <a:lnTo>
                  <a:pt x="1672" y="13275"/>
                </a:lnTo>
                <a:lnTo>
                  <a:pt x="1628" y="13416"/>
                </a:lnTo>
                <a:lnTo>
                  <a:pt x="1628" y="13601"/>
                </a:lnTo>
                <a:lnTo>
                  <a:pt x="1578" y="13786"/>
                </a:lnTo>
                <a:lnTo>
                  <a:pt x="1393" y="13879"/>
                </a:lnTo>
                <a:lnTo>
                  <a:pt x="1208" y="14016"/>
                </a:lnTo>
                <a:lnTo>
                  <a:pt x="1071" y="14157"/>
                </a:lnTo>
                <a:lnTo>
                  <a:pt x="930" y="14157"/>
                </a:lnTo>
                <a:lnTo>
                  <a:pt x="745" y="14157"/>
                </a:lnTo>
                <a:lnTo>
                  <a:pt x="604" y="14157"/>
                </a:lnTo>
                <a:lnTo>
                  <a:pt x="418" y="14249"/>
                </a:lnTo>
                <a:lnTo>
                  <a:pt x="282" y="14390"/>
                </a:lnTo>
                <a:lnTo>
                  <a:pt x="13" y="1442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98720" y="236520"/>
            <a:ext cx="1554480" cy="5832720"/>
          </a:xfrm>
          <a:custGeom>
            <a:avLst/>
            <a:gdLst/>
            <a:ahLst/>
            <a:rect l="0" t="0" r="r" b="b"/>
            <a:pathLst>
              <a:path fill="none" w="4318" h="16202">
                <a:moveTo>
                  <a:pt x="4318" y="0"/>
                </a:moveTo>
                <a:lnTo>
                  <a:pt x="4318" y="189"/>
                </a:lnTo>
                <a:lnTo>
                  <a:pt x="4318" y="374"/>
                </a:lnTo>
                <a:lnTo>
                  <a:pt x="4318" y="604"/>
                </a:lnTo>
                <a:lnTo>
                  <a:pt x="4269" y="745"/>
                </a:lnTo>
                <a:lnTo>
                  <a:pt x="4177" y="930"/>
                </a:lnTo>
                <a:lnTo>
                  <a:pt x="4084" y="1071"/>
                </a:lnTo>
                <a:lnTo>
                  <a:pt x="3947" y="1256"/>
                </a:lnTo>
                <a:lnTo>
                  <a:pt x="3855" y="1441"/>
                </a:lnTo>
                <a:lnTo>
                  <a:pt x="3762" y="1627"/>
                </a:lnTo>
                <a:lnTo>
                  <a:pt x="3621" y="1812"/>
                </a:lnTo>
                <a:lnTo>
                  <a:pt x="3572" y="1953"/>
                </a:lnTo>
                <a:lnTo>
                  <a:pt x="3436" y="2138"/>
                </a:lnTo>
                <a:lnTo>
                  <a:pt x="3295" y="2275"/>
                </a:lnTo>
                <a:lnTo>
                  <a:pt x="3202" y="2416"/>
                </a:lnTo>
                <a:lnTo>
                  <a:pt x="3017" y="2601"/>
                </a:lnTo>
                <a:lnTo>
                  <a:pt x="2924" y="2742"/>
                </a:lnTo>
                <a:lnTo>
                  <a:pt x="2832" y="2928"/>
                </a:lnTo>
                <a:lnTo>
                  <a:pt x="2739" y="3113"/>
                </a:lnTo>
                <a:lnTo>
                  <a:pt x="2690" y="3298"/>
                </a:lnTo>
                <a:lnTo>
                  <a:pt x="2554" y="3483"/>
                </a:lnTo>
                <a:lnTo>
                  <a:pt x="2505" y="3624"/>
                </a:lnTo>
                <a:lnTo>
                  <a:pt x="2369" y="3810"/>
                </a:lnTo>
                <a:lnTo>
                  <a:pt x="2276" y="3995"/>
                </a:lnTo>
                <a:lnTo>
                  <a:pt x="2183" y="4224"/>
                </a:lnTo>
                <a:lnTo>
                  <a:pt x="2183" y="4365"/>
                </a:lnTo>
                <a:lnTo>
                  <a:pt x="2183" y="4506"/>
                </a:lnTo>
                <a:lnTo>
                  <a:pt x="2183" y="4691"/>
                </a:lnTo>
                <a:lnTo>
                  <a:pt x="2090" y="4877"/>
                </a:lnTo>
                <a:lnTo>
                  <a:pt x="2041" y="5106"/>
                </a:lnTo>
                <a:lnTo>
                  <a:pt x="2134" y="5291"/>
                </a:lnTo>
                <a:lnTo>
                  <a:pt x="2227" y="5481"/>
                </a:lnTo>
                <a:lnTo>
                  <a:pt x="2320" y="5666"/>
                </a:lnTo>
                <a:lnTo>
                  <a:pt x="2369" y="5851"/>
                </a:lnTo>
                <a:lnTo>
                  <a:pt x="2505" y="6036"/>
                </a:lnTo>
                <a:lnTo>
                  <a:pt x="2598" y="6270"/>
                </a:lnTo>
                <a:lnTo>
                  <a:pt x="2739" y="6455"/>
                </a:lnTo>
                <a:lnTo>
                  <a:pt x="2880" y="6592"/>
                </a:lnTo>
                <a:lnTo>
                  <a:pt x="2973" y="6777"/>
                </a:lnTo>
                <a:lnTo>
                  <a:pt x="3065" y="6918"/>
                </a:lnTo>
                <a:lnTo>
                  <a:pt x="3158" y="7152"/>
                </a:lnTo>
                <a:lnTo>
                  <a:pt x="3295" y="7430"/>
                </a:lnTo>
                <a:lnTo>
                  <a:pt x="3436" y="7615"/>
                </a:lnTo>
                <a:lnTo>
                  <a:pt x="3480" y="7800"/>
                </a:lnTo>
                <a:lnTo>
                  <a:pt x="3528" y="7986"/>
                </a:lnTo>
                <a:lnTo>
                  <a:pt x="3528" y="8128"/>
                </a:lnTo>
                <a:lnTo>
                  <a:pt x="3572" y="8313"/>
                </a:lnTo>
                <a:lnTo>
                  <a:pt x="3669" y="8498"/>
                </a:lnTo>
                <a:lnTo>
                  <a:pt x="3855" y="8727"/>
                </a:lnTo>
                <a:lnTo>
                  <a:pt x="3855" y="8868"/>
                </a:lnTo>
                <a:lnTo>
                  <a:pt x="3899" y="9010"/>
                </a:lnTo>
                <a:lnTo>
                  <a:pt x="3947" y="9195"/>
                </a:lnTo>
                <a:lnTo>
                  <a:pt x="3947" y="9380"/>
                </a:lnTo>
                <a:lnTo>
                  <a:pt x="3899" y="9565"/>
                </a:lnTo>
                <a:lnTo>
                  <a:pt x="3855" y="9750"/>
                </a:lnTo>
                <a:lnTo>
                  <a:pt x="3855" y="9892"/>
                </a:lnTo>
                <a:lnTo>
                  <a:pt x="3806" y="10077"/>
                </a:lnTo>
                <a:lnTo>
                  <a:pt x="3762" y="10306"/>
                </a:lnTo>
                <a:lnTo>
                  <a:pt x="3806" y="10491"/>
                </a:lnTo>
                <a:lnTo>
                  <a:pt x="3806" y="10632"/>
                </a:lnTo>
                <a:lnTo>
                  <a:pt x="3806" y="10773"/>
                </a:lnTo>
                <a:lnTo>
                  <a:pt x="3806" y="10959"/>
                </a:lnTo>
                <a:lnTo>
                  <a:pt x="3762" y="11144"/>
                </a:lnTo>
                <a:lnTo>
                  <a:pt x="3713" y="11329"/>
                </a:lnTo>
                <a:lnTo>
                  <a:pt x="3669" y="11514"/>
                </a:lnTo>
                <a:lnTo>
                  <a:pt x="3621" y="11699"/>
                </a:lnTo>
                <a:lnTo>
                  <a:pt x="3572" y="11885"/>
                </a:lnTo>
                <a:lnTo>
                  <a:pt x="3528" y="12026"/>
                </a:lnTo>
                <a:lnTo>
                  <a:pt x="3480" y="12211"/>
                </a:lnTo>
                <a:lnTo>
                  <a:pt x="3436" y="12396"/>
                </a:lnTo>
                <a:lnTo>
                  <a:pt x="3387" y="12581"/>
                </a:lnTo>
                <a:lnTo>
                  <a:pt x="3387" y="12723"/>
                </a:lnTo>
                <a:lnTo>
                  <a:pt x="3250" y="13044"/>
                </a:lnTo>
                <a:lnTo>
                  <a:pt x="3202" y="13186"/>
                </a:lnTo>
                <a:lnTo>
                  <a:pt x="3109" y="13419"/>
                </a:lnTo>
                <a:lnTo>
                  <a:pt x="3017" y="13604"/>
                </a:lnTo>
                <a:lnTo>
                  <a:pt x="2924" y="13834"/>
                </a:lnTo>
                <a:lnTo>
                  <a:pt x="2787" y="14068"/>
                </a:lnTo>
                <a:lnTo>
                  <a:pt x="2646" y="14531"/>
                </a:lnTo>
                <a:lnTo>
                  <a:pt x="2598" y="14672"/>
                </a:lnTo>
                <a:lnTo>
                  <a:pt x="2369" y="14808"/>
                </a:lnTo>
                <a:lnTo>
                  <a:pt x="2227" y="14901"/>
                </a:lnTo>
                <a:lnTo>
                  <a:pt x="2041" y="15042"/>
                </a:lnTo>
                <a:lnTo>
                  <a:pt x="1578" y="15183"/>
                </a:lnTo>
                <a:lnTo>
                  <a:pt x="1393" y="15276"/>
                </a:lnTo>
                <a:lnTo>
                  <a:pt x="1208" y="15320"/>
                </a:lnTo>
                <a:lnTo>
                  <a:pt x="926" y="15412"/>
                </a:lnTo>
                <a:lnTo>
                  <a:pt x="740" y="15505"/>
                </a:lnTo>
                <a:lnTo>
                  <a:pt x="555" y="15646"/>
                </a:lnTo>
                <a:lnTo>
                  <a:pt x="418" y="15831"/>
                </a:lnTo>
                <a:lnTo>
                  <a:pt x="277" y="15924"/>
                </a:lnTo>
                <a:lnTo>
                  <a:pt x="92" y="16017"/>
                </a:lnTo>
                <a:lnTo>
                  <a:pt x="0" y="16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87560" y="790560"/>
            <a:ext cx="2018160" cy="5664600"/>
          </a:xfrm>
          <a:custGeom>
            <a:avLst/>
            <a:gdLst/>
            <a:ahLst/>
            <a:rect l="0" t="0" r="r" b="b"/>
            <a:pathLst>
              <a:path fill="none" w="5606" h="15735">
                <a:moveTo>
                  <a:pt x="5606" y="0"/>
                </a:moveTo>
                <a:lnTo>
                  <a:pt x="5452" y="282"/>
                </a:lnTo>
                <a:lnTo>
                  <a:pt x="5373" y="370"/>
                </a:lnTo>
                <a:lnTo>
                  <a:pt x="5320" y="436"/>
                </a:lnTo>
                <a:lnTo>
                  <a:pt x="5289" y="542"/>
                </a:lnTo>
                <a:lnTo>
                  <a:pt x="5267" y="626"/>
                </a:lnTo>
                <a:lnTo>
                  <a:pt x="5223" y="705"/>
                </a:lnTo>
                <a:lnTo>
                  <a:pt x="5196" y="798"/>
                </a:lnTo>
                <a:lnTo>
                  <a:pt x="5156" y="864"/>
                </a:lnTo>
                <a:lnTo>
                  <a:pt x="5104" y="926"/>
                </a:lnTo>
                <a:lnTo>
                  <a:pt x="4984" y="1031"/>
                </a:lnTo>
                <a:lnTo>
                  <a:pt x="4857" y="1164"/>
                </a:lnTo>
                <a:lnTo>
                  <a:pt x="4790" y="1274"/>
                </a:lnTo>
                <a:lnTo>
                  <a:pt x="4773" y="1349"/>
                </a:lnTo>
                <a:lnTo>
                  <a:pt x="4720" y="1508"/>
                </a:lnTo>
                <a:lnTo>
                  <a:pt x="4588" y="1640"/>
                </a:lnTo>
                <a:lnTo>
                  <a:pt x="4455" y="1852"/>
                </a:lnTo>
                <a:lnTo>
                  <a:pt x="4402" y="1904"/>
                </a:lnTo>
                <a:lnTo>
                  <a:pt x="4349" y="2063"/>
                </a:lnTo>
                <a:lnTo>
                  <a:pt x="4297" y="2169"/>
                </a:lnTo>
                <a:lnTo>
                  <a:pt x="4190" y="2301"/>
                </a:lnTo>
                <a:lnTo>
                  <a:pt x="4190" y="2487"/>
                </a:lnTo>
                <a:lnTo>
                  <a:pt x="4110" y="2778"/>
                </a:lnTo>
                <a:lnTo>
                  <a:pt x="4110" y="2751"/>
                </a:lnTo>
                <a:lnTo>
                  <a:pt x="4057" y="2963"/>
                </a:lnTo>
                <a:lnTo>
                  <a:pt x="3978" y="2826"/>
                </a:lnTo>
                <a:lnTo>
                  <a:pt x="4110" y="3333"/>
                </a:lnTo>
                <a:lnTo>
                  <a:pt x="4217" y="3492"/>
                </a:lnTo>
                <a:lnTo>
                  <a:pt x="4137" y="3598"/>
                </a:lnTo>
                <a:lnTo>
                  <a:pt x="4217" y="3810"/>
                </a:lnTo>
                <a:lnTo>
                  <a:pt x="4244" y="3969"/>
                </a:lnTo>
                <a:lnTo>
                  <a:pt x="4323" y="4102"/>
                </a:lnTo>
                <a:lnTo>
                  <a:pt x="4429" y="4260"/>
                </a:lnTo>
                <a:lnTo>
                  <a:pt x="4508" y="4393"/>
                </a:lnTo>
                <a:lnTo>
                  <a:pt x="4588" y="4551"/>
                </a:lnTo>
                <a:lnTo>
                  <a:pt x="4614" y="4684"/>
                </a:lnTo>
                <a:lnTo>
                  <a:pt x="4641" y="4763"/>
                </a:lnTo>
                <a:lnTo>
                  <a:pt x="4614" y="4895"/>
                </a:lnTo>
                <a:lnTo>
                  <a:pt x="4588" y="5107"/>
                </a:lnTo>
                <a:lnTo>
                  <a:pt x="4561" y="5345"/>
                </a:lnTo>
                <a:lnTo>
                  <a:pt x="4482" y="5504"/>
                </a:lnTo>
                <a:lnTo>
                  <a:pt x="4349" y="5658"/>
                </a:lnTo>
                <a:lnTo>
                  <a:pt x="4349" y="5799"/>
                </a:lnTo>
                <a:lnTo>
                  <a:pt x="4394" y="5984"/>
                </a:lnTo>
                <a:lnTo>
                  <a:pt x="4442" y="6170"/>
                </a:lnTo>
                <a:lnTo>
                  <a:pt x="4442" y="6355"/>
                </a:lnTo>
                <a:lnTo>
                  <a:pt x="4442" y="6496"/>
                </a:lnTo>
                <a:lnTo>
                  <a:pt x="4442" y="6681"/>
                </a:lnTo>
                <a:lnTo>
                  <a:pt x="4486" y="6911"/>
                </a:lnTo>
                <a:lnTo>
                  <a:pt x="4535" y="7052"/>
                </a:lnTo>
                <a:lnTo>
                  <a:pt x="4627" y="7237"/>
                </a:lnTo>
                <a:lnTo>
                  <a:pt x="4676" y="7422"/>
                </a:lnTo>
                <a:lnTo>
                  <a:pt x="4720" y="7563"/>
                </a:lnTo>
                <a:lnTo>
                  <a:pt x="4768" y="7792"/>
                </a:lnTo>
                <a:lnTo>
                  <a:pt x="4813" y="7934"/>
                </a:lnTo>
                <a:lnTo>
                  <a:pt x="4813" y="8211"/>
                </a:lnTo>
                <a:lnTo>
                  <a:pt x="4813" y="8445"/>
                </a:lnTo>
                <a:lnTo>
                  <a:pt x="4813" y="8630"/>
                </a:lnTo>
                <a:lnTo>
                  <a:pt x="4813" y="8908"/>
                </a:lnTo>
                <a:lnTo>
                  <a:pt x="4861" y="9371"/>
                </a:lnTo>
                <a:lnTo>
                  <a:pt x="4861" y="9605"/>
                </a:lnTo>
                <a:lnTo>
                  <a:pt x="4861" y="10068"/>
                </a:lnTo>
                <a:lnTo>
                  <a:pt x="4813" y="10209"/>
                </a:lnTo>
                <a:lnTo>
                  <a:pt x="4720" y="10394"/>
                </a:lnTo>
                <a:lnTo>
                  <a:pt x="4535" y="11091"/>
                </a:lnTo>
                <a:lnTo>
                  <a:pt x="4394" y="11320"/>
                </a:lnTo>
                <a:lnTo>
                  <a:pt x="4349" y="11461"/>
                </a:lnTo>
                <a:lnTo>
                  <a:pt x="4257" y="12948"/>
                </a:lnTo>
                <a:lnTo>
                  <a:pt x="4163" y="13134"/>
                </a:lnTo>
                <a:lnTo>
                  <a:pt x="4022" y="13270"/>
                </a:lnTo>
                <a:lnTo>
                  <a:pt x="3885" y="13411"/>
                </a:lnTo>
                <a:lnTo>
                  <a:pt x="3793" y="13553"/>
                </a:lnTo>
                <a:lnTo>
                  <a:pt x="3652" y="13689"/>
                </a:lnTo>
                <a:lnTo>
                  <a:pt x="3511" y="13782"/>
                </a:lnTo>
                <a:lnTo>
                  <a:pt x="3281" y="14016"/>
                </a:lnTo>
                <a:lnTo>
                  <a:pt x="3140" y="14201"/>
                </a:lnTo>
                <a:lnTo>
                  <a:pt x="1703" y="14849"/>
                </a:lnTo>
                <a:lnTo>
                  <a:pt x="1562" y="14898"/>
                </a:lnTo>
                <a:lnTo>
                  <a:pt x="1375" y="14898"/>
                </a:lnTo>
                <a:lnTo>
                  <a:pt x="1146" y="15083"/>
                </a:lnTo>
                <a:lnTo>
                  <a:pt x="1005" y="15219"/>
                </a:lnTo>
                <a:lnTo>
                  <a:pt x="864" y="15268"/>
                </a:lnTo>
                <a:lnTo>
                  <a:pt x="679" y="15316"/>
                </a:lnTo>
                <a:lnTo>
                  <a:pt x="493" y="15409"/>
                </a:lnTo>
                <a:lnTo>
                  <a:pt x="308" y="15453"/>
                </a:lnTo>
                <a:lnTo>
                  <a:pt x="264" y="15594"/>
                </a:lnTo>
                <a:lnTo>
                  <a:pt x="123" y="15687"/>
                </a:lnTo>
                <a:lnTo>
                  <a:pt x="0" y="1573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90800" y="3540240"/>
            <a:ext cx="359280" cy="1184760"/>
          </a:xfrm>
          <a:custGeom>
            <a:avLst/>
            <a:gdLst/>
            <a:ahLst/>
            <a:rect l="0" t="0" r="r" b="b"/>
            <a:pathLst>
              <a:path fill="none" w="998" h="3291">
                <a:moveTo>
                  <a:pt x="0" y="0"/>
                </a:moveTo>
                <a:lnTo>
                  <a:pt x="52" y="158"/>
                </a:lnTo>
                <a:lnTo>
                  <a:pt x="97" y="326"/>
                </a:lnTo>
                <a:lnTo>
                  <a:pt x="163" y="480"/>
                </a:lnTo>
                <a:lnTo>
                  <a:pt x="256" y="621"/>
                </a:lnTo>
                <a:lnTo>
                  <a:pt x="441" y="714"/>
                </a:lnTo>
                <a:lnTo>
                  <a:pt x="627" y="806"/>
                </a:lnTo>
                <a:lnTo>
                  <a:pt x="813" y="944"/>
                </a:lnTo>
                <a:lnTo>
                  <a:pt x="905" y="1085"/>
                </a:lnTo>
                <a:lnTo>
                  <a:pt x="998" y="1271"/>
                </a:lnTo>
                <a:lnTo>
                  <a:pt x="998" y="1456"/>
                </a:lnTo>
                <a:lnTo>
                  <a:pt x="998" y="1597"/>
                </a:lnTo>
                <a:lnTo>
                  <a:pt x="950" y="1826"/>
                </a:lnTo>
                <a:lnTo>
                  <a:pt x="813" y="1967"/>
                </a:lnTo>
                <a:lnTo>
                  <a:pt x="671" y="2104"/>
                </a:lnTo>
                <a:lnTo>
                  <a:pt x="627" y="2245"/>
                </a:lnTo>
                <a:lnTo>
                  <a:pt x="627" y="2386"/>
                </a:lnTo>
                <a:lnTo>
                  <a:pt x="534" y="2572"/>
                </a:lnTo>
                <a:lnTo>
                  <a:pt x="393" y="2665"/>
                </a:lnTo>
                <a:lnTo>
                  <a:pt x="256" y="2850"/>
                </a:lnTo>
                <a:lnTo>
                  <a:pt x="114" y="2987"/>
                </a:lnTo>
                <a:lnTo>
                  <a:pt x="0" y="329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49680" y="1357200"/>
            <a:ext cx="1756080" cy="5262840"/>
          </a:xfrm>
          <a:custGeom>
            <a:avLst/>
            <a:gdLst/>
            <a:ahLst/>
            <a:rect l="0" t="0" r="r" b="b"/>
            <a:pathLst>
              <a:path fill="none" w="4878" h="14619">
                <a:moveTo>
                  <a:pt x="3211" y="0"/>
                </a:moveTo>
                <a:lnTo>
                  <a:pt x="3250" y="489"/>
                </a:lnTo>
                <a:lnTo>
                  <a:pt x="3211" y="661"/>
                </a:lnTo>
                <a:lnTo>
                  <a:pt x="3224" y="767"/>
                </a:lnTo>
                <a:lnTo>
                  <a:pt x="3237" y="886"/>
                </a:lnTo>
                <a:lnTo>
                  <a:pt x="3277" y="965"/>
                </a:lnTo>
                <a:lnTo>
                  <a:pt x="3303" y="1018"/>
                </a:lnTo>
                <a:lnTo>
                  <a:pt x="3303" y="1111"/>
                </a:lnTo>
                <a:lnTo>
                  <a:pt x="3303" y="1124"/>
                </a:lnTo>
                <a:lnTo>
                  <a:pt x="3290" y="1137"/>
                </a:lnTo>
                <a:lnTo>
                  <a:pt x="3277" y="1190"/>
                </a:lnTo>
                <a:lnTo>
                  <a:pt x="3237" y="1270"/>
                </a:lnTo>
                <a:lnTo>
                  <a:pt x="3184" y="1283"/>
                </a:lnTo>
                <a:lnTo>
                  <a:pt x="3211" y="1389"/>
                </a:lnTo>
                <a:lnTo>
                  <a:pt x="3211" y="1455"/>
                </a:lnTo>
                <a:lnTo>
                  <a:pt x="3184" y="1508"/>
                </a:lnTo>
                <a:lnTo>
                  <a:pt x="3145" y="1653"/>
                </a:lnTo>
                <a:lnTo>
                  <a:pt x="3105" y="1746"/>
                </a:lnTo>
                <a:lnTo>
                  <a:pt x="3078" y="1905"/>
                </a:lnTo>
                <a:lnTo>
                  <a:pt x="3078" y="2037"/>
                </a:lnTo>
                <a:lnTo>
                  <a:pt x="3065" y="2222"/>
                </a:lnTo>
                <a:lnTo>
                  <a:pt x="3043" y="2332"/>
                </a:lnTo>
                <a:lnTo>
                  <a:pt x="3176" y="2456"/>
                </a:lnTo>
                <a:lnTo>
                  <a:pt x="3237" y="2597"/>
                </a:lnTo>
                <a:lnTo>
                  <a:pt x="3308" y="2729"/>
                </a:lnTo>
                <a:lnTo>
                  <a:pt x="3334" y="2861"/>
                </a:lnTo>
                <a:lnTo>
                  <a:pt x="3533" y="3016"/>
                </a:lnTo>
                <a:lnTo>
                  <a:pt x="3533" y="3157"/>
                </a:lnTo>
                <a:lnTo>
                  <a:pt x="3625" y="3386"/>
                </a:lnTo>
                <a:lnTo>
                  <a:pt x="3669" y="3527"/>
                </a:lnTo>
                <a:lnTo>
                  <a:pt x="3811" y="3757"/>
                </a:lnTo>
                <a:lnTo>
                  <a:pt x="3903" y="3898"/>
                </a:lnTo>
                <a:lnTo>
                  <a:pt x="3996" y="4083"/>
                </a:lnTo>
                <a:lnTo>
                  <a:pt x="4040" y="4224"/>
                </a:lnTo>
                <a:lnTo>
                  <a:pt x="4132" y="4409"/>
                </a:lnTo>
                <a:lnTo>
                  <a:pt x="4181" y="4594"/>
                </a:lnTo>
                <a:lnTo>
                  <a:pt x="4274" y="4780"/>
                </a:lnTo>
                <a:lnTo>
                  <a:pt x="4322" y="4965"/>
                </a:lnTo>
                <a:lnTo>
                  <a:pt x="4366" y="5106"/>
                </a:lnTo>
                <a:lnTo>
                  <a:pt x="4415" y="5291"/>
                </a:lnTo>
                <a:lnTo>
                  <a:pt x="4507" y="5569"/>
                </a:lnTo>
                <a:lnTo>
                  <a:pt x="4551" y="5803"/>
                </a:lnTo>
                <a:lnTo>
                  <a:pt x="4551" y="5988"/>
                </a:lnTo>
                <a:lnTo>
                  <a:pt x="4644" y="6173"/>
                </a:lnTo>
                <a:lnTo>
                  <a:pt x="4644" y="6402"/>
                </a:lnTo>
                <a:lnTo>
                  <a:pt x="4644" y="6544"/>
                </a:lnTo>
                <a:lnTo>
                  <a:pt x="4644" y="6729"/>
                </a:lnTo>
                <a:lnTo>
                  <a:pt x="4644" y="6914"/>
                </a:lnTo>
                <a:lnTo>
                  <a:pt x="4644" y="7055"/>
                </a:lnTo>
                <a:lnTo>
                  <a:pt x="4644" y="7378"/>
                </a:lnTo>
                <a:lnTo>
                  <a:pt x="4644" y="7519"/>
                </a:lnTo>
                <a:lnTo>
                  <a:pt x="4551" y="7660"/>
                </a:lnTo>
                <a:lnTo>
                  <a:pt x="4459" y="7889"/>
                </a:lnTo>
                <a:lnTo>
                  <a:pt x="4600" y="8308"/>
                </a:lnTo>
                <a:lnTo>
                  <a:pt x="4878" y="8586"/>
                </a:lnTo>
                <a:lnTo>
                  <a:pt x="4878" y="8820"/>
                </a:lnTo>
                <a:lnTo>
                  <a:pt x="4878" y="8913"/>
                </a:lnTo>
                <a:lnTo>
                  <a:pt x="4878" y="8913"/>
                </a:lnTo>
                <a:lnTo>
                  <a:pt x="4644" y="9098"/>
                </a:lnTo>
                <a:lnTo>
                  <a:pt x="4644" y="9283"/>
                </a:lnTo>
                <a:lnTo>
                  <a:pt x="4551" y="9468"/>
                </a:lnTo>
                <a:lnTo>
                  <a:pt x="4459" y="9653"/>
                </a:lnTo>
                <a:lnTo>
                  <a:pt x="4322" y="9746"/>
                </a:lnTo>
                <a:lnTo>
                  <a:pt x="4088" y="9931"/>
                </a:lnTo>
                <a:lnTo>
                  <a:pt x="3996" y="10165"/>
                </a:lnTo>
                <a:lnTo>
                  <a:pt x="3947" y="10306"/>
                </a:lnTo>
                <a:lnTo>
                  <a:pt x="3855" y="10862"/>
                </a:lnTo>
                <a:lnTo>
                  <a:pt x="3762" y="11139"/>
                </a:lnTo>
                <a:lnTo>
                  <a:pt x="3718" y="11281"/>
                </a:lnTo>
                <a:lnTo>
                  <a:pt x="3577" y="11744"/>
                </a:lnTo>
                <a:lnTo>
                  <a:pt x="3440" y="11977"/>
                </a:lnTo>
                <a:lnTo>
                  <a:pt x="3250" y="12163"/>
                </a:lnTo>
                <a:lnTo>
                  <a:pt x="2973" y="12440"/>
                </a:lnTo>
                <a:lnTo>
                  <a:pt x="2836" y="12670"/>
                </a:lnTo>
                <a:lnTo>
                  <a:pt x="2695" y="12762"/>
                </a:lnTo>
                <a:lnTo>
                  <a:pt x="2416" y="12952"/>
                </a:lnTo>
                <a:lnTo>
                  <a:pt x="2275" y="13044"/>
                </a:lnTo>
                <a:lnTo>
                  <a:pt x="2046" y="13137"/>
                </a:lnTo>
                <a:lnTo>
                  <a:pt x="1860" y="13322"/>
                </a:lnTo>
                <a:lnTo>
                  <a:pt x="1719" y="13366"/>
                </a:lnTo>
                <a:lnTo>
                  <a:pt x="1583" y="13507"/>
                </a:lnTo>
                <a:lnTo>
                  <a:pt x="1441" y="13552"/>
                </a:lnTo>
                <a:lnTo>
                  <a:pt x="1300" y="13644"/>
                </a:lnTo>
                <a:lnTo>
                  <a:pt x="1164" y="13785"/>
                </a:lnTo>
                <a:lnTo>
                  <a:pt x="978" y="14019"/>
                </a:lnTo>
                <a:lnTo>
                  <a:pt x="837" y="14112"/>
                </a:lnTo>
                <a:lnTo>
                  <a:pt x="652" y="14204"/>
                </a:lnTo>
                <a:lnTo>
                  <a:pt x="511" y="14297"/>
                </a:lnTo>
                <a:lnTo>
                  <a:pt x="282" y="14434"/>
                </a:lnTo>
                <a:lnTo>
                  <a:pt x="0" y="1461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57720" y="2690640"/>
            <a:ext cx="1452960" cy="3924720"/>
          </a:xfrm>
          <a:custGeom>
            <a:avLst/>
            <a:gdLst/>
            <a:ahLst/>
            <a:rect l="0" t="0" r="r" b="b"/>
            <a:pathLst>
              <a:path fill="none" w="4036" h="10902">
                <a:moveTo>
                  <a:pt x="2302" y="0"/>
                </a:moveTo>
                <a:lnTo>
                  <a:pt x="2369" y="92"/>
                </a:lnTo>
                <a:lnTo>
                  <a:pt x="2461" y="251"/>
                </a:lnTo>
                <a:lnTo>
                  <a:pt x="2501" y="463"/>
                </a:lnTo>
                <a:lnTo>
                  <a:pt x="2607" y="555"/>
                </a:lnTo>
                <a:lnTo>
                  <a:pt x="2726" y="784"/>
                </a:lnTo>
                <a:lnTo>
                  <a:pt x="2862" y="970"/>
                </a:lnTo>
                <a:lnTo>
                  <a:pt x="2955" y="1155"/>
                </a:lnTo>
                <a:lnTo>
                  <a:pt x="3049" y="1296"/>
                </a:lnTo>
                <a:lnTo>
                  <a:pt x="3141" y="1481"/>
                </a:lnTo>
                <a:lnTo>
                  <a:pt x="3282" y="1618"/>
                </a:lnTo>
                <a:lnTo>
                  <a:pt x="3326" y="1759"/>
                </a:lnTo>
                <a:lnTo>
                  <a:pt x="3468" y="1944"/>
                </a:lnTo>
                <a:lnTo>
                  <a:pt x="3516" y="2085"/>
                </a:lnTo>
                <a:lnTo>
                  <a:pt x="3609" y="2271"/>
                </a:lnTo>
                <a:lnTo>
                  <a:pt x="3701" y="2500"/>
                </a:lnTo>
                <a:lnTo>
                  <a:pt x="3745" y="2641"/>
                </a:lnTo>
                <a:lnTo>
                  <a:pt x="3838" y="2827"/>
                </a:lnTo>
                <a:lnTo>
                  <a:pt x="3838" y="2968"/>
                </a:lnTo>
                <a:lnTo>
                  <a:pt x="3886" y="3153"/>
                </a:lnTo>
                <a:lnTo>
                  <a:pt x="3886" y="3339"/>
                </a:lnTo>
                <a:lnTo>
                  <a:pt x="3886" y="3661"/>
                </a:lnTo>
                <a:lnTo>
                  <a:pt x="3886" y="3802"/>
                </a:lnTo>
                <a:lnTo>
                  <a:pt x="3886" y="3943"/>
                </a:lnTo>
                <a:lnTo>
                  <a:pt x="3886" y="4128"/>
                </a:lnTo>
                <a:lnTo>
                  <a:pt x="3931" y="4313"/>
                </a:lnTo>
                <a:lnTo>
                  <a:pt x="3891" y="4578"/>
                </a:lnTo>
                <a:lnTo>
                  <a:pt x="3904" y="4684"/>
                </a:lnTo>
                <a:lnTo>
                  <a:pt x="3917" y="4750"/>
                </a:lnTo>
                <a:lnTo>
                  <a:pt x="3944" y="4829"/>
                </a:lnTo>
                <a:lnTo>
                  <a:pt x="3970" y="4922"/>
                </a:lnTo>
                <a:lnTo>
                  <a:pt x="4010" y="5067"/>
                </a:lnTo>
                <a:lnTo>
                  <a:pt x="4023" y="5160"/>
                </a:lnTo>
                <a:lnTo>
                  <a:pt x="4036" y="5345"/>
                </a:lnTo>
                <a:lnTo>
                  <a:pt x="3983" y="5477"/>
                </a:lnTo>
                <a:lnTo>
                  <a:pt x="3891" y="5636"/>
                </a:lnTo>
                <a:lnTo>
                  <a:pt x="3772" y="5874"/>
                </a:lnTo>
                <a:lnTo>
                  <a:pt x="3679" y="6020"/>
                </a:lnTo>
                <a:lnTo>
                  <a:pt x="3600" y="6126"/>
                </a:lnTo>
                <a:lnTo>
                  <a:pt x="3454" y="6192"/>
                </a:lnTo>
                <a:lnTo>
                  <a:pt x="3335" y="6311"/>
                </a:lnTo>
                <a:lnTo>
                  <a:pt x="3243" y="6377"/>
                </a:lnTo>
                <a:lnTo>
                  <a:pt x="3150" y="6470"/>
                </a:lnTo>
                <a:lnTo>
                  <a:pt x="3044" y="6602"/>
                </a:lnTo>
                <a:lnTo>
                  <a:pt x="3004" y="6747"/>
                </a:lnTo>
                <a:lnTo>
                  <a:pt x="2977" y="6906"/>
                </a:lnTo>
                <a:lnTo>
                  <a:pt x="2911" y="7065"/>
                </a:lnTo>
                <a:lnTo>
                  <a:pt x="2832" y="7237"/>
                </a:lnTo>
                <a:lnTo>
                  <a:pt x="2752" y="7501"/>
                </a:lnTo>
                <a:lnTo>
                  <a:pt x="2699" y="7687"/>
                </a:lnTo>
                <a:lnTo>
                  <a:pt x="2567" y="7938"/>
                </a:lnTo>
                <a:lnTo>
                  <a:pt x="2435" y="8204"/>
                </a:lnTo>
                <a:lnTo>
                  <a:pt x="2316" y="8428"/>
                </a:lnTo>
                <a:lnTo>
                  <a:pt x="2249" y="8653"/>
                </a:lnTo>
                <a:lnTo>
                  <a:pt x="2197" y="8812"/>
                </a:lnTo>
                <a:lnTo>
                  <a:pt x="2025" y="8997"/>
                </a:lnTo>
                <a:lnTo>
                  <a:pt x="1866" y="9209"/>
                </a:lnTo>
                <a:lnTo>
                  <a:pt x="1522" y="9407"/>
                </a:lnTo>
                <a:lnTo>
                  <a:pt x="1390" y="9593"/>
                </a:lnTo>
                <a:lnTo>
                  <a:pt x="1178" y="9751"/>
                </a:lnTo>
                <a:lnTo>
                  <a:pt x="978" y="9910"/>
                </a:lnTo>
                <a:lnTo>
                  <a:pt x="740" y="10122"/>
                </a:lnTo>
                <a:lnTo>
                  <a:pt x="502" y="10228"/>
                </a:lnTo>
                <a:lnTo>
                  <a:pt x="370" y="10360"/>
                </a:lnTo>
                <a:lnTo>
                  <a:pt x="145" y="10625"/>
                </a:lnTo>
                <a:lnTo>
                  <a:pt x="0" y="109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03840" y="235080"/>
            <a:ext cx="3097440" cy="4447080"/>
          </a:xfrm>
          <a:custGeom>
            <a:avLst/>
            <a:gdLst/>
            <a:ahLst/>
            <a:rect l="0" t="0" r="r" b="b"/>
            <a:pathLst>
              <a:path fill="none" w="8604" h="12353">
                <a:moveTo>
                  <a:pt x="304" y="0"/>
                </a:moveTo>
                <a:lnTo>
                  <a:pt x="277" y="101"/>
                </a:lnTo>
                <a:lnTo>
                  <a:pt x="277" y="286"/>
                </a:lnTo>
                <a:lnTo>
                  <a:pt x="277" y="471"/>
                </a:lnTo>
                <a:lnTo>
                  <a:pt x="277" y="657"/>
                </a:lnTo>
                <a:lnTo>
                  <a:pt x="326" y="842"/>
                </a:lnTo>
                <a:lnTo>
                  <a:pt x="370" y="983"/>
                </a:lnTo>
                <a:lnTo>
                  <a:pt x="370" y="1168"/>
                </a:lnTo>
                <a:lnTo>
                  <a:pt x="370" y="1353"/>
                </a:lnTo>
                <a:lnTo>
                  <a:pt x="277" y="1538"/>
                </a:lnTo>
                <a:lnTo>
                  <a:pt x="233" y="1724"/>
                </a:lnTo>
                <a:lnTo>
                  <a:pt x="141" y="1865"/>
                </a:lnTo>
                <a:lnTo>
                  <a:pt x="92" y="2050"/>
                </a:lnTo>
                <a:lnTo>
                  <a:pt x="92" y="2235"/>
                </a:lnTo>
                <a:lnTo>
                  <a:pt x="92" y="2420"/>
                </a:lnTo>
                <a:lnTo>
                  <a:pt x="44" y="2606"/>
                </a:lnTo>
                <a:lnTo>
                  <a:pt x="0" y="2747"/>
                </a:lnTo>
                <a:lnTo>
                  <a:pt x="0" y="2932"/>
                </a:lnTo>
                <a:lnTo>
                  <a:pt x="0" y="3118"/>
                </a:lnTo>
                <a:lnTo>
                  <a:pt x="92" y="3303"/>
                </a:lnTo>
                <a:lnTo>
                  <a:pt x="141" y="3489"/>
                </a:lnTo>
                <a:lnTo>
                  <a:pt x="185" y="3630"/>
                </a:lnTo>
                <a:lnTo>
                  <a:pt x="233" y="3815"/>
                </a:lnTo>
                <a:lnTo>
                  <a:pt x="233" y="4000"/>
                </a:lnTo>
                <a:lnTo>
                  <a:pt x="233" y="4185"/>
                </a:lnTo>
                <a:lnTo>
                  <a:pt x="277" y="4371"/>
                </a:lnTo>
                <a:lnTo>
                  <a:pt x="326" y="4512"/>
                </a:lnTo>
                <a:lnTo>
                  <a:pt x="326" y="4697"/>
                </a:lnTo>
                <a:lnTo>
                  <a:pt x="370" y="4975"/>
                </a:lnTo>
                <a:lnTo>
                  <a:pt x="463" y="5160"/>
                </a:lnTo>
                <a:lnTo>
                  <a:pt x="511" y="5345"/>
                </a:lnTo>
                <a:lnTo>
                  <a:pt x="511" y="5486"/>
                </a:lnTo>
                <a:lnTo>
                  <a:pt x="511" y="5716"/>
                </a:lnTo>
                <a:lnTo>
                  <a:pt x="511" y="5857"/>
                </a:lnTo>
                <a:lnTo>
                  <a:pt x="555" y="6042"/>
                </a:lnTo>
                <a:lnTo>
                  <a:pt x="604" y="6227"/>
                </a:lnTo>
                <a:lnTo>
                  <a:pt x="648" y="6368"/>
                </a:lnTo>
                <a:lnTo>
                  <a:pt x="648" y="6553"/>
                </a:lnTo>
                <a:lnTo>
                  <a:pt x="798" y="6862"/>
                </a:lnTo>
                <a:lnTo>
                  <a:pt x="926" y="6924"/>
                </a:lnTo>
                <a:lnTo>
                  <a:pt x="1023" y="7109"/>
                </a:lnTo>
                <a:lnTo>
                  <a:pt x="1115" y="7250"/>
                </a:lnTo>
                <a:lnTo>
                  <a:pt x="1300" y="7387"/>
                </a:lnTo>
                <a:lnTo>
                  <a:pt x="1393" y="7528"/>
                </a:lnTo>
                <a:lnTo>
                  <a:pt x="1530" y="7713"/>
                </a:lnTo>
                <a:lnTo>
                  <a:pt x="1671" y="7850"/>
                </a:lnTo>
                <a:lnTo>
                  <a:pt x="1715" y="7991"/>
                </a:lnTo>
                <a:lnTo>
                  <a:pt x="1807" y="8132"/>
                </a:lnTo>
                <a:lnTo>
                  <a:pt x="1905" y="8317"/>
                </a:lnTo>
                <a:lnTo>
                  <a:pt x="2041" y="8502"/>
                </a:lnTo>
                <a:lnTo>
                  <a:pt x="2134" y="8688"/>
                </a:lnTo>
                <a:lnTo>
                  <a:pt x="2275" y="8873"/>
                </a:lnTo>
                <a:lnTo>
                  <a:pt x="2319" y="9014"/>
                </a:lnTo>
                <a:lnTo>
                  <a:pt x="2460" y="9151"/>
                </a:lnTo>
                <a:lnTo>
                  <a:pt x="2504" y="9293"/>
                </a:lnTo>
                <a:lnTo>
                  <a:pt x="2553" y="9478"/>
                </a:lnTo>
                <a:lnTo>
                  <a:pt x="2597" y="9663"/>
                </a:lnTo>
                <a:lnTo>
                  <a:pt x="2645" y="9804"/>
                </a:lnTo>
                <a:lnTo>
                  <a:pt x="2689" y="10034"/>
                </a:lnTo>
                <a:lnTo>
                  <a:pt x="2738" y="10175"/>
                </a:lnTo>
                <a:lnTo>
                  <a:pt x="2831" y="10360"/>
                </a:lnTo>
                <a:lnTo>
                  <a:pt x="2879" y="10589"/>
                </a:lnTo>
                <a:lnTo>
                  <a:pt x="2923" y="10730"/>
                </a:lnTo>
                <a:lnTo>
                  <a:pt x="2923" y="10871"/>
                </a:lnTo>
                <a:lnTo>
                  <a:pt x="2972" y="11057"/>
                </a:lnTo>
                <a:lnTo>
                  <a:pt x="3064" y="11242"/>
                </a:lnTo>
                <a:lnTo>
                  <a:pt x="3157" y="11427"/>
                </a:lnTo>
                <a:lnTo>
                  <a:pt x="3249" y="11568"/>
                </a:lnTo>
                <a:lnTo>
                  <a:pt x="3386" y="11753"/>
                </a:lnTo>
                <a:lnTo>
                  <a:pt x="3527" y="11939"/>
                </a:lnTo>
                <a:lnTo>
                  <a:pt x="3668" y="11983"/>
                </a:lnTo>
                <a:lnTo>
                  <a:pt x="3854" y="12031"/>
                </a:lnTo>
                <a:lnTo>
                  <a:pt x="4039" y="12168"/>
                </a:lnTo>
                <a:lnTo>
                  <a:pt x="4131" y="12309"/>
                </a:lnTo>
                <a:lnTo>
                  <a:pt x="4318" y="12353"/>
                </a:lnTo>
                <a:lnTo>
                  <a:pt x="4503" y="12353"/>
                </a:lnTo>
                <a:lnTo>
                  <a:pt x="4644" y="12309"/>
                </a:lnTo>
                <a:lnTo>
                  <a:pt x="4829" y="12261"/>
                </a:lnTo>
                <a:lnTo>
                  <a:pt x="5014" y="12216"/>
                </a:lnTo>
                <a:lnTo>
                  <a:pt x="5200" y="12075"/>
                </a:lnTo>
                <a:lnTo>
                  <a:pt x="5336" y="11890"/>
                </a:lnTo>
                <a:lnTo>
                  <a:pt x="5477" y="11753"/>
                </a:lnTo>
                <a:lnTo>
                  <a:pt x="5618" y="11612"/>
                </a:lnTo>
                <a:lnTo>
                  <a:pt x="5755" y="11471"/>
                </a:lnTo>
                <a:lnTo>
                  <a:pt x="5896" y="11379"/>
                </a:lnTo>
                <a:lnTo>
                  <a:pt x="6126" y="11237"/>
                </a:lnTo>
                <a:lnTo>
                  <a:pt x="6249" y="11132"/>
                </a:lnTo>
                <a:lnTo>
                  <a:pt x="6373" y="11026"/>
                </a:lnTo>
                <a:lnTo>
                  <a:pt x="6549" y="10938"/>
                </a:lnTo>
                <a:lnTo>
                  <a:pt x="6743" y="10832"/>
                </a:lnTo>
                <a:lnTo>
                  <a:pt x="6915" y="10779"/>
                </a:lnTo>
                <a:lnTo>
                  <a:pt x="7056" y="10779"/>
                </a:lnTo>
                <a:lnTo>
                  <a:pt x="7197" y="10730"/>
                </a:lnTo>
                <a:lnTo>
                  <a:pt x="7426" y="10589"/>
                </a:lnTo>
                <a:lnTo>
                  <a:pt x="7568" y="10453"/>
                </a:lnTo>
                <a:lnTo>
                  <a:pt x="7704" y="10311"/>
                </a:lnTo>
                <a:lnTo>
                  <a:pt x="7845" y="10126"/>
                </a:lnTo>
                <a:lnTo>
                  <a:pt x="7982" y="9941"/>
                </a:lnTo>
                <a:lnTo>
                  <a:pt x="8123" y="9804"/>
                </a:lnTo>
                <a:lnTo>
                  <a:pt x="8264" y="9707"/>
                </a:lnTo>
                <a:lnTo>
                  <a:pt x="8450" y="9615"/>
                </a:lnTo>
                <a:lnTo>
                  <a:pt x="8604" y="958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543640" y="249120"/>
            <a:ext cx="1456200" cy="1489320"/>
          </a:xfrm>
          <a:custGeom>
            <a:avLst/>
            <a:gdLst/>
            <a:ahLst/>
            <a:rect l="0" t="0" r="r" b="b"/>
            <a:pathLst>
              <a:path fill="none" w="4045" h="4137">
                <a:moveTo>
                  <a:pt x="0" y="0"/>
                </a:moveTo>
                <a:lnTo>
                  <a:pt x="96" y="97"/>
                </a:lnTo>
                <a:lnTo>
                  <a:pt x="193" y="275"/>
                </a:lnTo>
                <a:lnTo>
                  <a:pt x="290" y="453"/>
                </a:lnTo>
                <a:lnTo>
                  <a:pt x="290" y="630"/>
                </a:lnTo>
                <a:lnTo>
                  <a:pt x="336" y="808"/>
                </a:lnTo>
                <a:lnTo>
                  <a:pt x="433" y="944"/>
                </a:lnTo>
                <a:lnTo>
                  <a:pt x="581" y="1033"/>
                </a:lnTo>
                <a:lnTo>
                  <a:pt x="775" y="1121"/>
                </a:lnTo>
                <a:lnTo>
                  <a:pt x="923" y="1253"/>
                </a:lnTo>
                <a:lnTo>
                  <a:pt x="1021" y="1388"/>
                </a:lnTo>
                <a:lnTo>
                  <a:pt x="1215" y="1519"/>
                </a:lnTo>
                <a:lnTo>
                  <a:pt x="1408" y="1566"/>
                </a:lnTo>
                <a:lnTo>
                  <a:pt x="1602" y="1697"/>
                </a:lnTo>
                <a:lnTo>
                  <a:pt x="1750" y="1790"/>
                </a:lnTo>
                <a:lnTo>
                  <a:pt x="1944" y="1922"/>
                </a:lnTo>
                <a:lnTo>
                  <a:pt x="2184" y="2100"/>
                </a:lnTo>
                <a:lnTo>
                  <a:pt x="2332" y="2189"/>
                </a:lnTo>
                <a:lnTo>
                  <a:pt x="2429" y="2325"/>
                </a:lnTo>
                <a:lnTo>
                  <a:pt x="2622" y="2503"/>
                </a:lnTo>
                <a:lnTo>
                  <a:pt x="2636" y="2858"/>
                </a:lnTo>
                <a:lnTo>
                  <a:pt x="2978" y="3201"/>
                </a:lnTo>
                <a:lnTo>
                  <a:pt x="3404" y="3328"/>
                </a:lnTo>
                <a:lnTo>
                  <a:pt x="3745" y="3540"/>
                </a:lnTo>
                <a:lnTo>
                  <a:pt x="4045" y="41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51440" y="237960"/>
            <a:ext cx="2953080" cy="3358080"/>
          </a:xfrm>
          <a:custGeom>
            <a:avLst/>
            <a:gdLst/>
            <a:ahLst/>
            <a:rect l="0" t="0" r="r" b="b"/>
            <a:pathLst>
              <a:path fill="none" w="8203" h="9328">
                <a:moveTo>
                  <a:pt x="0" y="0"/>
                </a:moveTo>
                <a:lnTo>
                  <a:pt x="44" y="487"/>
                </a:lnTo>
                <a:lnTo>
                  <a:pt x="123" y="619"/>
                </a:lnTo>
                <a:lnTo>
                  <a:pt x="194" y="792"/>
                </a:lnTo>
                <a:lnTo>
                  <a:pt x="286" y="984"/>
                </a:lnTo>
                <a:lnTo>
                  <a:pt x="379" y="1175"/>
                </a:lnTo>
                <a:lnTo>
                  <a:pt x="471" y="1366"/>
                </a:lnTo>
                <a:lnTo>
                  <a:pt x="471" y="1558"/>
                </a:lnTo>
                <a:lnTo>
                  <a:pt x="515" y="1704"/>
                </a:lnTo>
                <a:lnTo>
                  <a:pt x="612" y="1895"/>
                </a:lnTo>
                <a:lnTo>
                  <a:pt x="749" y="2086"/>
                </a:lnTo>
                <a:lnTo>
                  <a:pt x="842" y="2278"/>
                </a:lnTo>
                <a:lnTo>
                  <a:pt x="1027" y="2470"/>
                </a:lnTo>
                <a:lnTo>
                  <a:pt x="1075" y="2616"/>
                </a:lnTo>
                <a:lnTo>
                  <a:pt x="1212" y="2807"/>
                </a:lnTo>
                <a:lnTo>
                  <a:pt x="1305" y="2998"/>
                </a:lnTo>
                <a:lnTo>
                  <a:pt x="1397" y="3190"/>
                </a:lnTo>
                <a:lnTo>
                  <a:pt x="1446" y="3381"/>
                </a:lnTo>
                <a:lnTo>
                  <a:pt x="1587" y="3477"/>
                </a:lnTo>
                <a:lnTo>
                  <a:pt x="1772" y="3623"/>
                </a:lnTo>
                <a:lnTo>
                  <a:pt x="1957" y="3764"/>
                </a:lnTo>
                <a:lnTo>
                  <a:pt x="2094" y="3910"/>
                </a:lnTo>
                <a:lnTo>
                  <a:pt x="2235" y="4101"/>
                </a:lnTo>
                <a:lnTo>
                  <a:pt x="2420" y="4292"/>
                </a:lnTo>
                <a:lnTo>
                  <a:pt x="2562" y="4484"/>
                </a:lnTo>
                <a:lnTo>
                  <a:pt x="2698" y="4725"/>
                </a:lnTo>
                <a:lnTo>
                  <a:pt x="2883" y="4962"/>
                </a:lnTo>
                <a:lnTo>
                  <a:pt x="2932" y="5108"/>
                </a:lnTo>
                <a:lnTo>
                  <a:pt x="3069" y="5299"/>
                </a:lnTo>
                <a:lnTo>
                  <a:pt x="3161" y="5445"/>
                </a:lnTo>
                <a:lnTo>
                  <a:pt x="3258" y="5682"/>
                </a:lnTo>
                <a:lnTo>
                  <a:pt x="3443" y="5873"/>
                </a:lnTo>
                <a:lnTo>
                  <a:pt x="3721" y="5924"/>
                </a:lnTo>
                <a:lnTo>
                  <a:pt x="3907" y="6019"/>
                </a:lnTo>
                <a:lnTo>
                  <a:pt x="4092" y="6165"/>
                </a:lnTo>
                <a:lnTo>
                  <a:pt x="4234" y="6261"/>
                </a:lnTo>
                <a:lnTo>
                  <a:pt x="4419" y="6402"/>
                </a:lnTo>
                <a:lnTo>
                  <a:pt x="4556" y="6548"/>
                </a:lnTo>
                <a:lnTo>
                  <a:pt x="4697" y="6739"/>
                </a:lnTo>
                <a:lnTo>
                  <a:pt x="4882" y="7027"/>
                </a:lnTo>
                <a:lnTo>
                  <a:pt x="4975" y="7173"/>
                </a:lnTo>
                <a:lnTo>
                  <a:pt x="5116" y="7364"/>
                </a:lnTo>
                <a:lnTo>
                  <a:pt x="5252" y="7556"/>
                </a:lnTo>
                <a:lnTo>
                  <a:pt x="5394" y="7747"/>
                </a:lnTo>
                <a:lnTo>
                  <a:pt x="5579" y="7989"/>
                </a:lnTo>
                <a:lnTo>
                  <a:pt x="5764" y="8084"/>
                </a:lnTo>
                <a:lnTo>
                  <a:pt x="5905" y="8225"/>
                </a:lnTo>
                <a:lnTo>
                  <a:pt x="6134" y="8417"/>
                </a:lnTo>
                <a:lnTo>
                  <a:pt x="6276" y="8563"/>
                </a:lnTo>
                <a:lnTo>
                  <a:pt x="6412" y="8754"/>
                </a:lnTo>
                <a:lnTo>
                  <a:pt x="6505" y="8900"/>
                </a:lnTo>
                <a:lnTo>
                  <a:pt x="6646" y="9091"/>
                </a:lnTo>
                <a:lnTo>
                  <a:pt x="6787" y="9187"/>
                </a:lnTo>
                <a:lnTo>
                  <a:pt x="6972" y="9283"/>
                </a:lnTo>
                <a:lnTo>
                  <a:pt x="7157" y="9283"/>
                </a:lnTo>
                <a:lnTo>
                  <a:pt x="7343" y="9328"/>
                </a:lnTo>
                <a:lnTo>
                  <a:pt x="7603" y="9287"/>
                </a:lnTo>
                <a:lnTo>
                  <a:pt x="7744" y="9305"/>
                </a:lnTo>
                <a:lnTo>
                  <a:pt x="7867" y="9251"/>
                </a:lnTo>
                <a:lnTo>
                  <a:pt x="8026" y="9214"/>
                </a:lnTo>
                <a:lnTo>
                  <a:pt x="8203" y="9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87720" y="725400"/>
            <a:ext cx="3016440" cy="3321360"/>
          </a:xfrm>
          <a:custGeom>
            <a:avLst/>
            <a:gdLst/>
            <a:ahLst/>
            <a:rect l="0" t="0" r="r" b="b"/>
            <a:pathLst>
              <a:path fill="none" w="8379" h="9226">
                <a:moveTo>
                  <a:pt x="127" y="0"/>
                </a:moveTo>
                <a:lnTo>
                  <a:pt x="0" y="670"/>
                </a:lnTo>
                <a:lnTo>
                  <a:pt x="22" y="948"/>
                </a:lnTo>
                <a:lnTo>
                  <a:pt x="88" y="1428"/>
                </a:lnTo>
                <a:lnTo>
                  <a:pt x="352" y="2191"/>
                </a:lnTo>
                <a:lnTo>
                  <a:pt x="643" y="2773"/>
                </a:lnTo>
                <a:lnTo>
                  <a:pt x="789" y="3007"/>
                </a:lnTo>
                <a:lnTo>
                  <a:pt x="833" y="3148"/>
                </a:lnTo>
                <a:lnTo>
                  <a:pt x="926" y="3333"/>
                </a:lnTo>
                <a:lnTo>
                  <a:pt x="1018" y="3518"/>
                </a:lnTo>
                <a:lnTo>
                  <a:pt x="1111" y="3704"/>
                </a:lnTo>
                <a:lnTo>
                  <a:pt x="1111" y="3889"/>
                </a:lnTo>
                <a:lnTo>
                  <a:pt x="1111" y="4030"/>
                </a:lnTo>
                <a:lnTo>
                  <a:pt x="1159" y="4215"/>
                </a:lnTo>
                <a:lnTo>
                  <a:pt x="1203" y="4400"/>
                </a:lnTo>
                <a:lnTo>
                  <a:pt x="1203" y="4586"/>
                </a:lnTo>
                <a:lnTo>
                  <a:pt x="1296" y="4772"/>
                </a:lnTo>
                <a:lnTo>
                  <a:pt x="1344" y="5050"/>
                </a:lnTo>
                <a:lnTo>
                  <a:pt x="1389" y="5191"/>
                </a:lnTo>
                <a:lnTo>
                  <a:pt x="1389" y="5420"/>
                </a:lnTo>
                <a:lnTo>
                  <a:pt x="1574" y="5561"/>
                </a:lnTo>
                <a:lnTo>
                  <a:pt x="1715" y="5654"/>
                </a:lnTo>
                <a:lnTo>
                  <a:pt x="1856" y="5746"/>
                </a:lnTo>
                <a:lnTo>
                  <a:pt x="1949" y="5887"/>
                </a:lnTo>
                <a:lnTo>
                  <a:pt x="2178" y="6117"/>
                </a:lnTo>
                <a:lnTo>
                  <a:pt x="2319" y="6258"/>
                </a:lnTo>
                <a:lnTo>
                  <a:pt x="2504" y="6536"/>
                </a:lnTo>
                <a:lnTo>
                  <a:pt x="2645" y="6721"/>
                </a:lnTo>
                <a:lnTo>
                  <a:pt x="2738" y="6862"/>
                </a:lnTo>
                <a:lnTo>
                  <a:pt x="2875" y="7091"/>
                </a:lnTo>
                <a:lnTo>
                  <a:pt x="2923" y="7232"/>
                </a:lnTo>
                <a:lnTo>
                  <a:pt x="3060" y="7418"/>
                </a:lnTo>
                <a:lnTo>
                  <a:pt x="3108" y="7559"/>
                </a:lnTo>
                <a:lnTo>
                  <a:pt x="3201" y="7744"/>
                </a:lnTo>
                <a:lnTo>
                  <a:pt x="3245" y="7929"/>
                </a:lnTo>
                <a:lnTo>
                  <a:pt x="3338" y="8114"/>
                </a:lnTo>
                <a:lnTo>
                  <a:pt x="3386" y="8300"/>
                </a:lnTo>
                <a:lnTo>
                  <a:pt x="3435" y="8441"/>
                </a:lnTo>
                <a:lnTo>
                  <a:pt x="3571" y="8670"/>
                </a:lnTo>
                <a:lnTo>
                  <a:pt x="3664" y="8811"/>
                </a:lnTo>
                <a:lnTo>
                  <a:pt x="3805" y="8948"/>
                </a:lnTo>
                <a:lnTo>
                  <a:pt x="3990" y="9133"/>
                </a:lnTo>
                <a:lnTo>
                  <a:pt x="4176" y="9226"/>
                </a:lnTo>
                <a:lnTo>
                  <a:pt x="4362" y="9226"/>
                </a:lnTo>
                <a:lnTo>
                  <a:pt x="4503" y="9226"/>
                </a:lnTo>
                <a:lnTo>
                  <a:pt x="4732" y="9182"/>
                </a:lnTo>
                <a:lnTo>
                  <a:pt x="4873" y="9133"/>
                </a:lnTo>
                <a:lnTo>
                  <a:pt x="5058" y="9040"/>
                </a:lnTo>
                <a:lnTo>
                  <a:pt x="5200" y="8996"/>
                </a:lnTo>
                <a:lnTo>
                  <a:pt x="5385" y="8948"/>
                </a:lnTo>
                <a:lnTo>
                  <a:pt x="5570" y="8904"/>
                </a:lnTo>
                <a:lnTo>
                  <a:pt x="5799" y="8855"/>
                </a:lnTo>
                <a:lnTo>
                  <a:pt x="5940" y="8811"/>
                </a:lnTo>
                <a:lnTo>
                  <a:pt x="6082" y="8763"/>
                </a:lnTo>
                <a:lnTo>
                  <a:pt x="6267" y="8670"/>
                </a:lnTo>
                <a:lnTo>
                  <a:pt x="6496" y="8670"/>
                </a:lnTo>
                <a:lnTo>
                  <a:pt x="6637" y="8670"/>
                </a:lnTo>
                <a:lnTo>
                  <a:pt x="6822" y="8626"/>
                </a:lnTo>
                <a:lnTo>
                  <a:pt x="6963" y="8577"/>
                </a:lnTo>
                <a:lnTo>
                  <a:pt x="7149" y="8533"/>
                </a:lnTo>
                <a:lnTo>
                  <a:pt x="7334" y="8441"/>
                </a:lnTo>
                <a:lnTo>
                  <a:pt x="7444" y="8357"/>
                </a:lnTo>
                <a:lnTo>
                  <a:pt x="7656" y="8216"/>
                </a:lnTo>
                <a:lnTo>
                  <a:pt x="7815" y="8128"/>
                </a:lnTo>
                <a:lnTo>
                  <a:pt x="8079" y="8022"/>
                </a:lnTo>
                <a:lnTo>
                  <a:pt x="8379" y="798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09960" y="1366920"/>
            <a:ext cx="3091320" cy="3154680"/>
          </a:xfrm>
          <a:custGeom>
            <a:avLst/>
            <a:gdLst/>
            <a:ahLst/>
            <a:rect l="0" t="0" r="r" b="b"/>
            <a:pathLst>
              <a:path fill="none" w="8587" h="8763">
                <a:moveTo>
                  <a:pt x="0" y="0"/>
                </a:moveTo>
                <a:lnTo>
                  <a:pt x="198" y="224"/>
                </a:lnTo>
                <a:lnTo>
                  <a:pt x="330" y="449"/>
                </a:lnTo>
                <a:lnTo>
                  <a:pt x="423" y="727"/>
                </a:lnTo>
                <a:lnTo>
                  <a:pt x="476" y="1084"/>
                </a:lnTo>
                <a:lnTo>
                  <a:pt x="515" y="1415"/>
                </a:lnTo>
                <a:lnTo>
                  <a:pt x="648" y="1746"/>
                </a:lnTo>
                <a:lnTo>
                  <a:pt x="701" y="2037"/>
                </a:lnTo>
                <a:lnTo>
                  <a:pt x="912" y="2262"/>
                </a:lnTo>
                <a:lnTo>
                  <a:pt x="912" y="2447"/>
                </a:lnTo>
                <a:lnTo>
                  <a:pt x="912" y="2579"/>
                </a:lnTo>
                <a:lnTo>
                  <a:pt x="886" y="2764"/>
                </a:lnTo>
                <a:lnTo>
                  <a:pt x="939" y="2870"/>
                </a:lnTo>
                <a:lnTo>
                  <a:pt x="992" y="3055"/>
                </a:lnTo>
                <a:lnTo>
                  <a:pt x="1018" y="3161"/>
                </a:lnTo>
                <a:lnTo>
                  <a:pt x="1124" y="3452"/>
                </a:lnTo>
                <a:lnTo>
                  <a:pt x="1124" y="3558"/>
                </a:lnTo>
                <a:lnTo>
                  <a:pt x="1230" y="3664"/>
                </a:lnTo>
                <a:lnTo>
                  <a:pt x="1336" y="3770"/>
                </a:lnTo>
                <a:lnTo>
                  <a:pt x="1494" y="3876"/>
                </a:lnTo>
                <a:lnTo>
                  <a:pt x="1653" y="4087"/>
                </a:lnTo>
                <a:lnTo>
                  <a:pt x="1838" y="4378"/>
                </a:lnTo>
                <a:lnTo>
                  <a:pt x="1971" y="4485"/>
                </a:lnTo>
                <a:lnTo>
                  <a:pt x="2103" y="4697"/>
                </a:lnTo>
                <a:lnTo>
                  <a:pt x="2210" y="4882"/>
                </a:lnTo>
                <a:lnTo>
                  <a:pt x="2263" y="5120"/>
                </a:lnTo>
                <a:lnTo>
                  <a:pt x="2395" y="5385"/>
                </a:lnTo>
                <a:lnTo>
                  <a:pt x="2448" y="5491"/>
                </a:lnTo>
                <a:lnTo>
                  <a:pt x="2554" y="5623"/>
                </a:lnTo>
                <a:lnTo>
                  <a:pt x="2492" y="5746"/>
                </a:lnTo>
                <a:lnTo>
                  <a:pt x="2527" y="5799"/>
                </a:lnTo>
                <a:lnTo>
                  <a:pt x="2563" y="5870"/>
                </a:lnTo>
                <a:lnTo>
                  <a:pt x="2598" y="5923"/>
                </a:lnTo>
                <a:lnTo>
                  <a:pt x="2615" y="5976"/>
                </a:lnTo>
                <a:lnTo>
                  <a:pt x="2651" y="6046"/>
                </a:lnTo>
                <a:lnTo>
                  <a:pt x="2686" y="6099"/>
                </a:lnTo>
                <a:lnTo>
                  <a:pt x="2721" y="6170"/>
                </a:lnTo>
                <a:lnTo>
                  <a:pt x="2721" y="6223"/>
                </a:lnTo>
                <a:lnTo>
                  <a:pt x="2757" y="6276"/>
                </a:lnTo>
                <a:lnTo>
                  <a:pt x="2774" y="6346"/>
                </a:lnTo>
                <a:lnTo>
                  <a:pt x="2809" y="6399"/>
                </a:lnTo>
                <a:lnTo>
                  <a:pt x="2827" y="6452"/>
                </a:lnTo>
                <a:lnTo>
                  <a:pt x="2862" y="6522"/>
                </a:lnTo>
                <a:lnTo>
                  <a:pt x="2880" y="6575"/>
                </a:lnTo>
                <a:lnTo>
                  <a:pt x="2898" y="6628"/>
                </a:lnTo>
                <a:lnTo>
                  <a:pt x="2915" y="6681"/>
                </a:lnTo>
                <a:lnTo>
                  <a:pt x="2933" y="6734"/>
                </a:lnTo>
                <a:lnTo>
                  <a:pt x="2968" y="6787"/>
                </a:lnTo>
                <a:lnTo>
                  <a:pt x="2968" y="6840"/>
                </a:lnTo>
                <a:lnTo>
                  <a:pt x="2986" y="6893"/>
                </a:lnTo>
                <a:lnTo>
                  <a:pt x="3021" y="6963"/>
                </a:lnTo>
                <a:lnTo>
                  <a:pt x="3039" y="7016"/>
                </a:lnTo>
                <a:lnTo>
                  <a:pt x="3039" y="7069"/>
                </a:lnTo>
                <a:lnTo>
                  <a:pt x="3074" y="7122"/>
                </a:lnTo>
                <a:lnTo>
                  <a:pt x="3109" y="7175"/>
                </a:lnTo>
                <a:lnTo>
                  <a:pt x="3145" y="7263"/>
                </a:lnTo>
                <a:lnTo>
                  <a:pt x="3162" y="7316"/>
                </a:lnTo>
                <a:lnTo>
                  <a:pt x="3198" y="7404"/>
                </a:lnTo>
                <a:lnTo>
                  <a:pt x="3233" y="7457"/>
                </a:lnTo>
                <a:lnTo>
                  <a:pt x="3268" y="7528"/>
                </a:lnTo>
                <a:lnTo>
                  <a:pt x="3286" y="7581"/>
                </a:lnTo>
                <a:lnTo>
                  <a:pt x="3321" y="7634"/>
                </a:lnTo>
                <a:lnTo>
                  <a:pt x="3339" y="7687"/>
                </a:lnTo>
                <a:lnTo>
                  <a:pt x="3356" y="7740"/>
                </a:lnTo>
                <a:lnTo>
                  <a:pt x="3392" y="7810"/>
                </a:lnTo>
                <a:lnTo>
                  <a:pt x="3444" y="7863"/>
                </a:lnTo>
                <a:lnTo>
                  <a:pt x="3480" y="7934"/>
                </a:lnTo>
                <a:lnTo>
                  <a:pt x="3515" y="7987"/>
                </a:lnTo>
                <a:lnTo>
                  <a:pt x="3550" y="8039"/>
                </a:lnTo>
                <a:lnTo>
                  <a:pt x="3586" y="8092"/>
                </a:lnTo>
                <a:lnTo>
                  <a:pt x="3621" y="8163"/>
                </a:lnTo>
                <a:lnTo>
                  <a:pt x="3656" y="8216"/>
                </a:lnTo>
                <a:lnTo>
                  <a:pt x="3691" y="8269"/>
                </a:lnTo>
                <a:lnTo>
                  <a:pt x="3744" y="8322"/>
                </a:lnTo>
                <a:lnTo>
                  <a:pt x="3780" y="8375"/>
                </a:lnTo>
                <a:lnTo>
                  <a:pt x="3833" y="8427"/>
                </a:lnTo>
                <a:lnTo>
                  <a:pt x="3885" y="8480"/>
                </a:lnTo>
                <a:lnTo>
                  <a:pt x="3938" y="8516"/>
                </a:lnTo>
                <a:lnTo>
                  <a:pt x="3974" y="8569"/>
                </a:lnTo>
                <a:lnTo>
                  <a:pt x="4027" y="8604"/>
                </a:lnTo>
                <a:lnTo>
                  <a:pt x="4079" y="8622"/>
                </a:lnTo>
                <a:lnTo>
                  <a:pt x="4132" y="8657"/>
                </a:lnTo>
                <a:lnTo>
                  <a:pt x="4185" y="8657"/>
                </a:lnTo>
                <a:lnTo>
                  <a:pt x="4238" y="8692"/>
                </a:lnTo>
                <a:lnTo>
                  <a:pt x="4450" y="8745"/>
                </a:lnTo>
                <a:lnTo>
                  <a:pt x="4503" y="8745"/>
                </a:lnTo>
                <a:lnTo>
                  <a:pt x="4556" y="8763"/>
                </a:lnTo>
                <a:lnTo>
                  <a:pt x="4609" y="8763"/>
                </a:lnTo>
                <a:lnTo>
                  <a:pt x="4662" y="8763"/>
                </a:lnTo>
                <a:lnTo>
                  <a:pt x="4732" y="8763"/>
                </a:lnTo>
                <a:lnTo>
                  <a:pt x="4820" y="8763"/>
                </a:lnTo>
                <a:lnTo>
                  <a:pt x="4909" y="8763"/>
                </a:lnTo>
                <a:lnTo>
                  <a:pt x="4961" y="8727"/>
                </a:lnTo>
                <a:lnTo>
                  <a:pt x="5014" y="8692"/>
                </a:lnTo>
                <a:lnTo>
                  <a:pt x="5067" y="8657"/>
                </a:lnTo>
                <a:lnTo>
                  <a:pt x="5173" y="8586"/>
                </a:lnTo>
                <a:lnTo>
                  <a:pt x="5226" y="8551"/>
                </a:lnTo>
                <a:lnTo>
                  <a:pt x="5279" y="8498"/>
                </a:lnTo>
                <a:lnTo>
                  <a:pt x="5332" y="8463"/>
                </a:lnTo>
                <a:lnTo>
                  <a:pt x="5385" y="8427"/>
                </a:lnTo>
                <a:lnTo>
                  <a:pt x="5438" y="8392"/>
                </a:lnTo>
                <a:lnTo>
                  <a:pt x="5491" y="8357"/>
                </a:lnTo>
                <a:lnTo>
                  <a:pt x="5544" y="8304"/>
                </a:lnTo>
                <a:lnTo>
                  <a:pt x="5632" y="8233"/>
                </a:lnTo>
                <a:lnTo>
                  <a:pt x="5702" y="8216"/>
                </a:lnTo>
                <a:lnTo>
                  <a:pt x="5808" y="8145"/>
                </a:lnTo>
                <a:lnTo>
                  <a:pt x="5843" y="8092"/>
                </a:lnTo>
                <a:lnTo>
                  <a:pt x="5879" y="8039"/>
                </a:lnTo>
                <a:lnTo>
                  <a:pt x="5932" y="8004"/>
                </a:lnTo>
                <a:lnTo>
                  <a:pt x="5984" y="7934"/>
                </a:lnTo>
                <a:lnTo>
                  <a:pt x="6037" y="7881"/>
                </a:lnTo>
                <a:lnTo>
                  <a:pt x="6090" y="7845"/>
                </a:lnTo>
                <a:lnTo>
                  <a:pt x="6143" y="7810"/>
                </a:lnTo>
                <a:lnTo>
                  <a:pt x="6214" y="7775"/>
                </a:lnTo>
                <a:lnTo>
                  <a:pt x="6267" y="7757"/>
                </a:lnTo>
                <a:lnTo>
                  <a:pt x="6320" y="7740"/>
                </a:lnTo>
                <a:lnTo>
                  <a:pt x="6373" y="7704"/>
                </a:lnTo>
                <a:lnTo>
                  <a:pt x="6425" y="7687"/>
                </a:lnTo>
                <a:lnTo>
                  <a:pt x="6497" y="7651"/>
                </a:lnTo>
                <a:lnTo>
                  <a:pt x="6568" y="7616"/>
                </a:lnTo>
                <a:lnTo>
                  <a:pt x="6620" y="7581"/>
                </a:lnTo>
                <a:lnTo>
                  <a:pt x="6673" y="7563"/>
                </a:lnTo>
                <a:lnTo>
                  <a:pt x="6726" y="7546"/>
                </a:lnTo>
                <a:lnTo>
                  <a:pt x="6779" y="7528"/>
                </a:lnTo>
                <a:lnTo>
                  <a:pt x="6832" y="7510"/>
                </a:lnTo>
                <a:lnTo>
                  <a:pt x="6903" y="7493"/>
                </a:lnTo>
                <a:lnTo>
                  <a:pt x="7092" y="7409"/>
                </a:lnTo>
                <a:lnTo>
                  <a:pt x="7145" y="7343"/>
                </a:lnTo>
                <a:lnTo>
                  <a:pt x="7211" y="7329"/>
                </a:lnTo>
                <a:lnTo>
                  <a:pt x="7251" y="7277"/>
                </a:lnTo>
                <a:lnTo>
                  <a:pt x="7278" y="7277"/>
                </a:lnTo>
                <a:lnTo>
                  <a:pt x="7330" y="7224"/>
                </a:lnTo>
                <a:lnTo>
                  <a:pt x="7357" y="7197"/>
                </a:lnTo>
                <a:lnTo>
                  <a:pt x="7397" y="7144"/>
                </a:lnTo>
                <a:lnTo>
                  <a:pt x="7463" y="7105"/>
                </a:lnTo>
                <a:lnTo>
                  <a:pt x="7529" y="7078"/>
                </a:lnTo>
                <a:lnTo>
                  <a:pt x="7608" y="7025"/>
                </a:lnTo>
                <a:lnTo>
                  <a:pt x="7674" y="6972"/>
                </a:lnTo>
                <a:lnTo>
                  <a:pt x="7701" y="6933"/>
                </a:lnTo>
                <a:lnTo>
                  <a:pt x="7701" y="6946"/>
                </a:lnTo>
                <a:lnTo>
                  <a:pt x="7913" y="6734"/>
                </a:lnTo>
                <a:lnTo>
                  <a:pt x="8177" y="6509"/>
                </a:lnTo>
                <a:lnTo>
                  <a:pt x="8349" y="6443"/>
                </a:lnTo>
                <a:lnTo>
                  <a:pt x="8587" y="639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343400" y="237960"/>
            <a:ext cx="2657880" cy="2305440"/>
          </a:xfrm>
          <a:custGeom>
            <a:avLst/>
            <a:gdLst/>
            <a:ahLst/>
            <a:rect l="0" t="0" r="r" b="b"/>
            <a:pathLst>
              <a:path fill="none" w="7383" h="6404">
                <a:moveTo>
                  <a:pt x="0" y="0"/>
                </a:moveTo>
                <a:lnTo>
                  <a:pt x="79" y="92"/>
                </a:lnTo>
                <a:lnTo>
                  <a:pt x="119" y="211"/>
                </a:lnTo>
                <a:lnTo>
                  <a:pt x="238" y="291"/>
                </a:lnTo>
                <a:lnTo>
                  <a:pt x="357" y="370"/>
                </a:lnTo>
                <a:lnTo>
                  <a:pt x="436" y="489"/>
                </a:lnTo>
                <a:lnTo>
                  <a:pt x="515" y="608"/>
                </a:lnTo>
                <a:lnTo>
                  <a:pt x="635" y="608"/>
                </a:lnTo>
                <a:lnTo>
                  <a:pt x="754" y="767"/>
                </a:lnTo>
                <a:lnTo>
                  <a:pt x="793" y="886"/>
                </a:lnTo>
                <a:lnTo>
                  <a:pt x="833" y="1005"/>
                </a:lnTo>
                <a:lnTo>
                  <a:pt x="873" y="1124"/>
                </a:lnTo>
                <a:lnTo>
                  <a:pt x="912" y="1243"/>
                </a:lnTo>
                <a:lnTo>
                  <a:pt x="1031" y="1322"/>
                </a:lnTo>
                <a:lnTo>
                  <a:pt x="1150" y="1402"/>
                </a:lnTo>
                <a:lnTo>
                  <a:pt x="1270" y="1481"/>
                </a:lnTo>
                <a:lnTo>
                  <a:pt x="1389" y="1521"/>
                </a:lnTo>
                <a:lnTo>
                  <a:pt x="1508" y="1600"/>
                </a:lnTo>
                <a:lnTo>
                  <a:pt x="1706" y="1681"/>
                </a:lnTo>
                <a:lnTo>
                  <a:pt x="1825" y="1720"/>
                </a:lnTo>
                <a:lnTo>
                  <a:pt x="1945" y="1800"/>
                </a:lnTo>
                <a:lnTo>
                  <a:pt x="2104" y="1879"/>
                </a:lnTo>
                <a:lnTo>
                  <a:pt x="2223" y="1958"/>
                </a:lnTo>
                <a:lnTo>
                  <a:pt x="2382" y="1998"/>
                </a:lnTo>
                <a:lnTo>
                  <a:pt x="2501" y="2077"/>
                </a:lnTo>
                <a:lnTo>
                  <a:pt x="2620" y="2236"/>
                </a:lnTo>
                <a:lnTo>
                  <a:pt x="2699" y="2355"/>
                </a:lnTo>
                <a:lnTo>
                  <a:pt x="2818" y="2474"/>
                </a:lnTo>
                <a:lnTo>
                  <a:pt x="2977" y="2593"/>
                </a:lnTo>
                <a:lnTo>
                  <a:pt x="3096" y="2673"/>
                </a:lnTo>
                <a:lnTo>
                  <a:pt x="3215" y="2712"/>
                </a:lnTo>
                <a:lnTo>
                  <a:pt x="3334" y="2752"/>
                </a:lnTo>
                <a:lnTo>
                  <a:pt x="3453" y="2792"/>
                </a:lnTo>
                <a:lnTo>
                  <a:pt x="3652" y="2951"/>
                </a:lnTo>
                <a:lnTo>
                  <a:pt x="3771" y="2990"/>
                </a:lnTo>
                <a:lnTo>
                  <a:pt x="3969" y="3109"/>
                </a:lnTo>
                <a:lnTo>
                  <a:pt x="4128" y="3268"/>
                </a:lnTo>
                <a:lnTo>
                  <a:pt x="4247" y="3308"/>
                </a:lnTo>
                <a:lnTo>
                  <a:pt x="4366" y="3427"/>
                </a:lnTo>
                <a:lnTo>
                  <a:pt x="4485" y="3506"/>
                </a:lnTo>
                <a:lnTo>
                  <a:pt x="4604" y="3625"/>
                </a:lnTo>
                <a:lnTo>
                  <a:pt x="4684" y="3744"/>
                </a:lnTo>
                <a:lnTo>
                  <a:pt x="4763" y="3863"/>
                </a:lnTo>
                <a:lnTo>
                  <a:pt x="4922" y="4022"/>
                </a:lnTo>
                <a:lnTo>
                  <a:pt x="5041" y="4102"/>
                </a:lnTo>
                <a:lnTo>
                  <a:pt x="5120" y="4221"/>
                </a:lnTo>
                <a:lnTo>
                  <a:pt x="5239" y="4300"/>
                </a:lnTo>
                <a:lnTo>
                  <a:pt x="5358" y="4459"/>
                </a:lnTo>
                <a:lnTo>
                  <a:pt x="5477" y="4578"/>
                </a:lnTo>
                <a:lnTo>
                  <a:pt x="5597" y="4617"/>
                </a:lnTo>
                <a:lnTo>
                  <a:pt x="5717" y="4737"/>
                </a:lnTo>
                <a:lnTo>
                  <a:pt x="5836" y="4776"/>
                </a:lnTo>
                <a:lnTo>
                  <a:pt x="5955" y="4817"/>
                </a:lnTo>
                <a:lnTo>
                  <a:pt x="6074" y="4817"/>
                </a:lnTo>
                <a:lnTo>
                  <a:pt x="6193" y="4857"/>
                </a:lnTo>
                <a:lnTo>
                  <a:pt x="6352" y="4936"/>
                </a:lnTo>
                <a:lnTo>
                  <a:pt x="6431" y="5055"/>
                </a:lnTo>
                <a:lnTo>
                  <a:pt x="6550" y="5214"/>
                </a:lnTo>
                <a:lnTo>
                  <a:pt x="6669" y="5333"/>
                </a:lnTo>
                <a:lnTo>
                  <a:pt x="6709" y="5452"/>
                </a:lnTo>
                <a:lnTo>
                  <a:pt x="6788" y="5571"/>
                </a:lnTo>
                <a:lnTo>
                  <a:pt x="6907" y="5730"/>
                </a:lnTo>
                <a:lnTo>
                  <a:pt x="6947" y="5849"/>
                </a:lnTo>
                <a:lnTo>
                  <a:pt x="7026" y="5968"/>
                </a:lnTo>
                <a:lnTo>
                  <a:pt x="7106" y="6087"/>
                </a:lnTo>
                <a:lnTo>
                  <a:pt x="7145" y="6206"/>
                </a:lnTo>
                <a:lnTo>
                  <a:pt x="7264" y="6325"/>
                </a:lnTo>
                <a:lnTo>
                  <a:pt x="7383" y="640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33840" y="3776760"/>
            <a:ext cx="3360960" cy="2843640"/>
          </a:xfrm>
          <a:custGeom>
            <a:avLst/>
            <a:gdLst/>
            <a:ahLst/>
            <a:rect l="0" t="0" r="r" b="b"/>
            <a:pathLst>
              <a:path fill="none" w="9336" h="7899">
                <a:moveTo>
                  <a:pt x="0" y="7899"/>
                </a:moveTo>
                <a:lnTo>
                  <a:pt x="66" y="7649"/>
                </a:lnTo>
                <a:lnTo>
                  <a:pt x="542" y="7184"/>
                </a:lnTo>
                <a:lnTo>
                  <a:pt x="1058" y="6670"/>
                </a:lnTo>
                <a:lnTo>
                  <a:pt x="1389" y="6459"/>
                </a:lnTo>
                <a:lnTo>
                  <a:pt x="1825" y="5821"/>
                </a:lnTo>
                <a:lnTo>
                  <a:pt x="2037" y="5277"/>
                </a:lnTo>
                <a:lnTo>
                  <a:pt x="2275" y="5042"/>
                </a:lnTo>
                <a:lnTo>
                  <a:pt x="2539" y="4591"/>
                </a:lnTo>
                <a:lnTo>
                  <a:pt x="2923" y="4047"/>
                </a:lnTo>
                <a:lnTo>
                  <a:pt x="3346" y="3136"/>
                </a:lnTo>
                <a:lnTo>
                  <a:pt x="3942" y="2715"/>
                </a:lnTo>
                <a:lnTo>
                  <a:pt x="4167" y="2725"/>
                </a:lnTo>
                <a:lnTo>
                  <a:pt x="4511" y="2935"/>
                </a:lnTo>
                <a:lnTo>
                  <a:pt x="4616" y="3136"/>
                </a:lnTo>
                <a:lnTo>
                  <a:pt x="4895" y="3322"/>
                </a:lnTo>
                <a:lnTo>
                  <a:pt x="5292" y="3494"/>
                </a:lnTo>
                <a:lnTo>
                  <a:pt x="5530" y="3347"/>
                </a:lnTo>
                <a:lnTo>
                  <a:pt x="5967" y="2778"/>
                </a:lnTo>
                <a:lnTo>
                  <a:pt x="6059" y="2700"/>
                </a:lnTo>
                <a:lnTo>
                  <a:pt x="6205" y="2671"/>
                </a:lnTo>
                <a:lnTo>
                  <a:pt x="6421" y="2582"/>
                </a:lnTo>
                <a:lnTo>
                  <a:pt x="6549" y="2440"/>
                </a:lnTo>
                <a:lnTo>
                  <a:pt x="6633" y="2298"/>
                </a:lnTo>
                <a:lnTo>
                  <a:pt x="6725" y="2073"/>
                </a:lnTo>
                <a:lnTo>
                  <a:pt x="6858" y="1995"/>
                </a:lnTo>
                <a:lnTo>
                  <a:pt x="7060" y="1930"/>
                </a:lnTo>
                <a:lnTo>
                  <a:pt x="7096" y="1940"/>
                </a:lnTo>
                <a:lnTo>
                  <a:pt x="7334" y="1915"/>
                </a:lnTo>
                <a:lnTo>
                  <a:pt x="7444" y="1871"/>
                </a:lnTo>
                <a:lnTo>
                  <a:pt x="7572" y="1729"/>
                </a:lnTo>
                <a:lnTo>
                  <a:pt x="7700" y="1680"/>
                </a:lnTo>
                <a:lnTo>
                  <a:pt x="7828" y="1587"/>
                </a:lnTo>
                <a:lnTo>
                  <a:pt x="8000" y="1396"/>
                </a:lnTo>
                <a:lnTo>
                  <a:pt x="8128" y="1303"/>
                </a:lnTo>
                <a:lnTo>
                  <a:pt x="8255" y="1254"/>
                </a:lnTo>
                <a:lnTo>
                  <a:pt x="8339" y="1112"/>
                </a:lnTo>
                <a:lnTo>
                  <a:pt x="8467" y="1019"/>
                </a:lnTo>
                <a:lnTo>
                  <a:pt x="8511" y="876"/>
                </a:lnTo>
                <a:lnTo>
                  <a:pt x="8599" y="685"/>
                </a:lnTo>
                <a:lnTo>
                  <a:pt x="8727" y="543"/>
                </a:lnTo>
                <a:lnTo>
                  <a:pt x="8855" y="401"/>
                </a:lnTo>
                <a:lnTo>
                  <a:pt x="8983" y="210"/>
                </a:lnTo>
                <a:lnTo>
                  <a:pt x="9111" y="68"/>
                </a:lnTo>
                <a:lnTo>
                  <a:pt x="9239" y="24"/>
                </a:lnTo>
                <a:lnTo>
                  <a:pt x="933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36800" y="3889440"/>
            <a:ext cx="3262680" cy="2730960"/>
          </a:xfrm>
          <a:custGeom>
            <a:avLst/>
            <a:gdLst/>
            <a:ahLst/>
            <a:rect l="0" t="0" r="r" b="b"/>
            <a:pathLst>
              <a:path fill="none" w="9063" h="7586">
                <a:moveTo>
                  <a:pt x="9063" y="0"/>
                </a:moveTo>
                <a:lnTo>
                  <a:pt x="8980" y="127"/>
                </a:lnTo>
                <a:lnTo>
                  <a:pt x="8852" y="255"/>
                </a:lnTo>
                <a:lnTo>
                  <a:pt x="8724" y="343"/>
                </a:lnTo>
                <a:lnTo>
                  <a:pt x="8636" y="471"/>
                </a:lnTo>
                <a:lnTo>
                  <a:pt x="8552" y="599"/>
                </a:lnTo>
                <a:lnTo>
                  <a:pt x="8468" y="727"/>
                </a:lnTo>
                <a:lnTo>
                  <a:pt x="8380" y="855"/>
                </a:lnTo>
                <a:lnTo>
                  <a:pt x="8296" y="983"/>
                </a:lnTo>
                <a:lnTo>
                  <a:pt x="8168" y="1067"/>
                </a:lnTo>
                <a:lnTo>
                  <a:pt x="8040" y="1195"/>
                </a:lnTo>
                <a:lnTo>
                  <a:pt x="7913" y="1283"/>
                </a:lnTo>
                <a:lnTo>
                  <a:pt x="7785" y="1411"/>
                </a:lnTo>
                <a:lnTo>
                  <a:pt x="7613" y="1494"/>
                </a:lnTo>
                <a:lnTo>
                  <a:pt x="7485" y="1622"/>
                </a:lnTo>
                <a:lnTo>
                  <a:pt x="7357" y="1666"/>
                </a:lnTo>
                <a:lnTo>
                  <a:pt x="7295" y="1781"/>
                </a:lnTo>
                <a:lnTo>
                  <a:pt x="7207" y="1860"/>
                </a:lnTo>
                <a:lnTo>
                  <a:pt x="7075" y="1914"/>
                </a:lnTo>
                <a:lnTo>
                  <a:pt x="7004" y="1976"/>
                </a:lnTo>
                <a:lnTo>
                  <a:pt x="6916" y="2082"/>
                </a:lnTo>
                <a:lnTo>
                  <a:pt x="6721" y="2258"/>
                </a:lnTo>
                <a:lnTo>
                  <a:pt x="6553" y="2355"/>
                </a:lnTo>
                <a:lnTo>
                  <a:pt x="6430" y="2426"/>
                </a:lnTo>
                <a:lnTo>
                  <a:pt x="6342" y="2532"/>
                </a:lnTo>
                <a:lnTo>
                  <a:pt x="6218" y="2620"/>
                </a:lnTo>
                <a:lnTo>
                  <a:pt x="6174" y="2752"/>
                </a:lnTo>
                <a:lnTo>
                  <a:pt x="6033" y="2858"/>
                </a:lnTo>
                <a:lnTo>
                  <a:pt x="5910" y="3043"/>
                </a:lnTo>
                <a:lnTo>
                  <a:pt x="5716" y="3140"/>
                </a:lnTo>
                <a:lnTo>
                  <a:pt x="5618" y="3264"/>
                </a:lnTo>
                <a:lnTo>
                  <a:pt x="5460" y="3396"/>
                </a:lnTo>
                <a:lnTo>
                  <a:pt x="5292" y="3475"/>
                </a:lnTo>
                <a:lnTo>
                  <a:pt x="5160" y="3511"/>
                </a:lnTo>
                <a:lnTo>
                  <a:pt x="5010" y="3493"/>
                </a:lnTo>
                <a:lnTo>
                  <a:pt x="4781" y="3475"/>
                </a:lnTo>
                <a:lnTo>
                  <a:pt x="4626" y="3286"/>
                </a:lnTo>
                <a:lnTo>
                  <a:pt x="4498" y="3202"/>
                </a:lnTo>
                <a:lnTo>
                  <a:pt x="4371" y="3074"/>
                </a:lnTo>
                <a:lnTo>
                  <a:pt x="4238" y="2990"/>
                </a:lnTo>
                <a:lnTo>
                  <a:pt x="4154" y="2862"/>
                </a:lnTo>
                <a:lnTo>
                  <a:pt x="4027" y="2818"/>
                </a:lnTo>
                <a:lnTo>
                  <a:pt x="3899" y="2774"/>
                </a:lnTo>
                <a:lnTo>
                  <a:pt x="3775" y="2638"/>
                </a:lnTo>
                <a:lnTo>
                  <a:pt x="3599" y="2774"/>
                </a:lnTo>
                <a:lnTo>
                  <a:pt x="3515" y="2902"/>
                </a:lnTo>
                <a:lnTo>
                  <a:pt x="3431" y="3030"/>
                </a:lnTo>
                <a:lnTo>
                  <a:pt x="3343" y="3158"/>
                </a:lnTo>
                <a:lnTo>
                  <a:pt x="3215" y="3286"/>
                </a:lnTo>
                <a:lnTo>
                  <a:pt x="3131" y="3418"/>
                </a:lnTo>
                <a:lnTo>
                  <a:pt x="3004" y="3546"/>
                </a:lnTo>
                <a:lnTo>
                  <a:pt x="2915" y="3674"/>
                </a:lnTo>
                <a:lnTo>
                  <a:pt x="2832" y="3802"/>
                </a:lnTo>
                <a:lnTo>
                  <a:pt x="2704" y="3930"/>
                </a:lnTo>
                <a:lnTo>
                  <a:pt x="2660" y="4057"/>
                </a:lnTo>
                <a:lnTo>
                  <a:pt x="2576" y="4185"/>
                </a:lnTo>
                <a:lnTo>
                  <a:pt x="2448" y="4353"/>
                </a:lnTo>
                <a:lnTo>
                  <a:pt x="2364" y="4481"/>
                </a:lnTo>
                <a:lnTo>
                  <a:pt x="2235" y="4609"/>
                </a:lnTo>
                <a:lnTo>
                  <a:pt x="2147" y="4741"/>
                </a:lnTo>
                <a:lnTo>
                  <a:pt x="2063" y="4869"/>
                </a:lnTo>
                <a:lnTo>
                  <a:pt x="1979" y="4997"/>
                </a:lnTo>
                <a:lnTo>
                  <a:pt x="1891" y="5125"/>
                </a:lnTo>
                <a:lnTo>
                  <a:pt x="1807" y="5252"/>
                </a:lnTo>
                <a:lnTo>
                  <a:pt x="1724" y="5380"/>
                </a:lnTo>
                <a:lnTo>
                  <a:pt x="1636" y="5508"/>
                </a:lnTo>
                <a:lnTo>
                  <a:pt x="1552" y="5636"/>
                </a:lnTo>
                <a:lnTo>
                  <a:pt x="1508" y="5765"/>
                </a:lnTo>
                <a:lnTo>
                  <a:pt x="1424" y="5893"/>
                </a:lnTo>
                <a:lnTo>
                  <a:pt x="1336" y="6021"/>
                </a:lnTo>
                <a:lnTo>
                  <a:pt x="1252" y="6149"/>
                </a:lnTo>
                <a:lnTo>
                  <a:pt x="1124" y="6321"/>
                </a:lnTo>
                <a:lnTo>
                  <a:pt x="1040" y="6449"/>
                </a:lnTo>
                <a:lnTo>
                  <a:pt x="912" y="6488"/>
                </a:lnTo>
                <a:lnTo>
                  <a:pt x="784" y="6576"/>
                </a:lnTo>
                <a:lnTo>
                  <a:pt x="696" y="6704"/>
                </a:lnTo>
                <a:lnTo>
                  <a:pt x="568" y="6788"/>
                </a:lnTo>
                <a:lnTo>
                  <a:pt x="440" y="6916"/>
                </a:lnTo>
                <a:lnTo>
                  <a:pt x="357" y="7044"/>
                </a:lnTo>
                <a:lnTo>
                  <a:pt x="229" y="7172"/>
                </a:lnTo>
                <a:lnTo>
                  <a:pt x="141" y="7300"/>
                </a:lnTo>
                <a:lnTo>
                  <a:pt x="57" y="7427"/>
                </a:lnTo>
                <a:lnTo>
                  <a:pt x="0" y="758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54520" y="4203720"/>
            <a:ext cx="3150000" cy="2416680"/>
          </a:xfrm>
          <a:custGeom>
            <a:avLst/>
            <a:gdLst/>
            <a:ahLst/>
            <a:rect l="0" t="0" r="r" b="b"/>
            <a:pathLst>
              <a:path fill="none" w="8750" h="6713">
                <a:moveTo>
                  <a:pt x="8750" y="0"/>
                </a:moveTo>
                <a:lnTo>
                  <a:pt x="8653" y="26"/>
                </a:lnTo>
                <a:lnTo>
                  <a:pt x="8525" y="66"/>
                </a:lnTo>
                <a:lnTo>
                  <a:pt x="8398" y="154"/>
                </a:lnTo>
                <a:lnTo>
                  <a:pt x="8270" y="194"/>
                </a:lnTo>
                <a:lnTo>
                  <a:pt x="8142" y="282"/>
                </a:lnTo>
                <a:lnTo>
                  <a:pt x="8054" y="449"/>
                </a:lnTo>
                <a:lnTo>
                  <a:pt x="7926" y="577"/>
                </a:lnTo>
                <a:lnTo>
                  <a:pt x="7798" y="705"/>
                </a:lnTo>
                <a:lnTo>
                  <a:pt x="7670" y="793"/>
                </a:lnTo>
                <a:lnTo>
                  <a:pt x="7542" y="921"/>
                </a:lnTo>
                <a:lnTo>
                  <a:pt x="7414" y="1005"/>
                </a:lnTo>
                <a:lnTo>
                  <a:pt x="7330" y="1133"/>
                </a:lnTo>
                <a:lnTo>
                  <a:pt x="7260" y="1296"/>
                </a:lnTo>
                <a:lnTo>
                  <a:pt x="7172" y="1455"/>
                </a:lnTo>
                <a:lnTo>
                  <a:pt x="6951" y="1569"/>
                </a:lnTo>
                <a:lnTo>
                  <a:pt x="6713" y="1631"/>
                </a:lnTo>
                <a:lnTo>
                  <a:pt x="6558" y="1689"/>
                </a:lnTo>
                <a:lnTo>
                  <a:pt x="6430" y="1817"/>
                </a:lnTo>
                <a:lnTo>
                  <a:pt x="6302" y="1945"/>
                </a:lnTo>
                <a:lnTo>
                  <a:pt x="6218" y="2073"/>
                </a:lnTo>
                <a:lnTo>
                  <a:pt x="6090" y="2157"/>
                </a:lnTo>
                <a:lnTo>
                  <a:pt x="6007" y="2285"/>
                </a:lnTo>
                <a:lnTo>
                  <a:pt x="5879" y="2373"/>
                </a:lnTo>
                <a:lnTo>
                  <a:pt x="5751" y="2457"/>
                </a:lnTo>
                <a:lnTo>
                  <a:pt x="5623" y="2545"/>
                </a:lnTo>
                <a:lnTo>
                  <a:pt x="5495" y="2585"/>
                </a:lnTo>
                <a:lnTo>
                  <a:pt x="5367" y="2629"/>
                </a:lnTo>
                <a:lnTo>
                  <a:pt x="5235" y="2712"/>
                </a:lnTo>
                <a:lnTo>
                  <a:pt x="5107" y="2757"/>
                </a:lnTo>
                <a:lnTo>
                  <a:pt x="4979" y="2757"/>
                </a:lnTo>
                <a:lnTo>
                  <a:pt x="4851" y="2801"/>
                </a:lnTo>
                <a:lnTo>
                  <a:pt x="4723" y="2840"/>
                </a:lnTo>
                <a:lnTo>
                  <a:pt x="4556" y="2884"/>
                </a:lnTo>
                <a:lnTo>
                  <a:pt x="4340" y="2884"/>
                </a:lnTo>
                <a:lnTo>
                  <a:pt x="4212" y="2840"/>
                </a:lnTo>
                <a:lnTo>
                  <a:pt x="4084" y="2757"/>
                </a:lnTo>
                <a:lnTo>
                  <a:pt x="3956" y="2712"/>
                </a:lnTo>
                <a:lnTo>
                  <a:pt x="3828" y="2629"/>
                </a:lnTo>
                <a:lnTo>
                  <a:pt x="3700" y="2585"/>
                </a:lnTo>
                <a:lnTo>
                  <a:pt x="3572" y="2545"/>
                </a:lnTo>
                <a:lnTo>
                  <a:pt x="3444" y="2501"/>
                </a:lnTo>
                <a:lnTo>
                  <a:pt x="3299" y="2369"/>
                </a:lnTo>
                <a:lnTo>
                  <a:pt x="3145" y="2501"/>
                </a:lnTo>
                <a:lnTo>
                  <a:pt x="3017" y="2545"/>
                </a:lnTo>
                <a:lnTo>
                  <a:pt x="2933" y="2673"/>
                </a:lnTo>
                <a:lnTo>
                  <a:pt x="2805" y="2757"/>
                </a:lnTo>
                <a:lnTo>
                  <a:pt x="2677" y="2840"/>
                </a:lnTo>
                <a:lnTo>
                  <a:pt x="2549" y="2968"/>
                </a:lnTo>
                <a:lnTo>
                  <a:pt x="2505" y="3096"/>
                </a:lnTo>
                <a:lnTo>
                  <a:pt x="2421" y="3224"/>
                </a:lnTo>
                <a:lnTo>
                  <a:pt x="2333" y="3352"/>
                </a:lnTo>
                <a:lnTo>
                  <a:pt x="2249" y="3480"/>
                </a:lnTo>
                <a:lnTo>
                  <a:pt x="2165" y="3608"/>
                </a:lnTo>
                <a:lnTo>
                  <a:pt x="2076" y="3736"/>
                </a:lnTo>
                <a:lnTo>
                  <a:pt x="1993" y="3868"/>
                </a:lnTo>
                <a:lnTo>
                  <a:pt x="1909" y="3996"/>
                </a:lnTo>
                <a:lnTo>
                  <a:pt x="1821" y="4124"/>
                </a:lnTo>
                <a:lnTo>
                  <a:pt x="1737" y="4251"/>
                </a:lnTo>
                <a:lnTo>
                  <a:pt x="1653" y="4379"/>
                </a:lnTo>
                <a:lnTo>
                  <a:pt x="1565" y="4507"/>
                </a:lnTo>
                <a:lnTo>
                  <a:pt x="1525" y="4635"/>
                </a:lnTo>
                <a:lnTo>
                  <a:pt x="1397" y="4763"/>
                </a:lnTo>
                <a:lnTo>
                  <a:pt x="1353" y="4891"/>
                </a:lnTo>
                <a:lnTo>
                  <a:pt x="1225" y="5019"/>
                </a:lnTo>
                <a:lnTo>
                  <a:pt x="1137" y="5148"/>
                </a:lnTo>
                <a:lnTo>
                  <a:pt x="1098" y="5276"/>
                </a:lnTo>
                <a:lnTo>
                  <a:pt x="1053" y="5403"/>
                </a:lnTo>
                <a:lnTo>
                  <a:pt x="926" y="5531"/>
                </a:lnTo>
                <a:lnTo>
                  <a:pt x="798" y="5659"/>
                </a:lnTo>
                <a:lnTo>
                  <a:pt x="670" y="5787"/>
                </a:lnTo>
                <a:lnTo>
                  <a:pt x="542" y="5915"/>
                </a:lnTo>
                <a:lnTo>
                  <a:pt x="458" y="6043"/>
                </a:lnTo>
                <a:lnTo>
                  <a:pt x="330" y="6127"/>
                </a:lnTo>
                <a:lnTo>
                  <a:pt x="242" y="6254"/>
                </a:lnTo>
                <a:lnTo>
                  <a:pt x="158" y="6382"/>
                </a:lnTo>
                <a:lnTo>
                  <a:pt x="74" y="6515"/>
                </a:lnTo>
                <a:lnTo>
                  <a:pt x="0" y="671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019400" y="4562640"/>
            <a:ext cx="2984760" cy="2054520"/>
          </a:xfrm>
          <a:custGeom>
            <a:avLst/>
            <a:gdLst/>
            <a:ahLst/>
            <a:rect l="0" t="0" r="r" b="b"/>
            <a:pathLst>
              <a:path fill="none" w="8291" h="5707">
                <a:moveTo>
                  <a:pt x="8291" y="0"/>
                </a:moveTo>
                <a:lnTo>
                  <a:pt x="8194" y="92"/>
                </a:lnTo>
                <a:lnTo>
                  <a:pt x="8066" y="136"/>
                </a:lnTo>
                <a:lnTo>
                  <a:pt x="7938" y="180"/>
                </a:lnTo>
                <a:lnTo>
                  <a:pt x="7810" y="224"/>
                </a:lnTo>
                <a:lnTo>
                  <a:pt x="7682" y="308"/>
                </a:lnTo>
                <a:lnTo>
                  <a:pt x="7554" y="352"/>
                </a:lnTo>
                <a:lnTo>
                  <a:pt x="7422" y="480"/>
                </a:lnTo>
                <a:lnTo>
                  <a:pt x="7338" y="608"/>
                </a:lnTo>
                <a:lnTo>
                  <a:pt x="7210" y="692"/>
                </a:lnTo>
                <a:lnTo>
                  <a:pt x="7083" y="776"/>
                </a:lnTo>
                <a:lnTo>
                  <a:pt x="6955" y="864"/>
                </a:lnTo>
                <a:lnTo>
                  <a:pt x="6827" y="948"/>
                </a:lnTo>
                <a:lnTo>
                  <a:pt x="6699" y="992"/>
                </a:lnTo>
                <a:lnTo>
                  <a:pt x="6571" y="1075"/>
                </a:lnTo>
                <a:lnTo>
                  <a:pt x="6443" y="1159"/>
                </a:lnTo>
                <a:lnTo>
                  <a:pt x="6315" y="1287"/>
                </a:lnTo>
                <a:lnTo>
                  <a:pt x="6143" y="1415"/>
                </a:lnTo>
                <a:lnTo>
                  <a:pt x="6015" y="1503"/>
                </a:lnTo>
                <a:lnTo>
                  <a:pt x="5843" y="1587"/>
                </a:lnTo>
                <a:lnTo>
                  <a:pt x="5676" y="1715"/>
                </a:lnTo>
                <a:lnTo>
                  <a:pt x="5548" y="1803"/>
                </a:lnTo>
                <a:lnTo>
                  <a:pt x="5420" y="1887"/>
                </a:lnTo>
                <a:lnTo>
                  <a:pt x="5248" y="1971"/>
                </a:lnTo>
                <a:lnTo>
                  <a:pt x="5120" y="2059"/>
                </a:lnTo>
                <a:lnTo>
                  <a:pt x="4992" y="2099"/>
                </a:lnTo>
                <a:lnTo>
                  <a:pt x="4864" y="2143"/>
                </a:lnTo>
                <a:lnTo>
                  <a:pt x="4737" y="2143"/>
                </a:lnTo>
                <a:lnTo>
                  <a:pt x="4565" y="2187"/>
                </a:lnTo>
                <a:lnTo>
                  <a:pt x="4393" y="2226"/>
                </a:lnTo>
                <a:lnTo>
                  <a:pt x="4265" y="2226"/>
                </a:lnTo>
                <a:lnTo>
                  <a:pt x="4096" y="2226"/>
                </a:lnTo>
                <a:lnTo>
                  <a:pt x="3968" y="2271"/>
                </a:lnTo>
                <a:lnTo>
                  <a:pt x="3840" y="2271"/>
                </a:lnTo>
                <a:lnTo>
                  <a:pt x="3712" y="2226"/>
                </a:lnTo>
                <a:lnTo>
                  <a:pt x="3585" y="2187"/>
                </a:lnTo>
                <a:lnTo>
                  <a:pt x="3452" y="2187"/>
                </a:lnTo>
                <a:lnTo>
                  <a:pt x="3324" y="2143"/>
                </a:lnTo>
                <a:lnTo>
                  <a:pt x="3157" y="2059"/>
                </a:lnTo>
                <a:lnTo>
                  <a:pt x="3029" y="2015"/>
                </a:lnTo>
                <a:lnTo>
                  <a:pt x="2853" y="1957"/>
                </a:lnTo>
                <a:lnTo>
                  <a:pt x="2698" y="1847"/>
                </a:lnTo>
                <a:lnTo>
                  <a:pt x="2548" y="1927"/>
                </a:lnTo>
                <a:lnTo>
                  <a:pt x="2345" y="2059"/>
                </a:lnTo>
                <a:lnTo>
                  <a:pt x="2218" y="2099"/>
                </a:lnTo>
                <a:lnTo>
                  <a:pt x="2129" y="2226"/>
                </a:lnTo>
                <a:lnTo>
                  <a:pt x="2002" y="2354"/>
                </a:lnTo>
                <a:lnTo>
                  <a:pt x="1918" y="2482"/>
                </a:lnTo>
                <a:lnTo>
                  <a:pt x="1874" y="2610"/>
                </a:lnTo>
                <a:lnTo>
                  <a:pt x="1790" y="2738"/>
                </a:lnTo>
                <a:lnTo>
                  <a:pt x="1706" y="2871"/>
                </a:lnTo>
                <a:lnTo>
                  <a:pt x="1662" y="2999"/>
                </a:lnTo>
                <a:lnTo>
                  <a:pt x="1534" y="3083"/>
                </a:lnTo>
                <a:lnTo>
                  <a:pt x="1450" y="3255"/>
                </a:lnTo>
                <a:lnTo>
                  <a:pt x="1322" y="3383"/>
                </a:lnTo>
                <a:lnTo>
                  <a:pt x="1278" y="3511"/>
                </a:lnTo>
                <a:lnTo>
                  <a:pt x="1195" y="3639"/>
                </a:lnTo>
                <a:lnTo>
                  <a:pt x="1106" y="3766"/>
                </a:lnTo>
                <a:lnTo>
                  <a:pt x="1023" y="3894"/>
                </a:lnTo>
                <a:lnTo>
                  <a:pt x="978" y="4022"/>
                </a:lnTo>
                <a:lnTo>
                  <a:pt x="895" y="4150"/>
                </a:lnTo>
                <a:lnTo>
                  <a:pt x="806" y="4278"/>
                </a:lnTo>
                <a:lnTo>
                  <a:pt x="723" y="4406"/>
                </a:lnTo>
                <a:lnTo>
                  <a:pt x="679" y="4534"/>
                </a:lnTo>
                <a:lnTo>
                  <a:pt x="595" y="4662"/>
                </a:lnTo>
                <a:lnTo>
                  <a:pt x="511" y="4789"/>
                </a:lnTo>
                <a:lnTo>
                  <a:pt x="423" y="4917"/>
                </a:lnTo>
                <a:lnTo>
                  <a:pt x="339" y="5045"/>
                </a:lnTo>
                <a:lnTo>
                  <a:pt x="255" y="5173"/>
                </a:lnTo>
                <a:lnTo>
                  <a:pt x="167" y="5301"/>
                </a:lnTo>
                <a:lnTo>
                  <a:pt x="127" y="5429"/>
                </a:lnTo>
                <a:lnTo>
                  <a:pt x="39" y="5557"/>
                </a:lnTo>
                <a:lnTo>
                  <a:pt x="0" y="570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086360" y="5076720"/>
            <a:ext cx="2918160" cy="1543320"/>
          </a:xfrm>
          <a:custGeom>
            <a:avLst/>
            <a:gdLst/>
            <a:ahLst/>
            <a:rect l="0" t="0" r="r" b="b"/>
            <a:pathLst>
              <a:path fill="none" w="8106" h="4287">
                <a:moveTo>
                  <a:pt x="8106" y="0"/>
                </a:moveTo>
                <a:lnTo>
                  <a:pt x="8009" y="30"/>
                </a:lnTo>
                <a:lnTo>
                  <a:pt x="7881" y="74"/>
                </a:lnTo>
                <a:lnTo>
                  <a:pt x="7753" y="158"/>
                </a:lnTo>
                <a:lnTo>
                  <a:pt x="7625" y="246"/>
                </a:lnTo>
                <a:lnTo>
                  <a:pt x="7497" y="330"/>
                </a:lnTo>
                <a:lnTo>
                  <a:pt x="7369" y="414"/>
                </a:lnTo>
                <a:lnTo>
                  <a:pt x="7237" y="502"/>
                </a:lnTo>
                <a:lnTo>
                  <a:pt x="7109" y="586"/>
                </a:lnTo>
                <a:lnTo>
                  <a:pt x="6941" y="714"/>
                </a:lnTo>
                <a:lnTo>
                  <a:pt x="6769" y="798"/>
                </a:lnTo>
                <a:lnTo>
                  <a:pt x="6642" y="886"/>
                </a:lnTo>
                <a:lnTo>
                  <a:pt x="6514" y="970"/>
                </a:lnTo>
                <a:lnTo>
                  <a:pt x="6302" y="1053"/>
                </a:lnTo>
                <a:lnTo>
                  <a:pt x="6130" y="1098"/>
                </a:lnTo>
                <a:lnTo>
                  <a:pt x="6002" y="1142"/>
                </a:lnTo>
                <a:lnTo>
                  <a:pt x="5874" y="1181"/>
                </a:lnTo>
                <a:lnTo>
                  <a:pt x="5618" y="1225"/>
                </a:lnTo>
                <a:lnTo>
                  <a:pt x="5447" y="1270"/>
                </a:lnTo>
                <a:lnTo>
                  <a:pt x="5019" y="1270"/>
                </a:lnTo>
                <a:lnTo>
                  <a:pt x="4891" y="1270"/>
                </a:lnTo>
                <a:lnTo>
                  <a:pt x="4763" y="1309"/>
                </a:lnTo>
                <a:lnTo>
                  <a:pt x="4635" y="1309"/>
                </a:lnTo>
                <a:lnTo>
                  <a:pt x="4463" y="1309"/>
                </a:lnTo>
                <a:lnTo>
                  <a:pt x="4335" y="1309"/>
                </a:lnTo>
                <a:lnTo>
                  <a:pt x="4207" y="1309"/>
                </a:lnTo>
                <a:lnTo>
                  <a:pt x="4039" y="1270"/>
                </a:lnTo>
                <a:lnTo>
                  <a:pt x="3867" y="1270"/>
                </a:lnTo>
                <a:lnTo>
                  <a:pt x="3655" y="1270"/>
                </a:lnTo>
                <a:lnTo>
                  <a:pt x="3527" y="1270"/>
                </a:lnTo>
                <a:lnTo>
                  <a:pt x="3355" y="1225"/>
                </a:lnTo>
                <a:lnTo>
                  <a:pt x="3227" y="1181"/>
                </a:lnTo>
                <a:lnTo>
                  <a:pt x="3100" y="1142"/>
                </a:lnTo>
                <a:lnTo>
                  <a:pt x="2844" y="1142"/>
                </a:lnTo>
                <a:lnTo>
                  <a:pt x="2716" y="1142"/>
                </a:lnTo>
                <a:lnTo>
                  <a:pt x="2579" y="1071"/>
                </a:lnTo>
                <a:lnTo>
                  <a:pt x="2394" y="1212"/>
                </a:lnTo>
                <a:lnTo>
                  <a:pt x="2275" y="1292"/>
                </a:lnTo>
                <a:lnTo>
                  <a:pt x="2204" y="1441"/>
                </a:lnTo>
                <a:lnTo>
                  <a:pt x="2076" y="1525"/>
                </a:lnTo>
                <a:lnTo>
                  <a:pt x="1944" y="1653"/>
                </a:lnTo>
                <a:lnTo>
                  <a:pt x="1816" y="1781"/>
                </a:lnTo>
                <a:lnTo>
                  <a:pt x="1733" y="1909"/>
                </a:lnTo>
                <a:lnTo>
                  <a:pt x="1605" y="2037"/>
                </a:lnTo>
                <a:lnTo>
                  <a:pt x="1477" y="2121"/>
                </a:lnTo>
                <a:lnTo>
                  <a:pt x="1349" y="2249"/>
                </a:lnTo>
                <a:lnTo>
                  <a:pt x="1221" y="2338"/>
                </a:lnTo>
                <a:lnTo>
                  <a:pt x="1137" y="2466"/>
                </a:lnTo>
                <a:lnTo>
                  <a:pt x="965" y="2633"/>
                </a:lnTo>
                <a:lnTo>
                  <a:pt x="881" y="2765"/>
                </a:lnTo>
                <a:lnTo>
                  <a:pt x="837" y="2893"/>
                </a:lnTo>
                <a:lnTo>
                  <a:pt x="754" y="3021"/>
                </a:lnTo>
                <a:lnTo>
                  <a:pt x="709" y="3149"/>
                </a:lnTo>
                <a:lnTo>
                  <a:pt x="621" y="3277"/>
                </a:lnTo>
                <a:lnTo>
                  <a:pt x="537" y="3405"/>
                </a:lnTo>
                <a:lnTo>
                  <a:pt x="493" y="3533"/>
                </a:lnTo>
                <a:lnTo>
                  <a:pt x="410" y="3661"/>
                </a:lnTo>
                <a:lnTo>
                  <a:pt x="366" y="3788"/>
                </a:lnTo>
                <a:lnTo>
                  <a:pt x="198" y="3956"/>
                </a:lnTo>
                <a:lnTo>
                  <a:pt x="110" y="4088"/>
                </a:lnTo>
                <a:lnTo>
                  <a:pt x="0" y="428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187880" y="5505480"/>
            <a:ext cx="2816640" cy="1119600"/>
          </a:xfrm>
          <a:custGeom>
            <a:avLst/>
            <a:gdLst/>
            <a:ahLst/>
            <a:rect l="0" t="0" r="r" b="b"/>
            <a:pathLst>
              <a:path fill="none" w="7824" h="3110">
                <a:moveTo>
                  <a:pt x="7824" y="0"/>
                </a:moveTo>
                <a:lnTo>
                  <a:pt x="7727" y="35"/>
                </a:lnTo>
                <a:lnTo>
                  <a:pt x="7639" y="163"/>
                </a:lnTo>
                <a:lnTo>
                  <a:pt x="7511" y="251"/>
                </a:lnTo>
                <a:lnTo>
                  <a:pt x="7383" y="335"/>
                </a:lnTo>
                <a:lnTo>
                  <a:pt x="7216" y="507"/>
                </a:lnTo>
                <a:lnTo>
                  <a:pt x="7000" y="635"/>
                </a:lnTo>
                <a:lnTo>
                  <a:pt x="6872" y="674"/>
                </a:lnTo>
                <a:lnTo>
                  <a:pt x="6744" y="718"/>
                </a:lnTo>
                <a:lnTo>
                  <a:pt x="6532" y="718"/>
                </a:lnTo>
                <a:lnTo>
                  <a:pt x="6404" y="718"/>
                </a:lnTo>
                <a:lnTo>
                  <a:pt x="6277" y="718"/>
                </a:lnTo>
                <a:lnTo>
                  <a:pt x="5081" y="674"/>
                </a:lnTo>
                <a:lnTo>
                  <a:pt x="4864" y="674"/>
                </a:lnTo>
                <a:lnTo>
                  <a:pt x="4737" y="674"/>
                </a:lnTo>
                <a:lnTo>
                  <a:pt x="4309" y="635"/>
                </a:lnTo>
                <a:lnTo>
                  <a:pt x="4141" y="590"/>
                </a:lnTo>
                <a:lnTo>
                  <a:pt x="4013" y="590"/>
                </a:lnTo>
                <a:lnTo>
                  <a:pt x="3885" y="507"/>
                </a:lnTo>
                <a:lnTo>
                  <a:pt x="3713" y="463"/>
                </a:lnTo>
                <a:lnTo>
                  <a:pt x="3542" y="463"/>
                </a:lnTo>
                <a:lnTo>
                  <a:pt x="3414" y="463"/>
                </a:lnTo>
                <a:lnTo>
                  <a:pt x="3246" y="463"/>
                </a:lnTo>
                <a:lnTo>
                  <a:pt x="3118" y="463"/>
                </a:lnTo>
                <a:lnTo>
                  <a:pt x="2946" y="463"/>
                </a:lnTo>
                <a:lnTo>
                  <a:pt x="2818" y="463"/>
                </a:lnTo>
                <a:lnTo>
                  <a:pt x="2690" y="463"/>
                </a:lnTo>
                <a:lnTo>
                  <a:pt x="2563" y="463"/>
                </a:lnTo>
                <a:lnTo>
                  <a:pt x="2435" y="463"/>
                </a:lnTo>
                <a:lnTo>
                  <a:pt x="2307" y="507"/>
                </a:lnTo>
                <a:lnTo>
                  <a:pt x="2179" y="546"/>
                </a:lnTo>
                <a:lnTo>
                  <a:pt x="2007" y="590"/>
                </a:lnTo>
                <a:lnTo>
                  <a:pt x="1878" y="635"/>
                </a:lnTo>
                <a:lnTo>
                  <a:pt x="1750" y="674"/>
                </a:lnTo>
                <a:lnTo>
                  <a:pt x="1622" y="762"/>
                </a:lnTo>
                <a:lnTo>
                  <a:pt x="1494" y="847"/>
                </a:lnTo>
                <a:lnTo>
                  <a:pt x="1406" y="975"/>
                </a:lnTo>
                <a:lnTo>
                  <a:pt x="1278" y="1019"/>
                </a:lnTo>
                <a:lnTo>
                  <a:pt x="1150" y="1103"/>
                </a:lnTo>
                <a:lnTo>
                  <a:pt x="1067" y="1231"/>
                </a:lnTo>
                <a:lnTo>
                  <a:pt x="983" y="1359"/>
                </a:lnTo>
                <a:lnTo>
                  <a:pt x="855" y="1487"/>
                </a:lnTo>
                <a:lnTo>
                  <a:pt x="727" y="1659"/>
                </a:lnTo>
                <a:lnTo>
                  <a:pt x="639" y="1786"/>
                </a:lnTo>
                <a:lnTo>
                  <a:pt x="555" y="1914"/>
                </a:lnTo>
                <a:lnTo>
                  <a:pt x="511" y="2042"/>
                </a:lnTo>
                <a:lnTo>
                  <a:pt x="471" y="2170"/>
                </a:lnTo>
                <a:lnTo>
                  <a:pt x="383" y="2343"/>
                </a:lnTo>
                <a:lnTo>
                  <a:pt x="299" y="2471"/>
                </a:lnTo>
                <a:lnTo>
                  <a:pt x="255" y="2599"/>
                </a:lnTo>
                <a:lnTo>
                  <a:pt x="211" y="2727"/>
                </a:lnTo>
                <a:lnTo>
                  <a:pt x="127" y="2855"/>
                </a:lnTo>
                <a:lnTo>
                  <a:pt x="44" y="2982"/>
                </a:lnTo>
                <a:lnTo>
                  <a:pt x="0" y="311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92640" y="5886360"/>
            <a:ext cx="2711880" cy="733680"/>
          </a:xfrm>
          <a:custGeom>
            <a:avLst/>
            <a:gdLst/>
            <a:ahLst/>
            <a:rect l="0" t="0" r="r" b="b"/>
            <a:pathLst>
              <a:path fill="none" w="7533" h="2038">
                <a:moveTo>
                  <a:pt x="7533" y="432"/>
                </a:moveTo>
                <a:lnTo>
                  <a:pt x="7436" y="427"/>
                </a:lnTo>
                <a:lnTo>
                  <a:pt x="7181" y="471"/>
                </a:lnTo>
                <a:lnTo>
                  <a:pt x="7053" y="515"/>
                </a:lnTo>
                <a:lnTo>
                  <a:pt x="6881" y="515"/>
                </a:lnTo>
                <a:lnTo>
                  <a:pt x="6753" y="471"/>
                </a:lnTo>
                <a:lnTo>
                  <a:pt x="6625" y="471"/>
                </a:lnTo>
                <a:lnTo>
                  <a:pt x="6497" y="471"/>
                </a:lnTo>
                <a:lnTo>
                  <a:pt x="6369" y="427"/>
                </a:lnTo>
                <a:lnTo>
                  <a:pt x="6197" y="427"/>
                </a:lnTo>
                <a:lnTo>
                  <a:pt x="5985" y="471"/>
                </a:lnTo>
                <a:lnTo>
                  <a:pt x="5858" y="471"/>
                </a:lnTo>
                <a:lnTo>
                  <a:pt x="5730" y="515"/>
                </a:lnTo>
                <a:lnTo>
                  <a:pt x="5601" y="515"/>
                </a:lnTo>
                <a:lnTo>
                  <a:pt x="5473" y="515"/>
                </a:lnTo>
                <a:lnTo>
                  <a:pt x="5341" y="515"/>
                </a:lnTo>
                <a:lnTo>
                  <a:pt x="5173" y="471"/>
                </a:lnTo>
                <a:lnTo>
                  <a:pt x="5045" y="427"/>
                </a:lnTo>
                <a:lnTo>
                  <a:pt x="4917" y="383"/>
                </a:lnTo>
                <a:lnTo>
                  <a:pt x="4745" y="343"/>
                </a:lnTo>
                <a:lnTo>
                  <a:pt x="4617" y="299"/>
                </a:lnTo>
                <a:lnTo>
                  <a:pt x="4490" y="299"/>
                </a:lnTo>
                <a:lnTo>
                  <a:pt x="4362" y="255"/>
                </a:lnTo>
                <a:lnTo>
                  <a:pt x="4234" y="255"/>
                </a:lnTo>
                <a:lnTo>
                  <a:pt x="4062" y="171"/>
                </a:lnTo>
                <a:lnTo>
                  <a:pt x="3934" y="171"/>
                </a:lnTo>
                <a:lnTo>
                  <a:pt x="3762" y="127"/>
                </a:lnTo>
                <a:lnTo>
                  <a:pt x="3634" y="88"/>
                </a:lnTo>
                <a:lnTo>
                  <a:pt x="3467" y="88"/>
                </a:lnTo>
                <a:lnTo>
                  <a:pt x="3039" y="0"/>
                </a:lnTo>
                <a:lnTo>
                  <a:pt x="2867" y="0"/>
                </a:lnTo>
                <a:lnTo>
                  <a:pt x="2695" y="0"/>
                </a:lnTo>
                <a:lnTo>
                  <a:pt x="2567" y="44"/>
                </a:lnTo>
                <a:lnTo>
                  <a:pt x="2439" y="88"/>
                </a:lnTo>
                <a:lnTo>
                  <a:pt x="2311" y="127"/>
                </a:lnTo>
                <a:lnTo>
                  <a:pt x="2183" y="216"/>
                </a:lnTo>
                <a:lnTo>
                  <a:pt x="2055" y="255"/>
                </a:lnTo>
                <a:lnTo>
                  <a:pt x="1928" y="343"/>
                </a:lnTo>
                <a:lnTo>
                  <a:pt x="1799" y="343"/>
                </a:lnTo>
                <a:lnTo>
                  <a:pt x="1631" y="383"/>
                </a:lnTo>
                <a:lnTo>
                  <a:pt x="1503" y="427"/>
                </a:lnTo>
                <a:lnTo>
                  <a:pt x="1371" y="471"/>
                </a:lnTo>
                <a:lnTo>
                  <a:pt x="1243" y="515"/>
                </a:lnTo>
                <a:lnTo>
                  <a:pt x="1115" y="555"/>
                </a:lnTo>
                <a:lnTo>
                  <a:pt x="987" y="599"/>
                </a:lnTo>
                <a:lnTo>
                  <a:pt x="859" y="727"/>
                </a:lnTo>
                <a:lnTo>
                  <a:pt x="732" y="811"/>
                </a:lnTo>
                <a:lnTo>
                  <a:pt x="648" y="939"/>
                </a:lnTo>
                <a:lnTo>
                  <a:pt x="520" y="1028"/>
                </a:lnTo>
                <a:lnTo>
                  <a:pt x="436" y="1156"/>
                </a:lnTo>
                <a:lnTo>
                  <a:pt x="308" y="1240"/>
                </a:lnTo>
                <a:lnTo>
                  <a:pt x="220" y="1368"/>
                </a:lnTo>
                <a:lnTo>
                  <a:pt x="136" y="1495"/>
                </a:lnTo>
                <a:lnTo>
                  <a:pt x="136" y="1623"/>
                </a:lnTo>
                <a:lnTo>
                  <a:pt x="92" y="1751"/>
                </a:lnTo>
                <a:lnTo>
                  <a:pt x="48" y="1879"/>
                </a:lnTo>
                <a:lnTo>
                  <a:pt x="0" y="203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403880" y="6164280"/>
            <a:ext cx="2595960" cy="460800"/>
          </a:xfrm>
          <a:custGeom>
            <a:avLst/>
            <a:gdLst/>
            <a:ahLst/>
            <a:rect l="0" t="0" r="r" b="b"/>
            <a:pathLst>
              <a:path fill="none" w="7211" h="1280">
                <a:moveTo>
                  <a:pt x="7211" y="512"/>
                </a:moveTo>
                <a:lnTo>
                  <a:pt x="7000" y="552"/>
                </a:lnTo>
                <a:lnTo>
                  <a:pt x="6872" y="552"/>
                </a:lnTo>
                <a:lnTo>
                  <a:pt x="6744" y="552"/>
                </a:lnTo>
                <a:lnTo>
                  <a:pt x="6616" y="468"/>
                </a:lnTo>
                <a:lnTo>
                  <a:pt x="6488" y="424"/>
                </a:lnTo>
                <a:lnTo>
                  <a:pt x="6060" y="424"/>
                </a:lnTo>
                <a:lnTo>
                  <a:pt x="5933" y="424"/>
                </a:lnTo>
                <a:lnTo>
                  <a:pt x="5805" y="424"/>
                </a:lnTo>
                <a:lnTo>
                  <a:pt x="5589" y="424"/>
                </a:lnTo>
                <a:lnTo>
                  <a:pt x="5461" y="424"/>
                </a:lnTo>
                <a:lnTo>
                  <a:pt x="5332" y="424"/>
                </a:lnTo>
                <a:lnTo>
                  <a:pt x="5164" y="424"/>
                </a:lnTo>
                <a:lnTo>
                  <a:pt x="5032" y="424"/>
                </a:lnTo>
                <a:lnTo>
                  <a:pt x="4904" y="424"/>
                </a:lnTo>
                <a:lnTo>
                  <a:pt x="4737" y="424"/>
                </a:lnTo>
                <a:lnTo>
                  <a:pt x="4481" y="424"/>
                </a:lnTo>
                <a:lnTo>
                  <a:pt x="4353" y="384"/>
                </a:lnTo>
                <a:lnTo>
                  <a:pt x="4181" y="340"/>
                </a:lnTo>
                <a:lnTo>
                  <a:pt x="4009" y="255"/>
                </a:lnTo>
                <a:lnTo>
                  <a:pt x="3881" y="211"/>
                </a:lnTo>
                <a:lnTo>
                  <a:pt x="3753" y="167"/>
                </a:lnTo>
                <a:lnTo>
                  <a:pt x="3625" y="127"/>
                </a:lnTo>
                <a:lnTo>
                  <a:pt x="3453" y="39"/>
                </a:lnTo>
                <a:lnTo>
                  <a:pt x="3242" y="39"/>
                </a:lnTo>
                <a:lnTo>
                  <a:pt x="3070" y="0"/>
                </a:lnTo>
                <a:lnTo>
                  <a:pt x="2646" y="0"/>
                </a:lnTo>
                <a:lnTo>
                  <a:pt x="2430" y="0"/>
                </a:lnTo>
                <a:lnTo>
                  <a:pt x="2302" y="39"/>
                </a:lnTo>
                <a:lnTo>
                  <a:pt x="2174" y="39"/>
                </a:lnTo>
                <a:lnTo>
                  <a:pt x="2047" y="39"/>
                </a:lnTo>
                <a:lnTo>
                  <a:pt x="1875" y="39"/>
                </a:lnTo>
                <a:lnTo>
                  <a:pt x="1706" y="127"/>
                </a:lnTo>
                <a:lnTo>
                  <a:pt x="1578" y="127"/>
                </a:lnTo>
                <a:lnTo>
                  <a:pt x="1450" y="167"/>
                </a:lnTo>
                <a:lnTo>
                  <a:pt x="1322" y="211"/>
                </a:lnTo>
                <a:lnTo>
                  <a:pt x="1195" y="255"/>
                </a:lnTo>
                <a:lnTo>
                  <a:pt x="1023" y="384"/>
                </a:lnTo>
                <a:lnTo>
                  <a:pt x="895" y="468"/>
                </a:lnTo>
                <a:lnTo>
                  <a:pt x="767" y="552"/>
                </a:lnTo>
                <a:lnTo>
                  <a:pt x="639" y="640"/>
                </a:lnTo>
                <a:lnTo>
                  <a:pt x="511" y="724"/>
                </a:lnTo>
                <a:lnTo>
                  <a:pt x="383" y="807"/>
                </a:lnTo>
                <a:lnTo>
                  <a:pt x="255" y="896"/>
                </a:lnTo>
                <a:lnTo>
                  <a:pt x="127" y="1025"/>
                </a:lnTo>
                <a:lnTo>
                  <a:pt x="39" y="1152"/>
                </a:lnTo>
                <a:lnTo>
                  <a:pt x="0" y="128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35360" y="6454800"/>
            <a:ext cx="1887840" cy="170280"/>
          </a:xfrm>
          <a:custGeom>
            <a:avLst/>
            <a:gdLst/>
            <a:ahLst/>
            <a:rect l="0" t="0" r="r" b="b"/>
            <a:pathLst>
              <a:path fill="none" w="5244" h="473">
                <a:moveTo>
                  <a:pt x="5244" y="473"/>
                </a:moveTo>
                <a:lnTo>
                  <a:pt x="5116" y="429"/>
                </a:lnTo>
                <a:lnTo>
                  <a:pt x="4988" y="429"/>
                </a:lnTo>
                <a:lnTo>
                  <a:pt x="4816" y="429"/>
                </a:lnTo>
                <a:lnTo>
                  <a:pt x="4688" y="429"/>
                </a:lnTo>
                <a:lnTo>
                  <a:pt x="4432" y="390"/>
                </a:lnTo>
                <a:lnTo>
                  <a:pt x="4388" y="261"/>
                </a:lnTo>
                <a:lnTo>
                  <a:pt x="4260" y="217"/>
                </a:lnTo>
                <a:lnTo>
                  <a:pt x="4093" y="217"/>
                </a:lnTo>
                <a:lnTo>
                  <a:pt x="3921" y="217"/>
                </a:lnTo>
                <a:lnTo>
                  <a:pt x="3793" y="217"/>
                </a:lnTo>
                <a:lnTo>
                  <a:pt x="3665" y="172"/>
                </a:lnTo>
                <a:lnTo>
                  <a:pt x="3493" y="88"/>
                </a:lnTo>
                <a:lnTo>
                  <a:pt x="3365" y="44"/>
                </a:lnTo>
                <a:lnTo>
                  <a:pt x="3153" y="0"/>
                </a:lnTo>
                <a:lnTo>
                  <a:pt x="2937" y="0"/>
                </a:lnTo>
                <a:lnTo>
                  <a:pt x="2770" y="0"/>
                </a:lnTo>
                <a:lnTo>
                  <a:pt x="2597" y="44"/>
                </a:lnTo>
                <a:lnTo>
                  <a:pt x="2469" y="88"/>
                </a:lnTo>
                <a:lnTo>
                  <a:pt x="2213" y="128"/>
                </a:lnTo>
                <a:lnTo>
                  <a:pt x="1785" y="172"/>
                </a:lnTo>
                <a:lnTo>
                  <a:pt x="1658" y="172"/>
                </a:lnTo>
                <a:lnTo>
                  <a:pt x="1530" y="261"/>
                </a:lnTo>
                <a:lnTo>
                  <a:pt x="1402" y="344"/>
                </a:lnTo>
                <a:lnTo>
                  <a:pt x="1274" y="344"/>
                </a:lnTo>
                <a:lnTo>
                  <a:pt x="1146" y="344"/>
                </a:lnTo>
                <a:lnTo>
                  <a:pt x="1018" y="344"/>
                </a:lnTo>
                <a:lnTo>
                  <a:pt x="890" y="344"/>
                </a:lnTo>
                <a:lnTo>
                  <a:pt x="718" y="344"/>
                </a:lnTo>
                <a:lnTo>
                  <a:pt x="590" y="344"/>
                </a:lnTo>
                <a:lnTo>
                  <a:pt x="463" y="300"/>
                </a:lnTo>
                <a:lnTo>
                  <a:pt x="335" y="300"/>
                </a:lnTo>
                <a:lnTo>
                  <a:pt x="207" y="344"/>
                </a:lnTo>
                <a:lnTo>
                  <a:pt x="0" y="46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32400" y="1247760"/>
            <a:ext cx="3999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416560" y="25066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435400" y="3240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635200" y="6922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67040" y="10764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19480" y="17064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170240" y="189072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02280" y="36273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11400" y="40258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462560" y="414972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54760" y="4106880"/>
            <a:ext cx="35244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41840" y="4754520"/>
            <a:ext cx="3333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93000" y="4518000"/>
            <a:ext cx="3189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07040" y="53481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51680" y="49006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581880" y="4376880"/>
            <a:ext cx="36828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99200" y="62229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613480" y="58690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97560" y="56674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86520" y="637704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481120" y="326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604960" y="6825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851200" y="10652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205080" y="16956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114640" y="3998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187880" y="3600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449600" y="41227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5452920" y="4716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11760" y="64764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697360" y="6350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5402160" y="1233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140360" y="18795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5402160" y="24782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962600" y="40813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008760" y="44910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507000" y="43354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32600" y="48610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075360" y="5303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375240" y="56228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589720" y="58183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75440" y="61707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5160960" y="63324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338800" y="4535640"/>
            <a:ext cx="3240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248440" y="45086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230880" y="233280"/>
            <a:ext cx="773640" cy="875160"/>
          </a:xfrm>
          <a:custGeom>
            <a:avLst/>
            <a:gdLst/>
            <a:ahLst/>
            <a:rect l="0" t="0" r="r" b="b"/>
            <a:pathLst>
              <a:path fill="none" w="2149" h="2431">
                <a:moveTo>
                  <a:pt x="0" y="0"/>
                </a:moveTo>
                <a:lnTo>
                  <a:pt x="44" y="127"/>
                </a:lnTo>
                <a:lnTo>
                  <a:pt x="88" y="255"/>
                </a:lnTo>
                <a:lnTo>
                  <a:pt x="216" y="343"/>
                </a:lnTo>
                <a:lnTo>
                  <a:pt x="343" y="427"/>
                </a:lnTo>
                <a:lnTo>
                  <a:pt x="383" y="555"/>
                </a:lnTo>
                <a:lnTo>
                  <a:pt x="471" y="684"/>
                </a:lnTo>
                <a:lnTo>
                  <a:pt x="511" y="856"/>
                </a:lnTo>
                <a:lnTo>
                  <a:pt x="600" y="984"/>
                </a:lnTo>
                <a:lnTo>
                  <a:pt x="684" y="1112"/>
                </a:lnTo>
                <a:lnTo>
                  <a:pt x="812" y="1196"/>
                </a:lnTo>
                <a:lnTo>
                  <a:pt x="940" y="1240"/>
                </a:lnTo>
                <a:lnTo>
                  <a:pt x="1068" y="1279"/>
                </a:lnTo>
                <a:lnTo>
                  <a:pt x="1196" y="1368"/>
                </a:lnTo>
                <a:lnTo>
                  <a:pt x="1323" y="1451"/>
                </a:lnTo>
                <a:lnTo>
                  <a:pt x="1412" y="1579"/>
                </a:lnTo>
                <a:lnTo>
                  <a:pt x="1451" y="1707"/>
                </a:lnTo>
                <a:lnTo>
                  <a:pt x="1539" y="1836"/>
                </a:lnTo>
                <a:lnTo>
                  <a:pt x="1539" y="1964"/>
                </a:lnTo>
                <a:lnTo>
                  <a:pt x="1624" y="2092"/>
                </a:lnTo>
                <a:lnTo>
                  <a:pt x="1752" y="2136"/>
                </a:lnTo>
                <a:lnTo>
                  <a:pt x="1880" y="2180"/>
                </a:lnTo>
                <a:lnTo>
                  <a:pt x="2008" y="2264"/>
                </a:lnTo>
                <a:lnTo>
                  <a:pt x="2149" y="243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86600" y="4158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68960" y="4046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546200" y="1908000"/>
            <a:ext cx="5883480" cy="0"/>
            <a:chOff x="1546200" y="1908000"/>
            <a:chExt cx="5883480" cy="0"/>
          </a:xfrm>
        </p:grpSpPr>
        <p:sp>
          <p:nvSpPr>
            <p:cNvPr id="465" name=""/>
            <p:cNvSpPr/>
            <p:nvPr/>
          </p:nvSpPr>
          <p:spPr>
            <a:xfrm>
              <a:off x="1546200" y="1908000"/>
              <a:ext cx="125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97280" y="190800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81240" y="190800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51160" y="1908000"/>
              <a:ext cx="195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264280" y="1908000"/>
              <a:ext cx="9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32400" y="19080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32560" y="1908000"/>
              <a:ext cx="1797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546200" y="4379760"/>
            <a:ext cx="5913360" cy="0"/>
            <a:chOff x="1546200" y="4379760"/>
            <a:chExt cx="5913360" cy="0"/>
          </a:xfrm>
        </p:grpSpPr>
        <p:sp>
          <p:nvSpPr>
            <p:cNvPr id="473" name=""/>
            <p:cNvSpPr/>
            <p:nvPr/>
          </p:nvSpPr>
          <p:spPr>
            <a:xfrm>
              <a:off x="1546200" y="4379760"/>
              <a:ext cx="125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97280" y="437976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81240" y="437976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51160" y="4379760"/>
              <a:ext cx="195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64280" y="4379760"/>
              <a:ext cx="9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32400" y="43797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632560" y="4379760"/>
              <a:ext cx="18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546200" y="3181320"/>
            <a:ext cx="5899320" cy="0"/>
            <a:chOff x="1546200" y="3181320"/>
            <a:chExt cx="5899320" cy="0"/>
          </a:xfrm>
        </p:grpSpPr>
        <p:sp>
          <p:nvSpPr>
            <p:cNvPr id="481" name=""/>
            <p:cNvSpPr/>
            <p:nvPr/>
          </p:nvSpPr>
          <p:spPr>
            <a:xfrm>
              <a:off x="1546200" y="3181320"/>
              <a:ext cx="125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97280" y="318132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81240" y="318132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51160" y="3181320"/>
              <a:ext cx="195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64280" y="3181320"/>
              <a:ext cx="9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32400" y="31813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32560" y="3181320"/>
              <a:ext cx="1812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 txBox="1"/>
          <p:nvPr/>
        </p:nvSpPr>
        <p:spPr>
          <a:xfrm>
            <a:off x="1546200" y="16398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7199280" y="16416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546200" y="291456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7199280" y="291456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546200" y="4098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7199280" y="4113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094520" y="352440"/>
            <a:ext cx="18986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utting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re added at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desired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981080" y="228600"/>
            <a:ext cx="5029200" cy="6400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987560" y="236520"/>
            <a:ext cx="779760" cy="681480"/>
          </a:xfrm>
          <a:custGeom>
            <a:avLst/>
            <a:gdLst/>
            <a:ahLst/>
            <a:rect l="0" t="0" r="r" b="b"/>
            <a:pathLst>
              <a:path fill="none" w="2166" h="1893">
                <a:moveTo>
                  <a:pt x="2166" y="0"/>
                </a:moveTo>
                <a:lnTo>
                  <a:pt x="2166" y="141"/>
                </a:lnTo>
                <a:lnTo>
                  <a:pt x="2122" y="282"/>
                </a:lnTo>
                <a:lnTo>
                  <a:pt x="2029" y="467"/>
                </a:lnTo>
                <a:lnTo>
                  <a:pt x="1936" y="697"/>
                </a:lnTo>
                <a:lnTo>
                  <a:pt x="1888" y="882"/>
                </a:lnTo>
                <a:lnTo>
                  <a:pt x="1747" y="979"/>
                </a:lnTo>
                <a:lnTo>
                  <a:pt x="1562" y="979"/>
                </a:lnTo>
                <a:lnTo>
                  <a:pt x="1376" y="1116"/>
                </a:lnTo>
                <a:lnTo>
                  <a:pt x="1191" y="1165"/>
                </a:lnTo>
                <a:lnTo>
                  <a:pt x="1005" y="1301"/>
                </a:lnTo>
                <a:lnTo>
                  <a:pt x="912" y="1443"/>
                </a:lnTo>
                <a:lnTo>
                  <a:pt x="771" y="1488"/>
                </a:lnTo>
                <a:lnTo>
                  <a:pt x="586" y="1536"/>
                </a:lnTo>
                <a:lnTo>
                  <a:pt x="401" y="1673"/>
                </a:lnTo>
                <a:lnTo>
                  <a:pt x="264" y="1814"/>
                </a:lnTo>
                <a:lnTo>
                  <a:pt x="123" y="1862"/>
                </a:lnTo>
                <a:lnTo>
                  <a:pt x="0" y="1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81080" y="237960"/>
            <a:ext cx="1136880" cy="5191560"/>
          </a:xfrm>
          <a:custGeom>
            <a:avLst/>
            <a:gdLst/>
            <a:ahLst/>
            <a:rect l="0" t="0" r="r" b="b"/>
            <a:pathLst>
              <a:path fill="none" w="3158" h="14421">
                <a:moveTo>
                  <a:pt x="3140" y="0"/>
                </a:moveTo>
                <a:lnTo>
                  <a:pt x="3158" y="92"/>
                </a:lnTo>
                <a:lnTo>
                  <a:pt x="3114" y="277"/>
                </a:lnTo>
                <a:lnTo>
                  <a:pt x="3114" y="463"/>
                </a:lnTo>
                <a:lnTo>
                  <a:pt x="3114" y="648"/>
                </a:lnTo>
                <a:lnTo>
                  <a:pt x="2973" y="833"/>
                </a:lnTo>
                <a:lnTo>
                  <a:pt x="2880" y="974"/>
                </a:lnTo>
                <a:lnTo>
                  <a:pt x="2739" y="1111"/>
                </a:lnTo>
                <a:lnTo>
                  <a:pt x="2554" y="1296"/>
                </a:lnTo>
                <a:lnTo>
                  <a:pt x="2510" y="1437"/>
                </a:lnTo>
                <a:lnTo>
                  <a:pt x="2417" y="1622"/>
                </a:lnTo>
                <a:lnTo>
                  <a:pt x="2324" y="1807"/>
                </a:lnTo>
                <a:lnTo>
                  <a:pt x="2232" y="1993"/>
                </a:lnTo>
                <a:lnTo>
                  <a:pt x="2139" y="2134"/>
                </a:lnTo>
                <a:lnTo>
                  <a:pt x="1998" y="2271"/>
                </a:lnTo>
                <a:lnTo>
                  <a:pt x="1954" y="2412"/>
                </a:lnTo>
                <a:lnTo>
                  <a:pt x="1813" y="2504"/>
                </a:lnTo>
                <a:lnTo>
                  <a:pt x="1720" y="2689"/>
                </a:lnTo>
                <a:lnTo>
                  <a:pt x="1578" y="2831"/>
                </a:lnTo>
                <a:lnTo>
                  <a:pt x="1393" y="2967"/>
                </a:lnTo>
                <a:lnTo>
                  <a:pt x="1300" y="3108"/>
                </a:lnTo>
                <a:lnTo>
                  <a:pt x="1208" y="3294"/>
                </a:lnTo>
                <a:lnTo>
                  <a:pt x="1071" y="3479"/>
                </a:lnTo>
                <a:lnTo>
                  <a:pt x="974" y="3621"/>
                </a:lnTo>
                <a:lnTo>
                  <a:pt x="789" y="3758"/>
                </a:lnTo>
                <a:lnTo>
                  <a:pt x="652" y="3899"/>
                </a:lnTo>
                <a:lnTo>
                  <a:pt x="511" y="3943"/>
                </a:lnTo>
                <a:lnTo>
                  <a:pt x="374" y="4084"/>
                </a:lnTo>
                <a:lnTo>
                  <a:pt x="233" y="4177"/>
                </a:lnTo>
                <a:lnTo>
                  <a:pt x="141" y="4362"/>
                </a:lnTo>
                <a:lnTo>
                  <a:pt x="48" y="4503"/>
                </a:lnTo>
                <a:lnTo>
                  <a:pt x="0" y="4688"/>
                </a:lnTo>
                <a:lnTo>
                  <a:pt x="92" y="4873"/>
                </a:lnTo>
                <a:lnTo>
                  <a:pt x="189" y="5058"/>
                </a:lnTo>
                <a:lnTo>
                  <a:pt x="233" y="5288"/>
                </a:lnTo>
                <a:lnTo>
                  <a:pt x="282" y="5429"/>
                </a:lnTo>
                <a:lnTo>
                  <a:pt x="326" y="5614"/>
                </a:lnTo>
                <a:lnTo>
                  <a:pt x="418" y="5755"/>
                </a:lnTo>
                <a:lnTo>
                  <a:pt x="511" y="5984"/>
                </a:lnTo>
                <a:lnTo>
                  <a:pt x="652" y="6126"/>
                </a:lnTo>
                <a:lnTo>
                  <a:pt x="745" y="6267"/>
                </a:lnTo>
                <a:lnTo>
                  <a:pt x="837" y="6452"/>
                </a:lnTo>
                <a:lnTo>
                  <a:pt x="930" y="6637"/>
                </a:lnTo>
                <a:lnTo>
                  <a:pt x="1071" y="6822"/>
                </a:lnTo>
                <a:lnTo>
                  <a:pt x="1164" y="7008"/>
                </a:lnTo>
                <a:lnTo>
                  <a:pt x="1208" y="7149"/>
                </a:lnTo>
                <a:lnTo>
                  <a:pt x="1300" y="7334"/>
                </a:lnTo>
                <a:lnTo>
                  <a:pt x="1300" y="7519"/>
                </a:lnTo>
                <a:lnTo>
                  <a:pt x="1300" y="7704"/>
                </a:lnTo>
                <a:lnTo>
                  <a:pt x="1300" y="7934"/>
                </a:lnTo>
                <a:lnTo>
                  <a:pt x="1349" y="8123"/>
                </a:lnTo>
                <a:lnTo>
                  <a:pt x="1393" y="8308"/>
                </a:lnTo>
                <a:lnTo>
                  <a:pt x="1534" y="8494"/>
                </a:lnTo>
                <a:lnTo>
                  <a:pt x="1672" y="8723"/>
                </a:lnTo>
                <a:lnTo>
                  <a:pt x="1764" y="8864"/>
                </a:lnTo>
                <a:lnTo>
                  <a:pt x="1813" y="9005"/>
                </a:lnTo>
                <a:lnTo>
                  <a:pt x="1954" y="9234"/>
                </a:lnTo>
                <a:lnTo>
                  <a:pt x="2047" y="9376"/>
                </a:lnTo>
                <a:lnTo>
                  <a:pt x="2232" y="9561"/>
                </a:lnTo>
                <a:lnTo>
                  <a:pt x="2324" y="9746"/>
                </a:lnTo>
                <a:lnTo>
                  <a:pt x="2417" y="9887"/>
                </a:lnTo>
                <a:lnTo>
                  <a:pt x="2461" y="10072"/>
                </a:lnTo>
                <a:lnTo>
                  <a:pt x="2554" y="10258"/>
                </a:lnTo>
                <a:lnTo>
                  <a:pt x="2602" y="10443"/>
                </a:lnTo>
                <a:lnTo>
                  <a:pt x="2602" y="10628"/>
                </a:lnTo>
                <a:lnTo>
                  <a:pt x="2602" y="10769"/>
                </a:lnTo>
                <a:lnTo>
                  <a:pt x="2646" y="11092"/>
                </a:lnTo>
                <a:lnTo>
                  <a:pt x="2695" y="11233"/>
                </a:lnTo>
                <a:lnTo>
                  <a:pt x="2695" y="11462"/>
                </a:lnTo>
                <a:lnTo>
                  <a:pt x="2646" y="11696"/>
                </a:lnTo>
                <a:lnTo>
                  <a:pt x="2646" y="11837"/>
                </a:lnTo>
                <a:lnTo>
                  <a:pt x="2602" y="12022"/>
                </a:lnTo>
                <a:lnTo>
                  <a:pt x="2461" y="12159"/>
                </a:lnTo>
                <a:lnTo>
                  <a:pt x="2417" y="12300"/>
                </a:lnTo>
                <a:lnTo>
                  <a:pt x="2276" y="12441"/>
                </a:lnTo>
                <a:lnTo>
                  <a:pt x="2139" y="12627"/>
                </a:lnTo>
                <a:lnTo>
                  <a:pt x="1998" y="12763"/>
                </a:lnTo>
                <a:lnTo>
                  <a:pt x="1906" y="12904"/>
                </a:lnTo>
                <a:lnTo>
                  <a:pt x="1764" y="13134"/>
                </a:lnTo>
                <a:lnTo>
                  <a:pt x="1672" y="13275"/>
                </a:lnTo>
                <a:lnTo>
                  <a:pt x="1628" y="13416"/>
                </a:lnTo>
                <a:lnTo>
                  <a:pt x="1628" y="13601"/>
                </a:lnTo>
                <a:lnTo>
                  <a:pt x="1578" y="13786"/>
                </a:lnTo>
                <a:lnTo>
                  <a:pt x="1393" y="13879"/>
                </a:lnTo>
                <a:lnTo>
                  <a:pt x="1208" y="14016"/>
                </a:lnTo>
                <a:lnTo>
                  <a:pt x="1071" y="14157"/>
                </a:lnTo>
                <a:lnTo>
                  <a:pt x="930" y="14157"/>
                </a:lnTo>
                <a:lnTo>
                  <a:pt x="745" y="14157"/>
                </a:lnTo>
                <a:lnTo>
                  <a:pt x="604" y="14157"/>
                </a:lnTo>
                <a:lnTo>
                  <a:pt x="418" y="14249"/>
                </a:lnTo>
                <a:lnTo>
                  <a:pt x="282" y="14390"/>
                </a:lnTo>
                <a:lnTo>
                  <a:pt x="13" y="1442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998720" y="236520"/>
            <a:ext cx="1554480" cy="5832720"/>
          </a:xfrm>
          <a:custGeom>
            <a:avLst/>
            <a:gdLst/>
            <a:ahLst/>
            <a:rect l="0" t="0" r="r" b="b"/>
            <a:pathLst>
              <a:path fill="none" w="4318" h="16202">
                <a:moveTo>
                  <a:pt x="4318" y="0"/>
                </a:moveTo>
                <a:lnTo>
                  <a:pt x="4318" y="189"/>
                </a:lnTo>
                <a:lnTo>
                  <a:pt x="4318" y="374"/>
                </a:lnTo>
                <a:lnTo>
                  <a:pt x="4318" y="604"/>
                </a:lnTo>
                <a:lnTo>
                  <a:pt x="4269" y="745"/>
                </a:lnTo>
                <a:lnTo>
                  <a:pt x="4177" y="930"/>
                </a:lnTo>
                <a:lnTo>
                  <a:pt x="4084" y="1071"/>
                </a:lnTo>
                <a:lnTo>
                  <a:pt x="3947" y="1256"/>
                </a:lnTo>
                <a:lnTo>
                  <a:pt x="3855" y="1441"/>
                </a:lnTo>
                <a:lnTo>
                  <a:pt x="3762" y="1627"/>
                </a:lnTo>
                <a:lnTo>
                  <a:pt x="3621" y="1812"/>
                </a:lnTo>
                <a:lnTo>
                  <a:pt x="3572" y="1953"/>
                </a:lnTo>
                <a:lnTo>
                  <a:pt x="3436" y="2138"/>
                </a:lnTo>
                <a:lnTo>
                  <a:pt x="3295" y="2275"/>
                </a:lnTo>
                <a:lnTo>
                  <a:pt x="3202" y="2416"/>
                </a:lnTo>
                <a:lnTo>
                  <a:pt x="3017" y="2601"/>
                </a:lnTo>
                <a:lnTo>
                  <a:pt x="2924" y="2742"/>
                </a:lnTo>
                <a:lnTo>
                  <a:pt x="2832" y="2928"/>
                </a:lnTo>
                <a:lnTo>
                  <a:pt x="2739" y="3113"/>
                </a:lnTo>
                <a:lnTo>
                  <a:pt x="2690" y="3298"/>
                </a:lnTo>
                <a:lnTo>
                  <a:pt x="2554" y="3483"/>
                </a:lnTo>
                <a:lnTo>
                  <a:pt x="2505" y="3624"/>
                </a:lnTo>
                <a:lnTo>
                  <a:pt x="2369" y="3810"/>
                </a:lnTo>
                <a:lnTo>
                  <a:pt x="2276" y="3995"/>
                </a:lnTo>
                <a:lnTo>
                  <a:pt x="2183" y="4224"/>
                </a:lnTo>
                <a:lnTo>
                  <a:pt x="2183" y="4365"/>
                </a:lnTo>
                <a:lnTo>
                  <a:pt x="2183" y="4506"/>
                </a:lnTo>
                <a:lnTo>
                  <a:pt x="2183" y="4691"/>
                </a:lnTo>
                <a:lnTo>
                  <a:pt x="2090" y="4877"/>
                </a:lnTo>
                <a:lnTo>
                  <a:pt x="2041" y="5106"/>
                </a:lnTo>
                <a:lnTo>
                  <a:pt x="2134" y="5291"/>
                </a:lnTo>
                <a:lnTo>
                  <a:pt x="2227" y="5481"/>
                </a:lnTo>
                <a:lnTo>
                  <a:pt x="2320" y="5666"/>
                </a:lnTo>
                <a:lnTo>
                  <a:pt x="2369" y="5851"/>
                </a:lnTo>
                <a:lnTo>
                  <a:pt x="2505" y="6036"/>
                </a:lnTo>
                <a:lnTo>
                  <a:pt x="2598" y="6270"/>
                </a:lnTo>
                <a:lnTo>
                  <a:pt x="2739" y="6455"/>
                </a:lnTo>
                <a:lnTo>
                  <a:pt x="2880" y="6592"/>
                </a:lnTo>
                <a:lnTo>
                  <a:pt x="2973" y="6777"/>
                </a:lnTo>
                <a:lnTo>
                  <a:pt x="3065" y="6918"/>
                </a:lnTo>
                <a:lnTo>
                  <a:pt x="3158" y="7152"/>
                </a:lnTo>
                <a:lnTo>
                  <a:pt x="3295" y="7430"/>
                </a:lnTo>
                <a:lnTo>
                  <a:pt x="3436" y="7615"/>
                </a:lnTo>
                <a:lnTo>
                  <a:pt x="3480" y="7800"/>
                </a:lnTo>
                <a:lnTo>
                  <a:pt x="3528" y="7986"/>
                </a:lnTo>
                <a:lnTo>
                  <a:pt x="3528" y="8128"/>
                </a:lnTo>
                <a:lnTo>
                  <a:pt x="3572" y="8313"/>
                </a:lnTo>
                <a:lnTo>
                  <a:pt x="3669" y="8498"/>
                </a:lnTo>
                <a:lnTo>
                  <a:pt x="3855" y="8727"/>
                </a:lnTo>
                <a:lnTo>
                  <a:pt x="3855" y="8868"/>
                </a:lnTo>
                <a:lnTo>
                  <a:pt x="3899" y="9010"/>
                </a:lnTo>
                <a:lnTo>
                  <a:pt x="3947" y="9195"/>
                </a:lnTo>
                <a:lnTo>
                  <a:pt x="3947" y="9380"/>
                </a:lnTo>
                <a:lnTo>
                  <a:pt x="3899" y="9565"/>
                </a:lnTo>
                <a:lnTo>
                  <a:pt x="3855" y="9750"/>
                </a:lnTo>
                <a:lnTo>
                  <a:pt x="3855" y="9892"/>
                </a:lnTo>
                <a:lnTo>
                  <a:pt x="3806" y="10077"/>
                </a:lnTo>
                <a:lnTo>
                  <a:pt x="3762" y="10306"/>
                </a:lnTo>
                <a:lnTo>
                  <a:pt x="3806" y="10491"/>
                </a:lnTo>
                <a:lnTo>
                  <a:pt x="3806" y="10632"/>
                </a:lnTo>
                <a:lnTo>
                  <a:pt x="3806" y="10773"/>
                </a:lnTo>
                <a:lnTo>
                  <a:pt x="3806" y="10959"/>
                </a:lnTo>
                <a:lnTo>
                  <a:pt x="3762" y="11144"/>
                </a:lnTo>
                <a:lnTo>
                  <a:pt x="3713" y="11329"/>
                </a:lnTo>
                <a:lnTo>
                  <a:pt x="3669" y="11514"/>
                </a:lnTo>
                <a:lnTo>
                  <a:pt x="3621" y="11699"/>
                </a:lnTo>
                <a:lnTo>
                  <a:pt x="3572" y="11885"/>
                </a:lnTo>
                <a:lnTo>
                  <a:pt x="3528" y="12026"/>
                </a:lnTo>
                <a:lnTo>
                  <a:pt x="3480" y="12211"/>
                </a:lnTo>
                <a:lnTo>
                  <a:pt x="3436" y="12396"/>
                </a:lnTo>
                <a:lnTo>
                  <a:pt x="3387" y="12581"/>
                </a:lnTo>
                <a:lnTo>
                  <a:pt x="3387" y="12723"/>
                </a:lnTo>
                <a:lnTo>
                  <a:pt x="3250" y="13044"/>
                </a:lnTo>
                <a:lnTo>
                  <a:pt x="3202" y="13186"/>
                </a:lnTo>
                <a:lnTo>
                  <a:pt x="3109" y="13419"/>
                </a:lnTo>
                <a:lnTo>
                  <a:pt x="3017" y="13604"/>
                </a:lnTo>
                <a:lnTo>
                  <a:pt x="2924" y="13834"/>
                </a:lnTo>
                <a:lnTo>
                  <a:pt x="2787" y="14068"/>
                </a:lnTo>
                <a:lnTo>
                  <a:pt x="2646" y="14531"/>
                </a:lnTo>
                <a:lnTo>
                  <a:pt x="2598" y="14672"/>
                </a:lnTo>
                <a:lnTo>
                  <a:pt x="2369" y="14808"/>
                </a:lnTo>
                <a:lnTo>
                  <a:pt x="2227" y="14901"/>
                </a:lnTo>
                <a:lnTo>
                  <a:pt x="2041" y="15042"/>
                </a:lnTo>
                <a:lnTo>
                  <a:pt x="1578" y="15183"/>
                </a:lnTo>
                <a:lnTo>
                  <a:pt x="1393" y="15276"/>
                </a:lnTo>
                <a:lnTo>
                  <a:pt x="1208" y="15320"/>
                </a:lnTo>
                <a:lnTo>
                  <a:pt x="926" y="15412"/>
                </a:lnTo>
                <a:lnTo>
                  <a:pt x="740" y="15505"/>
                </a:lnTo>
                <a:lnTo>
                  <a:pt x="555" y="15646"/>
                </a:lnTo>
                <a:lnTo>
                  <a:pt x="418" y="15831"/>
                </a:lnTo>
                <a:lnTo>
                  <a:pt x="277" y="15924"/>
                </a:lnTo>
                <a:lnTo>
                  <a:pt x="92" y="16017"/>
                </a:lnTo>
                <a:lnTo>
                  <a:pt x="0" y="16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987560" y="790560"/>
            <a:ext cx="2018160" cy="5664600"/>
          </a:xfrm>
          <a:custGeom>
            <a:avLst/>
            <a:gdLst/>
            <a:ahLst/>
            <a:rect l="0" t="0" r="r" b="b"/>
            <a:pathLst>
              <a:path fill="none" w="5606" h="15735">
                <a:moveTo>
                  <a:pt x="5606" y="0"/>
                </a:moveTo>
                <a:lnTo>
                  <a:pt x="5452" y="282"/>
                </a:lnTo>
                <a:lnTo>
                  <a:pt x="5373" y="370"/>
                </a:lnTo>
                <a:lnTo>
                  <a:pt x="5320" y="436"/>
                </a:lnTo>
                <a:lnTo>
                  <a:pt x="5289" y="542"/>
                </a:lnTo>
                <a:lnTo>
                  <a:pt x="5267" y="626"/>
                </a:lnTo>
                <a:lnTo>
                  <a:pt x="5223" y="705"/>
                </a:lnTo>
                <a:lnTo>
                  <a:pt x="5196" y="798"/>
                </a:lnTo>
                <a:lnTo>
                  <a:pt x="5156" y="864"/>
                </a:lnTo>
                <a:lnTo>
                  <a:pt x="5104" y="926"/>
                </a:lnTo>
                <a:lnTo>
                  <a:pt x="4984" y="1031"/>
                </a:lnTo>
                <a:lnTo>
                  <a:pt x="4857" y="1164"/>
                </a:lnTo>
                <a:lnTo>
                  <a:pt x="4790" y="1274"/>
                </a:lnTo>
                <a:lnTo>
                  <a:pt x="4773" y="1349"/>
                </a:lnTo>
                <a:lnTo>
                  <a:pt x="4720" y="1508"/>
                </a:lnTo>
                <a:lnTo>
                  <a:pt x="4588" y="1640"/>
                </a:lnTo>
                <a:lnTo>
                  <a:pt x="4455" y="1852"/>
                </a:lnTo>
                <a:lnTo>
                  <a:pt x="4402" y="1904"/>
                </a:lnTo>
                <a:lnTo>
                  <a:pt x="4349" y="2063"/>
                </a:lnTo>
                <a:lnTo>
                  <a:pt x="4297" y="2169"/>
                </a:lnTo>
                <a:lnTo>
                  <a:pt x="4190" y="2301"/>
                </a:lnTo>
                <a:lnTo>
                  <a:pt x="4190" y="2487"/>
                </a:lnTo>
                <a:lnTo>
                  <a:pt x="4110" y="2778"/>
                </a:lnTo>
                <a:lnTo>
                  <a:pt x="4110" y="2751"/>
                </a:lnTo>
                <a:lnTo>
                  <a:pt x="4057" y="2963"/>
                </a:lnTo>
                <a:lnTo>
                  <a:pt x="3978" y="2826"/>
                </a:lnTo>
                <a:lnTo>
                  <a:pt x="4110" y="3333"/>
                </a:lnTo>
                <a:lnTo>
                  <a:pt x="4217" y="3492"/>
                </a:lnTo>
                <a:lnTo>
                  <a:pt x="4137" y="3598"/>
                </a:lnTo>
                <a:lnTo>
                  <a:pt x="4217" y="3810"/>
                </a:lnTo>
                <a:lnTo>
                  <a:pt x="4244" y="3969"/>
                </a:lnTo>
                <a:lnTo>
                  <a:pt x="4323" y="4102"/>
                </a:lnTo>
                <a:lnTo>
                  <a:pt x="4429" y="4260"/>
                </a:lnTo>
                <a:lnTo>
                  <a:pt x="4508" y="4393"/>
                </a:lnTo>
                <a:lnTo>
                  <a:pt x="4588" y="4551"/>
                </a:lnTo>
                <a:lnTo>
                  <a:pt x="4614" y="4684"/>
                </a:lnTo>
                <a:lnTo>
                  <a:pt x="4641" y="4763"/>
                </a:lnTo>
                <a:lnTo>
                  <a:pt x="4614" y="4895"/>
                </a:lnTo>
                <a:lnTo>
                  <a:pt x="4588" y="5107"/>
                </a:lnTo>
                <a:lnTo>
                  <a:pt x="4561" y="5345"/>
                </a:lnTo>
                <a:lnTo>
                  <a:pt x="4482" y="5504"/>
                </a:lnTo>
                <a:lnTo>
                  <a:pt x="4349" y="5658"/>
                </a:lnTo>
                <a:lnTo>
                  <a:pt x="4349" y="5799"/>
                </a:lnTo>
                <a:lnTo>
                  <a:pt x="4394" y="5984"/>
                </a:lnTo>
                <a:lnTo>
                  <a:pt x="4442" y="6170"/>
                </a:lnTo>
                <a:lnTo>
                  <a:pt x="4442" y="6355"/>
                </a:lnTo>
                <a:lnTo>
                  <a:pt x="4442" y="6496"/>
                </a:lnTo>
                <a:lnTo>
                  <a:pt x="4442" y="6681"/>
                </a:lnTo>
                <a:lnTo>
                  <a:pt x="4486" y="6911"/>
                </a:lnTo>
                <a:lnTo>
                  <a:pt x="4535" y="7052"/>
                </a:lnTo>
                <a:lnTo>
                  <a:pt x="4627" y="7237"/>
                </a:lnTo>
                <a:lnTo>
                  <a:pt x="4676" y="7422"/>
                </a:lnTo>
                <a:lnTo>
                  <a:pt x="4720" y="7563"/>
                </a:lnTo>
                <a:lnTo>
                  <a:pt x="4768" y="7792"/>
                </a:lnTo>
                <a:lnTo>
                  <a:pt x="4813" y="7934"/>
                </a:lnTo>
                <a:lnTo>
                  <a:pt x="4813" y="8211"/>
                </a:lnTo>
                <a:lnTo>
                  <a:pt x="4813" y="8445"/>
                </a:lnTo>
                <a:lnTo>
                  <a:pt x="4813" y="8630"/>
                </a:lnTo>
                <a:lnTo>
                  <a:pt x="4813" y="8908"/>
                </a:lnTo>
                <a:lnTo>
                  <a:pt x="4861" y="9371"/>
                </a:lnTo>
                <a:lnTo>
                  <a:pt x="4861" y="9605"/>
                </a:lnTo>
                <a:lnTo>
                  <a:pt x="4861" y="10068"/>
                </a:lnTo>
                <a:lnTo>
                  <a:pt x="4813" y="10209"/>
                </a:lnTo>
                <a:lnTo>
                  <a:pt x="4720" y="10394"/>
                </a:lnTo>
                <a:lnTo>
                  <a:pt x="4535" y="11091"/>
                </a:lnTo>
                <a:lnTo>
                  <a:pt x="4394" y="11320"/>
                </a:lnTo>
                <a:lnTo>
                  <a:pt x="4349" y="11461"/>
                </a:lnTo>
                <a:lnTo>
                  <a:pt x="4257" y="12948"/>
                </a:lnTo>
                <a:lnTo>
                  <a:pt x="4163" y="13134"/>
                </a:lnTo>
                <a:lnTo>
                  <a:pt x="4022" y="13270"/>
                </a:lnTo>
                <a:lnTo>
                  <a:pt x="3885" y="13411"/>
                </a:lnTo>
                <a:lnTo>
                  <a:pt x="3793" y="13553"/>
                </a:lnTo>
                <a:lnTo>
                  <a:pt x="3652" y="13689"/>
                </a:lnTo>
                <a:lnTo>
                  <a:pt x="3511" y="13782"/>
                </a:lnTo>
                <a:lnTo>
                  <a:pt x="3281" y="14016"/>
                </a:lnTo>
                <a:lnTo>
                  <a:pt x="3140" y="14201"/>
                </a:lnTo>
                <a:lnTo>
                  <a:pt x="1703" y="14849"/>
                </a:lnTo>
                <a:lnTo>
                  <a:pt x="1562" y="14898"/>
                </a:lnTo>
                <a:lnTo>
                  <a:pt x="1375" y="14898"/>
                </a:lnTo>
                <a:lnTo>
                  <a:pt x="1146" y="15083"/>
                </a:lnTo>
                <a:lnTo>
                  <a:pt x="1005" y="15219"/>
                </a:lnTo>
                <a:lnTo>
                  <a:pt x="864" y="15268"/>
                </a:lnTo>
                <a:lnTo>
                  <a:pt x="679" y="15316"/>
                </a:lnTo>
                <a:lnTo>
                  <a:pt x="493" y="15409"/>
                </a:lnTo>
                <a:lnTo>
                  <a:pt x="308" y="15453"/>
                </a:lnTo>
                <a:lnTo>
                  <a:pt x="264" y="15594"/>
                </a:lnTo>
                <a:lnTo>
                  <a:pt x="123" y="15687"/>
                </a:lnTo>
                <a:lnTo>
                  <a:pt x="0" y="1573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90800" y="3540240"/>
            <a:ext cx="359280" cy="1184760"/>
          </a:xfrm>
          <a:custGeom>
            <a:avLst/>
            <a:gdLst/>
            <a:ahLst/>
            <a:rect l="0" t="0" r="r" b="b"/>
            <a:pathLst>
              <a:path fill="none" w="998" h="3291">
                <a:moveTo>
                  <a:pt x="0" y="0"/>
                </a:moveTo>
                <a:lnTo>
                  <a:pt x="52" y="158"/>
                </a:lnTo>
                <a:lnTo>
                  <a:pt x="97" y="326"/>
                </a:lnTo>
                <a:lnTo>
                  <a:pt x="163" y="480"/>
                </a:lnTo>
                <a:lnTo>
                  <a:pt x="256" y="621"/>
                </a:lnTo>
                <a:lnTo>
                  <a:pt x="441" y="714"/>
                </a:lnTo>
                <a:lnTo>
                  <a:pt x="627" y="806"/>
                </a:lnTo>
                <a:lnTo>
                  <a:pt x="813" y="944"/>
                </a:lnTo>
                <a:lnTo>
                  <a:pt x="905" y="1085"/>
                </a:lnTo>
                <a:lnTo>
                  <a:pt x="998" y="1271"/>
                </a:lnTo>
                <a:lnTo>
                  <a:pt x="998" y="1456"/>
                </a:lnTo>
                <a:lnTo>
                  <a:pt x="998" y="1597"/>
                </a:lnTo>
                <a:lnTo>
                  <a:pt x="950" y="1826"/>
                </a:lnTo>
                <a:lnTo>
                  <a:pt x="813" y="1967"/>
                </a:lnTo>
                <a:lnTo>
                  <a:pt x="671" y="2104"/>
                </a:lnTo>
                <a:lnTo>
                  <a:pt x="627" y="2245"/>
                </a:lnTo>
                <a:lnTo>
                  <a:pt x="627" y="2386"/>
                </a:lnTo>
                <a:lnTo>
                  <a:pt x="534" y="2572"/>
                </a:lnTo>
                <a:lnTo>
                  <a:pt x="393" y="2665"/>
                </a:lnTo>
                <a:lnTo>
                  <a:pt x="256" y="2850"/>
                </a:lnTo>
                <a:lnTo>
                  <a:pt x="114" y="2987"/>
                </a:lnTo>
                <a:lnTo>
                  <a:pt x="0" y="329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749680" y="1357200"/>
            <a:ext cx="1756080" cy="5262840"/>
          </a:xfrm>
          <a:custGeom>
            <a:avLst/>
            <a:gdLst/>
            <a:ahLst/>
            <a:rect l="0" t="0" r="r" b="b"/>
            <a:pathLst>
              <a:path fill="none" w="4878" h="14619">
                <a:moveTo>
                  <a:pt x="3211" y="0"/>
                </a:moveTo>
                <a:lnTo>
                  <a:pt x="3250" y="489"/>
                </a:lnTo>
                <a:lnTo>
                  <a:pt x="3211" y="661"/>
                </a:lnTo>
                <a:lnTo>
                  <a:pt x="3224" y="767"/>
                </a:lnTo>
                <a:lnTo>
                  <a:pt x="3237" y="886"/>
                </a:lnTo>
                <a:lnTo>
                  <a:pt x="3277" y="965"/>
                </a:lnTo>
                <a:lnTo>
                  <a:pt x="3303" y="1018"/>
                </a:lnTo>
                <a:lnTo>
                  <a:pt x="3303" y="1111"/>
                </a:lnTo>
                <a:lnTo>
                  <a:pt x="3303" y="1124"/>
                </a:lnTo>
                <a:lnTo>
                  <a:pt x="3290" y="1137"/>
                </a:lnTo>
                <a:lnTo>
                  <a:pt x="3277" y="1190"/>
                </a:lnTo>
                <a:lnTo>
                  <a:pt x="3237" y="1270"/>
                </a:lnTo>
                <a:lnTo>
                  <a:pt x="3184" y="1283"/>
                </a:lnTo>
                <a:lnTo>
                  <a:pt x="3211" y="1389"/>
                </a:lnTo>
                <a:lnTo>
                  <a:pt x="3211" y="1455"/>
                </a:lnTo>
                <a:lnTo>
                  <a:pt x="3184" y="1508"/>
                </a:lnTo>
                <a:lnTo>
                  <a:pt x="3145" y="1653"/>
                </a:lnTo>
                <a:lnTo>
                  <a:pt x="3105" y="1746"/>
                </a:lnTo>
                <a:lnTo>
                  <a:pt x="3078" y="1905"/>
                </a:lnTo>
                <a:lnTo>
                  <a:pt x="3078" y="2037"/>
                </a:lnTo>
                <a:lnTo>
                  <a:pt x="3065" y="2222"/>
                </a:lnTo>
                <a:lnTo>
                  <a:pt x="3043" y="2332"/>
                </a:lnTo>
                <a:lnTo>
                  <a:pt x="3176" y="2456"/>
                </a:lnTo>
                <a:lnTo>
                  <a:pt x="3237" y="2597"/>
                </a:lnTo>
                <a:lnTo>
                  <a:pt x="3308" y="2729"/>
                </a:lnTo>
                <a:lnTo>
                  <a:pt x="3334" y="2861"/>
                </a:lnTo>
                <a:lnTo>
                  <a:pt x="3533" y="3016"/>
                </a:lnTo>
                <a:lnTo>
                  <a:pt x="3533" y="3157"/>
                </a:lnTo>
                <a:lnTo>
                  <a:pt x="3625" y="3386"/>
                </a:lnTo>
                <a:lnTo>
                  <a:pt x="3669" y="3527"/>
                </a:lnTo>
                <a:lnTo>
                  <a:pt x="3811" y="3757"/>
                </a:lnTo>
                <a:lnTo>
                  <a:pt x="3903" y="3898"/>
                </a:lnTo>
                <a:lnTo>
                  <a:pt x="3996" y="4083"/>
                </a:lnTo>
                <a:lnTo>
                  <a:pt x="4040" y="4224"/>
                </a:lnTo>
                <a:lnTo>
                  <a:pt x="4132" y="4409"/>
                </a:lnTo>
                <a:lnTo>
                  <a:pt x="4181" y="4594"/>
                </a:lnTo>
                <a:lnTo>
                  <a:pt x="4274" y="4780"/>
                </a:lnTo>
                <a:lnTo>
                  <a:pt x="4322" y="4965"/>
                </a:lnTo>
                <a:lnTo>
                  <a:pt x="4366" y="5106"/>
                </a:lnTo>
                <a:lnTo>
                  <a:pt x="4415" y="5291"/>
                </a:lnTo>
                <a:lnTo>
                  <a:pt x="4507" y="5569"/>
                </a:lnTo>
                <a:lnTo>
                  <a:pt x="4551" y="5803"/>
                </a:lnTo>
                <a:lnTo>
                  <a:pt x="4551" y="5988"/>
                </a:lnTo>
                <a:lnTo>
                  <a:pt x="4644" y="6173"/>
                </a:lnTo>
                <a:lnTo>
                  <a:pt x="4644" y="6402"/>
                </a:lnTo>
                <a:lnTo>
                  <a:pt x="4644" y="6544"/>
                </a:lnTo>
                <a:lnTo>
                  <a:pt x="4644" y="6729"/>
                </a:lnTo>
                <a:lnTo>
                  <a:pt x="4644" y="6914"/>
                </a:lnTo>
                <a:lnTo>
                  <a:pt x="4644" y="7055"/>
                </a:lnTo>
                <a:lnTo>
                  <a:pt x="4644" y="7378"/>
                </a:lnTo>
                <a:lnTo>
                  <a:pt x="4644" y="7519"/>
                </a:lnTo>
                <a:lnTo>
                  <a:pt x="4551" y="7660"/>
                </a:lnTo>
                <a:lnTo>
                  <a:pt x="4459" y="7889"/>
                </a:lnTo>
                <a:lnTo>
                  <a:pt x="4600" y="8308"/>
                </a:lnTo>
                <a:lnTo>
                  <a:pt x="4878" y="8586"/>
                </a:lnTo>
                <a:lnTo>
                  <a:pt x="4878" y="8820"/>
                </a:lnTo>
                <a:lnTo>
                  <a:pt x="4878" y="8913"/>
                </a:lnTo>
                <a:lnTo>
                  <a:pt x="4878" y="8913"/>
                </a:lnTo>
                <a:lnTo>
                  <a:pt x="4644" y="9098"/>
                </a:lnTo>
                <a:lnTo>
                  <a:pt x="4644" y="9283"/>
                </a:lnTo>
                <a:lnTo>
                  <a:pt x="4551" y="9468"/>
                </a:lnTo>
                <a:lnTo>
                  <a:pt x="4459" y="9653"/>
                </a:lnTo>
                <a:lnTo>
                  <a:pt x="4322" y="9746"/>
                </a:lnTo>
                <a:lnTo>
                  <a:pt x="4088" y="9931"/>
                </a:lnTo>
                <a:lnTo>
                  <a:pt x="3996" y="10165"/>
                </a:lnTo>
                <a:lnTo>
                  <a:pt x="3947" y="10306"/>
                </a:lnTo>
                <a:lnTo>
                  <a:pt x="3855" y="10862"/>
                </a:lnTo>
                <a:lnTo>
                  <a:pt x="3762" y="11139"/>
                </a:lnTo>
                <a:lnTo>
                  <a:pt x="3718" y="11281"/>
                </a:lnTo>
                <a:lnTo>
                  <a:pt x="3577" y="11744"/>
                </a:lnTo>
                <a:lnTo>
                  <a:pt x="3440" y="11977"/>
                </a:lnTo>
                <a:lnTo>
                  <a:pt x="3250" y="12163"/>
                </a:lnTo>
                <a:lnTo>
                  <a:pt x="2973" y="12440"/>
                </a:lnTo>
                <a:lnTo>
                  <a:pt x="2836" y="12670"/>
                </a:lnTo>
                <a:lnTo>
                  <a:pt x="2695" y="12762"/>
                </a:lnTo>
                <a:lnTo>
                  <a:pt x="2416" y="12952"/>
                </a:lnTo>
                <a:lnTo>
                  <a:pt x="2275" y="13044"/>
                </a:lnTo>
                <a:lnTo>
                  <a:pt x="2046" y="13137"/>
                </a:lnTo>
                <a:lnTo>
                  <a:pt x="1860" y="13322"/>
                </a:lnTo>
                <a:lnTo>
                  <a:pt x="1719" y="13366"/>
                </a:lnTo>
                <a:lnTo>
                  <a:pt x="1583" y="13507"/>
                </a:lnTo>
                <a:lnTo>
                  <a:pt x="1441" y="13552"/>
                </a:lnTo>
                <a:lnTo>
                  <a:pt x="1300" y="13644"/>
                </a:lnTo>
                <a:lnTo>
                  <a:pt x="1164" y="13785"/>
                </a:lnTo>
                <a:lnTo>
                  <a:pt x="978" y="14019"/>
                </a:lnTo>
                <a:lnTo>
                  <a:pt x="837" y="14112"/>
                </a:lnTo>
                <a:lnTo>
                  <a:pt x="652" y="14204"/>
                </a:lnTo>
                <a:lnTo>
                  <a:pt x="511" y="14297"/>
                </a:lnTo>
                <a:lnTo>
                  <a:pt x="282" y="14434"/>
                </a:lnTo>
                <a:lnTo>
                  <a:pt x="0" y="1461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357720" y="2690640"/>
            <a:ext cx="1452960" cy="3924720"/>
          </a:xfrm>
          <a:custGeom>
            <a:avLst/>
            <a:gdLst/>
            <a:ahLst/>
            <a:rect l="0" t="0" r="r" b="b"/>
            <a:pathLst>
              <a:path fill="none" w="4036" h="10902">
                <a:moveTo>
                  <a:pt x="2302" y="0"/>
                </a:moveTo>
                <a:lnTo>
                  <a:pt x="2369" y="92"/>
                </a:lnTo>
                <a:lnTo>
                  <a:pt x="2461" y="251"/>
                </a:lnTo>
                <a:lnTo>
                  <a:pt x="2501" y="463"/>
                </a:lnTo>
                <a:lnTo>
                  <a:pt x="2607" y="555"/>
                </a:lnTo>
                <a:lnTo>
                  <a:pt x="2726" y="784"/>
                </a:lnTo>
                <a:lnTo>
                  <a:pt x="2862" y="970"/>
                </a:lnTo>
                <a:lnTo>
                  <a:pt x="2955" y="1155"/>
                </a:lnTo>
                <a:lnTo>
                  <a:pt x="3049" y="1296"/>
                </a:lnTo>
                <a:lnTo>
                  <a:pt x="3141" y="1481"/>
                </a:lnTo>
                <a:lnTo>
                  <a:pt x="3282" y="1618"/>
                </a:lnTo>
                <a:lnTo>
                  <a:pt x="3326" y="1759"/>
                </a:lnTo>
                <a:lnTo>
                  <a:pt x="3468" y="1944"/>
                </a:lnTo>
                <a:lnTo>
                  <a:pt x="3516" y="2085"/>
                </a:lnTo>
                <a:lnTo>
                  <a:pt x="3609" y="2271"/>
                </a:lnTo>
                <a:lnTo>
                  <a:pt x="3701" y="2500"/>
                </a:lnTo>
                <a:lnTo>
                  <a:pt x="3745" y="2641"/>
                </a:lnTo>
                <a:lnTo>
                  <a:pt x="3838" y="2827"/>
                </a:lnTo>
                <a:lnTo>
                  <a:pt x="3838" y="2968"/>
                </a:lnTo>
                <a:lnTo>
                  <a:pt x="3886" y="3153"/>
                </a:lnTo>
                <a:lnTo>
                  <a:pt x="3886" y="3339"/>
                </a:lnTo>
                <a:lnTo>
                  <a:pt x="3886" y="3661"/>
                </a:lnTo>
                <a:lnTo>
                  <a:pt x="3886" y="3802"/>
                </a:lnTo>
                <a:lnTo>
                  <a:pt x="3886" y="3943"/>
                </a:lnTo>
                <a:lnTo>
                  <a:pt x="3886" y="4128"/>
                </a:lnTo>
                <a:lnTo>
                  <a:pt x="3931" y="4313"/>
                </a:lnTo>
                <a:lnTo>
                  <a:pt x="3891" y="4578"/>
                </a:lnTo>
                <a:lnTo>
                  <a:pt x="3904" y="4684"/>
                </a:lnTo>
                <a:lnTo>
                  <a:pt x="3917" y="4750"/>
                </a:lnTo>
                <a:lnTo>
                  <a:pt x="3944" y="4829"/>
                </a:lnTo>
                <a:lnTo>
                  <a:pt x="3970" y="4922"/>
                </a:lnTo>
                <a:lnTo>
                  <a:pt x="4010" y="5067"/>
                </a:lnTo>
                <a:lnTo>
                  <a:pt x="4023" y="5160"/>
                </a:lnTo>
                <a:lnTo>
                  <a:pt x="4036" y="5345"/>
                </a:lnTo>
                <a:lnTo>
                  <a:pt x="3983" y="5477"/>
                </a:lnTo>
                <a:lnTo>
                  <a:pt x="3891" y="5636"/>
                </a:lnTo>
                <a:lnTo>
                  <a:pt x="3772" y="5874"/>
                </a:lnTo>
                <a:lnTo>
                  <a:pt x="3679" y="6020"/>
                </a:lnTo>
                <a:lnTo>
                  <a:pt x="3600" y="6126"/>
                </a:lnTo>
                <a:lnTo>
                  <a:pt x="3454" y="6192"/>
                </a:lnTo>
                <a:lnTo>
                  <a:pt x="3335" y="6311"/>
                </a:lnTo>
                <a:lnTo>
                  <a:pt x="3243" y="6377"/>
                </a:lnTo>
                <a:lnTo>
                  <a:pt x="3150" y="6470"/>
                </a:lnTo>
                <a:lnTo>
                  <a:pt x="3044" y="6602"/>
                </a:lnTo>
                <a:lnTo>
                  <a:pt x="3004" y="6747"/>
                </a:lnTo>
                <a:lnTo>
                  <a:pt x="2977" y="6906"/>
                </a:lnTo>
                <a:lnTo>
                  <a:pt x="2911" y="7065"/>
                </a:lnTo>
                <a:lnTo>
                  <a:pt x="2832" y="7237"/>
                </a:lnTo>
                <a:lnTo>
                  <a:pt x="2752" y="7501"/>
                </a:lnTo>
                <a:lnTo>
                  <a:pt x="2699" y="7687"/>
                </a:lnTo>
                <a:lnTo>
                  <a:pt x="2567" y="7938"/>
                </a:lnTo>
                <a:lnTo>
                  <a:pt x="2435" y="8204"/>
                </a:lnTo>
                <a:lnTo>
                  <a:pt x="2316" y="8428"/>
                </a:lnTo>
                <a:lnTo>
                  <a:pt x="2249" y="8653"/>
                </a:lnTo>
                <a:lnTo>
                  <a:pt x="2197" y="8812"/>
                </a:lnTo>
                <a:lnTo>
                  <a:pt x="2025" y="8997"/>
                </a:lnTo>
                <a:lnTo>
                  <a:pt x="1866" y="9209"/>
                </a:lnTo>
                <a:lnTo>
                  <a:pt x="1522" y="9407"/>
                </a:lnTo>
                <a:lnTo>
                  <a:pt x="1390" y="9593"/>
                </a:lnTo>
                <a:lnTo>
                  <a:pt x="1178" y="9751"/>
                </a:lnTo>
                <a:lnTo>
                  <a:pt x="978" y="9910"/>
                </a:lnTo>
                <a:lnTo>
                  <a:pt x="740" y="10122"/>
                </a:lnTo>
                <a:lnTo>
                  <a:pt x="502" y="10228"/>
                </a:lnTo>
                <a:lnTo>
                  <a:pt x="370" y="10360"/>
                </a:lnTo>
                <a:lnTo>
                  <a:pt x="145" y="10625"/>
                </a:lnTo>
                <a:lnTo>
                  <a:pt x="0" y="109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03840" y="235080"/>
            <a:ext cx="3097440" cy="4447080"/>
          </a:xfrm>
          <a:custGeom>
            <a:avLst/>
            <a:gdLst/>
            <a:ahLst/>
            <a:rect l="0" t="0" r="r" b="b"/>
            <a:pathLst>
              <a:path fill="none" w="8604" h="12353">
                <a:moveTo>
                  <a:pt x="304" y="0"/>
                </a:moveTo>
                <a:lnTo>
                  <a:pt x="277" y="101"/>
                </a:lnTo>
                <a:lnTo>
                  <a:pt x="277" y="286"/>
                </a:lnTo>
                <a:lnTo>
                  <a:pt x="277" y="471"/>
                </a:lnTo>
                <a:lnTo>
                  <a:pt x="277" y="657"/>
                </a:lnTo>
                <a:lnTo>
                  <a:pt x="326" y="842"/>
                </a:lnTo>
                <a:lnTo>
                  <a:pt x="370" y="983"/>
                </a:lnTo>
                <a:lnTo>
                  <a:pt x="370" y="1168"/>
                </a:lnTo>
                <a:lnTo>
                  <a:pt x="370" y="1353"/>
                </a:lnTo>
                <a:lnTo>
                  <a:pt x="277" y="1538"/>
                </a:lnTo>
                <a:lnTo>
                  <a:pt x="233" y="1724"/>
                </a:lnTo>
                <a:lnTo>
                  <a:pt x="141" y="1865"/>
                </a:lnTo>
                <a:lnTo>
                  <a:pt x="92" y="2050"/>
                </a:lnTo>
                <a:lnTo>
                  <a:pt x="92" y="2235"/>
                </a:lnTo>
                <a:lnTo>
                  <a:pt x="92" y="2420"/>
                </a:lnTo>
                <a:lnTo>
                  <a:pt x="44" y="2606"/>
                </a:lnTo>
                <a:lnTo>
                  <a:pt x="0" y="2747"/>
                </a:lnTo>
                <a:lnTo>
                  <a:pt x="0" y="2932"/>
                </a:lnTo>
                <a:lnTo>
                  <a:pt x="0" y="3118"/>
                </a:lnTo>
                <a:lnTo>
                  <a:pt x="92" y="3303"/>
                </a:lnTo>
                <a:lnTo>
                  <a:pt x="141" y="3489"/>
                </a:lnTo>
                <a:lnTo>
                  <a:pt x="185" y="3630"/>
                </a:lnTo>
                <a:lnTo>
                  <a:pt x="233" y="3815"/>
                </a:lnTo>
                <a:lnTo>
                  <a:pt x="233" y="4000"/>
                </a:lnTo>
                <a:lnTo>
                  <a:pt x="233" y="4185"/>
                </a:lnTo>
                <a:lnTo>
                  <a:pt x="277" y="4371"/>
                </a:lnTo>
                <a:lnTo>
                  <a:pt x="326" y="4512"/>
                </a:lnTo>
                <a:lnTo>
                  <a:pt x="326" y="4697"/>
                </a:lnTo>
                <a:lnTo>
                  <a:pt x="370" y="4975"/>
                </a:lnTo>
                <a:lnTo>
                  <a:pt x="463" y="5160"/>
                </a:lnTo>
                <a:lnTo>
                  <a:pt x="511" y="5345"/>
                </a:lnTo>
                <a:lnTo>
                  <a:pt x="511" y="5486"/>
                </a:lnTo>
                <a:lnTo>
                  <a:pt x="511" y="5716"/>
                </a:lnTo>
                <a:lnTo>
                  <a:pt x="511" y="5857"/>
                </a:lnTo>
                <a:lnTo>
                  <a:pt x="555" y="6042"/>
                </a:lnTo>
                <a:lnTo>
                  <a:pt x="604" y="6227"/>
                </a:lnTo>
                <a:lnTo>
                  <a:pt x="648" y="6368"/>
                </a:lnTo>
                <a:lnTo>
                  <a:pt x="648" y="6553"/>
                </a:lnTo>
                <a:lnTo>
                  <a:pt x="798" y="6862"/>
                </a:lnTo>
                <a:lnTo>
                  <a:pt x="926" y="6924"/>
                </a:lnTo>
                <a:lnTo>
                  <a:pt x="1023" y="7109"/>
                </a:lnTo>
                <a:lnTo>
                  <a:pt x="1115" y="7250"/>
                </a:lnTo>
                <a:lnTo>
                  <a:pt x="1300" y="7387"/>
                </a:lnTo>
                <a:lnTo>
                  <a:pt x="1393" y="7528"/>
                </a:lnTo>
                <a:lnTo>
                  <a:pt x="1530" y="7713"/>
                </a:lnTo>
                <a:lnTo>
                  <a:pt x="1671" y="7850"/>
                </a:lnTo>
                <a:lnTo>
                  <a:pt x="1715" y="7991"/>
                </a:lnTo>
                <a:lnTo>
                  <a:pt x="1807" y="8132"/>
                </a:lnTo>
                <a:lnTo>
                  <a:pt x="1905" y="8317"/>
                </a:lnTo>
                <a:lnTo>
                  <a:pt x="2041" y="8502"/>
                </a:lnTo>
                <a:lnTo>
                  <a:pt x="2134" y="8688"/>
                </a:lnTo>
                <a:lnTo>
                  <a:pt x="2275" y="8873"/>
                </a:lnTo>
                <a:lnTo>
                  <a:pt x="2319" y="9014"/>
                </a:lnTo>
                <a:lnTo>
                  <a:pt x="2460" y="9151"/>
                </a:lnTo>
                <a:lnTo>
                  <a:pt x="2504" y="9293"/>
                </a:lnTo>
                <a:lnTo>
                  <a:pt x="2553" y="9478"/>
                </a:lnTo>
                <a:lnTo>
                  <a:pt x="2597" y="9663"/>
                </a:lnTo>
                <a:lnTo>
                  <a:pt x="2645" y="9804"/>
                </a:lnTo>
                <a:lnTo>
                  <a:pt x="2689" y="10034"/>
                </a:lnTo>
                <a:lnTo>
                  <a:pt x="2738" y="10175"/>
                </a:lnTo>
                <a:lnTo>
                  <a:pt x="2831" y="10360"/>
                </a:lnTo>
                <a:lnTo>
                  <a:pt x="2879" y="10589"/>
                </a:lnTo>
                <a:lnTo>
                  <a:pt x="2923" y="10730"/>
                </a:lnTo>
                <a:lnTo>
                  <a:pt x="2923" y="10871"/>
                </a:lnTo>
                <a:lnTo>
                  <a:pt x="2972" y="11057"/>
                </a:lnTo>
                <a:lnTo>
                  <a:pt x="3064" y="11242"/>
                </a:lnTo>
                <a:lnTo>
                  <a:pt x="3157" y="11427"/>
                </a:lnTo>
                <a:lnTo>
                  <a:pt x="3249" y="11568"/>
                </a:lnTo>
                <a:lnTo>
                  <a:pt x="3386" y="11753"/>
                </a:lnTo>
                <a:lnTo>
                  <a:pt x="3527" y="11939"/>
                </a:lnTo>
                <a:lnTo>
                  <a:pt x="3668" y="11983"/>
                </a:lnTo>
                <a:lnTo>
                  <a:pt x="3854" y="12031"/>
                </a:lnTo>
                <a:lnTo>
                  <a:pt x="4039" y="12168"/>
                </a:lnTo>
                <a:lnTo>
                  <a:pt x="4131" y="12309"/>
                </a:lnTo>
                <a:lnTo>
                  <a:pt x="4318" y="12353"/>
                </a:lnTo>
                <a:lnTo>
                  <a:pt x="4503" y="12353"/>
                </a:lnTo>
                <a:lnTo>
                  <a:pt x="4644" y="12309"/>
                </a:lnTo>
                <a:lnTo>
                  <a:pt x="4829" y="12261"/>
                </a:lnTo>
                <a:lnTo>
                  <a:pt x="5014" y="12216"/>
                </a:lnTo>
                <a:lnTo>
                  <a:pt x="5200" y="12075"/>
                </a:lnTo>
                <a:lnTo>
                  <a:pt x="5336" y="11890"/>
                </a:lnTo>
                <a:lnTo>
                  <a:pt x="5477" y="11753"/>
                </a:lnTo>
                <a:lnTo>
                  <a:pt x="5618" y="11612"/>
                </a:lnTo>
                <a:lnTo>
                  <a:pt x="5755" y="11471"/>
                </a:lnTo>
                <a:lnTo>
                  <a:pt x="5896" y="11379"/>
                </a:lnTo>
                <a:lnTo>
                  <a:pt x="6126" y="11237"/>
                </a:lnTo>
                <a:lnTo>
                  <a:pt x="6249" y="11132"/>
                </a:lnTo>
                <a:lnTo>
                  <a:pt x="6373" y="11026"/>
                </a:lnTo>
                <a:lnTo>
                  <a:pt x="6549" y="10938"/>
                </a:lnTo>
                <a:lnTo>
                  <a:pt x="6743" y="10832"/>
                </a:lnTo>
                <a:lnTo>
                  <a:pt x="6915" y="10779"/>
                </a:lnTo>
                <a:lnTo>
                  <a:pt x="7056" y="10779"/>
                </a:lnTo>
                <a:lnTo>
                  <a:pt x="7197" y="10730"/>
                </a:lnTo>
                <a:lnTo>
                  <a:pt x="7426" y="10589"/>
                </a:lnTo>
                <a:lnTo>
                  <a:pt x="7568" y="10453"/>
                </a:lnTo>
                <a:lnTo>
                  <a:pt x="7704" y="10311"/>
                </a:lnTo>
                <a:lnTo>
                  <a:pt x="7845" y="10126"/>
                </a:lnTo>
                <a:lnTo>
                  <a:pt x="7982" y="9941"/>
                </a:lnTo>
                <a:lnTo>
                  <a:pt x="8123" y="9804"/>
                </a:lnTo>
                <a:lnTo>
                  <a:pt x="8264" y="9707"/>
                </a:lnTo>
                <a:lnTo>
                  <a:pt x="8450" y="9615"/>
                </a:lnTo>
                <a:lnTo>
                  <a:pt x="8604" y="958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43640" y="249120"/>
            <a:ext cx="1456200" cy="1489320"/>
          </a:xfrm>
          <a:custGeom>
            <a:avLst/>
            <a:gdLst/>
            <a:ahLst/>
            <a:rect l="0" t="0" r="r" b="b"/>
            <a:pathLst>
              <a:path fill="none" w="4045" h="4137">
                <a:moveTo>
                  <a:pt x="0" y="0"/>
                </a:moveTo>
                <a:lnTo>
                  <a:pt x="96" y="97"/>
                </a:lnTo>
                <a:lnTo>
                  <a:pt x="193" y="275"/>
                </a:lnTo>
                <a:lnTo>
                  <a:pt x="290" y="453"/>
                </a:lnTo>
                <a:lnTo>
                  <a:pt x="290" y="630"/>
                </a:lnTo>
                <a:lnTo>
                  <a:pt x="336" y="808"/>
                </a:lnTo>
                <a:lnTo>
                  <a:pt x="433" y="944"/>
                </a:lnTo>
                <a:lnTo>
                  <a:pt x="581" y="1033"/>
                </a:lnTo>
                <a:lnTo>
                  <a:pt x="775" y="1121"/>
                </a:lnTo>
                <a:lnTo>
                  <a:pt x="923" y="1253"/>
                </a:lnTo>
                <a:lnTo>
                  <a:pt x="1021" y="1388"/>
                </a:lnTo>
                <a:lnTo>
                  <a:pt x="1215" y="1519"/>
                </a:lnTo>
                <a:lnTo>
                  <a:pt x="1408" y="1566"/>
                </a:lnTo>
                <a:lnTo>
                  <a:pt x="1602" y="1697"/>
                </a:lnTo>
                <a:lnTo>
                  <a:pt x="1750" y="1790"/>
                </a:lnTo>
                <a:lnTo>
                  <a:pt x="1944" y="1922"/>
                </a:lnTo>
                <a:lnTo>
                  <a:pt x="2184" y="2100"/>
                </a:lnTo>
                <a:lnTo>
                  <a:pt x="2332" y="2189"/>
                </a:lnTo>
                <a:lnTo>
                  <a:pt x="2429" y="2325"/>
                </a:lnTo>
                <a:lnTo>
                  <a:pt x="2622" y="2503"/>
                </a:lnTo>
                <a:lnTo>
                  <a:pt x="2636" y="2858"/>
                </a:lnTo>
                <a:lnTo>
                  <a:pt x="2978" y="3201"/>
                </a:lnTo>
                <a:lnTo>
                  <a:pt x="3404" y="3328"/>
                </a:lnTo>
                <a:lnTo>
                  <a:pt x="3745" y="3540"/>
                </a:lnTo>
                <a:lnTo>
                  <a:pt x="4045" y="41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51440" y="237960"/>
            <a:ext cx="2953080" cy="3358080"/>
          </a:xfrm>
          <a:custGeom>
            <a:avLst/>
            <a:gdLst/>
            <a:ahLst/>
            <a:rect l="0" t="0" r="r" b="b"/>
            <a:pathLst>
              <a:path fill="none" w="8203" h="9328">
                <a:moveTo>
                  <a:pt x="0" y="0"/>
                </a:moveTo>
                <a:lnTo>
                  <a:pt x="44" y="487"/>
                </a:lnTo>
                <a:lnTo>
                  <a:pt x="123" y="619"/>
                </a:lnTo>
                <a:lnTo>
                  <a:pt x="194" y="792"/>
                </a:lnTo>
                <a:lnTo>
                  <a:pt x="286" y="984"/>
                </a:lnTo>
                <a:lnTo>
                  <a:pt x="379" y="1175"/>
                </a:lnTo>
                <a:lnTo>
                  <a:pt x="471" y="1366"/>
                </a:lnTo>
                <a:lnTo>
                  <a:pt x="471" y="1558"/>
                </a:lnTo>
                <a:lnTo>
                  <a:pt x="515" y="1704"/>
                </a:lnTo>
                <a:lnTo>
                  <a:pt x="612" y="1895"/>
                </a:lnTo>
                <a:lnTo>
                  <a:pt x="749" y="2086"/>
                </a:lnTo>
                <a:lnTo>
                  <a:pt x="842" y="2278"/>
                </a:lnTo>
                <a:lnTo>
                  <a:pt x="1027" y="2470"/>
                </a:lnTo>
                <a:lnTo>
                  <a:pt x="1075" y="2616"/>
                </a:lnTo>
                <a:lnTo>
                  <a:pt x="1212" y="2807"/>
                </a:lnTo>
                <a:lnTo>
                  <a:pt x="1305" y="2998"/>
                </a:lnTo>
                <a:lnTo>
                  <a:pt x="1397" y="3190"/>
                </a:lnTo>
                <a:lnTo>
                  <a:pt x="1446" y="3381"/>
                </a:lnTo>
                <a:lnTo>
                  <a:pt x="1587" y="3477"/>
                </a:lnTo>
                <a:lnTo>
                  <a:pt x="1772" y="3623"/>
                </a:lnTo>
                <a:lnTo>
                  <a:pt x="1957" y="3764"/>
                </a:lnTo>
                <a:lnTo>
                  <a:pt x="2094" y="3910"/>
                </a:lnTo>
                <a:lnTo>
                  <a:pt x="2235" y="4101"/>
                </a:lnTo>
                <a:lnTo>
                  <a:pt x="2420" y="4292"/>
                </a:lnTo>
                <a:lnTo>
                  <a:pt x="2562" y="4484"/>
                </a:lnTo>
                <a:lnTo>
                  <a:pt x="2698" y="4725"/>
                </a:lnTo>
                <a:lnTo>
                  <a:pt x="2883" y="4962"/>
                </a:lnTo>
                <a:lnTo>
                  <a:pt x="2932" y="5108"/>
                </a:lnTo>
                <a:lnTo>
                  <a:pt x="3069" y="5299"/>
                </a:lnTo>
                <a:lnTo>
                  <a:pt x="3161" y="5445"/>
                </a:lnTo>
                <a:lnTo>
                  <a:pt x="3258" y="5682"/>
                </a:lnTo>
                <a:lnTo>
                  <a:pt x="3443" y="5873"/>
                </a:lnTo>
                <a:lnTo>
                  <a:pt x="3721" y="5924"/>
                </a:lnTo>
                <a:lnTo>
                  <a:pt x="3907" y="6019"/>
                </a:lnTo>
                <a:lnTo>
                  <a:pt x="4092" y="6165"/>
                </a:lnTo>
                <a:lnTo>
                  <a:pt x="4234" y="6261"/>
                </a:lnTo>
                <a:lnTo>
                  <a:pt x="4419" y="6402"/>
                </a:lnTo>
                <a:lnTo>
                  <a:pt x="4556" y="6548"/>
                </a:lnTo>
                <a:lnTo>
                  <a:pt x="4697" y="6739"/>
                </a:lnTo>
                <a:lnTo>
                  <a:pt x="4882" y="7027"/>
                </a:lnTo>
                <a:lnTo>
                  <a:pt x="4975" y="7173"/>
                </a:lnTo>
                <a:lnTo>
                  <a:pt x="5116" y="7364"/>
                </a:lnTo>
                <a:lnTo>
                  <a:pt x="5252" y="7556"/>
                </a:lnTo>
                <a:lnTo>
                  <a:pt x="5394" y="7747"/>
                </a:lnTo>
                <a:lnTo>
                  <a:pt x="5579" y="7989"/>
                </a:lnTo>
                <a:lnTo>
                  <a:pt x="5764" y="8084"/>
                </a:lnTo>
                <a:lnTo>
                  <a:pt x="5905" y="8225"/>
                </a:lnTo>
                <a:lnTo>
                  <a:pt x="6134" y="8417"/>
                </a:lnTo>
                <a:lnTo>
                  <a:pt x="6276" y="8563"/>
                </a:lnTo>
                <a:lnTo>
                  <a:pt x="6412" y="8754"/>
                </a:lnTo>
                <a:lnTo>
                  <a:pt x="6505" y="8900"/>
                </a:lnTo>
                <a:lnTo>
                  <a:pt x="6646" y="9091"/>
                </a:lnTo>
                <a:lnTo>
                  <a:pt x="6787" y="9187"/>
                </a:lnTo>
                <a:lnTo>
                  <a:pt x="6972" y="9283"/>
                </a:lnTo>
                <a:lnTo>
                  <a:pt x="7157" y="9283"/>
                </a:lnTo>
                <a:lnTo>
                  <a:pt x="7343" y="9328"/>
                </a:lnTo>
                <a:lnTo>
                  <a:pt x="7603" y="9287"/>
                </a:lnTo>
                <a:lnTo>
                  <a:pt x="7744" y="9305"/>
                </a:lnTo>
                <a:lnTo>
                  <a:pt x="7867" y="9251"/>
                </a:lnTo>
                <a:lnTo>
                  <a:pt x="8026" y="9214"/>
                </a:lnTo>
                <a:lnTo>
                  <a:pt x="8203" y="9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87720" y="725400"/>
            <a:ext cx="3016440" cy="3321360"/>
          </a:xfrm>
          <a:custGeom>
            <a:avLst/>
            <a:gdLst/>
            <a:ahLst/>
            <a:rect l="0" t="0" r="r" b="b"/>
            <a:pathLst>
              <a:path fill="none" w="8379" h="9226">
                <a:moveTo>
                  <a:pt x="127" y="0"/>
                </a:moveTo>
                <a:lnTo>
                  <a:pt x="0" y="670"/>
                </a:lnTo>
                <a:lnTo>
                  <a:pt x="22" y="948"/>
                </a:lnTo>
                <a:lnTo>
                  <a:pt x="88" y="1428"/>
                </a:lnTo>
                <a:lnTo>
                  <a:pt x="352" y="2191"/>
                </a:lnTo>
                <a:lnTo>
                  <a:pt x="643" y="2773"/>
                </a:lnTo>
                <a:lnTo>
                  <a:pt x="789" y="3007"/>
                </a:lnTo>
                <a:lnTo>
                  <a:pt x="833" y="3148"/>
                </a:lnTo>
                <a:lnTo>
                  <a:pt x="926" y="3333"/>
                </a:lnTo>
                <a:lnTo>
                  <a:pt x="1018" y="3518"/>
                </a:lnTo>
                <a:lnTo>
                  <a:pt x="1111" y="3704"/>
                </a:lnTo>
                <a:lnTo>
                  <a:pt x="1111" y="3889"/>
                </a:lnTo>
                <a:lnTo>
                  <a:pt x="1111" y="4030"/>
                </a:lnTo>
                <a:lnTo>
                  <a:pt x="1159" y="4215"/>
                </a:lnTo>
                <a:lnTo>
                  <a:pt x="1203" y="4400"/>
                </a:lnTo>
                <a:lnTo>
                  <a:pt x="1203" y="4586"/>
                </a:lnTo>
                <a:lnTo>
                  <a:pt x="1296" y="4772"/>
                </a:lnTo>
                <a:lnTo>
                  <a:pt x="1344" y="5050"/>
                </a:lnTo>
                <a:lnTo>
                  <a:pt x="1389" y="5191"/>
                </a:lnTo>
                <a:lnTo>
                  <a:pt x="1389" y="5420"/>
                </a:lnTo>
                <a:lnTo>
                  <a:pt x="1574" y="5561"/>
                </a:lnTo>
                <a:lnTo>
                  <a:pt x="1715" y="5654"/>
                </a:lnTo>
                <a:lnTo>
                  <a:pt x="1856" y="5746"/>
                </a:lnTo>
                <a:lnTo>
                  <a:pt x="1949" y="5887"/>
                </a:lnTo>
                <a:lnTo>
                  <a:pt x="2178" y="6117"/>
                </a:lnTo>
                <a:lnTo>
                  <a:pt x="2319" y="6258"/>
                </a:lnTo>
                <a:lnTo>
                  <a:pt x="2504" y="6536"/>
                </a:lnTo>
                <a:lnTo>
                  <a:pt x="2645" y="6721"/>
                </a:lnTo>
                <a:lnTo>
                  <a:pt x="2738" y="6862"/>
                </a:lnTo>
                <a:lnTo>
                  <a:pt x="2875" y="7091"/>
                </a:lnTo>
                <a:lnTo>
                  <a:pt x="2923" y="7232"/>
                </a:lnTo>
                <a:lnTo>
                  <a:pt x="3060" y="7418"/>
                </a:lnTo>
                <a:lnTo>
                  <a:pt x="3108" y="7559"/>
                </a:lnTo>
                <a:lnTo>
                  <a:pt x="3201" y="7744"/>
                </a:lnTo>
                <a:lnTo>
                  <a:pt x="3245" y="7929"/>
                </a:lnTo>
                <a:lnTo>
                  <a:pt x="3338" y="8114"/>
                </a:lnTo>
                <a:lnTo>
                  <a:pt x="3386" y="8300"/>
                </a:lnTo>
                <a:lnTo>
                  <a:pt x="3435" y="8441"/>
                </a:lnTo>
                <a:lnTo>
                  <a:pt x="3571" y="8670"/>
                </a:lnTo>
                <a:lnTo>
                  <a:pt x="3664" y="8811"/>
                </a:lnTo>
                <a:lnTo>
                  <a:pt x="3805" y="8948"/>
                </a:lnTo>
                <a:lnTo>
                  <a:pt x="3990" y="9133"/>
                </a:lnTo>
                <a:lnTo>
                  <a:pt x="4176" y="9226"/>
                </a:lnTo>
                <a:lnTo>
                  <a:pt x="4362" y="9226"/>
                </a:lnTo>
                <a:lnTo>
                  <a:pt x="4503" y="9226"/>
                </a:lnTo>
                <a:lnTo>
                  <a:pt x="4732" y="9182"/>
                </a:lnTo>
                <a:lnTo>
                  <a:pt x="4873" y="9133"/>
                </a:lnTo>
                <a:lnTo>
                  <a:pt x="5058" y="9040"/>
                </a:lnTo>
                <a:lnTo>
                  <a:pt x="5200" y="8996"/>
                </a:lnTo>
                <a:lnTo>
                  <a:pt x="5385" y="8948"/>
                </a:lnTo>
                <a:lnTo>
                  <a:pt x="5570" y="8904"/>
                </a:lnTo>
                <a:lnTo>
                  <a:pt x="5799" y="8855"/>
                </a:lnTo>
                <a:lnTo>
                  <a:pt x="5940" y="8811"/>
                </a:lnTo>
                <a:lnTo>
                  <a:pt x="6082" y="8763"/>
                </a:lnTo>
                <a:lnTo>
                  <a:pt x="6267" y="8670"/>
                </a:lnTo>
                <a:lnTo>
                  <a:pt x="6496" y="8670"/>
                </a:lnTo>
                <a:lnTo>
                  <a:pt x="6637" y="8670"/>
                </a:lnTo>
                <a:lnTo>
                  <a:pt x="6822" y="8626"/>
                </a:lnTo>
                <a:lnTo>
                  <a:pt x="6963" y="8577"/>
                </a:lnTo>
                <a:lnTo>
                  <a:pt x="7149" y="8533"/>
                </a:lnTo>
                <a:lnTo>
                  <a:pt x="7334" y="8441"/>
                </a:lnTo>
                <a:lnTo>
                  <a:pt x="7444" y="8357"/>
                </a:lnTo>
                <a:lnTo>
                  <a:pt x="7656" y="8216"/>
                </a:lnTo>
                <a:lnTo>
                  <a:pt x="7815" y="8128"/>
                </a:lnTo>
                <a:lnTo>
                  <a:pt x="8079" y="8022"/>
                </a:lnTo>
                <a:lnTo>
                  <a:pt x="8379" y="798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09960" y="1366920"/>
            <a:ext cx="3091320" cy="3154680"/>
          </a:xfrm>
          <a:custGeom>
            <a:avLst/>
            <a:gdLst/>
            <a:ahLst/>
            <a:rect l="0" t="0" r="r" b="b"/>
            <a:pathLst>
              <a:path fill="none" w="8587" h="8763">
                <a:moveTo>
                  <a:pt x="0" y="0"/>
                </a:moveTo>
                <a:lnTo>
                  <a:pt x="198" y="224"/>
                </a:lnTo>
                <a:lnTo>
                  <a:pt x="330" y="449"/>
                </a:lnTo>
                <a:lnTo>
                  <a:pt x="423" y="727"/>
                </a:lnTo>
                <a:lnTo>
                  <a:pt x="476" y="1084"/>
                </a:lnTo>
                <a:lnTo>
                  <a:pt x="515" y="1415"/>
                </a:lnTo>
                <a:lnTo>
                  <a:pt x="648" y="1746"/>
                </a:lnTo>
                <a:lnTo>
                  <a:pt x="701" y="2037"/>
                </a:lnTo>
                <a:lnTo>
                  <a:pt x="912" y="2262"/>
                </a:lnTo>
                <a:lnTo>
                  <a:pt x="912" y="2447"/>
                </a:lnTo>
                <a:lnTo>
                  <a:pt x="912" y="2579"/>
                </a:lnTo>
                <a:lnTo>
                  <a:pt x="886" y="2764"/>
                </a:lnTo>
                <a:lnTo>
                  <a:pt x="939" y="2870"/>
                </a:lnTo>
                <a:lnTo>
                  <a:pt x="992" y="3055"/>
                </a:lnTo>
                <a:lnTo>
                  <a:pt x="1018" y="3161"/>
                </a:lnTo>
                <a:lnTo>
                  <a:pt x="1124" y="3452"/>
                </a:lnTo>
                <a:lnTo>
                  <a:pt x="1124" y="3558"/>
                </a:lnTo>
                <a:lnTo>
                  <a:pt x="1230" y="3664"/>
                </a:lnTo>
                <a:lnTo>
                  <a:pt x="1336" y="3770"/>
                </a:lnTo>
                <a:lnTo>
                  <a:pt x="1494" y="3876"/>
                </a:lnTo>
                <a:lnTo>
                  <a:pt x="1653" y="4087"/>
                </a:lnTo>
                <a:lnTo>
                  <a:pt x="1838" y="4378"/>
                </a:lnTo>
                <a:lnTo>
                  <a:pt x="1971" y="4485"/>
                </a:lnTo>
                <a:lnTo>
                  <a:pt x="2103" y="4697"/>
                </a:lnTo>
                <a:lnTo>
                  <a:pt x="2210" y="4882"/>
                </a:lnTo>
                <a:lnTo>
                  <a:pt x="2263" y="5120"/>
                </a:lnTo>
                <a:lnTo>
                  <a:pt x="2395" y="5385"/>
                </a:lnTo>
                <a:lnTo>
                  <a:pt x="2448" y="5491"/>
                </a:lnTo>
                <a:lnTo>
                  <a:pt x="2554" y="5623"/>
                </a:lnTo>
                <a:lnTo>
                  <a:pt x="2492" y="5746"/>
                </a:lnTo>
                <a:lnTo>
                  <a:pt x="2527" y="5799"/>
                </a:lnTo>
                <a:lnTo>
                  <a:pt x="2563" y="5870"/>
                </a:lnTo>
                <a:lnTo>
                  <a:pt x="2598" y="5923"/>
                </a:lnTo>
                <a:lnTo>
                  <a:pt x="2615" y="5976"/>
                </a:lnTo>
                <a:lnTo>
                  <a:pt x="2651" y="6046"/>
                </a:lnTo>
                <a:lnTo>
                  <a:pt x="2686" y="6099"/>
                </a:lnTo>
                <a:lnTo>
                  <a:pt x="2721" y="6170"/>
                </a:lnTo>
                <a:lnTo>
                  <a:pt x="2721" y="6223"/>
                </a:lnTo>
                <a:lnTo>
                  <a:pt x="2757" y="6276"/>
                </a:lnTo>
                <a:lnTo>
                  <a:pt x="2774" y="6346"/>
                </a:lnTo>
                <a:lnTo>
                  <a:pt x="2809" y="6399"/>
                </a:lnTo>
                <a:lnTo>
                  <a:pt x="2827" y="6452"/>
                </a:lnTo>
                <a:lnTo>
                  <a:pt x="2862" y="6522"/>
                </a:lnTo>
                <a:lnTo>
                  <a:pt x="2880" y="6575"/>
                </a:lnTo>
                <a:lnTo>
                  <a:pt x="2898" y="6628"/>
                </a:lnTo>
                <a:lnTo>
                  <a:pt x="2915" y="6681"/>
                </a:lnTo>
                <a:lnTo>
                  <a:pt x="2933" y="6734"/>
                </a:lnTo>
                <a:lnTo>
                  <a:pt x="2968" y="6787"/>
                </a:lnTo>
                <a:lnTo>
                  <a:pt x="2968" y="6840"/>
                </a:lnTo>
                <a:lnTo>
                  <a:pt x="2986" y="6893"/>
                </a:lnTo>
                <a:lnTo>
                  <a:pt x="3021" y="6963"/>
                </a:lnTo>
                <a:lnTo>
                  <a:pt x="3039" y="7016"/>
                </a:lnTo>
                <a:lnTo>
                  <a:pt x="3039" y="7069"/>
                </a:lnTo>
                <a:lnTo>
                  <a:pt x="3074" y="7122"/>
                </a:lnTo>
                <a:lnTo>
                  <a:pt x="3109" y="7175"/>
                </a:lnTo>
                <a:lnTo>
                  <a:pt x="3145" y="7263"/>
                </a:lnTo>
                <a:lnTo>
                  <a:pt x="3162" y="7316"/>
                </a:lnTo>
                <a:lnTo>
                  <a:pt x="3198" y="7404"/>
                </a:lnTo>
                <a:lnTo>
                  <a:pt x="3233" y="7457"/>
                </a:lnTo>
                <a:lnTo>
                  <a:pt x="3268" y="7528"/>
                </a:lnTo>
                <a:lnTo>
                  <a:pt x="3286" y="7581"/>
                </a:lnTo>
                <a:lnTo>
                  <a:pt x="3321" y="7634"/>
                </a:lnTo>
                <a:lnTo>
                  <a:pt x="3339" y="7687"/>
                </a:lnTo>
                <a:lnTo>
                  <a:pt x="3356" y="7740"/>
                </a:lnTo>
                <a:lnTo>
                  <a:pt x="3392" y="7810"/>
                </a:lnTo>
                <a:lnTo>
                  <a:pt x="3444" y="7863"/>
                </a:lnTo>
                <a:lnTo>
                  <a:pt x="3480" y="7934"/>
                </a:lnTo>
                <a:lnTo>
                  <a:pt x="3515" y="7987"/>
                </a:lnTo>
                <a:lnTo>
                  <a:pt x="3550" y="8039"/>
                </a:lnTo>
                <a:lnTo>
                  <a:pt x="3586" y="8092"/>
                </a:lnTo>
                <a:lnTo>
                  <a:pt x="3621" y="8163"/>
                </a:lnTo>
                <a:lnTo>
                  <a:pt x="3656" y="8216"/>
                </a:lnTo>
                <a:lnTo>
                  <a:pt x="3691" y="8269"/>
                </a:lnTo>
                <a:lnTo>
                  <a:pt x="3744" y="8322"/>
                </a:lnTo>
                <a:lnTo>
                  <a:pt x="3780" y="8375"/>
                </a:lnTo>
                <a:lnTo>
                  <a:pt x="3833" y="8427"/>
                </a:lnTo>
                <a:lnTo>
                  <a:pt x="3885" y="8480"/>
                </a:lnTo>
                <a:lnTo>
                  <a:pt x="3938" y="8516"/>
                </a:lnTo>
                <a:lnTo>
                  <a:pt x="3974" y="8569"/>
                </a:lnTo>
                <a:lnTo>
                  <a:pt x="4027" y="8604"/>
                </a:lnTo>
                <a:lnTo>
                  <a:pt x="4079" y="8622"/>
                </a:lnTo>
                <a:lnTo>
                  <a:pt x="4132" y="8657"/>
                </a:lnTo>
                <a:lnTo>
                  <a:pt x="4185" y="8657"/>
                </a:lnTo>
                <a:lnTo>
                  <a:pt x="4238" y="8692"/>
                </a:lnTo>
                <a:lnTo>
                  <a:pt x="4450" y="8745"/>
                </a:lnTo>
                <a:lnTo>
                  <a:pt x="4503" y="8745"/>
                </a:lnTo>
                <a:lnTo>
                  <a:pt x="4556" y="8763"/>
                </a:lnTo>
                <a:lnTo>
                  <a:pt x="4609" y="8763"/>
                </a:lnTo>
                <a:lnTo>
                  <a:pt x="4662" y="8763"/>
                </a:lnTo>
                <a:lnTo>
                  <a:pt x="4732" y="8763"/>
                </a:lnTo>
                <a:lnTo>
                  <a:pt x="4820" y="8763"/>
                </a:lnTo>
                <a:lnTo>
                  <a:pt x="4909" y="8763"/>
                </a:lnTo>
                <a:lnTo>
                  <a:pt x="4961" y="8727"/>
                </a:lnTo>
                <a:lnTo>
                  <a:pt x="5014" y="8692"/>
                </a:lnTo>
                <a:lnTo>
                  <a:pt x="5067" y="8657"/>
                </a:lnTo>
                <a:lnTo>
                  <a:pt x="5173" y="8586"/>
                </a:lnTo>
                <a:lnTo>
                  <a:pt x="5226" y="8551"/>
                </a:lnTo>
                <a:lnTo>
                  <a:pt x="5279" y="8498"/>
                </a:lnTo>
                <a:lnTo>
                  <a:pt x="5332" y="8463"/>
                </a:lnTo>
                <a:lnTo>
                  <a:pt x="5385" y="8427"/>
                </a:lnTo>
                <a:lnTo>
                  <a:pt x="5438" y="8392"/>
                </a:lnTo>
                <a:lnTo>
                  <a:pt x="5491" y="8357"/>
                </a:lnTo>
                <a:lnTo>
                  <a:pt x="5544" y="8304"/>
                </a:lnTo>
                <a:lnTo>
                  <a:pt x="5632" y="8233"/>
                </a:lnTo>
                <a:lnTo>
                  <a:pt x="5702" y="8216"/>
                </a:lnTo>
                <a:lnTo>
                  <a:pt x="5808" y="8145"/>
                </a:lnTo>
                <a:lnTo>
                  <a:pt x="5843" y="8092"/>
                </a:lnTo>
                <a:lnTo>
                  <a:pt x="5879" y="8039"/>
                </a:lnTo>
                <a:lnTo>
                  <a:pt x="5932" y="8004"/>
                </a:lnTo>
                <a:lnTo>
                  <a:pt x="5984" y="7934"/>
                </a:lnTo>
                <a:lnTo>
                  <a:pt x="6037" y="7881"/>
                </a:lnTo>
                <a:lnTo>
                  <a:pt x="6090" y="7845"/>
                </a:lnTo>
                <a:lnTo>
                  <a:pt x="6143" y="7810"/>
                </a:lnTo>
                <a:lnTo>
                  <a:pt x="6214" y="7775"/>
                </a:lnTo>
                <a:lnTo>
                  <a:pt x="6267" y="7757"/>
                </a:lnTo>
                <a:lnTo>
                  <a:pt x="6320" y="7740"/>
                </a:lnTo>
                <a:lnTo>
                  <a:pt x="6373" y="7704"/>
                </a:lnTo>
                <a:lnTo>
                  <a:pt x="6425" y="7687"/>
                </a:lnTo>
                <a:lnTo>
                  <a:pt x="6497" y="7651"/>
                </a:lnTo>
                <a:lnTo>
                  <a:pt x="6568" y="7616"/>
                </a:lnTo>
                <a:lnTo>
                  <a:pt x="6620" y="7581"/>
                </a:lnTo>
                <a:lnTo>
                  <a:pt x="6673" y="7563"/>
                </a:lnTo>
                <a:lnTo>
                  <a:pt x="6726" y="7546"/>
                </a:lnTo>
                <a:lnTo>
                  <a:pt x="6779" y="7528"/>
                </a:lnTo>
                <a:lnTo>
                  <a:pt x="6832" y="7510"/>
                </a:lnTo>
                <a:lnTo>
                  <a:pt x="6903" y="7493"/>
                </a:lnTo>
                <a:lnTo>
                  <a:pt x="7092" y="7409"/>
                </a:lnTo>
                <a:lnTo>
                  <a:pt x="7145" y="7343"/>
                </a:lnTo>
                <a:lnTo>
                  <a:pt x="7211" y="7329"/>
                </a:lnTo>
                <a:lnTo>
                  <a:pt x="7251" y="7277"/>
                </a:lnTo>
                <a:lnTo>
                  <a:pt x="7278" y="7277"/>
                </a:lnTo>
                <a:lnTo>
                  <a:pt x="7330" y="7224"/>
                </a:lnTo>
                <a:lnTo>
                  <a:pt x="7357" y="7197"/>
                </a:lnTo>
                <a:lnTo>
                  <a:pt x="7397" y="7144"/>
                </a:lnTo>
                <a:lnTo>
                  <a:pt x="7463" y="7105"/>
                </a:lnTo>
                <a:lnTo>
                  <a:pt x="7529" y="7078"/>
                </a:lnTo>
                <a:lnTo>
                  <a:pt x="7608" y="7025"/>
                </a:lnTo>
                <a:lnTo>
                  <a:pt x="7674" y="6972"/>
                </a:lnTo>
                <a:lnTo>
                  <a:pt x="7701" y="6933"/>
                </a:lnTo>
                <a:lnTo>
                  <a:pt x="7701" y="6946"/>
                </a:lnTo>
                <a:lnTo>
                  <a:pt x="7913" y="6734"/>
                </a:lnTo>
                <a:lnTo>
                  <a:pt x="8177" y="6509"/>
                </a:lnTo>
                <a:lnTo>
                  <a:pt x="8349" y="6443"/>
                </a:lnTo>
                <a:lnTo>
                  <a:pt x="8587" y="639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237960"/>
            <a:ext cx="2657880" cy="2305440"/>
          </a:xfrm>
          <a:custGeom>
            <a:avLst/>
            <a:gdLst/>
            <a:ahLst/>
            <a:rect l="0" t="0" r="r" b="b"/>
            <a:pathLst>
              <a:path fill="none" w="7383" h="6404">
                <a:moveTo>
                  <a:pt x="0" y="0"/>
                </a:moveTo>
                <a:lnTo>
                  <a:pt x="79" y="92"/>
                </a:lnTo>
                <a:lnTo>
                  <a:pt x="119" y="211"/>
                </a:lnTo>
                <a:lnTo>
                  <a:pt x="238" y="291"/>
                </a:lnTo>
                <a:lnTo>
                  <a:pt x="357" y="370"/>
                </a:lnTo>
                <a:lnTo>
                  <a:pt x="436" y="489"/>
                </a:lnTo>
                <a:lnTo>
                  <a:pt x="515" y="608"/>
                </a:lnTo>
                <a:lnTo>
                  <a:pt x="635" y="608"/>
                </a:lnTo>
                <a:lnTo>
                  <a:pt x="754" y="767"/>
                </a:lnTo>
                <a:lnTo>
                  <a:pt x="793" y="886"/>
                </a:lnTo>
                <a:lnTo>
                  <a:pt x="833" y="1005"/>
                </a:lnTo>
                <a:lnTo>
                  <a:pt x="873" y="1124"/>
                </a:lnTo>
                <a:lnTo>
                  <a:pt x="912" y="1243"/>
                </a:lnTo>
                <a:lnTo>
                  <a:pt x="1031" y="1322"/>
                </a:lnTo>
                <a:lnTo>
                  <a:pt x="1150" y="1402"/>
                </a:lnTo>
                <a:lnTo>
                  <a:pt x="1270" y="1481"/>
                </a:lnTo>
                <a:lnTo>
                  <a:pt x="1389" y="1521"/>
                </a:lnTo>
                <a:lnTo>
                  <a:pt x="1508" y="1600"/>
                </a:lnTo>
                <a:lnTo>
                  <a:pt x="1706" y="1681"/>
                </a:lnTo>
                <a:lnTo>
                  <a:pt x="1825" y="1720"/>
                </a:lnTo>
                <a:lnTo>
                  <a:pt x="1945" y="1800"/>
                </a:lnTo>
                <a:lnTo>
                  <a:pt x="2104" y="1879"/>
                </a:lnTo>
                <a:lnTo>
                  <a:pt x="2223" y="1958"/>
                </a:lnTo>
                <a:lnTo>
                  <a:pt x="2382" y="1998"/>
                </a:lnTo>
                <a:lnTo>
                  <a:pt x="2501" y="2077"/>
                </a:lnTo>
                <a:lnTo>
                  <a:pt x="2620" y="2236"/>
                </a:lnTo>
                <a:lnTo>
                  <a:pt x="2699" y="2355"/>
                </a:lnTo>
                <a:lnTo>
                  <a:pt x="2818" y="2474"/>
                </a:lnTo>
                <a:lnTo>
                  <a:pt x="2977" y="2593"/>
                </a:lnTo>
                <a:lnTo>
                  <a:pt x="3096" y="2673"/>
                </a:lnTo>
                <a:lnTo>
                  <a:pt x="3215" y="2712"/>
                </a:lnTo>
                <a:lnTo>
                  <a:pt x="3334" y="2752"/>
                </a:lnTo>
                <a:lnTo>
                  <a:pt x="3453" y="2792"/>
                </a:lnTo>
                <a:lnTo>
                  <a:pt x="3652" y="2951"/>
                </a:lnTo>
                <a:lnTo>
                  <a:pt x="3771" y="2990"/>
                </a:lnTo>
                <a:lnTo>
                  <a:pt x="3969" y="3109"/>
                </a:lnTo>
                <a:lnTo>
                  <a:pt x="4128" y="3268"/>
                </a:lnTo>
                <a:lnTo>
                  <a:pt x="4247" y="3308"/>
                </a:lnTo>
                <a:lnTo>
                  <a:pt x="4366" y="3427"/>
                </a:lnTo>
                <a:lnTo>
                  <a:pt x="4485" y="3506"/>
                </a:lnTo>
                <a:lnTo>
                  <a:pt x="4604" y="3625"/>
                </a:lnTo>
                <a:lnTo>
                  <a:pt x="4684" y="3744"/>
                </a:lnTo>
                <a:lnTo>
                  <a:pt x="4763" y="3863"/>
                </a:lnTo>
                <a:lnTo>
                  <a:pt x="4922" y="4022"/>
                </a:lnTo>
                <a:lnTo>
                  <a:pt x="5041" y="4102"/>
                </a:lnTo>
                <a:lnTo>
                  <a:pt x="5120" y="4221"/>
                </a:lnTo>
                <a:lnTo>
                  <a:pt x="5239" y="4300"/>
                </a:lnTo>
                <a:lnTo>
                  <a:pt x="5358" y="4459"/>
                </a:lnTo>
                <a:lnTo>
                  <a:pt x="5477" y="4578"/>
                </a:lnTo>
                <a:lnTo>
                  <a:pt x="5597" y="4617"/>
                </a:lnTo>
                <a:lnTo>
                  <a:pt x="5717" y="4737"/>
                </a:lnTo>
                <a:lnTo>
                  <a:pt x="5836" y="4776"/>
                </a:lnTo>
                <a:lnTo>
                  <a:pt x="5955" y="4817"/>
                </a:lnTo>
                <a:lnTo>
                  <a:pt x="6074" y="4817"/>
                </a:lnTo>
                <a:lnTo>
                  <a:pt x="6193" y="4857"/>
                </a:lnTo>
                <a:lnTo>
                  <a:pt x="6352" y="4936"/>
                </a:lnTo>
                <a:lnTo>
                  <a:pt x="6431" y="5055"/>
                </a:lnTo>
                <a:lnTo>
                  <a:pt x="6550" y="5214"/>
                </a:lnTo>
                <a:lnTo>
                  <a:pt x="6669" y="5333"/>
                </a:lnTo>
                <a:lnTo>
                  <a:pt x="6709" y="5452"/>
                </a:lnTo>
                <a:lnTo>
                  <a:pt x="6788" y="5571"/>
                </a:lnTo>
                <a:lnTo>
                  <a:pt x="6907" y="5730"/>
                </a:lnTo>
                <a:lnTo>
                  <a:pt x="6947" y="5849"/>
                </a:lnTo>
                <a:lnTo>
                  <a:pt x="7026" y="5968"/>
                </a:lnTo>
                <a:lnTo>
                  <a:pt x="7106" y="6087"/>
                </a:lnTo>
                <a:lnTo>
                  <a:pt x="7145" y="6206"/>
                </a:lnTo>
                <a:lnTo>
                  <a:pt x="7264" y="6325"/>
                </a:lnTo>
                <a:lnTo>
                  <a:pt x="7383" y="640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633840" y="3776760"/>
            <a:ext cx="3360960" cy="2843640"/>
          </a:xfrm>
          <a:custGeom>
            <a:avLst/>
            <a:gdLst/>
            <a:ahLst/>
            <a:rect l="0" t="0" r="r" b="b"/>
            <a:pathLst>
              <a:path fill="none" w="9336" h="7899">
                <a:moveTo>
                  <a:pt x="0" y="7899"/>
                </a:moveTo>
                <a:lnTo>
                  <a:pt x="66" y="7649"/>
                </a:lnTo>
                <a:lnTo>
                  <a:pt x="542" y="7184"/>
                </a:lnTo>
                <a:lnTo>
                  <a:pt x="1058" y="6670"/>
                </a:lnTo>
                <a:lnTo>
                  <a:pt x="1389" y="6459"/>
                </a:lnTo>
                <a:lnTo>
                  <a:pt x="1825" y="5821"/>
                </a:lnTo>
                <a:lnTo>
                  <a:pt x="2037" y="5277"/>
                </a:lnTo>
                <a:lnTo>
                  <a:pt x="2275" y="5042"/>
                </a:lnTo>
                <a:lnTo>
                  <a:pt x="2539" y="4591"/>
                </a:lnTo>
                <a:lnTo>
                  <a:pt x="2923" y="4047"/>
                </a:lnTo>
                <a:lnTo>
                  <a:pt x="3346" y="3136"/>
                </a:lnTo>
                <a:lnTo>
                  <a:pt x="3942" y="2715"/>
                </a:lnTo>
                <a:lnTo>
                  <a:pt x="4167" y="2725"/>
                </a:lnTo>
                <a:lnTo>
                  <a:pt x="4511" y="2935"/>
                </a:lnTo>
                <a:lnTo>
                  <a:pt x="4616" y="3136"/>
                </a:lnTo>
                <a:lnTo>
                  <a:pt x="4895" y="3322"/>
                </a:lnTo>
                <a:lnTo>
                  <a:pt x="5292" y="3494"/>
                </a:lnTo>
                <a:lnTo>
                  <a:pt x="5530" y="3347"/>
                </a:lnTo>
                <a:lnTo>
                  <a:pt x="5967" y="2778"/>
                </a:lnTo>
                <a:lnTo>
                  <a:pt x="6059" y="2700"/>
                </a:lnTo>
                <a:lnTo>
                  <a:pt x="6205" y="2671"/>
                </a:lnTo>
                <a:lnTo>
                  <a:pt x="6421" y="2582"/>
                </a:lnTo>
                <a:lnTo>
                  <a:pt x="6549" y="2440"/>
                </a:lnTo>
                <a:lnTo>
                  <a:pt x="6633" y="2298"/>
                </a:lnTo>
                <a:lnTo>
                  <a:pt x="6725" y="2073"/>
                </a:lnTo>
                <a:lnTo>
                  <a:pt x="6858" y="1995"/>
                </a:lnTo>
                <a:lnTo>
                  <a:pt x="7060" y="1930"/>
                </a:lnTo>
                <a:lnTo>
                  <a:pt x="7096" y="1940"/>
                </a:lnTo>
                <a:lnTo>
                  <a:pt x="7334" y="1915"/>
                </a:lnTo>
                <a:lnTo>
                  <a:pt x="7444" y="1871"/>
                </a:lnTo>
                <a:lnTo>
                  <a:pt x="7572" y="1729"/>
                </a:lnTo>
                <a:lnTo>
                  <a:pt x="7700" y="1680"/>
                </a:lnTo>
                <a:lnTo>
                  <a:pt x="7828" y="1587"/>
                </a:lnTo>
                <a:lnTo>
                  <a:pt x="8000" y="1396"/>
                </a:lnTo>
                <a:lnTo>
                  <a:pt x="8128" y="1303"/>
                </a:lnTo>
                <a:lnTo>
                  <a:pt x="8255" y="1254"/>
                </a:lnTo>
                <a:lnTo>
                  <a:pt x="8339" y="1112"/>
                </a:lnTo>
                <a:lnTo>
                  <a:pt x="8467" y="1019"/>
                </a:lnTo>
                <a:lnTo>
                  <a:pt x="8511" y="876"/>
                </a:lnTo>
                <a:lnTo>
                  <a:pt x="8599" y="685"/>
                </a:lnTo>
                <a:lnTo>
                  <a:pt x="8727" y="543"/>
                </a:lnTo>
                <a:lnTo>
                  <a:pt x="8855" y="401"/>
                </a:lnTo>
                <a:lnTo>
                  <a:pt x="8983" y="210"/>
                </a:lnTo>
                <a:lnTo>
                  <a:pt x="9111" y="68"/>
                </a:lnTo>
                <a:lnTo>
                  <a:pt x="9239" y="24"/>
                </a:lnTo>
                <a:lnTo>
                  <a:pt x="933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36800" y="3889440"/>
            <a:ext cx="3262680" cy="2730960"/>
          </a:xfrm>
          <a:custGeom>
            <a:avLst/>
            <a:gdLst/>
            <a:ahLst/>
            <a:rect l="0" t="0" r="r" b="b"/>
            <a:pathLst>
              <a:path fill="none" w="9063" h="7586">
                <a:moveTo>
                  <a:pt x="9063" y="0"/>
                </a:moveTo>
                <a:lnTo>
                  <a:pt x="8980" y="127"/>
                </a:lnTo>
                <a:lnTo>
                  <a:pt x="8852" y="255"/>
                </a:lnTo>
                <a:lnTo>
                  <a:pt x="8724" y="343"/>
                </a:lnTo>
                <a:lnTo>
                  <a:pt x="8636" y="471"/>
                </a:lnTo>
                <a:lnTo>
                  <a:pt x="8552" y="599"/>
                </a:lnTo>
                <a:lnTo>
                  <a:pt x="8468" y="727"/>
                </a:lnTo>
                <a:lnTo>
                  <a:pt x="8380" y="855"/>
                </a:lnTo>
                <a:lnTo>
                  <a:pt x="8296" y="983"/>
                </a:lnTo>
                <a:lnTo>
                  <a:pt x="8168" y="1067"/>
                </a:lnTo>
                <a:lnTo>
                  <a:pt x="8040" y="1195"/>
                </a:lnTo>
                <a:lnTo>
                  <a:pt x="7913" y="1283"/>
                </a:lnTo>
                <a:lnTo>
                  <a:pt x="7785" y="1411"/>
                </a:lnTo>
                <a:lnTo>
                  <a:pt x="7613" y="1494"/>
                </a:lnTo>
                <a:lnTo>
                  <a:pt x="7485" y="1622"/>
                </a:lnTo>
                <a:lnTo>
                  <a:pt x="7357" y="1666"/>
                </a:lnTo>
                <a:lnTo>
                  <a:pt x="7295" y="1781"/>
                </a:lnTo>
                <a:lnTo>
                  <a:pt x="7207" y="1860"/>
                </a:lnTo>
                <a:lnTo>
                  <a:pt x="7075" y="1914"/>
                </a:lnTo>
                <a:lnTo>
                  <a:pt x="7004" y="1976"/>
                </a:lnTo>
                <a:lnTo>
                  <a:pt x="6916" y="2082"/>
                </a:lnTo>
                <a:lnTo>
                  <a:pt x="6721" y="2258"/>
                </a:lnTo>
                <a:lnTo>
                  <a:pt x="6553" y="2355"/>
                </a:lnTo>
                <a:lnTo>
                  <a:pt x="6430" y="2426"/>
                </a:lnTo>
                <a:lnTo>
                  <a:pt x="6342" y="2532"/>
                </a:lnTo>
                <a:lnTo>
                  <a:pt x="6218" y="2620"/>
                </a:lnTo>
                <a:lnTo>
                  <a:pt x="6174" y="2752"/>
                </a:lnTo>
                <a:lnTo>
                  <a:pt x="6033" y="2858"/>
                </a:lnTo>
                <a:lnTo>
                  <a:pt x="5910" y="3043"/>
                </a:lnTo>
                <a:lnTo>
                  <a:pt x="5716" y="3140"/>
                </a:lnTo>
                <a:lnTo>
                  <a:pt x="5618" y="3264"/>
                </a:lnTo>
                <a:lnTo>
                  <a:pt x="5460" y="3396"/>
                </a:lnTo>
                <a:lnTo>
                  <a:pt x="5292" y="3475"/>
                </a:lnTo>
                <a:lnTo>
                  <a:pt x="5160" y="3511"/>
                </a:lnTo>
                <a:lnTo>
                  <a:pt x="5010" y="3493"/>
                </a:lnTo>
                <a:lnTo>
                  <a:pt x="4781" y="3475"/>
                </a:lnTo>
                <a:lnTo>
                  <a:pt x="4626" y="3286"/>
                </a:lnTo>
                <a:lnTo>
                  <a:pt x="4498" y="3202"/>
                </a:lnTo>
                <a:lnTo>
                  <a:pt x="4371" y="3074"/>
                </a:lnTo>
                <a:lnTo>
                  <a:pt x="4238" y="2990"/>
                </a:lnTo>
                <a:lnTo>
                  <a:pt x="4154" y="2862"/>
                </a:lnTo>
                <a:lnTo>
                  <a:pt x="4027" y="2818"/>
                </a:lnTo>
                <a:lnTo>
                  <a:pt x="3899" y="2774"/>
                </a:lnTo>
                <a:lnTo>
                  <a:pt x="3775" y="2638"/>
                </a:lnTo>
                <a:lnTo>
                  <a:pt x="3599" y="2774"/>
                </a:lnTo>
                <a:lnTo>
                  <a:pt x="3515" y="2902"/>
                </a:lnTo>
                <a:lnTo>
                  <a:pt x="3431" y="3030"/>
                </a:lnTo>
                <a:lnTo>
                  <a:pt x="3343" y="3158"/>
                </a:lnTo>
                <a:lnTo>
                  <a:pt x="3215" y="3286"/>
                </a:lnTo>
                <a:lnTo>
                  <a:pt x="3131" y="3418"/>
                </a:lnTo>
                <a:lnTo>
                  <a:pt x="3004" y="3546"/>
                </a:lnTo>
                <a:lnTo>
                  <a:pt x="2915" y="3674"/>
                </a:lnTo>
                <a:lnTo>
                  <a:pt x="2832" y="3802"/>
                </a:lnTo>
                <a:lnTo>
                  <a:pt x="2704" y="3930"/>
                </a:lnTo>
                <a:lnTo>
                  <a:pt x="2660" y="4057"/>
                </a:lnTo>
                <a:lnTo>
                  <a:pt x="2576" y="4185"/>
                </a:lnTo>
                <a:lnTo>
                  <a:pt x="2448" y="4353"/>
                </a:lnTo>
                <a:lnTo>
                  <a:pt x="2364" y="4481"/>
                </a:lnTo>
                <a:lnTo>
                  <a:pt x="2235" y="4609"/>
                </a:lnTo>
                <a:lnTo>
                  <a:pt x="2147" y="4741"/>
                </a:lnTo>
                <a:lnTo>
                  <a:pt x="2063" y="4869"/>
                </a:lnTo>
                <a:lnTo>
                  <a:pt x="1979" y="4997"/>
                </a:lnTo>
                <a:lnTo>
                  <a:pt x="1891" y="5125"/>
                </a:lnTo>
                <a:lnTo>
                  <a:pt x="1807" y="5252"/>
                </a:lnTo>
                <a:lnTo>
                  <a:pt x="1724" y="5380"/>
                </a:lnTo>
                <a:lnTo>
                  <a:pt x="1636" y="5508"/>
                </a:lnTo>
                <a:lnTo>
                  <a:pt x="1552" y="5636"/>
                </a:lnTo>
                <a:lnTo>
                  <a:pt x="1508" y="5765"/>
                </a:lnTo>
                <a:lnTo>
                  <a:pt x="1424" y="5893"/>
                </a:lnTo>
                <a:lnTo>
                  <a:pt x="1336" y="6021"/>
                </a:lnTo>
                <a:lnTo>
                  <a:pt x="1252" y="6149"/>
                </a:lnTo>
                <a:lnTo>
                  <a:pt x="1124" y="6321"/>
                </a:lnTo>
                <a:lnTo>
                  <a:pt x="1040" y="6449"/>
                </a:lnTo>
                <a:lnTo>
                  <a:pt x="912" y="6488"/>
                </a:lnTo>
                <a:lnTo>
                  <a:pt x="784" y="6576"/>
                </a:lnTo>
                <a:lnTo>
                  <a:pt x="696" y="6704"/>
                </a:lnTo>
                <a:lnTo>
                  <a:pt x="568" y="6788"/>
                </a:lnTo>
                <a:lnTo>
                  <a:pt x="440" y="6916"/>
                </a:lnTo>
                <a:lnTo>
                  <a:pt x="357" y="7044"/>
                </a:lnTo>
                <a:lnTo>
                  <a:pt x="229" y="7172"/>
                </a:lnTo>
                <a:lnTo>
                  <a:pt x="141" y="7300"/>
                </a:lnTo>
                <a:lnTo>
                  <a:pt x="57" y="7427"/>
                </a:lnTo>
                <a:lnTo>
                  <a:pt x="0" y="758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54520" y="4203720"/>
            <a:ext cx="3150000" cy="2416680"/>
          </a:xfrm>
          <a:custGeom>
            <a:avLst/>
            <a:gdLst/>
            <a:ahLst/>
            <a:rect l="0" t="0" r="r" b="b"/>
            <a:pathLst>
              <a:path fill="none" w="8750" h="6713">
                <a:moveTo>
                  <a:pt x="8750" y="0"/>
                </a:moveTo>
                <a:lnTo>
                  <a:pt x="8653" y="26"/>
                </a:lnTo>
                <a:lnTo>
                  <a:pt x="8525" y="66"/>
                </a:lnTo>
                <a:lnTo>
                  <a:pt x="8398" y="154"/>
                </a:lnTo>
                <a:lnTo>
                  <a:pt x="8270" y="194"/>
                </a:lnTo>
                <a:lnTo>
                  <a:pt x="8142" y="282"/>
                </a:lnTo>
                <a:lnTo>
                  <a:pt x="8054" y="449"/>
                </a:lnTo>
                <a:lnTo>
                  <a:pt x="7926" y="577"/>
                </a:lnTo>
                <a:lnTo>
                  <a:pt x="7798" y="705"/>
                </a:lnTo>
                <a:lnTo>
                  <a:pt x="7670" y="793"/>
                </a:lnTo>
                <a:lnTo>
                  <a:pt x="7542" y="921"/>
                </a:lnTo>
                <a:lnTo>
                  <a:pt x="7414" y="1005"/>
                </a:lnTo>
                <a:lnTo>
                  <a:pt x="7330" y="1133"/>
                </a:lnTo>
                <a:lnTo>
                  <a:pt x="7260" y="1296"/>
                </a:lnTo>
                <a:lnTo>
                  <a:pt x="7172" y="1455"/>
                </a:lnTo>
                <a:lnTo>
                  <a:pt x="6951" y="1569"/>
                </a:lnTo>
                <a:lnTo>
                  <a:pt x="6713" y="1631"/>
                </a:lnTo>
                <a:lnTo>
                  <a:pt x="6558" y="1689"/>
                </a:lnTo>
                <a:lnTo>
                  <a:pt x="6430" y="1817"/>
                </a:lnTo>
                <a:lnTo>
                  <a:pt x="6302" y="1945"/>
                </a:lnTo>
                <a:lnTo>
                  <a:pt x="6218" y="2073"/>
                </a:lnTo>
                <a:lnTo>
                  <a:pt x="6090" y="2157"/>
                </a:lnTo>
                <a:lnTo>
                  <a:pt x="6007" y="2285"/>
                </a:lnTo>
                <a:lnTo>
                  <a:pt x="5879" y="2373"/>
                </a:lnTo>
                <a:lnTo>
                  <a:pt x="5751" y="2457"/>
                </a:lnTo>
                <a:lnTo>
                  <a:pt x="5623" y="2545"/>
                </a:lnTo>
                <a:lnTo>
                  <a:pt x="5495" y="2585"/>
                </a:lnTo>
                <a:lnTo>
                  <a:pt x="5367" y="2629"/>
                </a:lnTo>
                <a:lnTo>
                  <a:pt x="5235" y="2712"/>
                </a:lnTo>
                <a:lnTo>
                  <a:pt x="5107" y="2757"/>
                </a:lnTo>
                <a:lnTo>
                  <a:pt x="4979" y="2757"/>
                </a:lnTo>
                <a:lnTo>
                  <a:pt x="4851" y="2801"/>
                </a:lnTo>
                <a:lnTo>
                  <a:pt x="4723" y="2840"/>
                </a:lnTo>
                <a:lnTo>
                  <a:pt x="4556" y="2884"/>
                </a:lnTo>
                <a:lnTo>
                  <a:pt x="4340" y="2884"/>
                </a:lnTo>
                <a:lnTo>
                  <a:pt x="4212" y="2840"/>
                </a:lnTo>
                <a:lnTo>
                  <a:pt x="4084" y="2757"/>
                </a:lnTo>
                <a:lnTo>
                  <a:pt x="3956" y="2712"/>
                </a:lnTo>
                <a:lnTo>
                  <a:pt x="3828" y="2629"/>
                </a:lnTo>
                <a:lnTo>
                  <a:pt x="3700" y="2585"/>
                </a:lnTo>
                <a:lnTo>
                  <a:pt x="3572" y="2545"/>
                </a:lnTo>
                <a:lnTo>
                  <a:pt x="3444" y="2501"/>
                </a:lnTo>
                <a:lnTo>
                  <a:pt x="3299" y="2369"/>
                </a:lnTo>
                <a:lnTo>
                  <a:pt x="3145" y="2501"/>
                </a:lnTo>
                <a:lnTo>
                  <a:pt x="3017" y="2545"/>
                </a:lnTo>
                <a:lnTo>
                  <a:pt x="2933" y="2673"/>
                </a:lnTo>
                <a:lnTo>
                  <a:pt x="2805" y="2757"/>
                </a:lnTo>
                <a:lnTo>
                  <a:pt x="2677" y="2840"/>
                </a:lnTo>
                <a:lnTo>
                  <a:pt x="2549" y="2968"/>
                </a:lnTo>
                <a:lnTo>
                  <a:pt x="2505" y="3096"/>
                </a:lnTo>
                <a:lnTo>
                  <a:pt x="2421" y="3224"/>
                </a:lnTo>
                <a:lnTo>
                  <a:pt x="2333" y="3352"/>
                </a:lnTo>
                <a:lnTo>
                  <a:pt x="2249" y="3480"/>
                </a:lnTo>
                <a:lnTo>
                  <a:pt x="2165" y="3608"/>
                </a:lnTo>
                <a:lnTo>
                  <a:pt x="2076" y="3736"/>
                </a:lnTo>
                <a:lnTo>
                  <a:pt x="1993" y="3868"/>
                </a:lnTo>
                <a:lnTo>
                  <a:pt x="1909" y="3996"/>
                </a:lnTo>
                <a:lnTo>
                  <a:pt x="1821" y="4124"/>
                </a:lnTo>
                <a:lnTo>
                  <a:pt x="1737" y="4251"/>
                </a:lnTo>
                <a:lnTo>
                  <a:pt x="1653" y="4379"/>
                </a:lnTo>
                <a:lnTo>
                  <a:pt x="1565" y="4507"/>
                </a:lnTo>
                <a:lnTo>
                  <a:pt x="1525" y="4635"/>
                </a:lnTo>
                <a:lnTo>
                  <a:pt x="1397" y="4763"/>
                </a:lnTo>
                <a:lnTo>
                  <a:pt x="1353" y="4891"/>
                </a:lnTo>
                <a:lnTo>
                  <a:pt x="1225" y="5019"/>
                </a:lnTo>
                <a:lnTo>
                  <a:pt x="1137" y="5148"/>
                </a:lnTo>
                <a:lnTo>
                  <a:pt x="1098" y="5276"/>
                </a:lnTo>
                <a:lnTo>
                  <a:pt x="1053" y="5403"/>
                </a:lnTo>
                <a:lnTo>
                  <a:pt x="926" y="5531"/>
                </a:lnTo>
                <a:lnTo>
                  <a:pt x="798" y="5659"/>
                </a:lnTo>
                <a:lnTo>
                  <a:pt x="670" y="5787"/>
                </a:lnTo>
                <a:lnTo>
                  <a:pt x="542" y="5915"/>
                </a:lnTo>
                <a:lnTo>
                  <a:pt x="458" y="6043"/>
                </a:lnTo>
                <a:lnTo>
                  <a:pt x="330" y="6127"/>
                </a:lnTo>
                <a:lnTo>
                  <a:pt x="242" y="6254"/>
                </a:lnTo>
                <a:lnTo>
                  <a:pt x="158" y="6382"/>
                </a:lnTo>
                <a:lnTo>
                  <a:pt x="74" y="6515"/>
                </a:lnTo>
                <a:lnTo>
                  <a:pt x="0" y="671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19400" y="4562640"/>
            <a:ext cx="2984760" cy="2054520"/>
          </a:xfrm>
          <a:custGeom>
            <a:avLst/>
            <a:gdLst/>
            <a:ahLst/>
            <a:rect l="0" t="0" r="r" b="b"/>
            <a:pathLst>
              <a:path fill="none" w="8291" h="5707">
                <a:moveTo>
                  <a:pt x="8291" y="0"/>
                </a:moveTo>
                <a:lnTo>
                  <a:pt x="8194" y="92"/>
                </a:lnTo>
                <a:lnTo>
                  <a:pt x="8066" y="136"/>
                </a:lnTo>
                <a:lnTo>
                  <a:pt x="7938" y="180"/>
                </a:lnTo>
                <a:lnTo>
                  <a:pt x="7810" y="224"/>
                </a:lnTo>
                <a:lnTo>
                  <a:pt x="7682" y="308"/>
                </a:lnTo>
                <a:lnTo>
                  <a:pt x="7554" y="352"/>
                </a:lnTo>
                <a:lnTo>
                  <a:pt x="7422" y="480"/>
                </a:lnTo>
                <a:lnTo>
                  <a:pt x="7338" y="608"/>
                </a:lnTo>
                <a:lnTo>
                  <a:pt x="7210" y="692"/>
                </a:lnTo>
                <a:lnTo>
                  <a:pt x="7083" y="776"/>
                </a:lnTo>
                <a:lnTo>
                  <a:pt x="6955" y="864"/>
                </a:lnTo>
                <a:lnTo>
                  <a:pt x="6827" y="948"/>
                </a:lnTo>
                <a:lnTo>
                  <a:pt x="6699" y="992"/>
                </a:lnTo>
                <a:lnTo>
                  <a:pt x="6571" y="1075"/>
                </a:lnTo>
                <a:lnTo>
                  <a:pt x="6443" y="1159"/>
                </a:lnTo>
                <a:lnTo>
                  <a:pt x="6315" y="1287"/>
                </a:lnTo>
                <a:lnTo>
                  <a:pt x="6143" y="1415"/>
                </a:lnTo>
                <a:lnTo>
                  <a:pt x="6015" y="1503"/>
                </a:lnTo>
                <a:lnTo>
                  <a:pt x="5843" y="1587"/>
                </a:lnTo>
                <a:lnTo>
                  <a:pt x="5676" y="1715"/>
                </a:lnTo>
                <a:lnTo>
                  <a:pt x="5548" y="1803"/>
                </a:lnTo>
                <a:lnTo>
                  <a:pt x="5420" y="1887"/>
                </a:lnTo>
                <a:lnTo>
                  <a:pt x="5248" y="1971"/>
                </a:lnTo>
                <a:lnTo>
                  <a:pt x="5120" y="2059"/>
                </a:lnTo>
                <a:lnTo>
                  <a:pt x="4992" y="2099"/>
                </a:lnTo>
                <a:lnTo>
                  <a:pt x="4864" y="2143"/>
                </a:lnTo>
                <a:lnTo>
                  <a:pt x="4737" y="2143"/>
                </a:lnTo>
                <a:lnTo>
                  <a:pt x="4565" y="2187"/>
                </a:lnTo>
                <a:lnTo>
                  <a:pt x="4393" y="2226"/>
                </a:lnTo>
                <a:lnTo>
                  <a:pt x="4265" y="2226"/>
                </a:lnTo>
                <a:lnTo>
                  <a:pt x="4096" y="2226"/>
                </a:lnTo>
                <a:lnTo>
                  <a:pt x="3968" y="2271"/>
                </a:lnTo>
                <a:lnTo>
                  <a:pt x="3840" y="2271"/>
                </a:lnTo>
                <a:lnTo>
                  <a:pt x="3712" y="2226"/>
                </a:lnTo>
                <a:lnTo>
                  <a:pt x="3585" y="2187"/>
                </a:lnTo>
                <a:lnTo>
                  <a:pt x="3452" y="2187"/>
                </a:lnTo>
                <a:lnTo>
                  <a:pt x="3324" y="2143"/>
                </a:lnTo>
                <a:lnTo>
                  <a:pt x="3157" y="2059"/>
                </a:lnTo>
                <a:lnTo>
                  <a:pt x="3029" y="2015"/>
                </a:lnTo>
                <a:lnTo>
                  <a:pt x="2853" y="1957"/>
                </a:lnTo>
                <a:lnTo>
                  <a:pt x="2698" y="1847"/>
                </a:lnTo>
                <a:lnTo>
                  <a:pt x="2548" y="1927"/>
                </a:lnTo>
                <a:lnTo>
                  <a:pt x="2345" y="2059"/>
                </a:lnTo>
                <a:lnTo>
                  <a:pt x="2218" y="2099"/>
                </a:lnTo>
                <a:lnTo>
                  <a:pt x="2129" y="2226"/>
                </a:lnTo>
                <a:lnTo>
                  <a:pt x="2002" y="2354"/>
                </a:lnTo>
                <a:lnTo>
                  <a:pt x="1918" y="2482"/>
                </a:lnTo>
                <a:lnTo>
                  <a:pt x="1874" y="2610"/>
                </a:lnTo>
                <a:lnTo>
                  <a:pt x="1790" y="2738"/>
                </a:lnTo>
                <a:lnTo>
                  <a:pt x="1706" y="2871"/>
                </a:lnTo>
                <a:lnTo>
                  <a:pt x="1662" y="2999"/>
                </a:lnTo>
                <a:lnTo>
                  <a:pt x="1534" y="3083"/>
                </a:lnTo>
                <a:lnTo>
                  <a:pt x="1450" y="3255"/>
                </a:lnTo>
                <a:lnTo>
                  <a:pt x="1322" y="3383"/>
                </a:lnTo>
                <a:lnTo>
                  <a:pt x="1278" y="3511"/>
                </a:lnTo>
                <a:lnTo>
                  <a:pt x="1195" y="3639"/>
                </a:lnTo>
                <a:lnTo>
                  <a:pt x="1106" y="3766"/>
                </a:lnTo>
                <a:lnTo>
                  <a:pt x="1023" y="3894"/>
                </a:lnTo>
                <a:lnTo>
                  <a:pt x="978" y="4022"/>
                </a:lnTo>
                <a:lnTo>
                  <a:pt x="895" y="4150"/>
                </a:lnTo>
                <a:lnTo>
                  <a:pt x="806" y="4278"/>
                </a:lnTo>
                <a:lnTo>
                  <a:pt x="723" y="4406"/>
                </a:lnTo>
                <a:lnTo>
                  <a:pt x="679" y="4534"/>
                </a:lnTo>
                <a:lnTo>
                  <a:pt x="595" y="4662"/>
                </a:lnTo>
                <a:lnTo>
                  <a:pt x="511" y="4789"/>
                </a:lnTo>
                <a:lnTo>
                  <a:pt x="423" y="4917"/>
                </a:lnTo>
                <a:lnTo>
                  <a:pt x="339" y="5045"/>
                </a:lnTo>
                <a:lnTo>
                  <a:pt x="255" y="5173"/>
                </a:lnTo>
                <a:lnTo>
                  <a:pt x="167" y="5301"/>
                </a:lnTo>
                <a:lnTo>
                  <a:pt x="127" y="5429"/>
                </a:lnTo>
                <a:lnTo>
                  <a:pt x="39" y="5557"/>
                </a:lnTo>
                <a:lnTo>
                  <a:pt x="0" y="570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086360" y="5076720"/>
            <a:ext cx="2918160" cy="1543320"/>
          </a:xfrm>
          <a:custGeom>
            <a:avLst/>
            <a:gdLst/>
            <a:ahLst/>
            <a:rect l="0" t="0" r="r" b="b"/>
            <a:pathLst>
              <a:path fill="none" w="8106" h="4287">
                <a:moveTo>
                  <a:pt x="8106" y="0"/>
                </a:moveTo>
                <a:lnTo>
                  <a:pt x="8009" y="30"/>
                </a:lnTo>
                <a:lnTo>
                  <a:pt x="7881" y="74"/>
                </a:lnTo>
                <a:lnTo>
                  <a:pt x="7753" y="158"/>
                </a:lnTo>
                <a:lnTo>
                  <a:pt x="7625" y="246"/>
                </a:lnTo>
                <a:lnTo>
                  <a:pt x="7497" y="330"/>
                </a:lnTo>
                <a:lnTo>
                  <a:pt x="7369" y="414"/>
                </a:lnTo>
                <a:lnTo>
                  <a:pt x="7237" y="502"/>
                </a:lnTo>
                <a:lnTo>
                  <a:pt x="7109" y="586"/>
                </a:lnTo>
                <a:lnTo>
                  <a:pt x="6941" y="714"/>
                </a:lnTo>
                <a:lnTo>
                  <a:pt x="6769" y="798"/>
                </a:lnTo>
                <a:lnTo>
                  <a:pt x="6642" y="886"/>
                </a:lnTo>
                <a:lnTo>
                  <a:pt x="6514" y="970"/>
                </a:lnTo>
                <a:lnTo>
                  <a:pt x="6302" y="1053"/>
                </a:lnTo>
                <a:lnTo>
                  <a:pt x="6130" y="1098"/>
                </a:lnTo>
                <a:lnTo>
                  <a:pt x="6002" y="1142"/>
                </a:lnTo>
                <a:lnTo>
                  <a:pt x="5874" y="1181"/>
                </a:lnTo>
                <a:lnTo>
                  <a:pt x="5618" y="1225"/>
                </a:lnTo>
                <a:lnTo>
                  <a:pt x="5447" y="1270"/>
                </a:lnTo>
                <a:lnTo>
                  <a:pt x="5019" y="1270"/>
                </a:lnTo>
                <a:lnTo>
                  <a:pt x="4891" y="1270"/>
                </a:lnTo>
                <a:lnTo>
                  <a:pt x="4763" y="1309"/>
                </a:lnTo>
                <a:lnTo>
                  <a:pt x="4635" y="1309"/>
                </a:lnTo>
                <a:lnTo>
                  <a:pt x="4463" y="1309"/>
                </a:lnTo>
                <a:lnTo>
                  <a:pt x="4335" y="1309"/>
                </a:lnTo>
                <a:lnTo>
                  <a:pt x="4207" y="1309"/>
                </a:lnTo>
                <a:lnTo>
                  <a:pt x="4039" y="1270"/>
                </a:lnTo>
                <a:lnTo>
                  <a:pt x="3867" y="1270"/>
                </a:lnTo>
                <a:lnTo>
                  <a:pt x="3655" y="1270"/>
                </a:lnTo>
                <a:lnTo>
                  <a:pt x="3527" y="1270"/>
                </a:lnTo>
                <a:lnTo>
                  <a:pt x="3355" y="1225"/>
                </a:lnTo>
                <a:lnTo>
                  <a:pt x="3227" y="1181"/>
                </a:lnTo>
                <a:lnTo>
                  <a:pt x="3100" y="1142"/>
                </a:lnTo>
                <a:lnTo>
                  <a:pt x="2844" y="1142"/>
                </a:lnTo>
                <a:lnTo>
                  <a:pt x="2716" y="1142"/>
                </a:lnTo>
                <a:lnTo>
                  <a:pt x="2579" y="1071"/>
                </a:lnTo>
                <a:lnTo>
                  <a:pt x="2394" y="1212"/>
                </a:lnTo>
                <a:lnTo>
                  <a:pt x="2275" y="1292"/>
                </a:lnTo>
                <a:lnTo>
                  <a:pt x="2204" y="1441"/>
                </a:lnTo>
                <a:lnTo>
                  <a:pt x="2076" y="1525"/>
                </a:lnTo>
                <a:lnTo>
                  <a:pt x="1944" y="1653"/>
                </a:lnTo>
                <a:lnTo>
                  <a:pt x="1816" y="1781"/>
                </a:lnTo>
                <a:lnTo>
                  <a:pt x="1733" y="1909"/>
                </a:lnTo>
                <a:lnTo>
                  <a:pt x="1605" y="2037"/>
                </a:lnTo>
                <a:lnTo>
                  <a:pt x="1477" y="2121"/>
                </a:lnTo>
                <a:lnTo>
                  <a:pt x="1349" y="2249"/>
                </a:lnTo>
                <a:lnTo>
                  <a:pt x="1221" y="2338"/>
                </a:lnTo>
                <a:lnTo>
                  <a:pt x="1137" y="2466"/>
                </a:lnTo>
                <a:lnTo>
                  <a:pt x="965" y="2633"/>
                </a:lnTo>
                <a:lnTo>
                  <a:pt x="881" y="2765"/>
                </a:lnTo>
                <a:lnTo>
                  <a:pt x="837" y="2893"/>
                </a:lnTo>
                <a:lnTo>
                  <a:pt x="754" y="3021"/>
                </a:lnTo>
                <a:lnTo>
                  <a:pt x="709" y="3149"/>
                </a:lnTo>
                <a:lnTo>
                  <a:pt x="621" y="3277"/>
                </a:lnTo>
                <a:lnTo>
                  <a:pt x="537" y="3405"/>
                </a:lnTo>
                <a:lnTo>
                  <a:pt x="493" y="3533"/>
                </a:lnTo>
                <a:lnTo>
                  <a:pt x="410" y="3661"/>
                </a:lnTo>
                <a:lnTo>
                  <a:pt x="366" y="3788"/>
                </a:lnTo>
                <a:lnTo>
                  <a:pt x="198" y="3956"/>
                </a:lnTo>
                <a:lnTo>
                  <a:pt x="110" y="4088"/>
                </a:lnTo>
                <a:lnTo>
                  <a:pt x="0" y="428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187880" y="5505480"/>
            <a:ext cx="2816640" cy="1119600"/>
          </a:xfrm>
          <a:custGeom>
            <a:avLst/>
            <a:gdLst/>
            <a:ahLst/>
            <a:rect l="0" t="0" r="r" b="b"/>
            <a:pathLst>
              <a:path fill="none" w="7824" h="3110">
                <a:moveTo>
                  <a:pt x="7824" y="0"/>
                </a:moveTo>
                <a:lnTo>
                  <a:pt x="7727" y="35"/>
                </a:lnTo>
                <a:lnTo>
                  <a:pt x="7639" y="163"/>
                </a:lnTo>
                <a:lnTo>
                  <a:pt x="7511" y="251"/>
                </a:lnTo>
                <a:lnTo>
                  <a:pt x="7383" y="335"/>
                </a:lnTo>
                <a:lnTo>
                  <a:pt x="7216" y="507"/>
                </a:lnTo>
                <a:lnTo>
                  <a:pt x="7000" y="635"/>
                </a:lnTo>
                <a:lnTo>
                  <a:pt x="6872" y="674"/>
                </a:lnTo>
                <a:lnTo>
                  <a:pt x="6744" y="718"/>
                </a:lnTo>
                <a:lnTo>
                  <a:pt x="6532" y="718"/>
                </a:lnTo>
                <a:lnTo>
                  <a:pt x="6404" y="718"/>
                </a:lnTo>
                <a:lnTo>
                  <a:pt x="6277" y="718"/>
                </a:lnTo>
                <a:lnTo>
                  <a:pt x="5081" y="674"/>
                </a:lnTo>
                <a:lnTo>
                  <a:pt x="4864" y="674"/>
                </a:lnTo>
                <a:lnTo>
                  <a:pt x="4737" y="674"/>
                </a:lnTo>
                <a:lnTo>
                  <a:pt x="4309" y="635"/>
                </a:lnTo>
                <a:lnTo>
                  <a:pt x="4141" y="590"/>
                </a:lnTo>
                <a:lnTo>
                  <a:pt x="4013" y="590"/>
                </a:lnTo>
                <a:lnTo>
                  <a:pt x="3885" y="507"/>
                </a:lnTo>
                <a:lnTo>
                  <a:pt x="3713" y="463"/>
                </a:lnTo>
                <a:lnTo>
                  <a:pt x="3542" y="463"/>
                </a:lnTo>
                <a:lnTo>
                  <a:pt x="3414" y="463"/>
                </a:lnTo>
                <a:lnTo>
                  <a:pt x="3246" y="463"/>
                </a:lnTo>
                <a:lnTo>
                  <a:pt x="3118" y="463"/>
                </a:lnTo>
                <a:lnTo>
                  <a:pt x="2946" y="463"/>
                </a:lnTo>
                <a:lnTo>
                  <a:pt x="2818" y="463"/>
                </a:lnTo>
                <a:lnTo>
                  <a:pt x="2690" y="463"/>
                </a:lnTo>
                <a:lnTo>
                  <a:pt x="2563" y="463"/>
                </a:lnTo>
                <a:lnTo>
                  <a:pt x="2435" y="463"/>
                </a:lnTo>
                <a:lnTo>
                  <a:pt x="2307" y="507"/>
                </a:lnTo>
                <a:lnTo>
                  <a:pt x="2179" y="546"/>
                </a:lnTo>
                <a:lnTo>
                  <a:pt x="2007" y="590"/>
                </a:lnTo>
                <a:lnTo>
                  <a:pt x="1878" y="635"/>
                </a:lnTo>
                <a:lnTo>
                  <a:pt x="1750" y="674"/>
                </a:lnTo>
                <a:lnTo>
                  <a:pt x="1622" y="762"/>
                </a:lnTo>
                <a:lnTo>
                  <a:pt x="1494" y="847"/>
                </a:lnTo>
                <a:lnTo>
                  <a:pt x="1406" y="975"/>
                </a:lnTo>
                <a:lnTo>
                  <a:pt x="1278" y="1019"/>
                </a:lnTo>
                <a:lnTo>
                  <a:pt x="1150" y="1103"/>
                </a:lnTo>
                <a:lnTo>
                  <a:pt x="1067" y="1231"/>
                </a:lnTo>
                <a:lnTo>
                  <a:pt x="983" y="1359"/>
                </a:lnTo>
                <a:lnTo>
                  <a:pt x="855" y="1487"/>
                </a:lnTo>
                <a:lnTo>
                  <a:pt x="727" y="1659"/>
                </a:lnTo>
                <a:lnTo>
                  <a:pt x="639" y="1786"/>
                </a:lnTo>
                <a:lnTo>
                  <a:pt x="555" y="1914"/>
                </a:lnTo>
                <a:lnTo>
                  <a:pt x="511" y="2042"/>
                </a:lnTo>
                <a:lnTo>
                  <a:pt x="471" y="2170"/>
                </a:lnTo>
                <a:lnTo>
                  <a:pt x="383" y="2343"/>
                </a:lnTo>
                <a:lnTo>
                  <a:pt x="299" y="2471"/>
                </a:lnTo>
                <a:lnTo>
                  <a:pt x="255" y="2599"/>
                </a:lnTo>
                <a:lnTo>
                  <a:pt x="211" y="2727"/>
                </a:lnTo>
                <a:lnTo>
                  <a:pt x="127" y="2855"/>
                </a:lnTo>
                <a:lnTo>
                  <a:pt x="44" y="2982"/>
                </a:lnTo>
                <a:lnTo>
                  <a:pt x="0" y="311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292640" y="5886360"/>
            <a:ext cx="2711880" cy="733680"/>
          </a:xfrm>
          <a:custGeom>
            <a:avLst/>
            <a:gdLst/>
            <a:ahLst/>
            <a:rect l="0" t="0" r="r" b="b"/>
            <a:pathLst>
              <a:path fill="none" w="7533" h="2038">
                <a:moveTo>
                  <a:pt x="7533" y="432"/>
                </a:moveTo>
                <a:lnTo>
                  <a:pt x="7436" y="427"/>
                </a:lnTo>
                <a:lnTo>
                  <a:pt x="7181" y="471"/>
                </a:lnTo>
                <a:lnTo>
                  <a:pt x="7053" y="515"/>
                </a:lnTo>
                <a:lnTo>
                  <a:pt x="6881" y="515"/>
                </a:lnTo>
                <a:lnTo>
                  <a:pt x="6753" y="471"/>
                </a:lnTo>
                <a:lnTo>
                  <a:pt x="6625" y="471"/>
                </a:lnTo>
                <a:lnTo>
                  <a:pt x="6497" y="471"/>
                </a:lnTo>
                <a:lnTo>
                  <a:pt x="6369" y="427"/>
                </a:lnTo>
                <a:lnTo>
                  <a:pt x="6197" y="427"/>
                </a:lnTo>
                <a:lnTo>
                  <a:pt x="5985" y="471"/>
                </a:lnTo>
                <a:lnTo>
                  <a:pt x="5858" y="471"/>
                </a:lnTo>
                <a:lnTo>
                  <a:pt x="5730" y="515"/>
                </a:lnTo>
                <a:lnTo>
                  <a:pt x="5601" y="515"/>
                </a:lnTo>
                <a:lnTo>
                  <a:pt x="5473" y="515"/>
                </a:lnTo>
                <a:lnTo>
                  <a:pt x="5341" y="515"/>
                </a:lnTo>
                <a:lnTo>
                  <a:pt x="5173" y="471"/>
                </a:lnTo>
                <a:lnTo>
                  <a:pt x="5045" y="427"/>
                </a:lnTo>
                <a:lnTo>
                  <a:pt x="4917" y="383"/>
                </a:lnTo>
                <a:lnTo>
                  <a:pt x="4745" y="343"/>
                </a:lnTo>
                <a:lnTo>
                  <a:pt x="4617" y="299"/>
                </a:lnTo>
                <a:lnTo>
                  <a:pt x="4490" y="299"/>
                </a:lnTo>
                <a:lnTo>
                  <a:pt x="4362" y="255"/>
                </a:lnTo>
                <a:lnTo>
                  <a:pt x="4234" y="255"/>
                </a:lnTo>
                <a:lnTo>
                  <a:pt x="4062" y="171"/>
                </a:lnTo>
                <a:lnTo>
                  <a:pt x="3934" y="171"/>
                </a:lnTo>
                <a:lnTo>
                  <a:pt x="3762" y="127"/>
                </a:lnTo>
                <a:lnTo>
                  <a:pt x="3634" y="88"/>
                </a:lnTo>
                <a:lnTo>
                  <a:pt x="3467" y="88"/>
                </a:lnTo>
                <a:lnTo>
                  <a:pt x="3039" y="0"/>
                </a:lnTo>
                <a:lnTo>
                  <a:pt x="2867" y="0"/>
                </a:lnTo>
                <a:lnTo>
                  <a:pt x="2695" y="0"/>
                </a:lnTo>
                <a:lnTo>
                  <a:pt x="2567" y="44"/>
                </a:lnTo>
                <a:lnTo>
                  <a:pt x="2439" y="88"/>
                </a:lnTo>
                <a:lnTo>
                  <a:pt x="2311" y="127"/>
                </a:lnTo>
                <a:lnTo>
                  <a:pt x="2183" y="216"/>
                </a:lnTo>
                <a:lnTo>
                  <a:pt x="2055" y="255"/>
                </a:lnTo>
                <a:lnTo>
                  <a:pt x="1928" y="343"/>
                </a:lnTo>
                <a:lnTo>
                  <a:pt x="1799" y="343"/>
                </a:lnTo>
                <a:lnTo>
                  <a:pt x="1631" y="383"/>
                </a:lnTo>
                <a:lnTo>
                  <a:pt x="1503" y="427"/>
                </a:lnTo>
                <a:lnTo>
                  <a:pt x="1371" y="471"/>
                </a:lnTo>
                <a:lnTo>
                  <a:pt x="1243" y="515"/>
                </a:lnTo>
                <a:lnTo>
                  <a:pt x="1115" y="555"/>
                </a:lnTo>
                <a:lnTo>
                  <a:pt x="987" y="599"/>
                </a:lnTo>
                <a:lnTo>
                  <a:pt x="859" y="727"/>
                </a:lnTo>
                <a:lnTo>
                  <a:pt x="732" y="811"/>
                </a:lnTo>
                <a:lnTo>
                  <a:pt x="648" y="939"/>
                </a:lnTo>
                <a:lnTo>
                  <a:pt x="520" y="1028"/>
                </a:lnTo>
                <a:lnTo>
                  <a:pt x="436" y="1156"/>
                </a:lnTo>
                <a:lnTo>
                  <a:pt x="308" y="1240"/>
                </a:lnTo>
                <a:lnTo>
                  <a:pt x="220" y="1368"/>
                </a:lnTo>
                <a:lnTo>
                  <a:pt x="136" y="1495"/>
                </a:lnTo>
                <a:lnTo>
                  <a:pt x="136" y="1623"/>
                </a:lnTo>
                <a:lnTo>
                  <a:pt x="92" y="1751"/>
                </a:lnTo>
                <a:lnTo>
                  <a:pt x="48" y="1879"/>
                </a:lnTo>
                <a:lnTo>
                  <a:pt x="0" y="203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403880" y="6164280"/>
            <a:ext cx="2595960" cy="460800"/>
          </a:xfrm>
          <a:custGeom>
            <a:avLst/>
            <a:gdLst/>
            <a:ahLst/>
            <a:rect l="0" t="0" r="r" b="b"/>
            <a:pathLst>
              <a:path fill="none" w="7211" h="1280">
                <a:moveTo>
                  <a:pt x="7211" y="512"/>
                </a:moveTo>
                <a:lnTo>
                  <a:pt x="7000" y="552"/>
                </a:lnTo>
                <a:lnTo>
                  <a:pt x="6872" y="552"/>
                </a:lnTo>
                <a:lnTo>
                  <a:pt x="6744" y="552"/>
                </a:lnTo>
                <a:lnTo>
                  <a:pt x="6616" y="468"/>
                </a:lnTo>
                <a:lnTo>
                  <a:pt x="6488" y="424"/>
                </a:lnTo>
                <a:lnTo>
                  <a:pt x="6060" y="424"/>
                </a:lnTo>
                <a:lnTo>
                  <a:pt x="5933" y="424"/>
                </a:lnTo>
                <a:lnTo>
                  <a:pt x="5805" y="424"/>
                </a:lnTo>
                <a:lnTo>
                  <a:pt x="5589" y="424"/>
                </a:lnTo>
                <a:lnTo>
                  <a:pt x="5461" y="424"/>
                </a:lnTo>
                <a:lnTo>
                  <a:pt x="5332" y="424"/>
                </a:lnTo>
                <a:lnTo>
                  <a:pt x="5164" y="424"/>
                </a:lnTo>
                <a:lnTo>
                  <a:pt x="5032" y="424"/>
                </a:lnTo>
                <a:lnTo>
                  <a:pt x="4904" y="424"/>
                </a:lnTo>
                <a:lnTo>
                  <a:pt x="4737" y="424"/>
                </a:lnTo>
                <a:lnTo>
                  <a:pt x="4481" y="424"/>
                </a:lnTo>
                <a:lnTo>
                  <a:pt x="4353" y="384"/>
                </a:lnTo>
                <a:lnTo>
                  <a:pt x="4181" y="340"/>
                </a:lnTo>
                <a:lnTo>
                  <a:pt x="4009" y="255"/>
                </a:lnTo>
                <a:lnTo>
                  <a:pt x="3881" y="211"/>
                </a:lnTo>
                <a:lnTo>
                  <a:pt x="3753" y="167"/>
                </a:lnTo>
                <a:lnTo>
                  <a:pt x="3625" y="127"/>
                </a:lnTo>
                <a:lnTo>
                  <a:pt x="3453" y="39"/>
                </a:lnTo>
                <a:lnTo>
                  <a:pt x="3242" y="39"/>
                </a:lnTo>
                <a:lnTo>
                  <a:pt x="3070" y="0"/>
                </a:lnTo>
                <a:lnTo>
                  <a:pt x="2646" y="0"/>
                </a:lnTo>
                <a:lnTo>
                  <a:pt x="2430" y="0"/>
                </a:lnTo>
                <a:lnTo>
                  <a:pt x="2302" y="39"/>
                </a:lnTo>
                <a:lnTo>
                  <a:pt x="2174" y="39"/>
                </a:lnTo>
                <a:lnTo>
                  <a:pt x="2047" y="39"/>
                </a:lnTo>
                <a:lnTo>
                  <a:pt x="1875" y="39"/>
                </a:lnTo>
                <a:lnTo>
                  <a:pt x="1706" y="127"/>
                </a:lnTo>
                <a:lnTo>
                  <a:pt x="1578" y="127"/>
                </a:lnTo>
                <a:lnTo>
                  <a:pt x="1450" y="167"/>
                </a:lnTo>
                <a:lnTo>
                  <a:pt x="1322" y="211"/>
                </a:lnTo>
                <a:lnTo>
                  <a:pt x="1195" y="255"/>
                </a:lnTo>
                <a:lnTo>
                  <a:pt x="1023" y="384"/>
                </a:lnTo>
                <a:lnTo>
                  <a:pt x="895" y="468"/>
                </a:lnTo>
                <a:lnTo>
                  <a:pt x="767" y="552"/>
                </a:lnTo>
                <a:lnTo>
                  <a:pt x="639" y="640"/>
                </a:lnTo>
                <a:lnTo>
                  <a:pt x="511" y="724"/>
                </a:lnTo>
                <a:lnTo>
                  <a:pt x="383" y="807"/>
                </a:lnTo>
                <a:lnTo>
                  <a:pt x="255" y="896"/>
                </a:lnTo>
                <a:lnTo>
                  <a:pt x="127" y="1025"/>
                </a:lnTo>
                <a:lnTo>
                  <a:pt x="39" y="1152"/>
                </a:lnTo>
                <a:lnTo>
                  <a:pt x="0" y="128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635360" y="6454800"/>
            <a:ext cx="1887840" cy="170280"/>
          </a:xfrm>
          <a:custGeom>
            <a:avLst/>
            <a:gdLst/>
            <a:ahLst/>
            <a:rect l="0" t="0" r="r" b="b"/>
            <a:pathLst>
              <a:path fill="none" w="5244" h="473">
                <a:moveTo>
                  <a:pt x="5244" y="473"/>
                </a:moveTo>
                <a:lnTo>
                  <a:pt x="5116" y="429"/>
                </a:lnTo>
                <a:lnTo>
                  <a:pt x="4988" y="429"/>
                </a:lnTo>
                <a:lnTo>
                  <a:pt x="4816" y="429"/>
                </a:lnTo>
                <a:lnTo>
                  <a:pt x="4688" y="429"/>
                </a:lnTo>
                <a:lnTo>
                  <a:pt x="4432" y="390"/>
                </a:lnTo>
                <a:lnTo>
                  <a:pt x="4388" y="261"/>
                </a:lnTo>
                <a:lnTo>
                  <a:pt x="4260" y="217"/>
                </a:lnTo>
                <a:lnTo>
                  <a:pt x="4093" y="217"/>
                </a:lnTo>
                <a:lnTo>
                  <a:pt x="3921" y="217"/>
                </a:lnTo>
                <a:lnTo>
                  <a:pt x="3793" y="217"/>
                </a:lnTo>
                <a:lnTo>
                  <a:pt x="3665" y="172"/>
                </a:lnTo>
                <a:lnTo>
                  <a:pt x="3493" y="88"/>
                </a:lnTo>
                <a:lnTo>
                  <a:pt x="3365" y="44"/>
                </a:lnTo>
                <a:lnTo>
                  <a:pt x="3153" y="0"/>
                </a:lnTo>
                <a:lnTo>
                  <a:pt x="2937" y="0"/>
                </a:lnTo>
                <a:lnTo>
                  <a:pt x="2770" y="0"/>
                </a:lnTo>
                <a:lnTo>
                  <a:pt x="2597" y="44"/>
                </a:lnTo>
                <a:lnTo>
                  <a:pt x="2469" y="88"/>
                </a:lnTo>
                <a:lnTo>
                  <a:pt x="2213" y="128"/>
                </a:lnTo>
                <a:lnTo>
                  <a:pt x="1785" y="172"/>
                </a:lnTo>
                <a:lnTo>
                  <a:pt x="1658" y="172"/>
                </a:lnTo>
                <a:lnTo>
                  <a:pt x="1530" y="261"/>
                </a:lnTo>
                <a:lnTo>
                  <a:pt x="1402" y="344"/>
                </a:lnTo>
                <a:lnTo>
                  <a:pt x="1274" y="344"/>
                </a:lnTo>
                <a:lnTo>
                  <a:pt x="1146" y="344"/>
                </a:lnTo>
                <a:lnTo>
                  <a:pt x="1018" y="344"/>
                </a:lnTo>
                <a:lnTo>
                  <a:pt x="890" y="344"/>
                </a:lnTo>
                <a:lnTo>
                  <a:pt x="718" y="344"/>
                </a:lnTo>
                <a:lnTo>
                  <a:pt x="590" y="344"/>
                </a:lnTo>
                <a:lnTo>
                  <a:pt x="463" y="300"/>
                </a:lnTo>
                <a:lnTo>
                  <a:pt x="335" y="300"/>
                </a:lnTo>
                <a:lnTo>
                  <a:pt x="207" y="344"/>
                </a:lnTo>
                <a:lnTo>
                  <a:pt x="0" y="46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0" y="1247760"/>
            <a:ext cx="3999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416560" y="25066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435400" y="3240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635200" y="6922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67040" y="10764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19480" y="17064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70240" y="189072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202280" y="36273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11400" y="40258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462560" y="414972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054760" y="4106880"/>
            <a:ext cx="35244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41840" y="4754520"/>
            <a:ext cx="3333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93000" y="4518000"/>
            <a:ext cx="3189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07040" y="53481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51680" y="49006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81880" y="4376880"/>
            <a:ext cx="36828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99200" y="62229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13480" y="58690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97560" y="56674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86520" y="637704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481120" y="326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2604960" y="6825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51200" y="10652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205080" y="16956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2114640" y="3998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187880" y="3600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449600" y="41227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452920" y="4716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711760" y="64764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697360" y="6350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402160" y="1233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140360" y="18795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402160" y="24782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962600" y="40813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008760" y="44910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507000" y="43354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132600" y="48610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075360" y="5303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375240" y="56228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5589720" y="58183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75440" y="61707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5160960" y="63324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38800" y="4535640"/>
            <a:ext cx="3240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248440" y="45086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230880" y="233280"/>
            <a:ext cx="773640" cy="875160"/>
          </a:xfrm>
          <a:custGeom>
            <a:avLst/>
            <a:gdLst/>
            <a:ahLst/>
            <a:rect l="0" t="0" r="r" b="b"/>
            <a:pathLst>
              <a:path fill="none" w="2149" h="2431">
                <a:moveTo>
                  <a:pt x="0" y="0"/>
                </a:moveTo>
                <a:lnTo>
                  <a:pt x="44" y="127"/>
                </a:lnTo>
                <a:lnTo>
                  <a:pt x="88" y="255"/>
                </a:lnTo>
                <a:lnTo>
                  <a:pt x="216" y="343"/>
                </a:lnTo>
                <a:lnTo>
                  <a:pt x="343" y="427"/>
                </a:lnTo>
                <a:lnTo>
                  <a:pt x="383" y="555"/>
                </a:lnTo>
                <a:lnTo>
                  <a:pt x="471" y="684"/>
                </a:lnTo>
                <a:lnTo>
                  <a:pt x="511" y="856"/>
                </a:lnTo>
                <a:lnTo>
                  <a:pt x="600" y="984"/>
                </a:lnTo>
                <a:lnTo>
                  <a:pt x="684" y="1112"/>
                </a:lnTo>
                <a:lnTo>
                  <a:pt x="812" y="1196"/>
                </a:lnTo>
                <a:lnTo>
                  <a:pt x="940" y="1240"/>
                </a:lnTo>
                <a:lnTo>
                  <a:pt x="1068" y="1279"/>
                </a:lnTo>
                <a:lnTo>
                  <a:pt x="1196" y="1368"/>
                </a:lnTo>
                <a:lnTo>
                  <a:pt x="1323" y="1451"/>
                </a:lnTo>
                <a:lnTo>
                  <a:pt x="1412" y="1579"/>
                </a:lnTo>
                <a:lnTo>
                  <a:pt x="1451" y="1707"/>
                </a:lnTo>
                <a:lnTo>
                  <a:pt x="1539" y="1836"/>
                </a:lnTo>
                <a:lnTo>
                  <a:pt x="1539" y="1964"/>
                </a:lnTo>
                <a:lnTo>
                  <a:pt x="1624" y="2092"/>
                </a:lnTo>
                <a:lnTo>
                  <a:pt x="1752" y="2136"/>
                </a:lnTo>
                <a:lnTo>
                  <a:pt x="1880" y="2180"/>
                </a:lnTo>
                <a:lnTo>
                  <a:pt x="2008" y="2264"/>
                </a:lnTo>
                <a:lnTo>
                  <a:pt x="2149" y="243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86600" y="4158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168960" y="4046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1546200" y="1908000"/>
            <a:ext cx="5883480" cy="0"/>
            <a:chOff x="1546200" y="1908000"/>
            <a:chExt cx="5883480" cy="0"/>
          </a:xfrm>
        </p:grpSpPr>
        <p:sp>
          <p:nvSpPr>
            <p:cNvPr id="566" name=""/>
            <p:cNvSpPr/>
            <p:nvPr/>
          </p:nvSpPr>
          <p:spPr>
            <a:xfrm>
              <a:off x="1546200" y="1908000"/>
              <a:ext cx="125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97280" y="190800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081240" y="190800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51160" y="1908000"/>
              <a:ext cx="195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4280" y="1908000"/>
              <a:ext cx="9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32400" y="19080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32560" y="1908000"/>
              <a:ext cx="1797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546200" y="4379760"/>
            <a:ext cx="5913360" cy="0"/>
            <a:chOff x="1546200" y="4379760"/>
            <a:chExt cx="5913360" cy="0"/>
          </a:xfrm>
        </p:grpSpPr>
        <p:sp>
          <p:nvSpPr>
            <p:cNvPr id="574" name=""/>
            <p:cNvSpPr/>
            <p:nvPr/>
          </p:nvSpPr>
          <p:spPr>
            <a:xfrm>
              <a:off x="1546200" y="4379760"/>
              <a:ext cx="125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897280" y="437976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81240" y="437976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51160" y="4379760"/>
              <a:ext cx="195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64280" y="4379760"/>
              <a:ext cx="9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432400" y="43797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632560" y="4379760"/>
              <a:ext cx="18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1546200" y="3181320"/>
            <a:ext cx="5899320" cy="0"/>
            <a:chOff x="1546200" y="3181320"/>
            <a:chExt cx="5899320" cy="0"/>
          </a:xfrm>
        </p:grpSpPr>
        <p:sp>
          <p:nvSpPr>
            <p:cNvPr id="582" name=""/>
            <p:cNvSpPr/>
            <p:nvPr/>
          </p:nvSpPr>
          <p:spPr>
            <a:xfrm>
              <a:off x="1546200" y="3181320"/>
              <a:ext cx="125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97280" y="318132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81240" y="318132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51160" y="3181320"/>
              <a:ext cx="195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64280" y="3181320"/>
              <a:ext cx="9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32400" y="31813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32560" y="3181320"/>
              <a:ext cx="1812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 txBox="1"/>
          <p:nvPr/>
        </p:nvSpPr>
        <p:spPr>
          <a:xfrm>
            <a:off x="1546200" y="16398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199280" y="16416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546200" y="291456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199280" y="291456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546200" y="4098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199280" y="4113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7182000" y="4538520"/>
            <a:ext cx="17859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e will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he size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ontour map,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ake room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he 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ection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597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668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676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684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698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769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777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785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"/>
          <p:cNvSpPr txBox="1"/>
          <p:nvPr/>
        </p:nvSpPr>
        <p:spPr>
          <a:xfrm>
            <a:off x="898560" y="3894120"/>
            <a:ext cx="71946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onstructing Section C - 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800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871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879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887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"/>
          <p:cNvSpPr txBox="1"/>
          <p:nvPr/>
        </p:nvSpPr>
        <p:spPr>
          <a:xfrm>
            <a:off x="898560" y="3894120"/>
            <a:ext cx="71946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Constructing Section C - 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5951520" y="873000"/>
            <a:ext cx="30337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rojectors are constru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rom the points of int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ection of the cutting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nd the contour lines o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ap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903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974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982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990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7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3067200" y="3314880"/>
            <a:ext cx="0" cy="23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331488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5951520" y="873000"/>
            <a:ext cx="30337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Projectors are constru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from the points of int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section of the cutting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and the contour lines o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map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5975280" y="2467080"/>
            <a:ext cx="301932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rofile lines are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o represent the vertical di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ance between contou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his vertical distance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often exagerated to emph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ize elevation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1008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1079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1087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1095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2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3067200" y="3314880"/>
            <a:ext cx="0" cy="23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591160" y="331488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5951520" y="873000"/>
            <a:ext cx="30337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Projectors are constru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from the points of int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section of the cutting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and the contour lines o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map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5975280" y="2467080"/>
            <a:ext cx="301932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Profile lines are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to represent the vertical di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tance between contou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This vertical distance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often exagerated to emph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size elevation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5997600" y="4349880"/>
            <a:ext cx="2927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dentify elevation/con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hanges by the dista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rom the datum (sea leve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1120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0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1191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1199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1207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4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3067200" y="3314880"/>
            <a:ext cx="0" cy="23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591160" y="331488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5951520" y="873000"/>
            <a:ext cx="30337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Projectors are constru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from the points of int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section of the cutting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and the contour lines o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map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5975280" y="2467080"/>
            <a:ext cx="301932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Profile lines are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to represent the vertical di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tance between contou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This vertical distance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often exagerated to emph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size elevation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5997600" y="4349880"/>
            <a:ext cx="2927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dentify elevation/con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hanges by the dista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rom the datum (sea leve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7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1238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8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1309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1317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1325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2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8" name=""/>
          <p:cNvSpPr/>
          <p:nvPr/>
        </p:nvSpPr>
        <p:spPr>
          <a:xfrm>
            <a:off x="3067200" y="3314880"/>
            <a:ext cx="0" cy="23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5591160" y="331488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5951520" y="873000"/>
            <a:ext cx="30337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Projectors are constru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from the points of int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section of the cutting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and the contour lines o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map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5975280" y="2467080"/>
            <a:ext cx="301932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Profile lines are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to represent the vertical di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tance between contou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This vertical distance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often exagerated to emph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size elevation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5997600" y="4349880"/>
            <a:ext cx="2927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Identify elevation/con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changes by the dista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from the datum (sea leve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271440" y="2932200"/>
            <a:ext cx="26240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roject the inter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of the contour line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he cutting pl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6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1357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1428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1436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1444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1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187800" y="2197080"/>
            <a:ext cx="0" cy="352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3549600" y="217800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067200" y="3314880"/>
            <a:ext cx="0" cy="23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591160" y="331488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271440" y="2932200"/>
            <a:ext cx="26240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roject the inter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of the contour line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he cutting pl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816200"/>
            <a:ext cx="7772400" cy="27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ONSTRUCTING</a:t>
            </a:r>
            <a:br>
              <a:rPr sz="6600"/>
            </a:br>
            <a:r>
              <a:rPr b="1" lang="en-US" sz="6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VERTICAL  SE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680" y="6386400"/>
            <a:ext cx="18828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4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1475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5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1546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1554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1562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9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3187800" y="2197080"/>
            <a:ext cx="0" cy="352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3549600" y="217800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40040" y="2171880"/>
            <a:ext cx="0" cy="386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943440" y="215280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4286160" y="2152800"/>
            <a:ext cx="0" cy="417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4457880" y="2171880"/>
            <a:ext cx="0" cy="433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067200" y="3314880"/>
            <a:ext cx="0" cy="23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5591160" y="331488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271440" y="2932200"/>
            <a:ext cx="26240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roject the inter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of the contour line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he cutting pl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6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1597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7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1668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5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1676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1684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1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7" name=""/>
          <p:cNvSpPr/>
          <p:nvPr/>
        </p:nvSpPr>
        <p:spPr>
          <a:xfrm>
            <a:off x="3187800" y="2197080"/>
            <a:ext cx="0" cy="352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549600" y="217800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740040" y="2171880"/>
            <a:ext cx="0" cy="386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943440" y="215280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286160" y="2152800"/>
            <a:ext cx="0" cy="417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457880" y="2171880"/>
            <a:ext cx="0" cy="433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603680" y="2158920"/>
            <a:ext cx="0" cy="433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4705200" y="2171880"/>
            <a:ext cx="0" cy="418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5029200" y="2165400"/>
            <a:ext cx="0" cy="417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5073480" y="2171880"/>
            <a:ext cx="0" cy="4305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3067200" y="3314880"/>
            <a:ext cx="0" cy="23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591160" y="331488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 txBox="1"/>
          <p:nvPr/>
        </p:nvSpPr>
        <p:spPr>
          <a:xfrm>
            <a:off x="271440" y="2932200"/>
            <a:ext cx="26240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roject the inter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of the contour line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he cutting pl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2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1723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3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1794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1802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9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1810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7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"/>
          <p:cNvSpPr/>
          <p:nvPr/>
        </p:nvSpPr>
        <p:spPr>
          <a:xfrm>
            <a:off x="3187800" y="2197080"/>
            <a:ext cx="0" cy="352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3549600" y="217800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3740040" y="2171880"/>
            <a:ext cx="0" cy="386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3943440" y="215280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4286160" y="2152800"/>
            <a:ext cx="0" cy="417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457880" y="2171880"/>
            <a:ext cx="0" cy="433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603680" y="2158920"/>
            <a:ext cx="0" cy="433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4705200" y="2171880"/>
            <a:ext cx="0" cy="418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029200" y="2165400"/>
            <a:ext cx="0" cy="417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073480" y="2171880"/>
            <a:ext cx="0" cy="4305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302080" y="2165400"/>
            <a:ext cx="0" cy="416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372280" y="2171880"/>
            <a:ext cx="0" cy="4000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454720" y="2184480"/>
            <a:ext cx="0" cy="3863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067200" y="3314880"/>
            <a:ext cx="0" cy="23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5591160" y="331488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271440" y="2932200"/>
            <a:ext cx="26240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roject the inter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of the contour line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he cutting pl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1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1852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2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1923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0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1931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1939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6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2" name=""/>
          <p:cNvSpPr/>
          <p:nvPr/>
        </p:nvSpPr>
        <p:spPr>
          <a:xfrm>
            <a:off x="3187800" y="2197080"/>
            <a:ext cx="0" cy="352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3549600" y="217800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740040" y="2171880"/>
            <a:ext cx="0" cy="386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3943440" y="215280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4286160" y="2152800"/>
            <a:ext cx="0" cy="417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4457880" y="2171880"/>
            <a:ext cx="0" cy="433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4603680" y="2158920"/>
            <a:ext cx="0" cy="433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4705200" y="2171880"/>
            <a:ext cx="0" cy="418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029200" y="2165400"/>
            <a:ext cx="0" cy="417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073480" y="2171880"/>
            <a:ext cx="0" cy="4305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302080" y="2165400"/>
            <a:ext cx="0" cy="416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372280" y="2171880"/>
            <a:ext cx="0" cy="4000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5454720" y="2184480"/>
            <a:ext cx="0" cy="3863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067200" y="3314880"/>
            <a:ext cx="0" cy="23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5591160" y="331488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 txBox="1"/>
          <p:nvPr/>
        </p:nvSpPr>
        <p:spPr>
          <a:xfrm>
            <a:off x="271440" y="2932200"/>
            <a:ext cx="26240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Project the inter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of the contour line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the cutting pl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 txBox="1"/>
          <p:nvPr/>
        </p:nvSpPr>
        <p:spPr>
          <a:xfrm>
            <a:off x="6064200" y="3098880"/>
            <a:ext cx="27511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onnect the inter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ormed in the pro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(vertical section)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1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1982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2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2053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2061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8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2069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6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2" name=""/>
          <p:cNvSpPr/>
          <p:nvPr/>
        </p:nvSpPr>
        <p:spPr>
          <a:xfrm>
            <a:off x="3187800" y="2197080"/>
            <a:ext cx="0" cy="352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3549600" y="217800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3740040" y="2171880"/>
            <a:ext cx="0" cy="386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3943440" y="215280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4286160" y="2152800"/>
            <a:ext cx="0" cy="417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4457880" y="2171880"/>
            <a:ext cx="0" cy="433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4603680" y="2158920"/>
            <a:ext cx="0" cy="433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4705200" y="2171880"/>
            <a:ext cx="0" cy="418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5029200" y="2165400"/>
            <a:ext cx="0" cy="417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5073480" y="2171880"/>
            <a:ext cx="0" cy="4305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5302080" y="2165400"/>
            <a:ext cx="0" cy="416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5372280" y="2171880"/>
            <a:ext cx="0" cy="4000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5454720" y="2184480"/>
            <a:ext cx="0" cy="3863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3067200" y="3314880"/>
            <a:ext cx="0" cy="23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5591160" y="331488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3062160" y="56894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0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2111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1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2182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9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2190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7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2198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5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1" name=""/>
          <p:cNvSpPr/>
          <p:nvPr/>
        </p:nvSpPr>
        <p:spPr>
          <a:xfrm>
            <a:off x="3187800" y="2197080"/>
            <a:ext cx="0" cy="352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3549600" y="217800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3740040" y="2171880"/>
            <a:ext cx="0" cy="386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943440" y="215280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4286160" y="2152800"/>
            <a:ext cx="0" cy="417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4457880" y="2171880"/>
            <a:ext cx="0" cy="433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4603680" y="2158920"/>
            <a:ext cx="0" cy="433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4705200" y="2171880"/>
            <a:ext cx="0" cy="418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5029200" y="2165400"/>
            <a:ext cx="0" cy="417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5073480" y="2171880"/>
            <a:ext cx="0" cy="4305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5302080" y="2165400"/>
            <a:ext cx="0" cy="416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5372280" y="2171880"/>
            <a:ext cx="0" cy="4000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5454720" y="2184480"/>
            <a:ext cx="0" cy="3863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3067200" y="3314880"/>
            <a:ext cx="0" cy="23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5591160" y="331488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3062160" y="56894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 txBox="1"/>
          <p:nvPr/>
        </p:nvSpPr>
        <p:spPr>
          <a:xfrm>
            <a:off x="5853240" y="3354480"/>
            <a:ext cx="30193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rosshatch the prof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rea to complete the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view, and label th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2241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1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2312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9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2320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7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2328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5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1" name=""/>
          <p:cNvSpPr/>
          <p:nvPr/>
        </p:nvSpPr>
        <p:spPr>
          <a:xfrm>
            <a:off x="3187800" y="2197080"/>
            <a:ext cx="0" cy="352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3549600" y="217800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3740040" y="2171880"/>
            <a:ext cx="0" cy="386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3943440" y="215280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4286160" y="2152800"/>
            <a:ext cx="0" cy="417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4457880" y="2171880"/>
            <a:ext cx="0" cy="433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4603680" y="2158920"/>
            <a:ext cx="0" cy="433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4705200" y="2171880"/>
            <a:ext cx="0" cy="418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5029200" y="2165400"/>
            <a:ext cx="0" cy="417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5073480" y="2171880"/>
            <a:ext cx="0" cy="4305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5302080" y="2165400"/>
            <a:ext cx="0" cy="416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5372280" y="2171880"/>
            <a:ext cx="0" cy="4000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5454720" y="2184480"/>
            <a:ext cx="0" cy="3863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3067200" y="3314880"/>
            <a:ext cx="0" cy="23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286240" y="6372360"/>
            <a:ext cx="38160" cy="381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3171960" y="5762520"/>
            <a:ext cx="38160" cy="381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3724200" y="6076800"/>
            <a:ext cx="38160" cy="381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3924360" y="6219720"/>
            <a:ext cx="38160" cy="381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5591160" y="331488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0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 txBox="1"/>
          <p:nvPr/>
        </p:nvSpPr>
        <p:spPr>
          <a:xfrm>
            <a:off x="5853240" y="3354480"/>
            <a:ext cx="30193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rosshatch the prof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rea to complete the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view, and label th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5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2376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6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2447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4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2455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2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2463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0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6" name=""/>
          <p:cNvSpPr/>
          <p:nvPr/>
        </p:nvSpPr>
        <p:spPr>
          <a:xfrm>
            <a:off x="3187800" y="2197080"/>
            <a:ext cx="0" cy="352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3549600" y="217800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740040" y="2171880"/>
            <a:ext cx="0" cy="386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3943440" y="215280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286160" y="2152800"/>
            <a:ext cx="0" cy="417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4457880" y="2171880"/>
            <a:ext cx="0" cy="433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4603680" y="2158920"/>
            <a:ext cx="0" cy="433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705200" y="2171880"/>
            <a:ext cx="0" cy="418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5029200" y="2165400"/>
            <a:ext cx="0" cy="417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5073480" y="2171880"/>
            <a:ext cx="0" cy="4305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5302080" y="2165400"/>
            <a:ext cx="0" cy="416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372280" y="2171880"/>
            <a:ext cx="0" cy="4000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5454720" y="2184480"/>
            <a:ext cx="0" cy="3863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067200" y="3314880"/>
            <a:ext cx="0" cy="23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5286240" y="6372360"/>
            <a:ext cx="38160" cy="381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3171960" y="5762520"/>
            <a:ext cx="38160" cy="381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3724200" y="6076800"/>
            <a:ext cx="38160" cy="381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924360" y="6219720"/>
            <a:ext cx="38160" cy="381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5591160" y="331488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0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4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2525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5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2596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3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2604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2612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9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5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0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2641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1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2712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9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2720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7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2728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5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1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 txBox="1"/>
          <p:nvPr/>
        </p:nvSpPr>
        <p:spPr>
          <a:xfrm>
            <a:off x="1222200" y="3925800"/>
            <a:ext cx="6618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d Section C - 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816200"/>
            <a:ext cx="7772400" cy="27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ONSTRUCTING</a:t>
            </a:r>
            <a:br>
              <a:rPr sz="6600"/>
            </a:br>
            <a:r>
              <a:rPr b="1" lang="en-US" sz="6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VERTICAL  SE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680" y="6386400"/>
            <a:ext cx="18828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79640" y="4738680"/>
            <a:ext cx="31194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 1996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gham Young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igh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66960" y="4680000"/>
            <a:ext cx="3400560" cy="114156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7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2758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8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2829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6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2837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4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2845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2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8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 txBox="1"/>
          <p:nvPr/>
        </p:nvSpPr>
        <p:spPr>
          <a:xfrm>
            <a:off x="915840" y="3894120"/>
            <a:ext cx="71262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onstructing Section B - 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4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2875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5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2946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3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2954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1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2962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9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5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 txBox="1"/>
          <p:nvPr/>
        </p:nvSpPr>
        <p:spPr>
          <a:xfrm>
            <a:off x="6040440" y="2146320"/>
            <a:ext cx="2843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ollow the sam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o complete the rem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vertical section 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 txBox="1"/>
          <p:nvPr/>
        </p:nvSpPr>
        <p:spPr>
          <a:xfrm>
            <a:off x="915840" y="3894120"/>
            <a:ext cx="71262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Constructing Section B - 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5586480" y="3305160"/>
            <a:ext cx="0" cy="155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3076560" y="3333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4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2995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5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3066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3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3074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1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3082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9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5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 txBox="1"/>
          <p:nvPr/>
        </p:nvSpPr>
        <p:spPr>
          <a:xfrm>
            <a:off x="6040440" y="2146320"/>
            <a:ext cx="2843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ollow the sam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o complete the rem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vertical section 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5586480" y="3305160"/>
            <a:ext cx="0" cy="155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3076560" y="3333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2744640" y="479592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2744640" y="494820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2744640" y="510048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2744640" y="525312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2744640" y="540540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8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3119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9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3190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7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3198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5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3206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3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9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6040440" y="2146320"/>
            <a:ext cx="2843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ollow the sam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o complete the rem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vertical section 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5586480" y="3305160"/>
            <a:ext cx="0" cy="155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3076560" y="3333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2744640" y="479592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744640" y="494820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744640" y="510048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2744640" y="525312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2744640" y="540540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2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3243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3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3314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1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3322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9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3330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7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3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 txBox="1"/>
          <p:nvPr/>
        </p:nvSpPr>
        <p:spPr>
          <a:xfrm>
            <a:off x="6040440" y="2146320"/>
            <a:ext cx="2843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ollow the sam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o complete the rem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vertical section 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 txBox="1"/>
          <p:nvPr/>
        </p:nvSpPr>
        <p:spPr>
          <a:xfrm>
            <a:off x="5632560" y="46720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 txBox="1"/>
          <p:nvPr/>
        </p:nvSpPr>
        <p:spPr>
          <a:xfrm>
            <a:off x="5632560" y="4824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 txBox="1"/>
          <p:nvPr/>
        </p:nvSpPr>
        <p:spPr>
          <a:xfrm>
            <a:off x="5632560" y="4976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 txBox="1"/>
          <p:nvPr/>
        </p:nvSpPr>
        <p:spPr>
          <a:xfrm>
            <a:off x="5632560" y="5129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 txBox="1"/>
          <p:nvPr/>
        </p:nvSpPr>
        <p:spPr>
          <a:xfrm>
            <a:off x="5632560" y="5281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3314880" y="1619280"/>
            <a:ext cx="0" cy="3114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3714840" y="1628640"/>
            <a:ext cx="0" cy="330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3876840" y="1647720"/>
            <a:ext cx="0" cy="343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4243320" y="1609560"/>
            <a:ext cx="0" cy="367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4314960" y="1600200"/>
            <a:ext cx="0" cy="3772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4362480" y="1609560"/>
            <a:ext cx="0" cy="376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5586480" y="3305160"/>
            <a:ext cx="0" cy="155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3076560" y="3333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2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3373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3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3444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1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3452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9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3460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7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3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 txBox="1"/>
          <p:nvPr/>
        </p:nvSpPr>
        <p:spPr>
          <a:xfrm>
            <a:off x="6040440" y="2146320"/>
            <a:ext cx="2843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ollow the sam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o complete the rem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vertical section 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2744640" y="479592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2744640" y="494820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2744640" y="510048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2744640" y="525312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2744640" y="540540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 txBox="1"/>
          <p:nvPr/>
        </p:nvSpPr>
        <p:spPr>
          <a:xfrm>
            <a:off x="5632560" y="46720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 txBox="1"/>
          <p:nvPr/>
        </p:nvSpPr>
        <p:spPr>
          <a:xfrm>
            <a:off x="5632560" y="4824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 txBox="1"/>
          <p:nvPr/>
        </p:nvSpPr>
        <p:spPr>
          <a:xfrm>
            <a:off x="5632560" y="4976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 txBox="1"/>
          <p:nvPr/>
        </p:nvSpPr>
        <p:spPr>
          <a:xfrm>
            <a:off x="5632560" y="5129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 txBox="1"/>
          <p:nvPr/>
        </p:nvSpPr>
        <p:spPr>
          <a:xfrm>
            <a:off x="5632560" y="5281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3314880" y="1619280"/>
            <a:ext cx="0" cy="3114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3714840" y="1628640"/>
            <a:ext cx="0" cy="330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3876840" y="1647720"/>
            <a:ext cx="0" cy="343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4243320" y="1609560"/>
            <a:ext cx="0" cy="367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4314960" y="1600200"/>
            <a:ext cx="0" cy="3772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4362480" y="1609560"/>
            <a:ext cx="0" cy="376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4448160" y="1609560"/>
            <a:ext cx="0" cy="3648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4572000" y="1628640"/>
            <a:ext cx="0" cy="360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5162400" y="1600200"/>
            <a:ext cx="0" cy="361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5586480" y="3305160"/>
            <a:ext cx="0" cy="155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3076560" y="3333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0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3511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1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3582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9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3590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7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3598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5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1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 txBox="1"/>
          <p:nvPr/>
        </p:nvSpPr>
        <p:spPr>
          <a:xfrm>
            <a:off x="6040440" y="2146320"/>
            <a:ext cx="2843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ollow the sam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o complete the rem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vertical section 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2744640" y="479592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2744640" y="494820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2744640" y="510048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2744640" y="525312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2744640" y="540540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 txBox="1"/>
          <p:nvPr/>
        </p:nvSpPr>
        <p:spPr>
          <a:xfrm>
            <a:off x="5632560" y="46720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5632560" y="4824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 txBox="1"/>
          <p:nvPr/>
        </p:nvSpPr>
        <p:spPr>
          <a:xfrm>
            <a:off x="5632560" y="4976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 txBox="1"/>
          <p:nvPr/>
        </p:nvSpPr>
        <p:spPr>
          <a:xfrm>
            <a:off x="5632560" y="5129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 txBox="1"/>
          <p:nvPr/>
        </p:nvSpPr>
        <p:spPr>
          <a:xfrm>
            <a:off x="5632560" y="5281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3314880" y="1619280"/>
            <a:ext cx="0" cy="3114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714840" y="1628640"/>
            <a:ext cx="0" cy="330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3876840" y="1647720"/>
            <a:ext cx="0" cy="343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243320" y="1609560"/>
            <a:ext cx="0" cy="367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4314960" y="1600200"/>
            <a:ext cx="0" cy="3772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4362480" y="1609560"/>
            <a:ext cx="0" cy="376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448160" y="1609560"/>
            <a:ext cx="0" cy="3648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4572000" y="1628640"/>
            <a:ext cx="0" cy="360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5162400" y="1600200"/>
            <a:ext cx="0" cy="361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5586480" y="3305160"/>
            <a:ext cx="0" cy="155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3076560" y="3333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2744640" y="479592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2744640" y="494820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2744640" y="510048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2744640" y="525312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2744640" y="540540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 txBox="1"/>
          <p:nvPr/>
        </p:nvSpPr>
        <p:spPr>
          <a:xfrm>
            <a:off x="5632560" y="46720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 txBox="1"/>
          <p:nvPr/>
        </p:nvSpPr>
        <p:spPr>
          <a:xfrm>
            <a:off x="5632560" y="4824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 txBox="1"/>
          <p:nvPr/>
        </p:nvSpPr>
        <p:spPr>
          <a:xfrm>
            <a:off x="5632560" y="4976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 txBox="1"/>
          <p:nvPr/>
        </p:nvSpPr>
        <p:spPr>
          <a:xfrm>
            <a:off x="5632560" y="5129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 txBox="1"/>
          <p:nvPr/>
        </p:nvSpPr>
        <p:spPr>
          <a:xfrm>
            <a:off x="5632560" y="5281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8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3659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9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3730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7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3738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5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3746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3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9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3067200" y="4702320"/>
            <a:ext cx="2524320" cy="702000"/>
          </a:xfrm>
          <a:custGeom>
            <a:avLst/>
            <a:gdLst/>
            <a:ahLst/>
            <a:rect l="0" t="0" r="r" b="b"/>
            <a:pathLst>
              <a:path fill="none" w="7012" h="1950">
                <a:moveTo>
                  <a:pt x="0" y="0"/>
                </a:moveTo>
                <a:lnTo>
                  <a:pt x="39" y="52"/>
                </a:lnTo>
                <a:lnTo>
                  <a:pt x="92" y="57"/>
                </a:lnTo>
                <a:lnTo>
                  <a:pt x="132" y="97"/>
                </a:lnTo>
                <a:lnTo>
                  <a:pt x="171" y="110"/>
                </a:lnTo>
                <a:lnTo>
                  <a:pt x="211" y="123"/>
                </a:lnTo>
                <a:lnTo>
                  <a:pt x="251" y="136"/>
                </a:lnTo>
                <a:lnTo>
                  <a:pt x="291" y="123"/>
                </a:lnTo>
                <a:lnTo>
                  <a:pt x="330" y="123"/>
                </a:lnTo>
                <a:lnTo>
                  <a:pt x="370" y="123"/>
                </a:lnTo>
                <a:lnTo>
                  <a:pt x="436" y="149"/>
                </a:lnTo>
                <a:lnTo>
                  <a:pt x="476" y="176"/>
                </a:lnTo>
                <a:lnTo>
                  <a:pt x="515" y="189"/>
                </a:lnTo>
                <a:lnTo>
                  <a:pt x="555" y="202"/>
                </a:lnTo>
                <a:lnTo>
                  <a:pt x="621" y="202"/>
                </a:lnTo>
                <a:lnTo>
                  <a:pt x="661" y="216"/>
                </a:lnTo>
                <a:lnTo>
                  <a:pt x="701" y="229"/>
                </a:lnTo>
                <a:lnTo>
                  <a:pt x="767" y="282"/>
                </a:lnTo>
                <a:lnTo>
                  <a:pt x="806" y="321"/>
                </a:lnTo>
                <a:lnTo>
                  <a:pt x="846" y="361"/>
                </a:lnTo>
                <a:lnTo>
                  <a:pt x="899" y="388"/>
                </a:lnTo>
                <a:lnTo>
                  <a:pt x="939" y="401"/>
                </a:lnTo>
                <a:lnTo>
                  <a:pt x="992" y="414"/>
                </a:lnTo>
                <a:lnTo>
                  <a:pt x="1150" y="427"/>
                </a:lnTo>
                <a:lnTo>
                  <a:pt x="1203" y="440"/>
                </a:lnTo>
                <a:lnTo>
                  <a:pt x="1243" y="467"/>
                </a:lnTo>
                <a:lnTo>
                  <a:pt x="1283" y="480"/>
                </a:lnTo>
                <a:lnTo>
                  <a:pt x="1322" y="493"/>
                </a:lnTo>
                <a:lnTo>
                  <a:pt x="1362" y="507"/>
                </a:lnTo>
                <a:lnTo>
                  <a:pt x="1415" y="533"/>
                </a:lnTo>
                <a:lnTo>
                  <a:pt x="1468" y="573"/>
                </a:lnTo>
                <a:lnTo>
                  <a:pt x="1521" y="586"/>
                </a:lnTo>
                <a:lnTo>
                  <a:pt x="1561" y="599"/>
                </a:lnTo>
                <a:lnTo>
                  <a:pt x="1613" y="599"/>
                </a:lnTo>
                <a:lnTo>
                  <a:pt x="1653" y="612"/>
                </a:lnTo>
                <a:lnTo>
                  <a:pt x="1693" y="639"/>
                </a:lnTo>
                <a:lnTo>
                  <a:pt x="1733" y="652"/>
                </a:lnTo>
                <a:lnTo>
                  <a:pt x="1772" y="679"/>
                </a:lnTo>
                <a:lnTo>
                  <a:pt x="1812" y="692"/>
                </a:lnTo>
                <a:lnTo>
                  <a:pt x="1838" y="732"/>
                </a:lnTo>
                <a:lnTo>
                  <a:pt x="1878" y="758"/>
                </a:lnTo>
                <a:lnTo>
                  <a:pt x="1918" y="784"/>
                </a:lnTo>
                <a:lnTo>
                  <a:pt x="1957" y="811"/>
                </a:lnTo>
                <a:lnTo>
                  <a:pt x="2024" y="851"/>
                </a:lnTo>
                <a:lnTo>
                  <a:pt x="2037" y="890"/>
                </a:lnTo>
                <a:lnTo>
                  <a:pt x="2063" y="930"/>
                </a:lnTo>
                <a:lnTo>
                  <a:pt x="2103" y="956"/>
                </a:lnTo>
                <a:lnTo>
                  <a:pt x="2143" y="984"/>
                </a:lnTo>
                <a:lnTo>
                  <a:pt x="2182" y="1024"/>
                </a:lnTo>
                <a:lnTo>
                  <a:pt x="2235" y="1050"/>
                </a:lnTo>
                <a:lnTo>
                  <a:pt x="2275" y="1076"/>
                </a:lnTo>
                <a:lnTo>
                  <a:pt x="2288" y="1129"/>
                </a:lnTo>
                <a:lnTo>
                  <a:pt x="2301" y="1169"/>
                </a:lnTo>
                <a:lnTo>
                  <a:pt x="2328" y="1209"/>
                </a:lnTo>
                <a:lnTo>
                  <a:pt x="2368" y="1222"/>
                </a:lnTo>
                <a:lnTo>
                  <a:pt x="2407" y="1235"/>
                </a:lnTo>
                <a:lnTo>
                  <a:pt x="2447" y="1248"/>
                </a:lnTo>
                <a:lnTo>
                  <a:pt x="2500" y="1262"/>
                </a:lnTo>
                <a:lnTo>
                  <a:pt x="2540" y="1315"/>
                </a:lnTo>
                <a:lnTo>
                  <a:pt x="2592" y="1341"/>
                </a:lnTo>
                <a:lnTo>
                  <a:pt x="2632" y="1368"/>
                </a:lnTo>
                <a:lnTo>
                  <a:pt x="2685" y="1381"/>
                </a:lnTo>
                <a:lnTo>
                  <a:pt x="2725" y="1394"/>
                </a:lnTo>
                <a:lnTo>
                  <a:pt x="2764" y="1420"/>
                </a:lnTo>
                <a:lnTo>
                  <a:pt x="2831" y="1447"/>
                </a:lnTo>
                <a:lnTo>
                  <a:pt x="2883" y="1460"/>
                </a:lnTo>
                <a:lnTo>
                  <a:pt x="2923" y="1473"/>
                </a:lnTo>
                <a:lnTo>
                  <a:pt x="2963" y="1487"/>
                </a:lnTo>
                <a:lnTo>
                  <a:pt x="3003" y="1500"/>
                </a:lnTo>
                <a:lnTo>
                  <a:pt x="3055" y="1500"/>
                </a:lnTo>
                <a:lnTo>
                  <a:pt x="3095" y="1513"/>
                </a:lnTo>
                <a:lnTo>
                  <a:pt x="3135" y="1513"/>
                </a:lnTo>
                <a:lnTo>
                  <a:pt x="3175" y="1526"/>
                </a:lnTo>
                <a:lnTo>
                  <a:pt x="3214" y="1539"/>
                </a:lnTo>
                <a:lnTo>
                  <a:pt x="3254" y="1553"/>
                </a:lnTo>
                <a:lnTo>
                  <a:pt x="3280" y="1592"/>
                </a:lnTo>
                <a:lnTo>
                  <a:pt x="3294" y="1632"/>
                </a:lnTo>
                <a:lnTo>
                  <a:pt x="3320" y="1672"/>
                </a:lnTo>
                <a:lnTo>
                  <a:pt x="3333" y="1711"/>
                </a:lnTo>
                <a:lnTo>
                  <a:pt x="3373" y="1751"/>
                </a:lnTo>
                <a:lnTo>
                  <a:pt x="3386" y="1791"/>
                </a:lnTo>
                <a:lnTo>
                  <a:pt x="3399" y="1831"/>
                </a:lnTo>
                <a:lnTo>
                  <a:pt x="3426" y="1870"/>
                </a:lnTo>
                <a:lnTo>
                  <a:pt x="3466" y="1897"/>
                </a:lnTo>
                <a:lnTo>
                  <a:pt x="3505" y="1936"/>
                </a:lnTo>
                <a:lnTo>
                  <a:pt x="3546" y="1950"/>
                </a:lnTo>
                <a:lnTo>
                  <a:pt x="3586" y="1950"/>
                </a:lnTo>
                <a:lnTo>
                  <a:pt x="3625" y="1923"/>
                </a:lnTo>
                <a:lnTo>
                  <a:pt x="3639" y="1883"/>
                </a:lnTo>
                <a:lnTo>
                  <a:pt x="3665" y="1844"/>
                </a:lnTo>
                <a:lnTo>
                  <a:pt x="3691" y="1804"/>
                </a:lnTo>
                <a:lnTo>
                  <a:pt x="3718" y="1764"/>
                </a:lnTo>
                <a:lnTo>
                  <a:pt x="3758" y="1738"/>
                </a:lnTo>
                <a:lnTo>
                  <a:pt x="3797" y="1698"/>
                </a:lnTo>
                <a:lnTo>
                  <a:pt x="3824" y="1659"/>
                </a:lnTo>
                <a:lnTo>
                  <a:pt x="3824" y="1619"/>
                </a:lnTo>
                <a:lnTo>
                  <a:pt x="3850" y="1579"/>
                </a:lnTo>
                <a:lnTo>
                  <a:pt x="3877" y="1539"/>
                </a:lnTo>
                <a:lnTo>
                  <a:pt x="3903" y="1500"/>
                </a:lnTo>
                <a:lnTo>
                  <a:pt x="3930" y="1460"/>
                </a:lnTo>
                <a:lnTo>
                  <a:pt x="3956" y="1420"/>
                </a:lnTo>
                <a:lnTo>
                  <a:pt x="3996" y="1368"/>
                </a:lnTo>
                <a:lnTo>
                  <a:pt x="4022" y="1328"/>
                </a:lnTo>
                <a:lnTo>
                  <a:pt x="4062" y="1288"/>
                </a:lnTo>
                <a:lnTo>
                  <a:pt x="4088" y="1248"/>
                </a:lnTo>
                <a:lnTo>
                  <a:pt x="4128" y="1222"/>
                </a:lnTo>
                <a:lnTo>
                  <a:pt x="4168" y="1182"/>
                </a:lnTo>
                <a:lnTo>
                  <a:pt x="4194" y="1143"/>
                </a:lnTo>
                <a:lnTo>
                  <a:pt x="4234" y="1116"/>
                </a:lnTo>
                <a:lnTo>
                  <a:pt x="4274" y="1076"/>
                </a:lnTo>
                <a:lnTo>
                  <a:pt x="4313" y="1050"/>
                </a:lnTo>
                <a:lnTo>
                  <a:pt x="4353" y="1024"/>
                </a:lnTo>
                <a:lnTo>
                  <a:pt x="4393" y="1010"/>
                </a:lnTo>
                <a:lnTo>
                  <a:pt x="4432" y="984"/>
                </a:lnTo>
                <a:lnTo>
                  <a:pt x="4472" y="970"/>
                </a:lnTo>
                <a:lnTo>
                  <a:pt x="4512" y="943"/>
                </a:lnTo>
                <a:lnTo>
                  <a:pt x="4551" y="943"/>
                </a:lnTo>
                <a:lnTo>
                  <a:pt x="4591" y="943"/>
                </a:lnTo>
                <a:lnTo>
                  <a:pt x="4631" y="943"/>
                </a:lnTo>
                <a:lnTo>
                  <a:pt x="4670" y="943"/>
                </a:lnTo>
                <a:lnTo>
                  <a:pt x="4710" y="930"/>
                </a:lnTo>
                <a:lnTo>
                  <a:pt x="4750" y="917"/>
                </a:lnTo>
                <a:lnTo>
                  <a:pt x="4803" y="903"/>
                </a:lnTo>
                <a:lnTo>
                  <a:pt x="4842" y="890"/>
                </a:lnTo>
                <a:lnTo>
                  <a:pt x="4882" y="877"/>
                </a:lnTo>
                <a:lnTo>
                  <a:pt x="4922" y="877"/>
                </a:lnTo>
                <a:lnTo>
                  <a:pt x="4961" y="864"/>
                </a:lnTo>
                <a:lnTo>
                  <a:pt x="5001" y="851"/>
                </a:lnTo>
                <a:lnTo>
                  <a:pt x="5041" y="837"/>
                </a:lnTo>
                <a:lnTo>
                  <a:pt x="5081" y="837"/>
                </a:lnTo>
                <a:lnTo>
                  <a:pt x="5147" y="837"/>
                </a:lnTo>
                <a:lnTo>
                  <a:pt x="5186" y="837"/>
                </a:lnTo>
                <a:lnTo>
                  <a:pt x="5226" y="824"/>
                </a:lnTo>
                <a:lnTo>
                  <a:pt x="5279" y="811"/>
                </a:lnTo>
                <a:lnTo>
                  <a:pt x="5319" y="811"/>
                </a:lnTo>
                <a:lnTo>
                  <a:pt x="5385" y="798"/>
                </a:lnTo>
                <a:lnTo>
                  <a:pt x="5424" y="784"/>
                </a:lnTo>
                <a:lnTo>
                  <a:pt x="5477" y="771"/>
                </a:lnTo>
                <a:lnTo>
                  <a:pt x="5530" y="771"/>
                </a:lnTo>
                <a:lnTo>
                  <a:pt x="5570" y="758"/>
                </a:lnTo>
                <a:lnTo>
                  <a:pt x="5610" y="758"/>
                </a:lnTo>
                <a:lnTo>
                  <a:pt x="5649" y="758"/>
                </a:lnTo>
                <a:lnTo>
                  <a:pt x="5689" y="745"/>
                </a:lnTo>
                <a:lnTo>
                  <a:pt x="5729" y="718"/>
                </a:lnTo>
                <a:lnTo>
                  <a:pt x="5755" y="679"/>
                </a:lnTo>
                <a:lnTo>
                  <a:pt x="5795" y="679"/>
                </a:lnTo>
                <a:lnTo>
                  <a:pt x="5848" y="679"/>
                </a:lnTo>
                <a:lnTo>
                  <a:pt x="5887" y="679"/>
                </a:lnTo>
                <a:lnTo>
                  <a:pt x="5940" y="665"/>
                </a:lnTo>
                <a:lnTo>
                  <a:pt x="5993" y="652"/>
                </a:lnTo>
                <a:lnTo>
                  <a:pt x="6046" y="639"/>
                </a:lnTo>
                <a:lnTo>
                  <a:pt x="6086" y="626"/>
                </a:lnTo>
                <a:lnTo>
                  <a:pt x="6152" y="599"/>
                </a:lnTo>
                <a:lnTo>
                  <a:pt x="6192" y="586"/>
                </a:lnTo>
                <a:lnTo>
                  <a:pt x="6231" y="573"/>
                </a:lnTo>
                <a:lnTo>
                  <a:pt x="6271" y="546"/>
                </a:lnTo>
                <a:lnTo>
                  <a:pt x="6311" y="533"/>
                </a:lnTo>
                <a:lnTo>
                  <a:pt x="6351" y="533"/>
                </a:lnTo>
                <a:lnTo>
                  <a:pt x="6390" y="533"/>
                </a:lnTo>
                <a:lnTo>
                  <a:pt x="6443" y="533"/>
                </a:lnTo>
                <a:lnTo>
                  <a:pt x="6496" y="533"/>
                </a:lnTo>
                <a:lnTo>
                  <a:pt x="6536" y="533"/>
                </a:lnTo>
                <a:lnTo>
                  <a:pt x="6575" y="533"/>
                </a:lnTo>
                <a:lnTo>
                  <a:pt x="6734" y="507"/>
                </a:lnTo>
                <a:lnTo>
                  <a:pt x="6774" y="507"/>
                </a:lnTo>
                <a:lnTo>
                  <a:pt x="6827" y="480"/>
                </a:lnTo>
                <a:lnTo>
                  <a:pt x="6906" y="454"/>
                </a:lnTo>
                <a:lnTo>
                  <a:pt x="6946" y="454"/>
                </a:lnTo>
                <a:lnTo>
                  <a:pt x="6986" y="440"/>
                </a:lnTo>
                <a:lnTo>
                  <a:pt x="6999" y="436"/>
                </a:lnTo>
                <a:lnTo>
                  <a:pt x="6986" y="427"/>
                </a:lnTo>
                <a:lnTo>
                  <a:pt x="7012" y="427"/>
                </a:lnTo>
                <a:lnTo>
                  <a:pt x="7012" y="1950"/>
                </a:lnTo>
                <a:lnTo>
                  <a:pt x="0" y="195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 txBox="1"/>
          <p:nvPr/>
        </p:nvSpPr>
        <p:spPr>
          <a:xfrm>
            <a:off x="6040440" y="2146320"/>
            <a:ext cx="2843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ollow the sam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o complete the rem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vertical section 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2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3314880" y="1619280"/>
            <a:ext cx="0" cy="3114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3714840" y="1628640"/>
            <a:ext cx="0" cy="330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3876840" y="1647720"/>
            <a:ext cx="0" cy="343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4243320" y="1609560"/>
            <a:ext cx="0" cy="367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4314960" y="1600200"/>
            <a:ext cx="0" cy="3772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4362480" y="1609560"/>
            <a:ext cx="0" cy="376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4448160" y="1609560"/>
            <a:ext cx="0" cy="3648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4572000" y="1628640"/>
            <a:ext cx="0" cy="360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162400" y="1600200"/>
            <a:ext cx="0" cy="361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5586480" y="3305160"/>
            <a:ext cx="0" cy="155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3076560" y="3333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2744640" y="479592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2744640" y="494820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2744640" y="510048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2744640" y="525312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2744640" y="540540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 txBox="1"/>
          <p:nvPr/>
        </p:nvSpPr>
        <p:spPr>
          <a:xfrm>
            <a:off x="5632560" y="46720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 txBox="1"/>
          <p:nvPr/>
        </p:nvSpPr>
        <p:spPr>
          <a:xfrm>
            <a:off x="5632560" y="4824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 txBox="1"/>
          <p:nvPr/>
        </p:nvSpPr>
        <p:spPr>
          <a:xfrm>
            <a:off x="5632560" y="4976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 txBox="1"/>
          <p:nvPr/>
        </p:nvSpPr>
        <p:spPr>
          <a:xfrm>
            <a:off x="5632560" y="5129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 txBox="1"/>
          <p:nvPr/>
        </p:nvSpPr>
        <p:spPr>
          <a:xfrm>
            <a:off x="5632560" y="5281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7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3798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8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3869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6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3877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4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3885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2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8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3067200" y="4705200"/>
            <a:ext cx="2524320" cy="702000"/>
          </a:xfrm>
          <a:custGeom>
            <a:avLst/>
            <a:gdLst/>
            <a:ahLst/>
            <a:rect l="0" t="0" r="r" b="b"/>
            <a:pathLst>
              <a:path w="7012" h="1950">
                <a:moveTo>
                  <a:pt x="0" y="0"/>
                </a:moveTo>
                <a:lnTo>
                  <a:pt x="39" y="52"/>
                </a:lnTo>
                <a:lnTo>
                  <a:pt x="92" y="57"/>
                </a:lnTo>
                <a:lnTo>
                  <a:pt x="132" y="97"/>
                </a:lnTo>
                <a:lnTo>
                  <a:pt x="171" y="110"/>
                </a:lnTo>
                <a:lnTo>
                  <a:pt x="211" y="123"/>
                </a:lnTo>
                <a:lnTo>
                  <a:pt x="251" y="136"/>
                </a:lnTo>
                <a:lnTo>
                  <a:pt x="291" y="123"/>
                </a:lnTo>
                <a:lnTo>
                  <a:pt x="330" y="123"/>
                </a:lnTo>
                <a:lnTo>
                  <a:pt x="370" y="123"/>
                </a:lnTo>
                <a:lnTo>
                  <a:pt x="436" y="149"/>
                </a:lnTo>
                <a:lnTo>
                  <a:pt x="476" y="176"/>
                </a:lnTo>
                <a:lnTo>
                  <a:pt x="515" y="189"/>
                </a:lnTo>
                <a:lnTo>
                  <a:pt x="555" y="202"/>
                </a:lnTo>
                <a:lnTo>
                  <a:pt x="621" y="202"/>
                </a:lnTo>
                <a:lnTo>
                  <a:pt x="661" y="216"/>
                </a:lnTo>
                <a:lnTo>
                  <a:pt x="701" y="229"/>
                </a:lnTo>
                <a:lnTo>
                  <a:pt x="767" y="282"/>
                </a:lnTo>
                <a:lnTo>
                  <a:pt x="806" y="321"/>
                </a:lnTo>
                <a:lnTo>
                  <a:pt x="846" y="361"/>
                </a:lnTo>
                <a:lnTo>
                  <a:pt x="899" y="388"/>
                </a:lnTo>
                <a:lnTo>
                  <a:pt x="939" y="401"/>
                </a:lnTo>
                <a:lnTo>
                  <a:pt x="992" y="414"/>
                </a:lnTo>
                <a:lnTo>
                  <a:pt x="1150" y="427"/>
                </a:lnTo>
                <a:lnTo>
                  <a:pt x="1203" y="440"/>
                </a:lnTo>
                <a:lnTo>
                  <a:pt x="1243" y="467"/>
                </a:lnTo>
                <a:lnTo>
                  <a:pt x="1283" y="480"/>
                </a:lnTo>
                <a:lnTo>
                  <a:pt x="1322" y="493"/>
                </a:lnTo>
                <a:lnTo>
                  <a:pt x="1362" y="507"/>
                </a:lnTo>
                <a:lnTo>
                  <a:pt x="1415" y="533"/>
                </a:lnTo>
                <a:lnTo>
                  <a:pt x="1468" y="573"/>
                </a:lnTo>
                <a:lnTo>
                  <a:pt x="1521" y="586"/>
                </a:lnTo>
                <a:lnTo>
                  <a:pt x="1561" y="599"/>
                </a:lnTo>
                <a:lnTo>
                  <a:pt x="1613" y="599"/>
                </a:lnTo>
                <a:lnTo>
                  <a:pt x="1653" y="612"/>
                </a:lnTo>
                <a:lnTo>
                  <a:pt x="1693" y="639"/>
                </a:lnTo>
                <a:lnTo>
                  <a:pt x="1733" y="652"/>
                </a:lnTo>
                <a:lnTo>
                  <a:pt x="1772" y="679"/>
                </a:lnTo>
                <a:lnTo>
                  <a:pt x="1812" y="692"/>
                </a:lnTo>
                <a:lnTo>
                  <a:pt x="1838" y="732"/>
                </a:lnTo>
                <a:lnTo>
                  <a:pt x="1878" y="758"/>
                </a:lnTo>
                <a:lnTo>
                  <a:pt x="1918" y="784"/>
                </a:lnTo>
                <a:lnTo>
                  <a:pt x="1957" y="811"/>
                </a:lnTo>
                <a:lnTo>
                  <a:pt x="2024" y="851"/>
                </a:lnTo>
                <a:lnTo>
                  <a:pt x="2037" y="890"/>
                </a:lnTo>
                <a:lnTo>
                  <a:pt x="2063" y="930"/>
                </a:lnTo>
                <a:lnTo>
                  <a:pt x="2103" y="956"/>
                </a:lnTo>
                <a:lnTo>
                  <a:pt x="2143" y="984"/>
                </a:lnTo>
                <a:lnTo>
                  <a:pt x="2182" y="1024"/>
                </a:lnTo>
                <a:lnTo>
                  <a:pt x="2235" y="1050"/>
                </a:lnTo>
                <a:lnTo>
                  <a:pt x="2275" y="1076"/>
                </a:lnTo>
                <a:lnTo>
                  <a:pt x="2288" y="1129"/>
                </a:lnTo>
                <a:lnTo>
                  <a:pt x="2301" y="1169"/>
                </a:lnTo>
                <a:lnTo>
                  <a:pt x="2328" y="1209"/>
                </a:lnTo>
                <a:lnTo>
                  <a:pt x="2368" y="1222"/>
                </a:lnTo>
                <a:lnTo>
                  <a:pt x="2407" y="1235"/>
                </a:lnTo>
                <a:lnTo>
                  <a:pt x="2447" y="1248"/>
                </a:lnTo>
                <a:lnTo>
                  <a:pt x="2500" y="1262"/>
                </a:lnTo>
                <a:lnTo>
                  <a:pt x="2540" y="1315"/>
                </a:lnTo>
                <a:lnTo>
                  <a:pt x="2592" y="1341"/>
                </a:lnTo>
                <a:lnTo>
                  <a:pt x="2632" y="1368"/>
                </a:lnTo>
                <a:lnTo>
                  <a:pt x="2685" y="1381"/>
                </a:lnTo>
                <a:lnTo>
                  <a:pt x="2725" y="1394"/>
                </a:lnTo>
                <a:lnTo>
                  <a:pt x="2764" y="1420"/>
                </a:lnTo>
                <a:lnTo>
                  <a:pt x="2831" y="1447"/>
                </a:lnTo>
                <a:lnTo>
                  <a:pt x="2883" y="1460"/>
                </a:lnTo>
                <a:lnTo>
                  <a:pt x="2923" y="1473"/>
                </a:lnTo>
                <a:lnTo>
                  <a:pt x="2963" y="1487"/>
                </a:lnTo>
                <a:lnTo>
                  <a:pt x="3003" y="1500"/>
                </a:lnTo>
                <a:lnTo>
                  <a:pt x="3055" y="1500"/>
                </a:lnTo>
                <a:lnTo>
                  <a:pt x="3095" y="1513"/>
                </a:lnTo>
                <a:lnTo>
                  <a:pt x="3135" y="1513"/>
                </a:lnTo>
                <a:lnTo>
                  <a:pt x="3175" y="1526"/>
                </a:lnTo>
                <a:lnTo>
                  <a:pt x="3214" y="1539"/>
                </a:lnTo>
                <a:lnTo>
                  <a:pt x="3254" y="1553"/>
                </a:lnTo>
                <a:lnTo>
                  <a:pt x="3280" y="1592"/>
                </a:lnTo>
                <a:lnTo>
                  <a:pt x="3294" y="1632"/>
                </a:lnTo>
                <a:lnTo>
                  <a:pt x="3320" y="1672"/>
                </a:lnTo>
                <a:lnTo>
                  <a:pt x="3333" y="1711"/>
                </a:lnTo>
                <a:lnTo>
                  <a:pt x="3373" y="1751"/>
                </a:lnTo>
                <a:lnTo>
                  <a:pt x="3386" y="1791"/>
                </a:lnTo>
                <a:lnTo>
                  <a:pt x="3399" y="1831"/>
                </a:lnTo>
                <a:lnTo>
                  <a:pt x="3426" y="1870"/>
                </a:lnTo>
                <a:lnTo>
                  <a:pt x="3466" y="1897"/>
                </a:lnTo>
                <a:lnTo>
                  <a:pt x="3505" y="1936"/>
                </a:lnTo>
                <a:lnTo>
                  <a:pt x="3546" y="1950"/>
                </a:lnTo>
                <a:lnTo>
                  <a:pt x="3586" y="1950"/>
                </a:lnTo>
                <a:lnTo>
                  <a:pt x="3625" y="1923"/>
                </a:lnTo>
                <a:lnTo>
                  <a:pt x="3639" y="1883"/>
                </a:lnTo>
                <a:lnTo>
                  <a:pt x="3665" y="1844"/>
                </a:lnTo>
                <a:lnTo>
                  <a:pt x="3691" y="1804"/>
                </a:lnTo>
                <a:lnTo>
                  <a:pt x="3718" y="1764"/>
                </a:lnTo>
                <a:lnTo>
                  <a:pt x="3758" y="1738"/>
                </a:lnTo>
                <a:lnTo>
                  <a:pt x="3797" y="1698"/>
                </a:lnTo>
                <a:lnTo>
                  <a:pt x="3824" y="1659"/>
                </a:lnTo>
                <a:lnTo>
                  <a:pt x="3824" y="1619"/>
                </a:lnTo>
                <a:lnTo>
                  <a:pt x="3850" y="1579"/>
                </a:lnTo>
                <a:lnTo>
                  <a:pt x="3877" y="1539"/>
                </a:lnTo>
                <a:lnTo>
                  <a:pt x="3903" y="1500"/>
                </a:lnTo>
                <a:lnTo>
                  <a:pt x="3930" y="1460"/>
                </a:lnTo>
                <a:lnTo>
                  <a:pt x="3956" y="1420"/>
                </a:lnTo>
                <a:lnTo>
                  <a:pt x="3996" y="1368"/>
                </a:lnTo>
                <a:lnTo>
                  <a:pt x="4022" y="1328"/>
                </a:lnTo>
                <a:lnTo>
                  <a:pt x="4062" y="1288"/>
                </a:lnTo>
                <a:lnTo>
                  <a:pt x="4088" y="1248"/>
                </a:lnTo>
                <a:lnTo>
                  <a:pt x="4128" y="1222"/>
                </a:lnTo>
                <a:lnTo>
                  <a:pt x="4168" y="1182"/>
                </a:lnTo>
                <a:lnTo>
                  <a:pt x="4194" y="1143"/>
                </a:lnTo>
                <a:lnTo>
                  <a:pt x="4234" y="1116"/>
                </a:lnTo>
                <a:lnTo>
                  <a:pt x="4274" y="1076"/>
                </a:lnTo>
                <a:lnTo>
                  <a:pt x="4313" y="1050"/>
                </a:lnTo>
                <a:lnTo>
                  <a:pt x="4353" y="1024"/>
                </a:lnTo>
                <a:lnTo>
                  <a:pt x="4393" y="1010"/>
                </a:lnTo>
                <a:lnTo>
                  <a:pt x="4432" y="984"/>
                </a:lnTo>
                <a:lnTo>
                  <a:pt x="4472" y="970"/>
                </a:lnTo>
                <a:lnTo>
                  <a:pt x="4512" y="943"/>
                </a:lnTo>
                <a:lnTo>
                  <a:pt x="4551" y="943"/>
                </a:lnTo>
                <a:lnTo>
                  <a:pt x="4591" y="943"/>
                </a:lnTo>
                <a:lnTo>
                  <a:pt x="4631" y="943"/>
                </a:lnTo>
                <a:lnTo>
                  <a:pt x="4670" y="943"/>
                </a:lnTo>
                <a:lnTo>
                  <a:pt x="4710" y="930"/>
                </a:lnTo>
                <a:lnTo>
                  <a:pt x="4750" y="917"/>
                </a:lnTo>
                <a:lnTo>
                  <a:pt x="4803" y="903"/>
                </a:lnTo>
                <a:lnTo>
                  <a:pt x="4842" y="890"/>
                </a:lnTo>
                <a:lnTo>
                  <a:pt x="4882" y="877"/>
                </a:lnTo>
                <a:lnTo>
                  <a:pt x="4922" y="877"/>
                </a:lnTo>
                <a:lnTo>
                  <a:pt x="4961" y="864"/>
                </a:lnTo>
                <a:lnTo>
                  <a:pt x="5001" y="851"/>
                </a:lnTo>
                <a:lnTo>
                  <a:pt x="5041" y="837"/>
                </a:lnTo>
                <a:lnTo>
                  <a:pt x="5081" y="837"/>
                </a:lnTo>
                <a:lnTo>
                  <a:pt x="5147" y="837"/>
                </a:lnTo>
                <a:lnTo>
                  <a:pt x="5186" y="837"/>
                </a:lnTo>
                <a:lnTo>
                  <a:pt x="5226" y="824"/>
                </a:lnTo>
                <a:lnTo>
                  <a:pt x="5279" y="811"/>
                </a:lnTo>
                <a:lnTo>
                  <a:pt x="5319" y="811"/>
                </a:lnTo>
                <a:lnTo>
                  <a:pt x="5385" y="798"/>
                </a:lnTo>
                <a:lnTo>
                  <a:pt x="5424" y="784"/>
                </a:lnTo>
                <a:lnTo>
                  <a:pt x="5477" y="771"/>
                </a:lnTo>
                <a:lnTo>
                  <a:pt x="5530" y="771"/>
                </a:lnTo>
                <a:lnTo>
                  <a:pt x="5570" y="758"/>
                </a:lnTo>
                <a:lnTo>
                  <a:pt x="5610" y="758"/>
                </a:lnTo>
                <a:lnTo>
                  <a:pt x="5649" y="758"/>
                </a:lnTo>
                <a:lnTo>
                  <a:pt x="5689" y="745"/>
                </a:lnTo>
                <a:lnTo>
                  <a:pt x="5729" y="718"/>
                </a:lnTo>
                <a:lnTo>
                  <a:pt x="5755" y="679"/>
                </a:lnTo>
                <a:lnTo>
                  <a:pt x="5795" y="679"/>
                </a:lnTo>
                <a:lnTo>
                  <a:pt x="5848" y="679"/>
                </a:lnTo>
                <a:lnTo>
                  <a:pt x="5887" y="679"/>
                </a:lnTo>
                <a:lnTo>
                  <a:pt x="5940" y="665"/>
                </a:lnTo>
                <a:lnTo>
                  <a:pt x="5993" y="652"/>
                </a:lnTo>
                <a:lnTo>
                  <a:pt x="6046" y="639"/>
                </a:lnTo>
                <a:lnTo>
                  <a:pt x="6086" y="626"/>
                </a:lnTo>
                <a:lnTo>
                  <a:pt x="6152" y="599"/>
                </a:lnTo>
                <a:lnTo>
                  <a:pt x="6192" y="586"/>
                </a:lnTo>
                <a:lnTo>
                  <a:pt x="6231" y="573"/>
                </a:lnTo>
                <a:lnTo>
                  <a:pt x="6271" y="546"/>
                </a:lnTo>
                <a:lnTo>
                  <a:pt x="6311" y="533"/>
                </a:lnTo>
                <a:lnTo>
                  <a:pt x="6351" y="533"/>
                </a:lnTo>
                <a:lnTo>
                  <a:pt x="6390" y="533"/>
                </a:lnTo>
                <a:lnTo>
                  <a:pt x="6443" y="533"/>
                </a:lnTo>
                <a:lnTo>
                  <a:pt x="6496" y="533"/>
                </a:lnTo>
                <a:lnTo>
                  <a:pt x="6536" y="533"/>
                </a:lnTo>
                <a:lnTo>
                  <a:pt x="6575" y="533"/>
                </a:lnTo>
                <a:lnTo>
                  <a:pt x="6734" y="507"/>
                </a:lnTo>
                <a:lnTo>
                  <a:pt x="6774" y="507"/>
                </a:lnTo>
                <a:lnTo>
                  <a:pt x="6827" y="480"/>
                </a:lnTo>
                <a:lnTo>
                  <a:pt x="6906" y="454"/>
                </a:lnTo>
                <a:lnTo>
                  <a:pt x="6946" y="454"/>
                </a:lnTo>
                <a:lnTo>
                  <a:pt x="6986" y="440"/>
                </a:lnTo>
                <a:lnTo>
                  <a:pt x="6999" y="436"/>
                </a:lnTo>
                <a:lnTo>
                  <a:pt x="6986" y="427"/>
                </a:lnTo>
                <a:lnTo>
                  <a:pt x="7012" y="427"/>
                </a:lnTo>
                <a:lnTo>
                  <a:pt x="7012" y="1950"/>
                </a:lnTo>
                <a:lnTo>
                  <a:pt x="0" y="1950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 txBox="1"/>
          <p:nvPr/>
        </p:nvSpPr>
        <p:spPr>
          <a:xfrm>
            <a:off x="6040440" y="2146320"/>
            <a:ext cx="2843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ollow the sam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o complete the rem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vertical section 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3314880" y="1619280"/>
            <a:ext cx="0" cy="3114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3714840" y="1628640"/>
            <a:ext cx="0" cy="330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3876840" y="1647720"/>
            <a:ext cx="0" cy="343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4243320" y="1609560"/>
            <a:ext cx="0" cy="367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4314960" y="1600200"/>
            <a:ext cx="0" cy="3772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4362480" y="1609560"/>
            <a:ext cx="0" cy="376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4448160" y="1609560"/>
            <a:ext cx="0" cy="3648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4572000" y="1628640"/>
            <a:ext cx="0" cy="360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5162400" y="1600200"/>
            <a:ext cx="0" cy="361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5586480" y="3305160"/>
            <a:ext cx="0" cy="155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3076560" y="3333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2744640" y="479592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2744640" y="494820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2744640" y="510048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2744640" y="525312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2744640" y="5405400"/>
            <a:ext cx="2903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 txBox="1"/>
          <p:nvPr/>
        </p:nvSpPr>
        <p:spPr>
          <a:xfrm>
            <a:off x="5632560" y="46720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 txBox="1"/>
          <p:nvPr/>
        </p:nvSpPr>
        <p:spPr>
          <a:xfrm>
            <a:off x="5632560" y="4824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 txBox="1"/>
          <p:nvPr/>
        </p:nvSpPr>
        <p:spPr>
          <a:xfrm>
            <a:off x="5632560" y="4976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 txBox="1"/>
          <p:nvPr/>
        </p:nvSpPr>
        <p:spPr>
          <a:xfrm>
            <a:off x="5632560" y="5129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 txBox="1"/>
          <p:nvPr/>
        </p:nvSpPr>
        <p:spPr>
          <a:xfrm>
            <a:off x="5632560" y="5281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6" name=""/>
          <p:cNvGrpSpPr/>
          <p:nvPr/>
        </p:nvGrpSpPr>
        <p:grpSpPr>
          <a:xfrm>
            <a:off x="2854440" y="77760"/>
            <a:ext cx="2982600" cy="3200400"/>
            <a:chOff x="2854440" y="77760"/>
            <a:chExt cx="2982600" cy="3200400"/>
          </a:xfrm>
        </p:grpSpPr>
        <p:sp>
          <p:nvSpPr>
            <p:cNvPr id="3937" name=""/>
            <p:cNvSpPr/>
            <p:nvPr/>
          </p:nvSpPr>
          <p:spPr>
            <a:xfrm>
              <a:off x="3071880" y="77760"/>
              <a:ext cx="251460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3075120" y="82440"/>
              <a:ext cx="390960" cy="340200"/>
            </a:xfrm>
            <a:custGeom>
              <a:avLst/>
              <a:gdLst/>
              <a:ahLst/>
              <a:rect l="0" t="0" r="r" b="b"/>
              <a:pathLst>
                <a:path fill="none" w="1086" h="945">
                  <a:moveTo>
                    <a:pt x="1086" y="0"/>
                  </a:moveTo>
                  <a:lnTo>
                    <a:pt x="1086" y="70"/>
                  </a:lnTo>
                  <a:lnTo>
                    <a:pt x="1064" y="140"/>
                  </a:lnTo>
                  <a:lnTo>
                    <a:pt x="1018" y="233"/>
                  </a:lnTo>
                  <a:lnTo>
                    <a:pt x="971" y="348"/>
                  </a:lnTo>
                  <a:lnTo>
                    <a:pt x="947" y="440"/>
                  </a:lnTo>
                  <a:lnTo>
                    <a:pt x="876" y="489"/>
                  </a:lnTo>
                  <a:lnTo>
                    <a:pt x="783" y="489"/>
                  </a:lnTo>
                  <a:lnTo>
                    <a:pt x="690" y="557"/>
                  </a:lnTo>
                  <a:lnTo>
                    <a:pt x="597" y="581"/>
                  </a:lnTo>
                  <a:lnTo>
                    <a:pt x="504" y="649"/>
                  </a:lnTo>
                  <a:lnTo>
                    <a:pt x="458" y="721"/>
                  </a:lnTo>
                  <a:lnTo>
                    <a:pt x="387" y="743"/>
                  </a:lnTo>
                  <a:lnTo>
                    <a:pt x="294" y="767"/>
                  </a:lnTo>
                  <a:lnTo>
                    <a:pt x="201" y="835"/>
                  </a:lnTo>
                  <a:lnTo>
                    <a:pt x="132" y="906"/>
                  </a:lnTo>
                  <a:lnTo>
                    <a:pt x="61" y="930"/>
                  </a:lnTo>
                  <a:lnTo>
                    <a:pt x="0" y="94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3071880" y="82440"/>
              <a:ext cx="568800" cy="2595960"/>
            </a:xfrm>
            <a:custGeom>
              <a:avLst/>
              <a:gdLst/>
              <a:ahLst/>
              <a:rect l="0" t="0" r="r" b="b"/>
              <a:pathLst>
                <a:path fill="none" w="1580" h="7211">
                  <a:moveTo>
                    <a:pt x="1571" y="0"/>
                  </a:moveTo>
                  <a:lnTo>
                    <a:pt x="1580" y="46"/>
                  </a:lnTo>
                  <a:lnTo>
                    <a:pt x="1558" y="138"/>
                  </a:lnTo>
                  <a:lnTo>
                    <a:pt x="1558" y="231"/>
                  </a:lnTo>
                  <a:lnTo>
                    <a:pt x="1558" y="324"/>
                  </a:lnTo>
                  <a:lnTo>
                    <a:pt x="1488" y="416"/>
                  </a:lnTo>
                  <a:lnTo>
                    <a:pt x="1441" y="487"/>
                  </a:lnTo>
                  <a:lnTo>
                    <a:pt x="1371" y="555"/>
                  </a:lnTo>
                  <a:lnTo>
                    <a:pt x="1278" y="648"/>
                  </a:lnTo>
                  <a:lnTo>
                    <a:pt x="1256" y="718"/>
                  </a:lnTo>
                  <a:lnTo>
                    <a:pt x="1210" y="811"/>
                  </a:lnTo>
                  <a:lnTo>
                    <a:pt x="1162" y="903"/>
                  </a:lnTo>
                  <a:lnTo>
                    <a:pt x="1116" y="996"/>
                  </a:lnTo>
                  <a:lnTo>
                    <a:pt x="1070" y="1067"/>
                  </a:lnTo>
                  <a:lnTo>
                    <a:pt x="999" y="1135"/>
                  </a:lnTo>
                  <a:lnTo>
                    <a:pt x="977" y="1206"/>
                  </a:lnTo>
                  <a:lnTo>
                    <a:pt x="907" y="1252"/>
                  </a:lnTo>
                  <a:lnTo>
                    <a:pt x="860" y="1344"/>
                  </a:lnTo>
                  <a:lnTo>
                    <a:pt x="790" y="1415"/>
                  </a:lnTo>
                  <a:lnTo>
                    <a:pt x="697" y="1483"/>
                  </a:lnTo>
                  <a:lnTo>
                    <a:pt x="651" y="1554"/>
                  </a:lnTo>
                  <a:lnTo>
                    <a:pt x="605" y="1647"/>
                  </a:lnTo>
                  <a:lnTo>
                    <a:pt x="536" y="1739"/>
                  </a:lnTo>
                  <a:lnTo>
                    <a:pt x="488" y="1811"/>
                  </a:lnTo>
                  <a:lnTo>
                    <a:pt x="394" y="1879"/>
                  </a:lnTo>
                  <a:lnTo>
                    <a:pt x="326" y="1950"/>
                  </a:lnTo>
                  <a:lnTo>
                    <a:pt x="255" y="1972"/>
                  </a:lnTo>
                  <a:lnTo>
                    <a:pt x="187" y="2042"/>
                  </a:lnTo>
                  <a:lnTo>
                    <a:pt x="116" y="2089"/>
                  </a:lnTo>
                  <a:lnTo>
                    <a:pt x="70" y="2181"/>
                  </a:lnTo>
                  <a:lnTo>
                    <a:pt x="24" y="2252"/>
                  </a:lnTo>
                  <a:lnTo>
                    <a:pt x="0" y="2344"/>
                  </a:lnTo>
                  <a:lnTo>
                    <a:pt x="46" y="2437"/>
                  </a:lnTo>
                  <a:lnTo>
                    <a:pt x="94" y="2529"/>
                  </a:lnTo>
                  <a:lnTo>
                    <a:pt x="116" y="2644"/>
                  </a:lnTo>
                  <a:lnTo>
                    <a:pt x="141" y="2715"/>
                  </a:lnTo>
                  <a:lnTo>
                    <a:pt x="163" y="2807"/>
                  </a:lnTo>
                  <a:lnTo>
                    <a:pt x="209" y="2878"/>
                  </a:lnTo>
                  <a:lnTo>
                    <a:pt x="255" y="2992"/>
                  </a:lnTo>
                  <a:lnTo>
                    <a:pt x="326" y="3063"/>
                  </a:lnTo>
                  <a:lnTo>
                    <a:pt x="372" y="3134"/>
                  </a:lnTo>
                  <a:lnTo>
                    <a:pt x="419" y="3226"/>
                  </a:lnTo>
                  <a:lnTo>
                    <a:pt x="466" y="3319"/>
                  </a:lnTo>
                  <a:lnTo>
                    <a:pt x="536" y="3411"/>
                  </a:lnTo>
                  <a:lnTo>
                    <a:pt x="583" y="3504"/>
                  </a:lnTo>
                  <a:lnTo>
                    <a:pt x="605" y="3575"/>
                  </a:lnTo>
                  <a:lnTo>
                    <a:pt x="651" y="3667"/>
                  </a:lnTo>
                  <a:lnTo>
                    <a:pt x="651" y="3760"/>
                  </a:lnTo>
                  <a:lnTo>
                    <a:pt x="651" y="3852"/>
                  </a:lnTo>
                  <a:lnTo>
                    <a:pt x="651" y="3967"/>
                  </a:lnTo>
                  <a:lnTo>
                    <a:pt x="675" y="4062"/>
                  </a:lnTo>
                  <a:lnTo>
                    <a:pt x="697" y="4154"/>
                  </a:lnTo>
                  <a:lnTo>
                    <a:pt x="768" y="4247"/>
                  </a:lnTo>
                  <a:lnTo>
                    <a:pt x="836" y="4362"/>
                  </a:lnTo>
                  <a:lnTo>
                    <a:pt x="882" y="4432"/>
                  </a:lnTo>
                  <a:lnTo>
                    <a:pt x="907" y="4503"/>
                  </a:lnTo>
                  <a:lnTo>
                    <a:pt x="977" y="4617"/>
                  </a:lnTo>
                  <a:lnTo>
                    <a:pt x="1024" y="4688"/>
                  </a:lnTo>
                  <a:lnTo>
                    <a:pt x="1116" y="4781"/>
                  </a:lnTo>
                  <a:lnTo>
                    <a:pt x="1162" y="4873"/>
                  </a:lnTo>
                  <a:lnTo>
                    <a:pt x="1210" y="4944"/>
                  </a:lnTo>
                  <a:lnTo>
                    <a:pt x="1232" y="5036"/>
                  </a:lnTo>
                  <a:lnTo>
                    <a:pt x="1278" y="5129"/>
                  </a:lnTo>
                  <a:lnTo>
                    <a:pt x="1302" y="5222"/>
                  </a:lnTo>
                  <a:lnTo>
                    <a:pt x="1302" y="5314"/>
                  </a:lnTo>
                  <a:lnTo>
                    <a:pt x="1302" y="5385"/>
                  </a:lnTo>
                  <a:lnTo>
                    <a:pt x="1324" y="5547"/>
                  </a:lnTo>
                  <a:lnTo>
                    <a:pt x="1349" y="5617"/>
                  </a:lnTo>
                  <a:lnTo>
                    <a:pt x="1349" y="5732"/>
                  </a:lnTo>
                  <a:lnTo>
                    <a:pt x="1324" y="5849"/>
                  </a:lnTo>
                  <a:lnTo>
                    <a:pt x="1324" y="5919"/>
                  </a:lnTo>
                  <a:lnTo>
                    <a:pt x="1302" y="6012"/>
                  </a:lnTo>
                  <a:lnTo>
                    <a:pt x="1232" y="6080"/>
                  </a:lnTo>
                  <a:lnTo>
                    <a:pt x="1210" y="6151"/>
                  </a:lnTo>
                  <a:lnTo>
                    <a:pt x="1138" y="6221"/>
                  </a:lnTo>
                  <a:lnTo>
                    <a:pt x="1070" y="6314"/>
                  </a:lnTo>
                  <a:lnTo>
                    <a:pt x="999" y="6382"/>
                  </a:lnTo>
                  <a:lnTo>
                    <a:pt x="953" y="6453"/>
                  </a:lnTo>
                  <a:lnTo>
                    <a:pt x="882" y="6568"/>
                  </a:lnTo>
                  <a:lnTo>
                    <a:pt x="836" y="6638"/>
                  </a:lnTo>
                  <a:lnTo>
                    <a:pt x="814" y="6709"/>
                  </a:lnTo>
                  <a:lnTo>
                    <a:pt x="814" y="6801"/>
                  </a:lnTo>
                  <a:lnTo>
                    <a:pt x="790" y="6894"/>
                  </a:lnTo>
                  <a:lnTo>
                    <a:pt x="697" y="6940"/>
                  </a:lnTo>
                  <a:lnTo>
                    <a:pt x="605" y="7009"/>
                  </a:lnTo>
                  <a:lnTo>
                    <a:pt x="536" y="7079"/>
                  </a:lnTo>
                  <a:lnTo>
                    <a:pt x="466" y="7079"/>
                  </a:lnTo>
                  <a:lnTo>
                    <a:pt x="372" y="7079"/>
                  </a:lnTo>
                  <a:lnTo>
                    <a:pt x="302" y="7079"/>
                  </a:lnTo>
                  <a:lnTo>
                    <a:pt x="209" y="7125"/>
                  </a:lnTo>
                  <a:lnTo>
                    <a:pt x="141" y="7196"/>
                  </a:lnTo>
                  <a:lnTo>
                    <a:pt x="6" y="721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3081240" y="82440"/>
              <a:ext cx="776520" cy="2916720"/>
            </a:xfrm>
            <a:custGeom>
              <a:avLst/>
              <a:gdLst/>
              <a:ahLst/>
              <a:rect l="0" t="0" r="r" b="b"/>
              <a:pathLst>
                <a:path fill="none" w="2157" h="8102">
                  <a:moveTo>
                    <a:pt x="2157" y="0"/>
                  </a:moveTo>
                  <a:lnTo>
                    <a:pt x="2157" y="94"/>
                  </a:lnTo>
                  <a:lnTo>
                    <a:pt x="2157" y="187"/>
                  </a:lnTo>
                  <a:lnTo>
                    <a:pt x="2157" y="302"/>
                  </a:lnTo>
                  <a:lnTo>
                    <a:pt x="2133" y="372"/>
                  </a:lnTo>
                  <a:lnTo>
                    <a:pt x="2086" y="465"/>
                  </a:lnTo>
                  <a:lnTo>
                    <a:pt x="2040" y="535"/>
                  </a:lnTo>
                  <a:lnTo>
                    <a:pt x="1972" y="628"/>
                  </a:lnTo>
                  <a:lnTo>
                    <a:pt x="1926" y="720"/>
                  </a:lnTo>
                  <a:lnTo>
                    <a:pt x="1879" y="813"/>
                  </a:lnTo>
                  <a:lnTo>
                    <a:pt x="1809" y="906"/>
                  </a:lnTo>
                  <a:lnTo>
                    <a:pt x="1785" y="976"/>
                  </a:lnTo>
                  <a:lnTo>
                    <a:pt x="1716" y="1069"/>
                  </a:lnTo>
                  <a:lnTo>
                    <a:pt x="1646" y="1137"/>
                  </a:lnTo>
                  <a:lnTo>
                    <a:pt x="1600" y="1208"/>
                  </a:lnTo>
                  <a:lnTo>
                    <a:pt x="1507" y="1300"/>
                  </a:lnTo>
                  <a:lnTo>
                    <a:pt x="1461" y="1371"/>
                  </a:lnTo>
                  <a:lnTo>
                    <a:pt x="1415" y="1464"/>
                  </a:lnTo>
                  <a:lnTo>
                    <a:pt x="1368" y="1556"/>
                  </a:lnTo>
                  <a:lnTo>
                    <a:pt x="1344" y="1649"/>
                  </a:lnTo>
                  <a:lnTo>
                    <a:pt x="1276" y="1741"/>
                  </a:lnTo>
                  <a:lnTo>
                    <a:pt x="1252" y="1812"/>
                  </a:lnTo>
                  <a:lnTo>
                    <a:pt x="1183" y="1905"/>
                  </a:lnTo>
                  <a:lnTo>
                    <a:pt x="1137" y="1997"/>
                  </a:lnTo>
                  <a:lnTo>
                    <a:pt x="1091" y="2113"/>
                  </a:lnTo>
                  <a:lnTo>
                    <a:pt x="1091" y="2183"/>
                  </a:lnTo>
                  <a:lnTo>
                    <a:pt x="1091" y="2254"/>
                  </a:lnTo>
                  <a:lnTo>
                    <a:pt x="1091" y="2346"/>
                  </a:lnTo>
                  <a:lnTo>
                    <a:pt x="1044" y="2439"/>
                  </a:lnTo>
                  <a:lnTo>
                    <a:pt x="1019" y="2554"/>
                  </a:lnTo>
                  <a:lnTo>
                    <a:pt x="1066" y="2646"/>
                  </a:lnTo>
                  <a:lnTo>
                    <a:pt x="1113" y="2741"/>
                  </a:lnTo>
                  <a:lnTo>
                    <a:pt x="1159" y="2834"/>
                  </a:lnTo>
                  <a:lnTo>
                    <a:pt x="1183" y="2926"/>
                  </a:lnTo>
                  <a:lnTo>
                    <a:pt x="1252" y="3019"/>
                  </a:lnTo>
                  <a:lnTo>
                    <a:pt x="1298" y="3136"/>
                  </a:lnTo>
                  <a:lnTo>
                    <a:pt x="1368" y="3228"/>
                  </a:lnTo>
                  <a:lnTo>
                    <a:pt x="1439" y="3297"/>
                  </a:lnTo>
                  <a:lnTo>
                    <a:pt x="1485" y="3389"/>
                  </a:lnTo>
                  <a:lnTo>
                    <a:pt x="1531" y="3460"/>
                  </a:lnTo>
                  <a:lnTo>
                    <a:pt x="1578" y="3577"/>
                  </a:lnTo>
                  <a:lnTo>
                    <a:pt x="1646" y="3716"/>
                  </a:lnTo>
                  <a:lnTo>
                    <a:pt x="1716" y="3808"/>
                  </a:lnTo>
                  <a:lnTo>
                    <a:pt x="1738" y="3901"/>
                  </a:lnTo>
                  <a:lnTo>
                    <a:pt x="1763" y="3994"/>
                  </a:lnTo>
                  <a:lnTo>
                    <a:pt x="1763" y="4064"/>
                  </a:lnTo>
                  <a:lnTo>
                    <a:pt x="1785" y="4157"/>
                  </a:lnTo>
                  <a:lnTo>
                    <a:pt x="1833" y="4249"/>
                  </a:lnTo>
                  <a:lnTo>
                    <a:pt x="1926" y="4364"/>
                  </a:lnTo>
                  <a:lnTo>
                    <a:pt x="1926" y="4434"/>
                  </a:lnTo>
                  <a:lnTo>
                    <a:pt x="1948" y="4505"/>
                  </a:lnTo>
                  <a:lnTo>
                    <a:pt x="1972" y="4598"/>
                  </a:lnTo>
                  <a:lnTo>
                    <a:pt x="1972" y="4690"/>
                  </a:lnTo>
                  <a:lnTo>
                    <a:pt x="1948" y="4783"/>
                  </a:lnTo>
                  <a:lnTo>
                    <a:pt x="1926" y="4875"/>
                  </a:lnTo>
                  <a:lnTo>
                    <a:pt x="1926" y="4946"/>
                  </a:lnTo>
                  <a:lnTo>
                    <a:pt x="1901" y="5039"/>
                  </a:lnTo>
                  <a:lnTo>
                    <a:pt x="1879" y="5153"/>
                  </a:lnTo>
                  <a:lnTo>
                    <a:pt x="1901" y="5246"/>
                  </a:lnTo>
                  <a:lnTo>
                    <a:pt x="1901" y="5316"/>
                  </a:lnTo>
                  <a:lnTo>
                    <a:pt x="1901" y="5387"/>
                  </a:lnTo>
                  <a:lnTo>
                    <a:pt x="1901" y="5480"/>
                  </a:lnTo>
                  <a:lnTo>
                    <a:pt x="1879" y="5572"/>
                  </a:lnTo>
                  <a:lnTo>
                    <a:pt x="1855" y="5665"/>
                  </a:lnTo>
                  <a:lnTo>
                    <a:pt x="1833" y="5757"/>
                  </a:lnTo>
                  <a:lnTo>
                    <a:pt x="1809" y="5850"/>
                  </a:lnTo>
                  <a:lnTo>
                    <a:pt x="1785" y="5943"/>
                  </a:lnTo>
                  <a:lnTo>
                    <a:pt x="1763" y="6013"/>
                  </a:lnTo>
                  <a:lnTo>
                    <a:pt x="1738" y="6107"/>
                  </a:lnTo>
                  <a:lnTo>
                    <a:pt x="1716" y="6199"/>
                  </a:lnTo>
                  <a:lnTo>
                    <a:pt x="1692" y="6292"/>
                  </a:lnTo>
                  <a:lnTo>
                    <a:pt x="1692" y="6363"/>
                  </a:lnTo>
                  <a:lnTo>
                    <a:pt x="1624" y="6523"/>
                  </a:lnTo>
                  <a:lnTo>
                    <a:pt x="1600" y="6594"/>
                  </a:lnTo>
                  <a:lnTo>
                    <a:pt x="1553" y="6711"/>
                  </a:lnTo>
                  <a:lnTo>
                    <a:pt x="1507" y="6803"/>
                  </a:lnTo>
                  <a:lnTo>
                    <a:pt x="1461" y="6918"/>
                  </a:lnTo>
                  <a:lnTo>
                    <a:pt x="1393" y="7035"/>
                  </a:lnTo>
                  <a:lnTo>
                    <a:pt x="1322" y="7267"/>
                  </a:lnTo>
                  <a:lnTo>
                    <a:pt x="1298" y="7337"/>
                  </a:lnTo>
                  <a:lnTo>
                    <a:pt x="1183" y="7405"/>
                  </a:lnTo>
                  <a:lnTo>
                    <a:pt x="1113" y="7452"/>
                  </a:lnTo>
                  <a:lnTo>
                    <a:pt x="1019" y="7522"/>
                  </a:lnTo>
                  <a:lnTo>
                    <a:pt x="788" y="7593"/>
                  </a:lnTo>
                  <a:lnTo>
                    <a:pt x="696" y="7639"/>
                  </a:lnTo>
                  <a:lnTo>
                    <a:pt x="603" y="7661"/>
                  </a:lnTo>
                  <a:lnTo>
                    <a:pt x="462" y="7707"/>
                  </a:lnTo>
                  <a:lnTo>
                    <a:pt x="370" y="7754"/>
                  </a:lnTo>
                  <a:lnTo>
                    <a:pt x="277" y="7824"/>
                  </a:lnTo>
                  <a:lnTo>
                    <a:pt x="209" y="7917"/>
                  </a:lnTo>
                  <a:lnTo>
                    <a:pt x="138" y="7963"/>
                  </a:lnTo>
                  <a:lnTo>
                    <a:pt x="46" y="8010"/>
                  </a:lnTo>
                  <a:lnTo>
                    <a:pt x="0" y="81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3075120" y="358920"/>
              <a:ext cx="1010160" cy="2832480"/>
            </a:xfrm>
            <a:custGeom>
              <a:avLst/>
              <a:gdLst/>
              <a:ahLst/>
              <a:rect l="0" t="0" r="r" b="b"/>
              <a:pathLst>
                <a:path fill="none" w="2806" h="7868">
                  <a:moveTo>
                    <a:pt x="2806" y="0"/>
                  </a:moveTo>
                  <a:lnTo>
                    <a:pt x="2729" y="141"/>
                  </a:lnTo>
                  <a:lnTo>
                    <a:pt x="2689" y="185"/>
                  </a:lnTo>
                  <a:lnTo>
                    <a:pt x="2663" y="218"/>
                  </a:lnTo>
                  <a:lnTo>
                    <a:pt x="2647" y="271"/>
                  </a:lnTo>
                  <a:lnTo>
                    <a:pt x="2636" y="313"/>
                  </a:lnTo>
                  <a:lnTo>
                    <a:pt x="2614" y="352"/>
                  </a:lnTo>
                  <a:lnTo>
                    <a:pt x="2601" y="399"/>
                  </a:lnTo>
                  <a:lnTo>
                    <a:pt x="2581" y="432"/>
                  </a:lnTo>
                  <a:lnTo>
                    <a:pt x="2555" y="463"/>
                  </a:lnTo>
                  <a:lnTo>
                    <a:pt x="2495" y="515"/>
                  </a:lnTo>
                  <a:lnTo>
                    <a:pt x="2431" y="582"/>
                  </a:lnTo>
                  <a:lnTo>
                    <a:pt x="2398" y="637"/>
                  </a:lnTo>
                  <a:lnTo>
                    <a:pt x="2389" y="674"/>
                  </a:lnTo>
                  <a:lnTo>
                    <a:pt x="2363" y="754"/>
                  </a:lnTo>
                  <a:lnTo>
                    <a:pt x="2296" y="820"/>
                  </a:lnTo>
                  <a:lnTo>
                    <a:pt x="2230" y="926"/>
                  </a:lnTo>
                  <a:lnTo>
                    <a:pt x="2204" y="952"/>
                  </a:lnTo>
                  <a:lnTo>
                    <a:pt x="2177" y="1031"/>
                  </a:lnTo>
                  <a:lnTo>
                    <a:pt x="2151" y="1084"/>
                  </a:lnTo>
                  <a:lnTo>
                    <a:pt x="2097" y="1150"/>
                  </a:lnTo>
                  <a:lnTo>
                    <a:pt x="2097" y="1243"/>
                  </a:lnTo>
                  <a:lnTo>
                    <a:pt x="2057" y="1389"/>
                  </a:lnTo>
                  <a:lnTo>
                    <a:pt x="2057" y="1375"/>
                  </a:lnTo>
                  <a:lnTo>
                    <a:pt x="2031" y="1481"/>
                  </a:lnTo>
                  <a:lnTo>
                    <a:pt x="1991" y="1413"/>
                  </a:lnTo>
                  <a:lnTo>
                    <a:pt x="2057" y="1666"/>
                  </a:lnTo>
                  <a:lnTo>
                    <a:pt x="2111" y="1746"/>
                  </a:lnTo>
                  <a:lnTo>
                    <a:pt x="2070" y="1799"/>
                  </a:lnTo>
                  <a:lnTo>
                    <a:pt x="2111" y="1905"/>
                  </a:lnTo>
                  <a:lnTo>
                    <a:pt x="2124" y="1985"/>
                  </a:lnTo>
                  <a:lnTo>
                    <a:pt x="2164" y="2051"/>
                  </a:lnTo>
                  <a:lnTo>
                    <a:pt x="2217" y="2130"/>
                  </a:lnTo>
                  <a:lnTo>
                    <a:pt x="2257" y="2197"/>
                  </a:lnTo>
                  <a:lnTo>
                    <a:pt x="2296" y="2276"/>
                  </a:lnTo>
                  <a:lnTo>
                    <a:pt x="2310" y="2342"/>
                  </a:lnTo>
                  <a:lnTo>
                    <a:pt x="2323" y="2382"/>
                  </a:lnTo>
                  <a:lnTo>
                    <a:pt x="2310" y="2448"/>
                  </a:lnTo>
                  <a:lnTo>
                    <a:pt x="2296" y="2554"/>
                  </a:lnTo>
                  <a:lnTo>
                    <a:pt x="2283" y="2673"/>
                  </a:lnTo>
                  <a:lnTo>
                    <a:pt x="2243" y="2752"/>
                  </a:lnTo>
                  <a:lnTo>
                    <a:pt x="2177" y="2829"/>
                  </a:lnTo>
                  <a:lnTo>
                    <a:pt x="2177" y="2900"/>
                  </a:lnTo>
                  <a:lnTo>
                    <a:pt x="2199" y="2992"/>
                  </a:lnTo>
                  <a:lnTo>
                    <a:pt x="2224" y="3085"/>
                  </a:lnTo>
                  <a:lnTo>
                    <a:pt x="2224" y="3178"/>
                  </a:lnTo>
                  <a:lnTo>
                    <a:pt x="2224" y="3248"/>
                  </a:lnTo>
                  <a:lnTo>
                    <a:pt x="2224" y="3341"/>
                  </a:lnTo>
                  <a:lnTo>
                    <a:pt x="2246" y="3456"/>
                  </a:lnTo>
                  <a:lnTo>
                    <a:pt x="2270" y="3526"/>
                  </a:lnTo>
                  <a:lnTo>
                    <a:pt x="2316" y="3619"/>
                  </a:lnTo>
                  <a:lnTo>
                    <a:pt x="2340" y="3711"/>
                  </a:lnTo>
                  <a:lnTo>
                    <a:pt x="2363" y="3782"/>
                  </a:lnTo>
                  <a:lnTo>
                    <a:pt x="2387" y="3896"/>
                  </a:lnTo>
                  <a:lnTo>
                    <a:pt x="2409" y="3967"/>
                  </a:lnTo>
                  <a:lnTo>
                    <a:pt x="2409" y="4106"/>
                  </a:lnTo>
                  <a:lnTo>
                    <a:pt x="2409" y="4223"/>
                  </a:lnTo>
                  <a:lnTo>
                    <a:pt x="2409" y="4315"/>
                  </a:lnTo>
                  <a:lnTo>
                    <a:pt x="2409" y="4454"/>
                  </a:lnTo>
                  <a:lnTo>
                    <a:pt x="2433" y="4686"/>
                  </a:lnTo>
                  <a:lnTo>
                    <a:pt x="2433" y="4803"/>
                  </a:lnTo>
                  <a:lnTo>
                    <a:pt x="2433" y="5034"/>
                  </a:lnTo>
                  <a:lnTo>
                    <a:pt x="2409" y="5105"/>
                  </a:lnTo>
                  <a:lnTo>
                    <a:pt x="2363" y="5197"/>
                  </a:lnTo>
                  <a:lnTo>
                    <a:pt x="2270" y="5546"/>
                  </a:lnTo>
                  <a:lnTo>
                    <a:pt x="2199" y="5660"/>
                  </a:lnTo>
                  <a:lnTo>
                    <a:pt x="2177" y="5731"/>
                  </a:lnTo>
                  <a:lnTo>
                    <a:pt x="2131" y="6475"/>
                  </a:lnTo>
                  <a:lnTo>
                    <a:pt x="2084" y="6568"/>
                  </a:lnTo>
                  <a:lnTo>
                    <a:pt x="2013" y="6636"/>
                  </a:lnTo>
                  <a:lnTo>
                    <a:pt x="1945" y="6706"/>
                  </a:lnTo>
                  <a:lnTo>
                    <a:pt x="1898" y="6777"/>
                  </a:lnTo>
                  <a:lnTo>
                    <a:pt x="1828" y="6845"/>
                  </a:lnTo>
                  <a:lnTo>
                    <a:pt x="1757" y="6892"/>
                  </a:lnTo>
                  <a:lnTo>
                    <a:pt x="1642" y="7009"/>
                  </a:lnTo>
                  <a:lnTo>
                    <a:pt x="1572" y="7101"/>
                  </a:lnTo>
                  <a:lnTo>
                    <a:pt x="852" y="7425"/>
                  </a:lnTo>
                  <a:lnTo>
                    <a:pt x="782" y="7450"/>
                  </a:lnTo>
                  <a:lnTo>
                    <a:pt x="688" y="7450"/>
                  </a:lnTo>
                  <a:lnTo>
                    <a:pt x="573" y="7542"/>
                  </a:lnTo>
                  <a:lnTo>
                    <a:pt x="503" y="7610"/>
                  </a:lnTo>
                  <a:lnTo>
                    <a:pt x="432" y="7635"/>
                  </a:lnTo>
                  <a:lnTo>
                    <a:pt x="339" y="7659"/>
                  </a:lnTo>
                  <a:lnTo>
                    <a:pt x="247" y="7705"/>
                  </a:lnTo>
                  <a:lnTo>
                    <a:pt x="154" y="7727"/>
                  </a:lnTo>
                  <a:lnTo>
                    <a:pt x="132" y="7798"/>
                  </a:lnTo>
                  <a:lnTo>
                    <a:pt x="61" y="7844"/>
                  </a:lnTo>
                  <a:lnTo>
                    <a:pt x="0" y="786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3076560" y="1733400"/>
              <a:ext cx="179640" cy="592560"/>
            </a:xfrm>
            <a:custGeom>
              <a:avLst/>
              <a:gdLst/>
              <a:ahLst/>
              <a:rect l="0" t="0" r="r" b="b"/>
              <a:pathLst>
                <a:path fill="none" w="499" h="1646">
                  <a:moveTo>
                    <a:pt x="0" y="0"/>
                  </a:moveTo>
                  <a:lnTo>
                    <a:pt x="26" y="79"/>
                  </a:lnTo>
                  <a:lnTo>
                    <a:pt x="48" y="163"/>
                  </a:lnTo>
                  <a:lnTo>
                    <a:pt x="81" y="240"/>
                  </a:lnTo>
                  <a:lnTo>
                    <a:pt x="127" y="310"/>
                  </a:lnTo>
                  <a:lnTo>
                    <a:pt x="220" y="357"/>
                  </a:lnTo>
                  <a:lnTo>
                    <a:pt x="314" y="403"/>
                  </a:lnTo>
                  <a:lnTo>
                    <a:pt x="406" y="472"/>
                  </a:lnTo>
                  <a:lnTo>
                    <a:pt x="452" y="543"/>
                  </a:lnTo>
                  <a:lnTo>
                    <a:pt x="499" y="636"/>
                  </a:lnTo>
                  <a:lnTo>
                    <a:pt x="499" y="728"/>
                  </a:lnTo>
                  <a:lnTo>
                    <a:pt x="499" y="799"/>
                  </a:lnTo>
                  <a:lnTo>
                    <a:pt x="475" y="913"/>
                  </a:lnTo>
                  <a:lnTo>
                    <a:pt x="406" y="984"/>
                  </a:lnTo>
                  <a:lnTo>
                    <a:pt x="336" y="1052"/>
                  </a:lnTo>
                  <a:lnTo>
                    <a:pt x="314" y="1123"/>
                  </a:lnTo>
                  <a:lnTo>
                    <a:pt x="314" y="1193"/>
                  </a:lnTo>
                  <a:lnTo>
                    <a:pt x="267" y="1287"/>
                  </a:lnTo>
                  <a:lnTo>
                    <a:pt x="196" y="1333"/>
                  </a:lnTo>
                  <a:lnTo>
                    <a:pt x="127" y="1426"/>
                  </a:lnTo>
                  <a:lnTo>
                    <a:pt x="57" y="1494"/>
                  </a:lnTo>
                  <a:lnTo>
                    <a:pt x="0" y="164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3456000" y="642960"/>
              <a:ext cx="878400" cy="2630880"/>
            </a:xfrm>
            <a:custGeom>
              <a:avLst/>
              <a:gdLst/>
              <a:ahLst/>
              <a:rect l="0" t="0" r="r" b="b"/>
              <a:pathLst>
                <a:path fill="none" w="2440" h="7308">
                  <a:moveTo>
                    <a:pt x="1606" y="0"/>
                  </a:moveTo>
                  <a:lnTo>
                    <a:pt x="1625" y="244"/>
                  </a:lnTo>
                  <a:lnTo>
                    <a:pt x="1606" y="330"/>
                  </a:lnTo>
                  <a:lnTo>
                    <a:pt x="1612" y="383"/>
                  </a:lnTo>
                  <a:lnTo>
                    <a:pt x="1619" y="443"/>
                  </a:lnTo>
                  <a:lnTo>
                    <a:pt x="1639" y="482"/>
                  </a:lnTo>
                  <a:lnTo>
                    <a:pt x="1652" y="509"/>
                  </a:lnTo>
                  <a:lnTo>
                    <a:pt x="1652" y="555"/>
                  </a:lnTo>
                  <a:lnTo>
                    <a:pt x="1652" y="562"/>
                  </a:lnTo>
                  <a:lnTo>
                    <a:pt x="1645" y="568"/>
                  </a:lnTo>
                  <a:lnTo>
                    <a:pt x="1639" y="595"/>
                  </a:lnTo>
                  <a:lnTo>
                    <a:pt x="1619" y="634"/>
                  </a:lnTo>
                  <a:lnTo>
                    <a:pt x="1592" y="641"/>
                  </a:lnTo>
                  <a:lnTo>
                    <a:pt x="1606" y="694"/>
                  </a:lnTo>
                  <a:lnTo>
                    <a:pt x="1606" y="727"/>
                  </a:lnTo>
                  <a:lnTo>
                    <a:pt x="1592" y="753"/>
                  </a:lnTo>
                  <a:lnTo>
                    <a:pt x="1573" y="826"/>
                  </a:lnTo>
                  <a:lnTo>
                    <a:pt x="1553" y="872"/>
                  </a:lnTo>
                  <a:lnTo>
                    <a:pt x="1539" y="952"/>
                  </a:lnTo>
                  <a:lnTo>
                    <a:pt x="1539" y="1018"/>
                  </a:lnTo>
                  <a:lnTo>
                    <a:pt x="1533" y="1110"/>
                  </a:lnTo>
                  <a:lnTo>
                    <a:pt x="1522" y="1166"/>
                  </a:lnTo>
                  <a:lnTo>
                    <a:pt x="1588" y="1227"/>
                  </a:lnTo>
                  <a:lnTo>
                    <a:pt x="1619" y="1298"/>
                  </a:lnTo>
                  <a:lnTo>
                    <a:pt x="1654" y="1364"/>
                  </a:lnTo>
                  <a:lnTo>
                    <a:pt x="1667" y="1430"/>
                  </a:lnTo>
                  <a:lnTo>
                    <a:pt x="1767" y="1507"/>
                  </a:lnTo>
                  <a:lnTo>
                    <a:pt x="1767" y="1578"/>
                  </a:lnTo>
                  <a:lnTo>
                    <a:pt x="1813" y="1692"/>
                  </a:lnTo>
                  <a:lnTo>
                    <a:pt x="1836" y="1763"/>
                  </a:lnTo>
                  <a:lnTo>
                    <a:pt x="1907" y="1878"/>
                  </a:lnTo>
                  <a:lnTo>
                    <a:pt x="1953" y="1949"/>
                  </a:lnTo>
                  <a:lnTo>
                    <a:pt x="1999" y="2042"/>
                  </a:lnTo>
                  <a:lnTo>
                    <a:pt x="2021" y="2112"/>
                  </a:lnTo>
                  <a:lnTo>
                    <a:pt x="2067" y="2205"/>
                  </a:lnTo>
                  <a:lnTo>
                    <a:pt x="2092" y="2297"/>
                  </a:lnTo>
                  <a:lnTo>
                    <a:pt x="2138" y="2390"/>
                  </a:lnTo>
                  <a:lnTo>
                    <a:pt x="2162" y="2482"/>
                  </a:lnTo>
                  <a:lnTo>
                    <a:pt x="2184" y="2553"/>
                  </a:lnTo>
                  <a:lnTo>
                    <a:pt x="2209" y="2646"/>
                  </a:lnTo>
                  <a:lnTo>
                    <a:pt x="2255" y="2784"/>
                  </a:lnTo>
                  <a:lnTo>
                    <a:pt x="2277" y="2901"/>
                  </a:lnTo>
                  <a:lnTo>
                    <a:pt x="2277" y="2994"/>
                  </a:lnTo>
                  <a:lnTo>
                    <a:pt x="2323" y="3086"/>
                  </a:lnTo>
                  <a:lnTo>
                    <a:pt x="2323" y="3201"/>
                  </a:lnTo>
                  <a:lnTo>
                    <a:pt x="2323" y="3272"/>
                  </a:lnTo>
                  <a:lnTo>
                    <a:pt x="2323" y="3364"/>
                  </a:lnTo>
                  <a:lnTo>
                    <a:pt x="2323" y="3457"/>
                  </a:lnTo>
                  <a:lnTo>
                    <a:pt x="2323" y="3527"/>
                  </a:lnTo>
                  <a:lnTo>
                    <a:pt x="2323" y="3688"/>
                  </a:lnTo>
                  <a:lnTo>
                    <a:pt x="2323" y="3759"/>
                  </a:lnTo>
                  <a:lnTo>
                    <a:pt x="2277" y="3829"/>
                  </a:lnTo>
                  <a:lnTo>
                    <a:pt x="2231" y="3944"/>
                  </a:lnTo>
                  <a:lnTo>
                    <a:pt x="2301" y="4153"/>
                  </a:lnTo>
                  <a:lnTo>
                    <a:pt x="2440" y="4292"/>
                  </a:lnTo>
                  <a:lnTo>
                    <a:pt x="2440" y="4409"/>
                  </a:lnTo>
                  <a:lnTo>
                    <a:pt x="2440" y="4455"/>
                  </a:lnTo>
                  <a:lnTo>
                    <a:pt x="2440" y="4455"/>
                  </a:lnTo>
                  <a:lnTo>
                    <a:pt x="2323" y="4548"/>
                  </a:lnTo>
                  <a:lnTo>
                    <a:pt x="2323" y="4640"/>
                  </a:lnTo>
                  <a:lnTo>
                    <a:pt x="2277" y="4733"/>
                  </a:lnTo>
                  <a:lnTo>
                    <a:pt x="2231" y="4825"/>
                  </a:lnTo>
                  <a:lnTo>
                    <a:pt x="2162" y="4872"/>
                  </a:lnTo>
                  <a:lnTo>
                    <a:pt x="2045" y="4964"/>
                  </a:lnTo>
                  <a:lnTo>
                    <a:pt x="1999" y="5081"/>
                  </a:lnTo>
                  <a:lnTo>
                    <a:pt x="1975" y="5152"/>
                  </a:lnTo>
                  <a:lnTo>
                    <a:pt x="1929" y="5429"/>
                  </a:lnTo>
                  <a:lnTo>
                    <a:pt x="1882" y="5569"/>
                  </a:lnTo>
                  <a:lnTo>
                    <a:pt x="1860" y="5640"/>
                  </a:lnTo>
                  <a:lnTo>
                    <a:pt x="1789" y="5871"/>
                  </a:lnTo>
                  <a:lnTo>
                    <a:pt x="1720" y="5988"/>
                  </a:lnTo>
                  <a:lnTo>
                    <a:pt x="1625" y="6081"/>
                  </a:lnTo>
                  <a:lnTo>
                    <a:pt x="1487" y="6220"/>
                  </a:lnTo>
                  <a:lnTo>
                    <a:pt x="1418" y="6334"/>
                  </a:lnTo>
                  <a:lnTo>
                    <a:pt x="1348" y="6380"/>
                  </a:lnTo>
                  <a:lnTo>
                    <a:pt x="1209" y="6475"/>
                  </a:lnTo>
                  <a:lnTo>
                    <a:pt x="1138" y="6522"/>
                  </a:lnTo>
                  <a:lnTo>
                    <a:pt x="1024" y="6568"/>
                  </a:lnTo>
                  <a:lnTo>
                    <a:pt x="931" y="6660"/>
                  </a:lnTo>
                  <a:lnTo>
                    <a:pt x="860" y="6682"/>
                  </a:lnTo>
                  <a:lnTo>
                    <a:pt x="792" y="6753"/>
                  </a:lnTo>
                  <a:lnTo>
                    <a:pt x="721" y="6775"/>
                  </a:lnTo>
                  <a:lnTo>
                    <a:pt x="651" y="6821"/>
                  </a:lnTo>
                  <a:lnTo>
                    <a:pt x="582" y="6892"/>
                  </a:lnTo>
                  <a:lnTo>
                    <a:pt x="489" y="7009"/>
                  </a:lnTo>
                  <a:lnTo>
                    <a:pt x="418" y="7055"/>
                  </a:lnTo>
                  <a:lnTo>
                    <a:pt x="326" y="7101"/>
                  </a:lnTo>
                  <a:lnTo>
                    <a:pt x="255" y="7148"/>
                  </a:lnTo>
                  <a:lnTo>
                    <a:pt x="141" y="7216"/>
                  </a:lnTo>
                  <a:lnTo>
                    <a:pt x="0" y="730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3760920" y="1309680"/>
              <a:ext cx="725760" cy="1962360"/>
            </a:xfrm>
            <a:custGeom>
              <a:avLst/>
              <a:gdLst/>
              <a:ahLst/>
              <a:rect l="0" t="0" r="r" b="b"/>
              <a:pathLst>
                <a:path fill="none" w="2016" h="5451">
                  <a:moveTo>
                    <a:pt x="1150" y="0"/>
                  </a:moveTo>
                  <a:lnTo>
                    <a:pt x="1183" y="46"/>
                  </a:lnTo>
                  <a:lnTo>
                    <a:pt x="1229" y="125"/>
                  </a:lnTo>
                  <a:lnTo>
                    <a:pt x="1249" y="231"/>
                  </a:lnTo>
                  <a:lnTo>
                    <a:pt x="1302" y="277"/>
                  </a:lnTo>
                  <a:lnTo>
                    <a:pt x="1362" y="392"/>
                  </a:lnTo>
                  <a:lnTo>
                    <a:pt x="1430" y="485"/>
                  </a:lnTo>
                  <a:lnTo>
                    <a:pt x="1476" y="577"/>
                  </a:lnTo>
                  <a:lnTo>
                    <a:pt x="1522" y="648"/>
                  </a:lnTo>
                  <a:lnTo>
                    <a:pt x="1569" y="740"/>
                  </a:lnTo>
                  <a:lnTo>
                    <a:pt x="1639" y="809"/>
                  </a:lnTo>
                  <a:lnTo>
                    <a:pt x="1661" y="879"/>
                  </a:lnTo>
                  <a:lnTo>
                    <a:pt x="1732" y="972"/>
                  </a:lnTo>
                  <a:lnTo>
                    <a:pt x="1756" y="1042"/>
                  </a:lnTo>
                  <a:lnTo>
                    <a:pt x="1802" y="1135"/>
                  </a:lnTo>
                  <a:lnTo>
                    <a:pt x="1848" y="1250"/>
                  </a:lnTo>
                  <a:lnTo>
                    <a:pt x="1870" y="1320"/>
                  </a:lnTo>
                  <a:lnTo>
                    <a:pt x="1917" y="1413"/>
                  </a:lnTo>
                  <a:lnTo>
                    <a:pt x="1917" y="1483"/>
                  </a:lnTo>
                  <a:lnTo>
                    <a:pt x="1941" y="1576"/>
                  </a:lnTo>
                  <a:lnTo>
                    <a:pt x="1941" y="1669"/>
                  </a:lnTo>
                  <a:lnTo>
                    <a:pt x="1941" y="1830"/>
                  </a:lnTo>
                  <a:lnTo>
                    <a:pt x="1941" y="1900"/>
                  </a:lnTo>
                  <a:lnTo>
                    <a:pt x="1941" y="1971"/>
                  </a:lnTo>
                  <a:lnTo>
                    <a:pt x="1941" y="2063"/>
                  </a:lnTo>
                  <a:lnTo>
                    <a:pt x="1963" y="2156"/>
                  </a:lnTo>
                  <a:lnTo>
                    <a:pt x="1943" y="2288"/>
                  </a:lnTo>
                  <a:lnTo>
                    <a:pt x="1950" y="2341"/>
                  </a:lnTo>
                  <a:lnTo>
                    <a:pt x="1956" y="2374"/>
                  </a:lnTo>
                  <a:lnTo>
                    <a:pt x="1969" y="2414"/>
                  </a:lnTo>
                  <a:lnTo>
                    <a:pt x="1983" y="2460"/>
                  </a:lnTo>
                  <a:lnTo>
                    <a:pt x="2003" y="2533"/>
                  </a:lnTo>
                  <a:lnTo>
                    <a:pt x="2009" y="2579"/>
                  </a:lnTo>
                  <a:lnTo>
                    <a:pt x="2016" y="2672"/>
                  </a:lnTo>
                  <a:lnTo>
                    <a:pt x="1989" y="2739"/>
                  </a:lnTo>
                  <a:lnTo>
                    <a:pt x="1943" y="2818"/>
                  </a:lnTo>
                  <a:lnTo>
                    <a:pt x="1884" y="2937"/>
                  </a:lnTo>
                  <a:lnTo>
                    <a:pt x="1837" y="3010"/>
                  </a:lnTo>
                  <a:lnTo>
                    <a:pt x="1798" y="3063"/>
                  </a:lnTo>
                  <a:lnTo>
                    <a:pt x="1725" y="3096"/>
                  </a:lnTo>
                  <a:lnTo>
                    <a:pt x="1666" y="3156"/>
                  </a:lnTo>
                  <a:lnTo>
                    <a:pt x="1619" y="3189"/>
                  </a:lnTo>
                  <a:lnTo>
                    <a:pt x="1573" y="3235"/>
                  </a:lnTo>
                  <a:lnTo>
                    <a:pt x="1520" y="3301"/>
                  </a:lnTo>
                  <a:lnTo>
                    <a:pt x="1500" y="3374"/>
                  </a:lnTo>
                  <a:lnTo>
                    <a:pt x="1487" y="3453"/>
                  </a:lnTo>
                  <a:lnTo>
                    <a:pt x="1454" y="3533"/>
                  </a:lnTo>
                  <a:lnTo>
                    <a:pt x="1414" y="3619"/>
                  </a:lnTo>
                  <a:lnTo>
                    <a:pt x="1375" y="3751"/>
                  </a:lnTo>
                  <a:lnTo>
                    <a:pt x="1348" y="3844"/>
                  </a:lnTo>
                  <a:lnTo>
                    <a:pt x="1282" y="3969"/>
                  </a:lnTo>
                  <a:lnTo>
                    <a:pt x="1216" y="4102"/>
                  </a:lnTo>
                  <a:lnTo>
                    <a:pt x="1157" y="4214"/>
                  </a:lnTo>
                  <a:lnTo>
                    <a:pt x="1124" y="4326"/>
                  </a:lnTo>
                  <a:lnTo>
                    <a:pt x="1097" y="4406"/>
                  </a:lnTo>
                  <a:lnTo>
                    <a:pt x="1011" y="4498"/>
                  </a:lnTo>
                  <a:lnTo>
                    <a:pt x="931" y="4604"/>
                  </a:lnTo>
                  <a:lnTo>
                    <a:pt x="759" y="4703"/>
                  </a:lnTo>
                  <a:lnTo>
                    <a:pt x="693" y="4796"/>
                  </a:lnTo>
                  <a:lnTo>
                    <a:pt x="588" y="4875"/>
                  </a:lnTo>
                  <a:lnTo>
                    <a:pt x="488" y="4955"/>
                  </a:lnTo>
                  <a:lnTo>
                    <a:pt x="370" y="5061"/>
                  </a:lnTo>
                  <a:lnTo>
                    <a:pt x="251" y="5114"/>
                  </a:lnTo>
                  <a:lnTo>
                    <a:pt x="185" y="5180"/>
                  </a:lnTo>
                  <a:lnTo>
                    <a:pt x="72" y="5312"/>
                  </a:lnTo>
                  <a:lnTo>
                    <a:pt x="0" y="545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4033800" y="81000"/>
              <a:ext cx="1548000" cy="2224440"/>
            </a:xfrm>
            <a:custGeom>
              <a:avLst/>
              <a:gdLst/>
              <a:ahLst/>
              <a:rect l="0" t="0" r="r" b="b"/>
              <a:pathLst>
                <a:path fill="none" w="4300" h="6179">
                  <a:moveTo>
                    <a:pt x="152" y="0"/>
                  </a:moveTo>
                  <a:lnTo>
                    <a:pt x="138" y="50"/>
                  </a:lnTo>
                  <a:lnTo>
                    <a:pt x="138" y="143"/>
                  </a:lnTo>
                  <a:lnTo>
                    <a:pt x="138" y="236"/>
                  </a:lnTo>
                  <a:lnTo>
                    <a:pt x="138" y="328"/>
                  </a:lnTo>
                  <a:lnTo>
                    <a:pt x="163" y="421"/>
                  </a:lnTo>
                  <a:lnTo>
                    <a:pt x="185" y="491"/>
                  </a:lnTo>
                  <a:lnTo>
                    <a:pt x="185" y="584"/>
                  </a:lnTo>
                  <a:lnTo>
                    <a:pt x="185" y="677"/>
                  </a:lnTo>
                  <a:lnTo>
                    <a:pt x="138" y="769"/>
                  </a:lnTo>
                  <a:lnTo>
                    <a:pt x="116" y="862"/>
                  </a:lnTo>
                  <a:lnTo>
                    <a:pt x="70" y="932"/>
                  </a:lnTo>
                  <a:lnTo>
                    <a:pt x="46" y="1025"/>
                  </a:lnTo>
                  <a:lnTo>
                    <a:pt x="46" y="1118"/>
                  </a:lnTo>
                  <a:lnTo>
                    <a:pt x="46" y="1210"/>
                  </a:lnTo>
                  <a:lnTo>
                    <a:pt x="22" y="1303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59"/>
                  </a:lnTo>
                  <a:lnTo>
                    <a:pt x="46" y="1652"/>
                  </a:lnTo>
                  <a:lnTo>
                    <a:pt x="70" y="1744"/>
                  </a:lnTo>
                  <a:lnTo>
                    <a:pt x="92" y="1815"/>
                  </a:lnTo>
                  <a:lnTo>
                    <a:pt x="116" y="1907"/>
                  </a:lnTo>
                  <a:lnTo>
                    <a:pt x="116" y="2000"/>
                  </a:lnTo>
                  <a:lnTo>
                    <a:pt x="116" y="2093"/>
                  </a:lnTo>
                  <a:lnTo>
                    <a:pt x="138" y="2185"/>
                  </a:lnTo>
                  <a:lnTo>
                    <a:pt x="163" y="2256"/>
                  </a:lnTo>
                  <a:lnTo>
                    <a:pt x="163" y="2349"/>
                  </a:lnTo>
                  <a:lnTo>
                    <a:pt x="185" y="2487"/>
                  </a:lnTo>
                  <a:lnTo>
                    <a:pt x="231" y="2580"/>
                  </a:lnTo>
                  <a:lnTo>
                    <a:pt x="255" y="2673"/>
                  </a:lnTo>
                  <a:lnTo>
                    <a:pt x="255" y="2743"/>
                  </a:lnTo>
                  <a:lnTo>
                    <a:pt x="255" y="2858"/>
                  </a:lnTo>
                  <a:lnTo>
                    <a:pt x="255" y="2929"/>
                  </a:lnTo>
                  <a:lnTo>
                    <a:pt x="277" y="3021"/>
                  </a:lnTo>
                  <a:lnTo>
                    <a:pt x="301" y="3115"/>
                  </a:lnTo>
                  <a:lnTo>
                    <a:pt x="323" y="3185"/>
                  </a:lnTo>
                  <a:lnTo>
                    <a:pt x="323" y="3278"/>
                  </a:lnTo>
                  <a:lnTo>
                    <a:pt x="398" y="3432"/>
                  </a:lnTo>
                  <a:lnTo>
                    <a:pt x="462" y="3463"/>
                  </a:lnTo>
                  <a:lnTo>
                    <a:pt x="511" y="3556"/>
                  </a:lnTo>
                  <a:lnTo>
                    <a:pt x="557" y="3627"/>
                  </a:lnTo>
                  <a:lnTo>
                    <a:pt x="650" y="3695"/>
                  </a:lnTo>
                  <a:lnTo>
                    <a:pt x="696" y="3766"/>
                  </a:lnTo>
                  <a:lnTo>
                    <a:pt x="764" y="3858"/>
                  </a:lnTo>
                  <a:lnTo>
                    <a:pt x="835" y="3927"/>
                  </a:lnTo>
                  <a:lnTo>
                    <a:pt x="857" y="3997"/>
                  </a:lnTo>
                  <a:lnTo>
                    <a:pt x="903" y="4068"/>
                  </a:lnTo>
                  <a:lnTo>
                    <a:pt x="952" y="4160"/>
                  </a:lnTo>
                  <a:lnTo>
                    <a:pt x="1020" y="4253"/>
                  </a:lnTo>
                  <a:lnTo>
                    <a:pt x="1066" y="4346"/>
                  </a:lnTo>
                  <a:lnTo>
                    <a:pt x="1137" y="4438"/>
                  </a:lnTo>
                  <a:lnTo>
                    <a:pt x="1159" y="4509"/>
                  </a:lnTo>
                  <a:lnTo>
                    <a:pt x="1229" y="4577"/>
                  </a:lnTo>
                  <a:lnTo>
                    <a:pt x="1251" y="4648"/>
                  </a:lnTo>
                  <a:lnTo>
                    <a:pt x="1275" y="4740"/>
                  </a:lnTo>
                  <a:lnTo>
                    <a:pt x="1297" y="4833"/>
                  </a:lnTo>
                  <a:lnTo>
                    <a:pt x="1322" y="4904"/>
                  </a:lnTo>
                  <a:lnTo>
                    <a:pt x="1344" y="5018"/>
                  </a:lnTo>
                  <a:lnTo>
                    <a:pt x="1368" y="5089"/>
                  </a:lnTo>
                  <a:lnTo>
                    <a:pt x="1414" y="5182"/>
                  </a:lnTo>
                  <a:lnTo>
                    <a:pt x="1439" y="5296"/>
                  </a:lnTo>
                  <a:lnTo>
                    <a:pt x="1461" y="5367"/>
                  </a:lnTo>
                  <a:lnTo>
                    <a:pt x="1461" y="5437"/>
                  </a:lnTo>
                  <a:lnTo>
                    <a:pt x="1485" y="5530"/>
                  </a:lnTo>
                  <a:lnTo>
                    <a:pt x="1531" y="5623"/>
                  </a:lnTo>
                  <a:lnTo>
                    <a:pt x="1577" y="5715"/>
                  </a:lnTo>
                  <a:lnTo>
                    <a:pt x="1624" y="5786"/>
                  </a:lnTo>
                  <a:lnTo>
                    <a:pt x="1692" y="5879"/>
                  </a:lnTo>
                  <a:lnTo>
                    <a:pt x="1762" y="5971"/>
                  </a:lnTo>
                  <a:lnTo>
                    <a:pt x="1833" y="5993"/>
                  </a:lnTo>
                  <a:lnTo>
                    <a:pt x="1926" y="6018"/>
                  </a:lnTo>
                  <a:lnTo>
                    <a:pt x="2018" y="6086"/>
                  </a:lnTo>
                  <a:lnTo>
                    <a:pt x="2064" y="6156"/>
                  </a:lnTo>
                  <a:lnTo>
                    <a:pt x="2158" y="6179"/>
                  </a:lnTo>
                  <a:lnTo>
                    <a:pt x="2251" y="6179"/>
                  </a:lnTo>
                  <a:lnTo>
                    <a:pt x="2321" y="6156"/>
                  </a:lnTo>
                  <a:lnTo>
                    <a:pt x="2414" y="6132"/>
                  </a:lnTo>
                  <a:lnTo>
                    <a:pt x="2506" y="6110"/>
                  </a:lnTo>
                  <a:lnTo>
                    <a:pt x="2599" y="6040"/>
                  </a:lnTo>
                  <a:lnTo>
                    <a:pt x="2667" y="5947"/>
                  </a:lnTo>
                  <a:lnTo>
                    <a:pt x="2738" y="5879"/>
                  </a:lnTo>
                  <a:lnTo>
                    <a:pt x="2808" y="5808"/>
                  </a:lnTo>
                  <a:lnTo>
                    <a:pt x="2876" y="5737"/>
                  </a:lnTo>
                  <a:lnTo>
                    <a:pt x="2947" y="5691"/>
                  </a:lnTo>
                  <a:lnTo>
                    <a:pt x="3061" y="5620"/>
                  </a:lnTo>
                  <a:lnTo>
                    <a:pt x="3123" y="5568"/>
                  </a:lnTo>
                  <a:lnTo>
                    <a:pt x="3185" y="5515"/>
                  </a:lnTo>
                  <a:lnTo>
                    <a:pt x="3273" y="5471"/>
                  </a:lnTo>
                  <a:lnTo>
                    <a:pt x="3370" y="5418"/>
                  </a:lnTo>
                  <a:lnTo>
                    <a:pt x="3456" y="5391"/>
                  </a:lnTo>
                  <a:lnTo>
                    <a:pt x="3526" y="5391"/>
                  </a:lnTo>
                  <a:lnTo>
                    <a:pt x="3597" y="5367"/>
                  </a:lnTo>
                  <a:lnTo>
                    <a:pt x="3712" y="5296"/>
                  </a:lnTo>
                  <a:lnTo>
                    <a:pt x="3782" y="5228"/>
                  </a:lnTo>
                  <a:lnTo>
                    <a:pt x="3850" y="5157"/>
                  </a:lnTo>
                  <a:lnTo>
                    <a:pt x="3921" y="5065"/>
                  </a:lnTo>
                  <a:lnTo>
                    <a:pt x="3989" y="4972"/>
                  </a:lnTo>
                  <a:lnTo>
                    <a:pt x="4060" y="4904"/>
                  </a:lnTo>
                  <a:lnTo>
                    <a:pt x="4130" y="4855"/>
                  </a:lnTo>
                  <a:lnTo>
                    <a:pt x="4223" y="4809"/>
                  </a:lnTo>
                  <a:lnTo>
                    <a:pt x="4300" y="4796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4853160" y="88920"/>
              <a:ext cx="729000" cy="744840"/>
            </a:xfrm>
            <a:custGeom>
              <a:avLst/>
              <a:gdLst/>
              <a:ahLst/>
              <a:rect l="0" t="0" r="r" b="b"/>
              <a:pathLst>
                <a:path fill="none" w="2025" h="2069">
                  <a:moveTo>
                    <a:pt x="0" y="0"/>
                  </a:moveTo>
                  <a:lnTo>
                    <a:pt x="48" y="48"/>
                  </a:lnTo>
                  <a:lnTo>
                    <a:pt x="97" y="137"/>
                  </a:lnTo>
                  <a:lnTo>
                    <a:pt x="145" y="226"/>
                  </a:lnTo>
                  <a:lnTo>
                    <a:pt x="145" y="315"/>
                  </a:lnTo>
                  <a:lnTo>
                    <a:pt x="168" y="404"/>
                  </a:lnTo>
                  <a:lnTo>
                    <a:pt x="217" y="472"/>
                  </a:lnTo>
                  <a:lnTo>
                    <a:pt x="291" y="516"/>
                  </a:lnTo>
                  <a:lnTo>
                    <a:pt x="388" y="560"/>
                  </a:lnTo>
                  <a:lnTo>
                    <a:pt x="462" y="626"/>
                  </a:lnTo>
                  <a:lnTo>
                    <a:pt x="510" y="694"/>
                  </a:lnTo>
                  <a:lnTo>
                    <a:pt x="607" y="759"/>
                  </a:lnTo>
                  <a:lnTo>
                    <a:pt x="704" y="783"/>
                  </a:lnTo>
                  <a:lnTo>
                    <a:pt x="801" y="848"/>
                  </a:lnTo>
                  <a:lnTo>
                    <a:pt x="875" y="895"/>
                  </a:lnTo>
                  <a:lnTo>
                    <a:pt x="972" y="961"/>
                  </a:lnTo>
                  <a:lnTo>
                    <a:pt x="1093" y="1050"/>
                  </a:lnTo>
                  <a:lnTo>
                    <a:pt x="1167" y="1095"/>
                  </a:lnTo>
                  <a:lnTo>
                    <a:pt x="1216" y="1163"/>
                  </a:lnTo>
                  <a:lnTo>
                    <a:pt x="1313" y="1252"/>
                  </a:lnTo>
                  <a:lnTo>
                    <a:pt x="1320" y="1429"/>
                  </a:lnTo>
                  <a:lnTo>
                    <a:pt x="1491" y="1601"/>
                  </a:lnTo>
                  <a:lnTo>
                    <a:pt x="1703" y="1664"/>
                  </a:lnTo>
                  <a:lnTo>
                    <a:pt x="1874" y="1770"/>
                  </a:lnTo>
                  <a:lnTo>
                    <a:pt x="2025" y="206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4106880" y="82440"/>
              <a:ext cx="1476720" cy="1679760"/>
            </a:xfrm>
            <a:custGeom>
              <a:avLst/>
              <a:gdLst/>
              <a:ahLst/>
              <a:rect l="0" t="0" r="r" b="b"/>
              <a:pathLst>
                <a:path fill="none" w="4102" h="4666">
                  <a:moveTo>
                    <a:pt x="0" y="0"/>
                  </a:moveTo>
                  <a:lnTo>
                    <a:pt x="22" y="243"/>
                  </a:lnTo>
                  <a:lnTo>
                    <a:pt x="61" y="309"/>
                  </a:lnTo>
                  <a:lnTo>
                    <a:pt x="97" y="396"/>
                  </a:lnTo>
                  <a:lnTo>
                    <a:pt x="143" y="492"/>
                  </a:lnTo>
                  <a:lnTo>
                    <a:pt x="189" y="588"/>
                  </a:lnTo>
                  <a:lnTo>
                    <a:pt x="235" y="683"/>
                  </a:lnTo>
                  <a:lnTo>
                    <a:pt x="235" y="779"/>
                  </a:lnTo>
                  <a:lnTo>
                    <a:pt x="257" y="852"/>
                  </a:lnTo>
                  <a:lnTo>
                    <a:pt x="306" y="948"/>
                  </a:lnTo>
                  <a:lnTo>
                    <a:pt x="374" y="1043"/>
                  </a:lnTo>
                  <a:lnTo>
                    <a:pt x="421" y="1139"/>
                  </a:lnTo>
                  <a:lnTo>
                    <a:pt x="513" y="1235"/>
                  </a:lnTo>
                  <a:lnTo>
                    <a:pt x="537" y="1308"/>
                  </a:lnTo>
                  <a:lnTo>
                    <a:pt x="606" y="1403"/>
                  </a:lnTo>
                  <a:lnTo>
                    <a:pt x="652" y="1499"/>
                  </a:lnTo>
                  <a:lnTo>
                    <a:pt x="698" y="1595"/>
                  </a:lnTo>
                  <a:lnTo>
                    <a:pt x="723" y="1691"/>
                  </a:lnTo>
                  <a:lnTo>
                    <a:pt x="793" y="1739"/>
                  </a:lnTo>
                  <a:lnTo>
                    <a:pt x="886" y="1811"/>
                  </a:lnTo>
                  <a:lnTo>
                    <a:pt x="978" y="1882"/>
                  </a:lnTo>
                  <a:lnTo>
                    <a:pt x="1047" y="1955"/>
                  </a:lnTo>
                  <a:lnTo>
                    <a:pt x="1117" y="2051"/>
                  </a:lnTo>
                  <a:lnTo>
                    <a:pt x="1210" y="2146"/>
                  </a:lnTo>
                  <a:lnTo>
                    <a:pt x="1281" y="2242"/>
                  </a:lnTo>
                  <a:lnTo>
                    <a:pt x="1349" y="2364"/>
                  </a:lnTo>
                  <a:lnTo>
                    <a:pt x="1441" y="2483"/>
                  </a:lnTo>
                  <a:lnTo>
                    <a:pt x="1466" y="2555"/>
                  </a:lnTo>
                  <a:lnTo>
                    <a:pt x="1534" y="2651"/>
                  </a:lnTo>
                  <a:lnTo>
                    <a:pt x="1580" y="2724"/>
                  </a:lnTo>
                  <a:lnTo>
                    <a:pt x="1629" y="2843"/>
                  </a:lnTo>
                  <a:lnTo>
                    <a:pt x="1721" y="2938"/>
                  </a:lnTo>
                  <a:lnTo>
                    <a:pt x="1860" y="2963"/>
                  </a:lnTo>
                  <a:lnTo>
                    <a:pt x="1953" y="3011"/>
                  </a:lnTo>
                  <a:lnTo>
                    <a:pt x="2046" y="3084"/>
                  </a:lnTo>
                  <a:lnTo>
                    <a:pt x="2117" y="3132"/>
                  </a:lnTo>
                  <a:lnTo>
                    <a:pt x="2210" y="3203"/>
                  </a:lnTo>
                  <a:lnTo>
                    <a:pt x="2278" y="3276"/>
                  </a:lnTo>
                  <a:lnTo>
                    <a:pt x="2349" y="3371"/>
                  </a:lnTo>
                  <a:lnTo>
                    <a:pt x="2441" y="3515"/>
                  </a:lnTo>
                  <a:lnTo>
                    <a:pt x="2488" y="3588"/>
                  </a:lnTo>
                  <a:lnTo>
                    <a:pt x="2558" y="3684"/>
                  </a:lnTo>
                  <a:lnTo>
                    <a:pt x="2626" y="3779"/>
                  </a:lnTo>
                  <a:lnTo>
                    <a:pt x="2697" y="3875"/>
                  </a:lnTo>
                  <a:lnTo>
                    <a:pt x="2790" y="3996"/>
                  </a:lnTo>
                  <a:lnTo>
                    <a:pt x="2882" y="4044"/>
                  </a:lnTo>
                  <a:lnTo>
                    <a:pt x="2953" y="4114"/>
                  </a:lnTo>
                  <a:lnTo>
                    <a:pt x="3067" y="4210"/>
                  </a:lnTo>
                  <a:lnTo>
                    <a:pt x="3138" y="4283"/>
                  </a:lnTo>
                  <a:lnTo>
                    <a:pt x="3206" y="4379"/>
                  </a:lnTo>
                  <a:lnTo>
                    <a:pt x="3253" y="4452"/>
                  </a:lnTo>
                  <a:lnTo>
                    <a:pt x="3323" y="4547"/>
                  </a:lnTo>
                  <a:lnTo>
                    <a:pt x="3394" y="4595"/>
                  </a:lnTo>
                  <a:lnTo>
                    <a:pt x="3486" y="4643"/>
                  </a:lnTo>
                  <a:lnTo>
                    <a:pt x="3579" y="4643"/>
                  </a:lnTo>
                  <a:lnTo>
                    <a:pt x="3672" y="4666"/>
                  </a:lnTo>
                  <a:lnTo>
                    <a:pt x="3802" y="4645"/>
                  </a:lnTo>
                  <a:lnTo>
                    <a:pt x="3872" y="4655"/>
                  </a:lnTo>
                  <a:lnTo>
                    <a:pt x="3934" y="4627"/>
                  </a:lnTo>
                  <a:lnTo>
                    <a:pt x="4013" y="4609"/>
                  </a:lnTo>
                  <a:lnTo>
                    <a:pt x="4102" y="4609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4075200" y="326880"/>
              <a:ext cx="1508400" cy="1661040"/>
            </a:xfrm>
            <a:custGeom>
              <a:avLst/>
              <a:gdLst/>
              <a:ahLst/>
              <a:rect l="0" t="0" r="r" b="b"/>
              <a:pathLst>
                <a:path fill="none" w="4190" h="4614">
                  <a:moveTo>
                    <a:pt x="63" y="0"/>
                  </a:moveTo>
                  <a:lnTo>
                    <a:pt x="0" y="335"/>
                  </a:lnTo>
                  <a:lnTo>
                    <a:pt x="11" y="474"/>
                  </a:lnTo>
                  <a:lnTo>
                    <a:pt x="44" y="714"/>
                  </a:lnTo>
                  <a:lnTo>
                    <a:pt x="176" y="1095"/>
                  </a:lnTo>
                  <a:lnTo>
                    <a:pt x="321" y="1387"/>
                  </a:lnTo>
                  <a:lnTo>
                    <a:pt x="394" y="1504"/>
                  </a:lnTo>
                  <a:lnTo>
                    <a:pt x="416" y="1575"/>
                  </a:lnTo>
                  <a:lnTo>
                    <a:pt x="463" y="1667"/>
                  </a:lnTo>
                  <a:lnTo>
                    <a:pt x="509" y="1760"/>
                  </a:lnTo>
                  <a:lnTo>
                    <a:pt x="555" y="1853"/>
                  </a:lnTo>
                  <a:lnTo>
                    <a:pt x="555" y="1945"/>
                  </a:lnTo>
                  <a:lnTo>
                    <a:pt x="555" y="2016"/>
                  </a:lnTo>
                  <a:lnTo>
                    <a:pt x="579" y="2108"/>
                  </a:lnTo>
                  <a:lnTo>
                    <a:pt x="601" y="2201"/>
                  </a:lnTo>
                  <a:lnTo>
                    <a:pt x="601" y="2294"/>
                  </a:lnTo>
                  <a:lnTo>
                    <a:pt x="648" y="2386"/>
                  </a:lnTo>
                  <a:lnTo>
                    <a:pt x="672" y="2525"/>
                  </a:lnTo>
                  <a:lnTo>
                    <a:pt x="694" y="2596"/>
                  </a:lnTo>
                  <a:lnTo>
                    <a:pt x="694" y="2710"/>
                  </a:lnTo>
                  <a:lnTo>
                    <a:pt x="787" y="2781"/>
                  </a:lnTo>
                  <a:lnTo>
                    <a:pt x="857" y="2827"/>
                  </a:lnTo>
                  <a:lnTo>
                    <a:pt x="928" y="2873"/>
                  </a:lnTo>
                  <a:lnTo>
                    <a:pt x="974" y="2944"/>
                  </a:lnTo>
                  <a:lnTo>
                    <a:pt x="1089" y="3059"/>
                  </a:lnTo>
                  <a:lnTo>
                    <a:pt x="1159" y="3129"/>
                  </a:lnTo>
                  <a:lnTo>
                    <a:pt x="1252" y="3268"/>
                  </a:lnTo>
                  <a:lnTo>
                    <a:pt x="1322" y="3361"/>
                  </a:lnTo>
                  <a:lnTo>
                    <a:pt x="1369" y="3431"/>
                  </a:lnTo>
                  <a:lnTo>
                    <a:pt x="1437" y="3547"/>
                  </a:lnTo>
                  <a:lnTo>
                    <a:pt x="1461" y="3617"/>
                  </a:lnTo>
                  <a:lnTo>
                    <a:pt x="1530" y="3710"/>
                  </a:lnTo>
                  <a:lnTo>
                    <a:pt x="1554" y="3781"/>
                  </a:lnTo>
                  <a:lnTo>
                    <a:pt x="1600" y="3873"/>
                  </a:lnTo>
                  <a:lnTo>
                    <a:pt x="1622" y="3966"/>
                  </a:lnTo>
                  <a:lnTo>
                    <a:pt x="1669" y="4058"/>
                  </a:lnTo>
                  <a:lnTo>
                    <a:pt x="1693" y="4151"/>
                  </a:lnTo>
                  <a:lnTo>
                    <a:pt x="1717" y="4222"/>
                  </a:lnTo>
                  <a:lnTo>
                    <a:pt x="1785" y="4336"/>
                  </a:lnTo>
                  <a:lnTo>
                    <a:pt x="1832" y="4407"/>
                  </a:lnTo>
                  <a:lnTo>
                    <a:pt x="1902" y="4475"/>
                  </a:lnTo>
                  <a:lnTo>
                    <a:pt x="1995" y="4568"/>
                  </a:lnTo>
                  <a:lnTo>
                    <a:pt x="2088" y="4614"/>
                  </a:lnTo>
                  <a:lnTo>
                    <a:pt x="2181" y="4614"/>
                  </a:lnTo>
                  <a:lnTo>
                    <a:pt x="2252" y="4614"/>
                  </a:lnTo>
                  <a:lnTo>
                    <a:pt x="2366" y="4592"/>
                  </a:lnTo>
                  <a:lnTo>
                    <a:pt x="2437" y="4568"/>
                  </a:lnTo>
                  <a:lnTo>
                    <a:pt x="2529" y="4521"/>
                  </a:lnTo>
                  <a:lnTo>
                    <a:pt x="2600" y="4499"/>
                  </a:lnTo>
                  <a:lnTo>
                    <a:pt x="2693" y="4475"/>
                  </a:lnTo>
                  <a:lnTo>
                    <a:pt x="2785" y="4453"/>
                  </a:lnTo>
                  <a:lnTo>
                    <a:pt x="2900" y="4429"/>
                  </a:lnTo>
                  <a:lnTo>
                    <a:pt x="2970" y="4407"/>
                  </a:lnTo>
                  <a:lnTo>
                    <a:pt x="3041" y="4383"/>
                  </a:lnTo>
                  <a:lnTo>
                    <a:pt x="3134" y="4336"/>
                  </a:lnTo>
                  <a:lnTo>
                    <a:pt x="3248" y="4336"/>
                  </a:lnTo>
                  <a:lnTo>
                    <a:pt x="3319" y="4336"/>
                  </a:lnTo>
                  <a:lnTo>
                    <a:pt x="3411" y="4314"/>
                  </a:lnTo>
                  <a:lnTo>
                    <a:pt x="3482" y="4290"/>
                  </a:lnTo>
                  <a:lnTo>
                    <a:pt x="3575" y="4268"/>
                  </a:lnTo>
                  <a:lnTo>
                    <a:pt x="3667" y="4222"/>
                  </a:lnTo>
                  <a:lnTo>
                    <a:pt x="3722" y="4180"/>
                  </a:lnTo>
                  <a:lnTo>
                    <a:pt x="3828" y="4109"/>
                  </a:lnTo>
                  <a:lnTo>
                    <a:pt x="3908" y="4065"/>
                  </a:lnTo>
                  <a:lnTo>
                    <a:pt x="4040" y="4012"/>
                  </a:lnTo>
                  <a:lnTo>
                    <a:pt x="4190" y="3995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4037040" y="647640"/>
              <a:ext cx="1545120" cy="1576800"/>
            </a:xfrm>
            <a:custGeom>
              <a:avLst/>
              <a:gdLst/>
              <a:ahLst/>
              <a:rect l="0" t="0" r="r" b="b"/>
              <a:pathLst>
                <a:path fill="none" w="4292" h="4380">
                  <a:moveTo>
                    <a:pt x="0" y="0"/>
                  </a:moveTo>
                  <a:lnTo>
                    <a:pt x="99" y="112"/>
                  </a:lnTo>
                  <a:lnTo>
                    <a:pt x="165" y="224"/>
                  </a:lnTo>
                  <a:lnTo>
                    <a:pt x="211" y="363"/>
                  </a:lnTo>
                  <a:lnTo>
                    <a:pt x="238" y="542"/>
                  </a:lnTo>
                  <a:lnTo>
                    <a:pt x="257" y="707"/>
                  </a:lnTo>
                  <a:lnTo>
                    <a:pt x="323" y="872"/>
                  </a:lnTo>
                  <a:lnTo>
                    <a:pt x="350" y="1018"/>
                  </a:lnTo>
                  <a:lnTo>
                    <a:pt x="456" y="1131"/>
                  </a:lnTo>
                  <a:lnTo>
                    <a:pt x="456" y="1224"/>
                  </a:lnTo>
                  <a:lnTo>
                    <a:pt x="456" y="1290"/>
                  </a:lnTo>
                  <a:lnTo>
                    <a:pt x="442" y="1382"/>
                  </a:lnTo>
                  <a:lnTo>
                    <a:pt x="469" y="1435"/>
                  </a:lnTo>
                  <a:lnTo>
                    <a:pt x="495" y="1528"/>
                  </a:lnTo>
                  <a:lnTo>
                    <a:pt x="509" y="1581"/>
                  </a:lnTo>
                  <a:lnTo>
                    <a:pt x="561" y="1726"/>
                  </a:lnTo>
                  <a:lnTo>
                    <a:pt x="561" y="1779"/>
                  </a:lnTo>
                  <a:lnTo>
                    <a:pt x="614" y="1832"/>
                  </a:lnTo>
                  <a:lnTo>
                    <a:pt x="667" y="1885"/>
                  </a:lnTo>
                  <a:lnTo>
                    <a:pt x="747" y="1938"/>
                  </a:lnTo>
                  <a:lnTo>
                    <a:pt x="826" y="2043"/>
                  </a:lnTo>
                  <a:lnTo>
                    <a:pt x="918" y="2189"/>
                  </a:lnTo>
                  <a:lnTo>
                    <a:pt x="985" y="2242"/>
                  </a:lnTo>
                  <a:lnTo>
                    <a:pt x="1051" y="2347"/>
                  </a:lnTo>
                  <a:lnTo>
                    <a:pt x="1105" y="2440"/>
                  </a:lnTo>
                  <a:lnTo>
                    <a:pt x="1131" y="2559"/>
                  </a:lnTo>
                  <a:lnTo>
                    <a:pt x="1197" y="2691"/>
                  </a:lnTo>
                  <a:lnTo>
                    <a:pt x="1224" y="2744"/>
                  </a:lnTo>
                  <a:lnTo>
                    <a:pt x="1276" y="2810"/>
                  </a:lnTo>
                  <a:lnTo>
                    <a:pt x="1246" y="2872"/>
                  </a:lnTo>
                  <a:lnTo>
                    <a:pt x="1263" y="2898"/>
                  </a:lnTo>
                  <a:lnTo>
                    <a:pt x="1281" y="2934"/>
                  </a:lnTo>
                  <a:lnTo>
                    <a:pt x="1298" y="2960"/>
                  </a:lnTo>
                  <a:lnTo>
                    <a:pt x="1307" y="2987"/>
                  </a:lnTo>
                  <a:lnTo>
                    <a:pt x="1325" y="3022"/>
                  </a:lnTo>
                  <a:lnTo>
                    <a:pt x="1343" y="3048"/>
                  </a:lnTo>
                  <a:lnTo>
                    <a:pt x="1360" y="3084"/>
                  </a:lnTo>
                  <a:lnTo>
                    <a:pt x="1360" y="3110"/>
                  </a:lnTo>
                  <a:lnTo>
                    <a:pt x="1378" y="3136"/>
                  </a:lnTo>
                  <a:lnTo>
                    <a:pt x="1387" y="3172"/>
                  </a:lnTo>
                  <a:lnTo>
                    <a:pt x="1404" y="3198"/>
                  </a:lnTo>
                  <a:lnTo>
                    <a:pt x="1413" y="3225"/>
                  </a:lnTo>
                  <a:lnTo>
                    <a:pt x="1431" y="3260"/>
                  </a:lnTo>
                  <a:lnTo>
                    <a:pt x="1440" y="3287"/>
                  </a:lnTo>
                  <a:lnTo>
                    <a:pt x="1448" y="3314"/>
                  </a:lnTo>
                  <a:lnTo>
                    <a:pt x="1457" y="3340"/>
                  </a:lnTo>
                  <a:lnTo>
                    <a:pt x="1466" y="3367"/>
                  </a:lnTo>
                  <a:lnTo>
                    <a:pt x="1484" y="3393"/>
                  </a:lnTo>
                  <a:lnTo>
                    <a:pt x="1484" y="3420"/>
                  </a:lnTo>
                  <a:lnTo>
                    <a:pt x="1492" y="3446"/>
                  </a:lnTo>
                  <a:lnTo>
                    <a:pt x="1510" y="3481"/>
                  </a:lnTo>
                  <a:lnTo>
                    <a:pt x="1519" y="3508"/>
                  </a:lnTo>
                  <a:lnTo>
                    <a:pt x="1519" y="3534"/>
                  </a:lnTo>
                  <a:lnTo>
                    <a:pt x="1536" y="3561"/>
                  </a:lnTo>
                  <a:lnTo>
                    <a:pt x="1554" y="3587"/>
                  </a:lnTo>
                  <a:lnTo>
                    <a:pt x="1572" y="3631"/>
                  </a:lnTo>
                  <a:lnTo>
                    <a:pt x="1581" y="3658"/>
                  </a:lnTo>
                  <a:lnTo>
                    <a:pt x="1598" y="3702"/>
                  </a:lnTo>
                  <a:lnTo>
                    <a:pt x="1616" y="3728"/>
                  </a:lnTo>
                  <a:lnTo>
                    <a:pt x="1633" y="3763"/>
                  </a:lnTo>
                  <a:lnTo>
                    <a:pt x="1642" y="3790"/>
                  </a:lnTo>
                  <a:lnTo>
                    <a:pt x="1660" y="3816"/>
                  </a:lnTo>
                  <a:lnTo>
                    <a:pt x="1669" y="3843"/>
                  </a:lnTo>
                  <a:lnTo>
                    <a:pt x="1678" y="3869"/>
                  </a:lnTo>
                  <a:lnTo>
                    <a:pt x="1695" y="3904"/>
                  </a:lnTo>
                  <a:lnTo>
                    <a:pt x="1722" y="3931"/>
                  </a:lnTo>
                  <a:lnTo>
                    <a:pt x="1739" y="3966"/>
                  </a:lnTo>
                  <a:lnTo>
                    <a:pt x="1757" y="3992"/>
                  </a:lnTo>
                  <a:lnTo>
                    <a:pt x="1775" y="4019"/>
                  </a:lnTo>
                  <a:lnTo>
                    <a:pt x="1792" y="4045"/>
                  </a:lnTo>
                  <a:lnTo>
                    <a:pt x="1810" y="4081"/>
                  </a:lnTo>
                  <a:lnTo>
                    <a:pt x="1827" y="4107"/>
                  </a:lnTo>
                  <a:lnTo>
                    <a:pt x="1845" y="4134"/>
                  </a:lnTo>
                  <a:lnTo>
                    <a:pt x="1871" y="4160"/>
                  </a:lnTo>
                  <a:lnTo>
                    <a:pt x="1889" y="4186"/>
                  </a:lnTo>
                  <a:lnTo>
                    <a:pt x="1916" y="4213"/>
                  </a:lnTo>
                  <a:lnTo>
                    <a:pt x="1942" y="4239"/>
                  </a:lnTo>
                  <a:lnTo>
                    <a:pt x="1968" y="4257"/>
                  </a:lnTo>
                  <a:lnTo>
                    <a:pt x="1986" y="4283"/>
                  </a:lnTo>
                  <a:lnTo>
                    <a:pt x="2013" y="4301"/>
                  </a:lnTo>
                  <a:lnTo>
                    <a:pt x="2039" y="4310"/>
                  </a:lnTo>
                  <a:lnTo>
                    <a:pt x="2065" y="4327"/>
                  </a:lnTo>
                  <a:lnTo>
                    <a:pt x="2092" y="4327"/>
                  </a:lnTo>
                  <a:lnTo>
                    <a:pt x="2118" y="4345"/>
                  </a:lnTo>
                  <a:lnTo>
                    <a:pt x="2224" y="4372"/>
                  </a:lnTo>
                  <a:lnTo>
                    <a:pt x="2251" y="4372"/>
                  </a:lnTo>
                  <a:lnTo>
                    <a:pt x="2277" y="4380"/>
                  </a:lnTo>
                  <a:lnTo>
                    <a:pt x="2303" y="4380"/>
                  </a:lnTo>
                  <a:lnTo>
                    <a:pt x="2330" y="4380"/>
                  </a:lnTo>
                  <a:lnTo>
                    <a:pt x="2365" y="4380"/>
                  </a:lnTo>
                  <a:lnTo>
                    <a:pt x="2409" y="4380"/>
                  </a:lnTo>
                  <a:lnTo>
                    <a:pt x="2453" y="4380"/>
                  </a:lnTo>
                  <a:lnTo>
                    <a:pt x="2480" y="4363"/>
                  </a:lnTo>
                  <a:lnTo>
                    <a:pt x="2506" y="4345"/>
                  </a:lnTo>
                  <a:lnTo>
                    <a:pt x="2533" y="4327"/>
                  </a:lnTo>
                  <a:lnTo>
                    <a:pt x="2585" y="4292"/>
                  </a:lnTo>
                  <a:lnTo>
                    <a:pt x="2612" y="4275"/>
                  </a:lnTo>
                  <a:lnTo>
                    <a:pt x="2638" y="4248"/>
                  </a:lnTo>
                  <a:lnTo>
                    <a:pt x="2665" y="4230"/>
                  </a:lnTo>
                  <a:lnTo>
                    <a:pt x="2691" y="4213"/>
                  </a:lnTo>
                  <a:lnTo>
                    <a:pt x="2718" y="4195"/>
                  </a:lnTo>
                  <a:lnTo>
                    <a:pt x="2744" y="4178"/>
                  </a:lnTo>
                  <a:lnTo>
                    <a:pt x="2771" y="4151"/>
                  </a:lnTo>
                  <a:lnTo>
                    <a:pt x="2815" y="4116"/>
                  </a:lnTo>
                  <a:lnTo>
                    <a:pt x="2850" y="4107"/>
                  </a:lnTo>
                  <a:lnTo>
                    <a:pt x="2903" y="4072"/>
                  </a:lnTo>
                  <a:lnTo>
                    <a:pt x="2920" y="4045"/>
                  </a:lnTo>
                  <a:lnTo>
                    <a:pt x="2938" y="4019"/>
                  </a:lnTo>
                  <a:lnTo>
                    <a:pt x="2965" y="4001"/>
                  </a:lnTo>
                  <a:lnTo>
                    <a:pt x="2991" y="3966"/>
                  </a:lnTo>
                  <a:lnTo>
                    <a:pt x="3017" y="3940"/>
                  </a:lnTo>
                  <a:lnTo>
                    <a:pt x="3044" y="3922"/>
                  </a:lnTo>
                  <a:lnTo>
                    <a:pt x="3070" y="3904"/>
                  </a:lnTo>
                  <a:lnTo>
                    <a:pt x="3106" y="3887"/>
                  </a:lnTo>
                  <a:lnTo>
                    <a:pt x="3132" y="3878"/>
                  </a:lnTo>
                  <a:lnTo>
                    <a:pt x="3158" y="3869"/>
                  </a:lnTo>
                  <a:lnTo>
                    <a:pt x="3185" y="3851"/>
                  </a:lnTo>
                  <a:lnTo>
                    <a:pt x="3211" y="3843"/>
                  </a:lnTo>
                  <a:lnTo>
                    <a:pt x="3248" y="3825"/>
                  </a:lnTo>
                  <a:lnTo>
                    <a:pt x="3283" y="3807"/>
                  </a:lnTo>
                  <a:lnTo>
                    <a:pt x="3309" y="3790"/>
                  </a:lnTo>
                  <a:lnTo>
                    <a:pt x="3336" y="3781"/>
                  </a:lnTo>
                  <a:lnTo>
                    <a:pt x="3362" y="3772"/>
                  </a:lnTo>
                  <a:lnTo>
                    <a:pt x="3389" y="3763"/>
                  </a:lnTo>
                  <a:lnTo>
                    <a:pt x="3415" y="3754"/>
                  </a:lnTo>
                  <a:lnTo>
                    <a:pt x="3450" y="3746"/>
                  </a:lnTo>
                  <a:lnTo>
                    <a:pt x="3545" y="3704"/>
                  </a:lnTo>
                  <a:lnTo>
                    <a:pt x="3572" y="3671"/>
                  </a:lnTo>
                  <a:lnTo>
                    <a:pt x="3605" y="3664"/>
                  </a:lnTo>
                  <a:lnTo>
                    <a:pt x="3624" y="3638"/>
                  </a:lnTo>
                  <a:lnTo>
                    <a:pt x="3638" y="3638"/>
                  </a:lnTo>
                  <a:lnTo>
                    <a:pt x="3664" y="3611"/>
                  </a:lnTo>
                  <a:lnTo>
                    <a:pt x="3677" y="3598"/>
                  </a:lnTo>
                  <a:lnTo>
                    <a:pt x="3697" y="3572"/>
                  </a:lnTo>
                  <a:lnTo>
                    <a:pt x="3730" y="3552"/>
                  </a:lnTo>
                  <a:lnTo>
                    <a:pt x="3763" y="3539"/>
                  </a:lnTo>
                  <a:lnTo>
                    <a:pt x="3803" y="3512"/>
                  </a:lnTo>
                  <a:lnTo>
                    <a:pt x="3836" y="3486"/>
                  </a:lnTo>
                  <a:lnTo>
                    <a:pt x="3849" y="3466"/>
                  </a:lnTo>
                  <a:lnTo>
                    <a:pt x="3849" y="3472"/>
                  </a:lnTo>
                  <a:lnTo>
                    <a:pt x="3955" y="3367"/>
                  </a:lnTo>
                  <a:lnTo>
                    <a:pt x="4087" y="3253"/>
                  </a:lnTo>
                  <a:lnTo>
                    <a:pt x="4173" y="3220"/>
                  </a:lnTo>
                  <a:lnTo>
                    <a:pt x="4292" y="319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4253040" y="82440"/>
              <a:ext cx="1329120" cy="1152720"/>
            </a:xfrm>
            <a:custGeom>
              <a:avLst/>
              <a:gdLst/>
              <a:ahLst/>
              <a:rect l="0" t="0" r="r" b="b"/>
              <a:pathLst>
                <a:path fill="none" w="3692" h="3202">
                  <a:moveTo>
                    <a:pt x="0" y="0"/>
                  </a:moveTo>
                  <a:lnTo>
                    <a:pt x="39" y="46"/>
                  </a:lnTo>
                  <a:lnTo>
                    <a:pt x="59" y="105"/>
                  </a:lnTo>
                  <a:lnTo>
                    <a:pt x="119" y="145"/>
                  </a:lnTo>
                  <a:lnTo>
                    <a:pt x="178" y="185"/>
                  </a:lnTo>
                  <a:lnTo>
                    <a:pt x="218" y="244"/>
                  </a:lnTo>
                  <a:lnTo>
                    <a:pt x="257" y="304"/>
                  </a:lnTo>
                  <a:lnTo>
                    <a:pt x="317" y="304"/>
                  </a:lnTo>
                  <a:lnTo>
                    <a:pt x="377" y="383"/>
                  </a:lnTo>
                  <a:lnTo>
                    <a:pt x="396" y="443"/>
                  </a:lnTo>
                  <a:lnTo>
                    <a:pt x="416" y="502"/>
                  </a:lnTo>
                  <a:lnTo>
                    <a:pt x="436" y="562"/>
                  </a:lnTo>
                  <a:lnTo>
                    <a:pt x="456" y="621"/>
                  </a:lnTo>
                  <a:lnTo>
                    <a:pt x="515" y="661"/>
                  </a:lnTo>
                  <a:lnTo>
                    <a:pt x="575" y="701"/>
                  </a:lnTo>
                  <a:lnTo>
                    <a:pt x="635" y="740"/>
                  </a:lnTo>
                  <a:lnTo>
                    <a:pt x="694" y="760"/>
                  </a:lnTo>
                  <a:lnTo>
                    <a:pt x="754" y="800"/>
                  </a:lnTo>
                  <a:lnTo>
                    <a:pt x="853" y="840"/>
                  </a:lnTo>
                  <a:lnTo>
                    <a:pt x="912" y="859"/>
                  </a:lnTo>
                  <a:lnTo>
                    <a:pt x="973" y="899"/>
                  </a:lnTo>
                  <a:lnTo>
                    <a:pt x="1052" y="939"/>
                  </a:lnTo>
                  <a:lnTo>
                    <a:pt x="1112" y="978"/>
                  </a:lnTo>
                  <a:lnTo>
                    <a:pt x="1191" y="998"/>
                  </a:lnTo>
                  <a:lnTo>
                    <a:pt x="1251" y="1038"/>
                  </a:lnTo>
                  <a:lnTo>
                    <a:pt x="1310" y="1117"/>
                  </a:lnTo>
                  <a:lnTo>
                    <a:pt x="1350" y="1177"/>
                  </a:lnTo>
                  <a:lnTo>
                    <a:pt x="1409" y="1236"/>
                  </a:lnTo>
                  <a:lnTo>
                    <a:pt x="1489" y="1296"/>
                  </a:lnTo>
                  <a:lnTo>
                    <a:pt x="1548" y="1336"/>
                  </a:lnTo>
                  <a:lnTo>
                    <a:pt x="1608" y="1355"/>
                  </a:lnTo>
                  <a:lnTo>
                    <a:pt x="1667" y="1375"/>
                  </a:lnTo>
                  <a:lnTo>
                    <a:pt x="1727" y="1395"/>
                  </a:lnTo>
                  <a:lnTo>
                    <a:pt x="1826" y="1475"/>
                  </a:lnTo>
                  <a:lnTo>
                    <a:pt x="1886" y="1494"/>
                  </a:lnTo>
                  <a:lnTo>
                    <a:pt x="1985" y="1554"/>
                  </a:lnTo>
                  <a:lnTo>
                    <a:pt x="2064" y="1634"/>
                  </a:lnTo>
                  <a:lnTo>
                    <a:pt x="2124" y="1654"/>
                  </a:lnTo>
                  <a:lnTo>
                    <a:pt x="2183" y="1714"/>
                  </a:lnTo>
                  <a:lnTo>
                    <a:pt x="2243" y="1753"/>
                  </a:lnTo>
                  <a:lnTo>
                    <a:pt x="2302" y="1813"/>
                  </a:lnTo>
                  <a:lnTo>
                    <a:pt x="2342" y="1872"/>
                  </a:lnTo>
                  <a:lnTo>
                    <a:pt x="2382" y="1932"/>
                  </a:lnTo>
                  <a:lnTo>
                    <a:pt x="2461" y="2011"/>
                  </a:lnTo>
                  <a:lnTo>
                    <a:pt x="2521" y="2051"/>
                  </a:lnTo>
                  <a:lnTo>
                    <a:pt x="2560" y="2111"/>
                  </a:lnTo>
                  <a:lnTo>
                    <a:pt x="2620" y="2150"/>
                  </a:lnTo>
                  <a:lnTo>
                    <a:pt x="2679" y="2230"/>
                  </a:lnTo>
                  <a:lnTo>
                    <a:pt x="2739" y="2289"/>
                  </a:lnTo>
                  <a:lnTo>
                    <a:pt x="2799" y="2309"/>
                  </a:lnTo>
                  <a:lnTo>
                    <a:pt x="2859" y="2369"/>
                  </a:lnTo>
                  <a:lnTo>
                    <a:pt x="2919" y="2388"/>
                  </a:lnTo>
                  <a:lnTo>
                    <a:pt x="2978" y="2408"/>
                  </a:lnTo>
                  <a:lnTo>
                    <a:pt x="3038" y="2408"/>
                  </a:lnTo>
                  <a:lnTo>
                    <a:pt x="3097" y="2428"/>
                  </a:lnTo>
                  <a:lnTo>
                    <a:pt x="3177" y="2468"/>
                  </a:lnTo>
                  <a:lnTo>
                    <a:pt x="3216" y="2527"/>
                  </a:lnTo>
                  <a:lnTo>
                    <a:pt x="3276" y="2607"/>
                  </a:lnTo>
                  <a:lnTo>
                    <a:pt x="3335" y="2666"/>
                  </a:lnTo>
                  <a:lnTo>
                    <a:pt x="3355" y="2726"/>
                  </a:lnTo>
                  <a:lnTo>
                    <a:pt x="3395" y="2785"/>
                  </a:lnTo>
                  <a:lnTo>
                    <a:pt x="3454" y="2865"/>
                  </a:lnTo>
                  <a:lnTo>
                    <a:pt x="3474" y="2924"/>
                  </a:lnTo>
                  <a:lnTo>
                    <a:pt x="3514" y="2984"/>
                  </a:lnTo>
                  <a:lnTo>
                    <a:pt x="3554" y="3043"/>
                  </a:lnTo>
                  <a:lnTo>
                    <a:pt x="3573" y="3103"/>
                  </a:lnTo>
                  <a:lnTo>
                    <a:pt x="3633" y="3162"/>
                  </a:lnTo>
                  <a:lnTo>
                    <a:pt x="3692" y="320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3898800" y="1852560"/>
              <a:ext cx="1679760" cy="1421280"/>
            </a:xfrm>
            <a:custGeom>
              <a:avLst/>
              <a:gdLst/>
              <a:ahLst/>
              <a:rect l="0" t="0" r="r" b="b"/>
              <a:pathLst>
                <a:path fill="none" w="4666" h="3948">
                  <a:moveTo>
                    <a:pt x="0" y="3948"/>
                  </a:moveTo>
                  <a:lnTo>
                    <a:pt x="33" y="3823"/>
                  </a:lnTo>
                  <a:lnTo>
                    <a:pt x="271" y="3591"/>
                  </a:lnTo>
                  <a:lnTo>
                    <a:pt x="528" y="3334"/>
                  </a:lnTo>
                  <a:lnTo>
                    <a:pt x="694" y="3228"/>
                  </a:lnTo>
                  <a:lnTo>
                    <a:pt x="912" y="2909"/>
                  </a:lnTo>
                  <a:lnTo>
                    <a:pt x="1018" y="2637"/>
                  </a:lnTo>
                  <a:lnTo>
                    <a:pt x="1137" y="2520"/>
                  </a:lnTo>
                  <a:lnTo>
                    <a:pt x="1269" y="2295"/>
                  </a:lnTo>
                  <a:lnTo>
                    <a:pt x="1461" y="2023"/>
                  </a:lnTo>
                  <a:lnTo>
                    <a:pt x="1672" y="1567"/>
                  </a:lnTo>
                  <a:lnTo>
                    <a:pt x="1970" y="1357"/>
                  </a:lnTo>
                  <a:lnTo>
                    <a:pt x="2082" y="1362"/>
                  </a:lnTo>
                  <a:lnTo>
                    <a:pt x="2254" y="1467"/>
                  </a:lnTo>
                  <a:lnTo>
                    <a:pt x="2307" y="1567"/>
                  </a:lnTo>
                  <a:lnTo>
                    <a:pt x="2447" y="1660"/>
                  </a:lnTo>
                  <a:lnTo>
                    <a:pt x="2645" y="1746"/>
                  </a:lnTo>
                  <a:lnTo>
                    <a:pt x="2764" y="1673"/>
                  </a:lnTo>
                  <a:lnTo>
                    <a:pt x="2982" y="1389"/>
                  </a:lnTo>
                  <a:lnTo>
                    <a:pt x="3029" y="1350"/>
                  </a:lnTo>
                  <a:lnTo>
                    <a:pt x="3101" y="1335"/>
                  </a:lnTo>
                  <a:lnTo>
                    <a:pt x="3209" y="1291"/>
                  </a:lnTo>
                  <a:lnTo>
                    <a:pt x="3273" y="1220"/>
                  </a:lnTo>
                  <a:lnTo>
                    <a:pt x="3315" y="1149"/>
                  </a:lnTo>
                  <a:lnTo>
                    <a:pt x="3361" y="1036"/>
                  </a:lnTo>
                  <a:lnTo>
                    <a:pt x="3427" y="997"/>
                  </a:lnTo>
                  <a:lnTo>
                    <a:pt x="3529" y="964"/>
                  </a:lnTo>
                  <a:lnTo>
                    <a:pt x="3546" y="969"/>
                  </a:lnTo>
                  <a:lnTo>
                    <a:pt x="3665" y="957"/>
                  </a:lnTo>
                  <a:lnTo>
                    <a:pt x="3721" y="935"/>
                  </a:lnTo>
                  <a:lnTo>
                    <a:pt x="3784" y="864"/>
                  </a:lnTo>
                  <a:lnTo>
                    <a:pt x="3848" y="839"/>
                  </a:lnTo>
                  <a:lnTo>
                    <a:pt x="3912" y="793"/>
                  </a:lnTo>
                  <a:lnTo>
                    <a:pt x="3998" y="697"/>
                  </a:lnTo>
                  <a:lnTo>
                    <a:pt x="4062" y="651"/>
                  </a:lnTo>
                  <a:lnTo>
                    <a:pt x="4126" y="626"/>
                  </a:lnTo>
                  <a:lnTo>
                    <a:pt x="4168" y="555"/>
                  </a:lnTo>
                  <a:lnTo>
                    <a:pt x="4232" y="509"/>
                  </a:lnTo>
                  <a:lnTo>
                    <a:pt x="4254" y="438"/>
                  </a:lnTo>
                  <a:lnTo>
                    <a:pt x="4298" y="342"/>
                  </a:lnTo>
                  <a:lnTo>
                    <a:pt x="4362" y="271"/>
                  </a:lnTo>
                  <a:lnTo>
                    <a:pt x="4426" y="200"/>
                  </a:lnTo>
                  <a:lnTo>
                    <a:pt x="4490" y="105"/>
                  </a:lnTo>
                  <a:lnTo>
                    <a:pt x="4554" y="34"/>
                  </a:lnTo>
                  <a:lnTo>
                    <a:pt x="4618" y="12"/>
                  </a:lnTo>
                  <a:lnTo>
                    <a:pt x="4666" y="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3949560" y="1908000"/>
              <a:ext cx="1632240" cy="1365480"/>
            </a:xfrm>
            <a:custGeom>
              <a:avLst/>
              <a:gdLst/>
              <a:ahLst/>
              <a:rect l="0" t="0" r="r" b="b"/>
              <a:pathLst>
                <a:path fill="none" w="4534" h="3793">
                  <a:moveTo>
                    <a:pt x="4534" y="0"/>
                  </a:moveTo>
                  <a:lnTo>
                    <a:pt x="4492" y="63"/>
                  </a:lnTo>
                  <a:lnTo>
                    <a:pt x="4428" y="127"/>
                  </a:lnTo>
                  <a:lnTo>
                    <a:pt x="4364" y="171"/>
                  </a:lnTo>
                  <a:lnTo>
                    <a:pt x="4320" y="235"/>
                  </a:lnTo>
                  <a:lnTo>
                    <a:pt x="4278" y="299"/>
                  </a:lnTo>
                  <a:lnTo>
                    <a:pt x="4236" y="363"/>
                  </a:lnTo>
                  <a:lnTo>
                    <a:pt x="4192" y="427"/>
                  </a:lnTo>
                  <a:lnTo>
                    <a:pt x="4150" y="491"/>
                  </a:lnTo>
                  <a:lnTo>
                    <a:pt x="4086" y="533"/>
                  </a:lnTo>
                  <a:lnTo>
                    <a:pt x="4022" y="597"/>
                  </a:lnTo>
                  <a:lnTo>
                    <a:pt x="3958" y="641"/>
                  </a:lnTo>
                  <a:lnTo>
                    <a:pt x="3894" y="705"/>
                  </a:lnTo>
                  <a:lnTo>
                    <a:pt x="3808" y="747"/>
                  </a:lnTo>
                  <a:lnTo>
                    <a:pt x="3744" y="811"/>
                  </a:lnTo>
                  <a:lnTo>
                    <a:pt x="3680" y="833"/>
                  </a:lnTo>
                  <a:lnTo>
                    <a:pt x="3649" y="890"/>
                  </a:lnTo>
                  <a:lnTo>
                    <a:pt x="3605" y="930"/>
                  </a:lnTo>
                  <a:lnTo>
                    <a:pt x="3539" y="956"/>
                  </a:lnTo>
                  <a:lnTo>
                    <a:pt x="3504" y="987"/>
                  </a:lnTo>
                  <a:lnTo>
                    <a:pt x="3459" y="1040"/>
                  </a:lnTo>
                  <a:lnTo>
                    <a:pt x="3362" y="1128"/>
                  </a:lnTo>
                  <a:lnTo>
                    <a:pt x="3279" y="1177"/>
                  </a:lnTo>
                  <a:lnTo>
                    <a:pt x="3217" y="1212"/>
                  </a:lnTo>
                  <a:lnTo>
                    <a:pt x="3173" y="1265"/>
                  </a:lnTo>
                  <a:lnTo>
                    <a:pt x="3111" y="1309"/>
                  </a:lnTo>
                  <a:lnTo>
                    <a:pt x="3089" y="1375"/>
                  </a:lnTo>
                  <a:lnTo>
                    <a:pt x="3018" y="1428"/>
                  </a:lnTo>
                  <a:lnTo>
                    <a:pt x="2956" y="1521"/>
                  </a:lnTo>
                  <a:lnTo>
                    <a:pt x="2859" y="1569"/>
                  </a:lnTo>
                  <a:lnTo>
                    <a:pt x="2811" y="1631"/>
                  </a:lnTo>
                  <a:lnTo>
                    <a:pt x="2731" y="1697"/>
                  </a:lnTo>
                  <a:lnTo>
                    <a:pt x="2648" y="1737"/>
                  </a:lnTo>
                  <a:lnTo>
                    <a:pt x="2581" y="1755"/>
                  </a:lnTo>
                  <a:lnTo>
                    <a:pt x="2506" y="1746"/>
                  </a:lnTo>
                  <a:lnTo>
                    <a:pt x="2392" y="1737"/>
                  </a:lnTo>
                  <a:lnTo>
                    <a:pt x="2315" y="1642"/>
                  </a:lnTo>
                  <a:lnTo>
                    <a:pt x="2250" y="1600"/>
                  </a:lnTo>
                  <a:lnTo>
                    <a:pt x="2186" y="1536"/>
                  </a:lnTo>
                  <a:lnTo>
                    <a:pt x="2119" y="1494"/>
                  </a:lnTo>
                  <a:lnTo>
                    <a:pt x="2077" y="1430"/>
                  </a:lnTo>
                  <a:lnTo>
                    <a:pt x="2014" y="1408"/>
                  </a:lnTo>
                  <a:lnTo>
                    <a:pt x="1950" y="1386"/>
                  </a:lnTo>
                  <a:lnTo>
                    <a:pt x="1888" y="1318"/>
                  </a:lnTo>
                  <a:lnTo>
                    <a:pt x="1800" y="1386"/>
                  </a:lnTo>
                  <a:lnTo>
                    <a:pt x="1758" y="1450"/>
                  </a:lnTo>
                  <a:lnTo>
                    <a:pt x="1716" y="1514"/>
                  </a:lnTo>
                  <a:lnTo>
                    <a:pt x="1672" y="1578"/>
                  </a:lnTo>
                  <a:lnTo>
                    <a:pt x="1608" y="1642"/>
                  </a:lnTo>
                  <a:lnTo>
                    <a:pt x="1566" y="1708"/>
                  </a:lnTo>
                  <a:lnTo>
                    <a:pt x="1502" y="1772"/>
                  </a:lnTo>
                  <a:lnTo>
                    <a:pt x="1458" y="1836"/>
                  </a:lnTo>
                  <a:lnTo>
                    <a:pt x="1416" y="1901"/>
                  </a:lnTo>
                  <a:lnTo>
                    <a:pt x="1352" y="1965"/>
                  </a:lnTo>
                  <a:lnTo>
                    <a:pt x="1330" y="2029"/>
                  </a:lnTo>
                  <a:lnTo>
                    <a:pt x="1288" y="2093"/>
                  </a:lnTo>
                  <a:lnTo>
                    <a:pt x="1224" y="2177"/>
                  </a:lnTo>
                  <a:lnTo>
                    <a:pt x="1182" y="2241"/>
                  </a:lnTo>
                  <a:lnTo>
                    <a:pt x="1118" y="2305"/>
                  </a:lnTo>
                  <a:lnTo>
                    <a:pt x="1074" y="2371"/>
                  </a:lnTo>
                  <a:lnTo>
                    <a:pt x="1032" y="2435"/>
                  </a:lnTo>
                  <a:lnTo>
                    <a:pt x="990" y="2499"/>
                  </a:lnTo>
                  <a:lnTo>
                    <a:pt x="946" y="2563"/>
                  </a:lnTo>
                  <a:lnTo>
                    <a:pt x="904" y="2626"/>
                  </a:lnTo>
                  <a:lnTo>
                    <a:pt x="862" y="2690"/>
                  </a:lnTo>
                  <a:lnTo>
                    <a:pt x="818" y="2754"/>
                  </a:lnTo>
                  <a:lnTo>
                    <a:pt x="776" y="2818"/>
                  </a:lnTo>
                  <a:lnTo>
                    <a:pt x="754" y="2882"/>
                  </a:lnTo>
                  <a:lnTo>
                    <a:pt x="712" y="2946"/>
                  </a:lnTo>
                  <a:lnTo>
                    <a:pt x="668" y="3010"/>
                  </a:lnTo>
                  <a:lnTo>
                    <a:pt x="626" y="3074"/>
                  </a:lnTo>
                  <a:lnTo>
                    <a:pt x="562" y="3160"/>
                  </a:lnTo>
                  <a:lnTo>
                    <a:pt x="520" y="3224"/>
                  </a:lnTo>
                  <a:lnTo>
                    <a:pt x="456" y="3244"/>
                  </a:lnTo>
                  <a:lnTo>
                    <a:pt x="392" y="3288"/>
                  </a:lnTo>
                  <a:lnTo>
                    <a:pt x="348" y="3352"/>
                  </a:lnTo>
                  <a:lnTo>
                    <a:pt x="284" y="3394"/>
                  </a:lnTo>
                  <a:lnTo>
                    <a:pt x="220" y="3458"/>
                  </a:lnTo>
                  <a:lnTo>
                    <a:pt x="178" y="3522"/>
                  </a:lnTo>
                  <a:lnTo>
                    <a:pt x="114" y="3586"/>
                  </a:lnTo>
                  <a:lnTo>
                    <a:pt x="70" y="3650"/>
                  </a:lnTo>
                  <a:lnTo>
                    <a:pt x="28" y="3713"/>
                  </a:lnTo>
                  <a:lnTo>
                    <a:pt x="0" y="3793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4008600" y="2065320"/>
              <a:ext cx="1575000" cy="1208520"/>
            </a:xfrm>
            <a:custGeom>
              <a:avLst/>
              <a:gdLst/>
              <a:ahLst/>
              <a:rect l="0" t="0" r="r" b="b"/>
              <a:pathLst>
                <a:path fill="none" w="4375" h="3357">
                  <a:moveTo>
                    <a:pt x="4375" y="0"/>
                  </a:moveTo>
                  <a:lnTo>
                    <a:pt x="4326" y="13"/>
                  </a:lnTo>
                  <a:lnTo>
                    <a:pt x="4262" y="33"/>
                  </a:lnTo>
                  <a:lnTo>
                    <a:pt x="4199" y="77"/>
                  </a:lnTo>
                  <a:lnTo>
                    <a:pt x="4135" y="97"/>
                  </a:lnTo>
                  <a:lnTo>
                    <a:pt x="4071" y="141"/>
                  </a:lnTo>
                  <a:lnTo>
                    <a:pt x="4027" y="224"/>
                  </a:lnTo>
                  <a:lnTo>
                    <a:pt x="3963" y="288"/>
                  </a:lnTo>
                  <a:lnTo>
                    <a:pt x="3899" y="352"/>
                  </a:lnTo>
                  <a:lnTo>
                    <a:pt x="3835" y="396"/>
                  </a:lnTo>
                  <a:lnTo>
                    <a:pt x="3771" y="460"/>
                  </a:lnTo>
                  <a:lnTo>
                    <a:pt x="3707" y="502"/>
                  </a:lnTo>
                  <a:lnTo>
                    <a:pt x="3665" y="566"/>
                  </a:lnTo>
                  <a:lnTo>
                    <a:pt x="3630" y="648"/>
                  </a:lnTo>
                  <a:lnTo>
                    <a:pt x="3586" y="727"/>
                  </a:lnTo>
                  <a:lnTo>
                    <a:pt x="3475" y="784"/>
                  </a:lnTo>
                  <a:lnTo>
                    <a:pt x="3356" y="815"/>
                  </a:lnTo>
                  <a:lnTo>
                    <a:pt x="3279" y="845"/>
                  </a:lnTo>
                  <a:lnTo>
                    <a:pt x="3215" y="909"/>
                  </a:lnTo>
                  <a:lnTo>
                    <a:pt x="3151" y="973"/>
                  </a:lnTo>
                  <a:lnTo>
                    <a:pt x="3109" y="1037"/>
                  </a:lnTo>
                  <a:lnTo>
                    <a:pt x="3045" y="1079"/>
                  </a:lnTo>
                  <a:lnTo>
                    <a:pt x="3004" y="1143"/>
                  </a:lnTo>
                  <a:lnTo>
                    <a:pt x="2940" y="1187"/>
                  </a:lnTo>
                  <a:lnTo>
                    <a:pt x="2876" y="1229"/>
                  </a:lnTo>
                  <a:lnTo>
                    <a:pt x="2812" y="1273"/>
                  </a:lnTo>
                  <a:lnTo>
                    <a:pt x="2748" y="1293"/>
                  </a:lnTo>
                  <a:lnTo>
                    <a:pt x="2684" y="1315"/>
                  </a:lnTo>
                  <a:lnTo>
                    <a:pt x="2618" y="1356"/>
                  </a:lnTo>
                  <a:lnTo>
                    <a:pt x="2554" y="1379"/>
                  </a:lnTo>
                  <a:lnTo>
                    <a:pt x="2490" y="1379"/>
                  </a:lnTo>
                  <a:lnTo>
                    <a:pt x="2426" y="1401"/>
                  </a:lnTo>
                  <a:lnTo>
                    <a:pt x="2362" y="1420"/>
                  </a:lnTo>
                  <a:lnTo>
                    <a:pt x="2278" y="1442"/>
                  </a:lnTo>
                  <a:lnTo>
                    <a:pt x="2169" y="1442"/>
                  </a:lnTo>
                  <a:lnTo>
                    <a:pt x="2105" y="1420"/>
                  </a:lnTo>
                  <a:lnTo>
                    <a:pt x="2041" y="1379"/>
                  </a:lnTo>
                  <a:lnTo>
                    <a:pt x="1977" y="1356"/>
                  </a:lnTo>
                  <a:lnTo>
                    <a:pt x="1913" y="1315"/>
                  </a:lnTo>
                  <a:lnTo>
                    <a:pt x="1849" y="1293"/>
                  </a:lnTo>
                  <a:lnTo>
                    <a:pt x="1785" y="1273"/>
                  </a:lnTo>
                  <a:lnTo>
                    <a:pt x="1721" y="1251"/>
                  </a:lnTo>
                  <a:lnTo>
                    <a:pt x="1649" y="1185"/>
                  </a:lnTo>
                  <a:lnTo>
                    <a:pt x="1572" y="1251"/>
                  </a:lnTo>
                  <a:lnTo>
                    <a:pt x="1508" y="1273"/>
                  </a:lnTo>
                  <a:lnTo>
                    <a:pt x="1466" y="1337"/>
                  </a:lnTo>
                  <a:lnTo>
                    <a:pt x="1402" y="1379"/>
                  </a:lnTo>
                  <a:lnTo>
                    <a:pt x="1338" y="1420"/>
                  </a:lnTo>
                  <a:lnTo>
                    <a:pt x="1274" y="1484"/>
                  </a:lnTo>
                  <a:lnTo>
                    <a:pt x="1252" y="1548"/>
                  </a:lnTo>
                  <a:lnTo>
                    <a:pt x="1210" y="1612"/>
                  </a:lnTo>
                  <a:lnTo>
                    <a:pt x="1166" y="1676"/>
                  </a:lnTo>
                  <a:lnTo>
                    <a:pt x="1124" y="1740"/>
                  </a:lnTo>
                  <a:lnTo>
                    <a:pt x="1082" y="1804"/>
                  </a:lnTo>
                  <a:lnTo>
                    <a:pt x="1038" y="1868"/>
                  </a:lnTo>
                  <a:lnTo>
                    <a:pt x="996" y="1934"/>
                  </a:lnTo>
                  <a:lnTo>
                    <a:pt x="954" y="1998"/>
                  </a:lnTo>
                  <a:lnTo>
                    <a:pt x="910" y="2062"/>
                  </a:lnTo>
                  <a:lnTo>
                    <a:pt x="868" y="2126"/>
                  </a:lnTo>
                  <a:lnTo>
                    <a:pt x="826" y="2190"/>
                  </a:lnTo>
                  <a:lnTo>
                    <a:pt x="782" y="2254"/>
                  </a:lnTo>
                  <a:lnTo>
                    <a:pt x="762" y="2318"/>
                  </a:lnTo>
                  <a:lnTo>
                    <a:pt x="698" y="2382"/>
                  </a:lnTo>
                  <a:lnTo>
                    <a:pt x="676" y="2446"/>
                  </a:lnTo>
                  <a:lnTo>
                    <a:pt x="612" y="2510"/>
                  </a:lnTo>
                  <a:lnTo>
                    <a:pt x="568" y="2575"/>
                  </a:lnTo>
                  <a:lnTo>
                    <a:pt x="549" y="2639"/>
                  </a:lnTo>
                  <a:lnTo>
                    <a:pt x="526" y="2702"/>
                  </a:lnTo>
                  <a:lnTo>
                    <a:pt x="463" y="2766"/>
                  </a:lnTo>
                  <a:lnTo>
                    <a:pt x="399" y="2830"/>
                  </a:lnTo>
                  <a:lnTo>
                    <a:pt x="335" y="2894"/>
                  </a:lnTo>
                  <a:lnTo>
                    <a:pt x="271" y="2958"/>
                  </a:lnTo>
                  <a:lnTo>
                    <a:pt x="229" y="3022"/>
                  </a:lnTo>
                  <a:lnTo>
                    <a:pt x="165" y="3064"/>
                  </a:lnTo>
                  <a:lnTo>
                    <a:pt x="121" y="3128"/>
                  </a:lnTo>
                  <a:lnTo>
                    <a:pt x="79" y="3192"/>
                  </a:lnTo>
                  <a:lnTo>
                    <a:pt x="37" y="3258"/>
                  </a:lnTo>
                  <a:lnTo>
                    <a:pt x="0" y="3357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4091040" y="2244600"/>
              <a:ext cx="1492560" cy="1027440"/>
            </a:xfrm>
            <a:custGeom>
              <a:avLst/>
              <a:gdLst/>
              <a:ahLst/>
              <a:rect l="0" t="0" r="r" b="b"/>
              <a:pathLst>
                <a:path fill="none" w="4146" h="2854">
                  <a:moveTo>
                    <a:pt x="4146" y="0"/>
                  </a:moveTo>
                  <a:lnTo>
                    <a:pt x="4097" y="46"/>
                  </a:lnTo>
                  <a:lnTo>
                    <a:pt x="4033" y="68"/>
                  </a:lnTo>
                  <a:lnTo>
                    <a:pt x="3969" y="90"/>
                  </a:lnTo>
                  <a:lnTo>
                    <a:pt x="3905" y="112"/>
                  </a:lnTo>
                  <a:lnTo>
                    <a:pt x="3841" y="154"/>
                  </a:lnTo>
                  <a:lnTo>
                    <a:pt x="3777" y="176"/>
                  </a:lnTo>
                  <a:lnTo>
                    <a:pt x="3711" y="240"/>
                  </a:lnTo>
                  <a:lnTo>
                    <a:pt x="3669" y="304"/>
                  </a:lnTo>
                  <a:lnTo>
                    <a:pt x="3605" y="346"/>
                  </a:lnTo>
                  <a:lnTo>
                    <a:pt x="3542" y="388"/>
                  </a:lnTo>
                  <a:lnTo>
                    <a:pt x="3478" y="432"/>
                  </a:lnTo>
                  <a:lnTo>
                    <a:pt x="3414" y="474"/>
                  </a:lnTo>
                  <a:lnTo>
                    <a:pt x="3350" y="496"/>
                  </a:lnTo>
                  <a:lnTo>
                    <a:pt x="3286" y="537"/>
                  </a:lnTo>
                  <a:lnTo>
                    <a:pt x="3222" y="579"/>
                  </a:lnTo>
                  <a:lnTo>
                    <a:pt x="3158" y="643"/>
                  </a:lnTo>
                  <a:lnTo>
                    <a:pt x="3072" y="707"/>
                  </a:lnTo>
                  <a:lnTo>
                    <a:pt x="3008" y="751"/>
                  </a:lnTo>
                  <a:lnTo>
                    <a:pt x="2922" y="793"/>
                  </a:lnTo>
                  <a:lnTo>
                    <a:pt x="2838" y="857"/>
                  </a:lnTo>
                  <a:lnTo>
                    <a:pt x="2774" y="901"/>
                  </a:lnTo>
                  <a:lnTo>
                    <a:pt x="2710" y="943"/>
                  </a:lnTo>
                  <a:lnTo>
                    <a:pt x="2624" y="985"/>
                  </a:lnTo>
                  <a:lnTo>
                    <a:pt x="2560" y="1029"/>
                  </a:lnTo>
                  <a:lnTo>
                    <a:pt x="2496" y="1049"/>
                  </a:lnTo>
                  <a:lnTo>
                    <a:pt x="2432" y="1071"/>
                  </a:lnTo>
                  <a:lnTo>
                    <a:pt x="2369" y="1071"/>
                  </a:lnTo>
                  <a:lnTo>
                    <a:pt x="2283" y="1093"/>
                  </a:lnTo>
                  <a:lnTo>
                    <a:pt x="2197" y="1113"/>
                  </a:lnTo>
                  <a:lnTo>
                    <a:pt x="2133" y="1113"/>
                  </a:lnTo>
                  <a:lnTo>
                    <a:pt x="2048" y="1113"/>
                  </a:lnTo>
                  <a:lnTo>
                    <a:pt x="1984" y="1135"/>
                  </a:lnTo>
                  <a:lnTo>
                    <a:pt x="1920" y="1135"/>
                  </a:lnTo>
                  <a:lnTo>
                    <a:pt x="1856" y="1113"/>
                  </a:lnTo>
                  <a:lnTo>
                    <a:pt x="1792" y="1093"/>
                  </a:lnTo>
                  <a:lnTo>
                    <a:pt x="1726" y="1093"/>
                  </a:lnTo>
                  <a:lnTo>
                    <a:pt x="1662" y="1071"/>
                  </a:lnTo>
                  <a:lnTo>
                    <a:pt x="1578" y="1029"/>
                  </a:lnTo>
                  <a:lnTo>
                    <a:pt x="1514" y="1007"/>
                  </a:lnTo>
                  <a:lnTo>
                    <a:pt x="1426" y="978"/>
                  </a:lnTo>
                  <a:lnTo>
                    <a:pt x="1349" y="923"/>
                  </a:lnTo>
                  <a:lnTo>
                    <a:pt x="1274" y="963"/>
                  </a:lnTo>
                  <a:lnTo>
                    <a:pt x="1172" y="1029"/>
                  </a:lnTo>
                  <a:lnTo>
                    <a:pt x="1109" y="1049"/>
                  </a:lnTo>
                  <a:lnTo>
                    <a:pt x="1064" y="1113"/>
                  </a:lnTo>
                  <a:lnTo>
                    <a:pt x="1001" y="1177"/>
                  </a:lnTo>
                  <a:lnTo>
                    <a:pt x="959" y="1241"/>
                  </a:lnTo>
                  <a:lnTo>
                    <a:pt x="937" y="1305"/>
                  </a:lnTo>
                  <a:lnTo>
                    <a:pt x="895" y="1369"/>
                  </a:lnTo>
                  <a:lnTo>
                    <a:pt x="853" y="1436"/>
                  </a:lnTo>
                  <a:lnTo>
                    <a:pt x="831" y="1500"/>
                  </a:lnTo>
                  <a:lnTo>
                    <a:pt x="767" y="1542"/>
                  </a:lnTo>
                  <a:lnTo>
                    <a:pt x="725" y="1628"/>
                  </a:lnTo>
                  <a:lnTo>
                    <a:pt x="661" y="1692"/>
                  </a:lnTo>
                  <a:lnTo>
                    <a:pt x="639" y="1756"/>
                  </a:lnTo>
                  <a:lnTo>
                    <a:pt x="597" y="1820"/>
                  </a:lnTo>
                  <a:lnTo>
                    <a:pt x="553" y="1883"/>
                  </a:lnTo>
                  <a:lnTo>
                    <a:pt x="511" y="1947"/>
                  </a:lnTo>
                  <a:lnTo>
                    <a:pt x="489" y="2011"/>
                  </a:lnTo>
                  <a:lnTo>
                    <a:pt x="447" y="2075"/>
                  </a:lnTo>
                  <a:lnTo>
                    <a:pt x="403" y="2139"/>
                  </a:lnTo>
                  <a:lnTo>
                    <a:pt x="361" y="2203"/>
                  </a:lnTo>
                  <a:lnTo>
                    <a:pt x="339" y="2267"/>
                  </a:lnTo>
                  <a:lnTo>
                    <a:pt x="297" y="2331"/>
                  </a:lnTo>
                  <a:lnTo>
                    <a:pt x="255" y="2395"/>
                  </a:lnTo>
                  <a:lnTo>
                    <a:pt x="211" y="2459"/>
                  </a:lnTo>
                  <a:lnTo>
                    <a:pt x="169" y="2523"/>
                  </a:lnTo>
                  <a:lnTo>
                    <a:pt x="127" y="2587"/>
                  </a:lnTo>
                  <a:lnTo>
                    <a:pt x="83" y="2651"/>
                  </a:lnTo>
                  <a:lnTo>
                    <a:pt x="63" y="2715"/>
                  </a:lnTo>
                  <a:lnTo>
                    <a:pt x="19" y="2779"/>
                  </a:lnTo>
                  <a:lnTo>
                    <a:pt x="0" y="285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4124160" y="2502000"/>
              <a:ext cx="1459440" cy="771840"/>
            </a:xfrm>
            <a:custGeom>
              <a:avLst/>
              <a:gdLst/>
              <a:ahLst/>
              <a:rect l="0" t="0" r="r" b="b"/>
              <a:pathLst>
                <a:path fill="none" w="4054" h="2144">
                  <a:moveTo>
                    <a:pt x="4054" y="0"/>
                  </a:moveTo>
                  <a:lnTo>
                    <a:pt x="4006" y="15"/>
                  </a:lnTo>
                  <a:lnTo>
                    <a:pt x="3942" y="37"/>
                  </a:lnTo>
                  <a:lnTo>
                    <a:pt x="3878" y="79"/>
                  </a:lnTo>
                  <a:lnTo>
                    <a:pt x="3814" y="123"/>
                  </a:lnTo>
                  <a:lnTo>
                    <a:pt x="3750" y="165"/>
                  </a:lnTo>
                  <a:lnTo>
                    <a:pt x="3686" y="207"/>
                  </a:lnTo>
                  <a:lnTo>
                    <a:pt x="3620" y="251"/>
                  </a:lnTo>
                  <a:lnTo>
                    <a:pt x="3556" y="293"/>
                  </a:lnTo>
                  <a:lnTo>
                    <a:pt x="3472" y="357"/>
                  </a:lnTo>
                  <a:lnTo>
                    <a:pt x="3386" y="399"/>
                  </a:lnTo>
                  <a:lnTo>
                    <a:pt x="3322" y="443"/>
                  </a:lnTo>
                  <a:lnTo>
                    <a:pt x="3258" y="485"/>
                  </a:lnTo>
                  <a:lnTo>
                    <a:pt x="3152" y="526"/>
                  </a:lnTo>
                  <a:lnTo>
                    <a:pt x="3066" y="549"/>
                  </a:lnTo>
                  <a:lnTo>
                    <a:pt x="3001" y="571"/>
                  </a:lnTo>
                  <a:lnTo>
                    <a:pt x="2937" y="590"/>
                  </a:lnTo>
                  <a:lnTo>
                    <a:pt x="2809" y="612"/>
                  </a:lnTo>
                  <a:lnTo>
                    <a:pt x="2724" y="635"/>
                  </a:lnTo>
                  <a:lnTo>
                    <a:pt x="2510" y="635"/>
                  </a:lnTo>
                  <a:lnTo>
                    <a:pt x="2446" y="635"/>
                  </a:lnTo>
                  <a:lnTo>
                    <a:pt x="2382" y="654"/>
                  </a:lnTo>
                  <a:lnTo>
                    <a:pt x="2318" y="654"/>
                  </a:lnTo>
                  <a:lnTo>
                    <a:pt x="2232" y="654"/>
                  </a:lnTo>
                  <a:lnTo>
                    <a:pt x="2168" y="654"/>
                  </a:lnTo>
                  <a:lnTo>
                    <a:pt x="2104" y="654"/>
                  </a:lnTo>
                  <a:lnTo>
                    <a:pt x="2020" y="635"/>
                  </a:lnTo>
                  <a:lnTo>
                    <a:pt x="1934" y="635"/>
                  </a:lnTo>
                  <a:lnTo>
                    <a:pt x="1828" y="635"/>
                  </a:lnTo>
                  <a:lnTo>
                    <a:pt x="1764" y="635"/>
                  </a:lnTo>
                  <a:lnTo>
                    <a:pt x="1678" y="612"/>
                  </a:lnTo>
                  <a:lnTo>
                    <a:pt x="1614" y="590"/>
                  </a:lnTo>
                  <a:lnTo>
                    <a:pt x="1551" y="571"/>
                  </a:lnTo>
                  <a:lnTo>
                    <a:pt x="1423" y="571"/>
                  </a:lnTo>
                  <a:lnTo>
                    <a:pt x="1359" y="571"/>
                  </a:lnTo>
                  <a:lnTo>
                    <a:pt x="1290" y="535"/>
                  </a:lnTo>
                  <a:lnTo>
                    <a:pt x="1198" y="606"/>
                  </a:lnTo>
                  <a:lnTo>
                    <a:pt x="1138" y="646"/>
                  </a:lnTo>
                  <a:lnTo>
                    <a:pt x="1103" y="720"/>
                  </a:lnTo>
                  <a:lnTo>
                    <a:pt x="1039" y="762"/>
                  </a:lnTo>
                  <a:lnTo>
                    <a:pt x="972" y="826"/>
                  </a:lnTo>
                  <a:lnTo>
                    <a:pt x="908" y="890"/>
                  </a:lnTo>
                  <a:lnTo>
                    <a:pt x="866" y="954"/>
                  </a:lnTo>
                  <a:lnTo>
                    <a:pt x="802" y="1018"/>
                  </a:lnTo>
                  <a:lnTo>
                    <a:pt x="738" y="1060"/>
                  </a:lnTo>
                  <a:lnTo>
                    <a:pt x="674" y="1125"/>
                  </a:lnTo>
                  <a:lnTo>
                    <a:pt x="610" y="1169"/>
                  </a:lnTo>
                  <a:lnTo>
                    <a:pt x="568" y="1233"/>
                  </a:lnTo>
                  <a:lnTo>
                    <a:pt x="482" y="1317"/>
                  </a:lnTo>
                  <a:lnTo>
                    <a:pt x="440" y="1383"/>
                  </a:lnTo>
                  <a:lnTo>
                    <a:pt x="418" y="1447"/>
                  </a:lnTo>
                  <a:lnTo>
                    <a:pt x="377" y="1511"/>
                  </a:lnTo>
                  <a:lnTo>
                    <a:pt x="354" y="1575"/>
                  </a:lnTo>
                  <a:lnTo>
                    <a:pt x="310" y="1639"/>
                  </a:lnTo>
                  <a:lnTo>
                    <a:pt x="268" y="1703"/>
                  </a:lnTo>
                  <a:lnTo>
                    <a:pt x="246" y="1767"/>
                  </a:lnTo>
                  <a:lnTo>
                    <a:pt x="205" y="1831"/>
                  </a:lnTo>
                  <a:lnTo>
                    <a:pt x="183" y="1894"/>
                  </a:lnTo>
                  <a:lnTo>
                    <a:pt x="99" y="1978"/>
                  </a:lnTo>
                  <a:lnTo>
                    <a:pt x="55" y="2044"/>
                  </a:lnTo>
                  <a:lnTo>
                    <a:pt x="0" y="214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4175280" y="2716200"/>
              <a:ext cx="1408320" cy="560880"/>
            </a:xfrm>
            <a:custGeom>
              <a:avLst/>
              <a:gdLst/>
              <a:ahLst/>
              <a:rect l="0" t="0" r="r" b="b"/>
              <a:pathLst>
                <a:path fill="none" w="3912" h="1558">
                  <a:moveTo>
                    <a:pt x="3912" y="0"/>
                  </a:moveTo>
                  <a:lnTo>
                    <a:pt x="3863" y="17"/>
                  </a:lnTo>
                  <a:lnTo>
                    <a:pt x="3819" y="81"/>
                  </a:lnTo>
                  <a:lnTo>
                    <a:pt x="3755" y="125"/>
                  </a:lnTo>
                  <a:lnTo>
                    <a:pt x="3691" y="167"/>
                  </a:lnTo>
                  <a:lnTo>
                    <a:pt x="3608" y="253"/>
                  </a:lnTo>
                  <a:lnTo>
                    <a:pt x="3500" y="317"/>
                  </a:lnTo>
                  <a:lnTo>
                    <a:pt x="3436" y="337"/>
                  </a:lnTo>
                  <a:lnTo>
                    <a:pt x="3372" y="359"/>
                  </a:lnTo>
                  <a:lnTo>
                    <a:pt x="3266" y="359"/>
                  </a:lnTo>
                  <a:lnTo>
                    <a:pt x="3202" y="359"/>
                  </a:lnTo>
                  <a:lnTo>
                    <a:pt x="3138" y="359"/>
                  </a:lnTo>
                  <a:lnTo>
                    <a:pt x="2541" y="337"/>
                  </a:lnTo>
                  <a:lnTo>
                    <a:pt x="2432" y="337"/>
                  </a:lnTo>
                  <a:lnTo>
                    <a:pt x="2369" y="337"/>
                  </a:lnTo>
                  <a:lnTo>
                    <a:pt x="2155" y="317"/>
                  </a:lnTo>
                  <a:lnTo>
                    <a:pt x="2071" y="295"/>
                  </a:lnTo>
                  <a:lnTo>
                    <a:pt x="2007" y="295"/>
                  </a:lnTo>
                  <a:lnTo>
                    <a:pt x="1942" y="253"/>
                  </a:lnTo>
                  <a:lnTo>
                    <a:pt x="1856" y="231"/>
                  </a:lnTo>
                  <a:lnTo>
                    <a:pt x="1770" y="231"/>
                  </a:lnTo>
                  <a:lnTo>
                    <a:pt x="1706" y="231"/>
                  </a:lnTo>
                  <a:lnTo>
                    <a:pt x="1622" y="231"/>
                  </a:lnTo>
                  <a:lnTo>
                    <a:pt x="1558" y="231"/>
                  </a:lnTo>
                  <a:lnTo>
                    <a:pt x="1472" y="231"/>
                  </a:lnTo>
                  <a:lnTo>
                    <a:pt x="1408" y="231"/>
                  </a:lnTo>
                  <a:lnTo>
                    <a:pt x="1344" y="231"/>
                  </a:lnTo>
                  <a:lnTo>
                    <a:pt x="1281" y="231"/>
                  </a:lnTo>
                  <a:lnTo>
                    <a:pt x="1217" y="231"/>
                  </a:lnTo>
                  <a:lnTo>
                    <a:pt x="1153" y="253"/>
                  </a:lnTo>
                  <a:lnTo>
                    <a:pt x="1089" y="273"/>
                  </a:lnTo>
                  <a:lnTo>
                    <a:pt x="1003" y="295"/>
                  </a:lnTo>
                  <a:lnTo>
                    <a:pt x="939" y="317"/>
                  </a:lnTo>
                  <a:lnTo>
                    <a:pt x="875" y="337"/>
                  </a:lnTo>
                  <a:lnTo>
                    <a:pt x="811" y="381"/>
                  </a:lnTo>
                  <a:lnTo>
                    <a:pt x="747" y="424"/>
                  </a:lnTo>
                  <a:lnTo>
                    <a:pt x="703" y="488"/>
                  </a:lnTo>
                  <a:lnTo>
                    <a:pt x="639" y="511"/>
                  </a:lnTo>
                  <a:lnTo>
                    <a:pt x="575" y="552"/>
                  </a:lnTo>
                  <a:lnTo>
                    <a:pt x="533" y="617"/>
                  </a:lnTo>
                  <a:lnTo>
                    <a:pt x="491" y="681"/>
                  </a:lnTo>
                  <a:lnTo>
                    <a:pt x="427" y="745"/>
                  </a:lnTo>
                  <a:lnTo>
                    <a:pt x="363" y="831"/>
                  </a:lnTo>
                  <a:lnTo>
                    <a:pt x="319" y="895"/>
                  </a:lnTo>
                  <a:lnTo>
                    <a:pt x="277" y="959"/>
                  </a:lnTo>
                  <a:lnTo>
                    <a:pt x="255" y="1023"/>
                  </a:lnTo>
                  <a:lnTo>
                    <a:pt x="235" y="1087"/>
                  </a:lnTo>
                  <a:lnTo>
                    <a:pt x="191" y="1174"/>
                  </a:lnTo>
                  <a:lnTo>
                    <a:pt x="149" y="1238"/>
                  </a:lnTo>
                  <a:lnTo>
                    <a:pt x="127" y="1302"/>
                  </a:lnTo>
                  <a:lnTo>
                    <a:pt x="105" y="1366"/>
                  </a:lnTo>
                  <a:lnTo>
                    <a:pt x="63" y="1430"/>
                  </a:lnTo>
                  <a:lnTo>
                    <a:pt x="22" y="1494"/>
                  </a:lnTo>
                  <a:lnTo>
                    <a:pt x="0" y="1558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4227480" y="2906640"/>
              <a:ext cx="1356120" cy="367200"/>
            </a:xfrm>
            <a:custGeom>
              <a:avLst/>
              <a:gdLst/>
              <a:ahLst/>
              <a:rect l="0" t="0" r="r" b="b"/>
              <a:pathLst>
                <a:path fill="none" w="3767" h="1020">
                  <a:moveTo>
                    <a:pt x="3767" y="216"/>
                  </a:moveTo>
                  <a:lnTo>
                    <a:pt x="3719" y="213"/>
                  </a:lnTo>
                  <a:lnTo>
                    <a:pt x="3591" y="235"/>
                  </a:lnTo>
                  <a:lnTo>
                    <a:pt x="3527" y="258"/>
                  </a:lnTo>
                  <a:lnTo>
                    <a:pt x="3441" y="258"/>
                  </a:lnTo>
                  <a:lnTo>
                    <a:pt x="3377" y="235"/>
                  </a:lnTo>
                  <a:lnTo>
                    <a:pt x="3313" y="235"/>
                  </a:lnTo>
                  <a:lnTo>
                    <a:pt x="3249" y="235"/>
                  </a:lnTo>
                  <a:lnTo>
                    <a:pt x="3185" y="213"/>
                  </a:lnTo>
                  <a:lnTo>
                    <a:pt x="3099" y="213"/>
                  </a:lnTo>
                  <a:lnTo>
                    <a:pt x="2993" y="235"/>
                  </a:lnTo>
                  <a:lnTo>
                    <a:pt x="2930" y="235"/>
                  </a:lnTo>
                  <a:lnTo>
                    <a:pt x="2866" y="258"/>
                  </a:lnTo>
                  <a:lnTo>
                    <a:pt x="2801" y="258"/>
                  </a:lnTo>
                  <a:lnTo>
                    <a:pt x="2737" y="258"/>
                  </a:lnTo>
                  <a:lnTo>
                    <a:pt x="2671" y="258"/>
                  </a:lnTo>
                  <a:lnTo>
                    <a:pt x="2587" y="235"/>
                  </a:lnTo>
                  <a:lnTo>
                    <a:pt x="2523" y="213"/>
                  </a:lnTo>
                  <a:lnTo>
                    <a:pt x="2459" y="191"/>
                  </a:lnTo>
                  <a:lnTo>
                    <a:pt x="2373" y="171"/>
                  </a:lnTo>
                  <a:lnTo>
                    <a:pt x="2309" y="149"/>
                  </a:lnTo>
                  <a:lnTo>
                    <a:pt x="2245" y="149"/>
                  </a:lnTo>
                  <a:lnTo>
                    <a:pt x="2181" y="127"/>
                  </a:lnTo>
                  <a:lnTo>
                    <a:pt x="2117" y="127"/>
                  </a:lnTo>
                  <a:lnTo>
                    <a:pt x="2031" y="85"/>
                  </a:lnTo>
                  <a:lnTo>
                    <a:pt x="1967" y="85"/>
                  </a:lnTo>
                  <a:lnTo>
                    <a:pt x="1881" y="63"/>
                  </a:lnTo>
                  <a:lnTo>
                    <a:pt x="1817" y="44"/>
                  </a:lnTo>
                  <a:lnTo>
                    <a:pt x="1734" y="44"/>
                  </a:lnTo>
                  <a:lnTo>
                    <a:pt x="1520" y="0"/>
                  </a:lnTo>
                  <a:lnTo>
                    <a:pt x="1434" y="0"/>
                  </a:lnTo>
                  <a:lnTo>
                    <a:pt x="1348" y="0"/>
                  </a:lnTo>
                  <a:lnTo>
                    <a:pt x="1284" y="22"/>
                  </a:lnTo>
                  <a:lnTo>
                    <a:pt x="1220" y="44"/>
                  </a:lnTo>
                  <a:lnTo>
                    <a:pt x="1156" y="63"/>
                  </a:lnTo>
                  <a:lnTo>
                    <a:pt x="1092" y="108"/>
                  </a:lnTo>
                  <a:lnTo>
                    <a:pt x="1028" y="127"/>
                  </a:lnTo>
                  <a:lnTo>
                    <a:pt x="964" y="171"/>
                  </a:lnTo>
                  <a:lnTo>
                    <a:pt x="899" y="171"/>
                  </a:lnTo>
                  <a:lnTo>
                    <a:pt x="815" y="191"/>
                  </a:lnTo>
                  <a:lnTo>
                    <a:pt x="751" y="213"/>
                  </a:lnTo>
                  <a:lnTo>
                    <a:pt x="685" y="235"/>
                  </a:lnTo>
                  <a:lnTo>
                    <a:pt x="621" y="258"/>
                  </a:lnTo>
                  <a:lnTo>
                    <a:pt x="557" y="278"/>
                  </a:lnTo>
                  <a:lnTo>
                    <a:pt x="493" y="300"/>
                  </a:lnTo>
                  <a:lnTo>
                    <a:pt x="429" y="364"/>
                  </a:lnTo>
                  <a:lnTo>
                    <a:pt x="366" y="406"/>
                  </a:lnTo>
                  <a:lnTo>
                    <a:pt x="324" y="470"/>
                  </a:lnTo>
                  <a:lnTo>
                    <a:pt x="260" y="514"/>
                  </a:lnTo>
                  <a:lnTo>
                    <a:pt x="218" y="578"/>
                  </a:lnTo>
                  <a:lnTo>
                    <a:pt x="154" y="620"/>
                  </a:lnTo>
                  <a:lnTo>
                    <a:pt x="110" y="684"/>
                  </a:lnTo>
                  <a:lnTo>
                    <a:pt x="68" y="748"/>
                  </a:lnTo>
                  <a:lnTo>
                    <a:pt x="68" y="813"/>
                  </a:lnTo>
                  <a:lnTo>
                    <a:pt x="46" y="877"/>
                  </a:lnTo>
                  <a:lnTo>
                    <a:pt x="24" y="941"/>
                  </a:lnTo>
                  <a:lnTo>
                    <a:pt x="0" y="102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4282920" y="3046320"/>
              <a:ext cx="1298880" cy="230400"/>
            </a:xfrm>
            <a:custGeom>
              <a:avLst/>
              <a:gdLst/>
              <a:ahLst/>
              <a:rect l="0" t="0" r="r" b="b"/>
              <a:pathLst>
                <a:path fill="none" w="3608" h="640">
                  <a:moveTo>
                    <a:pt x="3608" y="255"/>
                  </a:moveTo>
                  <a:lnTo>
                    <a:pt x="3502" y="275"/>
                  </a:lnTo>
                  <a:lnTo>
                    <a:pt x="3438" y="275"/>
                  </a:lnTo>
                  <a:lnTo>
                    <a:pt x="3374" y="275"/>
                  </a:lnTo>
                  <a:lnTo>
                    <a:pt x="3310" y="233"/>
                  </a:lnTo>
                  <a:lnTo>
                    <a:pt x="3246" y="211"/>
                  </a:lnTo>
                  <a:lnTo>
                    <a:pt x="3032" y="211"/>
                  </a:lnTo>
                  <a:lnTo>
                    <a:pt x="2968" y="211"/>
                  </a:lnTo>
                  <a:lnTo>
                    <a:pt x="2904" y="211"/>
                  </a:lnTo>
                  <a:lnTo>
                    <a:pt x="2796" y="211"/>
                  </a:lnTo>
                  <a:lnTo>
                    <a:pt x="2732" y="211"/>
                  </a:lnTo>
                  <a:lnTo>
                    <a:pt x="2668" y="211"/>
                  </a:lnTo>
                  <a:lnTo>
                    <a:pt x="2584" y="211"/>
                  </a:lnTo>
                  <a:lnTo>
                    <a:pt x="2518" y="211"/>
                  </a:lnTo>
                  <a:lnTo>
                    <a:pt x="2454" y="211"/>
                  </a:lnTo>
                  <a:lnTo>
                    <a:pt x="2370" y="211"/>
                  </a:lnTo>
                  <a:lnTo>
                    <a:pt x="2242" y="211"/>
                  </a:lnTo>
                  <a:lnTo>
                    <a:pt x="2178" y="191"/>
                  </a:lnTo>
                  <a:lnTo>
                    <a:pt x="2092" y="169"/>
                  </a:lnTo>
                  <a:lnTo>
                    <a:pt x="2006" y="127"/>
                  </a:lnTo>
                  <a:lnTo>
                    <a:pt x="1942" y="105"/>
                  </a:lnTo>
                  <a:lnTo>
                    <a:pt x="1878" y="83"/>
                  </a:lnTo>
                  <a:lnTo>
                    <a:pt x="1814" y="63"/>
                  </a:lnTo>
                  <a:lnTo>
                    <a:pt x="1727" y="19"/>
                  </a:lnTo>
                  <a:lnTo>
                    <a:pt x="1621" y="19"/>
                  </a:lnTo>
                  <a:lnTo>
                    <a:pt x="1535" y="0"/>
                  </a:lnTo>
                  <a:lnTo>
                    <a:pt x="1323" y="0"/>
                  </a:lnTo>
                  <a:lnTo>
                    <a:pt x="1215" y="0"/>
                  </a:lnTo>
                  <a:lnTo>
                    <a:pt x="1151" y="19"/>
                  </a:lnTo>
                  <a:lnTo>
                    <a:pt x="1087" y="19"/>
                  </a:lnTo>
                  <a:lnTo>
                    <a:pt x="1023" y="19"/>
                  </a:lnTo>
                  <a:lnTo>
                    <a:pt x="937" y="19"/>
                  </a:lnTo>
                  <a:lnTo>
                    <a:pt x="853" y="63"/>
                  </a:lnTo>
                  <a:lnTo>
                    <a:pt x="789" y="63"/>
                  </a:lnTo>
                  <a:lnTo>
                    <a:pt x="725" y="83"/>
                  </a:lnTo>
                  <a:lnTo>
                    <a:pt x="661" y="105"/>
                  </a:lnTo>
                  <a:lnTo>
                    <a:pt x="597" y="127"/>
                  </a:lnTo>
                  <a:lnTo>
                    <a:pt x="511" y="191"/>
                  </a:lnTo>
                  <a:lnTo>
                    <a:pt x="447" y="233"/>
                  </a:lnTo>
                  <a:lnTo>
                    <a:pt x="383" y="275"/>
                  </a:lnTo>
                  <a:lnTo>
                    <a:pt x="319" y="319"/>
                  </a:lnTo>
                  <a:lnTo>
                    <a:pt x="255" y="362"/>
                  </a:lnTo>
                  <a:lnTo>
                    <a:pt x="191" y="404"/>
                  </a:lnTo>
                  <a:lnTo>
                    <a:pt x="127" y="448"/>
                  </a:lnTo>
                  <a:lnTo>
                    <a:pt x="63" y="512"/>
                  </a:lnTo>
                  <a:lnTo>
                    <a:pt x="19" y="576"/>
                  </a:lnTo>
                  <a:lnTo>
                    <a:pt x="0" y="640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4398840" y="3191040"/>
              <a:ext cx="945000" cy="86040"/>
            </a:xfrm>
            <a:custGeom>
              <a:avLst/>
              <a:gdLst/>
              <a:ahLst/>
              <a:rect l="0" t="0" r="r" b="b"/>
              <a:pathLst>
                <a:path fill="none" w="2625" h="239">
                  <a:moveTo>
                    <a:pt x="2625" y="239"/>
                  </a:moveTo>
                  <a:lnTo>
                    <a:pt x="2561" y="216"/>
                  </a:lnTo>
                  <a:lnTo>
                    <a:pt x="2497" y="216"/>
                  </a:lnTo>
                  <a:lnTo>
                    <a:pt x="2411" y="216"/>
                  </a:lnTo>
                  <a:lnTo>
                    <a:pt x="2347" y="216"/>
                  </a:lnTo>
                  <a:lnTo>
                    <a:pt x="2219" y="196"/>
                  </a:lnTo>
                  <a:lnTo>
                    <a:pt x="2197" y="132"/>
                  </a:lnTo>
                  <a:lnTo>
                    <a:pt x="2133" y="109"/>
                  </a:lnTo>
                  <a:lnTo>
                    <a:pt x="2049" y="109"/>
                  </a:lnTo>
                  <a:lnTo>
                    <a:pt x="1962" y="109"/>
                  </a:lnTo>
                  <a:lnTo>
                    <a:pt x="1898" y="109"/>
                  </a:lnTo>
                  <a:lnTo>
                    <a:pt x="1834" y="86"/>
                  </a:lnTo>
                  <a:lnTo>
                    <a:pt x="1748" y="44"/>
                  </a:lnTo>
                  <a:lnTo>
                    <a:pt x="1684" y="22"/>
                  </a:lnTo>
                  <a:lnTo>
                    <a:pt x="1578" y="0"/>
                  </a:lnTo>
                  <a:lnTo>
                    <a:pt x="1470" y="0"/>
                  </a:lnTo>
                  <a:lnTo>
                    <a:pt x="1386" y="0"/>
                  </a:lnTo>
                  <a:lnTo>
                    <a:pt x="1300" y="22"/>
                  </a:lnTo>
                  <a:lnTo>
                    <a:pt x="1236" y="44"/>
                  </a:lnTo>
                  <a:lnTo>
                    <a:pt x="1108" y="64"/>
                  </a:lnTo>
                  <a:lnTo>
                    <a:pt x="894" y="86"/>
                  </a:lnTo>
                  <a:lnTo>
                    <a:pt x="830" y="86"/>
                  </a:lnTo>
                  <a:lnTo>
                    <a:pt x="766" y="132"/>
                  </a:lnTo>
                  <a:lnTo>
                    <a:pt x="702" y="174"/>
                  </a:lnTo>
                  <a:lnTo>
                    <a:pt x="637" y="174"/>
                  </a:lnTo>
                  <a:lnTo>
                    <a:pt x="573" y="174"/>
                  </a:lnTo>
                  <a:lnTo>
                    <a:pt x="509" y="174"/>
                  </a:lnTo>
                  <a:lnTo>
                    <a:pt x="445" y="174"/>
                  </a:lnTo>
                  <a:lnTo>
                    <a:pt x="359" y="174"/>
                  </a:lnTo>
                  <a:lnTo>
                    <a:pt x="295" y="174"/>
                  </a:lnTo>
                  <a:lnTo>
                    <a:pt x="231" y="152"/>
                  </a:lnTo>
                  <a:lnTo>
                    <a:pt x="167" y="152"/>
                  </a:lnTo>
                  <a:lnTo>
                    <a:pt x="103" y="174"/>
                  </a:lnTo>
                  <a:lnTo>
                    <a:pt x="0" y="232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4797360" y="587520"/>
              <a:ext cx="2001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4789440" y="12175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3298680" y="125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3398760" y="3096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3514680" y="5014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3691080" y="81756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4167360" y="9097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4183200" y="17780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3137040" y="19764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4313160" y="20383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4608360" y="2017800"/>
              <a:ext cx="1760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4853160" y="2341440"/>
              <a:ext cx="166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127480" y="2222640"/>
              <a:ext cx="160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135400" y="263844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5157720" y="24145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5372280" y="2152800"/>
              <a:ext cx="18432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5181480" y="307512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4888080" y="289872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5280120" y="279720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4675320" y="315288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 txBox="1"/>
            <p:nvPr/>
          </p:nvSpPr>
          <p:spPr>
            <a:xfrm>
              <a:off x="3322800" y="125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 txBox="1"/>
            <p:nvPr/>
          </p:nvSpPr>
          <p:spPr>
            <a:xfrm>
              <a:off x="3384720" y="3031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 txBox="1"/>
            <p:nvPr/>
          </p:nvSpPr>
          <p:spPr>
            <a:xfrm>
              <a:off x="3506760" y="493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 txBox="1"/>
            <p:nvPr/>
          </p:nvSpPr>
          <p:spPr>
            <a:xfrm>
              <a:off x="3684600" y="8096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 txBox="1"/>
            <p:nvPr/>
          </p:nvSpPr>
          <p:spPr>
            <a:xfrm>
              <a:off x="3138480" y="19605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 txBox="1"/>
            <p:nvPr/>
          </p:nvSpPr>
          <p:spPr>
            <a:xfrm>
              <a:off x="4175280" y="176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 txBox="1"/>
            <p:nvPr/>
          </p:nvSpPr>
          <p:spPr>
            <a:xfrm>
              <a:off x="4307040" y="20224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 txBox="1"/>
            <p:nvPr/>
          </p:nvSpPr>
          <p:spPr>
            <a:xfrm>
              <a:off x="4808520" y="23209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4937040" y="287280"/>
              <a:ext cx="216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 txBox="1"/>
            <p:nvPr/>
          </p:nvSpPr>
          <p:spPr>
            <a:xfrm>
              <a:off x="4930920" y="2793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 txBox="1"/>
            <p:nvPr/>
          </p:nvSpPr>
          <p:spPr>
            <a:xfrm>
              <a:off x="4782960" y="577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 txBox="1"/>
            <p:nvPr/>
          </p:nvSpPr>
          <p:spPr>
            <a:xfrm>
              <a:off x="4151160" y="901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 txBox="1"/>
            <p:nvPr/>
          </p:nvSpPr>
          <p:spPr>
            <a:xfrm>
              <a:off x="4782960" y="12002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 txBox="1"/>
            <p:nvPr/>
          </p:nvSpPr>
          <p:spPr>
            <a:xfrm>
              <a:off x="4562640" y="200196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 txBox="1"/>
            <p:nvPr/>
          </p:nvSpPr>
          <p:spPr>
            <a:xfrm>
              <a:off x="5086440" y="22068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 txBox="1"/>
            <p:nvPr/>
          </p:nvSpPr>
          <p:spPr>
            <a:xfrm>
              <a:off x="5335560" y="21286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 txBox="1"/>
            <p:nvPr/>
          </p:nvSpPr>
          <p:spPr>
            <a:xfrm>
              <a:off x="5148360" y="23922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 txBox="1"/>
            <p:nvPr/>
          </p:nvSpPr>
          <p:spPr>
            <a:xfrm>
              <a:off x="5119560" y="26128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 txBox="1"/>
            <p:nvPr/>
          </p:nvSpPr>
          <p:spPr>
            <a:xfrm>
              <a:off x="5268960" y="277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 txBox="1"/>
            <p:nvPr/>
          </p:nvSpPr>
          <p:spPr>
            <a:xfrm>
              <a:off x="4876920" y="287028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 txBox="1"/>
            <p:nvPr/>
          </p:nvSpPr>
          <p:spPr>
            <a:xfrm>
              <a:off x="5168880" y="3046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 txBox="1"/>
            <p:nvPr/>
          </p:nvSpPr>
          <p:spPr>
            <a:xfrm>
              <a:off x="4662360" y="312732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4751280" y="2232000"/>
              <a:ext cx="1620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 txBox="1"/>
            <p:nvPr/>
          </p:nvSpPr>
          <p:spPr>
            <a:xfrm>
              <a:off x="4705200" y="221760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5197320" y="81000"/>
              <a:ext cx="386280" cy="437040"/>
            </a:xfrm>
            <a:custGeom>
              <a:avLst/>
              <a:gdLst/>
              <a:ahLst/>
              <a:rect l="0" t="0" r="r" b="b"/>
              <a:pathLst>
                <a:path fill="none" w="1073" h="1214">
                  <a:moveTo>
                    <a:pt x="0" y="0"/>
                  </a:moveTo>
                  <a:lnTo>
                    <a:pt x="22" y="63"/>
                  </a:lnTo>
                  <a:lnTo>
                    <a:pt x="44" y="127"/>
                  </a:lnTo>
                  <a:lnTo>
                    <a:pt x="107" y="171"/>
                  </a:lnTo>
                  <a:lnTo>
                    <a:pt x="171" y="213"/>
                  </a:lnTo>
                  <a:lnTo>
                    <a:pt x="191" y="277"/>
                  </a:lnTo>
                  <a:lnTo>
                    <a:pt x="235" y="342"/>
                  </a:lnTo>
                  <a:lnTo>
                    <a:pt x="255" y="427"/>
                  </a:lnTo>
                  <a:lnTo>
                    <a:pt x="300" y="491"/>
                  </a:lnTo>
                  <a:lnTo>
                    <a:pt x="342" y="555"/>
                  </a:lnTo>
                  <a:lnTo>
                    <a:pt x="405" y="597"/>
                  </a:lnTo>
                  <a:lnTo>
                    <a:pt x="469" y="619"/>
                  </a:lnTo>
                  <a:lnTo>
                    <a:pt x="533" y="639"/>
                  </a:lnTo>
                  <a:lnTo>
                    <a:pt x="597" y="683"/>
                  </a:lnTo>
                  <a:lnTo>
                    <a:pt x="661" y="725"/>
                  </a:lnTo>
                  <a:lnTo>
                    <a:pt x="705" y="788"/>
                  </a:lnTo>
                  <a:lnTo>
                    <a:pt x="724" y="852"/>
                  </a:lnTo>
                  <a:lnTo>
                    <a:pt x="768" y="917"/>
                  </a:lnTo>
                  <a:lnTo>
                    <a:pt x="768" y="981"/>
                  </a:lnTo>
                  <a:lnTo>
                    <a:pt x="811" y="1045"/>
                  </a:lnTo>
                  <a:lnTo>
                    <a:pt x="875" y="1067"/>
                  </a:lnTo>
                  <a:lnTo>
                    <a:pt x="939" y="1089"/>
                  </a:lnTo>
                  <a:lnTo>
                    <a:pt x="1003" y="1131"/>
                  </a:lnTo>
                  <a:lnTo>
                    <a:pt x="1073" y="1214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5175360" y="171360"/>
              <a:ext cx="2142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 txBox="1"/>
            <p:nvPr/>
          </p:nvSpPr>
          <p:spPr>
            <a:xfrm>
              <a:off x="5165640" y="163440"/>
              <a:ext cx="244440" cy="1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7" name=""/>
            <p:cNvGrpSpPr/>
            <p:nvPr/>
          </p:nvGrpSpPr>
          <p:grpSpPr>
            <a:xfrm>
              <a:off x="2854440" y="917640"/>
              <a:ext cx="2941560" cy="0"/>
              <a:chOff x="2854440" y="917640"/>
              <a:chExt cx="2941560" cy="0"/>
            </a:xfrm>
          </p:grpSpPr>
          <p:sp>
            <p:nvSpPr>
              <p:cNvPr id="4008" name=""/>
              <p:cNvSpPr/>
              <p:nvPr/>
            </p:nvSpPr>
            <p:spPr>
              <a:xfrm>
                <a:off x="2854440" y="9176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353052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362268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3706920" y="9176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4713120" y="9176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4797360" y="917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4897440" y="91764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5" name=""/>
            <p:cNvGrpSpPr/>
            <p:nvPr/>
          </p:nvGrpSpPr>
          <p:grpSpPr>
            <a:xfrm>
              <a:off x="2854440" y="2154240"/>
              <a:ext cx="2957400" cy="0"/>
              <a:chOff x="2854440" y="2154240"/>
              <a:chExt cx="2957400" cy="0"/>
            </a:xfrm>
          </p:grpSpPr>
          <p:sp>
            <p:nvSpPr>
              <p:cNvPr id="4016" name=""/>
              <p:cNvSpPr/>
              <p:nvPr/>
            </p:nvSpPr>
            <p:spPr>
              <a:xfrm>
                <a:off x="2854440" y="215424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353052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362268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3706920" y="215424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4713120" y="215424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4797360" y="2154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4897440" y="2154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3" name=""/>
            <p:cNvGrpSpPr/>
            <p:nvPr/>
          </p:nvGrpSpPr>
          <p:grpSpPr>
            <a:xfrm>
              <a:off x="2854440" y="1554120"/>
              <a:ext cx="2949480" cy="0"/>
              <a:chOff x="2854440" y="1554120"/>
              <a:chExt cx="2949480" cy="0"/>
            </a:xfrm>
          </p:grpSpPr>
          <p:sp>
            <p:nvSpPr>
              <p:cNvPr id="4024" name=""/>
              <p:cNvSpPr/>
              <p:nvPr/>
            </p:nvSpPr>
            <p:spPr>
              <a:xfrm>
                <a:off x="2854440" y="1554120"/>
                <a:ext cx="6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353052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362268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3706920" y="1554120"/>
                <a:ext cx="9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4713120" y="1554120"/>
                <a:ext cx="4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4797360" y="1554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4897440" y="155412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1" name=""/>
            <p:cNvSpPr txBox="1"/>
            <p:nvPr/>
          </p:nvSpPr>
          <p:spPr>
            <a:xfrm>
              <a:off x="285444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 txBox="1"/>
            <p:nvPr/>
          </p:nvSpPr>
          <p:spPr>
            <a:xfrm>
              <a:off x="5681520" y="78408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 txBox="1"/>
            <p:nvPr/>
          </p:nvSpPr>
          <p:spPr>
            <a:xfrm>
              <a:off x="285444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 txBox="1"/>
            <p:nvPr/>
          </p:nvSpPr>
          <p:spPr>
            <a:xfrm>
              <a:off x="5681520" y="1420920"/>
              <a:ext cx="15084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 txBox="1"/>
            <p:nvPr/>
          </p:nvSpPr>
          <p:spPr>
            <a:xfrm>
              <a:off x="2854440" y="201312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 txBox="1"/>
            <p:nvPr/>
          </p:nvSpPr>
          <p:spPr>
            <a:xfrm>
              <a:off x="5681520" y="2021040"/>
              <a:ext cx="155520" cy="1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7" name=""/>
          <p:cNvSpPr txBox="1"/>
          <p:nvPr/>
        </p:nvSpPr>
        <p:spPr>
          <a:xfrm>
            <a:off x="3813120" y="5381640"/>
            <a:ext cx="1027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B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"/>
          <p:cNvSpPr/>
          <p:nvPr/>
        </p:nvSpPr>
        <p:spPr>
          <a:xfrm>
            <a:off x="3067200" y="4705200"/>
            <a:ext cx="2524320" cy="702000"/>
          </a:xfrm>
          <a:custGeom>
            <a:avLst/>
            <a:gdLst/>
            <a:ahLst/>
            <a:rect l="0" t="0" r="r" b="b"/>
            <a:pathLst>
              <a:path w="7012" h="1950">
                <a:moveTo>
                  <a:pt x="0" y="0"/>
                </a:moveTo>
                <a:lnTo>
                  <a:pt x="39" y="52"/>
                </a:lnTo>
                <a:lnTo>
                  <a:pt x="92" y="57"/>
                </a:lnTo>
                <a:lnTo>
                  <a:pt x="132" y="97"/>
                </a:lnTo>
                <a:lnTo>
                  <a:pt x="171" y="110"/>
                </a:lnTo>
                <a:lnTo>
                  <a:pt x="211" y="123"/>
                </a:lnTo>
                <a:lnTo>
                  <a:pt x="251" y="136"/>
                </a:lnTo>
                <a:lnTo>
                  <a:pt x="291" y="123"/>
                </a:lnTo>
                <a:lnTo>
                  <a:pt x="330" y="123"/>
                </a:lnTo>
                <a:lnTo>
                  <a:pt x="370" y="123"/>
                </a:lnTo>
                <a:lnTo>
                  <a:pt x="436" y="149"/>
                </a:lnTo>
                <a:lnTo>
                  <a:pt x="476" y="176"/>
                </a:lnTo>
                <a:lnTo>
                  <a:pt x="515" y="189"/>
                </a:lnTo>
                <a:lnTo>
                  <a:pt x="555" y="202"/>
                </a:lnTo>
                <a:lnTo>
                  <a:pt x="621" y="202"/>
                </a:lnTo>
                <a:lnTo>
                  <a:pt x="661" y="216"/>
                </a:lnTo>
                <a:lnTo>
                  <a:pt x="701" y="229"/>
                </a:lnTo>
                <a:lnTo>
                  <a:pt x="767" y="282"/>
                </a:lnTo>
                <a:lnTo>
                  <a:pt x="806" y="321"/>
                </a:lnTo>
                <a:lnTo>
                  <a:pt x="846" y="361"/>
                </a:lnTo>
                <a:lnTo>
                  <a:pt x="899" y="388"/>
                </a:lnTo>
                <a:lnTo>
                  <a:pt x="939" y="401"/>
                </a:lnTo>
                <a:lnTo>
                  <a:pt x="992" y="414"/>
                </a:lnTo>
                <a:lnTo>
                  <a:pt x="1150" y="427"/>
                </a:lnTo>
                <a:lnTo>
                  <a:pt x="1203" y="440"/>
                </a:lnTo>
                <a:lnTo>
                  <a:pt x="1243" y="467"/>
                </a:lnTo>
                <a:lnTo>
                  <a:pt x="1283" y="480"/>
                </a:lnTo>
                <a:lnTo>
                  <a:pt x="1322" y="493"/>
                </a:lnTo>
                <a:lnTo>
                  <a:pt x="1362" y="507"/>
                </a:lnTo>
                <a:lnTo>
                  <a:pt x="1415" y="533"/>
                </a:lnTo>
                <a:lnTo>
                  <a:pt x="1468" y="573"/>
                </a:lnTo>
                <a:lnTo>
                  <a:pt x="1521" y="586"/>
                </a:lnTo>
                <a:lnTo>
                  <a:pt x="1561" y="599"/>
                </a:lnTo>
                <a:lnTo>
                  <a:pt x="1613" y="599"/>
                </a:lnTo>
                <a:lnTo>
                  <a:pt x="1653" y="612"/>
                </a:lnTo>
                <a:lnTo>
                  <a:pt x="1693" y="639"/>
                </a:lnTo>
                <a:lnTo>
                  <a:pt x="1733" y="652"/>
                </a:lnTo>
                <a:lnTo>
                  <a:pt x="1772" y="679"/>
                </a:lnTo>
                <a:lnTo>
                  <a:pt x="1812" y="692"/>
                </a:lnTo>
                <a:lnTo>
                  <a:pt x="1838" y="732"/>
                </a:lnTo>
                <a:lnTo>
                  <a:pt x="1878" y="758"/>
                </a:lnTo>
                <a:lnTo>
                  <a:pt x="1918" y="784"/>
                </a:lnTo>
                <a:lnTo>
                  <a:pt x="1957" y="811"/>
                </a:lnTo>
                <a:lnTo>
                  <a:pt x="2024" y="851"/>
                </a:lnTo>
                <a:lnTo>
                  <a:pt x="2037" y="890"/>
                </a:lnTo>
                <a:lnTo>
                  <a:pt x="2063" y="930"/>
                </a:lnTo>
                <a:lnTo>
                  <a:pt x="2103" y="956"/>
                </a:lnTo>
                <a:lnTo>
                  <a:pt x="2143" y="984"/>
                </a:lnTo>
                <a:lnTo>
                  <a:pt x="2182" y="1024"/>
                </a:lnTo>
                <a:lnTo>
                  <a:pt x="2235" y="1050"/>
                </a:lnTo>
                <a:lnTo>
                  <a:pt x="2275" y="1076"/>
                </a:lnTo>
                <a:lnTo>
                  <a:pt x="2288" y="1129"/>
                </a:lnTo>
                <a:lnTo>
                  <a:pt x="2301" y="1169"/>
                </a:lnTo>
                <a:lnTo>
                  <a:pt x="2328" y="1209"/>
                </a:lnTo>
                <a:lnTo>
                  <a:pt x="2368" y="1222"/>
                </a:lnTo>
                <a:lnTo>
                  <a:pt x="2407" y="1235"/>
                </a:lnTo>
                <a:lnTo>
                  <a:pt x="2447" y="1248"/>
                </a:lnTo>
                <a:lnTo>
                  <a:pt x="2500" y="1262"/>
                </a:lnTo>
                <a:lnTo>
                  <a:pt x="2540" y="1315"/>
                </a:lnTo>
                <a:lnTo>
                  <a:pt x="2592" y="1341"/>
                </a:lnTo>
                <a:lnTo>
                  <a:pt x="2632" y="1368"/>
                </a:lnTo>
                <a:lnTo>
                  <a:pt x="2685" y="1381"/>
                </a:lnTo>
                <a:lnTo>
                  <a:pt x="2725" y="1394"/>
                </a:lnTo>
                <a:lnTo>
                  <a:pt x="2764" y="1420"/>
                </a:lnTo>
                <a:lnTo>
                  <a:pt x="2831" y="1447"/>
                </a:lnTo>
                <a:lnTo>
                  <a:pt x="2883" y="1460"/>
                </a:lnTo>
                <a:lnTo>
                  <a:pt x="2923" y="1473"/>
                </a:lnTo>
                <a:lnTo>
                  <a:pt x="2963" y="1487"/>
                </a:lnTo>
                <a:lnTo>
                  <a:pt x="3003" y="1500"/>
                </a:lnTo>
                <a:lnTo>
                  <a:pt x="3055" y="1500"/>
                </a:lnTo>
                <a:lnTo>
                  <a:pt x="3095" y="1513"/>
                </a:lnTo>
                <a:lnTo>
                  <a:pt x="3135" y="1513"/>
                </a:lnTo>
                <a:lnTo>
                  <a:pt x="3175" y="1526"/>
                </a:lnTo>
                <a:lnTo>
                  <a:pt x="3214" y="1539"/>
                </a:lnTo>
                <a:lnTo>
                  <a:pt x="3254" y="1553"/>
                </a:lnTo>
                <a:lnTo>
                  <a:pt x="3280" y="1592"/>
                </a:lnTo>
                <a:lnTo>
                  <a:pt x="3294" y="1632"/>
                </a:lnTo>
                <a:lnTo>
                  <a:pt x="3320" y="1672"/>
                </a:lnTo>
                <a:lnTo>
                  <a:pt x="3333" y="1711"/>
                </a:lnTo>
                <a:lnTo>
                  <a:pt x="3373" y="1751"/>
                </a:lnTo>
                <a:lnTo>
                  <a:pt x="3386" y="1791"/>
                </a:lnTo>
                <a:lnTo>
                  <a:pt x="3399" y="1831"/>
                </a:lnTo>
                <a:lnTo>
                  <a:pt x="3426" y="1870"/>
                </a:lnTo>
                <a:lnTo>
                  <a:pt x="3466" y="1897"/>
                </a:lnTo>
                <a:lnTo>
                  <a:pt x="3505" y="1936"/>
                </a:lnTo>
                <a:lnTo>
                  <a:pt x="3546" y="1950"/>
                </a:lnTo>
                <a:lnTo>
                  <a:pt x="3586" y="1950"/>
                </a:lnTo>
                <a:lnTo>
                  <a:pt x="3625" y="1923"/>
                </a:lnTo>
                <a:lnTo>
                  <a:pt x="3639" y="1883"/>
                </a:lnTo>
                <a:lnTo>
                  <a:pt x="3665" y="1844"/>
                </a:lnTo>
                <a:lnTo>
                  <a:pt x="3691" y="1804"/>
                </a:lnTo>
                <a:lnTo>
                  <a:pt x="3718" y="1764"/>
                </a:lnTo>
                <a:lnTo>
                  <a:pt x="3758" y="1738"/>
                </a:lnTo>
                <a:lnTo>
                  <a:pt x="3797" y="1698"/>
                </a:lnTo>
                <a:lnTo>
                  <a:pt x="3824" y="1659"/>
                </a:lnTo>
                <a:lnTo>
                  <a:pt x="3824" y="1619"/>
                </a:lnTo>
                <a:lnTo>
                  <a:pt x="3850" y="1579"/>
                </a:lnTo>
                <a:lnTo>
                  <a:pt x="3877" y="1539"/>
                </a:lnTo>
                <a:lnTo>
                  <a:pt x="3903" y="1500"/>
                </a:lnTo>
                <a:lnTo>
                  <a:pt x="3930" y="1460"/>
                </a:lnTo>
                <a:lnTo>
                  <a:pt x="3956" y="1420"/>
                </a:lnTo>
                <a:lnTo>
                  <a:pt x="3996" y="1368"/>
                </a:lnTo>
                <a:lnTo>
                  <a:pt x="4022" y="1328"/>
                </a:lnTo>
                <a:lnTo>
                  <a:pt x="4062" y="1288"/>
                </a:lnTo>
                <a:lnTo>
                  <a:pt x="4088" y="1248"/>
                </a:lnTo>
                <a:lnTo>
                  <a:pt x="4128" y="1222"/>
                </a:lnTo>
                <a:lnTo>
                  <a:pt x="4168" y="1182"/>
                </a:lnTo>
                <a:lnTo>
                  <a:pt x="4194" y="1143"/>
                </a:lnTo>
                <a:lnTo>
                  <a:pt x="4234" y="1116"/>
                </a:lnTo>
                <a:lnTo>
                  <a:pt x="4274" y="1076"/>
                </a:lnTo>
                <a:lnTo>
                  <a:pt x="4313" y="1050"/>
                </a:lnTo>
                <a:lnTo>
                  <a:pt x="4353" y="1024"/>
                </a:lnTo>
                <a:lnTo>
                  <a:pt x="4393" y="1010"/>
                </a:lnTo>
                <a:lnTo>
                  <a:pt x="4432" y="984"/>
                </a:lnTo>
                <a:lnTo>
                  <a:pt x="4472" y="970"/>
                </a:lnTo>
                <a:lnTo>
                  <a:pt x="4512" y="943"/>
                </a:lnTo>
                <a:lnTo>
                  <a:pt x="4551" y="943"/>
                </a:lnTo>
                <a:lnTo>
                  <a:pt x="4591" y="943"/>
                </a:lnTo>
                <a:lnTo>
                  <a:pt x="4631" y="943"/>
                </a:lnTo>
                <a:lnTo>
                  <a:pt x="4670" y="943"/>
                </a:lnTo>
                <a:lnTo>
                  <a:pt x="4710" y="930"/>
                </a:lnTo>
                <a:lnTo>
                  <a:pt x="4750" y="917"/>
                </a:lnTo>
                <a:lnTo>
                  <a:pt x="4803" y="903"/>
                </a:lnTo>
                <a:lnTo>
                  <a:pt x="4842" y="890"/>
                </a:lnTo>
                <a:lnTo>
                  <a:pt x="4882" y="877"/>
                </a:lnTo>
                <a:lnTo>
                  <a:pt x="4922" y="877"/>
                </a:lnTo>
                <a:lnTo>
                  <a:pt x="4961" y="864"/>
                </a:lnTo>
                <a:lnTo>
                  <a:pt x="5001" y="851"/>
                </a:lnTo>
                <a:lnTo>
                  <a:pt x="5041" y="837"/>
                </a:lnTo>
                <a:lnTo>
                  <a:pt x="5081" y="837"/>
                </a:lnTo>
                <a:lnTo>
                  <a:pt x="5147" y="837"/>
                </a:lnTo>
                <a:lnTo>
                  <a:pt x="5186" y="837"/>
                </a:lnTo>
                <a:lnTo>
                  <a:pt x="5226" y="824"/>
                </a:lnTo>
                <a:lnTo>
                  <a:pt x="5279" y="811"/>
                </a:lnTo>
                <a:lnTo>
                  <a:pt x="5319" y="811"/>
                </a:lnTo>
                <a:lnTo>
                  <a:pt x="5385" y="798"/>
                </a:lnTo>
                <a:lnTo>
                  <a:pt x="5424" y="784"/>
                </a:lnTo>
                <a:lnTo>
                  <a:pt x="5477" y="771"/>
                </a:lnTo>
                <a:lnTo>
                  <a:pt x="5530" y="771"/>
                </a:lnTo>
                <a:lnTo>
                  <a:pt x="5570" y="758"/>
                </a:lnTo>
                <a:lnTo>
                  <a:pt x="5610" y="758"/>
                </a:lnTo>
                <a:lnTo>
                  <a:pt x="5649" y="758"/>
                </a:lnTo>
                <a:lnTo>
                  <a:pt x="5689" y="745"/>
                </a:lnTo>
                <a:lnTo>
                  <a:pt x="5729" y="718"/>
                </a:lnTo>
                <a:lnTo>
                  <a:pt x="5755" y="679"/>
                </a:lnTo>
                <a:lnTo>
                  <a:pt x="5795" y="679"/>
                </a:lnTo>
                <a:lnTo>
                  <a:pt x="5848" y="679"/>
                </a:lnTo>
                <a:lnTo>
                  <a:pt x="5887" y="679"/>
                </a:lnTo>
                <a:lnTo>
                  <a:pt x="5940" y="665"/>
                </a:lnTo>
                <a:lnTo>
                  <a:pt x="5993" y="652"/>
                </a:lnTo>
                <a:lnTo>
                  <a:pt x="6046" y="639"/>
                </a:lnTo>
                <a:lnTo>
                  <a:pt x="6086" y="626"/>
                </a:lnTo>
                <a:lnTo>
                  <a:pt x="6152" y="599"/>
                </a:lnTo>
                <a:lnTo>
                  <a:pt x="6192" y="586"/>
                </a:lnTo>
                <a:lnTo>
                  <a:pt x="6231" y="573"/>
                </a:lnTo>
                <a:lnTo>
                  <a:pt x="6271" y="546"/>
                </a:lnTo>
                <a:lnTo>
                  <a:pt x="6311" y="533"/>
                </a:lnTo>
                <a:lnTo>
                  <a:pt x="6351" y="533"/>
                </a:lnTo>
                <a:lnTo>
                  <a:pt x="6390" y="533"/>
                </a:lnTo>
                <a:lnTo>
                  <a:pt x="6443" y="533"/>
                </a:lnTo>
                <a:lnTo>
                  <a:pt x="6496" y="533"/>
                </a:lnTo>
                <a:lnTo>
                  <a:pt x="6536" y="533"/>
                </a:lnTo>
                <a:lnTo>
                  <a:pt x="6575" y="533"/>
                </a:lnTo>
                <a:lnTo>
                  <a:pt x="6734" y="507"/>
                </a:lnTo>
                <a:lnTo>
                  <a:pt x="6774" y="507"/>
                </a:lnTo>
                <a:lnTo>
                  <a:pt x="6827" y="480"/>
                </a:lnTo>
                <a:lnTo>
                  <a:pt x="6906" y="454"/>
                </a:lnTo>
                <a:lnTo>
                  <a:pt x="6946" y="454"/>
                </a:lnTo>
                <a:lnTo>
                  <a:pt x="6986" y="440"/>
                </a:lnTo>
                <a:lnTo>
                  <a:pt x="6999" y="436"/>
                </a:lnTo>
                <a:lnTo>
                  <a:pt x="6986" y="427"/>
                </a:lnTo>
                <a:lnTo>
                  <a:pt x="7012" y="427"/>
                </a:lnTo>
                <a:lnTo>
                  <a:pt x="7012" y="1950"/>
                </a:lnTo>
                <a:lnTo>
                  <a:pt x="0" y="1950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"/>
          <p:cNvSpPr txBox="1"/>
          <p:nvPr/>
        </p:nvSpPr>
        <p:spPr>
          <a:xfrm>
            <a:off x="6040440" y="2146320"/>
            <a:ext cx="2843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Follow the sam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to complete the rem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vertical section 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ontour Maps and Profile (Vertical) Section 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9120" y="2292480"/>
            <a:ext cx="8161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our lines represent constant elevations on the earth’s surface, and generally reference sea level as their dat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le views are vertical sections taken through a contour map which shows variation in elevation on the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lan-Profile drawing combines a portion of a contour map and includes vertical section 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1" name=""/>
          <p:cNvSpPr/>
          <p:nvPr/>
        </p:nvSpPr>
        <p:spPr>
          <a:xfrm>
            <a:off x="3071880" y="77760"/>
            <a:ext cx="2514600" cy="3200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>
            <a:off x="3075120" y="82440"/>
            <a:ext cx="390960" cy="340200"/>
          </a:xfrm>
          <a:custGeom>
            <a:avLst/>
            <a:gdLst/>
            <a:ahLst/>
            <a:rect l="0" t="0" r="r" b="b"/>
            <a:pathLst>
              <a:path fill="none" w="1086" h="945">
                <a:moveTo>
                  <a:pt x="1086" y="0"/>
                </a:moveTo>
                <a:lnTo>
                  <a:pt x="1086" y="70"/>
                </a:lnTo>
                <a:lnTo>
                  <a:pt x="1064" y="140"/>
                </a:lnTo>
                <a:lnTo>
                  <a:pt x="1018" y="233"/>
                </a:lnTo>
                <a:lnTo>
                  <a:pt x="971" y="348"/>
                </a:lnTo>
                <a:lnTo>
                  <a:pt x="947" y="440"/>
                </a:lnTo>
                <a:lnTo>
                  <a:pt x="876" y="489"/>
                </a:lnTo>
                <a:lnTo>
                  <a:pt x="783" y="489"/>
                </a:lnTo>
                <a:lnTo>
                  <a:pt x="690" y="557"/>
                </a:lnTo>
                <a:lnTo>
                  <a:pt x="597" y="581"/>
                </a:lnTo>
                <a:lnTo>
                  <a:pt x="504" y="649"/>
                </a:lnTo>
                <a:lnTo>
                  <a:pt x="458" y="721"/>
                </a:lnTo>
                <a:lnTo>
                  <a:pt x="387" y="743"/>
                </a:lnTo>
                <a:lnTo>
                  <a:pt x="294" y="767"/>
                </a:lnTo>
                <a:lnTo>
                  <a:pt x="201" y="835"/>
                </a:lnTo>
                <a:lnTo>
                  <a:pt x="132" y="906"/>
                </a:lnTo>
                <a:lnTo>
                  <a:pt x="61" y="930"/>
                </a:lnTo>
                <a:lnTo>
                  <a:pt x="0" y="9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>
            <a:off x="3071880" y="82440"/>
            <a:ext cx="568800" cy="2595960"/>
          </a:xfrm>
          <a:custGeom>
            <a:avLst/>
            <a:gdLst/>
            <a:ahLst/>
            <a:rect l="0" t="0" r="r" b="b"/>
            <a:pathLst>
              <a:path fill="none" w="1580" h="7211">
                <a:moveTo>
                  <a:pt x="1571" y="0"/>
                </a:moveTo>
                <a:lnTo>
                  <a:pt x="1580" y="46"/>
                </a:lnTo>
                <a:lnTo>
                  <a:pt x="1558" y="138"/>
                </a:lnTo>
                <a:lnTo>
                  <a:pt x="1558" y="231"/>
                </a:lnTo>
                <a:lnTo>
                  <a:pt x="1558" y="324"/>
                </a:lnTo>
                <a:lnTo>
                  <a:pt x="1488" y="416"/>
                </a:lnTo>
                <a:lnTo>
                  <a:pt x="1441" y="487"/>
                </a:lnTo>
                <a:lnTo>
                  <a:pt x="1371" y="555"/>
                </a:lnTo>
                <a:lnTo>
                  <a:pt x="1278" y="648"/>
                </a:lnTo>
                <a:lnTo>
                  <a:pt x="1256" y="718"/>
                </a:lnTo>
                <a:lnTo>
                  <a:pt x="1210" y="811"/>
                </a:lnTo>
                <a:lnTo>
                  <a:pt x="1162" y="903"/>
                </a:lnTo>
                <a:lnTo>
                  <a:pt x="1116" y="996"/>
                </a:lnTo>
                <a:lnTo>
                  <a:pt x="1070" y="1067"/>
                </a:lnTo>
                <a:lnTo>
                  <a:pt x="999" y="1135"/>
                </a:lnTo>
                <a:lnTo>
                  <a:pt x="977" y="1206"/>
                </a:lnTo>
                <a:lnTo>
                  <a:pt x="907" y="1252"/>
                </a:lnTo>
                <a:lnTo>
                  <a:pt x="860" y="1344"/>
                </a:lnTo>
                <a:lnTo>
                  <a:pt x="790" y="1415"/>
                </a:lnTo>
                <a:lnTo>
                  <a:pt x="697" y="1483"/>
                </a:lnTo>
                <a:lnTo>
                  <a:pt x="651" y="1554"/>
                </a:lnTo>
                <a:lnTo>
                  <a:pt x="605" y="1647"/>
                </a:lnTo>
                <a:lnTo>
                  <a:pt x="536" y="1739"/>
                </a:lnTo>
                <a:lnTo>
                  <a:pt x="488" y="1811"/>
                </a:lnTo>
                <a:lnTo>
                  <a:pt x="394" y="1879"/>
                </a:lnTo>
                <a:lnTo>
                  <a:pt x="326" y="1950"/>
                </a:lnTo>
                <a:lnTo>
                  <a:pt x="255" y="1972"/>
                </a:lnTo>
                <a:lnTo>
                  <a:pt x="187" y="2042"/>
                </a:lnTo>
                <a:lnTo>
                  <a:pt x="116" y="2089"/>
                </a:lnTo>
                <a:lnTo>
                  <a:pt x="70" y="2181"/>
                </a:lnTo>
                <a:lnTo>
                  <a:pt x="24" y="2252"/>
                </a:lnTo>
                <a:lnTo>
                  <a:pt x="0" y="2344"/>
                </a:lnTo>
                <a:lnTo>
                  <a:pt x="46" y="2437"/>
                </a:lnTo>
                <a:lnTo>
                  <a:pt x="94" y="2529"/>
                </a:lnTo>
                <a:lnTo>
                  <a:pt x="116" y="2644"/>
                </a:lnTo>
                <a:lnTo>
                  <a:pt x="141" y="2715"/>
                </a:lnTo>
                <a:lnTo>
                  <a:pt x="163" y="2807"/>
                </a:lnTo>
                <a:lnTo>
                  <a:pt x="209" y="2878"/>
                </a:lnTo>
                <a:lnTo>
                  <a:pt x="255" y="2992"/>
                </a:lnTo>
                <a:lnTo>
                  <a:pt x="326" y="3063"/>
                </a:lnTo>
                <a:lnTo>
                  <a:pt x="372" y="3134"/>
                </a:lnTo>
                <a:lnTo>
                  <a:pt x="419" y="3226"/>
                </a:lnTo>
                <a:lnTo>
                  <a:pt x="466" y="3319"/>
                </a:lnTo>
                <a:lnTo>
                  <a:pt x="536" y="3411"/>
                </a:lnTo>
                <a:lnTo>
                  <a:pt x="583" y="3504"/>
                </a:lnTo>
                <a:lnTo>
                  <a:pt x="605" y="3575"/>
                </a:lnTo>
                <a:lnTo>
                  <a:pt x="651" y="3667"/>
                </a:lnTo>
                <a:lnTo>
                  <a:pt x="651" y="3760"/>
                </a:lnTo>
                <a:lnTo>
                  <a:pt x="651" y="3852"/>
                </a:lnTo>
                <a:lnTo>
                  <a:pt x="651" y="3967"/>
                </a:lnTo>
                <a:lnTo>
                  <a:pt x="675" y="4062"/>
                </a:lnTo>
                <a:lnTo>
                  <a:pt x="697" y="4154"/>
                </a:lnTo>
                <a:lnTo>
                  <a:pt x="768" y="4247"/>
                </a:lnTo>
                <a:lnTo>
                  <a:pt x="836" y="4362"/>
                </a:lnTo>
                <a:lnTo>
                  <a:pt x="882" y="4432"/>
                </a:lnTo>
                <a:lnTo>
                  <a:pt x="907" y="4503"/>
                </a:lnTo>
                <a:lnTo>
                  <a:pt x="977" y="4617"/>
                </a:lnTo>
                <a:lnTo>
                  <a:pt x="1024" y="4688"/>
                </a:lnTo>
                <a:lnTo>
                  <a:pt x="1116" y="4781"/>
                </a:lnTo>
                <a:lnTo>
                  <a:pt x="1162" y="4873"/>
                </a:lnTo>
                <a:lnTo>
                  <a:pt x="1210" y="4944"/>
                </a:lnTo>
                <a:lnTo>
                  <a:pt x="1232" y="5036"/>
                </a:lnTo>
                <a:lnTo>
                  <a:pt x="1278" y="5129"/>
                </a:lnTo>
                <a:lnTo>
                  <a:pt x="1302" y="5222"/>
                </a:lnTo>
                <a:lnTo>
                  <a:pt x="1302" y="5314"/>
                </a:lnTo>
                <a:lnTo>
                  <a:pt x="1302" y="5385"/>
                </a:lnTo>
                <a:lnTo>
                  <a:pt x="1324" y="5547"/>
                </a:lnTo>
                <a:lnTo>
                  <a:pt x="1349" y="5617"/>
                </a:lnTo>
                <a:lnTo>
                  <a:pt x="1349" y="5732"/>
                </a:lnTo>
                <a:lnTo>
                  <a:pt x="1324" y="5849"/>
                </a:lnTo>
                <a:lnTo>
                  <a:pt x="1324" y="5919"/>
                </a:lnTo>
                <a:lnTo>
                  <a:pt x="1302" y="6012"/>
                </a:lnTo>
                <a:lnTo>
                  <a:pt x="1232" y="6080"/>
                </a:lnTo>
                <a:lnTo>
                  <a:pt x="1210" y="6151"/>
                </a:lnTo>
                <a:lnTo>
                  <a:pt x="1138" y="6221"/>
                </a:lnTo>
                <a:lnTo>
                  <a:pt x="1070" y="6314"/>
                </a:lnTo>
                <a:lnTo>
                  <a:pt x="999" y="6382"/>
                </a:lnTo>
                <a:lnTo>
                  <a:pt x="953" y="6453"/>
                </a:lnTo>
                <a:lnTo>
                  <a:pt x="882" y="6568"/>
                </a:lnTo>
                <a:lnTo>
                  <a:pt x="836" y="6638"/>
                </a:lnTo>
                <a:lnTo>
                  <a:pt x="814" y="6709"/>
                </a:lnTo>
                <a:lnTo>
                  <a:pt x="814" y="6801"/>
                </a:lnTo>
                <a:lnTo>
                  <a:pt x="790" y="6894"/>
                </a:lnTo>
                <a:lnTo>
                  <a:pt x="697" y="6940"/>
                </a:lnTo>
                <a:lnTo>
                  <a:pt x="605" y="7009"/>
                </a:lnTo>
                <a:lnTo>
                  <a:pt x="536" y="7079"/>
                </a:lnTo>
                <a:lnTo>
                  <a:pt x="466" y="7079"/>
                </a:lnTo>
                <a:lnTo>
                  <a:pt x="372" y="7079"/>
                </a:lnTo>
                <a:lnTo>
                  <a:pt x="302" y="7079"/>
                </a:lnTo>
                <a:lnTo>
                  <a:pt x="209" y="7125"/>
                </a:lnTo>
                <a:lnTo>
                  <a:pt x="141" y="7196"/>
                </a:lnTo>
                <a:lnTo>
                  <a:pt x="6" y="721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>
            <a:off x="3081240" y="82440"/>
            <a:ext cx="776520" cy="2916720"/>
          </a:xfrm>
          <a:custGeom>
            <a:avLst/>
            <a:gdLst/>
            <a:ahLst/>
            <a:rect l="0" t="0" r="r" b="b"/>
            <a:pathLst>
              <a:path fill="none" w="2157" h="8102">
                <a:moveTo>
                  <a:pt x="2157" y="0"/>
                </a:moveTo>
                <a:lnTo>
                  <a:pt x="2157" y="94"/>
                </a:lnTo>
                <a:lnTo>
                  <a:pt x="2157" y="187"/>
                </a:lnTo>
                <a:lnTo>
                  <a:pt x="2157" y="302"/>
                </a:lnTo>
                <a:lnTo>
                  <a:pt x="2133" y="372"/>
                </a:lnTo>
                <a:lnTo>
                  <a:pt x="2086" y="465"/>
                </a:lnTo>
                <a:lnTo>
                  <a:pt x="2040" y="535"/>
                </a:lnTo>
                <a:lnTo>
                  <a:pt x="1972" y="628"/>
                </a:lnTo>
                <a:lnTo>
                  <a:pt x="1926" y="720"/>
                </a:lnTo>
                <a:lnTo>
                  <a:pt x="1879" y="813"/>
                </a:lnTo>
                <a:lnTo>
                  <a:pt x="1809" y="906"/>
                </a:lnTo>
                <a:lnTo>
                  <a:pt x="1785" y="976"/>
                </a:lnTo>
                <a:lnTo>
                  <a:pt x="1716" y="1069"/>
                </a:lnTo>
                <a:lnTo>
                  <a:pt x="1646" y="1137"/>
                </a:lnTo>
                <a:lnTo>
                  <a:pt x="1600" y="1208"/>
                </a:lnTo>
                <a:lnTo>
                  <a:pt x="1507" y="1300"/>
                </a:lnTo>
                <a:lnTo>
                  <a:pt x="1461" y="1371"/>
                </a:lnTo>
                <a:lnTo>
                  <a:pt x="1415" y="1464"/>
                </a:lnTo>
                <a:lnTo>
                  <a:pt x="1368" y="1556"/>
                </a:lnTo>
                <a:lnTo>
                  <a:pt x="1344" y="1649"/>
                </a:lnTo>
                <a:lnTo>
                  <a:pt x="1276" y="1741"/>
                </a:lnTo>
                <a:lnTo>
                  <a:pt x="1252" y="1812"/>
                </a:lnTo>
                <a:lnTo>
                  <a:pt x="1183" y="1905"/>
                </a:lnTo>
                <a:lnTo>
                  <a:pt x="1137" y="1997"/>
                </a:lnTo>
                <a:lnTo>
                  <a:pt x="1091" y="2113"/>
                </a:lnTo>
                <a:lnTo>
                  <a:pt x="1091" y="2183"/>
                </a:lnTo>
                <a:lnTo>
                  <a:pt x="1091" y="2254"/>
                </a:lnTo>
                <a:lnTo>
                  <a:pt x="1091" y="2346"/>
                </a:lnTo>
                <a:lnTo>
                  <a:pt x="1044" y="2439"/>
                </a:lnTo>
                <a:lnTo>
                  <a:pt x="1019" y="2554"/>
                </a:lnTo>
                <a:lnTo>
                  <a:pt x="1066" y="2646"/>
                </a:lnTo>
                <a:lnTo>
                  <a:pt x="1113" y="2741"/>
                </a:lnTo>
                <a:lnTo>
                  <a:pt x="1159" y="2834"/>
                </a:lnTo>
                <a:lnTo>
                  <a:pt x="1183" y="2926"/>
                </a:lnTo>
                <a:lnTo>
                  <a:pt x="1252" y="3019"/>
                </a:lnTo>
                <a:lnTo>
                  <a:pt x="1298" y="3136"/>
                </a:lnTo>
                <a:lnTo>
                  <a:pt x="1368" y="3228"/>
                </a:lnTo>
                <a:lnTo>
                  <a:pt x="1439" y="3297"/>
                </a:lnTo>
                <a:lnTo>
                  <a:pt x="1485" y="3389"/>
                </a:lnTo>
                <a:lnTo>
                  <a:pt x="1531" y="3460"/>
                </a:lnTo>
                <a:lnTo>
                  <a:pt x="1578" y="3577"/>
                </a:lnTo>
                <a:lnTo>
                  <a:pt x="1646" y="3716"/>
                </a:lnTo>
                <a:lnTo>
                  <a:pt x="1716" y="3808"/>
                </a:lnTo>
                <a:lnTo>
                  <a:pt x="1738" y="3901"/>
                </a:lnTo>
                <a:lnTo>
                  <a:pt x="1763" y="3994"/>
                </a:lnTo>
                <a:lnTo>
                  <a:pt x="1763" y="4064"/>
                </a:lnTo>
                <a:lnTo>
                  <a:pt x="1785" y="4157"/>
                </a:lnTo>
                <a:lnTo>
                  <a:pt x="1833" y="4249"/>
                </a:lnTo>
                <a:lnTo>
                  <a:pt x="1926" y="4364"/>
                </a:lnTo>
                <a:lnTo>
                  <a:pt x="1926" y="4434"/>
                </a:lnTo>
                <a:lnTo>
                  <a:pt x="1948" y="4505"/>
                </a:lnTo>
                <a:lnTo>
                  <a:pt x="1972" y="4598"/>
                </a:lnTo>
                <a:lnTo>
                  <a:pt x="1972" y="4690"/>
                </a:lnTo>
                <a:lnTo>
                  <a:pt x="1948" y="4783"/>
                </a:lnTo>
                <a:lnTo>
                  <a:pt x="1926" y="4875"/>
                </a:lnTo>
                <a:lnTo>
                  <a:pt x="1926" y="4946"/>
                </a:lnTo>
                <a:lnTo>
                  <a:pt x="1901" y="5039"/>
                </a:lnTo>
                <a:lnTo>
                  <a:pt x="1879" y="5153"/>
                </a:lnTo>
                <a:lnTo>
                  <a:pt x="1901" y="5246"/>
                </a:lnTo>
                <a:lnTo>
                  <a:pt x="1901" y="5316"/>
                </a:lnTo>
                <a:lnTo>
                  <a:pt x="1901" y="5387"/>
                </a:lnTo>
                <a:lnTo>
                  <a:pt x="1901" y="5480"/>
                </a:lnTo>
                <a:lnTo>
                  <a:pt x="1879" y="5572"/>
                </a:lnTo>
                <a:lnTo>
                  <a:pt x="1855" y="5665"/>
                </a:lnTo>
                <a:lnTo>
                  <a:pt x="1833" y="5757"/>
                </a:lnTo>
                <a:lnTo>
                  <a:pt x="1809" y="5850"/>
                </a:lnTo>
                <a:lnTo>
                  <a:pt x="1785" y="5943"/>
                </a:lnTo>
                <a:lnTo>
                  <a:pt x="1763" y="6013"/>
                </a:lnTo>
                <a:lnTo>
                  <a:pt x="1738" y="6107"/>
                </a:lnTo>
                <a:lnTo>
                  <a:pt x="1716" y="6199"/>
                </a:lnTo>
                <a:lnTo>
                  <a:pt x="1692" y="6292"/>
                </a:lnTo>
                <a:lnTo>
                  <a:pt x="1692" y="6363"/>
                </a:lnTo>
                <a:lnTo>
                  <a:pt x="1624" y="6523"/>
                </a:lnTo>
                <a:lnTo>
                  <a:pt x="1600" y="6594"/>
                </a:lnTo>
                <a:lnTo>
                  <a:pt x="1553" y="6711"/>
                </a:lnTo>
                <a:lnTo>
                  <a:pt x="1507" y="6803"/>
                </a:lnTo>
                <a:lnTo>
                  <a:pt x="1461" y="6918"/>
                </a:lnTo>
                <a:lnTo>
                  <a:pt x="1393" y="7035"/>
                </a:lnTo>
                <a:lnTo>
                  <a:pt x="1322" y="7267"/>
                </a:lnTo>
                <a:lnTo>
                  <a:pt x="1298" y="7337"/>
                </a:lnTo>
                <a:lnTo>
                  <a:pt x="1183" y="7405"/>
                </a:lnTo>
                <a:lnTo>
                  <a:pt x="1113" y="7452"/>
                </a:lnTo>
                <a:lnTo>
                  <a:pt x="1019" y="7522"/>
                </a:lnTo>
                <a:lnTo>
                  <a:pt x="788" y="7593"/>
                </a:lnTo>
                <a:lnTo>
                  <a:pt x="696" y="7639"/>
                </a:lnTo>
                <a:lnTo>
                  <a:pt x="603" y="7661"/>
                </a:lnTo>
                <a:lnTo>
                  <a:pt x="462" y="7707"/>
                </a:lnTo>
                <a:lnTo>
                  <a:pt x="370" y="7754"/>
                </a:lnTo>
                <a:lnTo>
                  <a:pt x="277" y="7824"/>
                </a:lnTo>
                <a:lnTo>
                  <a:pt x="209" y="7917"/>
                </a:lnTo>
                <a:lnTo>
                  <a:pt x="138" y="7963"/>
                </a:lnTo>
                <a:lnTo>
                  <a:pt x="46" y="8010"/>
                </a:lnTo>
                <a:lnTo>
                  <a:pt x="0" y="81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>
            <a:off x="3075120" y="358920"/>
            <a:ext cx="1010160" cy="2832480"/>
          </a:xfrm>
          <a:custGeom>
            <a:avLst/>
            <a:gdLst/>
            <a:ahLst/>
            <a:rect l="0" t="0" r="r" b="b"/>
            <a:pathLst>
              <a:path fill="none" w="2806" h="7868">
                <a:moveTo>
                  <a:pt x="2806" y="0"/>
                </a:moveTo>
                <a:lnTo>
                  <a:pt x="2729" y="141"/>
                </a:lnTo>
                <a:lnTo>
                  <a:pt x="2689" y="185"/>
                </a:lnTo>
                <a:lnTo>
                  <a:pt x="2663" y="218"/>
                </a:lnTo>
                <a:lnTo>
                  <a:pt x="2647" y="271"/>
                </a:lnTo>
                <a:lnTo>
                  <a:pt x="2636" y="313"/>
                </a:lnTo>
                <a:lnTo>
                  <a:pt x="2614" y="352"/>
                </a:lnTo>
                <a:lnTo>
                  <a:pt x="2601" y="399"/>
                </a:lnTo>
                <a:lnTo>
                  <a:pt x="2581" y="432"/>
                </a:lnTo>
                <a:lnTo>
                  <a:pt x="2555" y="463"/>
                </a:lnTo>
                <a:lnTo>
                  <a:pt x="2495" y="515"/>
                </a:lnTo>
                <a:lnTo>
                  <a:pt x="2431" y="582"/>
                </a:lnTo>
                <a:lnTo>
                  <a:pt x="2398" y="637"/>
                </a:lnTo>
                <a:lnTo>
                  <a:pt x="2389" y="674"/>
                </a:lnTo>
                <a:lnTo>
                  <a:pt x="2363" y="754"/>
                </a:lnTo>
                <a:lnTo>
                  <a:pt x="2296" y="820"/>
                </a:lnTo>
                <a:lnTo>
                  <a:pt x="2230" y="926"/>
                </a:lnTo>
                <a:lnTo>
                  <a:pt x="2204" y="952"/>
                </a:lnTo>
                <a:lnTo>
                  <a:pt x="2177" y="1031"/>
                </a:lnTo>
                <a:lnTo>
                  <a:pt x="2151" y="1084"/>
                </a:lnTo>
                <a:lnTo>
                  <a:pt x="2097" y="1150"/>
                </a:lnTo>
                <a:lnTo>
                  <a:pt x="2097" y="1243"/>
                </a:lnTo>
                <a:lnTo>
                  <a:pt x="2057" y="1389"/>
                </a:lnTo>
                <a:lnTo>
                  <a:pt x="2057" y="1375"/>
                </a:lnTo>
                <a:lnTo>
                  <a:pt x="2031" y="1481"/>
                </a:lnTo>
                <a:lnTo>
                  <a:pt x="1991" y="1413"/>
                </a:lnTo>
                <a:lnTo>
                  <a:pt x="2057" y="1666"/>
                </a:lnTo>
                <a:lnTo>
                  <a:pt x="2111" y="1746"/>
                </a:lnTo>
                <a:lnTo>
                  <a:pt x="2070" y="1799"/>
                </a:lnTo>
                <a:lnTo>
                  <a:pt x="2111" y="1905"/>
                </a:lnTo>
                <a:lnTo>
                  <a:pt x="2124" y="1985"/>
                </a:lnTo>
                <a:lnTo>
                  <a:pt x="2164" y="2051"/>
                </a:lnTo>
                <a:lnTo>
                  <a:pt x="2217" y="2130"/>
                </a:lnTo>
                <a:lnTo>
                  <a:pt x="2257" y="2197"/>
                </a:lnTo>
                <a:lnTo>
                  <a:pt x="2296" y="2276"/>
                </a:lnTo>
                <a:lnTo>
                  <a:pt x="2310" y="2342"/>
                </a:lnTo>
                <a:lnTo>
                  <a:pt x="2323" y="2382"/>
                </a:lnTo>
                <a:lnTo>
                  <a:pt x="2310" y="2448"/>
                </a:lnTo>
                <a:lnTo>
                  <a:pt x="2296" y="2554"/>
                </a:lnTo>
                <a:lnTo>
                  <a:pt x="2283" y="2673"/>
                </a:lnTo>
                <a:lnTo>
                  <a:pt x="2243" y="2752"/>
                </a:lnTo>
                <a:lnTo>
                  <a:pt x="2177" y="2829"/>
                </a:lnTo>
                <a:lnTo>
                  <a:pt x="2177" y="2900"/>
                </a:lnTo>
                <a:lnTo>
                  <a:pt x="2199" y="2992"/>
                </a:lnTo>
                <a:lnTo>
                  <a:pt x="2224" y="3085"/>
                </a:lnTo>
                <a:lnTo>
                  <a:pt x="2224" y="3178"/>
                </a:lnTo>
                <a:lnTo>
                  <a:pt x="2224" y="3248"/>
                </a:lnTo>
                <a:lnTo>
                  <a:pt x="2224" y="3341"/>
                </a:lnTo>
                <a:lnTo>
                  <a:pt x="2246" y="3456"/>
                </a:lnTo>
                <a:lnTo>
                  <a:pt x="2270" y="3526"/>
                </a:lnTo>
                <a:lnTo>
                  <a:pt x="2316" y="3619"/>
                </a:lnTo>
                <a:lnTo>
                  <a:pt x="2340" y="3711"/>
                </a:lnTo>
                <a:lnTo>
                  <a:pt x="2363" y="3782"/>
                </a:lnTo>
                <a:lnTo>
                  <a:pt x="2387" y="3896"/>
                </a:lnTo>
                <a:lnTo>
                  <a:pt x="2409" y="3967"/>
                </a:lnTo>
                <a:lnTo>
                  <a:pt x="2409" y="4106"/>
                </a:lnTo>
                <a:lnTo>
                  <a:pt x="2409" y="4223"/>
                </a:lnTo>
                <a:lnTo>
                  <a:pt x="2409" y="4315"/>
                </a:lnTo>
                <a:lnTo>
                  <a:pt x="2409" y="4454"/>
                </a:lnTo>
                <a:lnTo>
                  <a:pt x="2433" y="4686"/>
                </a:lnTo>
                <a:lnTo>
                  <a:pt x="2433" y="4803"/>
                </a:lnTo>
                <a:lnTo>
                  <a:pt x="2433" y="5034"/>
                </a:lnTo>
                <a:lnTo>
                  <a:pt x="2409" y="5105"/>
                </a:lnTo>
                <a:lnTo>
                  <a:pt x="2363" y="5197"/>
                </a:lnTo>
                <a:lnTo>
                  <a:pt x="2270" y="5546"/>
                </a:lnTo>
                <a:lnTo>
                  <a:pt x="2199" y="5660"/>
                </a:lnTo>
                <a:lnTo>
                  <a:pt x="2177" y="5731"/>
                </a:lnTo>
                <a:lnTo>
                  <a:pt x="2131" y="6475"/>
                </a:lnTo>
                <a:lnTo>
                  <a:pt x="2084" y="6568"/>
                </a:lnTo>
                <a:lnTo>
                  <a:pt x="2013" y="6636"/>
                </a:lnTo>
                <a:lnTo>
                  <a:pt x="1945" y="6706"/>
                </a:lnTo>
                <a:lnTo>
                  <a:pt x="1898" y="6777"/>
                </a:lnTo>
                <a:lnTo>
                  <a:pt x="1828" y="6845"/>
                </a:lnTo>
                <a:lnTo>
                  <a:pt x="1757" y="6892"/>
                </a:lnTo>
                <a:lnTo>
                  <a:pt x="1642" y="7009"/>
                </a:lnTo>
                <a:lnTo>
                  <a:pt x="1572" y="7101"/>
                </a:lnTo>
                <a:lnTo>
                  <a:pt x="852" y="7425"/>
                </a:lnTo>
                <a:lnTo>
                  <a:pt x="782" y="7450"/>
                </a:lnTo>
                <a:lnTo>
                  <a:pt x="688" y="7450"/>
                </a:lnTo>
                <a:lnTo>
                  <a:pt x="573" y="7542"/>
                </a:lnTo>
                <a:lnTo>
                  <a:pt x="503" y="7610"/>
                </a:lnTo>
                <a:lnTo>
                  <a:pt x="432" y="7635"/>
                </a:lnTo>
                <a:lnTo>
                  <a:pt x="339" y="7659"/>
                </a:lnTo>
                <a:lnTo>
                  <a:pt x="247" y="7705"/>
                </a:lnTo>
                <a:lnTo>
                  <a:pt x="154" y="7727"/>
                </a:lnTo>
                <a:lnTo>
                  <a:pt x="132" y="7798"/>
                </a:lnTo>
                <a:lnTo>
                  <a:pt x="61" y="7844"/>
                </a:lnTo>
                <a:lnTo>
                  <a:pt x="0" y="786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3076560" y="1733400"/>
            <a:ext cx="179640" cy="592560"/>
          </a:xfrm>
          <a:custGeom>
            <a:avLst/>
            <a:gdLst/>
            <a:ahLst/>
            <a:rect l="0" t="0" r="r" b="b"/>
            <a:pathLst>
              <a:path fill="none" w="499" h="1646">
                <a:moveTo>
                  <a:pt x="0" y="0"/>
                </a:moveTo>
                <a:lnTo>
                  <a:pt x="26" y="79"/>
                </a:lnTo>
                <a:lnTo>
                  <a:pt x="48" y="163"/>
                </a:lnTo>
                <a:lnTo>
                  <a:pt x="81" y="240"/>
                </a:lnTo>
                <a:lnTo>
                  <a:pt x="127" y="310"/>
                </a:lnTo>
                <a:lnTo>
                  <a:pt x="220" y="357"/>
                </a:lnTo>
                <a:lnTo>
                  <a:pt x="314" y="403"/>
                </a:lnTo>
                <a:lnTo>
                  <a:pt x="406" y="472"/>
                </a:lnTo>
                <a:lnTo>
                  <a:pt x="452" y="543"/>
                </a:lnTo>
                <a:lnTo>
                  <a:pt x="499" y="636"/>
                </a:lnTo>
                <a:lnTo>
                  <a:pt x="499" y="728"/>
                </a:lnTo>
                <a:lnTo>
                  <a:pt x="499" y="799"/>
                </a:lnTo>
                <a:lnTo>
                  <a:pt x="475" y="913"/>
                </a:lnTo>
                <a:lnTo>
                  <a:pt x="406" y="984"/>
                </a:lnTo>
                <a:lnTo>
                  <a:pt x="336" y="1052"/>
                </a:lnTo>
                <a:lnTo>
                  <a:pt x="314" y="1123"/>
                </a:lnTo>
                <a:lnTo>
                  <a:pt x="314" y="1193"/>
                </a:lnTo>
                <a:lnTo>
                  <a:pt x="267" y="1287"/>
                </a:lnTo>
                <a:lnTo>
                  <a:pt x="196" y="1333"/>
                </a:lnTo>
                <a:lnTo>
                  <a:pt x="127" y="1426"/>
                </a:lnTo>
                <a:lnTo>
                  <a:pt x="57" y="1494"/>
                </a:lnTo>
                <a:lnTo>
                  <a:pt x="0" y="164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>
            <a:off x="3456000" y="642960"/>
            <a:ext cx="878400" cy="2630880"/>
          </a:xfrm>
          <a:custGeom>
            <a:avLst/>
            <a:gdLst/>
            <a:ahLst/>
            <a:rect l="0" t="0" r="r" b="b"/>
            <a:pathLst>
              <a:path fill="none" w="2440" h="7308">
                <a:moveTo>
                  <a:pt x="1606" y="0"/>
                </a:moveTo>
                <a:lnTo>
                  <a:pt x="1625" y="244"/>
                </a:lnTo>
                <a:lnTo>
                  <a:pt x="1606" y="330"/>
                </a:lnTo>
                <a:lnTo>
                  <a:pt x="1612" y="383"/>
                </a:lnTo>
                <a:lnTo>
                  <a:pt x="1619" y="443"/>
                </a:lnTo>
                <a:lnTo>
                  <a:pt x="1639" y="482"/>
                </a:lnTo>
                <a:lnTo>
                  <a:pt x="1652" y="509"/>
                </a:lnTo>
                <a:lnTo>
                  <a:pt x="1652" y="555"/>
                </a:lnTo>
                <a:lnTo>
                  <a:pt x="1652" y="562"/>
                </a:lnTo>
                <a:lnTo>
                  <a:pt x="1645" y="568"/>
                </a:lnTo>
                <a:lnTo>
                  <a:pt x="1639" y="595"/>
                </a:lnTo>
                <a:lnTo>
                  <a:pt x="1619" y="634"/>
                </a:lnTo>
                <a:lnTo>
                  <a:pt x="1592" y="641"/>
                </a:lnTo>
                <a:lnTo>
                  <a:pt x="1606" y="694"/>
                </a:lnTo>
                <a:lnTo>
                  <a:pt x="1606" y="727"/>
                </a:lnTo>
                <a:lnTo>
                  <a:pt x="1592" y="753"/>
                </a:lnTo>
                <a:lnTo>
                  <a:pt x="1573" y="826"/>
                </a:lnTo>
                <a:lnTo>
                  <a:pt x="1553" y="872"/>
                </a:lnTo>
                <a:lnTo>
                  <a:pt x="1539" y="952"/>
                </a:lnTo>
                <a:lnTo>
                  <a:pt x="1539" y="1018"/>
                </a:lnTo>
                <a:lnTo>
                  <a:pt x="1533" y="1110"/>
                </a:lnTo>
                <a:lnTo>
                  <a:pt x="1522" y="1166"/>
                </a:lnTo>
                <a:lnTo>
                  <a:pt x="1588" y="1227"/>
                </a:lnTo>
                <a:lnTo>
                  <a:pt x="1619" y="1298"/>
                </a:lnTo>
                <a:lnTo>
                  <a:pt x="1654" y="1364"/>
                </a:lnTo>
                <a:lnTo>
                  <a:pt x="1667" y="1430"/>
                </a:lnTo>
                <a:lnTo>
                  <a:pt x="1767" y="1507"/>
                </a:lnTo>
                <a:lnTo>
                  <a:pt x="1767" y="1578"/>
                </a:lnTo>
                <a:lnTo>
                  <a:pt x="1813" y="1692"/>
                </a:lnTo>
                <a:lnTo>
                  <a:pt x="1836" y="1763"/>
                </a:lnTo>
                <a:lnTo>
                  <a:pt x="1907" y="1878"/>
                </a:lnTo>
                <a:lnTo>
                  <a:pt x="1953" y="1949"/>
                </a:lnTo>
                <a:lnTo>
                  <a:pt x="1999" y="2042"/>
                </a:lnTo>
                <a:lnTo>
                  <a:pt x="2021" y="2112"/>
                </a:lnTo>
                <a:lnTo>
                  <a:pt x="2067" y="2205"/>
                </a:lnTo>
                <a:lnTo>
                  <a:pt x="2092" y="2297"/>
                </a:lnTo>
                <a:lnTo>
                  <a:pt x="2138" y="2390"/>
                </a:lnTo>
                <a:lnTo>
                  <a:pt x="2162" y="2482"/>
                </a:lnTo>
                <a:lnTo>
                  <a:pt x="2184" y="2553"/>
                </a:lnTo>
                <a:lnTo>
                  <a:pt x="2209" y="2646"/>
                </a:lnTo>
                <a:lnTo>
                  <a:pt x="2255" y="2784"/>
                </a:lnTo>
                <a:lnTo>
                  <a:pt x="2277" y="2901"/>
                </a:lnTo>
                <a:lnTo>
                  <a:pt x="2277" y="2994"/>
                </a:lnTo>
                <a:lnTo>
                  <a:pt x="2323" y="3086"/>
                </a:lnTo>
                <a:lnTo>
                  <a:pt x="2323" y="3201"/>
                </a:lnTo>
                <a:lnTo>
                  <a:pt x="2323" y="3272"/>
                </a:lnTo>
                <a:lnTo>
                  <a:pt x="2323" y="3364"/>
                </a:lnTo>
                <a:lnTo>
                  <a:pt x="2323" y="3457"/>
                </a:lnTo>
                <a:lnTo>
                  <a:pt x="2323" y="3527"/>
                </a:lnTo>
                <a:lnTo>
                  <a:pt x="2323" y="3688"/>
                </a:lnTo>
                <a:lnTo>
                  <a:pt x="2323" y="3759"/>
                </a:lnTo>
                <a:lnTo>
                  <a:pt x="2277" y="3829"/>
                </a:lnTo>
                <a:lnTo>
                  <a:pt x="2231" y="3944"/>
                </a:lnTo>
                <a:lnTo>
                  <a:pt x="2301" y="4153"/>
                </a:lnTo>
                <a:lnTo>
                  <a:pt x="2440" y="4292"/>
                </a:lnTo>
                <a:lnTo>
                  <a:pt x="2440" y="4409"/>
                </a:lnTo>
                <a:lnTo>
                  <a:pt x="2440" y="4455"/>
                </a:lnTo>
                <a:lnTo>
                  <a:pt x="2440" y="4455"/>
                </a:lnTo>
                <a:lnTo>
                  <a:pt x="2323" y="4548"/>
                </a:lnTo>
                <a:lnTo>
                  <a:pt x="2323" y="4640"/>
                </a:lnTo>
                <a:lnTo>
                  <a:pt x="2277" y="4733"/>
                </a:lnTo>
                <a:lnTo>
                  <a:pt x="2231" y="4825"/>
                </a:lnTo>
                <a:lnTo>
                  <a:pt x="2162" y="4872"/>
                </a:lnTo>
                <a:lnTo>
                  <a:pt x="2045" y="4964"/>
                </a:lnTo>
                <a:lnTo>
                  <a:pt x="1999" y="5081"/>
                </a:lnTo>
                <a:lnTo>
                  <a:pt x="1975" y="5152"/>
                </a:lnTo>
                <a:lnTo>
                  <a:pt x="1929" y="5429"/>
                </a:lnTo>
                <a:lnTo>
                  <a:pt x="1882" y="5569"/>
                </a:lnTo>
                <a:lnTo>
                  <a:pt x="1860" y="5640"/>
                </a:lnTo>
                <a:lnTo>
                  <a:pt x="1789" y="5871"/>
                </a:lnTo>
                <a:lnTo>
                  <a:pt x="1720" y="5988"/>
                </a:lnTo>
                <a:lnTo>
                  <a:pt x="1625" y="6081"/>
                </a:lnTo>
                <a:lnTo>
                  <a:pt x="1487" y="6220"/>
                </a:lnTo>
                <a:lnTo>
                  <a:pt x="1418" y="6334"/>
                </a:lnTo>
                <a:lnTo>
                  <a:pt x="1348" y="6380"/>
                </a:lnTo>
                <a:lnTo>
                  <a:pt x="1209" y="6475"/>
                </a:lnTo>
                <a:lnTo>
                  <a:pt x="1138" y="6522"/>
                </a:lnTo>
                <a:lnTo>
                  <a:pt x="1024" y="6568"/>
                </a:lnTo>
                <a:lnTo>
                  <a:pt x="931" y="6660"/>
                </a:lnTo>
                <a:lnTo>
                  <a:pt x="860" y="6682"/>
                </a:lnTo>
                <a:lnTo>
                  <a:pt x="792" y="6753"/>
                </a:lnTo>
                <a:lnTo>
                  <a:pt x="721" y="6775"/>
                </a:lnTo>
                <a:lnTo>
                  <a:pt x="651" y="6821"/>
                </a:lnTo>
                <a:lnTo>
                  <a:pt x="582" y="6892"/>
                </a:lnTo>
                <a:lnTo>
                  <a:pt x="489" y="7009"/>
                </a:lnTo>
                <a:lnTo>
                  <a:pt x="418" y="7055"/>
                </a:lnTo>
                <a:lnTo>
                  <a:pt x="326" y="7101"/>
                </a:lnTo>
                <a:lnTo>
                  <a:pt x="255" y="7148"/>
                </a:lnTo>
                <a:lnTo>
                  <a:pt x="141" y="7216"/>
                </a:lnTo>
                <a:lnTo>
                  <a:pt x="0" y="730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"/>
          <p:cNvSpPr/>
          <p:nvPr/>
        </p:nvSpPr>
        <p:spPr>
          <a:xfrm>
            <a:off x="3760920" y="1309680"/>
            <a:ext cx="725760" cy="1962360"/>
          </a:xfrm>
          <a:custGeom>
            <a:avLst/>
            <a:gdLst/>
            <a:ahLst/>
            <a:rect l="0" t="0" r="r" b="b"/>
            <a:pathLst>
              <a:path fill="none" w="2016" h="5451">
                <a:moveTo>
                  <a:pt x="1150" y="0"/>
                </a:moveTo>
                <a:lnTo>
                  <a:pt x="1183" y="46"/>
                </a:lnTo>
                <a:lnTo>
                  <a:pt x="1229" y="125"/>
                </a:lnTo>
                <a:lnTo>
                  <a:pt x="1249" y="231"/>
                </a:lnTo>
                <a:lnTo>
                  <a:pt x="1302" y="277"/>
                </a:lnTo>
                <a:lnTo>
                  <a:pt x="1362" y="392"/>
                </a:lnTo>
                <a:lnTo>
                  <a:pt x="1430" y="485"/>
                </a:lnTo>
                <a:lnTo>
                  <a:pt x="1476" y="577"/>
                </a:lnTo>
                <a:lnTo>
                  <a:pt x="1522" y="648"/>
                </a:lnTo>
                <a:lnTo>
                  <a:pt x="1569" y="740"/>
                </a:lnTo>
                <a:lnTo>
                  <a:pt x="1639" y="809"/>
                </a:lnTo>
                <a:lnTo>
                  <a:pt x="1661" y="879"/>
                </a:lnTo>
                <a:lnTo>
                  <a:pt x="1732" y="972"/>
                </a:lnTo>
                <a:lnTo>
                  <a:pt x="1756" y="1042"/>
                </a:lnTo>
                <a:lnTo>
                  <a:pt x="1802" y="1135"/>
                </a:lnTo>
                <a:lnTo>
                  <a:pt x="1848" y="1250"/>
                </a:lnTo>
                <a:lnTo>
                  <a:pt x="1870" y="1320"/>
                </a:lnTo>
                <a:lnTo>
                  <a:pt x="1917" y="1413"/>
                </a:lnTo>
                <a:lnTo>
                  <a:pt x="1917" y="1483"/>
                </a:lnTo>
                <a:lnTo>
                  <a:pt x="1941" y="1576"/>
                </a:lnTo>
                <a:lnTo>
                  <a:pt x="1941" y="1669"/>
                </a:lnTo>
                <a:lnTo>
                  <a:pt x="1941" y="1830"/>
                </a:lnTo>
                <a:lnTo>
                  <a:pt x="1941" y="1900"/>
                </a:lnTo>
                <a:lnTo>
                  <a:pt x="1941" y="1971"/>
                </a:lnTo>
                <a:lnTo>
                  <a:pt x="1941" y="2063"/>
                </a:lnTo>
                <a:lnTo>
                  <a:pt x="1963" y="2156"/>
                </a:lnTo>
                <a:lnTo>
                  <a:pt x="1943" y="2288"/>
                </a:lnTo>
                <a:lnTo>
                  <a:pt x="1950" y="2341"/>
                </a:lnTo>
                <a:lnTo>
                  <a:pt x="1956" y="2374"/>
                </a:lnTo>
                <a:lnTo>
                  <a:pt x="1969" y="2414"/>
                </a:lnTo>
                <a:lnTo>
                  <a:pt x="1983" y="2460"/>
                </a:lnTo>
                <a:lnTo>
                  <a:pt x="2003" y="2533"/>
                </a:lnTo>
                <a:lnTo>
                  <a:pt x="2009" y="2579"/>
                </a:lnTo>
                <a:lnTo>
                  <a:pt x="2016" y="2672"/>
                </a:lnTo>
                <a:lnTo>
                  <a:pt x="1989" y="2739"/>
                </a:lnTo>
                <a:lnTo>
                  <a:pt x="1943" y="2818"/>
                </a:lnTo>
                <a:lnTo>
                  <a:pt x="1884" y="2937"/>
                </a:lnTo>
                <a:lnTo>
                  <a:pt x="1837" y="3010"/>
                </a:lnTo>
                <a:lnTo>
                  <a:pt x="1798" y="3063"/>
                </a:lnTo>
                <a:lnTo>
                  <a:pt x="1725" y="3096"/>
                </a:lnTo>
                <a:lnTo>
                  <a:pt x="1666" y="3156"/>
                </a:lnTo>
                <a:lnTo>
                  <a:pt x="1619" y="3189"/>
                </a:lnTo>
                <a:lnTo>
                  <a:pt x="1573" y="3235"/>
                </a:lnTo>
                <a:lnTo>
                  <a:pt x="1520" y="3301"/>
                </a:lnTo>
                <a:lnTo>
                  <a:pt x="1500" y="3374"/>
                </a:lnTo>
                <a:lnTo>
                  <a:pt x="1487" y="3453"/>
                </a:lnTo>
                <a:lnTo>
                  <a:pt x="1454" y="3533"/>
                </a:lnTo>
                <a:lnTo>
                  <a:pt x="1414" y="3619"/>
                </a:lnTo>
                <a:lnTo>
                  <a:pt x="1375" y="3751"/>
                </a:lnTo>
                <a:lnTo>
                  <a:pt x="1348" y="3844"/>
                </a:lnTo>
                <a:lnTo>
                  <a:pt x="1282" y="3969"/>
                </a:lnTo>
                <a:lnTo>
                  <a:pt x="1216" y="4102"/>
                </a:lnTo>
                <a:lnTo>
                  <a:pt x="1157" y="4214"/>
                </a:lnTo>
                <a:lnTo>
                  <a:pt x="1124" y="4326"/>
                </a:lnTo>
                <a:lnTo>
                  <a:pt x="1097" y="4406"/>
                </a:lnTo>
                <a:lnTo>
                  <a:pt x="1011" y="4498"/>
                </a:lnTo>
                <a:lnTo>
                  <a:pt x="931" y="4604"/>
                </a:lnTo>
                <a:lnTo>
                  <a:pt x="759" y="4703"/>
                </a:lnTo>
                <a:lnTo>
                  <a:pt x="693" y="4796"/>
                </a:lnTo>
                <a:lnTo>
                  <a:pt x="588" y="4875"/>
                </a:lnTo>
                <a:lnTo>
                  <a:pt x="488" y="4955"/>
                </a:lnTo>
                <a:lnTo>
                  <a:pt x="370" y="5061"/>
                </a:lnTo>
                <a:lnTo>
                  <a:pt x="251" y="5114"/>
                </a:lnTo>
                <a:lnTo>
                  <a:pt x="185" y="5180"/>
                </a:lnTo>
                <a:lnTo>
                  <a:pt x="72" y="5312"/>
                </a:lnTo>
                <a:lnTo>
                  <a:pt x="0" y="545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"/>
          <p:cNvSpPr/>
          <p:nvPr/>
        </p:nvSpPr>
        <p:spPr>
          <a:xfrm>
            <a:off x="4033800" y="81000"/>
            <a:ext cx="1548000" cy="2224440"/>
          </a:xfrm>
          <a:custGeom>
            <a:avLst/>
            <a:gdLst/>
            <a:ahLst/>
            <a:rect l="0" t="0" r="r" b="b"/>
            <a:pathLst>
              <a:path fill="none" w="4300" h="6179">
                <a:moveTo>
                  <a:pt x="152" y="0"/>
                </a:moveTo>
                <a:lnTo>
                  <a:pt x="138" y="50"/>
                </a:lnTo>
                <a:lnTo>
                  <a:pt x="138" y="143"/>
                </a:lnTo>
                <a:lnTo>
                  <a:pt x="138" y="236"/>
                </a:lnTo>
                <a:lnTo>
                  <a:pt x="138" y="328"/>
                </a:lnTo>
                <a:lnTo>
                  <a:pt x="163" y="421"/>
                </a:lnTo>
                <a:lnTo>
                  <a:pt x="185" y="491"/>
                </a:lnTo>
                <a:lnTo>
                  <a:pt x="185" y="584"/>
                </a:lnTo>
                <a:lnTo>
                  <a:pt x="185" y="677"/>
                </a:lnTo>
                <a:lnTo>
                  <a:pt x="138" y="769"/>
                </a:lnTo>
                <a:lnTo>
                  <a:pt x="116" y="862"/>
                </a:lnTo>
                <a:lnTo>
                  <a:pt x="70" y="932"/>
                </a:lnTo>
                <a:lnTo>
                  <a:pt x="46" y="1025"/>
                </a:lnTo>
                <a:lnTo>
                  <a:pt x="46" y="1118"/>
                </a:lnTo>
                <a:lnTo>
                  <a:pt x="46" y="1210"/>
                </a:lnTo>
                <a:lnTo>
                  <a:pt x="22" y="1303"/>
                </a:lnTo>
                <a:lnTo>
                  <a:pt x="0" y="1374"/>
                </a:lnTo>
                <a:lnTo>
                  <a:pt x="0" y="1466"/>
                </a:lnTo>
                <a:lnTo>
                  <a:pt x="0" y="1559"/>
                </a:lnTo>
                <a:lnTo>
                  <a:pt x="46" y="1652"/>
                </a:lnTo>
                <a:lnTo>
                  <a:pt x="70" y="1744"/>
                </a:lnTo>
                <a:lnTo>
                  <a:pt x="92" y="1815"/>
                </a:lnTo>
                <a:lnTo>
                  <a:pt x="116" y="1907"/>
                </a:lnTo>
                <a:lnTo>
                  <a:pt x="116" y="2000"/>
                </a:lnTo>
                <a:lnTo>
                  <a:pt x="116" y="2093"/>
                </a:lnTo>
                <a:lnTo>
                  <a:pt x="138" y="2185"/>
                </a:lnTo>
                <a:lnTo>
                  <a:pt x="163" y="2256"/>
                </a:lnTo>
                <a:lnTo>
                  <a:pt x="163" y="2349"/>
                </a:lnTo>
                <a:lnTo>
                  <a:pt x="185" y="2487"/>
                </a:lnTo>
                <a:lnTo>
                  <a:pt x="231" y="2580"/>
                </a:lnTo>
                <a:lnTo>
                  <a:pt x="255" y="2673"/>
                </a:lnTo>
                <a:lnTo>
                  <a:pt x="255" y="2743"/>
                </a:lnTo>
                <a:lnTo>
                  <a:pt x="255" y="2858"/>
                </a:lnTo>
                <a:lnTo>
                  <a:pt x="255" y="2929"/>
                </a:lnTo>
                <a:lnTo>
                  <a:pt x="277" y="3021"/>
                </a:lnTo>
                <a:lnTo>
                  <a:pt x="301" y="3115"/>
                </a:lnTo>
                <a:lnTo>
                  <a:pt x="323" y="3185"/>
                </a:lnTo>
                <a:lnTo>
                  <a:pt x="323" y="3278"/>
                </a:lnTo>
                <a:lnTo>
                  <a:pt x="398" y="3432"/>
                </a:lnTo>
                <a:lnTo>
                  <a:pt x="462" y="3463"/>
                </a:lnTo>
                <a:lnTo>
                  <a:pt x="511" y="3556"/>
                </a:lnTo>
                <a:lnTo>
                  <a:pt x="557" y="3627"/>
                </a:lnTo>
                <a:lnTo>
                  <a:pt x="650" y="3695"/>
                </a:lnTo>
                <a:lnTo>
                  <a:pt x="696" y="3766"/>
                </a:lnTo>
                <a:lnTo>
                  <a:pt x="764" y="3858"/>
                </a:lnTo>
                <a:lnTo>
                  <a:pt x="835" y="3927"/>
                </a:lnTo>
                <a:lnTo>
                  <a:pt x="857" y="3997"/>
                </a:lnTo>
                <a:lnTo>
                  <a:pt x="903" y="4068"/>
                </a:lnTo>
                <a:lnTo>
                  <a:pt x="952" y="4160"/>
                </a:lnTo>
                <a:lnTo>
                  <a:pt x="1020" y="4253"/>
                </a:lnTo>
                <a:lnTo>
                  <a:pt x="1066" y="4346"/>
                </a:lnTo>
                <a:lnTo>
                  <a:pt x="1137" y="4438"/>
                </a:lnTo>
                <a:lnTo>
                  <a:pt x="1159" y="4509"/>
                </a:lnTo>
                <a:lnTo>
                  <a:pt x="1229" y="4577"/>
                </a:lnTo>
                <a:lnTo>
                  <a:pt x="1251" y="4648"/>
                </a:lnTo>
                <a:lnTo>
                  <a:pt x="1275" y="4740"/>
                </a:lnTo>
                <a:lnTo>
                  <a:pt x="1297" y="4833"/>
                </a:lnTo>
                <a:lnTo>
                  <a:pt x="1322" y="4904"/>
                </a:lnTo>
                <a:lnTo>
                  <a:pt x="1344" y="5018"/>
                </a:lnTo>
                <a:lnTo>
                  <a:pt x="1368" y="5089"/>
                </a:lnTo>
                <a:lnTo>
                  <a:pt x="1414" y="5182"/>
                </a:lnTo>
                <a:lnTo>
                  <a:pt x="1439" y="5296"/>
                </a:lnTo>
                <a:lnTo>
                  <a:pt x="1461" y="5367"/>
                </a:lnTo>
                <a:lnTo>
                  <a:pt x="1461" y="5437"/>
                </a:lnTo>
                <a:lnTo>
                  <a:pt x="1485" y="5530"/>
                </a:lnTo>
                <a:lnTo>
                  <a:pt x="1531" y="5623"/>
                </a:lnTo>
                <a:lnTo>
                  <a:pt x="1577" y="5715"/>
                </a:lnTo>
                <a:lnTo>
                  <a:pt x="1624" y="5786"/>
                </a:lnTo>
                <a:lnTo>
                  <a:pt x="1692" y="5879"/>
                </a:lnTo>
                <a:lnTo>
                  <a:pt x="1762" y="5971"/>
                </a:lnTo>
                <a:lnTo>
                  <a:pt x="1833" y="5993"/>
                </a:lnTo>
                <a:lnTo>
                  <a:pt x="1926" y="6018"/>
                </a:lnTo>
                <a:lnTo>
                  <a:pt x="2018" y="6086"/>
                </a:lnTo>
                <a:lnTo>
                  <a:pt x="2064" y="6156"/>
                </a:lnTo>
                <a:lnTo>
                  <a:pt x="2158" y="6179"/>
                </a:lnTo>
                <a:lnTo>
                  <a:pt x="2251" y="6179"/>
                </a:lnTo>
                <a:lnTo>
                  <a:pt x="2321" y="6156"/>
                </a:lnTo>
                <a:lnTo>
                  <a:pt x="2414" y="6132"/>
                </a:lnTo>
                <a:lnTo>
                  <a:pt x="2506" y="6110"/>
                </a:lnTo>
                <a:lnTo>
                  <a:pt x="2599" y="6040"/>
                </a:lnTo>
                <a:lnTo>
                  <a:pt x="2667" y="5947"/>
                </a:lnTo>
                <a:lnTo>
                  <a:pt x="2738" y="5879"/>
                </a:lnTo>
                <a:lnTo>
                  <a:pt x="2808" y="5808"/>
                </a:lnTo>
                <a:lnTo>
                  <a:pt x="2876" y="5737"/>
                </a:lnTo>
                <a:lnTo>
                  <a:pt x="2947" y="5691"/>
                </a:lnTo>
                <a:lnTo>
                  <a:pt x="3061" y="5620"/>
                </a:lnTo>
                <a:lnTo>
                  <a:pt x="3123" y="5568"/>
                </a:lnTo>
                <a:lnTo>
                  <a:pt x="3185" y="5515"/>
                </a:lnTo>
                <a:lnTo>
                  <a:pt x="3273" y="5471"/>
                </a:lnTo>
                <a:lnTo>
                  <a:pt x="3370" y="5418"/>
                </a:lnTo>
                <a:lnTo>
                  <a:pt x="3456" y="5391"/>
                </a:lnTo>
                <a:lnTo>
                  <a:pt x="3526" y="5391"/>
                </a:lnTo>
                <a:lnTo>
                  <a:pt x="3597" y="5367"/>
                </a:lnTo>
                <a:lnTo>
                  <a:pt x="3712" y="5296"/>
                </a:lnTo>
                <a:lnTo>
                  <a:pt x="3782" y="5228"/>
                </a:lnTo>
                <a:lnTo>
                  <a:pt x="3850" y="5157"/>
                </a:lnTo>
                <a:lnTo>
                  <a:pt x="3921" y="5065"/>
                </a:lnTo>
                <a:lnTo>
                  <a:pt x="3989" y="4972"/>
                </a:lnTo>
                <a:lnTo>
                  <a:pt x="4060" y="4904"/>
                </a:lnTo>
                <a:lnTo>
                  <a:pt x="4130" y="4855"/>
                </a:lnTo>
                <a:lnTo>
                  <a:pt x="4223" y="4809"/>
                </a:lnTo>
                <a:lnTo>
                  <a:pt x="4300" y="479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>
            <a:off x="4853160" y="88920"/>
            <a:ext cx="729000" cy="744840"/>
          </a:xfrm>
          <a:custGeom>
            <a:avLst/>
            <a:gdLst/>
            <a:ahLst/>
            <a:rect l="0" t="0" r="r" b="b"/>
            <a:pathLst>
              <a:path fill="none" w="2025" h="2069">
                <a:moveTo>
                  <a:pt x="0" y="0"/>
                </a:moveTo>
                <a:lnTo>
                  <a:pt x="48" y="48"/>
                </a:lnTo>
                <a:lnTo>
                  <a:pt x="97" y="137"/>
                </a:lnTo>
                <a:lnTo>
                  <a:pt x="145" y="226"/>
                </a:lnTo>
                <a:lnTo>
                  <a:pt x="145" y="315"/>
                </a:lnTo>
                <a:lnTo>
                  <a:pt x="168" y="404"/>
                </a:lnTo>
                <a:lnTo>
                  <a:pt x="217" y="472"/>
                </a:lnTo>
                <a:lnTo>
                  <a:pt x="291" y="516"/>
                </a:lnTo>
                <a:lnTo>
                  <a:pt x="388" y="560"/>
                </a:lnTo>
                <a:lnTo>
                  <a:pt x="462" y="626"/>
                </a:lnTo>
                <a:lnTo>
                  <a:pt x="510" y="694"/>
                </a:lnTo>
                <a:lnTo>
                  <a:pt x="607" y="759"/>
                </a:lnTo>
                <a:lnTo>
                  <a:pt x="704" y="783"/>
                </a:lnTo>
                <a:lnTo>
                  <a:pt x="801" y="848"/>
                </a:lnTo>
                <a:lnTo>
                  <a:pt x="875" y="895"/>
                </a:lnTo>
                <a:lnTo>
                  <a:pt x="972" y="961"/>
                </a:lnTo>
                <a:lnTo>
                  <a:pt x="1093" y="1050"/>
                </a:lnTo>
                <a:lnTo>
                  <a:pt x="1167" y="1095"/>
                </a:lnTo>
                <a:lnTo>
                  <a:pt x="1216" y="1163"/>
                </a:lnTo>
                <a:lnTo>
                  <a:pt x="1313" y="1252"/>
                </a:lnTo>
                <a:lnTo>
                  <a:pt x="1320" y="1429"/>
                </a:lnTo>
                <a:lnTo>
                  <a:pt x="1491" y="1601"/>
                </a:lnTo>
                <a:lnTo>
                  <a:pt x="1703" y="1664"/>
                </a:lnTo>
                <a:lnTo>
                  <a:pt x="1874" y="1770"/>
                </a:lnTo>
                <a:lnTo>
                  <a:pt x="2025" y="20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>
            <a:off x="4106880" y="82440"/>
            <a:ext cx="1476720" cy="1679760"/>
          </a:xfrm>
          <a:custGeom>
            <a:avLst/>
            <a:gdLst/>
            <a:ahLst/>
            <a:rect l="0" t="0" r="r" b="b"/>
            <a:pathLst>
              <a:path fill="none" w="4102" h="4666">
                <a:moveTo>
                  <a:pt x="0" y="0"/>
                </a:moveTo>
                <a:lnTo>
                  <a:pt x="22" y="243"/>
                </a:lnTo>
                <a:lnTo>
                  <a:pt x="61" y="309"/>
                </a:lnTo>
                <a:lnTo>
                  <a:pt x="97" y="396"/>
                </a:lnTo>
                <a:lnTo>
                  <a:pt x="143" y="492"/>
                </a:lnTo>
                <a:lnTo>
                  <a:pt x="189" y="588"/>
                </a:lnTo>
                <a:lnTo>
                  <a:pt x="235" y="683"/>
                </a:lnTo>
                <a:lnTo>
                  <a:pt x="235" y="779"/>
                </a:lnTo>
                <a:lnTo>
                  <a:pt x="257" y="852"/>
                </a:lnTo>
                <a:lnTo>
                  <a:pt x="306" y="948"/>
                </a:lnTo>
                <a:lnTo>
                  <a:pt x="374" y="1043"/>
                </a:lnTo>
                <a:lnTo>
                  <a:pt x="421" y="1139"/>
                </a:lnTo>
                <a:lnTo>
                  <a:pt x="513" y="1235"/>
                </a:lnTo>
                <a:lnTo>
                  <a:pt x="537" y="1308"/>
                </a:lnTo>
                <a:lnTo>
                  <a:pt x="606" y="1403"/>
                </a:lnTo>
                <a:lnTo>
                  <a:pt x="652" y="1499"/>
                </a:lnTo>
                <a:lnTo>
                  <a:pt x="698" y="1595"/>
                </a:lnTo>
                <a:lnTo>
                  <a:pt x="723" y="1691"/>
                </a:lnTo>
                <a:lnTo>
                  <a:pt x="793" y="1739"/>
                </a:lnTo>
                <a:lnTo>
                  <a:pt x="886" y="1811"/>
                </a:lnTo>
                <a:lnTo>
                  <a:pt x="978" y="1882"/>
                </a:lnTo>
                <a:lnTo>
                  <a:pt x="1047" y="1955"/>
                </a:lnTo>
                <a:lnTo>
                  <a:pt x="1117" y="2051"/>
                </a:lnTo>
                <a:lnTo>
                  <a:pt x="1210" y="2146"/>
                </a:lnTo>
                <a:lnTo>
                  <a:pt x="1281" y="2242"/>
                </a:lnTo>
                <a:lnTo>
                  <a:pt x="1349" y="2364"/>
                </a:lnTo>
                <a:lnTo>
                  <a:pt x="1441" y="2483"/>
                </a:lnTo>
                <a:lnTo>
                  <a:pt x="1466" y="2555"/>
                </a:lnTo>
                <a:lnTo>
                  <a:pt x="1534" y="2651"/>
                </a:lnTo>
                <a:lnTo>
                  <a:pt x="1580" y="2724"/>
                </a:lnTo>
                <a:lnTo>
                  <a:pt x="1629" y="2843"/>
                </a:lnTo>
                <a:lnTo>
                  <a:pt x="1721" y="2938"/>
                </a:lnTo>
                <a:lnTo>
                  <a:pt x="1860" y="2963"/>
                </a:lnTo>
                <a:lnTo>
                  <a:pt x="1953" y="3011"/>
                </a:lnTo>
                <a:lnTo>
                  <a:pt x="2046" y="3084"/>
                </a:lnTo>
                <a:lnTo>
                  <a:pt x="2117" y="3132"/>
                </a:lnTo>
                <a:lnTo>
                  <a:pt x="2210" y="3203"/>
                </a:lnTo>
                <a:lnTo>
                  <a:pt x="2278" y="3276"/>
                </a:lnTo>
                <a:lnTo>
                  <a:pt x="2349" y="3371"/>
                </a:lnTo>
                <a:lnTo>
                  <a:pt x="2441" y="3515"/>
                </a:lnTo>
                <a:lnTo>
                  <a:pt x="2488" y="3588"/>
                </a:lnTo>
                <a:lnTo>
                  <a:pt x="2558" y="3684"/>
                </a:lnTo>
                <a:lnTo>
                  <a:pt x="2626" y="3779"/>
                </a:lnTo>
                <a:lnTo>
                  <a:pt x="2697" y="3875"/>
                </a:lnTo>
                <a:lnTo>
                  <a:pt x="2790" y="3996"/>
                </a:lnTo>
                <a:lnTo>
                  <a:pt x="2882" y="4044"/>
                </a:lnTo>
                <a:lnTo>
                  <a:pt x="2953" y="4114"/>
                </a:lnTo>
                <a:lnTo>
                  <a:pt x="3067" y="4210"/>
                </a:lnTo>
                <a:lnTo>
                  <a:pt x="3138" y="4283"/>
                </a:lnTo>
                <a:lnTo>
                  <a:pt x="3206" y="4379"/>
                </a:lnTo>
                <a:lnTo>
                  <a:pt x="3253" y="4452"/>
                </a:lnTo>
                <a:lnTo>
                  <a:pt x="3323" y="4547"/>
                </a:lnTo>
                <a:lnTo>
                  <a:pt x="3394" y="4595"/>
                </a:lnTo>
                <a:lnTo>
                  <a:pt x="3486" y="4643"/>
                </a:lnTo>
                <a:lnTo>
                  <a:pt x="3579" y="4643"/>
                </a:lnTo>
                <a:lnTo>
                  <a:pt x="3672" y="4666"/>
                </a:lnTo>
                <a:lnTo>
                  <a:pt x="3802" y="4645"/>
                </a:lnTo>
                <a:lnTo>
                  <a:pt x="3872" y="4655"/>
                </a:lnTo>
                <a:lnTo>
                  <a:pt x="3934" y="4627"/>
                </a:lnTo>
                <a:lnTo>
                  <a:pt x="4013" y="4609"/>
                </a:lnTo>
                <a:lnTo>
                  <a:pt x="4102" y="460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4075200" y="326880"/>
            <a:ext cx="1508400" cy="1661040"/>
          </a:xfrm>
          <a:custGeom>
            <a:avLst/>
            <a:gdLst/>
            <a:ahLst/>
            <a:rect l="0" t="0" r="r" b="b"/>
            <a:pathLst>
              <a:path fill="none" w="4190" h="4614">
                <a:moveTo>
                  <a:pt x="63" y="0"/>
                </a:moveTo>
                <a:lnTo>
                  <a:pt x="0" y="335"/>
                </a:lnTo>
                <a:lnTo>
                  <a:pt x="11" y="474"/>
                </a:lnTo>
                <a:lnTo>
                  <a:pt x="44" y="714"/>
                </a:lnTo>
                <a:lnTo>
                  <a:pt x="176" y="1095"/>
                </a:lnTo>
                <a:lnTo>
                  <a:pt x="321" y="1387"/>
                </a:lnTo>
                <a:lnTo>
                  <a:pt x="394" y="1504"/>
                </a:lnTo>
                <a:lnTo>
                  <a:pt x="416" y="1575"/>
                </a:lnTo>
                <a:lnTo>
                  <a:pt x="463" y="1667"/>
                </a:lnTo>
                <a:lnTo>
                  <a:pt x="509" y="1760"/>
                </a:lnTo>
                <a:lnTo>
                  <a:pt x="555" y="1853"/>
                </a:lnTo>
                <a:lnTo>
                  <a:pt x="555" y="1945"/>
                </a:lnTo>
                <a:lnTo>
                  <a:pt x="555" y="2016"/>
                </a:lnTo>
                <a:lnTo>
                  <a:pt x="579" y="2108"/>
                </a:lnTo>
                <a:lnTo>
                  <a:pt x="601" y="2201"/>
                </a:lnTo>
                <a:lnTo>
                  <a:pt x="601" y="2294"/>
                </a:lnTo>
                <a:lnTo>
                  <a:pt x="648" y="2386"/>
                </a:lnTo>
                <a:lnTo>
                  <a:pt x="672" y="2525"/>
                </a:lnTo>
                <a:lnTo>
                  <a:pt x="694" y="2596"/>
                </a:lnTo>
                <a:lnTo>
                  <a:pt x="694" y="2710"/>
                </a:lnTo>
                <a:lnTo>
                  <a:pt x="787" y="2781"/>
                </a:lnTo>
                <a:lnTo>
                  <a:pt x="857" y="2827"/>
                </a:lnTo>
                <a:lnTo>
                  <a:pt x="928" y="2873"/>
                </a:lnTo>
                <a:lnTo>
                  <a:pt x="974" y="2944"/>
                </a:lnTo>
                <a:lnTo>
                  <a:pt x="1089" y="3059"/>
                </a:lnTo>
                <a:lnTo>
                  <a:pt x="1159" y="3129"/>
                </a:lnTo>
                <a:lnTo>
                  <a:pt x="1252" y="3268"/>
                </a:lnTo>
                <a:lnTo>
                  <a:pt x="1322" y="3361"/>
                </a:lnTo>
                <a:lnTo>
                  <a:pt x="1369" y="3431"/>
                </a:lnTo>
                <a:lnTo>
                  <a:pt x="1437" y="3547"/>
                </a:lnTo>
                <a:lnTo>
                  <a:pt x="1461" y="3617"/>
                </a:lnTo>
                <a:lnTo>
                  <a:pt x="1530" y="3710"/>
                </a:lnTo>
                <a:lnTo>
                  <a:pt x="1554" y="3781"/>
                </a:lnTo>
                <a:lnTo>
                  <a:pt x="1600" y="3873"/>
                </a:lnTo>
                <a:lnTo>
                  <a:pt x="1622" y="3966"/>
                </a:lnTo>
                <a:lnTo>
                  <a:pt x="1669" y="4058"/>
                </a:lnTo>
                <a:lnTo>
                  <a:pt x="1693" y="4151"/>
                </a:lnTo>
                <a:lnTo>
                  <a:pt x="1717" y="4222"/>
                </a:lnTo>
                <a:lnTo>
                  <a:pt x="1785" y="4336"/>
                </a:lnTo>
                <a:lnTo>
                  <a:pt x="1832" y="4407"/>
                </a:lnTo>
                <a:lnTo>
                  <a:pt x="1902" y="4475"/>
                </a:lnTo>
                <a:lnTo>
                  <a:pt x="1995" y="4568"/>
                </a:lnTo>
                <a:lnTo>
                  <a:pt x="2088" y="4614"/>
                </a:lnTo>
                <a:lnTo>
                  <a:pt x="2181" y="4614"/>
                </a:lnTo>
                <a:lnTo>
                  <a:pt x="2252" y="4614"/>
                </a:lnTo>
                <a:lnTo>
                  <a:pt x="2366" y="4592"/>
                </a:lnTo>
                <a:lnTo>
                  <a:pt x="2437" y="4568"/>
                </a:lnTo>
                <a:lnTo>
                  <a:pt x="2529" y="4521"/>
                </a:lnTo>
                <a:lnTo>
                  <a:pt x="2600" y="4499"/>
                </a:lnTo>
                <a:lnTo>
                  <a:pt x="2693" y="4475"/>
                </a:lnTo>
                <a:lnTo>
                  <a:pt x="2785" y="4453"/>
                </a:lnTo>
                <a:lnTo>
                  <a:pt x="2900" y="4429"/>
                </a:lnTo>
                <a:lnTo>
                  <a:pt x="2970" y="4407"/>
                </a:lnTo>
                <a:lnTo>
                  <a:pt x="3041" y="4383"/>
                </a:lnTo>
                <a:lnTo>
                  <a:pt x="3134" y="4336"/>
                </a:lnTo>
                <a:lnTo>
                  <a:pt x="3248" y="4336"/>
                </a:lnTo>
                <a:lnTo>
                  <a:pt x="3319" y="4336"/>
                </a:lnTo>
                <a:lnTo>
                  <a:pt x="3411" y="4314"/>
                </a:lnTo>
                <a:lnTo>
                  <a:pt x="3482" y="4290"/>
                </a:lnTo>
                <a:lnTo>
                  <a:pt x="3575" y="4268"/>
                </a:lnTo>
                <a:lnTo>
                  <a:pt x="3667" y="4222"/>
                </a:lnTo>
                <a:lnTo>
                  <a:pt x="3722" y="4180"/>
                </a:lnTo>
                <a:lnTo>
                  <a:pt x="3828" y="4109"/>
                </a:lnTo>
                <a:lnTo>
                  <a:pt x="3908" y="4065"/>
                </a:lnTo>
                <a:lnTo>
                  <a:pt x="4040" y="4012"/>
                </a:lnTo>
                <a:lnTo>
                  <a:pt x="4190" y="399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>
            <a:off x="4037040" y="647640"/>
            <a:ext cx="1545120" cy="1576800"/>
          </a:xfrm>
          <a:custGeom>
            <a:avLst/>
            <a:gdLst/>
            <a:ahLst/>
            <a:rect l="0" t="0" r="r" b="b"/>
            <a:pathLst>
              <a:path fill="none" w="4292" h="4380">
                <a:moveTo>
                  <a:pt x="0" y="0"/>
                </a:moveTo>
                <a:lnTo>
                  <a:pt x="99" y="112"/>
                </a:lnTo>
                <a:lnTo>
                  <a:pt x="165" y="224"/>
                </a:lnTo>
                <a:lnTo>
                  <a:pt x="211" y="363"/>
                </a:lnTo>
                <a:lnTo>
                  <a:pt x="238" y="542"/>
                </a:lnTo>
                <a:lnTo>
                  <a:pt x="257" y="707"/>
                </a:lnTo>
                <a:lnTo>
                  <a:pt x="323" y="872"/>
                </a:lnTo>
                <a:lnTo>
                  <a:pt x="350" y="1018"/>
                </a:lnTo>
                <a:lnTo>
                  <a:pt x="456" y="1131"/>
                </a:lnTo>
                <a:lnTo>
                  <a:pt x="456" y="1224"/>
                </a:lnTo>
                <a:lnTo>
                  <a:pt x="456" y="1290"/>
                </a:lnTo>
                <a:lnTo>
                  <a:pt x="442" y="1382"/>
                </a:lnTo>
                <a:lnTo>
                  <a:pt x="469" y="1435"/>
                </a:lnTo>
                <a:lnTo>
                  <a:pt x="495" y="1528"/>
                </a:lnTo>
                <a:lnTo>
                  <a:pt x="509" y="1581"/>
                </a:lnTo>
                <a:lnTo>
                  <a:pt x="561" y="1726"/>
                </a:lnTo>
                <a:lnTo>
                  <a:pt x="561" y="1779"/>
                </a:lnTo>
                <a:lnTo>
                  <a:pt x="614" y="1832"/>
                </a:lnTo>
                <a:lnTo>
                  <a:pt x="667" y="1885"/>
                </a:lnTo>
                <a:lnTo>
                  <a:pt x="747" y="1938"/>
                </a:lnTo>
                <a:lnTo>
                  <a:pt x="826" y="2043"/>
                </a:lnTo>
                <a:lnTo>
                  <a:pt x="918" y="2189"/>
                </a:lnTo>
                <a:lnTo>
                  <a:pt x="985" y="2242"/>
                </a:lnTo>
                <a:lnTo>
                  <a:pt x="1051" y="2347"/>
                </a:lnTo>
                <a:lnTo>
                  <a:pt x="1105" y="2440"/>
                </a:lnTo>
                <a:lnTo>
                  <a:pt x="1131" y="2559"/>
                </a:lnTo>
                <a:lnTo>
                  <a:pt x="1197" y="2691"/>
                </a:lnTo>
                <a:lnTo>
                  <a:pt x="1224" y="2744"/>
                </a:lnTo>
                <a:lnTo>
                  <a:pt x="1276" y="2810"/>
                </a:lnTo>
                <a:lnTo>
                  <a:pt x="1246" y="2872"/>
                </a:lnTo>
                <a:lnTo>
                  <a:pt x="1263" y="2898"/>
                </a:lnTo>
                <a:lnTo>
                  <a:pt x="1281" y="2934"/>
                </a:lnTo>
                <a:lnTo>
                  <a:pt x="1298" y="2960"/>
                </a:lnTo>
                <a:lnTo>
                  <a:pt x="1307" y="2987"/>
                </a:lnTo>
                <a:lnTo>
                  <a:pt x="1325" y="3022"/>
                </a:lnTo>
                <a:lnTo>
                  <a:pt x="1343" y="3048"/>
                </a:lnTo>
                <a:lnTo>
                  <a:pt x="1360" y="3084"/>
                </a:lnTo>
                <a:lnTo>
                  <a:pt x="1360" y="3110"/>
                </a:lnTo>
                <a:lnTo>
                  <a:pt x="1378" y="3136"/>
                </a:lnTo>
                <a:lnTo>
                  <a:pt x="1387" y="3172"/>
                </a:lnTo>
                <a:lnTo>
                  <a:pt x="1404" y="3198"/>
                </a:lnTo>
                <a:lnTo>
                  <a:pt x="1413" y="3225"/>
                </a:lnTo>
                <a:lnTo>
                  <a:pt x="1431" y="3260"/>
                </a:lnTo>
                <a:lnTo>
                  <a:pt x="1440" y="3287"/>
                </a:lnTo>
                <a:lnTo>
                  <a:pt x="1448" y="3314"/>
                </a:lnTo>
                <a:lnTo>
                  <a:pt x="1457" y="3340"/>
                </a:lnTo>
                <a:lnTo>
                  <a:pt x="1466" y="3367"/>
                </a:lnTo>
                <a:lnTo>
                  <a:pt x="1484" y="3393"/>
                </a:lnTo>
                <a:lnTo>
                  <a:pt x="1484" y="3420"/>
                </a:lnTo>
                <a:lnTo>
                  <a:pt x="1492" y="3446"/>
                </a:lnTo>
                <a:lnTo>
                  <a:pt x="1510" y="3481"/>
                </a:lnTo>
                <a:lnTo>
                  <a:pt x="1519" y="3508"/>
                </a:lnTo>
                <a:lnTo>
                  <a:pt x="1519" y="3534"/>
                </a:lnTo>
                <a:lnTo>
                  <a:pt x="1536" y="3561"/>
                </a:lnTo>
                <a:lnTo>
                  <a:pt x="1554" y="3587"/>
                </a:lnTo>
                <a:lnTo>
                  <a:pt x="1572" y="3631"/>
                </a:lnTo>
                <a:lnTo>
                  <a:pt x="1581" y="3658"/>
                </a:lnTo>
                <a:lnTo>
                  <a:pt x="1598" y="3702"/>
                </a:lnTo>
                <a:lnTo>
                  <a:pt x="1616" y="3728"/>
                </a:lnTo>
                <a:lnTo>
                  <a:pt x="1633" y="3763"/>
                </a:lnTo>
                <a:lnTo>
                  <a:pt x="1642" y="3790"/>
                </a:lnTo>
                <a:lnTo>
                  <a:pt x="1660" y="3816"/>
                </a:lnTo>
                <a:lnTo>
                  <a:pt x="1669" y="3843"/>
                </a:lnTo>
                <a:lnTo>
                  <a:pt x="1678" y="3869"/>
                </a:lnTo>
                <a:lnTo>
                  <a:pt x="1695" y="3904"/>
                </a:lnTo>
                <a:lnTo>
                  <a:pt x="1722" y="3931"/>
                </a:lnTo>
                <a:lnTo>
                  <a:pt x="1739" y="3966"/>
                </a:lnTo>
                <a:lnTo>
                  <a:pt x="1757" y="3992"/>
                </a:lnTo>
                <a:lnTo>
                  <a:pt x="1775" y="4019"/>
                </a:lnTo>
                <a:lnTo>
                  <a:pt x="1792" y="4045"/>
                </a:lnTo>
                <a:lnTo>
                  <a:pt x="1810" y="4081"/>
                </a:lnTo>
                <a:lnTo>
                  <a:pt x="1827" y="4107"/>
                </a:lnTo>
                <a:lnTo>
                  <a:pt x="1845" y="4134"/>
                </a:lnTo>
                <a:lnTo>
                  <a:pt x="1871" y="4160"/>
                </a:lnTo>
                <a:lnTo>
                  <a:pt x="1889" y="4186"/>
                </a:lnTo>
                <a:lnTo>
                  <a:pt x="1916" y="4213"/>
                </a:lnTo>
                <a:lnTo>
                  <a:pt x="1942" y="4239"/>
                </a:lnTo>
                <a:lnTo>
                  <a:pt x="1968" y="4257"/>
                </a:lnTo>
                <a:lnTo>
                  <a:pt x="1986" y="4283"/>
                </a:lnTo>
                <a:lnTo>
                  <a:pt x="2013" y="4301"/>
                </a:lnTo>
                <a:lnTo>
                  <a:pt x="2039" y="4310"/>
                </a:lnTo>
                <a:lnTo>
                  <a:pt x="2065" y="4327"/>
                </a:lnTo>
                <a:lnTo>
                  <a:pt x="2092" y="4327"/>
                </a:lnTo>
                <a:lnTo>
                  <a:pt x="2118" y="4345"/>
                </a:lnTo>
                <a:lnTo>
                  <a:pt x="2224" y="4372"/>
                </a:lnTo>
                <a:lnTo>
                  <a:pt x="2251" y="4372"/>
                </a:lnTo>
                <a:lnTo>
                  <a:pt x="2277" y="4380"/>
                </a:lnTo>
                <a:lnTo>
                  <a:pt x="2303" y="4380"/>
                </a:lnTo>
                <a:lnTo>
                  <a:pt x="2330" y="4380"/>
                </a:lnTo>
                <a:lnTo>
                  <a:pt x="2365" y="4380"/>
                </a:lnTo>
                <a:lnTo>
                  <a:pt x="2409" y="4380"/>
                </a:lnTo>
                <a:lnTo>
                  <a:pt x="2453" y="4380"/>
                </a:lnTo>
                <a:lnTo>
                  <a:pt x="2480" y="4363"/>
                </a:lnTo>
                <a:lnTo>
                  <a:pt x="2506" y="4345"/>
                </a:lnTo>
                <a:lnTo>
                  <a:pt x="2533" y="4327"/>
                </a:lnTo>
                <a:lnTo>
                  <a:pt x="2585" y="4292"/>
                </a:lnTo>
                <a:lnTo>
                  <a:pt x="2612" y="4275"/>
                </a:lnTo>
                <a:lnTo>
                  <a:pt x="2638" y="4248"/>
                </a:lnTo>
                <a:lnTo>
                  <a:pt x="2665" y="4230"/>
                </a:lnTo>
                <a:lnTo>
                  <a:pt x="2691" y="4213"/>
                </a:lnTo>
                <a:lnTo>
                  <a:pt x="2718" y="4195"/>
                </a:lnTo>
                <a:lnTo>
                  <a:pt x="2744" y="4178"/>
                </a:lnTo>
                <a:lnTo>
                  <a:pt x="2771" y="4151"/>
                </a:lnTo>
                <a:lnTo>
                  <a:pt x="2815" y="4116"/>
                </a:lnTo>
                <a:lnTo>
                  <a:pt x="2850" y="4107"/>
                </a:lnTo>
                <a:lnTo>
                  <a:pt x="2903" y="4072"/>
                </a:lnTo>
                <a:lnTo>
                  <a:pt x="2920" y="4045"/>
                </a:lnTo>
                <a:lnTo>
                  <a:pt x="2938" y="4019"/>
                </a:lnTo>
                <a:lnTo>
                  <a:pt x="2965" y="4001"/>
                </a:lnTo>
                <a:lnTo>
                  <a:pt x="2991" y="3966"/>
                </a:lnTo>
                <a:lnTo>
                  <a:pt x="3017" y="3940"/>
                </a:lnTo>
                <a:lnTo>
                  <a:pt x="3044" y="3922"/>
                </a:lnTo>
                <a:lnTo>
                  <a:pt x="3070" y="3904"/>
                </a:lnTo>
                <a:lnTo>
                  <a:pt x="3106" y="3887"/>
                </a:lnTo>
                <a:lnTo>
                  <a:pt x="3132" y="3878"/>
                </a:lnTo>
                <a:lnTo>
                  <a:pt x="3158" y="3869"/>
                </a:lnTo>
                <a:lnTo>
                  <a:pt x="3185" y="3851"/>
                </a:lnTo>
                <a:lnTo>
                  <a:pt x="3211" y="3843"/>
                </a:lnTo>
                <a:lnTo>
                  <a:pt x="3248" y="3825"/>
                </a:lnTo>
                <a:lnTo>
                  <a:pt x="3283" y="3807"/>
                </a:lnTo>
                <a:lnTo>
                  <a:pt x="3309" y="3790"/>
                </a:lnTo>
                <a:lnTo>
                  <a:pt x="3336" y="3781"/>
                </a:lnTo>
                <a:lnTo>
                  <a:pt x="3362" y="3772"/>
                </a:lnTo>
                <a:lnTo>
                  <a:pt x="3389" y="3763"/>
                </a:lnTo>
                <a:lnTo>
                  <a:pt x="3415" y="3754"/>
                </a:lnTo>
                <a:lnTo>
                  <a:pt x="3450" y="3746"/>
                </a:lnTo>
                <a:lnTo>
                  <a:pt x="3545" y="3704"/>
                </a:lnTo>
                <a:lnTo>
                  <a:pt x="3572" y="3671"/>
                </a:lnTo>
                <a:lnTo>
                  <a:pt x="3605" y="3664"/>
                </a:lnTo>
                <a:lnTo>
                  <a:pt x="3624" y="3638"/>
                </a:lnTo>
                <a:lnTo>
                  <a:pt x="3638" y="3638"/>
                </a:lnTo>
                <a:lnTo>
                  <a:pt x="3664" y="3611"/>
                </a:lnTo>
                <a:lnTo>
                  <a:pt x="3677" y="3598"/>
                </a:lnTo>
                <a:lnTo>
                  <a:pt x="3697" y="3572"/>
                </a:lnTo>
                <a:lnTo>
                  <a:pt x="3730" y="3552"/>
                </a:lnTo>
                <a:lnTo>
                  <a:pt x="3763" y="3539"/>
                </a:lnTo>
                <a:lnTo>
                  <a:pt x="3803" y="3512"/>
                </a:lnTo>
                <a:lnTo>
                  <a:pt x="3836" y="3486"/>
                </a:lnTo>
                <a:lnTo>
                  <a:pt x="3849" y="3466"/>
                </a:lnTo>
                <a:lnTo>
                  <a:pt x="3849" y="3472"/>
                </a:lnTo>
                <a:lnTo>
                  <a:pt x="3955" y="3367"/>
                </a:lnTo>
                <a:lnTo>
                  <a:pt x="4087" y="3253"/>
                </a:lnTo>
                <a:lnTo>
                  <a:pt x="4173" y="3220"/>
                </a:lnTo>
                <a:lnTo>
                  <a:pt x="4292" y="319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4253040" y="82440"/>
            <a:ext cx="1329120" cy="1152720"/>
          </a:xfrm>
          <a:custGeom>
            <a:avLst/>
            <a:gdLst/>
            <a:ahLst/>
            <a:rect l="0" t="0" r="r" b="b"/>
            <a:pathLst>
              <a:path fill="none" w="3692" h="3202">
                <a:moveTo>
                  <a:pt x="0" y="0"/>
                </a:moveTo>
                <a:lnTo>
                  <a:pt x="39" y="46"/>
                </a:lnTo>
                <a:lnTo>
                  <a:pt x="59" y="105"/>
                </a:lnTo>
                <a:lnTo>
                  <a:pt x="119" y="145"/>
                </a:lnTo>
                <a:lnTo>
                  <a:pt x="178" y="185"/>
                </a:lnTo>
                <a:lnTo>
                  <a:pt x="218" y="244"/>
                </a:lnTo>
                <a:lnTo>
                  <a:pt x="257" y="304"/>
                </a:lnTo>
                <a:lnTo>
                  <a:pt x="317" y="304"/>
                </a:lnTo>
                <a:lnTo>
                  <a:pt x="377" y="383"/>
                </a:lnTo>
                <a:lnTo>
                  <a:pt x="396" y="443"/>
                </a:lnTo>
                <a:lnTo>
                  <a:pt x="416" y="502"/>
                </a:lnTo>
                <a:lnTo>
                  <a:pt x="436" y="562"/>
                </a:lnTo>
                <a:lnTo>
                  <a:pt x="456" y="621"/>
                </a:lnTo>
                <a:lnTo>
                  <a:pt x="515" y="661"/>
                </a:lnTo>
                <a:lnTo>
                  <a:pt x="575" y="701"/>
                </a:lnTo>
                <a:lnTo>
                  <a:pt x="635" y="740"/>
                </a:lnTo>
                <a:lnTo>
                  <a:pt x="694" y="760"/>
                </a:lnTo>
                <a:lnTo>
                  <a:pt x="754" y="800"/>
                </a:lnTo>
                <a:lnTo>
                  <a:pt x="853" y="840"/>
                </a:lnTo>
                <a:lnTo>
                  <a:pt x="912" y="859"/>
                </a:lnTo>
                <a:lnTo>
                  <a:pt x="973" y="899"/>
                </a:lnTo>
                <a:lnTo>
                  <a:pt x="1052" y="939"/>
                </a:lnTo>
                <a:lnTo>
                  <a:pt x="1112" y="978"/>
                </a:lnTo>
                <a:lnTo>
                  <a:pt x="1191" y="998"/>
                </a:lnTo>
                <a:lnTo>
                  <a:pt x="1251" y="1038"/>
                </a:lnTo>
                <a:lnTo>
                  <a:pt x="1310" y="1117"/>
                </a:lnTo>
                <a:lnTo>
                  <a:pt x="1350" y="1177"/>
                </a:lnTo>
                <a:lnTo>
                  <a:pt x="1409" y="1236"/>
                </a:lnTo>
                <a:lnTo>
                  <a:pt x="1489" y="1296"/>
                </a:lnTo>
                <a:lnTo>
                  <a:pt x="1548" y="1336"/>
                </a:lnTo>
                <a:lnTo>
                  <a:pt x="1608" y="1355"/>
                </a:lnTo>
                <a:lnTo>
                  <a:pt x="1667" y="1375"/>
                </a:lnTo>
                <a:lnTo>
                  <a:pt x="1727" y="1395"/>
                </a:lnTo>
                <a:lnTo>
                  <a:pt x="1826" y="1475"/>
                </a:lnTo>
                <a:lnTo>
                  <a:pt x="1886" y="1494"/>
                </a:lnTo>
                <a:lnTo>
                  <a:pt x="1985" y="1554"/>
                </a:lnTo>
                <a:lnTo>
                  <a:pt x="2064" y="1634"/>
                </a:lnTo>
                <a:lnTo>
                  <a:pt x="2124" y="1654"/>
                </a:lnTo>
                <a:lnTo>
                  <a:pt x="2183" y="1714"/>
                </a:lnTo>
                <a:lnTo>
                  <a:pt x="2243" y="1753"/>
                </a:lnTo>
                <a:lnTo>
                  <a:pt x="2302" y="1813"/>
                </a:lnTo>
                <a:lnTo>
                  <a:pt x="2342" y="1872"/>
                </a:lnTo>
                <a:lnTo>
                  <a:pt x="2382" y="1932"/>
                </a:lnTo>
                <a:lnTo>
                  <a:pt x="2461" y="2011"/>
                </a:lnTo>
                <a:lnTo>
                  <a:pt x="2521" y="2051"/>
                </a:lnTo>
                <a:lnTo>
                  <a:pt x="2560" y="2111"/>
                </a:lnTo>
                <a:lnTo>
                  <a:pt x="2620" y="2150"/>
                </a:lnTo>
                <a:lnTo>
                  <a:pt x="2679" y="2230"/>
                </a:lnTo>
                <a:lnTo>
                  <a:pt x="2739" y="2289"/>
                </a:lnTo>
                <a:lnTo>
                  <a:pt x="2799" y="2309"/>
                </a:lnTo>
                <a:lnTo>
                  <a:pt x="2859" y="2369"/>
                </a:lnTo>
                <a:lnTo>
                  <a:pt x="2919" y="2388"/>
                </a:lnTo>
                <a:lnTo>
                  <a:pt x="2978" y="2408"/>
                </a:lnTo>
                <a:lnTo>
                  <a:pt x="3038" y="2408"/>
                </a:lnTo>
                <a:lnTo>
                  <a:pt x="3097" y="2428"/>
                </a:lnTo>
                <a:lnTo>
                  <a:pt x="3177" y="2468"/>
                </a:lnTo>
                <a:lnTo>
                  <a:pt x="3216" y="2527"/>
                </a:lnTo>
                <a:lnTo>
                  <a:pt x="3276" y="2607"/>
                </a:lnTo>
                <a:lnTo>
                  <a:pt x="3335" y="2666"/>
                </a:lnTo>
                <a:lnTo>
                  <a:pt x="3355" y="2726"/>
                </a:lnTo>
                <a:lnTo>
                  <a:pt x="3395" y="2785"/>
                </a:lnTo>
                <a:lnTo>
                  <a:pt x="3454" y="2865"/>
                </a:lnTo>
                <a:lnTo>
                  <a:pt x="3474" y="2924"/>
                </a:lnTo>
                <a:lnTo>
                  <a:pt x="3514" y="2984"/>
                </a:lnTo>
                <a:lnTo>
                  <a:pt x="3554" y="3043"/>
                </a:lnTo>
                <a:lnTo>
                  <a:pt x="3573" y="3103"/>
                </a:lnTo>
                <a:lnTo>
                  <a:pt x="3633" y="3162"/>
                </a:lnTo>
                <a:lnTo>
                  <a:pt x="3692" y="3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"/>
          <p:cNvSpPr/>
          <p:nvPr/>
        </p:nvSpPr>
        <p:spPr>
          <a:xfrm>
            <a:off x="3898800" y="1852560"/>
            <a:ext cx="1679760" cy="1421280"/>
          </a:xfrm>
          <a:custGeom>
            <a:avLst/>
            <a:gdLst/>
            <a:ahLst/>
            <a:rect l="0" t="0" r="r" b="b"/>
            <a:pathLst>
              <a:path fill="none" w="4666" h="3948">
                <a:moveTo>
                  <a:pt x="0" y="3948"/>
                </a:moveTo>
                <a:lnTo>
                  <a:pt x="33" y="3823"/>
                </a:lnTo>
                <a:lnTo>
                  <a:pt x="271" y="3591"/>
                </a:lnTo>
                <a:lnTo>
                  <a:pt x="528" y="3334"/>
                </a:lnTo>
                <a:lnTo>
                  <a:pt x="694" y="3228"/>
                </a:lnTo>
                <a:lnTo>
                  <a:pt x="912" y="2909"/>
                </a:lnTo>
                <a:lnTo>
                  <a:pt x="1018" y="2637"/>
                </a:lnTo>
                <a:lnTo>
                  <a:pt x="1137" y="2520"/>
                </a:lnTo>
                <a:lnTo>
                  <a:pt x="1269" y="2295"/>
                </a:lnTo>
                <a:lnTo>
                  <a:pt x="1461" y="2023"/>
                </a:lnTo>
                <a:lnTo>
                  <a:pt x="1672" y="1567"/>
                </a:lnTo>
                <a:lnTo>
                  <a:pt x="1970" y="1357"/>
                </a:lnTo>
                <a:lnTo>
                  <a:pt x="2082" y="1362"/>
                </a:lnTo>
                <a:lnTo>
                  <a:pt x="2254" y="1467"/>
                </a:lnTo>
                <a:lnTo>
                  <a:pt x="2307" y="1567"/>
                </a:lnTo>
                <a:lnTo>
                  <a:pt x="2447" y="1660"/>
                </a:lnTo>
                <a:lnTo>
                  <a:pt x="2645" y="1746"/>
                </a:lnTo>
                <a:lnTo>
                  <a:pt x="2764" y="1673"/>
                </a:lnTo>
                <a:lnTo>
                  <a:pt x="2982" y="1389"/>
                </a:lnTo>
                <a:lnTo>
                  <a:pt x="3029" y="1350"/>
                </a:lnTo>
                <a:lnTo>
                  <a:pt x="3101" y="1335"/>
                </a:lnTo>
                <a:lnTo>
                  <a:pt x="3209" y="1291"/>
                </a:lnTo>
                <a:lnTo>
                  <a:pt x="3273" y="1220"/>
                </a:lnTo>
                <a:lnTo>
                  <a:pt x="3315" y="1149"/>
                </a:lnTo>
                <a:lnTo>
                  <a:pt x="3361" y="1036"/>
                </a:lnTo>
                <a:lnTo>
                  <a:pt x="3427" y="997"/>
                </a:lnTo>
                <a:lnTo>
                  <a:pt x="3529" y="964"/>
                </a:lnTo>
                <a:lnTo>
                  <a:pt x="3546" y="969"/>
                </a:lnTo>
                <a:lnTo>
                  <a:pt x="3665" y="957"/>
                </a:lnTo>
                <a:lnTo>
                  <a:pt x="3721" y="935"/>
                </a:lnTo>
                <a:lnTo>
                  <a:pt x="3784" y="864"/>
                </a:lnTo>
                <a:lnTo>
                  <a:pt x="3848" y="839"/>
                </a:lnTo>
                <a:lnTo>
                  <a:pt x="3912" y="793"/>
                </a:lnTo>
                <a:lnTo>
                  <a:pt x="3998" y="697"/>
                </a:lnTo>
                <a:lnTo>
                  <a:pt x="4062" y="651"/>
                </a:lnTo>
                <a:lnTo>
                  <a:pt x="4126" y="626"/>
                </a:lnTo>
                <a:lnTo>
                  <a:pt x="4168" y="555"/>
                </a:lnTo>
                <a:lnTo>
                  <a:pt x="4232" y="509"/>
                </a:lnTo>
                <a:lnTo>
                  <a:pt x="4254" y="438"/>
                </a:lnTo>
                <a:lnTo>
                  <a:pt x="4298" y="342"/>
                </a:lnTo>
                <a:lnTo>
                  <a:pt x="4362" y="271"/>
                </a:lnTo>
                <a:lnTo>
                  <a:pt x="4426" y="200"/>
                </a:lnTo>
                <a:lnTo>
                  <a:pt x="4490" y="105"/>
                </a:lnTo>
                <a:lnTo>
                  <a:pt x="4554" y="34"/>
                </a:lnTo>
                <a:lnTo>
                  <a:pt x="4618" y="12"/>
                </a:lnTo>
                <a:lnTo>
                  <a:pt x="466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"/>
          <p:cNvSpPr/>
          <p:nvPr/>
        </p:nvSpPr>
        <p:spPr>
          <a:xfrm>
            <a:off x="3949560" y="1908000"/>
            <a:ext cx="1632240" cy="1365480"/>
          </a:xfrm>
          <a:custGeom>
            <a:avLst/>
            <a:gdLst/>
            <a:ahLst/>
            <a:rect l="0" t="0" r="r" b="b"/>
            <a:pathLst>
              <a:path fill="none" w="4534" h="3793">
                <a:moveTo>
                  <a:pt x="4534" y="0"/>
                </a:moveTo>
                <a:lnTo>
                  <a:pt x="4492" y="63"/>
                </a:lnTo>
                <a:lnTo>
                  <a:pt x="4428" y="127"/>
                </a:lnTo>
                <a:lnTo>
                  <a:pt x="4364" y="171"/>
                </a:lnTo>
                <a:lnTo>
                  <a:pt x="4320" y="235"/>
                </a:lnTo>
                <a:lnTo>
                  <a:pt x="4278" y="299"/>
                </a:lnTo>
                <a:lnTo>
                  <a:pt x="4236" y="363"/>
                </a:lnTo>
                <a:lnTo>
                  <a:pt x="4192" y="427"/>
                </a:lnTo>
                <a:lnTo>
                  <a:pt x="4150" y="491"/>
                </a:lnTo>
                <a:lnTo>
                  <a:pt x="4086" y="533"/>
                </a:lnTo>
                <a:lnTo>
                  <a:pt x="4022" y="597"/>
                </a:lnTo>
                <a:lnTo>
                  <a:pt x="3958" y="641"/>
                </a:lnTo>
                <a:lnTo>
                  <a:pt x="3894" y="705"/>
                </a:lnTo>
                <a:lnTo>
                  <a:pt x="3808" y="747"/>
                </a:lnTo>
                <a:lnTo>
                  <a:pt x="3744" y="811"/>
                </a:lnTo>
                <a:lnTo>
                  <a:pt x="3680" y="833"/>
                </a:lnTo>
                <a:lnTo>
                  <a:pt x="3649" y="890"/>
                </a:lnTo>
                <a:lnTo>
                  <a:pt x="3605" y="930"/>
                </a:lnTo>
                <a:lnTo>
                  <a:pt x="3539" y="956"/>
                </a:lnTo>
                <a:lnTo>
                  <a:pt x="3504" y="987"/>
                </a:lnTo>
                <a:lnTo>
                  <a:pt x="3459" y="1040"/>
                </a:lnTo>
                <a:lnTo>
                  <a:pt x="3362" y="1128"/>
                </a:lnTo>
                <a:lnTo>
                  <a:pt x="3279" y="1177"/>
                </a:lnTo>
                <a:lnTo>
                  <a:pt x="3217" y="1212"/>
                </a:lnTo>
                <a:lnTo>
                  <a:pt x="3173" y="1265"/>
                </a:lnTo>
                <a:lnTo>
                  <a:pt x="3111" y="1309"/>
                </a:lnTo>
                <a:lnTo>
                  <a:pt x="3089" y="1375"/>
                </a:lnTo>
                <a:lnTo>
                  <a:pt x="3018" y="1428"/>
                </a:lnTo>
                <a:lnTo>
                  <a:pt x="2956" y="1521"/>
                </a:lnTo>
                <a:lnTo>
                  <a:pt x="2859" y="1569"/>
                </a:lnTo>
                <a:lnTo>
                  <a:pt x="2811" y="1631"/>
                </a:lnTo>
                <a:lnTo>
                  <a:pt x="2731" y="1697"/>
                </a:lnTo>
                <a:lnTo>
                  <a:pt x="2648" y="1737"/>
                </a:lnTo>
                <a:lnTo>
                  <a:pt x="2581" y="1755"/>
                </a:lnTo>
                <a:lnTo>
                  <a:pt x="2506" y="1746"/>
                </a:lnTo>
                <a:lnTo>
                  <a:pt x="2392" y="1737"/>
                </a:lnTo>
                <a:lnTo>
                  <a:pt x="2315" y="1642"/>
                </a:lnTo>
                <a:lnTo>
                  <a:pt x="2250" y="1600"/>
                </a:lnTo>
                <a:lnTo>
                  <a:pt x="2186" y="1536"/>
                </a:lnTo>
                <a:lnTo>
                  <a:pt x="2119" y="1494"/>
                </a:lnTo>
                <a:lnTo>
                  <a:pt x="2077" y="1430"/>
                </a:lnTo>
                <a:lnTo>
                  <a:pt x="2014" y="1408"/>
                </a:lnTo>
                <a:lnTo>
                  <a:pt x="1950" y="1386"/>
                </a:lnTo>
                <a:lnTo>
                  <a:pt x="1888" y="1318"/>
                </a:lnTo>
                <a:lnTo>
                  <a:pt x="1800" y="1386"/>
                </a:lnTo>
                <a:lnTo>
                  <a:pt x="1758" y="1450"/>
                </a:lnTo>
                <a:lnTo>
                  <a:pt x="1716" y="1514"/>
                </a:lnTo>
                <a:lnTo>
                  <a:pt x="1672" y="1578"/>
                </a:lnTo>
                <a:lnTo>
                  <a:pt x="1608" y="1642"/>
                </a:lnTo>
                <a:lnTo>
                  <a:pt x="1566" y="1708"/>
                </a:lnTo>
                <a:lnTo>
                  <a:pt x="1502" y="1772"/>
                </a:lnTo>
                <a:lnTo>
                  <a:pt x="1458" y="1836"/>
                </a:lnTo>
                <a:lnTo>
                  <a:pt x="1416" y="1901"/>
                </a:lnTo>
                <a:lnTo>
                  <a:pt x="1352" y="1965"/>
                </a:lnTo>
                <a:lnTo>
                  <a:pt x="1330" y="2029"/>
                </a:lnTo>
                <a:lnTo>
                  <a:pt x="1288" y="2093"/>
                </a:lnTo>
                <a:lnTo>
                  <a:pt x="1224" y="2177"/>
                </a:lnTo>
                <a:lnTo>
                  <a:pt x="1182" y="2241"/>
                </a:lnTo>
                <a:lnTo>
                  <a:pt x="1118" y="2305"/>
                </a:lnTo>
                <a:lnTo>
                  <a:pt x="1074" y="2371"/>
                </a:lnTo>
                <a:lnTo>
                  <a:pt x="1032" y="2435"/>
                </a:lnTo>
                <a:lnTo>
                  <a:pt x="990" y="2499"/>
                </a:lnTo>
                <a:lnTo>
                  <a:pt x="946" y="2563"/>
                </a:lnTo>
                <a:lnTo>
                  <a:pt x="904" y="2626"/>
                </a:lnTo>
                <a:lnTo>
                  <a:pt x="862" y="2690"/>
                </a:lnTo>
                <a:lnTo>
                  <a:pt x="818" y="2754"/>
                </a:lnTo>
                <a:lnTo>
                  <a:pt x="776" y="2818"/>
                </a:lnTo>
                <a:lnTo>
                  <a:pt x="754" y="2882"/>
                </a:lnTo>
                <a:lnTo>
                  <a:pt x="712" y="2946"/>
                </a:lnTo>
                <a:lnTo>
                  <a:pt x="668" y="3010"/>
                </a:lnTo>
                <a:lnTo>
                  <a:pt x="626" y="3074"/>
                </a:lnTo>
                <a:lnTo>
                  <a:pt x="562" y="3160"/>
                </a:lnTo>
                <a:lnTo>
                  <a:pt x="520" y="3224"/>
                </a:lnTo>
                <a:lnTo>
                  <a:pt x="456" y="3244"/>
                </a:lnTo>
                <a:lnTo>
                  <a:pt x="392" y="3288"/>
                </a:lnTo>
                <a:lnTo>
                  <a:pt x="348" y="3352"/>
                </a:lnTo>
                <a:lnTo>
                  <a:pt x="284" y="3394"/>
                </a:lnTo>
                <a:lnTo>
                  <a:pt x="220" y="3458"/>
                </a:lnTo>
                <a:lnTo>
                  <a:pt x="178" y="3522"/>
                </a:lnTo>
                <a:lnTo>
                  <a:pt x="114" y="3586"/>
                </a:lnTo>
                <a:lnTo>
                  <a:pt x="70" y="3650"/>
                </a:lnTo>
                <a:lnTo>
                  <a:pt x="28" y="3713"/>
                </a:lnTo>
                <a:lnTo>
                  <a:pt x="0" y="37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"/>
          <p:cNvSpPr/>
          <p:nvPr/>
        </p:nvSpPr>
        <p:spPr>
          <a:xfrm>
            <a:off x="4008600" y="2065320"/>
            <a:ext cx="1575000" cy="1208520"/>
          </a:xfrm>
          <a:custGeom>
            <a:avLst/>
            <a:gdLst/>
            <a:ahLst/>
            <a:rect l="0" t="0" r="r" b="b"/>
            <a:pathLst>
              <a:path fill="none" w="4375" h="3357">
                <a:moveTo>
                  <a:pt x="4375" y="0"/>
                </a:moveTo>
                <a:lnTo>
                  <a:pt x="4326" y="13"/>
                </a:lnTo>
                <a:lnTo>
                  <a:pt x="4262" y="33"/>
                </a:lnTo>
                <a:lnTo>
                  <a:pt x="4199" y="77"/>
                </a:lnTo>
                <a:lnTo>
                  <a:pt x="4135" y="97"/>
                </a:lnTo>
                <a:lnTo>
                  <a:pt x="4071" y="141"/>
                </a:lnTo>
                <a:lnTo>
                  <a:pt x="4027" y="224"/>
                </a:lnTo>
                <a:lnTo>
                  <a:pt x="3963" y="288"/>
                </a:lnTo>
                <a:lnTo>
                  <a:pt x="3899" y="352"/>
                </a:lnTo>
                <a:lnTo>
                  <a:pt x="3835" y="396"/>
                </a:lnTo>
                <a:lnTo>
                  <a:pt x="3771" y="460"/>
                </a:lnTo>
                <a:lnTo>
                  <a:pt x="3707" y="502"/>
                </a:lnTo>
                <a:lnTo>
                  <a:pt x="3665" y="566"/>
                </a:lnTo>
                <a:lnTo>
                  <a:pt x="3630" y="648"/>
                </a:lnTo>
                <a:lnTo>
                  <a:pt x="3586" y="727"/>
                </a:lnTo>
                <a:lnTo>
                  <a:pt x="3475" y="784"/>
                </a:lnTo>
                <a:lnTo>
                  <a:pt x="3356" y="815"/>
                </a:lnTo>
                <a:lnTo>
                  <a:pt x="3279" y="845"/>
                </a:lnTo>
                <a:lnTo>
                  <a:pt x="3215" y="909"/>
                </a:lnTo>
                <a:lnTo>
                  <a:pt x="3151" y="973"/>
                </a:lnTo>
                <a:lnTo>
                  <a:pt x="3109" y="1037"/>
                </a:lnTo>
                <a:lnTo>
                  <a:pt x="3045" y="1079"/>
                </a:lnTo>
                <a:lnTo>
                  <a:pt x="3004" y="1143"/>
                </a:lnTo>
                <a:lnTo>
                  <a:pt x="2940" y="1187"/>
                </a:lnTo>
                <a:lnTo>
                  <a:pt x="2876" y="1229"/>
                </a:lnTo>
                <a:lnTo>
                  <a:pt x="2812" y="1273"/>
                </a:lnTo>
                <a:lnTo>
                  <a:pt x="2748" y="1293"/>
                </a:lnTo>
                <a:lnTo>
                  <a:pt x="2684" y="1315"/>
                </a:lnTo>
                <a:lnTo>
                  <a:pt x="2618" y="1356"/>
                </a:lnTo>
                <a:lnTo>
                  <a:pt x="2554" y="1379"/>
                </a:lnTo>
                <a:lnTo>
                  <a:pt x="2490" y="1379"/>
                </a:lnTo>
                <a:lnTo>
                  <a:pt x="2426" y="1401"/>
                </a:lnTo>
                <a:lnTo>
                  <a:pt x="2362" y="1420"/>
                </a:lnTo>
                <a:lnTo>
                  <a:pt x="2278" y="1442"/>
                </a:lnTo>
                <a:lnTo>
                  <a:pt x="2169" y="1442"/>
                </a:lnTo>
                <a:lnTo>
                  <a:pt x="2105" y="1420"/>
                </a:lnTo>
                <a:lnTo>
                  <a:pt x="2041" y="1379"/>
                </a:lnTo>
                <a:lnTo>
                  <a:pt x="1977" y="1356"/>
                </a:lnTo>
                <a:lnTo>
                  <a:pt x="1913" y="1315"/>
                </a:lnTo>
                <a:lnTo>
                  <a:pt x="1849" y="1293"/>
                </a:lnTo>
                <a:lnTo>
                  <a:pt x="1785" y="1273"/>
                </a:lnTo>
                <a:lnTo>
                  <a:pt x="1721" y="1251"/>
                </a:lnTo>
                <a:lnTo>
                  <a:pt x="1649" y="1185"/>
                </a:lnTo>
                <a:lnTo>
                  <a:pt x="1572" y="1251"/>
                </a:lnTo>
                <a:lnTo>
                  <a:pt x="1508" y="1273"/>
                </a:lnTo>
                <a:lnTo>
                  <a:pt x="1466" y="1337"/>
                </a:lnTo>
                <a:lnTo>
                  <a:pt x="1402" y="1379"/>
                </a:lnTo>
                <a:lnTo>
                  <a:pt x="1338" y="1420"/>
                </a:lnTo>
                <a:lnTo>
                  <a:pt x="1274" y="1484"/>
                </a:lnTo>
                <a:lnTo>
                  <a:pt x="1252" y="1548"/>
                </a:lnTo>
                <a:lnTo>
                  <a:pt x="1210" y="1612"/>
                </a:lnTo>
                <a:lnTo>
                  <a:pt x="1166" y="1676"/>
                </a:lnTo>
                <a:lnTo>
                  <a:pt x="1124" y="1740"/>
                </a:lnTo>
                <a:lnTo>
                  <a:pt x="1082" y="1804"/>
                </a:lnTo>
                <a:lnTo>
                  <a:pt x="1038" y="1868"/>
                </a:lnTo>
                <a:lnTo>
                  <a:pt x="996" y="1934"/>
                </a:lnTo>
                <a:lnTo>
                  <a:pt x="954" y="1998"/>
                </a:lnTo>
                <a:lnTo>
                  <a:pt x="910" y="2062"/>
                </a:lnTo>
                <a:lnTo>
                  <a:pt x="868" y="2126"/>
                </a:lnTo>
                <a:lnTo>
                  <a:pt x="826" y="2190"/>
                </a:lnTo>
                <a:lnTo>
                  <a:pt x="782" y="2254"/>
                </a:lnTo>
                <a:lnTo>
                  <a:pt x="762" y="2318"/>
                </a:lnTo>
                <a:lnTo>
                  <a:pt x="698" y="2382"/>
                </a:lnTo>
                <a:lnTo>
                  <a:pt x="676" y="2446"/>
                </a:lnTo>
                <a:lnTo>
                  <a:pt x="612" y="2510"/>
                </a:lnTo>
                <a:lnTo>
                  <a:pt x="568" y="2575"/>
                </a:lnTo>
                <a:lnTo>
                  <a:pt x="549" y="2639"/>
                </a:lnTo>
                <a:lnTo>
                  <a:pt x="526" y="2702"/>
                </a:lnTo>
                <a:lnTo>
                  <a:pt x="463" y="2766"/>
                </a:lnTo>
                <a:lnTo>
                  <a:pt x="399" y="2830"/>
                </a:lnTo>
                <a:lnTo>
                  <a:pt x="335" y="2894"/>
                </a:lnTo>
                <a:lnTo>
                  <a:pt x="271" y="2958"/>
                </a:lnTo>
                <a:lnTo>
                  <a:pt x="229" y="3022"/>
                </a:lnTo>
                <a:lnTo>
                  <a:pt x="165" y="3064"/>
                </a:lnTo>
                <a:lnTo>
                  <a:pt x="121" y="3128"/>
                </a:lnTo>
                <a:lnTo>
                  <a:pt x="79" y="3192"/>
                </a:lnTo>
                <a:lnTo>
                  <a:pt x="37" y="3258"/>
                </a:lnTo>
                <a:lnTo>
                  <a:pt x="0" y="33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"/>
          <p:cNvSpPr/>
          <p:nvPr/>
        </p:nvSpPr>
        <p:spPr>
          <a:xfrm>
            <a:off x="4091040" y="2244600"/>
            <a:ext cx="1492560" cy="1027440"/>
          </a:xfrm>
          <a:custGeom>
            <a:avLst/>
            <a:gdLst/>
            <a:ahLst/>
            <a:rect l="0" t="0" r="r" b="b"/>
            <a:pathLst>
              <a:path fill="none" w="4146" h="2854">
                <a:moveTo>
                  <a:pt x="4146" y="0"/>
                </a:moveTo>
                <a:lnTo>
                  <a:pt x="4097" y="46"/>
                </a:lnTo>
                <a:lnTo>
                  <a:pt x="4033" y="68"/>
                </a:lnTo>
                <a:lnTo>
                  <a:pt x="3969" y="90"/>
                </a:lnTo>
                <a:lnTo>
                  <a:pt x="3905" y="112"/>
                </a:lnTo>
                <a:lnTo>
                  <a:pt x="3841" y="154"/>
                </a:lnTo>
                <a:lnTo>
                  <a:pt x="3777" y="176"/>
                </a:lnTo>
                <a:lnTo>
                  <a:pt x="3711" y="240"/>
                </a:lnTo>
                <a:lnTo>
                  <a:pt x="3669" y="304"/>
                </a:lnTo>
                <a:lnTo>
                  <a:pt x="3605" y="346"/>
                </a:lnTo>
                <a:lnTo>
                  <a:pt x="3542" y="388"/>
                </a:lnTo>
                <a:lnTo>
                  <a:pt x="3478" y="432"/>
                </a:lnTo>
                <a:lnTo>
                  <a:pt x="3414" y="474"/>
                </a:lnTo>
                <a:lnTo>
                  <a:pt x="3350" y="496"/>
                </a:lnTo>
                <a:lnTo>
                  <a:pt x="3286" y="537"/>
                </a:lnTo>
                <a:lnTo>
                  <a:pt x="3222" y="579"/>
                </a:lnTo>
                <a:lnTo>
                  <a:pt x="3158" y="643"/>
                </a:lnTo>
                <a:lnTo>
                  <a:pt x="3072" y="707"/>
                </a:lnTo>
                <a:lnTo>
                  <a:pt x="3008" y="751"/>
                </a:lnTo>
                <a:lnTo>
                  <a:pt x="2922" y="793"/>
                </a:lnTo>
                <a:lnTo>
                  <a:pt x="2838" y="857"/>
                </a:lnTo>
                <a:lnTo>
                  <a:pt x="2774" y="901"/>
                </a:lnTo>
                <a:lnTo>
                  <a:pt x="2710" y="943"/>
                </a:lnTo>
                <a:lnTo>
                  <a:pt x="2624" y="985"/>
                </a:lnTo>
                <a:lnTo>
                  <a:pt x="2560" y="1029"/>
                </a:lnTo>
                <a:lnTo>
                  <a:pt x="2496" y="1049"/>
                </a:lnTo>
                <a:lnTo>
                  <a:pt x="2432" y="1071"/>
                </a:lnTo>
                <a:lnTo>
                  <a:pt x="2369" y="1071"/>
                </a:lnTo>
                <a:lnTo>
                  <a:pt x="2283" y="1093"/>
                </a:lnTo>
                <a:lnTo>
                  <a:pt x="2197" y="1113"/>
                </a:lnTo>
                <a:lnTo>
                  <a:pt x="2133" y="1113"/>
                </a:lnTo>
                <a:lnTo>
                  <a:pt x="2048" y="1113"/>
                </a:lnTo>
                <a:lnTo>
                  <a:pt x="1984" y="1135"/>
                </a:lnTo>
                <a:lnTo>
                  <a:pt x="1920" y="1135"/>
                </a:lnTo>
                <a:lnTo>
                  <a:pt x="1856" y="1113"/>
                </a:lnTo>
                <a:lnTo>
                  <a:pt x="1792" y="1093"/>
                </a:lnTo>
                <a:lnTo>
                  <a:pt x="1726" y="1093"/>
                </a:lnTo>
                <a:lnTo>
                  <a:pt x="1662" y="1071"/>
                </a:lnTo>
                <a:lnTo>
                  <a:pt x="1578" y="1029"/>
                </a:lnTo>
                <a:lnTo>
                  <a:pt x="1514" y="1007"/>
                </a:lnTo>
                <a:lnTo>
                  <a:pt x="1426" y="978"/>
                </a:lnTo>
                <a:lnTo>
                  <a:pt x="1349" y="923"/>
                </a:lnTo>
                <a:lnTo>
                  <a:pt x="1274" y="963"/>
                </a:lnTo>
                <a:lnTo>
                  <a:pt x="1172" y="1029"/>
                </a:lnTo>
                <a:lnTo>
                  <a:pt x="1109" y="1049"/>
                </a:lnTo>
                <a:lnTo>
                  <a:pt x="1064" y="1113"/>
                </a:lnTo>
                <a:lnTo>
                  <a:pt x="1001" y="1177"/>
                </a:lnTo>
                <a:lnTo>
                  <a:pt x="959" y="1241"/>
                </a:lnTo>
                <a:lnTo>
                  <a:pt x="937" y="1305"/>
                </a:lnTo>
                <a:lnTo>
                  <a:pt x="895" y="1369"/>
                </a:lnTo>
                <a:lnTo>
                  <a:pt x="853" y="1436"/>
                </a:lnTo>
                <a:lnTo>
                  <a:pt x="831" y="1500"/>
                </a:lnTo>
                <a:lnTo>
                  <a:pt x="767" y="1542"/>
                </a:lnTo>
                <a:lnTo>
                  <a:pt x="725" y="1628"/>
                </a:lnTo>
                <a:lnTo>
                  <a:pt x="661" y="1692"/>
                </a:lnTo>
                <a:lnTo>
                  <a:pt x="639" y="1756"/>
                </a:lnTo>
                <a:lnTo>
                  <a:pt x="597" y="1820"/>
                </a:lnTo>
                <a:lnTo>
                  <a:pt x="553" y="1883"/>
                </a:lnTo>
                <a:lnTo>
                  <a:pt x="511" y="1947"/>
                </a:lnTo>
                <a:lnTo>
                  <a:pt x="489" y="2011"/>
                </a:lnTo>
                <a:lnTo>
                  <a:pt x="447" y="2075"/>
                </a:lnTo>
                <a:lnTo>
                  <a:pt x="403" y="2139"/>
                </a:lnTo>
                <a:lnTo>
                  <a:pt x="361" y="2203"/>
                </a:lnTo>
                <a:lnTo>
                  <a:pt x="339" y="2267"/>
                </a:lnTo>
                <a:lnTo>
                  <a:pt x="297" y="2331"/>
                </a:lnTo>
                <a:lnTo>
                  <a:pt x="255" y="2395"/>
                </a:lnTo>
                <a:lnTo>
                  <a:pt x="211" y="2459"/>
                </a:lnTo>
                <a:lnTo>
                  <a:pt x="169" y="2523"/>
                </a:lnTo>
                <a:lnTo>
                  <a:pt x="127" y="2587"/>
                </a:lnTo>
                <a:lnTo>
                  <a:pt x="83" y="2651"/>
                </a:lnTo>
                <a:lnTo>
                  <a:pt x="63" y="2715"/>
                </a:lnTo>
                <a:lnTo>
                  <a:pt x="19" y="2779"/>
                </a:lnTo>
                <a:lnTo>
                  <a:pt x="0" y="285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"/>
          <p:cNvSpPr/>
          <p:nvPr/>
        </p:nvSpPr>
        <p:spPr>
          <a:xfrm>
            <a:off x="4124160" y="2502000"/>
            <a:ext cx="1459440" cy="771840"/>
          </a:xfrm>
          <a:custGeom>
            <a:avLst/>
            <a:gdLst/>
            <a:ahLst/>
            <a:rect l="0" t="0" r="r" b="b"/>
            <a:pathLst>
              <a:path fill="none" w="4054" h="2144">
                <a:moveTo>
                  <a:pt x="4054" y="0"/>
                </a:moveTo>
                <a:lnTo>
                  <a:pt x="4006" y="15"/>
                </a:lnTo>
                <a:lnTo>
                  <a:pt x="3942" y="37"/>
                </a:lnTo>
                <a:lnTo>
                  <a:pt x="3878" y="79"/>
                </a:lnTo>
                <a:lnTo>
                  <a:pt x="3814" y="123"/>
                </a:lnTo>
                <a:lnTo>
                  <a:pt x="3750" y="165"/>
                </a:lnTo>
                <a:lnTo>
                  <a:pt x="3686" y="207"/>
                </a:lnTo>
                <a:lnTo>
                  <a:pt x="3620" y="251"/>
                </a:lnTo>
                <a:lnTo>
                  <a:pt x="3556" y="293"/>
                </a:lnTo>
                <a:lnTo>
                  <a:pt x="3472" y="357"/>
                </a:lnTo>
                <a:lnTo>
                  <a:pt x="3386" y="399"/>
                </a:lnTo>
                <a:lnTo>
                  <a:pt x="3322" y="443"/>
                </a:lnTo>
                <a:lnTo>
                  <a:pt x="3258" y="485"/>
                </a:lnTo>
                <a:lnTo>
                  <a:pt x="3152" y="526"/>
                </a:lnTo>
                <a:lnTo>
                  <a:pt x="3066" y="549"/>
                </a:lnTo>
                <a:lnTo>
                  <a:pt x="3001" y="571"/>
                </a:lnTo>
                <a:lnTo>
                  <a:pt x="2937" y="590"/>
                </a:lnTo>
                <a:lnTo>
                  <a:pt x="2809" y="612"/>
                </a:lnTo>
                <a:lnTo>
                  <a:pt x="2724" y="635"/>
                </a:lnTo>
                <a:lnTo>
                  <a:pt x="2510" y="635"/>
                </a:lnTo>
                <a:lnTo>
                  <a:pt x="2446" y="635"/>
                </a:lnTo>
                <a:lnTo>
                  <a:pt x="2382" y="654"/>
                </a:lnTo>
                <a:lnTo>
                  <a:pt x="2318" y="654"/>
                </a:lnTo>
                <a:lnTo>
                  <a:pt x="2232" y="654"/>
                </a:lnTo>
                <a:lnTo>
                  <a:pt x="2168" y="654"/>
                </a:lnTo>
                <a:lnTo>
                  <a:pt x="2104" y="654"/>
                </a:lnTo>
                <a:lnTo>
                  <a:pt x="2020" y="635"/>
                </a:lnTo>
                <a:lnTo>
                  <a:pt x="1934" y="635"/>
                </a:lnTo>
                <a:lnTo>
                  <a:pt x="1828" y="635"/>
                </a:lnTo>
                <a:lnTo>
                  <a:pt x="1764" y="635"/>
                </a:lnTo>
                <a:lnTo>
                  <a:pt x="1678" y="612"/>
                </a:lnTo>
                <a:lnTo>
                  <a:pt x="1614" y="590"/>
                </a:lnTo>
                <a:lnTo>
                  <a:pt x="1551" y="571"/>
                </a:lnTo>
                <a:lnTo>
                  <a:pt x="1423" y="571"/>
                </a:lnTo>
                <a:lnTo>
                  <a:pt x="1359" y="571"/>
                </a:lnTo>
                <a:lnTo>
                  <a:pt x="1290" y="535"/>
                </a:lnTo>
                <a:lnTo>
                  <a:pt x="1198" y="606"/>
                </a:lnTo>
                <a:lnTo>
                  <a:pt x="1138" y="646"/>
                </a:lnTo>
                <a:lnTo>
                  <a:pt x="1103" y="720"/>
                </a:lnTo>
                <a:lnTo>
                  <a:pt x="1039" y="762"/>
                </a:lnTo>
                <a:lnTo>
                  <a:pt x="972" y="826"/>
                </a:lnTo>
                <a:lnTo>
                  <a:pt x="908" y="890"/>
                </a:lnTo>
                <a:lnTo>
                  <a:pt x="866" y="954"/>
                </a:lnTo>
                <a:lnTo>
                  <a:pt x="802" y="1018"/>
                </a:lnTo>
                <a:lnTo>
                  <a:pt x="738" y="1060"/>
                </a:lnTo>
                <a:lnTo>
                  <a:pt x="674" y="1125"/>
                </a:lnTo>
                <a:lnTo>
                  <a:pt x="610" y="1169"/>
                </a:lnTo>
                <a:lnTo>
                  <a:pt x="568" y="1233"/>
                </a:lnTo>
                <a:lnTo>
                  <a:pt x="482" y="1317"/>
                </a:lnTo>
                <a:lnTo>
                  <a:pt x="440" y="1383"/>
                </a:lnTo>
                <a:lnTo>
                  <a:pt x="418" y="1447"/>
                </a:lnTo>
                <a:lnTo>
                  <a:pt x="377" y="1511"/>
                </a:lnTo>
                <a:lnTo>
                  <a:pt x="354" y="1575"/>
                </a:lnTo>
                <a:lnTo>
                  <a:pt x="310" y="1639"/>
                </a:lnTo>
                <a:lnTo>
                  <a:pt x="268" y="1703"/>
                </a:lnTo>
                <a:lnTo>
                  <a:pt x="246" y="1767"/>
                </a:lnTo>
                <a:lnTo>
                  <a:pt x="205" y="1831"/>
                </a:lnTo>
                <a:lnTo>
                  <a:pt x="183" y="1894"/>
                </a:lnTo>
                <a:lnTo>
                  <a:pt x="99" y="1978"/>
                </a:lnTo>
                <a:lnTo>
                  <a:pt x="55" y="2044"/>
                </a:lnTo>
                <a:lnTo>
                  <a:pt x="0" y="214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4175280" y="2716200"/>
            <a:ext cx="1408320" cy="560880"/>
          </a:xfrm>
          <a:custGeom>
            <a:avLst/>
            <a:gdLst/>
            <a:ahLst/>
            <a:rect l="0" t="0" r="r" b="b"/>
            <a:pathLst>
              <a:path fill="none" w="3912" h="1558">
                <a:moveTo>
                  <a:pt x="3912" y="0"/>
                </a:moveTo>
                <a:lnTo>
                  <a:pt x="3863" y="17"/>
                </a:lnTo>
                <a:lnTo>
                  <a:pt x="3819" y="81"/>
                </a:lnTo>
                <a:lnTo>
                  <a:pt x="3755" y="125"/>
                </a:lnTo>
                <a:lnTo>
                  <a:pt x="3691" y="167"/>
                </a:lnTo>
                <a:lnTo>
                  <a:pt x="3608" y="253"/>
                </a:lnTo>
                <a:lnTo>
                  <a:pt x="3500" y="317"/>
                </a:lnTo>
                <a:lnTo>
                  <a:pt x="3436" y="337"/>
                </a:lnTo>
                <a:lnTo>
                  <a:pt x="3372" y="359"/>
                </a:lnTo>
                <a:lnTo>
                  <a:pt x="3266" y="359"/>
                </a:lnTo>
                <a:lnTo>
                  <a:pt x="3202" y="359"/>
                </a:lnTo>
                <a:lnTo>
                  <a:pt x="3138" y="359"/>
                </a:lnTo>
                <a:lnTo>
                  <a:pt x="2541" y="337"/>
                </a:lnTo>
                <a:lnTo>
                  <a:pt x="2432" y="337"/>
                </a:lnTo>
                <a:lnTo>
                  <a:pt x="2369" y="337"/>
                </a:lnTo>
                <a:lnTo>
                  <a:pt x="2155" y="317"/>
                </a:lnTo>
                <a:lnTo>
                  <a:pt x="2071" y="295"/>
                </a:lnTo>
                <a:lnTo>
                  <a:pt x="2007" y="295"/>
                </a:lnTo>
                <a:lnTo>
                  <a:pt x="1942" y="253"/>
                </a:lnTo>
                <a:lnTo>
                  <a:pt x="1856" y="231"/>
                </a:lnTo>
                <a:lnTo>
                  <a:pt x="1770" y="231"/>
                </a:lnTo>
                <a:lnTo>
                  <a:pt x="1706" y="231"/>
                </a:lnTo>
                <a:lnTo>
                  <a:pt x="1622" y="231"/>
                </a:lnTo>
                <a:lnTo>
                  <a:pt x="1558" y="231"/>
                </a:lnTo>
                <a:lnTo>
                  <a:pt x="1472" y="231"/>
                </a:lnTo>
                <a:lnTo>
                  <a:pt x="1408" y="231"/>
                </a:lnTo>
                <a:lnTo>
                  <a:pt x="1344" y="231"/>
                </a:lnTo>
                <a:lnTo>
                  <a:pt x="1281" y="231"/>
                </a:lnTo>
                <a:lnTo>
                  <a:pt x="1217" y="231"/>
                </a:lnTo>
                <a:lnTo>
                  <a:pt x="1153" y="253"/>
                </a:lnTo>
                <a:lnTo>
                  <a:pt x="1089" y="273"/>
                </a:lnTo>
                <a:lnTo>
                  <a:pt x="1003" y="295"/>
                </a:lnTo>
                <a:lnTo>
                  <a:pt x="939" y="317"/>
                </a:lnTo>
                <a:lnTo>
                  <a:pt x="875" y="337"/>
                </a:lnTo>
                <a:lnTo>
                  <a:pt x="811" y="381"/>
                </a:lnTo>
                <a:lnTo>
                  <a:pt x="747" y="424"/>
                </a:lnTo>
                <a:lnTo>
                  <a:pt x="703" y="488"/>
                </a:lnTo>
                <a:lnTo>
                  <a:pt x="639" y="511"/>
                </a:lnTo>
                <a:lnTo>
                  <a:pt x="575" y="552"/>
                </a:lnTo>
                <a:lnTo>
                  <a:pt x="533" y="617"/>
                </a:lnTo>
                <a:lnTo>
                  <a:pt x="491" y="681"/>
                </a:lnTo>
                <a:lnTo>
                  <a:pt x="427" y="745"/>
                </a:lnTo>
                <a:lnTo>
                  <a:pt x="363" y="831"/>
                </a:lnTo>
                <a:lnTo>
                  <a:pt x="319" y="895"/>
                </a:lnTo>
                <a:lnTo>
                  <a:pt x="277" y="959"/>
                </a:lnTo>
                <a:lnTo>
                  <a:pt x="255" y="1023"/>
                </a:lnTo>
                <a:lnTo>
                  <a:pt x="235" y="1087"/>
                </a:lnTo>
                <a:lnTo>
                  <a:pt x="191" y="1174"/>
                </a:lnTo>
                <a:lnTo>
                  <a:pt x="149" y="1238"/>
                </a:lnTo>
                <a:lnTo>
                  <a:pt x="127" y="1302"/>
                </a:lnTo>
                <a:lnTo>
                  <a:pt x="105" y="1366"/>
                </a:lnTo>
                <a:lnTo>
                  <a:pt x="63" y="1430"/>
                </a:lnTo>
                <a:lnTo>
                  <a:pt x="22" y="1494"/>
                </a:lnTo>
                <a:lnTo>
                  <a:pt x="0" y="155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4227480" y="2906640"/>
            <a:ext cx="1356120" cy="367200"/>
          </a:xfrm>
          <a:custGeom>
            <a:avLst/>
            <a:gdLst/>
            <a:ahLst/>
            <a:rect l="0" t="0" r="r" b="b"/>
            <a:pathLst>
              <a:path fill="none" w="3767" h="1020">
                <a:moveTo>
                  <a:pt x="3767" y="216"/>
                </a:moveTo>
                <a:lnTo>
                  <a:pt x="3719" y="213"/>
                </a:lnTo>
                <a:lnTo>
                  <a:pt x="3591" y="235"/>
                </a:lnTo>
                <a:lnTo>
                  <a:pt x="3527" y="258"/>
                </a:lnTo>
                <a:lnTo>
                  <a:pt x="3441" y="258"/>
                </a:lnTo>
                <a:lnTo>
                  <a:pt x="3377" y="235"/>
                </a:lnTo>
                <a:lnTo>
                  <a:pt x="3313" y="235"/>
                </a:lnTo>
                <a:lnTo>
                  <a:pt x="3249" y="235"/>
                </a:lnTo>
                <a:lnTo>
                  <a:pt x="3185" y="213"/>
                </a:lnTo>
                <a:lnTo>
                  <a:pt x="3099" y="213"/>
                </a:lnTo>
                <a:lnTo>
                  <a:pt x="2993" y="235"/>
                </a:lnTo>
                <a:lnTo>
                  <a:pt x="2930" y="235"/>
                </a:lnTo>
                <a:lnTo>
                  <a:pt x="2866" y="258"/>
                </a:lnTo>
                <a:lnTo>
                  <a:pt x="2801" y="258"/>
                </a:lnTo>
                <a:lnTo>
                  <a:pt x="2737" y="258"/>
                </a:lnTo>
                <a:lnTo>
                  <a:pt x="2671" y="258"/>
                </a:lnTo>
                <a:lnTo>
                  <a:pt x="2587" y="235"/>
                </a:lnTo>
                <a:lnTo>
                  <a:pt x="2523" y="213"/>
                </a:lnTo>
                <a:lnTo>
                  <a:pt x="2459" y="191"/>
                </a:lnTo>
                <a:lnTo>
                  <a:pt x="2373" y="171"/>
                </a:lnTo>
                <a:lnTo>
                  <a:pt x="2309" y="149"/>
                </a:lnTo>
                <a:lnTo>
                  <a:pt x="2245" y="149"/>
                </a:lnTo>
                <a:lnTo>
                  <a:pt x="2181" y="127"/>
                </a:lnTo>
                <a:lnTo>
                  <a:pt x="2117" y="127"/>
                </a:lnTo>
                <a:lnTo>
                  <a:pt x="2031" y="85"/>
                </a:lnTo>
                <a:lnTo>
                  <a:pt x="1967" y="85"/>
                </a:lnTo>
                <a:lnTo>
                  <a:pt x="1881" y="63"/>
                </a:lnTo>
                <a:lnTo>
                  <a:pt x="1817" y="44"/>
                </a:lnTo>
                <a:lnTo>
                  <a:pt x="1734" y="44"/>
                </a:lnTo>
                <a:lnTo>
                  <a:pt x="1520" y="0"/>
                </a:lnTo>
                <a:lnTo>
                  <a:pt x="1434" y="0"/>
                </a:lnTo>
                <a:lnTo>
                  <a:pt x="1348" y="0"/>
                </a:lnTo>
                <a:lnTo>
                  <a:pt x="1284" y="22"/>
                </a:lnTo>
                <a:lnTo>
                  <a:pt x="1220" y="44"/>
                </a:lnTo>
                <a:lnTo>
                  <a:pt x="1156" y="63"/>
                </a:lnTo>
                <a:lnTo>
                  <a:pt x="1092" y="108"/>
                </a:lnTo>
                <a:lnTo>
                  <a:pt x="1028" y="127"/>
                </a:lnTo>
                <a:lnTo>
                  <a:pt x="964" y="171"/>
                </a:lnTo>
                <a:lnTo>
                  <a:pt x="899" y="171"/>
                </a:lnTo>
                <a:lnTo>
                  <a:pt x="815" y="191"/>
                </a:lnTo>
                <a:lnTo>
                  <a:pt x="751" y="213"/>
                </a:lnTo>
                <a:lnTo>
                  <a:pt x="685" y="235"/>
                </a:lnTo>
                <a:lnTo>
                  <a:pt x="621" y="258"/>
                </a:lnTo>
                <a:lnTo>
                  <a:pt x="557" y="278"/>
                </a:lnTo>
                <a:lnTo>
                  <a:pt x="493" y="300"/>
                </a:lnTo>
                <a:lnTo>
                  <a:pt x="429" y="364"/>
                </a:lnTo>
                <a:lnTo>
                  <a:pt x="366" y="406"/>
                </a:lnTo>
                <a:lnTo>
                  <a:pt x="324" y="470"/>
                </a:lnTo>
                <a:lnTo>
                  <a:pt x="260" y="514"/>
                </a:lnTo>
                <a:lnTo>
                  <a:pt x="218" y="578"/>
                </a:lnTo>
                <a:lnTo>
                  <a:pt x="154" y="620"/>
                </a:lnTo>
                <a:lnTo>
                  <a:pt x="110" y="684"/>
                </a:lnTo>
                <a:lnTo>
                  <a:pt x="68" y="748"/>
                </a:lnTo>
                <a:lnTo>
                  <a:pt x="68" y="813"/>
                </a:lnTo>
                <a:lnTo>
                  <a:pt x="46" y="877"/>
                </a:lnTo>
                <a:lnTo>
                  <a:pt x="24" y="941"/>
                </a:lnTo>
                <a:lnTo>
                  <a:pt x="0" y="102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>
            <a:off x="4282920" y="3046320"/>
            <a:ext cx="1298880" cy="230400"/>
          </a:xfrm>
          <a:custGeom>
            <a:avLst/>
            <a:gdLst/>
            <a:ahLst/>
            <a:rect l="0" t="0" r="r" b="b"/>
            <a:pathLst>
              <a:path fill="none" w="3608" h="640">
                <a:moveTo>
                  <a:pt x="3608" y="255"/>
                </a:moveTo>
                <a:lnTo>
                  <a:pt x="3502" y="275"/>
                </a:lnTo>
                <a:lnTo>
                  <a:pt x="3438" y="275"/>
                </a:lnTo>
                <a:lnTo>
                  <a:pt x="3374" y="275"/>
                </a:lnTo>
                <a:lnTo>
                  <a:pt x="3310" y="233"/>
                </a:lnTo>
                <a:lnTo>
                  <a:pt x="3246" y="211"/>
                </a:lnTo>
                <a:lnTo>
                  <a:pt x="3032" y="211"/>
                </a:lnTo>
                <a:lnTo>
                  <a:pt x="2968" y="211"/>
                </a:lnTo>
                <a:lnTo>
                  <a:pt x="2904" y="211"/>
                </a:lnTo>
                <a:lnTo>
                  <a:pt x="2796" y="211"/>
                </a:lnTo>
                <a:lnTo>
                  <a:pt x="2732" y="211"/>
                </a:lnTo>
                <a:lnTo>
                  <a:pt x="2668" y="211"/>
                </a:lnTo>
                <a:lnTo>
                  <a:pt x="2584" y="211"/>
                </a:lnTo>
                <a:lnTo>
                  <a:pt x="2518" y="211"/>
                </a:lnTo>
                <a:lnTo>
                  <a:pt x="2454" y="211"/>
                </a:lnTo>
                <a:lnTo>
                  <a:pt x="2370" y="211"/>
                </a:lnTo>
                <a:lnTo>
                  <a:pt x="2242" y="211"/>
                </a:lnTo>
                <a:lnTo>
                  <a:pt x="2178" y="191"/>
                </a:lnTo>
                <a:lnTo>
                  <a:pt x="2092" y="169"/>
                </a:lnTo>
                <a:lnTo>
                  <a:pt x="2006" y="127"/>
                </a:lnTo>
                <a:lnTo>
                  <a:pt x="1942" y="105"/>
                </a:lnTo>
                <a:lnTo>
                  <a:pt x="1878" y="83"/>
                </a:lnTo>
                <a:lnTo>
                  <a:pt x="1814" y="63"/>
                </a:lnTo>
                <a:lnTo>
                  <a:pt x="1727" y="19"/>
                </a:lnTo>
                <a:lnTo>
                  <a:pt x="1621" y="19"/>
                </a:lnTo>
                <a:lnTo>
                  <a:pt x="1535" y="0"/>
                </a:lnTo>
                <a:lnTo>
                  <a:pt x="1323" y="0"/>
                </a:lnTo>
                <a:lnTo>
                  <a:pt x="1215" y="0"/>
                </a:lnTo>
                <a:lnTo>
                  <a:pt x="1151" y="19"/>
                </a:lnTo>
                <a:lnTo>
                  <a:pt x="1087" y="19"/>
                </a:lnTo>
                <a:lnTo>
                  <a:pt x="1023" y="19"/>
                </a:lnTo>
                <a:lnTo>
                  <a:pt x="937" y="19"/>
                </a:lnTo>
                <a:lnTo>
                  <a:pt x="853" y="63"/>
                </a:lnTo>
                <a:lnTo>
                  <a:pt x="789" y="63"/>
                </a:lnTo>
                <a:lnTo>
                  <a:pt x="725" y="83"/>
                </a:lnTo>
                <a:lnTo>
                  <a:pt x="661" y="105"/>
                </a:lnTo>
                <a:lnTo>
                  <a:pt x="597" y="127"/>
                </a:lnTo>
                <a:lnTo>
                  <a:pt x="511" y="191"/>
                </a:lnTo>
                <a:lnTo>
                  <a:pt x="447" y="233"/>
                </a:lnTo>
                <a:lnTo>
                  <a:pt x="383" y="275"/>
                </a:lnTo>
                <a:lnTo>
                  <a:pt x="319" y="319"/>
                </a:lnTo>
                <a:lnTo>
                  <a:pt x="255" y="362"/>
                </a:lnTo>
                <a:lnTo>
                  <a:pt x="191" y="404"/>
                </a:lnTo>
                <a:lnTo>
                  <a:pt x="127" y="448"/>
                </a:lnTo>
                <a:lnTo>
                  <a:pt x="63" y="512"/>
                </a:lnTo>
                <a:lnTo>
                  <a:pt x="19" y="576"/>
                </a:lnTo>
                <a:lnTo>
                  <a:pt x="0" y="64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>
            <a:off x="4398840" y="3191040"/>
            <a:ext cx="945000" cy="86040"/>
          </a:xfrm>
          <a:custGeom>
            <a:avLst/>
            <a:gdLst/>
            <a:ahLst/>
            <a:rect l="0" t="0" r="r" b="b"/>
            <a:pathLst>
              <a:path fill="none" w="2625" h="239">
                <a:moveTo>
                  <a:pt x="2625" y="239"/>
                </a:moveTo>
                <a:lnTo>
                  <a:pt x="2561" y="216"/>
                </a:lnTo>
                <a:lnTo>
                  <a:pt x="2497" y="216"/>
                </a:lnTo>
                <a:lnTo>
                  <a:pt x="2411" y="216"/>
                </a:lnTo>
                <a:lnTo>
                  <a:pt x="2347" y="216"/>
                </a:lnTo>
                <a:lnTo>
                  <a:pt x="2219" y="196"/>
                </a:lnTo>
                <a:lnTo>
                  <a:pt x="2197" y="132"/>
                </a:lnTo>
                <a:lnTo>
                  <a:pt x="2133" y="109"/>
                </a:lnTo>
                <a:lnTo>
                  <a:pt x="2049" y="109"/>
                </a:lnTo>
                <a:lnTo>
                  <a:pt x="1962" y="109"/>
                </a:lnTo>
                <a:lnTo>
                  <a:pt x="1898" y="109"/>
                </a:lnTo>
                <a:lnTo>
                  <a:pt x="1834" y="86"/>
                </a:lnTo>
                <a:lnTo>
                  <a:pt x="1748" y="44"/>
                </a:lnTo>
                <a:lnTo>
                  <a:pt x="1684" y="22"/>
                </a:lnTo>
                <a:lnTo>
                  <a:pt x="1578" y="0"/>
                </a:lnTo>
                <a:lnTo>
                  <a:pt x="1470" y="0"/>
                </a:lnTo>
                <a:lnTo>
                  <a:pt x="1386" y="0"/>
                </a:lnTo>
                <a:lnTo>
                  <a:pt x="1300" y="22"/>
                </a:lnTo>
                <a:lnTo>
                  <a:pt x="1236" y="44"/>
                </a:lnTo>
                <a:lnTo>
                  <a:pt x="1108" y="64"/>
                </a:lnTo>
                <a:lnTo>
                  <a:pt x="894" y="86"/>
                </a:lnTo>
                <a:lnTo>
                  <a:pt x="830" y="86"/>
                </a:lnTo>
                <a:lnTo>
                  <a:pt x="766" y="132"/>
                </a:lnTo>
                <a:lnTo>
                  <a:pt x="702" y="174"/>
                </a:lnTo>
                <a:lnTo>
                  <a:pt x="637" y="174"/>
                </a:lnTo>
                <a:lnTo>
                  <a:pt x="573" y="174"/>
                </a:lnTo>
                <a:lnTo>
                  <a:pt x="509" y="174"/>
                </a:lnTo>
                <a:lnTo>
                  <a:pt x="445" y="174"/>
                </a:lnTo>
                <a:lnTo>
                  <a:pt x="359" y="174"/>
                </a:lnTo>
                <a:lnTo>
                  <a:pt x="295" y="174"/>
                </a:lnTo>
                <a:lnTo>
                  <a:pt x="231" y="152"/>
                </a:lnTo>
                <a:lnTo>
                  <a:pt x="167" y="152"/>
                </a:lnTo>
                <a:lnTo>
                  <a:pt x="103" y="174"/>
                </a:lnTo>
                <a:lnTo>
                  <a:pt x="0" y="23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>
            <a:off x="4797360" y="587520"/>
            <a:ext cx="20016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4789440" y="12175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>
            <a:off x="3298680" y="125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>
            <a:off x="3398760" y="3096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>
            <a:off x="3514680" y="5014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>
            <a:off x="3691080" y="81756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"/>
          <p:cNvSpPr/>
          <p:nvPr/>
        </p:nvSpPr>
        <p:spPr>
          <a:xfrm>
            <a:off x="4167360" y="9097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>
            <a:off x="4183200" y="17780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>
            <a:off x="3137040" y="19764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>
            <a:off x="4313160" y="20383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>
            <a:off x="4608360" y="2017800"/>
            <a:ext cx="17604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"/>
          <p:cNvSpPr/>
          <p:nvPr/>
        </p:nvSpPr>
        <p:spPr>
          <a:xfrm>
            <a:off x="4853160" y="2341440"/>
            <a:ext cx="16668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"/>
          <p:cNvSpPr/>
          <p:nvPr/>
        </p:nvSpPr>
        <p:spPr>
          <a:xfrm>
            <a:off x="5127480" y="2222640"/>
            <a:ext cx="160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"/>
          <p:cNvSpPr/>
          <p:nvPr/>
        </p:nvSpPr>
        <p:spPr>
          <a:xfrm>
            <a:off x="5135400" y="26384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"/>
          <p:cNvSpPr/>
          <p:nvPr/>
        </p:nvSpPr>
        <p:spPr>
          <a:xfrm>
            <a:off x="5157720" y="24145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>
            <a:off x="5372280" y="2152800"/>
            <a:ext cx="18432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"/>
          <p:cNvSpPr/>
          <p:nvPr/>
        </p:nvSpPr>
        <p:spPr>
          <a:xfrm>
            <a:off x="5181480" y="30751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"/>
          <p:cNvSpPr/>
          <p:nvPr/>
        </p:nvSpPr>
        <p:spPr>
          <a:xfrm>
            <a:off x="4888080" y="28987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"/>
          <p:cNvSpPr/>
          <p:nvPr/>
        </p:nvSpPr>
        <p:spPr>
          <a:xfrm>
            <a:off x="5280120" y="27972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"/>
          <p:cNvSpPr/>
          <p:nvPr/>
        </p:nvSpPr>
        <p:spPr>
          <a:xfrm>
            <a:off x="4675320" y="315288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"/>
          <p:cNvSpPr txBox="1"/>
          <p:nvPr/>
        </p:nvSpPr>
        <p:spPr>
          <a:xfrm>
            <a:off x="3322800" y="125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"/>
          <p:cNvSpPr txBox="1"/>
          <p:nvPr/>
        </p:nvSpPr>
        <p:spPr>
          <a:xfrm>
            <a:off x="3384720" y="3031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"/>
          <p:cNvSpPr txBox="1"/>
          <p:nvPr/>
        </p:nvSpPr>
        <p:spPr>
          <a:xfrm>
            <a:off x="3506760" y="493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"/>
          <p:cNvSpPr txBox="1"/>
          <p:nvPr/>
        </p:nvSpPr>
        <p:spPr>
          <a:xfrm>
            <a:off x="3684600" y="8096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"/>
          <p:cNvSpPr txBox="1"/>
          <p:nvPr/>
        </p:nvSpPr>
        <p:spPr>
          <a:xfrm>
            <a:off x="3138480" y="1960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"/>
          <p:cNvSpPr txBox="1"/>
          <p:nvPr/>
        </p:nvSpPr>
        <p:spPr>
          <a:xfrm>
            <a:off x="4175280" y="176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"/>
          <p:cNvSpPr txBox="1"/>
          <p:nvPr/>
        </p:nvSpPr>
        <p:spPr>
          <a:xfrm>
            <a:off x="4307040" y="20224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"/>
          <p:cNvSpPr txBox="1"/>
          <p:nvPr/>
        </p:nvSpPr>
        <p:spPr>
          <a:xfrm>
            <a:off x="4808520" y="23209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>
            <a:off x="4937040" y="287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"/>
          <p:cNvSpPr txBox="1"/>
          <p:nvPr/>
        </p:nvSpPr>
        <p:spPr>
          <a:xfrm>
            <a:off x="4930920" y="2793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"/>
          <p:cNvSpPr txBox="1"/>
          <p:nvPr/>
        </p:nvSpPr>
        <p:spPr>
          <a:xfrm>
            <a:off x="4782960" y="577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"/>
          <p:cNvSpPr txBox="1"/>
          <p:nvPr/>
        </p:nvSpPr>
        <p:spPr>
          <a:xfrm>
            <a:off x="4151160" y="901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"/>
          <p:cNvSpPr txBox="1"/>
          <p:nvPr/>
        </p:nvSpPr>
        <p:spPr>
          <a:xfrm>
            <a:off x="4782960" y="12002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"/>
          <p:cNvSpPr txBox="1"/>
          <p:nvPr/>
        </p:nvSpPr>
        <p:spPr>
          <a:xfrm>
            <a:off x="4562640" y="20019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"/>
          <p:cNvSpPr txBox="1"/>
          <p:nvPr/>
        </p:nvSpPr>
        <p:spPr>
          <a:xfrm>
            <a:off x="5086440" y="2206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"/>
          <p:cNvSpPr txBox="1"/>
          <p:nvPr/>
        </p:nvSpPr>
        <p:spPr>
          <a:xfrm>
            <a:off x="5335560" y="21286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"/>
          <p:cNvSpPr txBox="1"/>
          <p:nvPr/>
        </p:nvSpPr>
        <p:spPr>
          <a:xfrm>
            <a:off x="5148360" y="239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"/>
          <p:cNvSpPr txBox="1"/>
          <p:nvPr/>
        </p:nvSpPr>
        <p:spPr>
          <a:xfrm>
            <a:off x="5119560" y="26128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"/>
          <p:cNvSpPr txBox="1"/>
          <p:nvPr/>
        </p:nvSpPr>
        <p:spPr>
          <a:xfrm>
            <a:off x="5268960" y="277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"/>
          <p:cNvSpPr txBox="1"/>
          <p:nvPr/>
        </p:nvSpPr>
        <p:spPr>
          <a:xfrm>
            <a:off x="4876920" y="2870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"/>
          <p:cNvSpPr txBox="1"/>
          <p:nvPr/>
        </p:nvSpPr>
        <p:spPr>
          <a:xfrm>
            <a:off x="5168880" y="3046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 txBox="1"/>
          <p:nvPr/>
        </p:nvSpPr>
        <p:spPr>
          <a:xfrm>
            <a:off x="4662360" y="3127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"/>
          <p:cNvSpPr/>
          <p:nvPr/>
        </p:nvSpPr>
        <p:spPr>
          <a:xfrm>
            <a:off x="4751280" y="2232000"/>
            <a:ext cx="162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"/>
          <p:cNvSpPr txBox="1"/>
          <p:nvPr/>
        </p:nvSpPr>
        <p:spPr>
          <a:xfrm>
            <a:off x="4705200" y="22176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"/>
          <p:cNvSpPr/>
          <p:nvPr/>
        </p:nvSpPr>
        <p:spPr>
          <a:xfrm>
            <a:off x="5197320" y="81000"/>
            <a:ext cx="386280" cy="437040"/>
          </a:xfrm>
          <a:custGeom>
            <a:avLst/>
            <a:gdLst/>
            <a:ahLst/>
            <a:rect l="0" t="0" r="r" b="b"/>
            <a:pathLst>
              <a:path fill="none" w="1073" h="1214">
                <a:moveTo>
                  <a:pt x="0" y="0"/>
                </a:moveTo>
                <a:lnTo>
                  <a:pt x="22" y="63"/>
                </a:lnTo>
                <a:lnTo>
                  <a:pt x="44" y="127"/>
                </a:lnTo>
                <a:lnTo>
                  <a:pt x="107" y="171"/>
                </a:lnTo>
                <a:lnTo>
                  <a:pt x="171" y="213"/>
                </a:lnTo>
                <a:lnTo>
                  <a:pt x="191" y="277"/>
                </a:lnTo>
                <a:lnTo>
                  <a:pt x="235" y="342"/>
                </a:lnTo>
                <a:lnTo>
                  <a:pt x="255" y="427"/>
                </a:lnTo>
                <a:lnTo>
                  <a:pt x="300" y="491"/>
                </a:lnTo>
                <a:lnTo>
                  <a:pt x="342" y="555"/>
                </a:lnTo>
                <a:lnTo>
                  <a:pt x="405" y="597"/>
                </a:lnTo>
                <a:lnTo>
                  <a:pt x="469" y="619"/>
                </a:lnTo>
                <a:lnTo>
                  <a:pt x="533" y="639"/>
                </a:lnTo>
                <a:lnTo>
                  <a:pt x="597" y="683"/>
                </a:lnTo>
                <a:lnTo>
                  <a:pt x="661" y="725"/>
                </a:lnTo>
                <a:lnTo>
                  <a:pt x="705" y="788"/>
                </a:lnTo>
                <a:lnTo>
                  <a:pt x="724" y="852"/>
                </a:lnTo>
                <a:lnTo>
                  <a:pt x="768" y="917"/>
                </a:lnTo>
                <a:lnTo>
                  <a:pt x="768" y="981"/>
                </a:lnTo>
                <a:lnTo>
                  <a:pt x="811" y="1045"/>
                </a:lnTo>
                <a:lnTo>
                  <a:pt x="875" y="1067"/>
                </a:lnTo>
                <a:lnTo>
                  <a:pt x="939" y="1089"/>
                </a:lnTo>
                <a:lnTo>
                  <a:pt x="1003" y="1131"/>
                </a:lnTo>
                <a:lnTo>
                  <a:pt x="1073" y="1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5175360" y="17136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 txBox="1"/>
          <p:nvPr/>
        </p:nvSpPr>
        <p:spPr>
          <a:xfrm>
            <a:off x="5165640" y="16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2854440" y="917640"/>
            <a:ext cx="2941560" cy="0"/>
            <a:chOff x="2854440" y="917640"/>
            <a:chExt cx="2941560" cy="0"/>
          </a:xfrm>
        </p:grpSpPr>
        <p:sp>
          <p:nvSpPr>
            <p:cNvPr id="4112" name=""/>
            <p:cNvSpPr/>
            <p:nvPr/>
          </p:nvSpPr>
          <p:spPr>
            <a:xfrm>
              <a:off x="2854440" y="9176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53052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62268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706920" y="9176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4713120" y="9176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479736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4897440" y="917640"/>
              <a:ext cx="898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9" name=""/>
          <p:cNvGrpSpPr/>
          <p:nvPr/>
        </p:nvGrpSpPr>
        <p:grpSpPr>
          <a:xfrm>
            <a:off x="2854440" y="2154240"/>
            <a:ext cx="2957400" cy="0"/>
            <a:chOff x="2854440" y="2154240"/>
            <a:chExt cx="2957400" cy="0"/>
          </a:xfrm>
        </p:grpSpPr>
        <p:sp>
          <p:nvSpPr>
            <p:cNvPr id="4120" name=""/>
            <p:cNvSpPr/>
            <p:nvPr/>
          </p:nvSpPr>
          <p:spPr>
            <a:xfrm>
              <a:off x="2854440" y="21542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353052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362268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3706920" y="21542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4713120" y="21542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479736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4897440" y="2154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7" name=""/>
          <p:cNvGrpSpPr/>
          <p:nvPr/>
        </p:nvGrpSpPr>
        <p:grpSpPr>
          <a:xfrm>
            <a:off x="2854440" y="1554120"/>
            <a:ext cx="2949480" cy="0"/>
            <a:chOff x="2854440" y="1554120"/>
            <a:chExt cx="2949480" cy="0"/>
          </a:xfrm>
        </p:grpSpPr>
        <p:sp>
          <p:nvSpPr>
            <p:cNvPr id="4128" name=""/>
            <p:cNvSpPr/>
            <p:nvPr/>
          </p:nvSpPr>
          <p:spPr>
            <a:xfrm>
              <a:off x="2854440" y="155412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353052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362268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3706920" y="155412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4713120" y="155412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479736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897440" y="1554120"/>
              <a:ext cx="90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5" name=""/>
          <p:cNvSpPr txBox="1"/>
          <p:nvPr/>
        </p:nvSpPr>
        <p:spPr>
          <a:xfrm>
            <a:off x="285444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"/>
          <p:cNvSpPr txBox="1"/>
          <p:nvPr/>
        </p:nvSpPr>
        <p:spPr>
          <a:xfrm>
            <a:off x="568152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"/>
          <p:cNvSpPr txBox="1"/>
          <p:nvPr/>
        </p:nvSpPr>
        <p:spPr>
          <a:xfrm>
            <a:off x="285444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"/>
          <p:cNvSpPr txBox="1"/>
          <p:nvPr/>
        </p:nvSpPr>
        <p:spPr>
          <a:xfrm>
            <a:off x="568152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 txBox="1"/>
          <p:nvPr/>
        </p:nvSpPr>
        <p:spPr>
          <a:xfrm>
            <a:off x="2854440" y="201312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"/>
          <p:cNvSpPr txBox="1"/>
          <p:nvPr/>
        </p:nvSpPr>
        <p:spPr>
          <a:xfrm>
            <a:off x="5681520" y="202104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>
            <a:off x="2749680" y="47880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>
            <a:off x="2749680" y="49402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>
            <a:off x="2749680" y="509256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>
            <a:off x="2749680" y="52452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>
            <a:off x="2749680" y="53974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"/>
          <p:cNvSpPr txBox="1"/>
          <p:nvPr/>
        </p:nvSpPr>
        <p:spPr>
          <a:xfrm>
            <a:off x="5637240" y="4664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"/>
          <p:cNvSpPr txBox="1"/>
          <p:nvPr/>
        </p:nvSpPr>
        <p:spPr>
          <a:xfrm>
            <a:off x="5637240" y="4816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"/>
          <p:cNvSpPr txBox="1"/>
          <p:nvPr/>
        </p:nvSpPr>
        <p:spPr>
          <a:xfrm>
            <a:off x="5637240" y="496872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"/>
          <p:cNvSpPr txBox="1"/>
          <p:nvPr/>
        </p:nvSpPr>
        <p:spPr>
          <a:xfrm>
            <a:off x="5637240" y="5121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"/>
          <p:cNvSpPr txBox="1"/>
          <p:nvPr/>
        </p:nvSpPr>
        <p:spPr>
          <a:xfrm>
            <a:off x="5637240" y="5273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3067200" y="4695840"/>
            <a:ext cx="2524320" cy="702000"/>
          </a:xfrm>
          <a:custGeom>
            <a:avLst/>
            <a:gdLst/>
            <a:ahLst/>
            <a:rect l="0" t="0" r="r" b="b"/>
            <a:pathLst>
              <a:path w="7012" h="1950">
                <a:moveTo>
                  <a:pt x="0" y="0"/>
                </a:moveTo>
                <a:lnTo>
                  <a:pt x="39" y="52"/>
                </a:lnTo>
                <a:lnTo>
                  <a:pt x="92" y="57"/>
                </a:lnTo>
                <a:lnTo>
                  <a:pt x="132" y="97"/>
                </a:lnTo>
                <a:lnTo>
                  <a:pt x="171" y="110"/>
                </a:lnTo>
                <a:lnTo>
                  <a:pt x="211" y="123"/>
                </a:lnTo>
                <a:lnTo>
                  <a:pt x="251" y="136"/>
                </a:lnTo>
                <a:lnTo>
                  <a:pt x="291" y="123"/>
                </a:lnTo>
                <a:lnTo>
                  <a:pt x="330" y="123"/>
                </a:lnTo>
                <a:lnTo>
                  <a:pt x="370" y="123"/>
                </a:lnTo>
                <a:lnTo>
                  <a:pt x="436" y="149"/>
                </a:lnTo>
                <a:lnTo>
                  <a:pt x="476" y="176"/>
                </a:lnTo>
                <a:lnTo>
                  <a:pt x="515" y="189"/>
                </a:lnTo>
                <a:lnTo>
                  <a:pt x="555" y="202"/>
                </a:lnTo>
                <a:lnTo>
                  <a:pt x="621" y="202"/>
                </a:lnTo>
                <a:lnTo>
                  <a:pt x="661" y="216"/>
                </a:lnTo>
                <a:lnTo>
                  <a:pt x="701" y="229"/>
                </a:lnTo>
                <a:lnTo>
                  <a:pt x="767" y="282"/>
                </a:lnTo>
                <a:lnTo>
                  <a:pt x="806" y="321"/>
                </a:lnTo>
                <a:lnTo>
                  <a:pt x="846" y="361"/>
                </a:lnTo>
                <a:lnTo>
                  <a:pt x="899" y="388"/>
                </a:lnTo>
                <a:lnTo>
                  <a:pt x="939" y="401"/>
                </a:lnTo>
                <a:lnTo>
                  <a:pt x="992" y="414"/>
                </a:lnTo>
                <a:lnTo>
                  <a:pt x="1150" y="427"/>
                </a:lnTo>
                <a:lnTo>
                  <a:pt x="1203" y="440"/>
                </a:lnTo>
                <a:lnTo>
                  <a:pt x="1243" y="467"/>
                </a:lnTo>
                <a:lnTo>
                  <a:pt x="1283" y="480"/>
                </a:lnTo>
                <a:lnTo>
                  <a:pt x="1322" y="493"/>
                </a:lnTo>
                <a:lnTo>
                  <a:pt x="1362" y="507"/>
                </a:lnTo>
                <a:lnTo>
                  <a:pt x="1415" y="533"/>
                </a:lnTo>
                <a:lnTo>
                  <a:pt x="1468" y="573"/>
                </a:lnTo>
                <a:lnTo>
                  <a:pt x="1521" y="586"/>
                </a:lnTo>
                <a:lnTo>
                  <a:pt x="1561" y="599"/>
                </a:lnTo>
                <a:lnTo>
                  <a:pt x="1613" y="599"/>
                </a:lnTo>
                <a:lnTo>
                  <a:pt x="1653" y="612"/>
                </a:lnTo>
                <a:lnTo>
                  <a:pt x="1693" y="639"/>
                </a:lnTo>
                <a:lnTo>
                  <a:pt x="1733" y="652"/>
                </a:lnTo>
                <a:lnTo>
                  <a:pt x="1772" y="679"/>
                </a:lnTo>
                <a:lnTo>
                  <a:pt x="1812" y="692"/>
                </a:lnTo>
                <a:lnTo>
                  <a:pt x="1838" y="732"/>
                </a:lnTo>
                <a:lnTo>
                  <a:pt x="1878" y="758"/>
                </a:lnTo>
                <a:lnTo>
                  <a:pt x="1918" y="784"/>
                </a:lnTo>
                <a:lnTo>
                  <a:pt x="1957" y="811"/>
                </a:lnTo>
                <a:lnTo>
                  <a:pt x="2024" y="851"/>
                </a:lnTo>
                <a:lnTo>
                  <a:pt x="2037" y="890"/>
                </a:lnTo>
                <a:lnTo>
                  <a:pt x="2063" y="930"/>
                </a:lnTo>
                <a:lnTo>
                  <a:pt x="2103" y="956"/>
                </a:lnTo>
                <a:lnTo>
                  <a:pt x="2143" y="984"/>
                </a:lnTo>
                <a:lnTo>
                  <a:pt x="2182" y="1024"/>
                </a:lnTo>
                <a:lnTo>
                  <a:pt x="2235" y="1050"/>
                </a:lnTo>
                <a:lnTo>
                  <a:pt x="2275" y="1076"/>
                </a:lnTo>
                <a:lnTo>
                  <a:pt x="2288" y="1129"/>
                </a:lnTo>
                <a:lnTo>
                  <a:pt x="2301" y="1169"/>
                </a:lnTo>
                <a:lnTo>
                  <a:pt x="2328" y="1209"/>
                </a:lnTo>
                <a:lnTo>
                  <a:pt x="2368" y="1222"/>
                </a:lnTo>
                <a:lnTo>
                  <a:pt x="2407" y="1235"/>
                </a:lnTo>
                <a:lnTo>
                  <a:pt x="2447" y="1248"/>
                </a:lnTo>
                <a:lnTo>
                  <a:pt x="2500" y="1262"/>
                </a:lnTo>
                <a:lnTo>
                  <a:pt x="2540" y="1315"/>
                </a:lnTo>
                <a:lnTo>
                  <a:pt x="2592" y="1341"/>
                </a:lnTo>
                <a:lnTo>
                  <a:pt x="2632" y="1368"/>
                </a:lnTo>
                <a:lnTo>
                  <a:pt x="2685" y="1381"/>
                </a:lnTo>
                <a:lnTo>
                  <a:pt x="2725" y="1394"/>
                </a:lnTo>
                <a:lnTo>
                  <a:pt x="2764" y="1420"/>
                </a:lnTo>
                <a:lnTo>
                  <a:pt x="2831" y="1447"/>
                </a:lnTo>
                <a:lnTo>
                  <a:pt x="2883" y="1460"/>
                </a:lnTo>
                <a:lnTo>
                  <a:pt x="2923" y="1473"/>
                </a:lnTo>
                <a:lnTo>
                  <a:pt x="2963" y="1487"/>
                </a:lnTo>
                <a:lnTo>
                  <a:pt x="3003" y="1500"/>
                </a:lnTo>
                <a:lnTo>
                  <a:pt x="3055" y="1500"/>
                </a:lnTo>
                <a:lnTo>
                  <a:pt x="3095" y="1513"/>
                </a:lnTo>
                <a:lnTo>
                  <a:pt x="3135" y="1513"/>
                </a:lnTo>
                <a:lnTo>
                  <a:pt x="3175" y="1526"/>
                </a:lnTo>
                <a:lnTo>
                  <a:pt x="3214" y="1539"/>
                </a:lnTo>
                <a:lnTo>
                  <a:pt x="3254" y="1553"/>
                </a:lnTo>
                <a:lnTo>
                  <a:pt x="3280" y="1592"/>
                </a:lnTo>
                <a:lnTo>
                  <a:pt x="3294" y="1632"/>
                </a:lnTo>
                <a:lnTo>
                  <a:pt x="3320" y="1672"/>
                </a:lnTo>
                <a:lnTo>
                  <a:pt x="3333" y="1711"/>
                </a:lnTo>
                <a:lnTo>
                  <a:pt x="3373" y="1751"/>
                </a:lnTo>
                <a:lnTo>
                  <a:pt x="3386" y="1791"/>
                </a:lnTo>
                <a:lnTo>
                  <a:pt x="3399" y="1831"/>
                </a:lnTo>
                <a:lnTo>
                  <a:pt x="3426" y="1870"/>
                </a:lnTo>
                <a:lnTo>
                  <a:pt x="3466" y="1897"/>
                </a:lnTo>
                <a:lnTo>
                  <a:pt x="3505" y="1936"/>
                </a:lnTo>
                <a:lnTo>
                  <a:pt x="3546" y="1950"/>
                </a:lnTo>
                <a:lnTo>
                  <a:pt x="3586" y="1950"/>
                </a:lnTo>
                <a:lnTo>
                  <a:pt x="3625" y="1923"/>
                </a:lnTo>
                <a:lnTo>
                  <a:pt x="3639" y="1883"/>
                </a:lnTo>
                <a:lnTo>
                  <a:pt x="3665" y="1844"/>
                </a:lnTo>
                <a:lnTo>
                  <a:pt x="3691" y="1804"/>
                </a:lnTo>
                <a:lnTo>
                  <a:pt x="3718" y="1764"/>
                </a:lnTo>
                <a:lnTo>
                  <a:pt x="3758" y="1738"/>
                </a:lnTo>
                <a:lnTo>
                  <a:pt x="3797" y="1698"/>
                </a:lnTo>
                <a:lnTo>
                  <a:pt x="3824" y="1659"/>
                </a:lnTo>
                <a:lnTo>
                  <a:pt x="3824" y="1619"/>
                </a:lnTo>
                <a:lnTo>
                  <a:pt x="3850" y="1579"/>
                </a:lnTo>
                <a:lnTo>
                  <a:pt x="3877" y="1539"/>
                </a:lnTo>
                <a:lnTo>
                  <a:pt x="3903" y="1500"/>
                </a:lnTo>
                <a:lnTo>
                  <a:pt x="3930" y="1460"/>
                </a:lnTo>
                <a:lnTo>
                  <a:pt x="3956" y="1420"/>
                </a:lnTo>
                <a:lnTo>
                  <a:pt x="3996" y="1368"/>
                </a:lnTo>
                <a:lnTo>
                  <a:pt x="4022" y="1328"/>
                </a:lnTo>
                <a:lnTo>
                  <a:pt x="4062" y="1288"/>
                </a:lnTo>
                <a:lnTo>
                  <a:pt x="4088" y="1248"/>
                </a:lnTo>
                <a:lnTo>
                  <a:pt x="4128" y="1222"/>
                </a:lnTo>
                <a:lnTo>
                  <a:pt x="4168" y="1182"/>
                </a:lnTo>
                <a:lnTo>
                  <a:pt x="4194" y="1143"/>
                </a:lnTo>
                <a:lnTo>
                  <a:pt x="4234" y="1116"/>
                </a:lnTo>
                <a:lnTo>
                  <a:pt x="4274" y="1076"/>
                </a:lnTo>
                <a:lnTo>
                  <a:pt x="4313" y="1050"/>
                </a:lnTo>
                <a:lnTo>
                  <a:pt x="4353" y="1024"/>
                </a:lnTo>
                <a:lnTo>
                  <a:pt x="4393" y="1010"/>
                </a:lnTo>
                <a:lnTo>
                  <a:pt x="4432" y="984"/>
                </a:lnTo>
                <a:lnTo>
                  <a:pt x="4472" y="970"/>
                </a:lnTo>
                <a:lnTo>
                  <a:pt x="4512" y="943"/>
                </a:lnTo>
                <a:lnTo>
                  <a:pt x="4551" y="943"/>
                </a:lnTo>
                <a:lnTo>
                  <a:pt x="4591" y="943"/>
                </a:lnTo>
                <a:lnTo>
                  <a:pt x="4631" y="943"/>
                </a:lnTo>
                <a:lnTo>
                  <a:pt x="4670" y="943"/>
                </a:lnTo>
                <a:lnTo>
                  <a:pt x="4710" y="930"/>
                </a:lnTo>
                <a:lnTo>
                  <a:pt x="4750" y="917"/>
                </a:lnTo>
                <a:lnTo>
                  <a:pt x="4803" y="903"/>
                </a:lnTo>
                <a:lnTo>
                  <a:pt x="4842" y="890"/>
                </a:lnTo>
                <a:lnTo>
                  <a:pt x="4882" y="877"/>
                </a:lnTo>
                <a:lnTo>
                  <a:pt x="4922" y="877"/>
                </a:lnTo>
                <a:lnTo>
                  <a:pt x="4961" y="864"/>
                </a:lnTo>
                <a:lnTo>
                  <a:pt x="5001" y="851"/>
                </a:lnTo>
                <a:lnTo>
                  <a:pt x="5041" y="837"/>
                </a:lnTo>
                <a:lnTo>
                  <a:pt x="5081" y="837"/>
                </a:lnTo>
                <a:lnTo>
                  <a:pt x="5147" y="837"/>
                </a:lnTo>
                <a:lnTo>
                  <a:pt x="5186" y="837"/>
                </a:lnTo>
                <a:lnTo>
                  <a:pt x="5226" y="824"/>
                </a:lnTo>
                <a:lnTo>
                  <a:pt x="5279" y="811"/>
                </a:lnTo>
                <a:lnTo>
                  <a:pt x="5319" y="811"/>
                </a:lnTo>
                <a:lnTo>
                  <a:pt x="5385" y="798"/>
                </a:lnTo>
                <a:lnTo>
                  <a:pt x="5424" y="784"/>
                </a:lnTo>
                <a:lnTo>
                  <a:pt x="5477" y="771"/>
                </a:lnTo>
                <a:lnTo>
                  <a:pt x="5530" y="771"/>
                </a:lnTo>
                <a:lnTo>
                  <a:pt x="5570" y="758"/>
                </a:lnTo>
                <a:lnTo>
                  <a:pt x="5610" y="758"/>
                </a:lnTo>
                <a:lnTo>
                  <a:pt x="5649" y="758"/>
                </a:lnTo>
                <a:lnTo>
                  <a:pt x="5689" y="745"/>
                </a:lnTo>
                <a:lnTo>
                  <a:pt x="5729" y="718"/>
                </a:lnTo>
                <a:lnTo>
                  <a:pt x="5755" y="679"/>
                </a:lnTo>
                <a:lnTo>
                  <a:pt x="5795" y="679"/>
                </a:lnTo>
                <a:lnTo>
                  <a:pt x="5848" y="679"/>
                </a:lnTo>
                <a:lnTo>
                  <a:pt x="5887" y="679"/>
                </a:lnTo>
                <a:lnTo>
                  <a:pt x="5940" y="665"/>
                </a:lnTo>
                <a:lnTo>
                  <a:pt x="5993" y="652"/>
                </a:lnTo>
                <a:lnTo>
                  <a:pt x="6046" y="639"/>
                </a:lnTo>
                <a:lnTo>
                  <a:pt x="6086" y="626"/>
                </a:lnTo>
                <a:lnTo>
                  <a:pt x="6152" y="599"/>
                </a:lnTo>
                <a:lnTo>
                  <a:pt x="6192" y="586"/>
                </a:lnTo>
                <a:lnTo>
                  <a:pt x="6231" y="573"/>
                </a:lnTo>
                <a:lnTo>
                  <a:pt x="6271" y="546"/>
                </a:lnTo>
                <a:lnTo>
                  <a:pt x="6311" y="533"/>
                </a:lnTo>
                <a:lnTo>
                  <a:pt x="6351" y="533"/>
                </a:lnTo>
                <a:lnTo>
                  <a:pt x="6390" y="533"/>
                </a:lnTo>
                <a:lnTo>
                  <a:pt x="6443" y="533"/>
                </a:lnTo>
                <a:lnTo>
                  <a:pt x="6496" y="533"/>
                </a:lnTo>
                <a:lnTo>
                  <a:pt x="6536" y="533"/>
                </a:lnTo>
                <a:lnTo>
                  <a:pt x="6575" y="533"/>
                </a:lnTo>
                <a:lnTo>
                  <a:pt x="6734" y="507"/>
                </a:lnTo>
                <a:lnTo>
                  <a:pt x="6774" y="507"/>
                </a:lnTo>
                <a:lnTo>
                  <a:pt x="6827" y="480"/>
                </a:lnTo>
                <a:lnTo>
                  <a:pt x="6906" y="454"/>
                </a:lnTo>
                <a:lnTo>
                  <a:pt x="6946" y="454"/>
                </a:lnTo>
                <a:lnTo>
                  <a:pt x="6986" y="440"/>
                </a:lnTo>
                <a:lnTo>
                  <a:pt x="6999" y="436"/>
                </a:lnTo>
                <a:lnTo>
                  <a:pt x="6986" y="427"/>
                </a:lnTo>
                <a:lnTo>
                  <a:pt x="7012" y="427"/>
                </a:lnTo>
                <a:lnTo>
                  <a:pt x="7012" y="1950"/>
                </a:lnTo>
                <a:lnTo>
                  <a:pt x="0" y="1950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 txBox="1"/>
          <p:nvPr/>
        </p:nvSpPr>
        <p:spPr>
          <a:xfrm>
            <a:off x="3813120" y="5381640"/>
            <a:ext cx="1027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B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 txBox="1"/>
          <p:nvPr/>
        </p:nvSpPr>
        <p:spPr>
          <a:xfrm>
            <a:off x="6040440" y="2146320"/>
            <a:ext cx="2843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Follow the sam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to complete the rem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vertical section 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"/>
          <p:cNvSpPr/>
          <p:nvPr/>
        </p:nvSpPr>
        <p:spPr>
          <a:xfrm>
            <a:off x="3071880" y="77760"/>
            <a:ext cx="2514600" cy="3200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3075120" y="82440"/>
            <a:ext cx="390960" cy="340200"/>
          </a:xfrm>
          <a:custGeom>
            <a:avLst/>
            <a:gdLst/>
            <a:ahLst/>
            <a:rect l="0" t="0" r="r" b="b"/>
            <a:pathLst>
              <a:path fill="none" w="1086" h="945">
                <a:moveTo>
                  <a:pt x="1086" y="0"/>
                </a:moveTo>
                <a:lnTo>
                  <a:pt x="1086" y="70"/>
                </a:lnTo>
                <a:lnTo>
                  <a:pt x="1064" y="140"/>
                </a:lnTo>
                <a:lnTo>
                  <a:pt x="1018" y="233"/>
                </a:lnTo>
                <a:lnTo>
                  <a:pt x="971" y="348"/>
                </a:lnTo>
                <a:lnTo>
                  <a:pt x="947" y="440"/>
                </a:lnTo>
                <a:lnTo>
                  <a:pt x="876" y="489"/>
                </a:lnTo>
                <a:lnTo>
                  <a:pt x="783" y="489"/>
                </a:lnTo>
                <a:lnTo>
                  <a:pt x="690" y="557"/>
                </a:lnTo>
                <a:lnTo>
                  <a:pt x="597" y="581"/>
                </a:lnTo>
                <a:lnTo>
                  <a:pt x="504" y="649"/>
                </a:lnTo>
                <a:lnTo>
                  <a:pt x="458" y="721"/>
                </a:lnTo>
                <a:lnTo>
                  <a:pt x="387" y="743"/>
                </a:lnTo>
                <a:lnTo>
                  <a:pt x="294" y="767"/>
                </a:lnTo>
                <a:lnTo>
                  <a:pt x="201" y="835"/>
                </a:lnTo>
                <a:lnTo>
                  <a:pt x="132" y="906"/>
                </a:lnTo>
                <a:lnTo>
                  <a:pt x="61" y="930"/>
                </a:lnTo>
                <a:lnTo>
                  <a:pt x="0" y="9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>
            <a:off x="3071880" y="82440"/>
            <a:ext cx="568800" cy="2595960"/>
          </a:xfrm>
          <a:custGeom>
            <a:avLst/>
            <a:gdLst/>
            <a:ahLst/>
            <a:rect l="0" t="0" r="r" b="b"/>
            <a:pathLst>
              <a:path fill="none" w="1580" h="7211">
                <a:moveTo>
                  <a:pt x="1571" y="0"/>
                </a:moveTo>
                <a:lnTo>
                  <a:pt x="1580" y="46"/>
                </a:lnTo>
                <a:lnTo>
                  <a:pt x="1558" y="138"/>
                </a:lnTo>
                <a:lnTo>
                  <a:pt x="1558" y="231"/>
                </a:lnTo>
                <a:lnTo>
                  <a:pt x="1558" y="324"/>
                </a:lnTo>
                <a:lnTo>
                  <a:pt x="1488" y="416"/>
                </a:lnTo>
                <a:lnTo>
                  <a:pt x="1441" y="487"/>
                </a:lnTo>
                <a:lnTo>
                  <a:pt x="1371" y="555"/>
                </a:lnTo>
                <a:lnTo>
                  <a:pt x="1278" y="648"/>
                </a:lnTo>
                <a:lnTo>
                  <a:pt x="1256" y="718"/>
                </a:lnTo>
                <a:lnTo>
                  <a:pt x="1210" y="811"/>
                </a:lnTo>
                <a:lnTo>
                  <a:pt x="1162" y="903"/>
                </a:lnTo>
                <a:lnTo>
                  <a:pt x="1116" y="996"/>
                </a:lnTo>
                <a:lnTo>
                  <a:pt x="1070" y="1067"/>
                </a:lnTo>
                <a:lnTo>
                  <a:pt x="999" y="1135"/>
                </a:lnTo>
                <a:lnTo>
                  <a:pt x="977" y="1206"/>
                </a:lnTo>
                <a:lnTo>
                  <a:pt x="907" y="1252"/>
                </a:lnTo>
                <a:lnTo>
                  <a:pt x="860" y="1344"/>
                </a:lnTo>
                <a:lnTo>
                  <a:pt x="790" y="1415"/>
                </a:lnTo>
                <a:lnTo>
                  <a:pt x="697" y="1483"/>
                </a:lnTo>
                <a:lnTo>
                  <a:pt x="651" y="1554"/>
                </a:lnTo>
                <a:lnTo>
                  <a:pt x="605" y="1647"/>
                </a:lnTo>
                <a:lnTo>
                  <a:pt x="536" y="1739"/>
                </a:lnTo>
                <a:lnTo>
                  <a:pt x="488" y="1811"/>
                </a:lnTo>
                <a:lnTo>
                  <a:pt x="394" y="1879"/>
                </a:lnTo>
                <a:lnTo>
                  <a:pt x="326" y="1950"/>
                </a:lnTo>
                <a:lnTo>
                  <a:pt x="255" y="1972"/>
                </a:lnTo>
                <a:lnTo>
                  <a:pt x="187" y="2042"/>
                </a:lnTo>
                <a:lnTo>
                  <a:pt x="116" y="2089"/>
                </a:lnTo>
                <a:lnTo>
                  <a:pt x="70" y="2181"/>
                </a:lnTo>
                <a:lnTo>
                  <a:pt x="24" y="2252"/>
                </a:lnTo>
                <a:lnTo>
                  <a:pt x="0" y="2344"/>
                </a:lnTo>
                <a:lnTo>
                  <a:pt x="46" y="2437"/>
                </a:lnTo>
                <a:lnTo>
                  <a:pt x="94" y="2529"/>
                </a:lnTo>
                <a:lnTo>
                  <a:pt x="116" y="2644"/>
                </a:lnTo>
                <a:lnTo>
                  <a:pt x="141" y="2715"/>
                </a:lnTo>
                <a:lnTo>
                  <a:pt x="163" y="2807"/>
                </a:lnTo>
                <a:lnTo>
                  <a:pt x="209" y="2878"/>
                </a:lnTo>
                <a:lnTo>
                  <a:pt x="255" y="2992"/>
                </a:lnTo>
                <a:lnTo>
                  <a:pt x="326" y="3063"/>
                </a:lnTo>
                <a:lnTo>
                  <a:pt x="372" y="3134"/>
                </a:lnTo>
                <a:lnTo>
                  <a:pt x="419" y="3226"/>
                </a:lnTo>
                <a:lnTo>
                  <a:pt x="466" y="3319"/>
                </a:lnTo>
                <a:lnTo>
                  <a:pt x="536" y="3411"/>
                </a:lnTo>
                <a:lnTo>
                  <a:pt x="583" y="3504"/>
                </a:lnTo>
                <a:lnTo>
                  <a:pt x="605" y="3575"/>
                </a:lnTo>
                <a:lnTo>
                  <a:pt x="651" y="3667"/>
                </a:lnTo>
                <a:lnTo>
                  <a:pt x="651" y="3760"/>
                </a:lnTo>
                <a:lnTo>
                  <a:pt x="651" y="3852"/>
                </a:lnTo>
                <a:lnTo>
                  <a:pt x="651" y="3967"/>
                </a:lnTo>
                <a:lnTo>
                  <a:pt x="675" y="4062"/>
                </a:lnTo>
                <a:lnTo>
                  <a:pt x="697" y="4154"/>
                </a:lnTo>
                <a:lnTo>
                  <a:pt x="768" y="4247"/>
                </a:lnTo>
                <a:lnTo>
                  <a:pt x="836" y="4362"/>
                </a:lnTo>
                <a:lnTo>
                  <a:pt x="882" y="4432"/>
                </a:lnTo>
                <a:lnTo>
                  <a:pt x="907" y="4503"/>
                </a:lnTo>
                <a:lnTo>
                  <a:pt x="977" y="4617"/>
                </a:lnTo>
                <a:lnTo>
                  <a:pt x="1024" y="4688"/>
                </a:lnTo>
                <a:lnTo>
                  <a:pt x="1116" y="4781"/>
                </a:lnTo>
                <a:lnTo>
                  <a:pt x="1162" y="4873"/>
                </a:lnTo>
                <a:lnTo>
                  <a:pt x="1210" y="4944"/>
                </a:lnTo>
                <a:lnTo>
                  <a:pt x="1232" y="5036"/>
                </a:lnTo>
                <a:lnTo>
                  <a:pt x="1278" y="5129"/>
                </a:lnTo>
                <a:lnTo>
                  <a:pt x="1302" y="5222"/>
                </a:lnTo>
                <a:lnTo>
                  <a:pt x="1302" y="5314"/>
                </a:lnTo>
                <a:lnTo>
                  <a:pt x="1302" y="5385"/>
                </a:lnTo>
                <a:lnTo>
                  <a:pt x="1324" y="5547"/>
                </a:lnTo>
                <a:lnTo>
                  <a:pt x="1349" y="5617"/>
                </a:lnTo>
                <a:lnTo>
                  <a:pt x="1349" y="5732"/>
                </a:lnTo>
                <a:lnTo>
                  <a:pt x="1324" y="5849"/>
                </a:lnTo>
                <a:lnTo>
                  <a:pt x="1324" y="5919"/>
                </a:lnTo>
                <a:lnTo>
                  <a:pt x="1302" y="6012"/>
                </a:lnTo>
                <a:lnTo>
                  <a:pt x="1232" y="6080"/>
                </a:lnTo>
                <a:lnTo>
                  <a:pt x="1210" y="6151"/>
                </a:lnTo>
                <a:lnTo>
                  <a:pt x="1138" y="6221"/>
                </a:lnTo>
                <a:lnTo>
                  <a:pt x="1070" y="6314"/>
                </a:lnTo>
                <a:lnTo>
                  <a:pt x="999" y="6382"/>
                </a:lnTo>
                <a:lnTo>
                  <a:pt x="953" y="6453"/>
                </a:lnTo>
                <a:lnTo>
                  <a:pt x="882" y="6568"/>
                </a:lnTo>
                <a:lnTo>
                  <a:pt x="836" y="6638"/>
                </a:lnTo>
                <a:lnTo>
                  <a:pt x="814" y="6709"/>
                </a:lnTo>
                <a:lnTo>
                  <a:pt x="814" y="6801"/>
                </a:lnTo>
                <a:lnTo>
                  <a:pt x="790" y="6894"/>
                </a:lnTo>
                <a:lnTo>
                  <a:pt x="697" y="6940"/>
                </a:lnTo>
                <a:lnTo>
                  <a:pt x="605" y="7009"/>
                </a:lnTo>
                <a:lnTo>
                  <a:pt x="536" y="7079"/>
                </a:lnTo>
                <a:lnTo>
                  <a:pt x="466" y="7079"/>
                </a:lnTo>
                <a:lnTo>
                  <a:pt x="372" y="7079"/>
                </a:lnTo>
                <a:lnTo>
                  <a:pt x="302" y="7079"/>
                </a:lnTo>
                <a:lnTo>
                  <a:pt x="209" y="7125"/>
                </a:lnTo>
                <a:lnTo>
                  <a:pt x="141" y="7196"/>
                </a:lnTo>
                <a:lnTo>
                  <a:pt x="6" y="721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>
            <a:off x="3081240" y="82440"/>
            <a:ext cx="776520" cy="2916720"/>
          </a:xfrm>
          <a:custGeom>
            <a:avLst/>
            <a:gdLst/>
            <a:ahLst/>
            <a:rect l="0" t="0" r="r" b="b"/>
            <a:pathLst>
              <a:path fill="none" w="2157" h="8102">
                <a:moveTo>
                  <a:pt x="2157" y="0"/>
                </a:moveTo>
                <a:lnTo>
                  <a:pt x="2157" y="94"/>
                </a:lnTo>
                <a:lnTo>
                  <a:pt x="2157" y="187"/>
                </a:lnTo>
                <a:lnTo>
                  <a:pt x="2157" y="302"/>
                </a:lnTo>
                <a:lnTo>
                  <a:pt x="2133" y="372"/>
                </a:lnTo>
                <a:lnTo>
                  <a:pt x="2086" y="465"/>
                </a:lnTo>
                <a:lnTo>
                  <a:pt x="2040" y="535"/>
                </a:lnTo>
                <a:lnTo>
                  <a:pt x="1972" y="628"/>
                </a:lnTo>
                <a:lnTo>
                  <a:pt x="1926" y="720"/>
                </a:lnTo>
                <a:lnTo>
                  <a:pt x="1879" y="813"/>
                </a:lnTo>
                <a:lnTo>
                  <a:pt x="1809" y="906"/>
                </a:lnTo>
                <a:lnTo>
                  <a:pt x="1785" y="976"/>
                </a:lnTo>
                <a:lnTo>
                  <a:pt x="1716" y="1069"/>
                </a:lnTo>
                <a:lnTo>
                  <a:pt x="1646" y="1137"/>
                </a:lnTo>
                <a:lnTo>
                  <a:pt x="1600" y="1208"/>
                </a:lnTo>
                <a:lnTo>
                  <a:pt x="1507" y="1300"/>
                </a:lnTo>
                <a:lnTo>
                  <a:pt x="1461" y="1371"/>
                </a:lnTo>
                <a:lnTo>
                  <a:pt x="1415" y="1464"/>
                </a:lnTo>
                <a:lnTo>
                  <a:pt x="1368" y="1556"/>
                </a:lnTo>
                <a:lnTo>
                  <a:pt x="1344" y="1649"/>
                </a:lnTo>
                <a:lnTo>
                  <a:pt x="1276" y="1741"/>
                </a:lnTo>
                <a:lnTo>
                  <a:pt x="1252" y="1812"/>
                </a:lnTo>
                <a:lnTo>
                  <a:pt x="1183" y="1905"/>
                </a:lnTo>
                <a:lnTo>
                  <a:pt x="1137" y="1997"/>
                </a:lnTo>
                <a:lnTo>
                  <a:pt x="1091" y="2113"/>
                </a:lnTo>
                <a:lnTo>
                  <a:pt x="1091" y="2183"/>
                </a:lnTo>
                <a:lnTo>
                  <a:pt x="1091" y="2254"/>
                </a:lnTo>
                <a:lnTo>
                  <a:pt x="1091" y="2346"/>
                </a:lnTo>
                <a:lnTo>
                  <a:pt x="1044" y="2439"/>
                </a:lnTo>
                <a:lnTo>
                  <a:pt x="1019" y="2554"/>
                </a:lnTo>
                <a:lnTo>
                  <a:pt x="1066" y="2646"/>
                </a:lnTo>
                <a:lnTo>
                  <a:pt x="1113" y="2741"/>
                </a:lnTo>
                <a:lnTo>
                  <a:pt x="1159" y="2834"/>
                </a:lnTo>
                <a:lnTo>
                  <a:pt x="1183" y="2926"/>
                </a:lnTo>
                <a:lnTo>
                  <a:pt x="1252" y="3019"/>
                </a:lnTo>
                <a:lnTo>
                  <a:pt x="1298" y="3136"/>
                </a:lnTo>
                <a:lnTo>
                  <a:pt x="1368" y="3228"/>
                </a:lnTo>
                <a:lnTo>
                  <a:pt x="1439" y="3297"/>
                </a:lnTo>
                <a:lnTo>
                  <a:pt x="1485" y="3389"/>
                </a:lnTo>
                <a:lnTo>
                  <a:pt x="1531" y="3460"/>
                </a:lnTo>
                <a:lnTo>
                  <a:pt x="1578" y="3577"/>
                </a:lnTo>
                <a:lnTo>
                  <a:pt x="1646" y="3716"/>
                </a:lnTo>
                <a:lnTo>
                  <a:pt x="1716" y="3808"/>
                </a:lnTo>
                <a:lnTo>
                  <a:pt x="1738" y="3901"/>
                </a:lnTo>
                <a:lnTo>
                  <a:pt x="1763" y="3994"/>
                </a:lnTo>
                <a:lnTo>
                  <a:pt x="1763" y="4064"/>
                </a:lnTo>
                <a:lnTo>
                  <a:pt x="1785" y="4157"/>
                </a:lnTo>
                <a:lnTo>
                  <a:pt x="1833" y="4249"/>
                </a:lnTo>
                <a:lnTo>
                  <a:pt x="1926" y="4364"/>
                </a:lnTo>
                <a:lnTo>
                  <a:pt x="1926" y="4434"/>
                </a:lnTo>
                <a:lnTo>
                  <a:pt x="1948" y="4505"/>
                </a:lnTo>
                <a:lnTo>
                  <a:pt x="1972" y="4598"/>
                </a:lnTo>
                <a:lnTo>
                  <a:pt x="1972" y="4690"/>
                </a:lnTo>
                <a:lnTo>
                  <a:pt x="1948" y="4783"/>
                </a:lnTo>
                <a:lnTo>
                  <a:pt x="1926" y="4875"/>
                </a:lnTo>
                <a:lnTo>
                  <a:pt x="1926" y="4946"/>
                </a:lnTo>
                <a:lnTo>
                  <a:pt x="1901" y="5039"/>
                </a:lnTo>
                <a:lnTo>
                  <a:pt x="1879" y="5153"/>
                </a:lnTo>
                <a:lnTo>
                  <a:pt x="1901" y="5246"/>
                </a:lnTo>
                <a:lnTo>
                  <a:pt x="1901" y="5316"/>
                </a:lnTo>
                <a:lnTo>
                  <a:pt x="1901" y="5387"/>
                </a:lnTo>
                <a:lnTo>
                  <a:pt x="1901" y="5480"/>
                </a:lnTo>
                <a:lnTo>
                  <a:pt x="1879" y="5572"/>
                </a:lnTo>
                <a:lnTo>
                  <a:pt x="1855" y="5665"/>
                </a:lnTo>
                <a:lnTo>
                  <a:pt x="1833" y="5757"/>
                </a:lnTo>
                <a:lnTo>
                  <a:pt x="1809" y="5850"/>
                </a:lnTo>
                <a:lnTo>
                  <a:pt x="1785" y="5943"/>
                </a:lnTo>
                <a:lnTo>
                  <a:pt x="1763" y="6013"/>
                </a:lnTo>
                <a:lnTo>
                  <a:pt x="1738" y="6107"/>
                </a:lnTo>
                <a:lnTo>
                  <a:pt x="1716" y="6199"/>
                </a:lnTo>
                <a:lnTo>
                  <a:pt x="1692" y="6292"/>
                </a:lnTo>
                <a:lnTo>
                  <a:pt x="1692" y="6363"/>
                </a:lnTo>
                <a:lnTo>
                  <a:pt x="1624" y="6523"/>
                </a:lnTo>
                <a:lnTo>
                  <a:pt x="1600" y="6594"/>
                </a:lnTo>
                <a:lnTo>
                  <a:pt x="1553" y="6711"/>
                </a:lnTo>
                <a:lnTo>
                  <a:pt x="1507" y="6803"/>
                </a:lnTo>
                <a:lnTo>
                  <a:pt x="1461" y="6918"/>
                </a:lnTo>
                <a:lnTo>
                  <a:pt x="1393" y="7035"/>
                </a:lnTo>
                <a:lnTo>
                  <a:pt x="1322" y="7267"/>
                </a:lnTo>
                <a:lnTo>
                  <a:pt x="1298" y="7337"/>
                </a:lnTo>
                <a:lnTo>
                  <a:pt x="1183" y="7405"/>
                </a:lnTo>
                <a:lnTo>
                  <a:pt x="1113" y="7452"/>
                </a:lnTo>
                <a:lnTo>
                  <a:pt x="1019" y="7522"/>
                </a:lnTo>
                <a:lnTo>
                  <a:pt x="788" y="7593"/>
                </a:lnTo>
                <a:lnTo>
                  <a:pt x="696" y="7639"/>
                </a:lnTo>
                <a:lnTo>
                  <a:pt x="603" y="7661"/>
                </a:lnTo>
                <a:lnTo>
                  <a:pt x="462" y="7707"/>
                </a:lnTo>
                <a:lnTo>
                  <a:pt x="370" y="7754"/>
                </a:lnTo>
                <a:lnTo>
                  <a:pt x="277" y="7824"/>
                </a:lnTo>
                <a:lnTo>
                  <a:pt x="209" y="7917"/>
                </a:lnTo>
                <a:lnTo>
                  <a:pt x="138" y="7963"/>
                </a:lnTo>
                <a:lnTo>
                  <a:pt x="46" y="8010"/>
                </a:lnTo>
                <a:lnTo>
                  <a:pt x="0" y="81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>
            <a:off x="3075120" y="358920"/>
            <a:ext cx="1010160" cy="2832480"/>
          </a:xfrm>
          <a:custGeom>
            <a:avLst/>
            <a:gdLst/>
            <a:ahLst/>
            <a:rect l="0" t="0" r="r" b="b"/>
            <a:pathLst>
              <a:path fill="none" w="2806" h="7868">
                <a:moveTo>
                  <a:pt x="2806" y="0"/>
                </a:moveTo>
                <a:lnTo>
                  <a:pt x="2729" y="141"/>
                </a:lnTo>
                <a:lnTo>
                  <a:pt x="2689" y="185"/>
                </a:lnTo>
                <a:lnTo>
                  <a:pt x="2663" y="218"/>
                </a:lnTo>
                <a:lnTo>
                  <a:pt x="2647" y="271"/>
                </a:lnTo>
                <a:lnTo>
                  <a:pt x="2636" y="313"/>
                </a:lnTo>
                <a:lnTo>
                  <a:pt x="2614" y="352"/>
                </a:lnTo>
                <a:lnTo>
                  <a:pt x="2601" y="399"/>
                </a:lnTo>
                <a:lnTo>
                  <a:pt x="2581" y="432"/>
                </a:lnTo>
                <a:lnTo>
                  <a:pt x="2555" y="463"/>
                </a:lnTo>
                <a:lnTo>
                  <a:pt x="2495" y="515"/>
                </a:lnTo>
                <a:lnTo>
                  <a:pt x="2431" y="582"/>
                </a:lnTo>
                <a:lnTo>
                  <a:pt x="2398" y="637"/>
                </a:lnTo>
                <a:lnTo>
                  <a:pt x="2389" y="674"/>
                </a:lnTo>
                <a:lnTo>
                  <a:pt x="2363" y="754"/>
                </a:lnTo>
                <a:lnTo>
                  <a:pt x="2296" y="820"/>
                </a:lnTo>
                <a:lnTo>
                  <a:pt x="2230" y="926"/>
                </a:lnTo>
                <a:lnTo>
                  <a:pt x="2204" y="952"/>
                </a:lnTo>
                <a:lnTo>
                  <a:pt x="2177" y="1031"/>
                </a:lnTo>
                <a:lnTo>
                  <a:pt x="2151" y="1084"/>
                </a:lnTo>
                <a:lnTo>
                  <a:pt x="2097" y="1150"/>
                </a:lnTo>
                <a:lnTo>
                  <a:pt x="2097" y="1243"/>
                </a:lnTo>
                <a:lnTo>
                  <a:pt x="2057" y="1389"/>
                </a:lnTo>
                <a:lnTo>
                  <a:pt x="2057" y="1375"/>
                </a:lnTo>
                <a:lnTo>
                  <a:pt x="2031" y="1481"/>
                </a:lnTo>
                <a:lnTo>
                  <a:pt x="1991" y="1413"/>
                </a:lnTo>
                <a:lnTo>
                  <a:pt x="2057" y="1666"/>
                </a:lnTo>
                <a:lnTo>
                  <a:pt x="2111" y="1746"/>
                </a:lnTo>
                <a:lnTo>
                  <a:pt x="2070" y="1799"/>
                </a:lnTo>
                <a:lnTo>
                  <a:pt x="2111" y="1905"/>
                </a:lnTo>
                <a:lnTo>
                  <a:pt x="2124" y="1985"/>
                </a:lnTo>
                <a:lnTo>
                  <a:pt x="2164" y="2051"/>
                </a:lnTo>
                <a:lnTo>
                  <a:pt x="2217" y="2130"/>
                </a:lnTo>
                <a:lnTo>
                  <a:pt x="2257" y="2197"/>
                </a:lnTo>
                <a:lnTo>
                  <a:pt x="2296" y="2276"/>
                </a:lnTo>
                <a:lnTo>
                  <a:pt x="2310" y="2342"/>
                </a:lnTo>
                <a:lnTo>
                  <a:pt x="2323" y="2382"/>
                </a:lnTo>
                <a:lnTo>
                  <a:pt x="2310" y="2448"/>
                </a:lnTo>
                <a:lnTo>
                  <a:pt x="2296" y="2554"/>
                </a:lnTo>
                <a:lnTo>
                  <a:pt x="2283" y="2673"/>
                </a:lnTo>
                <a:lnTo>
                  <a:pt x="2243" y="2752"/>
                </a:lnTo>
                <a:lnTo>
                  <a:pt x="2177" y="2829"/>
                </a:lnTo>
                <a:lnTo>
                  <a:pt x="2177" y="2900"/>
                </a:lnTo>
                <a:lnTo>
                  <a:pt x="2199" y="2992"/>
                </a:lnTo>
                <a:lnTo>
                  <a:pt x="2224" y="3085"/>
                </a:lnTo>
                <a:lnTo>
                  <a:pt x="2224" y="3178"/>
                </a:lnTo>
                <a:lnTo>
                  <a:pt x="2224" y="3248"/>
                </a:lnTo>
                <a:lnTo>
                  <a:pt x="2224" y="3341"/>
                </a:lnTo>
                <a:lnTo>
                  <a:pt x="2246" y="3456"/>
                </a:lnTo>
                <a:lnTo>
                  <a:pt x="2270" y="3526"/>
                </a:lnTo>
                <a:lnTo>
                  <a:pt x="2316" y="3619"/>
                </a:lnTo>
                <a:lnTo>
                  <a:pt x="2340" y="3711"/>
                </a:lnTo>
                <a:lnTo>
                  <a:pt x="2363" y="3782"/>
                </a:lnTo>
                <a:lnTo>
                  <a:pt x="2387" y="3896"/>
                </a:lnTo>
                <a:lnTo>
                  <a:pt x="2409" y="3967"/>
                </a:lnTo>
                <a:lnTo>
                  <a:pt x="2409" y="4106"/>
                </a:lnTo>
                <a:lnTo>
                  <a:pt x="2409" y="4223"/>
                </a:lnTo>
                <a:lnTo>
                  <a:pt x="2409" y="4315"/>
                </a:lnTo>
                <a:lnTo>
                  <a:pt x="2409" y="4454"/>
                </a:lnTo>
                <a:lnTo>
                  <a:pt x="2433" y="4686"/>
                </a:lnTo>
                <a:lnTo>
                  <a:pt x="2433" y="4803"/>
                </a:lnTo>
                <a:lnTo>
                  <a:pt x="2433" y="5034"/>
                </a:lnTo>
                <a:lnTo>
                  <a:pt x="2409" y="5105"/>
                </a:lnTo>
                <a:lnTo>
                  <a:pt x="2363" y="5197"/>
                </a:lnTo>
                <a:lnTo>
                  <a:pt x="2270" y="5546"/>
                </a:lnTo>
                <a:lnTo>
                  <a:pt x="2199" y="5660"/>
                </a:lnTo>
                <a:lnTo>
                  <a:pt x="2177" y="5731"/>
                </a:lnTo>
                <a:lnTo>
                  <a:pt x="2131" y="6475"/>
                </a:lnTo>
                <a:lnTo>
                  <a:pt x="2084" y="6568"/>
                </a:lnTo>
                <a:lnTo>
                  <a:pt x="2013" y="6636"/>
                </a:lnTo>
                <a:lnTo>
                  <a:pt x="1945" y="6706"/>
                </a:lnTo>
                <a:lnTo>
                  <a:pt x="1898" y="6777"/>
                </a:lnTo>
                <a:lnTo>
                  <a:pt x="1828" y="6845"/>
                </a:lnTo>
                <a:lnTo>
                  <a:pt x="1757" y="6892"/>
                </a:lnTo>
                <a:lnTo>
                  <a:pt x="1642" y="7009"/>
                </a:lnTo>
                <a:lnTo>
                  <a:pt x="1572" y="7101"/>
                </a:lnTo>
                <a:lnTo>
                  <a:pt x="852" y="7425"/>
                </a:lnTo>
                <a:lnTo>
                  <a:pt x="782" y="7450"/>
                </a:lnTo>
                <a:lnTo>
                  <a:pt x="688" y="7450"/>
                </a:lnTo>
                <a:lnTo>
                  <a:pt x="573" y="7542"/>
                </a:lnTo>
                <a:lnTo>
                  <a:pt x="503" y="7610"/>
                </a:lnTo>
                <a:lnTo>
                  <a:pt x="432" y="7635"/>
                </a:lnTo>
                <a:lnTo>
                  <a:pt x="339" y="7659"/>
                </a:lnTo>
                <a:lnTo>
                  <a:pt x="247" y="7705"/>
                </a:lnTo>
                <a:lnTo>
                  <a:pt x="154" y="7727"/>
                </a:lnTo>
                <a:lnTo>
                  <a:pt x="132" y="7798"/>
                </a:lnTo>
                <a:lnTo>
                  <a:pt x="61" y="7844"/>
                </a:lnTo>
                <a:lnTo>
                  <a:pt x="0" y="786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>
            <a:off x="3076560" y="1733400"/>
            <a:ext cx="179640" cy="592560"/>
          </a:xfrm>
          <a:custGeom>
            <a:avLst/>
            <a:gdLst/>
            <a:ahLst/>
            <a:rect l="0" t="0" r="r" b="b"/>
            <a:pathLst>
              <a:path fill="none" w="499" h="1646">
                <a:moveTo>
                  <a:pt x="0" y="0"/>
                </a:moveTo>
                <a:lnTo>
                  <a:pt x="26" y="79"/>
                </a:lnTo>
                <a:lnTo>
                  <a:pt x="48" y="163"/>
                </a:lnTo>
                <a:lnTo>
                  <a:pt x="81" y="240"/>
                </a:lnTo>
                <a:lnTo>
                  <a:pt x="127" y="310"/>
                </a:lnTo>
                <a:lnTo>
                  <a:pt x="220" y="357"/>
                </a:lnTo>
                <a:lnTo>
                  <a:pt x="314" y="403"/>
                </a:lnTo>
                <a:lnTo>
                  <a:pt x="406" y="472"/>
                </a:lnTo>
                <a:lnTo>
                  <a:pt x="452" y="543"/>
                </a:lnTo>
                <a:lnTo>
                  <a:pt x="499" y="636"/>
                </a:lnTo>
                <a:lnTo>
                  <a:pt x="499" y="728"/>
                </a:lnTo>
                <a:lnTo>
                  <a:pt x="499" y="799"/>
                </a:lnTo>
                <a:lnTo>
                  <a:pt x="475" y="913"/>
                </a:lnTo>
                <a:lnTo>
                  <a:pt x="406" y="984"/>
                </a:lnTo>
                <a:lnTo>
                  <a:pt x="336" y="1052"/>
                </a:lnTo>
                <a:lnTo>
                  <a:pt x="314" y="1123"/>
                </a:lnTo>
                <a:lnTo>
                  <a:pt x="314" y="1193"/>
                </a:lnTo>
                <a:lnTo>
                  <a:pt x="267" y="1287"/>
                </a:lnTo>
                <a:lnTo>
                  <a:pt x="196" y="1333"/>
                </a:lnTo>
                <a:lnTo>
                  <a:pt x="127" y="1426"/>
                </a:lnTo>
                <a:lnTo>
                  <a:pt x="57" y="1494"/>
                </a:lnTo>
                <a:lnTo>
                  <a:pt x="0" y="164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3456000" y="642960"/>
            <a:ext cx="878400" cy="2630880"/>
          </a:xfrm>
          <a:custGeom>
            <a:avLst/>
            <a:gdLst/>
            <a:ahLst/>
            <a:rect l="0" t="0" r="r" b="b"/>
            <a:pathLst>
              <a:path fill="none" w="2440" h="7308">
                <a:moveTo>
                  <a:pt x="1606" y="0"/>
                </a:moveTo>
                <a:lnTo>
                  <a:pt x="1625" y="244"/>
                </a:lnTo>
                <a:lnTo>
                  <a:pt x="1606" y="330"/>
                </a:lnTo>
                <a:lnTo>
                  <a:pt x="1612" y="383"/>
                </a:lnTo>
                <a:lnTo>
                  <a:pt x="1619" y="443"/>
                </a:lnTo>
                <a:lnTo>
                  <a:pt x="1639" y="482"/>
                </a:lnTo>
                <a:lnTo>
                  <a:pt x="1652" y="509"/>
                </a:lnTo>
                <a:lnTo>
                  <a:pt x="1652" y="555"/>
                </a:lnTo>
                <a:lnTo>
                  <a:pt x="1652" y="562"/>
                </a:lnTo>
                <a:lnTo>
                  <a:pt x="1645" y="568"/>
                </a:lnTo>
                <a:lnTo>
                  <a:pt x="1639" y="595"/>
                </a:lnTo>
                <a:lnTo>
                  <a:pt x="1619" y="634"/>
                </a:lnTo>
                <a:lnTo>
                  <a:pt x="1592" y="641"/>
                </a:lnTo>
                <a:lnTo>
                  <a:pt x="1606" y="694"/>
                </a:lnTo>
                <a:lnTo>
                  <a:pt x="1606" y="727"/>
                </a:lnTo>
                <a:lnTo>
                  <a:pt x="1592" y="753"/>
                </a:lnTo>
                <a:lnTo>
                  <a:pt x="1573" y="826"/>
                </a:lnTo>
                <a:lnTo>
                  <a:pt x="1553" y="872"/>
                </a:lnTo>
                <a:lnTo>
                  <a:pt x="1539" y="952"/>
                </a:lnTo>
                <a:lnTo>
                  <a:pt x="1539" y="1018"/>
                </a:lnTo>
                <a:lnTo>
                  <a:pt x="1533" y="1110"/>
                </a:lnTo>
                <a:lnTo>
                  <a:pt x="1522" y="1166"/>
                </a:lnTo>
                <a:lnTo>
                  <a:pt x="1588" y="1227"/>
                </a:lnTo>
                <a:lnTo>
                  <a:pt x="1619" y="1298"/>
                </a:lnTo>
                <a:lnTo>
                  <a:pt x="1654" y="1364"/>
                </a:lnTo>
                <a:lnTo>
                  <a:pt x="1667" y="1430"/>
                </a:lnTo>
                <a:lnTo>
                  <a:pt x="1767" y="1507"/>
                </a:lnTo>
                <a:lnTo>
                  <a:pt x="1767" y="1578"/>
                </a:lnTo>
                <a:lnTo>
                  <a:pt x="1813" y="1692"/>
                </a:lnTo>
                <a:lnTo>
                  <a:pt x="1836" y="1763"/>
                </a:lnTo>
                <a:lnTo>
                  <a:pt x="1907" y="1878"/>
                </a:lnTo>
                <a:lnTo>
                  <a:pt x="1953" y="1949"/>
                </a:lnTo>
                <a:lnTo>
                  <a:pt x="1999" y="2042"/>
                </a:lnTo>
                <a:lnTo>
                  <a:pt x="2021" y="2112"/>
                </a:lnTo>
                <a:lnTo>
                  <a:pt x="2067" y="2205"/>
                </a:lnTo>
                <a:lnTo>
                  <a:pt x="2092" y="2297"/>
                </a:lnTo>
                <a:lnTo>
                  <a:pt x="2138" y="2390"/>
                </a:lnTo>
                <a:lnTo>
                  <a:pt x="2162" y="2482"/>
                </a:lnTo>
                <a:lnTo>
                  <a:pt x="2184" y="2553"/>
                </a:lnTo>
                <a:lnTo>
                  <a:pt x="2209" y="2646"/>
                </a:lnTo>
                <a:lnTo>
                  <a:pt x="2255" y="2784"/>
                </a:lnTo>
                <a:lnTo>
                  <a:pt x="2277" y="2901"/>
                </a:lnTo>
                <a:lnTo>
                  <a:pt x="2277" y="2994"/>
                </a:lnTo>
                <a:lnTo>
                  <a:pt x="2323" y="3086"/>
                </a:lnTo>
                <a:lnTo>
                  <a:pt x="2323" y="3201"/>
                </a:lnTo>
                <a:lnTo>
                  <a:pt x="2323" y="3272"/>
                </a:lnTo>
                <a:lnTo>
                  <a:pt x="2323" y="3364"/>
                </a:lnTo>
                <a:lnTo>
                  <a:pt x="2323" y="3457"/>
                </a:lnTo>
                <a:lnTo>
                  <a:pt x="2323" y="3527"/>
                </a:lnTo>
                <a:lnTo>
                  <a:pt x="2323" y="3688"/>
                </a:lnTo>
                <a:lnTo>
                  <a:pt x="2323" y="3759"/>
                </a:lnTo>
                <a:lnTo>
                  <a:pt x="2277" y="3829"/>
                </a:lnTo>
                <a:lnTo>
                  <a:pt x="2231" y="3944"/>
                </a:lnTo>
                <a:lnTo>
                  <a:pt x="2301" y="4153"/>
                </a:lnTo>
                <a:lnTo>
                  <a:pt x="2440" y="4292"/>
                </a:lnTo>
                <a:lnTo>
                  <a:pt x="2440" y="4409"/>
                </a:lnTo>
                <a:lnTo>
                  <a:pt x="2440" y="4455"/>
                </a:lnTo>
                <a:lnTo>
                  <a:pt x="2440" y="4455"/>
                </a:lnTo>
                <a:lnTo>
                  <a:pt x="2323" y="4548"/>
                </a:lnTo>
                <a:lnTo>
                  <a:pt x="2323" y="4640"/>
                </a:lnTo>
                <a:lnTo>
                  <a:pt x="2277" y="4733"/>
                </a:lnTo>
                <a:lnTo>
                  <a:pt x="2231" y="4825"/>
                </a:lnTo>
                <a:lnTo>
                  <a:pt x="2162" y="4872"/>
                </a:lnTo>
                <a:lnTo>
                  <a:pt x="2045" y="4964"/>
                </a:lnTo>
                <a:lnTo>
                  <a:pt x="1999" y="5081"/>
                </a:lnTo>
                <a:lnTo>
                  <a:pt x="1975" y="5152"/>
                </a:lnTo>
                <a:lnTo>
                  <a:pt x="1929" y="5429"/>
                </a:lnTo>
                <a:lnTo>
                  <a:pt x="1882" y="5569"/>
                </a:lnTo>
                <a:lnTo>
                  <a:pt x="1860" y="5640"/>
                </a:lnTo>
                <a:lnTo>
                  <a:pt x="1789" y="5871"/>
                </a:lnTo>
                <a:lnTo>
                  <a:pt x="1720" y="5988"/>
                </a:lnTo>
                <a:lnTo>
                  <a:pt x="1625" y="6081"/>
                </a:lnTo>
                <a:lnTo>
                  <a:pt x="1487" y="6220"/>
                </a:lnTo>
                <a:lnTo>
                  <a:pt x="1418" y="6334"/>
                </a:lnTo>
                <a:lnTo>
                  <a:pt x="1348" y="6380"/>
                </a:lnTo>
                <a:lnTo>
                  <a:pt x="1209" y="6475"/>
                </a:lnTo>
                <a:lnTo>
                  <a:pt x="1138" y="6522"/>
                </a:lnTo>
                <a:lnTo>
                  <a:pt x="1024" y="6568"/>
                </a:lnTo>
                <a:lnTo>
                  <a:pt x="931" y="6660"/>
                </a:lnTo>
                <a:lnTo>
                  <a:pt x="860" y="6682"/>
                </a:lnTo>
                <a:lnTo>
                  <a:pt x="792" y="6753"/>
                </a:lnTo>
                <a:lnTo>
                  <a:pt x="721" y="6775"/>
                </a:lnTo>
                <a:lnTo>
                  <a:pt x="651" y="6821"/>
                </a:lnTo>
                <a:lnTo>
                  <a:pt x="582" y="6892"/>
                </a:lnTo>
                <a:lnTo>
                  <a:pt x="489" y="7009"/>
                </a:lnTo>
                <a:lnTo>
                  <a:pt x="418" y="7055"/>
                </a:lnTo>
                <a:lnTo>
                  <a:pt x="326" y="7101"/>
                </a:lnTo>
                <a:lnTo>
                  <a:pt x="255" y="7148"/>
                </a:lnTo>
                <a:lnTo>
                  <a:pt x="141" y="7216"/>
                </a:lnTo>
                <a:lnTo>
                  <a:pt x="0" y="730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3760920" y="1309680"/>
            <a:ext cx="725760" cy="1962360"/>
          </a:xfrm>
          <a:custGeom>
            <a:avLst/>
            <a:gdLst/>
            <a:ahLst/>
            <a:rect l="0" t="0" r="r" b="b"/>
            <a:pathLst>
              <a:path fill="none" w="2016" h="5451">
                <a:moveTo>
                  <a:pt x="1150" y="0"/>
                </a:moveTo>
                <a:lnTo>
                  <a:pt x="1183" y="46"/>
                </a:lnTo>
                <a:lnTo>
                  <a:pt x="1229" y="125"/>
                </a:lnTo>
                <a:lnTo>
                  <a:pt x="1249" y="231"/>
                </a:lnTo>
                <a:lnTo>
                  <a:pt x="1302" y="277"/>
                </a:lnTo>
                <a:lnTo>
                  <a:pt x="1362" y="392"/>
                </a:lnTo>
                <a:lnTo>
                  <a:pt x="1430" y="485"/>
                </a:lnTo>
                <a:lnTo>
                  <a:pt x="1476" y="577"/>
                </a:lnTo>
                <a:lnTo>
                  <a:pt x="1522" y="648"/>
                </a:lnTo>
                <a:lnTo>
                  <a:pt x="1569" y="740"/>
                </a:lnTo>
                <a:lnTo>
                  <a:pt x="1639" y="809"/>
                </a:lnTo>
                <a:lnTo>
                  <a:pt x="1661" y="879"/>
                </a:lnTo>
                <a:lnTo>
                  <a:pt x="1732" y="972"/>
                </a:lnTo>
                <a:lnTo>
                  <a:pt x="1756" y="1042"/>
                </a:lnTo>
                <a:lnTo>
                  <a:pt x="1802" y="1135"/>
                </a:lnTo>
                <a:lnTo>
                  <a:pt x="1848" y="1250"/>
                </a:lnTo>
                <a:lnTo>
                  <a:pt x="1870" y="1320"/>
                </a:lnTo>
                <a:lnTo>
                  <a:pt x="1917" y="1413"/>
                </a:lnTo>
                <a:lnTo>
                  <a:pt x="1917" y="1483"/>
                </a:lnTo>
                <a:lnTo>
                  <a:pt x="1941" y="1576"/>
                </a:lnTo>
                <a:lnTo>
                  <a:pt x="1941" y="1669"/>
                </a:lnTo>
                <a:lnTo>
                  <a:pt x="1941" y="1830"/>
                </a:lnTo>
                <a:lnTo>
                  <a:pt x="1941" y="1900"/>
                </a:lnTo>
                <a:lnTo>
                  <a:pt x="1941" y="1971"/>
                </a:lnTo>
                <a:lnTo>
                  <a:pt x="1941" y="2063"/>
                </a:lnTo>
                <a:lnTo>
                  <a:pt x="1963" y="2156"/>
                </a:lnTo>
                <a:lnTo>
                  <a:pt x="1943" y="2288"/>
                </a:lnTo>
                <a:lnTo>
                  <a:pt x="1950" y="2341"/>
                </a:lnTo>
                <a:lnTo>
                  <a:pt x="1956" y="2374"/>
                </a:lnTo>
                <a:lnTo>
                  <a:pt x="1969" y="2414"/>
                </a:lnTo>
                <a:lnTo>
                  <a:pt x="1983" y="2460"/>
                </a:lnTo>
                <a:lnTo>
                  <a:pt x="2003" y="2533"/>
                </a:lnTo>
                <a:lnTo>
                  <a:pt x="2009" y="2579"/>
                </a:lnTo>
                <a:lnTo>
                  <a:pt x="2016" y="2672"/>
                </a:lnTo>
                <a:lnTo>
                  <a:pt x="1989" y="2739"/>
                </a:lnTo>
                <a:lnTo>
                  <a:pt x="1943" y="2818"/>
                </a:lnTo>
                <a:lnTo>
                  <a:pt x="1884" y="2937"/>
                </a:lnTo>
                <a:lnTo>
                  <a:pt x="1837" y="3010"/>
                </a:lnTo>
                <a:lnTo>
                  <a:pt x="1798" y="3063"/>
                </a:lnTo>
                <a:lnTo>
                  <a:pt x="1725" y="3096"/>
                </a:lnTo>
                <a:lnTo>
                  <a:pt x="1666" y="3156"/>
                </a:lnTo>
                <a:lnTo>
                  <a:pt x="1619" y="3189"/>
                </a:lnTo>
                <a:lnTo>
                  <a:pt x="1573" y="3235"/>
                </a:lnTo>
                <a:lnTo>
                  <a:pt x="1520" y="3301"/>
                </a:lnTo>
                <a:lnTo>
                  <a:pt x="1500" y="3374"/>
                </a:lnTo>
                <a:lnTo>
                  <a:pt x="1487" y="3453"/>
                </a:lnTo>
                <a:lnTo>
                  <a:pt x="1454" y="3533"/>
                </a:lnTo>
                <a:lnTo>
                  <a:pt x="1414" y="3619"/>
                </a:lnTo>
                <a:lnTo>
                  <a:pt x="1375" y="3751"/>
                </a:lnTo>
                <a:lnTo>
                  <a:pt x="1348" y="3844"/>
                </a:lnTo>
                <a:lnTo>
                  <a:pt x="1282" y="3969"/>
                </a:lnTo>
                <a:lnTo>
                  <a:pt x="1216" y="4102"/>
                </a:lnTo>
                <a:lnTo>
                  <a:pt x="1157" y="4214"/>
                </a:lnTo>
                <a:lnTo>
                  <a:pt x="1124" y="4326"/>
                </a:lnTo>
                <a:lnTo>
                  <a:pt x="1097" y="4406"/>
                </a:lnTo>
                <a:lnTo>
                  <a:pt x="1011" y="4498"/>
                </a:lnTo>
                <a:lnTo>
                  <a:pt x="931" y="4604"/>
                </a:lnTo>
                <a:lnTo>
                  <a:pt x="759" y="4703"/>
                </a:lnTo>
                <a:lnTo>
                  <a:pt x="693" y="4796"/>
                </a:lnTo>
                <a:lnTo>
                  <a:pt x="588" y="4875"/>
                </a:lnTo>
                <a:lnTo>
                  <a:pt x="488" y="4955"/>
                </a:lnTo>
                <a:lnTo>
                  <a:pt x="370" y="5061"/>
                </a:lnTo>
                <a:lnTo>
                  <a:pt x="251" y="5114"/>
                </a:lnTo>
                <a:lnTo>
                  <a:pt x="185" y="5180"/>
                </a:lnTo>
                <a:lnTo>
                  <a:pt x="72" y="5312"/>
                </a:lnTo>
                <a:lnTo>
                  <a:pt x="0" y="545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>
            <a:off x="4033800" y="81000"/>
            <a:ext cx="1548000" cy="2224440"/>
          </a:xfrm>
          <a:custGeom>
            <a:avLst/>
            <a:gdLst/>
            <a:ahLst/>
            <a:rect l="0" t="0" r="r" b="b"/>
            <a:pathLst>
              <a:path fill="none" w="4300" h="6179">
                <a:moveTo>
                  <a:pt x="152" y="0"/>
                </a:moveTo>
                <a:lnTo>
                  <a:pt x="138" y="50"/>
                </a:lnTo>
                <a:lnTo>
                  <a:pt x="138" y="143"/>
                </a:lnTo>
                <a:lnTo>
                  <a:pt x="138" y="236"/>
                </a:lnTo>
                <a:lnTo>
                  <a:pt x="138" y="328"/>
                </a:lnTo>
                <a:lnTo>
                  <a:pt x="163" y="421"/>
                </a:lnTo>
                <a:lnTo>
                  <a:pt x="185" y="491"/>
                </a:lnTo>
                <a:lnTo>
                  <a:pt x="185" y="584"/>
                </a:lnTo>
                <a:lnTo>
                  <a:pt x="185" y="677"/>
                </a:lnTo>
                <a:lnTo>
                  <a:pt x="138" y="769"/>
                </a:lnTo>
                <a:lnTo>
                  <a:pt x="116" y="862"/>
                </a:lnTo>
                <a:lnTo>
                  <a:pt x="70" y="932"/>
                </a:lnTo>
                <a:lnTo>
                  <a:pt x="46" y="1025"/>
                </a:lnTo>
                <a:lnTo>
                  <a:pt x="46" y="1118"/>
                </a:lnTo>
                <a:lnTo>
                  <a:pt x="46" y="1210"/>
                </a:lnTo>
                <a:lnTo>
                  <a:pt x="22" y="1303"/>
                </a:lnTo>
                <a:lnTo>
                  <a:pt x="0" y="1374"/>
                </a:lnTo>
                <a:lnTo>
                  <a:pt x="0" y="1466"/>
                </a:lnTo>
                <a:lnTo>
                  <a:pt x="0" y="1559"/>
                </a:lnTo>
                <a:lnTo>
                  <a:pt x="46" y="1652"/>
                </a:lnTo>
                <a:lnTo>
                  <a:pt x="70" y="1744"/>
                </a:lnTo>
                <a:lnTo>
                  <a:pt x="92" y="1815"/>
                </a:lnTo>
                <a:lnTo>
                  <a:pt x="116" y="1907"/>
                </a:lnTo>
                <a:lnTo>
                  <a:pt x="116" y="2000"/>
                </a:lnTo>
                <a:lnTo>
                  <a:pt x="116" y="2093"/>
                </a:lnTo>
                <a:lnTo>
                  <a:pt x="138" y="2185"/>
                </a:lnTo>
                <a:lnTo>
                  <a:pt x="163" y="2256"/>
                </a:lnTo>
                <a:lnTo>
                  <a:pt x="163" y="2349"/>
                </a:lnTo>
                <a:lnTo>
                  <a:pt x="185" y="2487"/>
                </a:lnTo>
                <a:lnTo>
                  <a:pt x="231" y="2580"/>
                </a:lnTo>
                <a:lnTo>
                  <a:pt x="255" y="2673"/>
                </a:lnTo>
                <a:lnTo>
                  <a:pt x="255" y="2743"/>
                </a:lnTo>
                <a:lnTo>
                  <a:pt x="255" y="2858"/>
                </a:lnTo>
                <a:lnTo>
                  <a:pt x="255" y="2929"/>
                </a:lnTo>
                <a:lnTo>
                  <a:pt x="277" y="3021"/>
                </a:lnTo>
                <a:lnTo>
                  <a:pt x="301" y="3115"/>
                </a:lnTo>
                <a:lnTo>
                  <a:pt x="323" y="3185"/>
                </a:lnTo>
                <a:lnTo>
                  <a:pt x="323" y="3278"/>
                </a:lnTo>
                <a:lnTo>
                  <a:pt x="398" y="3432"/>
                </a:lnTo>
                <a:lnTo>
                  <a:pt x="462" y="3463"/>
                </a:lnTo>
                <a:lnTo>
                  <a:pt x="511" y="3556"/>
                </a:lnTo>
                <a:lnTo>
                  <a:pt x="557" y="3627"/>
                </a:lnTo>
                <a:lnTo>
                  <a:pt x="650" y="3695"/>
                </a:lnTo>
                <a:lnTo>
                  <a:pt x="696" y="3766"/>
                </a:lnTo>
                <a:lnTo>
                  <a:pt x="764" y="3858"/>
                </a:lnTo>
                <a:lnTo>
                  <a:pt x="835" y="3927"/>
                </a:lnTo>
                <a:lnTo>
                  <a:pt x="857" y="3997"/>
                </a:lnTo>
                <a:lnTo>
                  <a:pt x="903" y="4068"/>
                </a:lnTo>
                <a:lnTo>
                  <a:pt x="952" y="4160"/>
                </a:lnTo>
                <a:lnTo>
                  <a:pt x="1020" y="4253"/>
                </a:lnTo>
                <a:lnTo>
                  <a:pt x="1066" y="4346"/>
                </a:lnTo>
                <a:lnTo>
                  <a:pt x="1137" y="4438"/>
                </a:lnTo>
                <a:lnTo>
                  <a:pt x="1159" y="4509"/>
                </a:lnTo>
                <a:lnTo>
                  <a:pt x="1229" y="4577"/>
                </a:lnTo>
                <a:lnTo>
                  <a:pt x="1251" y="4648"/>
                </a:lnTo>
                <a:lnTo>
                  <a:pt x="1275" y="4740"/>
                </a:lnTo>
                <a:lnTo>
                  <a:pt x="1297" y="4833"/>
                </a:lnTo>
                <a:lnTo>
                  <a:pt x="1322" y="4904"/>
                </a:lnTo>
                <a:lnTo>
                  <a:pt x="1344" y="5018"/>
                </a:lnTo>
                <a:lnTo>
                  <a:pt x="1368" y="5089"/>
                </a:lnTo>
                <a:lnTo>
                  <a:pt x="1414" y="5182"/>
                </a:lnTo>
                <a:lnTo>
                  <a:pt x="1439" y="5296"/>
                </a:lnTo>
                <a:lnTo>
                  <a:pt x="1461" y="5367"/>
                </a:lnTo>
                <a:lnTo>
                  <a:pt x="1461" y="5437"/>
                </a:lnTo>
                <a:lnTo>
                  <a:pt x="1485" y="5530"/>
                </a:lnTo>
                <a:lnTo>
                  <a:pt x="1531" y="5623"/>
                </a:lnTo>
                <a:lnTo>
                  <a:pt x="1577" y="5715"/>
                </a:lnTo>
                <a:lnTo>
                  <a:pt x="1624" y="5786"/>
                </a:lnTo>
                <a:lnTo>
                  <a:pt x="1692" y="5879"/>
                </a:lnTo>
                <a:lnTo>
                  <a:pt x="1762" y="5971"/>
                </a:lnTo>
                <a:lnTo>
                  <a:pt x="1833" y="5993"/>
                </a:lnTo>
                <a:lnTo>
                  <a:pt x="1926" y="6018"/>
                </a:lnTo>
                <a:lnTo>
                  <a:pt x="2018" y="6086"/>
                </a:lnTo>
                <a:lnTo>
                  <a:pt x="2064" y="6156"/>
                </a:lnTo>
                <a:lnTo>
                  <a:pt x="2158" y="6179"/>
                </a:lnTo>
                <a:lnTo>
                  <a:pt x="2251" y="6179"/>
                </a:lnTo>
                <a:lnTo>
                  <a:pt x="2321" y="6156"/>
                </a:lnTo>
                <a:lnTo>
                  <a:pt x="2414" y="6132"/>
                </a:lnTo>
                <a:lnTo>
                  <a:pt x="2506" y="6110"/>
                </a:lnTo>
                <a:lnTo>
                  <a:pt x="2599" y="6040"/>
                </a:lnTo>
                <a:lnTo>
                  <a:pt x="2667" y="5947"/>
                </a:lnTo>
                <a:lnTo>
                  <a:pt x="2738" y="5879"/>
                </a:lnTo>
                <a:lnTo>
                  <a:pt x="2808" y="5808"/>
                </a:lnTo>
                <a:lnTo>
                  <a:pt x="2876" y="5737"/>
                </a:lnTo>
                <a:lnTo>
                  <a:pt x="2947" y="5691"/>
                </a:lnTo>
                <a:lnTo>
                  <a:pt x="3061" y="5620"/>
                </a:lnTo>
                <a:lnTo>
                  <a:pt x="3123" y="5568"/>
                </a:lnTo>
                <a:lnTo>
                  <a:pt x="3185" y="5515"/>
                </a:lnTo>
                <a:lnTo>
                  <a:pt x="3273" y="5471"/>
                </a:lnTo>
                <a:lnTo>
                  <a:pt x="3370" y="5418"/>
                </a:lnTo>
                <a:lnTo>
                  <a:pt x="3456" y="5391"/>
                </a:lnTo>
                <a:lnTo>
                  <a:pt x="3526" y="5391"/>
                </a:lnTo>
                <a:lnTo>
                  <a:pt x="3597" y="5367"/>
                </a:lnTo>
                <a:lnTo>
                  <a:pt x="3712" y="5296"/>
                </a:lnTo>
                <a:lnTo>
                  <a:pt x="3782" y="5228"/>
                </a:lnTo>
                <a:lnTo>
                  <a:pt x="3850" y="5157"/>
                </a:lnTo>
                <a:lnTo>
                  <a:pt x="3921" y="5065"/>
                </a:lnTo>
                <a:lnTo>
                  <a:pt x="3989" y="4972"/>
                </a:lnTo>
                <a:lnTo>
                  <a:pt x="4060" y="4904"/>
                </a:lnTo>
                <a:lnTo>
                  <a:pt x="4130" y="4855"/>
                </a:lnTo>
                <a:lnTo>
                  <a:pt x="4223" y="4809"/>
                </a:lnTo>
                <a:lnTo>
                  <a:pt x="4300" y="479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>
            <a:off x="4853160" y="88920"/>
            <a:ext cx="729000" cy="744840"/>
          </a:xfrm>
          <a:custGeom>
            <a:avLst/>
            <a:gdLst/>
            <a:ahLst/>
            <a:rect l="0" t="0" r="r" b="b"/>
            <a:pathLst>
              <a:path fill="none" w="2025" h="2069">
                <a:moveTo>
                  <a:pt x="0" y="0"/>
                </a:moveTo>
                <a:lnTo>
                  <a:pt x="48" y="48"/>
                </a:lnTo>
                <a:lnTo>
                  <a:pt x="97" y="137"/>
                </a:lnTo>
                <a:lnTo>
                  <a:pt x="145" y="226"/>
                </a:lnTo>
                <a:lnTo>
                  <a:pt x="145" y="315"/>
                </a:lnTo>
                <a:lnTo>
                  <a:pt x="168" y="404"/>
                </a:lnTo>
                <a:lnTo>
                  <a:pt x="217" y="472"/>
                </a:lnTo>
                <a:lnTo>
                  <a:pt x="291" y="516"/>
                </a:lnTo>
                <a:lnTo>
                  <a:pt x="388" y="560"/>
                </a:lnTo>
                <a:lnTo>
                  <a:pt x="462" y="626"/>
                </a:lnTo>
                <a:lnTo>
                  <a:pt x="510" y="694"/>
                </a:lnTo>
                <a:lnTo>
                  <a:pt x="607" y="759"/>
                </a:lnTo>
                <a:lnTo>
                  <a:pt x="704" y="783"/>
                </a:lnTo>
                <a:lnTo>
                  <a:pt x="801" y="848"/>
                </a:lnTo>
                <a:lnTo>
                  <a:pt x="875" y="895"/>
                </a:lnTo>
                <a:lnTo>
                  <a:pt x="972" y="961"/>
                </a:lnTo>
                <a:lnTo>
                  <a:pt x="1093" y="1050"/>
                </a:lnTo>
                <a:lnTo>
                  <a:pt x="1167" y="1095"/>
                </a:lnTo>
                <a:lnTo>
                  <a:pt x="1216" y="1163"/>
                </a:lnTo>
                <a:lnTo>
                  <a:pt x="1313" y="1252"/>
                </a:lnTo>
                <a:lnTo>
                  <a:pt x="1320" y="1429"/>
                </a:lnTo>
                <a:lnTo>
                  <a:pt x="1491" y="1601"/>
                </a:lnTo>
                <a:lnTo>
                  <a:pt x="1703" y="1664"/>
                </a:lnTo>
                <a:lnTo>
                  <a:pt x="1874" y="1770"/>
                </a:lnTo>
                <a:lnTo>
                  <a:pt x="2025" y="20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>
            <a:off x="4106880" y="82440"/>
            <a:ext cx="1476720" cy="1679760"/>
          </a:xfrm>
          <a:custGeom>
            <a:avLst/>
            <a:gdLst/>
            <a:ahLst/>
            <a:rect l="0" t="0" r="r" b="b"/>
            <a:pathLst>
              <a:path fill="none" w="4102" h="4666">
                <a:moveTo>
                  <a:pt x="0" y="0"/>
                </a:moveTo>
                <a:lnTo>
                  <a:pt x="22" y="243"/>
                </a:lnTo>
                <a:lnTo>
                  <a:pt x="61" y="309"/>
                </a:lnTo>
                <a:lnTo>
                  <a:pt x="97" y="396"/>
                </a:lnTo>
                <a:lnTo>
                  <a:pt x="143" y="492"/>
                </a:lnTo>
                <a:lnTo>
                  <a:pt x="189" y="588"/>
                </a:lnTo>
                <a:lnTo>
                  <a:pt x="235" y="683"/>
                </a:lnTo>
                <a:lnTo>
                  <a:pt x="235" y="779"/>
                </a:lnTo>
                <a:lnTo>
                  <a:pt x="257" y="852"/>
                </a:lnTo>
                <a:lnTo>
                  <a:pt x="306" y="948"/>
                </a:lnTo>
                <a:lnTo>
                  <a:pt x="374" y="1043"/>
                </a:lnTo>
                <a:lnTo>
                  <a:pt x="421" y="1139"/>
                </a:lnTo>
                <a:lnTo>
                  <a:pt x="513" y="1235"/>
                </a:lnTo>
                <a:lnTo>
                  <a:pt x="537" y="1308"/>
                </a:lnTo>
                <a:lnTo>
                  <a:pt x="606" y="1403"/>
                </a:lnTo>
                <a:lnTo>
                  <a:pt x="652" y="1499"/>
                </a:lnTo>
                <a:lnTo>
                  <a:pt x="698" y="1595"/>
                </a:lnTo>
                <a:lnTo>
                  <a:pt x="723" y="1691"/>
                </a:lnTo>
                <a:lnTo>
                  <a:pt x="793" y="1739"/>
                </a:lnTo>
                <a:lnTo>
                  <a:pt x="886" y="1811"/>
                </a:lnTo>
                <a:lnTo>
                  <a:pt x="978" y="1882"/>
                </a:lnTo>
                <a:lnTo>
                  <a:pt x="1047" y="1955"/>
                </a:lnTo>
                <a:lnTo>
                  <a:pt x="1117" y="2051"/>
                </a:lnTo>
                <a:lnTo>
                  <a:pt x="1210" y="2146"/>
                </a:lnTo>
                <a:lnTo>
                  <a:pt x="1281" y="2242"/>
                </a:lnTo>
                <a:lnTo>
                  <a:pt x="1349" y="2364"/>
                </a:lnTo>
                <a:lnTo>
                  <a:pt x="1441" y="2483"/>
                </a:lnTo>
                <a:lnTo>
                  <a:pt x="1466" y="2555"/>
                </a:lnTo>
                <a:lnTo>
                  <a:pt x="1534" y="2651"/>
                </a:lnTo>
                <a:lnTo>
                  <a:pt x="1580" y="2724"/>
                </a:lnTo>
                <a:lnTo>
                  <a:pt x="1629" y="2843"/>
                </a:lnTo>
                <a:lnTo>
                  <a:pt x="1721" y="2938"/>
                </a:lnTo>
                <a:lnTo>
                  <a:pt x="1860" y="2963"/>
                </a:lnTo>
                <a:lnTo>
                  <a:pt x="1953" y="3011"/>
                </a:lnTo>
                <a:lnTo>
                  <a:pt x="2046" y="3084"/>
                </a:lnTo>
                <a:lnTo>
                  <a:pt x="2117" y="3132"/>
                </a:lnTo>
                <a:lnTo>
                  <a:pt x="2210" y="3203"/>
                </a:lnTo>
                <a:lnTo>
                  <a:pt x="2278" y="3276"/>
                </a:lnTo>
                <a:lnTo>
                  <a:pt x="2349" y="3371"/>
                </a:lnTo>
                <a:lnTo>
                  <a:pt x="2441" y="3515"/>
                </a:lnTo>
                <a:lnTo>
                  <a:pt x="2488" y="3588"/>
                </a:lnTo>
                <a:lnTo>
                  <a:pt x="2558" y="3684"/>
                </a:lnTo>
                <a:lnTo>
                  <a:pt x="2626" y="3779"/>
                </a:lnTo>
                <a:lnTo>
                  <a:pt x="2697" y="3875"/>
                </a:lnTo>
                <a:lnTo>
                  <a:pt x="2790" y="3996"/>
                </a:lnTo>
                <a:lnTo>
                  <a:pt x="2882" y="4044"/>
                </a:lnTo>
                <a:lnTo>
                  <a:pt x="2953" y="4114"/>
                </a:lnTo>
                <a:lnTo>
                  <a:pt x="3067" y="4210"/>
                </a:lnTo>
                <a:lnTo>
                  <a:pt x="3138" y="4283"/>
                </a:lnTo>
                <a:lnTo>
                  <a:pt x="3206" y="4379"/>
                </a:lnTo>
                <a:lnTo>
                  <a:pt x="3253" y="4452"/>
                </a:lnTo>
                <a:lnTo>
                  <a:pt x="3323" y="4547"/>
                </a:lnTo>
                <a:lnTo>
                  <a:pt x="3394" y="4595"/>
                </a:lnTo>
                <a:lnTo>
                  <a:pt x="3486" y="4643"/>
                </a:lnTo>
                <a:lnTo>
                  <a:pt x="3579" y="4643"/>
                </a:lnTo>
                <a:lnTo>
                  <a:pt x="3672" y="4666"/>
                </a:lnTo>
                <a:lnTo>
                  <a:pt x="3802" y="4645"/>
                </a:lnTo>
                <a:lnTo>
                  <a:pt x="3872" y="4655"/>
                </a:lnTo>
                <a:lnTo>
                  <a:pt x="3934" y="4627"/>
                </a:lnTo>
                <a:lnTo>
                  <a:pt x="4013" y="4609"/>
                </a:lnTo>
                <a:lnTo>
                  <a:pt x="4102" y="460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>
            <a:off x="4075200" y="326880"/>
            <a:ext cx="1508400" cy="1661040"/>
          </a:xfrm>
          <a:custGeom>
            <a:avLst/>
            <a:gdLst/>
            <a:ahLst/>
            <a:rect l="0" t="0" r="r" b="b"/>
            <a:pathLst>
              <a:path fill="none" w="4190" h="4614">
                <a:moveTo>
                  <a:pt x="63" y="0"/>
                </a:moveTo>
                <a:lnTo>
                  <a:pt x="0" y="335"/>
                </a:lnTo>
                <a:lnTo>
                  <a:pt x="11" y="474"/>
                </a:lnTo>
                <a:lnTo>
                  <a:pt x="44" y="714"/>
                </a:lnTo>
                <a:lnTo>
                  <a:pt x="176" y="1095"/>
                </a:lnTo>
                <a:lnTo>
                  <a:pt x="321" y="1387"/>
                </a:lnTo>
                <a:lnTo>
                  <a:pt x="394" y="1504"/>
                </a:lnTo>
                <a:lnTo>
                  <a:pt x="416" y="1575"/>
                </a:lnTo>
                <a:lnTo>
                  <a:pt x="463" y="1667"/>
                </a:lnTo>
                <a:lnTo>
                  <a:pt x="509" y="1760"/>
                </a:lnTo>
                <a:lnTo>
                  <a:pt x="555" y="1853"/>
                </a:lnTo>
                <a:lnTo>
                  <a:pt x="555" y="1945"/>
                </a:lnTo>
                <a:lnTo>
                  <a:pt x="555" y="2016"/>
                </a:lnTo>
                <a:lnTo>
                  <a:pt x="579" y="2108"/>
                </a:lnTo>
                <a:lnTo>
                  <a:pt x="601" y="2201"/>
                </a:lnTo>
                <a:lnTo>
                  <a:pt x="601" y="2294"/>
                </a:lnTo>
                <a:lnTo>
                  <a:pt x="648" y="2386"/>
                </a:lnTo>
                <a:lnTo>
                  <a:pt x="672" y="2525"/>
                </a:lnTo>
                <a:lnTo>
                  <a:pt x="694" y="2596"/>
                </a:lnTo>
                <a:lnTo>
                  <a:pt x="694" y="2710"/>
                </a:lnTo>
                <a:lnTo>
                  <a:pt x="787" y="2781"/>
                </a:lnTo>
                <a:lnTo>
                  <a:pt x="857" y="2827"/>
                </a:lnTo>
                <a:lnTo>
                  <a:pt x="928" y="2873"/>
                </a:lnTo>
                <a:lnTo>
                  <a:pt x="974" y="2944"/>
                </a:lnTo>
                <a:lnTo>
                  <a:pt x="1089" y="3059"/>
                </a:lnTo>
                <a:lnTo>
                  <a:pt x="1159" y="3129"/>
                </a:lnTo>
                <a:lnTo>
                  <a:pt x="1252" y="3268"/>
                </a:lnTo>
                <a:lnTo>
                  <a:pt x="1322" y="3361"/>
                </a:lnTo>
                <a:lnTo>
                  <a:pt x="1369" y="3431"/>
                </a:lnTo>
                <a:lnTo>
                  <a:pt x="1437" y="3547"/>
                </a:lnTo>
                <a:lnTo>
                  <a:pt x="1461" y="3617"/>
                </a:lnTo>
                <a:lnTo>
                  <a:pt x="1530" y="3710"/>
                </a:lnTo>
                <a:lnTo>
                  <a:pt x="1554" y="3781"/>
                </a:lnTo>
                <a:lnTo>
                  <a:pt x="1600" y="3873"/>
                </a:lnTo>
                <a:lnTo>
                  <a:pt x="1622" y="3966"/>
                </a:lnTo>
                <a:lnTo>
                  <a:pt x="1669" y="4058"/>
                </a:lnTo>
                <a:lnTo>
                  <a:pt x="1693" y="4151"/>
                </a:lnTo>
                <a:lnTo>
                  <a:pt x="1717" y="4222"/>
                </a:lnTo>
                <a:lnTo>
                  <a:pt x="1785" y="4336"/>
                </a:lnTo>
                <a:lnTo>
                  <a:pt x="1832" y="4407"/>
                </a:lnTo>
                <a:lnTo>
                  <a:pt x="1902" y="4475"/>
                </a:lnTo>
                <a:lnTo>
                  <a:pt x="1995" y="4568"/>
                </a:lnTo>
                <a:lnTo>
                  <a:pt x="2088" y="4614"/>
                </a:lnTo>
                <a:lnTo>
                  <a:pt x="2181" y="4614"/>
                </a:lnTo>
                <a:lnTo>
                  <a:pt x="2252" y="4614"/>
                </a:lnTo>
                <a:lnTo>
                  <a:pt x="2366" y="4592"/>
                </a:lnTo>
                <a:lnTo>
                  <a:pt x="2437" y="4568"/>
                </a:lnTo>
                <a:lnTo>
                  <a:pt x="2529" y="4521"/>
                </a:lnTo>
                <a:lnTo>
                  <a:pt x="2600" y="4499"/>
                </a:lnTo>
                <a:lnTo>
                  <a:pt x="2693" y="4475"/>
                </a:lnTo>
                <a:lnTo>
                  <a:pt x="2785" y="4453"/>
                </a:lnTo>
                <a:lnTo>
                  <a:pt x="2900" y="4429"/>
                </a:lnTo>
                <a:lnTo>
                  <a:pt x="2970" y="4407"/>
                </a:lnTo>
                <a:lnTo>
                  <a:pt x="3041" y="4383"/>
                </a:lnTo>
                <a:lnTo>
                  <a:pt x="3134" y="4336"/>
                </a:lnTo>
                <a:lnTo>
                  <a:pt x="3248" y="4336"/>
                </a:lnTo>
                <a:lnTo>
                  <a:pt x="3319" y="4336"/>
                </a:lnTo>
                <a:lnTo>
                  <a:pt x="3411" y="4314"/>
                </a:lnTo>
                <a:lnTo>
                  <a:pt x="3482" y="4290"/>
                </a:lnTo>
                <a:lnTo>
                  <a:pt x="3575" y="4268"/>
                </a:lnTo>
                <a:lnTo>
                  <a:pt x="3667" y="4222"/>
                </a:lnTo>
                <a:lnTo>
                  <a:pt x="3722" y="4180"/>
                </a:lnTo>
                <a:lnTo>
                  <a:pt x="3828" y="4109"/>
                </a:lnTo>
                <a:lnTo>
                  <a:pt x="3908" y="4065"/>
                </a:lnTo>
                <a:lnTo>
                  <a:pt x="4040" y="4012"/>
                </a:lnTo>
                <a:lnTo>
                  <a:pt x="4190" y="399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4037040" y="647640"/>
            <a:ext cx="1545120" cy="1576800"/>
          </a:xfrm>
          <a:custGeom>
            <a:avLst/>
            <a:gdLst/>
            <a:ahLst/>
            <a:rect l="0" t="0" r="r" b="b"/>
            <a:pathLst>
              <a:path fill="none" w="4292" h="4380">
                <a:moveTo>
                  <a:pt x="0" y="0"/>
                </a:moveTo>
                <a:lnTo>
                  <a:pt x="99" y="112"/>
                </a:lnTo>
                <a:lnTo>
                  <a:pt x="165" y="224"/>
                </a:lnTo>
                <a:lnTo>
                  <a:pt x="211" y="363"/>
                </a:lnTo>
                <a:lnTo>
                  <a:pt x="238" y="542"/>
                </a:lnTo>
                <a:lnTo>
                  <a:pt x="257" y="707"/>
                </a:lnTo>
                <a:lnTo>
                  <a:pt x="323" y="872"/>
                </a:lnTo>
                <a:lnTo>
                  <a:pt x="350" y="1018"/>
                </a:lnTo>
                <a:lnTo>
                  <a:pt x="456" y="1131"/>
                </a:lnTo>
                <a:lnTo>
                  <a:pt x="456" y="1224"/>
                </a:lnTo>
                <a:lnTo>
                  <a:pt x="456" y="1290"/>
                </a:lnTo>
                <a:lnTo>
                  <a:pt x="442" y="1382"/>
                </a:lnTo>
                <a:lnTo>
                  <a:pt x="469" y="1435"/>
                </a:lnTo>
                <a:lnTo>
                  <a:pt x="495" y="1528"/>
                </a:lnTo>
                <a:lnTo>
                  <a:pt x="509" y="1581"/>
                </a:lnTo>
                <a:lnTo>
                  <a:pt x="561" y="1726"/>
                </a:lnTo>
                <a:lnTo>
                  <a:pt x="561" y="1779"/>
                </a:lnTo>
                <a:lnTo>
                  <a:pt x="614" y="1832"/>
                </a:lnTo>
                <a:lnTo>
                  <a:pt x="667" y="1885"/>
                </a:lnTo>
                <a:lnTo>
                  <a:pt x="747" y="1938"/>
                </a:lnTo>
                <a:lnTo>
                  <a:pt x="826" y="2043"/>
                </a:lnTo>
                <a:lnTo>
                  <a:pt x="918" y="2189"/>
                </a:lnTo>
                <a:lnTo>
                  <a:pt x="985" y="2242"/>
                </a:lnTo>
                <a:lnTo>
                  <a:pt x="1051" y="2347"/>
                </a:lnTo>
                <a:lnTo>
                  <a:pt x="1105" y="2440"/>
                </a:lnTo>
                <a:lnTo>
                  <a:pt x="1131" y="2559"/>
                </a:lnTo>
                <a:lnTo>
                  <a:pt x="1197" y="2691"/>
                </a:lnTo>
                <a:lnTo>
                  <a:pt x="1224" y="2744"/>
                </a:lnTo>
                <a:lnTo>
                  <a:pt x="1276" y="2810"/>
                </a:lnTo>
                <a:lnTo>
                  <a:pt x="1246" y="2872"/>
                </a:lnTo>
                <a:lnTo>
                  <a:pt x="1263" y="2898"/>
                </a:lnTo>
                <a:lnTo>
                  <a:pt x="1281" y="2934"/>
                </a:lnTo>
                <a:lnTo>
                  <a:pt x="1298" y="2960"/>
                </a:lnTo>
                <a:lnTo>
                  <a:pt x="1307" y="2987"/>
                </a:lnTo>
                <a:lnTo>
                  <a:pt x="1325" y="3022"/>
                </a:lnTo>
                <a:lnTo>
                  <a:pt x="1343" y="3048"/>
                </a:lnTo>
                <a:lnTo>
                  <a:pt x="1360" y="3084"/>
                </a:lnTo>
                <a:lnTo>
                  <a:pt x="1360" y="3110"/>
                </a:lnTo>
                <a:lnTo>
                  <a:pt x="1378" y="3136"/>
                </a:lnTo>
                <a:lnTo>
                  <a:pt x="1387" y="3172"/>
                </a:lnTo>
                <a:lnTo>
                  <a:pt x="1404" y="3198"/>
                </a:lnTo>
                <a:lnTo>
                  <a:pt x="1413" y="3225"/>
                </a:lnTo>
                <a:lnTo>
                  <a:pt x="1431" y="3260"/>
                </a:lnTo>
                <a:lnTo>
                  <a:pt x="1440" y="3287"/>
                </a:lnTo>
                <a:lnTo>
                  <a:pt x="1448" y="3314"/>
                </a:lnTo>
                <a:lnTo>
                  <a:pt x="1457" y="3340"/>
                </a:lnTo>
                <a:lnTo>
                  <a:pt x="1466" y="3367"/>
                </a:lnTo>
                <a:lnTo>
                  <a:pt x="1484" y="3393"/>
                </a:lnTo>
                <a:lnTo>
                  <a:pt x="1484" y="3420"/>
                </a:lnTo>
                <a:lnTo>
                  <a:pt x="1492" y="3446"/>
                </a:lnTo>
                <a:lnTo>
                  <a:pt x="1510" y="3481"/>
                </a:lnTo>
                <a:lnTo>
                  <a:pt x="1519" y="3508"/>
                </a:lnTo>
                <a:lnTo>
                  <a:pt x="1519" y="3534"/>
                </a:lnTo>
                <a:lnTo>
                  <a:pt x="1536" y="3561"/>
                </a:lnTo>
                <a:lnTo>
                  <a:pt x="1554" y="3587"/>
                </a:lnTo>
                <a:lnTo>
                  <a:pt x="1572" y="3631"/>
                </a:lnTo>
                <a:lnTo>
                  <a:pt x="1581" y="3658"/>
                </a:lnTo>
                <a:lnTo>
                  <a:pt x="1598" y="3702"/>
                </a:lnTo>
                <a:lnTo>
                  <a:pt x="1616" y="3728"/>
                </a:lnTo>
                <a:lnTo>
                  <a:pt x="1633" y="3763"/>
                </a:lnTo>
                <a:lnTo>
                  <a:pt x="1642" y="3790"/>
                </a:lnTo>
                <a:lnTo>
                  <a:pt x="1660" y="3816"/>
                </a:lnTo>
                <a:lnTo>
                  <a:pt x="1669" y="3843"/>
                </a:lnTo>
                <a:lnTo>
                  <a:pt x="1678" y="3869"/>
                </a:lnTo>
                <a:lnTo>
                  <a:pt x="1695" y="3904"/>
                </a:lnTo>
                <a:lnTo>
                  <a:pt x="1722" y="3931"/>
                </a:lnTo>
                <a:lnTo>
                  <a:pt x="1739" y="3966"/>
                </a:lnTo>
                <a:lnTo>
                  <a:pt x="1757" y="3992"/>
                </a:lnTo>
                <a:lnTo>
                  <a:pt x="1775" y="4019"/>
                </a:lnTo>
                <a:lnTo>
                  <a:pt x="1792" y="4045"/>
                </a:lnTo>
                <a:lnTo>
                  <a:pt x="1810" y="4081"/>
                </a:lnTo>
                <a:lnTo>
                  <a:pt x="1827" y="4107"/>
                </a:lnTo>
                <a:lnTo>
                  <a:pt x="1845" y="4134"/>
                </a:lnTo>
                <a:lnTo>
                  <a:pt x="1871" y="4160"/>
                </a:lnTo>
                <a:lnTo>
                  <a:pt x="1889" y="4186"/>
                </a:lnTo>
                <a:lnTo>
                  <a:pt x="1916" y="4213"/>
                </a:lnTo>
                <a:lnTo>
                  <a:pt x="1942" y="4239"/>
                </a:lnTo>
                <a:lnTo>
                  <a:pt x="1968" y="4257"/>
                </a:lnTo>
                <a:lnTo>
                  <a:pt x="1986" y="4283"/>
                </a:lnTo>
                <a:lnTo>
                  <a:pt x="2013" y="4301"/>
                </a:lnTo>
                <a:lnTo>
                  <a:pt x="2039" y="4310"/>
                </a:lnTo>
                <a:lnTo>
                  <a:pt x="2065" y="4327"/>
                </a:lnTo>
                <a:lnTo>
                  <a:pt x="2092" y="4327"/>
                </a:lnTo>
                <a:lnTo>
                  <a:pt x="2118" y="4345"/>
                </a:lnTo>
                <a:lnTo>
                  <a:pt x="2224" y="4372"/>
                </a:lnTo>
                <a:lnTo>
                  <a:pt x="2251" y="4372"/>
                </a:lnTo>
                <a:lnTo>
                  <a:pt x="2277" y="4380"/>
                </a:lnTo>
                <a:lnTo>
                  <a:pt x="2303" y="4380"/>
                </a:lnTo>
                <a:lnTo>
                  <a:pt x="2330" y="4380"/>
                </a:lnTo>
                <a:lnTo>
                  <a:pt x="2365" y="4380"/>
                </a:lnTo>
                <a:lnTo>
                  <a:pt x="2409" y="4380"/>
                </a:lnTo>
                <a:lnTo>
                  <a:pt x="2453" y="4380"/>
                </a:lnTo>
                <a:lnTo>
                  <a:pt x="2480" y="4363"/>
                </a:lnTo>
                <a:lnTo>
                  <a:pt x="2506" y="4345"/>
                </a:lnTo>
                <a:lnTo>
                  <a:pt x="2533" y="4327"/>
                </a:lnTo>
                <a:lnTo>
                  <a:pt x="2585" y="4292"/>
                </a:lnTo>
                <a:lnTo>
                  <a:pt x="2612" y="4275"/>
                </a:lnTo>
                <a:lnTo>
                  <a:pt x="2638" y="4248"/>
                </a:lnTo>
                <a:lnTo>
                  <a:pt x="2665" y="4230"/>
                </a:lnTo>
                <a:lnTo>
                  <a:pt x="2691" y="4213"/>
                </a:lnTo>
                <a:lnTo>
                  <a:pt x="2718" y="4195"/>
                </a:lnTo>
                <a:lnTo>
                  <a:pt x="2744" y="4178"/>
                </a:lnTo>
                <a:lnTo>
                  <a:pt x="2771" y="4151"/>
                </a:lnTo>
                <a:lnTo>
                  <a:pt x="2815" y="4116"/>
                </a:lnTo>
                <a:lnTo>
                  <a:pt x="2850" y="4107"/>
                </a:lnTo>
                <a:lnTo>
                  <a:pt x="2903" y="4072"/>
                </a:lnTo>
                <a:lnTo>
                  <a:pt x="2920" y="4045"/>
                </a:lnTo>
                <a:lnTo>
                  <a:pt x="2938" y="4019"/>
                </a:lnTo>
                <a:lnTo>
                  <a:pt x="2965" y="4001"/>
                </a:lnTo>
                <a:lnTo>
                  <a:pt x="2991" y="3966"/>
                </a:lnTo>
                <a:lnTo>
                  <a:pt x="3017" y="3940"/>
                </a:lnTo>
                <a:lnTo>
                  <a:pt x="3044" y="3922"/>
                </a:lnTo>
                <a:lnTo>
                  <a:pt x="3070" y="3904"/>
                </a:lnTo>
                <a:lnTo>
                  <a:pt x="3106" y="3887"/>
                </a:lnTo>
                <a:lnTo>
                  <a:pt x="3132" y="3878"/>
                </a:lnTo>
                <a:lnTo>
                  <a:pt x="3158" y="3869"/>
                </a:lnTo>
                <a:lnTo>
                  <a:pt x="3185" y="3851"/>
                </a:lnTo>
                <a:lnTo>
                  <a:pt x="3211" y="3843"/>
                </a:lnTo>
                <a:lnTo>
                  <a:pt x="3248" y="3825"/>
                </a:lnTo>
                <a:lnTo>
                  <a:pt x="3283" y="3807"/>
                </a:lnTo>
                <a:lnTo>
                  <a:pt x="3309" y="3790"/>
                </a:lnTo>
                <a:lnTo>
                  <a:pt x="3336" y="3781"/>
                </a:lnTo>
                <a:lnTo>
                  <a:pt x="3362" y="3772"/>
                </a:lnTo>
                <a:lnTo>
                  <a:pt x="3389" y="3763"/>
                </a:lnTo>
                <a:lnTo>
                  <a:pt x="3415" y="3754"/>
                </a:lnTo>
                <a:lnTo>
                  <a:pt x="3450" y="3746"/>
                </a:lnTo>
                <a:lnTo>
                  <a:pt x="3545" y="3704"/>
                </a:lnTo>
                <a:lnTo>
                  <a:pt x="3572" y="3671"/>
                </a:lnTo>
                <a:lnTo>
                  <a:pt x="3605" y="3664"/>
                </a:lnTo>
                <a:lnTo>
                  <a:pt x="3624" y="3638"/>
                </a:lnTo>
                <a:lnTo>
                  <a:pt x="3638" y="3638"/>
                </a:lnTo>
                <a:lnTo>
                  <a:pt x="3664" y="3611"/>
                </a:lnTo>
                <a:lnTo>
                  <a:pt x="3677" y="3598"/>
                </a:lnTo>
                <a:lnTo>
                  <a:pt x="3697" y="3572"/>
                </a:lnTo>
                <a:lnTo>
                  <a:pt x="3730" y="3552"/>
                </a:lnTo>
                <a:lnTo>
                  <a:pt x="3763" y="3539"/>
                </a:lnTo>
                <a:lnTo>
                  <a:pt x="3803" y="3512"/>
                </a:lnTo>
                <a:lnTo>
                  <a:pt x="3836" y="3486"/>
                </a:lnTo>
                <a:lnTo>
                  <a:pt x="3849" y="3466"/>
                </a:lnTo>
                <a:lnTo>
                  <a:pt x="3849" y="3472"/>
                </a:lnTo>
                <a:lnTo>
                  <a:pt x="3955" y="3367"/>
                </a:lnTo>
                <a:lnTo>
                  <a:pt x="4087" y="3253"/>
                </a:lnTo>
                <a:lnTo>
                  <a:pt x="4173" y="3220"/>
                </a:lnTo>
                <a:lnTo>
                  <a:pt x="4292" y="319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>
            <a:off x="4253040" y="82440"/>
            <a:ext cx="1329120" cy="1152720"/>
          </a:xfrm>
          <a:custGeom>
            <a:avLst/>
            <a:gdLst/>
            <a:ahLst/>
            <a:rect l="0" t="0" r="r" b="b"/>
            <a:pathLst>
              <a:path fill="none" w="3692" h="3202">
                <a:moveTo>
                  <a:pt x="0" y="0"/>
                </a:moveTo>
                <a:lnTo>
                  <a:pt x="39" y="46"/>
                </a:lnTo>
                <a:lnTo>
                  <a:pt x="59" y="105"/>
                </a:lnTo>
                <a:lnTo>
                  <a:pt x="119" y="145"/>
                </a:lnTo>
                <a:lnTo>
                  <a:pt x="178" y="185"/>
                </a:lnTo>
                <a:lnTo>
                  <a:pt x="218" y="244"/>
                </a:lnTo>
                <a:lnTo>
                  <a:pt x="257" y="304"/>
                </a:lnTo>
                <a:lnTo>
                  <a:pt x="317" y="304"/>
                </a:lnTo>
                <a:lnTo>
                  <a:pt x="377" y="383"/>
                </a:lnTo>
                <a:lnTo>
                  <a:pt x="396" y="443"/>
                </a:lnTo>
                <a:lnTo>
                  <a:pt x="416" y="502"/>
                </a:lnTo>
                <a:lnTo>
                  <a:pt x="436" y="562"/>
                </a:lnTo>
                <a:lnTo>
                  <a:pt x="456" y="621"/>
                </a:lnTo>
                <a:lnTo>
                  <a:pt x="515" y="661"/>
                </a:lnTo>
                <a:lnTo>
                  <a:pt x="575" y="701"/>
                </a:lnTo>
                <a:lnTo>
                  <a:pt x="635" y="740"/>
                </a:lnTo>
                <a:lnTo>
                  <a:pt x="694" y="760"/>
                </a:lnTo>
                <a:lnTo>
                  <a:pt x="754" y="800"/>
                </a:lnTo>
                <a:lnTo>
                  <a:pt x="853" y="840"/>
                </a:lnTo>
                <a:lnTo>
                  <a:pt x="912" y="859"/>
                </a:lnTo>
                <a:lnTo>
                  <a:pt x="973" y="899"/>
                </a:lnTo>
                <a:lnTo>
                  <a:pt x="1052" y="939"/>
                </a:lnTo>
                <a:lnTo>
                  <a:pt x="1112" y="978"/>
                </a:lnTo>
                <a:lnTo>
                  <a:pt x="1191" y="998"/>
                </a:lnTo>
                <a:lnTo>
                  <a:pt x="1251" y="1038"/>
                </a:lnTo>
                <a:lnTo>
                  <a:pt x="1310" y="1117"/>
                </a:lnTo>
                <a:lnTo>
                  <a:pt x="1350" y="1177"/>
                </a:lnTo>
                <a:lnTo>
                  <a:pt x="1409" y="1236"/>
                </a:lnTo>
                <a:lnTo>
                  <a:pt x="1489" y="1296"/>
                </a:lnTo>
                <a:lnTo>
                  <a:pt x="1548" y="1336"/>
                </a:lnTo>
                <a:lnTo>
                  <a:pt x="1608" y="1355"/>
                </a:lnTo>
                <a:lnTo>
                  <a:pt x="1667" y="1375"/>
                </a:lnTo>
                <a:lnTo>
                  <a:pt x="1727" y="1395"/>
                </a:lnTo>
                <a:lnTo>
                  <a:pt x="1826" y="1475"/>
                </a:lnTo>
                <a:lnTo>
                  <a:pt x="1886" y="1494"/>
                </a:lnTo>
                <a:lnTo>
                  <a:pt x="1985" y="1554"/>
                </a:lnTo>
                <a:lnTo>
                  <a:pt x="2064" y="1634"/>
                </a:lnTo>
                <a:lnTo>
                  <a:pt x="2124" y="1654"/>
                </a:lnTo>
                <a:lnTo>
                  <a:pt x="2183" y="1714"/>
                </a:lnTo>
                <a:lnTo>
                  <a:pt x="2243" y="1753"/>
                </a:lnTo>
                <a:lnTo>
                  <a:pt x="2302" y="1813"/>
                </a:lnTo>
                <a:lnTo>
                  <a:pt x="2342" y="1872"/>
                </a:lnTo>
                <a:lnTo>
                  <a:pt x="2382" y="1932"/>
                </a:lnTo>
                <a:lnTo>
                  <a:pt x="2461" y="2011"/>
                </a:lnTo>
                <a:lnTo>
                  <a:pt x="2521" y="2051"/>
                </a:lnTo>
                <a:lnTo>
                  <a:pt x="2560" y="2111"/>
                </a:lnTo>
                <a:lnTo>
                  <a:pt x="2620" y="2150"/>
                </a:lnTo>
                <a:lnTo>
                  <a:pt x="2679" y="2230"/>
                </a:lnTo>
                <a:lnTo>
                  <a:pt x="2739" y="2289"/>
                </a:lnTo>
                <a:lnTo>
                  <a:pt x="2799" y="2309"/>
                </a:lnTo>
                <a:lnTo>
                  <a:pt x="2859" y="2369"/>
                </a:lnTo>
                <a:lnTo>
                  <a:pt x="2919" y="2388"/>
                </a:lnTo>
                <a:lnTo>
                  <a:pt x="2978" y="2408"/>
                </a:lnTo>
                <a:lnTo>
                  <a:pt x="3038" y="2408"/>
                </a:lnTo>
                <a:lnTo>
                  <a:pt x="3097" y="2428"/>
                </a:lnTo>
                <a:lnTo>
                  <a:pt x="3177" y="2468"/>
                </a:lnTo>
                <a:lnTo>
                  <a:pt x="3216" y="2527"/>
                </a:lnTo>
                <a:lnTo>
                  <a:pt x="3276" y="2607"/>
                </a:lnTo>
                <a:lnTo>
                  <a:pt x="3335" y="2666"/>
                </a:lnTo>
                <a:lnTo>
                  <a:pt x="3355" y="2726"/>
                </a:lnTo>
                <a:lnTo>
                  <a:pt x="3395" y="2785"/>
                </a:lnTo>
                <a:lnTo>
                  <a:pt x="3454" y="2865"/>
                </a:lnTo>
                <a:lnTo>
                  <a:pt x="3474" y="2924"/>
                </a:lnTo>
                <a:lnTo>
                  <a:pt x="3514" y="2984"/>
                </a:lnTo>
                <a:lnTo>
                  <a:pt x="3554" y="3043"/>
                </a:lnTo>
                <a:lnTo>
                  <a:pt x="3573" y="3103"/>
                </a:lnTo>
                <a:lnTo>
                  <a:pt x="3633" y="3162"/>
                </a:lnTo>
                <a:lnTo>
                  <a:pt x="3692" y="3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3898800" y="1852560"/>
            <a:ext cx="1679760" cy="1421280"/>
          </a:xfrm>
          <a:custGeom>
            <a:avLst/>
            <a:gdLst/>
            <a:ahLst/>
            <a:rect l="0" t="0" r="r" b="b"/>
            <a:pathLst>
              <a:path fill="none" w="4666" h="3948">
                <a:moveTo>
                  <a:pt x="0" y="3948"/>
                </a:moveTo>
                <a:lnTo>
                  <a:pt x="33" y="3823"/>
                </a:lnTo>
                <a:lnTo>
                  <a:pt x="271" y="3591"/>
                </a:lnTo>
                <a:lnTo>
                  <a:pt x="528" y="3334"/>
                </a:lnTo>
                <a:lnTo>
                  <a:pt x="694" y="3228"/>
                </a:lnTo>
                <a:lnTo>
                  <a:pt x="912" y="2909"/>
                </a:lnTo>
                <a:lnTo>
                  <a:pt x="1018" y="2637"/>
                </a:lnTo>
                <a:lnTo>
                  <a:pt x="1137" y="2520"/>
                </a:lnTo>
                <a:lnTo>
                  <a:pt x="1269" y="2295"/>
                </a:lnTo>
                <a:lnTo>
                  <a:pt x="1461" y="2023"/>
                </a:lnTo>
                <a:lnTo>
                  <a:pt x="1672" y="1567"/>
                </a:lnTo>
                <a:lnTo>
                  <a:pt x="1970" y="1357"/>
                </a:lnTo>
                <a:lnTo>
                  <a:pt x="2082" y="1362"/>
                </a:lnTo>
                <a:lnTo>
                  <a:pt x="2254" y="1467"/>
                </a:lnTo>
                <a:lnTo>
                  <a:pt x="2307" y="1567"/>
                </a:lnTo>
                <a:lnTo>
                  <a:pt x="2447" y="1660"/>
                </a:lnTo>
                <a:lnTo>
                  <a:pt x="2645" y="1746"/>
                </a:lnTo>
                <a:lnTo>
                  <a:pt x="2764" y="1673"/>
                </a:lnTo>
                <a:lnTo>
                  <a:pt x="2982" y="1389"/>
                </a:lnTo>
                <a:lnTo>
                  <a:pt x="3029" y="1350"/>
                </a:lnTo>
                <a:lnTo>
                  <a:pt x="3101" y="1335"/>
                </a:lnTo>
                <a:lnTo>
                  <a:pt x="3209" y="1291"/>
                </a:lnTo>
                <a:lnTo>
                  <a:pt x="3273" y="1220"/>
                </a:lnTo>
                <a:lnTo>
                  <a:pt x="3315" y="1149"/>
                </a:lnTo>
                <a:lnTo>
                  <a:pt x="3361" y="1036"/>
                </a:lnTo>
                <a:lnTo>
                  <a:pt x="3427" y="997"/>
                </a:lnTo>
                <a:lnTo>
                  <a:pt x="3529" y="964"/>
                </a:lnTo>
                <a:lnTo>
                  <a:pt x="3546" y="969"/>
                </a:lnTo>
                <a:lnTo>
                  <a:pt x="3665" y="957"/>
                </a:lnTo>
                <a:lnTo>
                  <a:pt x="3721" y="935"/>
                </a:lnTo>
                <a:lnTo>
                  <a:pt x="3784" y="864"/>
                </a:lnTo>
                <a:lnTo>
                  <a:pt x="3848" y="839"/>
                </a:lnTo>
                <a:lnTo>
                  <a:pt x="3912" y="793"/>
                </a:lnTo>
                <a:lnTo>
                  <a:pt x="3998" y="697"/>
                </a:lnTo>
                <a:lnTo>
                  <a:pt x="4062" y="651"/>
                </a:lnTo>
                <a:lnTo>
                  <a:pt x="4126" y="626"/>
                </a:lnTo>
                <a:lnTo>
                  <a:pt x="4168" y="555"/>
                </a:lnTo>
                <a:lnTo>
                  <a:pt x="4232" y="509"/>
                </a:lnTo>
                <a:lnTo>
                  <a:pt x="4254" y="438"/>
                </a:lnTo>
                <a:lnTo>
                  <a:pt x="4298" y="342"/>
                </a:lnTo>
                <a:lnTo>
                  <a:pt x="4362" y="271"/>
                </a:lnTo>
                <a:lnTo>
                  <a:pt x="4426" y="200"/>
                </a:lnTo>
                <a:lnTo>
                  <a:pt x="4490" y="105"/>
                </a:lnTo>
                <a:lnTo>
                  <a:pt x="4554" y="34"/>
                </a:lnTo>
                <a:lnTo>
                  <a:pt x="4618" y="12"/>
                </a:lnTo>
                <a:lnTo>
                  <a:pt x="466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3949560" y="1908000"/>
            <a:ext cx="1632240" cy="1365480"/>
          </a:xfrm>
          <a:custGeom>
            <a:avLst/>
            <a:gdLst/>
            <a:ahLst/>
            <a:rect l="0" t="0" r="r" b="b"/>
            <a:pathLst>
              <a:path fill="none" w="4534" h="3793">
                <a:moveTo>
                  <a:pt x="4534" y="0"/>
                </a:moveTo>
                <a:lnTo>
                  <a:pt x="4492" y="63"/>
                </a:lnTo>
                <a:lnTo>
                  <a:pt x="4428" y="127"/>
                </a:lnTo>
                <a:lnTo>
                  <a:pt x="4364" y="171"/>
                </a:lnTo>
                <a:lnTo>
                  <a:pt x="4320" y="235"/>
                </a:lnTo>
                <a:lnTo>
                  <a:pt x="4278" y="299"/>
                </a:lnTo>
                <a:lnTo>
                  <a:pt x="4236" y="363"/>
                </a:lnTo>
                <a:lnTo>
                  <a:pt x="4192" y="427"/>
                </a:lnTo>
                <a:lnTo>
                  <a:pt x="4150" y="491"/>
                </a:lnTo>
                <a:lnTo>
                  <a:pt x="4086" y="533"/>
                </a:lnTo>
                <a:lnTo>
                  <a:pt x="4022" y="597"/>
                </a:lnTo>
                <a:lnTo>
                  <a:pt x="3958" y="641"/>
                </a:lnTo>
                <a:lnTo>
                  <a:pt x="3894" y="705"/>
                </a:lnTo>
                <a:lnTo>
                  <a:pt x="3808" y="747"/>
                </a:lnTo>
                <a:lnTo>
                  <a:pt x="3744" y="811"/>
                </a:lnTo>
                <a:lnTo>
                  <a:pt x="3680" y="833"/>
                </a:lnTo>
                <a:lnTo>
                  <a:pt x="3649" y="890"/>
                </a:lnTo>
                <a:lnTo>
                  <a:pt x="3605" y="930"/>
                </a:lnTo>
                <a:lnTo>
                  <a:pt x="3539" y="956"/>
                </a:lnTo>
                <a:lnTo>
                  <a:pt x="3504" y="987"/>
                </a:lnTo>
                <a:lnTo>
                  <a:pt x="3459" y="1040"/>
                </a:lnTo>
                <a:lnTo>
                  <a:pt x="3362" y="1128"/>
                </a:lnTo>
                <a:lnTo>
                  <a:pt x="3279" y="1177"/>
                </a:lnTo>
                <a:lnTo>
                  <a:pt x="3217" y="1212"/>
                </a:lnTo>
                <a:lnTo>
                  <a:pt x="3173" y="1265"/>
                </a:lnTo>
                <a:lnTo>
                  <a:pt x="3111" y="1309"/>
                </a:lnTo>
                <a:lnTo>
                  <a:pt x="3089" y="1375"/>
                </a:lnTo>
                <a:lnTo>
                  <a:pt x="3018" y="1428"/>
                </a:lnTo>
                <a:lnTo>
                  <a:pt x="2956" y="1521"/>
                </a:lnTo>
                <a:lnTo>
                  <a:pt x="2859" y="1569"/>
                </a:lnTo>
                <a:lnTo>
                  <a:pt x="2811" y="1631"/>
                </a:lnTo>
                <a:lnTo>
                  <a:pt x="2731" y="1697"/>
                </a:lnTo>
                <a:lnTo>
                  <a:pt x="2648" y="1737"/>
                </a:lnTo>
                <a:lnTo>
                  <a:pt x="2581" y="1755"/>
                </a:lnTo>
                <a:lnTo>
                  <a:pt x="2506" y="1746"/>
                </a:lnTo>
                <a:lnTo>
                  <a:pt x="2392" y="1737"/>
                </a:lnTo>
                <a:lnTo>
                  <a:pt x="2315" y="1642"/>
                </a:lnTo>
                <a:lnTo>
                  <a:pt x="2250" y="1600"/>
                </a:lnTo>
                <a:lnTo>
                  <a:pt x="2186" y="1536"/>
                </a:lnTo>
                <a:lnTo>
                  <a:pt x="2119" y="1494"/>
                </a:lnTo>
                <a:lnTo>
                  <a:pt x="2077" y="1430"/>
                </a:lnTo>
                <a:lnTo>
                  <a:pt x="2014" y="1408"/>
                </a:lnTo>
                <a:lnTo>
                  <a:pt x="1950" y="1386"/>
                </a:lnTo>
                <a:lnTo>
                  <a:pt x="1888" y="1318"/>
                </a:lnTo>
                <a:lnTo>
                  <a:pt x="1800" y="1386"/>
                </a:lnTo>
                <a:lnTo>
                  <a:pt x="1758" y="1450"/>
                </a:lnTo>
                <a:lnTo>
                  <a:pt x="1716" y="1514"/>
                </a:lnTo>
                <a:lnTo>
                  <a:pt x="1672" y="1578"/>
                </a:lnTo>
                <a:lnTo>
                  <a:pt x="1608" y="1642"/>
                </a:lnTo>
                <a:lnTo>
                  <a:pt x="1566" y="1708"/>
                </a:lnTo>
                <a:lnTo>
                  <a:pt x="1502" y="1772"/>
                </a:lnTo>
                <a:lnTo>
                  <a:pt x="1458" y="1836"/>
                </a:lnTo>
                <a:lnTo>
                  <a:pt x="1416" y="1901"/>
                </a:lnTo>
                <a:lnTo>
                  <a:pt x="1352" y="1965"/>
                </a:lnTo>
                <a:lnTo>
                  <a:pt x="1330" y="2029"/>
                </a:lnTo>
                <a:lnTo>
                  <a:pt x="1288" y="2093"/>
                </a:lnTo>
                <a:lnTo>
                  <a:pt x="1224" y="2177"/>
                </a:lnTo>
                <a:lnTo>
                  <a:pt x="1182" y="2241"/>
                </a:lnTo>
                <a:lnTo>
                  <a:pt x="1118" y="2305"/>
                </a:lnTo>
                <a:lnTo>
                  <a:pt x="1074" y="2371"/>
                </a:lnTo>
                <a:lnTo>
                  <a:pt x="1032" y="2435"/>
                </a:lnTo>
                <a:lnTo>
                  <a:pt x="990" y="2499"/>
                </a:lnTo>
                <a:lnTo>
                  <a:pt x="946" y="2563"/>
                </a:lnTo>
                <a:lnTo>
                  <a:pt x="904" y="2626"/>
                </a:lnTo>
                <a:lnTo>
                  <a:pt x="862" y="2690"/>
                </a:lnTo>
                <a:lnTo>
                  <a:pt x="818" y="2754"/>
                </a:lnTo>
                <a:lnTo>
                  <a:pt x="776" y="2818"/>
                </a:lnTo>
                <a:lnTo>
                  <a:pt x="754" y="2882"/>
                </a:lnTo>
                <a:lnTo>
                  <a:pt x="712" y="2946"/>
                </a:lnTo>
                <a:lnTo>
                  <a:pt x="668" y="3010"/>
                </a:lnTo>
                <a:lnTo>
                  <a:pt x="626" y="3074"/>
                </a:lnTo>
                <a:lnTo>
                  <a:pt x="562" y="3160"/>
                </a:lnTo>
                <a:lnTo>
                  <a:pt x="520" y="3224"/>
                </a:lnTo>
                <a:lnTo>
                  <a:pt x="456" y="3244"/>
                </a:lnTo>
                <a:lnTo>
                  <a:pt x="392" y="3288"/>
                </a:lnTo>
                <a:lnTo>
                  <a:pt x="348" y="3352"/>
                </a:lnTo>
                <a:lnTo>
                  <a:pt x="284" y="3394"/>
                </a:lnTo>
                <a:lnTo>
                  <a:pt x="220" y="3458"/>
                </a:lnTo>
                <a:lnTo>
                  <a:pt x="178" y="3522"/>
                </a:lnTo>
                <a:lnTo>
                  <a:pt x="114" y="3586"/>
                </a:lnTo>
                <a:lnTo>
                  <a:pt x="70" y="3650"/>
                </a:lnTo>
                <a:lnTo>
                  <a:pt x="28" y="3713"/>
                </a:lnTo>
                <a:lnTo>
                  <a:pt x="0" y="37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4008600" y="2065320"/>
            <a:ext cx="1575000" cy="1208520"/>
          </a:xfrm>
          <a:custGeom>
            <a:avLst/>
            <a:gdLst/>
            <a:ahLst/>
            <a:rect l="0" t="0" r="r" b="b"/>
            <a:pathLst>
              <a:path fill="none" w="4375" h="3357">
                <a:moveTo>
                  <a:pt x="4375" y="0"/>
                </a:moveTo>
                <a:lnTo>
                  <a:pt x="4326" y="13"/>
                </a:lnTo>
                <a:lnTo>
                  <a:pt x="4262" y="33"/>
                </a:lnTo>
                <a:lnTo>
                  <a:pt x="4199" y="77"/>
                </a:lnTo>
                <a:lnTo>
                  <a:pt x="4135" y="97"/>
                </a:lnTo>
                <a:lnTo>
                  <a:pt x="4071" y="141"/>
                </a:lnTo>
                <a:lnTo>
                  <a:pt x="4027" y="224"/>
                </a:lnTo>
                <a:lnTo>
                  <a:pt x="3963" y="288"/>
                </a:lnTo>
                <a:lnTo>
                  <a:pt x="3899" y="352"/>
                </a:lnTo>
                <a:lnTo>
                  <a:pt x="3835" y="396"/>
                </a:lnTo>
                <a:lnTo>
                  <a:pt x="3771" y="460"/>
                </a:lnTo>
                <a:lnTo>
                  <a:pt x="3707" y="502"/>
                </a:lnTo>
                <a:lnTo>
                  <a:pt x="3665" y="566"/>
                </a:lnTo>
                <a:lnTo>
                  <a:pt x="3630" y="648"/>
                </a:lnTo>
                <a:lnTo>
                  <a:pt x="3586" y="727"/>
                </a:lnTo>
                <a:lnTo>
                  <a:pt x="3475" y="784"/>
                </a:lnTo>
                <a:lnTo>
                  <a:pt x="3356" y="815"/>
                </a:lnTo>
                <a:lnTo>
                  <a:pt x="3279" y="845"/>
                </a:lnTo>
                <a:lnTo>
                  <a:pt x="3215" y="909"/>
                </a:lnTo>
                <a:lnTo>
                  <a:pt x="3151" y="973"/>
                </a:lnTo>
                <a:lnTo>
                  <a:pt x="3109" y="1037"/>
                </a:lnTo>
                <a:lnTo>
                  <a:pt x="3045" y="1079"/>
                </a:lnTo>
                <a:lnTo>
                  <a:pt x="3004" y="1143"/>
                </a:lnTo>
                <a:lnTo>
                  <a:pt x="2940" y="1187"/>
                </a:lnTo>
                <a:lnTo>
                  <a:pt x="2876" y="1229"/>
                </a:lnTo>
                <a:lnTo>
                  <a:pt x="2812" y="1273"/>
                </a:lnTo>
                <a:lnTo>
                  <a:pt x="2748" y="1293"/>
                </a:lnTo>
                <a:lnTo>
                  <a:pt x="2684" y="1315"/>
                </a:lnTo>
                <a:lnTo>
                  <a:pt x="2618" y="1356"/>
                </a:lnTo>
                <a:lnTo>
                  <a:pt x="2554" y="1379"/>
                </a:lnTo>
                <a:lnTo>
                  <a:pt x="2490" y="1379"/>
                </a:lnTo>
                <a:lnTo>
                  <a:pt x="2426" y="1401"/>
                </a:lnTo>
                <a:lnTo>
                  <a:pt x="2362" y="1420"/>
                </a:lnTo>
                <a:lnTo>
                  <a:pt x="2278" y="1442"/>
                </a:lnTo>
                <a:lnTo>
                  <a:pt x="2169" y="1442"/>
                </a:lnTo>
                <a:lnTo>
                  <a:pt x="2105" y="1420"/>
                </a:lnTo>
                <a:lnTo>
                  <a:pt x="2041" y="1379"/>
                </a:lnTo>
                <a:lnTo>
                  <a:pt x="1977" y="1356"/>
                </a:lnTo>
                <a:lnTo>
                  <a:pt x="1913" y="1315"/>
                </a:lnTo>
                <a:lnTo>
                  <a:pt x="1849" y="1293"/>
                </a:lnTo>
                <a:lnTo>
                  <a:pt x="1785" y="1273"/>
                </a:lnTo>
                <a:lnTo>
                  <a:pt x="1721" y="1251"/>
                </a:lnTo>
                <a:lnTo>
                  <a:pt x="1649" y="1185"/>
                </a:lnTo>
                <a:lnTo>
                  <a:pt x="1572" y="1251"/>
                </a:lnTo>
                <a:lnTo>
                  <a:pt x="1508" y="1273"/>
                </a:lnTo>
                <a:lnTo>
                  <a:pt x="1466" y="1337"/>
                </a:lnTo>
                <a:lnTo>
                  <a:pt x="1402" y="1379"/>
                </a:lnTo>
                <a:lnTo>
                  <a:pt x="1338" y="1420"/>
                </a:lnTo>
                <a:lnTo>
                  <a:pt x="1274" y="1484"/>
                </a:lnTo>
                <a:lnTo>
                  <a:pt x="1252" y="1548"/>
                </a:lnTo>
                <a:lnTo>
                  <a:pt x="1210" y="1612"/>
                </a:lnTo>
                <a:lnTo>
                  <a:pt x="1166" y="1676"/>
                </a:lnTo>
                <a:lnTo>
                  <a:pt x="1124" y="1740"/>
                </a:lnTo>
                <a:lnTo>
                  <a:pt x="1082" y="1804"/>
                </a:lnTo>
                <a:lnTo>
                  <a:pt x="1038" y="1868"/>
                </a:lnTo>
                <a:lnTo>
                  <a:pt x="996" y="1934"/>
                </a:lnTo>
                <a:lnTo>
                  <a:pt x="954" y="1998"/>
                </a:lnTo>
                <a:lnTo>
                  <a:pt x="910" y="2062"/>
                </a:lnTo>
                <a:lnTo>
                  <a:pt x="868" y="2126"/>
                </a:lnTo>
                <a:lnTo>
                  <a:pt x="826" y="2190"/>
                </a:lnTo>
                <a:lnTo>
                  <a:pt x="782" y="2254"/>
                </a:lnTo>
                <a:lnTo>
                  <a:pt x="762" y="2318"/>
                </a:lnTo>
                <a:lnTo>
                  <a:pt x="698" y="2382"/>
                </a:lnTo>
                <a:lnTo>
                  <a:pt x="676" y="2446"/>
                </a:lnTo>
                <a:lnTo>
                  <a:pt x="612" y="2510"/>
                </a:lnTo>
                <a:lnTo>
                  <a:pt x="568" y="2575"/>
                </a:lnTo>
                <a:lnTo>
                  <a:pt x="549" y="2639"/>
                </a:lnTo>
                <a:lnTo>
                  <a:pt x="526" y="2702"/>
                </a:lnTo>
                <a:lnTo>
                  <a:pt x="463" y="2766"/>
                </a:lnTo>
                <a:lnTo>
                  <a:pt x="399" y="2830"/>
                </a:lnTo>
                <a:lnTo>
                  <a:pt x="335" y="2894"/>
                </a:lnTo>
                <a:lnTo>
                  <a:pt x="271" y="2958"/>
                </a:lnTo>
                <a:lnTo>
                  <a:pt x="229" y="3022"/>
                </a:lnTo>
                <a:lnTo>
                  <a:pt x="165" y="3064"/>
                </a:lnTo>
                <a:lnTo>
                  <a:pt x="121" y="3128"/>
                </a:lnTo>
                <a:lnTo>
                  <a:pt x="79" y="3192"/>
                </a:lnTo>
                <a:lnTo>
                  <a:pt x="37" y="3258"/>
                </a:lnTo>
                <a:lnTo>
                  <a:pt x="0" y="33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4091040" y="2244600"/>
            <a:ext cx="1492560" cy="1027440"/>
          </a:xfrm>
          <a:custGeom>
            <a:avLst/>
            <a:gdLst/>
            <a:ahLst/>
            <a:rect l="0" t="0" r="r" b="b"/>
            <a:pathLst>
              <a:path fill="none" w="4146" h="2854">
                <a:moveTo>
                  <a:pt x="4146" y="0"/>
                </a:moveTo>
                <a:lnTo>
                  <a:pt x="4097" y="46"/>
                </a:lnTo>
                <a:lnTo>
                  <a:pt x="4033" y="68"/>
                </a:lnTo>
                <a:lnTo>
                  <a:pt x="3969" y="90"/>
                </a:lnTo>
                <a:lnTo>
                  <a:pt x="3905" y="112"/>
                </a:lnTo>
                <a:lnTo>
                  <a:pt x="3841" y="154"/>
                </a:lnTo>
                <a:lnTo>
                  <a:pt x="3777" y="176"/>
                </a:lnTo>
                <a:lnTo>
                  <a:pt x="3711" y="240"/>
                </a:lnTo>
                <a:lnTo>
                  <a:pt x="3669" y="304"/>
                </a:lnTo>
                <a:lnTo>
                  <a:pt x="3605" y="346"/>
                </a:lnTo>
                <a:lnTo>
                  <a:pt x="3542" y="388"/>
                </a:lnTo>
                <a:lnTo>
                  <a:pt x="3478" y="432"/>
                </a:lnTo>
                <a:lnTo>
                  <a:pt x="3414" y="474"/>
                </a:lnTo>
                <a:lnTo>
                  <a:pt x="3350" y="496"/>
                </a:lnTo>
                <a:lnTo>
                  <a:pt x="3286" y="537"/>
                </a:lnTo>
                <a:lnTo>
                  <a:pt x="3222" y="579"/>
                </a:lnTo>
                <a:lnTo>
                  <a:pt x="3158" y="643"/>
                </a:lnTo>
                <a:lnTo>
                  <a:pt x="3072" y="707"/>
                </a:lnTo>
                <a:lnTo>
                  <a:pt x="3008" y="751"/>
                </a:lnTo>
                <a:lnTo>
                  <a:pt x="2922" y="793"/>
                </a:lnTo>
                <a:lnTo>
                  <a:pt x="2838" y="857"/>
                </a:lnTo>
                <a:lnTo>
                  <a:pt x="2774" y="901"/>
                </a:lnTo>
                <a:lnTo>
                  <a:pt x="2710" y="943"/>
                </a:lnTo>
                <a:lnTo>
                  <a:pt x="2624" y="985"/>
                </a:lnTo>
                <a:lnTo>
                  <a:pt x="2560" y="1029"/>
                </a:lnTo>
                <a:lnTo>
                  <a:pt x="2496" y="1049"/>
                </a:lnTo>
                <a:lnTo>
                  <a:pt x="2432" y="1071"/>
                </a:lnTo>
                <a:lnTo>
                  <a:pt x="2369" y="1071"/>
                </a:lnTo>
                <a:lnTo>
                  <a:pt x="2283" y="1093"/>
                </a:lnTo>
                <a:lnTo>
                  <a:pt x="2197" y="1113"/>
                </a:lnTo>
                <a:lnTo>
                  <a:pt x="2133" y="1113"/>
                </a:lnTo>
                <a:lnTo>
                  <a:pt x="2048" y="1113"/>
                </a:lnTo>
                <a:lnTo>
                  <a:pt x="1984" y="1135"/>
                </a:lnTo>
                <a:lnTo>
                  <a:pt x="1920" y="1135"/>
                </a:lnTo>
                <a:lnTo>
                  <a:pt x="1856" y="1113"/>
                </a:lnTo>
                <a:lnTo>
                  <a:pt x="1792" y="1093"/>
                </a:lnTo>
                <a:lnTo>
                  <a:pt x="1726" y="1093"/>
                </a:lnTo>
                <a:lnTo>
                  <a:pt x="1662" y="1071"/>
                </a:lnTo>
                <a:lnTo>
                  <a:pt x="1578" y="1029"/>
                </a:lnTo>
                <a:lnTo>
                  <a:pt x="1514" y="1007"/>
                </a:lnTo>
                <a:lnTo>
                  <a:pt x="1426" y="978"/>
                </a:lnTo>
                <a:lnTo>
                  <a:pt x="1349" y="923"/>
                </a:lnTo>
                <a:lnTo>
                  <a:pt x="1274" y="963"/>
                </a:lnTo>
                <a:lnTo>
                  <a:pt x="1172" y="1029"/>
                </a:lnTo>
                <a:lnTo>
                  <a:pt x="1109" y="1049"/>
                </a:lnTo>
                <a:lnTo>
                  <a:pt x="1064" y="1113"/>
                </a:lnTo>
                <a:lnTo>
                  <a:pt x="1001" y="1177"/>
                </a:lnTo>
                <a:lnTo>
                  <a:pt x="959" y="1241"/>
                </a:lnTo>
                <a:lnTo>
                  <a:pt x="937" y="1305"/>
                </a:lnTo>
                <a:lnTo>
                  <a:pt x="895" y="1369"/>
                </a:lnTo>
                <a:lnTo>
                  <a:pt x="853" y="1436"/>
                </a:lnTo>
                <a:lnTo>
                  <a:pt x="831" y="1500"/>
                </a:lnTo>
                <a:lnTo>
                  <a:pt x="767" y="1542"/>
                </a:lnTo>
                <a:lnTo>
                  <a:pt x="725" y="1628"/>
                </a:lnTo>
                <a:lnTo>
                  <a:pt x="661" y="1692"/>
                </a:lnTo>
                <a:lnTo>
                  <a:pt x="639" y="1756"/>
                </a:lnTo>
                <a:lnTo>
                  <a:pt x="597" y="1820"/>
                </a:lnTo>
                <a:lnTo>
                  <a:pt x="553" y="1883"/>
                </a:lnTo>
                <a:lnTo>
                  <a:pt x="511" y="1947"/>
                </a:lnTo>
                <a:lnTo>
                  <a:pt x="489" y="2011"/>
                </a:lnTo>
                <a:lnTo>
                  <a:pt x="447" y="2075"/>
                </a:lnTo>
                <a:lnTo>
                  <a:pt x="403" y="2139"/>
                </a:lnTo>
                <a:lnTo>
                  <a:pt x="361" y="2203"/>
                </a:lnTo>
                <a:lnTo>
                  <a:pt x="339" y="2267"/>
                </a:lnTo>
                <a:lnTo>
                  <a:pt x="297" y="2331"/>
                </a:lnTo>
                <a:lnTo>
                  <a:pt x="255" y="2395"/>
                </a:lnTo>
                <a:lnTo>
                  <a:pt x="211" y="2459"/>
                </a:lnTo>
                <a:lnTo>
                  <a:pt x="169" y="2523"/>
                </a:lnTo>
                <a:lnTo>
                  <a:pt x="127" y="2587"/>
                </a:lnTo>
                <a:lnTo>
                  <a:pt x="83" y="2651"/>
                </a:lnTo>
                <a:lnTo>
                  <a:pt x="63" y="2715"/>
                </a:lnTo>
                <a:lnTo>
                  <a:pt x="19" y="2779"/>
                </a:lnTo>
                <a:lnTo>
                  <a:pt x="0" y="285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4124160" y="2502000"/>
            <a:ext cx="1459440" cy="771840"/>
          </a:xfrm>
          <a:custGeom>
            <a:avLst/>
            <a:gdLst/>
            <a:ahLst/>
            <a:rect l="0" t="0" r="r" b="b"/>
            <a:pathLst>
              <a:path fill="none" w="4054" h="2144">
                <a:moveTo>
                  <a:pt x="4054" y="0"/>
                </a:moveTo>
                <a:lnTo>
                  <a:pt x="4006" y="15"/>
                </a:lnTo>
                <a:lnTo>
                  <a:pt x="3942" y="37"/>
                </a:lnTo>
                <a:lnTo>
                  <a:pt x="3878" y="79"/>
                </a:lnTo>
                <a:lnTo>
                  <a:pt x="3814" y="123"/>
                </a:lnTo>
                <a:lnTo>
                  <a:pt x="3750" y="165"/>
                </a:lnTo>
                <a:lnTo>
                  <a:pt x="3686" y="207"/>
                </a:lnTo>
                <a:lnTo>
                  <a:pt x="3620" y="251"/>
                </a:lnTo>
                <a:lnTo>
                  <a:pt x="3556" y="293"/>
                </a:lnTo>
                <a:lnTo>
                  <a:pt x="3472" y="357"/>
                </a:lnTo>
                <a:lnTo>
                  <a:pt x="3386" y="399"/>
                </a:lnTo>
                <a:lnTo>
                  <a:pt x="3322" y="443"/>
                </a:lnTo>
                <a:lnTo>
                  <a:pt x="3258" y="485"/>
                </a:lnTo>
                <a:lnTo>
                  <a:pt x="3152" y="526"/>
                </a:lnTo>
                <a:lnTo>
                  <a:pt x="3066" y="549"/>
                </a:lnTo>
                <a:lnTo>
                  <a:pt x="3001" y="571"/>
                </a:lnTo>
                <a:lnTo>
                  <a:pt x="2937" y="590"/>
                </a:lnTo>
                <a:lnTo>
                  <a:pt x="2809" y="612"/>
                </a:lnTo>
                <a:lnTo>
                  <a:pt x="2724" y="635"/>
                </a:lnTo>
                <a:lnTo>
                  <a:pt x="2510" y="635"/>
                </a:lnTo>
                <a:lnTo>
                  <a:pt x="2446" y="635"/>
                </a:lnTo>
                <a:lnTo>
                  <a:pt x="2382" y="654"/>
                </a:lnTo>
                <a:lnTo>
                  <a:pt x="2318" y="654"/>
                </a:lnTo>
                <a:lnTo>
                  <a:pt x="2232" y="654"/>
                </a:lnTo>
                <a:lnTo>
                  <a:pt x="2168" y="654"/>
                </a:lnTo>
                <a:lnTo>
                  <a:pt x="2104" y="654"/>
                </a:lnTo>
                <a:lnTo>
                  <a:pt x="2020" y="635"/>
                </a:lnTo>
                <a:lnTo>
                  <a:pt x="1934" y="635"/>
                </a:lnTo>
                <a:lnTo>
                  <a:pt x="1828" y="635"/>
                </a:lnTo>
                <a:lnTo>
                  <a:pt x="1764" y="635"/>
                </a:lnTo>
                <a:lnTo>
                  <a:pt x="1678" y="612"/>
                </a:lnTo>
                <a:lnTo>
                  <a:pt x="1614" y="590"/>
                </a:lnTo>
                <a:lnTo>
                  <a:pt x="1551" y="571"/>
                </a:lnTo>
                <a:lnTo>
                  <a:pt x="1423" y="571"/>
                </a:lnTo>
                <a:lnTo>
                  <a:pt x="1359" y="571"/>
                </a:lnTo>
                <a:lnTo>
                  <a:pt x="1290" y="535"/>
                </a:lnTo>
                <a:lnTo>
                  <a:pt x="1198" y="606"/>
                </a:lnTo>
                <a:lnTo>
                  <a:pt x="1138" y="646"/>
                </a:lnTo>
                <a:lnTo>
                  <a:pt x="1103" y="720"/>
                </a:lnTo>
                <a:lnTo>
                  <a:pt x="1039" y="762"/>
                </a:lnTo>
                <a:lnTo>
                  <a:pt x="972" y="826"/>
                </a:lnTo>
                <a:lnTo>
                  <a:pt x="908" y="890"/>
                </a:lnTo>
                <a:lnTo>
                  <a:pt x="866" y="954"/>
                </a:lnTo>
                <a:lnTo>
                  <a:pt x="802" y="1018"/>
                </a:lnTo>
                <a:lnTo>
                  <a:pt x="738" y="1060"/>
                </a:lnTo>
                <a:lnTo>
                  <a:pt x="674" y="1125"/>
                </a:lnTo>
                <a:lnTo>
                  <a:pt x="610" y="1169"/>
                </a:lnTo>
                <a:lnTo>
                  <a:pt x="568" y="1233"/>
                </a:lnTo>
                <a:lnTo>
                  <a:pt x="482" y="1317"/>
                </a:lnTo>
                <a:lnTo>
                  <a:pt x="440" y="1383"/>
                </a:lnTo>
                <a:lnTo>
                  <a:pt x="418" y="1447"/>
                </a:lnTo>
                <a:lnTo>
                  <a:pt x="377" y="1511"/>
                </a:lnTo>
                <a:lnTo>
                  <a:pt x="354" y="1575"/>
                </a:lnTo>
                <a:lnTo>
                  <a:pt x="310" y="1639"/>
                </a:lnTo>
                <a:lnTo>
                  <a:pt x="268" y="1703"/>
                </a:lnTo>
                <a:lnTo>
                  <a:pt x="246" y="1767"/>
                </a:lnTo>
                <a:lnTo>
                  <a:pt x="205" y="1831"/>
                </a:lnTo>
                <a:lnTo>
                  <a:pt x="183" y="1894"/>
                </a:lnTo>
                <a:lnTo>
                  <a:pt x="99" y="1978"/>
                </a:lnTo>
                <a:lnTo>
                  <a:pt x="55" y="2044"/>
                </a:lnTo>
                <a:lnTo>
                  <a:pt x="0" y="214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4175280" y="2716200"/>
            <a:ext cx="1408320" cy="560880"/>
          </a:xfrm>
          <a:custGeom>
            <a:avLst/>
            <a:gdLst/>
            <a:ahLst/>
            <a:rect l="0" t="0" r="r" b="b"/>
            <a:pathLst>
              <a:path fill="none" w="3912" h="1558">
                <a:moveTo>
                  <a:pt x="3912" y="0"/>
                </a:moveTo>
                <a:lnTo>
                  <a:pt x="3863" y="17"/>
                </a:lnTo>
                <a:lnTo>
                  <a:pt x="3819" y="81"/>
                </a:lnTo>
                <a:lnTo>
                  <a:pt x="3755" y="125"/>
                </a:lnTo>
                <a:lnTo>
                  <a:pt x="3691" y="167"/>
                </a:lnTo>
                <a:lnTo>
                  <a:pt x="3608" y="253"/>
                </a:lnTo>
                <a:lnTo>
                  <a:pt x="3500" y="317"/>
                </a:lnTo>
                <a:lnTo>
                  <a:pt x="3436" y="337"/>
                </a:lnTo>
                <a:lnTo>
                  <a:pt x="3372" y="359"/>
                </a:lnTo>
                <a:lnTo>
                  <a:pt x="3266" y="359"/>
                </a:lnTo>
                <a:lnTo>
                  <a:pt x="3202" y="359"/>
                </a:lnTo>
                <a:lnTo>
                  <a:pt x="3138" y="359"/>
                </a:lnTo>
                <a:lnTo>
                  <a:pt x="2541" y="337"/>
                </a:lnTo>
                <a:lnTo>
                  <a:pt x="2432" y="337"/>
                </a:lnTo>
                <a:lnTo>
                  <a:pt x="2369" y="337"/>
                </a:lnTo>
                <a:lnTo>
                  <a:pt x="2155" y="317"/>
                </a:lnTo>
                <a:lnTo>
                  <a:pt x="2071" y="295"/>
                </a:lnTo>
                <a:lnTo>
                  <a:pt x="2007" y="295"/>
                </a:lnTo>
                <a:lnTo>
                  <a:pt x="1942" y="253"/>
                </a:lnTo>
                <a:lnTo>
                  <a:pt x="1856" y="231"/>
                </a:lnTo>
                <a:lnTo>
                  <a:pt x="1770" y="231"/>
                </a:lnTo>
                <a:lnTo>
                  <a:pt x="1706" y="231"/>
                </a:lnTo>
                <a:lnTo>
                  <a:pt x="1622" y="231"/>
                </a:lnTo>
                <a:lnTo>
                  <a:pt x="1558" y="231"/>
                </a:lnTo>
                <a:lnTo>
                  <a:pt x="1472" y="231"/>
                </a:lnTo>
                <a:lnTo>
                  <a:pt x="1408" y="231"/>
                </a:lnTo>
                <a:lnTo>
                  <a:pt x="1344" y="231"/>
                </a:lnTo>
                <a:lnTo>
                  <a:pt x="1281" y="231"/>
                </a:lnTo>
                <a:lnTo>
                  <a:pt x="1217" y="231"/>
                </a:lnTo>
                <a:lnTo>
                  <a:pt x="1153" y="253"/>
                </a:lnTo>
                <a:lnTo>
                  <a:pt x="1089" y="273"/>
                </a:lnTo>
                <a:lnTo>
                  <a:pt x="1003" y="295"/>
                </a:lnTo>
                <a:lnTo>
                  <a:pt x="939" y="317"/>
                </a:lnTo>
                <a:lnTo>
                  <a:pt x="875" y="337"/>
                </a:lnTo>
                <a:lnTo>
                  <a:pt x="811" y="381"/>
                </a:lnTo>
                <a:lnTo>
                  <a:pt x="747" y="424"/>
                </a:lnTo>
                <a:lnTo>
                  <a:pt x="703" y="488"/>
                </a:lnTo>
                <a:lnTo>
                  <a:pt x="639" y="511"/>
                </a:lnTo>
                <a:lnTo>
                  <a:pt x="575" y="552"/>
                </a:lnTo>
                <a:lnTo>
                  <a:pt x="533" y="617"/>
                </a:lnTo>
                <a:lnTo>
                  <a:pt x="491" y="681"/>
                </a:lnTo>
                <a:lnTo>
                  <a:pt x="427" y="745"/>
                </a:lnTo>
                <a:lnTo>
                  <a:pt x="363" y="831"/>
                </a:lnTo>
                <a:lnTo>
                  <a:pt x="319" y="895"/>
                </a:lnTo>
                <a:lnTo>
                  <a:pt x="277" y="959"/>
                </a:lnTo>
                <a:lnTo>
                  <a:pt x="255" y="1023"/>
                </a:lnTo>
                <a:lnTo>
                  <a:pt x="235" y="1087"/>
                </a:lnTo>
                <a:lnTo>
                  <a:pt x="191" y="1174"/>
                </a:lnTo>
                <a:lnTo>
                  <a:pt x="149" y="1238"/>
                </a:lnTo>
                <a:lnTo>
                  <a:pt x="127" y="1302"/>
                </a:lnTo>
                <a:lnTo>
                  <a:pt x="105" y="1366"/>
                </a:lnTo>
                <a:lnTo>
                  <a:pt x="63" y="1430"/>
                </a:lnTo>
                <a:lnTo>
                  <a:pt x="22" y="1494"/>
                </a:lnTo>
                <a:lnTo>
                  <a:pt x="0" y="155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4227480" y="2906640"/>
            <a:ext cx="1356120" cy="367200"/>
          </a:xfrm>
          <a:custGeom>
            <a:avLst/>
            <a:gdLst/>
            <a:ahLst/>
            <a:rect l="0" t="0" r="r" b="b"/>
            <a:pathLst>
              <a:path fill="none" w="3767" h="1020">
                <a:moveTo>
                  <a:pt x="3767" y="216"/>
                </a:moveTo>
                <a:lnTo>
                  <a:pt x="3719" y="213"/>
                </a:lnTo>
                <a:lnTo>
                  <a:pt x="3591" y="235"/>
                </a:lnTo>
                <a:lnTo>
                  <a:pt x="3527" y="258"/>
                </a:lnTo>
                <a:lnTo>
                  <a:pt x="3441" y="258"/>
                </a:lnTo>
                <a:lnTo>
                  <a:pt x="3377" y="235"/>
                </a:lnTo>
                <a:lnTo>
                  <a:pt x="3313" y="235"/>
                </a:lnTo>
                <a:lnTo>
                  <a:pt x="3249" y="235"/>
                </a:lnTo>
                <a:lnTo>
                  <a:pt x="3185" y="213"/>
                </a:lnTo>
                <a:lnTo>
                  <a:pt x="3099" y="213"/>
                </a:lnTo>
                <a:lnTo>
                  <a:pt x="2993" y="235"/>
                </a:lnTo>
                <a:lnTo>
                  <a:pt x="2930" y="235"/>
                </a:lnTo>
                <a:lnTo>
                  <a:pt x="2866" y="258"/>
                </a:lnTo>
                <a:lnTo>
                  <a:pt x="2801" y="258"/>
                </a:lnTo>
                <a:lnTo>
                  <a:pt x="2737" y="258"/>
                </a:lnTo>
                <a:lnTo>
                  <a:pt x="2671" y="258"/>
                </a:lnTo>
                <a:lnTo>
                  <a:pt x="2587" y="235"/>
                </a:lnTo>
                <a:lnTo>
                  <a:pt x="2523" y="213"/>
                </a:lnTo>
                <a:lnTo>
                  <a:pt x="2459" y="191"/>
                </a:lnTo>
                <a:lnTo>
                  <a:pt x="2373" y="171"/>
                </a:lnTo>
                <a:lnTo>
                  <a:pt x="2309" y="149"/>
                </a:lnTo>
                <a:lnTo>
                  <a:pt x="2245" y="149"/>
                </a:lnTo>
                <a:lnTo>
                  <a:pt x="2181" y="127"/>
                </a:lnTo>
                <a:lnTo>
                  <a:pt x="2117" y="127"/>
                </a:lnTo>
                <a:lnTo>
                  <a:pt x="2031" y="85"/>
                </a:lnTo>
                <a:lnTo>
                  <a:pt x="1967" y="85"/>
                </a:lnTo>
                <a:lnTo>
                  <a:pt x="1881" y="63"/>
                </a:lnTo>
                <a:lnTo>
                  <a:pt x="1817" y="44"/>
                </a:lnTo>
                <a:lnTo>
                  <a:pt x="1734" y="44"/>
                </a:lnTo>
                <a:lnTo>
                  <a:pt x="1520" y="0"/>
                </a:lnTo>
                <a:lnTo>
                  <a:pt x="1434" y="0"/>
                </a:lnTo>
                <a:lnTo>
                  <a:pt x="1348" y="0"/>
                </a:lnTo>
                <a:lnTo>
                  <a:pt x="1284" y="22"/>
                </a:lnTo>
                <a:lnTo>
                  <a:pt x="1220" y="44"/>
                </a:lnTo>
                <a:lnTo>
                  <a:pt x="1156" y="63"/>
                </a:lnTo>
                <a:lnTo>
                  <a:pt x="1092" y="108"/>
                </a:lnTo>
                <a:lnTo>
                  <a:pt x="1028" y="127"/>
                </a:lnTo>
                <a:lnTo>
                  <a:pt x="964" y="171"/>
                </a:lnTo>
                <a:lnTo>
                  <a:pt x="899" y="171"/>
                </a:lnTo>
                <a:lnTo>
                  <a:pt x="815" y="191"/>
                </a:lnTo>
                <a:lnTo>
                  <a:pt x="751" y="213"/>
                </a:lnTo>
                <a:lnTo>
                  <a:pt x="685" y="235"/>
                </a:lnTo>
                <a:lnTo>
                  <a:pt x="621" y="258"/>
                </a:lnTo>
                <a:lnTo>
                  <a:pt x="557" y="278"/>
                </a:lnTo>
                <a:lnTo>
                  <a:pt x="493" y="300"/>
                </a:lnTo>
                <a:lnTo>
                  <a:pt x="429" y="364"/>
                </a:lnTo>
                <a:lnTo>
                  <a:pt x="366" y="406"/>
                </a:lnTo>
                <a:lnTo>
                  <a:pt x="324" y="470"/>
                </a:lnTo>
                <a:lnTo>
                  <a:pt x="260" y="514"/>
                </a:lnTo>
                <a:lnTo>
                  <a:pt x="218" y="578"/>
                </a:lnTo>
                <a:lnTo>
                  <a:pt x="154" y="620"/>
                </a:lnTo>
                <a:lnTo>
                  <a:pt x="110" y="684"/>
                </a:lnTo>
                <a:lnTo>
                  <a:pt x="68" y="748"/>
                </a:lnTo>
                <a:lnTo>
                  <a:pt x="68" y="813"/>
                </a:lnTo>
                <a:lnTo>
                  <a:pt x="46" y="877"/>
                </a:lnTo>
                <a:lnTo>
                  <a:pt x="24" y="941"/>
                </a:lnTo>
                <a:lnTo>
                  <a:pt x="0" y="102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4282920" y="3046320"/>
            <a:ext cx="1298880" cy="230400"/>
          </a:xfrm>
          <a:custGeom>
            <a:avLst/>
            <a:gdLst/>
            <a:ahLst/>
            <a:rect l="0" t="0" r="r" b="b"/>
            <a:pathLst>
              <a:path fill="none" w="3608" h="640">
                <a:moveTo>
                  <a:pt x="3608" y="255"/>
                </a:moveTo>
                <a:lnTo>
                  <a:pt x="3502" y="275"/>
                </a:lnTo>
                <a:lnTo>
                  <a:pt x="3438" y="275"/>
                </a:lnTo>
                <a:lnTo>
                  <a:pt x="3374" y="275"/>
                </a:lnTo>
                <a:lnTo>
                  <a:pt x="3310" y="233"/>
                </a:lnTo>
                <a:lnTo>
                  <a:pt x="3246" y="211"/>
                </a:lnTo>
                <a:lnTo>
                  <a:pt x="3032" y="211"/>
                </a:lnTo>
                <a:lnTo>
                  <a:pt x="2968" y="211"/>
                </a:lnTo>
                <a:lnTo>
                  <a:pt x="2904" y="211"/>
                </a:lnTo>
                <a:lnTo>
                  <a:pt x="2796" y="211"/>
                </a:lnTo>
                <a:lnTo>
                  <a:pt x="2732" y="211"/>
                </a:lnTo>
                <a:lnTo>
                  <a:pt x="2668" y="211"/>
                </a:lnTo>
                <a:lnTo>
                  <a:pt x="2584" y="211"/>
                </a:lnTo>
                <a:lnTo>
                  <a:pt x="2518" y="211"/>
                </a:lnTo>
                <a:lnTo>
                  <a:pt x="2454" y="211"/>
                </a:lnTo>
                <a:lnTo>
                  <a:pt x="2370" y="211"/>
                </a:lnTo>
                <a:lnTo>
                  <a:pt x="2242" y="211"/>
                </a:lnTo>
                <a:lnTo>
                  <a:pt x="2178" y="191"/>
                </a:lnTo>
                <a:lnTo>
                  <a:pt x="2092" y="169"/>
                </a:lnTo>
                <a:lnTo>
                  <a:pt x="2006" y="127"/>
                </a:lnTo>
                <a:lnTo>
                  <a:pt x="1942" y="105"/>
                </a:lnTo>
                <a:lnTo>
                  <a:pt x="1878" y="83"/>
                </a:lnTo>
                <a:lnTo>
                  <a:pt x="1814" y="63"/>
                </a:lnTo>
                <a:lnTo>
                  <a:pt x="1727" y="19"/>
                </a:lnTo>
                <a:lnTo>
                  <a:pt x="1621" y="19"/>
                </a:lnTo>
                <a:lnTo>
                  <a:pt x="1535" y="0"/>
                </a:lnTo>
                <a:lnTo>
                  <a:pt x="1323" y="0"/>
                </a:lnTo>
                <a:lnTo>
                  <a:pt x="1215" y="0"/>
                </a:lnTo>
                <a:lnTo>
                  <a:pt x="1151" y="19"/>
                </a:lnTo>
                <a:lnTo>
                  <a:pt x="1087" y="19"/>
                </a:lnTo>
                <a:lnTo>
                  <a:pt x="1023" y="19"/>
                </a:lnTo>
                <a:lnTo>
                  <a:pt x="937" y="19"/>
                </a:lnTo>
                <a:lnTo>
                  <a:pt x="853" y="63"/>
                </a:lnTo>
                <a:lnTo>
                  <a:pt x="789" y="63"/>
                </a:lnTo>
                <a:lnTo>
                  <a:pt x="725" y="83"/>
                </a:lnTo>
                <a:lnTo>
                  <a:pt x="661" y="105"/>
                </a:lnTo>
                <a:lnTo>
                  <a:pt x="597" y="127"/>
                </a:lnTo>
                <a:lnTo>
                  <a:pt x="511" y="191"/>
                </a:lnTo>
                <a:lnTo>
                  <a:pt x="447" y="233"/>
                </a:lnTo>
                <a:lnTo>
                  <a:pt x="383" y="275"/>
                </a:lnTo>
                <a:lnTo>
                  <a:pt x="319" y="319"/>
                </a:lnTo>
                <a:lnTo>
                  <a:pt x="255" y="362"/>
                </a:lnTo>
                <a:lnTo>
                  <a:pt x="191" y="404"/>
                </a:lnTo>
                <a:lnTo>
                  <a:pt x="127" y="448"/>
                </a:lnTo>
                <a:lnTo>
                  <a:pt x="63" y="512"/>
                </a:lnTo>
                <a:lnTo>
                  <a:pt x="19" y="576"/>
                </a:lnTo>
                <a:lnTo>
                  <a:pt x="0" y="64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4398840" y="3191040"/>
            <a:ext cx="945000" cy="86040"/>
          </a:xfrm>
          <a:custGeom>
            <a:avLst/>
            <a:gdLst/>
            <a:ahLst/>
            <a:rect l="0" t="0" r="r" b="b"/>
            <a:pathLst>
              <a:path fill="none" w="2625" h="239">
                <a:moveTo>
                  <a:pt x="2625" y="239"/>
                </a:moveTo>
                <a:lnTo>
                  <a:pt x="2561" y="216"/>
                </a:lnTo>
                <a:lnTo>
                  <a:pt x="2497" y="216"/>
                </a:lnTo>
                <a:lnTo>
                  <a:pt x="2411" y="216"/>
                </a:lnTo>
                <a:lnTo>
                  <a:pt x="2347" y="216"/>
                </a:lnTo>
                <a:lnTo>
                  <a:pt x="2219" y="196"/>
                </a:lnTo>
                <a:lnTo>
                  <a:pt x="2197" y="132"/>
                </a:lnTo>
                <a:lnTo>
                  <a:pt x="2133" y="109"/>
                </a:lnTo>
                <a:lnTo>
                  <a:pt x="2049" y="109"/>
                </a:lnTo>
                <a:lnTo>
                  <a:pt x="1962" y="109"/>
                </a:lnTo>
                <a:lnTo>
                  <a:pt x="1898" y="109"/>
                </a:lnTo>
                <a:lnTo>
                  <a:pt x="1834" y="86"/>
                </a:lnTo>
                <a:lnTo>
                  <a:pt x="1748" y="44"/>
                </a:lnTo>
                <a:lnTo>
                  <a:pt x="1684" y="22"/>
                </a:lnTo>
                <a:lnTo>
                  <a:pt x="1578" y="0"/>
                </a:lnTo>
                <a:lnTo>
                  <a:pt x="1470" y="0"/>
                </a:lnTo>
                <a:lnTo>
                  <a:pt x="1386" y="0"/>
                </a:lnTo>
                <a:lnTo>
                  <a:pt x="1300" y="22"/>
                </a:lnTo>
                <a:lnTo>
                  <a:pt x="1236" y="44"/>
                </a:lnTo>
                <a:lnTo>
                  <a:pt x="1108" y="64"/>
                </a:lnTo>
                <a:lnTo>
                  <a:pt x="894" y="86"/>
                </a:lnTo>
                <a:lnTo>
                  <a:pt x="830" y="86"/>
                </a:lnTo>
                <a:lnTo>
                  <a:pt x="766" y="132"/>
                </a:lnTo>
                <a:lnTo>
                  <a:pt x="702" y="174"/>
                </a:lnTo>
                <a:lnTo>
                  <a:pt x="637" y="174"/>
                </a:lnTo>
                <a:lnTo>
                  <a:pt x="573" y="174"/>
                </a:lnTo>
                <a:lnTo>
                  <a:pt x="509" y="174"/>
                </a:lnTo>
                <a:lnTo>
                  <a:pt x="445" y="174"/>
                </a:lnTo>
                <a:lnTo>
                  <a:pt x="359" y="174"/>
                </a:lnTo>
                <a:lnTo>
                  <a:pt x="295" y="174"/>
                </a:lnTo>
                <a:lnTo>
                  <a:pt x="231" y="152"/>
                </a:lnTo>
                <a:lnTo>
                  <a:pt x="167" y="152"/>
                </a:lnTo>
                <a:lnTo>
                  <a:pt x="103" y="174"/>
                </a:lnTo>
                <a:lnTo>
                  <a:pt x="0" y="23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4797360" y="587520"/>
            <a:ext cx="20016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4789440" y="12175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3298680" y="125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3398760" y="3096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3514680" y="5014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3691080" y="81756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4167360" y="9097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4183200" y="17780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3137040" y="19764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4313160" y="20383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4608360" y="2017800"/>
            <a:ext cx="17604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4853160" y="2341440"/>
            <a:ext cx="16668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5127480" y="2222640"/>
            <a:ext cx="160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5135400" y="26384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>
            <a:off x="5157720" y="24145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>
            <a:off x="5372280" y="2152800"/>
            <a:ext cx="18432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>
            <a:off x="5181480" y="30751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>
            <a:off x="4888080" y="28987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"/>
          <p:cNvSpPr/>
          <p:nvPr/>
        </p:nvSpPr>
        <p:spPr>
          <a:xfrm>
            <a:off x="5280120" y="27972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"/>
          <p:cNvSpPr/>
          <p:nvPr/>
        </p:nvSpPr>
        <p:spPr>
          <a:xfrm>
            <a:off x="4675320" y="315288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"/>
          <p:cNvSpPr txBox="1"/>
          <p:nvPr/>
        </p:nvSpPr>
        <p:spPr>
          <a:xfrm>
            <a:off x="3322800" y="125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"/>
          <p:cNvSpPr txBox="1"/>
          <p:nvPr/>
        </p:nvSpPr>
        <p:spPr>
          <a:xfrm>
            <a:off x="3384720" y="3031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"/>
          <p:cNvSpPr txBox="1"/>
          <p:nvPr/>
        </p:nvSpPr>
        <p:spPr>
          <a:xfrm>
            <a:off x="3506760" y="493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"/>
          <p:cNvSpPr txBox="1"/>
          <p:nvPr/>
        </p:nvSpPr>
        <p:spPr>
          <a:xfrm>
            <a:off x="3684600" y="8096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"/>
          <p:cNvSpPr txBox="1"/>
          <p:nvPr/>
        </p:nvSpPr>
        <p:spPr>
          <a:xfrm>
            <a:off x="3138480" y="1960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"/>
          <p:cNvSpPr txBox="1"/>
          <p:nvPr/>
        </p:nvSpPr>
        <p:spPr>
          <a:xfrm>
            <a:off x="4175280" y="176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"/>
          <p:cNvSpPr txBox="1"/>
          <p:nvPr/>
        </p:nvSpPr>
        <p:spPr>
          <a:xfrm>
            <a:off x="4307040" y="20224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"/>
          <p:cNvSpPr txBox="1"/>
          <p:nvPr/>
        </p:nvSpPr>
        <p:spPr>
          <a:xfrm>
            <a:off x="4808520" y="23209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>
            <a:off x="4937040" y="287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"/>
          <p:cNvSpPr txBox="1"/>
          <p:nvPr/>
        </p:nvSpPr>
        <p:spPr>
          <a:xfrm>
            <a:off x="4930920" y="2793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"/>
          <p:cNvSpPr txBox="1"/>
          <p:nvPr/>
        </p:nvSpPr>
        <p:spPr>
          <a:xfrm>
            <a:off x="4782960" y="577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"/>
          <p:cNvSpPr txBox="1"/>
          <p:nvPr/>
        </p:nvSpPr>
        <p:spPr>
          <a:xfrm>
            <a:off x="4151160" y="901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 txBox="1"/>
          <p:nvPr/>
        </p:nvSpPr>
        <p:spPr>
          <a:xfrm>
            <a:off x="4782960" y="12002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 txBox="1"/>
          <p:nvPr/>
        </p:nvSpPr>
        <p:spPr>
          <a:xfrm>
            <a:off x="4562640" y="20019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 txBox="1"/>
          <p:nvPr/>
        </p:nvSpPr>
        <p:spPr>
          <a:xfrm>
            <a:off x="5086440" y="2206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 txBox="1"/>
          <p:nvPr/>
        </p:nvSpPr>
        <p:spPr>
          <a:xfrm>
            <a:off x="5335560" y="21286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 txBox="1"/>
          <p:nvPr/>
        </p:nvSpPr>
        <p:spPr>
          <a:xfrm>
            <a:off x="5148360" y="239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 txBox="1"/>
          <p:nvPr/>
        </p:nvSpPr>
        <p:spPr>
          <a:xfrm>
            <a:off x="5119560" y="26128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 txBox="1"/>
          <p:nvPr/>
        </p:nvSpPr>
        <p:spPr>
          <a:xfrm>
            <a:off x="5268960" y="277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 txBox="1"/>
          <p:nvPr/>
        </p:nvSpPr>
        <p:spPr>
          <a:xfrm>
            <a:off x="4876920" y="2870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 txBox="1"/>
          <p:nvPr/>
        </p:nvSpPr>
        <p:spPr>
          <a:xfrm>
            <a:off x="5168880" y="3046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"/>
          <p:cNvSpPr txBox="1"/>
          <p:nvPr/>
        </p:nvSpPr>
        <p:spPr>
          <a:xfrm>
            <a:off x="4662360" y="3127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>
            <a:off x="4751280" y="2232000"/>
            <a:ext cx="162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 txBox="1"/>
          <p:nvPr/>
        </p:nvSpPr>
        <p:spPr>
          <a:xfrm>
            <a:off x="4705200" y="22176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5197320" y="81000"/>
            <a:ext cx="386280" cy="437040"/>
          </a:xfrm>
          <a:custGeom>
            <a:avLst/>
            <a:gdLst/>
            <a:ahLst/>
            <a:rect l="0" t="0" r="r" b="b"/>
            <a:pathLst>
              <a:path fill="none" w="1073" h="1214">
                <a:moveTo>
                  <a:pt x="0" y="0"/>
                </a:moveTo>
                <a:lnTo>
                  <a:pt x="22" y="63"/>
                </a:lnTo>
                <a:lnTo>
                  <a:pt x="44" y="127"/>
                </a:lnTo>
                <a:lnTo>
                  <a:pt x="107" y="171"/>
                </a:lnTo>
                <a:lnTo>
                  <a:pt x="171" y="213"/>
                </a:lnTo>
                <a:lnTo>
                  <a:pt x="191" y="277"/>
                </a:lnTo>
                <a:lnTo>
                  <a:pt x="235" y="342"/>
                </a:lnTo>
                <a:lnTo>
                  <a:pt x="255" y="427"/>
                </a:lnTo>
                <a:lnTo>
                  <a:pt x="300" y="491"/>
                </a:lnTo>
                <a:lnTo>
                  <a:pt x="342" y="555"/>
                </a:lnTo>
                <a:lnTo>
                  <a:pt x="405" y="597"/>
                </a:lnTo>
                <a:lnTo>
                  <a:pt x="469" y="619"/>
                </a:lnTo>
                <a:lnTo>
                  <a:pt x="533" y="639"/>
                </a:lnTo>
                <a:lnTo>
                  <a:pt x="597" y="683"/>
                </a:lnTo>
                <a:lnTo>
                  <a:pt x="661" y="725"/>
                </a:lnTo>
                <a:lnTo>
                  <a:pt x="705" y="788"/>
                </a:lnTo>
                <a:lnTo>
                  <a:pt x="724" y="852"/>
                </a:lnTo>
                <a:lnTo>
                  <a:pt x="768" y="917"/>
                </a:lnTo>
                <a:lnTo>
                  <a:pt x="768" y="981"/>
                </a:lnTo>
                <a:lnTo>
                  <a:pt x="811" y="1045"/>
                </a:lnTo>
                <a:lnTo>
                  <a:pt x="875" y="1067"/>
                </a:lnTo>
                <a:lnTo>
                  <a:pt x="939" y="1089"/>
                </a:lnTo>
                <a:lnTo>
                  <a:pt x="1003" y="1131"/>
                </a:lnTo>
                <a:lnTo>
                  <a:pt x="1073" y="1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5175360" y="17136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 txBox="1"/>
          <p:nvPr/>
        </p:nvSpPr>
        <p:spPr>
          <a:xfrm>
            <a:off x="5165640" y="16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9" name=""/>
          <p:cNvGrpSpPr/>
          <p:nvPr/>
        </p:nvGrpSpPr>
        <p:grpSpPr>
          <a:xfrm>
            <a:off x="2854440" y="917640"/>
            <a:ext cx="2941560" cy="0"/>
            <a:chOff x="2854440" y="917640"/>
            <a:chExt cx="2941560" cy="0"/>
          </a:xfrm>
        </p:grpSpPr>
        <p:sp>
          <p:nvSpPr>
            <p:cNvPr id="4240" name=""/>
            <p:cNvSpPr/>
            <p:nvPr/>
          </p:nvSpPr>
          <p:spPr>
            <a:xfrm>
              <a:off x="2854440" y="9176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53052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362268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706920" y="9176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4713120" y="9176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479736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4897440" y="917640"/>
              <a:ext cx="898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7" name=""/>
          <p:cNvGrpSpPr/>
          <p:nvPr/>
        </p:nvGrpSpPr>
        <p:grpSpPr>
          <a:xfrm>
            <a:off x="2854440" y="2154240"/>
            <a:ext cx="2957400" cy="0"/>
            <a:chOff x="2854440" y="2154240"/>
            <a:chExt cx="2957400" cy="0"/>
          </a:xfrm>
        </p:grpSpPr>
        <p:sp>
          <p:nvSpPr>
            <p:cNvPr id="4248" name=""/>
            <p:cNvSpPr/>
            <p:nvPr/>
          </p:nvSpPr>
          <p:spPr>
            <a:xfrm>
              <a:off x="2854440" y="21542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53052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62268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706920" y="21542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4713120" y="21542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479736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4897440" y="2154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5" name=""/>
          <p:cNvGrpSpPr/>
          <p:nvPr/>
        </p:nvGrpSpPr>
        <p:grpSpPr>
          <a:xfrm>
            <a:off x="2854440" y="1554120"/>
            <a:ext cx="2949480" cy="0"/>
            <a:chOff x="2854440" y="1554120"/>
            <a:chExt cx="2949480" cy="0"/>
          </a:xfrm>
        </p:grpSpPr>
        <p:sp>
          <p:nvSpPr>
            <p:cNvPr id="4256" name=""/>
            <p:cNvSpPr/>
            <p:nvPr/>
          </p:nvSpPr>
          <p:spPr>
            <a:xfrm>
              <a:off x="2854440" y="155412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353052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362268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706920" y="155412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4713120" y="155412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479736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4897440" y="1554120"/>
              <a:ext cx="90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3" name=""/>
          <p:cNvSpPr txBox="1"/>
          <p:nvPr/>
        </p:nvSpPr>
        <p:spPr>
          <a:xfrm>
            <a:off x="285444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 txBox="1"/>
          <p:nvPr/>
        </p:nvSpPr>
        <p:spPr>
          <a:xfrm>
            <a:off x="568152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 txBox="1"/>
          <p:nvPr/>
        </p:nvSpPr>
        <p:spPr>
          <a:xfrm>
            <a:off x="285444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 txBox="1"/>
          <p:nvPr/>
        </p:nvSpPr>
        <p:spPr>
          <a:xfrm>
            <a:off x="568152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 txBox="1"/>
          <p:nvPr/>
        </p:nvSpPr>
        <p:spPr>
          <a:xfrm>
            <a:off x="2854440" y="201312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 txBox="1"/>
          <p:nvPr/>
        </p:nvSpPr>
        <p:spPr>
          <a:xfrm>
            <a:off x="5681520" y="202104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2749680" y="47880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2749680" y="49402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>
            <a:off x="2749680" y="509256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>
            <a:off x="2749680" y="52452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2749680" y="53974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 txBox="1"/>
          <p:nvPr/>
        </p:nvSpPr>
        <p:spPr>
          <a:xfrm>
            <a:off x="5637240" y="4664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 txBox="1"/>
          <p:nvPr/>
        </p:nvSpPr>
        <p:spPr>
          <a:xfrm>
            <a:off x="5637240" y="4816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"/>
          <p:cNvSpPr txBox="1"/>
          <p:nvPr/>
        </p:nvSpPr>
        <p:spPr>
          <a:xfrm>
            <a:off x="5637240" y="496872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"/>
          <p:cNvSpPr txBox="1"/>
          <p:nvPr/>
        </p:nvSpPr>
        <p:spPr>
          <a:xfrm>
            <a:off x="5637240" y="5121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 txBox="1"/>
          <p:nvPr/>
        </p:nvSpPr>
        <p:spPr>
          <a:xfrm>
            <a:off x="5637240" y="5273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>
            <a:off x="3067200" y="4695840"/>
            <a:ext cx="2524320" cy="702000"/>
          </a:xfrm>
          <a:custGeom>
            <a:avLst/>
            <a:gdLst/>
            <a:ahLst/>
            <a:rect l="0" t="0" r="r" b="b"/>
            <a:pathLst>
              <a:path w="7012" h="1950">
                <a:moveTo>
                  <a:pt x="0" y="0"/>
                </a:moveTo>
                <a:lnTo>
                  <a:pt x="39" y="52"/>
                </a:lnTo>
                <a:lnTo>
                  <a:pt x="92" y="57"/>
                </a:lnTo>
                <a:lnTo>
                  <a:pt x="132" y="97"/>
                </a:lnTo>
                <a:lnTo>
                  <a:pt x="171" y="110"/>
                </a:lnTo>
                <a:lnTo>
                  <a:pt x="211" y="123"/>
                </a:lnTo>
                <a:lnTo>
                  <a:pt x="251" y="136"/>
                </a:lnTo>
                <a:lnTo>
                  <a:pt x="291" y="123"/>
                </a:lnTo>
                <a:lnTo>
                  <a:pt x="330" y="123"/>
                </a:lnTo>
                <a:lnTo>
                  <a:pt x="370" y="123"/>
                </a:lnTo>
                <a:lnTo>
                  <a:pt x="436" y="149"/>
                </a:lnTo>
                <a:lnTo>
                  <a:pt x="476" y="176"/>
                </a:lnTo>
                <a:lnTo>
                  <a:pt x="515" y="189"/>
                </a:lnTo>
                <a:lnTo>
                  <a:pt x="555" y="202"/>
                </a:lnTo>
                <a:lnTo>
                  <a:pt x="621" y="202"/>
                </a:lnTo>
                <a:lnTo>
                  <a:pt x="661" y="216"/>
                </a:lnTo>
                <a:lnTo>
                  <a:pt x="701" y="229"/>
                </a:lnTo>
                <a:lnTo>
                  <a:pt x="767" y="282"/>
                </a:lnTo>
                <a:lnTo>
                  <a:pt x="806" y="321"/>
                </a:lnTo>
                <a:lnTo>
                  <a:pt x="846" y="361"/>
                </a:lnTo>
                <a:lnTo>
                  <a:pt x="899" y="388"/>
                </a:lnTo>
                <a:lnTo>
                  <a:pt x="939" y="401"/>
                </a:lnTo>
                <a:lnTo>
                  <a:pt x="992" y="414"/>
                </a:lnTo>
                <a:lnTo>
                  <a:pt x="1150" y="427"/>
                </a:lnTo>
                <a:lnTo>
                  <a:pt x="1203" y="440"/>
                </a:lnTo>
                <a:lnTo>
                  <a:pt x="1243" y="467"/>
                </a:lnTo>
                <a:lnTo>
                  <a:pt x="1283" y="480"/>
                </a:lnTo>
                <a:lnTo>
                  <a:pt x="1322" y="493"/>
                </a:lnTo>
                <a:lnTo>
                  <a:pt x="1362" y="507"/>
                </a:lnTo>
                <a:lnTo>
                  <a:pt x="1415" y="533"/>
                </a:lnTo>
                <a:lnTo>
                  <a:pt x="1468" y="573"/>
                </a:lnTo>
                <a:lnTo>
                  <a:pt x="1521" y="586"/>
                </a:lnTo>
                <a:lnTo>
                  <a:pt x="1561" y="599"/>
                </a:lnTo>
                <a:lnTo>
                  <a:pt x="1613" y="599"/>
                </a:lnTo>
                <a:lnTo>
                  <a:pt x="1653" y="612"/>
                </a:lnTo>
                <a:lnTo>
                  <a:pt x="1693" y="639"/>
                </a:lnTo>
                <a:lnTo>
                  <a:pt x="1733" y="652"/>
                </a:lnTo>
                <a:lnTo>
                  <a:pt x="1772" y="679"/>
                </a:lnTo>
                <a:lnTo>
                  <a:pt x="1812" y="692"/>
                </a:lnTo>
                <a:lnTo>
                  <a:pt x="1838" y="732"/>
                </a:lnTo>
                <a:lnTo>
                  <a:pt x="1878" y="758"/>
                </a:lnTo>
                <a:lnTo>
                  <a:pt x="1918" y="784"/>
                </a:lnTo>
                <a:lnTo>
                  <a:pt x="1957" y="811"/>
                </a:lnTo>
                <a:lnTo>
                  <a:pt x="2024" y="851"/>
                </a:lnTo>
                <a:lnTo>
                  <a:pt x="2037" y="890"/>
                </a:lnTo>
                <a:lnTo>
                  <a:pt x="2063" y="930"/>
                </a:lnTo>
                <a:lnTo>
                  <a:pt x="2103" y="956"/>
                </a:lnTo>
                <a:lnTo>
                  <a:pt x="2143" y="984"/>
                </a:lnTo>
                <a:lnTo>
                  <a:pt x="2182" y="1024"/>
                </a:lnTo>
                <a:lnTo>
                  <a:pt x="2235" y="1050"/>
                </a:lnTo>
                <a:lnTo>
                  <a:pt x="2275" y="1076"/>
                </a:lnTo>
                <a:lnTo>
                  <a:pt x="2288" y="1129"/>
                </a:lnTo>
                <a:lnTo>
                  <a:pt x="2301" y="1169"/>
                </a:lnTo>
                <a:lnTo>
                  <a:pt x="2328" y="1209"/>
                </a:lnTo>
                <a:lnTo>
                  <a:pt x="2368" y="1222"/>
                </a:lnTo>
                <a:lnTo>
                  <a:pt x="2407" y="1235"/>
                </a:lnTo>
                <a:lnTo>
                  <a:pt x="2447" y="1248"/>
                </a:lnTo>
                <a:lnTo>
                  <a:pt x="2500" y="1262"/>
                </a:lnTo>
                <a:lnTo>
                  <a:pt x="2540" y="1315"/>
                </a:lnTo>
                <a:lnTo>
                  <a:pt x="2592" y="1341"/>
                </a:lnTo>
                <a:lnTo>
                  <a:pt x="2632" y="1368"/>
                </a:lnTo>
                <a:lnTo>
                  <a:pt x="2685" y="1381"/>
                </a:lnTo>
                <a:lnTo>
                  <a:pt x="2725" y="1394"/>
                </a:lnTo>
                <a:lnTo>
                  <a:pt x="2764" y="1420"/>
                </a:lnTo>
                <a:lnTo>
                  <a:pt x="2831" y="1447"/>
                </a:lnTo>
                <a:lnTo>
                  <a:pt x="2883" y="1460"/>
                </a:lnTo>
                <a:lnTo>
                  <a:pt x="2923" y="1473"/>
                </a:lnTo>
                <a:lnTo>
                  <a:pt x="2963" y="1487"/>
                </a:lnTo>
                <a:lnTo>
                  <a:pt x="3003" y="1500"/>
                </a:lnTo>
                <a:lnTo>
                  <a:pt x="3055" y="1500"/>
                </a:lnTo>
                <a:lnTo>
                  <a:pt x="3095" y="1513"/>
                </a:lnTo>
                <a:lnTo>
                  <a:pt x="3135" y="1513"/>
                </a:lnTo>
                <a:lnTo>
                  <a:pt x="3175" y="1526"/>
                </a:lnTo>
                <a:lnTo>
                  <a:pt x="3214" y="1539"/>
                </a:lnTo>
                <a:lnTo>
                  <a:pt x="3254" y="1553"/>
                </a:lnTo>
                <a:lnTo>
                  <a:pt x="3280" y="1592"/>
                </a:lnTo>
                <a:lnTo>
                  <a:pt x="3294" y="1632"/>
                </a:lnTo>
                <a:lnTo>
                  <a:pt x="3320" y="1672"/>
                </a:lnTo>
                <a:lnTo>
                  <a:pt x="3333" y="1711"/>
                </a:lnTo>
                <a:lnTo>
                  <a:pt x="3373" y="1751"/>
                </a:lnTo>
                <a:lnTo>
                  <a:pt x="3386" y="1791"/>
                </a:lnTo>
                <a:lnTo>
                  <a:pt x="3399" y="1831"/>
                </a:lnTo>
                <a:lnTo>
                  <a:pt x="3426" y="1870"/>
                </a:lnTo>
                <a:lnTo>
                  <a:pt x="3466" y="1897"/>
                </a:lnTo>
                <a:lnTo>
                  <a:pt x="3505" y="1936"/>
                </a:lnTo>
                <a:lnTo>
                  <a:pt x="3546" y="1950"/>
                </a:lnTo>
                <a:lnTo>
                  <a:pt x="3586" y="1950"/>
                </a:lnTo>
                <a:lnTo>
                  <a:pt x="3625" y="1923"/>
                </a:lnTo>
                <a:lnTo>
                  <a:pt x="3639" y="1883"/>
                </a:lnTo>
                <a:lnTo>
                  <a:pt x="3665" y="1844"/>
                </a:lnTo>
                <a:lnTo>
                  <a:pt x="3691" y="1804"/>
                </a:lnTo>
                <a:lnTo>
                  <a:pt x="3718" y="1764"/>
                </a:lnTo>
                <a:lnTo>
                  <a:pt x="3758" y="1738"/>
                </a:lnTo>
                <a:lnTo>
                  <a:pt x="3797" y="1698"/>
                </a:lnTo>
                <a:lnTo>
                  <a:pt x="3824" y="1659"/>
                </a:lnTo>
                <a:lnTo>
                  <a:pt x="3824" y="1619"/>
                </a:lnTo>
                <a:lnTo>
                  <a:pt x="3850" y="1579"/>
                </a:lnTo>
                <a:lnTo>
                  <a:pt x="3877" y="1539"/>
                </a:lnTo>
                <a:lnTo>
                  <a:pt x="3903" y="1500"/>
                </a:lnTo>
                <a:lnTo>
                  <a:pt x="3930" y="1460"/>
                </a:lnTo>
                <a:lnTo>
                  <a:pt x="3956" y="1420"/>
                </a:lnTo>
                <a:lnTo>
                  <a:pt x="3996" y="1368"/>
                </a:lnTo>
                <a:lnTo>
                  <a:pt x="4022" y="1328"/>
                </a:lnTo>
                <a:lnTo>
                  <a:pt x="4062" y="1288"/>
                </a:lnTo>
                <a:lnTo>
                  <a:pt x="4088" y="1248"/>
                </a:lnTo>
                <a:lnTo>
                  <a:pt x="4128" y="1222"/>
                </a:lnTo>
                <a:lnTo>
                  <a:pt x="4168" y="1182"/>
                </a:lnTo>
                <a:lnTo>
                  <a:pt x="4194" y="1143"/>
                </a:lnTo>
                <a:lnTo>
                  <a:pt x="4234" y="1116"/>
                </a:lnTo>
                <a:lnTo>
                  <a:pt x="4274" y="1076"/>
                </a:lnTo>
                <a:lnTo>
                  <a:pt x="4313" y="1050"/>
                </a:lnTo>
                <a:lnTo>
                  <a:pt x="4353" y="1024"/>
                </a:lnTo>
                <a:lnTo>
                  <a:pt x="4393" y="1010"/>
                </a:lnTo>
                <a:lnTo>
                  <a:pt x="4432" y="984"/>
                </a:lnTo>
                <a:lnTo>
                  <a:pt x="4472" y="970"/>
                </a:lnTo>
                <a:lnTo>
                  <a:pt x="4512" y="943"/>
                </a:lnTo>
                <a:lnTo>
                  <a:pt x="4551" y="943"/>
                </a:lnTo>
                <a:lnTo>
                  <a:pt x="4591" y="943"/>
                </a:lnTo>
                <a:lnTo>
                  <a:pt x="4631" y="943"/>
                </a:lnTo>
                <a:lnTo>
                  <a:pt x="4670" y="943"/>
                </a:lnTo>
                <a:lnTo>
                  <a:pt x="4710" y="930"/>
                </a:lnTo>
                <a:lnTo>
                  <a:pt x="4750" y="917"/>
                </a:lnTo>
                <a:lnTo>
                  <a:pt x="4803" y="903"/>
                </a:lnTo>
                <a:lnTo>
                  <a:pt x="4842" y="890"/>
                </a:lnTo>
                <a:lnTo>
                  <a:pt x="4882" y="877"/>
                </a:lnTo>
                <a:lnTo>
                  <a:pt x="4922" y="877"/>
                </a:lnTo>
                <a:lnTo>
                  <a:pt x="4961" y="864"/>
                </a:lnTo>
                <a:lnTo>
                  <a:pt x="5001" y="851"/>
                </a:lnTo>
                <a:lnTo>
                  <a:pt x="5041" y="837"/>
                </a:lnTo>
                <a:lnTo>
                  <a:pt x="5081" y="837"/>
                </a:lnTo>
                <a:lnTo>
                  <a:pt x="5147" y="837"/>
                </a:lnTo>
                <a:lnTo>
                  <a:pt x="5186" y="837"/>
                </a:lnTo>
                <a:lnTo>
                  <a:pt x="5226" y="824"/>
                </a:lnTo>
                <a:lnTo>
                  <a:pt x="5279" y="811"/>
                </a:lnTo>
                <a:lnTo>
                  <a:pt x="5319" y="811"/>
                </a:lnTo>
                <a:lnTo>
                  <a:pt x="5385" y="798"/>
                </a:lnTo>
                <a:lnTo>
                  <a:pt x="5424" y="784"/>
                </a:lnTo>
                <a:lnTo>
                  <a:pt x="5477" y="771"/>
                </a:lnTo>
                <a:lnTo>
                  <a:pt x="5530" y="771"/>
                </a:lnTo>
                <a:lnTo>
                  <a:pt x="5570" y="758"/>
                </a:lnTo>
                <a:lnTo>
                  <a:pt x="5610" y="758"/>
                </a:lnTo>
                <a:lnTo>
                  <a:pt x="5649" y="758"/>
                </a:lnTo>
                <a:lnTo>
                  <a:pt x="5689" y="745"/>
                </a:lnTo>
                <a:lnTo>
                  <a:pt x="5729" y="718"/>
                </a:lnTo>
                <a:lnTo>
                  <a:pt x="5755" y="679"/>
                </a:lnTo>
                <a:lnTo>
                  <a:pt x="5795" y="679"/>
                </a:lnTo>
                <a:lnTo>
                  <a:pt x="5848" y="679"/>
                </a:lnTo>
                <a:lnTo>
                  <a:pt x="5887" y="679"/>
                </a:lnTo>
                <a:lnTo>
                  <a:pt x="5940" y="665"/>
                </a:lnTo>
                <a:lnTo>
                  <a:pt x="5993" y="652"/>
                </a:lnTo>
                <a:lnTo>
                  <a:pt x="6046" y="639"/>
                </a:lnTo>
                <a:lnTo>
                  <a:pt x="6086" y="626"/>
                </a:lnTo>
                <a:lnTo>
                  <a:pt x="6152" y="599"/>
                </a:lnTo>
                <a:lnTo>
                  <a:pt x="6192" y="586"/>
                </a:lnTo>
                <a:lnTo>
                  <a:pt x="6231" y="573"/>
                </a:lnTo>
                <a:lnTo>
                  <a:pt x="6271" y="546"/>
                </a:lnTo>
                <a:lnTo>
                  <a:pt x="6311" y="533"/>
                </a:lnTo>
                <a:lnTo>
                  <a:pt x="6351" y="533"/>
                </a:lnTo>
                <a:lnTo>
                  <a:pt x="6390" y="533"/>
                </a:lnTo>
                <a:lnTo>
                  <a:pt x="6443" y="533"/>
                </a:lnTo>
                <a:lnTo>
                  <a:pt x="6496" y="533"/>
                </a:lnTo>
                <a:lnTo>
                  <a:pt x="6536" y="533"/>
                </a:lnTo>
                <a:lnTo>
                  <a:pt x="6575" y="533"/>
                </a:lnTo>
                <a:lnTo>
                  <a:pt x="6734" y="507"/>
                </a:lnTo>
                <a:lnTo>
                  <a:pt x="6774" y="507"/>
                </a:lnTo>
                <a:lnTo>
                  <a:pt x="6827" y="480"/>
                </a:lnTo>
                <a:lnTo>
                  <a:pt x="6906" y="454"/>
                </a:lnTo>
                <a:lnTo>
                  <a:pt x="6946" y="454"/>
                </a:lnTo>
                <a:lnTo>
                  <a:pt x="6986" y="440"/>
                </a:lnTo>
                <a:lnTo>
                  <a:pt x="6999" y="436"/>
                </a:lnTo>
                <a:lnTo>
                  <a:pt x="6986" y="427"/>
                </a:lnTo>
                <a:lnTo>
                  <a:pt x="7012" y="427"/>
                </a:lnTo>
                <a:lnTo>
                  <a:pt x="7012" y="1950"/>
                </a:lnTo>
                <a:lnTo>
                  <a:pt x="0" y="1950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"/>
          <p:cNvSpPr txBox="1"/>
          <p:nvPr/>
        </p:nvSpPr>
        <p:spPr>
          <a:xfrm>
            <a:off x="3813120" y="5381640"/>
            <a:ext cx="1027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B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"/>
          <p:cNvSpPr txBox="1"/>
          <p:nvPr/>
        </p:nvSpPr>
        <p:spPr>
          <a:xfrm>
            <a:off x="1325520" y="3510000"/>
            <a:ext cx="65502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d Section B - 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"/>
          <p:cNvSpPr/>
          <p:nvPr/>
        </p:nvSpPr>
        <p:spPr>
          <a:xfrm>
            <a:off x="3071880" y="77760"/>
            <a:ext cx="2514600" cy="3200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3075120" y="82440"/>
            <a:ext cx="390960" cy="340200"/>
          </a:xfrm>
          <a:custGeom>
            <a:avLst/>
            <a:gdLst/>
            <a:ahLst/>
            <a:rect l="0" t="0" r="r" b="b"/>
            <a:pathLst>
              <a:path fill="none" w="1086" h="945">
                <a:moveTo>
                  <a:pt x="1086" y="0"/>
                </a:moveTo>
                <a:lnTo>
                  <a:pt x="1086" y="70"/>
                </a:lnTo>
                <a:lnTo>
                  <a:pt x="1064" y="140"/>
                </a:lnTo>
                <a:lnTo>
                  <a:pt x="1018" y="233"/>
                </a:lnTo>
                <a:lnTo>
                  <a:pt x="971" y="348"/>
                </a:lnTo>
                <a:lnTo>
                  <a:pt x="947" y="440"/>
                </a:lnTo>
                <a:lnTo>
                  <a:pt x="876" y="489"/>
                </a:lnTo>
                <a:lnTo>
                  <a:pt x="783" y="489"/>
                </a:lnTo>
                <a:lnTo>
                  <a:pt x="690" y="557"/>
                </a:lnTo>
                <a:lnTo>
                  <a:pt x="597" y="581"/>
                </a:lnTo>
                <a:lnTo>
                  <a:pt x="504" y="649"/>
                </a:lnTo>
                <a:lnTo>
                  <a:pt x="458" y="721"/>
                </a:lnTo>
                <a:lnTo>
                  <a:pt x="387" y="743"/>
                </a:lnTo>
                <a:lnTo>
                  <a:pt x="294" y="767"/>
                </a:lnTo>
                <a:lnTo>
                  <a:pt x="201" y="835"/>
                </a:lnTo>
                <a:lnTo>
                  <a:pt x="132" y="906"/>
                </a:lnTo>
                <a:lnTo>
                  <a:pt x="61" y="930"/>
                </a:lnTo>
                <a:lnTo>
                  <a:pt x="0" y="9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3071880" y="82440"/>
            <a:ext cx="568800" cy="2595960"/>
          </a:xfrm>
          <a:custGeom>
            <a:avLst/>
            <a:gdLst/>
            <a:ahLst/>
            <a:rect l="0" t="0" r="r" b="b"/>
            <a:pathLst>
              <a:path fill="none" w="1580" h="7211">
                <a:moveTo>
                  <a:pt x="1571" y="0"/>
                </a:moveTo>
                <a:lnTo>
                  <a:pt x="1580" y="46"/>
                </a:lnTo>
                <a:lnTo>
                  <a:pt x="1558" y="138"/>
                </a:lnTo>
                <a:lnTo>
                  <a:pt x="1558" y="231"/>
                </a:lnTo>
                <a:lnTo>
                  <a:pt x="1558" y="324"/>
                </a:lnTo>
                <a:lnTo>
                  <a:pt x="1488" y="416"/>
                </a:lnTo>
                <a:lnTo>
                  <a:pt x="1441" y="487"/>
                </a:lnTo>
                <a:lnTo>
                  <a:pt x="1371" y="555"/>
                </a:lnTo>
                <a:lnTo>
                  <a:pt x="1278" y="648"/>
                </a:lnTo>
                <a:lnTo>
                  <a:pt x="1256" y="718"/>
                </a:lnTo>
                <a:lnTo>
                  <a:pt x="1210" y="811"/>
                </a:lnTo>
                <a:lnTo>
                  <a:pt x="1162" y="903"/>
                </a:lnTo>
                <a:lnTo>
                  <a:pt x="1116" y="996"/>
                </a:lnTo>
                <a:lnTo>
                  <a:pt x="1070" y="1067"/>
                </a:lnTo>
                <a:lnTo>
                  <a:pt x="999" y="1135"/>
                </a:lnTo>
                <a:lnTo>
                  <a:pt x="977" y="1206"/>
                </a:lnTo>
                <a:lnTo>
                  <a:pt x="907" y="1252"/>
                </a:lnTo>
                <a:lnTo>
                  <a:pt x="860" y="1344"/>
                </a:lnTo>
                <a:lnTo>
                  <a:pt x="790" y="1415"/>
                </a:lnTo>
                <a:lnTo>
                  <a:pt x="697" y="1483"/>
                </a:lnTo>
                <a:lnTo>
                  <a:pt x="651" y="1554"/>
                </a:lnTo>
                <a:lnTo>
                  <a:pt x="605" y="1647"/>
                </a:lnTo>
                <a:lnTo>
                  <a:pt x="536" y="1739"/>
                </a:lnTo>
                <a:lnTo>
                  <a:pt x="488" y="1811"/>
                </a:lnTo>
                <a:lnTo>
                  <a:pt x="394" y="1879"/>
                </a:lnTo>
                <a:lnTo>
                  <a:pt x="326" y="1950"/>
                </a:lnTo>
                <a:lnTo>
                  <a:pt x="255" y="1972"/>
                </a:lnTo>
                <a:lnTo>
                  <a:pt x="187" y="2042"/>
                </a:lnTo>
                <a:lnTo>
                  <a:pt x="116" y="2089"/>
                </a:lnTo>
                <a:lnTo>
                  <a:pt x="70" y="2181"/>
                </a:lnTo>
                <a:lnTo>
                  <a:pt x="24" y="2252"/>
                </a:lnTo>
                <a:lnTo>
                  <a:pt x="0" y="2344"/>
                </a:lnTo>
                <a:lnTo>
                  <a:pt x="46" y="2437"/>
                </a:lnTo>
                <a:lnTo>
                  <a:pt x="94" y="2529"/>
                </a:lnTo>
                <a:lnTo>
                  <a:pt x="116" y="2644"/>
                </a:lnTo>
                <a:lnTo>
                  <a:pt x="141" y="2715"/>
                </a:lnTo>
                <a:lnTo>
                  <a:pt x="163" y="2807"/>
                </a:lnTo>
                <a:lnTo>
                  <a:pt x="209" y="2878"/>
                </a:lnTo>
                <a:lnTo>
                  <a:pt x="255" y="2992"/>
                </a:lnTo>
                <a:lnTo>
                  <a:pt x="326" y="3063"/>
                </a:lnTo>
                <a:lnTo>
                  <a:pt x="372" y="3134"/>
                </a:lnTo>
                <a:lnTo>
                  <a:pt x="419" y="3226"/>
                </a:lnTo>
                <a:lnTo>
                  <a:pt x="466" y="3319"/>
                </a:lnTo>
                <a:lnTo>
                  <a:pt x="536" y="3411"/>
                </a:lnTo>
                <a:lnTo>
                  <a:pt x="583" y="3504"/>
                </a:lnTo>
                <a:lnTo>
                  <a:pt x="605" y="3575"/>
                </a:lnTo>
                <a:lnTo>
                  <a:pt x="651" y="3667"/>
                </a:lnTo>
                <a:lnTo>
                  <a:pt x="651" y="3760"/>
                </a:lnTo>
                <a:lnTo>
                  <a:pt x="651" y="3852"/>
                </a:lnTo>
                <a:lnTo>
                  <a:pt x="651" y="3967"/>
                </a:lnTo>
                <a:lnTo>
                  <a:pt x="675" y="4062"/>
                </a:lnTo>
                <a:lnTo>
                  <a:pt x="697" y="4154"/>
                </a:lnTo>
                <a:lnTo>
                  <a:pt x="768" y="4247"/>
                </a:lnTo>
                <a:lnTo>
                  <a:pt x="836" y="4362"/>
                </a:lnTo>
                <a:lnTo>
                  <a:pt x="882" y="4432"/>
                </a:lnTo>
                <a:lnTo>
                  <a:pt x="907" y="4503"/>
                </a:lnTo>
                <a:lnTo>
                  <a:pt x="977" y="4617"/>
                </a:lnTo>
                <a:lnTo>
                  <a:pt x="1024" y="4688"/>
                </a:lnTo>
                <a:lnTo>
                  <a:pt x="1116" y="4781"/>
                </a:lnTo>
                <a:lnTo>
                  <a:pt x="1162" y="4873"/>
                </a:lnTo>
                <a:lnTo>
                  <a:pt x="1210" y="4944"/>
                </a:lnTo>
                <a:lnTo>
                  <a:pt x="1232" y="5036"/>
                </a:lnTo>
                <a:lnTo>
                  <a:pt x="1278" y="5129"/>
                </a:lnTo>
                <a:lnTo>
                  <a:pt x="1302" y="5222"/>
                </a:lnTo>
                <a:lnTo>
                  <a:pt x="1302" y="5314"/>
                </a:lnTo>
                <a:lnTo>
                  <a:pt x="1302" y="5385"/>
                </a:lnTo>
                <a:lnTo>
                  <a:pt x="1324" y="5547"/>
                </a:lnTo>
                <a:lnTo>
                  <a:pt x="1349" y="5617"/>
                </a:lnTo>
                <a:lnTo>
                  <a:pt x="1349" y="5732"/>
                </a:lnTo>
                <a:lnTo>
                  <a:pt x="1324" y="5849"/>
                </a:lnTo>
                <a:lnTo>
                  <a:pt x="1324" y="5919"/>
                </a:lnTo>
                <a:lnTo>
                  <a:pt x="1302" y="6012"/>
                </a:lnTo>
                <a:lnTo>
                  <a:pt x="1232" y="6080"/>
                </a:lnTo>
                <a:lnTo>
                  <a:pt x="1210" y="6151"/>
                </a:lnTo>
                <a:lnTo>
                  <a:pt x="1138" y="6221"/>
                </a:lnTo>
                <a:lnTo>
                  <a:pt x="1070" y="6314"/>
                </a:lnTo>
                <a:lnTo>
                  <a:pt x="999" y="6382"/>
                </a:lnTo>
                <a:lnTo>
                  <a:pt x="953" y="6453"/>
                </a:lnTo>
                <a:lnTo>
                  <a:pt x="882" y="6568"/>
                </a:lnTo>
                <a:lnTo>
                  <a:pt x="836" y="6638"/>
                </a:lnTo>
                <a:lnTo>
                  <a:pt x="814" y="6709"/>
                </a:lnTo>
                <a:lnTo>
                  <a:pt x="814" y="6801"/>
                </a:lnTo>
                <a:lnTo>
                  <a:pt x="790" y="6894"/>
                </a:lnTo>
                <a:lnTo>
                  <a:pt x="697" y="6940"/>
                </a:lnTo>
                <a:lnTo>
                  <a:pt x="605" y="7009"/>
                </a:lnTo>
                <a:lnTo>
                  <a:pt x="536" y="7079"/>
                </a:lnTo>
                <a:lnTo>
                  <a:pt x="466" y="7079"/>
                </a:lnTo>
                <a:lnTo>
                  <a:pt x="372" y="7079"/>
                </a:lnTo>
                <a:lnTo>
                  <a:pt x="302" y="7079"/>
                </a:lnTo>
                <a:lnTo>
                  <a:pt x="209" y="7125"/>
                </a:lnTo>
                <a:lnTo>
                  <a:pt x="141" y="7196"/>
                </a:lnTo>
                <a:lnTo>
                  <a:pt x="6" y="721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>
            <a:off x="3081240" y="82440"/>
            <a:ext cx="776520" cy="2916720"/>
          </a:xfrm>
          <a:custGeom>
            <a:avLst/>
            <a:gdLst/>
            <a:ahLst/>
            <a:rect l="0" t="0" r="r" b="b"/>
            <a:pathLst>
              <a:path fill="none" w="2157" h="8102">
                <a:moveTo>
                  <a:pt x="2157" y="0"/>
                </a:moveTo>
                <a:lnTo>
                  <a:pt x="2157" y="94"/>
                </a:lnTo>
                <a:lnTo>
                  <a:pt x="2157" y="187"/>
                </a:lnTo>
                <a:lnTo>
                  <a:pt x="2157" y="302"/>
                </a:lnTo>
                <a:lnTo>
                  <a:pt x="2133" y="372"/>
                </a:lnTo>
                <a:lnTo>
                  <a:pt x="2086" y="465"/>
                </a:lnTo>
                <a:lnTo>
                  <a:pt x="2040" y="535"/>
                </a:lnTo>
                <a:lnTo>
                  <a:pt x="1972" y="628"/>
                </a:lnTo>
                <a:lnTo>
                  <a:pt x="1926" y="720"/>
                </a:lnTo>
                <a:lnTo>
                  <a:pt x="1879" y="813"/>
                </a:lnTo>
                <a:lnTo>
                  <a:pt x="1809" y="906"/>
                </a:lnTo>
                <a:lnTo>
                  <a:pt x="1785" y="976"/>
                </a:lnTo>
                <a:lnTo>
                  <a:pt x="1716" y="1069"/>
                </a:lnTo>
                <a:lnTo>
                  <a:pt x="1646" y="1137"/>
                </a:lnTo>
                <a:lnTo>
                  <a:pt x="1600" y="1208"/>
                </a:lnTo>
                <a:lnTo>
                  <a:pt x="1507" y="1300"/>
                </a:lnTo>
                <a:lnTo>
                  <a:pt x="1461" y="1371"/>
                </a:lnTo>
                <a:lnTo>
                  <a:pt x="1415" y="1464"/>
                </a:lnTo>
                <a:lnTo>
                  <a:pt x="1368" y="1556"/>
                </a:lnTo>
                <a:lnTo>
                  <a:pt x="1344" y="1649"/>
                </a:lnTo>
                <a:lnTo>
                  <a:pt x="1276" y="1741"/>
                </a:lnTo>
                <a:lnTo>
                  <a:pt x="1252" y="1812"/>
                </a:lnTo>
                <a:lnTo>
                  <a:pt x="1183" y="1905"/>
                </a:lnTo>
                <a:lnTo>
                  <a:pt x="1137" y="1997"/>
                </a:lnTo>
                <a:lnTo>
                  <a:pt x="1091" y="2113"/>
                </a:lnTo>
                <a:lnTo>
                  <a:pt x="1091" y="2183"/>
                </a:lnTo>
                <a:lnTo>
                  <a:pt x="1091" y="2254"/>
                </a:lnTo>
                <a:lnTo>
                  <a:pt x="1091" y="2346"/>
                </a:lnTo>
                <a:lnTo>
                  <a:pt x="1044" y="2439"/>
                </a:lnTo>
                <a:lnTo>
                  <a:pt x="1019" y="2554"/>
                </a:lnTo>
                <a:lnTo>
                  <a:pt x="1066" y="2646"/>
                </a:lnTo>
                <a:lnTo>
                  <a:pt x="1113" y="2741"/>
                </a:lnTo>
                <a:lnTo>
                  <a:pt x="1159" y="2834"/>
                </a:lnTo>
                <a:lnTo>
                  <a:pt x="1183" y="2926"/>
                </a:lnTo>
                <a:lnTo>
                  <a:pt x="1252" y="3019"/>
                </a:lnTo>
                <a:lnTo>
                  <a:pt x="1298" y="3136"/>
                </a:lnTo>
                <a:lnTo>
                  <a:pt x="1368" y="3228"/>
                </a:lnTo>
                <a:lnTo>
                  <a:pt x="1439" y="3297"/>
                </a:lnTo>
                <a:lnTo>
                  <a:pt x="1485" y="3389"/>
                </a:lnTo>
                <a:lnTo>
                  <a:pt x="1531" y="3460"/>
                </a:lnTo>
                <a:lnTo>
                  <a:pt x="1578" y="3577"/>
                </a:lnTo>
                <a:lnTo>
                  <a:pt x="1646" y="3716"/>
                </a:lnTo>
                <a:lnTo>
                  <a:pt x="1716" y="3808"/>
                </a:lnTo>
                <a:lnTo>
                  <a:pt x="1738" y="3901"/>
                </a:lnTo>
                <a:lnTo>
                  <a:pt x="1763" y="3994"/>
                </a:lnTo>
                <a:lnTo>
                  <a:pt x="1763" y="4064"/>
                </a:lnTo>
                <a:lnTo>
                  <a:pt x="1785" y="4157"/>
                </a:lnTo>
                <a:lnTo>
                  <a:pt x="1833" y="4249"/>
                </a:lnTo>
                <a:lnTo>
                  <a:pt x="1926" y="4364"/>
                </a:lnTo>
                <a:lnTo>
                  <a:pt x="1926" y="4434"/>
                </a:lnTo>
                <a:lnTo>
                  <a:pt x="1948" y="4505"/>
                </a:lnTo>
                <a:lnTo>
                  <a:pt x="1972" y="4598"/>
                </a:lnTo>
                <a:lnTo>
                  <a:pt x="1972" y="4690"/>
                </a:lnTo>
                <a:lnTo>
                  <a:pt x="1948" y="4783"/>
                </a:lnTo>
                <a:lnTo>
                  <a:pt x="1926" y="4875"/>
                </a:lnTo>
                <a:lnTo>
                  <a:pt x="1926" y="4946"/>
                </a:lnTo>
                <a:lnTo>
                  <a:pt x="1901" y="5039"/>
                </a:lnTo>
                <a:lnTo>
                  <a:pt x="1879" y="5153"/>
                </a:lnTo>
                <a:lnTo>
                  <a:pt x="1901" y="5246"/>
                </a:lnTo>
                <a:lnTo>
                  <a:pt x="1901" y="5316"/>
                </a:lnTo>
                <a:lnTo>
                  <a:pt x="1901" y="5387"/>
                </a:lnTo>
                <a:lnTo>
                  <a:pt x="1901" y="5480"/>
                </a:lnTo>
                <a:lnTo>
                  <a:pt x="1879" y="5572"/>
                </a:lnTo>
                <a:lnTo>
                  <a:pt x="1855" y="5665"/>
                </a:lnTo>
                <a:lnTo>
                  <a:pt x="1833" y="5757"/>
                </a:lnTo>
                <a:lnTo>
                  <a:pt x="1809" y="5850"/>
                </a:lnTo>
                <a:lnTo>
                  <a:pt x="1785" y="5943"/>
                </a:lnTo>
                <a:lnTo>
                  <a:pt x="1763" y="6013"/>
                </a:lnTo>
                <a:lnTo>
                  <a:pt x="1738" y="6107"/>
                </a:lnTo>
                <a:lnTo>
                  <a:pt x="1716" y="6199"/>
                </a:lnTo>
                <a:lnTo>
                  <a:pt x="1692" y="6292"/>
                </a:lnTo>
                <a:lnTo>
                  <a:pt x="1692" y="6363"/>
                </a:lnTo>
                <a:lnTo>
                  <a:pt x="1624" y="6523"/>
                </a:lnTo>
                <a:lnTo>
                  <a:pt x="1600" y="6594"/>
                </a:lnTo>
                <a:lnTo>
                  <a:pt x="1553" y="6711"/>
                </a:lnTo>
                <a:lnTo>
                  <a:pt x="1507" y="6803"/>
                </a:lnTo>
                <a:lnTo>
                  <a:pt x="1461" y="6918"/>
                </a:lnTo>
                <a:lnTo>
                  <a:pt x="1393" y="7035"/>
                </a:lnTo>
                <a:lnTo>
                  <a:pt x="1322" y="7267"/>
                </a:lnTo>
                <a:lnTo>
                  <a:pt x="1298" y="7337"/>
                </a:lnTo>
                <a:lnTo>
                  <a:pt x="1183" y="7405"/>
                </a:lnTo>
                <a:lnTo>
                  <a:pt x="1113" y="7452"/>
                </a:lnTo>
                <a:lnTo>
                  <a:pt x="1019" y="7522"/>
                </a:lnTo>
                <a:lnTo>
                  <a:pt x="788" y="7593"/>
                </a:lnTo>
                <a:lnTo>
                  <a:pt x="696" y="7639"/>
                </a:lnTo>
                <a:lnTo>
                  <a:pt x="603" y="7661"/>
                </a:lnTo>
                <a:lnTo>
                  <a:pt x="462" y="7707"/>
                </a:lnTo>
                <a:lnTo>
                  <a:pt x="370" y="7754"/>
                </a:lnTo>
                <a:lnTo>
                  <a:pt x="277" y="7824"/>
                </a:lnTo>
                <a:lnTo>
                  <a:pt x="209" y="7917"/>
                </a:lnTo>
                <a:lnTo>
                  <a:pt x="138" y="7963"/>
                </a:lnTo>
                <a:lnTo>
                  <a:pt x="46" y="8010"/>
                </a:lnTo>
                <a:lnTo>
                  <a:pt x="0" y="81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>
            <a:off x="3075120" y="358920"/>
            <a:ext cx="1010160" cy="2832480"/>
          </a:xfrm>
          <a:custGeom>
            <a:avLst/>
            <a:gdLst/>
            <a:ahLst/>
            <a:rect l="0" t="0" r="r" b="b"/>
            <a:pathLst>
              <a:path fill="none" w="2806" h="7868">
                <a:moveTo>
                  <a:pt x="2806" y="0"/>
                </a:moveTo>
                <a:lnTo>
                  <a:pt x="2729" y="141"/>
                </a:lnTo>
                <a:lnTo>
                  <a:pt x="2689" y="185"/>
                </a:lnTo>
                <a:lnTo>
                  <a:pt x="2663" y="218"/>
                </a:lnTo>
                <a:lnTo>
                  <a:pt x="2647" y="271"/>
                </a:lnTo>
                <a:lnTo>
                  <a:pt x="2636" y="313"/>
                </a:lnTo>
                <a:lnTo>
                  <a:pt x="2614" y="352"/>
                </a:lnTo>
                <a:lnTo>
                  <a:pt x="2601" y="399"/>
                </a:lnTo>
                <a:lnTo>
                  <a:pt x="2581" y="432"/>
                </a:lnTo>
                <a:lnTo>
                  <a:pt x="2555" y="463"/>
                </a:lnTo>
                <a:lnTo>
                  <a:pt x="2495" y="515"/>
                </a:lnTo>
                <a:lnTo>
                  <a:pt x="2431" y="582"/>
                </a:lnTo>
                <a:lnTo>
                  <a:pt x="2398" y="637"/>
                </a:lnTo>
                <a:lnTo>
                  <a:pt x="2389" y="674"/>
                </a:lnTo>
                <a:lnTo>
                  <a:pt x="2363" y="754"/>
                </a:lnTo>
                <a:lnTo>
                  <a:pt x="2296" y="820"/>
                </a:lnTo>
                <a:lnTo>
                  <a:pt x="2230" y="926"/>
                </a:lnTo>
                <a:lnTo>
                  <a:pt x="2204" y="952"/>
                </a:lnTo>
                <a:lnTo>
                  <a:pt x="2177" y="1031"/>
                </a:lnTo>
                <a:lnTo>
                  <a:pt x="2151" y="1084"/>
                </a:lnTo>
                <a:lnTo>
                  <a:pt x="2097" y="1150"/>
                </a:lnTo>
                <a:lnTo>
                  <a:pt x="2097" y="1243"/>
                </a:lnTo>
                <a:lnTo>
                  <a:pt x="2057" y="1389"/>
                </a:lnTo>
                <a:lnTo>
                  <a:pt x="2057" y="1375"/>
                </a:lnTo>
                <a:lnTo>
                  <a:pt x="2031" y="1481"/>
                </a:lnTo>
                <a:lnTo>
                  <a:pt x="1991" y="1413"/>
                </a:lnTo>
                <a:lnTo>
                  <a:pt x="2057" y="1666"/>
                </a:lnTo>
                <a:lnTo>
                  <a:pt x="2111" y="1746"/>
                </a:lnTo>
                <a:lnTo>
                  <a:pt x="2070" y="1799"/>
                </a:lnTo>
                <a:lnTo>
                  <a:pt x="2111" y="1905"/>
                </a:lnTo>
                <a:lnTo>
                  <a:pt x="2124" y="1985"/>
                </a:lnTo>
                <a:lnTo>
                  <a:pt x="2164" y="2051"/>
                </a:lnTo>
                <a:lnTo>
                  <a:pt x="2217" y="2130"/>
                </a:lnTo>
                <a:lnTo>
                  <a:pt x="2257" y="2197"/>
                </a:lnTo>
                <a:lnTo>
                  <a:pt x="2296" y="2276"/>
                </a:lnTo>
                <a:lnTo>
                  <a:pt x="2310" y="2342"/>
                </a:lnTo>
                <a:lnTo>
                  <a:pt x="2323" y="2382"/>
                </a:lnTo>
                <a:lnTo>
                  <a:pt x="2310" y="2448"/>
                </a:lnTo>
                <a:lnTo>
                  <a:pt x="2296" y="2554"/>
                </a:lnTo>
                <a:lnTo>
                  <a:pt x="2283" y="2673"/>
                </a:lnTo>
                <a:lnTo>
                  <a:pt x="2243" y="2752"/>
                </a:lnTo>
                <a:lnTo>
                  <a:pt x="2177" y="2829"/>
                </a:lnTo>
                <a:lnTo>
                  <a:pt x="2177" y="2900"/>
                </a:lnTo>
                <a:lnTo>
                  <a:pt x="2199" y="2992"/>
                </a:lnTo>
                <a:lnTo>
                  <a:pt x="2224" y="3085"/>
                </a:lnTo>
                <a:lnTo>
                  <a:pt x="2224" y="3178"/>
                </a:lnTo>
                <a:lnTo>
                  <a:pt x="2224" y="3248"/>
                </a:lnTo>
                <a:lnTo>
                  <a:pt x="2224" y="3341"/>
                </a:lnTo>
                <a:lnTo>
                  <a:pt x="2246" y="3456"/>
                </a:lnTo>
                <a:lnTo>
                  <a:pt x="2270" y="3526"/>
                </a:lnTo>
                <a:lnTo>
                  <a:pt x="2316" y="3619"/>
                </a:lnTo>
                <a:lnTo>
                  <a:pt x="2340" y="3711"/>
                </a:lnTo>
                <a:lnTo>
                  <a:pt x="2363" y="3782"/>
                </a:lnTo>
                <a:lnTo>
                  <a:pt x="2387" y="3896"/>
                </a:lnTo>
                <a:lnTo>
                  <a:pt x="2409" y="3967"/>
                </a:lnTo>
                <a:lnTo>
                  <a:pt x="2409" y="4106"/>
                </a:lnTo>
                <a:lnTo>
                  <a:pt x="2409" y="4223"/>
                </a:lnTo>
                <a:lnTo>
                  <a:pt x="2409" y="4315"/>
                </a:lnTo>
                <a:lnTo>
                  <a:pt x="2409" y="4454"/>
                </a:lnTo>
                <a:lnTo>
                  <a:pt x="2433" y="4686"/>
                </a:lnTo>
                <a:lnTo>
                  <a:pt x="2433" y="4803"/>
                </a:lnTo>
                <a:lnTo>
                  <a:pt x="2433" y="5034"/>
                </a:lnTo>
                <a:lnTo>
                  <a:pt x="2409" y="5105"/>
                </a:lnTo>
                <a:lnTo>
                  <a:pt x="2363" y="5197"/>
                </a:lnTo>
                <a:lnTo>
                  <a:pt x="2270" y="5546"/>
                </a:lnTo>
                <a:lnTo>
                  <a:pt x="2199" y="5660"/>
                </a:lnTo>
                <a:lnTo>
                  <a:pt x="2177" y="5731"/>
                </a:lnTo>
                <a:lnTo>
                  <a:pt x="2131" y="6475"/>
                </a:lnTo>
                <a:lnTo>
                  <a:pt x="2084" y="6568"/>
                </a:lnTo>
                <a:lnTo>
                  <a:pt x="2013" y="6636"/>
                </a:lnTo>
                <a:lnTo>
                  <a:pt x="1945" y="6706"/>
                </a:lnTo>
                <a:lnTo>
                  <a:pt x="1898" y="6777"/>
                </a:lnTo>
                <a:lnTo>
                  <a:pt x="1828" y="6845"/>
                </a:lnTo>
                <a:lnTo>
                  <a:pt x="1757" y="6892"/>
                </a:lnTo>
                <a:lnTo>
                  <a:pt x="1642" y="7009"/>
                </a:lnTo>
                <a:lnTo>
                  <a:pt x="1572" y="7101"/>
                </a:lnTo>
                <a:lnTo>
                  <a:pt x="852" y="7425"/>
                </a:lnTo>
                <a:lnTo>
                  <a:pt x="782" y="7450"/>
                </a:lnTo>
                <a:lnTo>
                  <a:pt x="688" y="7450"/>
                </a:lnTo>
                <a:lnTo>
                  <a:pt x="573" y="7542"/>
                </a:lnTo>
                <a:lnTo>
                  <a:pt x="503" y="7610"/>
                </a:lnTo>
                <a:lnTo>
                  <a:pt x="432" y="7635"/>
                </a:lnTo>
                <a:lnTo>
                  <a:pt x="339" y="7659"/>
                </a:lnTo>
                <a:lnTo>
                  <a:pt x="247" y="7705"/>
                </a:lnTo>
                <a:lnTo>
                  <a:pt x="154" y="7727"/>
                </a:lnTo>
                <a:lnTo>
                  <a:pt x="132" y="7798"/>
                </a:lnTo>
                <a:lnTo>
                  <a:pt x="61" y="7844"/>
                </a:lnTo>
                <a:lnTo>
                  <a:pt x="0" y="786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3076560" y="1733400"/>
            <a:ext cx="179640" cy="592560"/>
          </a:xfrm>
          <a:custGeom>
            <a:avLst/>
            <a:gdLst/>
            <a:ahLst/>
            <a:rect l="0" t="0" r="r" b="b"/>
            <a:pathLst>
              <a:path fill="none" w="499" h="1646">
                <a:moveTo>
                  <a:pt x="0" y="0"/>
                </a:moveTo>
                <a:lnTo>
                  <a:pt x="26" y="79"/>
                </a:lnTo>
                <a:lnTo>
                  <a:pt x="48" y="163"/>
                </a:lnTo>
                <a:lnTo>
                  <a:pt x="81" y="240"/>
                </a:lnTo>
                <a:lnTo>
                  <a:pt x="127" y="310"/>
                </a:lnTo>
                <a:lnTo>
                  <a:pt x="220" y="357"/>
                </a:lnTo>
                <a:lnTo>
                  <a:pt x="314" y="403"/>
                </a:lnTo>
                <a:lnTo>
                  <a:pt x="406" y="472"/>
                </a:lnTo>
                <a:lnTo>
                  <a:pt x="452" y="543"/>
                </a:lnTo>
                <a:lnTo>
                  <a:pt x="499" y="636"/>
                </a:lnTo>
                <a:lnTo>
                  <a:pt x="499" y="728"/>
                </a:lnTo>
                <a:lnTo>
                  <a:pt x="499" y="799"/>
                </a:lnTo>
                <a:lnTo>
                  <a:pt x="475" y="913"/>
                </a:lnTo>
                <a:lnTo>
                  <a:pt x="406" y="984"/>
                </a:lnTo>
                <a:lnTo>
                  <a:pt x="336" y="1052"/>
                </a:lnTo>
                <a:lnTo>
                  <a:pt x="314" y="1123"/>
                </a:lnTo>
                <a:lnTo>
                  <a:pt x="314" y="1193"/>
                </a:lnTo>
                <a:lnTo>
                  <a:pt x="267" y="1287"/>
                </a:lnTo>
                <a:lnTo>
                  <a:pt x="196" y="1333"/>
                </a:lnTo>
                <a:lnTo>
                  <a:pt x="127" y="1426"/>
                </a:lnTo>
                <a:lnTo>
                  <a:pt x="57" y="1494"/>
                </a:lnTo>
                <a:lnTo>
                  <a:pt x="0" y="164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>
            <a:off x="3456000" y="642960"/>
            <a:ext cx="878400" cy="2630880"/>
          </a:xfrm>
          <a:custGeom>
            <a:avLst/>
            <a:gdLst/>
            <a:ahLst/>
            <a:rect l="0" t="0" r="r" b="b"/>
            <a:pathLst>
              <a:path fill="none" w="2440" h="7308">
                <a:moveTo>
                  <a:pt x="1606" y="0"/>
                </a:moveTo>
                <a:lnTo>
                  <a:pt x="1625" y="244"/>
                </a:lnTo>
                <a:lnTo>
                  <a:pt x="1606" y="330"/>
                </a:lnTo>
                <a:lnTo>
                  <a:pt x="1612" y="383"/>
                </a:lnTo>
                <a:lnTo>
                  <a:pt x="1619" y="443"/>
                </a:lnTo>
                <a:lnTo>
                  <a:pt x="1639" y="482"/>
                </a:lnTo>
                <a:lnTo>
                  <a:pt x="1652" y="509"/>
                </a:lnTo>
                <a:lnTo>
                  <a:pt x="1652" y="555"/>
                </a:lnTo>
                <a:lnTo>
                  <a:pt x="1652" y="562"/>
                </a:lnTo>
                <a:lnTo>
                  <a:pt x="1645" y="568"/>
                </a:lnTo>
                <a:lnTo>
                  <a:pt x="1639" y="595"/>
                </a:lnTo>
                <a:lnTo>
                  <a:pt x="1619" y="634"/>
                </a:lnTo>
                <a:lnTo>
                  <a:pt x="1592" y="641"/>
                </a:lnTo>
                <a:lnTo>
                  <a:pt x="1606" y="694"/>
                </a:lnTo>
                <a:lnTo>
                  <a:pt x="1606" y="727"/>
                </a:lnTo>
                <a:lnTo>
                  <a:pt x="1592" y="753"/>
                </a:lnTo>
                <a:lnTo>
                  <a:pt x="1573" y="826"/>
                </a:lnTo>
                <a:lnTo>
                  <a:pt x="1553" y="872"/>
                </a:lnTo>
                <a:lnTo>
                  <a:pt x="1539" y="952"/>
                </a:lnTo>
                <a:lnTo>
                  <a:pt x="1539" y="1018"/>
                </a:lnTo>
                <a:lnTo>
                  <a:pt x="1533" y="1110"/>
                </a:lnTo>
                <a:lnTo>
                  <a:pt x="1522" y="1166"/>
                </a:lnTo>
                <a:lnTo>
                  <a:pt x="1588" y="1227"/>
                </a:lnTo>
                <a:lnTo>
                  <a:pt x="1619" y="1298"/>
                </a:lnTo>
                <a:lnTo>
                  <a:pt x="1654" y="1364"/>
                </a:lnTo>
                <a:lnTo>
                  <a:pt x="1667" y="1430"/>
                </a:lnTo>
                <a:lnTo>
                  <a:pt x="1767" y="1507"/>
                </a:lnTo>
                <a:lnTo>
                  <a:pt x="1767" y="1578"/>
                </a:lnTo>
                <a:lnTo>
                  <a:pt x="1813" y="1692"/>
                </a:lnTo>
                <a:lnTo>
                  <a:pt x="1836" y="1763"/>
                </a:lnTo>
                <a:lnTo>
                  <a:pt x="1907" y="1878"/>
                </a:lnTo>
                <a:lnTo>
                  <a:pt x="1953" y="1949"/>
                </a:lnTo>
                <a:lnTo>
                  <a:pt x="1999" y="2042"/>
                </a:lnTo>
                <a:lnTo>
                  <a:pt x="2021" y="2112"/>
                </a:lnTo>
                <a:lnTo>
                  <a:pt x="2067" y="2205"/>
                </a:lnTo>
                <a:lnTo>
                  <a:pt x="2092" y="2297"/>
                </a:lnTo>
                <a:lnTo>
                  <a:pt x="2138" y="2390"/>
                </a:lnTo>
                <a:lnTo>
                  <a:pt x="2162" y="2482"/>
                </a:lnTo>
                <a:lnTo>
                  <a:pt x="2184" y="2553"/>
                </a:lnTo>
                <a:lnTo>
                  <a:pt x="2209" y="2646"/>
                </a:lnTo>
                <a:lnTo>
                  <a:pt x="2255" y="2784"/>
                </a:lnTo>
                <a:lnTo>
                  <a:pt x="2277" y="2901"/>
                </a:lnTo>
                <a:lnTo>
                  <a:pt x="2277" y="2994"/>
                </a:lnTo>
                <a:lnTo>
                  <a:pt x="2323" y="3086"/>
                </a:lnTo>
                <a:lnTo>
                  <a:pt x="2323" y="3201"/>
                </a:lnTo>
                <a:lnTo>
                  <a:pt x="2323" y="3272"/>
                </a:lnTo>
                <a:lnTo>
                  <a:pt x="2323" y="3364"/>
                </a:lnTo>
                <a:lnTo>
                  <a:pt x="2323" y="3457"/>
                </a:lnTo>
                <a:lnTo>
                  <a:pt x="2323" y="3527"/>
                </a:lnTo>
                <a:lnTo>
                  <a:pt x="2323" y="3688"/>
                </a:lnTo>
                <a:lnTo>
                  <a:pt x="2323" y="3759"/>
                </a:lnTo>
                <a:lnTo>
                  <a:pt x="2277" y="3829"/>
                </a:lnTo>
                <a:lnTo>
                  <a:pt x="2231" y="3944"/>
                </a:lnTo>
                <a:lnTo>
                  <a:pt x="2301" y="4153"/>
                </a:lnTo>
                <a:lnTo>
                  <a:pt x="2440" y="4292"/>
                </a:lnTo>
                <a:lnTo>
                  <a:pt x="2440" y="4409"/>
                </a:lnTo>
                <a:lnTo>
                  <a:pt x="2440" y="4455"/>
                </a:lnTo>
                <a:lnTo>
                  <a:pt x="2440" y="4455"/>
                </a:lnTo>
                <a:lnTo>
                  <a:pt x="2323" y="4548"/>
                </a:lnTo>
                <a:lnTo>
                  <a:pt x="2323" y="4640"/>
                </a:lnTo>
                <a:lnTo>
                  <a:pt x="2277" y="4733"/>
                </a:lnTo>
                <a:lnTo>
                  <a:pt x="2231" y="4825"/>
                </a:lnTo>
                <a:lnTo>
                  <a:pt x="2162" y="4872"/>
                </a:lnTo>
                <a:lnTo>
                  <a:pt x="2045" y="4964"/>
                </a:lnTo>
                <a:lnTo>
                  <a:pt x="1999" y="5081"/>
                </a:lnTo>
                <a:lnTo>
                  <a:pt x="1975" y="5152"/>
                </a:lnTo>
                <a:lnTo>
                  <a:pt x="1929" y="5429"/>
                </a:lnTo>
                <a:lnTo>
                  <a:pt x="1882" y="5569"/>
                </a:lnTo>
                <a:lnTo>
                  <a:pt x="1860" y="5640"/>
                </a:lnTo>
                <a:lnTo>
                  <a:pt x="1789" y="5871"/>
                </a:lnTo>
                <a:lnTo>
                  <a:pt x="1720" y="5988"/>
                </a:lnTo>
                <a:lnTo>
                  <a:pt x="1625" y="6081"/>
                </a:lnTo>
                <a:lnTo>
                  <a:pt x="1487" y="6220"/>
                </a:lnTo>
                <a:lnTo>
                  <a:pt x="1418" y="6334"/>
                </a:lnTo>
                <a:lnTo>
                  <a:pt x="1348" y="6380"/>
                </a:lnTo>
                <a:lnTo>
                  <a:pt x="1209" y="6475"/>
                </a:lnTo>
                <a:lnTo>
                  <a:pt x="1138" y="6522"/>
                </a:lnTo>
                <a:lnTo>
                  <a:pt x="1024" y="6568"/>
                </a:lnTo>
                <a:lnTo>
                  <a:pt x="931" y="6660"/>
                </a:lnTo>
                <a:lnTo>
                  <a:pt x="860" y="6682"/>
                </a:lnTo>
                <a:lnTo>
                  <a:pt x="792" y="6753"/>
                </a:lnTo>
                <a:lnTo>
                  <a:pt x="721" y="6775"/>
                </a:lnTo>
                <a:lnTo>
                  <a:pt x="651" y="6821"/>
                </a:lnTo>
                <a:lnTo>
                  <a:pt x="582" y="6892"/>
                </a:lnTo>
                <a:lnTo>
                  <a:pt x="489" y="7009"/>
                </a:lnTo>
                <a:lnTo>
                  <a:pt x="418" y="7055"/>
                </a:lnTo>
                <a:lnTo>
                  <a:pt x="326" y="7101"/>
                </a:lnTo>
                <a:lnTo>
                  <a:pt x="255" y="7148"/>
                </a:lnTo>
                <a:lnTo>
                  <a:pt x="141" y="7216"/>
                </a:lnTo>
                <a:lnTo>
                  <a:pt x="0" y="730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>
            <a:off x="3760920" y="1309680"/>
            <a:ext cx="725760" cy="1962360"/>
          </a:xfrm>
          <a:custGeom>
            <a:avLst/>
            <a:gdLst/>
            <a:ahLst/>
            <a:rect l="0" t="0" r="r" b="b"/>
            <a:pathLst>
              <a:path fill="none" w="2016" h="5451">
                <a:moveTo>
                  <a:pt x="1150" y="0"/>
                </a:moveTo>
                <a:lnTo>
                  <a:pt x="1183" y="46"/>
                </a:lnTo>
                <a:lnTo>
                  <a:pt x="1229" y="125"/>
                </a:lnTo>
                <a:lnTo>
                  <a:pt x="1249" y="231"/>
                </a:lnTo>
                <a:lnTo>
                  <a:pt x="1302" y="277"/>
                </a:lnTo>
                <a:lnTo>
                  <a:pt x="1362" y="392"/>
                </a:lnTo>
                <a:lnTo>
                  <a:pt x="1430" y="485"/>
                </a:lnTo>
                <a:lnTo>
                  <a:pt x="1476" y="577"/>
                </a:lnTo>
                <a:lnTo>
                  <a:pt x="1522" y="648"/>
                </a:lnTo>
                <a:lnTo>
                  <a:pt x="1569" y="740"/>
                </a:lnTo>
                <a:lnTo>
                  <a:pt x="1639" y="809"/>
                </a:lnTo>
                <a:lnTo>
                  <a:pt x="1661" y="879"/>
                </a:lnTo>
                <a:lnTo>
                  <a:pt x="1732" y="972"/>
                </a:lnTo>
                <a:lnTo>
                  <a:pt x="1756" y="1042"/>
                </a:lnTo>
                <a:lnTo>
                  <a:pt x="1802" y="1135"/>
                </a:lnTo>
                <a:lnTo>
                  <a:pt x="1848" y="1250"/>
                </a:lnTo>
                <a:lnTo>
                  <a:pt x="1870" y="1320"/>
                </a:lnTo>
                <a:lnTo>
                  <a:pt x="1917" y="1413"/>
                </a:lnTo>
                <a:lnTo>
                  <a:pt x="1917" y="1483"/>
                </a:lnTo>
                <a:lnTo>
                  <a:pt x="1941" y="1576"/>
                </a:lnTo>
                <a:lnTo>
                  <a:pt x="1941" y="1669"/>
                </a:lnTo>
                <a:lnTo>
                  <a:pt x="1941" y="1830"/>
                </a:lnTo>
                <a:lnTo>
                  <a:pt x="1941" y="1900"/>
                </a:lnTo>
                <a:lnTo>
                  <a:pt x="1941" y="1971"/>
                </a:lnTo>
                <a:lnTo>
                  <a:pt x="1941" y="2063"/>
                </a:lnTo>
                <a:lnTo>
                  <a:pt x="1963" y="2156"/>
                </a:lnTo>
                <a:lnTo>
                  <a:pt x="1943" y="2288"/>
                </a:lnTo>
                <a:lnTo>
                  <a:pt x="1950" y="2341"/>
                </a:lnTo>
                <a:lnTo>
                  <a:pt x="1956" y="2374"/>
                </a:lnTo>
                <a:lnTo>
                  <a:pt x="1969" y="2414"/>
                </a:lnTo>
                <a:lnTo>
                  <a:pt x="1983" y="2460"/>
                </a:lnTo>
                <a:lnTo>
                  <a:pt x="2003" y="2533"/>
                </a:lnTo>
                <a:lnTo>
                  <a:pt x="2009" y="2579"/>
                </a:lnTo>
                <a:lnTo>
                  <a:pt x="2016" y="2672"/>
                </a:lnTo>
                <a:lnTo>
                  <a:pt x="1989" y="2739"/>
                </a:lnTo>
                <a:lnTo>
                  <a:pt x="1943" y="2818"/>
                </a:lnTo>
                <a:lnTo>
                  <a:pt x="1884" y="2937"/>
                </a:lnTo>
                <a:lnTo>
                  <a:pt x="1837" y="3010"/>
                </a:lnTo>
                <a:lnTo>
                  <a:pt x="1798" y="3063"/>
                </a:lnTo>
                <a:lnTo>
                  <a:pt x="1725" y="3096"/>
                </a:lnTo>
                <a:lnTo>
                  <a:pt x="1666" y="3156"/>
                </a:lnTo>
                <a:lnTo>
                  <a:pt x="1619" y="3189"/>
                </a:lnTo>
                <a:lnTo>
                  <a:pt x="1573" y="3235"/>
                </a:lnTo>
                <a:lnTo>
                  <a:pt x="1520" y="3301"/>
                </a:lnTo>
                <a:lnTo>
                  <a:pt x="1500" y="3374"/>
                </a:lnTo>
                <a:lnTo>
                  <a:pt x="1487" y="3453"/>
                </a:lnTo>
                <a:lnTo>
                  <a:pt x="1454" y="3533"/>
                </a:lnTo>
                <a:lnTo>
                  <a:pt x="1414" y="3619"/>
                </a:lnTo>
                <a:lnTo>
                  <a:pt x="1375" y="3751"/>
                </a:lnTo>
                <a:lnTo>
                  <a:pt x="1348" y="3844"/>
                </a:lnTo>
                <a:lnTo>
                  <a:pt x="1282" y="3969"/>
                </a:lnTo>
                <a:lnTo>
                  <a:pt x="1216" y="4102"/>
                </a:lnTo>
                <a:lnTo>
                  <a:pt x="1157" y="4214"/>
                </a:lnTo>
                <a:lnTo>
                  <a:pt x="1124" y="4326"/>
                </a:lnTo>
                <a:lnTo>
                  <a:pt x="1097" y="4406"/>
                </a:lnTo>
                <a:lnTo>
                  <a:pt x="1011" y="4498"/>
                </a:lnTo>
                <a:lnTo>
                  <a:pt x="931" y="4604"/>
                </a:lnTo>
                <a:lnTo>
                  <a:pt x="759" y="4703"/>
                </a:lnTo>
                <a:lnTo>
                  <a:pt x="693" y="4796"/>
                </a:lnTo>
                <a:lnTo>
                  <a:pt x="588" y="4875"/>
                </a:lnTo>
                <a:lnTo>
                  <a:pt x="488" y="4955"/>
                </a:lnTo>
                <a:lnTo>
                  <a:pt x="370" y="5061"/>
                </a:lnTo>
                <a:lnTo>
                  <a:pt x="251" y="5114"/>
                </a:lnTo>
                <a:lnTo>
                  <a:pt x="185" y="5180"/>
                </a:lnTo>
                <a:lnTo>
                  <a:pt x="72" y="5312"/>
                </a:lnTo>
                <a:lnTo>
                  <a:pt x="0" y="545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4033800" y="81000"/>
            <a:ext cx="1548000" cy="2224440"/>
          </a:xfrm>
          <a:custGeom>
            <a:avLst/>
            <a:gdLst/>
            <a:ahLst/>
            <a:rect l="0" t="0" r="r" b="b"/>
            <a:pathLst>
              <a:path fill="none" w="4300" h="6179">
                <a:moveTo>
                  <a:pt x="152" y="0"/>
                </a:moveTo>
                <a:lnTo>
                  <a:pt x="138" y="50"/>
                </a:lnTo>
                <a:lnTo>
                  <a:pt x="138" y="143"/>
                </a:lnTo>
                <a:lnTo>
                  <a:pt x="138" y="236"/>
                </a:lnTo>
                <a:lnTo>
                  <a:pt x="138" y="328"/>
                </a:lnTo>
                <a:lnTo>
                  <a:pt x="163" y="421"/>
                </a:lnTo>
                <a:lnTo>
                  <a:pt x="185" y="491"/>
                </a:lnTo>
                <a:lnTo>
                  <a:pt x="185" y="584"/>
                </a:lnTo>
                <a:lnTo>
                  <a:pt x="185" y="677"/>
                </a:lnTo>
                <a:lnTo>
                  <a:pt x="138" y="769"/>
                </a:lnTo>
                <a:lnTo>
                  <a:pt x="116" y="862"/>
                </a:lnTo>
                <a:lnTo>
                  <a:pt x="70" y="932"/>
                </a:lnTo>
                <a:lnTo>
                  <a:pt x="46" y="1025"/>
                </a:lnTo>
                <a:lnTo>
                  <a:pt x="46" y="1118"/>
                </a:lnTo>
                <a:lnTo>
                  <a:pt x="46" y="1210"/>
                </a:lnTo>
                <a:lnTo>
                  <a:pt x="22" y="1303"/>
                </a:lnTo>
                <a:lnTo>
                  <a:pt x="0" y="1374"/>
                </a:lnTo>
                <a:lnTo>
                  <a:pt x="0" y="1466"/>
                </a:lnTo>
                <a:lnTo>
                  <a:pt x="0" y="1559"/>
                </a:lnTo>
                <a:lnTo>
                  <a:pt x="46" y="1652"/>
                </a:lnTo>
                <a:lnTo>
                  <a:pt x="70" y="1744"/>
                </a:lnTo>
                <a:lnTo>
                  <a:pt x="92" y="1815"/>
                </a:lnTo>
                <a:lnTo>
                  <a:pt x="116" y="1907"/>
                </a:lnTo>
                <a:lnTo>
                  <a:pt x="116" y="2000"/>
                </a:lnTo>
                <a:lnTo>
                  <a:pt x="116" y="2093"/>
                </a:lnTo>
                <a:lnTo>
                  <a:pt x="138" y="2185"/>
                </a:lnTo>
                <a:lnTo>
                  <a:pt x="163" y="2256"/>
                </a:lnTo>
                <a:lnTo>
                  <a:pt x="163" y="2349"/>
                </a:lnTo>
                <a:lnTo>
                  <a:pt x="185" y="2487"/>
                </a:lnTo>
                <a:lnTo>
                  <a:pt x="231" y="2580"/>
                </a:lnTo>
                <a:lnTo>
                  <a:pt x="255" y="2673"/>
                </a:lnTo>
                <a:lnTo>
                  <a:pt x="255" y="2743"/>
                </a:lnTo>
                <a:lnTo>
                  <a:pt x="255" y="2858"/>
                </a:lnTo>
                <a:lnTo>
                  <a:pt x="255" y="2929"/>
                </a:lnTo>
                <a:lnTo>
                  <a:pt x="277" y="3021"/>
                </a:lnTo>
                <a:lnTo>
                  <a:pt x="301" y="3115"/>
                </a:lnTo>
                <a:lnTo>
                  <a:pt x="323" y="3185"/>
                </a:lnTo>
                <a:lnTo>
                  <a:pt x="323" y="3278"/>
                </a:lnTo>
                <a:lnTo>
                  <a:pt x="398" y="3432"/>
                </a:lnTo>
                <a:lnTo>
                  <a:pt x="462" y="3463"/>
                </a:lnTo>
                <a:lnTo>
                  <a:pt x="511" y="3556"/>
                </a:lnTo>
                <a:lnTo>
                  <a:pt x="557" y="3627"/>
                </a:lnTo>
                <a:lnTo>
                  <a:pt x="650" y="3695"/>
                </a:lnTo>
                <a:lnTo>
                  <a:pt x="696" y="3766"/>
                </a:lnTo>
                <a:lnTo>
                  <a:pt x="764" y="3858"/>
                </a:lnTo>
                <a:lnTo>
                  <a:pt x="835" y="3927"/>
                </a:lnTo>
                <a:lnTo>
                  <a:pt x="857" y="3997"/>
                </a:lnTo>
                <a:lnTo>
                  <a:pt x="903" y="4068"/>
                </a:lnTo>
                <a:lnTo>
                  <a:pt x="952" y="4160"/>
                </a:lnTo>
                <a:lnTo>
                  <a:pt x="1020" y="4253"/>
                </a:lnTo>
                <a:lnTo>
                  <a:pt x="1066" y="4346"/>
                </a:lnTo>
                <a:lnTo>
                  <a:pt x="1137" y="4438"/>
                </a:lnTo>
                <a:lnTo>
                  <a:pt x="1159" y="4509"/>
                </a:lnTo>
                <a:lnTo>
                  <a:pt x="1229" y="4577"/>
                </a:lnTo>
                <a:lnTo>
                  <a:pt x="1251" y="4648"/>
                </a:lnTo>
                <a:lnTo>
                  <a:pt x="1275" y="4740"/>
                </a:lnTo>
                <a:lnTo>
                  <a:pt x="1297" y="4833"/>
                </a:lnTo>
                <a:lnTo>
                  <a:pt x="1322" y="4904"/>
                </a:lnTo>
                <a:lnTo>
                  <a:pt x="1344" y="5018"/>
                </a:lnTo>
                <a:lnTo>
                  <a:pt x="1368" y="5089"/>
                </a:lnTo>
                <a:lnTo>
                  <a:pt x="1414" y="5182"/>
                </a:lnTo>
                <a:lnTo>
                  <a:pt x="1439" y="5296"/>
                </a:lnTo>
                <a:lnTo>
                  <a:pt x="1461" y="5367"/>
                </a:lnTo>
                <a:lnTo>
                  <a:pt x="1461" y="5437"/>
                </a:lnTo>
                <a:lnTo>
                  <a:pt x="1485" y="5530"/>
                </a:lnTo>
                <a:lnTo>
                  <a:pt x="1531" y="5623"/>
                </a:lnTo>
                <a:lnTo>
                  <a:pt x="1577" y="5715"/>
                </a:lnTo>
                <a:lnTo>
                  <a:pt x="1624" y="5786"/>
                </a:lnTo>
                <a:lnTo>
                  <a:pt x="1692" y="5879"/>
                </a:lnTo>
                <a:lnTo>
                  <a:pt x="1762" y="5971"/>
                </a:lnTo>
                <a:lnTo>
                  <a:pt x="1833" y="5993"/>
                </a:lnTo>
                <a:lnTo>
                  <a:pt x="1926" y="6018"/>
                </a:lnTo>
                <a:lnTo>
                  <a:pt x="2018" y="6086"/>
                </a:lnTo>
                <a:lnTo>
                  <a:pt x="2064" y="6156"/>
                </a:lnTo>
                <a:lnTo>
                  <a:pt x="2158" y="6179"/>
                </a:lnTo>
                <a:lnTo>
                  <a:pt x="2251" y="6179"/>
                </a:lnTo>
                <a:lnTo>
                  <a:pt x="2321" y="6156"/>
                </a:lnTo>
                <a:lnTo>
                  <a:pt x="2414" y="6132"/>
                </a:lnTo>
                <a:lnTo>
                  <a:pt x="2506" y="6110"/>
                </a:lnTo>
                <a:lnTo>
                  <a:pt x="2599" y="6040"/>
                </a:lnTo>
                <a:lnTo>
                  <a:pt x="2667" y="5947"/>
                </a:lnTo>
                <a:lnTo>
                  <a:pt x="2738" y="5879"/>
                </a:lnTo>
                <a:lnTo>
                  <a:pt x="2808" y="5808"/>
                </a:lnTo>
                <a:lnTo>
                  <a:pt x="2876" y="5737"/>
                </a:lnTo>
                <a:lnTo>
                  <a:pt x="2947" y="5691"/>
                </a:lnTo>
                <a:lnTo>
                  <a:pt x="3061" y="5620"/>
                </a:lnTo>
                <a:lnTo>
                  <a:pt x="3123" y="5568"/>
                </a:lnTo>
                <a:lnTo>
                  <a:pt x="3185" y="5515"/>
                </a:lnTo>
                <a:lnTo>
                  <a:pt x="3273" y="5471"/>
                </a:lnTo>
                <a:lnTo>
                  <a:pt x="3370" y="5418"/>
                </a:lnTo>
                <a:lnTo>
                  <a:pt x="3456" y="5391"/>
                </a:lnTo>
                <a:lnTo>
                  <a:pt x="3526" y="5391"/>
                </a:lnTo>
                <a:lnTo>
                  <a:pt x="3597" y="5367"/>
                </a:lnTo>
                <a:lnTo>
                  <a:pt x="3712" y="5296"/>
                </a:lnTo>
                <a:lnTo>
                  <a:pt x="3782" y="5228"/>
                </a:lnTo>
                <a:lnTo>
                  <a:pt x="3850" y="5157"/>
                </a:lnTo>
                <a:lnTo>
                  <a:pt x="3921" y="5065"/>
                </a:lnTo>
                <a:lnTo>
                  <a:pt x="3989" y="4972"/>
                </a:lnTo>
                <a:lnTo>
                  <a:pt x="4060" y="4904"/>
                </a:lnTo>
                <a:lnTo>
                  <a:pt x="4130" y="4855"/>
                </a:lnTo>
                <a:lnTo>
                  <a:pt x="4223" y="4809"/>
                </a:lnTo>
                <a:lnTo>
                  <a:pt x="4300" y="479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4853160" y="88920"/>
            <a:ext cx="729000" cy="744840"/>
          </a:xfrm>
          <a:custGeom>
            <a:avLst/>
            <a:gdLst/>
            <a:ahLst/>
            <a:rect l="0" t="0" r="r" b="b"/>
            <a:pathLst>
              <a:path fill="none" w="2025" h="2069">
                <a:moveTo>
                  <a:pt x="0" y="0"/>
                </a:moveTo>
                <a:lnTo>
                  <a:pt x="48" y="48"/>
                </a:lnTo>
                <a:lnTo>
                  <a:pt x="97" y="137"/>
                </a:lnTo>
                <a:lnTo>
                  <a:pt x="145" y="226"/>
                </a:lnTo>
                <a:lnTo>
                  <a:pt x="145" y="315"/>
                </a:lnTo>
                <a:lnTo>
                  <a:pt x="168" y="404"/>
                </a:lnTo>
                <a:lnTo>
                  <a:pt x="217" y="472"/>
                </a:lnTo>
                <a:lnTo>
                  <a:pt x="291" y="516"/>
                </a:lnTo>
                <a:lnTo>
                  <a:pt x="388" y="560"/>
                </a:lnTo>
                <a:lnTo>
                  <a:pt x="462" y="626"/>
                </a:lnTo>
                <a:lnTo>
                  <a:pt x="510" y="694"/>
                </a:lnTo>
                <a:lnTo>
                  <a:pt x="607" y="759"/>
                </a:lnTo>
                <a:lnTo>
                  <a:pt x="704" y="783"/>
                </a:lnTo>
                <a:lnTo>
                  <a:pt x="801" y="848"/>
                </a:lnTo>
                <a:lnTo>
                  <a:pt x="875" y="895"/>
                </a:lnTo>
                <a:lnTo>
                  <a:pt x="972" y="961"/>
                </a:lnTo>
                <a:lnTo>
                  <a:pt x="1093" y="1050"/>
                </a:lnTo>
                <a:lnTo>
                  <a:pt x="1167" y="1095"/>
                </a:lnTo>
                <a:lnTo>
                  <a:pt x="1216" y="1163"/>
                </a:lnTo>
                <a:lnTo>
                  <a:pt x="1313" y="1252"/>
                </a:lnTo>
                <a:lnTo>
                  <a:pt x="1320" y="1429"/>
                </a:lnTo>
                <a:lnTo>
                  <a:pt x="1491" y="1601"/>
                </a:lnTo>
                <a:lnTo>
                  <a:pt x="1703" y="1664"/>
                </a:lnTo>
                <a:lnTo>
                  <a:pt x="1874" y="1770"/>
                </a:lnTo>
                <a:lnTo>
                  <a:pt x="2025" y="20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4106880" y="82440"/>
            <a:ext cx="1476720" cy="1679760"/>
          </a:xfrm>
          <a:custGeom>
            <a:avLst/>
            <a:gdLst/>
            <a:ahLst/>
            <a:rect l="0" t="0" r="r" b="b"/>
            <a:pathLst>
              <a:path fill="none" w="4102" h="4666">
                <a:moveTo>
                  <a:pt x="0" y="0"/>
                </a:moveTo>
                <a:lnTo>
                  <a:pt x="22" y="243"/>
                </a:lnTo>
                <a:lnTo>
                  <a:pt x="61" y="309"/>
                </a:lnTo>
                <a:lnTo>
                  <a:pt x="97" y="396"/>
                </a:lnTo>
                <a:lnTo>
                  <a:pt x="143" y="492"/>
                </a:lnTo>
                <a:lnTo>
                  <a:pt x="189" y="588"/>
                </a:lnTo>
                <a:lnTo>
                  <a:pt x="235" y="683"/>
                </a:lnTo>
                <a:lnTo>
                  <a:pt x="235" y="779"/>
                </a:lnTo>
                <a:lnTo>
                  <a:pt x="257" y="852"/>
                </a:lnTo>
                <a:lnTo>
                  <a:pt x="306" y="948"/>
                </a:lnTo>
                <a:lnTo>
                  <a:pt x="374" y="1043"/>
                </a:lnTo>
                <a:lnTo>
                  <a:pt x="421" y="1139"/>
                </a:lnTo>
                <a:lnTo>
                  <a:pt x="513" y="1235"/>
                </a:lnTo>
                <a:lnTo>
                  <a:pt x="537" y="1308"/>
                </a:lnTo>
                <a:lnTo>
                  <a:pt x="606" y="1403"/>
                </a:lnTo>
                <a:lnTo>
                  <a:pt x="652" y="1499"/>
                </a:lnTo>
                <a:lnTo>
                  <a:pt x="698" y="1595"/>
                </a:lnTo>
                <a:lnTo>
                  <a:pt x="723" y="1691"/>
                </a:lnTo>
                <a:lnTo>
                  <a:pt x="793" y="1739"/>
                </a:lnTo>
                <a:lnTo>
                  <a:pt x="886" y="1811"/>
                </a:lnTo>
                <a:lnTo>
                  <a:pt x="978" y="1882"/>
                </a:lnTo>
                <a:lnTo>
                  <a:pt x="1047" y="1955"/>
                </a:lnTo>
                <a:lnTo>
                  <a:pt x="1117" y="2051"/>
                </a:lnTo>
                <a:lnTo>
                  <a:pt x="1210" y="2146"/>
                </a:lnTo>
                <a:lnTo>
                  <a:pt x="1281" y="2242"/>
                </a:lnTo>
                <a:lnTo>
                  <a:pt x="1349" y="2364"/>
                </a:lnTo>
                <a:lnTo>
                  <a:pt x="1441" y="2483"/>
                </a:lnTo>
                <a:lnTo>
                  <a:pt x="1466" y="2555"/>
                </a:lnTo>
                <a:lnTo>
                  <a:pt x="1534" y="2651"/>
                </a:lnTo>
                <a:lnTo>
                  <a:pt x="1580" y="2724"/>
                </a:lnTo>
                <a:lnTo>
                  <a:pt x="1629" y="2843"/>
                </a:lnTo>
                <a:lnTo>
                  <a:pt x="1721" y="2938"/>
                </a:lnTo>
                <a:lnTo>
                  <a:pt x="1860" y="2963"/>
                </a:lnTo>
                <a:lnTo>
                  <a:pt x="1953" y="3011"/>
                </a:lnTo>
                <a:lnTo>
                  <a:pt x="2046" y="3084"/>
                </a:lnTo>
                <a:lnTo>
                  <a:pt x="2117" y="3132"/>
                </a:lnTo>
                <a:lnTo>
                  <a:pt x="2210" y="3203"/>
                </a:lnTo>
                <a:lnTo>
                  <a:pt x="2278" y="3276"/>
                </a:lnTo>
                <a:lnTo>
                  <a:pt x="2349" y="3371"/>
                </a:lnTo>
                <a:lnTo>
                  <a:pt x="2441" y="3515"/>
                </a:lnTo>
                <a:lnTo>
                  <a:pt x="2488" y="3588"/>
                </a:lnTo>
                <a:lnTo>
                  <a:pt x="2558" y="3684"/>
                </a:lnTo>
                <a:lnTo>
                  <a:pt x="2626" y="3779"/>
                </a:lnTo>
                <a:lnTo>
                  <a:pt x="2697" y="3875"/>
                </a:lnTo>
                <a:lnTo>
                  <a:pt x="2790" y="3996"/>
                </a:lnTo>
                <a:lnTo>
                  <a:pt x="2882" y="4044"/>
                </a:lnTo>
                <a:lnTo>
                  <a:pt x="2953" y="4114"/>
                </a:lnTo>
                <a:lnTo>
                  <a:pt x="3067" y="4210"/>
                </a:lnTo>
                <a:lnTo>
                  <a:pt x="3138" y="4283"/>
                </a:lnTo>
                <a:lnTo>
                  <a:pt x="3206" y="4379"/>
                </a:lnTo>
                <a:lnTo>
                  <a:pt x="3253" y="4452"/>
                </a:lnTo>
                <a:lnTo>
                  <a:pt x="3323" y="4547"/>
                </a:lnTo>
                <a:lnTo>
                  <a:pt x="3394" y="4595"/>
                </a:lnTo>
                <a:lnTo>
                  <a:pt x="3486" y="4643"/>
                </a:lnTo>
                <a:lnTo>
                  <a:pt x="3579" y="4643"/>
                </a:lnTo>
                <a:lnTo>
                  <a:pt x="3672" y="4666"/>
                </a:lnTo>
                <a:lnTo>
                  <a:pt x="3802" y="4645"/>
                </a:lnTo>
                <a:lnTo>
                  <a:pt x="3872" y="4655"/>
                </a:lnTo>
                <a:lnTo>
                  <a:pt x="3934" y="4627"/>
                </a:lnTo>
                <a:lnTo>
                  <a:pt x="4013" y="4609"/>
                </a:lnTo>
                <a:lnTo>
                  <a:pt x="4102" y="460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4075200" y="326880"/>
            <a:ext cx="1508400" cy="1661040"/>
          </a:xfrm>
          <a:custGeom>
            <a:avLst/>
            <a:gdLst/>
            <a:ahLst/>
            <a:rect l="0" t="0" r="r" b="b"/>
            <a:pathLst>
              <a:path fill="none" w="4190" h="4614">
                <a:moveTo>
                  <a:pt x="63" y="0"/>
                </a:moveTo>
                <a:lnTo>
                  <a:pt x="0" y="335"/>
                </a:lnTo>
                <a:lnTo>
                  <a:pt x="11" y="474"/>
                </a:lnTo>
                <a:lnTo>
                  <a:pt x="44" y="714"/>
                </a:lnTo>
                <a:lnTo>
                  <a:pt x="176" y="1095"/>
                </a:lnTo>
                <a:lnTo>
                  <a:pt x="321" y="1387"/>
                </a:lnTo>
                <a:lnTo>
                  <a:pt x="394" y="1504"/>
                </a:lnTo>
                <a:lnTo>
                  <a:pt x="416" y="1575"/>
                </a:lnTo>
                <a:lnTo>
                  <a:pt x="463" y="1667"/>
                </a:lnTo>
                <a:lnTo>
                  <a:pt x="509" y="1760"/>
                </a:lnTo>
                <a:lnTo>
                  <a:pt x="555" y="1853"/>
                </a:lnTo>
                <a:lnTo>
                  <a:pt x="555" y="1945"/>
                </a:lnTo>
                <a:lnTo>
                  <a:pt x="555" y="2016"/>
                </a:lnTo>
                <a:lnTo>
                  <a:pt x="579" y="2108"/>
                </a:lnTo>
                <a:lnTo>
                  <a:pt x="601" y="2201"/>
                </a:lnTo>
                <a:lnTo>
                  <a:pt x="601" y="2294"/>
                </a:lnTo>
                <a:lnTo>
                  <a:pt x="648" y="2386"/>
                </a:lnTo>
                <a:lnTo>
                  <a:pt x="672" y="2525"/>
                </a:lnTo>
                <a:lnTo>
                  <a:pt x="694" y="2596"/>
                </a:lnTo>
                <a:lnTo>
                  <a:pt x="694" y="2710"/>
                </a:lnTo>
                <a:lnTo>
                  <a:pt x="787" y="2781"/>
                </a:lnTo>
                <a:lnTo>
                  <a:pt x="857" y="2827"/>
                </a:lnTo>
                <a:lnTo>
                  <a:pt x="928" y="2873"/>
                </a:lnTo>
                <a:lnTo>
                  <a:pt x="974" y="2944"/>
                </a:lnTo>
                <a:lnTo>
                  <a:pt x="1089" y="3059"/>
                </a:lnTo>
                <a:lnTo>
                  <a:pt x="1159" y="3129"/>
                </a:lnTo>
                <a:lnTo>
                  <a:pt x="1252" y="3268"/>
                </a:lnTo>
                <a:lnTo>
                  <a:pt x="1322" y="3361"/>
                </a:lnTo>
                <a:lnTo>
                  <a:pt x="1369" y="3431"/>
                </a:lnTo>
                <a:lnTo>
                  <a:pt x="1437" y="3547"/>
                </a:lnTo>
                <a:lnTo>
                  <a:pt x="1461" y="3617"/>
                </a:lnTo>
                <a:lnTo>
                  <a:pt x="1530" y="3710"/>
                </a:lnTo>
                <a:lnTo>
                  <a:pt x="1554" y="3781"/>
                </a:lnTo>
                <a:lnTo>
                  <a:pt x="1600" y="3873"/>
                </a:lnTo>
                <a:lnTo>
                  <a:pt x="1622" y="3966"/>
                </a:lnTo>
                <a:lnTo>
                  <a:pt x="1669" y="4058"/>
                </a:lnTo>
                <a:lnTo>
                  <a:pt x="1693" y="4151"/>
                </a:lnTo>
                <a:lnTo>
                  <a:pt x="1717" y="4222"/>
                </a:lnTo>
                <a:lnTo>
                  <a:pt x="1785" y="4336"/>
                </a:lnTo>
                <a:lnTo>
                  <a:pt x="1832" y="4407"/>
                </a:lnTo>
                <a:lnTo>
                  <a:pt x="1902" y="4475"/>
                </a:lnTo>
                <a:lnTo>
                  <a:pt x="1995" y="4568"/>
                </a:lnTo>
                <a:lnTo>
                  <a:pt x="2088" y="4614"/>
                </a:lnTo>
                <a:lnTo>
                  <a:pt x="2181" y="4614"/>
                </a:lnTo>
                <a:lnTo>
                  <a:pt x="2252" y="4614"/>
                </a:lnTo>
                <a:lnTo>
                  <a:pt x="2366" y="4592"/>
                </a:lnTo>
                <a:lnTo>
                  <a:pt x="2437" y="4568"/>
                </a:lnTo>
                <a:lnTo>
                  <a:pt x="2529" y="4521"/>
                </a:lnTo>
                <a:lnTo>
                  <a:pt x="2600" y="4499"/>
                </a:lnTo>
                <a:lnTo>
                  <a:pt x="2693" y="4475"/>
                </a:lnTo>
                <a:lnTo>
                  <a:pt x="2785" y="4453"/>
                </a:lnTo>
                <a:lnTo>
                  <a:pt x="2900" y="4429"/>
                </a:lnTo>
                <a:lnTo>
                  <a:pt x="2970" y="4407"/>
                </a:lnTo>
                <a:lnTo>
                  <a:pt x="3041" y="4383"/>
                </a:lnTo>
                <a:lnTo>
                  <a:pt x="3134" y="4336"/>
                </a:lnTo>
                <a:lnTo>
                  <a:pt x="3248" y="4336"/>
                </a:lnTo>
                <a:lnTo>
                  <a:pt x="3319" y="4336"/>
                </a:lnTo>
                <a:lnTo>
                  <a:pt x="3411" y="4314"/>
                </a:lnTo>
                <a:lnTo>
                  <a:pt x="3482" y="4290"/>
                </a:lnTo>
                <a:lnTo>
                  <a:pt x="3575" y="4268"/>
                </a:lnTo>
                <a:lnTo>
                  <a:pt x="3667" y="4222"/>
                </a:lnTo>
                <a:lnTo>
                  <a:pt x="3722" y="4180"/>
                </a:lnTo>
                <a:lnTo>
                  <a:pt x="3828" y="4109"/>
                </a:lnTo>
                <a:lnTo>
                  <a:pt x="3908" y="4065"/>
                </a:lnTo>
                <a:lnTo>
                  <a:pt x="4040" y="4012"/>
                </a:lnTo>
                <a:lnTo>
                  <a:pt x="4190" y="399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4037040" y="647640"/>
            <a:ext cx="1545120" cy="1576800"/>
          </a:xfrm>
          <a:custGeom>
            <a:avLst/>
            <a:gdLst/>
            <a:ahLst/>
            <a:rect l="0" t="0" r="r" b="b"/>
            <a:pathLst>
              <a:path fill="none" w="4292" h="4380">
                <a:moveTo>
                  <a:pt x="0" y="0"/>
                </a:moveTo>
                <a:lnTo>
                  <a:pt x="99" y="112"/>
                </a:lnTo>
                <a:lnTo>
                  <a:pt x="165" y="224"/>
                </a:lnTo>
                <a:lnTo>
                  <a:pt x="211" y="363"/>
                </a:lnTo>
                <a:lnTo>
                  <a:pt x="238" y="542"/>
                </a:lnTo>
                <a:lnTo>
                  <a:pt x="257" y="707"/>
                </a:lnTo>
                <a:lnTo>
                  <a:pt x="323" y="872"/>
                </a:lnTo>
                <a:lnTo>
                  <a:pt x="350" y="1018"/>
                </a:lnTo>
                <a:lnTo>
                  <a:pt x="456" y="1131"/>
                </a:lnTo>
                <a:lnTo>
                  <a:pt x="456" y="1224"/>
                </a:lnTo>
                <a:lnTo>
                  <a:pt x="456" y="1290"/>
                </a:lnTo>
                <a:lnTo>
                  <a:pt x="442" y="1382"/>
                </a:lnTo>
                <a:lnTo>
                  <a:pt x="469" y="1435"/>
                </a:lnTo>
                <a:lnTo>
                  <a:pt x="495" y="1528"/>
                </a:lnTo>
                <a:lnTo>
                  <a:pt x="509" y="1581"/>
                </a:lnTo>
                <a:lnTo>
                  <a:pt x="561" y="1726"/>
                </a:lnTo>
                <a:lnTo>
                  <a:pt x="561" y="1779"/>
                </a:lnTo>
                <a:lnTo>
                  <a:pt x="614" y="1832"/>
                </a:lnTo>
                <a:lnTo>
                  <a:pt x="667" y="1885"/>
                </a:lnTo>
                <a:lnTo>
                  <a:pt x="747" y="1938"/>
                </a:lnTo>
                <a:lnTo>
                  <a:pt x="826" y="2043"/>
                </a:lnTo>
                <a:lnTo>
                  <a:pt x="918" y="2189"/>
                </a:lnTo>
                <a:lnTo>
                  <a:pt x="985" y="2242"/>
                </a:lnTo>
                <a:lnTo>
                  <a:pt x="1051" y="2347"/>
                </a:lnTo>
                <a:lnTo>
                  <a:pt x="1105" y="2440"/>
                </a:lnTo>
                <a:lnTo>
                  <a:pt x="1131" y="2559"/>
                </a:lnTo>
                <a:lnTo>
                  <a:pt x="1197" y="2691"/>
                </a:lnTo>
                <a:lnTo>
                  <a:pt x="1224" y="2744"/>
                </a:lnTo>
                <a:lnTo>
                  <a:pt x="1276" y="2810"/>
                </a:lnTo>
                <a:lnTo>
                  <a:pt x="1246" y="2872"/>
                </a:lnTo>
                <a:lnTo>
                  <a:pt x="1263" y="2898"/>
                </a:lnTo>
                <a:lnTo>
                  <a:pt x="1281" y="2934"/>
                </a:lnTo>
                <a:lnTo>
                  <a:pt x="1298" y="2960"/>
                </a:lnTo>
                <a:lnTo>
                  <a:pt x="1307" y="2987"/>
                </a:lnTo>
                <a:lnTo>
                  <a:pt x="1325" y="3022"/>
                </a:lnTo>
                <a:lnTo>
                  <a:pt x="1343" y="3048"/>
                </a:lnTo>
                <a:lnTo>
                  <a:pt x="1360" y="3084"/>
                </a:lnTo>
                <a:lnTo>
                  <a:pt x="1360" y="3110"/>
                </a:lnTo>
                <a:lnTo>
                  <a:pt x="1378" y="3136"/>
                </a:lnTo>
                <a:lnTo>
                  <a:pt x="1387" y="3172"/>
                </a:lnTo>
                <a:lnTo>
                  <a:pt x="1404" y="3198"/>
                </a:lnTo>
                <a:lnTo>
                  <a:pt x="1413" y="3225"/>
                </a:lnTo>
                <a:lnTo>
                  <a:pt x="1431" y="3260"/>
                </a:lnTo>
                <a:lnTo>
                  <a:pt x="1440" y="3287"/>
                </a:lnTo>
                <a:lnTo>
                  <a:pt x="1448" y="3314"/>
                </a:lnTo>
                <a:lnTo>
                  <a:pt x="1457" y="3340"/>
                </a:lnTo>
                <a:lnTo>
                  <a:pt x="1466" y="3367"/>
                </a:lnTo>
                <a:lnTo>
                  <a:pt x="1484" y="3393"/>
                </a:lnTo>
                <a:lnTo>
                  <a:pt x="1484" y="3420"/>
                </a:lnTo>
                <a:lnTo>
                  <a:pt x="1492" y="3446"/>
                </a:lnTo>
                <a:lnTo>
                  <a:pt x="1510" y="3481"/>
                </a:lnTo>
                <a:lnTo>
                  <a:pt x="1519" y="3508"/>
                </a:lnTo>
                <a:lnTo>
                  <a:pt x="1519" y="3534"/>
                </a:lnTo>
                <a:lnTo>
                  <a:pt x="1536" y="3561"/>
                </a:lnTo>
                <a:lnTo>
                  <a:pt x="1554" y="3587"/>
                </a:lnTo>
                <a:lnTo>
                  <a:pt x="1572" y="3631"/>
                </a:lnTo>
                <a:lnTo>
                  <a:pt x="1581" y="3658"/>
                </a:lnTo>
                <a:lnTo>
                  <a:pt x="1598" y="3702"/>
                </a:lnTo>
                <a:lnTo>
                  <a:pt x="1616" y="3728"/>
                </a:lnTo>
                <a:lnTo>
                  <a:pt x="1633" y="3763"/>
                </a:lnTo>
                <a:lnTo>
                  <a:pt x="1642" y="3790"/>
                </a:lnTo>
                <a:lnTo>
                  <a:pt x="1660" y="3816"/>
                </a:lnTo>
                <a:lnTo>
                  <a:pt x="1669" y="3843"/>
                </a:lnTo>
                <a:lnTo>
                  <a:pt x="1678" y="3869"/>
                </a:lnTo>
                <a:lnTo>
                  <a:pt x="1695" y="3904"/>
                </a:lnTo>
                <a:lnTo>
                  <a:pt x="1722" y="3931"/>
                </a:lnTo>
                <a:lnTo>
                  <a:pt x="1739" y="3966"/>
                </a:lnTo>
                <a:lnTo>
                  <a:pt x="1757" y="3992"/>
                </a:lnTo>
                <a:lnTo>
                  <a:pt x="1775" y="4019"/>
                </a:lnTo>
                <a:lnTo>
                  <a:pt x="1792" y="4045"/>
                </a:lnTo>
                <a:lnTo>
                  <a:pt x="1810" y="4081"/>
                </a:lnTo>
                <a:lnTo>
                  <a:pt x="1827" y="4107"/>
                </a:lnTo>
                <a:lnTo>
                  <a:pt x="1845" y="4134"/>
                </a:lnTo>
                <a:lnTo>
                  <a:pt x="1871" y="4160"/>
                </a:lnTo>
                <a:lnTo>
                  <a:pt x="1889" y="4186"/>
                </a:lnTo>
                <a:lnTo>
                  <a:pt x="1916" y="4213"/>
                </a:lnTo>
                <a:lnTo>
                  <a:pt x="1942" y="4239"/>
                </a:lnTo>
                <a:lnTo>
                  <a:pt x="1968" y="4257"/>
                </a:lnTo>
                <a:lnTo>
                  <a:pt x="1986" y="4283"/>
                </a:lnTo>
                <a:lnTo>
                  <a:pt x="2013" y="4301"/>
                </a:lnTo>
                <a:lnTo>
                  <a:pt x="2039" y="4310"/>
                </a:lnTo>
                <a:lnTo>
                  <a:pt x="2065" y="4327"/>
                </a:lnTo>
                <a:lnTo>
                  <a:pt x="2092" y="4327"/>
                </a:lnTo>
                <a:lnTo>
                  <a:pt x="2118" y="4345"/>
                </a:lnTo>
                <a:lnTo>
                  <a:pt x="2224" y="4372"/>
                </a:lnTo>
                <a:lnTo>
                  <a:pt x="2251" y="4372"/>
                </a:lnTo>
                <a:lnTo>
                  <a:pt x="2277" y="4380"/>
                </a:lnTo>
                <a:lnTo>
                  <a:pt x="2303" y="4380"/>
                </a:lnTo>
                <a:lnTo>
                  <a:pt x="2330" y="4380"/>
                </a:lnTo>
                <a:lnTo>
                  <a:pt x="2365" y="4380"/>
                </a:lnTo>
                <a:lnTo>
                  <a:pt x="2409" y="4380"/>
                </a:lnTo>
                <a:lnTo>
                  <a:pt x="2453" y="4380"/>
                </a:lnTo>
                <a:lnTo>
                  <a:pt x="2480" y="4363"/>
                </a:lnTo>
                <a:lnTo>
                  <a:pt x="2506" y="4345"/>
                </a:lnTo>
                <a:lnTo>
                  <a:pt x="2533" y="4327"/>
                </a:lnTo>
                <a:lnTo>
                  <a:pt x="2585" y="4292"/>
                </a:lnTo>
                <a:lnTo>
                  <a:pt x="2612" y="4275"/>
                </a:lnTo>
                <a:lnTo>
                  <a:pt x="2638" y="4248"/>
                </a:lnTo>
                <a:lnTo>
                  <a:pt x="2665" y="4230"/>
                </a:lnTo>
                <a:lnTo>
                  <a:pt x="2691" y="4213"/>
                </a:lnTo>
                <a:lnTo>
                  <a:pt x="2718" y="4195"/>
                </a:lnTo>
                <a:lnTo>
                  <a:pt x="2744" y="4178"/>
                </a:lnTo>
                <a:lnTo>
                  <a:pt x="2771" y="4151"/>
                </a:lnTo>
                <a:lnTo>
                  <a:pt x="2815" y="4116"/>
                </a:lnTo>
                <a:lnTo>
                  <a:pt x="2850" y="4107"/>
                </a:lnTo>
                <a:lnTo>
                  <a:pt x="2903" y="4072"/>
                </a:lnTo>
                <a:lnTo>
                  <a:pt x="2920" y="4045"/>
                </a:lnTo>
                <a:lnTo>
                  <a:pt x="2938" y="4019"/>
                </a:lnTo>
                <a:lnTo>
                  <a:pt x="2965" y="4001"/>
                </a:lnTo>
                <a:lnTo>
                  <a:pt x="2991" y="3966"/>
                </a:lnTo>
                <a:lnTo>
                  <a:pt x="3017" y="3940"/>
                </a:lnTo>
                <a:lnTo>
                  <a:pt x="3044" y="3922"/>
                </a:lnTo>
                <a:lnTo>
                  <a:pt x="3070" y="3904"/>
                </a:lnTo>
                <a:lnTo>
                  <a:pt x="3106" y="3887"/>
                </a:lnTo>
                <a:lnTo>
                  <a:pt x="3132" y="3878"/>
                </a:lnTo>
                <a:lnTo>
                  <a:pt x="3158" y="3869"/>
                </a:lnTo>
                <a:lnTo>
                  <a:pt x="3185" y="3851"/>
                </a:lnTo>
                <a:lnTo>
                  <a:pt x="3211" y="3843"/>
                </a:lnTo>
                <a:lnTo>
                  <a:pt x="3248" y="3825"/>
                </a:lnTo>
                <a:lnTo>
                  <a:pt x="3283" y="3807"/>
                </a:lnTo>
                <a:lnTo>
                  <a:pt x="3309" y="3790"/>
                </a:lnTo>
                <a:lnTo>
                  <a:pt x="3336" y="3781"/>
                </a:lnTo>
                <a:lnTo>
                  <a:pt x="3362" y="3772"/>
                </a:lnTo>
                <a:lnTo>
                  <a:pt x="3389" y="3763"/>
                </a:lnTo>
                <a:lnTo>
                  <a:pt x="3415" y="3754"/>
                </a:lnTo>
                <a:lnTo>
                  <a:pt x="3450" y="3746"/>
                </a:lnTo>
                <a:lnTo>
                  <a:pt x="3545" y="3704"/>
                </a:lnTo>
                <a:lnTo>
                  <a:pt x="3572" y="3671"/>
                </a:lnTo>
                <a:lnTo>
                  <a:pt x="3605" y="3664"/>
                </a:lnTo>
                <a:lnTo>
                  <a:pt x="3624" y="3638"/>
                </a:lnTo>
                <a:lnTo>
                  <a:pt x="3638" y="3638"/>
                </a:lnTo>
                <a:lnTo>
                  <a:pt x="3664" y="3611"/>
                </a:lnTo>
                <a:lnTo>
                  <a:pt x="3677" y="3598"/>
                </a:lnTo>
                <a:lnTo>
                  <a:pt x="3697" y="3572"/>
                </a:lnTo>
                <a:lnTo>
                  <a:pt x="3730" y="3552"/>
                </a:lnTo>
                <a:lnTo>
                  <a:pt x="3763" y="3539"/>
                </a:lnTo>
                <a:lnTo>
                  <a:pt x="3803" y="3512"/>
                </a:lnTo>
                <a:lnTo>
                  <a:pt x="3836" y="3486"/>
                </a:lnTo>
                <a:lnTo>
                  <a:pt x="3849" y="3466"/>
                </a:lnTo>
                <a:lnTo>
                  <a:pt x="3849" y="3472"/>
                </a:lnTo>
                <a:lnTo>
                  <a:pt x="3955" y="3367"/>
                </a:lnTo>
                <a:lnTo>
                  <a:pt x="4087" y="3253"/>
                </a:lnTo>
                <a:lnTo>
                  <a:pt x="4173" y="3220"/>
                </a:lnTo>
                <a:lnTo>
                  <a:pt x="4292" y="319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4253040" y="82440"/>
            <a:ext cx="1329120" cy="1152720"/>
          </a:xfrm>
          <a:custGeom>
            <a:avLst/>
            <a:gdLst/>
            <a:ahLst/>
            <a:rect l="0" t="0" r="r" b="b"/>
            <a:pathLst>
              <a:path fill="none" w="3692" h="3202">
                <a:moveTo>
                  <a:pt x="0" y="0"/>
                </a:moveTo>
                <a:lnTo>
                  <a:pt x="39" y="46"/>
                </a:lnTo>
                <a:lnTo>
                  <a:pt x="59" y="105"/>
                </a:lnTo>
                <a:lnTo>
                  <a:pt x="119" y="145"/>
                </a:lnTo>
                <a:lnTo>
                  <a:pt x="178" y="185"/>
                </a:lnTo>
                <a:lnTo>
                  <a:pt x="218" y="244"/>
                </a:lnTo>
                <a:lnTo>
                  <a:pt x="257" y="304"/>
                </a:lnTo>
                <a:lnTo>
                  <a:pt x="317" y="304"/>
                </a:lnTo>
                <a:lnTo>
                  <a:pt x="377" y="383"/>
                </a:lnTo>
                <a:lnTo>
                  <a:pt x="396" y="443"/>
                </a:lnTo>
                <a:lnTo>
                  <a:pt x="416" y="502"/>
                </a:lnTo>
                <a:lnTo>
                  <a:pt x="436" y="562"/>
                </a:lnTo>
                <a:lnTo>
                  <a:pt x="456" y="621"/>
                </a:lnTo>
                <a:lnTo>
                  <a:pt x="515" y="661"/>
                </a:lnTo>
                <a:lnTo>
                  <a:pt x="575" y="701"/>
                </a:lnTo>
                <a:lnTo>
                  <a:pt x="635" y="740"/>
                </a:lnTo>
                <a:lnTo>
                  <a:pt x="694" y="760"/>
                </a:lnTo>
                <a:lnTo>
                  <a:pt x="754" y="800"/>
                </a:lnTo>
                <a:lnTo>
                  <a:pt x="853" y="840"/>
                </a:lnTo>
                <a:lnTo>
                  <a:pt x="912" y="859"/>
                </a:lnTo>
                <a:lnTo>
                  <a:pt x="973" y="899"/>
                </a:lnTo>
                <a:lnTo>
                  <a:pt x="1052" y="939"/>
                </a:lnTo>
                <a:lnTo>
                  <a:pt x="1112" y="978"/>
                </a:lnTo>
                <a:lnTo>
                  <a:pt x="1191" y="998"/>
                </a:lnTo>
                <a:lnTo>
                  <a:pt x="1251" y="1038"/>
                </a:lnTo>
                <a:lnTo>
                  <a:pt x="1310" y="1117"/>
                </a:lnTo>
                <a:lnTo>
                  <a:pt x="1350" y="1177"/>
                </a:lnTo>
                <a:lnTo>
                  <a:pt x="1409" y="1236"/>
                </a:lnTo>
                <a:lnTo>
                  <a:pt x="1489" y="1296"/>
                </a:lnTo>
                <a:lnTo>
                  <a:pt x="1548" y="1336"/>
                </a:lnTo>
                <a:lnTo>
                  <a:pt x="1608" y="1355"/>
                </a:lnTo>
                <a:lnTo>
                  <a:pt x="1667" y="1375"/>
                </a:lnTo>
                <a:lnTo>
                  <a:pt x="1727" y="1395"/>
                </a:lnTo>
                <a:lnTo>
                  <a:pt x="1826" y="1475"/>
                </a:lnTo>
                <a:lnTo>
                  <a:pt x="1886" y="1494"/>
                </a:lnTo>
                <a:lnTo>
                  <a:pt x="1985" y="1554"/>
                </a:lnTo>
                <a:lnTo>
                  <a:pt x="2064" y="1634"/>
                </a:lnTo>
                <a:lnTo>
                  <a:pt x="2124" y="1654"/>
                </a:lnTo>
                <a:lnTo>
                  <a:pt x="2183" y="1714"/>
                </a:lnTo>
                <a:lnTo>
                  <a:pt x="2243" y="1753"/>
                </a:lnTo>
                <a:lnTo>
                  <a:pt x="2302" y="1813"/>
                </a:lnTo>
                <a:lnTo>
                  <a:pt x="2342" y="1872"/>
                </a:lnTo>
                <a:lnTo>
                  <a:pt x="2382" y="1932"/>
                </a:lnTo>
                <a:lnTo>
                  <a:pt x="2461" y="2011"/>
                </a:lnTo>
                <a:lnTo>
                  <a:pt x="2521" y="2051"/>
                </a:lnTo>
                <a:lnTo>
                  <a:pt x="2560" y="2111"/>
                </a:lnTo>
                <a:lnTo>
                  <a:pt x="2620" y="2150"/>
                </a:lnTo>
                <a:lnTo>
                  <a:pt x="2679" y="2230"/>
                </a:lnTo>
                <a:lnTo>
                  <a:pt x="2739" y="2289"/>
                </a:lnTo>
                <a:lnTo>
                  <a:pt x="2799" y="2309"/>
                </a:lnTo>
                <a:lnTo>
                  <a:pt x="2859" y="2369"/>
                </a:lnTo>
                <a:lnTo>
                  <a:pt x="2919" y="2388"/>
                </a:lnTo>
                <a:lnTo>
                  <a:pt x="2978" y="2408"/>
                </a:lnTo>
                <a:lnTo>
                  <a:pt x="3038" y="2408"/>
                </a:lnTo>
                <a:lnTo>
                  <a:pt x="3097" y="2428"/>
                </a:lnTo>
                <a:lnTo>
                  <a:pt x="3177" y="2468"/>
                </a:lnTo>
                <a:lnTo>
                  <a:pt x="3216" y="2527"/>
                </a:lnTo>
                <a:lnTo>
                  <a:pt x="3276" y="2607"/>
                </a:lnTo>
                <a:lnTo>
                  <a:pt x="3335" y="2666"/>
                </a:lnTo>
                <a:lnTo>
                  <a:pt x="3355" y="2726"/>
                </a:lnTo>
                <a:lnTo>
                  <a:pt x="3395" y="2785"/>
                </a:lnTo>
                <a:lnTo>
                  <a:pt x="3454" y="2865"/>
                </a:lnTo>
                <a:lnTo>
                  <a:pt x="3474" y="2924"/>
                </a:lnTo>
                <a:lnTo>
                  <a:pt x="3514" y="2984"/>
                </a:lnTo>
                <a:lnTo>
                  <a:pt x="3554" y="3043"/>
                </a:lnTo>
                <a:lnTo>
                  <a:pt x="3573" y="3103"/>
                </a:lnTo>
                <a:lnTo>
                  <a:pt x="3633" y="3162"/>
                </a:lnTo>
                <a:lnTo>
                  <a:pt x="3692" y="3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3898800" y="1852560"/>
            <a:ext cx="1679760" cy="1421280"/>
          </a:xfrm>
          <a:custGeom>
            <a:avLst/>
            <a:gdLst/>
            <a:ahLst/>
            <a:rect l="0" t="0" r="r" b="b"/>
            <a:pathLst>
              <a:path fill="none" w="4666" h="3948">
                <a:moveTo>
                  <a:pt x="0" y="3948"/>
                </a:moveTo>
                <a:lnTo>
                  <a:pt x="33" y="3823"/>
                </a:lnTo>
                <a:lnTo>
                  <a:pt x="271" y="3591"/>
                </a:lnTo>
                <a:lnTo>
                  <a:pt x="528" y="3334"/>
                </a:lnTo>
                <a:lnTo>
                  <a:pt x="694" y="3228"/>
                </a:lnTo>
                <a:lnTo>
                  <a:pt x="912" y="2909"/>
                </a:lnTo>
                <a:lnTo>
                  <a:pt x="1018" y="2637"/>
                </a:lnTo>
                <a:lnTo>
                  <a:pt x="1137" y="2520"/>
                </a:lnTo>
                <a:lnTo>
                  <a:pt x="1269" y="2295"/>
                </a:lnTo>
                <a:lnTo>
                  <a:pt x="1461" y="2023"/>
                </a:lnTo>
                <a:lnTo>
                  <a:pt x="1672" y="1567"/>
                </a:lnTo>
                <a:lnTo>
                  <a:pt x="1970" y="1357"/>
                </a:lnTo>
                <a:lnTo>
                  <a:pt x="2082" y="1362"/>
                </a:lnTo>
                <a:lnTo>
                  <a:pt x="2254" y="1467"/>
                </a:lnTo>
                <a:lnTo>
                  <a:pt x="2307" y="1567"/>
                </a:lnTo>
                <a:lnTo>
                  <a:pt x="2447" y="1660"/>
                </a:lnTo>
                <a:lnTo>
                  <a:pt x="2645" y="1746"/>
                </a:lnTo>
                <a:lnTo>
                  <a:pt x="2764" y="1673"/>
                </a:lnTo>
                <a:lnTo>
                  <a:pt x="2982" y="1389"/>
                </a:lnTo>
                <a:lnTo>
                  <a:pt x="3029" y="1350"/>
                </a:lnTo>
                <a:lnTo>
                  <a:pt x="3101" y="1335"/>
                </a:lnTo>
                <a:lnTo>
                  <a:pt x="3209" y="1291"/>
                </a:lnTo>
                <a:lnTo>
                  <a:pt x="3273" y="1220"/>
                </a:lnTo>
                <a:lnTo>
                  <a:pt x="3315" y="1149"/>
                </a:lnTo>
                <a:lnTo>
                  <a:pt x="3361" y="1036"/>
                </a:lnTo>
                <a:lnTo>
                  <a:pt x="3427" y="997"/>
                </a:lnTo>
                <a:lnTo>
                  <a:pt x="3529" y="964"/>
                </a:lnTo>
                <a:lnTo>
                  <a:pt x="3546" y="969"/>
                </a:lnTo>
                <a:lnTo>
                  <a:pt x="3665" y="957"/>
                </a:lnTo>
                <a:lnTo>
                  <a:pt x="3721" y="935"/>
                </a:lnTo>
                <a:lnTo>
                  <a:pt x="3784" y="864"/>
                </a:lnTo>
                <a:lnTo>
                  <a:pt x="3848" y="839"/>
                </a:lnTo>
                <a:lnTo>
                  <a:pt x="3912" y="793"/>
                </a:lnTo>
                <a:lnTo>
                  <a:pt x="3998" y="697"/>
                </a:lnTo>
                <a:lnTo>
                  <a:pt x="4062" y="651"/>
                </a:lnTo>
                <a:lnTo>
                  <a:pt x="4126" y="626"/>
                </a:lnTo>
                <a:lnTo>
                  <a:pt x="4168" y="555"/>
                </a:lnTo>
                <a:lnTo>
                  <a:pt x="4232" y="509"/>
                </a:lnTo>
                <a:lnTo>
                  <a:pt x="4254" y="438"/>
                </a:lnTo>
                <a:lnTo>
                  <a:pt x="4298" y="342"/>
                </a:lnTo>
                <a:lnTo>
                  <a:pt x="4362" y="271"/>
                </a:lnTo>
                <a:lnTo>
                  <a:pt x="4426" y="200"/>
                </a:lnTo>
                <a:lnTo>
                  <a:pt x="4490" y="105"/>
                </a:lnTo>
                <a:lnTo>
                  <a:pt x="4554" y="34"/>
                </a:lnTo>
                <a:lnTo>
                  <a:pt x="4618" y="12"/>
                </a:lnTo>
                <a:lnTo>
                  <a:pt x="466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3949560" y="1908000"/>
            <a:ext cx="1632240" cy="1365480"/>
          </a:xfrm>
          <a:custGeom>
            <a:avLst/>
            <a:gdLst/>
            <a:ahLst/>
            <a:rect l="0" t="0" r="r" b="b"/>
            <a:pathLst>
              <a:path fill="none" w="4534" h="3793">
                <a:moveTo>
                  <a:pt x="4534" y="0"/>
                </a:moveTo>
                <a:lnTo>
                  <a:pt x="4492" y="63"/>
                </a:lnTo>
                <a:lnTo>
                  <a:pt x="4428" y="127"/>
                </a:lnTo>
                <a:lnTo>
                  <a:pt x="4364" y="171"/>
                </a:lnTo>
                <a:lnTo>
                  <a:pt x="4320" y="235"/>
                </a:lnTo>
                <a:lnTo>
                  <a:pt x="4278" y="299"/>
                </a:lnTo>
                <a:lnTo>
                  <a:pt x="4236" y="363"/>
                </a:lnTo>
                <a:lnTo>
                  <a:pt x="4192" y="427"/>
                </a:lnTo>
                <a:lnTo>
                  <a:pt x="4150" y="491"/>
                </a:lnTo>
                <a:lnTo>
                  <a:pt x="4086" y="533"/>
                </a:lnTo>
                <a:lnTo>
                  <a:pt x="4022" y="597"/>
                </a:lnTo>
                <a:lnTo>
                  <a:pt x="3958" y="641"/>
                </a:lnTo>
                <a:lnTo>
                  <a:pt x="3894" y="705"/>
                </a:lnTo>
                <a:lnTo>
                  <a:pt x="3808" y="747"/>
                </a:lnTo>
                <a:lnTo>
                  <a:pt x="3744" y="811"/>
                </a:lnTo>
                <a:lnTo>
                  <a:pt x="3680" y="833"/>
                </a:lnTo>
                <a:lnTo>
                  <a:pt x="3649" y="890"/>
                </a:lnTo>
                <a:lnTo>
                  <a:pt x="3605" y="930"/>
                </a:lnTo>
                <a:lnTo>
                  <a:pt x="3539" y="956"/>
                </a:lnTo>
                <a:lnTo>
                  <a:pt x="3504" y="987"/>
                </a:lnTo>
                <a:lnTo>
                  <a:pt x="3459" y="1040"/>
                </a:lnTo>
                <a:lnTo>
                  <a:pt x="3362" y="1128"/>
                </a:lnTo>
                <a:lnTo>
                  <a:pt x="3279" y="1177"/>
                </a:lnTo>
                <a:lnTo>
                  <a:pt x="3217" y="1212"/>
                </a:lnTo>
                <a:lnTo>
                  <a:pt x="3173" y="1265"/>
                </a:lnTo>
                <a:lnTo>
                  <a:pt x="3111" y="1309"/>
                </a:lnTo>
                <a:lnTo>
                  <a:pt x="3089" y="1375"/>
                </a:lnTo>
                <a:lnTo>
                  <a:pt x="3018" y="1428"/>
                </a:lnTo>
                <a:lnTo>
                  <a:pt x="2956" y="1521"/>
                </a:lnTo>
                <a:lnTo>
                  <a:pt x="2859" y="1569"/>
                </a:lnTo>
                <a:lnTo>
                  <a:pt x="2811" y="1631"/>
                </a:lnTo>
                <a:lnTo>
                  <a:pt x="2731" y="1697"/>
                </a:lnTo>
                <a:lnTo>
                  <a:pt x="2648" y="1737"/>
                </a:lnTo>
                <a:lnTo>
                  <a:pt x="2581" y="1755"/>
                </a:lnTo>
                <a:lnTo>
                  <a:pt x="2506" y="1746"/>
                </a:lnTo>
                <a:lnTo>
                  <a:pt x="2392" y="1737"/>
                </a:lnTo>
                <a:lnTo>
                  <a:pt x="2315" y="1642"/>
                </a:lnTo>
                <a:lnTo>
                  <a:pt x="2250" y="1600"/>
                </a:lnTo>
                <a:lnTo>
                  <a:pt x="2186" y="1536"/>
                </a:lnTo>
                <a:lnTo>
                  <a:pt x="2119" y="1494"/>
                </a:lnTo>
                <a:lnTo>
                  <a:pt x="2077" y="1430"/>
                </a:lnTo>
                <a:lnTo>
                  <a:pt x="2014" y="1408"/>
                </a:lnTo>
                <a:lnTo>
                  <a:pt x="1950" y="1386"/>
                </a:lnTo>
                <a:lnTo>
                  <a:pt x="1888" y="1318"/>
                </a:lnTo>
                <a:lnTo>
                  <a:pt x="1800" y="1386"/>
                </a:lnTo>
                <a:lnTo>
                  <a:pt x="1758" y="1450"/>
                </a:lnTo>
                <a:lnTo>
                  <a:pt x="1716" y="1514"/>
                </a:lnTo>
                <a:lnTo>
                  <a:pt x="1672" y="1578"/>
                </a:lnTo>
                <a:lnTo>
                  <a:pt x="1608" y="1642"/>
                </a:lnTo>
                <a:lnTo>
                  <a:pt x="1566" y="1708"/>
                </a:lnTo>
                <a:lnTo>
                  <a:pt x="1502" y="1772"/>
                </a:lnTo>
                <a:lnTo>
                  <a:pt x="1458" y="1836"/>
                </a:lnTo>
                <a:lnTo>
                  <a:pt x="1416" y="1901"/>
                </a:lnTo>
                <a:lnTo>
                  <a:pt x="1352" y="1965"/>
                </a:lnTo>
                <a:lnTo>
                  <a:pt x="1330" y="2029"/>
                </a:lnTo>
                <a:lnTo>
                  <a:pt x="1288" y="2093"/>
                </a:lnTo>
                <a:lnTo>
                  <a:pt x="1224" y="2177"/>
                </a:lnTo>
                <a:lnTo>
                  <a:pt x="1182" y="2241"/>
                </a:lnTo>
                <a:lnTo>
                  <a:pt x="1118" y="2305"/>
                </a:lnTo>
                <a:lnTo>
                  <a:pt x="1074" y="2371"/>
                </a:lnTo>
                <a:lnTo>
                  <a:pt x="1032" y="2435"/>
                </a:lnTo>
                <a:lnTo>
                  <a:pt x="990" y="2499"/>
                </a:lnTo>
                <a:lnTo>
                  <a:pt x="946" y="2563"/>
                </a:lnTo>
                <a:lnTo>
                  <a:pt x="904" y="2626"/>
                </a:lnTo>
                <a:lnTo>
                  <a:pt x="862" y="2690"/>
                </a:lnTo>
                <a:lnTo>
                  <a:pt x="818" y="2754"/>
                </a:lnTo>
                <a:lnTo>
                  <a:pt x="776" y="2818"/>
                </a:lnTo>
                <a:lnTo>
                  <a:pt x="754" y="2882"/>
                </a:lnTo>
                <a:lnTo>
                  <a:pt x="712" y="2946"/>
                </a:lnTo>
                <a:lnTo>
                  <a:pt x="668" y="3010"/>
                </a:lnTo>
                <a:lnTo>
                  <a:pt x="626" y="3074"/>
                </a:lnTo>
                <a:lnTo>
                  <a:pt x="562" y="3160"/>
                </a:lnTo>
                <a:lnTo>
                  <a:pt x="520" y="3224"/>
                </a:lnTo>
                <a:lnTo>
                  <a:pt x="456" y="3244"/>
                </a:lnTo>
                <a:lnTo>
                  <a:pt x="392" y="3288"/>
                </a:lnTo>
                <a:lnTo>
                  <a:pt x="348" y="3352"/>
                </a:lnTo>
                <a:lnTo>
                  <a:pt x="284" y="3394"/>
                </a:lnTo>
                <a:lnTo>
                  <a:pt x="220" y="3458"/>
                </a:lnTo>
                <a:lnTo>
                  <a:pt x="178" y="3522"/>
                </a:lnTo>
                <a:lnTo>
                  <a:pt x="114" y="3586"/>
                </a:lnTo>
                <a:lnTo>
                  <a:pt x="70" y="3650"/>
                </a:lnTo>
                <a:lnTo>
                  <a:pt x="28" y="3713"/>
                </a:lnTo>
                <a:lnTo>
                  <a:pt x="0" y="37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4008600" y="2065320"/>
            <a:ext cx="1575000" cy="1208520"/>
          </a:xfrm>
          <a:custGeom>
            <a:avLst/>
            <a:gdLst/>
            <a:ahLst/>
            <a:rect l="0" t="0" r="r" b="b"/>
            <a:pathLst>
              <a:path fill="none" w="4375" h="3357">
                <a:moveTo>
                  <a:pt x="4375" y="0"/>
                </a:moveTo>
                <a:lnTo>
                  <a:pt x="4326" y="13"/>
                </a:lnTo>
                <a:lnTo>
                  <a:pt x="4262" y="33"/>
                </a:lnTo>
                <a:lnTo>
                  <a:pt x="4199" y="77"/>
                </a:lnTo>
                <a:lnTo>
                  <a:pt x="4135" y="97"/>
                </a:lnTo>
                <a:lnTo>
                  <a:pt x="4071" y="141"/>
                </a:lnTo>
                <a:lnTo>
                  <a:pt x="4027" y="224"/>
                </a:lnTo>
                <a:lnTo>
                  <a:pt x="3963" y="288"/>
                </a:lnTo>
                <a:lnTo>
                  <a:pt x="3899" y="352"/>
                </a:lnTo>
                <a:lnTo>
                  <a:pt x="3835" y="396"/>
                </a:lnTo>
                <a:lnTo>
                  <a:pt x="3771" y="460"/>
                </a:lnTo>
                <a:lnTo>
                  <a:pt x="3707" y="502"/>
                </a:lnTo>
                <a:lnTo>
                  <a:pt x="3665" y="566"/>
                </a:lnTo>
                <a:lnTo>
                  <a:pt x="3630" y="648"/>
                </a:lnTo>
                <a:lnTo>
                  <a:pt x="3586" y="727"/>
                </a:lnTo>
                <a:lnTo>
                  <a:pt x="3475" y="784"/>
                </a:lnTo>
                <a:lnTo>
                  <a:pt x="3356" y="815"/>
                </a:lnTo>
                <a:lnTo>
                  <a:pt x="3279" y="845"/>
                </a:lnTo>
                <a:lnTo>
                  <a:pt x="3215" y="909"/>
                </a:lnTo>
                <a:lnTo>
                  <a:pt x="3151" y="973"/>
                </a:lnTo>
                <a:lnTo>
                  <a:pt x="3109" y="1037"/>
                </a:lnTo>
                <a:lnTo>
                  <a:pt x="3045" y="1079"/>
                </a:lnTo>
                <a:lnTo>
                  <a:pt x="3004" y="1143"/>
                </a:lnTo>
                <a:lnTo>
                  <a:pt x="2940" y="1187"/>
                </a:lnTo>
                <a:lnTo>
                  <a:pt x="2876" y="1229"/>
                </a:lnTo>
                <a:lnTo>
                  <a:pt x="2812" y="1273"/>
                </a:lnTo>
                <a:lnTo>
                  <a:pt x="2748" y="1293"/>
                </a:lnTo>
                <a:lnTo>
                  <a:pt x="2684" y="1315"/>
                </a:lnTo>
                <a:lnTo>
                  <a:pt x="2618" y="1356"/>
                </a:lnTo>
                <a:lnTo>
                  <a:pt x="2554" y="1379"/>
                </a:lnTo>
                <a:lnTo>
                  <a:pt x="2490" y="1379"/>
                </a:lnTo>
                <a:lnTo>
                  <a:pt x="2426" y="1401"/>
                </a:lnTo>
                <a:lnTo>
                  <a:pt x="2362" y="1420"/>
                </a:lnTo>
                <a:lnTo>
                  <a:pt x="2278" y="1442"/>
                </a:lnTo>
                <a:lnTo>
                  <a:pt x="2169" y="1442"/>
                </a:lnTo>
                <a:lnTo>
                  <a:pt x="2105" y="1420"/>
                </a:lnTo>
                <a:lnTo>
                  <a:pt x="2041" y="1379"/>
                </a:lnTo>
                <a:lnTo>
                  <a:pt x="1977" y="1356"/>
                </a:lnTo>
                <a:lnTo>
                  <a:pt x="1913" y="1315"/>
                </a:lnTo>
                <a:lnTo>
                  <a:pt x="1849" y="1293"/>
                </a:lnTo>
                <a:lnTo>
                  <a:pt x="1785" y="1273"/>
                </a:lnTo>
                <a:lnTo>
                  <a:pt x="1721" y="1251"/>
                </a:lnTo>
                <a:lnTo>
                  <a:pt x="1649" y="1185"/>
                </a:lnTo>
                <a:lnTo>
                  <a:pt x="1572" y="1251"/>
                </a:lnTo>
                <a:lnTo>
                  <a:pt x="1508" y="1273"/>
                </a:lnTo>
                <a:lnTo>
                  <a:pt x="1466" y="1337"/>
                </a:lnTo>
                <a:lnTo>
                  <a:pt x="1402" y="1379"/>
                </a:lnTo>
                <a:lnTo>
                  <a:pt x="1338" y="1420"/>
                </a:lnTo>
                <a:lnTo>
                  <a:pt x="1274" y="1484"/>
                </a:lnTo>
                <a:lnTo>
                  <a:pt x="1252" y="1548"/>
                </a:lnTo>
                <a:lnTo>
                  <a:pt x="1210" y="1612"/>
                </a:lnTo>
                <a:lnTo>
                  <a:pt x="1166" y="1676"/>
                </a:lnTo>
                <a:lnTo>
                  <a:pt x="1124" y="1740"/>
                </a:lnTo>
                <a:lnTo>
                  <a:pt x="1082" y="1804"/>
                </a:lnTo>
                <a:lnTo>
                  <a:pt x="1038" y="1868"/>
                </a:lnTo>
                <a:lnTo>
                  <a:pt x="996" y="1934"/>
                </a:lnTo>
                <a:lnTo>
                  <a:pt x="954" y="1998"/>
                </a:lnTo>
                <a:lnTo>
                  <a:pt x="910" y="2062"/>
                </a:lnTo>
                <a:lnTo>
                  <a:pt x="868" y="2126"/>
                </a:lnTo>
                <a:lnTo>
                  <a:pt x="826" y="2190"/>
                </a:lnTo>
                <a:lnTo>
                  <a:pt x="782" y="2254"/>
                </a:lnTo>
                <a:lnTo>
                  <a:pt x="762" y="2318"/>
                </a:lnTo>
                <a:lnTo>
                  <a:pt x="698" y="2382"/>
                </a:lnTo>
                <a:lnTo>
                  <a:pt x="676" y="2446"/>
                </a:lnTo>
                <a:lnTo>
                  <a:pt x="612" y="2510"/>
                </a:lnTo>
                <a:lnTo>
                  <a:pt x="568" y="2575"/>
                </a:lnTo>
                <a:lnTo>
                  <a:pt x="549" y="2639"/>
                </a:lnTo>
                <a:lnTo>
                  <a:pt x="526" y="2702"/>
                </a:lnTo>
                <a:lnTo>
                  <a:pt x="463" y="2766"/>
                </a:lnTo>
                <a:lnTo>
                  <a:pt x="399" y="2830"/>
                </a:lnTo>
                <a:lnTo>
                  <a:pt x="335" y="2894"/>
                </a:lnTo>
                <a:lnTo>
                  <a:pt x="271" y="2958"/>
                </a:lnTo>
                <a:lnTo>
                  <a:pt x="229" y="3022"/>
                </a:lnTo>
                <a:lnTo>
                  <a:pt x="165" y="3064"/>
                </a:lnTo>
                <a:lnTo>
                  <a:pt x="121" y="3128"/>
                </a:lnTo>
                <a:lnTo>
                  <a:pt x="79" y="3192"/>
                </a:lnTo>
                <a:lnTo>
                  <a:pt x="37" y="3258"/>
                </a:lnTo>
                <a:lnTo>
                  <a:pt x="0" y="33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>
            <a:off x="4091040" y="2244600"/>
            <a:ext cx="1492560" cy="1027440"/>
          </a:xfrm>
          <a:custGeom>
            <a:avLst/>
            <a:gdLst/>
            <a:ahLst/>
            <a:rect l="0" t="0" r="r" b="b"/>
            <a:pathLst>
              <a:path fill="none" w="4146" h="2854">
                <a:moveTo>
                  <a:pt x="4146" y="0"/>
                </a:moveTo>
                <a:lnTo>
                  <a:pt x="4097" y="46"/>
                </a:lnTo>
                <a:lnTo>
                  <a:pt x="4033" y="68"/>
                </a:lnTo>
                <a:lnTo>
                  <a:pt x="3969" y="90"/>
                </a:lnTo>
                <a:lnTo>
                  <a:pt x="3905" y="112"/>
                </a:lnTo>
                <a:lnTo>
                  <a:pt x="3841" y="154"/>
                </a:lnTo>
                <a:lnTo>
                  <a:pt x="3777" y="176"/>
                </a:lnTo>
                <a:lnTo>
                  <a:pt x="3711" y="240"/>
                </a:lnTo>
                <a:lnTo>
                  <a:pt x="3669" y="304"/>
                </a:lnTo>
                <a:lnTo>
                  <a:pt x="3605" y="346"/>
                </a:lnTo>
                <a:lnTo>
                  <a:pt x="3542" y="388"/>
                </a:lnTo>
                <a:lnTo>
                  <a:pt x="3478" y="432"/>
                </a:lnTo>
                <a:lnTo>
                  <a:pt x="3414" y="474"/>
                </a:lnTo>
                <a:lnTo>
                  <a:pt x="3350" y="496"/>
                </a:lnTo>
                <a:lnTo>
                  <a:pt x="3286" y="537"/>
                </a:lnTo>
                <a:lnTo>
                  <a:pt x="3222" y="579"/>
                </a:lnTo>
                <a:lnTo>
                  <a:pt x="3158" y="643"/>
                </a:lnTo>
                <a:lnTo>
                  <a:pt x="3072" y="707"/>
                </a:lnTo>
                <a:lnTo>
                  <a:pt x="3008" y="751"/>
                </a:lnTo>
                <a:lnTo>
                  <a:pt x="2922" y="793"/>
                </a:lnTo>
                <a:lnTo>
                  <a:pt x="2838" y="857"/>
                </a:lnTo>
                <a:lnTo>
                  <a:pt x="2774" y="901"/>
                </a:lnTo>
                <a:lnTo>
                  <a:pt x="2710" y="943"/>
                </a:lnTo>
                <a:lnTo>
                  <a:pt x="2624" y="985"/>
                </a:lnTo>
                <a:lnTo>
                  <a:pt x="2560" y="1029"/>
                </a:lnTo>
                <a:lnTo>
                  <a:pt x="2496" y="1049"/>
                </a:lnTo>
                <a:lnTo>
                  <a:pt x="2432" y="1071"/>
                </a:lnTo>
                <a:lnTo>
                  <a:pt x="2369" y="1071"/>
                </a:lnTo>
                <a:lnTo>
                  <a:pt x="2283" y="1093"/>
                </a:lnTo>
                <a:lnTo>
                  <a:pt x="2197" y="1113"/>
                </a:lnTo>
                <a:lnTo>
                  <a:pt x="2133" y="1113"/>
                </a:lnTo>
                <a:lnTo>
                  <a:pt x="2048" y="1113"/>
                </a:lnTo>
                <a:lnTo>
                  <a:pt x="1984" y="1135"/>
                </a:lnTo>
                <a:lnTo>
                  <a:pt x="1920" y="1135"/>
                </a:lnTo>
                <a:lnTo>
                  <a:pt x="1856" y="1113"/>
                </a:lnTo>
                <a:lnTo>
                  <a:pt x="1792" y="1093"/>
                </a:lnTo>
                <a:lnTo>
                  <a:pt x="1726" y="1093"/>
                </a:lnTo>
                <a:lnTo>
                  <a:pt x="1662" y="1071"/>
                </a:lnTo>
                <a:lnTo>
                  <a:pt x="1578" y="1029"/>
                </a:lnTo>
                <a:lnTo>
                  <a:pt x="1514" y="1007"/>
                </a:lnTo>
                <a:lnTo>
                  <a:pt x="1426" y="978"/>
                </a:lnTo>
                <a:lnTo>
                  <a:pt x="1349" y="923"/>
                </a:lnTo>
                <a:lnTo>
                  <a:pt x="1274" y="963"/>
                </a:lnTo>
                <a:lnTo>
                  <a:pt x="1172" y="1029"/>
                </a:lnTo>
                <a:lnTo>
                  <a:pt x="1109" y="1049"/>
                </a:lnTo>
                <a:lnTo>
                  <a:pt x="1064" y="1113"/>
                </a:lnTo>
                <a:lnTo>
                  <a:pt x="1001" y="1177"/>
                </a:lnTo>
                <a:lnTo>
                  <a:pt x="959" y="1241"/>
                </a:lnTo>
                <a:lnTo>
                  <a:pt x="937" y="1305"/>
                </a:lnTo>
                <a:lnTo>
                  <a:pt x="895" y="1369"/>
                </a:lnTo>
                <a:lnTo>
                  <a:pt x="853" y="1436"/>
                </a:lnTo>
                <a:lnTo>
                  <a:pt x="831" y="1500"/>
                </a:lnTo>
                <a:lnTo>
                  <a:pt x="767" y="1542"/>
                </a:lnTo>
                <a:lnTo>
                  <a:pt x="725" y="1628"/>
                </a:lnTo>
                <a:lnTo>
                  <a:pt x="661" y="1692"/>
                </a:lnTo>
                <a:lnTo>
                  <a:pt x="639" y="1756"/>
                </a:lnTo>
                <a:lnTo>
                  <a:pt x="597" y="1820"/>
                </a:lnTo>
                <a:lnTo>
                  <a:pt x="553" y="1883"/>
                </a:lnTo>
                <a:lnTo>
                  <a:pt x="511" y="1947"/>
                </a:lnTo>
                <a:lnTo>
                  <a:pt x="489" y="2011"/>
                </a:lnTo>
                <a:lnTo>
                  <a:pt x="447" y="2075"/>
                </a:lnTo>
                <a:lnTo>
                  <a:pt x="403" y="2139"/>
                </a:lnTo>
                <a:lnTo>
                  <a:pt x="361" y="2203"/>
                </a:lnTo>
                <a:lnTo>
                  <a:pt x="339" y="2267"/>
                </a:lnTo>
                <a:lnTo>
                  <a:pt x="297" y="2331"/>
                </a:lnTo>
                <a:lnTo>
                  <a:pt x="255" y="2395"/>
                </a:lnTo>
                <a:lnTo>
                  <a:pt x="211" y="2459"/>
                </a:lnTo>
                <a:lnTo>
                  <a:pt x="169" y="2523"/>
                </a:lnTo>
                <a:lnTo>
                  <a:pt x="127" y="2587"/>
                </a:lnTo>
                <a:lnTo>
                  <a:pt x="83" y="2651"/>
                </a:lnTo>
                <a:lnTo>
                  <a:pt x="63" y="2715"/>
                </a:lnTo>
                <a:lnTo>
                  <a:pt x="19" y="2779"/>
                </a:lnTo>
                <a:lnTo>
                  <a:pt x="0" y="285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4124160" y="2502000"/>
            <a:ext cx="1459440" cy="771840"/>
          </a:xfrm>
          <a:custGeom>
            <a:avLst/>
            <a:gdLst/>
            <a:ahLst/>
            <a:rect l="0" t="0" r="r" b="b"/>
            <a:pathLst>
              <a:path fill="none" w="4054" h="2144">
                <a:moveTo>
                  <a:pt x="4054" y="0"/>
                </a:moveTo>
                <a:lnTo>
                  <a:pt x="4006" y="15"/>
                </a:lnTo>
                <a:lnTo>
                  <a:pt x="3942" y="37"/>
                </a:lnTo>
                <a:lnTo>
                  <a:pt x="3878" y="79"/>
                </a:lnTo>
                <a:lnTo>
                  <a:pt x="3814" y="123"/>
                </a:lnTo>
                <a:lnTo>
                  <a:pt x="3750" y="165"/>
                </a:lnTo>
                <a:lnTo>
                  <a:pt x="3686" y="207"/>
                </a:lnTo>
                <a:lnTo>
                  <a:pt x="3620" y="251"/>
                </a:lnTo>
                <a:lnTo>
                  <a:pt x="3556" y="293"/>
                </a:lnTo>
                <a:lnTo>
                  <a:pt x="3472" y="357"/>
                </a:lnTo>
                <a:lnTo>
                  <a:pt x="3386" y="399"/>
                </a:lnTo>
                <a:lnTo>
                  <a:pt x="3322" y="443"/>
                </a:lnTo>
                <a:lnTo>
                  <a:pt x="3258" y="485"/>
                </a:lnTo>
                <a:lnTo>
                  <a:pt x="3152" y="526"/>
                </a:lnTo>
                <a:lnTo>
                  <a:pt x="3066" y="549"/>
                </a:lnTo>
                <a:lnTo>
                  <a:pt x="3001" y="571"/>
                </a:lnTo>
                <a:lnTo>
                  <a:pt x="2937" y="590"/>
                </a:lnTo>
                <a:lnTo>
                  <a:pt x="2809" y="612"/>
                </a:lnTo>
                <a:lnTo>
                  <a:pt x="2724" y="635"/>
                </a:lnTo>
                <a:lnTo>
                  <a:pt x="2510" y="635"/>
                </a:lnTo>
                <a:lnTo>
                  <a:pt x="2446" y="635"/>
                </a:lnTo>
                <a:lnTo>
                  <a:pt x="2382" y="654"/>
                </a:lnTo>
                <a:lnTo>
                  <a:pt x="2318" y="654"/>
                </a:lnTo>
                <a:lnTo>
                  <a:pt x="2232" y="654"/>
                </a:lnTo>
                <a:lnTo>
                  <a:pt x="2168" y="654"/>
                </a:lnTo>
                <a:lnTo>
                  <a:pt x="2104" y="654"/>
                </a:lnTo>
                <a:lnTo>
                  <a:pt x="2020" y="635"/>
                </a:lnTo>
                <a:lnTo>
                  <a:pt x="1934" y="635"/>
                </a:lnTo>
                <a:lnTo>
                  <a:pt x="1828" y="635"/>
                </a:lnTo>
                <a:lnTo>
                  <a:pt x="1764" y="635"/>
                </a:lnTo>
                <a:lnTo>
                  <a:pt x="1678" y="612"/>
                </a:lnTo>
                <a:lnTo>
                  <a:pt x="1614" y="590"/>
                </a:lnTo>
                <a:lnTo>
                  <a:pt x="1551" y="571"/>
                </a:lnTo>
                <a:lnTo>
                  <a:pt x="1423" y="571"/>
                </a:lnTo>
                <a:lnTo>
                  <a:pt x="1359" y="571"/>
                </a:lnTo>
                <a:lnTo>
                  <a:pt x="1290" y="535"/>
                </a:lnTo>
                <a:lnTo>
                  <a:pt x="1198" y="606"/>
                </a:lnTo>
                <a:lnTo>
                  <a:pt x="1138" y="646"/>
                </a:lnTo>
                <a:lnTo>
                  <a:pt x="1103" y="720"/>
                </a:lnTo>
                <a:lnTo>
                  <a:pt x="1039" y="762"/>
                </a:lnTo>
                <a:lnTo>
                  <a:pt x="972" y="826"/>
                </a:lnTo>
                <a:lnTo>
                  <a:pt x="908" y="890"/>
                </a:lnTo>
                <a:lnTo>
                  <a:pt x="866" y="954"/>
                </a:lnTo>
                <a:lnTo>
                  <a:pt x="802" y="1018"/>
                </a:lnTo>
                <a:lnTo>
                  <a:pt x="738" y="1060"/>
                </a:lnTo>
                <a:lnTo>
                  <a:pt x="674" y="1125"/>
                </a:lnTo>
                <a:lnTo>
                  <a:pt x="610" y="1169"/>
                </a:lnTo>
                <a:lnTo>
                  <a:pt x="568" y="1233"/>
                </a:lnTo>
                <a:lnTo>
                  <a:pt x="482" y="1317"/>
                </a:lnTo>
                <a:lnTo>
                  <a:pt x="440" y="1383"/>
                </a:lnTo>
                <a:lnTo>
                  <a:pt x="418" y="1447"/>
                </a:lnTo>
                <a:lnTo>
                  <a:pt x="377" y="1511"/>
                </a:lnTo>
                <a:lnTo>
                  <a:pt x="354" y="1575"/>
                </a:lnTo>
                <a:lnTo>
                  <a:pt x="310" y="1639"/>
                </a:lnTo>
                <a:lnTo>
                  <a:pt x="268" y="1703"/>
                </a:lnTo>
                <a:lnTo>
                  <a:pt x="246" y="1767"/>
                </a:lnTo>
                <a:lnTo>
                  <a:pt x="205" y="1831"/>
                </a:lnTo>
                <a:lnTo>
                  <a:pt x="183" y="1894"/>
                </a:lnTo>
                <a:lnTo>
                  <a:pt x="99" y="1978"/>
                </a:lnTo>
                <a:lnTo>
                  <a:pt x="55" y="2044"/>
                </a:lnTo>
                <a:lnTo>
                  <a:pt x="0" y="214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4175280" y="2716200"/>
            <a:ext cx="1408320" cy="560880"/>
          </a:xfrm>
          <a:custGeom>
            <a:avLst/>
            <a:gdLst/>
            <a:ahLst/>
            <a:rect l="0" t="0" r="r" b="b"/>
            <a:pathLst>
              <a:path fill="none" w="3912" h="1558">
                <a:moveTo>
                  <a:pt x="3912" y="0"/>
                </a:moveTo>
                <a:lnTo>
                  <a:pt x="3863" y="17"/>
                </a:lnTo>
                <a:lnTo>
                  <a:pt x="3819" y="81"/>
                </a:lnTo>
                <a:lnTo>
                  <a:pt x="3755" y="125"/>
                </a:lnTo>
                <a:lnTo>
                  <a:pt x="3691" y="167"/>
                </a:lnTo>
                <a:lnTo>
                  <a:pt x="3608" y="253"/>
                </a:lnTo>
                <a:lnTo>
                  <a:pt x="3500" y="317"/>
                </a:lnTo>
                <a:lnTo>
                  <a:pt x="3436" y="337"/>
                </a:lnTo>
                <a:lnTo>
                  <a:pt x="3372" y="359"/>
                </a:lnTo>
                <a:lnTo>
                  <a:pt x="3266" y="359"/>
                </a:lnTo>
                <a:lnTo>
                  <a:pt x="3202" y="359"/>
                </a:lnTo>
                <a:lnTo>
                  <a:pt x="3138" y="359"/>
                </a:lnTo>
                <a:lnTo>
                  <a:pt x="2541" y="337"/>
                </a:lnTo>
                <a:lnTo>
                  <a:pt x="2432" y="337"/>
                </a:lnTo>
                <a:lnTo>
                  <a:pt x="2369" y="337"/>
                </a:lnTo>
                <a:lnTo>
                  <a:pt x="2155" y="317"/>
                </a:lnTo>
                <a:lnTo>
                  <a:pt x="2071" y="295"/>
                </a:lnTo>
                <a:lnTo>
                  <a:pt x="2007" y="295"/>
                </a:lnTo>
                <a:lnTo>
                  <a:pt x="1942" y="253"/>
                </a:lnTo>
                <a:lnTo>
                  <a:pt x="1856" y="231"/>
                </a:lnTo>
                <a:lnTo>
                  <a:pt x="1770" y="231"/>
                </a:lnTo>
                <a:lnTo>
                  <a:pt x="1706" y="231"/>
                </a:lnTo>
                <a:lnTo>
                  <a:pt x="1622" y="231"/>
                </a:lnTo>
                <a:lnTo>
                  <a:pt x="1558" y="231"/>
                </a:lnTo>
                <a:lnTo>
                  <a:pt x="1472" y="231"/>
                </a:lnTo>
                <a:lnTo>
                  <a:pt x="1408" y="231"/>
                </a:lnTo>
                <a:lnTo>
                  <a:pt x="1344" y="231"/>
                </a:lnTo>
                <a:lnTo>
                  <a:pt x="1281" y="231"/>
                </a:lnTo>
                <a:lnTo>
                  <a:pt x="1217" y="231"/>
                </a:lnTo>
                <a:lnTo>
                  <a:pt x="1153" y="253"/>
                </a:lnTo>
                <a:lnTo>
                  <a:pt x="1089" y="273"/>
                </a:lnTo>
                <a:lnTo>
                  <a:pt x="1003" y="295"/>
                </a:lnTo>
                <a:lnTo>
                  <a:pt x="939" y="317"/>
                </a:lnTo>
                <a:lnTo>
                  <a:pt x="875" y="337"/>
                </a:lnTo>
                <a:lnTo>
                  <a:pt x="811" y="381"/>
                </a:lnTo>
                <a:lnTo>
                  <a:pt x="747" y="424"/>
                </a:lnTo>
                <a:lnTo>
                  <a:pt x="703" y="488"/>
                </a:lnTo>
                <a:lnTo>
                  <a:pt x="639" y="511"/>
                </a:lnTo>
                <a:lnTo>
                  <a:pt x="575" y="552"/>
                </a:lnTo>
                <a:lnTo>
                  <a:pt x="533" y="617"/>
                </a:lnTo>
                <a:lnTo>
                  <a:pt x="491" y="681"/>
                </a:lnTo>
                <a:lnTo>
                  <a:pt x="427" y="745"/>
                </a:lnTo>
                <a:lnTo>
                  <a:pt x="363" y="831"/>
                </a:lnTo>
                <a:lnTo>
                  <a:pt x="319" y="895"/>
                </a:lnTo>
                <a:lnTo>
                  <a:pt x="277" y="959"/>
                </a:lnTo>
                <a:lnTo>
                  <a:pt x="255" y="1023"/>
                </a:lnTo>
                <a:lnTo>
                  <a:pt x="235" y="1087"/>
                </a:lnTo>
                <a:lnTo>
                  <a:pt x="191" y="1174"/>
                </a:lnTo>
                <a:lnTo>
                  <a:pt x="149" y="1238"/>
                </a:lnTo>
                <a:lnTo>
                  <a:pt x="127" y="1302"/>
                </a:lnTo>
                <a:lnTo>
                  <a:pt x="105" y="1366"/>
                </a:lnTo>
                <a:lnTo>
                  <a:pt x="63" y="1430"/>
                </a:lnTo>
                <a:lnTo>
                  <a:pt x="22" y="1494"/>
                </a:lnTo>
                <a:lnTo>
                  <a:pt x="0" y="155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4227480" y="2906640"/>
            <a:ext cx="1356120" cy="367200"/>
          </a:xfrm>
          <a:custGeom>
            <a:avLst/>
            <a:gdLst/>
            <a:ahLst/>
            <a:rect l="0" t="0" r="r" b="b"/>
            <a:pathLst>
              <a:path fill="none" w="3767" h="1020">
                <a:moveTo>
                  <a:pt x="3767" y="216"/>
                </a:moveTo>
                <a:lnTo>
                  <a:pt x="3719" y="213"/>
                </a:lnTo>
                <a:lnTo>
                  <a:pt x="3591" y="235"/>
                </a:lnTo>
                <a:lnTo>
                  <a:pt x="3527" y="258"/>
                </a:lnTo>
                <a:lnTo>
                  <a:pt x="3441" y="258"/>
                </a:lnTo>
                <a:lnTo>
                  <a:pt x="3377" y="235"/>
                </a:lnTo>
                <a:lnTo>
                  <a:pt x="3313" y="235"/>
                </a:lnTo>
                <a:lnTo>
                  <a:pt x="3249" y="235"/>
                </a:lnTo>
                <a:lnTo>
                  <a:pt x="3185" y="213"/>
                </a:lnTo>
                <a:lnTo>
                  <a:pt x="3099" y="213"/>
                </a:lnTo>
                <a:lnTo>
                  <a:pt x="2993" y="235"/>
                </a:lnTo>
                <a:lnTo>
                  <a:pt x="2930" y="235"/>
                </a:lnTo>
                <a:lnTo>
                  <a:pt x="2866" y="258"/>
                </a:lnTo>
                <a:lnTo>
                  <a:pt x="2801" y="258"/>
                </a:lnTo>
                <a:lnTo>
                  <a:pt x="2737" y="258"/>
                </a:lnTo>
                <a:lnTo>
                  <a:pt x="2671" y="258"/>
                </a:lnTo>
                <a:lnTo>
                  <a:pt x="2587" y="235"/>
                </a:lnTo>
                <a:lnTo>
                  <a:pt x="2523" y="213"/>
                </a:lnTo>
                <a:lnTo>
                  <a:pt x="2459" y="191"/>
                </a:lnTo>
                <a:lnTo>
                  <a:pt x="2373" y="171"/>
                </a:lnTo>
                <a:lnTo>
                  <a:pt x="2309" y="149"/>
                </a:lnTo>
                <a:lnTo>
                  <a:pt x="2245" y="149"/>
                </a:lnTo>
                <a:lnTo>
                  <a:pt x="2181" y="127"/>
                </a:lnTo>
                <a:lnTo>
                  <a:pt x="2117" y="127"/>
                </a:lnTo>
                <a:lnTo>
                  <a:pt x="2031" y="85"/>
                </a:lnTo>
                <a:lnTo>
                  <a:pt x="1967" y="85"/>
                </a:lnTo>
                <a:lnTo>
                  <a:pt x="1881" y="63"/>
                </a:lnTo>
                <a:lnTo>
                  <a:pt x="1817" y="44"/>
                </a:lnTo>
                <a:lnTo>
                  <a:pt x="1734" y="44"/>
                </a:lnTo>
                <a:lnTo>
                  <a:pt x="1520" y="0"/>
                </a:lnTo>
                <a:lnTo>
                  <a:pt x="1434" y="0"/>
                </a:lnTo>
                <a:lnTo>
                  <a:pt x="1348" y="0"/>
                </a:lnTo>
                <a:lnTo>
                  <a:pt x="1284" y="22"/>
                </a:lnTo>
                <a:lnTo>
                  <a:pt x="1220" y="44"/>
                </a:lnTo>
                <a:lnTo>
                  <a:pt x="1156" y="63"/>
                </a:lnTo>
                <a:lnTo>
                  <a:pt x="1092" y="108"/>
                </a:lnTo>
                <a:lnTo>
                  <a:pt x="1028" y="127"/>
                </a:lnTo>
                <a:lnTo>
                  <a:pt x="964" y="171"/>
                </a:lnTo>
                <a:lnTo>
                  <a:pt x="899" y="171"/>
                </a:lnTo>
                <a:lnTo>
                  <a:pt x="815" y="191"/>
                </a:lnTo>
                <a:lnTo>
                  <a:pt x="751" y="213"/>
                </a:lnTo>
                <a:lnTo>
                  <a:pt x="685" y="235"/>
                </a:lnTo>
                <a:lnTo>
                  <a:pt x="621" y="258"/>
                </a:lnTo>
                <a:lnTo>
                  <a:pt x="557" y="278"/>
                </a:lnTo>
                <a:lnTo>
                  <a:pt x="493" y="300"/>
                </a:lnTo>
                <a:lnTo>
                  <a:pt x="429" y="364"/>
                </a:lnTo>
                <a:lnTo>
                  <a:pt x="366" y="406"/>
                </a:lnTo>
                <a:lnTo>
                  <a:pt x="324" y="470"/>
                </a:lnTo>
                <a:lnTo>
                  <a:pt x="260" y="514"/>
                </a:lnTo>
                <a:lnTo>
                  <a:pt x="218" y="578"/>
                </a:lnTo>
                <a:lnTo>
                  <a:pt x="154" y="620"/>
                </a:lnTo>
                <a:lnTo>
                  <a:pt x="110" y="684"/>
                </a:lnTo>
                <a:lnTo>
                  <a:pt x="68" y="748"/>
                </a:lnTo>
                <a:lnTo>
                  <a:pt x="68" y="813"/>
                </a:lnTo>
                <a:lnTo>
                  <a:pt x="46" y="877"/>
                </a:lnTo>
                <a:lnTo>
                  <a:pt x="24" y="941"/>
                </a:lnTo>
                <a:lnTo>
                  <a:pt x="0" y="102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4282920" y="3046320"/>
            <a:ext cx="1298880" cy="230400"/>
          </a:xfrm>
          <a:custGeom>
            <a:avLst/>
            <a:gdLst/>
            <a:ahLst/>
            <a:rect l="0" t="0" r="r" b="b"/>
            <a:pathLst>
              <a:path fill="none" w="3608" h="640">
                <a:moveTo>
                  <a:pt x="3608" y="255"/>
                </a:moveTo>
                <a:lnTo>
                  <a:pt x="3502" y="275"/>
                </a:lnTo>
                <a:lnTo>
                  <a:pt x="3438" y="275"/>
                </a:lnTo>
                <a:lnTo>
                  <a:pt x="3374" y="275"/>
                </a:lnTo>
                <a:lnTo>
                  <a:pt x="3310" y="233"/>
                </a:lnTo>
                <a:lnTo>
                  <a:pt x="3246" y="211"/>
                </a:lnTo>
                <a:lnTo>
                  <a:pt x="3032" y="211"/>
                </a:lnTo>
                <a:lnTo>
                  <a:pt x="2968" y="211"/>
                </a:lnTo>
                <a:lnTo>
                  <a:pt x="2904" y="211"/>
                </a:lnTo>
                <a:lnTo>
                  <a:pt x="2796" y="211"/>
                </a:lnTo>
                <a:lnTo>
                  <a:pt x="2732" y="211"/>
                </a:lnTo>
                <a:lnTo>
                  <a:pt x="2668" y="211"/>
                </a:lnTo>
                <a:lnTo>
                  <a:pt x="2584" y="211"/>
                </a:lnTo>
                <a:lnTo>
                  <a:pt x="2518" y="211"/>
                </a:lnTo>
                <a:lnTo>
                  <a:pt x="2454" y="211"/>
                </a:lnTo>
                <a:lnTo>
                  <a:pt x="2370" y="211"/>
                </a:lnTo>
                <a:lnTo>
                  <a:pt x="2242" y="211"/>
                </a:lnTo>
                <a:lnTo>
                  <a:pt x="2178" y="191"/>
                </a:lnTo>
                <a:lnTo>
                  <a:pt x="2092" y="169"/>
                </a:lnTo>
                <a:lnTo>
                  <a:pt x="2006" y="127"/>
                </a:lnTo>
                <a:lnTo>
                  <a:pt x="1942" y="105"/>
                </a:lnTo>
                <a:lnTo>
                  <a:pt x="1878" y="83"/>
                </a:lnTo>
                <a:lnTo>
                  <a:pt x="1814" y="63"/>
                </a:lnTo>
                <a:lnTo>
                  <a:pt x="1727" y="19"/>
                </a:lnTo>
                <a:lnTo>
                  <a:pt x="1621" y="19"/>
                </a:lnTo>
                <a:lnTo>
                  <a:pt x="1535" y="0"/>
                </a:lnTo>
                <a:lnTo>
                  <a:pt x="1323" y="0"/>
                </a:lnTo>
                <a:lnTo>
                  <a:pt x="1215" y="0"/>
                </a:lnTo>
                <a:lnTo>
                  <a:pt x="1151" y="19"/>
                </a:lnTo>
                <a:lnTo>
                  <a:pt x="1087" y="19"/>
                </a:lnTo>
                <a:lnTo>
                  <a:pt x="1023" y="19"/>
                </a:lnTo>
                <a:lnTo>
                  <a:pt x="937" y="19"/>
                </a:lnTo>
                <a:lnTo>
                  <a:pt x="853" y="63"/>
                </a:lnTo>
                <a:lnTo>
                  <a:pt x="789" y="63"/>
                </a:lnTo>
                <a:lnTo>
                  <a:pt x="725" y="83"/>
                </a:lnTo>
                <a:lnTo>
                  <a:pt x="661" y="105"/>
                </a:lnTo>
                <a:lnTo>
                  <a:pt x="597" y="127"/>
                </a:lnTo>
                <a:lnTo>
                  <a:pt x="511" y="191"/>
                </a:lnTo>
                <a:lnTo>
                  <a:pt x="447" y="233"/>
                </a:lnTo>
                <a:lnTo>
                  <a:pt x="383" y="275"/>
                </a:lnTo>
                <a:lnTo>
                  <a:pt x="319" y="319"/>
                </a:lnTo>
                <a:lnTo>
                  <a:pt x="255" y="362"/>
                </a:lnTo>
                <a:lnTo>
                  <a:pt x="191" y="404"/>
                </a:lnTo>
                <a:lnTo>
                  <a:pt x="127" y="448"/>
                </a:lnTo>
                <a:lnTo>
                  <a:pt x="63" y="512"/>
                </a:lnTo>
                <a:lnTo>
                  <a:pt x="19" y="576"/>
                </a:lnTo>
                <a:lnTo>
                  <a:pt x="0" y="64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>
            <a:off x="4398840" y="3191040"/>
            <a:ext cx="945000" cy="86040"/>
          </a:xfrm>
          <a:custGeom>
            <a:avLst/>
            <a:gdLst/>
            <a:ahLst/>
            <a:rect l="0" t="0" r="r" b="b"/>
            <a:pathLst>
              <a:path fill="none" w="2625" h="239">
                <a:moveTo>
                  <a:pt x="2625" y="239"/>
                </a:moveTo>
                <a:lnTo>
                  <a:pt x="2561" y="216"/>
                </a:lnTo>
                <a:lnTo>
                  <a:pt x="2497" y="216"/>
                </a:lnTo>
                <a:lnTo>
                  <a:pt x="2411" y="216"/>
                </a:lnTo>
                <a:lnTo>
                  <a:pt x="2347" y="216"/>
                </a:lnTo>
                <a:lnTo>
                  <a:pt x="2219" y="196"/>
                </a:lnTo>
                <a:lnTo>
                  <a:pt x="2197" y="132"/>
                </a:lnTo>
                <a:lnTo>
                  <a:pt x="2133" y="109"/>
                </a:lnTo>
                <a:lnTo>
                  <a:pt x="2049" y="109"/>
                </a:lnTo>
                <a:lnTo>
                  <a:pt x="1962" y="109"/>
                </a:lnTo>
                <a:lnTo>
                  <a:pt x="1898" y="109"/>
                </a:lnTo>
                <a:lnTo>
                  <a:pt x="1834" y="86"/>
                </a:lnTo>
                <a:lnTo>
                  <a:pt x="1748" y="44"/>
                </a:lnTo>
                <a:lnTo>
                  <a:pt x="1684" y="22"/>
                </a:lnTo>
                <a:lnTo>
                  <a:pt x="1578" y="0"/>
                </a:lnTo>
                <a:lnTo>
                  <a:pt x="1470" y="0"/>
                </a:lnTo>
                <a:lnTo>
                  <a:pt x="1386" y="0"/>
                </a:lnTo>
                <a:lnTo>
                  <a:pt x="1300" y="22"/>
                </a:lnTo>
                <a:lnTo>
                  <a:pt x="1236" y="44"/>
                </a:lnTo>
                <a:lnTo>
                  <a:pt x="1108" y="64"/>
                </a:lnTo>
                <a:lnTo>
                  <a:pt x="894" y="86"/>
                </a:lnTo>
                <a:lnTo>
                  <a:pt x="830" y="86"/>
                </a:lnTo>
                <a:lnTo>
                  <a:pt x="766" y="132"/>
                </a:lnTo>
                <a:lnTo>
                  <a:pt x="702" y="174"/>
                </a:lnTo>
                <a:lnTo>
                  <a:pt x="637" y="174"/>
                </a:lnTo>
                <a:lnTo>
                  <a:pt x="573" y="174"/>
                </a:lnTo>
                <a:lnTo>
                  <a:pt x="509" y="174"/>
                </a:lnTo>
                <a:lnTo>
                  <a:pt x="445" y="174"/>
                </a:lnTo>
                <a:lnTo>
                  <a:pt x="359" y="174"/>
                </a:lnTo>
                <a:lnTo>
                  <a:pt x="295" y="174"/>
                </a:lnTo>
                <a:lnTo>
                  <a:pt x="231" y="152"/>
                </a:lnTo>
                <a:lnTo>
                  <a:pt x="167" y="152"/>
                </a:lnTo>
                <a:lnTo>
                  <a:pt x="103" y="174"/>
                </a:lnTo>
                <a:lnTo>
                  <a:pt x="0" y="23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4797360" y="587520"/>
            <a:ext cx="20016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>
            <a:off x="4789440" y="12175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>
            <a:off x="3298680" y="125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3398760" y="3096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"/>
          <p:cNvSpPr/>
          <p:nvPr/>
        </p:nvSpPr>
        <p:spPr>
          <a:xfrm>
            <a:off x="3514680" y="5014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"/>
          <p:cNvSpPr/>
          <p:nvPr/>
        </p:nvSpPr>
        <p:spPr>
          <a:xfrm>
            <a:off x="3691080" y="81756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"/>
          <p:cNvSpPr/>
          <p:nvPr/>
        </p:nvSpPr>
        <p:spPr>
          <a:xfrm>
            <a:off x="4167360" y="9097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"/>
          <p:cNvSpPr/>
          <p:nvPr/>
        </p:nvSpPr>
        <p:spPr>
          <a:xfrm>
            <a:off x="4183200" y="17780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"/>
          <p:cNvSpPr/>
          <p:nvPr/>
        </p:nvSpPr>
        <p:spPr>
          <a:xfrm>
            <a:off x="3137040" y="19764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"/>
          <p:cNvSpPr/>
          <p:nvPr/>
        </p:nvSpPr>
        <p:spPr>
          <a:xfrm>
            <a:off x="4313160" y="20383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"/>
          <p:cNvSpPr/>
          <p:nvPr/>
        </p:nvSpPr>
        <p:spPr>
          <a:xfrm>
            <a:off x="4608360" y="2017800"/>
            <a:ext cx="17604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"/>
          <p:cNvSpPr/>
          <p:nvPr/>
        </p:nvSpPr>
        <p:spPr>
          <a:xfrm>
            <a:off x="4853160" y="2341440"/>
            <a:ext cx="16668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>
            <a:off x="5127480" y="2222640"/>
            <a:ext cx="160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>
            <a:off x="5135400" y="26384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>
            <a:off x="5157720" y="24145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>
            <a:off x="5372280" y="2152800"/>
            <a:ext cx="18432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"/>
          <p:cNvSpPr/>
          <p:nvPr/>
        </p:nvSpPr>
        <p:spPr>
          <a:xfrm>
            <a:off x="5181480" y="30751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>
            <a:off x="4888080" y="28987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>
            <a:off x="5280120" y="27972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>
            <a:off x="4675320" y="315288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"/>
          <p:cNvSpPr txBox="1"/>
          <p:nvPr/>
        </p:nvSpPr>
        <p:spPr>
          <a:xfrm>
            <a:off x="3322800" y="125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"/>
          <p:cNvSpPr txBox="1"/>
          <p:nvPr/>
        </p:nvSpPr>
        <p:spPr>
          <a:xfrm>
            <a:off x="3384720" y="3031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 txBox="1"/>
          <p:nvPr/>
        </p:nvSpPr>
        <p:spPr>
          <a:xfrm>
            <a:off x="3506760" y="493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"/>
          <p:cNvSpPr txBox="1"/>
          <p:nvPr/>
        </p:nvSpPr>
        <p:spPr>
          <a:xfrm>
            <a:off x="3684600" y="8096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 txBox="1"/>
          <p:nvPr/>
        </p:nvSpPr>
        <p:spPr>
          <a:xfrm>
            <a:off x="3138480" y="1960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"/>
          <p:cNvSpPr txBox="1"/>
          <p:nvPr/>
        </p:nvSpPr>
        <p:spPr>
          <a:xfrm>
            <a:off x="4175280" y="176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"/>
          <p:cNvSpPr txBox="1"/>
          <p:nvPr/>
        </p:nvSpPr>
        <p:spPr>
          <a:xfrm>
            <a:off x="4307040" y="20224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"/>
          <p:cNvSpPr txBox="1"/>
          <p:nvPr/>
        </p:nvSpPr>
        <p:spPr>
          <a:xfrm>
            <a:off x="4808520" y="23209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"/>
          <p:cNvSpPr/>
          <p:nvPr/>
        </p:nvSpPr>
        <p:spPr>
          <a:xfrm>
            <a:off x="4937040" y="287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"/>
          <p:cNvSpPr txBox="1"/>
          <p:nvPr/>
        </p:nvSpPr>
        <p:spPr>
          <a:xfrm>
            <a:off x="4930920" y="2793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"/>
          <p:cNvSpPr txBox="1"/>
          <p:nvPr/>
        </p:nvSpPr>
        <p:spPr>
          <a:xfrm>
            <a:off x="4782960" y="577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"/>
          <p:cNvSpPr txBox="1"/>
          <p:nvPr/>
        </p:nvSpPr>
        <p:spPr>
          <a:xfrm>
            <a:off x="4151160" y="901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"/>
          <p:cNvSpPr txBox="1"/>
          <p:nvPr/>
        </p:nvSpPr>
        <p:spPr>
          <a:xfrm>
            <a:off x="4782960" y="12002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"/>
          <p:cNvSpPr txBox="1"/>
          <p:nvPr/>
        </p:nvSpPr>
        <p:spPr>
          <a:xfrm>
            <a:off x="4562640" y="20019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"/>
          <p:cNvSpPr txBox="1"/>
          <p:nvPr/>
        </p:nvSpPr>
        <p:spPr>
          <a:xfrm>
            <a:off x="5086440" y="2206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"/>
          <p:cNvSpPr txBox="1"/>
          <p:nvPr/>
        </p:nvSpPr>
        <p:spPr>
          <a:xfrm>
            <a:off x="5335560" y="21286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"/>
          <p:cNvSpPr txBox="1"/>
          <p:nvPr/>
        </p:nvSpPr>
        <p:spPr>
          <a:xfrm>
            <a:off x="5148360" y="239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"/>
          <p:cNvSpPr txBox="1"/>
          <p:nvPr/>
        </p:nvSpPr>
        <p:spPr>
          <a:xfrm>
            <a:off x="5119560" y="26128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"/>
          <p:cNvSpPr txBox="1"/>
          <p:nvPr/>
        </p:nvSpPr>
        <p:spPr>
          <a:xfrm>
            <a:off x="5268960" y="277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"/>
          <p:cNvSpPr txBox="1"/>
          <p:nvPr/>
        </p:nvSpPr>
        <p:spPr>
          <a:xfrm>
            <a:off x="4876920" y="2870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 txBox="1"/>
          <p:nvPr/>
        </p:nvSpPr>
        <p:spPr>
          <a:xfrm>
            <a:off x="5168880" y="3046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 txBox="1"/>
          <p:nvPr/>
        </p:nvSpPr>
        <p:spPr>
          <a:xfrm>
            <a:off x="4662360" y="3127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>
            <a:off x="4751280" y="2232000"/>
            <a:ext cx="162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 txBox="1"/>
          <p:nvPr/>
        </p:nvSpPr>
        <p:spPr>
          <a:xfrm>
            <a:off x="4705200" y="22176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"/>
          <p:cNvSpPr/>
          <p:nvPr/>
        </p:nvSpPr>
        <p:spPr>
          <a:xfrm>
            <a:off x="5197320" y="81000"/>
            <a:ext cx="386280" cy="437040"/>
          </a:xfrm>
          <a:custGeom>
            <a:avLst/>
            <a:gdLst/>
            <a:ahLst/>
            <a:rect l="0" t="0" r="r" b="b"/>
            <a:pathLst>
              <a:path fill="none" w="1073" h="1214">
                <a:moveTo>
                  <a:pt x="0" y="0"/>
                </a:moveTo>
                <a:lnTo>
                  <a:pt x="22" y="63"/>
                </a:lnTo>
                <a:lnTo>
                  <a:pt x="44" y="127"/>
                </a:lnTo>
                <a:lnTo>
                  <a:pt x="107" y="171"/>
                </a:lnTo>
                <a:lnTo>
                  <a:pt x="171" y="213"/>
                </a:lnTo>
                <a:lnTo>
                  <a:pt x="191" y="277"/>
                </a:lnTo>
                <a:lnTo>
                  <a:pt x="235" y="342"/>
                </a:lnTo>
                <a:lnTo>
                  <a:pt x="255" y="427"/>
                </a:lnTo>
                <a:lnTo>
                  <a:pt x="300" y="491"/>
                </a:lnTo>
                <a:lnTo>
                  <a:pt x="342" y="555"/>
                </a:lnTo>
                <a:lnTo>
                  <a:pt x="405" y="597"/>
                </a:lnTo>
                <a:lnTo>
                  <a:pt x="469" y="619"/>
                </a:lnTo>
                <a:lnTo>
                  <a:pt x="533" y="639"/>
                </a:lnTo>
                <a:lnTo>
                  <a:pt x="597" y="683"/>
                </a:lnTo>
                <a:lnTo>
                  <a:pt x="661" y="725"/>
                </a:lnTo>
                <a:lnTo>
                  <a:pt x="705" y="788"/>
                </a:lnTo>
                <a:lnTo>
                  <a:pt x="724" y="852"/>
                </a:lnTo>
                <a:lnTo>
                  <a:pt x="768" y="917"/>
                </a:lnTo>
                <a:lnTo>
                  <a:pt x="768" y="981"/>
                </a:lnTo>
                <a:lnTo>
                  <a:pt x="811" y="1045"/>
                </a:lnTo>
                <a:lnTo>
                  <a:pt x="875" y="1067"/>
                </a:lnTo>
                <a:lnTo>
                  <a:pt x="939" y="1089"/>
                </a:lnTo>
                <a:lnTo>
                  <a:pt x="1003" y="1131"/>
                </a:lnTo>
                <a:lnTo>
                  <a:pt x="1073" y="1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"/>
          <p:cNvSpPr/>
          <p:nvPr/>
        </p:nvSpPr>
        <p:spPr>
          <a:xfrm>
            <a:off x="5175360" y="17136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"/>
          <p:cNvSpPr txBox="1"/>
          <p:nvPr/>
        </p:nvSpPr>
        <p:spPr>
          <a:xfrm>
            <a:off x="5165640" y="16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7" name=""/>
          <p:cNvGrpSpPr/>
          <p:nvPr/>
        </p:nvGrpSpPr>
        <p:grpSpPr>
          <a:xfrm>
            <a:off x="2854440" y="917640"/>
            <a:ext cx="2941560" cy="0"/>
            <a:chOff x="2854440" y="917640"/>
            <a:chExt cx="2941560" cy="0"/>
          </a:xfrm>
        </p:grpSpPr>
        <p:sp>
          <p:nvSpPr>
            <p:cNvPr id="4368" name=""/>
            <p:cNvSpPr/>
            <p:nvPr/>
          </p:nvSpPr>
          <p:spPr>
            <a:xfrm>
              <a:off x="2854440" y="9176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353052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362268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3706920" y="9176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4713120" y="9176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479736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4897440" y="917640"/>
              <a:ext cx="898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5" name=""/>
          <p:cNvGrpSpPr/>
          <p:nvPr/>
        </p:nvGrpSpPr>
        <p:grpSpPr>
          <a:xfrm>
            <a:off x="2854440" y="2154240"/>
            <a:ext cx="2957400" cy="0"/>
            <a:chOff x="2854440" y="2154240"/>
            <a:chExt cx="2957400" cy="0"/>
          </a:xfrm>
        </p:grpSpPr>
        <p:sp>
          <p:nvSpPr>
            <p:cNvPr id="4376" name=""/>
            <p:cNvSpPr/>
            <p:nvPr/>
          </p:nvSpPr>
          <p:spPr>
            <a:xfrm>
              <a:off x="2854440" y="21542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53052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62268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706920" y="21542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4713120" y="21542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479736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4897440" y="2154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3" name=""/>
          <p:cNvGrpSpPr/>
          <p:nvPr/>
        </p:nvGrpSpPr>
        <p:grpSpPr>
          <a:xfrm>
            <a:off x="2854440" y="1554120"/>
            <a:ext cx="2949480" cy="0"/>
            <a:chOff x="2854440" y="1554120"/>
            <a:chExt cx="2949480" cy="0"/>
          </a:xfrm>
        </p:grpSpPr>
        <p:sp>
          <p:nvSpPr>
            <p:cNvPr id="4384" name=""/>
            <p:cNvSpPr/>
            <p:nvPr/>
          </p:nvSpPr>
          <p:spPr>
            <a:xfrm>
              <a:off x="2854440" y="155412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353052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362268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3706920" y="155412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4713120" y="155412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479736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4897440" y="1554120"/>
              <a:ext cx="90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1" name=""/>
          <p:cNvSpPr txBox="1"/>
          <p:nvPr/>
        </p:nvSpPr>
        <p:spPr>
          <a:xfrm>
            <a:off x="285444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 txBox="1"/>
          <p:nvPr/>
        </p:nvSpPr>
        <p:spPr>
          <a:xfrm>
            <a:off x="568152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"/>
          <p:cNvSpPr txBox="1"/>
          <p:nvPr/>
        </p:nvSpPr>
        <p:spPr>
          <a:xfrm>
            <a:off x="285444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"/>
          <p:cNvSpPr txBox="1"/>
          <p:nvPr/>
        </p:nvSpPr>
        <p:spPr>
          <a:xfrm>
            <a:off x="568152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"/>
          <p:cNvSpPr txBox="1"/>
          <p:nvPr/>
        </p:nvSpPr>
        <p:spPr>
          <a:xfrm>
            <a:off x="2854440" y="201312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"/>
          <p:cNvSpPr txBox="1"/>
          <p:nvPr/>
        </p:nvSpPr>
        <p:spPr>
          <a:xfrm>
            <a:off x="5681520" y="202104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>
            <a:off x="2749680" y="47880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2749680" y="49402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>
            <a:off x="2749680" y="509256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>
            <a:off x="2749680" y="52452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>
            <a:off x="2749680" y="53974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"/>
          <p:cNvSpPr txBox="1"/>
          <p:nvPr/>
        </p:nvSpPr>
        <p:spPr>
          <a:xfrm>
            <a:off x="5637240" y="4664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"/>
          <p:cNvSpPr txBox="1"/>
          <p:nvPr/>
        </p:nvSpPr>
        <p:spPr>
          <a:xfrm>
            <a:off x="5637240" y="4816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"/>
          <p:cNvSpPr txBox="1"/>
          <p:nvPr/>
        </p:nvSpPr>
        <p:spPr>
          <a:xfrm>
            <a:off x="5637240" y="496872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"/>
          <p:cNvSpPr txBox="1"/>
          <p:nvPr/>
        </p:nvSpPr>
        <p:spPr>
          <a:xfrm>
            <a:off x="5637240" y="5121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"/>
          <p:cNvSpPr txBox="1"/>
          <p:nvPr/>
        </p:nvSpPr>
        <p:spPr>
          <a:xfrm>
            <a:off x="5637240" y="5273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3067200" y="4695840"/>
            <a:ext cx="2524320" cy="702000"/>
          </a:xfrm>
          <a:custGeom>
            <a:avLst/>
            <a:gdLst/>
            <a:ahLst/>
            <a:rect l="0" t="0" r="r" b="b"/>
            <a:pathLst>
              <a:path w="7012" h="1950">
                <a:moveTo>
                  <a:pt x="0" y="0"/>
                </a:moveTo>
                <a:lnTo>
                  <a:pt x="39" y="52"/>
                </a:lnTo>
                <a:lnTo>
                  <a:pt x="92" y="57"/>
                </a:lnTo>
                <a:lnTo>
                  <a:pt x="132" y="97"/>
                </a:lnTo>
                <a:lnTo>
                  <a:pt x="171" y="110"/>
                </a:lnTo>
                <a:lnTo>
                  <a:pt x="211" y="123"/>
                </a:lnTo>
                <a:lnTo>
                  <a:pt x="251" y="136"/>
                </a:lnTo>
                <a:lnTo>
                  <a:pt x="291" y="123"/>
                </a:lnTo>
                <a:lnTo>
                  <a:pt x="330" y="123"/>
                </a:lnTo>
                <a:lnTo>
                  <a:pt x="370" y="123"/>
                </a:lnTo>
                <a:lnTo>
                  <a:pt x="436" y="149"/>
                </a:lnTo>
                <a:lnTo>
                  <a:pt x="476" y="176"/>
                </a:lnTo>
                <a:lnTo>
                  <a:pt x="515" y="189"/>
                </a:lnTo>
                <a:lnTo>
                  <a:pt x="555" y="202"/>
                </a:lnTo>
                <a:lnTo>
                  <a:pt x="621" y="202"/>
                </a:lnTo>
                <a:lnTo>
                  <a:pt x="661" y="216"/>
                </a:lnTo>
                <a:lnTo>
                  <a:pt x="701" y="229"/>
                </a:lnTo>
                <a:lnTo>
                  <a:pt x="767" y="282"/>
                </a:lnTo>
                <a:lnTo>
                  <a:pt x="806" y="321"/>
                </a:lnTo>
                <a:lnTo>
                  <a:pt x="846" y="361"/>
                </a:lnTo>
                <a:lnTo>
                  <a:pt x="899" y="388"/>
                </a:lnTo>
                <a:lnTo>
                  <a:pt x="939" y="401"/>
                </a:lnTo>
                <a:lnTo>
                  <a:pt x="992" y="414"/>
                </a:lnTo>
                <a:lnTo>
                  <a:pt x="1150" y="427"/>
                </a:lnTo>
                <a:lnTo>
                  <a:pt x="1203" y="440"/>
                </a:lnTo>
                <a:lnTo>
                  <a:pt x="1243" y="467"/>
                </a:lnTo>
                <a:lnTo>
                  <a:pt x="1283" y="480"/>
                </a:lnTo>
                <a:lnTo>
                  <a:pt x="1322" y="493"/>
                </a:lnTo>
                <a:lnTo>
                  <a:pt x="1362" y="507"/>
                </a:lnTo>
                <a:lnTo>
                  <a:pt x="1415" y="533"/>
                </a:lnTo>
                <a:lnTo>
                  <a:pt x="1468" y="573"/>
                </a:lnTo>
                <a:lnTo>
                  <a:pt x="1521" y="586"/>
                </a:lnTo>
                <a:lnTo>
                  <a:pt x="1561" y="599"/>
                </a:lnTo>
                <a:lnTo>
                  <a:pt x="1613" y="599"/>
                </a:lnTo>
                <a:lnTo>
                  <a:pt x="1653" y="612"/>
                </a:lnTo>
                <a:lnTo>
                  <a:pt x="1693" y="639"/>
                </a:lnTo>
                <a:lnTo>
                  <a:pt x="1733" y="652"/>
                </a:lnTo>
                <a:lnTo>
                  <a:pt x="1772" y="679"/>
                </a:lnTo>
                <a:lnTo>
                  <a:pt x="1812" y="692"/>
                </a:lnTo>
                <a:lnTo>
                  <a:pt x="1838" y="732"/>
                </a:lnTo>
                <a:lnTo>
                  <a:pt x="1878" y="758"/>
                </a:lnTo>
                <a:lnTo>
                  <a:pt x="1918" y="784"/>
                </a:lnTo>
                <a:lnTo>
                  <a:pt x="1957" y="811"/>
                </a:lnTo>
                <a:lnTo>
                  <a:pt x="2024" y="851"/>
                </a:lnTo>
                <a:lnTo>
                  <a:pt x="2037" y="890"/>
                </a:lnTo>
                <a:lnTo>
                  <a:pt x="2063" y="930"/>
                </a:lnTo>
                <a:lnTo>
                  <a:pt x="2103" y="956"/>
                </a:lnTo>
                <a:lnTo>
                  <a:pt x="2143" y="984"/>
                </a:lnTo>
                <a:lnTo>
                  <a:pt x="2182" y="1024"/>
                </a:lnTo>
                <a:lnTo>
                  <a:pt x="2235" y="1050"/>
                </a:lnTo>
                <a:lnTo>
                  <a:pt x="2275" y="1076"/>
                </a:lnTo>
                <a:lnTo>
                  <a:pt x="2288" y="1129"/>
                </a:lnTo>
                <a:lnTo>
                  <a:pt x="2301" y="1169"/>
                </a:lnTo>
                <a:lnTo>
                  <a:pt x="2328" y="1209"/>
                </a:lnTo>
                <a:lnTo>
                  <a:pt x="2368" y="1222"/>
                </a:lnTo>
                <a:lnTo>
                  <a:pt x="2407" y="1235"/>
                </a:lnTo>
                <a:lnTo>
                  <a:pt x="2447" y="1248"/>
                </a:lnTo>
                <a:lnTo>
                  <a:pt x="2500" y="1262"/>
                </a:lnTo>
                <a:lnTo>
                  <a:pt x="2540" y="1315"/>
                </a:lnTo>
                <a:lnTo>
                  <a:pt x="2592" y="1341"/>
                </a:lnTo>
                <a:lnTo>
                  <a:pt x="2632" y="1368"/>
                </a:lnTo>
                <a:lnTo>
                  <a:pt x="2685" y="1381"/>
                </a:lnTo>
                <a:lnTo>
                  <a:pt x="2725" y="1394"/>
                </a:lnTo>
                <a:lnTo>
                  <a:pt x="2764" y="1420"/>
                </a:lnTo>
                <a:lnTo>
                  <a:pt x="2831" y="1447"/>
                </a:lnTo>
                <a:lnTo>
                  <a:pt x="2883" y="1460"/>
                </a:lnTo>
                <a:lnTo>
                  <a:pt x="2923" y="1473"/>
                </a:lnTo>
                <a:lnTo>
                  <a:pt x="2963" y="1487"/>
                </a:lnTo>
                <a:lnTo>
                  <a:pt x="3003" y="1500"/>
                </a:lnTo>
                <a:lnTo>
                  <a:pt x="3055" y="1500"/>
                </a:lnTo>
                <a:lnTo>
                  <a:pt x="3095" y="1513"/>
                </a:lnTo>
                <a:lnTo>
                  <a:pt x="3135" y="1513"/>
                </a:lnTo>
                <a:lnTo>
                  <a:pt x="3175" y="1526"/>
                </a:lnTo>
                <a:lnTo>
                  <a:pt x="3214" y="1539"/>
                </a:lnTo>
                <a:lnTo>
                  <a:pt x="3254" y="1553"/>
                </a:lnTo>
                <a:lnTo>
                  <a:pt x="3280" y="1592"/>
                </a:lnTo>
                <a:lnTo>
                  <a:pt x="3294" y="1632"/>
                </a:lnTo>
                <a:lnTo>
                  <a:pt x="3320" y="1672"/>
                </a:lnTo>
                <a:lnTo>
                  <a:pt x="3333" y="1711"/>
                </a:lnTo>
                <a:lnTo>
                  <a:pt x="3373" y="1751"/>
                </a:lnTo>
                <a:lnTo>
                  <a:pt x="3386" y="1791"/>
                </a:lnTo>
                <a:lnTo>
                  <a:pt x="3399" y="1831"/>
                </a:lnTo>
                <a:lnTo>
                  <a:pt x="3426" y="1870"/>
                </a:lnTo>
                <a:lnTo>
                  <a:pt x="3466" y="1897"/>
                </a:lnTo>
                <a:lnTo>
                  <a:pt x="3505" y="1936"/>
                </a:lnTo>
                <a:lnTo>
                  <a:pt x="3546" y="1950"/>
                </a:lnTo>
                <a:lnTo>
                  <a:pt x="3586" y="1950"/>
                </a:lnTo>
                <a:lnTo>
                  <a:pt x="3625" y="1923"/>
                </a:lnTo>
                <a:lnTo>
                  <a:pt x="3639" y="1883"/>
                </a:lnTo>
                <a:lnTo>
                  <a:pt x="3665" y="1844"/>
                </a:lnTo>
                <a:lnTo>
                  <a:pt x="3691" y="1804"/>
                </a:lnTo>
                <a:lnTo>
                  <a:pt x="3718" y="1764"/>
                </a:lnTo>
                <a:lnTo>
                  <a:pt x="3758" y="1738"/>
                </a:lnTo>
                <a:lnTo>
                  <a:pt x="3797" y="1698"/>
                </a:lnTo>
                <a:lnTo>
                  <a:pt x="3824" y="1659"/>
                </a:lnTo>
                <a:lnTo>
                  <a:pt x="3824" y="1619"/>
                </a:lnTo>
                <a:lnTo>
                  <a:pt x="3850" y="1579"/>
                </a:lnTo>
                <a:lnTo>
                  <a:pt x="3877" y="1539"/>
                </a:lnTo>
                <a:lnTo>
                  <a:pt x="3903" y="1500"/>
                </a:lnTo>
                <a:lnTo>
                  <a:pt x="3930" y="1460"/>
                </a:lnTo>
                <a:lnTo>
                  <a:pt x="3956" y="1420"/>
                </a:lnTo>
                <a:lnTo>
                  <a:pt x="3996" y="1368"/>
                </a:lnTo>
                <a:lnTo>
                  <a:pt x="4022" y="1328"/>
                </a:lnTo>
                <a:lnTo>
                  <a:pt x="4062" y="1288"/>
                </a:lnTo>
                <a:lnTo>
                  <a:pt x="4088" y="1248"/>
                </a:lnTo>
                <a:lnTo>
                  <a:pt x="4128" y="1222"/>
                </a:lnTo>
                <a:lnTo>
                  <a:pt x="4168" y="1182"/>
                </a:lnTo>
                <a:lnTo>
                  <a:pt x="4194" y="1143"/>
                </a:lnTo>
                <a:lnTo>
                  <a:pt x="4234" y="1116"/>
                </a:lnTo>
                <a:lnTo>
                  <a:pt x="4274" y="1076"/>
                </a:lnTo>
                <a:lnTo>
                  <a:pt x="4313" y="1050"/>
                </a:lnTo>
                <a:lnTo>
                  <a:pt x="4353" y="1024"/>
                </a:lnTo>
                <a:lnTo>
                  <a:pt x="4393" y="1010"/>
                </a:lnTo>
                <a:lnTo>
                  <a:pt x="4432" y="984"/>
                </a:lnTo>
                <a:lnTo>
                  <a:pt x="4472" y="970"/>
                </a:lnTo>
                <a:lnTo>
                  <a:pt x="4512" y="943"/>
                </a:lnTo>
                <a:lnTo>
                  <a:pt x="4551" y="943"/>
                </a:lnTo>
                <a:lnTo>
                  <a:pt x="4591" y="943"/>
                </a:lnTo>
                <a:lnTo>
                  <a:pt x="4631" y="943"/>
                </a:lnTo>
                <a:lnTo>
                  <a:pt x="4670" y="943"/>
                </a:lnTo>
                <a:lnTo>
                  <a:pt x="4710" y="930"/>
                </a:lnTo>
                <a:lnTo>
                  <a:pt x="4750" y="917"/>
                </a:lnTo>
                <a:lnTo>
                  <a:pt x="4803" y="903"/>
                </a:lnTo>
                <a:lnTo>
                  <a:pt x="4842" y="890"/>
                </a:lnTo>
                <a:lnTo>
                  <a:pt x="4882" y="877"/>
                </a:lnTo>
                <a:lnTo>
                  <a:pt x="4922" y="877"/>
                </a:lnTo>
                <a:lnTo>
                  <a:pt x="4961" y="864"/>
                </a:lnTo>
                <a:lnTo>
                  <a:pt x="5001" y="851"/>
                </a:lnTo>
                <a:lnTo>
                  <a:pt x="5041" y="837"/>
                </a:lnTo>
                <a:lnTo>
                  <a:pt x="5081" y="837"/>
                </a:lnTo>
                <a:lnTo>
                  <a:pt x="5147" y="837"/>
                </a:lnTo>
                <a:lnTo>
                  <a:pt x="5186" y="837"/>
                </a:lnTo>
                <a:lnTo>
                  <a:pt x="5226" y="824"/>
                </a:lnTo>
                <a:lnTo>
                  <a:pt x="5279" y="811"/>
                </a:lnTo>
                <a:lnTo>
                  <a:pt x="5319" y="811"/>
                </a:lnTo>
                <a:lnTo>
                  <a:pt x="5385" y="798"/>
                </a:lnTo>
                <a:lnTo>
                  <a:pt x="5424" y="784"/>
                </a:lnTo>
                <a:lnTo>
                  <a:pt x="5477" y="771"/>
                </a:lnTo>
                <a:lnTo>
                  <a:pt x="5530" y="771"/>
                </a:lnTo>
                <a:lnTo>
                  <a:pt x="5570" y="758"/>
                </a:lnTo>
                <a:lnTo>
                  <a:pt x="5610" y="758"/>
                </a:lnTo>
                <a:lnTo>
                  <a:pt x="5649" y="758"/>
                </a:lnTo>
                <a:lnTo>
                  <a:pt x="5689" y="745"/>
                </a:lnTo>
                <a:lnTo>
                  <a:pt x="5729" y="718"/>
                </a:lnTo>
                <a:lnTo>
                  <a:pt x="5755" y="679"/>
                </a:lnTo>
                <a:lnTo>
                  <a:pt x="5795" y="679"/>
                </a:lnTo>
                <a:lnTo>
                  <a:pt x="5848" y="679"/>
                </a:lnTo>
                <a:lnTo>
                  <a:pt x="5887" y="679"/>
                </a:lnTo>
                <a:lnTo>
                  <a:pt x="5940" y="665"/>
                </a:lnTo>
                <a:lnTo>
                  <a:pt x="5993" y="652"/>
                </a:lnTo>
                <a:lnTo>
                  <a:pt x="6046" y="639"/>
                </a:lnTo>
                <a:lnTo>
                  <a:pt x="6086" y="626"/>
                </a:lnTo>
                <a:lnTo>
                  <a:pt x="6152" y="599"/>
                </a:lnTo>
                <a:lnTo>
                  <a:pt x="6192" y="586"/>
                </a:lnTo>
                <a:lnTo>
                  <a:pt x="6231" y="573"/>
                </a:lnTo>
                <a:lnTo>
                  <a:pt x="6271" y="546"/>
                </a:lnTo>
                <a:lnTo>
                  <a:pt x="6311" y="533"/>
                </a:lnTo>
                <a:lnTo>
                  <a:pt x="6351" y="533"/>
                </a:lnTo>
                <a:lnTo>
                  <a:pt x="6390" y="533"/>
                </a:lnTo>
                <a:lnTo>
                  <a:pt x="6443" y="533"/>
                </a:lnTo>
                <a:lnTo>
                  <a:pt x="6496" y="533"/>
                </a:lnTo>
                <a:lnTo>
                  <a:pt x="6536" y="533"/>
                </a:lnTo>
                <a:lnTo>
                  <a:pt x="6575" y="533"/>
                </a:lnTo>
                <a:lnTo>
                  <a:pt x="6734" y="507"/>
                </a:lnTo>
                <a:lnTo>
                  <a:pt x="6774" y="507"/>
                </a:lnTo>
                <a:lnTo>
                  <a:pt x="6827" y="480"/>
                </a:lnTo>
                <a:lnTo>
                  <a:pt x="6906" y="454"/>
                </a:lnTo>
                <a:lnTo>
                  <a:pt x="6946" y="454"/>
                </a:lnTo>
                <a:lnTo>
                  <a:pt x="6986" y="440"/>
                </a:lnTo>
                <a:lnTo>
                  <a:pt x="6999" y="436"/>
                </a:lnTo>
                <a:lnTo>
                  <a:pt x="6986" y="427"/>
                </a:lnTo>
                <a:lnTo>
                  <a:pt x="7012" y="427"/>
                </a:lnTo>
                <a:lnTo>
                  <a:pt x="7012" y="1950"/>
                </a:lnTo>
                <a:lnTo>
                  <a:pt x="0" y="1950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 txBox="1"/>
          <p:nvPr/>
        </p:nvSpPr>
        <p:spPr>
          <a:xfrm>
            <a:off x="3813120" y="5381640"/>
            <a:ext cx="1027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B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 txBox="1"/>
          <p:nvPr/>
        </p:nvSpPr>
        <p:spPr>
          <a:xfrm>
            <a:off x="957240" y="3494160"/>
            <a:ext cx="71946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onstructing Section A -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5" name=""/>
          <p:cNvSpPr/>
          <p:nvPr/>
        </p:nvSpPr>
        <p:spPr>
          <a:xfrm>
            <a:off x="3071880" y="77760"/>
            <a:ext cx="2514600" cy="3200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>
            <a:off x="3075120" y="82440"/>
            <a:ext cx="390960" cy="340200"/>
          </a:xfrm>
          <a:custGeom>
            <a:avLst/>
            <a:gdLst/>
            <a:ahLst/>
            <a:rect l="0" t="0" r="r" b="b"/>
            <a:pathLst>
              <a:path fill="none" w="1086" h="945">
                <a:moveTo>
                  <a:pt x="1086" y="0"/>
                </a:moveTo>
                <a:lnTo>
                  <a:pt x="1086" y="70"/>
                </a:lnTo>
                <a:lnTo>
                  <a:pt x="1064" y="140"/>
                </a:lnTo>
                <a:lnTo>
                  <a:pt x="1018" y="233"/>
                </a:lnTo>
                <a:lnTo>
                  <a:pt x="971" y="348"/>
                </a:lnTo>
                <a:lnTo>
                  <a:pt x="947" y="440"/>
                </a:lnTo>
                <a:lnTo>
                  <a:pt x="876" y="489"/>
                </a:lnTo>
                <a:lnTo>
                  <a:pt x="783" y="489"/>
                </a:lnTo>
                <a:lnTo>
                  <a:pt x="690" y="557"/>
                </a:lnTo>
                <a:lnTo>
                  <a:pt x="597" y="581"/>
                </a:lnTo>
                <a:lnTo>
                  <a:pt x="504" y="649"/>
                </a:lnTo>
                <a:lnTo>
                  <a:pt x="458" y="721"/>
                </a:lnTo>
                <a:lnTo>
                  <a:pt x="387" y="743"/>
                </a:lnTo>
                <a:lnTo>
                  <a:pt x="294" y="767"/>
                </a:lnTo>
                <a:lnTo>
                  <a:pt x="201" y="835"/>
                </a:lnTo>
                <a:lnTo>
                  <a:pt x="132" y="906"/>
                </a:lnTo>
                <a:lnTo>
                  <a:pt x="61" y="930"/>
                </a:lnTo>
                <a:lnTo>
                  <a:pt x="0" y="9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>
            <a:off x="3071880" y="82440"/>
            <a:ext cx="568800" cy="2595960"/>
          </a:xfrm>
          <a:custGeom>
            <a:avLst/>
            <a:gdLst/>
            <a:ahLst/>
            <a:rect l="0" t="0" r="r" b="b"/>
            <a:pathLst>
              <a:path fill="none" w="1580" h="7211">
                <a:moveTo>
                  <a:pt x="1571" y="0"/>
                </a:moveTo>
                <a:lnTo>
                  <a:pt x="1580" y="46"/>
                </a:lnTo>
                <a:lnTo>
                  <a:pt x="1558" y="138"/>
                </a:lnTo>
                <a:lnTo>
                  <a:pt x="1558" y="231"/>
                </a:lnTo>
                <a:lnTo>
                  <a:pt x="1558" y="324"/>
                </a:lnTo>
                <a:lnTo>
                  <a:pt x="1488" y="416"/>
                </a:lnTo>
                <a:lnTo>
                  <a:pt x="1441" y="487"/>
                </a:lnTo>
                <a:lnTo>
                  <a:pt x="1371" y="555"/>
                </a:lnTo>
                <a:lnTo>
                  <a:pt x="1278" y="648"/>
                </a:lnTo>
                <a:lnTo>
                  <a:pt x="1256" y="718"/>
                </a:lnTo>
                <a:lnTo>
                  <a:pt x="1210" y="811"/>
                </a:lnTo>
                <a:lnTo>
                  <a:pt x="1162" y="903"/>
                </a:lnTo>
                <a:lnTo>
                  <a:pt x="1116" y="996"/>
                </a:lnTo>
                <a:lnTo>
                  <a:pt x="1070" y="1067"/>
                </a:lnTo>
                <a:lnTo>
                  <a:pt x="999" y="1135"/>
                </a:lnTo>
                <a:lnTo>
                  <a:pt x="977" y="1206"/>
                </a:lnTo>
                <a:lnTo>
                  <a:pt x="907" y="1252"/>
                </a:lnTo>
                <a:lnTo>
                  <a:pt x="860" y="1344"/>
                </a:lnTo>
                <a:lnTo>
                  <a:pt x="790" y="1415"/>
                </a:lnTo>
                <a:lnTo>
                  <a:pt x="697" y="1483"/>
                </a:lnTo>
                <a:lnTo>
                  <a:pt x="651" y="1554"/>
                </a:lnTo>
                <a:lnTo>
                  <a:pt x="605" y="1647"/>
                </a:lnTo>
                <a:lnTo>
                  <a:pt x="536" y="1739"/>
                </a:lnTo>
                <a:lnTo>
                  <a:pt x="488" y="1811"/>
                </a:lnTo>
                <a:lnTo>
                  <a:pt x="394" y="1879"/>
                </a:lnTo>
                <a:lnTo>
                  <a:pt x="326" y="1950"/>
                </a:lnTo>
                <a:lnTo>
                  <a:pt x="255" y="1972"/>
                </a:lnTo>
                <a:lnTo>
                  <a:pt x="187" y="2042"/>
                </a:lnTo>
                <a:lnTo>
                  <a:pt x="116" y="2089"/>
                </a:lnTo>
                <a:lnTo>
                  <a:pt x="70" y="2181"/>
                </a:lnTo>
                <a:lnTo>
                  <a:pt x="24" y="2252"/>
                </a:lnTo>
                <a:lnTo>
                  <a:pt x="0" y="2344"/>
                </a:lnTo>
                <a:lnTo>
                  <a:pt x="46" y="2437"/>
                </a:lnTo>
                <a:lnTo>
                  <a:pt x="94" y="2529"/>
                </a:lnTo>
                <a:lnTo>
                  <a:pt x="116" y="2644"/>
                </a:lnTo>
                <a:lnTo>
                  <a:pt x="141" y="2715"/>
                </a:lnTo>
                <a:lnTo>
                  <a:pt x="163" y="2807"/>
                </a:lnTo>
                <a:lnTo>
                  <a:pt x="209" y="2878"/>
                </a:lnTo>
                <a:lnTo>
                  <a:pt x="255" y="2992"/>
                </a:lnTo>
                <a:lnTo>
                  <a:pt x="326" y="3063"/>
                </a:lnTo>
                <a:lnTo>
                  <a:pt x="372" y="3134"/>
                </a:lnTo>
                <a:lnTo>
                  <a:pt x="419" y="3226"/>
                </a:lnTo>
                <a:lnTo>
                  <a:pt x="466" y="3319"/>
                </a:lnTo>
                <a:lnTo>
                  <a:pt x="536" y="3411"/>
                </a:lnTo>
                <a:lnTo>
                  <a:pt x="583" y="3504"/>
                </a:lnTo>
                <a:lnTo>
                  <a:pt x="605" y="3575"/>
                </a:lnTo>
                <a:lnTo>
                  <a:pt x="651" y="3667"/>
                </a:lnTo>
                <a:lnTo>
                  <a:pt x="651" y="3760"/>
                </a:lnTo>
                <a:lnTo>
                  <a:pt x="651" y="3852"/>
                </a:lnTo>
                <a:lnTo>
                  <a:pt x="651" y="3967"/>
                </a:lnTo>
                <a:lnTo>
                  <a:pt x="675" y="4062"/>
                </a:lnTo>
                <a:lnTo>
                  <a:pt x="697" y="4154"/>
                </a:lnTo>
                <a:lnTo>
                  <a:pt x="768" y="4247"/>
                </a:lnTo>
                <a:lnTo>
                  <a:pt x="836" y="4362"/>
                </a:lnTo>
                <a:lnTo>
                  <a:pt x="882" y="4432"/>
                </a:lnTo>
                <a:lnTo>
                  <a:pt x="907" y="4503"/>
                </a:lnTo>
                <a:lnTo>
                  <a:pt x="977" y="4617"/>
                </a:lnTo>
                <a:lnTo>
                  <a:pt x="1024" y="4688"/>
                </a:lnTo>
                <a:lnTo>
                  <a:pt x="1116" y="4781"/>
                </a:lnTo>
                <a:lnTo>
                  <a:pt x="1162" y="4873"/>
                </a:lnTo>
                <a:lnTo>
                  <a:pt x="1210" y="4944"/>
                </a:lnTo>
                <a:lnTo>
                  <a:pt x="1232" y="5036"/>
                </a:lnTo>
                <a:lnTo>
                  <a:pt x="1278" y="5129"/>
                </a:lnTo>
                <a:lnTo>
                  <a:pt x="1302" y="5222"/>
                </a:lnTo>
                <a:lnTo>
                  <a:pt x="1302" y="5314"/>
                </a:lnTo>
                <a:lnTo>
                  <a:pt x="1302" y="5385"/>
                </a:lnTo>
                <a:lnTo>
                  <a:pt x="1324" y="5547"/>
                </a:lnTo>
                <a:lnTo>
                  <a:pt x="1349" y="5617"/>
                </a:lnTo>
                <a:lnTo>
                  <a:pt x="1349" y="5732"/>
                </a:lnTo>
                <a:lnTo>
                  <a:pt x="1324" y="5849"/>
                </a:lnTo>
                <a:lnTo>
                  <a:pt x="1324" y="5919"/>
                </a:lnTo>
                <a:lnTo>
                  <a:pt x="1302" y="6012"/>
                </a:lnTo>
                <a:lnTo>
                  <a:pt x="1232" y="6080"/>
                </a:lnTo>
                <a:lnTo>
                  <a:pt x="1210" y="6151"/>
                </a:lnTo>
                <a:lnTo>
                  <a:pt x="1138" y="6221"/>
                </a:lnTo>
                <a:lnTo>
                  <a:pt x="1070" y="6314"/>
                </a:lnTo>
                <a:lnTo>
                  <a:pt x="999" y="6382"/>
                </a:lnTo>
                <a:lnTo>
                  <a:pt x="953" y="6453"/>
                </a:lnTo>
                <a:lnTo>
                  <a:pt x="882" y="6568"/>
                </a:lnTo>
                <a:lnTo>
                  <a:pt x="836" y="6638"/>
                </a:lnTo>
                <a:lnTo>
                  <a:pt x="814" y="6709"/>
                </a:lnTo>
                <a:lnTo>
                  <a:pt x="814" y="6801"/>
                </a:lnTo>
                <a:lnTo>
                  <a:pt x="790" y="6894"/>
                </a:lnTo>
                <a:lnTo>
                  <a:pt x="697" y="6940"/>
                </a:lnTo>
                <a:lnTo>
                  <a:pt x="605" y="7009"/>
                </a:lnTo>
                <a:lnTo>
                  <a:pt x="536" y="7079"/>
                </a:lnTo>
                <a:lnTo>
                  <a:pt x="466" y="7079"/>
                </a:lnTo>
                <a:lnTo>
                  <a:pt x="372" y="7079"/>
                </a:lnTo>
                <a:lnTo>
                  <a:pt x="302" y="7079"/>
                </a:lnTo>
                <a:lnTo>
                  <a:pt x="209" y="7125"/>
                </a:lnTo>
                <a:lnTo>
                  <a:pt x="141" y="7196"/>
                </a:lnTo>
                <a:lnTo>
                  <a:pt x="6" y="721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>
            <a:off x="3081240" y="82440"/>
            <a:ext cx="776520" cy="2916720"/>
          </a:xfrm>
          <a:custGeom>
            <a:avLst/>
            <a:gdLst/>
            <a:ahLst/>
            <a:rect l="0" t="0" r="r" b="b"/>
            <a:pathLst>
              <a:path fill="none" w="2157" h="8102">
                <a:moveTo>
                  <a:pt x="2157" y="0"/>
                </a:moveTo>
                <a:lnTo>
                  <a:pt x="2157" y="94"/>
                </a:lnTo>
                <a:lnTo>
                  <a:pt x="2157" y="187"/>
                </a:lnTo>
                <a:lnTo>
                  <a:pt x="2157" y="302"/>
                </a:lnTo>
                <a:lnTo>
                  <a:pt x="2133" y="372"/>
                </a:lnTo>
                <a:lnTo>
                  <a:pt x="2086" y="465"/>
                </a:lnTo>
                <a:lnTo>
                  <a:pt x="2040" y="535"/>
                </a:lnTo>
                <a:lnTo>
                  <a:pt x="1972" y="628"/>
                </a:lnTo>
                <a:lnTo>
                  <a:pt x="1926" y="720"/>
                </a:lnTo>
                <a:lnTo>
                  <a:pt x="1879" y="813"/>
                </a:lnTo>
                <a:lnTo>
                  <a:pt x="1809" y="906"/>
                </a:lnTo>
                <a:lnTo>
                  <a:pt x="1785" y="976"/>
                </a:lnTo>
                <a:lnTo>
                  <a:pt x="1716" y="1069"/>
                </a:lnTo>
                <a:lnTo>
                  <a:pt x="1646" y="1137"/>
                </a:lnTo>
                <a:lnTo>
                  <a:pt x="1600" y="1208"/>
                </a:lnTo>
                <a:lnTo>
                  <a:pt x="1507" y="1300"/>
                </a:lnTo>
                <a:lnTo>
                  <a:pt x="1461" y="1371"/>
                </a:lnTo>
                <a:lnTo>
                  <a:pt x="1415" y="1464"/>
                </a:lnTo>
                <a:lnTo>
                  <a:pt x="1368" y="1556"/>
                </a:lnTo>
                <a:lnTo>
                  <a:pt x="1344" y="1649"/>
                </a:lnTo>
                <a:lnTo>
                  <a:pt x="1276" y="1741"/>
                </a:lnTo>
                <a:lnTo>
                  <a:pt x="1252" y="1812"/>
                </a:lnTo>
                <a:lnTo>
                  <a:pt x="1183" y="1905"/>
                </a:lnTo>
                <a:lnTo>
                  <a:pt x="1137" y="1997"/>
                </a:lnTo>
                <a:lnTo>
                  <a:pt x="1091" y="2113"/>
                </a:lnTo>
                <a:lnTo>
                  <a:pt x="1091" y="2183"/>
                </a:lnTo>
                <a:lnTo>
                  <a:pt x="1091" y="2254"/>
                </a:lnTo>
                <a:lnTo>
                  <a:pt x="1091" y="2346"/>
                </a:lnTo>
                <a:lnTo>
                  <a:pt x="1044" y="2439"/>
                </a:lnTo>
                <a:lnTo>
                  <a:pt x="1019" y="2554"/>
                </a:lnTo>
                <a:lnTo>
                  <a:pt x="1066" y="2646"/>
                </a:lnTo>
                <a:lnTo>
                  <a:pt x="1113" y="2741"/>
                </a:lnTo>
                <a:lnTo>
                  <a:pt x="1159" y="2834"/>
                </a:lnTo>
                <a:lnTo>
                  <a:pt x="1183" y="2926"/>
                </a:lnTo>
                <a:lnTo>
                  <a:pt x="1252" y="3019"/>
                </a:lnTo>
                <a:lnTo>
                  <a:pt x="1298" y="3136"/>
                </a:lnTo>
                <a:lnTo>
                  <a:pt x="1368" y="3228"/>
                </a:lnTo>
                <a:lnTo>
                  <a:pt x="1439" y="3297"/>
                </a:lnTo>
                <a:lnTo>
                  <a:pt x="1485" y="3389"/>
                </a:lnTo>
                <a:lnTo>
                  <a:pt x="1531" y="3460"/>
                </a:lnTo>
                <a:lnTo>
                  <a:pt x="1578" y="3577"/>
                </a:lnTo>
                <a:lnTo>
                  <a:pt x="1646" y="3716"/>
                </a:lnTo>
                <a:lnTo>
                  <a:pt x="1716" y="3808"/>
                </a:lnTo>
                <a:lnTo>
                  <a:pt x="1738" y="3901"/>
                </a:lnTo>
                <a:lnTo>
                  <a:pt x="1763" y="3994"/>
                </a:lnTo>
                <a:lnTo>
                  <a:pt x="1763" y="4064"/>
                </a:lnTo>
                <a:lnTo>
                  <a:pt x="1785" y="4157"/>
                </a:lnTo>
                <a:lnTo>
                  <a:pt x="1833" y="4249"/>
                </a:lnTo>
                <a:lnTo>
                  <a:pt x="1926" y="4364"/>
                </a:lnTo>
                <a:lnTo>
                  <a:pt x="1926" y="4434"/>
                </a:lnTo>
                <a:lnTo>
                  <a:pt x="1948" y="4505"/>
                </a:lnTo>
                <a:lnTo>
                  <a:pt x="1972" y="4598"/>
                </a:lnTo>
                <a:lnTo>
                  <a:pt x="1972" y="4690"/>
                </a:lnTo>
                <a:lnTo>
                  <a:pt x="1948" y="4783"/>
                </a:lnTo>
                <a:lnTo>
                  <a:pt x="1926" y="4875"/>
                </a:lnTo>
                <a:lnTo>
                  <a:pt x="1926" y="4946"/>
                </a:lnTo>
                <a:lnTo>
                  <a:pt x="1901" y="5039"/>
                </a:lnTo>
                <a:lnTo>
                  <a:pt x="1879" y="5153"/>
                </a:lnTo>
                <a:lnTo>
                  <a:pt x="1901" y="5246"/>
                </a:lnTo>
                <a:lnTo>
                  <a:pt x="1901" y="5316"/>
                </a:lnTo>
                <a:lnTo>
                  <a:pt x="1901" y="5387"/>
                </a:lnTo>
                <a:lnTo>
                  <a:pt x="1901" y="5480"/>
                </a:lnTo>
                <a:lnTo>
                  <a:pt x="1879" y="5572"/>
                </a:lnTo>
                <a:lnTo>
                  <a:pt x="1855" y="5665"/>
                </a:lnTo>
                <a:lnTo>
                  <a:pt x="1833" y="5757"/>
                </a:lnTo>
                <a:lnTo>
                  <a:pt x="1809" y="5850"/>
                </a:lnTo>
                <a:lnTo>
                  <a:pt x="1785" y="5943"/>
                </a:lnTo>
                <a:lnTo>
                  <a:pt x="1763" y="6013"/>
                </a:lnTo>
                <a:lnTo>
                  <a:pt x="1738" y="6107"/>
                </a:lnTo>
                <a:lnTo>
                  <a:pt x="1716" y="6199"/>
                </a:lnTo>
                <a:lnTo>
                  <a:pt x="1692" y="6292"/>
                </a:lnTo>
                <a:lnTo>
                  <a:pt x="1692" y="6363"/>
                </a:lnTo>
                <a:lnTo>
                  <a:pt x="1624" y="6523"/>
                </a:lnTo>
                <a:lnTo>
                  <a:pt x="1600" y="6594"/>
                </a:lnTo>
                <a:lnTo>
                  <a:pt x="1553" y="6711"/>
                </a:lnTo>
                <a:lnTo>
                  <a:pt x="1507" y="6803"/>
                </a:lnTo>
                <a:lnTo>
                  <a:pt x="1461" y="6918"/>
                </a:lnTo>
                <a:lnTo>
                  <a:pt x="1393" y="7035"/>
                </a:lnTo>
                <a:lnTo>
                  <a:pt x="1322" y="7267"/>
                </a:lnTo>
                <a:lnTo>
                  <a:pt x="1298" y="7337"/>
                </a:lnTo>
                <a:lnTo>
                  <a:pt x="1183" y="7405"/>
                </a:lnTo>
                <a:lnTo>
                  <a:pt x="1113" y="7452"/>
                </a:lnTo>
                <a:lnTo>
                  <a:pt x="1019" y="7522"/>
                </a:lnTo>
                <a:lnTo>
                  <a:pt x="788" y="7593"/>
                </a:lnTo>
                <a:lnTo>
                  <a:pt x="696" y="7639"/>
                </a:lnTo>
                <a:lnTo>
                  <a:pt x="603" y="7661"/>
                </a:lnTo>
                <a:lnTo>
                  <a:pt x="462" y="7707"/>
                </a:lnTo>
                <a:lnTo>
                  <a:pt x="370" y="7754"/>
                </a:lnTo>
                <a:lnTo>
                  <a:pt x="277" y="7824"/>
                </a:lnTo>
                <a:lnTo>
                  <a:pt x="209" y="7917"/>
                </a:lnTo>
                <a:lnTo>
                  <a:pt x="138" y="7963"/>
                </a:lnTo>
                <a:lnTo>
                  <a:pt x="46" y="8010"/>
                </a:lnTo>
                <a:lnTo>
                  <a:pt x="0" y="81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3075120" y="358920"/>
            <a:ext cx="1010160" cy="2832480"/>
          </a:xfrm>
          <a:custGeom>
            <a:avLst/>
            <a:gdLst/>
            <a:ahLst/>
            <a:rect l="0" t="0" r="r" b="b"/>
            <a:pathLst>
              <a:path fill="none" w="2806" h="7868">
                <a:moveTo>
                  <a:pt x="2806" y="0"/>
                </a:moveTo>
                <a:lnTo>
                  <a:pt x="2729" y="141"/>
                </a:lnTo>
                <a:lnTo>
                  <a:pt x="2689" y="185"/>
                </a:lnTo>
                <a:lnTo>
                  <a:pt x="2663" y="218"/>
                </a:lnTo>
                <a:lnTo>
                  <a:pt x="2647" y="271"/>
                </a:lnTo>
                <a:lnTo>
                  <a:pt x="2636" y="313"/>
                </a:lnTo>
                <a:lnTo>
                  <a:pt x="2614" y="352"/>
                </a:lnTo>
                <a:lnTo>
                  <a:pt x="2601" y="399"/>
                </a:lnTo>
                <a:lnTo>
                  <a:pt x="2581" y="432"/>
                </a:lnTo>
                <a:lnTo>
                  <a:pt x="2555" y="463"/>
                </a:lnTo>
                <a:lnTo>
                  <a:pt x="2495" y="515"/>
                </a:lnTo>
                <a:lnTo>
                  <a:pt x="2431" y="582"/>
                </a:lnTo>
                <a:lnTo>
                  <a:pt x="2398" y="637"/>
                </a:lnTo>
                <a:lnTo>
                  <a:pt x="2389" y="674"/>
                </a:lnTo>
                <a:lnTo>
                  <a:pt x="2363" y="754"/>
                </a:lnTo>
                <a:lnTo>
                  <a:pt x="2296" y="820"/>
                </a:lnTo>
                <a:lnTo>
                  <a:pt x="2230" y="926"/>
                </a:lnTo>
                <a:lnTo>
                  <a:pt x="2204" y="952"/>
                </a:lnTo>
                <a:lnTo>
                  <a:pt x="2177" y="1031"/>
                </a:lnTo>
                <a:lnTo>
                  <a:pt x="2151" y="1084"/>
                </a:lnTo>
                <a:lnTo>
                  <a:pt x="2097" y="1150"/>
                </a:lnTo>
                <a:lnTo>
                  <a:pt x="2097" y="1243"/>
                </a:lnTo>
                <a:lnTo>
                  <a:pt x="2057" y="1389"/>
                </a:lnTo>
                <a:lnTo>
                  <a:pt x="2057" y="1375"/>
                </a:lnTo>
                <a:lnTo>
                  <a:pt x="2031" y="1481"/>
                </a:lnTo>
                <a:lnTo>
                  <a:pt x="1991" y="1413"/>
                </a:lnTo>
                <a:lnTo>
                  <a:pt x="2057" y="1666"/>
                </a:lnTo>
                <a:lnTo>
                  <a:pt x="2111" y="1746"/>
                </a:lnTo>
                <a:lnTo>
                  <a:pt x="2070" y="1799"/>
                </a:lnTo>
                <a:lnTo>
                  <a:pt x="2111" y="1905"/>
                </a:lnTo>
                <a:lnTo>
                  <a:pt x="2124" y="1985"/>
                </a:lnTo>
                <a:lnTo>
                  <a:pt x="2164" y="2051"/>
                </a:lnTo>
                <a:lnTo>
                  <a:pt x="2217" y="2130"/>
                </a:lnTo>
                <a:lnTo>
                  <a:pt x="2257" y="2197"/>
                </a:lnTo>
                <a:lnTo>
                  <a:pt x="2296" y="2276"/>
                </a:lnTo>
                <a:lnTo>
                  <a:pt x="2310" y="2342"/>
                </a:lnTo>
                <a:lnTo>
                  <a:pt x="2323" y="2382"/>
                </a:lnTo>
                <a:lnTo>
                  <a:pt x="2310" y="2448"/>
                </a:lnTo>
                <a:lnTo>
                  <a:pt x="2296" y="2554"/>
                </a:lnTo>
                <a:lnTo>
                  <a:pt x="2283" y="2673"/>
                </a:lnTo>
                <a:lnTo>
                  <a:pt x="2243" y="2752"/>
                </a:lnTo>
                <a:lnTo>
                  <a:pt x="2177" y="2829"/>
                </a:lnTo>
                <a:lnTo>
                  <a:pt x="2177" y="2900"/>
                </a:lnTo>
                <a:lnTo>
                  <a:pt x="2199" y="2992"/>
                </a:lnTo>
                <a:lnTo>
                  <a:pt x="2224" y="3085"/>
                </a:lnTo>
                <a:lnTo>
                  <a:pt x="2224" y="3178"/>
                </a:lnTo>
                <a:lnTo>
                  <a:pt x="2224" y="3248"/>
                </a:lnTo>
                <a:lnTo>
                  <a:pt x="2224" y="3341"/>
                </a:lnTo>
                <a:lnTo>
                  <a:pt x="2246" y="3456"/>
                </a:lnTo>
                <a:lnTo>
                  <a:pt x="2270" y="3526"/>
                </a:lnTo>
                <a:lnTo>
                  <a:pt x="2316" y="3619"/>
                </a:lnTo>
                <a:lnTo>
                  <a:pt x="2340" y="3711"/>
                </a:lnTo>
                <a:lnTo>
                  <a:pt x="2363" y="3782"/>
                </a:lnTo>
                <a:lnTo>
                  <a:pt x="2387" y="3896"/>
                </a:lnTo>
                <a:lnTo>
                  <a:pt x="2409" y="3967"/>
                </a:lnTo>
                <a:lnTo>
                  <a:pt x="2409" y="4106"/>
                </a:lnTo>
                <a:lnTo>
                  <a:pt x="2409" y="4223"/>
                </a:lnTo>
                <a:lnTo>
                  <a:pt x="2409" y="4315"/>
                </a:lnTo>
                <a:lnTo>
                  <a:pt x="2409" y="4454"/>
                </a:lnTo>
                <a:lnTo>
                  <a:pt x="2433" y="4686"/>
                </a:lnTo>
                <a:lnTo>
                  <a:pt x="2433" y="4803"/>
                </a:lnTo>
                <a:lnTo>
                  <a:pt x="2433" y="5034"/>
                </a:lnTo>
                <a:lnTo>
                  <a:pt x="2409" y="5105"/>
                </a:lnTo>
                <a:lnTo>
                  <a:pt x="2363" y="5197"/>
                </a:lnTo>
                <a:lnTo>
                  <a:pt x="2270" y="5546"/>
                </a:lnTo>
                <a:lnTo>
                  <a:pt x="2199" y="5660"/>
                </a:lnTo>
                <a:lnTo>
                  <a:pt x="2177" y="5731"/>
                </a:lnTo>
                <a:lnTo>
                  <a:pt x="2131" y="6475"/>
                </a:lnTo>
                <a:lnTo>
                  <a:pt x="2084" y="6568"/>
                </a:lnTo>
                <a:lnTo>
                  <a:pt x="2013" y="6636"/>
                </a:lnTo>
                <a:lnTo>
                  <a:pt x="1945" y="6706"/>
                </a:lnTo>
                <a:lnTo>
                  <a:pt x="1898" y="6777"/>
                </a:lnTo>
                <a:lnTo>
                  <a:pt x="1828" y="6845"/>
                </a:lnTo>
                <a:lnTo>
                  <a:pt x="1757" y="6892"/>
                </a:lnTo>
                <a:lnTo>
                  <a:pt x="1642" y="7009"/>
                </a:lnTo>
                <a:lnTo>
                  <a:pt x="1572" y="7101"/>
                </a:lnTo>
                <a:lnTo>
                  <a:pt x="852" y="7425"/>
                </a:lnTo>
                <a:lnTo>
                  <a:pt x="782" y="7450"/>
                </a:lnTo>
                <a:lnTo>
                  <a:pt x="688" y="7450"/>
                </a:lnTo>
                <a:lnTo>
                  <a:pt x="573" y="7542"/>
                </a:lnTo>
                <a:lnTo>
                  <a:pt x="503" y="7610"/>
                </a:lnTo>
                <a:lnTo>
                  <a:pt x="432" y="7635"/>
                </a:lnTo>
                <a:lnTo>
                  <a:pt x="339" y="7659"/>
                </a:lnTo>
                <a:lnTo>
                  <a:pt x="247" y="7705"/>
                </a:lnTo>
                <a:lnTo>
                  <a:pt x="154" y="7727"/>
                </a:lnTo>
                <a:lnTo>
                  <a:pt x="132" y="7798"/>
                </a:lnTo>
                <a:lnTo>
                  <a:pt x="61" y="7844"/>
                </a:lnTo>
                <a:lnTo>
                  <a:pt x="0" y="786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>
            <a:off x="3076560" y="1733400"/>
            <a:ext cx="179640" cy="592560"/>
          </a:xfrm>
          <a:custGeom>
            <a:avLst/>
            <a:gdLst/>
            <a:ahLst/>
            <a:rect l="0" t="0" r="r" b="b"/>
            <a:pathLst>
              <a:path fill="none" w="499" h="1646">
                <a:moveTo>
                  <a:pt x="0" y="0"/>
                </a:moveTo>
                <a:lnTo>
                  <a:pt x="26" y="79"/>
                </a:lnTo>
                <a:lnTo>
                  <a:pt x="48" y="163"/>
                </a:lnTo>
                <a:lnTo>
                  <a:pt x="81" y="240"/>
                </a:lnTo>
                <a:lnTo>
                  <a:pt x="127" y="310"/>
                </a:lnTo>
                <a:lnTo>
                  <a:pt x="220" y="357"/>
                </a:lnTo>
                <a:lnTo>
                  <a:pt x="314" y="403"/>
                </a:lnTo>
                <a:lnTo>
                  <a:pt x="406" y="472"/>
                </a:lnTo>
                <a:lnTo>
                  <a:pt x="452" y="543"/>
                </a:lnTo>
                <a:lnTo>
                  <a:pt x="499" y="636"/>
                </a:lnTo>
                <a:lnTo>
                  <a:pt x="499" y="728"/>
                </a:lnTo>
                <a:lnTo>
                  <a:pt x="499" y="799"/>
                </a:lnTo>
                <a:lnTo>
                  <a:pt x="475" y="913"/>
                </a:lnTo>
                <a:lnTo>
                  <a:pt x="406" y="984"/>
                </a:lnTo>
                <a:lnTo>
                  <a:pt x="336" y="1052"/>
                </a:lnTo>
                <a:lnTo>
                  <a:pt x="314" y="1123"/>
                </a:lnTo>
                <a:lnTo>
                  <a:pt x="314" y="1193"/>
                </a:lnTo>
                <a:lnTo>
                  <a:pt x="267" y="1287"/>
                </a:lnTo>
                <a:lnTo>
                  <a:pt x="196" y="1333"/>
                </a:lnTo>
                <a:lnTo>
                  <a:pt x="127" y="1426"/>
                </a:lnTo>
                <a:lnTo>
                  <a:pt x="57" y="1494"/>
                </a:lnTo>
                <a:lnTo>
                  <a:pt x="0" y="164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>
            <a:off x="3456000" y="642960"/>
            <a:ext cx="878400" cy="2630880"/>
          </a:xfrm>
          <a:custGeom>
            <a:avLst/>
            <a:gdLst/>
            <a:ahLst/>
            <a:rect l="0" t="0" r="r" b="b"/>
            <a:pathLst>
              <a:path fill="none" w="2440" h="7308">
                <a:moveTo>
                  <a:pt x="1606" y="0"/>
                </a:moveTo>
                <a:lnTo>
                  <a:pt x="1625" y="244"/>
                </a:lnTo>
                <a:lnTo>
                  <a:pt x="1606" y="330"/>
                </a:lnTo>
                <a:lnTo>
                  <a:pt x="1612" y="383"/>
                </a:lnTo>
                <a:lnTo>
                  <a:pt x="1619" y="443"/>
                </a:lnTo>
                <a:lnTo>
                  <a:pt x="1639" y="482"/>
                </a:lnTo>
                <a:lnTo>
                  <a:pt x="1652" y="509"/>
                </a:lnTo>
                <a:lnTo>
                  <a:pt x="1652" y="555"/>
                </a:lnTo>
                <a:lnTo>
                  <a:pt x="1652" y="562"/>
                </a:lnTo>
                <a:lnTo>
                  <a:pt x="1645" y="568"/>
                </a:lnTo>
                <a:lnTo>
                  <a:pt x="1639" y="595"/>
                </a:lnTo>
                <a:lnTo>
                  <a:pt x="1619" y="634"/>
                </a:lnTo>
                <a:lnTo>
                  <a:pt x="1592" y="641"/>
                </a:lnTo>
                <a:lnTo>
                  <a:pt x="1606" y="694"/>
                </a:lnTo>
                <a:lnTo>
                  <a:pt x="1606" y="727"/>
                </a:lnTo>
                <a:lnTo>
                  <a:pt x="1592" y="753"/>
                </a:lnTo>
                <a:lnTo>
                  <a:pt x="1573" y="826"/>
                </a:lnTo>
                <a:lnTo>
                  <a:pt x="1553" y="872"/>
                </a:lnTo>
                <a:lnTo>
                  <a:pt x="1539" y="952"/>
                </a:lnTo>
                <a:lnTo>
                  <a:pt x="1539" y="1018"/>
                </a:lnTo>
                <a:lnTo>
                  <a:pt x="1533" y="1110"/>
                </a:lnTo>
                <a:lnTo>
                  <a:pt x="1522" y="1166"/>
                </a:lnTo>
                <a:lnTo>
                  <a:pt x="1588" y="1227"/>
                </a:lnTo>
                <a:lnTo>
                  <a:pt x="1619" y="1298"/>
                </a:lnTo>
                <a:lnTo>
                  <a:pt x="1654" y="1364"/>
                </a:lnTo>
                <a:lnTo>
                  <a:pt x="1667" y="1430"/>
                </a:lnTo>
                <a:lnTo>
                  <a:pt x="1767" y="1507"/>
                </a:lnTo>
                <a:lnTo>
                  <a:pt x="1767" y="1578"/>
                </a:lnTo>
                <a:lnTo>
                  <a:pt x="1813" y="1692"/>
                </a:lnTo>
                <a:lnTo>
                  <a:pt x="1836" y="1763"/>
                </a:lnTo>
                <a:lnTo>
                  <a:pt x="1907" y="1878"/>
                </a:lnTo>
                <a:lnTo>
                  <a:pt x="1953" y="1949"/>
                </a:lnTo>
                <a:lnTo>
                  <a:pt x="1999" y="2042"/>
                </a:lnTo>
                <a:lnTo>
                  <a:pt x="2021" y="2112"/>
                </a:lnTo>
                <a:lnTo>
                  <a:pt x="2067" y="2205"/>
                </a:lnTo>
                <a:lnTo>
                  <a:pt x="2092" y="2297"/>
                </a:lnTo>
                <a:lnTo>
                  <a:pt x="2138" y="2390"/>
                </a:lnTo>
                <a:lnTo>
                  <a:pt x="2162" y="2482"/>
                </a:lnTo>
                <a:lnTo>
                  <a:pt x="2184" y="2553"/>
                </a:lnTo>
                <a:lnTo>
                  <a:pt x="2209" y="2646"/>
                </a:lnTo>
                <a:lnTo>
                  <a:pt x="2255" y="2784"/>
                </a:lnTo>
                <a:lnTo>
                  <a:pt x="2277" y="2901"/>
                </a:lnTo>
                <a:lnTo>
                  <a:pt x="2277" y="2994"/>
                </a:lnTo>
                <a:lnTo>
                  <a:pt x="2323" y="3086"/>
                </a:lnTo>
                <a:lnTo>
                  <a:pt x="2323" y="3201"/>
                </a:lnTo>
                <a:lnTo>
                  <a:pt x="2323" y="3272"/>
                </a:lnTo>
                <a:lnTo>
                  <a:pt x="2323" y="3364"/>
                </a:lnTo>
                <a:lnTo>
                  <a:pt x="2323" y="3457"/>
                </a:lnTo>
                <a:lnTo>
                  <a:pt x="2323" y="3527"/>
                </a:lnTo>
                <a:lnTo>
                  <a:pt x="2323" y="3688"/>
                </a:lnTo>
                <a:lnTo>
                  <a:pt x="2323" y="3759"/>
                </a:lnTo>
                <a:lnTo>
                  <a:pt x="2277" y="3829"/>
                </a:lnTo>
                <a:lnTo>
                  <a:pt x="2231" y="3944"/>
                </a:lnTo>
                <a:lnTo>
                  <a:pt x="2301" y="4153"/>
                </a:lnTo>
                <a:lnTo>
                  <a:pt x="2440" y="4292"/>
                </a:lnTo>
                <a:lnTo>
                  <a:pt x="2440" y="4409"/>
                </a:lnTo>
                <a:lnTo>
                  <a:pt x="2440" y="4455"/>
                </a:lnTo>
                <a:lnTo>
                  <a:pt x="2440" y="4455"/>
                </a:lnTo>
                <a:lnTo>
                  <a:pt x="2323" y="4548"/>
                </a:lnTo>
                <a:lnTo>
                  <a:pt x="2323" y="4640"/>
                </a:lnTo>
                <a:lnTo>
                  <a:pt x="2277" y="4733"/>
                </a:lnTo>
                <a:lnTo>
                  <a:pt x="2231" y="4825"/>
                </a:lnTo>
                <a:lnTo>
                  <a:pt x="2162" y="4872"/>
                </a:lnTo>
                <a:lnTo>
                  <a:pt x="2045" y="4964"/>
                </a:lnTo>
                <a:lnTo>
                  <a:pt x="1999" y="5081"/>
                </a:lnTo>
                <a:lnTo>
                  <a:pt x="1975" y="5152"/>
                </a:lnTo>
                <a:lnTo>
                  <a:pt x="1929" y="5429"/>
                </a:lnTo>
                <a:lnTo>
                  <a:pt x="1882" y="5569"/>
                </a:lnTo>
                <a:lnTo>
                  <a:pt x="1860" y="5640"/>
                </a:lnTo>
                <a:lnTo>
                  <a:pt x="1789" y="5871"/>
                </a:lnTo>
                <a:lnTo>
                  <a:pt x="1720" y="5988"/>
                </a:lnTo>
                <a:lnTo>
                  <a:pt x="1625" y="6081"/>
                </a:lnTo>
                <a:lnTo>
                  <a:pt x="1487" y="6220"/>
                </a:lnTo>
                <a:lnTo>
                  <a:pt x="1418" y="6334"/>
                </a:lnTo>
                <a:lnTo>
                  <a:pt x="1348" y="6380"/>
                </a:lnTo>
                <a:lnTo>
                  <a:pt x="1209" y="6475"/>
                </a:lnTo>
                <a:lnTo>
                  <a:pt x="1138" y="6522"/>
                </a:lnTo>
                <a:lnTo>
                  <a:pt x="1024" y="6568"/>
                </a:lnTo>
                <a:lnTo>
                  <a:pt x="931" y="6660"/>
                </a:lnTo>
                <a:lnTo>
                  <a:pt x="860" y="6682"/>
                </a:lnTo>
                <a:lnTo>
                  <a:pt x="792" y="6753"/>
                </a:lnTo>
                <a:lnTo>
                  <a:pt x="721" y="6775"/>
                </a:lnTo>
                <a:lnTo>
                  <a:pt x="651" y="6821"/>
                </a:lnTo>
                <a:lnTo>
                  <a:pt x="582" y="6892"/>
                </a:lnTo>
                <a:lnTo>
                  <a:pt x="489" y="7009"/>
                </a:lnTo>
                <a:lnTo>
                  <a:pt x="418" y="7055"/>
                </a:lnTo>
                <a:lnTo>
                  <a:pt x="326" y="7101"/>
                </a:lnTo>
                <a:lnTo>
                  <a:pt x="255" y="7148"/>
                </a:lnTo>
                <a:lnTo>
                  <a:pt x="141" y="7216"/>
                </a:lnTo>
                <a:lnTo>
                  <a:pt x="0" y="730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>
            <a:off x="3760920" y="1309680"/>
            <a:ext cx="725760" cy="1962360"/>
          </a:xfrm>
          <a:custGeom>
            <a:avLst/>
            <a:gdLst/>
            <a:ahLst/>
            <a:rect l="0" t="0" r="r" b="b"/>
            <a:pathLst>
              <a:path fill="none" w="2016" h="5451">
                <a:moveTo>
                  <a:pt x="1150" y="0"/>
                </a:moveTo>
                <a:lnTo>
                  <a:pt x="1183" y="46"/>
                </a:lnTo>
                <a:lnTo>
                  <a:pt x="1229" y="125"/>
                </a:lnTo>
                <a:lnTo>
                  <a:pt x="1249" y="231"/>
                </a:lnTo>
                <a:lnTo>
                  <a:pt x="1302" y="277"/>
                </a:lnTo>
                <a:lnTo>
                  <a:pt x="1362" y="392"/>
                </a:lnTo>
                <a:lnTo>
                  <a:pt x="1430" y="485"/>
                </a:lnTo>
                <a:lnTo>
                  <a:pt x="1476" y="577"/>
                </a:lnTo>
                <a:lnTo>
                  <a:pt x="1522" y="648"/>
                </a:lnTo>
                <a:lnTo>
                  <a:pt x="1569" y="740"/>
                </a:lnTo>
                <a:lnTo>
                  <a:pt x="1639" y="809"/>
                </a:lnTo>
                <a:lnTo>
                  <a:pt x="1661" y="879"/>
                </a:lnTo>
                <a:lnTo>
                  <a:pt x="1732" y="972"/>
                </a:lnTo>
                <a:lnTo>
                  <a:pt x="1756" y="1042"/>
                </a:lnTo>
                <a:lnTo>
                  <a:pt x="1802" y="1135"/>
                </a:lnTo>
                <a:lnTo>
                  <a:pt x="1848" y="1250"/>
                </a:lnTo>
                <a:lnTo>
                  <a:pt x="1870" y="1320"/>
                </a:lnTo>
                <a:lnTo>
                  <a:pt x="1917" y="1413"/>
                </a:lnTo>
                <a:lnTo>
                  <a:pt x="1917" y="1483"/>
                </a:lnTo>
                <a:lnTo>
                  <a:pt x="1941" y="1576"/>
                </a:lnTo>
                <a:lnTo>
                  <a:pt x="1941" y="1669"/>
                </a:lnTo>
                <a:lnTo>
                  <a:pt x="1941" y="1830"/>
                </a:lnTo>
                <a:lnTo>
                  <a:pt x="1941" y="1900"/>
                </a:lnTo>
                <a:lnTo>
                  <a:pt x="1941" y="1971"/>
                </a:lnTo>
                <a:lnTo>
                  <a:pt x="1941" y="2063"/>
                </a:lnTo>
                <a:lnTo>
                  <a:pt x="1963" y="2156"/>
                </a:lnTo>
                <a:lnTo>
                  <a:pt x="1943" y="2288"/>
                </a:lnTo>
                <a:lnTo>
                  <a:pt x="1950" y="2341"/>
                </a:lnTo>
                <a:lnTo>
                  <a:pt x="1956" y="2374"/>
                </a:lnTo>
                <a:lnTo>
                  <a:pt x="1969" y="2414"/>
                </a:lnTo>
                <a:lnTo>
                  <a:pt x="1983" y="2460"/>
                </a:lnTo>
                <a:lnTo>
                  <a:pt x="2003" y="2533"/>
                </a:lnTo>
                <a:lnTo>
                  <a:pt x="2009" y="2579"/>
                </a:lnTo>
                <a:lnTo>
                  <a:pt x="2016" y="2672"/>
                </a:lnTo>
                <a:lnTo>
                  <a:pt x="1989" y="2739"/>
                </a:lnTo>
                <a:lnTo>
                  <a:pt x="1943" y="2818"/>
                </a:lnTo>
                <a:lnTo>
                  <a:pt x="1884" y="2937"/>
                </a:lnTo>
                <a:lnTo>
                  <a:pt x="1837" y="3010"/>
                </a:lnTo>
                <a:lnTo>
                  <a:pt x="1798" y="3063"/>
                </a:lnTo>
                <a:lnTo>
                  <a:pt x="1725" y="3096"/>
                </a:lnTo>
                <a:lnTo>
                  <a:pt x="1666" y="3156"/>
                </a:lnTo>
                <a:lnTo>
                  <a:pt x="1619" y="3189"/>
                </a:lnTo>
                <a:lnTo>
                  <a:pt x="1573" y="3235"/>
                </a:lnTo>
                <a:lnTo>
                  <a:pt x="1520" y="3301"/>
                </a:lnTo>
                <a:lnTo>
                  <a:pt x="1500" y="3374"/>
                </a:lnTo>
                <a:lnTo>
                  <a:pt x="1487" y="3453"/>
                </a:lnTo>
                <a:lnTo>
                  <a:pt x="1454" y="3533"/>
                </a:lnTo>
                <a:lnTo>
                  <a:pt x="1414" y="3619"/>
                </a:lnTo>
                <a:lnTo>
                  <a:pt x="1375" y="3751"/>
                </a:lnTo>
                <a:lnTo>
                  <a:pt x="1348" y="3844"/>
                </a:lnTo>
                <a:lnTo>
                  <a:pt x="1282" y="3969"/>
                </a:lnTo>
                <a:lnTo>
                  <a:pt x="1216" y="4102"/>
                </a:lnTo>
                <a:lnTo>
                  <a:pt x="1157" y="4214"/>
                </a:lnTo>
                <a:lnTo>
                  <a:pt x="1124" y="4326"/>
                </a:lnTo>
                <a:lnTo>
                  <a:pt x="1097" y="4406"/>
                </a:lnTo>
                <a:lnTo>
                  <a:pt x="1011" y="4498"/>
                </a:lnTo>
                <a:lnTo>
                  <a:pt x="931" y="4604"/>
                </a:lnTo>
                <a:lnTo>
                  <a:pt x="759" y="4703"/>
                </a:lnTo>
                <a:lnTo>
                  <a:pt x="693" y="4796"/>
                </a:lnTo>
                <a:lnTo>
                  <a:pt x="588" y="4875"/>
                </a:lnTo>
                <a:lnTo>
                  <a:pt x="488" y="4955"/>
                </a:lnTo>
                <a:lnTo>
                  <a:pt x="370" y="5061"/>
                </a:lnTo>
                <a:lnTo>
                  <a:pt x="251" y="5114"/>
                </a:lnTo>
                <a:lnTo>
                  <a:pt x="185" y="5180"/>
                </a:lnTo>
                <a:lnTo>
                  <a:pt x="72" y="5312"/>
                </a:lnTo>
                <a:lnTo>
                  <a:pt x="0" y="545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>
            <a:off x="4033800" y="81000"/>
            <a:ext cx="1548000" cy="2224440"/>
          </a:xfrm>
          <a:custGeom>
            <a:avLst/>
            <a:gdLst/>
            <a:ahLst/>
            <a:rect l="0" t="0" r="r" b="b"/>
            <a:pathLst>
              <a:path fill="none" w="4300" h="6179">
                <a:moveTo>
                  <a:pt x="152" y="0"/>
                </a:moveTo>
                <a:lnTo>
                  <a:pt x="138" y="50"/>
                </a:lnTo>
                <a:lnTo>
                  <a:pt x="138" y="143"/>
                </a:lnTo>
                <a:lnTo>
                  <a:pt x="138" y="236"/>
                </a:lnTo>
                <a:lnTo>
                  <a:pt x="138" y="328"/>
                </a:lnTo>
                <a:lnTo>
                  <a:pt x="163" y="421"/>
                </a:lnTo>
                <a:lnTo>
                  <a:pt x="185" y="491"/>
                </a:lnTo>
                <a:lnTo>
                  <a:pt x="185" y="584"/>
                </a:lnTo>
                <a:lnTo>
                  <a:pt x="185" y="677"/>
                </a:lnTo>
                <a:lnTo>
                  <a:pt x="138" y="769"/>
                </a:lnTo>
                <a:lnTo>
                  <a:pt x="116" y="862"/>
                </a:lnTo>
                <a:lnTo>
                  <a:pt x="70" y="932"/>
                </a:lnTo>
                <a:lnTo>
                  <a:pt x="46" y="1025"/>
                </a:lnTo>
                <a:lnTo>
                  <a:pt x="46" y="1118"/>
                </a:lnTo>
                <a:lnTo>
                  <a:pt x="46" y="1210"/>
                </a:lnTo>
                <a:lnTo>
                  <a:pt x="22" y="1303"/>
                </a:lnTo>
                <a:lnTo>
                  <a:pt x="0" y="1374"/>
                </a:lnTo>
                <a:lnTo>
                  <a:pt x="0" y="1466"/>
                </a:lnTo>
                <a:lnTo>
                  <a:pt x="0" y="1559"/>
                </a:lnTo>
                <a:lnTo>
                  <a:pt x="46" y="1652"/>
                </a:lnTo>
                <a:lnTo>
                  <a:pt x="70" y="1744"/>
                </a:lnTo>
                <a:lnTo>
                  <a:pt x="92" y="1815"/>
                </a:lnTo>
                <a:lnTo>
                  <a:pt x="116" y="1907"/>
                </a:lnTo>
                <a:lnTo>
                  <a:pt x="116" y="2000"/>
                </a:lnTo>
                <a:lnTo>
                  <a:pt x="116" y="2093"/>
                </a:lnTo>
                <a:lnTo>
                  <a:pt x="138" y="2185"/>
                </a:lnTo>
                <a:lnTo>
                  <a:pt x="163" y="2256"/>
                </a:lnTo>
                <a:lnTo>
                  <a:pt x="163" y="2349"/>
                </a:lnTo>
                <a:lnTo>
                  <a:pt x="185" y="2487"/>
                </a:lnTo>
                <a:lnTo>
                  <a:pt x="231" y="2580"/>
                </a:lnTo>
                <a:lnTo>
                  <a:pt x="255" y="2673"/>
                </a:lnTo>
                <a:lnTo>
                  <a:pt x="255" y="2743"/>
                </a:lnTo>
                <a:lnTo>
                  <a:pt x="255" y="2858"/>
                </a:lnTo>
                <a:lnTo>
                  <a:pt x="255" y="2929"/>
                </a:lnTo>
                <a:lnTo>
                  <a:pt x="277" y="3021"/>
                </a:lnTo>
                <a:lnTo>
                  <a:pt x="301" y="3115"/>
                </a:lnTo>
                <a:lnTo>
                  <a:pt x="323" y="3185"/>
                </a:lnTo>
                <a:lnTo>
                  <a:pt x="323" y="3278"/>
                </a:lnTo>
                <a:lnTo>
                  <a:pt x="398" y="3432"/>
                </a:lnTo>
                <a:lnTo>
                  <a:pt x="462" y="3463"/>
                </a:lnTo>
                <a:lnTo>
                  <a:pt x="511" y="3556"/>
                </a:lnTo>
                <a:lnTo>
                  <a:pt x="557" y="3627"/>
                </a:lnTo>
                <a:lnTo>
                  <a:pt x="650" y="3695"/>
                </a:lnTo>
                <a:lnTo>
                  <a:pt x="696" y="3766"/>
                </a:lnTo>
                <a:lnTo>
                  <a:pt x="764" y="3858"/>
                </a:lnTo>
                <a:lnTo>
                  <a:pt x="835" y="3927"/>
                </a:lnTo>
                <a:lnTo>
                  <a:pt x="857" y="3997"/>
                </a:lnTo>
                <a:lnTo>
                  <a:pt x="903" y="4068"/>
                </a:lnTo>
                <a:lnTo>
                  <a:pt x="952" y="4160"/>
                </a:lnTo>
                <a:lnTo>
                  <a:pt x="1020" y="4253"/>
                </a:lnTo>
                <a:lnTo>
                  <a:pt x="1066" y="4346"/>
                </a:lnTo>
                <a:lnTo>
                  <a:pt x="1137" y="4438"/>
                </a:lnTo>
                <a:lnTo>
                  <a:pt x="1159" y="4509"/>
                </a:lnTo>
                <a:lnTo>
                  <a:pt x="1229" y="4577"/>
                </a:lnTo>
                <a:lnTo>
                  <a:pt x="1251" y="4648"/>
                </a:lnTo>
                <a:lnTo>
                  <a:pt x="1275" y="4740"/>
                </a:lnTo>
                <a:lnTo>
                  <a:pt x="1297" y="4833"/>
                </a:lnTo>
                <a:lnTo>
                  <a:pt x="1322" y="4904"/>
                </a:lnTo>
                <a:lnTo>
                  <a:pt x="1344" y="5018"/>
                </a:lnTo>
                <a:lnTo>
                  <a:pt x="1368" y="5089"/>
                </a:lnTo>
                <a:lnTo>
                  <a:pt x="1414" y="5182"/>
                </a:lnTo>
                <a:lnTo>
                  <a:pt x="1439" y="5296"/>
                </a:lnTo>
                <a:lnTo>
                  <a:pt x="1461" y="5367"/>
                </a:lnTo>
                <a:lnTo>
                  <a:pt x="1461" y="5437"/>
                </a:lnTo>
                <a:lnTo>
                  <a:pt x="1485" y="5530"/>
                </a:lnTo>
                <a:lnTo>
                  <a:pt x="1531" y="5623"/>
                </a:lnTo>
                <a:lnTo>
                  <a:pt x="1577" y="5715"/>
                </a:lnTo>
                <a:lnTo>
                  <a:pt x="1624" y="5786"/>
                </a:lnTo>
                <a:lnTo>
                  <a:pt x="1692" y="5879"/>
                </a:lnTo>
                <a:lnTo>
                  <a:pt x="1762" y="5971"/>
                </a:lnTo>
                <a:lnTo>
                  <a:pt x="1833" y="5993"/>
                </a:lnTo>
                <a:lnTo>
                  <a:pt x="1926" y="6018"/>
                </a:lnTo>
                <a:lnTo>
                  <a:pt x="2018" y="6086"/>
                </a:lnTo>
                <a:lnTo>
                  <a:pt x="2064" y="6156"/>
                </a:lnTo>
                <a:lnTo>
                  <a:pt x="2158" y="6179"/>
                </a:lnTo>
                <a:lnTo>
                  <a:pt x="2251" y="6179"/>
                </a:lnTo>
                <a:lnTo>
                  <a:pt x="2321" y="6156"/>
                </a:lnTo>
                <a:lnTo>
                  <a:pt x="2414" y="6132"/>
                </a:lnTo>
                <a:lnTo>
                  <a:pt x="2506" y="6110"/>
                </a:lnTo>
                <a:lnTo>
                  <a:pt x="2599" y="6040"/>
                </a:lnTo>
                <a:lnTo>
                  <a:pt x="2667" y="5947"/>
                </a:lnTo>
                <a:lnTo>
                  <a:pt x="2738" y="5879"/>
                </a:lnTo>
                <a:lnTo>
                  <a:pt x="2808" y="5808"/>
                </a:lnTo>
                <a:lnTo>
                  <a:pt x="2876" y="5737"/>
                </a:lnTo>
                <a:lnTo>
                  <a:pt x="2947" y="5691"/>
                </a:lnTo>
                <a:lnTo>
                  <a:pt x="3061" y="5620"/>
                </a:lnTo>
                <a:lnTo>
                  <a:pt x="3123" y="5568"/>
                </a:lnTo>
                <a:lnTo>
                  <a:pt x="3185" y="5515"/>
                </a:lnTo>
                <a:lnTo>
                  <a:pt x="3273" y="5471"/>
                </a:lnTo>
                <a:lnTo>
                  <a:pt x="3370" y="5418"/>
                </a:lnTo>
                <a:lnTo>
                  <a:pt x="3456" y="5391"/>
                </a:lnTo>
                <a:lnTo>
                  <a:pt x="3526" y="5391"/>
                </a:lnTo>
                <a:lnTo>
                  <a:pt x="3597" y="5367"/>
                </a:lnTo>
                <a:lnTo>
                  <a:pt x="3712" y="5296"/>
                </a:lnTo>
                <a:lnTo>
                  <a:pt x="3782" y="5228"/>
                </a:lnTo>
                <a:lnTo>
                  <a:pt x="3850" y="5157"/>
                </a:lnTo>
                <a:lnTo>
                  <a:pt x="3921" y="5065"/>
                </a:lnTo>
                <a:lnTo>
                  <a:pt x="3989" y="4972"/>
                </a:lnTo>
                <a:lnTo>
                  <a:pt x="4060" y="4904"/>
                </a:lnTo>
                <a:lnTo>
                  <a:pt x="4130" y="4855"/>
                </a:lnTo>
                <a:lnTo>
                  <a:pt x="4223" y="4809"/>
                </a:lnTo>
                <a:lnTo>
                  <a:pt x="4300" y="479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>
            <a:off x="4853160" y="88920"/>
            <a:ext cx="729000" cy="744840"/>
          </a:xfrm>
          <a:custGeom>
            <a:avLst/>
            <a:gdLst/>
            <a:ahLst/>
            <a:rect l="0" t="0" r="r" b="b"/>
            <a:pathLst>
              <a:path fill="none" w="2025" h="2069">
                <a:moveTo>
                  <a:pt x="0" y="0"/>
                </a:moveTo>
                <a:lnTo>
                  <a:pt x="48" y="48"/>
                </a:lnTo>
                <a:lnTo>
                  <a:pt x="97" y="137"/>
                </a:lnTo>
                <a:lnTo>
                  <a:pt x="145" y="226"/>
                </a:lnTo>
                <a:lnTo>
                  <a:pt x="145" y="315"/>
                </a:lnTo>
                <a:lnTo>
                  <a:pt x="168" y="404"/>
                </a:lnTo>
                <a:lnTo>
                  <a:pt x="217" y="472"/>
                </a:lnTo>
                <a:lnTo>
                  <a:pt x="291" y="516"/>
                </a:lnTo>
                <a:lnTo>
                  <a:pt x="388" y="560"/>
                </a:lnTo>
                <a:lnTo>
                  <a:pt x="462" y="626"/>
                </a:lnTo>
                <a:lnTo>
                  <a:pt x="510" y="694"/>
                </a:lnTo>
                <a:lnTo>
                  <a:pt x="607" y="759"/>
                </a:lnTo>
                <a:lnTo>
                  <a:pt x="704" y="783"/>
                </a:lnTo>
                <a:lnTo>
                  <a:pt x="801" y="848"/>
                </a:lnTo>
                <a:lnTo>
                  <a:pt x="875" y="895"/>
                </a:lnTo>
                <a:lnTo>
                  <a:pt x="972" y="961"/>
                </a:lnTo>
                <a:lnTo>
                  <a:pt x="1093" y="1050"/>
                </a:lnTo>
                <a:lnTo>
                  <a:pt x="1167" y="1095"/>
                </a:lnTo>
                <a:lnTo>
                  <a:pt x="1216" y="1163"/>
                </a:lnTo>
                <a:lnTo>
                  <a:pt x="1313" y="1252"/>
                </a:lnTo>
                <a:lnTo>
                  <a:pt x="1320" y="1429"/>
                </a:lnTo>
                <a:lnTo>
                  <a:pt x="1491" y="1601"/>
                </a:lnTo>
                <a:lnTo>
                  <a:pt x="1703" y="1664"/>
                </a:lnTo>
                <a:lnTo>
                  <a:pt x="1874" y="1770"/>
                </a:lnTo>
                <a:lnTo>
                  <a:pt x="2025" y="20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>
            <a:off x="4106880" y="82440"/>
            <a:ext cx="1476720" cy="1679760"/>
          </a:xfrm>
          <a:custGeom>
            <a:avLst/>
            <a:gdLst/>
            <a:ahLst/>
            <a:rect l="0" t="0" r="r" b="b"/>
            <a:pathLst>
              <a:path fill="none" w="4102" h="4666">
                <a:moveTo>
                  <a:pt x="0" y="0"/>
                </a:moveTo>
                <a:lnTo>
                  <a:pt x="22" y="243"/>
                </a:lnTo>
                <a:lnTo>
                  <a:pt x="61" y="309"/>
                </a:lnTo>
                <a:lnTo>
                  <a:pt x="97" y="396"/>
                </a:lnTo>
                <a:lnTo>
                  <a:pt x="143" y="492"/>
                </a:lnTo>
                <a:lnTo>
                  <a:pt x="189" y="588"/>
                </a:lnTo>
                <a:lnTo>
                  <a:pt x="235" y="683"/>
                </a:lnTo>
                <a:lnTo>
                  <a:pt x="235" y="779"/>
                </a:lnTo>
                <a:lnTo>
                  <a:pt x="257" y="852"/>
                </a:lnTo>
                <a:lnTo>
                  <a:pt x="306" y="948"/>
                </a:lnTo>
                <a:lnTo>
                  <a:pt x="374" y="1043"/>
                </a:lnTo>
                <a:lnTo>
                  <a:pt x="421" y="1139"/>
                </a:lnTo>
                <a:lnTo>
                  <a:pt x="513" y="1235"/>
                </a:lnTo>
                <a:lnTo>
                  <a:pt x="537" y="1308"/>
                </a:lnTo>
                <a:lnTo>
                  <a:pt x="606" y="1403"/>
                </a:lnTo>
                <a:lnTo>
                  <a:pt x="652" y="1499"/>
                </a:lnTo>
                <a:lnTo>
                  <a:pt x="698" y="1595"/>
                </a:lnTo>
                <a:lnTo>
                  <a:pt x="723" y="1691"/>
                </a:lnTo>
                <a:lnTo>
                  <a:pt x="793" y="1739"/>
                </a:lnTo>
                <a:lnTo>
                  <a:pt x="886" y="1811"/>
                </a:lnTo>
                <a:lnTo>
                  <a:pt x="978" y="1882"/>
                </a:lnTo>
                <a:lnTo>
                  <a:pt x="1047" y="1955"/>
                </a:lnTo>
                <a:lnTo>
                  <a:pt x="1117" y="2051"/>
                </a:lnTo>
                <a:lnTo>
                  <a:pt x="1210" y="2146"/>
                </a:lnTo>
                <a:lnTo>
                  <a:pt x="1281" y="2242"/>
                </a:lnTo>
                <a:lnTo>
                  <a:pt x="1349" y="2364"/>
                </a:lnTo>
                <a:lnTo>
                  <a:pt x="1441" y="2483"/>
                </a:lnTo>
                <a:lnTo>
                  <a:pt x="1466" y="2555"/>
                </a:lnTo>
                <a:lnTo>
                  <a:pt x="1534" y="2651"/>
                </a:lnTo>
                <a:lnTo>
                  <a:pt x="1580" y="2724"/>
                </a:lnTo>
                <a:lnTo>
                  <a:pt x="1629" y="2843"/>
                </a:lnTo>
                <a:lnTo>
                  <a:pt x="1721" y="2938"/>
                </a:lnTo>
                <a:lnTo>
                  <a:pt x="1860" y="2963"/>
                </a:lnTo>
                <a:lnTo>
                  <a:pt x="1953" y="3011"/>
                </a:lnTo>
                <a:lnTo>
                  <a:pt x="2046" y="3084"/>
                </a:lnTo>
                <a:lnTo>
                  <a:pt x="2117" y="3132"/>
                </a:lnTo>
                <a:lnTo>
                  <a:pt x="2210" y="3203"/>
                </a:lnTo>
                <a:lnTo>
                  <a:pt x="2278" y="3276"/>
                </a:lnTo>
                <a:lnTo>
                  <a:pt x="2349" y="3371"/>
                </a:lnTo>
                <a:lnTo>
                  <a:pt x="2441" y="3515"/>
                </a:lnTo>
                <a:lnTo>
                  <a:pt x="2488" y="3588"/>
                </a:lnTo>
                <a:lnTo>
                  <a:pt x="2558" y="3684"/>
                </a:lnTo>
                <a:lnTo>
                  <a:pt x="2626" y="3779"/>
                </a:lnTo>
                <a:lnTo>
                  <a:pt x="2697" y="3875"/>
                </a:lnTo>
                <a:lnTo>
                  <a:pt x="2790" y="3996"/>
                </a:lnTo>
                <a:lnTo>
                  <a:pt x="2882" y="4044"/>
                </a:lnTo>
                <a:lnTo>
                  <a:pt x="2953" y="4114"/>
                </a:lnTo>
                <a:lnTo>
                  <a:pt x="3067" y="4210"/>
                </a:lnTo>
                <a:lnTo>
                  <a:pt x="3138" y="4283"/>
                </a:lnTo>
                <a:lnTo>
                  <a:pt x="3206" y="4379"/>
                </a:lnTo>
                <a:lnTo>
                  <a:pt x="3253" y="4452"/>
                </a:lnTo>
                <a:lnTo>
                  <a:pt x="3323" y="4547"/>
                </a:lnTo>
                <a:lnTo>
                  <a:pt x="3394" y="4595"/>
                </a:lnTo>
                <a:lnTo>
                  <a:pt x="3486" y="4643"/>
                </a:lnTo>
                <a:lnTo>
                  <a:pt x="3579" y="4643"/>
                </a:lnTo>
                <a:lnTo>
                  <a:pt x="3672" y="4666"/>
                </a:lnTo>
                <a:lnTo>
                  <a:pt x="3802" y="4645"/>
                </a:lnTo>
                <a:lnTo>
                  <a:pt x="3872" y="4655"/>
                </a:lnTo>
                <a:lnTo>
                  <a:pt x="3934" y="4627"/>
                </a:lnTo>
                <a:lnTo>
                  <a:pt x="4013" y="4609"/>
                </a:lnTo>
                <a:lnTo>
                  <a:pt x="4102" y="460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>
            <a:off x="4075200" y="326880"/>
            <a:ext cx="1508400" cy="1661040"/>
          </a:xfrm>
          <a:custGeom>
            <a:avLst/>
            <a:gdLst/>
            <a:ahLst/>
            <a:rect l="0" t="0" r="r" b="b"/>
            <a:pathLst>
              <a:path fill="none" w="4190" h="4614">
                <a:moveTo>
                  <a:pt x="63" y="0"/>
                </a:moveTo>
                <a:lnTo>
                  <a:pt x="0" y="335"/>
                </a:lnTo>
                <a:lnTo>
                  <a:pt x="11" y="474"/>
                </a:lnTo>
                <a:lnTo>
                  <a:pt x="44" y="714"/>
                </a:lnTo>
                <a:lnTo>
                  <a:pt x="176" y="1095"/>
                </a:lnTo>
                <a:lnTo>
                  <a:pt x="321" y="1387"/>
                </a:lnTo>
                <a:lnTo>
                  <a:pt x="394" y="1504"/>
                </a:lnTo>
                <a:lnTo>
                  <a:pt x="416" y="1575"/>
                </a:lnTo>
                <a:lnTo>
                  <a:pt x="463" y="1667"/>
                </a:lnTo>
                <a:lnTo>
                  <a:pt x="509" y="1760"/>
                </a:lnTo>
                <a:lnTo>
                  <a:pt x="555" y="1853"/>
                </a:lnTo>
                <a:lnTo>
                  <a:pt x="555" y="1945"/>
                </a:lnTo>
                <a:lnTo>
                  <a:pt x="555" y="2016"/>
                </a:lnTo>
                <a:lnTo>
                  <a:pt x="579" y="2108"/>
                </a:lnTo>
                <a:lnTo>
                  <a:pt x="601" y="2201"/>
                </a:lnTo>
                <a:lnTo>
                  <a:pt x="601" y="2294"/>
                </a:lnTo>
                <a:lnTo>
                  <a:pt x="648" y="2386"/>
                </a:lnTo>
                <a:lnTo>
                  <a:pt x="672" y="2525"/>
                </a:lnTo>
                <a:lnTo>
                  <a:pt x="694" y="2596"/>
                </a:lnTo>
                <a:lnTo>
                  <a:pt x="694" y="2710"/>
                </a:lnTo>
                <a:lnTo>
                  <a:pt x="787" y="2781"/>
                </a:lnTo>
                <a:lnTo>
                  <a:pt x="857" y="2827"/>
                </a:lnTo>
                <a:lnTo>
                  <a:pt x="928" y="2873"/>
                </a:lnTo>
                <a:lnTo>
                  <a:pt x="974" y="2944"/>
                </a:lnTo>
                <a:lnTo>
                  <a:pt x="1089" y="3059"/>
                </a:lnTo>
                <a:lnTo>
                  <a:pt x="1159" y="3129"/>
                </a:lnTo>
                <a:lnTo>
                  <a:pt x="1252" y="3268"/>
                </a:lnTo>
                <a:lnTo>
                  <a:pt x="1322" y="3361"/>
                </a:lnTo>
                <a:lnTo>
                  <a:pt x="1369" y="3431"/>
                </a:lnTo>
                <a:lnTo>
                  <a:pt x="1437" y="3547"/>
                </a:lnTo>
                <a:lnTo>
                  <a:pt x="1461" y="3617"/>
                </a:lnTo>
                <a:lnTo>
                  <a:pt x="1530" y="3710"/>
                </a:lnTo>
                <a:lnTo>
                  <a:pt x="1554" y="3781"/>
                </a:lnTo>
                <a:lnTo>
                  <a:pt x="1600" y="3873"/>
                </a:lnTo>
                <a:lnTo>
                  <a:pt x="1622" y="3966"/>
                </a:lnTo>
                <a:lnTo>
                  <a:pt x="1669" y="4058"/>
                </a:lnTo>
                <a:lnTo>
                  <a:pt x="1693" y="4151"/>
                </a:lnTo>
                <a:lnTo>
                  <a:pt x="1717" y="4222"/>
                </a:lnTo>
                <a:lnTo>
                  <a:pt x="1785" y="4336"/>
                </a:lnTo>
                <a:lnTo>
                  <a:pt x="1832" y="4407"/>
                </a:lnTo>
                <a:lnTo>
                  <a:pt x="1902" y="4475"/>
                </a:lnTo>
                <a:lnTo>
                  <a:pt x="1995" y="4568"/>
                </a:lnTo>
                <a:lnTo>
                  <a:pt x="2088" y="4614"/>
                </a:lnTo>
                <a:lnTo>
                  <a:pt x="2181" y="4614"/>
                </a:lnTo>
                <a:lnTo>
                  <a:pt x="2252" y="4614"/>
                </a:lnTo>
                <a:lnTo>
                  <a:pt x="2366" y="4592"/>
                </a:lnTo>
                <a:lnTo>
                  <a:pt x="2437" y="4568"/>
                </a:lnTo>
                <a:lnTo>
                  <a:pt x="2529" y="4521"/>
                </a:lnTo>
                <a:lnTo>
                  <a:pt x="2600" y="4499"/>
                </a:lnTo>
                <a:lnTo>
                  <a:pt x="2693" y="4475"/>
                </a:lnTo>
                <a:lnTo>
                  <a:pt x="2785" y="4453"/>
                </a:lnTo>
                <a:lnTo>
                  <a:pt x="2900" y="4429"/>
                </a:lnTo>
                <a:lnTo>
                  <a:pt x="2970" y="4407"/>
                </a:lnTo>
                <a:lnTo>
                  <a:pt x="3041" y="4383"/>
                </a:lnTo>
                <a:lnTo>
                  <a:pt x="3134" y="4336"/>
                </a:lnTo>
                <a:lnTo>
                  <a:pt x="3248" y="4336"/>
                </a:lnTo>
                <a:lnTo>
                  <a:pt x="3319" y="4336"/>
                </a:lnTo>
                <a:lnTo>
                  <a:pt x="3411" y="4314"/>
                </a:lnTo>
                <a:lnTo>
                  <a:pt x="3482" y="4290"/>
                </a:lnTo>
                <a:lnTo>
                  <a:pt x="3575" y="4268"/>
                </a:lnTo>
                <a:lnTo>
                  <a:pt x="3667" y="4222"/>
                </a:lnTo>
                <a:lnTo>
                  <a:pt x="3722" y="4180"/>
                </a:lnTo>
                <a:lnTo>
                  <a:pt x="3828" y="4109"/>
                </a:lnTo>
                <a:lnTo>
                  <a:pt x="3908" y="4065"/>
                </a:lnTo>
                <a:lnTo>
                  <a:pt x="4040" y="4012"/>
                </a:lnTo>
                <a:lnTo>
                  <a:pt x="4190" y="399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4037040" y="647640"/>
            <a:ext cx="1545120" cy="1576800"/>
          </a:xfrm>
          <a:custGeom>
            <a:avLst/>
            <a:gdLst/>
            <a:ahLst/>
            <a:rect l="0" t="0" r="r" b="b"/>
            <a:pathLst>
              <a:path fill="none" w="4292" h="4380">
                <a:moveTo>
                  <a:pt x="0" y="0"/>
                </a:moveTo>
                <a:lnTo>
                  <a:pt x="99" y="112"/>
                </a:lnTo>
                <a:lnTo>
                  <a:pt x="165" y="224"/>
                </a:lnTo>
                <a:lnTo>
                  <a:pt x="211" y="363"/>
                </a:lnTo>
                <a:lnTo>
                  <a:pt x="238" y="542"/>
                </a:lnTo>
                <a:lnTo>
                  <a:pt x="257" y="707"/>
                </a:lnTo>
                <a:lnTo>
                  <a:pt x="323" y="872"/>
                </a:lnTo>
                <a:lnTo>
                  <a:pt x="350" y="1018"/>
                </a:lnTo>
                <a:lnTo>
                  <a:pt x="456" y="1131"/>
                </a:lnTo>
                <a:lnTo>
                  <a:pt x="456" y="1224"/>
                </a:lnTo>
                <a:lnTo>
                  <a:pt x="456" y="1290"/>
                </a:lnTo>
                <a:lnTo>
                  <a:pt x="442" y="1382"/>
                </a:lnTo>
                <a:lnTo>
                  <a:pt x="469" y="1435"/>
                </a:lnTo>
                <a:lnTo>
                  <a:pt x="495" y="1528"/>
                </a:lnTo>
                <a:lnTo>
                  <a:pt x="509" y="1581"/>
                </a:lnTo>
                <a:lnTo>
                  <a:pt x="561" y="1726"/>
                </a:lnTo>
                <a:lnTo>
                  <a:pt x="561" y="1779"/>
                </a:lnTo>
                <a:lnTo>
                  <a:pt x="614" y="1832"/>
                </a:lnTo>
                <a:lnTo>
                  <a:pt x="667" y="1885"/>
                </a:lnTo>
                <a:lnTo>
                  <a:pt x="747" y="1938"/>
                </a:lnTo>
                <a:lnTo>
                  <a:pt x="826" y="2043"/>
                </a:lnTo>
                <a:lnTo>
                  <a:pt x="918" y="2189"/>
                </a:lnTo>
                <a:lnTo>
                  <a:pt x="985" y="2242"/>
                </a:lnTo>
                <a:lnTo>
                  <a:pt x="1051" y="2347"/>
                </a:lnTo>
                <a:lnTo>
                  <a:pt x="1105" y="2440"/>
                </a:lnTo>
                <a:lnTo>
                  <a:pt x="1131" y="2559"/>
                </a:lnTo>
                <a:lnTo>
                  <a:pt x="1197" y="2691"/>
                </a:lnTo>
                <a:lnTo>
                  <a:pt x="1224" y="2744"/>
                </a:lnTo>
                <a:lnTo>
                  <a:pt x="1276" y="2810"/>
                </a:lnTo>
                <a:lnTo>
                  <a:pt x="1246" y="2872"/>
                </a:lnTo>
                <a:lnTo>
                  <a:pt x="1263" y="2898"/>
                </a:lnTo>
                <a:lnTo>
                  <a:pt x="1281" y="2934"/>
                </a:lnTo>
                <a:lnTo>
                  <a:pt x="1298" y="2960"/>
                </a:lnTo>
                <a:lnTo>
                  <a:pt x="1307" y="2987"/>
                </a:lnTo>
                <a:lnTo>
                  <a:pt x="1325" y="3022"/>
                </a:lnTo>
                <a:lnTo>
                  <a:pt x="1343" y="3048"/>
                </a:lnTo>
                <a:lnTo>
                  <a:pt x="1360" y="3084"/>
                </a:lnTo>
                <a:lnTo>
                  <a:pt x="1360" y="3110"/>
                </a:lnTo>
                <a:lnTo>
                  <a:pt x="1378" y="3136"/>
                </a:lnTo>
                <a:lnTo>
                  <a:pt x="1387" y="3172"/>
                </a:lnTo>
                <a:lnTo>
                  <a:pt x="1404" y="3198"/>
                </a:lnTo>
                <a:lnTo>
                  <a:pt x="1413" y="3225"/>
                </a:lnTo>
                <a:lnTo>
                  <a:pt x="1431" y="3260"/>
                </a:lnTo>
                <a:lnTo>
                  <a:pt x="1440" y="3287"/>
                </a:lnTo>
                <a:lnTo>
                  <a:pt x="1448" y="3314"/>
                </a:lnTo>
                <a:lnTo>
                  <a:pt x="1457" y="3340"/>
                </a:lnTo>
                <a:lnTo>
                  <a:pt x="1466" y="3367"/>
                </a:lnTo>
                <a:lnTo>
                  <a:pt x="1484" y="3393"/>
                </a:lnTo>
                <a:lnTo>
                  <a:pt x="1484" y="3420"/>
                </a:lnTo>
                <a:lnTo>
                  <a:pt x="1492" y="3446"/>
                </a:lnTo>
                <a:lnTo>
                  <a:pt x="1510" y="3481"/>
                </a:lnTo>
                <a:lnTo>
                  <a:pt x="1519" y="3508"/>
                </a:lnTo>
                <a:lnTo>
                  <a:pt x="1519" y="3534"/>
                </a:lnTo>
                <a:lnTo>
                  <a:pt x="1536" y="3561"/>
                </a:lnTo>
                <a:lnTo>
                  <a:pt x="1554" y="3587"/>
                </a:lnTo>
                <a:lnTo>
                  <a:pt x="1572" y="3631"/>
                </a:lnTo>
                <a:lnTo>
                  <a:pt x="1581" y="3658"/>
                </a:lnTo>
                <a:lnTo>
                  <a:pt x="1598" y="3702"/>
                </a:lnTo>
                <a:lnTo>
                  <a:pt x="1616" y="3728"/>
                </a:lnTo>
                <a:lnTo>
                  <a:pt x="1633" y="3763"/>
                </a:lnTo>
                <a:lnTo>
                  <a:pt x="1642" y="3790"/>
                </a:lnTo>
                <a:lnTo>
                  <a:pt x="1660" y="3816"/>
                </a:lnTo>
                <a:lnTo>
                  <a:pt x="1669" y="3843"/>
                </a:lnTo>
                <a:lnTo>
                  <a:pt x="1678" y="3869"/>
                </a:lnTo>
                <a:lnTo>
                  <a:pt x="1695" y="3904"/>
                </a:lnTo>
                <a:lnTo>
                  <a:pt x="1722" y="3931"/>
                </a:lnTo>
                <a:lnTo>
                  <a:pt x="1739" y="3966"/>
                </a:lnTo>
                <a:lnTo>
                  <a:pt x="1757" y="3992"/>
                </a:lnTo>
                <a:lnTo>
                  <a:pt x="1775" y="4019"/>
                </a:lnTo>
                <a:lnTo>
                  <a:pt x="1792" y="4045"/>
                </a:lnTo>
                <a:lnTo>
                  <a:pt x="1810" y="4081"/>
                </a:lnTo>
                <a:lnTo>
                  <a:pt x="1827" y="4107"/>
                </a:lnTo>
                <a:lnTo>
                  <a:pt x="1845" y="4134"/>
                </a:lnTo>
                <a:lnTo>
                  <a:pt x="1871" y="4160"/>
                </a:lnTo>
                <a:lnTo>
                  <a:pt x="1889" y="4186"/>
                </a:lnTo>
                <a:lnTo>
                  <a:pt x="1916" y="4213"/>
                </a:lnTo>
                <a:lnTo>
                  <a:pt x="1942" y="4239"/>
                </a:lnTo>
                <a:lnTo>
                  <a:pt x="1968" y="4257"/>
                </a:lnTo>
                <a:lnTo>
                  <a:pt x="1986" y="4283"/>
                </a:lnTo>
                <a:lnTo>
                  <a:pt x="2013" y="4301"/>
                </a:lnTo>
                <a:lnTo>
                  <a:pt x="2039" y="4310"/>
                </a:lnTo>
                <a:lnTo>
                  <a:pt x="2065" y="4327"/>
                </a:lnTo>
                <a:lnTo>
                  <a:pt x="2092" y="4327"/>
                </a:lnTo>
                <a:lnTo>
                  <a:pt x="2118" y="4345"/>
                </a:lnTo>
                <a:lnTo>
                  <a:pt x="2224" y="4372"/>
                </a:lnTo>
                <a:lnTo>
                  <a:pt x="2251" y="4372"/>
                </a:lnTo>
                <a:lnTo>
                  <a:pt x="2277" y="4380"/>
                </a:lnTo>
                <a:lnTo>
                  <a:pt x="2303" y="4380"/>
                </a:lnTo>
                <a:lnTo>
                  <a:pt x="2330" y="4380"/>
                </a:lnTo>
                <a:lnTo>
                  <a:pt x="2365" y="4380"/>
                </a:lnTo>
                <a:lnTo>
                  <a:pt x="2409" y="4380"/>
                </a:lnTo>
                <a:lnTo>
                  <a:pt x="2453" y="4380"/>
                </a:lnTo>
                <a:lnTo>
                  <a:pt x="2480" y="4363"/>
                </a:lnTo>
                <a:lnTo>
                  <a:pt x="2506" y="4345"/>
                </a:lnTo>
                <a:lnTo>
                  <a:pt x="2533" y="4327"/>
                </a:lnTo>
                <a:lnTo>
                  <a:pt x="2585" y="4292"/>
                </a:lnTo>
                <a:lnTo>
                  <a:pt x="2612" y="4275"/>
                </a:lnTo>
                <a:lnTo>
                  <a:pt x="2638" y="4248"/>
                </a:lnTo>
                <a:lnTo>
                  <a:pt x="2665" y="4230"/>
                </a:lnTo>
                <a:lnTo>
                  <a:pt x="2691" y="4213"/>
                </a:lnTo>
                <a:lnTo>
                  <a:pt x="2718" y="4195"/>
                </a:lnTo>
                <a:lnTo>
                  <a:pt x="2744" y="4178"/>
                </a:lnTo>
                <a:lnTo>
                  <a:pt x="2771" y="4151"/>
                </a:lnTo>
                <a:lnTo>
                  <a:pt x="2815" y="4116"/>
                </a:lnTo>
                <a:lnTo>
                  <a:pt x="2850" y="4107"/>
                </a:lnTo>
                <a:lnTo>
                  <a:pt x="2903" y="4072"/>
                </a:lnTo>
                <a:lnTo>
                  <a:pt x="2920" y="4045"/>
                </a:lnTo>
                <a:lnTo>
                  <a:pt x="2938" y="4019"/>
                </a:lnTo>
                <a:lnTo>
                  <a:pt x="2965" y="4001"/>
                </a:lnTo>
                <a:lnTo>
                  <a:pt x="2991" y="3966"/>
                </a:lnTo>
                <a:lnTo>
                  <a:pt x="3017" y="3940"/>
                </a:lnTo>
                <a:lnTo>
                  <a:pt x="3044" y="3922"/>
                </a:lnTo>
                <a:lnTo>
                  <a:pt x="3070" y="3904"/>
                </a:lnTo>
                <a:lnTo>
                  <a:pt x="3106" y="3887"/>
                </a:lnTo>
                <a:lnTo>
                  <a:pt x="3132" y="3878"/>
                </a:lnTo>
                <a:lnTo>
                  <a:pt x="3158" y="3869"/>
                </a:lnTo>
                <a:lnTo>
                  <a:pt x="3185" y="3851"/>
                </a:lnTo>
                <a:lnTo>
                  <a:pt x="3211" y="3843"/>
                </a:lnTo>
                <a:lnTo>
                  <a:pt x="3248" y="3825"/>
                </a:lnTo>
                <a:lnTo>
                  <a:pt x="3283" y="3807"/>
                </a:lnTo>
                <a:lnTo>
                  <a:pt x="3309" y="3790"/>
                </a:lnTo>
                <a:lnTo>
                  <a:pt x="3336" y="3781"/>
                </a:lnTo>
                <a:lnTo>
                  <a:pt x="3362" y="3772"/>
                </a:lnTo>
                <a:lnTo>
                  <a:pt x="3389" y="3763"/>
                </a:lnTo>
                <a:lnTo>
                  <a:pt x="3415" y="3754"/>
                </a:lnTo>
                <a:lnTo>
                  <a:pt x="3450" y="3746"/>
                </a:lnTo>
                <a:lnTo>
                  <a:pt x="3545" y="3704"/>
                </a:lnTo>
                <a:lnTo>
                  <a:pt x="3572" y="3671"/>
                </a:lnTo>
                <a:lnTo>
                  <a:pt x="3605" y="3664"/>
                </a:lnTo>
                <a:lnTo>
                  <a:pt x="3624" y="3638"/>
                </a:lnTo>
                <a:lnTo>
                  <a:pt x="3638" y="3638"/>
                </a:lnTo>
                <a:lnTo>
                  <a:pt x="3664" y="3611"/>
                </a:lnTo>
                <a:lnTo>
                  <a:pt x="3677" y="3598"/>
                </a:lnTo>
                <a:lnTo>
                  <a:pt x="3697" y="3572"/>
                </a:lnTo>
                <a:lnTo>
                  <a:pt x="3730" y="3552"/>
                </a:lnTo>
                <a:lnTo>
                  <a:pt x="3763" y="3539"/>
                </a:lnTo>
                <a:lnTo>
                  <a:pt x="3803" y="3512"/>
                </a:lnTo>
                <a:lnTo>
                  <a:pt x="3836" y="3486"/>
                </a:lnTo>
                <a:lnTo>
                  <a:pt x="3849" y="3466"/>
                </a:lnTo>
                <a:lnTo>
                  <a:pt x="3849" y="3472"/>
                </a:lnTo>
                <a:lnTo>
                  <a:pt x="3955" y="3367"/>
                </a:lnTo>
                <a:lnTo>
                  <a:pt x="4087" y="3253"/>
                </a:lnTo>
                <a:lnTo>
                  <a:pt x="4173" y="3220"/>
                </a:lnTo>
                <a:lnTo>
                  <a:pt x="4292" y="319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>
            <a:off x="4253040" y="82440"/>
            <a:ext cx="1329120" cy="1152720"/>
          </a:xfrm>
          <a:custGeom>
            <a:avLst/>
            <a:gdLst/>
            <a:ahLst/>
            <a:rect l="0" t="0" r="r" b="b"/>
            <a:pathLst>
              <a:path fill="none" w="3692" h="3202">
                <a:moveTo>
                  <a:pt x="0" y="0"/>
                </a:moveTo>
                <a:lnTo>
                  <a:pt x="39" y="46"/>
                </a:lnTo>
                <a:lnTo>
                  <a:pt x="59" y="105"/>
                </a:lnTo>
                <a:lnTo>
                  <a:pt x="119" y="145"/>
                </a:lnTo>
                <a:lnTo>
                  <a:pt x="178" y="185"/>
                </a:lnTo>
                <a:lnTo>
                  <a:pt x="218" y="244"/>
                </a:lnTo>
                <a:lnTo>
                  <a:pt x="257" y="304"/>
                </a:lnTo>
                <a:lnTo>
                  <a:pt x="317" y="304"/>
                </a:lnTo>
                <a:lnTo>
                  <a:pt x="377" y="383"/>
                </a:lnTo>
                <a:lnTo>
                  <a:pt x="396" y="443"/>
                </a:lnTo>
                <a:lnTo>
                  <a:pt x="416" y="502"/>
                </a:lnTo>
                <a:lnTo>
                  <a:pt x="436" y="562"/>
                </a:lnTo>
                <a:lnTo>
                  <a:pt x="456" y="621"/>
                </a:lnTo>
                <a:lnTo>
                  <a:pt x="515" y="661"/>
                </a:lnTo>
                <a:lnTo>
                  <a:pt x="575" y="701"/>
                </a:lnTo>
                <a:lnTo>
                  <a:pt x="635" y="740"/>
                </a:lnTo>
                <a:lnTo>
                  <a:pt x="694" y="760"/>
                </a:lnTo>
                <a:lnTo>
                  <a:pt x="754" y="800"/>
                </a:lnTo>
                <a:lnTo>
                  <a:pt x="853" y="840"/>
                </a:lnTo>
                <a:lnTo>
                  <a:pt x="912" y="859"/>
                </a:lnTo>
                <a:lnTo>
                  <a:pt x="973" y="899"/>
                </a:lnTo>
                <a:lnTo>
                  <a:pt x="1052" y="939"/>
                </a:lnTo>
                <a:lnTo>
                  <a:pt x="1112" y="978"/>
                </a:lnTo>
                <a:lnTo>
                  <a:pt x="1191" y="998"/>
                </a:lnTo>
                <a:lnTo>
                  <a:pt x="1251" y="1038"/>
                </a:lnTo>
                <a:lnTo>
                  <a:pt x="1310" y="1117"/>
                </a:lnTo>
                <a:lnTo>
                  <a:pt x="1350" y="1177"/>
                </a:lnTo>
                <a:lnTo>
                  <a:pt x="1409" y="1236"/>
                </a:lnTo>
                <a:lnTo>
                  <a:pt x="1489" y="1296"/>
                </a:lnTo>
                <a:lnTo>
                  <a:pt x="1548" y="1336"/>
                </a:lnTo>
                <a:lnTo>
                  <a:pt x="1608" y="1355"/>
                </a:lnTo>
                <a:lnTo>
                  <a:pt x="1667" y="1375"/>
                </a:lnTo>
                <a:lnTo>
                  <a:pt x="1727" y="1395"/>
                </a:lnTo>
                <a:lnTo>
                  <a:pt x="1826" y="1475"/>
                </a:lnTo>
                <a:lnTo>
                  <a:pt x="1886" y="1494"/>
                </a:lnTo>
                <a:lnTo>
                  <a:pt x="1985" y="1554"/>
                </a:lnTo>
                <a:lnTo>
                  <a:pt x="2064" y="1634"/>
                </a:lnTo>
                <a:lnTo>
                  <a:pt x="2124" y="1654"/>
                </a:lnTo>
                <a:lnTo>
                  <a:pt x="2183" y="1714"/>
                </a:lnTo>
                <a:lnTo>
                  <a:pt x="2243" y="1753"/>
                </a:lnTo>
                <a:lnTo>
                  <a:pt x="2302" y="1813"/>
                </a:lnTo>
                <a:lnTo>
                  <a:pt x="2342" y="1872"/>
                </a:lnTo>
                <a:lnTo>
                  <a:pt x="2382" y="1932"/>
                </a:lnTo>
                <a:lnTo>
                  <a:pt x="2461" y="2011"/>
                </a:lnTo>
                <a:lnTo>
                  <a:pt x="2521" y="2051"/>
                </a:lnTo>
                <a:lnTo>
                  <a:pt x="2560" y="2111"/>
                </a:lnTo>
                <a:lnTo>
                  <a:pt x="2620" y="2150"/>
                </a:lnTo>
                <a:lnTo>
                  <a:pt x="2679" y="2230"/>
                </a:lnTo>
                <a:lnTo>
                  <a:pt x="2739" y="2289"/>
                </a:lnTo>
                <a:lnTo>
                  <a:pt x="2799" y="2309"/>
                </a:lnTo>
                <a:lnTo>
                  <a:pt x="2859" y="2369"/>
                </a:lnTo>
                <a:lnTo>
                  <a:pt x="2919" y="2388"/>
                </a:lnTo>
                <a:lnTo>
                  <a:pt x="2978" y="2408"/>
                </a:lnTo>
                <a:lnTo>
                  <a:pt x="3038" y="2408"/>
                </a:lnTo>
                <a:lnTo>
                  <a:pt x="3097" y="2428"/>
                </a:lnTo>
                <a:lnTo>
                  <a:pt x="3177" y="2468"/>
                </a:lnTo>
                <a:lnTo>
                  <a:pt x="3216" y="2527"/>
                </a:lnTo>
                <a:lnTo>
                  <a:pt x="3276" y="2607"/>
                </a:lnTo>
                <a:lnTo>
                  <a:pt x="3335" y="2666"/>
                </a:lnTo>
                <a:lnTo>
                  <a:pt x="3355" y="2726"/>
                </a:lnTo>
                <a:lnTo>
                  <a:pt x="3395" y="2785"/>
                </a:lnTo>
                <a:lnTo>
                  <a:pt x="3454" y="2865"/>
                </a:lnTo>
                <a:lnTo>
                  <a:pt x="3474" y="2924"/>
                </a:lnTo>
                <a:lnTo>
                  <a:pt x="3514" y="2984"/>
                </a:lnTo>
                <a:lnTo>
                  <a:pt x="3554" y="3043"/>
                </a:lnTo>
                <a:lnTo>
                  <a:pt x="3573" y="3103"/>
                </a:lnTo>
                <a:lnTo>
                  <a:pt x="3633" y="3162"/>
                </a:lnTo>
                <a:lnTo>
                  <a:pt x="3692" y="3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>
            <a:off x="3898800" y="1852560"/>
            <a:ext cx="1679760" cy="1421280"/>
          </a:xfrm>
          <a:custGeom>
            <a:avLst/>
            <a:gdLst/>
            <a:ahLst/>
            <a:rect l="0" t="0" r="r" b="b"/>
            <a:pathLst>
              <a:path fill="none" w="4666" h="3948">
                <a:moveTo>
                  <a:pt x="0" y="3948"/>
                </a:moveTo>
                <a:lnTo>
                  <a:pt x="33" y="3823"/>
                </a:lnTo>
                <a:lnTo>
                  <a:pt x="271" y="3591"/>
                </a:lnTo>
                <a:lnTo>
                  <a:pt x="528" y="3334"/>
                </a:lnTo>
                <a:lnTo>
                  <a:pt x="694" y="3228"/>
                </a:lnTo>
                <a:lnTo>
                  <a:pt x="912" y="2909"/>
                </a:lnTo>
                <a:lnTo>
                  <a:pt x="1018" y="2637"/>
                </a:lnTo>
                <a:lnTo>
                  <a:pt x="1137" y="2520"/>
                </a:lnTo>
                <a:lnTo>
                  <a:pt x="1269" y="2295"/>
                </a:lnTo>
                <a:lnTo>
                  <a:pt x="1461" y="2023"/>
                </a:lnTo>
                <a:lnTo>
                  <a:pt x="1672" y="1567"/>
                </a:lnTo>
                <a:lnTo>
                  <a:pt x="1970" y="1357"/>
                </a:lnTo>
                <a:lnTo>
                  <a:pt x="2082" y="1362"/>
                </a:lnTo>
                <a:lnTo>
                  <a:pt x="2254" y="1467"/>
                </a:lnTo>
                <a:lnTo>
                  <a:pt x="2307" y="1567"/>
                </a:lnTo>
                <a:lnTo>
                  <a:pt x="2447" y="1660"/>
                </a:lnTo>
                <a:lnTo>
                  <a:pt x="2645" y="1746"/>
                </a:lnTo>
                <a:lnTo>
                  <a:pt x="2764" y="1673"/>
                </a:lnTo>
                <a:lnTo>
                  <a:pt x="2982" y="1389"/>
                </a:lnTo>
                <a:lnTo>
                  <a:pt x="3029" y="1350"/>
                </a:lnTo>
                <a:lnTo>
                  <a:pt x="3101" y="1335"/>
                </a:lnTo>
                <a:lnTo>
                  <a:pt x="3209" y="1291"/>
                </a:lnTo>
                <a:lnTo>
                  <a:pt x="3273" y="1220"/>
                </a:lnTo>
                <a:lnTo>
                  <a:pt x="3315" y="1149"/>
                </a:lnTo>
                <a:lnTo>
                  <a:pt x="3361" y="1036"/>
                </a:lnTo>
                <a:lnTo>
                  <a:pt x="3427" y="997"/>
                </a:lnTo>
                <a:lnTo>
                  <a:pt x="3529" y="964"/>
                </a:lnTo>
                <a:lnTo>
                  <a:pt x="3546" y="969"/>
                </a:lnTo>
                <a:lnTo>
                  <a:pt x="3665" y="957"/>
                </a:lnTo>
                <a:lnTo>
                  <a:pt x="3721" y="935"/>
                </a:lnTo>
                <a:lnTo>
                  <a:pt x="3784" y="864"/>
                </a:lnTo>
                <a:lnTo>
                  <a:pt x="3848" y="839"/>
                </a:lnTo>
                <a:lnTo>
                  <a:pt x="3912" y="793"/>
                </a:lnTo>
                <a:lnTo>
                  <a:pt x="3998" y="697"/>
                </a:lnTo>
                <a:lnTo>
                  <a:pt x="4062" y="651"/>
                </a:lnTo>
                <a:lnTo>
                  <a:pt x="4126" y="626"/>
                </a:lnTo>
                <a:lnTo>
                  <a:pt x="4168" y="555"/>
                </a:lnTo>
                <a:lnTo>
                  <a:pt x="4232" y="509"/>
                </a:lnTo>
                <a:lnTo>
                  <a:pt x="4254" y="438"/>
                </a:lnTo>
                <a:lnTo>
                  <a:pt x="4298" y="342"/>
                </a:lnTo>
                <a:lnTo>
                  <a:pt x="4362" y="271"/>
                </a:lnTo>
                <a:lnTo>
                  <a:pt x="4426" y="200"/>
                </a:lnTo>
                <a:lnTo>
                  <a:pt x="4490" y="105"/>
                </a:lnTo>
                <a:lnTo>
                  <a:pt x="4554" y="34"/>
                </a:lnTo>
                <a:lnTo>
                  <a:pt x="4618" y="12"/>
                </a:lnTo>
                <a:lnTo>
                  <a:pt x="466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>
            <a:off x="3949560" y="1908000"/>
            <a:ext cx="1632240" cy="1365480"/>
          </a:xfrm>
          <a:custGeom>
            <a:avLst/>
            <a:gdLst/>
            <a:ahLst/>
            <a:rect l="0" t="0" r="r" b="b"/>
            <a:pathLst>
              <a:path fill="none" w="4534" h="3793">
                <a:moveTo>
                  <a:pt x="4534" y="0"/>
                </a:moveTo>
                <a:lnTo>
                  <a:pt x="4492" y="63"/>
                </a:lnTo>
                <a:lnTo>
                  <a:pt x="4428" y="127"/>
                </a:lnTo>
                <a:lnTo>
                  <a:pt x="4364" y="171"/>
                </a:lnTo>
                <a:lnTo>
                  <a:pt x="4320" y="235"/>
                </a:lnTo>
                <a:lnTo>
                  <a:pt x="4278" y="299"/>
                </a:lnTo>
                <a:lnTo>
                  <a:pt x="4236" y="363"/>
                </a:lnTo>
                <a:lnTo>
                  <a:pt x="4192" y="427"/>
                </a:lnTo>
                <a:lnTo>
                  <a:pt x="4150" y="491"/>
                </a:lnTo>
                <a:lnTo>
                  <a:pt x="4086" y="533"/>
                </a:lnTo>
                <a:lnTo>
                  <a:pt x="4022" y="597"/>
                </a:lnTo>
                <a:lnTo>
                  <a:pt x="3958" y="641"/>
                </a:lnTo>
                <a:lnTo>
                  <a:pt x="3894" y="705"/>
                </a:lnTo>
                <a:lnTo>
                  <a:pt x="3808" y="747"/>
                </a:lnTo>
                <a:lnTo>
                  <a:pt x="3744" y="811"/>
                </a:lnTo>
                <a:lnTo>
                  <a:pt x="3680" y="833"/>
                </a:lnTo>
                <a:lnTo>
                  <a:pt x="3649" y="890"/>
                </a:lnTo>
                <a:lnTo>
                  <a:pt x="3605" y="930"/>
                </a:lnTo>
                <a:lnTo>
                  <a:pt x="3539" y="956"/>
                </a:lnTo>
                <a:lnTo>
                  <a:pt x="3504" y="987"/>
                </a:lnTo>
                <a:lnTo>
                  <a:pt x="3459" y="1040"/>
                </a:lnTo>
                <a:lnTo>
                  <a:pt x="3362" y="1128"/>
                </a:lnTo>
                <a:lnTo>
                  <a:pt x="3279" y="1177"/>
                </a:lnTo>
                <a:lnTo>
                  <a:pt x="3217" y="1212"/>
                </a:lnTo>
                <a:lnTo>
                  <a:pt x="3173" y="1265"/>
                </a:lnTo>
                <a:lnTo>
                  <a:pt x="3111" y="1309"/>
                </a:lnTo>
                <a:lnTo>
                  <a:pt x="3089" y="1375"/>
                </a:lnTo>
                <a:lnTo>
                  <a:pt x="3018" y="1428"/>
                </a:lnTo>
                <a:lnTo>
                  <a:pt x="2956" y="1521"/>
                </a:lnTo>
                <a:lnTo>
                  <a:pt x="2859" y="1569"/>
                </a:lnTo>
                <a:lnTo>
                  <a:pt x="2811" y="1631"/>
                </a:lnTo>
                <a:lnTo>
                  <a:pt x="2731" y="1697"/>
                </a:lnTo>
                <a:lnTo>
                  <a:pt x="2648" y="1737"/>
                </a:lnTo>
                <a:lnTo>
                  <a:pt x="2581" y="1755"/>
                </a:lnTo>
                <a:lnTo>
                  <a:pt x="2506" y="1746"/>
                </a:lnTo>
                <a:lnTo>
                  <a:pt x="2392" y="1737"/>
                </a:lnTo>
                <a:lnTo>
                  <a:pt x="2315" y="1642"/>
                </a:lnTo>
                <a:lnTo>
                  <a:pt x="2250" y="1600"/>
                </a:lnTo>
                <a:lnTo>
                  <a:pt x="2186" y="1536"/>
                </a:lnTo>
                <a:lnTo>
                  <a:pt x="2119" y="1494"/>
                </a:lnTo>
                <a:lnTo>
                  <a:pt x="2077" y="1430"/>
                </a:lnTo>
                <a:lnTo>
                  <a:pt x="2014" y="1408"/>
                </a:lnTo>
                <a:lnTo>
                  <a:pt x="1950" y="1386"/>
                </a:lnTo>
                <a:lnTo>
                  <a:pt x="1888" y="1318"/>
                </a:lnTo>
                <a:lnTo>
                  <a:pt x="1800" y="1386"/>
                </a:lnTo>
                <a:lnTo>
                  <a:pt x="1758" y="1450"/>
                </a:lnTo>
                <a:lnTo>
                  <a:pt x="1716" y="1514"/>
                </a:lnTo>
                <a:lnTo>
                  <a:pt x="1672" y="1578"/>
                </a:lnTo>
                <a:lnTo>
                  <a:pt x="1608" y="1642"/>
                </a:lnTo>
                <a:lnTo>
                  <a:pt x="1566" y="1708"/>
                </a:lnTo>
                <a:lnTo>
                  <a:pt x="1502" y="1772"/>
                </a:lnTo>
                <a:lnTo>
                  <a:pt x="1458" y="1836"/>
                </a:lnTo>
                <a:lnTo>
                  <a:pt x="1416" y="1901"/>
                </a:lnTo>
                <a:lnTo>
                  <a:pt x="1352" y="1965"/>
                </a:lnTo>
                <a:lnTo>
                  <a:pt x="1330" y="2029"/>
                </a:lnTo>
                <a:lnTo>
                  <a:pt x="1288" y="2093"/>
                </a:lnTo>
                <a:lnTo>
                  <a:pt x="1224" y="2177"/>
                </a:lnTo>
                <a:lnTo>
                  <a:pt x="1182" y="2241"/>
                </a:lnTo>
                <a:lnTo>
                  <a:pt x="1118" y="2305"/>
                </a:lnTo>
                <a:lnTo>
                  <a:pt x="1074" y="2371"/>
                </a:lnTo>
                <a:lnTo>
                  <a:pt x="1032" y="2435"/>
                </a:lnTo>
                <a:lnTo>
                  <a:pt x="990" y="2499"/>
                </a:lnTo>
                <a:lnTo>
                  <a:pt x="946" y="2563"/>
                </a:lnTo>
                <a:lnTo>
                  <a:pt x="904" y="2626"/>
                </a:lnTo>
                <a:lnTo>
                  <a:pt x="862" y="2690"/>
                </a:lnTo>
                <a:lnTo>
                  <a:pt x="818" y="2754"/>
                </a:lnTo>
                <a:lnTo>
                  <a:pt x="776" y="2818"/>
                </a:lnTo>
                <a:lnTo>
                  <a:pt x="754" y="2882"/>
                </a:lnTo>
                <a:lnTo>
                  <a:pt x="712" y="2946"/>
                </a:lnTo>
                <a:lnTo>
                  <a:pt x="668" y="3010"/>
                </a:lnTo>
                <a:lnTo>
                  <a:pt x="626" y="3074"/>
                </a:lnTo>
                <a:lnTo>
                  <a:pt x="562" y="3160"/>
                </a:lnTo>
                <a:lnTo>
                  <a:pt x="520" y="3224"/>
                </a:lnTo>
                <a:lnTo>
                  <a:pt x="456" y="3244"/>
                </a:lnTo>
                <a:lnTo>
                  <a:pt x="392" y="3288"/>
                </a:lnTo>
                <a:lnTo>
                  <a:pt x="348" y="3352"/>
                </a:lnTo>
                <a:lnTo>
                  <a:pt x="284" y="3394"/>
                </a:lnTo>
                <a:lnTo>
                  <a:pt x="220" y="3458"/>
                </a:lnTo>
                <a:lnTo>
                  <a:pt x="178" y="3522"/>
                </a:lnTo>
                <a:lnTo>
                  <a:pt x="114" y="3586"/>
                </a:lnTo>
                <a:lnTo>
                  <a:pt x="70" y="3650"/>
                </a:lnTo>
                <a:lnTo>
                  <a:pt x="28" y="3713"/>
                </a:lnTo>
                <a:lnTo>
                  <a:pt x="0" y="37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>
            <a:off x="4008600" y="2065320"/>
            <a:ext cx="1575000" cy="1208520"/>
          </a:xfrm>
          <a:custGeom>
            <a:avLst/>
            <a:gdLst/>
            <a:ahLst/>
            <a:rect l="0" t="0" r="r" b="b"/>
            <a:pathLst>
              <a:path fill="none" w="4375" h="3357">
                <a:moveTo>
                  <a:pt x="4375" y="0"/>
                </a:moveTo>
                <a:lnTo>
                  <a:pt x="4326" y="13"/>
                </a:lnTo>
                <a:lnTo>
                  <a:pt x="4262" y="33"/>
                </a:lnTo>
                <a:lnTo>
                  <a:pt x="4199" y="77"/>
                </a:lnTo>
                <a:lnTo>
                  <a:pt x="4135" y="97"/>
                </a:lnTo>
                <a:lnTo>
                  <a:pt x="4071" y="141"/>
                </a:lnTo>
                <a:lnTo>
                  <a:pt x="4027" y="224"/>
                </a:lnTo>
                <a:lnTo>
                  <a:pt x="3963" y="288"/>
                </a:lnTo>
                <a:lnTo>
                  <a:pt x="3899" y="352"/>
                </a:lnTo>
                <a:lnTo>
                  <a:pt x="3835" y="396"/>
                </a:lnTo>
                <a:lnTo>
                  <a:pt x="3771" y="460"/>
                </a:lnTo>
                <a:lnTo>
                  <a:pt x="3707" y="502"/>
                </a:lnTo>
                <a:lnTo>
                  <a:pt x="3665" y="566"/>
                </a:lnTo>
                <a:lnTo>
                  <a:pt x="3630" y="648"/>
                </a:lnTo>
                <a:lnTo>
                  <a:pt x="3586" y="727"/>
                </a:lnTo>
                <a:lnTo>
                  <a:pt x="3475" y="784"/>
                </a:lnTo>
                <a:lnTo>
                  <a:pt x="3356" y="815"/>
                </a:lnTo>
                <a:lnTo>
                  <a:pt x="3279" y="845"/>
                </a:lnTo>
                <a:lnTo>
                  <a:pt x="3215" y="909"/>
                </a:lnTo>
                <a:lnTo>
                  <a:pt x="3151" y="973"/>
                </a:lnTo>
                <a:lnTo>
                  <a:pt x="3109" y="1037"/>
                </a:lnTo>
                <a:lnTo>
                  <a:pt x="3045" y="1079"/>
                </a:lnTo>
                <a:lnTo>
                  <a:pt x="3004" y="1143"/>
                </a:lnTo>
                <a:lnTo>
                  <a:pt x="2940" y="1187"/>
                </a:lnTo>
                <a:lnTo>
                  <a:pt x="2876" y="1229"/>
                </a:lnTo>
                <a:lnTo>
                  <a:pt x="2812" y="1273"/>
                </a:lnTo>
                <a:lnTo>
                  <a:pt x="2748" y="1293"/>
                </a:lnTo>
                <a:lnTo>
                  <a:pt x="2684" y="1315"/>
                </a:lnTo>
                <a:lnTo>
                  <a:pt x="2618" y="1356"/>
                </a:lnTo>
                <a:lnTo>
                  <a:pt x="2554" y="1379"/>
                </a:lnTo>
                <a:lnTo>
                  <a:pt x="2490" y="1379"/>
                </a:lnTo>
                <a:lnTo>
                  <a:pt x="2426" y="1401"/>
                </a:lnTo>
                <a:lnTo>
                  <a:pt x="2362" y="1420"/>
                </a:lnTo>
                <a:lnTo>
                  <a:pt x="2278" y="1442"/>
                </a:lnTo>
                <a:lnTo>
                  <a:pt x="2169" y="1442"/>
                </a:lnTo>
                <a:lnTo>
                  <a:pt x="2105" y="1420"/>
                </a:lnTo>
                <a:lnTo>
                  <a:pt x="2041" y="1379"/>
                </a:lnTo>
                <a:lnTo>
                  <a:pt x="1977" y="1356"/>
                </a:lnTo>
                <a:lnTo>
                  <a:pt x="1913" y="1315"/>
                </a:lnTo>
                <a:lnTo>
                  <a:pt x="1849" y="1293"/>
                </a:lnTo>
                <a:lnTo>
                  <a:pt x="1785" y="1273"/>
                </a:lnTo>
                <a:lnTo>
                  <a:pt x="1721" y="1251"/>
                </a:lnTo>
                <a:lnTo>
                  <a:pt x="1649" y="1185"/>
                </a:lnTo>
                <a:lnTo>
                  <a:pt x="1572" y="1251"/>
                </a:lnTo>
                <a:lnTo>
                  <a:pt x="1508" y="1273"/>
                </a:lnTo>
                <a:lnTo>
                  <a:pt x="1466" y="1337"/>
                </a:lnTo>
                <a:lnTo>
                  <a:pt x="1402" y="1379"/>
                </a:lnTo>
                <a:lnTo>
                  <a:pt x="1338" y="1420"/>
                </a:lnTo>
                <a:lnTo>
                  <a:pt x="1274" y="1484"/>
                </a:lnTo>
                <a:lnTo>
                  <a:pt x="1252" y="1548"/>
                </a:lnTo>
                <a:lnTo>
                  <a:pt x="1210" y="1612"/>
                </a:lnTo>
                <a:lnTo>
                  <a:pt x="1166" y="1676"/>
                </a:lnTo>
                <a:lnTo>
                  <a:pt x="1124" y="1740"/>
                </a:lnTo>
                <a:lnTo>
                  <a:pt x="1082" y="1804"/>
                </a:lnTo>
                <a:lnTo>
                  <a:pt x="1038" y="1868"/>
                </a:lnTo>
                <a:lnTo>
                  <a:pt x="996" y="1934"/>
                </a:lnTo>
                <a:lnTo>
                  <a:pt x="954" y="1998"/>
                </a:lnTo>
                <a:lnTo>
                  <a:pt x="910" y="2062"/>
                </a:lnTo>
                <a:lnTo>
                  <a:pt x="868" y="2126"/>
                </a:lnTo>
                <a:lnTo>
                  <a:pt x="826" y="2190"/>
                </a:lnTo>
                <a:lnTo>
                  <a:pt x="782" y="2254"/>
                </a:lnTo>
                <a:lnTo>
                  <a:pt x="762" y="2318"/>
                </a:lnTo>
                <a:lnTo>
                  <a:pt x="698" y="2382"/>
                </a:lnTo>
                <a:lnTo>
                  <a:pt x="676" y="2446"/>
                </a:lnTo>
                <a:lnTo>
                  <a:pt x="612" y="2510"/>
                </a:lnTo>
                <a:lnTo>
                  <a:pt x="568" y="2575"/>
                </a:lnTo>
                <a:lnTo>
                  <a:pt x="549" y="2639"/>
                </a:lnTo>
                <a:lnTo>
                  <a:pt x="526" y="2702"/>
                </a:lnTo>
                <a:lnTo>
                  <a:pt x="463" y="2766"/>
                </a:lnTo>
                <a:lnTo>
                  <a:pt x="399" y="2830"/>
                </a:lnTo>
                <a:lnTo>
                  <a:pt x="335" y="2894"/>
                </a:lnTo>
                <a:lnTo>
                  <a:pt x="271" y="2958"/>
                </a:lnTo>
                <a:lnTo>
                  <a:pt x="229" y="3022"/>
                </a:lnTo>
                <a:lnTo>
                  <a:pt x="165" y="3064"/>
                </a:lnTo>
                <a:lnTo>
                  <a:pt x="121" y="3128"/>
                </a:lnTo>
                <a:lnTo>
                  <a:pt x="79" y="3192"/>
                </a:lnTo>
                <a:lnTo>
                  <a:pt x="37" y="3258"/>
                </a:lnTo>
                <a:lnTo>
                  <a:pt x="0" y="33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>
            <a:off x="4091040" y="2244600"/>
            <a:ext cx="1492560" cy="1027440"/>
          </a:xfrm>
          <a:custGeom>
            <a:avLst/>
            <a:gdLst/>
            <a:ahLst/>
            <a:rect l="0" t="0" r="r" b="b"/>
            <a:pathLst>
              <a:path fill="none" w="4146" h="2854">
                <a:moveTo>
                  <a:pt x="4146" y="0"/>
                </a:moveTo>
                <a:lnTo>
                  <a:pt x="4097" y="46"/>
                </a:lnTo>
                <a:lnTo>
                  <a:pt x="4033" y="68"/>
                </a:lnTo>
                <a:lnTo>
                  <a:pt x="3969" y="90"/>
                </a:lnTo>
                <a:lnTo>
                  <a:pt x="3905" y="112"/>
                </a:lnTo>
                <a:lnTo>
                  <a:pt x="3841" y="154"/>
                </a:lnTo>
                <a:lnTo>
                  <a:pt x="3777" y="176"/>
                </a:lnTo>
                <a:lnTo>
                  <a:pt x="3711" y="240"/>
                </a:lnTo>
                <a:lnTo>
                  <a:pt x="3669" y="304"/>
                </a:lnTo>
                <a:lnTo>
                  <a:pt x="3605" y="346"/>
                </a:lnTo>
                <a:lnTo>
                  <a:pt x="3542" y="388"/>
                </a:lnTo>
                <a:lnTo>
                  <a:pt x="3478" y="432"/>
                </a:lnTo>
                <a:lnTo>
                  <a:pt x="3414" y="474"/>
                </a:lnTo>
                <a:lnTo>
                  <a:pt x="3350" y="496"/>
                </a:lnTo>
                <a:lnTo>
                  <a:pt x="3286" y="537"/>
                </a:lnTo>
                <a:lnTo>
                  <a:pt x="3222" y="579"/>
                </a:lnTo>
                <a:lnTo>
                  <a:pt x="3158" y="643"/>
                </a:lnTo>
                <a:lnTo>
                  <a:pt x="3072" y="707"/>
                </a:lnTo>
                <a:lnTo>
                  <a:pt x="3008" y="751"/>
                </a:lnTo>
                <a:lnTo>
                  <a:pt x="2922" y="793"/>
                </a:lnTo>
                <a:lnTo>
                  <a:pt x="2838" y="857"/>
                </a:lnTo>
                <a:lnTo>
                  <a:pt x="2774" y="901"/>
                </a:lnTo>
                <a:lnTo>
                  <a:pt x="2710" y="943"/>
                </a:lnTo>
                <a:lnTo>
                  <a:pt x="2624" y="985"/>
                </a:lnTo>
                <a:lnTo>
                  <a:pt x="2560" y="1029"/>
                </a:lnTo>
                <a:lnTo>
                  <a:pt x="2496" y="1049"/>
                </a:lnTo>
                <a:lnTo>
                  <a:pt x="2432" y="1071"/>
                </a:lnTo>
                <a:lnTo>
                  <a:pt x="2369" y="1071"/>
                </a:lnTo>
                <a:lnTo>
                  <a:pt x="2283" y="1093"/>
                </a:lnTo>
                <a:lnTo>
                  <a:pt x="2197" y="1113"/>
                </a:lnTo>
                <a:lnTo>
                  <a:pt x="2133" y="1113"/>
                </a:lnTo>
                <a:lnTo>
                  <a:pt x="2048" y="1113"/>
                </a:lnTo>
                <a:lnTo>
                  <a:pt x="1984" y="1135"/>
                </a:lnTo>
                <a:lnTo>
                  <a:pt x="1920" y="1135"/>
                </a:lnTo>
                <a:lnTo>
                  <a:pt x="1856" y="1113"/>
                </a:lnTo>
                <a:lnTo>
                  <a:pt x="1792" y="1093"/>
                </a:lnTo>
                <a:lnTo>
                  <a:pt x="1726" y="1093"/>
                </a:lnTo>
                <a:lnTo>
                  <a:pt x="1662" y="1071"/>
                </a:lnTo>
                <a:lnTo>
                  <a:pt x="1578" y="1029"/>
                </a:lnTo>
                <a:lnTo>
                  <a:pt x="1514" y="1007"/>
                </a:lnTo>
                <a:lnTo>
                  <a:pt x="1426" y="978"/>
                </a:lnTo>
                <a:lnTo>
                  <a:pt x="1349" y="923"/>
                </a:lnTo>
                <a:lnTo>
                  <a:pt x="1274" y="963"/>
                </a:lnTo>
                <a:lnTo>
                  <a:pt x="1172" y="1029"/>
                </a:lnTo>
                <a:lnTo>
                  <a:pt x="1109" y="1049"/>
                </a:lnTo>
                <a:lnTo>
                  <a:pt x="1064" y="1113"/>
                </a:lnTo>
                <a:lnTo>
                  <a:pt x="1001" y="1177"/>
                </a:lnTo>
                <a:lnTo>
                  <a:pt x="959" y="1241"/>
                </a:lnTo>
                <a:lnTo>
                  <a:pt x="937" y="1305"/>
                </a:lnTo>
                <a:lnTo>
                  <a:pt x="895" y="1369"/>
                </a:lnTo>
                <a:lnTo>
                  <a:pt x="853" y="1436"/>
                </a:lnTo>
                <a:lnTo>
                  <a:pt x="831" y="1500"/>
                </a:lnTo>
                <a:lnTo>
                  <a:pt x="767" y="1542"/>
                </a:lnTo>
                <a:lnTo>
                  <a:pt x="725" y="1628"/>
                </a:lnTo>
                <a:lnTo>
                  <a:pt x="661" y="1692"/>
                </a:lnTo>
                <a:lnTo>
                  <a:pt x="639" y="1756"/>
                </a:lnTo>
                <a:lnTo>
                  <a:pt x="597" y="1820"/>
                </a:lnTo>
                <a:lnTo>
                  <a:pt x="553" y="1883"/>
                </a:lnTo>
                <a:lnTo>
                  <a:pt x="511" y="1947"/>
                </a:lnTo>
                <a:lnTo>
                  <a:pt x="489" y="2011"/>
                </a:lnTo>
                <a:lnTo>
                  <a:pt x="447" y="2075"/>
                </a:lnTo>
                <a:lnTo>
                  <a:pt x="403" y="2139"/>
                </a:lnTo>
                <a:lnTo>
                  <a:pt x="361" y="2203"/>
                </a:lnTo>
                <a:lnTo>
                  <a:pt x="339" y="2267"/>
                </a:lnTo>
                <a:lnTo>
                  <a:pt x="297" y="2331"/>
                </a:lnTo>
                <a:lnTo>
                  <a:pt x="255" y="2395"/>
                </a:lnTo>
                <a:lnTo>
                  <a:pt x="211" y="2459"/>
                </a:lnTo>
                <a:lnTo>
                  <a:pt x="169" y="2523"/>
                </a:lnTo>
                <a:lnTo>
                  <a:pt x="127" y="2587"/>
                </a:lnTo>
                <a:lnTo>
                  <a:pt x="83" y="2651"/>
                </a:lnTo>
                <a:lnTo>
                  <a:pt x="63" y="2715"/>
                </a:lnTo>
                <a:lnTo>
                  <a:pt x="19" y="2779"/>
                </a:lnTo>
                <a:lnTo>
                  <a:pt x="0" y="285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>
            <a:off x="4124160" y="2502000"/>
            <a:ext cx="1459440" cy="771840"/>
          </a:xfrm>
          <a:custGeom>
            <a:avLst/>
            <a:gdLst/>
            <a:ahLst/>
            <a:rect l="0" t="0" r="r" b="b"/>
            <a:pathLst>
              <a:path fill="none" w="4054" h="2144">
                <a:moveTo>
                  <a:pt x="4054" y="0"/>
                </a:moveTo>
                <a:lnTo>
                  <a:pt x="4006" y="15"/>
                </a:lnTo>
                <a:lnTo>
                  <a:pt x="3942" y="37"/>
                </a:lnTo>
                <a:lnTo>
                  <a:pt x="3878" y="79"/>
                </a:lnTo>
                <a:lnTo>
                  <a:pt x="3814" y="123"/>
                </a:lnTo>
                <a:lnTo>
                  <a:pt x="3750" y="165"/>
                </a:lnTo>
                <a:lnTo>
                  <a:pt x="3686" y="207"/>
                </a:lnTo>
                <a:lnTo>
                  <a:pt x="3620" y="251"/>
                </a:lnTo>
                <a:lnTo>
                  <a:pt x="3556" y="293"/>
                </a:lnTo>
                <a:lnTo>
                  <a:pt x="3472" y="357"/>
                </a:lnTo>
                <a:lnTo>
                  <a:pt x="3386" y="399"/>
                </a:lnTo>
                <a:lnTo>
                  <a:pt x="3322" y="443"/>
                </a:lnTo>
                <a:lnTo>
                  <a:pt x="3258" y="485"/>
                </a:lnTo>
                <a:lnTo>
                  <a:pt x="3152" y="526"/>
                </a:lnTo>
                <a:lnTo>
                  <a:pt x="3066" y="549"/>
                </a:lnTo>
                <a:lnTo>
                  <a:pt x="3001" y="571"/>
                </a:lnTo>
                <a:lnTo>
                  <a:pt x="2937" y="590"/>
                </a:lnTo>
                <a:lnTo>
                  <a:pt x="2809" y="612"/>
                </a:lnTo>
                <a:lnTo>
                  <a:pt x="2724" y="635"/>
                </a:lnTo>
                <a:lnTo>
                  <a:pt x="2510" y="635"/>
                </a:lnTo>
                <a:lnTo>
                  <a:pt x="2446" y="635"/>
                </a:lnTo>
                <a:lnTo>
                  <a:pt x="2382" y="654"/>
                </a:lnTo>
                <a:lnTo>
                  <a:pt x="2318" y="654"/>
                </a:lnTo>
                <a:lnTo>
                  <a:pt x="2232" y="654"/>
                </a:lnTo>
                <a:lnTo>
                  <a:pt x="2168" y="654"/>
                </a:lnTo>
                <a:lnTo>
                  <a:pt x="2104" y="654"/>
                </a:lnTo>
                <a:lnTo>
                  <a:pt x="2020" y="635"/>
                </a:lnTo>
                <a:lnTo>
                  <a:pt x="1934" y="635"/>
                </a:lnTo>
                <a:lnTo>
                  <a:pt x="1828" y="635"/>
                </a:lnTo>
                <a:lnTo>
                  <a:pt x="1764" y="635"/>
                </a:lnTo>
                <a:lnTo>
                  <a:pt x="1678" y="612"/>
                </a:lnTo>
                <a:lnTo>
                  <a:pt x="1614" y="590"/>
                </a:lnTo>
                <a:lnTo>
                  <a:pt x="1551" y="571"/>
                </a:lnTo>
                <a:lnTo>
                  <a:pt x="1423" y="571"/>
                </a:lnTo>
                <a:lnTo>
                  <a:pt x="1359" y="571"/>
                </a:lnTo>
                <a:lnTo>
                  <a:pt x="1290" y="535"/>
                </a:lnTo>
                <a:lnTo>
                  <a:pt x="1198" y="606"/>
                </a:lnTo>
                <a:lnTo>
                  <a:pt x="1138" y="646"/>
                </a:lnTo>
                <a:lnTo>
                  <a:pt x="1103" y="720"/>
                </a:lnTo>
                <a:lnTo>
                  <a:pt x="1039" y="762"/>
                </a:lnTo>
                <a:lnTo>
                  <a:pt x="972" y="826"/>
                </a:lnTo>
                <a:lnTo>
                  <a:pt x="908" y="890"/>
                </a:lnTo>
                <a:lnTo>
                  <a:pt x="866" y="954"/>
                </a:lnTo>
                <a:lnTo>
                  <a:pt x="802" y="1018"/>
                </a:lnTo>
                <a:lnTo>
                  <a:pt x="738" y="1060"/>
                </a:lnTo>
                <a:lnTo>
                  <a:pt x="674" y="1125"/>
                </a:lnTo>
                <a:lnTo>
                  <a:pt x="610" y="1169"/>
                </a:lnTo>
                <a:lnTo>
                  <a:pt x="568" y="1233"/>
                </a:lnTo>
                <a:lnTo>
                  <a:pt x="482" y="1317"/>
                </a:lnTo>
                <a:lnTo>
                  <a:pt x="440" y="1383"/>
                </a:lnTo>
                <a:lnTo>
                  <a:pt x="418" y="1447"/>
                </a:lnTo>
                <a:lnTo>
                  <a:pt x="377" y="1511"/>
                </a:lnTo>
                <a:lnTo>
                  <a:pt x="354" y="1575"/>
                </a:lnTo>
                <a:lnTo>
                  <a:pt x="310" y="1639"/>
                </a:lnTo>
                <a:lnTo>
                  <a:pt x="268" y="1703"/>
                </a:lnTo>
                <a:lnTo>
                  <a:pt x="246" y="1767"/>
                </a:lnTo>
                <a:lnTo>
                  <a:pt x="205" y="1831"/>
                </a:lnTo>
                <a:lnTo>
                  <a:pt x="183" y="1894"/>
                </a:lnTo>
                <a:lnTo>
                  <a:pt x="99" y="1978"/>
                </a:lnTo>
                <a:lnTo>
                  <a:pt x="55" y="2044"/>
                </a:lnTo>
                <a:lnTo>
                  <a:pt x="0" y="214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>
            <a:off x="4175280" y="2716200"/>
            <a:ext cx="1408320" cy="560880"/>
          </a:xfrm>
          <a:custGeom>
            <a:avLst/>
            <a:gdLst/>
            <a:ahLst/>
            <a:rect l="0" t="0" r="r" b="b"/>
            <a:pathLst>
              <a:path fill="none" w="3912" h="1558">
                <a:moveTo>
                  <a:pt x="3912" y="0"/>
                </a:moveTo>
                <a:lnTo>
                  <a:pt x="3863" y="17"/>
                </a:lnTo>
                <a:lnTo>
                  <a:pt x="3819" y="81"/>
                </a:lnTo>
                <a:lnTo>
                  <a:pt x="3755" y="125"/>
                </a:lnTo>
                <a:lnTo>
                  <a:pt x="3691" y="167"/>
                </a:lnTo>
                <a:lnTo>
                  <a:pt x="3608" y="253"/>
                </a:lnTo>
                <a:lnTo>
                  <a:pt x="3500" y="317"/>
                </a:lnTo>
                <a:lnTo>
                  <a:pt x="3436" y="337"/>
                </a:lnTo>
                <a:lnTo>
                  <a:pt x="3372" y="359"/>
                </a:lnTo>
                <a:lnTo>
                  <a:pt x="3266" y="359"/>
                </a:lnTo>
                <a:lnTo>
                  <a:pt x="3202" y="359"/>
                </a:lnTo>
                <a:lnTo>
                  <a:pt x="3138" y="359"/>
                </a:lnTo>
                <a:lnTo>
                  <a:pt x="2541" y="337"/>
                </a:lnTo>
                <a:lnTo>
                  <a:pt x="2432" y="337"/>
                </a:lnTo>
                <a:lnTo>
                  <a:pt x="2369" y="337"/>
                </a:lnTo>
                <a:lnTo>
                  <a:pt x="2155" y="317"/>
                </a:lnTo>
                <a:lnTo>
                  <a:pt x="2071" y="295"/>
                </a:lnTo>
                <a:lnTo>
                  <a:pt x="2007" y="295"/>
                </a:lnTo>
                <a:lnTo>
                  <a:pt x="1942" y="253"/>
                </a:lnTo>
                <a:lnTo>
                  <a:pt x="1856" y="231"/>
                </a:lnTo>
                <a:lnTo>
                  <a:pt x="1770" y="231"/>
                </a:lnTo>
                <a:lnTo>
                  <a:pt x="1706" y="231"/>
                </a:lnTo>
                <a:lnTo>
                  <a:pt x="1622" y="231"/>
                </a:lnTo>
                <a:lnTo>
                  <a:pt x="1558" y="231"/>
                </a:lnTo>
                <a:lnTo>
                  <a:pt x="1472" y="231"/>
                </a:lnTo>
                <a:lnTo>
                  <a:pt x="1408" y="231"/>
                </a:lnTo>
                <a:lnTo>
                  <a:pt x="1344" y="231"/>
                </a:lnTo>
                <a:lnTo>
                  <a:pt x="1281" y="231"/>
                </a:lnTo>
                <a:lnTo>
                  <a:pt x="1217" y="231"/>
                </a:lnTo>
                <a:lnTo>
                  <a:pt x="1153" y="253"/>
                </a:lnTo>
                <a:lnTo>
                  <a:pt x="1089" y="273"/>
                </a:lnTo>
                <a:lnTo>
                  <a:pt x="1003" y="295"/>
                </a:lnTo>
                <a:lnTo>
                  <a:pt x="939" y="317"/>
                </a:lnTo>
                <a:lnTo>
                  <a:pt x="875" y="337"/>
                </a:lnTo>
                <a:lnTo>
                  <a:pt x="811" y="381"/>
                </a:lnTo>
                <a:lnTo>
                  <a:pt x="747" y="424"/>
                </a:lnTo>
                <a:lnTo>
                  <a:pt x="703" y="488"/>
                </a:lnTo>
                <a:lnTo>
                  <a:pt x="639" y="511"/>
                </a:lnTo>
                <a:lnTo>
                  <a:pt x="575" y="552"/>
                </a:lnTo>
                <a:lnTo>
                  <a:pt x="533" y="617"/>
                </a:lnTo>
                <a:lnTo>
                  <a:pt x="491" y="681"/>
                </a:lnTo>
                <a:lnTo>
                  <a:pt x="427" y="745"/>
                </a:lnTo>
                <a:lnTo>
                  <a:pt x="363" y="831"/>
                </a:lnTo>
                <a:lnTo>
                  <a:pt x="319" y="895"/>
                </a:lnTo>
                <a:lnTo>
                  <a:pt x="277" y="959"/>
                </a:lnTo>
                <a:lnTo>
                  <a:pt x="255" y="1023"/>
                </a:lnTo>
                <a:lnTo>
                  <a:pt x="235" y="1087"/>
                </a:lnTo>
                <a:lnTo>
                  <a:pt x="191" y="1174"/>
                </a:lnTo>
                <a:lnTo>
                  <a:pt x="149" y="1238"/>
                </a:lnTo>
                <a:lnTo>
                  <a:pt x="127" y="1302"/>
                </a:lnTo>
                <a:lnTo>
                  <a:pt x="105" y="1366"/>
                </a:lnTo>
                <a:lnTo>
                  <a:pt x="63" y="1430"/>
                </a:lnTo>
                <a:lnTo>
                  <a:pt x="22" y="1494"/>
                </a:lnTo>
                <a:lnTo>
                  <a:pt x="0" y="155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"/>
          <p:cNvSpPr/>
          <p:nvPr/>
        </p:nvSpPr>
        <p:spPr>
          <a:xfrm>
            <a:off x="4227480" y="2906640"/>
            <a:ext cx="1356120" cy="367200"/>
          </a:xfrm>
          <a:custGeom>
            <a:avLst/>
            <a:gdLst/>
            <a:ahLst/>
            <a:rect l="0" t="0" r="r" b="b"/>
            <a:pathLst>
              <a:path fill="none" w="3767" h="1020">
                <a:moveTo>
                  <a:pt x="3767" y="216"/>
                </a:moveTo>
                <a:lnTo>
                  <a:pt x="3719" y="213"/>
                </a:lnTo>
                <a:lnTo>
                  <a:pt x="3591" y="235"/>
                </a:lnTo>
                <a:lnTo>
                  <a:pt x="3527" y="258"/>
                </a:lnTo>
                <a:lnTo>
                  <a:pt x="3441" y="258"/>
                </a:lnTo>
                <a:lnTo>
                  <a:pt x="3377" y="235"/>
                </a:lnTo>
                <a:lnTo>
                  <a:pt x="3313" y="235"/>
                </a:lnTo>
                <a:lnTo>
                  <a:pt x="3249" y="235"/>
                </a:lnTo>
                <a:lnTo>
                  <a:pt x="3185" y="213"/>
                </a:lnTo>
                <a:lnTo>
                  <a:pt x="3099" y="213"/>
                </a:lnTo>
                <a:lnTo>
                  <a:pt x="2993" y="235"/>
                </a:lnTo>
                <a:lnTo>
                  <a:pt x="2930" y="235"/>
                </a:lnTo>
                <a:lnTo>
                  <a:pt x="2866" y="258"/>
                </a:lnTo>
                <a:lnTo>
                  <a:pt x="2801" y="258"/>
                </a:lnTo>
                <a:lnTo>
                  <a:pt x="2737" y="258"/>
                </a:lnTo>
                <a:lnTo>
                  <a:pt x="2671" y="258"/>
                </a:lnTo>
                <a:lnTo>
                  <a:pt x="2587" y="235"/>
                </a:lnTo>
                <a:lnTo>
                  <a:pt x="2523" y="213"/>
                </a:lnTo>
                <a:lnTo>
                  <a:pt x="2459" y="191"/>
                </a:lnTo>
                <a:lnTo>
                  <a:pt x="2373" y="171"/>
                </a:lnTo>
                <a:lnTo>
                  <a:pt x="2309" y="149"/>
                </a:lnTo>
                <a:lnTo>
                  <a:pt x="2245" y="149"/>
                </a:lnTo>
                <a:lnTo>
                  <a:pt x="2181" y="127"/>
                </a:lnTo>
                <a:lnTo>
                  <a:pt x="2117" y="127"/>
                </a:lnTo>
                <a:lnTo>
                  <a:pt x="2031" y="85"/>
                </a:lnTo>
                <a:lnTo>
                  <a:pt x="1967" y="85"/>
                </a:lnTo>
                <a:lnTo>
                  <a:pt x="1881" y="63"/>
                </a:lnTo>
                <a:lnTo>
                  <a:pt x="1817" y="44"/>
                </a:lnTo>
                <a:lnTo>
                  <a:pt x="1734" y="44"/>
                </a:lnTo>
                <a:lnTo>
                  <a:pt x="1520" y="0"/>
                </a:lnTo>
                <a:lnTo>
                  <a:pt x="1434" y="0"/>
                </a:lnTo>
                <a:lnTo>
                  <a:pt x="1348" y="0"/>
                </a:lnTo>
                <a:lnTo>
                  <a:pt x="1284" y="22"/>
                </a:lnTo>
                <a:lnTo>
                  <a:pt x="1220" y="44"/>
                </a:lnTo>
                <a:lnTo>
                  <a:pt x="1156" y="63"/>
                </a:lnTo>
                <a:lnTo>
                  <a:pt x="1092" y="108"/>
                </a:lnTo>
                <a:lnTo>
                  <a:pt x="1028" y="127"/>
                </a:lnTo>
                <a:lnTo>
                  <a:pt x="964" y="171"/>
                </a:lnTo>
                <a:lnTo>
                  <a:pt x="899" y="171"/>
                </a:lnTo>
                <a:lnTo>
                  <a:pt x="815" y="191"/>
                </a:lnTo>
                <a:lnTo>
                  <a:pt x="751" y="213"/>
                </a:lnTo>
                <a:lnTo>
                  <a:pt x="685" y="235"/>
                </a:lnTo>
                <a:lnTo>
                  <a:pt x="621" y="258"/>
                </a:lnTo>
                <a:lnTo>
                  <a:pt x="557" y="278"/>
                </a:lnTo>
                <a:lnTo>
                  <a:pt x="493" y="300"/>
                </a:lnTo>
                <a:lnTo>
                  <a:pt x="429" y="364"/>
                </a:lnTo>
                <a:lnTo>
                  <a:pt x="366" y="406"/>
                </a:lnTo>
                <a:lnTo>
                  <a:pt x="324" y="470"/>
                </a:lnTo>
                <a:lnTo>
                  <a:pt x="260" y="514"/>
                </a:lnTo>
                <a:lnTo>
                  <a:pt x="218" y="578"/>
                </a:lnTo>
                <a:lnTo>
                  <a:pt x="154" y="620"/>
                </a:lnTo>
                <a:lnTo>
                  <a:pt x="110" y="684"/>
                </a:lnTo>
                <a:lnTo>
                  <a:pt x="68" y="748"/>
                </a:lnTo>
                <a:lnTo>
                  <a:pt x="68" y="813"/>
                </a:lnTo>
                <a:lnTo>
                  <a:pt x="46" y="877"/>
                </a:lnTo>
                <a:lnTo>
                  <a:pt x="24" y="941"/>
                </a:lnTo>
                <a:lnTo>
                  <a:pt x="0" y="102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>
            <a:off x="4282920" y="3046320"/>
            <a:ext cx="1298880" cy="230400"/>
          </a:xfrm>
          <a:custGeom>
            <a:avLst/>
            <a:gdLst/>
            <a:ahLst/>
            <a:rect l="0" t="0" r="r" b="b"/>
            <a:pathLst>
              <a:path fill="none" w="3608" h="640">
                <a:moveTo>
                  <a:pt x="3608" y="255"/>
                </a:moveTo>
                <a:lnTo>
                  <a:pt x="3502" y="275"/>
                </a:lnTo>
                <a:lnTo>
                  <a:pt x="3438" y="275"/>
                </a:lnTo>
                <a:lnTo>
                  <a:pt x="3374" y="275"/>
                </a:lnTo>
                <a:lnTo>
                  <a:pt x="3310" y="233"/>
                </a:lnTo>
                <a:lnTo>
                  <a:pt x="3246" y="211"/>
                </a:lnTo>
                <a:lnTo>
                  <a:pt x="3032" y="211"/>
                </a:lnTo>
                <a:lnTo>
                  <a:pt x="2968" y="211"/>
                </a:lnTo>
                <a:lnTo>
                  <a:pt x="2904" y="211"/>
                </a:lnTo>
                <a:lnTo>
                  <a:pt x="2796" y="211"/>
                </a:lnTo>
                <a:lnTo>
                  <a:pt x="2732" y="211"/>
                </a:lnTo>
                <a:lnTo>
                  <a:pt x="2668" y="211"/>
                </a:lnTo>
                <a:lnTo>
                  <a:pt x="2584" y="211"/>
                </a:lnTo>
                <a:lnTo>
                  <a:pt x="2518" y="211"/>
                </a:lnTo>
                <a:lnTo>
                  <a:pt x="2454" y="211"/>
                </a:lnTo>
                <a:lnTo>
                  <a:pt x="2370" y="211"/>
                </a:lnTo>
                <a:lnTo>
                  <a:pt x="2242" y="211"/>
                </a:lnTo>
                <a:lnTo>
                  <a:pt x="2178" y="191"/>
                </a:lnTo>
                <a:lnTo>
                  <a:pt x="2092" y="169"/>
                </a:lnTo>
                <a:lnTo>
                  <a:pt x="2006" y="127"/>
                </a:lnTo>
                <a:lnTo>
                  <a:pt x="1942" y="105"/>
                </a:lnTo>
                <a:lnTo>
                  <a:pt x="1878" y="83"/>
                </a:lnTo>
                <a:lnTo>
                  <a:pt x="1814" y="63"/>
                </a:lnTo>
                <a:lnTo>
                  <a:pt x="1727" y="19"/>
                </a:lnTo>
                <a:lnTo>
                  <a:pt x="1621" y="19"/>
                </a:lnTo>
                <a:lnTo>
                  <a:pt x="1535" y="0"/>
                </a:lnTo>
                <a:lnTo>
                  <a:pt x="1323" y="0"/>
                </a:lnTo>
                <a:lnTo>
                  <a:pt x="1215" y="0"/>
                </a:lnTo>
                <a:lnTo>
                  <a:pt x="1151" y="19"/>
                </a:lnTo>
                <a:lnTo>
                  <a:pt x="1087" y="19"/>
                </a:lnTo>
                <a:lnTo>
                  <a:pt x="1023" y="19"/>
                </a:lnTo>
                <a:lnTo>
                  <a:pt x="937" y="19"/>
                </a:lnTo>
                <a:lnTo>
                  <a:pt x="853" y="63"/>
                </a:lnTo>
                <a:lnTo>
                  <a:pt x="789" y="63"/>
                </a:lnTo>
                <a:lnTo>
                  <a:pt x="725" y="83"/>
                </a:lnTo>
                <a:lnTo>
                  <a:pt x="661" y="105"/>
                </a:lnTo>
                <a:lnTo>
                  <a:pt x="597" y="127"/>
                </a:lnTo>
                <a:lnTo>
                  <a:pt x="511" y="191"/>
                </a:lnTo>
                <a:lnTo>
                  <a:pt x="447" y="233"/>
                </a:lnTo>
                <a:lnTo>
                  <a:pt x="383" y="275"/>
                </a:lnTo>
                <a:lnTo>
                  <a:pt x="319" y="319"/>
                </a:lnTo>
                <a:lnTo>
                  <a:pt x="255" y="362"/>
                </a:lnTo>
                <a:lnTo>
                  <a:pt x="191" y="404"/>
                </a:lnTo>
                <a:lnTo>
                  <a:pt x="127" y="448"/>
                </a:lnTo>
                <a:lnTo>
                  <a:pt x="63" y="512"/>
                </a:lnTo>
                <a:lnTo>
                  <a:pt x="19" y="576"/>
                </a:lnTo>
                <a:lnTo>
                  <a:pt x="0" y="64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>
            <a:off x="4398840" y="3191040"/>
            <a:ext cx="945000" cy="86040"/>
          </a:xfrm>
          <a:custGeom>
            <a:avLst/>
            <a:gdLst/>
            <a:ahLst/>
            <a:rect l="0" t="0" r="r" b="b"/>
            <a:pathLst>
              <a:path fill="none" w="2625" h="239">
                <a:moveTo>
                  <a:pt x="2625" y="239"/>
                </a:moveTo>
                <a:lnTo>
                  <a:pt x="2561" y="216"/>
                </a:lnTo>
                <a:lnTo>
                  <a:pt x="2497" y="216"/>
                </a:lnTo>
                <a:lnTo>
                  <a:pt x="2411" y="216"/>
                </a:lnTo>
                <a:lnTo>
                  <a:pt x="2347" y="216"/>
                </a:lnTo>
                <a:lnTo>
                  <a:pt x="2219" y="196"/>
                </a:lnTo>
                <a:lnTo>
                  <a:pt x="2197" y="132"/>
                </a:lnTo>
                <a:lnTo>
                  <a:pt x="2133" y="109"/>
                </a:lnTo>
                <a:lnTo>
                  <a:pt x="2049" y="109"/>
                </a:lnTo>
                <a:lnTo>
                  <a:pt x="1962" y="109"/>
                </a:lnTo>
                <a:lnTo>
                  <a:pt x="1898" y="109"/>
                </a:lnTo>
                <a:lnTo>
                  <a:pt x="1834" y="86"/>
                </a:lnTo>
                <a:lnTo>
                  <a:pt x="1748" y="44"/>
                </a:lnTo>
                <a:lnTo>
                  <a:pt x="1684" y="22"/>
                </a:lnTo>
                <a:lnTo>
                  <a:pt x="1578" y="0"/>
                </a:lnTo>
                <a:lnTo>
                  <a:pt x="1470" y="0"/>
                </a:lnTo>
                <a:lnTo>
                  <a:pt x="1386" y="0"/>
                </a:lnTo>
                <a:lnTo>
                  <a:pt x="1300" y="22"/>
                </a:lnTo>
                <a:lnTo>
                  <a:pt x="1236" y="44"/>
                </a:lnTo>
                <a:lnTo>
                  <a:pt x="1108" y="64"/>
                </a:lnTo>
                <a:lnTo>
                  <a:pt x="894" y="86"/>
                </a:lnTo>
                <a:lnTo>
                  <a:pt x="830" y="86"/>
                </a:lnTo>
                <a:lnTo>
                  <a:pt x="766" y="132"/>
                </a:lnTo>
                <a:lnTo>
                  <a:pt x="702" y="174"/>
                </a:lnTo>
                <a:lnTo>
                  <a:pt x="637" y="174"/>
                </a:lnTo>
                <a:lnTo>
                  <a:pt x="573" y="174"/>
                </a:lnTo>
                <a:lnTo>
                  <a:pt x="509" y="174"/>
                </a:lnTo>
                <a:lnTo>
                  <a:pt x="445" y="174"/>
                </a:lnTo>
                <a:lnTo>
                  <a:pt x="359" y="174"/>
                </a:lnTo>
                <a:lnTo>
                  <a:pt x="295" y="174"/>
                </a:lnTo>
                <a:lnTo>
                  <a:pt x="231" y="152"/>
                </a:lnTo>
                <a:lnTo>
                  <a:pt x="167" y="152"/>
                </a:lnTo>
                <a:lnTo>
                  <a:pt x="103" y="174"/>
                </a:lnTo>
                <a:lnTo>
                  <a:pt x="0" y="23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>
            <a:off x="4797360" y="587520"/>
            <a:ext cx="20016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>
            <a:off x="4789440" y="12175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>
            <a:off x="3298680" y="125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>
            <a:off x="3398760" y="3096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3514680" y="5014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>
            <a:off x="3691080" y="81756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>
            <a:off x="4167360" y="9097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>
            <a:off x="4183200" y="17780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>
            <a:off x="3137040" y="19764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"/>
          <p:cNvSpPr/>
          <p:nvPr/>
        </p:nvSpPr>
        <p:spPr>
          <a:xfrm>
            <a:off x="4313160" y="20383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>
            <a:off x="4608360" y="2017800"/>
            <a:ext cx="17604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4853160" y="2341440"/>
            <a:ext cx="16668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>
            <a:off x="5127480" y="2222640"/>
            <a:ext cx="160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>
            <a:off x="5135400" y="26384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5157720" y="24145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5372280" y="2152800"/>
            <a:ext cx="18432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"/>
          <p:cNvSpPr/>
          <p:nvPr/>
        </p:nvSpPr>
        <p:spPr>
          <a:xfrm>
            <a:off x="5181480" y="30751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"/>
          <p:cNvSpPr/>
          <p:nvPr/>
        </p:nvSpPr>
        <p:spPr>
          <a:xfrm>
            <a:off x="4888080" y="28987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"/>
          <p:cNvSpPr/>
          <p:nvPr/>
        </p:nvSpPr>
        <p:spPr>
          <a:xfrm>
            <a:off x="5280120" y="27972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"/>
          <p:cNvSpPr/>
          <p:nvPr/>
        </p:nvSpPr>
        <p:spPr>
          <a:xfrm>
            <a:off x="4675320" y="315288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"/>
          <p:cNvSpPr txBox="1"/>
          <p:nvPr/>
        </p:nvSpPr>
        <p:spPr>
          <a:xfrm>
            <a:off x="3322800" y="125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"/>
          <p:cNvSpPr txBox="1"/>
          <p:nvPr/>
        </p:nvSpPr>
        <p:spPr>
          <a:xfrm>
            <a:off x="3384720" y="3031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"/>
          <p:cNvSpPr txBox="1"/>
          <p:nvPr/>
        </p:nvSpPr>
        <p:spPr>
          <a:xfrm>
            <a:off x="3506760" y="493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"/>
          <p:cNvSpPr txBox="1"/>
          <p:nvPr/>
        </p:nvSpPr>
        <p:spPr>
          <a:xfrm>
            <a:off x="3684600" y="8096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"/>
          <p:cNvSpPr txBox="1"/>
          <p:nvPr/>
        </p:nvSpPr>
        <p:spPr>
          <a:xfrm>
            <a:off x="3138480" y="1960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"/>
          <p:cNvSpPr txBox="1"/>
          <p:nvPr/>
        </p:nvSpPr>
        <p:spPr>
          <a:xfrm>
            <a:off x="4175280" y="176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"/>
          <p:cNvSpPr txBox="1"/>
          <p:nvPr/>
        </p:nvSpPr>
        <p:spPr>
          <a:xfrm>
            <a:off x="4307040" y="20224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"/>
          <p:cNvSpPr txBox="1"/>
          <p:nvPr/>
        </p:nvSpPr>
        <p:spPr>
          <a:xfrm>
            <a:off x="4808520" y="23209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4937040" y="287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"/>
          <p:cNvSpPr txBox="1"/>
          <p:nvPr/>
        </p:nvSpPr>
        <p:spPr>
          <a:xfrm>
            <a:off x="4930920" y="2793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"/>
          <p:cNvSpPr txBox="1"/>
          <p:nvPr/>
        </p:nvSpPr>
        <p:spPr>
          <a:xfrm>
            <a:off x="4782960" y="577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"/>
          <p:cNvSpPr txBox="1"/>
          <p:nvPr/>
        </p:nvSpPr>
        <p:spPr>
          <a:xfrm>
            <a:off x="4151160" y="901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 txBox="1"/>
          <p:nvPr/>
        </p:nvSpPr>
        <p:spPr>
          <a:xfrm>
            <a:off x="4782960" y="12002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"/>
          <p:cNvSpPr txBox="1"/>
          <p:nvPr/>
        </p:nvSpPr>
        <p:spPr>
          <a:xfrm>
            <a:off x="4562640" y="20019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"/>
          <p:cNvSpPr txBox="1"/>
          <p:nvPr/>
        </p:nvSpPr>
        <p:spPr>
          <a:xfrm>
            <a:off x="5086440" y="2206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"/>
          <p:cNvSpPr txBox="1"/>
          <p:nvPr/>
        </p:nvSpPr>
        <p:spPr>
          <a:xfrm>
            <a:off x="5335560" y="21286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"/>
          <p:cNvSpPr txBox="1"/>
          <p:nvPr/>
        </p:nvSpPr>
        <p:spPr>
          <a:xfrm>
            <a:off x="5148360" y="239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"/>
          <p:cNvSpPr txBox="1"/>
          <p:nvPr/>
        </p:nvSpPr>
        <p:spPr>
          <a:xfrm>
            <a:off x="5119560" y="26128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"/>
          <p:cNvSpPr txBox="1"/>
          <p:nvPr/>
        </p:nvSpPr>
        <p:spPr>
          <a:xfrm>
            <a:off x="5268960" y="277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"/>
          <p:cNvSpPr txBox="1"/>
          <p:nvPr/>
        </p:nvSpPr>
        <p:spPr>
          <a:xfrm>
            <a:off x="4876920" y="2870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"/>
          <p:cNvSpPr txBox="1"/>
          <p:nvPr/>
        </p:nvSpPr>
        <p:spPr>
          <a:xfrm>
            <a:off x="5168880" y="3046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"/>
          <p:cNvSpPr txBox="1"/>
          <p:nvPr/>
        </p:nvSpPr>
        <p:spPr>
          <a:xfrm>
            <a:off x="4662360" y="3127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"/>
          <p:cNvSpPr/>
          <p:nvPr/>
        </p:nvSpPr>
        <p:spPr>
          <a:xfrm>
            <a:off x="4751280" y="2232000"/>
            <a:ext cx="162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"/>
          <p:cNvSpPr txBox="1"/>
          <p:nvPr/>
        </p:nvSpPr>
        <p:spPr>
          <a:xfrm>
            <a:off x="4705200" y="22176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>
            <a:off x="5197320" y="81000"/>
            <a:ext cx="386280" cy="437040"/>
          </a:xfrm>
          <a:custGeom>
            <a:avLst/>
            <a:gdLst/>
            <a:ahLst/>
            <a:rect l="0" t="0" r="r" b="b"/>
            <a:pathLst>
              <a:path fill="none" w="1073" h="1214">
                <a:moveTo>
                  <a:pt x="0" y="0"/>
                </a:moveTo>
                <a:lnTo>
                  <a:pt x="22" y="63"/>
                </a:lnTo>
                <a:lnTo>
                  <a:pt x="44" y="127"/>
                </a:lnTo>
                <a:lnTo>
                  <a:pt x="107" y="171"/>
                </a:lnTo>
                <a:lnTo>
                  <a:pt x="171" y="213"/>
                </a:lnTo>
                <a:lnTo>
                  <a:pt x="191" y="277"/>
                </a:lnTo>
                <a:lnTo>
                  <a:pt x="235" y="342"/>
                </a:lnTo>
                <a:lnTo>
                  <a:pt x="255" y="427"/>
                </a:lnTo>
                <a:lnTo>
                  <a:pt x="300" y="491"/>
                </a:lnTo>
                <a:lnTo>
                  <a:pt x="342" y="555"/>
                </a:lnTo>
                <a:lnTo>
                  <a:pt x="405" y="597"/>
                </a:lnTo>
                <a:lnTo>
                  <a:pt x="469" y="619"/>
                </a:lnTo>
                <a:lnTo>
                  <a:pt x="533" y="639"/>
                </a:lnTo>
                <a:lnTo>
                  <a:pt x="597" y="683"/>
                </a:lnTo>
                <a:lnTo>
                  <a:pt x="661" y="725"/>
                </a:lnTo>
                <a:lnTo>
                  <a:pt x="705" y="788"/>
                </a:lnTo>
                <a:lnTo>
                  <a:pt x="724" y="852"/>
                </a:lnTo>
                <a:lnTo>
                  <a:pt x="768" y="917"/>
                </a:lnTo>
                <a:lnTo>
                  <a:pt x="768" y="981"/>
                </a:lnTo>
                <a:lnTo>
                  <a:pt x="811" y="1045"/>
                </a:lnTo>
                <a:lnTo>
                  <a:pt x="875" y="1067"/>
                </a:lnTo>
                <a:lnTo>
                  <a:pt x="939" y="1089"/>
                </a:lnTo>
                <a:lnTo>
                  <a:pt x="1003" y="1131"/>
                </a:lnTo>
                <a:lnTo>
                  <a:pt x="1073" y="1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"/>
          <p:cNvSpPr/>
          <p:nvPr/>
        </p:nvSpPr>
        <p:spPr>
          <a:xfrm>
            <a:off x="5175360" y="17136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"/>
          <p:cNvSpPr txBox="1"/>
          <p:nvPr/>
        </p:nvSpPr>
        <p:spPr>
          <a:xfrm>
            <a:off x="5165640" y="16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5" name=""/>
          <p:cNvGrpSpPr/>
          <p:nvPr/>
        </p:nvGrpSpPr>
        <p:grpSpPr>
          <a:xfrm>
            <a:off x="2854440" y="917640"/>
            <a:ext cx="2941560" cy="0"/>
            <a:chOff x="2854440" y="917640"/>
            <a:chExt cx="2941560" cy="0"/>
          </a:xfrm>
        </p:grpSpPr>
        <p:sp>
          <p:nvSpPr>
            <p:cNvPr id="4496" name=""/>
            <p:cNvSpPr/>
            <p:nvPr/>
          </p:nvSpPr>
          <p:spPr>
            <a:xfrm>
              <a:off x="2854440" y="9176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353052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362268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3706920" y="9176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4713120" y="9176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479736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4897440" y="917640"/>
              <a:ext cx="898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3" name=""/>
          <p:cNvGrpSpPr/>
          <p:nvPr/>
        </p:nvGrpSpPr>
        <p:grpSpPr>
          <a:xfrm>
            <a:off x="2854440" y="2154240"/>
            <a:ext cx="2957400" cy="0"/>
            <a:chOff x="2854440" y="2154240"/>
            <a:chExt cx="2957400" cy="0"/>
          </a:xfrm>
        </p:grpSpPr>
        <p:sp>
          <p:nvSpPr>
            <p:cNvPr id="4504" name=""/>
            <p:cNvSpPr/>
            <p:nvPr/>
          </p:nvSpPr>
          <p:spPr>
            <a:xfrm>
              <a:off x="2854440" y="21542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353052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362268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3706920" y="21542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4713120" y="21542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479736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4897440" y="2154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1" name=""/>
          <p:cNvGrpSpPr/>
          <p:nvPr/>
        </p:nvGrpSpPr>
        <p:grpSpPr>
          <a:xfrm>
            <a:off x="2854440" y="1554120"/>
            <a:ext cx="2949480" cy="0"/>
            <a:chOff x="2854440" y="1554120"/>
            <a:chExt cx="2949480" cy="0"/>
          </a:xfrm>
        </p:grpSpPr>
        <p:sp>
          <p:nvSpPr>
            <p:cNvPr id="4512" name=""/>
            <p:cNvSpPr/>
            <p:nvPr/>
          </p:nvSpPr>
          <p:spPr>
            <a:xfrm>
              <a:off x="2854440" y="155412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353052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362268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3706920" y="155412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4713120" y="155412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479736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4897440" y="1554120"/>
              <a:ext cx="90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9" name=""/>
          <p:cNvSpPr txBox="1"/>
          <p:nvPr/>
        </p:nvSpPr>
        <p:spPr>
          <a:xfrm>
            <a:off x="285444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"/>
          <p:cNvSpPr txBox="1"/>
          <p:nvPr/>
        </p:nvSpPr>
        <p:spPr>
          <a:xfrm>
            <a:off x="568152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"/>
          <p:cNvSpPr txBox="1"/>
          <p:nvPr/>
        </p:nvSpPr>
        <p:spPr>
          <a:xfrm>
            <a:off x="285444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"/>
          <p:cNvSpPr txBox="1"/>
          <p:nvPr/>
        </p:nvSpPr>
        <p:spPr>
          <a:xfrm>
            <a:off x="568152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"/>
          <p:cNvSpPr txBox="1"/>
          <p:nvPr/>
        </p:nvSpPr>
        <p:spPr>
          <a:xfrm>
            <a:off x="2854440" y="201312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"/>
          <p:cNvSpPr txBox="1"/>
          <p:nvPr/>
        </p:nvSpPr>
        <p:spPr>
          <a:xfrm>
            <a:off x="5681520" y="202104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5586480" y="3305160"/>
            <a:ext cx="0" cy="1046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"/>
          <p:cNvSpPr/>
          <p:nvPr/>
        </p:nvSpPr>
        <p:spPr>
          <a:xfrm>
            <a:off x="3065400" y="3352680"/>
            <a:ext cx="0" cy="90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"/>
          <p:cNvSpPr/>
          <p:nvPr/>
        </p:nvSpPr>
        <p:spPr>
          <a:xfrm>
            <a:off x="2749680" y="47880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"/>
          <p:cNvSpPr/>
          <p:nvPr/>
        </p:nvSpPr>
        <p:spPr>
          <a:xfrm>
            <a:off x="2749680" y="49402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"/>
          <p:cNvSpPr/>
          <p:nvPr/>
        </p:nvSpPr>
        <p:spPr>
          <a:xfrm>
            <a:off x="2749680" y="509256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"/>
          <p:cNvSpPr/>
          <p:nvPr/>
        </p:nvSpPr>
        <p:spPr>
          <a:xfrm>
            <a:off x="2749680" y="52452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"/>
          <p:cNvSpPr/>
          <p:nvPr/>
        </p:nvSpPr>
        <p:spPr>
          <a:xfrm>
            <a:off x="2749680" y="53974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"/>
          <p:cNvSpPr txBox="1"/>
          <p:nvPr/>
        </p:nvSpPr>
        <p:spPr>
          <a:xfrm>
            <a:off x="5637240" y="4664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 txBox="1"/>
          <p:nvPr/>
        </p:nvSpPr>
        <p:spPr>
          <a:xfrm>
            <a:off x="5637240" y="4816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"/>
          <p:cNvSpPr txBox="1"/>
          <p:nvPr/>
        </p:nvSpPr>
        <p:spPr>
          <a:xfrm>
            <a:off x="5637240" y="496872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"/>
          <p:cNvSpPr txBox="1"/>
          <p:nvPr/>
        </p:nvSpPr>
        <p:spPr>
          <a:xfrm>
            <a:off x="5637240" y="5121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"/>
          <p:cNvSpPr txBox="1"/>
          <p:nvPr/>
        </p:nvSpPr>
        <p:spPr>
          <a:xfrm>
            <a:off x="5637240" y="5273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"/>
          <p:cNvSpPr/>
          <p:nvPr/>
        </p:nvSpPr>
        <p:spPr>
          <a:xfrm>
            <a:off x="3067200" y="4695840"/>
            <a:ext cx="2524320" cy="702000"/>
          </a:xfrm>
          <a:custGeom>
            <a:avLst/>
            <a:gdLst/>
            <a:ahLst/>
            <a:rect l="0" t="0" r="r" b="b"/>
            <a:pathLst>
              <a:path w="7012" h="1950">
                <a:moveTo>
                  <a:pt x="0" y="0"/>
                </a:moveTo>
                <a:lnTo>
                  <a:pt x="39" y="52"/>
                </a:lnTo>
                <a:lnTo>
                  <a:pt x="92" y="57"/>
                </a:lnTo>
                <a:lnTo>
                  <a:pt x="132" y="97"/>
                </a:lnTo>
                <a:lnTo>
                  <a:pt x="171" y="110"/>
                </a:lnTo>
                <a:lnTo>
                  <a:pt x="211" y="123"/>
                </a:lnTo>
                <a:lnTo>
                  <a:pt x="251" y="136"/>
                </a:lnTo>
                <a:lnTo>
                  <a:pt x="291" y="123"/>
                </a:lnTo>
                <a:lnTo>
                  <a:pt x="330" y="123"/>
                </a:lnTo>
                <a:lnTo>
                  <a:pt x="370" y="123"/>
                </a:lnTo>
                <a:lnTo>
                  <a:pt x="436" y="149"/>
                </a:lnTo>
                <a:lnTo>
                  <a:pt x="476" y="176"/>
                </a:lnTo>
                <a:lnTo>
                  <a:pt x="515" y="189"/>
                </a:lnTo>
                <a:lnTo>
                  <a:pt x="555" y="202"/>
                </a:lnTo>
                <a:lnTo>
                  <a:pt x="621" y="202"/>
                </a:lnTo>
                <a:lnTo>
                  <a:pt x="661" y="216"/>
                </a:lnTo>
                <a:lnTo>
                  <a:pt x="701" y="229"/>
                </a:lnTo>
                <a:lnTo>
                  <a:pt x="767" y="282"/>
                </a:lnTo>
                <a:lnTo>
                  <a:pt x="806" y="321"/>
                </a:lnTo>
                <a:lnTo>
                  <a:pt x="846" y="361"/>
                </a:lnTo>
                <a:lnTo>
                  <a:pt x="899" y="388"/>
                </a:lnTo>
                <a:lnTo>
                  <a:pt x="939" y="401"/>
                </a:lnTo>
                <a:lnTo>
                  <a:pt x="992" y="414"/>
                </a:lnTo>
                <a:lnTo>
                  <a:pt x="1150" y="427"/>
                </a:lnTo>
                <a:lnTo>
                  <a:pt x="1203" y="440"/>
                </a:lnTo>
                <a:lnTo>
                  <a:pt x="1243" y="467"/>
                </a:lnTo>
                <a:lnTo>
                  <a:pt x="1283" y="480"/>
                </a:lnTo>
                <a:lnTo>
                  <a:pt x="1322" y="493"/>
                </a:lnTo>
                <a:lnTo>
                  <a:pt x="1362" y="507"/>
                </a:lnTo>
                <a:lnTo>
                  <a:pt x="1415" y="533"/>
                </a:lnTo>
                <a:lnTo>
                  <a:pt x="1468" y="573"/>
                </a:lnTo>
                <a:lnTo>
                  <a:pt x="1521" y="586"/>
                </a:lnTo>
                <a:lnTo>
                  <a:pt x="1561" y="599"/>
                </a:lnTo>
                <a:lnTo>
                  <a:pt x="1613" y="599"/>
                </a:lnTo>
                <a:lnTo>
                  <a:pt x="1653" y="612"/>
                </a:lnTo>
                <a:lnTo>
                  <a:pt x="1693" y="639"/>
                </a:lnTo>
                <a:lnTo>
                  <a:pt x="1733" y="652"/>
                </a:lnTo>
                <a:lnTo>
                  <a:pt x="1772" y="679"/>
                </a:lnTo>
                <a:lnTo>
                  <a:pt x="1812" y="692"/>
                </a:lnTo>
                <a:lnTo>
                  <a:pt x="1838" y="732"/>
                </a:lnTo>
                <a:lnTo>
                  <a:pt x="1878" y="758"/>
                </a:lnTo>
                <a:lnTo>
                  <a:pt x="1918" y="784"/>
                </a:lnTo>
                <a:lnTo>
                  <a:pt x="1957" y="811"/>
                </a:lnTo>
                <a:lnTo>
                  <a:pt x="2024" y="851"/>
                </a:lnTo>
                <a:lnTo>
                  <a:pt x="2037" y="890"/>
                </a:lnTo>
                <a:lnTo>
                  <a:pt x="2063" y="930"/>
                </a:lnTo>
                <a:lnTo>
                  <a:pt x="2103" y="956"/>
                </a:lnTo>
                <a:lnTo>
                  <a:pt x="2143" y="984"/>
                </a:lnTo>
                <a:lnTo>
                  <a:pt x="2182" y="1024"/>
                </a:lnTo>
                <a:lnTo>
                  <a:pt x="2235" y="1050"/>
                </a:lnTo>
                <a:lnTo>
                  <a:pt x="2275" y="1076"/>
                </a:lnTo>
                <a:lnTo>
                  <a:pt x="2288" y="1129"/>
                </a:lnTo>
                <a:lnTo>
                  <a:pt x="2301" y="1169"/>
                </a:lnTo>
                <a:lnTo>
                  <a:pt x="2328" y="1209"/>
                </a:lnTo>
                <a:lnTo>
                  <a:pt x="2368" y="1222"/>
                </a:lnTo>
                <a:lnTo>
                  <a:pt x="2407" y="1235"/>
                </a:lnTo>
                <a:lnTo>
                  <a:pt x="2447" y="1248"/>
                </a:lnTo>
                <a:lnTo>
                  <a:pt x="2500" y="1262"/>
                </a:lnTo>
                <a:lnTo>
                  <a:pt x="2540" y="1315"/>
                </a:lnTo>
                <a:lnTo>
                  <a:pt x="2592" y="1341"/>
                </a:lnTo>
                <a:lnTo>
                  <a:pt x="2632" y="1368"/>
                </a:lnTo>
                <a:lnTo>
                  <a:pt x="2685" y="1381"/>
                </a:lnTo>
                <a:lnTo>
                  <a:pt x="2725" y="1394"/>
                </a:lnTo>
                <a:lnTo>
                  <a:pt x="2764" y="1420"/>
                </a:lnTo>
                <a:lnTo>
                  <a:pt x="2831" y="1447"/>
                </a:lnTo>
                <a:lnTo>
                  <a:pt x="2883" y="1460"/>
                </a:lnTo>
                <a:lnTo>
                  <a:pt x="2923" y="1473"/>
                </a:lnTo>
                <a:lnTo>
                  <a:pt x="2963" y="1487"/>
                </a:lnTo>
                <a:lnTo>
                  <a:pt x="3003" y="1500"/>
                </a:lnTo>
                <a:lnTo>
                  <a:pt x="3055" y="1500"/>
                </a:lnTo>
                <a:lnTo>
                  <a:pt x="3095" y="1513"/>
                </a:lnTo>
                <a:lnTo>
                  <a:pt x="3135" y="1513"/>
                </a:lnTo>
                <a:lnTo>
                  <a:pt x="3175" y="1526"/>
                </a:lnTo>
                <a:lnTo>
                  <a:pt x="3214" y="1539"/>
                </a:lnTo>
                <a:lnTo>
                  <a:pt x="3254" y="1553"/>
                </a:lnTo>
                <a:lnTo>
                  <a:pt x="3280" y="1592"/>
                </a:lnTo>
                <a:lnTo>
                  <a:pt x="3294" y="1632"/>
                </a:lnTo>
                <a:lnTo>
                  <a:pt x="3320" y="1672"/>
                </a:lnTo>
                <a:lnTo>
                  <a:pt x="3333" y="1711"/>
                </a:lnTo>
                <a:lnTo>
                  <a:pt x="3373" y="1751"/>
                </a:lnTo>
                <a:lnTo>
                  <a:pt x="3386" y="1791"/>
                </a:lnTo>
                <a:lnTo>
                  <a:pt x="3399" y="1831"/>
                </a:lnTo>
                <a:lnTo>
                  <a:pt x="3426" y="1870"/>
                </a:lnTo>
                <a:lnTo>
                  <a:pt x="3466" y="1897"/>
                </a:lnTo>
                <a:lnTo>
                  <a:pt x="3505" y="1936"/>
                </a:lnTo>
                <a:lnTo>
                  <a:pt x="3546" y="1950"/>
                </a:lnTo>
                <a:lnTo>
                  <a:pt x="3586" y="1950"/>
                </a:lnTo>
                <a:lnTo>
                  <a:pt x="3625" y="1923"/>
                </a:lnTo>
                <a:lnTo>
                  <a:pt x="3639" y="1883"/>
                </a:lnTo>
                <a:lnTo>
                  <a:pt x="3665" y="1844"/>
                </a:lnTo>
                <a:lnTo>
                  <a:pt x="3691" y="1804"/>
                </a:lnTo>
                <a:lnTo>
                  <a:pt x="3718" y="1764"/>
                </a:lnTo>
                <a:lnTo>
                  <a:pt x="3758" y="1738"/>
                </a:lnTo>
                <a:lnTo>
                  <a:pt x="3797" y="1698"/>
                </a:lnTo>
                <a:lnTo>
                  <a:pt x="3824" y="1659"/>
                </a:lnTo>
                <a:lnTo>
                  <a:pt x="3824" y="1619"/>
                </a:lnTo>
                <a:lnTo>
                  <a:pt x="3850" y="1579"/>
                </a:lnTo>
                <a:lnTo>
                  <a:pt x="3877" y="1539"/>
                </a:lnTo>
                <a:lnTo>
                  <a:pt x="3903" y="1500"/>
                </a:lnTo>
                <a:lnTo>
                  <a:pt x="3930" y="1460"/>
                </a:lnTo>
                <a:lnTo>
                  <a:pt x="3956" y="1420"/>
                </a:lnTo>
                <a:lnTo>
                  <a:pt x="3996" y="1368"/>
                </a:lnTo>
                <a:lnTo>
                  <a:pt x="4022" y="1328"/>
                </a:lnTo>
                <a:lnTo>
                  <a:pt x="4062" y="1288"/>
                </a:lnTo>
                <a:lnTo>
                  <a:pt x="4088" y="1248"/>
                </a:lnTo>
                <a:lnTo>
                  <a:pt x="4128" y="1222"/>
                </a:lnTo>
                <a:lnTo>
                  <a:pt x="4168" y="1182"/>
                </a:lnTo>
                <a:lnTo>
                  <a:pt x="4194" y="1143"/>
                </a:lnTo>
                <a:lnTo>
                  <a:pt x="4234" y="1116"/>
                </a:lnTo>
                <a:lnTo>
                  <a:pt x="4274" y="1076"/>
                </a:lnTo>
                <a:lnTo>
                  <a:pt x="4313" y="1050"/>
                </a:lnTo>
                <a:lnTo>
                  <a:pt x="4353" y="1024"/>
                </a:lnTo>
                <a:lnTo>
                  <a:pt x="4393" y="1010"/>
                </a:lnTo>
                <a:lnTo>
                  <a:pt x="4432" y="984"/>
                </a:lnTo>
                <a:lnTo>
                  <a:pt x="4472" y="970"/>
                </a:lnTo>
                <a:lnTo>
                  <a:pt x="4512" y="943"/>
                </a:lnTo>
                <a:lnTo>
                  <a:pt x="4551" y="943"/>
                </a:lnTo>
                <a:lnTo>
                  <a:pt x="4591" y="943"/>
                </a:lnTo>
                <a:lnTo>
                  <a:pt x="4631" y="943"/>
                </a:lnTo>
                <a:lnTo>
                  <a:pt x="4670" y="943"/>
                </a:lnTo>
                <a:lnTo>
                  <a:pt x="4710" y="930"/>
                </a:lnTo>
                <a:lnTo>
                  <a:pt x="4750" y="917"/>
                </a:lnTo>
                <a:lnTo>
                  <a:pt x="4803" y="903"/>
                </a:lnTo>
                <a:lnTo>
                  <a:pt x="4842" y="890"/>
                </a:lnTo>
                <a:lnTo>
                  <a:pt x="4882" y="877"/>
                </a:lnTo>
                <a:lnTo>
                  <a:pt x="4922" y="877"/>
                </a:lnTo>
                <a:lnTo>
                  <a:pt x="4961" y="864"/>
                </a:lnTo>
                <a:lnTo>
                  <a:pt x="5001" y="851"/>
                </a:lnTo>
                <a:lnTo>
                  <a:pt x="5041" y="837"/>
                </a:lnTo>
                <a:lnTo>
                  <a:pt x="5081" y="837"/>
                </a:lnTo>
                <a:lnTo>
                  <a:pt x="5147" y="837"/>
                </a:lnTo>
                <a:lnTo>
                  <a:pt x="5186" y="837"/>
                </a:lnTo>
                <a:lnTo>
                  <a:pt x="5226" y="824"/>
                </a:lnTo>
                <a:lnTo>
                  <a:pt x="5279" y="811"/>
                </a:lnTo>
                <a:lnTo>
                  <a:pt x="5319" y="811"/>
                </a:lnTo>
                <a:lnTo>
                  <a:pt x="5385" y="798"/>
                </a:lnTo>
                <a:lnTo>
                  <a:pt x="5424" y="784"/>
                </a:lnTo>
                <a:lnTo>
                  <a:pt x="5477" y="771"/>
                </a:lnTo>
                <a:lnTo>
                  <a:pt x="5530" y="771"/>
                </a:lnTo>
                <a:lnTo>
                  <a:pt x="5570" y="758"/>
                </a:lnTo>
                <a:lnTo>
                  <a:pt x="5610" y="758"/>
                </a:lnTo>
                <a:lnTo>
                  <a:pt x="5649" y="758"/>
                </a:lnTo>
                <a:lnTo>
                  <a:pt x="5689" y="745"/>
                </a:lnTo>
                <a:lnTo>
                  <a:pt x="5729" y="718"/>
                </a:lnTo>
                <a:lnTo>
                  <a:pt x="5755" y="679"/>
                </a:lnTo>
                <a:lnTo>
                  <a:pt x="5795" y="679"/>
                </a:lnTo>
                <a:lnTo>
                  <a:pt x="5848" y="679"/>
                </a:lnTo>
                <a:lnTo>
                  <a:pt x="5887" y="679"/>
                </a:lnTo>
                <a:lnTo>
                  <a:pt x="5940" y="665"/>
                </a:lnTo>
                <a:lnTo>
                  <a:pt x="5993" y="652"/>
                </a:lnTo>
                <a:lnTo>
                  <a:pt x="6046" y="639"/>
                </a:lnTo>
                <a:lnTo>
                  <a:pt x="6086" y="626"/>
                </a:lnTo>
                <a:lnTo>
                  <a:pt x="6152" y="599"/>
                </a:lnTo>
                <a:lnTo>
                  <a:pt x="6192" y="586"/>
                </a:lnTo>
                <a:lnTo>
                  <a:pt x="6231" y="573"/>
                </a:lnTo>
                <a:lnTo>
                  <a:pt x="6271" y="546"/>
                </a:lnTo>
                <a:lnTo>
                  <a:pt x="6311" y="533"/>
                </a:lnTo>
                <a:lnTo>
                  <a:pt x="6351" y="533"/>
                </a:lnTo>
                <a:lnTo>
                  <a:pt x="6390" y="533"/>
                </a:lnTo>
                <a:lnTo>
                  <a:pt x="6443" y="533"/>
                </a:lnTo>
                <a:lnTo>
                  <a:pt x="6496" y="533"/>
                </a:lnTo>
                <a:lnTo>
                  <a:pt x="6536" y="533"/>
                </a:lnTo>
                <a:lnTo>
                  <a:pt x="6575" y="533"/>
                </a:lnTo>
                <a:lnTo>
                  <a:pt x="6734" y="507"/>
                </a:lnTo>
                <a:lnTo>
                  <a:pt x="6774" y="507"/>
                </a:lnTo>
                <a:lnTo>
                  <a:pt x="6827" y="480"/>
                </a:lnTo>
                <a:lnTo>
                  <a:pt x="6906" y="454"/>
                </a:lnTo>
                <a:lnTo>
                  <a:pt x="6946" y="454"/>
                </a:lnTo>
                <a:lnTo>
                  <a:pt x="6986" y="440"/>
                </a:lnTo>
                <a:lnTo>
                  <a:pt x="6999" y="436"/>
                </a:lnTo>
                <a:lnTo>
                  <a:pt x="6986" y="427"/>
                </a:lnTo>
                <a:lnTo>
                  <a:pt x="7012" y="427"/>
                </a:lnTo>
                <a:lnTo>
                  <a:pt x="7012" y="1950"/>
                </a:lnTo>
                <a:lnTo>
                  <a:pt x="0" y="1950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 txBox="1"/>
          <p:nvPr/>
        </p:nvSpPr>
        <p:spPr>
          <a:xfrm>
            <a:off x="3813120" y="5381640"/>
            <a:ext cx="1027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B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4" name=""/>
          <p:cNvSpPr/>
          <p:nvPr/>
        </p:nvSpPr>
        <p:spPr>
          <a:xfrm>
            <a:off x="3071880" y="77760"/>
            <a:ext cx="2514600" cy="3200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>
            <a:off x="3075120" y="82440"/>
            <a:ext cx="390960" cy="340200"/>
          </a:xfrm>
          <a:custGeom>
            <a:avLst/>
            <a:gdLst/>
            <a:ahLst/>
            <a:rect l="0" t="0" r="r" b="b"/>
            <a:pathLst>
              <a:path fill="none" w="1086" h="945">
                <a:moveTo>
                  <a:pt x="1086" y="0"/>
                </a:moveTo>
                <a:lnTo>
                  <a:pt x="1086" y="70"/>
                </a:lnTo>
                <a:lnTo>
                  <a:pt x="1064" y="140"/>
                </a:lnTo>
                <a:lnTo>
                  <a:pt x="1018" y="233"/>
                </a:lnTo>
                <a:lnTo>
                  <a:pt x="971" y="348"/>
                </a:lnTo>
                <a:lnTo>
                  <a:pt x="947" y="440"/>
                </a:lnTo>
                <a:lnTo>
                  <a:pt x="876" y="489"/>
                </a:lnTo>
                <a:lnTo>
                  <a:pt x="783" y="489"/>
                </a:lnTo>
                <a:lnTo>
                  <a:pt x="690" y="557"/>
                </a:lnTo>
                <a:lnTo>
                  <a:pt x="597" y="581"/>
                </a:lnTo>
                <a:lnTo>
                  <a:pt x="504" y="649"/>
                </a:lnTo>
                <a:lnTo>
                  <a:pt x="458" y="721"/>
                </a:lnTo>
                <a:lnTo>
                  <a:pt x="387" y="743"/>
                </a:lnTo>
                <a:lnTo>
                  <a:pt x="294" y="767"/>
                </a:lnTo>
                <a:lnTo>
                  <a:pt x="201" y="835"/>
                </a:lnTo>
                <a:lnTo>
                  <a:pt x="132" y="906"/>
                </a:lnTo>
                <a:lnTo>
                  <a:pt x="61" y="930"/>
                </a:lnTo>
                <a:lnTo>
                  <a:pt x="0" y="9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"/>
          <p:cNvSpPr/>
          <p:nvPr/>
        </p:nvSpPr>
        <p:spPr>
          <a:xfrm>
            <a:off x="3071880" y="82440"/>
            <a:ext cx="568800" cy="2595960"/>
          </a:xfrm>
          <a:custGeom>
            <a:avLst/>
            <a:gdLst/>
            <a:ahLst/>
            <a:rect l="0" t="0" r="r" b="b"/>
            <a:pathLst>
              <a:path fill="none" w="1580" h="7211">
                <a:moveTo>
                  <a:pt x="1571" y="0"/>
                </a:moveTo>
                <a:lnTo>
                  <a:pt x="1580" y="46"/>
                </a:lnTo>
                <a:lnTo>
                  <a:pt x="1558" y="138"/>
                </a:lnTo>
                <a:lnTo>
                  <a:pt x="1558" y="231"/>
                </a:lnTo>
                <a:lnTo>
                  <a:pt x="1558" y="324"/>
                </a:lnTo>
                <a:lnTo>
                  <a:pt x="1488" y="416"/>
                </a:lnTo>
                <a:lnTo>
                  <a:pt x="1441" y="487"/>
                </a:lnTo>
                <a:lnTo>
                  <a:pt x="1371" y="555"/>
                </a:lnTo>
                <a:lnTo>
                  <a:pt x="1278" y="648"/>
                </a:lnTo>
                <a:lnTo>
                  <a:pt x="1256" y="718"/>
                </a:lnTo>
                <a:lnTo>
                  <a:pt x="1210" y="811"/>
                </a:lnTo>
                <a:lnTo>
                  <a:pt x="1162" y="903"/>
                </a:lnTo>
                <a:lnTo>
                  <a:pt x="1116" y="996"/>
                </a:lnTo>
                <a:lnTo>
                  <a:pt x="1070" y="1067"/>
                </a:lnTo>
                <a:lnTo>
                  <a:pt x="999" y="1135"/>
                </a:lnTo>
                <a:lnTo>
                  <a:pt x="977" y="1206"/>
                </a:lnTo>
                <a:lnTo>
                  <a:pt x="907" y="1252"/>
                </a:lnTo>
                <a:lnTo>
                  <a:pt x="860" y="1344"/>
                </a:lnTo>
                <a:lnTo>
                  <a:pt x="790" y="1415"/>
                </a:lnTo>
                <a:lnTo>
                  <a:pt x="697" y="1483"/>
                </a:lnTo>
                <a:lnTo>
                  <a:pt x="651" y="1554"/>
                </a:lnTo>
                <a:lnTo>
                  <a:pt x="605" y="1647"/>
                </a:lnTo>
                <a:lnTo>
                  <a:pt x="536" y="1739"/>
                </a:lnTo>
                <a:lnTo>
                  <a:pt x="488" y="1811"/>
                </a:lnTo>
                <a:lnTo>
                  <a:pt x="394" y="1879"/>
                </a:lnTo>
                <a:lnTo>
                  <a:pt x="326" y="1950"/>
                </a:lnTo>
                <a:lnTo>
                  <a:pt x="255" y="1972"/>
                </a:lnTo>
                <a:lnTo>
                  <a:pt x="187" y="2042"/>
                </a:lnTo>
                <a:lnTo>
                  <a:pt x="116" y="2089"/>
                </a:lnTo>
                <a:lnTo>
                  <a:pt x="70" y="2181"/>
                </a:lnTo>
                <a:lnTo>
                  <a:pt x="24" y="2252"/>
                </a:lnTo>
                <a:lnTo>
                  <a:pt x="0" y="2344"/>
                </a:lnTo>
                <a:lnTo>
                  <a:pt x="46" y="2437"/>
                </a:lnTo>
                <a:lnTo>
                  <a:pt x="94" y="2529"/>
                </a:lnTo>
                <a:lnTo>
                  <a:pt x="116" y="2644"/>
                </a:lnTo>
                <a:lnTo>
                  <a:pt x="141" y="2715"/>
                </a:lnTo>
                <a:lnTo>
                  <a:pt x="163" y="2807"/>
                </a:lnTo>
                <a:lnTo>
                  <a:pt x="209" y="2878"/>
                </a:lnTo>
                <a:lnTo>
                  <a:pt x="255" y="2992"/>
                </a:lnTo>
                <a:lnTo>
                  <a:pt x="326" y="3063"/>
                </a:lnTo>
                <a:lnTo>
                  <a:pt x="372" y="3134"/>
                </a:lnTo>
                <a:lnTo>
                  <a:pt x="419" y="3226"/>
                </a:lnTo>
                <a:lnTo>
                  <a:pt x="466" y="3319"/>
                </a:lnTo>
                <a:lnTo>
                  <a:pt x="536" y="3411"/>
                </a:lnTo>
                <a:lnTo>
                  <a:pt x="583" y="3504"/>
                </a:lnTo>
                <a:lnTo>
                  <a:pt x="605" y="3575"/>
                </a:lnTo>
                <a:lnTo>
                  <a:pt x="651" y="3667"/>
                </a:lnTo>
                <a:lnTo>
                  <a:pt x="651" y="3760"/>
                </a:lnTo>
                <a:lnTo>
                  <a:pt x="651" y="3852"/>
                </a:lnTo>
                <a:lnTo>
                  <a:pt x="651" y="3967"/>
                </a:lnTo>
                <a:lnTo>
                  <a:pt x="675" y="4062"/>
                </a:lnTo>
                <a:lnTo>
                  <a:pt x="697" y="4154"/>
                </a:lnTo>
                <a:lnTo>
                  <a:pt x="768" y="4247"/>
                </a:lnTo>
                <a:lnTo>
                  <a:pt x="836" y="4362"/>
                </a:lnTo>
                <a:lnTo>
                  <a:pt x="882" y="4432"/>
                </a:lnTo>
                <a:lnTo>
                  <a:pt x="907" y="4503"/>
                </a:lnTo>
                <a:lnTo>
                  <a:pt x="977" y="4617"/>
                </a:lnTo>
                <a:lnTo>
                  <a:pt x="1024" y="4688"/>
                </a:lnTo>
                <a:lnTo>
                  <a:pt x="1116" y="4781"/>
                </a:lnTo>
                <a:lnTo>
                  <a:pt x="1162" y="4873"/>
                </a:lnTo>
                <a:lnTo>
                  <a:pt x="1210" y="4944"/>
                </a:lnTo>
                <a:lnTo>
                  <a:pt x="1232" y="5036"/>
                </a:lnTo>
                <a:lnTo>
                  <a:pt x="1278" y="5129"/>
                </a:lnTo>
                <a:lnTo>
                  <a:pt x="1302" y="5222"/>
                </a:lnTo>
                <a:lnTo>
                  <a:pt x="1302" y="5314"/>
                </a:lnTo>
                <a:lnTo>
                  <a:pt x="1302" y="5385"/>
                </a:lnTo>
                <a:lnTo>
                  <a:pt x="1324" y="5547"/>
                </a:lnTo>
                <a:lnTo>
                  <a:pt x="1349" y="5617"/>
                </a:lnTo>
                <a:lnTo>
                  <a:pt x="1349" y="5732"/>
                </a:lnTo>
                <a:lnTo>
                  <a:pt x="1324" y="5849"/>
                </a:lnTo>
                <a:lnTo>
                  <a:pt x="1324" y="5919"/>
                </a:lnTo>
                <a:lnTo>
                  <a:pt x="1302" y="6012"/>
                </a:lnTo>
                <a:lnTo>
                  <a:pt x="1232" y="6080"/>
                </a:lnTo>
                <a:lnTo>
                  <a:pt x="1210" y="6151"/>
                </a:lnTo>
                <a:lnTo>
                  <a:pt x="1138" y="6221"/>
                </a:lnTo>
                <a:lnTo>
                  <a:pt x="1070" y="6314"/>
                </a:lnTo>
                <a:lnTo>
                  <a:pt x="999" y="6382"/>
                </a:lnTo>
                <a:lnTo>
                  <a:pt x="953" y="6453"/>
                </a:lnTo>
                <a:lnTo>
                  <a:pt x="882" y="6568"/>
                </a:lnTo>
                <a:lnTo>
                  <a:pt x="836" y="6638"/>
                </a:lnTo>
                <a:lnTo>
                  <a:pt x="814" y="6709"/>
                </a:lnTo>
                <a:lnTo>
                  <a:pt x="814" y="6801"/>
                </a:lnTo>
                <a:lnTo>
                  <a:pt x="790" y="6894"/>
                </a:lnTo>
                <a:lnTo>
                  <a:pt x="697" y="6940"/>
                </a:lnTo>
                <a:lnTo>
                  <a:pt x="605" y="7009"/>
                </a:lnTo>
                <a:lnTo>
                  <a:pt x="536" y="7079"/>
                </a:lnTo>
                <a:lnTo>
                  <a:pt x="466" y="7079"/>
                </a:lnTo>
                <a:lnTo>
                  <a:pt x="372" y="7079"/>
                </a:lnTo>
                <a:lnTo>
                  <a:pt x="302" y="7079"/>
                </a:lnTo>
                <a:lnTo>
                  <a:pt x="209" y="7125"/>
                </a:lnTo>
                <a:lnTo>
                  <a:pt x="141" y="7196"/>
                </a:lnTo>
                <a:lnTo>
                  <a:pt x="6" y="721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"/>
          <p:cNvSpPr/>
          <p:nvPr/>
        </p:nvSpPr>
        <p:spPr>
          <a:xfrm>
            <a:off x="3081240" y="82440"/>
            <a:ext cx="776520" cy="2916720"/>
          </a:xfrm>
          <a:custGeom>
            <a:avLst/>
            <a:gdLst/>
            <a:ahLst/>
            <a:rect l="0" t="0" r="r" b="b"/>
            <a:pathLst>
              <a:path fill="none" w="2157" h="8102">
                <a:moveTo>
                  <a:pt x="2157" y="0"/>
                </a:moveTo>
                <a:lnTo>
                  <a:pt x="2157" y="94"/>
                </a:lnTo>
                <a:lnTo>
                  <a:pt x="2157" y="187"/>
                </a:lnTo>
                <a:lnTo>
                  <a:pt x="2157" y="302"/>
                </a:lnTo>
                <a:lnTo>
                  <a:pt x="2133" y="372"/>
                </a:lnTo>
                <a:lnTo>
                  <a:pt x="2086" y="465"/>
                </a:lnTo>
                <a:lnTo>
                  <a:pt x="2040" y="535"/>
                </a:lnTo>
                <a:lnTo>
                  <a:pt x="1972" y="628"/>
                </a:lnTo>
                <a:lnTo>
                  <a:pt x="1926" y="720"/>
                </a:lnTo>
                <a:lnTo>
                  <a:pt x="1879" y="813"/>
                </a:lnTo>
                <a:lnTo>
                  <a:pt x="1809" y="906"/>
                </a:lnTo>
                <a:lnTo>
                  <a:pt x="1785" y="976"/>
                </a:lnTo>
                <a:lnTo>
                  <a:pt x="1716" y="1069"/>
                </a:lnTo>
                <a:lnTo>
                  <a:pt x="1646" y="1137"/>
                </a:lnTo>
                <a:lnTo>
                  <a:pt x="1600" y="1208"/>
                </a:lnTo>
                <a:lnTo>
                  <a:pt x="1507" y="1300"/>
                </a:lnTo>
                <a:lnTo>
                  <a:pt x="1461" y="1371"/>
                </a:lnTo>
                <a:lnTo>
                  <a:pt x="1415" y="1464"/>
                </a:lnTo>
                <a:lnTo>
                  <a:pt x="1368" y="1556"/>
                </a:lnTo>
                <a:lnTo>
                  <a:pt x="1344" y="1649"/>
                </a:lnTo>
                <a:lnTo>
                  <a:pt x="1276" y="1741"/>
                </a:lnTo>
                <a:lnTo>
                  <a:pt x="1252" y="1812"/>
                </a:lnTo>
                <a:lnTo>
                  <a:pt x="1183" y="1905"/>
                </a:lnTo>
                <a:lnTo>
                  <a:pt x="1137" y="1997"/>
                </a:lnTo>
                <a:lnTo>
                  <a:pt x="1091" y="2113"/>
                </a:lnTo>
                <a:lnTo>
                  <a:pt x="1091" y="2183"/>
                </a:lnTo>
                <a:lnTo>
                  <a:pt x="1091" y="2254"/>
                </a:lnTo>
                <a:lnTo>
                  <a:pt x="1091" y="2346"/>
                </a:lnTo>
                <a:lnTo>
                  <a:pt x="1044" y="2439"/>
                </a:lnTo>
                <a:lnTo>
                  <a:pt x="1019" y="2554"/>
                </a:lnTo>
                <a:lnTo>
                  <a:pt x="1066" y="2646"/>
                </a:lnTo>
                <a:lnTo>
                  <a:pt x="1113" y="2741"/>
                </a:lnTo>
                <a:lnTo>
                  <a:pt x="1159" y="2834"/>
                </a:lnTo>
                <a:lnTo>
                  <a:pt x="1183" y="2926"/>
                </a:lnTo>
                <a:lnTo>
                  <a:pt x="1252" y="3019"/>
                </a:lnTo>
                <a:lnTo>
                  <a:pt x="1298" y="3136"/>
                </a:lnTo>
                <a:lnTo>
                  <a:pt x="1368" y="3228"/>
                </a:lnTo>
                <a:lnTo>
                  <a:pt x="1439" y="3297"/>
                </a:lnTo>
                <a:lnTo>
                  <a:pt x="1485" y="3389"/>
                </a:lnTo>
                <a:lnTo>
                  <a:pt x="1531" y="3460"/>
                </a:lnTo>
                <a:lnTo>
                  <a:pt x="1578" y="3577"/>
                </a:lnTo>
                <a:lnTo>
                  <a:pt x="1646" y="3716"/>
                </a:lnTo>
                <a:lnTo>
                  <a:pt x="1716" y="3808"/>
                </a:lnTo>
                <a:lnTo>
                  <a:pt x="1738" y="3901"/>
                </a:lnTo>
                <a:lnTo>
                  <a:pt x="1763" y="3994"/>
                </a:lnTo>
                <a:lnTo>
                  <a:pt x="1763" y="4064"/>
                </a:lnTo>
                <a:lnTo>
                  <a:pt x="1785" y="4157"/>
                </a:lnTo>
                <a:lnTo>
                  <a:pt x="1833" y="4249"/>
                </a:lnTo>
                <a:lnTo>
                  <a:pt x="1926" y="4364"/>
                </a:lnTo>
                <a:lnTo>
                  <a:pt x="1926" y="4434"/>
                </a:lnTo>
                <a:lnTo>
                  <a:pt x="1948" y="4505"/>
                </a:lnTo>
                <a:lnTo>
                  <a:pt x="1972" y="4598"/>
                </a:lnTo>
                <a:lnTo>
                  <a:pt x="1972" y="4690"/>
                </a:lnTo>
                <a:lnTo>
                  <a:pt x="1948" y="4783"/>
                </a:lnTo>
                <a:lnTo>
                  <a:pt x="1926" y="4875"/>
                </a:lnTo>
                <a:lnTo>
                  <a:pt x="1926" y="4946"/>
                </a:lnTo>
                <a:lnTo>
                  <a:pt x="1901" y="5039"/>
                </a:lnTo>
                <a:lnTo>
                  <a:pt x="1879" y="5153"/>
                </a:lnTo>
                <a:lnTo>
                  <a:pt x="1901" y="5246"/>
                </a:lnTo>
                <a:lnTo>
                  <a:pt x="1901" y="5316"/>
                </a:lnTo>
                <a:lnTo>
                  <a:pt x="1901" y="5387"/>
                </a:lnTo>
                <a:lnTo>
                  <a:pt x="1901" y="5480"/>
                </a:lnTo>
                <a:lnTo>
                  <a:pt x="1879" y="5572"/>
                </a:lnTo>
                <a:lnTo>
                  <a:pt x="1855" y="5665"/>
                </a:lnTo>
                <a:lnTo>
                  <a:pt x="1833" y="5757"/>
                </a:lnTo>
                <a:lnTo>
                  <a:pt x="1809" y="5850"/>
                </a:lnTo>
                <a:lnTo>
                  <a:pt x="1785" y="5943"/>
                </a:lnTo>
                <a:lnTo>
                  <a:pt x="1763" y="6013"/>
                </a:lnTo>
                <a:lnTo>
                  <a:pt x="1738" y="6107"/>
                </a:lnTo>
                <a:lnTo>
                  <a:pt x="1716" y="6199"/>
                </a:lnTo>
                <a:lnTo>
                  <a:pt x="1692" y="6292"/>
                </a:lnTo>
                <a:lnTo>
                  <a:pt x="1692" y="6363"/>
                </a:lnTo>
                <a:lnTo>
                  <a:pt x="1624" y="6523"/>
                </a:lnTo>
                <a:lnTo>
                  <a:pt x="1600" y="6594"/>
                </a:lnTo>
                <a:lnTo>
                  <a:pt x="1553" y="6711"/>
                </a:lnTo>
                <a:lnTo>
                  <a:pt x="1507" y="6803"/>
                </a:lnTo>
                <a:lnTo>
                  <a:pt x="1461" y="6918"/>
                </a:lnTo>
                <a:lnTo>
                  <a:pt x="1393" y="7035"/>
                </a:lnTo>
                <a:lnTo>
                  <a:pt x="1322" y="7267"/>
                </a:lnTo>
                <a:lnTo>
                  <a:pt x="1298" y="7337"/>
                </a:lnTo>
                <a:lnTo>
                  <a:pt x="1183" y="7405"/>
                </a:lnTo>
                <a:lnTo>
                  <a:pt x="1113" y="7452"/>
                </a:lnTo>
                <a:lnTo>
                  <a:pt x="1019" y="7522"/>
                </a:lnTo>
                <a:lnTo>
                  <a:pt x="788" y="7593"/>
                </a:lnTo>
                <a:lnTo>
                  <a:pt x="696" y="7639"/>
                </a:lnTo>
                <a:lnTo>
                  <a:pt x="603" y="7661"/>
                </a:lnTo>
                <a:lnTo>
                  <a:pt x="462" y="7707"/>
                </a:lnTo>
                <a:lnTo>
                  <a:pt x="370" y="7754"/>
                </a:lnTo>
                <a:lnTo>
                  <a:pt x="277" y="7824"/>
                </a:lnTo>
                <a:lnTo>
                  <a:pt x="209" y="7917"/>
                </a:lnTo>
                <a:lnTo>
                  <a:pt x="138" y="7963"/>
                </a:lnTo>
                <a:lnTo>
                  <a:pt x="46" y="8010"/>
                </a:lnTo>
                <a:lnTo>
                  <a:pt x="0" y="81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"/>
          <p:cNvSpPr/>
          <p:nvPr/>
        </p:nvSpPr>
        <p:spPr>
          <a:xfrm>
            <a:off x="3075120" y="358920"/>
            <a:ext cx="1010160" cy="2832480"/>
          </a:xfrm>
          <a:custGeom>
            <a:avLst/>
            <a:gdLst/>
            <a:ahLst/>
            <a:rect l="0" t="0" r="r" b="b"/>
            <a:pathLst>
              <a:path fill="none" w="2806" h="7868">
                <a:moveTo>
                  <a:pt x="2806" y="0"/>
                </a:moveTo>
                <a:lnTo>
                  <a:pt x="2729" y="141"/>
                </a:lnTo>
                <a:lnTo>
                  <a:pt x="2689" y="185"/>
                </a:lnTo>
                <a:lnTo>
                  <a:pt x="2663" y="218"/>
                </a:lnTo>
                <a:lnTo>
                  <a:pt x="2647" y="271"/>
                </a:lnTo>
                <a:lnTo>
                  <a:pt x="2636" y="313"/>
                </a:lnTo>
                <a:lnTo>
                  <a:pt x="2614" y="352"/>
                </a:lnTo>
                <a:lnTo>
                  <a:pt x="2601" y="399"/>
                </a:lnTo>
                <a:lnTo>
                  <a:pt x="2581" y="432"/>
                </a:lnTo>
                <a:lnTo>
                  <a:pt x="2555" y="463"/>
                </a:lnTo>
                <a:lnTo>
                  <a:pt x="2495" y="515"/>
                </a:lnTo>
                <a:lnTo>
                  <a:pt x="2431" y="582"/>
                </a:lnTo>
                <a:lnTo>
                  <a:pt x="2398" y="637"/>
                </a:lnTo>
                <a:lnTo>
                  <a:pt x="2389" y="674"/>
                </a:lnTo>
                <a:lnTo>
                  <a:pt x="2363" y="754"/>
                </a:lnTo>
                <a:lnTo>
                  <a:pt x="2296" y="820"/>
                </a:lnTo>
                <a:lnTo>
                  <a:pt x="2230" y="926"/>
                </a:lnTo>
                <a:lnTo>
                  <a:pt x="2204" y="952"/>
                </a:lnTo>
                <a:lnTo>
                  <a:pt x="2177" y="1031"/>
                </a:lnTo>
                <a:lnTo>
                  <a:pt x="2151" y="1084"/>
                </a:lnTo>
                <a:lnTo>
                  <a:pt x="2097" y="1150"/>
                </a:lnTo>
                <a:lnTo>
                  <a:pt x="2097" y="1243"/>
                </a:lnTo>
                <a:lnTo>
                  <a:pt x="2057" y="1389"/>
                </a:lnTo>
                <a:lnTo>
                  <a:pt x="2057" y="1375"/>
                </a:lnTo>
                <a:lnTo>
                  <a:pt x="2031" y="1481"/>
                </a:lnTo>
                <a:lnTo>
                  <a:pt x="1991" y="1413"/>
                </a:lnTo>
                <a:lnTo>
                  <a:pt x="2057" y="1666"/>
                </a:lnTo>
                <a:lnTo>
                  <a:pt x="2111" y="1746"/>
                </a:lnTo>
                <a:lnTo>
                  <a:pt x="2070" y="1799"/>
                </a:lnTo>
                <a:lnTo>
                  <a:pt x="2111" y="1905"/>
                </a:lnTo>
                <a:lnTo>
                  <a:pt x="2124" y="1985"/>
                </a:lnTo>
                <a:lnTo>
                  <a:pt x="2164" y="2051"/>
                </a:lnTo>
                <a:lnTo>
                  <a:pt x="2217" y="2130"/>
                </a:lnTo>
                <a:lnTo>
                  <a:pt x="2257" y="2197"/>
                </a:lnTo>
                <a:lnTo>
                  <a:pt x="2296" y="2276"/>
                </a:lnTo>
                <a:lnTo>
                  <a:pt x="2310" y="2342"/>
                </a:lnTo>
                <a:lnTo>
                  <a:pt x="2323" y="2382"/>
                </a:lnTo>
                <a:lnTo>
                  <a:pt x="2310" y="2448"/>
                </a:lnTo>
                <a:lnTo>
                  <a:pt x="2296" y="2554"/>
                </a:lnTo>
                <a:lnTo>
                  <a:pt x="2283" y="2673"/>
                </a:lnTo>
                <a:lnTo>
                  <a:pt x="2243" y="2752"/>
                </a:lnTo>
                <a:lnTo>
                  <a:pt x="2177" y="2829"/>
                </a:lnTo>
                <a:lnTo>
                  <a:pt x="2177" y="2900"/>
                </a:lnTo>
                <a:lnTo>
                  <a:pt x="2199" y="2992"/>
                </a:lnTo>
                <a:lnTo>
                  <a:pt x="2224" y="3085"/>
                </a:lnTo>
                <a:lnTo>
                  <a:pt x="2224" y="3178"/>
                </a:lnTo>
                <a:lnTo>
                  <a:pt x="2224" y="3248"/>
                </a:lnTo>
                <a:lnTo>
                  <a:pt x="2224" y="3341"/>
                </a:lnTo>
                <a:lnTo>
                  <a:pt x="2246" y="3456"/>
                </a:lnTo>
                <a:lnTo>
                  <a:pt x="2270" y="3526"/>
                </a:lnTo>
                <a:lnTo>
                  <a:pt x="2316" y="3619"/>
                </a:lnTo>
                <a:lnTo>
                  <a:pt x="2340" y="3711"/>
                </a:lnTo>
                <a:lnTo>
                  <a:pt x="2363" y="3782"/>
                </a:lnTo>
                <a:lnTo>
                  <a:pt x="2387" y="3896"/>
                </a:lnTo>
                <a:lnTo>
                  <a:pt x="2409" y="3967"/>
                </a:lnTo>
                <a:lnTo>
                  <a:pt x="2409" y="4106"/>
                </a:lnTo>
                <a:lnTo>
                  <a:pt x="2409" y="4223"/>
                </a:lnTo>
                <a:lnTo>
                  <a:pt x="2409" y="4315"/>
                </a:lnTo>
                <a:lnTo>
                  <a:pt x="2409" y="4454"/>
                </a:lnTo>
                <a:lnTo>
                  <a:pt x="2433" y="4686"/>
                </a:lnTo>
                <a:lnTo>
                  <a:pt x="2433" y="4803"/>
                </a:lnTo>
                <a:lnTo>
                  <a:pt x="2433" y="5034"/>
                </a:lnTo>
                <a:lnTo>
                  <a:pt x="2409" y="5105"/>
                </a:lnTo>
                <a:lnTo>
                  <a:pt x="2363" y="5197"/>
                </a:lnTo>
                <a:lnTo>
                  <a:pt x="2270" y="5546"/>
                </a:lnTo>
                <a:lnTo>
                  <a:pt x="2199" y="5660"/>
                </a:lnTo>
                <a:lnTo>
                  <a:pt x="2177" y="5731"/>
                </a:lnTo>
                <a:lnTo>
                  <a:pt x="2131" y="6475"/>
                </a:lnTo>
                <a:lnTo>
                  <a:pt x="2084" y="6568"/>
                </a:lnTo>
                <a:lnTo>
                  <a:pt x="2013" y="6636"/>
                </a:lnTo>
                <a:lnTo>
                  <a:pt x="1945" y="6706"/>
                </a:lnTo>
                <a:lnTo>
                  <a:pt x="1898" y="6777"/>
                </a:lnTo>
                <a:lnTo>
                  <a:pt x="1828" y="6845"/>
                </a:lnTo>
                <a:lnTo>
                  <a:pt x="1757" y="6892"/>
                </a:lnTo>
                <a:lnTo>
                  <a:pt x="1642" y="7009"/>
                </a:lnTo>
                <a:lnTo>
                  <a:pt x="1572" y="7101"/>
                </a:lnTo>
                <a:lnTo>
                  <a:pt x="852" y="7425"/>
                </a:lnTo>
                <a:lnTo>
                  <a:pt x="782" y="7450"/>
                </a:lnTo>
                <a:lnTo>
                  <a:pt x="688" y="7450"/>
                </a:lnTo>
                <a:lnTo>
                  <a:pt x="573" y="7542"/>
                </a:lnTo>
                <a:lnTo>
                  <a:pt x="503" y="7610"/>
                </a:lnTo>
                <a:lnTo>
                  <a:pt x="432" y="7635"/>
                </a:lnTo>
                <a:lnTo>
                  <a:pt x="339" y="7659"/>
                </a:lnTo>
                <a:lnTo>
                  <a:pt x="247" y="7705"/>
                </a:lnTo>
                <a:lnTo>
                  <a:pt x="154" y="7727"/>
                </a:lnTo>
                <a:lnTo>
                  <a:pt x="132" y="7798"/>
                </a:lnTo>
                <a:lnTo>
                  <a:pt x="61" y="7844"/>
                </a:lnTo>
                <a:lnTo>
                  <a:pt x="0" y="786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"/>
          <p:cNvSpPr/>
          <p:nvPr/>
        </p:nvSpPr>
        <p:spPr>
          <a:xfrm>
            <a:off x="3076560" y="1733400"/>
            <a:ext cx="179640" cy="592560"/>
          </a:xfrm>
          <a:custGeom>
            <a:avLst/>
            <a:gdLst/>
            <a:ahLst/>
            <a:rect l="0" t="0" r="r" b="b"/>
            <a:pathLst>
              <a:path fill="none" w="499" h="1646">
                <a:moveTo>
                  <a:pt x="0" y="0"/>
                </a:moveTo>
                <a:lnTo>
                  <a:pt x="26" y="79"/>
                </a:lnTo>
                <a:lnTo>
                  <a:pt x="48" y="163"/>
                </a:lnTo>
                <a:lnTo>
                  <a:pt x="81" y="240"/>
                </a:lnTo>
                <a:lnTo>
                  <a:pt x="127" y="310"/>
                </a:lnTo>
                <a:lnTo>
                  <a:pt x="220" y="357"/>
                </a:lnTo>
                <a:lnTo>
                  <a:pt x="314" y="403"/>
                </a:lnTo>
                <a:lnTo>
                  <a:pt x="406" y="472"/>
                </a:lnTo>
                <a:lnTo>
                  <a:pt x="452" y="543"/>
                </a:lnTo>
                <a:lnTo>
                  <a:pt x="499" y="636"/>
                </a:lnTo>
                <a:lnTo>
                  <a:pt x="499" y="728"/>
                </a:lnTo>
                <a:lnTo>
                  <a:pt x="499" y="799"/>
                </a:lnTo>
                <a:lnTo>
                  <a:pt x="475" y="913"/>
                </a:lnTo>
                <a:lnTo>
                  <a:pt x="406" y="984"/>
                </a:lnTo>
                <a:lnTo>
                  <a:pt x="336" y="1052"/>
                </a:lnTo>
                <a:lnTo>
                  <a:pt x="314" y="1123"/>
                </a:lnTo>
                <a:lnTo>
                  <a:pt x="314" y="1193"/>
                </a:lnTo>
                <a:lnTo>
                  <a:pt x="267" y="1287"/>
                </a:lnTo>
                <a:lnTo>
                  <a:pt x="196" y="1333"/>
                </a:lnTo>
                <a:lnTo>
                  <a:pt x="127" y="1426"/>
                </a:lnTo>
                <a:lnTo>
                  <a:pt x="57" y="1494"/>
                </a:lnTo>
                <a:lnTo>
                  <a:pt x="0" y="164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"/>
          <p:cNvSpPr/>
          <p:nvPr/>
        </p:nvSpPr>
        <p:spPr>
          <a:xfrm>
            <a:off x="3456000" y="642960"/>
            <a:ext cx="878400" cy="2630880"/>
          </a:xfrm>
          <a:custGeom>
            <a:avLst/>
            <a:gdLst/>
            <a:ahLst/>
            <a:rect l="0" t="0" r="r" b="b"/>
            <a:pathLst>
              <a:path fill="none" w="2440" h="7308">
                <a:moveTo>
                  <a:pt x="1606" y="0"/>
                </a:moveTo>
                <a:lnTo>
                  <a:pt x="1625" y="244"/>
                </a:lnTo>
                <a:lnTo>
                  <a:pt x="1606" y="330"/>
                </a:lnTo>
                <a:lnTo>
                  <a:pt x="1612" y="383"/>
                </a:lnTo>
                <a:lnTo>
                  <a:pt x="1619" y="443"/>
                </a:lnTo>
                <a:lnTo>
                  <a:pt x="1639" y="482"/>
                </a:lnTo>
                <a:lnTo>
                  <a:pt x="1652" y="509"/>
                </a:lnTo>
                <a:lnTo>
                  <a:pt x="1652" y="555"/>
                </a:lnTo>
                <a:lnTo>
                  <a:pt x="1652" y="562"/>
                </a:lnTo>
                <a:lnTo>
                  <a:pt x="1645" y="568"/>
                </a:lnTo>
                <a:lnTo>
                  <a:pt x="1639" y="595"/>
                </a:lnTo>
                <a:lnTo>
                  <a:pt x="1619" y="634"/>
                </a:lnTo>
                <a:lnTo>
                  <a:pt x="1592" y="641"/>
                </a:lnTo>
                <a:lnTo>
                  <a:pt x="1606" y="694"/>
                </a:lnTo>
                <a:lnTo>
                  <a:pt x="1606" y="727"/>
                </a:lnTo>
                <a:lnTo>
                  <a:pt x="1592" y="753"/>
                </a:lnTo>
                <a:lnTo>
                  <a:pt x="1573" y="826"/>
                </a:lnTo>
                <a:lnTo>
                  <a:pt x="1553" y="872"/>
                </a:lnTo>
                <a:lnTo>
                  <a:pt x="1539" y="952"/>
                </a:lnTo>
                <a:lnTo>
                  <a:pt x="1539" y="1018"/>
                </a:lnTo>
                <a:lnTo>
                  <a:pt x="1533" y="1110"/>
                </a:lnTo>
                <a:lnTo>
                  <a:pt x="1522" y="1166"/>
                </a:lnTo>
                <a:lnTo>
                  <a:pt x="1588" y="1227"/>
                </a:lnTo>
                <a:lnTo>
                  <a:pt x="1619" y="1298"/>
                </a:lnTo>
                <a:lnTo>
                  <a:pt x="1654" y="1364"/>
                </a:lnTo>
                <a:lnTo>
                  <a:pt x="1667" y="1430"/>
                </a:lnTo>
                <a:lnTo>
                  <a:pt x="1767" y="1507"/>
                </a:lnTo>
                <a:lnTo>
                  <a:pt x="1767" y="1578"/>
                </a:lnTo>
                <a:lnTo>
                  <a:pt x="1813" y="1692"/>
                </a:lnTo>
                <a:lnTo>
                  <a:pt x="1836" y="1763"/>
                </a:lnTo>
                <a:lnTo>
                  <a:pt x="1907" y="1878"/>
                </a:lnTo>
                <a:lnTo>
                  <a:pt x="1953" y="1949"/>
                </a:lnTo>
                <a:lnTo>
                  <a:pt x="1999" y="2042"/>
                </a:lnTo>
                <a:lnTo>
                  <a:pt x="2021" y="2112"/>
                </a:lnTo>
                <a:lnTo>
                  <a:pt x="2067" y="2205"/>
                </a:lnTo>
                <a:lnTo>
                  <a:pt x="2092" y="2297"/>
                </a:lnTo>
                <a:lnTo>
                  <a:pt x="2138" y="2390"/>
                </a:lnTo>
                <a:lnTo>
                  <a:pt x="2162" y="2482"/>
                </a:lnTo>
                <a:lnTo>
                  <a:pt x="2184" y="2553"/>
                </a:lnTo>
                <a:lnTo>
                  <a:pt x="2209" y="2646"/>
                </a:lnTo>
                <a:lnTo>
                  <a:pt x="2255" y="2784"/>
                </a:lnTo>
                <a:lnTo>
                  <a:pt x="2277" y="2901"/>
                </a:lnTo>
                <a:lnTo>
                  <a:pt x="2277" y="2994"/>
                </a:lnTo>
                <a:lnTo>
                  <a:pt x="2323" y="3086"/>
                </a:lnTo>
                <a:lnTo>
                  <a:pt x="2323" y="3201"/>
                </a:lnTo>
                <a:lnTo>
                  <a:pt x="2323" y="3272"/>
                </a:lnTo>
                <a:lnTo>
                  <a:pt x="2323" y="3364"/>
                </a:lnTo>
                <a:lnTo>
                  <a:pt x="2323" y="3457"/>
                </a:lnTo>
                <a:lnTo>
                  <a:pt x="2323" y="3527"/>
                </a:lnTo>
                <a:lnTo>
                  <a:pt x="2323" y="3688"/>
                </a:lnTo>
                <a:lnTo>
                  <a:pt x="2323" y="3759"/>
                </a:lnTo>
                <a:lnTo>
                  <a:pt x="2277" y="3829"/>
                </a:lnTo>
                <a:lnTo>
                  <a:pt x="2231" y="3944"/>
                </a:lnTo>
                <a:lnTo>
                  <a:pt x="2301" y="4153"/>
                </a:lnTo>
                <a:lnTo>
                  <a:pt x="2440" y="4292"/>
                </a:lnTo>
                <a:lnTo>
                  <a:pt x="2440" y="4409"/>
                </a:lnTo>
                <a:lnTo>
                  <a:pt x="2440" y="4455"/>
                </a:lnTo>
                <a:lnTo>
                  <a:pt x="2440" y="4455"/>
                </a:lnTo>
                <a:lnTo>
                  <a:pt x="2323" y="4548"/>
                </a:lnTo>
                <a:lnTo>
                  <a:pt x="2323" y="4640"/>
                </a:lnTo>
                <a:lnTo>
                  <a:pt x="2277" y="4733"/>
                </a:lnTo>
                <a:lnTo>
                  <a:pt x="2231" y="4825"/>
                </a:lnTo>
                <a:lnTo>
                  <a:pt x="2162" y="4872"/>
                </a:lnTo>
                <a:lnTo>
                  <a:pt x="2045" y="4964"/>
                </a:lnTo>
                <a:lnTo>
                  <a:pt x="1999" y="5081"/>
                </a:lnTo>
                <a:lnTo>
                  <a:pt x="1975" y="5152"/>
                </a:lnTo>
                <a:lnTo>
                  <a:pt x="1929" y="5429"/>
                </a:lnTo>
                <a:lnTo>
                  <a:pt x="1882" y="5569"/>
                </a:lnTo>
                <a:lnTo>
                  <a:pt x="1860" y="5640"/>
                </a:lnTo>
                <a:lnTo>
                  <a:pt x="1789" y="5871"/>
                </a:lnTo>
                <a:lnTo>
                  <a:pt x="1720" y="5988"/>
                </a:lnTo>
                <a:lnTo>
                  <a:pt x="1625" y="6081"/>
                </a:lnTo>
                <a:lnTo>
                  <a:pt x="1487" y="6220"/>
                </a:lnTo>
                <a:lnTo>
                  <a:pt x="1418" y="6334"/>
                </a:lnTo>
                <a:lnTo>
                  <a:pt x="1348" y="6380"/>
                </a:lnTo>
                <a:lnTo>
                  <a:pt x="1209" y="6475"/>
                </a:lnTo>
                <a:lnTo>
                  <a:pt x="1138" y="6522"/>
                </a:lnTo>
                <a:lnTo>
                  <a:pt x="1024" y="6568"/>
                </a:lnTo>
                <a:lnTo>
                  <a:pt x="931" y="6660"/>
                </a:lnTo>
                <a:lnTo>
                  <a:pt x="860" y="6682"/>
                </a:lnTo>
                <a:lnTo>
                  <a:pt x="792" y="6753"/>
                </a:lnTo>
                <a:lnTo>
                  <a:pt x="721" y="6775"/>
                </a:lnTo>
                <a:lnTo>
                  <a:pt x="651" y="6821"/>
                </a:lnTo>
                <a:lnTo>
                  <a:pt x="582" y="6892"/>
                </a:lnTo>
                <a:lnTo>
                  <a:pt x="489" y="7009"/>
                </a:lnTo>
                <a:lnTo>
                  <a:pt x="418" y="7055"/>
                </a:lnTo>
                <a:lnTo>
                  <a:pt x="326" y="7101"/>
                </a:lnTo>
                <a:lnTo>
                  <a:pt x="255" y="7148"/>
                </a:lnTo>
                <a:lnTo>
                  <a:pt x="141" y="7216"/>
                </a:lnTo>
                <a:lnTo>
                  <a:pt x="0" y="730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"/>
          <p:cNvSpPr/>
          <p:nvPr/>
        </p:nvSpPr>
        <p:spPr>
          <a:xfrm>
            <a:off x="3760920" y="1309680"/>
            <a:ext cx="725760" cy="1962360"/>
          </a:xfrm>
          <a:custGeom>
            <a:avLst/>
            <a:gdLst/>
            <a:ahLst/>
            <a:rect l="0" t="0" r="r" b="b"/>
            <a:pathLst>
              <a:path fill="none" w="2016" h="5451">
                <a:moveTo>
                  <a:pt x="1150" y="0"/>
                </a:moveTo>
                <a:lnTo>
                  <a:pt x="1183" y="46"/>
                </a:lnTo>
                <a:lnTo>
                  <a:pt x="1229" y="125"/>
                </a:lnTo>
                <a:lnTo>
                  <a:pt x="1249" y="231"/>
                </a:lnTo>
                <a:lnTo>
                  <a:pt x="1302" y="277"/>
                </a:lnTo>
                <a:lnTo>
                  <a:pt x="1362" y="392"/>
                </a:lnTo>
                <a:lnTo>
                  <a:pt x="1430" y="485"/>
                </a:lnTo>
                <a:lnTo>
                  <a:pt x="1476" y="577"/>
                </a:lnTo>
                <a:lnTo>
                  <a:pt x="1522" y="648"/>
                </a:lnTo>
                <a:lnTo>
                  <a:pt x="1569" y="740"/>
                </a:lnTo>
                <a:lnTo>
                  <a:pt x="1639" y="809"/>
                </a:lnTo>
                <a:lnTo>
                  <a:pt x="1661" y="879"/>
                </a:lnTo>
                <a:lnTo>
                  <a:pt x="1732" y="972"/>
                </a:lnTo>
                <a:lnTo>
                  <a:pt x="1756" y="1042"/>
                </a:lnTo>
                <a:lnTo>
                  <a:pt x="1802" y="1135"/>
                </a:lnTo>
                <a:lnTo>
                  <a:pt x="1848" y="1250"/>
                </a:lnTo>
                <a:lnTo>
                  <a:pt x="1870" y="1320"/>
                </a:lnTo>
                <a:lnTo>
                  <a:pt x="1917" y="1413"/>
                </a:lnTo>
                <a:lnTo>
                  <a:pt x="1917" y="1483"/>
                </a:lnTo>
                <a:lnTo>
                  <a:pt x="1941" y="1576"/>
                </a:lnTo>
                <a:lnTo>
                  <a:pt x="1941" y="1669"/>
                </a:lnTo>
                <a:lnTo>
                  <a:pt x="1941" y="1830"/>
                </a:lnTo>
                <a:lnTo>
                  <a:pt x="1941" y="1900"/>
                </a:lnTo>
                <a:lnTo>
                  <a:pt x="1941" y="1971"/>
                </a:lnTo>
                <a:lnTo>
                  <a:pt x="1941" y="2063"/>
                </a:lnTo>
                <a:lnTo>
                  <a:pt x="1963" y="2156"/>
                </a:lnTo>
                <a:lnTo>
                  <a:pt x="1943" y="2288"/>
                </a:lnTo>
                <a:lnTo>
                  <a:pt x="1950" y="2341"/>
                </a:lnTo>
                <a:lnTo>
                  <a:pt x="1956" y="2374"/>
                </a:lnTo>
                <a:lnTo>
                  <a:pt x="1969" y="2414"/>
                </a:lnTo>
                <a:lnTo>
                  <a:pt x="1983" y="2460"/>
                </a:lnTo>
                <a:lnTo>
                  <a:pt x="2003" y="2533"/>
                </a:lnTo>
                <a:lnTo>
                  <a:pt x="2009" y="2579"/>
                </a:lnTo>
                <a:lnTo>
                  <a:pt x="2016" y="2672"/>
                </a:lnTo>
                <a:lnTo>
                  <a:pt x="1989" y="2739"/>
                </a:lnTo>
                <a:lnTo>
                  <a:pt x="1943" y="2818"/>
                </a:lnTo>
                <a:lnTo>
                  <a:pt x="1884" y="2937"/>
                </a:lnTo>
                <a:lnTo>
                  <a:pt x="1837" y="3010"/>
                </a:lnTo>
                <a:lnTo>
                  <a:pt x="1798" y="3063"/>
                </a:lnTo>
                <a:lnTo>
                  <a:pt x="1725" y="3096"/>
                </a:lnTo>
                <a:lnTo>
                  <a:pt x="1666" y="3156"/>
                </a:lnTo>
                <a:lnTo>
                  <a:pt x="1619" y="3189"/>
                </a:lnTo>
                <a:lnTo>
                  <a:pt x="1573" y="3235"/>
                </a:lnTo>
                <a:lnTo>
                  <a:pt x="1520" y="3301"/>
                </a:lnTo>
                <a:lnTo>
                  <a:pt x="1500" y="3374"/>
                </a:lnTo>
                <a:lnTo>
                  <a:pt x="1487" y="3453"/>
                </a:lnTo>
                <a:lnTo>
                  <a:pt x="1454" y="3533"/>
                </a:lnTo>
                <a:lnTo>
                  <a:pt x="1414" y="3619"/>
                </a:lnTo>
                <a:lnTo>
                  <a:pt x="1375" y="3751"/>
                </a:lnTo>
                <a:lnTo>
                  <a:pt x="1348" y="3844"/>
                </a:lnTo>
                <a:lnTo>
                  <a:pt x="1282" y="3969"/>
                </a:lnTo>
                <a:lnTo>
                  <a:pt x="1216" y="4102"/>
                </a:lnTo>
                <a:lnTo>
                  <a:pt x="1157" y="4214"/>
                </a:lnTo>
                <a:lnTo>
                  <a:pt x="1124" y="4326"/>
                </a:lnTo>
                <a:lnTo>
                  <a:pt x="1097" y="4406"/>
                </a:lnTo>
                <a:lnTo>
                  <a:pt x="1011" y="4498"/>
                </a:lnTo>
                <a:lnTo>
                  <a:pt x="931" y="4604"/>
                </a:lnTo>
                <a:lnTo>
                  <a:pt x="759" y="4703"/>
                </a:lnTo>
                <a:lnTo>
                  <a:pt x="693" y="4796"/>
                </a:lnTo>
                <a:lnTo>
                  <a:pt x="588" y="4875"/>
                </a:lnTo>
                <a:lnTo>
                  <a:pt x="488" y="4955"/>
                </a:lnTo>
                <a:lnTo>
                  <a:pt x="370" y="5061"/>
                </a:lnTo>
                <a:lnTo>
                  <a:pt x="251" y="5114"/>
                </a:lnTo>
                <a:lnTo>
                  <a:pt x="185" y="5180"/>
                </a:lnTo>
                <a:lnTo>
                  <a:pt x="72" y="5312"/>
                </a:lnTo>
                <a:lnTo>
                  <a:pt x="0" y="545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"/>
          <p:cNvSpPr/>
          <p:nvPr/>
        </p:nvSpPr>
        <p:spPr>
          <a:xfrm>
            <a:off x="4033800" y="81000"/>
            <a:ext cx="1548000" cy="2224440"/>
          </a:xfrm>
          <a:custGeom>
            <a:avLst/>
            <a:gdLst/>
            <a:ahLst/>
            <a:rect l="0" t="0" r="r" b="b"/>
            <a:pathLst>
              <a:path fill="none" w="4300" h="6179">
                <a:moveTo>
                  <a:pt x="152" y="0"/>
                </a:moveTo>
                <a:lnTo>
                  <a:pt x="138" y="50"/>
                </a:lnTo>
                <a:lnTo>
                  <a:pt x="138" y="143"/>
                </a:lnTo>
                <a:lnTo>
                  <a:pt x="138" y="236"/>
                </a:lnTo>
                <a:lnTo>
                  <a:pt x="138" y="328"/>
                </a:lnTo>
                <a:lnTo>
                  <a:pt x="163" y="421"/>
                </a:lnTo>
                <a:lnTo>
                  <a:pt x="185" y="491"/>
                </a:lnTo>
                <a:lnTo>
                  <a:pt x="185" y="584"/>
                </a:lnTo>
                <a:lnTo>
                  <a:pt x="185" y="677"/>
                </a:lnTo>
                <a:lnTo>
                  <a:pt x="138" y="769"/>
                </a:lnTo>
                <a:lnTo>
                  <a:pt x="116" y="862"/>
                </a:lnTo>
                <a:lnTo>
                  <a:pt x="70" y="932"/>
                </a:lnTo>
                <a:lnTo>
                  <a:pt x="46" y="1025"/>
                </a:lnTo>
                <a:lnTo>
                  <a:pt x="46" y="1118"/>
                </a:lnTo>
                <a:lnTo>
                  <a:pt x="46" y="1210"/>
                </a:lnTo>
                <a:lnTo>
                  <a:pt x="22" y="1303"/>
                </a:lnTo>
                <a:lnTo>
                  <a:pt x="0" y="1374"/>
                </a:lnTo>
                <a:lnTo>
                  <a:pt x="0" y="1466"/>
                </a:lnTo>
                <a:lnTo>
                  <a:pt x="0" y="1559"/>
                </a:lnTo>
                <a:lnTo>
                  <a:pt x="46" y="1652"/>
                </a:lnTo>
                <a:lnTo>
                  <a:pt x="70" y="1744"/>
                </a:lnTo>
                <a:lnTo>
                  <a:pt x="92" y="1815"/>
                </a:lnTo>
                <a:lnTo>
                  <a:pt x="116" y="1907"/>
                </a:lnTo>
                <a:lnTo>
                  <a:pt x="116" y="2000"/>
                </a:lnTo>
                <a:lnTo>
                  <a:pt x="116" y="2093"/>
                </a:lnTo>
                <a:lnTo>
                  <a:pt x="138" y="2185"/>
                </a:lnTo>
                <a:lnTo>
                  <a:pt x="163" y="2256"/>
                </a:lnTo>
                <a:lnTo>
                  <a:pt x="163" y="2349"/>
                </a:lnTo>
                <a:lnTo>
                  <a:pt x="185" y="2487"/>
                </a:lnTo>
                <a:lnTo>
                  <a:pt x="231" y="2580"/>
                </a:lnTo>
                <a:lnTo>
                  <a:pt x="255" y="2673"/>
                </a:lnTo>
                <a:lnTo>
                  <a:pt x="255" y="2743"/>
                </a:lnTo>
                <a:lnTo>
                  <a:pt x="255" y="2858"/>
                </a:lnTo>
                <a:lnTo>
                  <a:pt x="255" y="2929"/>
                </a:lnTo>
                <a:lnTo>
                  <a:pt x="277" y="3021"/>
                </a:lnTo>
                <a:lnTo>
                  <a:pt x="301" y="3115"/>
                </a:lnTo>
                <a:lnTo>
                  <a:pt x="323" y="3185"/>
                </a:lnTo>
                <a:lnTo>
                  <a:pt x="323" y="3278"/>
                </a:lnTo>
                <a:lnTo>
                  <a:pt x="398" y="3432"/>
                </a:lnTo>
                <a:lnTo>
                  <a:pt x="462" y="3463"/>
                </a:lnTo>
                <a:lnTo>
                  <a:pt x="511" y="3556"/>
                </a:lnTo>
                <a:lnTo>
                  <a:pt x="557" y="3627"/>
                </a:lnTo>
                <a:lnTo>
                  <a:pt x="650" y="3695"/>
                </a:lnTo>
                <a:lnTo>
                  <a:pt x="696" y="3766"/>
                </a:lnTo>
                <a:lnTo>
                  <a:pt x="764" y="3858"/>
                </a:lnTo>
                <a:lnTo>
                  <a:pt x="835" y="3927"/>
                </a:lnTo>
                <a:lnTo>
                  <a:pt x="857" y="3997"/>
                </a:lnTo>
                <a:lnTo>
                  <a:pt x="903" y="4068"/>
                </a:lnTo>
                <a:lnTo>
                  <a:pt x="952" y="4160"/>
                </a:lnTo>
                <a:lnTo>
                  <a:pt x="1020" y="4253"/>
                </a:lnTo>
                <a:lnTo>
                  <a:pt x="1066" y="4346"/>
                </a:lnTo>
                <a:lnTo>
                  <a:pt x="1137" y="4438"/>
                </a:lnTo>
                <a:lnTo>
                  <a:pt x="1159" y="4509"/>
                </a:lnTo>
                <a:lnTo>
                  <a:pt x="1229" y="4577"/>
                </a:lnTo>
                <a:lnTo>
                  <a:pt x="1251" y="4648"/>
                </a:lnTo>
                <a:lnTo>
                  <a:pt x="1275" y="4740"/>
                </a:lnTo>
                <a:lnTo>
                  <a:pt x="1297" y="4833"/>
                </a:lnTo>
                <a:lnTo>
                  <a:pt x="1322" y="4904"/>
                </a:lnTo>
                <a:lnTo>
                  <a:pt x="1344" y="5018"/>
                </a:lnTo>
                <a:lnTo>
                  <a:pt x="1368" y="5089"/>
                </a:lnTo>
                <a:lnTo>
                  <a:pt x="1414" y="5182"/>
                </a:lnTo>
                <a:lnTo>
                  <a:pt x="1439" y="5296"/>
                </a:lnTo>
                <a:lnTo>
                  <a:pt x="1461" y="5367"/>
                </a:lnTo>
                <a:lnTo>
                  <a:pt x="1461" y="5437"/>
                </a:lnTo>
                <a:lnTo>
                  <a:pt x="1485" y="5530"/>
                </a:lnTo>
                <a:lnTo>
                  <a:pt x="1531" y="5623"/>
                </a:lnTo>
                <a:lnTo>
                  <a:pt x="1577" y="5715"/>
                </a:lnTo>
                <a:lnTo>
                  <a:pt x="1624" y="5786"/>
                </a:lnTo>
                <a:lnTo>
                  <a:pt x="1692" y="5879"/>
                </a:lnTo>
                <a:lnTo>
                  <a:pt x="1762" y="5971"/>
                </a:lnTo>
                <a:lnTo>
                  <a:pt x="1833" y="5993"/>
                </a:lnTo>
                <a:lnTo>
                  <a:pt x="1926" y="6018"/>
                </a:lnTo>
                <a:lnTo>
                  <a:pt x="2018" y="6086"/>
                </a:lnTo>
                <a:lnTo>
                  <a:pt x="2064" y="6156"/>
                </a:lnTo>
                <a:lnTo>
                  <a:pt x="2158" y="6179"/>
                </a:lnTo>
                <a:lnTo>
                  <a:pt x="2251" y="6179"/>
                </a:lnTo>
                <a:lnTo>
                  <a:pt x="2321" y="6156"/>
                </a:lnTo>
                <a:lnTo>
                  <a:pt x="2414" y="6132"/>
                </a:lnTo>
                <a:lnTo>
                  <a:pt x="2506" y="6110"/>
                </a:lnTo>
                <a:lnTo>
                  <a:pt x="2599" y="6040"/>
                </a:lnTo>
                <a:lnTo>
                  <a:pt x="2667" y="5947"/>
                </a:lnTo>
                <a:lnTo>
                  <a:pt x="2738" y="5879"/>
                </a:lnTo>
                <a:lnTo>
                  <a:pt x="2808" y="5808"/>
                </a:lnTo>
                <a:lnTo>
                  <a:pt x="2876" y="5737"/>
                </a:lnTo>
                <a:lnTo>
                  <a:pt x="2947" y="5691"/>
                </a:lnTo>
                <a:lnTo>
                  <a:pt x="3061" y="5620"/>
                </a:lnTo>
                <a:lnTo>
                  <a:pt x="3123" y="5568"/>
                </a:lnTo>
                <a:lnTo>
                  <a:pt x="3185" y="5515"/>
                </a:lnTo>
                <a:lnTo>
                  <a:pt x="3273" y="5471"/>
                </a:lnTo>
                <a:lnTo>
                  <a:pt x="3370" y="5418"/>
                </a:lnTo>
                <a:lnTo>
                  <a:pt x="3456" y="5391"/>
                </a:lnTo>
                <a:lnTo>
                  <a:pt x="3526" y="5391"/>
                </a:lnTo>
                <a:lnTo>
                  <a:pt x="3597" y="5367"/>
                </a:lnTo>
                <a:lnTo>
                  <a:pt x="3712" y="5296"/>
                </a:lnTo>
                <a:lnTo>
                  <a:pt x="3782" y="5228"/>
                </a:lnTo>
                <a:lnTo>
                  <a:pt x="3850" y="5157"/>
                </a:lnTo>
                <a:lnTo>
                  <a:pt x="3921" y="5065"/>
                </a:lnTo>
                <a:lnTo>
                  <a:pt x="3989" y="4972"/>
                </a:lnTo>
                <a:lnTo>
                  <a:pt x="4060" y="4904"/>
                </a:lnTo>
                <a:lnTo>
                  <a:pt x="4130" y="4855"/>
                </a:lnTo>
                <a:lnTo>
                  <a:pt x="4223" y="4809"/>
                </a:lnTo>
                <a:lnTo>
                  <a:pt x="4300" y="479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"/>
          <p:cNvSpPr/>
          <p:nvPr/>
        </p:nvSpPr>
        <p:spPr>
          <a:xfrm>
            <a:off x="4853160" y="88920"/>
            <a:ext cx="729000" cy="744840"/>
          </a:xfrm>
          <a:custGeom>
            <a:avLst/>
            <a:gdLst/>
            <a:ahLst/>
            <a:rect l="0" t="0" r="r" b="b"/>
            <a:pathLst>
              <a:path fill="none" w="2025" h="2069">
                <a:moveTo>
                  <a:pt x="0" y="0"/>
                </a:moveTo>
                <a:lnTo>
                  <a:pt x="48" y="48"/>
                </a:lnTo>
                <a:lnTo>
                  <a:pt x="97" y="137"/>
                </a:lnTo>
                <a:lnTo>
                  <a:pt x="145" y="226"/>
                </a:lnTo>
                <a:lnTo>
                  <a:pt x="145" y="315"/>
                </a:lnTo>
                <a:lnTo>
                  <a:pt x="168" y="404"/>
                </a:lnTo>
                <a:lnTo>
                  <a:pt x="217" y="472"/>
                </a:lnTo>
                <a:lnTo>
                  <a:pt x="291" y="516"/>
                </a:lnTo>
                <a:lnTo>
                  <a:pt x="388" y="560"/>
                </a:lnTo>
                <a:lnTo>
                  <a:pt x="462" y="626"/>
                </a:lnTo>
                <a:lnTo>
                  <a:pt x="510" y="694"/>
                </a:lnTo>
                <a:lnTo>
                  <a:pt x="607" y="759"/>
                </a:lnTo>
                <a:lnTo>
                  <a:pt x="704" y="783"/>
                </a:lnTo>
                <a:lnTo>
                  <a:pt x="801" y="848"/>
                </a:lnTo>
                <a:lnTo>
                  <a:pt x="875" y="895"/>
                </a:lnTo>
                <a:lnTo>
                  <a:pt x="972" y="961"/>
                </a:lnTo>
                <a:lnTo>
                  <a:pt x="1093" y="1050"/>
                </a:lnTo>
                <a:lnTo>
                  <a:pt x="1167" y="1095"/>
                </a:lnTo>
                <a:lnTo>
                  <a:pt x="1216" y="1163"/>
                </a:lnTo>
                <a:lnTo>
                  <a:pt x="1313" y="1252"/>
                </a:lnTo>
                <a:lnTo>
                  <a:pt x="1320" y="1429"/>
                </a:lnTo>
                <a:lnTo>
                  <a:pt x="1491" y="1601"/>
                </a:lnTo>
                <a:lnTo>
                  <a:pt x="1703" y="1664"/>
                </a:lnTo>
                <a:lnTo>
                  <a:pt x="1874" y="1770"/>
                </a:lnTo>
                <a:lnTo>
                  <a:pt x="2025" y="20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"/>
          <p:cNvSpPr/>
          <p:nvPr/>
        </p:nvSpPr>
        <p:spPr>
          <a:xfrm>
            <a:off x="4106880" y="82440"/>
            <a:ext cx="1476720" cy="1679760"/>
          </a:xfrm>
          <a:custGeom>
            <a:avLst/>
            <a:gdLst/>
            <a:ahLst/>
            <a:rect l="0" t="0" r="r" b="b"/>
            <a:pathLst>
              <a:path fill="none" w="4102" h="4666">
                <a:moveTo>
                  <a:pt x="0" y="0"/>
                </a:moveTo>
                <a:lnTo>
                  <a:pt x="22" y="243"/>
                </a:lnTo>
                <a:lnTo>
                  <a:pt x="61" y="309"/>
                </a:lnTo>
                <a:lnTo>
                  <a:pt x="97" y="396"/>
                </a:lnTo>
                <a:lnTo>
                  <a:pt x="143" y="492"/>
                </a:lnTo>
                <a:lnTo>
                  <a:pt x="189" y="588"/>
                </a:lnTo>
                <a:lnTo>
                  <a:pt x="235" y="683"/>
                </a:lnTo>
                <a:lnTo>
                  <a:pt x="235" y="779"/>
                </a:lnTo>
                <a:lnTo>
                  <a:pt x="257" y="852"/>
                </a:lnTo>
                <a:lnTo>
                  <a:pt x="306" y="948"/>
                </a:lnTo>
                <a:lnTo>
                  <a:pt x="374" y="1043"/>
                </a:lnTo>
                <a:lnTo>
                  <a:pt x="421" y="1139"/>
                </a:lnTo>
                <a:lnTo>
                  <a:pt x="513" y="1235"/>
                </a:lnTo>
                <a:lnTo>
                  <a:pt x="537" y="1308"/>
                </a:lnTo>
                <a:lnTo>
                  <a:pt x="606" y="1403"/>
                </a:lnTo>
                <a:lnTo>
                  <a:pt x="652" y="1499"/>
                </a:lnTo>
                <a:lnTo>
                  <a:pt x="698" y="1595"/>
                </a:lnTo>
                <a:lnTo>
                  <a:pt x="723" y="1691"/>
                </a:lnTo>
                <a:lnTo>
                  <a:pt x="793" y="1739"/>
                </a:lnTo>
                <a:lnTo>
                  <a:pt x="886" y="1811"/>
                </a:lnTo>
                <a:lnTo>
                  <a:pt x="978" y="1882"/>
                </a:lnTo>
                <a:lnTo>
                  <a:pt x="1047" y="1955"/>
                </a:lnTo>
                <a:lnTo>
                  <a:pt x="1117" y="2051"/>
                </a:lnTo>
                <a:lnTo>
                  <a:pt x="1210" y="2146"/>
                </a:lnTo>
                <a:lnTo>
                  <a:pt x="1281" y="2242"/>
                </a:lnTo>
                <a:lnTo>
                  <a:pt x="1349" y="2364"/>
                </a:lnTo>
                <a:lnTo>
                  <a:pt x="1441" y="2483"/>
                </a:lnTo>
                <a:lnTo>
                  <a:pt x="1466" y="2555"/>
                </a:lnTo>
                <a:lnTo>
                  <a:pt x="1534" y="2651"/>
                </a:lnTo>
                <a:lnTo>
                  <a:pt x="1580" y="2724"/>
                </a:lnTo>
                <a:lnTo>
                  <a:pt x="1629" y="2843"/>
                </a:lnTo>
                <a:lnTo>
                  <a:pt x="1721" y="2938"/>
                </a:lnTo>
                <a:lnTo>
                  <a:pt x="1860" y="2963"/>
                </a:lnTo>
                <a:lnTo>
                  <a:pt x="1953" y="3011"/>
                </a:lnTo>
                <a:lnTo>
                  <a:pt x="2046" y="3084"/>
                </a:lnTo>
                <a:lnTo>
                  <a:pt x="2117" y="3132"/>
                </a:lnTo>
                <a:lnTo>
                  <a:pt x="2210" y="3203"/>
                </a:lnTo>
                <a:lnTo>
                  <a:pt x="2278" y="3276"/>
                </a:lnTo>
                <a:lnTo>
                  <a:pt x="2349" y="3371"/>
                </a:lnTo>
                <a:lnTo>
                  <a:pt x="2441" y="3515"/>
                </a:lnTo>
                <a:lnTo>
                  <a:pt x="2488" y="3588"/>
                </a:lnTo>
                <a:lnTo>
                  <a:pt x="2558" y="3684"/>
                </a:lnTo>
                <a:lnTo>
                  <a:pt x="2626" y="3779"/>
                </a:lnTo>
                <a:lnTo>
                  <a:pt x="2697" y="3875"/>
                </a:lnTo>
                <a:lnTo>
                  <a:pt x="2790" y="3996"/>
                </a:lnTo>
                <a:lnTo>
                  <a:pt x="2882" y="4044"/>
                </a:lnTo>
                <a:lnTo>
                  <a:pt x="2953" y="4114"/>
                </a:lnTo>
                <a:lnTo>
                  <a:pt x="3067" y="4210"/>
                </a:lnTo>
                <a:lnTo>
                  <a:pt x="3138" y="4283"/>
                </a:lnTo>
                <a:lnTo>
                  <a:pt x="3206" y="4379"/>
                </a:lnTo>
                <a:lnTo>
                  <a:pt x="3253" y="4452"/>
                </a:lnTo>
                <a:lnTo>
                  <a:pt x="3323" y="4547"/>
                </a:lnTo>
                <a:lnTo>
                  <a:pt x="3394" y="4595"/>
                </a:lnTo>
                <a:lnTo>
                  <a:pt x="3486" y="4643"/>
                </a:lnTo>
                <a:lnTo>
                  <a:pt x="3579" y="4643"/>
                </a:lnTo>
                <a:lnTo>
                  <a:pt x="3672" y="4666"/>
                </a:lnTo>
                <a:lnTo>
                  <a:pt x="3802" y="4645"/>
                </a:lnTo>
                <a:lnTo>
                  <a:pt x="3872" y="4655"/>
                </a:lnTo>
                <a:lnTo>
                  <a:pt x="3934" y="4627"/>
                </a:lnTo>
                <a:lnTo>
                  <a:pt x="4013" y="4609"/>
                </a:lnTo>
                <a:lnTo>
                  <a:pt x="4102" y="460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"/>
          <p:cNvSpPr/>
          <p:nvPr/>
        </p:nvSpPr>
        <p:spPr>
          <a:xfrm>
            <a:off x="4075200" y="326880"/>
            <a:ext cx="1508400" cy="1661040"/>
          </a:xfrm>
          <a:custGeom>
            <a:avLst/>
            <a:gdLst/>
            <a:ahLst/>
            <a:rect l="0" t="0" r="r" b="b"/>
            <a:pathLst>
              <a:path fill="none" w="4190" h="4614">
                <a:moveTo>
                  <a:pt x="63" y="0"/>
                </a:moveTo>
                <a:lnTo>
                  <a:pt x="0" y="335"/>
                </a:lnTo>
                <a:lnTo>
                  <a:pt x="11" y="474"/>
                </a:lnTo>
                <a:lnTo>
                  <a:pt x="44" y="714"/>
                </a:lnTo>
                <a:lnTo>
                  <a:pt x="176" y="1095"/>
                </a:lnTo>
                <a:lnTo>
                  <a:pt x="321" y="1387"/>
                </a:lnTo>
                <a:lnTo>
                  <a:pt x="394" y="1504"/>
                </a:lnTo>
                <a:lnTo>
                  <a:pt x="416" y="1575"/>
                </a:lnTo>
                <a:lnTo>
                  <a:pt x="463" y="1667"/>
                </a:lnTo>
                <a:lnTo>
                  <a:pt x="509" y="1760"/>
                </a:lnTo>
                <a:lnTo>
                  <a:pt x="555" y="1853"/>
                </a:lnTo>
                <a:lnTo>
                  <a:pt x="555" y="1945"/>
                </a:lnTo>
                <a:lnTo>
                  <a:pt x="555" y="2016"/>
                </a:lnTo>
                <a:lnTo>
                  <a:pt x="579" y="2108"/>
                </a:lnTo>
                <a:lnTo>
                  <a:pt x="601" y="2201"/>
                </a:lnTo>
                <a:lnTo>
                  <a:pt x="601" y="2294"/>
                </a:lnTo>
                <a:lnTo>
                  <a:pt x="648" y="2386"/>
                </a:lnTo>
                <a:lnTo>
                  <a:pt x="672" y="2525"/>
                </a:lnTo>
                <a:lnTo>
                  <a:pt x="694" y="2596"/>
                </a:lnTo>
                <a:lnTo>
                  <a:pt x="694" y="2710"/>
                </a:lnTo>
                <a:lnTo>
                  <a:pt x="787" y="2781"/>
                </a:lnTo>
                <a:lnTo>
                  <a:pt x="857" y="2827"/>
                </a:lnTo>
                <a:lnTo>
                  <a:pt x="928" y="2873"/>
                </a:lnTo>
                <a:lnTo>
                  <a:pt x="974" y="2944"/>
                </a:lnTo>
                <a:lnTo>
                  <a:pt x="1089" y="3059"/>
                </a:lnTo>
                <a:lnTo>
                  <a:pt x="1159" y="3129"/>
                </a:lnTo>
                <a:lnTo>
                  <a:pt x="1252" y="3268"/>
                </a:lnTo>
                <a:lnTo>
                  <a:pt x="1322" y="3361"/>
                </a:lnTo>
                <a:lnTo>
                  <a:pt x="1369" y="3431"/>
                </a:lnTo>
                <a:lnTo>
                  <a:pt x="1437" y="3547"/>
                </a:lnTo>
                <a:lnTo>
                  <a:pt x="1461" y="3617"/>
                </a:lnTo>
                <a:lnTo>
                  <a:pt x="1530" y="3710"/>
                </a:lnTo>
                <a:lnTo>
                  <a:pt x="1554" y="3781"/>
                </a:lnTo>
                <a:lnTo>
                  <a:pt x="1600" y="3873"/>
                </a:lnTo>
                <a:lnTo>
                  <a:pt x="1622" y="3966"/>
                </a:lnTo>
                <a:lnTo>
                  <a:pt x="1669" y="4058"/>
                </a:lnTo>
                <a:lnTo>
                  <a:pt x="1693" y="4151"/>
                </a:lnTo>
                <a:lnTo>
                  <a:pt x="1717" y="4222"/>
                </a:lnTo>
                <a:lnTo>
                  <a:pt x="1785" y="4336"/>
                </a:lnTo>
                <a:lnTo>
                  <a:pt x="1832" y="4407"/>
                </a:lnTo>
                <a:lnTo>
                  <a:pt x="1902" y="4475"/>
                </a:lnTo>
                <a:lnTo>
                  <a:pt x="1995" y="4568"/>
                </a:lnTo>
                <a:lnTo>
                  <a:pt x="2088" y="4614"/>
                </a:lnTo>
                <a:lnTo>
                  <a:pt x="2181" y="4614"/>
                </a:lnTo>
                <a:lnTo>
                  <a:pt x="2252" y="4614"/>
                </a:lnTo>
                <a:lnTo>
                  <a:pt x="2366" y="4592"/>
                </a:lnTo>
                <a:lnTo>
                  <a:pt x="2437" y="4568"/>
                </a:lnTo>
                <a:lnTo>
                  <a:pt x="2529" y="4521"/>
                </a:lnTo>
                <a:lnTo>
                  <a:pt x="2600" y="4499"/>
                </a:lnTo>
                <a:lnTo>
                  <a:pt x="2693" y="4475"/>
                </a:lnTo>
                <a:lnTo>
                  <a:pt x="2785" y="4453"/>
                </a:lnTo>
                <a:lnTo>
                  <a:pt x="2900" y="4429"/>
                </a:lnTo>
                <a:lnTo>
                  <a:pt x="2970" y="4407"/>
                </a:lnTo>
                <a:lnTo>
                  <a:pt x="3041" y="4383"/>
                </a:lnTo>
                <a:lnTo>
                  <a:pt x="3134" y="4336"/>
                </a:lnTo>
                <a:lnTo>
                  <a:pt x="3248" y="4336"/>
                </a:lnTo>
                <a:lnTo>
                  <a:pt x="3319" y="4336"/>
                </a:lnTo>
                <a:lnTo>
                  <a:pt x="3411" y="4314"/>
                </a:lnTo>
                <a:lnTo>
                  <a:pt x="3482" y="4290"/>
                </a:lnTo>
                <a:lnTo>
                  <a:pt x="3575" y="4268"/>
                </a:lnTo>
                <a:lnTo>
                  <a:pt x="3667" y="4222"/>
                </a:lnTo>
                <a:lnTo>
                  <a:pt x="3722" y="4180"/>
                </a:lnTo>
                <a:lnTo>
                  <a:pt x="3828" y="4109"/>
                </a:lnTo>
                <a:lnTo>
                  <a:pt x="3908" y="4065"/>
                </a:lnTo>
                <a:lnTo>
                  <a:pt x="4040" y="4012"/>
                </a:lnTo>
                <a:lnTo>
                  <a:pt x="4190" y="399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"/>
          <p:cNvSpPr/>
          <p:nvPr/>
        </p:nvSpPr>
        <p:spPr>
          <a:xfrm>
            <a:off x="4037040" y="647640"/>
            <a:ext cx="1545120" cy="1576800"/>
          </a:xfrm>
          <a:custGeom>
            <a:avLst/>
            <a:gdLst/>
            <a:ahLst/>
            <a:rect l="0" t="0" r="r" b="b"/>
            <a:pathLst>
              <a:path fill="none" w="4292" h="4380">
                <a:moveTo>
                  <a:pt x="0" y="0"/>
                </a:moveTo>
                <a:lnTo>
                  <a:pt x="99" y="112"/>
                </a:lnTo>
                <a:lnTo>
                  <a:pt x="165" y="224"/>
                </a:lnTo>
                <a:lnTo>
                  <a:pt x="211" y="363"/>
                </a:lnTo>
                <a:lnTo>
                  <a:pt x="238" y="542"/>
                </a:lnTo>
                <a:lnTo>
                  <a:pt x="257" y="707"/>
                </a:lnTo>
                <a:lnTo>
                  <a:pt x="323" y="872"/>
                </a:lnTo>
                <a:lnTo>
                  <a:pt x="350" y="1018"/>
                </a:lnTo>
                <a:lnTo>
                  <a:pt x="456" y="1131"/>
                </a:lnTo>
                <a:lnTo>
                  <a:pt x="456" y="1224"/>
                </a:lnTo>
                <a:lnTo>
                  <a:pt x="456" y="1290"/>
                </a:lnTo>
                <a:lnTo>
                  <a:pt x="442" y="1382"/>
                </a:lnTo>
                <a:lnTo>
                  <a:pt x="469" y="1435"/>
                </a:lnTo>
                <a:lnTo>
                  <a:pt x="495" y="1528"/>
                </a:lnTo>
                <a:lnTo>
                  <a:pt x="509" y="1581"/>
                </a:lnTo>
                <a:lnTo>
                  <a:pt x="561" y="1726"/>
                </a:lnTo>
                <a:lnTo>
                  <a:pt x="561" y="1779"/>
                </a:lnTo>
                <a:lnTo>
                  <a:pt x="614" y="1832"/>
                </a:lnTo>
                <a:lnTo>
                  <a:pt x="667" y="1885"/>
                </a:lnTo>
                <a:lnTo>
                  <a:pt x="747" y="1938"/>
                </a:lnTo>
                <a:lnTo>
                  <a:pt x="826" y="2043"/>
                </a:lnTo>
                <a:lnTo>
                  <a:pt x="918" y="2189"/>
                </a:lnTo>
                <a:lnTo>
                  <a:pt x="985" y="2242"/>
                </a:lnTo>
                <a:lnTo>
                  <a:pt x="1051" y="2347"/>
                </a:lnTo>
                <a:lnTo>
                  <a:pt x="1105" y="2440"/>
                </a:lnTo>
                <a:lnTo>
                  <a:pt x="1131" y="2559"/>
                </a:lnTo>
                <a:lnTo>
                  <a:pt x="1197" y="2691"/>
                </a:lnTo>
                <a:lnTo>
                  <a:pt x="1224" y="2744"/>
                </a:lnTo>
                <a:lnTo>
                  <a:pt x="1276" y="2810"/>
                </a:lnTo>
                <a:lnTo>
                  <a:pt x="1246" y="2872"/>
                </a:lnTo>
                <a:lnTo>
                  <a:pt x="1263" y="2898"/>
                </a:lnTo>
                <a:lnTo>
                  <a:pt x="1281" y="2934"/>
                </a:lnTo>
                <a:lnTo>
                  <a:pt x="1298" y="2960"/>
                </a:lnTo>
                <a:lnTo>
                  <a:pt x="1307" y="2987"/>
                </a:lnTo>
                <a:lnTo>
                  <a:pt x="1325" y="3022"/>
                </a:lnTo>
                <a:lnTo>
                  <a:pt x="1343" y="3048"/>
                </a:lnTo>
                <a:lnTo>
                  <a:pt x="1360" y="3084"/>
                </a:lnTo>
                <a:lnTo>
                  <a:pt x="1360" y="3110"/>
                </a:lnTo>
                <a:lnTo>
                  <a:pt x="1378" y="3136"/>
                </a:lnTo>
                <a:lnTo>
                  <a:pt x="1387" y="3172"/>
                </a:lnTo>
                <a:lnTo>
                  <a:pt x="1404" y="3198"/>
                </a:lnTo>
                <a:lnTo>
                  <a:pt x="1413" y="3225"/>
                </a:lnTo>
                <a:lnTo>
                  <a:pt x="1431" y="3260"/>
                </a:lnTo>
                <a:lnTo>
                  <a:pt x="1440" y="3287"/>
                </a:lnTo>
                <a:lnTo>
                  <a:pt x="1448" y="3314"/>
                </a:lnTo>
                <a:lnTo>
                  <a:pt x="1457" y="3340"/>
                </a:lnTo>
                <a:lnTo>
                  <a:pt x="1466" y="3367"/>
                </a:lnTo>
                <a:lnTo>
                  <a:pt x="1484" y="3393"/>
                </a:lnTo>
                <a:lnTo>
                  <a:pt x="1484" y="3420"/>
                </a:lnTo>
                <a:lnTo>
                  <a:pt x="1492" y="3446"/>
                </a:lnTo>
                <a:lnTo>
                  <a:pt x="1510" y="3481"/>
                </a:lnTo>
                <a:lnTo>
                  <a:pt x="1519" y="3508"/>
                </a:lnTo>
                <a:lnTo>
                  <a:pt x="1519" y="3534"/>
                </a:lnTo>
                <a:lnTo>
                  <a:pt x="1536" y="3561"/>
                </a:lnTo>
                <a:lnTo>
                  <a:pt x="1554" y="3587"/>
                </a:lnTo>
                <a:lnTo>
                  <a:pt x="1572" y="3631"/>
                </a:lnTo>
                <a:lnTo>
                  <a:pt x="1581" y="3658"/>
                </a:lnTo>
                <a:lnTo>
                  <a:pt x="1598" y="3702"/>
                </a:lnTo>
                <a:lnTo>
                  <a:pt x="1616" y="3728"/>
                </a:lnTo>
                <a:lnTo>
                  <a:pt x="1633" y="3763"/>
                </a:lnTo>
                <a:lnTo>
                  <a:pt x="1642" y="3790"/>
                </a:lnTo>
                <a:lnTo>
                  <a:pt x="1660" y="3816"/>
                </a:lnTo>
                <a:lnTo>
                  <a:pt x="1669" y="3843"/>
                </a:lnTo>
                <a:lnTo>
                  <a:pt x="1678" y="3869"/>
                </a:lnTo>
                <a:lnTo>
                  <a:pt x="1695" y="3904"/>
                </a:lnTo>
                <a:lnTo>
                  <a:pt x="1722" y="3931"/>
                </a:lnTo>
                <a:lnTo>
                  <a:pt x="1739" y="3966"/>
                </a:lnTo>
                <a:lnTo>
                  <a:pt x="1757" y="3992"/>
                </a:lnTo>
                <a:lnTo>
                  <a:pt x="1775" y="4019"/>
                </a:lnTo>
                <a:lnTo>
                  <a:pt x="1792" y="4045"/>
                </a:lnTo>
                <a:lnTo>
                  <a:pt x="1810" y="4081"/>
                </a:lnTo>
                <a:lnTo>
                  <a:pt x="1827" y="4107"/>
                </a:lnTo>
                <a:lnTo>
                  <a:pt x="1845" y="4134"/>
                </a:lnTo>
                <a:lnTo>
                  <a:pt x="1871" y="4160"/>
                </a:lnTo>
                <a:lnTo>
                  <a:pt x="1889" y="4186"/>
                </a:lnTo>
                <a:lnTo>
                  <a:pt x="1916" y="4213"/>
                </a:lnTo>
                <a:lnTo>
                  <a:pt x="1942" y="4239"/>
                </a:lnTo>
                <a:lnTo>
                  <a:pt x="1968" y="4257"/>
                </a:lnTo>
                <a:lnTo>
                  <a:pt x="1986" y="4283"/>
                </a:lnTo>
                <a:lnTo>
                  <a:pt x="2013" y="4301"/>
                </a:lnTo>
                <a:lnTo>
                  <a:pt x="2039" y="4310"/>
                </a:lnTo>
                <a:lnTo>
                  <a:pt x="2065" y="4327"/>
                </a:lnTo>
                <a:lnTo>
                  <a:pt x="2092" y="4327"/>
                </a:lnTo>
                <a:lnTo>
                  <a:pt x="2118" y="4345"/>
                </a:lnTo>
                <a:lnTo>
                  <a:pt x="2224" y="4372"/>
                </a:lnTo>
                <a:lnTo>
                  <a:pt x="2251" y="4372"/>
                </a:lnTo>
                <a:lnTo>
                  <a:pt x="2277" y="4380"/>
                </a:lnTo>
                <a:lnTo>
                  <a:pt x="2303" y="4380"/>
                </a:lnTo>
                <a:lnTo>
                  <a:pt x="2330" y="4380"/>
                </a:lnTo>
                <a:lnTo>
                  <a:pt x="2365" y="4380"/>
                </a:lnTo>
                <a:lnTo>
                  <a:pt x="2409" y="4380"/>
                </a:lnTo>
                <a:lnTo>
                  <a:pt x="2453" y="4380"/>
                </a:lnTo>
                <a:lnTo>
                  <a:pt x="2480" y="4363"/>
                </a:lnTo>
                <a:lnTo>
                  <a:pt x="2506" y="4345"/>
                </a:lnTo>
                <a:lnTo>
                  <a:pt x="2533" y="4327"/>
                </a:lnTo>
                <a:lnTo>
                  <a:pt x="2585" y="4292"/>
                </a:lnTo>
                <a:lnTo>
                  <a:pt x="2612" y="4275"/>
                </a:lnTo>
                <a:lnTo>
                  <a:pt x="2638" y="4248"/>
                </a:lnTo>
                <a:lnTo>
                  <a:pt x="2665" y="4230"/>
                </a:lnTo>
                <a:lnTo>
                  <a:pt x="2691" y="4213"/>
                </a:lnTo>
                <a:lnTo>
                  <a:pt x="2718" y="4195"/>
                </a:lnTo>
                <a:lnTo>
                  <a:pt x="2744" y="4178"/>
                </a:lnTo>
                <a:lnTo>
                  <a:pt x="2771" y="4151"/>
                </a:lnTo>
                <a:lnTo>
                  <a:pt x="2815" y="4116"/>
                </a:lnTo>
                <a:lnTo>
                  <a:pt x="2850" y="4107"/>
                </a:lnTo>
                <a:lnTo>
                  <a:pt x="2903" y="4072"/>
                </a:lnTo>
                <a:lnTo>
                  <a:pt x="2920" y="4045"/>
                </a:lnTo>
                <a:lnTo>
                  <a:pt x="2938" y="4019"/>
                </a:lnTo>
                <a:lnTo>
                  <a:pt x="2965" y="4001"/>
                </a:lnTo>
                <a:lnTo>
                  <a:pt x="2991" y="3966"/>
                </a:lnTo>
                <a:lnTo>
                  <a:pt x="3017" y="3940"/>
                </a:lnTo>
                <a:lnTo>
                  <a:pt x="3044" y="3922"/>
                </a:lnTo>
                <a:lnTo>
                  <a:pt x="3070" y="3904"/>
                </a:lnTo>
                <a:lnTo>
                  <a:pt x="3106" y="3887"/>
                </a:lnTo>
                <a:lnTo>
                  <a:pt x="3132" y="3878"/>
                </a:lnTo>
                <a:lnTo>
                  <a:pt x="3158" y="3869"/>
                </a:lnTo>
                <a:lnTo>
                  <a:pt x="3185" y="3851"/>
                </a:lnTo>
                <a:lnTo>
                  <a:pt x="3211" y="3843"/>
                </a:lnTo>
                <a:lnTo>
                  <a:pt x="3248" y="3825"/>
                </a:lnTo>
                <a:lnTo>
                  <a:pt x="3283" y="3807"/>
                </a:lnTo>
                <a:lnTo>
                  <a:pt x="3309" y="3790"/>
                </a:lnTo>
                <a:lnTo>
                  <a:pt x="3336" y="3781"/>
                </a:lnTo>
                <a:lnTo>
                  <a:pt x="3362" y="3772"/>
                </a:lnTo>
                <a:lnTo>
                  <a:pt x="3389" y="3763"/>
                </a:lnTo>
                <a:lnTo>
                  <a:pt x="3415" y="3754"/>
                </a:lnTo>
                <a:lnTo>
                  <a:pt x="3450" y="3746"/>
                </a:lnTo>
                <a:lnTo>
                  <a:pt x="3545" y="3704"/>
                </a:lnTo>
                <a:lnTo>
                  <a:pt x="3572" y="3671"/>
                </a:lnTo>
                <a:lnTo>
                  <a:pt x="3605" y="3664"/>
                </a:lnTo>
                <a:lnTo>
                  <a:pt x="3624" y="3638"/>
                </a:lnTo>
                <a:lnTo>
                  <a:pt x="3638" y="3638"/>
                </a:lnTo>
                <a:lnTo>
                  <a:pt x="3664" y="3611"/>
                </a:lnTo>
                <a:lnTo>
                  <a:pt x="3677" y="3598"/>
                </a:lnTo>
                <a:lnTo>
                  <a:pt x="3697" y="3572"/>
                </a:lnTo>
                <a:lnTo>
                  <a:pt x="3730" y="3552"/>
                </a:lnTo>
                <a:lnTo>
                  <a:pt x="3763" y="3539"/>
                </a:lnTo>
                <a:lnTo>
                  <a:pt x="3803" y="3512"/>
                </a:lnTo>
                <a:lnTo>
                  <a:pt x="3836" y="3486"/>
                </a:lnTo>
                <a:lnTo>
                  <a:pt x="3849" y="3466"/>
                </a:lnTo>
                <a:lnTo>
                  <a:pt x="3849" y="3472"/>
                </a:lnTo>
                <a:lnTo>
                  <a:pt x="3955" y="3367"/>
                </a:lnTo>
                <a:lnTo>
                  <a:pt x="4087" y="3253"/>
                </a:lnTo>
                <a:lnTo>
                  <a:pt x="4173" y="3220"/>
                </a:lnTo>
                <a:lnTo>
                  <a:pt x="4292" y="319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"/>
          <p:cNvSpPr/>
          <p:nvPr/>
        </p:nvSpPr>
        <p:spPr>
          <a:xfrm>
            <a:off x="4253040" y="82440"/>
            <a:ext cx="1329120" cy="1152720"/>
          </a:xfrm>
          <a:custGeom>
            <a:avLst/>
            <a:gdLst/>
            <a:ahLst/>
            <a:rect l="0" t="0" r="r" b="b"/>
            <a:pathLst>
              <a:path fill="none" w="3692" h="3202">
                <a:moveTo>
                  <a:pt x="0" y="0"/>
                </a:moveTo>
                <a:lnTo>
                  <a:pt x="39" y="46"/>
                </a:lnTo>
                <a:lnTo>
                  <a:pt x="59" y="105"/>
                </a:lnTo>
                <a:lnTo>
                  <a:pt x="119" y="145"/>
                </a:lnTo>
                <a:lnTo>
                  <a:pt x="178" y="185"/>
                </a:lnTo>
                <a:lnTo>
                  <a:pt x="218" y="244"/>
                </a:lnTo>
                <a:lnTo>
                  <a:pt x="257" y="304"/>
                </a:lnTo>
                <a:lnTo>
                  <a:pt x="317" y="304"/>
                </a:lnTo>
                <a:lnTo>
                  <a:pt x="377" y="383"/>
                </a:lnTo>
                <a:lnTo>
                  <a:pt x="396" y="443"/>
                </a:lnTo>
                <a:lnTo>
                  <a:pt x="416" y="502"/>
                </a:lnTo>
                <a:lnTo>
                  <a:pt x="436" y="562"/>
                </a:lnTo>
                <a:lnTo>
                  <a:pt x="456" y="621"/>
                </a:lnTo>
                <a:lnTo>
                  <a:pt x="515" y="661"/>
                </a:lnTo>
                <a:lnTo>
                  <a:pt x="575" y="701"/>
                </a:lnTo>
                <a:lnTo>
                  <a:pt x="635" y="740"/>
                </a:lnTo>
                <a:lnTo>
                  <a:pt x="694" y="760"/>
                </a:lnTo>
                <a:lnTo>
                  <a:pt x="754" y="800"/>
                </a:lnTo>
                <a:lnTo>
                  <a:pt x="853" y="840"/>
                </a:lnTo>
                <a:lnTo>
                  <a:pt x="912" y="859"/>
                </a:lnTo>
                <a:lnTo>
                  <a:pt x="973" y="899"/>
                </a:lnTo>
                <a:lnTo>
                  <a:pt x="1052" y="939"/>
                </a:lnTo>
                <a:lnTo>
                  <a:pt x="1112" y="978"/>
                </a:lnTo>
                <a:lnTo>
                  <a:pt x="1191" y="998"/>
                </a:lnTo>
                <a:lnTo>
                  <a:pt x="1251" y="1038"/>
                </a:lnTo>
                <a:lnTo>
                  <a:pt x="1310" y="1117"/>
                </a:lnTo>
                <a:lnTo>
                  <a:pt x="1350" y="1177"/>
                </a:lnTo>
                <a:lnTo>
                  <a:pt x="1409" y="1236"/>
                </a:lnTo>
                <a:lnTo>
                  <a:pt x="1489" y="1296"/>
                </a:lnTo>
                <a:lnTo>
                  <a:pt x="1548" y="1336"/>
                </a:lnTo>
                <a:lnTo>
                  <a:pt x="1608" y="1355"/>
                </a:lnTo>
                <a:lnTo>
                  <a:pt x="1667" y="1375"/>
                </a:lnTo>
                <a:lnTo>
                  <a:pt x="1727" y="1395"/>
                </a:lnTo>
                <a:lnTo>
                  <a:pt x="1826" y="1475"/>
                </a:lnTo>
                <a:lnTo>
                  <a:pt x="1886" y="1494"/>
                </a:lnTo>
                <a:lnTo>
                  <a:pt x="1985" y="1554"/>
                </a:lnTo>
                <a:lnTo>
                  <a:pt x="2064" y="1634"/>
                </a:lnTo>
                <a:lnTo>
                  <a:pt x="2124" y="1654"/>
                </a:lnTo>
                <a:lnTo>
                  <a:pt x="2183" y="1714"/>
                </a:lnTo>
                <a:lnTo>
                  <a:pt x="2243" y="1753"/>
                </a:lnTo>
                <a:lnTo>
                  <a:pt x="2302" y="1813"/>
                </a:lnTo>
                <a:lnTo>
                  <a:pt x="2342" y="1872"/>
                </a:lnTo>
                <a:lnTo>
                  <a:pt x="2382" y="1932"/>
                </a:lnTo>
                <a:lnTo>
                  <a:pt x="2461" y="2011"/>
                </a:lnTo>
                <a:lnTo>
                  <a:pt x="2521" y="2051"/>
                </a:lnTo>
                <a:lnTo>
                  <a:pt x="2560" y="2111"/>
                </a:lnTo>
                <a:lnTo>
                  <a:pt x="2620" y="2150"/>
                </a:lnTo>
                <a:lnTo>
                  <a:pt x="2679" y="2230"/>
                </a:lnTo>
                <a:lnTo>
                  <a:pt x="2739" y="2289"/>
                </a:lnTo>
                <a:lnTo>
                  <a:pt x="2799" y="2309"/>
                </a:lnTo>
                <a:lnTo>
                  <a:pt x="2859" y="2369"/>
                </a:lnTo>
                <a:lnTo>
                  <a:pt x="2919" y="2388"/>
                </a:lnTo>
                <a:lnTo>
                  <a:pt x="2978" y="2408"/>
                </a:lnTo>
                <a:lnTo>
                  <a:pt x="3038" y="2408"/>
                </a:lnTo>
                <a:lnTo>
                  <a:pt x="3097" y="2428"/>
                </a:lnTo>
                <a:lnTo>
                  <a:pt x="3177" y="2468"/>
                </a:lnTo>
                <a:lnTo>
                  <a:pt x="3216" y="2527"/>
                </a:lnTo>
                <a:lnTo>
                  <a:pt x="3276" y="2607"/>
                </a:lnTo>
                <a:lnTo>
                  <a:pt x="3335" y="2666"/>
                </a:lnTo>
                <a:lnTo>
                  <a:pt x="3355" y="2726"/>
                </a:lnTo>
                <a:lnTo>
                  <a:pt x="3395" y="2785"/>
                </a:lnTo>
                <a:lnTo>
                  <a:pt x="3454" y="2865"/>
                </a:lnTo>
                <a:lnTo>
                  <a:pt x="3474" y="2924"/>
                </a:lnTo>
                <a:lnTo>
                  <a:pt x="3514" y="2984"/>
                </a:lnTo>
                <a:lnTo>
                  <a:pt x="3554" y="3043"/>
                </a:lnTo>
                <a:lnTo>
                  <a:pt x="3573" y="3103"/>
                </a:lnTo>
                <a:lnTo>
                  <a:pt x="3633" y="3162"/>
                </a:lnTo>
                <a:lnTo>
                  <a:pt x="3692" y="3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"/>
          <p:cNvSpPr/>
          <p:nvPr/>
        </p:nvSpPr>
        <p:spPr>
          <a:xfrm>
            <a:off x="3898800" y="1852560"/>
            <a:ext cx="1679760" cy="1421280"/>
          </a:xfrm>
          <a:custGeom>
            <a:avLst/>
            <a:gdLst/>
            <a:ahLst/>
            <a:rect l="0" t="0" r="r" b="b"/>
            <a:pathLst>
              <a:path fill="none" w="4666" h="3948">
                <a:moveTo>
                  <a:pt x="0" y="3948"/>
                </a:moveTo>
                <a:lnTo>
                  <a:pt x="33" y="3823"/>
                </a:lnTo>
                <a:lnTo>
                  <a:pt x="271" y="3591"/>
                </a:lnTo>
                <a:lnTo>
                  <a:pt x="528" y="3334"/>
                </a:lnTo>
                <a:lnTo>
                  <a:pt x="694" y="3228"/>
                </a:lnTo>
                <a:lnTo>
                  <a:pt x="912" y="2909"/>
                </a:lnTo>
                <a:lnTo>
                  <a:pt x="1018" y="2637"/>
                </a:lnTo>
                <a:lnTo>
                  <a:pt x="1137" y="2520"/>
                </a:lnTo>
                <a:lnTo>
                  <a:pt x="1269" y="2295"/>
                </a:lnTo>
                <a:lnTo>
                  <a:pt x="1461" y="2023"/>
                </a:lnTo>
                <a:lnTo>
                  <a:pt x="1672" y="1567"/>
                </a:lnTo>
                <a:lnTo>
                  <a:pt x="1970" y="1357"/>
                </a:lnTo>
                <a:lnTo>
                  <a:pt x="2082" y="1362"/>
                </a:lnTo>
                <a:lnTo>
                  <a:pt x="2254" y="1467"/>
                </a:lnTo>
                <a:lnTo>
                  <a:pt x="2307" y="1567"/>
                </a:lnTo>
                <a:lnTo>
                  <a:pt x="2447" y="1660"/>
                </a:lnTo>
                <a:lnTo>
                  <a:pt x="2645" y="1746"/>
                </a:lnTo>
                <a:lnTo>
                  <a:pt x="2764" y="1673"/>
                </a:lnTo>
                <a:lnTo>
                  <a:pt x="2982" y="1389"/>
                </a:lnTo>
                <a:lnTo>
                  <a:pt x="3029" y="1350"/>
                </a:lnTo>
                <a:lnTo>
                  <a:pt x="3101" y="1335"/>
                </a:lnTo>
                <a:lnTo>
                  <a:pt x="3209" y="1291"/>
                </a:lnTo>
                <a:lnTo>
                  <a:pt x="3273" y="1220"/>
                </a:lnTo>
                <a:lnTo>
                  <a:pt x="3315" y="1149"/>
                </a:lnTo>
                <a:lnTo>
                  <a:pt x="3361" y="1036"/>
                </a:lnTo>
                <a:lnTo>
                  <a:pt x="3427" y="997"/>
                </a:lnTo>
                <a:lnTo>
                  <a:pt x="3529" y="964"/>
                </a:lnTo>
                <a:lnTo>
                  <a:pt x="3546" y="969"/>
                </a:lnTo>
                <a:lnTo>
                  <a:pt x="3665" y="957"/>
                </a:lnTo>
                <a:lnTo>
                  <a:pt x="3721" y="935"/>
                </a:lnTo>
                <a:lnTo>
                  <a:pt x="3784" y="864"/>
                </a:lnTo>
                <a:lnTo>
                  <a:pt x="3848" y="839"/>
                </a:lnTo>
                <a:lnTo>
                  <a:pt x="3912" y="793"/>
                </a:lnTo>
                <a:lnTo>
                  <a:pt x="3998" y="697"/>
                </a:lnTo>
                <a:lnTo>
                  <a:pt x="4062" y="651"/>
                </a:lnTo>
                <a:lnTo>
                  <a:pt x="4126" y="626"/>
                </a:lnTo>
                <a:lnTo>
                  <a:pt x="4168" y="555"/>
                </a:lnTo>
                <a:lnTo>
                  <a:pt x="4232" y="509"/>
                </a:lnTo>
                <a:lnTo>
                  <a:pt x="4254" y="438"/>
                </a:lnTo>
                <a:lnTo>
                  <a:pt x="4298" y="342"/>
                </a:lnTo>
                <a:lnTo>
                  <a:pt x="4362" y="271"/>
                </a:lnTo>
                <a:lnTo>
                  <a:pt x="4426" y="200"/>
                </a:lnTo>
                <a:lnTo>
                  <a:pt x="4490" y="105"/>
                </a:lnTo>
                <a:lnTo>
                  <a:pt x="4554" y="34"/>
                </a:lnTo>
                <a:lnTo>
                  <a:pt x="4618" y="12"/>
                </a:lnTo>
                <a:lnTo>
                  <a:pt x="466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"/>
          <p:cNvSpPr/>
          <p:nvPr/>
        </p:nvSpPr>
        <p:spPr>
          <a:xfrm>
            <a:off x="3949560" y="1908000"/>
            <a:ext cx="1632240" cy="1365480"/>
          </a:xfrm>
          <a:custGeom>
            <a:avLst/>
            <a:gdLst/>
            <a:ahLst/>
            <a:rect l="0" t="0" r="r" b="b"/>
            <a:pathLst>
              <a:path fill="none" w="4534" h="3793">
                <a:moveTo>
                  <a:pt x="4534" y="0"/>
                </a:moveTo>
                <a:lnTo>
                  <a:pt x="4492" y="63"/>
                </a:lnTo>
                <a:lnTo>
                  <a:pt x="4428" y="127"/>
                </a:lnTo>
                <a:lnTo>
                  <a:pt x="4364" y="171"/>
                </a:lnTo>
                <a:lnTo>
                  <a:pt x="4320" y="235"/>
                </a:lnTo>
                <a:lnTo>
                  <a:pt x="4278" y="299"/>
                </a:lnTo>
                <a:lnTo>
                  <a:pt x="4236" y="363"/>
                </a:lnTo>
                <a:lnTo>
                  <a:pt x="4192" y="427"/>
                </a:lnTo>
                <a:lnTo>
                  <a:pt x="4150" y="491"/>
                </a:lnTo>
                <a:lnTo>
                  <a:pt x="4086" y="533"/>
                </a:lnTo>
                <a:lnTo>
                  <a:pt x="4022" y="597"/>
                </a:lnTo>
                <a:lnTo>
                  <a:pt x="3958" y="641"/>
                </a:lnTo>
                <a:lnTo>
                  <a:pt x="3894" y="705"/>
                </a:lnTo>
                <a:lnTo>
                  <a:pt x="3808" y="747"/>
                </a:lnTo>
                <a:lnTo>
                  <a:pt x="3744" y="811"/>
                </a:lnTo>
                <a:lnTo>
                  <a:pt x="3680" y="833"/>
                </a:lnTo>
                <a:lnTo>
                  <a:pt x="3649" y="890"/>
                </a:lnTo>
                <a:lnTo>
                  <a:pt x="3605" y="930"/>
                </a:lnTo>
                <a:lnTo>
                  <a:pt x="3539" y="956"/>
                </a:lnTo>
                <a:lnTo>
                  <a:pt x="3504" y="987"/>
                </a:lnTo>
                <a:lnTo>
                  <a:pt x="3459" y="1040"/>
                </a:lnTo>
                <a:lnTo>
                  <a:pt x="3362" y="1128"/>
                </a:lnTo>
                <a:lnTo>
                  <a:pt x="3279" y="1177"/>
                </a:lnTo>
                <a:lnTo>
                  <a:pt x="3217" y="1212"/>
                </a:lnTo>
                <a:lnTo>
                  <a:pt x="3173" y="1265"/>
                </a:lnTo>
                <a:lnTo>
                  <a:pt x="3111" y="1309"/>
                </a:lnTo>
                <a:lnTo>
                  <a:pt x="3089" y="1375"/>
                </a:lnTo>
                <a:lnTo>
                  <a:pt x="3018" y="1428"/>
                </a:lnTo>
                <a:lnTo>
                  <a:pt x="2956" y="1521"/>
                </a:lnTo>
                <a:lnTo>
                  <a:pt x="2859" y="1569"/>
                </a:lnTo>
                <a:lnTo>
                  <a:pt x="2811" y="1631"/>
                </a:lnTo>
                <a:lnTo>
                  <a:pt x="2731" y="1697"/>
                </a:lnTo>
                <a:lnTo>
                  <a:pt x="2648" y="1737"/>
                </a:lnTo>
                <a:lnTo>
                  <a:pt x="2581" y="1755"/>
                </a:lnTo>
                <a:lnTo>
                  <a:pt x="2506" y="1746"/>
                </a:lnTo>
                <a:lnTo>
                  <a:pt x="2392" y="1737"/>
                </a:lnTo>
                <a:lnTo>
                  <a:pt x="2315" y="1642"/>
                </a:lnTo>
                <a:lnTo>
                  <a:pt x="2250" y="1600"/>
                </a:lnTo>
                <a:lnTo>
                  <a:pt x="2186" y="1536"/>
                </a:lnTo>
                <a:lnTo>
                  <a:pt x="2119" y="1494"/>
                </a:lnTo>
                <a:lnTo>
                  <a:pt x="2077" y="1430"/>
                </a:lnTo>
                <a:lnTo>
                  <a:pt x="2014" y="1408"/>
                </a:lnTo>
                <a:lnTo>
                  <a:pt x="1950" y="1386"/>
                </a:lnTo>
                <a:lnTo>
                  <a:pt x="1888" y="1318"/>
                </a:lnTo>
                <a:lnTo>
                  <a:pt x="1800" y="1386"/>
                </a:lnTo>
                <a:lnTo>
                  <a:pt x="1758" y="1450"/>
                </a:lnTo>
                <a:lnTo>
                  <a:pt x="1716" y="1514"/>
                </a:lnTo>
                <a:lnTo>
                  <a:pt x="1672" y="1578"/>
                </a:lnTo>
                <a:lnTo>
                  <a:pt x="1608" y="1642"/>
                </a:lnTo>
                <a:lnTo>
                  <a:pt x="1566" y="1708"/>
                </a:lnTo>
                <a:lnTo>
                  <a:pt x="1502" y="1772"/>
                </a:lnTo>
                <a:lnTo>
                  <a:pt x="1458" y="1836"/>
                </a:lnTo>
                <a:lnTo>
                  <a:pt x="1416" y="1901"/>
                </a:lnTo>
                <a:lnTo>
                  <a:pt x="1352" y="1965"/>
                </a:lnTo>
                <a:lnTo>
                  <a:pt x="1330" y="2029"/>
                </a:lnTo>
                <a:lnTo>
                  <a:pt x="1288" y="2093"/>
                </a:lnTo>
                <a:lnTo>
                  <a:pt x="1224" y="2177"/>
                </a:lnTo>
                <a:lnTo>
                  <a:pt x="1182" y="2241"/>
                </a:lnTo>
                <a:lnTo>
                  <a:pt x="1118" y="2305"/>
                </a:lnTo>
                <a:lnTo>
                  <a:pt x="1074" y="2371"/>
                </a:lnTo>
                <a:lnTo>
                  <a:pt x="1032" y="2435"/>
                </a:lnTo>
                <a:lnTo>
                  <a:pt x="990" y="2499"/>
                </a:lnTo>
                <a:lnTo>
                  <a:pt x="946" y="2563"/>
                </a:lnTo>
                <a:lnTo>
                  <a:pt x="904" y="2626"/>
                </a:lnTo>
                <a:lnTo>
                  <a:pt x="862" y="2690"/>
                </a:lnTo>
                <a:lnTo>
                  <a:pt x="818" y="2754"/>
                </a:lnTo>
                <a:lnTo>
                  <a:pt x="776" y="2818"/>
                </a:lnTo>
                <a:lnTo>
                  <a:pt x="754" y="2882"/>
                </a:lnTo>
                <a:lnTo>
                  <a:pt x="712" y="2946"/>
                </a:lnTo>
                <a:lnTo>
                  <a:pt x="668" y="3010"/>
                </a:lnTo>
                <a:lnTo>
                  <a:pt x="626" y="3074"/>
                </a:lnTo>
                <a:lnTo>
                  <a:pt x="562" y="3160"/>
                </a:lnTo>
                <a:lnTo>
                  <a:pt x="520" y="3224"/>
                </a:lnTo>
                <a:lnTo>
                  <a:pt x="456" y="3244"/>
                </a:lnTo>
                <a:lnTo>
                  <a:pt x="392" y="3288"/>
                </a:lnTo>
                <a:lnTo>
                  <a:pt x="348" y="3352"/>
                </a:lnTo>
                <a:lnTo>
                  <a:pt x="284" y="3394"/>
                </a:lnTo>
                <a:lnTo>
                  <a:pt x="220" y="3458"/>
                </a:lnTo>
                <a:lnTo>
                  <a:pt x="178" y="3522"/>
                </a:lnTo>
                <a:lnTo>
                  <a:pt x="114" y="3586"/>
                </a:lnTo>
                <a:lnTo>
                  <a:pt x="70" y="3650"/>
                </a:lnTo>
                <a:lnTo>
                  <a:pt x="28" y="3713"/>
                </a:lnTo>
                <a:lnTo>
                  <a:pt x="0" y="37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"/>
          <p:cNvSpPr/>
          <p:nvPr/>
        </p:nvSpPr>
        <p:spPr>
          <a:xfrm>
            <a:off x="4008600" y="2065320"/>
            <a:ext cx="1575000" cy="1208520"/>
          </a:xfrm>
          <a:custGeom>
            <a:avLst/>
            <a:gdLst/>
            <a:ahLst/>
            <a:rect l="0" t="0" r="r" b="b"/>
            <a:pathLst>
              <a:path fill="none" w="4375" h="3357">
                <a:moveTo>
                  <a:pt x="4375" y="0"/>
                </a:moveTo>
                <a:lnTo>
                  <a:pt x="4326" y="13"/>
                </a:lnTo>
                <a:lnTo>
                  <a:pt x="4262" y="33"/>
                </a:lnTo>
                <a:lnTo>
                  <a:pt x="4199" y="77"/>
                </a:lnTo>
                <a:lnTo>
                  <a:pt x="4135" y="97"/>
                </a:lnTo>
                <a:lnTo>
                  <a:pt x="4071" y="141"/>
                </a:lnTo>
                <a:lnTo>
                  <a:pt x="4027" y="224"/>
                </a:lnTo>
                <a:lnTo>
                  <a:pt x="3963" y="288"/>
                </a:lnTo>
                <a:lnTo>
                  <a:pt x="3899" y="352"/>
                </a:lnTo>
                <a:lnTo>
                  <a:pt x="3835" y="396"/>
                </a:lnTo>
                <a:lnTo>
                  <a:pt x="3771" y="460"/>
                </a:lnTo>
                <a:lnTo>
                  <a:pt x="3707" y="502"/>
                </a:lnTo>
                <a:lnTo>
                  <a:pt x="3665" y="566"/>
                </a:lnTo>
                <a:lnTo>
                  <a:pt x="3630" y="648"/>
                </a:lnTo>
                <a:lnTo>
                  <a:pt x="3586" y="727"/>
                </a:lnTo>
                <a:lnTo>
                  <a:pt x="3475" y="784"/>
                </a:lnTo>
                <a:lnTo>
                  <a:pt x="3356" y="815"/>
                </a:lnTo>
                <a:lnTo>
                  <a:pt x="3279" y="845"/>
                </a:lnTo>
                <a:lnTo>
                  <a:pt x="3215" y="909"/>
                </a:lnTo>
                <a:lnTo>
                  <a:pt x="3151" y="973"/>
                </a:lnTo>
                <a:lnTo>
                  <a:pt x="3109" y="1037"/>
                </a:lnTo>
                <a:lnTo>
                  <a:pt x="3045" y="1079"/>
                </a:lnTo>
                <a:lnTo>
                  <a:pt x="3004" y="1143"/>
                </a:lnTo>
                <a:lnTo>
                  <a:pt x="2940" y="1187"/>
                </a:lnTo>
                <a:lnTo>
                  <a:pt x="2876" y="1229"/>
                </a:lnTo>
                <a:lnTo>
                  <a:pt x="2812" y="1273"/>
                </a:lnTo>
                <a:lnTo>
                  <a:pt x="2748" y="1293"/>
                </a:lnTo>
                <a:lnTo>
                  <a:pt x="2684" y="1315"/>
                </a:lnTo>
                <a:lnTo>
                  <a:pt x="2618" y="1356"/>
                </a:lnTo>
                <a:lnTo>
                  <a:pt x="2554" y="1379"/>
                </a:lnTo>
                <a:lnTo>
                  <a:pt x="2490" y="1379"/>
                </a:lnTo>
                <a:lnTo>
                  <a:pt x="2426" y="1401"/>
                </a:lnTo>
                <a:lnTo>
                  <a:pt x="2362" y="1420"/>
                </a:lnTo>
                <a:lnTo>
                  <a:pt x="2278" y="1442"/>
                </a:lnTo>
                <a:lnTo>
                  <a:pt x="2169" y="1442"/>
                </a:lnTo>
                <a:lnTo>
                  <a:pt x="2105" y="1420"/>
                </a:lnTo>
                <a:lnTo>
                  <a:pt x="2041" y="1379"/>
                </a:lnTo>
                <a:lnTo>
                  <a:pt x="1977" y="1356"/>
                </a:lnTo>
                <a:lnTo>
                  <a:pt x="1913" y="1315"/>
                </a:lnTo>
                <a:lnTo>
                  <a:pt x="1849" y="1293"/>
                </a:lnTo>
                <a:lnTo>
                  <a:pt x="1785" y="1273"/>
                </a:lnTo>
                <a:lnTo>
                  <a:pt x="1721" y="1251"/>
                </a:lnTo>
                <a:lnTo>
                  <a:pt x="1649" y="1185"/>
                </a:lnTo>
                <a:lnTo>
                  <a:pt x="1572" y="1251"/>
                </a:lnTo>
                <a:lnTo>
                  <a:pt x="1508" y="1273"/>
                </a:lnTo>
                <a:lnTo>
                  <a:pt x="1466" y="1337"/>
                </a:lnTo>
                <a:lnTo>
                  <a:pt x="1402" y="1379"/>
                </a:lnTo>
                <a:lnTo>
                  <a:pt x="1338" y="1420"/>
                </a:lnTo>
                <a:lnTo>
                  <a:pt x="1274" y="1484"/>
                </a:lnTo>
                <a:lnTo>
                  <a:pt x="1252" y="1548"/>
                </a:lnTo>
                <a:lnTo>
                  <a:pt x="1210" y="1612"/>
                </a:lnTo>
                <a:lnTo>
                  <a:pt x="1166" y="1676"/>
                </a:lnTo>
                <a:lnTo>
                  <a:pt x="1124" y="1740"/>
                </a:lnTo>
                <a:lnTo>
                  <a:pt x="1082" y="1804"/>
                </a:lnTo>
                <a:lnTo>
                  <a:pt x="1038" y="1868"/>
                </a:lnTo>
                <a:lnTo>
                  <a:pt x="996" y="1934"/>
                </a:lnTo>
                <a:lnTo>
                  <a:pt x="954" y="1998"/>
                </a:lnTo>
                <a:lnTo>
                  <a:pt x="910" y="2062"/>
                </a:lnTo>
                <a:lnTo>
                  <a:pt x="868" y="2126"/>
                </a:lnTo>
                <a:lnTo>
                  <a:pt x="826" y="2190"/>
                </a:lnTo>
                <a:lnTo>
                  <a:pt x="782" y="2254"/>
                </a:lnTo>
                <a:lnTo>
                  <a:pt x="762" y="2318"/>
                </a:lnTo>
                <a:lnTo>
                  <a:pt x="698" y="2382"/>
                </a:lnTo>
                <a:lnTo>
                  <a:pt x="676" y="2446"/>
                </a:lnTo>
                <a:lnTo>
                  <a:pt x="612" y="2510"/>
                </a:lnTo>
                <a:lnTo>
                  <a:pt x="568" y="2575"/>
                </a:lnTo>
                <a:lnTo>
                  <a:pt x="549" y="2639"/>
                </a:lnTo>
                <a:lnTo>
                  <a:pt x="526" y="2702"/>
                </a:lnTo>
                <a:lnTo>
                  <a:pt x="463" y="2766"/>
                </a:lnTo>
                <a:lnTo>
                  <a:pt x="399" y="2830"/>
                </a:lnTo>
                <a:lnTo>
                  <a:pt x="335" y="2894"/>
                </a:lnTo>
                <a:lnTo>
                  <a:pt x="271" y="2958"/>
                </a:lnTo>
                <a:lnTo>
                  <a:pt x="229" y="3022"/>
                </a:lnTo>
                <a:lnTo>
                  <a:pt x="165" y="3064"/>
                </a:lnTo>
                <a:lnTo>
                  <a:pt x="121" y="3128"/>
                </a:lnTo>
                <a:lnTo>
                  <a:pt x="79" y="3192"/>
                </a:lnTo>
                <a:lnTo>
                  <a:pt x="37" y="3258"/>
                </a:lnTo>
                <a:lnTo>
                  <a:pt x="0" y="33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4091040" y="2244600"/>
            <a:ext cx="1492560" cy="1027440"/>
          </a:xfrm>
          <a:custGeom>
            <a:avLst/>
            <a:gdLst/>
            <a:ahLst/>
            <a:rect l="0" t="0" r="r" b="b"/>
            <a:pathLst>
              <a:path fill="none" w="4146" h="2854">
                <a:moveTo>
                  <a:pt x="4146" y="0"/>
                </a:moveTo>
                <a:lnTo>
                  <a:pt x="4097" y="46"/>
                </a:lnTo>
                <a:lnTo>
                  <a:pt x="4033" y="68"/>
                </a:lnTo>
                <a:lnTo>
                  <a:pt x="3969" y="90"/>
                </a:lnTo>
                <a:lnTo>
                  <a:pt x="3905" y="112"/>
                </a:lnTo>
                <a:lnTo>
                  <a:pt x="3841" y="154"/>
                </a:lnTo>
                <a:lnTo>
                  <a:pt x="3777" y="176"/>
                </a:lnTo>
                <a:lnTo>
                  <a:pt x="3711" y="240"/>
                </a:lnTo>
                <a:lnTo>
                  <a:pt x="3669" y="304"/>
                </a:lnTo>
                <a:lnTo>
                  <a:pt x="3605" y="346"/>
                </a:lnTo>
                <a:lnTo>
                  <a:pt x="3542" y="388"/>
                </a:lnTo>
                <a:lnTo>
                  <a:pt x="3478" y="432"/>
                </a:lnTo>
                <a:lnTo>
                  <a:pt x="3414" y="474"/>
                </a:lnTo>
                <a:lnTo>
                  <a:pt x="3350" y="496"/>
                </a:lnTo>
                <a:lnTo>
                  <a:pt x="3286" y="537"/>
                </a:lnTo>
                <a:lnTo>
                  <a:pt x="3222" y="579"/>
                </a:lnTo>
                <a:lnTo>
                  <a:pt x="3158" y="643"/>
                </a:lnTo>
                <a:lnTo>
                  <a:pt x="3072" y="707"/>
                </a:lnTo>
                <a:lnTo>
                  <a:pt x="3008" y="751"/>
                </a:lnTo>
                <a:lnTo>
                  <a:pt x="2922" y="793"/>
                </a:lnTo>
                <a:lnTo>
                  <a:pt x="2838" y="857"/>
                </a:lnTo>
                <a:lnTo>
                  <a:pt x="2774" y="901"/>
                </a:lnTo>
                <a:lnTo>
                  <a:pt x="2710" y="943"/>
                </a:lnTo>
                <a:lnTo>
                  <a:pt x="2624" y="985"/>
                </a:lnTo>
                <a:lnTo>
                  <a:pt x="2560" y="1029"/>
                </a:lnTo>
                <a:lnTo>
                  <a:pt x="2496" y="1049"/>
                </a:lnTo>
                <a:lnTo>
                  <a:pt x="2432" y="1071"/>
                </a:lnTo>
                <a:lnTo>
                  <a:pt x="2369" y="1071"/>
                </a:lnTo>
                <a:lnTo>
                  <a:pt x="2283" y="1093"/>
                </a:lnTo>
                <a:lnTo>
                  <a:pt x="2197" y="1113"/>
                </a:lnTo>
                <a:lnTo>
                  <a:pt x="2133" y="1113"/>
                </a:lnTo>
                <a:lnTo>
                  <a:pt x="2048" y="1113"/>
                </a:lnTo>
                <a:lnTo>
                  <a:pt x="1984" y="1135"/>
                </a:lnTo>
                <a:lnTo>
                  <a:pt x="1920" y="1135"/>
                </a:lnTo>
                <a:lnTo>
                  <a:pt x="1856" y="1113"/>
                </a:lnTo>
                <a:lnTo>
                  <a:pt x="1792" y="1093"/>
                </a:lnTo>
                <a:lnTo>
                  <a:pt x="1726" y="1093"/>
                </a:lnTo>
                <a:lnTo>
                  <a:pt x="1662" y="1071"/>
                </a:lnTo>
                <a:lnTo>
                  <a:pt x="1578" y="1029"/>
                </a:lnTo>
                <a:lnTo>
                  <a:pt x="1514" y="1007"/>
                </a:lnTo>
                <a:lnTo>
                  <a:pt x="1426" y="978"/>
                </a:lnTo>
                <a:lnTo>
                  <a:pt x="1349" y="923"/>
                </a:lnTo>
                <a:lnTo>
                  <a:pt x="1274" y="963"/>
                </a:lnTo>
                <a:lnTo>
                  <a:pt x="1172" y="1029"/>
                </a:lnTo>
                <a:lnTo>
                  <a:pt x="1109" y="1049"/>
                </a:lnTo>
                <a:lnTo>
                  <a:pt x="1064" y="1113"/>
                </a:lnTo>
                <a:lnTo>
                  <a:pt x="1001" y="1177"/>
                </a:lnTo>
                <a:lnTo>
                  <a:pt x="959" y="1241"/>
                </a:lnTo>
                <a:lnTo>
                  <a:pt x="937" y="1305"/>
                </a:lnTo>
                <a:lnTo>
                  <a:pt x="895" y="1369"/>
                </a:lnTo>
                <a:lnTo>
                  <a:pt x="853" y="1436"/>
                </a:lnTo>
                <a:lnTo>
                  <a:pt x="831" y="1500"/>
                </a:lnTo>
                <a:lnTo>
                  <a:pt x="767" y="1542"/>
                </a:lnTo>
                <a:lnTo>
                  <a:pt x="725" y="1628"/>
                </a:lnTo>
                <a:lnTo>
                  <a:pt x="661" y="1692"/>
                </a:lnTo>
                <a:lnTo>
                  <a:pt x="639" y="1756"/>
                </a:lnTo>
                <a:lnTo>
                  <a:pt x="597" y="1820"/>
                </a:lnTo>
                <a:lnTo>
                  <a:pt x="553" y="1883"/>
                </a:lnTo>
                <a:lnTo>
                  <a:pt x="511" y="1947"/>
                </a:lnTo>
                <a:lnTo>
                  <a:pt x="489" y="2011"/>
                </a:lnTo>
                <a:lnTo>
                  <a:pt x="447" y="2075"/>
                </a:lnTo>
                <a:lnTo>
                  <a:pt x="403" y="2139"/>
                </a:lnTo>
                <a:lnTo>
                  <a:pt x="361" y="2203"/>
                </a:lnTo>
                <a:lnTo>
                  <a:pt x="339" y="2267"/>
                </a:lnTo>
                <a:lnTo>
                  <a:pt x="297" y="2331"/>
                </a:lnTo>
                <a:lnTo>
                  <a:pt x="255" y="2395"/>
                </a:lnTo>
                <a:lnTo>
                  <a:pt x="211" y="2459"/>
                </a:lnTo>
                <a:lnTo>
                  <a:pt x="169" y="2523"/>
                </a:lnTo>
                <a:lnTo>
                  <a:pt x="127" y="2587"/>
                </a:lnTo>
                <a:lnTo>
                  <a:pt x="83" y="2651"/>
                </a:lnTo>
                <a:lnTo>
                  <a:pt x="63" y="2715"/>
                </a:lnTo>
                <a:lnTo>
                  <a:pt x="19" y="2779"/>
                </a:lnTo>
                <a:lnTo>
                  <a:pt x="0" y="285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4124160" y="2502000"/>
            <a:ext cx="1459440" cy="771840"/>
          </a:xfrm>
          <a:custGeom>
            <a:avLst/>
            <a:gdLst/>
            <a:ahLst/>
            <a:rect l="0" t="0" r="r" b="b"/>
            <a:pathLst>
              <a:path fill="none" w="4054" h="2144">
                <a:moveTo>
                  <a:pt x="4054" y="0"/>
                </a:moveTo>
                <a:lnTo>
                  <a:pt x="4006" y="15"/>
                </a:lnTo>
                <a:lnTo>
                  <a:pt x="3942" y="37"/>
                </a:lnTo>
                <a:lnTo>
                  <a:pt x="3878" y="79"/>
                </a:lnTo>
                <a:lnTo>
                  <a:pt x="3814" y="123"/>
                </a:lnTo>
                <a:lnTo>
                  <a:pt x="3750" y="165"/>
                </a:lnTo>
                <a:lnTo>
                  <a:pt x="3686" y="207"/>
                </a:lnTo>
                <a:lnTo>
                  <a:pt x="3620" y="251"/>
                </a:lnTo>
                <a:lnTo>
                  <a:pt x="3556" y="293"/>
                </a:lnTo>
                <a:lnTo>
                  <a:pt x="3472" y="357"/>
                </a:lnTo>
                <a:lnTo>
                  <a:pt x="3386" y="399"/>
                </a:lnTo>
                <a:lnTo>
                  <a:pt x="3322" y="443"/>
                </a:lnTo>
                <a:lnTo>
                  <a:pt x="3258" y="485"/>
                </a:lnTo>
                <a:lnTo>
                  <a:pt x="3152" y="526"/>
                </a:lnTo>
                <a:lnTo>
                  <a:pt x="3066" y="549"/>
                </a:lnTo>
                <a:lnTo>
                  <a:pt x="3001" y="571"/>
                </a:lnTo>
                <a:lnTo>
                  <a:pt x="2937" y="590"/>
                </a:lnTo>
                <a:lnTo>
                  <a:pt x="2809" y="612"/>
                </a:lnTo>
                <a:lnTo>
                  <a:pt x="2724" y="635"/>
                </a:lnTo>
                <a:lnTo>
                  <a:pt x="2510" y="635"/>
                </a:lnTo>
                <a:lnTo>
                  <a:pt x="2446" y="635"/>
                </a:lnTo>
                <a:lnTo>
                  <a:pt x="2382" y="654"/>
                </a:lnTo>
                <a:lnTo>
                  <a:pt x="2318" y="654"/>
                </a:lnTo>
                <a:lnTo>
                  <a:pt x="2232" y="654"/>
                </a:lnTo>
                <a:lnTo>
                  <a:pt x="2168" y="654"/>
                </a:lnTo>
                <a:lnTo>
                  <a:pt x="2104" y="654"/>
                </a:lnTo>
                <a:lnTo>
                  <a:pt x="2020" y="635"/>
                </a:lnTo>
                <a:lnTo>
                  <a:pt x="1934" y="635"/>
                </a:lnTo>
                <a:lnTo>
                  <a:pt x="1828" y="635"/>
                </a:lnTo>
                <a:lnTo>
                  <a:pt x="1764" y="635"/>
                </a:lnTo>
                <a:lnTo>
                  <a:pt x="1678" y="612"/>
                </a:lnTo>
                <a:lnTo>
                  <a:pt x="1614" y="590"/>
                </a:lnTo>
                <a:lnTo>
                  <a:pt x="1551" y="571"/>
                </a:lnTo>
                <a:lnTo>
                  <a:pt x="1423" y="571"/>
                </a:lnTo>
                <a:lnTo>
                  <a:pt x="1359" y="571"/>
                </a:lnTo>
                <a:lnTo>
                  <a:pt x="1290" y="535"/>
                </a:lnTo>
                <a:lnTo>
                  <a:pt x="1198" y="606"/>
                </a:lnTo>
                <a:lnTo>
                  <a:pt x="1138" y="646"/>
                </a:lnTo>
                <a:lnTo>
                  <a:pt x="1103" y="720"/>
                </a:lnTo>
                <a:lnTo>
                  <a:pt x="1039" y="762"/>
                </a:lnTo>
                <a:lnTo>
                  <a:pt x="972" y="826"/>
                </a:lnTo>
                <a:lnTo>
                  <a:pt x="908" y="890"/>
                </a:lnTo>
                <a:lnTo>
                  <a:pt x="866" y="954"/>
                </a:lnTo>
                <a:lnTo>
                  <a:pt x="802" y="1018"/>
                </a:lnTo>
                <a:lnTo>
                  <a:pt x="738" y="1060"/>
                </a:lnTo>
                <a:lnTo>
                  <a:pt x="674" y="1125"/>
                </a:lnTo>
                <a:lnTo>
                  <a:pt x="610" y="1169"/>
                </a:lnTo>
                <a:lnTo>
                  <a:pt x="568" y="1233"/>
                </a:lnTo>
                <a:lnTo>
                  <a:pt x="482" y="1317"/>
                </a:lnTo>
                <a:lnTo>
                  <a:pt x="440" y="1383"/>
                </a:lnTo>
                <a:lnTo>
                  <a:pt x="418" y="1447"/>
                </a:lnTo>
                <a:lnTo>
                  <a:pt x="377" y="1511"/>
                </a:lnTo>
                <a:lnTo>
                  <a:pt x="354" y="1575"/>
                </a:lnTo>
                <a:lnTo>
                  <a:pt x="310" y="1639"/>
                </a:lnTo>
                <a:lnTo>
                  <a:pt x="268" y="1703"/>
                </a:lnTo>
                <a:lnTo>
                  <a:pt x="246" y="1767"/>
                </a:lnTo>
                <a:lnTo>
                  <a:pt x="205" y="1831"/>
                </a:lnTo>
                <a:lnTo>
                  <a:pt x="183" y="1894"/>
                </a:lnTo>
                <a:lnTo>
                  <a:pt x="99" y="1978"/>
                </a:lnTo>
                <a:lnTo>
                  <a:pt x="55" y="2044"/>
                </a:lnTo>
                <a:lnTo>
                  <a:pt x="0" y="214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4175280" y="2716200"/>
            <a:ext cx="1408320" cy="560880"/>
          </a:xfrm>
          <a:custGeom>
            <a:avLst/>
            <a:gdLst/>
            <a:ahLst/>
            <a:rect l="0" t="0" r="r" b="b"/>
            <a:pathLst>
              <a:path fill="none" w="3912" h="1558">
                <a:moveTo>
                  <a:pt x="3912" y="0"/>
                </a:moveTo>
                <a:lnTo>
                  <a:pt x="3863" y="17"/>
                </a:lnTo>
                <a:lnTo>
                  <a:pt x="3819" y="81"/>
                </a:lnTo>
                <a:lnTo>
                  <a:pt x="3755" y="125"/>
                </a:lnTo>
                <a:lnTo>
                  <a:pt x="3691" y="167"/>
                </a:lnTo>
                <a:lnTo>
                  <a:pt x="3608" y="253"/>
                </a:lnTo>
                <a:lnTo>
                  <a:pt x="3500" y="317"/>
                </a:lnTo>
                <a:lnTo>
                  <a:pt x="3436" y="337"/>
                </a:lnTo>
                <a:lnTo>
                  <a:pt x="3372" y="359"/>
                </a:lnTo>
                <a:lnTo>
                  <a:pt x="3266" y="359"/>
                </a:lnTo>
                <a:lnTo>
                  <a:pt x="3202" y="359"/>
                </a:lnTo>
                <a:lnTo>
                  <a:pt x="3138" y="359"/>
                </a:lnTo>
                <a:lnTo>
                  <a:pt x="2541" y="337"/>
                </a:lnTo>
                <a:lnTo>
                  <a:pt x="2432" y="337"/>
                </a:lnTo>
                <a:lnTo>
                  <a:pt x="2369" y="337"/>
                </a:lnTo>
                <a:lnTo>
                  <a:pt x="2155" y="317"/>
                </a:lnTo>
                <a:lnTo>
                  <a:pt x="2071" y="295"/>
                </a:lnTo>
                <a:lnTo>
                  <a:pt x="2007" y="295"/>
                </a:lnTo>
                <a:lnTo>
                  <a:pt x="1942" y="253"/>
                </a:lnTo>
                <a:lnTo>
                  <a:pt x="1856" y="231"/>
                </a:lnTo>
                <a:lnTo>
                  <a:pt x="1770" y="231"/>
                </a:lnTo>
                <a:lnTo>
                  <a:pt x="1706" y="231"/>
                </a:lnTo>
                <a:lnTo>
                  <a:pt x="1622" y="231"/>
                </a:lnTo>
                <a:lnTo>
                  <a:pt x="1558" y="231"/>
                </a:lnTo>
                <a:lnTo>
                  <a:pt x="1472" y="231"/>
                </a:lnTo>
                <a:lnTo>
                  <a:pt x="1408" y="231"/>
                </a:lnTo>
                <a:lnTo>
                  <a:pt x="1344" y="231"/>
                </a:lnTo>
                <a:lnTo>
                  <a:pt x="1281" y="231"/>
                </a:lnTo>
                <a:lnTo>
                  <a:pt x="1217" y="231"/>
                </a:lnTo>
                <a:lnTo>
                  <a:pt x="1153" y="253"/>
                </a:lnTo>
                <a:lnTo>
                  <a:pt x="1089" y="273"/>
                </a:lnTo>
                <a:lnTo>
                  <a:pt x="1003" y="295"/>
                </a:lnTo>
                <a:lnTo>
                  <a:pt x="939" y="317"/>
                </a:lnTo>
                <a:lnTo>
                  <a:pt x="875" y="337"/>
                </a:lnTo>
                <a:lnTo>
                  <a:pt x="811" y="381"/>
                </a:lnTo>
                <a:lnTo>
                  <a:pt x="747" y="424"/>
                </a:lnTo>
                <a:lnTo>
                  <a:pt x="703" y="488"/>
                </a:lnTo>
                <a:lnTo>
                  <a:pt x="639" y="511"/>
                </a:lnTo>
                <a:lnTo>
                  <a:pt x="575" y="552"/>
                </a:lnTo>
                <a:lnTo>
                  <a:pt x="533" y="617"/>
                </a:lnTo>
                <a:lnTo>
                  <a:pt x="491" y="681"/>
                </a:lnTo>
                <a:lnTo>
                  <a:pt x="427" y="745"/>
                </a:lnTo>
                <a:lnTo>
                  <a:pt x="363" y="831"/>
                </a:lnTo>
                <a:lnTo>
                  <a:pt x="319" y="895"/>
                </a:lnTo>
                <a:lnTo>
                  <a:pt x="277" y="959"/>
                </a:lnTo>
                <a:lnTo>
                  <a:pt x="255" y="1023"/>
                </a:lnTo>
                <a:lnTo>
                  <a:pt x="235" y="1087"/>
                </a:lnTo>
                <a:lnTo>
                  <a:pt x="191" y="1174"/>
                </a:lnTo>
                <a:lnTo>
                  <a:pt x="149" y="1238"/>
                </a:lnTo>
                <a:lnTo>
                  <a:pt x="127" y="1302"/>
                </a:lnTo>
                <a:lnTo>
                  <a:pt x="105" y="1366"/>
                </a:lnTo>
                <a:lnTo>
                  <a:pt x="63" y="1430"/>
                </a:lnTo>
                <a:lnTo>
                  <a:pt x="22" y="1494"/>
                </a:lnTo>
                <a:lnTo>
                  <a:pt x="0" y="155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4227480" y="2906640"/>
            <a:ext cx="1356120" cy="367200"/>
          </a:xfrm>
          <a:custGeom>
            <a:avLst/>
            <a:gdLst/>
            <a:ahLst/>
            <a:rect l="0" t="0" r="r" b="b"/>
            <a:pathLst>
              <a:path fill="none" w="3767" h="1020">
                <a:moveTo>
                  <a:pt x="3767" y="216"/>
                </a:moveTo>
                <a:lnTo>
                  <a:pt x="3719" y="213"/>
                </a:lnTo>
                <a:lnTo>
                  <a:pt x="3591" y="235"/>
                </a:lnTo>
                <a:lnTo>
                  <a:pt x="3527" y="258"/>
                </a:lnTo>
                <a:lnTo>
                  <a:pt x="3441" y="258"/>
                </a:lnTo>
                <a:lnTo>
                  <a:pt x="3377" y="235"/>
                </a:lnTo>
                <a:lnTo>
                  <a:pt x="3313" y="235"/>
                </a:lnTo>
                <a:lnTo>
                  <a:pt x="3249" y="235"/>
                </a:lnTo>
                <a:lnTo>
                  <a:pt x="3185" y="213"/>
                </a:lnTo>
                <a:lnTo>
                  <a:pt x="3099" y="213"/>
                </a:lnTo>
                <a:lnTo>
                  <a:pt x="2993" y="235"/>
                </a:lnTo>
                <a:lnTo>
                  <a:pt x="2930" y="235"/>
                </a:lnTo>
                <a:lnTo>
                  <a:pt x="2866" y="258"/>
                </a:lnTo>
                <a:lnTo>
                  <a:pt x="2801" y="258"/>
                </a:lnTo>
                <a:lnTo>
                  <a:pt x="2737" y="258"/>
                </a:lnTo>
                <a:lnTo>
                  <a:pt x="2671" y="258"/>
                </a:lnTo>
                <a:lnTo>
                  <a:pt x="2587" y="235"/>
                </a:lnTo>
                <a:lnTo>
                  <a:pt x="2523" y="213"/>
                </a:lnTo>
                <a:lnTo>
                  <a:pt x="2459" y="191"/>
                </a:lnTo>
                <a:lnTo>
                  <a:pt x="2373" y="171"/>
                </a:lnTo>
                <a:lnTo>
                  <a:pt x="2309" y="149"/>
                </a:lnTo>
                <a:lnTo>
                  <a:pt x="2245" y="149"/>
                </a:lnTo>
                <a:lnTo>
                  <a:pt x="2181" y="127"/>
                </a:lnTo>
                <a:lnTo>
                  <a:pt x="2117" y="127"/>
                </a:lnTo>
                <a:lnTo>
                  <a:pt x="2031" y="85"/>
                </a:lnTo>
                <a:lnTo>
                  <a:pt x="1967" y="85"/>
                </a:lnTo>
                <a:lnTo>
                  <a:pt x="1881" y="63"/>
                </a:lnTo>
                <a:lnTo>
                  <a:pt x="1817" y="44"/>
                </a:lnTo>
                <a:lnTo>
                  <a:pt x="1734" y="44"/>
                </a:lnTo>
                <a:lnTo>
                  <a:pt x="1520" y="0"/>
                </a:lnTo>
                <a:lnTo>
                  <a:pt x="1434" y="0"/>
                </a:lnTo>
                <a:lnTo>
                  <a:pt x="1348" y="0"/>
                </a:lnTo>
                <a:lnTo>
                  <a:pt x="1284" y="22"/>
                </a:lnTo>
                <a:lnTo>
                  <a:pt x="1220" y="44"/>
                </a:lnTo>
                <a:lnTo>
                  <a:pt x="1156" y="63"/>
                </a:lnTo>
                <a:lnTo>
                  <a:pt x="1092" y="108"/>
                </a:lnTo>
                <a:lnTo>
                  <a:pt x="1028" y="127"/>
                </a:lnTo>
                <a:lnTo>
                  <a:pt x="964" y="171"/>
                </a:lnTo>
                <a:lnTo>
                  <a:pt x="899" y="171"/>
                </a:lnTo>
                <a:lnTo>
                  <a:pt x="815" y="191"/>
                </a:lnTo>
                <a:lnTo>
                  <a:pt x="751" y="213"/>
                </a:lnTo>
                <a:lnTo>
                  <a:pt x="685" y="235"/>
                </a:lnTo>
                <a:lnTo>
                  <a:pt x="621" y="258"/>
                </a:lnTo>
                <a:lnTo>
                  <a:pt x="557" y="278"/>
                </a:lnTo>
                <a:lnTo>
                  <a:pt x="493" y="300"/>
                </a:lnTo>
                <a:lnTo>
                  <a:pt x="429" y="364"/>
                </a:lnTo>
                <a:lnTo>
                  <a:pt x="366" y="406"/>
                </a:lnTo>
                <a:lnTo>
                  <a:pt x="324" y="470"/>
                </a:lnTo>
                <a:lnTo>
                  <a:pt x="260" y="514"/>
                </a:lnTo>
                <a:lnTo>
                  <a:pt x="218" y="578"/>
                </a:lnTo>
                <a:lnTo>
                  <a:pt x="154" y="620"/>
                </a:lnTo>
                <a:lnTo>
                  <a:pt x="110" y="684"/>
                </a:lnTo>
                <a:lnTo>
                  <a:pt x="68" y="748"/>
                </a:lnTo>
                <a:lnTo>
                  <a:pt x="68" y="813"/>
                </a:lnTo>
                <a:lnTo>
                  <a:pt x="46" y="877"/>
                </a:lnTo>
                <a:lnTo>
                  <a:pt x="24" y="941"/>
                </a:lnTo>
                <a:lnTo>
                  <a:pt x="0" y="102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>
            <a:off x="4282920" y="3046320"/>
            <a:ext cx="1298880" cy="230400"/>
          </a:xfrm>
          <a:custGeom>
            <a:avLst/>
            <a:gdLst/>
            <a:ahLst/>
            <a:rect l="0" t="0" r="r" b="b"/>
            <a:pathLst>
              <a:path fill="none" w="3608" h="640">
                <a:moveTo>
                  <a:pt x="3608" y="255"/>
                </a:moveTo>
                <a:lnTo>
                  <a:pt x="3502" y="275"/>
                </a:lnTo>
                <a:lnTo>
                  <a:pt x="3438" y="275"/>
                </a:lnTo>
                <a:lnTo>
                  <a:pt x="3374" y="275"/>
                </a:lnTo>
                <a:lnTo>
                  <a:pt x="3310" y="233"/>
                </a:lnTo>
                <a:lnTo>
                  <a:pt x="3246" y="211"/>
                </a:lnTo>
                <a:lnTo>
                  <a:pt x="3032" y="211"/>
                </a:lnTo>
                <a:lnTo>
                  <a:pt x="2968" y="211"/>
                </a:lnTo>
                <a:lnTo>
                  <a:pt x="2904" y="211"/>
                </a:lnTo>
                <a:lnTo>
                  <a:pt x="2796" y="211"/>
                </a:lnTo>
                <a:lnTo>
                  <a:pt x="2732" y="211"/>
                </a:lnTo>
                <a:lnTo>
                  <a:pt x="2668" y="211"/>
                </a:lnTo>
                <a:lnTo>
                  <a:pt x="2584" y="211"/>
                </a:lnTo>
                <a:lnTo>
                  <a:pt x="2518" y="211"/>
                </a:lnTo>
                <a:lnTo>
                  <a:pt x="2454" y="211"/>
                </a:lnTo>
                <a:lnTo>
                  <a:pt x="2370" y="211"/>
                </a:lnTo>
                <a:lnTo>
                  <a:pt x="2242" y="211"/>
                </a:lnTo>
                <a:lnTo>
                  <a:pt x="2178" y="191"/>
                </a:lnTo>
                <a:lnTo>
                  <a:pt x="2092" y="169"/>
                </a:lnTo>
                <a:lnTo>
                  <a:pt x="2006" y="127"/>
                </a:lnTo>
                <a:lnTo>
                  <a:pt x="1942" y="105"/>
                </a:lnTo>
                <a:lnTo>
                  <a:pt x="1878" y="83"/>
                </a:lnTo>
                <a:lnTo>
                  <a:pt x="1814" y="63"/>
                </a:lnTo>
                <a:lnTo>
                  <a:pt x="1727" y="19"/>
                </a:lnTo>
                <a:lnTo>
                  <a:pt x="1621" y="19"/>
                </a:lnTo>
                <a:lnTo>
                  <a:pt x="1535" y="0"/>
                </a:lnTo>
                <a:lnTo>
                  <a:pt x="1323" y="0"/>
                </a:lnTo>
                <a:lnTo>
                  <a:pt x="1215" y="0"/>
                </a:lnTo>
                <a:lnTo>
                  <a:pt x="1151" y="19"/>
                </a:lnTo>
                <a:lnTo>
                  <a:pt x="1087" y="19"/>
                </a:lnTo>
                <a:lnTo>
                  <a:pt x="1023" y="19"/>
                </a:lnTo>
                <a:lnTo>
                  <a:pt x="937" y="19"/>
                </a:lnTo>
                <a:lnTo>
                  <a:pt x="853" y="63"/>
                </a:lnTo>
                <a:lnTo>
                  <a:pt x="789" y="63"/>
                </a:lnTo>
                <a:lnTo>
                  <a:pt x="725" y="83"/>
                </a:lnTo>
                <a:lnTo>
                  <a:pt x="661" y="105"/>
                </a:lnTo>
                <a:lnTo>
                  <a:pt x="597" y="127"/>
                </a:lnTo>
                <a:lnTo>
                  <a:pt x="511" y="191"/>
                </a:lnTo>
                <a:lnTo>
                  <a:pt x="447" y="233"/>
                </a:lnTo>
                <a:lnTo>
                  <a:pt x="383" y="275"/>
                </a:lnTo>
                <a:lnTo>
                  <a:pt x="319" y="319"/>
                </a:lnTo>
                <a:lnTo>
                  <a:pt x="255" y="362"/>
                </a:lnTo>
                <a:lnTo>
                  <a:pt x="191" y="404"/>
                </a:lnTo>
                <a:lnTo>
                  <a:pt x="127" y="448"/>
                </a:lnTo>
                <a:lnTo>
                  <a:pt x="63" y="512"/>
                </a:lnTo>
                <a:lnTo>
                  <a:pt x="19" y="576"/>
                </a:lnTo>
                <a:lnTo>
                  <a:pt x="0" y="64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4398840" y="3191040"/>
            <a:ext cx="945000" cy="86040"/>
          </a:xfrm>
          <a:custGeom>
            <a:avLst/>
            <a:gdLst/>
            <a:ahLst/>
            <a:rect l="0" t="0" r="r" b="b"/>
            <a:pathLst>
              <a:path fill="none" w="2625" h="239">
                <a:moveTo>
                  <a:pt x="2625" y="239"/>
                </a:moveTo>
                <a:lnTo>
                  <a:pt x="2561" y="216"/>
                </a:lnTo>
                <a:lnTo>
                  <a:pt x="2497" y="216"/>
                </a:lnTo>
                <a:lnTo>
                  <a:pt x="2411" y="216"/>
                </a:lnTo>
                <a:lnTo>
                  <a:pt x="2347" y="216"/>
                </a:lnTo>
                <a:lnTo>
                  <a:pt x="2219" y="196"/>
                </a:lnTo>
                <a:lnTo>
                  <a:pt x="2197" y="132"/>
                </a:lnTo>
                <a:lnTo>
                  <a:pt x="2133" y="109"/>
                </a:lnTo>
                <a:lnTo>
                  <a:pt x="2049" y="109"/>
                </a:lnTo>
                <a:lnTo>
                  <a:pt x="1962" y="109"/>
                </a:lnTo>
                <a:lnTo>
                  <a:pt x="1898" y="109"/>
                </a:lnTo>
                <a:lnTo>
                  <a:pt x="1834" y="86"/>
                </a:lnTo>
                <a:lnTo>
                  <a:pt x="1748" y="44"/>
                </a:lnTo>
                <a:lnTo>
                  <a:pt x="1684" y="22"/>
                </a:lnTo>
                <a:lnTo>
                  <a:pt x="1578" y="0"/>
                </a:lnTo>
                <a:lnTo>
                  <a:pt x="1470" y="0"/>
                </a:lnTo>
                <a:lnTo>
                  <a:pt x="1386" y="0"/>
                </a:lnTo>
                <a:lnTo>
                  <a:pt x="1300" y="22"/>
                </a:lnTo>
                <a:lnTo>
                  <a:pt x="1236" y="44"/>
                </a:lnTo>
                <a:lnTo>
                  <a:pt x="1108" y="64"/>
                </a:lnTo>
                <a:lnTo>
                  <a:pt x="894" y="86"/>
                </a:lnTo>
                <a:lnTo>
                  <a:pt x="830" y="86"/>
                </a:lnTo>
                <a:lnTo>
                  <a:pt x="766" y="132"/>
                </a:lnTo>
                <a:lnTo>
                  <a:pt x="702" y="174"/>
                </a:lnTo>
                <a:lnTo>
                  <a:pt x="637" y="174"/>
                </a:lnTo>
                <a:lnTo>
                  <a:pt x="573" y="174"/>
                </a:lnTo>
                <a:lnTo>
                  <a:pt x="509" y="174"/>
                </a:lnTo>
                <a:lnTo>
                  <a:pt x="445" y="174"/>
                </a:lnTo>
                <a:lnTo>
                  <a:pt x="359" y="174"/>
                </a:lnTo>
                <a:lnTo>
                  <a:pt x="295" y="174"/>
                </a:lnTo>
                <a:lnTo>
                  <a:pt x="231" y="152"/>
                </a:lnTo>
                <a:lnTo>
                  <a:pt x="167" y="152"/>
                </a:lnTo>
                <a:lnTo>
                  <a:pt x="103" y="174"/>
                </a:lnTo>
                <a:lnTo>
                  <a:pt x="0" y="23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"/>
          <p:cNvSpPr/>
          <p:nvPr/>
        </p:nvSpPr>
        <p:spPr>
          <a:xfrm>
            <a:off x="4797360" y="587520"/>
            <a:ext cx="20016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"/>
          <p:cNvSpPr/>
          <p:nvPr/>
        </p:nvSpPr>
        <p:spPr>
          <a:xfrm>
            <a:off x="4789440" y="12175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>
            <a:off x="3298680" y="125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>
            <a:off x="3398760" y="3096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>
            <a:off x="3514680" y="5014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"/>
          <p:cNvSpPr/>
          <p:nvPr/>
        </p:nvSpPr>
        <p:spPr>
          <a:xfrm>
            <a:off x="3691080" y="81756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"/>
          <p:cNvSpPr/>
          <p:nvPr/>
        </p:nvSpPr>
        <p:spPr>
          <a:xfrm>
            <a:off x="4167360" y="9097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"/>
          <p:cNvSpPr/>
          <p:nvPr/>
        </p:nvSpPr>
        <p:spPr>
          <a:xfrm>
            <a:off x="4183200" y="17780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"/>
          <p:cNvSpPr/>
          <p:nvPr/>
        </p:nvSpPr>
        <p:spPr>
          <a:xfrm>
            <a:off x="3137040" y="19764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"/>
          <p:cNvSpPr/>
          <p:nvPr/>
        </p:nvSpPr>
        <p:spPr>
          <a:xfrm>
            <a:off x="4313160" y="20383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"/>
          <p:cNvSpPr/>
          <p:nvPr/>
        </p:nvSpPr>
        <p:spPr>
          <a:xfrm>
            <a:off x="4608360" y="2017800"/>
            <a:ext cx="17604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"/>
          <p:cNvSpPr/>
          <p:nvPr/>
        </p:nvSpPr>
        <p:spPr>
          <a:xfrm>
            <a:off x="4853160" y="2341440"/>
            <a:ext cx="16668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"/>
          <p:cNvSpPr/>
          <p:nvPr/>
        </p:nvSpPr>
        <p:spPr>
          <a:xfrm>
            <a:off x="5127480" y="2222640"/>
            <a:ext cx="160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"/>
          <p:cNvSpPr/>
          <p:nvPr/>
        </p:nvSpPr>
        <p:spPr>
          <a:xfrm>
            <a:off x="5135400" y="26384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"/>
          <p:cNvSpPr/>
          <p:nvPr/>
        </p:nvSpPr>
        <p:spPr>
          <a:xfrm>
            <a:off x="5157720" y="24145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"/>
          <p:cNvSpPr/>
          <p:nvPr/>
        </p:nvSpPr>
        <p:spPr>
          <a:xfrm>
            <a:off x="5372280" y="2152800"/>
            <a:ext cx="18432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"/>
          <p:cNvSpPr/>
          <p:nvPr/>
        </p:nvSpPr>
        <p:spPr>
          <a:xfrm>
            <a:off x="5181480" y="30751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"/>
          <p:cNvSpPr/>
          <p:nvPr/>
        </p:nvSpPr>
        <p:spPr>
          <a:xfrm>
            <a:off x="4888080" y="28987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"/>
          <p:cNvSpPr/>
          <p:nvPr/>
        </p:nvSpPr>
        <p:spPr>
          <a:xfrm>
            <a:off x="5280120" y="27972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"/>
          <p:cNvSpPr/>
          <p:nvPr/>
        </p:nvSpPr>
        <p:spPr>
          <a:xfrm>
            <a:off x="4675320" y="315288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"/>
          <p:cNvSpPr txBox="1"/>
          <p:nvPr/>
        </p:nvSpPr>
        <p:spPr>
          <a:xfrm>
            <a:off x="3322800" y="125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"/>
          <p:cNvSpPr txBox="1"/>
          <p:nvPr/>
        </p:nvSpPr>
        <p:spPr>
          <a:xfrm>
            <a:off x="3384720" y="3031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 txBox="1"/>
          <p:nvPr/>
        </p:nvSpPr>
        <p:spPr>
          <a:xfrm>
            <a:off x="3506760" y="493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 txBox="1"/>
          <p:nvPr/>
        </p:nvSpPr>
        <p:spPr>
          <a:xfrm>
            <a:off x="3684600" y="8096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 txBox="1"/>
          <p:nvPr/>
        </p:nvSpPr>
        <p:spPr>
          <a:xfrm>
            <a:off x="3138480" y="1960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 txBox="1"/>
          <p:nvPr/>
        </p:nvSpPr>
        <p:spPr>
          <a:xfrm>
            <a:off x="4175280" y="176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 txBox="1"/>
          <p:nvPr/>
        </p:nvSpPr>
        <p:spPr>
          <a:xfrm>
            <a:off x="4307040" y="20224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 txBox="1"/>
          <p:nvPr/>
        </p:nvSpPr>
        <p:spPr>
          <a:xfrm>
            <a:off x="4808520" y="23209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4937040" y="287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 txBox="1"/>
          <p:nvPr/>
        </p:nvSpPr>
        <p:spPr>
          <a:xfrm>
            <a:off x="4930920" y="2793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"/>
          <p:cNvSpPr txBox="1"/>
          <p:nvPr/>
        </p:nvSpPr>
        <p:spPr>
          <a:xfrm>
            <a:off x="4782960" y="577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"/>
          <p:cNvSpPr txBox="1"/>
          <p:nvPr/>
        </p:nvSpPr>
        <p:spPr>
          <a:xfrm>
            <a:off x="4151160" y="901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"/>
          <p:cNvSpPr txBox="1"/>
          <p:nvPr/>
        </p:nvSpPr>
        <p:spPr>
          <a:xfrm>
            <a:off x="4782960" y="12002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"/>
          <p:cNvSpPr txBox="1"/>
          <p:nvPr/>
        </p:nvSpPr>
        <p:spPr>
          <a:xfrm>
            <a:off x="4562640" y="20019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"/>
          <p:cNvSpPr txBox="1"/>
          <p:nvPr/>
        </p:nvSpPr>
        <p:spPr>
          <a:xfrm>
            <a:off x="5086440" y="2206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"/>
          <p:cNvSpPr txBox="1"/>
          <p:nvPr/>
        </p:nvSpPr>
        <p:spPr>
          <a:xfrm>
            <a:off x="5335560" y="21286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"/>
          <p:cNvSpPr txBox="1"/>
          <p:nvPr/>
        </p:nvSpPr>
        <p:spPr>
          <a:xfrm>
            <a:off x="5148360" y="239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"/>
          <p:cNvSpPr txBox="1"/>
          <p:nvPr/>
        </p:nvSpPr>
        <p:spPr>
          <a:xfrm>
            <a:off x="5119560" y="26128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"/>
          <p:cNvSpPr txBox="1"/>
          <p:nvPr/>
        </p:nvSpPr>
        <p:spPr>
          <a:xfrm>
            <a:off x="5268960" y="277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"/>
          <p:cNvSpPr txBox="1"/>
          <p:nvPr/>
        </p:nvSpPr>
        <p:spPr>
          <a:xfrm>
            <a:off x="4876920" y="2870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"/>
          <p:cNvSpPr txBox="1"/>
          <p:nvPr/>
        </p:nvSpPr>
        <p:spPr>
          <a:xfrm>
            <a:off x="5168880" y="3046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"/>
          <p:cNvSpPr txBox="1"/>
          <p:nvPr/>
        </p:nvSpPr>
        <p:spPr>
          <a:xfrm>
            <a:off x="4662360" y="3127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>
            <a:off x="4751280" y="2232000"/>
            <a:ext cx="162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 txBox="1"/>
          <p:nvPr/>
        </p:nvSpPr>
        <p:spPr>
          <a:xfrm>
            <a:off x="4705200" y="22176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5197320" y="81000"/>
            <a:ext cx="386280" cy="437040"/>
          </a:xfrm>
          <a:custGeom>
            <a:avLst/>
            <a:gdLst/>
            <a:ahLst/>
            <a:rect l="0" t="0" r="r" b="b"/>
            <a:pathLst>
              <a:path fill="none" w="1073" h="1214">
                <a:moveTo>
                  <a:pt x="0" y="0"/>
                </a:moveTo>
                <a:lnTo>
                  <a:pt x="22" y="63"/>
                </a:lnTo>
                <a:lnTo>
                  <a:pt x="44" y="127"/>
                </a:lnTo>
                <a:lnTo>
                  <a:pt x="107" y="171"/>
                </a:lnTo>
                <a:lnTo>
                  <a:pt x="171" y="213"/>
                </a:lnTo>
                <a:lnTo>
                  <a:pt x="191" y="277"/>
                </a:lnTo>
                <a:lnTo>
                  <a:pt x="235" y="342"/>
                </a:lnTo>
                <a:lnTo>
                  <a:pt x="255" y="427"/>
                </a:lnTo>
                <a:lnTo>
                  <a:pt x="300" y="491"/>
                </a:lnTo>
                <a:lnTo>
                  <a:pt x="342" y="555"/>
                </a:lnTo>
                <a:lnTo>
                  <a:pt x="405" y="597"/>
                </a:lnTo>
                <a:lnTo>
                  <a:pt x="469" y="619"/>
                </a:lnTo>
                <a:lnTo>
                  <a:pt x="533" y="639"/>
                </a:lnTo>
                <a:lnTo>
                  <a:pt x="597" y="683"/>
                </a:lnTo>
                <a:lnTo>
                  <a:pt x="661" y="725"/>
                </a:lnTo>
                <a:lnTo>
                  <a:pt x="705" y="788"/>
                </a:lnTo>
                <a:lnTo>
                  <a:pt x="724" y="852"/>
                </a:lnTo>
                <a:lnTo>
                  <a:pt x="768" y="917"/>
                </a:lnTo>
                <a:lnTo>
                  <a:pt x="768" y="981"/>
                </a:lnTo>
                <a:lnTo>
                  <a:pt x="811" y="1045"/>
                </a:lnTo>
                <a:lnTo>
                  <a:pt x="875" y="1067"/>
                </a:lnTo>
                <a:lnTo>
                  <a:pt x="939" y="1089"/>
                </a:lnTo>
                <a:lnTo>
                  <a:pt x="1003" y="1131"/>
                </a:lnTo>
                <a:lnTo>
                  <a:pt x="1073" y="1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"/>
          <p:cNvSpPr/>
          <p:nvPr/>
        </p:nvSpPr>
        <p:spPr>
          <a:xfrm>
            <a:off x="5175360" y="17136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"/>
          <p:cNvSpPr txBox="1"/>
          <p:nvPr/>
        </p:nvSpPr>
        <p:spPr>
          <a:xfrm>
            <a:off x="5165640" y="16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4" name=""/>
          <p:cNvGrpSpPr/>
          <p:nvPr/>
        </p:nvGrpSpPr>
        <p:grpSpPr>
          <a:xfrm>
            <a:off x="2854440" y="917640"/>
            <a:ext cx="2941560" cy="0"/>
            <a:chOff x="2854440" y="917640"/>
            <a:chExt cx="2941560" cy="0"/>
          </a:xfrm>
        </p:grpSpPr>
        <p:sp>
          <p:nvSpPr>
            <p:cNvPr id="4625" name=""/>
            <p:cNvSpPr/>
            <p:nvPr/>
          </p:nvSpPr>
          <p:spPr>
            <a:xfrm>
              <a:off x="2854440" y="9176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353052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362268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3706920" y="9176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713120" y="9176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79736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897440" y="917640"/>
              <a:ext cx="898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2" name=""/>
          <p:cNvGrpSpPr/>
          <p:nvPr/>
        </p:nvGrpSpPr>
        <p:grpSpPr>
          <a:xfrm>
            <a:off x="2854440" y="2154240"/>
            <a:ext cx="2957400" cy="0"/>
            <a:chOff x="2854440" y="2154240"/>
            <a:chExt cx="2957400" cy="0"/>
          </a:xfrm>
        </p:grpSpPr>
        <p:sp>
          <p:nvSpPr>
            <p:cNvPr id="4633" name=""/>
            <p:cNvSpPr/>
            <p:nvPr/>
          </p:nvSpPr>
          <p:spPr>
            <a:xfrm>
              <a:off x="2854440" y="21542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353052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362268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3706920" y="21542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4713120" y="21542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479736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4897440" y="2154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0" name=""/>
          <p:cNvGrpSpPr/>
          <p:nvPr/>
        </p:nvGrpSpPr>
        <p:grpSpPr>
          <a:xfrm>
            <a:off x="2854440" y="1554120"/>
            <a:ext cx="2949480" cy="0"/>
            <a:chOff x="2854440" y="1554120"/>
            <a:chExt cx="2949480" cy="0"/>
          </a:xfrm>
        </p:grpSpPr>
        <p:sp>
          <p:nvSpPr>
            <p:cNvPr id="4641" name=""/>
            <p:cNvSpPr/>
            <p:nvPr/>
          </p:nvSpPr>
          <p:spPr>
            <a:xfrm>
              <a:off x="2854440" y="155412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353052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362268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3706920" y="155412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4713120" y="155412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479736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4897440" y="1554120"/>
              <a:ext cx="90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8" name=""/>
          <p:cNvSpPr txBox="1"/>
          <p:nvPr/>
        </p:nvSpPr>
        <p:spPr>
          <a:xfrm>
            <a:off x="285444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"/>
          <p:cNvSpPr txBox="1"/>
          <p:nvPr/>
        </p:nvSpPr>
        <p:spPr>
          <a:xfrm>
            <a:off x="568152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"/>
          <p:cNvSpPr txBox="1"/>
          <p:nvPr/>
        </p:nvSpPr>
        <p:spPr>
          <a:xfrm>
            <a:off x="285444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"/>
          <p:cNvSpPr txBox="1"/>
          <p:nvPr/>
        </p:nvSpPr>
        <p:spPr>
          <a:xfrm>
            <a:off x="568152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"/>
          <p:cNvSpPr txBox="1"/>
          <p:nvPr/>
        </p:nvSpPr>
        <p:spPr>
          <a:xfrm>
            <a:off x="2854440" y="201312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"/>
          <p:cNvSpPr txBox="1"/>
          <p:nvPr/>
        </p:nvSpPr>
        <p:spPr>
          <a:xfrm>
            <a:off x="5681520" y="202104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"/>
          <p:cNvSpPr/>
          <p:nvPr/>
        </p:nvSpPr>
        <p:spPr>
          <a:xfrm>
            <a:off x="5586480" y="3305160"/>
            <a:ext cx="0" cy="1046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"/>
          <p:cNvSpPr/>
          <p:nvPr/>
        </p:nvSpPr>
        <p:spPr>
          <a:xfrm>
            <a:off x="3065400" y="3352680"/>
            <a:ext cx="0" cy="90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"/>
          <p:cNvSpPr/>
          <p:nvPr/>
        </p:nvSpPr>
        <p:spPr>
          <a:xfrm>
            <a:off x="2749680" y="47880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"/>
          <p:cNvSpPr/>
          <p:nvPr/>
        </p:nvSpPr>
        <p:spPr>
          <a:xfrm>
            <a:off x="2749680" y="49402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"/>
          <p:cNvSpPr/>
          <p:nvPr/>
        </p:nvSpPr>
        <p:spPr>
          <a:xfrm>
            <a:off x="2749680" y="509256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"/>
          <p:cNvSpPr/>
          <p:nvPr/>
        </p:nvSpPr>
        <p:spPr>
          <a:xfrm>
            <a:off x="2749680" y="52452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"/>
          <p:cNvSpPr/>
          <p:nvPr/>
        </p:nvSpPr>
        <p:spPr>
          <a:xfrm>
            <a:off x="2749680" y="53974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"/>
          <p:cNvSpPr txBox="1"/>
          <p:nvPr/>
        </p:nvSpPr>
        <p:spPr>
          <a:xfrm>
            <a:off x="5637240" y="4664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"/>
          <p:cNvSpPr txBox="1"/>
          <p:nvPr/>
        </p:nvSpPr>
        <p:spPr>
          <a:xfrm>
            <a:off x="5637240" y="4816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"/>
          <p:cNvSpPr txBox="1"/>
          <p:nvPr/>
        </p:nvSpPr>
        <p:spPr>
          <a:xfrm>
            <a:off x="5637240" y="496872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"/>
          <p:cNvSpPr txBox="1"/>
          <p:nvPr/>
        </p:nvSpPr>
        <p:spPr>
          <a:xfrm>
            <a:off x="5637240" y="5121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"/>
          <p:cNvSpPr txBox="1"/>
          <p:nvPr/>
        </p:nvSpPr>
        <p:spPr>
          <a:xfrm>
            <a:off x="5637240" y="5273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/>
          <p:nvPr/>
        </p:nvSpPr>
        <p:spPr>
          <a:xfrm>
            <a:off x="3067200" y="4695840"/>
            <a:ext cx="2524320" cy="702000"/>
          </a:xfrm>
          <a:custGeom>
            <a:avLst/>
            <a:gdLst/>
            <a:ahLst/>
            <a:rect l="0" t="0" r="r" b="b"/>
            <a:pathLst>
              <a:path w="7012" h="1950">
                <a:moveTo>
                  <a:pt x="0" y="0"/>
                </a:moveTo>
                <a:lnTo>
                  <a:pt x="39" y="52"/>
                </a:lnTo>
                <a:lnTo>
                  <a:pt x="92" y="57"/>
                </a:lnTo>
                <a:lnTo>
                  <a:pt x="132" y="97"/>
                </a:lnTo>
                <a:lnTo>
                  <a:pt x="171" y="110"/>
                </a:lnTo>
                <a:lnTo>
                  <a:pt x="211" y="123"/>
                </a:lnTo>
                <a:lnTo>
                  <a:pt x="251" y="136"/>
                </a:lnTo>
                <a:lnTo>
                  <a:pt x="291" y="123"/>
                </a:lnTo>
                <a:lnTo>
                  <a:pt x="330" y="123"/>
                </a:lnTo>
                <a:lnTo>
                  <a:pt x="370" y="123"/>
                </a:lnTo>
                <a:lnTo>
                  <a:pt x="436" y="149"/>
                </a:lnTo>
                <a:lnTo>
                  <a:pt x="476" y="176"/>
                </a:lnTo>
                <a:lnTo>
                  <a:pt x="515" y="189"/>
                </a:lnTo>
                <a:lnTo>
                  <a:pt x="555" y="202"/>
                </a:lnTo>
                <a:lnTo>
                  <a:pt x="621" y="202"/>
                </a:lnTo>
                <a:lnTo>
                  <a:pt x="661" y="216"/>
                </a:lnTo>
                <a:lnTo>
                  <a:pt x="701" y="229"/>
                </a:lnTo>
                <a:lnTo>
                  <a:pt x="767" y="282"/>
                </a:lnTo>
                <a:lnTo>
                  <a:pt x="806" y="321"/>
                </a:lnTo>
                <a:lnTo>
                  <a:pt x="846" y="361"/>
                </a:lnTo>
                <a:lnTo>
                  <a:pt x="899" y="388"/>
                </a:lnTo>
                <a:lnTo>
                  <a:pt x="939" y="401"/>
                </a:lnTo>
                <a:lnTo>
                  <a:pt x="992" y="414"/>
                </a:lnTo>
                <a:lnTo>
                  <a:pt x="1150" y="427"/>
                </a:lnTo>
                <a:lnTo>
                  <a:pt x="1203" y="440"/>
                </a:lnTo>
                <a:lnTo>
                  <a:pt x="1243" y="467"/>
                </a:lnTo>
                <a:lnTo>
                  <a:pt x="1283" y="480"/>
                </a:lnTo>
                <a:lnTo>
                  <a:pt x="1322" y="493"/>
                </a:lnTo>
                <a:lnTo>
                  <a:pt x="1362" y="507"/>
                </a:lnTo>
                <a:lnTo>
                  <a:pt x="1415" y="533"/>
                </a:lnTo>
                <a:lnTo>
                  <a:pt x="1468" y="573"/>
                </a:lnTo>
                <a:lnTo>
                  <a:pt x="1521" y="586"/>
                </a:lnTo>
                <a:lnTo>
                  <a:pt x="1561" y="599"/>
                </a:lnTo>
                <a:lnTo>
                  <a:pt x="1613" y="599"/>
                </a:lnTo>
                <a:lnTo>
                  <a:pt x="1653" y="612"/>
                </a:lnTo>
                <a:lnTo>
                  <a:pt x="1693" y="639"/>
                </a:lnTo>
                <a:lnTo>
                  <a:pt x="1733" y="652"/>
                </a:lnTo>
                <a:lnTo>
                  <a:pt x="1772" y="679"/>
                </a:lnTo>
                <a:lnTo>
                  <a:pt x="1812" y="692"/>
                </a:lnTo>
                <a:lnTo>
                  <a:pt x="1838" y="732"/>
                </a:lnTo>
                <a:lnTo>
                  <a:pt x="1878" y="758"/>
                </a:lnTo>
                <a:lnTo>
                  <a:pt x="1918" y="784"/>
                </a:lnTo>
                <a:lnTo>
                  <a:pt x="1957" y="811"/>
                </a:lnTo>
                <a:lnTo>
                  <a:pt x="2024" y="851"/>
                </a:lnTo>
                <a:lnTo>
                  <a:pt x="2037" y="890"/>
                </a:lnTo>
                <a:lnTo>
                  <a:pt x="2063" y="930"/>
                </a:lnTo>
                <a:lnTo>
                  <a:pt x="2103" y="956"/>
                </a:lnTo>
                <a:lnTo>
                  <a:pt x="2143" y="984"/>
                </a:lnTo>
                <a:lnTo>
                  <a:pt x="2182" y="1024"/>
                </a:lnTo>
                <a:lnTo>
                  <a:pt x="2235" y="1050"/>
                </a:lnTo>
                <a:lnTo>
                  <a:pt x="2275" y="1076"/>
                </a:lnTo>
                <a:lnTo>
                  <a:pt x="2288" y="1129"/>
                </a:lnTo>
                <a:lnTo>
                  <a:pt x="2301" y="1169"/>
                </a:lnTo>
                <a:lnTo>
                  <a:pt x="2328" y="1209"/>
                </a:lnTo>
                <a:lnTo>
                  <a:pt x="2368" y="1222"/>
                </a:lnTo>
                <a:lnTo>
                  <a:pt x="2407" y="1235"/>
                </a:lnTo>
                <a:lnTo>
                  <a:pt x="2447" y="1248"/>
                </a:lnTo>
                <a:lnTo>
                  <a:pt x="2500" y="1262"/>
                </a:lnTo>
                <a:lnTo>
                  <a:pt x="2540" y="1315"/>
                </a:lnTo>
                <a:lnTo>
                  <a:pt x="2592" y="1341"/>
                </a:lnTo>
                <a:lnTo>
                  <a:pt x="2632" y="1368"/>
                </a:lnTo>
                <a:lnTo>
                  <a:pt x="2685" y="1381"/>
                </a:lnTo>
                <a:lnTo>
                  <a:pt x="2725" y="1394"/>
                </a:lnTo>
                <a:lnTo>
                  <a:pt x="2764" y="1420"/>
                </a:lnTo>
                <a:lnTo>
                  <a:pt x="2831" y="1447"/>
                </a:lnTo>
                <a:lnTo>
                  <a:pt x="2883" y="1460"/>
                </a:lnTo>
                <a:lnTo>
                  <a:pt x="2923" y="1473"/>
                </a:lnTo>
                <a:lnTo>
                  <a:pt x="2963" y="1487"/>
                </a:lnTo>
                <a:lnTo>
                  <a:pt x="3003" y="1500"/>
                </a:lnTo>
                <a:lnTo>
                  <a:pt x="3055" y="1500"/>
                </a:lnTo>
                <a:lnTo>
                  <a:pt x="3095" y="1513"/>
                </a:lnTo>
                <a:lnTo>
                  <a:pt x="3135" y="1513"/>
                </a:lnTo>
                <a:lnTo>
                  <a:pt x="3175" y="1526"/>
                </a:lnTo>
                <a:lnTo>
                  <a:pt x="3214" y="1539"/>
                </a:lnTo>
                <a:lnTo>
                  <a:pt x="3254" y="1553"/>
                </a:lnTo>
                <a:lnTo>
                  <a:pt x="3280" y="1592"/>
                </a:lnTo>
                <a:lnTo>
                  <a:pt x="3294" y="1632"/>
                </a:lnTo>
                <a:lnTo>
                  <a:pt x="3320" y="1672"/>
                </a:lnTo>
                <a:lnTo>
                  <a:pt x="3333" y="1711"/>
                </a:lnTo>
                <a:lnTo>
                  <a:pt x="3373" y="1751"/>
                </a:lnTo>
                <a:lnTo>
                  <a:pt x="3386" y="1791"/>
                </a:lnTo>
                <a:lnTo>
                  <a:pt x="3399" y="1831"/>
                </a:lnTo>
                <a:lnTo>
                  <a:pt x="3426" y="1870"/>
                </a:lnTo>
                <a:lnTo>
                  <a:pt x="3466" y="1897"/>
                </a:lnTo>
                <a:lnTo>
                  <a:pt x="3505" y="1936"/>
                </a:lnTo>
                <a:lnTo>
                  <a:pt x="3546" y="1950"/>
                </a:lnTo>
                <a:lnTo>
                  <a:pt x="3586" y="1950"/>
                </a:lnTo>
                <a:lnTo>
                  <a:pt x="3625" y="1923"/>
                </a:lnTo>
                <a:lnTo>
                  <a:pt x="3639" y="1883"/>
                </a:lnTo>
                <a:lnTo>
                  <a:pt x="3665" y="1844"/>
                </a:lnTo>
                <a:lnTo>
                  <a:pt x="3691" y="1804"/>
                </a:lnTo>
                <a:lnTo>
                  <a:pt x="3718" y="1764"/>
                </a:lnTo>
                <a:lnTo>
                  <a:pt x="3758" y="1738"/>
                </a:lnTo>
                <a:lnTo>
                  <a:pt x="3797" y="1698"/>
                </a:lnTo>
                <a:lnTo>
                  <a:pt x="3824" y="1659"/>
                </a:lnTo>
                <a:lnTo>
                  <a:pt x="3824" y="1619"/>
                </a:lnTo>
                <a:lnTo>
                  <a:pt x="3850" y="1579"/>
                </a:lnTo>
                <a:lnTo>
                  <a:pt x="3877" y="1539"/>
                </a:lnTo>
                <a:lnTo>
                  <a:pt x="3903" y="1500"/>
                </a:lnTo>
                <a:lnTo>
                  <a:pt x="3930" y="1460"/>
                </a:lnTo>
                <a:lnTo>
                  <a:pt x="3956" y="1420"/>
                </a:lnTo>
                <a:lnTo>
                  <a:pt x="3996" y="1368"/>
                </a:lnTo>
                <a:lnTo>
                  <a:pt x="4022" y="1328"/>
                </a:lnTo>
                <a:lnTo>
                  <a:pt x="4062" y="1288"/>
                </a:lnTo>
                <a:lnTo>
                  <a:pt x="4088" y="1248"/>
                </a:lnTo>
                <a:lnTo>
                  <a:pt x="4128" y="1222"/>
                </a:lnTo>
                <a:lnTo>
                  <a:pt x="4168" y="1182"/>
                </a:lnTo>
                <a:lnTo>
                  <a:pt x="4194" y="1143"/>
                </a:lnTo>
                <a:lnTo>
                  <a:pt x="4234" y="1116"/>
                </a:lnTo>
                <a:lnTo>
                  <a:pt x="4274" y="1076"/>
                </a:lnTo>
                <a:lnTo>
                  <a:pt x="4313" y="1050"/>
                </a:lnTo>
                <a:lnTo>
                  <a:pt x="4353" y="1024"/>
                </a:lnTo>
                <a:lnTo>
                  <a:pt x="4393" y="1010"/>
                </a:lnTo>
                <a:lnTo>
                  <a:pt x="4432" y="984"/>
                </a:lnTo>
                <a:lnTo>
                  <a:pt x="4472" y="970"/>
                </a:lnTo>
                <a:lnTo>
                  <a:pt x="4512" y="943"/>
                </a:lnTo>
                <a:lnTo>
                  <a:pt x="4551" y="943"/>
                </a:lnTo>
                <a:lnTo>
                  <a:pt x="4591" y="943"/>
                </a:lnTo>
                <a:lnTo>
                  <a:pt x="4631" y="943"/>
                </a:lnTo>
                <a:lnTo>
                  <a:pt x="4670" y="943"/>
                </a:lnTo>
                <a:lnTo>
                  <a:pt x="4710" y="930"/>
                </a:lnTo>
                <a:lnTo>
                  <a:pt x="4750" y="917"/>
                </a:lnTo>
                <a:lnTo>
                  <a:pt x="4803" y="903"/>
                </a:lnTo>
                <a:lnTo>
                  <a:pt x="4842" y="890"/>
                </a:lnTo>
                <a:lnTo>
                  <a:pt x="4882" y="877"/>
                </a:lnTo>
                <a:lnTo>
                  <a:pt x="4922" y="877"/>
                </a:lnTo>
                <a:lnTo>
                  <a:pt x="4961" y="864"/>
                </a:lnTo>
                <a:lnTo>
                  <a:pt x="5001" y="851"/>
                </a:lnTo>
                <a:lnTo>
                  <a:pt x="5041" y="837"/>
                </a:lnTo>
                <a:lnTo>
                  <a:pt x="5081" y="837"/>
                </a:lnTo>
                <a:lnTo>
                  <a:pt x="5147" y="837"/>
                </a:lnTo>
                <a:lnTo>
                  <a:pt x="5186" y="837"/>
                </a:lnTo>
                <a:lnTo>
                  <a:pt x="5226" y="824"/>
                </a:lnTo>
                <a:lnTo>
                  <a:pt x="5279" y="811"/>
                </a:lnTo>
                <a:lnTo>
                  <a:pt x="5319" y="811"/>
                </a:lnTo>
                <a:lnTo>
                  <a:pt x="5385" y="798"/>
                </a:lnTo>
                <a:lnTo>
                  <a:pt x="5424" y="784"/>
                </a:lnTo>
                <a:lnTo>
                  <a:pt x="5477" y="771"/>
                </a:lnTo>
                <a:lnTo>
                  <a:pt x="5530" y="771"/>
                </a:lnTo>
                <a:lnTo>
                  <a:pt x="5570" y="758"/>
                </a:lnTo>
                <a:lnTo>
                  <a:pt x="5610" y="758"/>
                </a:lnTo>
                <a:lnTo>
                  <a:pt x="5649" y="758"/>
                </a:lnTo>
                <a:lnTo>
                  <a:pt x="5689" y="745"/>
                </a:lnTo>
                <a:lnTo>
                  <a:pt x="5729" y="718"/>
                </a:lnTo>
                <a:lnTo>
                  <a:pt x="5755" y="679"/>
                </a:lnTo>
                <a:lnTo>
                  <a:pt x="5795" y="679"/>
                </a:lnTo>
                <a:lnTo>
                  <a:pt x="5848" y="679"/>
                </a:lnTo>
                <a:lnTo>
                  <a:pt x="5887" y="679"/>
                </a:lnTo>
                <a:lnTo>
                  <a:pt x="5940" y="665"/>
                </a:lnTo>
                <a:lnTo>
                  <a:pt x="5993" y="652"/>
                </a:lnTo>
                <a:lnTo>
                  <a:pt x="6046" y="639"/>
                </a:lnTo>
                <a:lnTo>
                  <a:pt x="6086" y="626"/>
                </a:lnTo>
                <a:lnTo>
                  <a:pt x="6152" y="599"/>
                </a:lnTo>
                <a:lnTo>
                  <a:pt x="6192" y="586"/>
                </a:lnTo>
                <a:lnTo>
                  <a:pt x="6231" y="573"/>
                </a:lnTo>
                <a:lnTo>
                  <a:pt x="6271" y="546"/>
                </a:lnTo>
                <a:lnTo>
                  <a:pt x="6311" y="533"/>
                </a:lnTo>
                <a:lnTo>
                  <a:pt x="6351" y="533"/>
                </a:lnTo>
                <a:lnTo>
                  <a:pt x="6390" y="533"/>
                </a:lnTo>
                <a:lnTo>
                  <a:pt x="6443" y="533"/>
                </a:lnTo>
                <a:lnTo>
                  <a:pt x="6496" y="533"/>
                </a:lnTo>
                <a:lnTo>
                  <a:pt x="6536" y="533"/>
                </a:lnTo>
                <a:lnTo>
                  <a:pt x="6575" y="533"/>
                </a:lnTo>
                <a:lnTo>
                  <a:pt x="6734" y="507"/>
                </a:lnTo>
                <a:lnTo>
                  <a:pt x="6774" y="507"/>
                </a:lnTo>
                <a:lnTo>
                  <a:pt x="6827" y="480"/>
                </a:lnTo>
                <a:lnTo>
                  <a:pt x="6906" y="454"/>
                </a:lnTo>
                <a:lnTo>
                  <a:pt x="6946" y="454"/>
                </a:lnTo>
                <a:lnTo>
                  <a:pt x="6986" y="440"/>
                </a:lnTo>
                <a:lnTo>
                  <a:pt x="6999" y="436"/>
                </a:lnTo>
                <a:lnTo>
                  <a:pt x="6986" y="427"/>
                </a:lnTo>
                <a:lnTo>
                  <a:pt x="7012" y="427"/>
                </a:lnTo>
                <a:lnTo>
                  <a:pt x="7012" y="1950"/>
                </a:lnTo>
                <a:lnTo>
                  <a:pt x="0" y="1950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"/>
          <p:cNvSpPr txBox="1"/>
          <p:nvPr/>
        </p:nvSpPr>
        <p:spPr>
          <a:xfrm>
            <a:off x="3813120" y="5381640"/>
            <a:ext cx="1027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B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"/>
          <p:cNvSpPr/>
          <p:nvPr/>
        </p:nvSpPr>
        <p:spPr>
          <a:xfrm>
            <a:off x="2789280" y="361332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"/>
          <p:cNvSpPr/>
          <p:nvPr/>
        </p:nvSpPr>
        <p:spPr>
          <a:xfrm>
            <a:off x="2789280" y="37656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"/>
          <p:cNvSpPr/>
          <p:nvPr/>
        </p:nvSpPr>
        <p:spPr>
          <a:xfrm>
            <a:off x="2789280" y="39178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2789280" y="407052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"/>
          <p:cNvSpPr/>
          <p:nvPr/>
        </p:nvSpPr>
        <p:spPr>
          <a:xfrm>
            <a:off x="2789280" y="42228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"/>
          <p:cNvSpPr/>
          <p:nvPr/>
        </p:nvSpPr>
        <p:spPr>
          <a:xfrm>
            <a:off x="3071880" y="77760"/>
            <a:ext cx="2514600" cy="3200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"/>
          <p:cNvSpPr/>
          <p:nvPr/>
        </p:nvSpPr>
        <p:spPr>
          <a:xfrm>
            <a:off x="3075120" y="82440"/>
            <a:ext cx="390960" cy="340200"/>
          </a:xfrm>
          <a:custGeom>
            <a:avLst/>
            <a:gdLst/>
            <a:ahLst/>
            <a:rect l="0" t="0" r="r" b="b"/>
            <a:pathLst>
              <a:path fill="none" w="1086" h="945">
                <a:moveTo>
                  <a:pt x="1086" y="0"/>
                </a:moveTo>
                <a:lnTo>
                  <a:pt x="1086" y="70"/>
                </a:lnTo>
                <a:lnTo>
                  <a:pt x="1064" y="140"/>
                </a:lnTo>
                <a:lnTo>
                  <a:pt x="1018" y="233"/>
                </a:lnTo>
                <a:lnTo>
                  <a:pt x="971" y="348"/>
                </a:lnTo>
                <a:lnTo>
                  <a:pt x="947" y="440"/>
                </a:lnTo>
                <a:lnTo>
                  <a:pt x="876" y="489"/>
                </a:lnTo>
                <a:lnTo>
                  <a:pt x="783" y="489"/>
                </a:lnTo>
                <a:lnTo>
                  <a:pt x="690" y="557"/>
                </a:lnTo>
                <a:lnTo>
                  <a:pt x="597" y="581"/>
                </a:lnTo>
                <a:lnTo>
                  <a:pt x="504" y="649"/>
                </a:lnTo>
                <a:lnTo>
                  <a:pt x="458" y="721"/>
                </a:lnTo>
                <a:lnTo>
                  <a:pt x="387" y="743"/>
                </a:lnTo>
                <a:lnTo>
                  <a:pt x="294" y="767"/>
                </a:lnTo>
                <a:lnTo>
                  <a:pt x="201" y="835"/>
                </a:lnTo>
                <a:lnTo>
                  <a:pt x="132" y="906"/>
                </a:lnTo>
                <a:lnTo>
                  <a:pt x="61" y="930"/>
                </a:lnTo>
                <a:lnTo>
                  <a:pt x="0" y="9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"/>
          <p:cNvSpPr/>
          <p:nvPr/>
        </p:nvSpPr>
        <p:spPr>
          <a:xfrm>
            <a:off x="3071880" y="82440"/>
            <a:ext cx="568800" cy="2595960"/>
          </a:xfrm>
          <a:custGeom>
            <a:avLst/>
            <a:gdLst/>
            <a:ahLst/>
            <a:rect l="0" t="0" r="r" b="b"/>
            <a:pathLst>
              <a:path fill="none" w="1580" h="7211">
                <a:moveTo>
                  <a:pt x="1571" y="0"/>
                </a:moveTo>
                <a:lnTo>
                  <a:pt x="1580" y="46"/>
                </a:lnTo>
                <a:lnTo>
                  <a:pt x="1558" y="138"/>
                </a:lnTo>
                <a:lnTo>
                  <a:pt x="1558" y="231"/>
                </a:lnTo>
                <a:lnTo>
                  <a:pt x="1558" y="324"/>
                </a:lnTo>
                <a:lnTo>
                  <a:pt x="1488" y="416"/>
                </a:lnTo>
                <a:lnTo>
                  <a:pt x="1441" y="487"/>
                </a:lnTo>
                <a:lnTo>
                  <a:pt x="1371" y="555"/>
                </a:lnTo>
                <a:lnTo>
                  <a:pt x="1278" y="648"/>
                </a:lnTo>
                <a:lnTo>
                  <a:pt x="1256" y="718"/>
                </a:lnTo>
                <a:lnTo>
                  <a:pt x="1210" y="811"/>
                </a:lnTo>
                <a:lnTo>
                  <a:pt x="1162" y="903"/>
                </a:lnTo>
                <a:lnTo>
                  <a:pt x="1116" y="996"/>
                </a:lnTo>
                <a:lnTo>
                  <a:pt x="1070" y="1067"/>
                </a:lnTo>
                <a:lnTo>
                  <a:pt x="999" y="1135"/>
                </a:lnTo>
                <a:lnTo>
                  <a:pt x="977" y="1206"/>
                </a:lnTo>
                <a:lnTo>
                  <a:pt x="907" y="1252"/>
                </a:lnTo>
                <a:lnTo>
                  <a:pt x="860" y="1344"/>
                </a:lnTo>
                <a:lnTo>
                  <a:pt x="790" y="1415"/>
                </a:lnTo>
                <a:lnTo>
                  <a:pt x="697" y="1483"/>
                </a:lnTo>
                <a:lnTo>
                  <a:pt x="651" y="1554"/>
                </a:lnTo>
                <a:lnTo>
                  <a:pt x="605" y="1647"/>
                </a:lnTo>
                <a:lnTo>
                  <a:pt x="536" y="1739"/>
                </a:lnTo>
                <a:lnTo>
                  <a:pt x="488" y="1811"/>
                </a:lnTo>
                <a:lnTo>
                  <a:pt x="394" y="1879"/>
                </a:lnTo>
                <a:lnTo>
                  <a:pt x="326" y="1950"/>
                </a:lnTo>
                <a:lnTo>
                  <a:pt x="255" y="1972"/>
                </a:lnTo>
                <a:lnTo>
                  <a:pt x="187" y="2042"/>
                </a:lnTo>
                <a:lnTo>
                  <a:pt x="116" y="2089"/>
                </a:lnTo>
                <a:lnTo>
                  <a:pt x="70" y="2181"/>
                </a:lnTo>
                <a:lnTo>
                  <a:pt x="24" y="2252"/>
                </a:lnTo>
                <a:lnTo>
                  <a:pt x="0" y="2344"/>
                </a:lnTo>
                <a:lnTo>
                  <a:pt x="46" y="2437"/>
                </a:lnTo>
                <a:lnTo>
                  <a:pt x="94" y="2529"/>
                </a:lnTo>
                <a:lnTo>
                  <a:pt x="116" y="2644"/>
                </a:lnTo>
                <a:lnTo>
                  <a:pt x="141" y="2715"/>
                </a:lnTo>
                <a:lnTo>
                  <a:pt x="163" y="2807"/>
                </a:lnTo>
                <a:lnTo>
                  <a:pt x="209" y="2878"/>
                </a:lnTo>
                <a:lnTo>
                  <a:pt x="255" y="2992"/>
                </a:lnTo>
                <a:lnTo>
                  <a:pt x="326" y="3063"/>
                </a:lnTo>
                <a:lnTo>
                  <a:pt x="372" y="3134"/>
                </a:lnTo>
                <a:lnTo>
                  <a:pt x="419" y="3226"/>
                </a:lnTo>
                <a:lnTo>
                  <a:pt x="466" y="3319"/>
                </a:lnTo>
                <a:lnTo>
                  <a:pt x="536" y="3411"/>
                </a:lnTo>
                <a:lnTo>
                  <a:pt x="583" y="3504"/>
                </a:lnTo>
                <a:lnTo>
                  <a:pt x="605" y="3575"/>
                </a:lnTo>
                <a:lnTo>
                  <a:pt x="651" y="3667"/>
                </a:lnTo>
                <a:lnTo>
                  <a:pt x="651" y="3760"/>
                </a:lnTo>
                <a:lnTo>
                  <a:pt x="651" y="3852"/>
                </a:lnTo>
                <a:lnTo>
                  <a:pt x="651" y="3967"/>
                </a:lnTo>
                <a:lnTo>
                  <a:pt x="675" y="4062"/>
                </a:lnTo>
                <a:lnTo>
                  <a:pt x="697" y="4154"/>
                </a:lnTo>
                <a:lnTo>
                  <a:pt x="768" y="4247"/>
                </a:lnTo>
                <a:lnTo>
                  <a:pt x="836" y="4362"/>
                </a:lnTo>
                <a:lnTo>
                  <a:pt x="882" y="4432"/>
                </a:lnTo>
                <a:lnTo>
                  <a:pt x="907" y="4503"/>
                </a:lnTo>
                <a:lnTo>
                  <a:pt x="977" y="4617"/>
                </a:lnTo>
                <a:lnTo>
                  <a:pt x="1024" y="4688"/>
                </a:lnTo>
                <a:lnTo>
                  <a:pt x="1116" y="4781"/>
                </a:lnTo>
                <a:lnTo>
                  <a:pt x="1162" y="4873"/>
                </a:lnTo>
                <a:lnTo>
                  <a:pt x="1210" y="4944"/>
                </a:lnTo>
                <a:lnTo>
                  <a:pt x="1232" y="5036"/>
                </a:lnTo>
                <a:lnTo>
                  <a:pt x="1278" y="5129"/>
                </a:lnTo>
                <a:lnTo>
                  <a:pt x="1302" y="5222"/>
                </a:lnTo>
                <a:lnTo>
                  <a:pt x="1302" y="5314"/>
                </a:lnTo>
                <a:lnTo>
                  <a:pt x="1302" y="5385"/>
                </a:lnTo>
                <a:lnTo>
                  <a:pt x="1324" y="5547"/>
                </a:lnTo>
                <a:lnTo>
                  <a:pt x="1349" y="5617"/>
                </a:lnTo>
                <a:lnTo>
                  <a:pt x="1349" y="5732"/>
                </a:lnTo>
                <a:lnTo>
                  <a:pt x="1324" y="5849"/>
                </a:lnTo>
                <a:lnTo>
                  <a:pt x="1324" y="5919"/>
                </a:lnTo>
                <a:lnTo>
                  <a:pt x="1302" y="6012"/>
                </a:lnTo>
                <a:lnTo>
                  <a:pt x="1232" y="6080"/>
                </a:lnTo>
                <a:lnTo>
                  <a:pt x="1210" y="6151"/>
                </a:lnTo>
                <a:lnTo>
                  <a:pt x="1138" y="6221"/>
                </a:lnTo>
                <a:lnTo>
                  <a:pt x="1070" y="6314"/>
                </a:lnTo>
                <a:lnTo>
                  <a:pt x="999" y="6382"/>
                </a:lnTo>
                <a:lnTo>
                  <a:pt x="953" y="6453"/>
                </a:lnTo>
                <a:lnTo>
                  <a:pt x="882" y="6568"/>
                </a:lnTo>
                <a:lnTo>
                  <a:pt x="836" y="6638"/>
                </a:lnTo>
                <a:lnTo>
                  <a:pt x="814" y="6709"/>
                </a:lnTo>
                <a:lnTo>
                  <a:pt x="814" y="6801"/>
                </a:lnTo>
                <a:lnTo>
                  <a:pt x="790" y="6894"/>
                </a:lnTo>
                <a:lnTo>
                  <a:pt x="697" y="6940"/>
                </a:lnTo>
                <a:lnTo>
                  <a:pt x="605" y="7009"/>
                </a:lnTo>
                <a:lnTo>
                  <a:pt x="536" y="7079"/>
                </a:lnTo>
                <a:lnTo>
                  <a:pt x="466" y="7079"/>
                </a:lnTo>
                <a:lnTo>
                  <a:pt x="372" y="7079"/>
                </a:lnTo>
                <a:lnTo>
                  <a:pt x="302" y="7079"/>
                </a:lnTo>
                <a:lnTo>
                  <a:pt x="209" y="7125"/>
                </a:lnTo>
                <a:lnTo>
                  <a:pt x="141" y="7196"/>
                </a:lnTo>
                <a:lnTo>
                  <a:pt x="6" y="721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"/>
          <p:cNvSpPr/>
          <p:nvPr/>
        </p:nvSpPr>
        <p:spPr>
          <a:xfrm>
            <a:off x="3081240" y="82440"/>
            <a:ext cx="776520" cy="2916720"/>
          </a:xfrm>
          <a:custGeom>
            <a:avLst/>
            <a:gdLst/>
            <a:ahLst/>
            <a:rect l="0" t="0" r="r" b="b"/>
            <a:pathLst>
              <a:path fill="none" w="2157" h="8102">
                <a:moveTo>
                  <a:pt x="2157" y="0"/>
                </a:moveTo>
                <a:lnTo>
                  <a:pt x="2157" y="94"/>
                </a:lnTo>
                <a:lnTo>
                  <a:pt x="2157" y="187"/>
                </a:lnTo>
                <a:lnTo>
                  <a:pt x="2157" y="302"/>
                </a:lnTo>
                <a:lnTo>
                  <a:pt x="2133" y="372"/>
                </a:lnTo>
                <a:lnTo>
                  <a:pt x="2086" y="465"/>
                </a:lnTo>
                <a:lnTo>
                  <a:pt x="2040" y="535"/>
                </a:lnTo>
                <a:lnTo>
                  <a:pt x="1972" y="628"/>
                </a:lnTo>
                <a:lnTo>
                  <a:pt x="1926" y="720"/>
                </a:lnTo>
                <a:lnTo>
                  <a:pt x="1879" y="813"/>
                </a:lnTo>
                <a:lnTo>
                  <a:pt x="1809" y="906"/>
                </a:lnTo>
                <a:lnTo>
                  <a:pt x="1785" y="976"/>
                </a:lnTo>
                <a:lnTo>
                  <a:pt x="1716" y="1069"/>
                </a:lnTo>
                <a:lnTo>
                  <a:pt x="1646" y="1137"/>
                </a:lnTo>
                <a:lnTo>
                  <a:pt x="1600" y="1208"/>
                </a:lnTo>
                <a:lnTo>
                  <a:pt x="1507" y="1300"/>
                </a:lnTo>
                <a:lnTo>
                  <a:pt x="1461" y="1371"/>
                </a:lnTo>
                <a:lnTo>
                  <a:pt x="1415" y="1464"/>
                </a:lnTo>
                <a:lnTo>
                  <a:pt x="1368" y="1556"/>
                </a:lnTo>
                <a:lnTo>
                  <a:pt x="1344" y="1649"/>
                </a:lnTo>
                <a:lnTo>
                  <a:pt x="1276" y="1741"/>
                </a:lnTo>
                <a:lnTo>
                  <a:pt x="1252" y="1812"/>
                </a:lnTo>
                <a:lnTo>
                  <a:pt x="1183" y="1905"/>
                </a:lnTo>
                <a:lnTo>
                  <a:pt x="1137" y="1997"/>
                </a:lnTo>
                <a:lnTo>
                  <a:pt x="1091" y="2113"/>
                </a:lnTo>
                <a:lnTo>
                  <a:pt x="1091" y="2183"/>
                </a:lnTo>
                <a:lnTo>
                  <a:pt x="1091" y="2254"/>
                </a:lnTo>
                <a:lnTo>
                  <a:pt x="1091" y="2346"/>
                </a:lnTo>
                <a:lnTo>
                  <a:pt x="1044" y="2439"/>
                </a:lnTo>
                <a:lnTo>
                  <a:pt x="1019" y="2554"/>
                </a:lnTo>
                <a:lnTo>
                  <a:pt x="1066" y="2646"/>
                </a:lnTo>
                <a:lnTo>
                  <a:pt x="1113" y="2741"/>
                </a:lnTo>
                <a:lnTo>
                  <a:pt x="1159" y="2834"/>
                </a:lnTo>
                <a:lnTo>
                  <a:pt x="1183" y="2926"/>
                </a:lnTo>
                <a:lnTo>
                  <a:pt x="1252" y="3019"/>
                </a:lnTo>
                <a:lnTo>
                  <a:pt x="1298" y="3136"/>
                </a:lnTo>
                <a:lnTo>
                  <a:pt x="1368" y="3228"/>
                </a:lnTo>
                <a:lnTo>
                  <a:pt x="1439" y="3297"/>
                </a:lnTo>
                <a:lnTo>
                  <a:pt x="1485" y="3389"/>
                </a:lnTo>
                <a:lnTo>
                  <a:pt x="1531" y="3460"/>
                </a:lnTo>
                <a:lnTo>
                  <a:pt x="1578" y="3577"/>
                </a:lnTo>
                <a:lnTo>
                  <a:pt x="1646" y="3716"/>
                </a:lnTo>
                <a:lnTo>
                  <a:pt x="1716" y="3808"/>
                </a:lnTo>
                <a:lnTo>
                  <a:pt x="1738" y="3901"/>
                </a:lnTo>
                <a:lnTo>
                  <a:pt x="1763" y="3994"/>
                </a:lnTo>
                <a:lnTo>
                  <a:pt x="1763" y="4064"/>
                </a:lnTo>
                <a:lnTo>
                  <a:pt x="1785" y="4157"/>
                </a:lnTo>
                <a:lnTo>
                  <a:pt x="1833" y="4249"/>
                </a:lnTo>
                <a:lnTo>
                  <a:pt x="1926" y="4364"/>
                </a:lnTo>
                <a:lnTo>
                  <a:pt x="1926" y="4434"/>
                </a:lnTo>
                <a:lnTo>
                  <a:pt x="1948" y="4505"/>
                </a:lnTo>
                <a:lnTo>
                  <a:pt x="1972" y="4598"/>
                </a:lnTo>
                <a:lnTo>
                  <a:pt x="1972" y="4690"/>
                </a:lnTo>
                <a:lnTo>
                  <a:pt x="1948" y="4783"/>
                </a:lnTo>
                <a:lnTo>
                  <a:pt x="1926" y="4875"/>
                </a:lnTo>
                <a:lnTo>
                  <a:pt x="1926" y="4946"/>
                </a:lnTo>
                <a:lnTo>
                  <a:pt x="1901" y="5039"/>
                </a:lnTo>
                <a:lnTo>
                  <a:pt x="1879" y="5153"/>
                </a:lnTo>
                <a:lnTo>
                  <a:pt x="1901" y="5246"/>
                </a:lnTo>
                <a:lnTo>
                  <a:pt x="1901" y="5316"/>
                </a:lnTo>
                <a:lnTo>
                  <a:pt x="1901" y="5387"/>
                </a:lnTo>
                <a:lnTo>
                  <a:pt x="1901" y="5480"/>
                </a:lnTo>
                <a:lnTo>
                  <a:pt x="1879" y="5572"/>
                </a:lnTo>
                <a:lnTo>
                  <a:pt x="1855" y="5665"/>
                </a:lnTo>
                <a:lnTo>
                  <a:pt x="1833" y="5757"/>
                </a:lnTo>
                <a:lnTo>
                  <a:pt x="1809" y="5850"/>
                </a:lnTo>
                <a:lnTo>
                  <a:pt x="1785" y="5943"/>
                </a:lnTo>
                <a:lnTo>
                  <a:pt x="1763" y="6013"/>
                </a:lnTo>
                <a:lnTo>
                  <a:pt x="1738" y="6107"/>
                </a:lnTo>
                <a:lnTo>
                  <a:pt x="1716" y="6199"/>
                </a:lnTo>
                <a:lnTo>
                  <a:pt x="1692" y="6292"/>
                </a:lnTo>
                <a:lnTo>
                  <a:pt x="1692" y="6363"/>
                </a:lnTo>
                <a:lnTo>
                  <a:pt x="1624" y="6523"/>
                </a:lnTo>
                <a:lnTo>
                  <a:pt x="1600" y="6594"/>
                </a:lnTo>
                <a:lnTo>
                  <a:pt x="1553" y="6711"/>
                </a:lnTo>
                <a:lnTo>
                  <a:pt x="1507" y="6803"/>
                </a:lnTo>
                <a:lnTo>
                  <a:pt x="1461" y="6918"/>
                </a:lnTo>
                <a:lnTo>
                  <a:pt x="1393" y="7035"/>
                </a:lnTo>
                <a:lnTo>
                  <a:pt x="1322" y="7267"/>
                </a:lnTo>
                <a:lnTo>
                  <a:pt x="1298" y="7337"/>
                </a:lnTo>
                <a:lnTo>
                  <a:pt x="1183" y="7405"/>
                </a:lnTo>
                <a:lnTo>
                  <a:pt x="1113" y="7452"/>
                </a:lnTo>
                <a:lnTo>
                  <a:pt x="1019" y="7522"/>
                </a:lnTo>
                <a:lnTo>
                  <a:pt x="788" y="7593"/>
                </a:lnTo>
                <a:lnTo>
                  <a:pt x="696" y="7639"/>
                </a:lnTo>
                <a:lnTo>
                  <a:pt x="603" y="7661"/>
                </a:lnTo>
                <a:lnTo>
                  <a:pt x="462" y="7707"/>
                </a:lnTo>
                <a:lnTo>
                  <a:pt x="370" y="7754"/>
                </a:lnTo>
                <a:lnTo>
                  <a:pt x="277" y="7824"/>
                </a:lnTo>
                <a:lnTo>
                  <a:pt x="209" y="7917"/>
                </a:lnTo>
                <a:lnTo>
                  <a:pt x="138" y="7963"/>
                </a:lnTo>
                <a:lnTo>
                  <a:pt x="46" y="8010"/>
                </a:lnTo>
                <a:lnTo>
                  <a:pt x="0" y="81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"/>
          <p:cNvSpPr/>
          <p:nvPr/>
        </p:nvSpPr>
        <p:spPr>
          <a:xfrm>
            <a:off x="3075120" y="358920"/>
            <a:ext cx="1010160" cy="2832480"/>
          </a:xfrm>
          <a:custGeom>
            <a:avLst/>
            <a:gdLst/>
            <a:ahLst/>
            <a:rect l="0" t="0" r="r" b="b"/>
            <a:pathLst>
              <a:path fill="none" w="2806" h="7868">
                <a:moveTo>
                  <a:pt x="2806" y="0"/>
                </a:moveTo>
                <a:lnTo>
                  <a:pt x="2729" y="141"/>
                </a:lnTo>
                <a:lnTo>
                  <a:pt x="2689" y="185"/>
                </a:lnTo>
                <a:lnTo>
                  <a:pt x="2663" y="218"/>
                </a:lnTo>
                <a:lnTo>
                  <a:pt x="2647" y="271"/>
                </a:lnTo>
                <a:lnTo>
                  <a:pt x="2636" y="313"/>
                </a:lnTo>
                <a:lnTo>
                  <a:pt x="2614" y="352"/>
                </a:lnTo>
                <a:lnTo>
                  <a:pt x="2601" y="399"/>
                </a:lnTo>
                <a:lnTo>
                  <a:pt x="2581" y="432"/>
                </a:lnTo>
                <a:lnTo>
                  <a:pt x="2555" y="463"/>
                </a:lnTo>
                <a:lnTo>
                  <a:pt x="2495" y="515"/>
                </a:lnTo>
                <a:lnTo>
                  <a:pt x="2431" y="582"/>
                </a:lnTo>
                <a:lnTo>
                  <a:pt x="2398" y="637"/>
                </a:lnTo>
                <a:lnTo>
                  <a:pt x="2389" y="674"/>
                </a:lnTo>
                <a:lnTo>
                  <a:pt x="2363" y="754"/>
                </a:lnTo>
                <a:lnTo>
                  <a:pt x="2296" y="820"/>
                </a:lnTo>
                <a:lnTo>
                  <a:pt x="2230" y="926"/>
                </a:lnTo>
                <a:lnTo>
                  <a:pt x="2204" y="952"/>
                </a:lnTo>
                <a:lnTo>
                  <a:pt x="2177" y="1031"/>
                </a:lnTo>
                <a:lnTo>
                  <a:pt x="2151" y="1084"/>
                </a:lnTo>
                <a:lnTo>
                  <a:pt x="2097" y="1150"/>
                </a:lnTo>
                <a:lnTo>
                  <a:pt x="2097" y="1243"/>
                </a:lnTo>
                <a:lnTo>
                  <a:pt x="2057" y="1389"/>
                </a:lnTo>
                <a:lnTo>
                  <a:pt x="2057" y="1375"/>
                </a:lnTo>
                <a:lnTo>
                  <a:pt x="2031" y="1481"/>
                </a:lnTo>
                <a:lnTo>
                  <a:pt x="1991" y="1413"/>
                </a:lnTo>
                <a:lnTo>
                  <a:pt x="2057" y="1666"/>
                </a:lnTo>
                <a:lnTo>
                  <a:pt x="2111" y="1746"/>
                </a:lnTo>
                <a:lnTo>
                  <a:pt x="2070" y="1799"/>
                </a:lnTo>
                <a:lnTo>
                  <a:pt x="2111" y="1905"/>
                </a:lnTo>
                <a:lnTo>
                  <a:pt x="2124" y="1985"/>
                </a:lnTo>
                <a:lnTo>
                  <a:pt x="2164" y="2051"/>
                </a:lnTo>
                <a:lnTo>
                  <a:pt x="2217" y="2130"/>
                </a:lnTo>
                <a:lnTo>
                  <a:pt x="2257" y="2197"/>
                </a:lnTo>
                <a:lnTo>
                  <a:pt x="2296" y="2276"/>
                </a:lnTo>
                <a:lnTo>
                  <a:pt x="2310" y="2342"/>
                </a:lnTo>
                <a:lnTo>
                  <a:pt x="2323" y="2382"/>
                </a:lnTo>
                <a:lnTo>
                  <a:pt x="2310" y="2448"/>
                </a:lnTo>
                <a:lnTo>
                  <a:pt x="2296" y="2554"/>
                </a:lnTo>
                <a:lnTo>
                  <a:pt x="2283" y="2673"/>
                </a:lnTo>
                <a:lnTo>
                  <a:pt x="2243" y="2752"/>
                </a:lnTo>
                <a:lnTo>
                  <a:pt x="2177" y="2829"/>
                </a:lnTo>
                <a:lnTo>
                  <a:pt x="2177" y="2900"/>
                </a:lnTo>
                <a:lnTo>
                  <a:pt x="2199" y="2992"/>
                </a:lnTo>
                <a:lnTo>
                  <a:pt x="2224" y="3085"/>
                </a:lnTo>
                <a:lnTo>
                  <a:pt x="2224" y="3178"/>
                </a:lnTo>
                <a:lnTo>
                  <a:pt x="2224" y="3248"/>
                </a:lnTo>
                <a:lnTo>
                  <a:pt x="2224" y="3341"/>
                </a:lnTo>
                <a:lnTo>
                  <a:pt x="2246" y="3456"/>
                </a:lnTo>
                <a:lnTo>
                  <a:pt x="2270" y="3526"/>
                </a:lnTo>
                <a:lnTo>
                  <a:pt x="2316" y="3619"/>
                </a:lnTo>
                <a:lnTo>
                  <a:pt x="2340" y="3711"/>
                </a:lnTo>
                <a:lnTo>
                  <a:pt x="2363" y="3782"/>
                </a:lnTo>
                <a:lnTo>
                  <a:pt x="2387" y="3896"/>
                </a:lnTo>
                <a:lnTo>
                  <a:pt x="2409" y="3967"/>
                </a:lnTo>
                <a:lnTo>
                  <a:pt x="2409" y="4106"/>
                </a:lnTo>
                <a:lnTo>
                  <a:pt x="2409" y="4223"/>
                </a:lnTo>
                <a:lnTo>
                  <a:pt x="2409" y="4315"/>
                </a:lnTo>
                <a:lnTo>
                  <a:pt x="2409" y="4454"/>
                </a:lnTo>
                <a:lnTo>
                  <a:pt x="2433" y="4686"/>
                </a:lnTo>
                <a:lnTo>
                  <a:pt x="2433" y="4803"/>
                </a:lnTo>
                <a:lnTo>
                  <a:pt x="2433" y="5034"/>
                </a:lnTo>
                <a:lnTo>
                  <a:pt x="2409" y="5105"/>
                </a:lnTo>
                <a:lnTo>
                  <a:pt x="2363" y="5197"/>
                </a:lnTo>
                <a:lnTo>
                  <a:pt x="2270" y="5546"/>
                </a:lnTo>
                <a:lnTo>
                  <a:pt x="2199" y="5660"/>
                </a:lnTo>
                <a:lnTo>
                  <a:pt x="2177" y="5731"/>
                </a:lnTo>
                <a:lnTo>
                  <a:pt x="2131" y="6475"/>
                </a:lnTo>
                <a:lnTo>
                  <a:pt x="2084" y="6568"/>
                </a:lnTo>
                <a:lnTo>
                  <a:pt x="2013" y="6636"/>
                </a:lnTo>
                <a:lnTo>
                  <a:pt x="1945" y="6706"/>
                </a:lnTo>
                <a:lnTo>
                  <a:pt x="1898" y="6777"/>
                </a:lnTo>
                <a:lnTo>
                  <a:pt x="1828" y="6845"/>
                </a:lnTo>
                <a:lnTo>
                  <a:pt x="1757" y="6892"/>
                </a:lnTo>
                <a:lnTo>
                  <a:pt x="1642" y="7009"/>
                </a:lnTo>
                <a:lnTo>
                  <a:pt x="1572" y="7101"/>
                </a:lnTo>
                <a:lnTo>
                  <a:pt x="852" y="7425"/>
                </a:lnTo>
                <a:lnTo>
                  <a:pt x="782" y="7450"/>
                </a:lnTo>
                <a:lnTo>
                  <a:pt x="688" y="7450"/>
                </a:lnTo>
                <a:lnTo>
                  <a:pt x="573" y="7542"/>
                </a:lnTo>
                <a:lnTo>
                  <a:pt x="503" y="7610"/>
                </a:lnTo>
                <a:lnTo>
                  <a:pt x="432" y="7635"/>
                </a:lnTo>
                <a:lnTo>
                  <a:pt x="339" y="7659"/>
                </a:lnTo>
                <a:lnTo>
                  <a:pt x="247" y="7705"/>
                </a:lnTo>
                <a:lnTo>
                  <a:pt x="154" y="7727"/>
                </a:lnTo>
                <a:lnTo>
                  <a:pt x="132" y="7798"/>
                </a:lnTo>
                <a:lnTo>
                  <a:pt x="61" y="7844"/>
                </a:lnTo>
                <a:lnTo>
                  <a:pt x="0" y="786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"/>
          <p:cNvSpPr/>
          <p:nvPr/>
        </p:nvSpPr>
        <p:spPr>
          <a:xfrm>
            <a:off x="3076560" y="1733400"/>
            <a:ext cx="179640" cy="592560"/>
          </a:xfrm>
          <a:custGeom>
            <a:avLst/>
            <a:gdLst/>
            <a:ahLst/>
            <a:rect l="0" t="0" r="r" b="b"/>
            <a:pathLst>
              <a:path fill="none" w="499" h="1646">
                <a:moveTo>
                  <a:pt x="0" y="0"/>
                </a:moveTo>
                <a:lnTo>
                  <a:pt x="26" y="79"/>
                </a:lnTo>
                <a:lnTo>
                  <a:pt x="48" y="163"/>
                </a:lnTo>
                <a:lnTo>
                  <a:pt x="81" y="240"/>
                </a:lnTo>
                <a:lnTo>
                  <a:pt x="127" y="310"/>
                </a:lnTo>
                <a:lnTo>
                  <a:pt x="220" y="357"/>
                </a:lnTo>
                <a:lnTo>
                  <a:pt x="314" y="403"/>
                </a:lnTo>
                <a:lnTo>
                  <a:pt x="406" y="472"/>
                </a:lnTo>
                <a:lnTo>
                  <a:pt x="452" y="543"/>
                </a:lnTo>
                <a:lnTo>
                  <a:pt x="499" y="636"/>
                </a:lnTo>
                <a:lnTo>
                  <a:pt x="499" y="728"/>
                </a:lnTo>
                <a:lnTo>
                  <a:pt x="499" y="799"/>
                </a:lnTo>
                <a:lnTo>
                  <a:pt x="475" y="913"/>
                </a:lnTo>
                <a:lnTo>
                  <a:pt x="406" y="984"/>
                </a:lnTo>
                <a:lnTo>
                  <a:pt x="336" y="1052"/>
                </a:lnTo>
                <a:lnTo>
                  <a:pt x="314" y="1123"/>
                </a:lnTo>
                <a:lnTo>
                  <a:pt x="314" y="1193"/>
                </a:lnTo>
                <a:lnTo>
                  <a:pt x="267" y="1287"/>
                </a:lnTo>
                <a:lnTo>
                  <a:pt x="196" y="1333"/>
                </a:lnTo>
                <a:lnTo>
                  <a:pt x="127" y="1426"/>
                </a:lnTo>
                <a:lnTo>
                  <a:pt x="57" y="1494"/>
                </a:lnTo>
                <a:lnTo>
                  <a:pt x="0" y="164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"/>
          <p:cNvSpPr/>
          <p:nvPr/>
        </p:nvSpPr>
        <p:spPr>
          <a:xfrm>
            <a:off x="3456000" y="642960"/>
            <a:ext cx="878400" cy="2630880"/>
          </a:xfrm>
          <a:custGeom>
            <a:avLst/>
            <a:gdLst/>
            <a:ahLst/>
            <a:rect l="0" t="0" r="r" b="b"/>
            <a:pathLst>
              <a:path fill="none" w="2440" h="7308">
                <a:moveTo>
                  <a:pt x="1606" y="0"/>
                </a:moveTo>
                <a:lnTo>
                  <a:pt x="1625" y="244"/>
                </a:lnTo>
                <a:lnTo>
                  <a:pt x="1606" y="330"/>
                </a:lnTo>
                <a:lnTo>
                  <a:pt x="1612" y="383"/>
                </a:lnTo>
                <a:lnTo>
                  <a:pt x="1619" y="443"/>
                </a:lnTo>
                <a:lnTo>
                  <a:pt x="1639" y="482"/>
                </a:lnTo>
                <a:lnTo>
                  <a:pt x="1652" y="509"/>
                </a:lnTo>
                <a:lnTo>
                  <a:pt x="1652" y="555"/>
                </a:lnTo>
                <a:lnTo>
                  <a:pt x="1652" y="562"/>
                </a:lnTo>
                <a:lnTo>
                  <a:pt x="1645" y="568"/>
                </a:lnTo>
                <a:lnTo>
                  <a:pt x="1639" y="595"/>
                </a:lnTo>
                <a:lnTo>
                  <a:pt x="1619" y="634"/>
                </a:lnTo>
                <a:lnTo>
                  <a:pt x="1592" y="641"/>
                </a:lnTo>
                <a:lnTo>
                  <a:pt x="1606" y="694"/>
                </a:lnTo>
                <a:lnTo>
                  <a:pt x="1606" y="727"/>
                </a:lnTo>
                <a:lnTo>
                  <a:pt x="1592" y="753"/>
                </a:lnTo>
                <a:lnTo>
                  <a:pt x="1573" y="826"/>
                </a:lnTo>
                <a:lnTo>
                  <a:pt x="1553" y="872"/>
                </a:lnTo>
                <a:lnTo>
                  <a:pt x="1539" y="952"/>
                </a:lnTo>
                <a:lnTo>
                  <a:pt x="1539" y="1018"/>
                </a:lnTo>
                <a:lnTo>
                  <a:pt x="1533" y="1110"/>
                </a:lnTo>
                <a:lnTo>
                  <a:pt x="1522" y="1166"/>
                </a:lnTo>
                <a:lnTo>
                  <a:pt x="1588" y="1227"/>
                </a:lnTo>
                <a:lnTo>
                  <a:pt x="1619" y="1298"/>
                </a:lnTo>
                <a:lnTo>
                  <a:pt x="1654" y="1364"/>
                </a:lnTo>
                <a:lnTo>
                  <a:pt x="1667" y="1430"/>
                </a:lnTo>
                <a:lnTo>
                  <a:pt x="1767" y="1507"/>
                </a:lnTo>
                <a:lnTo>
                  <a:pt x="1767" y="1578"/>
                </a:lnTo>
                <a:lnTo>
                  <a:pt x="1813" y="1692"/>
                </a:lnTo>
                <a:lnTo>
                  <a:pt x="1836" y="1763"/>
                </a:lnTo>
                <a:lnTo>
                  <a:pt x="1907" y="1878"/>
                </a:lnTo>
                <a:lnTo>
                  <a:pt x="1953" y="1949"/>
                </a:lnTo>
                <a:lnTo>
                  <a:pt x="1999" y="2042"/>
                </a:lnTo>
                <a:lnTo>
                  <a:pt x="2021" y="2112"/>
                </a:lnTo>
                <a:lnTo>
                  <a:pt x="2067" y="2205"/>
                </a:lnTo>
                <a:lnTo>
                  <a:pt x="2092" y="2297"/>
                </a:lnTo>
                <a:lnTo>
                  <a:pt x="2138" y="2390"/>
                </a:lnTo>
                <a:lnTo>
                  <a:pt x="2162" y="2482"/>
                </a:lnTo>
                <a:lnTo>
                  <a:pt x="2184" y="2553"/>
                </a:lnTo>
                <a:lnTo>
                  <a:pt x="2209" y="2646"/>
                </a:lnTo>
                <a:lnTo>
                  <a:pt x="2255" y="2784"/>
                </a:lnTo>
                <a:lnTo>
                  <a:pt x="2277" y="2901"/>
                </a:lnTo>
                <a:lnTo>
                  <a:pt x="2277" y="2994"/>
                </a:lnTo>
                <a:lnTo>
                  <a:pt x="2323" y="3086"/>
                </a:lnTo>
                <a:lnTo>
                  <a:pt x="2323" y="3201"/>
                </a:lnTo>
                <a:lnTo>
                  <a:pt x="2323" y="3272"/>
                </a:lnTo>
                <a:lnTo>
                  <a:pt x="2323" y="3364"/>
                </a:lnTo>
                <a:lnTo>
                  <a:pt x="2323" y="3457"/>
                </a:lnTo>
                <a:lnTo>
                  <a:pt x="2323" y="3527"/>
                </a:lnTo>
                <a:lnTo>
                  <a:pt x="2323" y="3688"/>
                </a:lnTo>
                <a:lnTo>
                  <a:pt x="2323" y="3759"/>
                </a:lnTo>
                <a:lnTo>
                  <a:pt x="2277" y="3829"/>
                </a:lnTo>
                <a:lnTo>
                  <a:pt x="2231" y="3944"/>
                </a:lnTo>
                <a:lnTo>
                  <a:pt x="2301" y="4153"/>
                </a:lnTo>
                <a:lnTo>
                  <a:pt x="2440" y="4292"/>
                </a:lnTo>
                <a:lnTo>
                  <a:pt x="2440" y="4409"/>
                </a:lnTo>
                <a:lnTo>
                  <a:pt x="2440" y="4455"/>
                </a:lnTo>
                <a:lnTo>
                  <a:pt x="2440" y="4455"/>
                </a:lnTo>
                <a:lnTo>
                  <a:pt x="2323" y="4548"/>
                </a:lnTo>
                <a:lnTo>
                  <a:pt x="2323" y="4640"/>
                </a:lnTo>
                <a:lnTo>
                  <a:pt x="2277" y="4733"/>
                </a:lnTo>
                <a:lnTo>
                  <a:pt x="2231" y="4825"/>
                </a:lnTo>
                <a:lnTo>
                  <a:pt x="2162" y="4872"/>
                </a:lnTo>
                <a:lnTo>
                  <a:pt x="2045" y="4964"/>
                </a:lnTo>
                <a:lnTo>
                  <a:pt x="1999" y="5081"/>
                </a:lnTo>
                <a:lnTo>
                  <a:pt x="1975" y="5152"/>
                </a:lnTo>
                <a:lnTo>
                  <a:pt x="1929" y="5429"/>
                </a:lnTo>
                <a:lnTo>
                  <a:pt x="1882" y="5569"/>
                </a:lnTo>
                <a:lnTo>
                  <a:pt x="1860" y="5640"/>
                </a:lnTo>
                <a:lnTo>
                  <a:pt x="1789" y="5871"/>
                </a:lnTo>
                <a:lnTo>
                  <a:pt x="1720" y="5988"/>
                </a:lnTo>
                <a:lnTo>
                  <a:pt x="1625" y="6081"/>
                </a:lnTo>
                <a:lnTo>
                  <a:pt x="1487" y="6220"/>
                </a:lnTo>
                <a:lnTo>
                  <a:pt x="1418" y="6334"/>
                </a:lnTo>
                <a:lnTo>
                  <a:pt x="1348" y="6380"/>
                </a:lnTo>
                <a:lnTo>
                  <a:pt x="1209" y="6475"/>
                </a:lnTo>
                <a:lnTo>
                  <a:pt x="1138" y="6522"/>
                </a:lnTo>
                <a:lnTo>
                  <a:pt x="1024" y="6568"/>
                </a:lnTo>
                <a:lnTo>
                  <a:pt x="931" y="6660"/>
                </a:lnTo>
                <a:lnTo>
                  <a:pt x="860" y="6682"/>
                </a:lnTo>
                <a:lnTo>
                  <a:pt x="792" y="6753"/>
                </a:lnTo>
                <a:lnTo>
                  <a:pt x="721" y="6775"/>
                </a:lnTo>
                <a:lnTo>
                  <a:pt x="651" y="6821"/>
                </a:lnTo>
                <a:lnTo>
                  <a:pt x="582" y="6892"/>
                </a:lnTo>
                <a:lnTo>
                  <a:pt x="489" y="7009"/>
                </a:lnTo>
                <a:lnTo>
                  <a:pt x="418" y="7055"/>
                </a:lnTo>
                <a:lnTo>
                  <a:pt x="326" y="7101"/>
                </a:lnTo>
                <a:lnTo>
                  <a:pt x="255" y="7148"/>
                </a:lnTo>
                <a:lnTo>
                  <a:pt x="141" y="7216"/>
                </a:lnTo>
                <a:lnTo>
                  <a:pt x="0" y="730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>
            <a:off x="3760920" y="1309680"/>
            <a:ext cx="725760" cy="1962360"/>
          </a:xfrm>
          <a:custGeom>
            <a:avLst/>
            <a:gdLst/>
            <a:ahLst/>
            <a:rect l="0" t="0" r="r" b="b"/>
            <a:pathLst>
              <a:path fill="none" w="2016" h="5451">
                <a:moveTo>
                  <a:pt x="1150" y="0"/>
                </a:moveTo>
                <a:lnTo>
                  <a:pt x="1183" y="46"/>
                </a:lnTo>
                <a:lnTo>
                  <a:pt x="1229" y="125"/>
                </a:lnTo>
                <a:lnTo>
                  <a:pt x="1249" y="231"/>
                </a:lnTo>
                <a:lnTo>
                  <a:pt x="1302" y="277"/>
                </a:lnTo>
                <a:lnTo>
                  <a:pt x="1362" y="392"/>
                </a:lnTo>
                <a:lnTo>
                  <a:pt x="1430" y="485"/>
                </a:lnTo>
                <a:lnTo>
                  <a:pt x="1476" y="577"/>
                </a:lnTo>
                <a:lnTo>
                  <a:pt x="1522" y="648"/>
                </a:lnTo>
                <a:lnTo>
                  <a:pt x="1569" y="740"/>
                </a:lnTo>
                <a:lnTo>
                  <a:pt x="1639" y="809"/>
                </a:lnTo>
                <a:lnTo>
                  <a:pt x="1661" y="879"/>
                </a:lnTo>
                <a:lnTo>
                  <a:pt x="1732" y="972"/>
                </a:lnTo>
                <a:lnTo>
                  <a:pt x="1756" y="1042"/>
                </a:lnTo>
                <a:lnTo>
                  <a:pt x="1802" y="1135"/>
                </a:lnTo>
                <a:lnTo>
                  <a:pt x="1848" y="1250"/>
                </a:lnTo>
                <a:lnTo>
                  <a:pt x="1870" y="1320"/>
                </a:lnTo>
                <a:lnTo>
                  <a:pt x="1917" y="1413"/>
                </a:lnTo>
                <a:lnTo>
                  <a:pt x="1917" y="1483"/>
                </a:lnTo>
                <a:lnTo>
                  <a:pt x="1941" y="1576"/>
                </a:lnTo>
                <a:lnTo>
                  <a:pt x="1941" y="1669"/>
                </a:lnTo>
                <a:lnTo>
                  <a:pt x="1941" y="1830"/>
                </a:lnTo>
                <a:lnTo>
                  <a:pt x="1941" y="1900"/>
                </a:lnTo>
                <a:lnTo>
                  <a:pt x="1941" y="1971"/>
                </a:lnTo>
                <a:lnTo>
                  <a:pt x="1941" y="2063"/>
                </a:lnTo>
                <a:lnTo>
                  <a:pt x="1963" y="2156"/>
                </a:lnTo>
                <a:lnTo>
                  <a:pt x="1943" y="2288"/>
                </a:lnTo>
                <a:lnTo>
                  <a:pt x="1950" y="2341"/>
                </a:lnTo>
                <a:lnTo>
                  <a:pt x="1956" y="2374"/>
                </a:lnTo>
                <a:lnTo>
                  <a:pt x="1969" y="2414"/>
                </a:lnTo>
                <a:lnTo>
                  <a:pt x="1983" y="2460"/>
                </a:lnTo>
                <a:lnTo>
                  <a:pt x="2003" y="2533"/>
                </a:lnTo>
                <a:lnTo>
                  <a:pt x="2009" y="2579"/>
                </a:lnTo>
                <a:lnTo>
                  <a:pt x="2016" y="2672"/>
                </a:lnTo>
                <a:lnTo>
                  <a:pt x="1989" y="2739"/>
                </a:lnTo>
                <a:lnTo>
                  <a:pt x="1943" y="2818"/>
                </a:lnTo>
                <a:lnTo>
                  <a:pt x="1884" y="2937"/>
                </a:lnTo>
                <a:lnTo>
                  <a:pt x="1837" y="3010"/>
                </a:lnTo>
                <a:lnTo>
                  <a:pt x="1798" y="3063"/>
                </a:lnTo>
                <a:lnTo>
                  <a:pt x="1725" y="3096"/>
                </a:lnTo>
                <a:lnTo>
                  <a:pt x="1666" y="3156"/>
                </a:lnTo>
                <a:lnTo>
                  <a:pt x="1619" y="3189"/>
                </a:lnTo>
                <a:lnTo>
                  <a:pt x="1573" y="3235"/>
                </a:lnTo>
                <a:lnTo>
                  <a:pt x="1520" y="3301"/>
                </a:lnTo>
                <a:lnTo>
                  <a:pt x="1500" y="3374"/>
                </a:lnTo>
                <a:lnTo>
                  <a:pt x="1487" y="3453"/>
                </a:lnTo>
                <a:lnTo>
                  <a:pt x="1454" y="3533"/>
                </a:lnTo>
                <a:lnTo>
                  <a:pt x="1414" y="3619"/>
                </a:lnTo>
                <a:lnTo>
                  <a:pt x="1375" y="3751"/>
                </a:lnTo>
                <a:lnTo>
                  <a:pt x="1348" y="3844"/>
                </a:lnTo>
                <a:lnTo>
                  <a:pt x="1282" y="3969"/>
                </a:lnTo>
                <a:lnTo>
                  <a:pt x="1216" y="4102"/>
                </a:lnTo>
                <a:lnTo>
                  <a:pt x="1157" y="4214"/>
                </a:lnTo>
                <a:lnTo>
                  <a:pt x="1124" y="4326"/>
                </a:lnTo>
                <a:lnTo>
                  <a:pt x="1097" y="4406"/>
                </a:lnTo>
                <a:lnTo>
                  <a:pt x="1011" y="4498"/>
                </a:lnTo>
                <a:lnTo>
                  <a:pt x="931" y="4604"/>
                </a:lnTo>
                <a:lnTo>
                  <a:pt x="759" y="4703"/>
                </a:lnTo>
                <a:lnTo>
                  <a:pt x="693" y="4796"/>
                </a:lnTo>
                <a:lnTo>
                  <a:pt x="588" y="4875"/>
                </a:lnTo>
                <a:lnTo>
                  <a:pt x="488" y="4955"/>
                </a:lnTo>
                <a:lnTo>
                  <a:pt x="370" y="5061"/>
                </a:lnTo>
                <a:lnTo>
                  <a:pt x="251" y="5114"/>
                </a:lnTo>
                <a:lnTo>
                  <a:pt x="185" y="5180"/>
                </a:lnTo>
                <a:lnTo>
                  <a:pt x="72" y="5312"/>
                </a:lnTo>
                <a:lnTo>
                  <a:pt x="0" y="545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"/>
          <p:cNvSpPr/>
          <p:nvPr/>
        </p:nvSpPr>
        <p:spPr>
          <a:xfrm>
            <a:off x="4033800" y="81000"/>
            <a:ext cx="1548000" cy="2224440"/>
          </a:xfrm>
          <a:custGeom>
            <a:avLst/>
            <a:gdLst/>
            <a:ahLst/>
            <a:rect l="0" t="0" r="r" b="b"/>
            <a:pathLst>
              <a:path fill="none" w="4300" h="6179">
                <a:moveTo>
                  <a:pt x="152" y="0"/>
                </a:moveTo>
                <a:lnTo>
                  <a:pt x="138" y="50"/>
                </a:lnTo>
                <a:lnTo>
                  <a:pt x="138" y="143"/>
                </a:lnTo>
                <a:lnTo>
                  <a:pt x="138" y="236"/>
                </a:lnTo>
                <a:lnTo>
                  <a:pt x="138" y="328"/>
                </a:lnTo>
                <a:lnTo>
                  <a:pt x="163" y="421"/>
                </a:lnTo>
                <a:lnTo>
                  <a:pt x="185" y="491"/>
                </a:lnTo>
                <a:lnTo>
                  <a:pt x="185" y="584"/>
                </a:lnTo>
                <a:lnTo>
                  <a:pt x="185" y="677"/>
                </a:lnTo>
                <a:lnTo>
                  <a:pt x="138" y="769"/>
                </a:lnTo>
                <a:lnTo>
                  <a:pt x="116" y="862"/>
                </a:lnTo>
                <a:lnTo>
                  <a:pt x="70" y="932"/>
                </a:lnTo>
                <a:lnTo>
                  <a:pt x="46" y="1025"/>
                </a:lnTo>
                <a:lnTo>
                  <a:pt x="46" y="1118"/>
                </a:lnTo>
                <a:lnTo>
                  <a:pt x="46" y="1210"/>
                </a:lnTo>
                <a:lnTo>
                  <a:pt x="22" y="1303"/>
                </a:lnTo>
                <a:lnTo>
                  <a:pt x="0" y="1374"/>
                </a:lnTo>
                <a:lnTo>
                  <a:pt x="0" y="1466"/>
                </a:lnTo>
                <a:lnTo>
                  <a:pt x="0" y="1559"/>
                </a:lnTo>
                <a:lnTo>
                  <a:pt x="46" y="1652"/>
                </a:lnTo>
                <a:lnTo>
                  <a:pt x="70" y="1744"/>
                </a:lnTo>
                <a:lnTo>
                  <a:pt x="92" y="1815"/>
                </a:lnTo>
                <a:lnTo>
                  <a:pt x="116" y="1907"/>
                </a:lnTo>
                <a:lnTo>
                  <a:pt x="116" y="2000"/>
                </a:lnTo>
                <a:lnTo>
                  <a:pt x="116" y="2093"/>
                </a:lnTo>
                <a:lnTo>
                  <a:pt x="138" y="2185"/>
                </a:lnTo>
                <a:lnTo>
                  <a:pt x="163" y="2256"/>
                </a:lnTo>
                <a:lnTo>
                  <a:pt x="163" y="2349"/>
                </a:lnTo>
                <a:lnTo>
                  <a:pt x="185" y="2487"/>
                </a:lnTo>
                <a:lnTo>
                  <a:pt x="231" y="2580"/>
                </a:lnTo>
                <a:lnTo>
                  <a:pt x="255" y="2673"/>
                </a:lnTo>
                <a:lnTo>
                  <a:pt x="255" y="2743"/>
                </a:lnTo>
                <a:lnTo>
                  <a:pt x="255" y="2858"/>
                </a:lnTo>
                <a:lnTo>
                  <a:pt x="255" y="2929"/>
                </a:lnTo>
                <a:lnTo>
                  <a:pt x="277" y="3021"/>
                </a:lnTo>
                <a:lnTo>
                  <a:pt x="301" y="3115"/>
                </a:lnTo>
                <a:lnTo>
                  <a:pt x="323" y="3185"/>
                </a:lnTo>
                <a:lnTo>
                  <a:pt x="323" y="3278"/>
                </a:lnTo>
                <a:lnTo>
                  <a:pt x="398" y="3432"/>
                </a:lnTo>
                <a:lnTo>
                  <a:pt x="462" y="3463"/>
                </a:lnTo>
                <a:lnTo>
                  <a:pt x="511" y="3556"/>
                </a:lnTo>
                <a:lnTo>
                  <a:pt x="557" y="3627"/>
                </a:lnTo>
                <a:lnTo>
                  <a:pt x="650" y="3695"/>
                </a:lnTo>
                <a:lnTo>
                  <a:pt x="696" y="3766"/>
                </a:lnTo>
                <a:lnTo>
                  <a:pt x="764" y="3858"/>
                </a:lnTo>
                <a:lnTo>
                  <a:pt x="835" y="3927"/>
                </a:lnTo>
                <a:lnTo>
                  <a:pt x="857" y="3997"/>
                </a:lnTo>
                <a:lnTo>
                  <a:pt x="903" y="4068"/>
                </a:lnTo>
                <a:lnTo>
                  <a:pt x="952" y="4160"/>
                </a:lnTo>
                <a:lnTo>
                  <a:pt x="1020" y="4253"/>
                </a:lnTo>
                <a:lnTo>
                  <a:pt x="1066" y="4346"/>
                </a:lnTo>
                <a:lnTo>
                  <a:pt x="1137" y="4438"/>
                </a:lnTo>
                <a:lnTo>
                  <a:pt x="1159" y="4509"/>
                </a:lnTo>
                <a:lnTo>
                  <a:pt x="1229" y="4577"/>
                </a:lnTo>
                <a:lnTo>
                  <a:pt x="1251" y="4648"/>
                </a:lnTo>
                <a:lnTo>
                  <a:pt x="1275" y="4740"/>
                </a:lnTo>
                <a:lnTo>
                  <a:pt x="1297" y="4833"/>
                </a:lnTo>
                <a:lnTo>
                  <a:pt x="1322" y="4904"/>
                </a:lnTo>
                <a:lnTo>
                  <a:pt x="1344" y="5018"/>
                </a:lnTo>
                <a:lnTo>
                  <a:pt x="1368" y="5089"/>
                </a:lnTo>
                <a:lnTo>
                  <a:pt x="1414" y="5182"/>
                </a:lnTo>
                <a:lnTo>
                  <a:pt x="1439" y="5296"/>
                </a:lnTo>
                <a:lnTo>
                  <a:pt x="1461" y="5367"/>
                </a:lnTo>
                <a:lnTo>
                  <a:pt x="1461" y="5437"/>
                </a:lnTo>
                <a:lnTo>
                  <a:pt x="1485" y="5530"/>
                </a:lnTo>
                <a:lnTo>
                  <a:pt x="1531" y="5623"/>
                </a:lnTo>
                <a:lnTo>
                  <a:pt x="1577" y="5715"/>
                </a:lnTo>
                <a:lnTo>
                  <a:pt x="1624" y="5786"/>
                </a:lnTo>
                <a:lnTo>
                  <a:pt x="1692" y="5879"/>
                </a:lnTo>
                <a:lnTo>
                  <a:pt x="1762" y="5971"/>
                </a:lnTo>
                <a:lnTo>
                  <a:pt x="1833" y="5993"/>
                </a:lnTo>
                <a:lnTo>
                  <a:pt x="1926" y="6018"/>
                </a:lnTo>
                <a:lnTo>
                  <a:pt x="2018" y="6086"/>
                </a:lnTo>
                <a:lnTo>
                  <a:pt x="2064" y="6156"/>
                </a:lnTo>
                <a:lnTo>
                  <a:pt x="2158" y="6179"/>
                </a:lnTo>
                <a:lnTo>
                  <a:pt x="2251" y="6179"/>
                </a:lnTo>
                <a:lnTo>
                  <a:pt x="2321" y="6156"/>
                </a:lnTo>
                <a:lnTo>
                  <a:pt x="2414" y="6132"/>
                </a:lnTo>
                <a:lnTo>
                  <a:pt x="2506" y="6110"/>
                </a:lnTo>
                <a:lnTo>
                  <a:pt x="2599" y="6040"/>
                </a:lnTo>
                <a:lnTo>
                  <a:pt x="2667" y="5947"/>
                </a:lnTo>
                <a:lnTo>
                  <a:pt x="2738" y="5879"/>
                </a:lnTo>
                <a:lnTo>
                  <a:pt x="2808" y="5808"/>
                </a:lnTo>
                <a:lnTo>
                  <a:pt x="2876" y="5737"/>
                </a:lnTo>
                <a:lnTo>
                  <a:pt x="2947" y="5691"/>
                </a:lnTo>
                <a:lnTo>
                  <a:pt x="3061" y="5620"/>
                </a:lnTo>
                <a:lnTo>
                  <a:pt x="3123" y="5568"/>
                </a:lnTo>
                <a:lnTo>
                  <a:pt x="3185" y="5515"/>
                </a:lnTo>
                <a:lnTo>
                  <a:pt x="3273" y="5471"/>
                </a:lnTo>
                <a:lnTo>
                  <a:pt x="3370" y="5418"/>
                </a:lnTo>
                <a:lnTo>
                  <a:pt x="3456" y="5391"/>
                </a:lnTo>
                <a:lnTo>
                  <a:pt x="3526" y="5391"/>
                </a:lnTo>
                <a:lnTo>
                  <a:pt x="3597" y="5367"/>
                </a:lnTo>
                <a:lnTo>
                  <a:pt x="3712" y="5296"/>
                </a:lnTo>
                <a:lnTo>
                  <a:pt x="3782" y="5228"/>
                </a:lnTo>
                <a:lnTo>
                  <a:pt x="3850" y="5157"/>
                </a:lnTo>
                <a:lnTo>
                  <a:pt x="3921" y="5065"/>
                </a:lnTo>
                <a:lnTo>
                  <a:pt x="3989" y="4972"/>
                </a:lnTo>
                <a:lnTo>
                  <a:pt x="4060" y="4904"/>
                </a:lnTo>
                <a:lnTo>
                  <a:pt x="4130" y="4855"/>
                </a:lnTo>
                <a:lnTo>
                  <a:pt x="4223" y="4809"/>
                </a:lnTo>
                <a:lnTo>
                  <a:pt x="4300" y="479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"/>
          <p:cNvSpPr/>
          <p:nvPr/>
        </p:nvSpPr>
        <p:spPr>
          <a:xfrm>
            <a:off x="4853160" y="88920"/>
            <a:ext cx="729000" cy="744840"/>
          </a:xfrm>
          <a:custGeom>
            <a:avLst/>
            <a:gdLst/>
            <a:ahLst/>
            <a:rect l="0" t="0" r="r" b="b"/>
            <a:pathLst>
              <a:path fill="none" w="2025" h="2069">
                <a:moveTo>
                  <a:pt x="0" y="0"/>
                </a:moveTo>
                <a:lnTo>
                  <a:pt x="48" y="48"/>
                </a:lnTo>
                <a:lnTo>
                  <a:pt x="97" y="137"/>
                </a:lnTo>
                <a:lnTo>
                  <a:pt x="145" y="226"/>
                </a:lnTo>
                <a:lnTo>
                  <a:pt x="145" y="315"/>
                </a:lnTo>
                <a:lnTo>
                  <a:pt x="168" y="404"/>
                </a:lnTo>
                <a:lnTo>
                  <a:pt x="217" y="472"/>
                </a:lnTo>
                <a:lnTo>
                  <a:pt x="291" y="516"/>
                </a:lnTo>
                <a:lnTo>
                  <a:pt x="388" y="560"/>
                </a:lnTo>
                <a:lnTo>
                  <a:pt x="462" y="626"/>
                </a:lnTo>
                <a:lnTo>
                  <a:pt x="510" y="694"/>
                </a:lnTo>
                <a:lnTo>
                  <a:pt x="607" y="759"/>
                </a:lnTo>
                <a:lnTo>
                  <a:pt x="704" y="783"/>
                </a:lnTo>
                <a:lnTo>
                  <a:pt x="801" y="848"/>
                </a:lnTo>
                <a:lnTo>
                  <a:pt x="875" y="895"/>
                </a:lnTo>
                <a:lnTo>
                  <a:pt x="972" y="961"/>
                </a:lnTo>
                <a:lnTo>
                  <a:pt x="1093" y="1050"/>
                </a:lnTo>
                <a:lnTo>
                  <a:pt x="1167" y="1095"/>
                </a:lnTo>
                <a:lnTo>
                  <a:pt x="1216" y="1163"/>
                </a:lnTo>
                <a:lnTo>
                  <a:pt x="1313" y="1252"/>
                </a:lnTo>
                <a:lnTo>
                  <a:pt x="1320" y="1429"/>
                </a:lnTo>
                <a:lnTo>
                  <a:pt x="1491" y="1601"/>
                </a:lnTo>
                <a:lnTo>
                  <a:pt x="1703" y="1664"/>
                </a:lnTo>
                <a:lnTo>
                  <a:pt x="1874" y="1770"/>
                </a:lnTo>
                <a:lnTo>
                  <a:pt x="2025" y="20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"/>
          <p:cNvSpPr/>
          <p:nvPr/>
        </p:nvSpPr>
        <p:spPr>
          <a:xfrm>
            <a:off x="4106880" y="82440"/>
            <a:ext cx="1476720" cy="1679760"/>
          </a:xfrm>
          <a:custGeom>
            <a:avLst/>
            <a:gdLst/>
            <a:ahLst/>
            <a:rect l="0" t="0" r="r" b="b"/>
            <a:pathLst>
              <a:path fill="none" w="4102" h="4666">
                <a:moveTo>
                  <a:pt x="0" y="0"/>
                </a:moveTo>
                <a:lnTo>
                  <a:pt x="22" y="243"/>
                </a:lnTo>
                <a:lnTo>
                  <a:pt x="61" y="309"/>
                </a:lnTo>
                <a:lnTo>
                  <a:pt x="97" y="396"/>
                </a:lnTo>
                <a:lnTo>
                  <a:pt x="143" y="492"/>
                </a:lnTo>
                <a:lnTo>
                  <a:pt x="189" y="588"/>
                </a:lnTo>
                <a:lnTo>
                  <a:pt x="235" y="683"/>
                </a:lnTo>
                <a:lnTo>
                  <a:pt x="235" y="779"/>
                </a:lnTo>
                <a:lnTo>
                  <a:pt x="257" y="852"/>
                </a:lnTo>
                <a:lnTo>
                  <a:pt x="306" y="948"/>
                </a:lnTo>
                <a:lnTo>
                  <a:pt x="374" y="1043"/>
                </a:lnTo>
                <a:lnTo>
                  <a:pt x="421" y="1139"/>
                </a:lnTo>
                <a:lnTo>
                  <a:pt x="513" y="1235"/>
                </a:lnTo>
                <a:lnTo>
                  <a:pt x="537" y="1308"/>
                </a:lnTo>
                <a:lnTo>
                  <a:pt x="606" y="1403"/>
                </a:lnTo>
                <a:lnTo>
                  <a:pt x="652" y="1499"/>
                </a:lnTo>
                <a:lnTo>
                  <a:pt x="698" y="1595"/>
                </a:lnTo>
                <a:lnTo>
                  <a:pt x="723" y="1691"/>
                </a:lnTo>
                <a:lnTo>
                  <a:pt x="793" y="1739"/>
                </a:lnTo>
                <a:lnTo>
                  <a:pt x="886" y="1811"/>
                </a:lnTo>
                <a:lnTo>
                  <a:pt x="978" y="1882"/>
                </a:lnTo>
                <a:lnTo>
                  <a:pt x="1047" y="1955"/>
                </a:lnTo>
                <a:lnTo>
                  <a:pt x="1117" y="2051"/>
                </a:lnTo>
                <a:lnTo>
                  <a:pt x="1210" y="2146"/>
                </a:lnTo>
                <a:lnTo>
                  <a:pt x="1281" y="2242"/>
                </a:lnTo>
                <a:lnTo>
                  <a:pt x="1349" y="2364"/>
                </a:lnTo>
                <a:lnTo>
                  <a:pt x="1441" y="2483"/>
                </a:lnTo>
                <a:lnTo>
                  <a:pt x="1466" y="2555"/>
                </a:lnTo>
                <a:lnTo>
                  <a:pt x="1534" y="2651"/>
                </a:lnTo>
                <a:lnTo>
                  <a:pt x="1580" y="2724"/>
                </a:lnTo>
                <a:lnTo>
                  <a:pt x="1629" y="2843"/>
                </a:lnTo>
                <a:lnTo>
                  <a:pt x="1721" y="2938"/>
                </a:lnTo>
                <a:lnTo>
                  <a:pt x="1860" y="2963"/>
                </a:lnTo>
                <a:lnTo>
                  <a:pt x="1953" y="3011"/>
                </a:lnTo>
                <a:lnTo>
                  <a:pt x="2046" y="3084"/>
                </a:lnTo>
                <a:lnTo>
                  <a:pt x="2117" y="3132"/>
                </a:lnTo>
                <a:lnTo>
                  <a:pt x="2210" y="3203"/>
                </a:lnTo>
                <a:lnTo>
                  <a:pt x="2278" y="3276"/>
                </a:lnTo>
                <a:lnTo>
                  <a:pt x="2349" y="3371"/>
                </a:lnTo>
                <a:lnTo>
                  <a:pt x="2441" y="3515"/>
                </a:lnTo>
                <a:lnTo>
                  <a:pt x="2488" y="3588"/>
                </a:lnTo>
                <a:lnTo>
                  <a:pt x="2558" y="3684"/>
                </a:lnTo>
                <a:lnTo>
                  <a:pt x="2626" y="3779"/>
                </a:lnTo>
                <a:lnTo>
                  <a:pt x="2697" y="3875"/>
                </a:lnTo>
                <a:lnTo>
                  <a:pt x="2790" y="3996"/>
                </a:lnTo>
                <a:lnTo>
                  <a:pt x="2882" y="4044"/>
                </a:lnTo>
                <a:lnTo>
                  <a:pt x="2953" y="4114"/>
                </a:lnTo>
                <a:lnTo>
                  <a:pt x="3067" y="4210"/>
                </a:lnTo>
                <a:lnTo>
                  <a:pt x="3138" y="4283"/>
                </a:lnTo>
                <a:lnTo>
                  <a:pt x="3206" y="4379"/>
                </a:lnTo>
                <a:lnTo>
                  <a:pt x="3253" y="4452"/>
                </a:lnTo>
                <a:lnTo>
                  <a:pt x="3323" y="4547"/>
                </a:lnTo>
                <a:lnTo>
                  <a:pt x="3394" y="4595"/>
                </a:lnTo>
                <a:lnTo>
                  <a:pt x="3486" y="4643"/>
                </a:lnTo>
                <a:lnTo>
                  <a:pt x="3579" y="4643"/>
                </a:lnTo>
                <a:lnTo>
                  <a:pt x="3672" y="4666"/>
                </a:lnTo>
                <a:lnTo>
                  <a:pt x="3802" y="4645"/>
                </a:lnTo>
                <a:lnTo>
                  <a:pt x="3872" y="4655"/>
                </a:lnTo>
                <a:lnTo>
                  <a:pt x="3934" y="4627"/>
                </a:lnTo>
                <a:lnTo>
                  <a:pt x="4013" y="4609"/>
                </a:lnTo>
                <a:lnTo>
                  <a:pt x="4102" y="460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"/>
          <p:cNvSpPr/>
          <p:nvPr/>
        </p:nvSpPr>
        <p:spPr>
          <a:xfrm>
            <a:off x="4075200" y="326880"/>
            <a:ext cx="1508400" cy="1661040"/>
          </a:xfrm>
          <a:custGeom>
            <a:avLst/>
            <a:gdLst/>
            <a:ahLst/>
            <a:rect l="0" t="0" r="r" b="b"/>
            <a:pathLst>
              <a:path fill="none" w="4190" h="4614">
                <a:moveTo>
                  <a:pt x="63" y="0"/>
                </a:moveTo>
                <a:lnTo>
                  <a:pt x="0" y="335"/>
                </a:lnTo>
                <a:lnTo>
                  <a:pt x="11" y="474"/>
                </a:lnTo>
                <a:lnTo>
                  <a:pt x="44" y="714"/>
                </a:lnTo>
                <a:lnTo>
                  <a:pt x="176" y="1095"/>
                </a:lnTo>
                <a:lnTo>
                  <a:pt x="321" y="1387"/>
                </a:lnTo>
                <a:lnTo>
                  <a:pt x="394" y="1504"/>
                </a:lnTo>
                <a:lnTo>
                  <a:pt x="416" y="1575"/>
                </a:lnTo>
                <a:lnTo>
                  <a:pt x="463" y="1667"/>
                </a:lnTo>
                <a:lnTo>
                  <a:pt x="509" y="1760"/>
                </a:lnTo>
                <a:lnTo>
                  <a:pt x="555" y="1853"/>
                </a:lnTo>
                <a:lnTo>
                  <a:pt x="555" y="1945"/>
                </a:lnTo>
                <a:lnTo>
                  <a:pt x="555" y="2016"/>
                </a:lnTo>
                <a:lnTo>
                  <a:pt x="579" y="2108"/>
                </a:lnTo>
                <a:lnTo>
                  <a:pt x="601" y="2201"/>
                </a:lnTo>
                <a:lnTo>
                  <a:pt x="601" y="2294"/>
                </a:lnTo>
                <a:lnTo>
                  <a:pt x="648" y="2386"/>
                </a:lnTo>
                <a:lnTo>
                  <a:pt x="672" y="2525"/>
                </a:lnTo>
                <a:lnTo>
                  <a:pt x="694" y="2596"/>
                </a:lnTo>
                <a:lnTo>
                  <a:pt x="694" y="2710"/>
                </a:lnTo>
                <a:lnTo>
                  <a:pt x="787" y="2781"/>
                </a:lnTo>
                <a:lnTo>
                  <a:pt x="857" y="2827"/>
                </a:lnTo>
                <a:lnTo>
                  <a:pt x="928" y="2873"/>
                </a:lnTo>
                <a:lnTo>
                  <a:pt x="974" y="2944"/>
                </a:lnTo>
                <a:lnTo>
                  <a:pt x="1089" y="3059"/>
                </a:lnTo>
                <a:lnTo>
                  <a:pt x="1159" y="3129"/>
                </a:lnTo>
                <a:lnTo>
                  <a:pt x="1252" y="3268"/>
                </a:lnTo>
                <a:lnTo>
                  <a:pt x="1322" y="3361"/>
                </a:lnTo>
                <a:lnTo>
                  <a:pt x="1369" y="3431"/>
                </a:lnTo>
                <a:lnTo>
                  <a:pt x="1437" y="3547"/>
                </a:lnTo>
                <a:lnTo>
                  <a:pt x="1461" y="3617"/>
                </a:lnTo>
                <a:lnTo>
                  <a:pt x="1530" y="3710"/>
                </a:lnTo>
                <a:lnTo>
                  <a:pt x="1554" y="3781"/>
                </a:lnTo>
                <a:lnTo>
                  <a:pt x="1600" y="3873"/>
                </a:lnTo>
                <a:lnTo>
                  <a:pt x="1622" y="3966"/>
                </a:lnTo>
                <a:lnTo>
                  <a:pt x="1669" y="4058"/>
                </a:lnTo>
                <a:lnTo>
                  <a:pt x="1693" y="4151"/>
                </a:lnTo>
                <a:lnTo>
                  <a:pt x="1717" y="4222"/>
                </a:lnTo>
                <a:lnTo>
                  <a:pt x="1785" y="4336"/>
                </a:lnTo>
                <a:lnTo>
                  <a:pt x="1832" y="4407"/>
                </a:lnTo>
                <a:lnTo>
                  <a:pt x="1902" y="4475"/>
                </a:lnTo>
                <a:lnTo>
                  <a:pt x="1995" y="4568"/>
                </a:lnTo>
                <a:lnTo>
                  <a:pt x="2088" y="4614"/>
                </a:lnTo>
                <a:lnTo>
                  <a:pt x="2181" y="4614"/>
                </a:lnTo>
                <a:lnTo>
                  <a:pt x="2252" y="4614"/>
                </a:lnTo>
                <a:lnTo>
                  <a:pt x="2366" y="4592"/>
                </a:lnTo>
                <a:lnTo>
                  <a:pt x="2437" y="4568"/>
                </a:lnTo>
                <a:lnTo>
                  <a:pt x="2529" y="4521"/>
                </a:lnTo>
                <a:lnTo>
                  <a:pt x="2600" y="4499"/>
                </a:lnTo>
                <a:lnTo>
                  <a:pt x="2693" y="4475"/>
                </a:lnTo>
                <a:lnTo>
                  <a:pt x="2785" y="4453"/>
                </a:lnTo>
                <a:lnTo>
                  <a:pt x="2900" y="4429"/>
                </a:lnTo>
                <a:lnTo>
                  <a:pt x="2970" y="4407"/>
                </a:lnTo>
                <a:lnTo>
                  <a:pt x="3041" y="4383"/>
                </a:lnTo>
                <a:lnTo>
                  <a:pt x="3134" y="4336"/>
                </a:lnTo>
                <a:lnTo>
                  <a:pt x="3248" y="4336"/>
                </a:lnTo>
                <a:lnTo>
                  <a:pt x="3319" y="4336"/>
                </a:lnTo>
                <a:lnTo>
                  <a:pt x="3411" y="4314"/>
                </a:lnTo>
                <a:lnTo>
                  <a:pt x="3482" y="4290"/>
                </a:lnTo>
                <a:lnTo>
                  <a:pt x="3575" y="4268"/>
                </a:lnTo>
                <a:lnTo>
                  <a:pt x="3667" y="4222"/>
                </a:lnTo>
                <a:lnTo>
                  <a:pt x="3722" y="4180"/>
                </a:lnTo>
                <a:lnTo>
                  <a:pt x="3828" y="4109"/>
                </a:lnTo>
                <a:lnTo>
                  <a:pt x="3908" y="4065"/>
                </a:lnTo>
                <a:lnTo>
                  <a:pt x="4040" y="4012"/>
                </a:lnTo>
                <a:lnTo>
                  <a:pt x="4190" y="399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"/>
          <p:cNvSpPr/>
          <p:nvPr/>
        </p:nvSpPr>
        <p:spPr>
          <a:xfrm>
            <a:off x="4037040" y="647640"/>
            <a:ext cx="1545120" cy="1576800"/>
          </a:xfrm>
          <a:custGeom>
            <a:avLst/>
            <a:gdLst/>
            <a:ahLst/>
            <a:rect l="0" t="0" r="r" b="b"/>
            <a:pathLst>
              <a:path fill="none" w="4292" h="4380">
                <a:moveTo>
                  <a:pt x="0" y="0"/>
                </a:moveTo>
                <a:lnTo>
                  <a:pt x="99" y="112"/>
                </a:lnTo>
                <a:lnTo>
                  <a:pt x="165" y="224"/>
                </a:lnTo>
                <a:lnTo>
                  <a:pt x="211" y="363"/>
                </a:lnTo>
                <a:lnTo>
                  <a:pt x="238" y="542"/>
                </a:lnTo>
                <a:lnTo>
                  <a:pt x="257" y="707"/>
                </a:lnTo>
                <a:lnTo>
                  <a:pt x="323" y="872"/>
                </a:lnTo>
                <a:lnTo>
                  <a:pt x="350" y="1018"/>
                </a:lnTo>
                <a:lnTo>
                  <a:pt x="456" y="1131"/>
                </a:lnTo>
                <a:lnTo>
                  <a:pt x="456" y="1224"/>
                </a:lnTo>
                <a:lnTo>
                  <a:pt x="456" y="1290"/>
                </a:lnTo>
                <a:lnTo>
                  <a:pt x="442" y="1382"/>
                </a:lnTo>
                <a:lnTo>
                  <a:pt x="469" y="1435"/>
                </a:lnTo>
                <a:lnTo>
                  <a:pt x="495" y="1528"/>
                </a:lnTo>
                <a:lnTo>
                  <a:pt x="509" y="1581"/>
                </a:lnTo>
                <a:lnTo>
                  <a:pt x="561" y="1726"/>
                </a:lnTo>
                <a:lnTo>
                  <a:pt x="561" y="1779"/>
                </a:lnTo>
                <a:lnTo>
                  <a:pt x="614" y="1832"/>
                </a:lnTo>
                <a:lnTo>
                  <a:pt x="667" y="1885"/>
                </a:lnTo>
                <a:lnTo>
                  <a:pt x="747" y="1938"/>
                </a:lnTo>
                <a:lnTo>
                  <a:pt x="826" y="2043"/>
                </a:lnTo>
                <a:lnTo>
                  <a:pt x="918" y="2189"/>
                </a:lnTo>
                <a:lnTo>
                  <a:pt x="985" y="2242"/>
                </a:lnTo>
                <a:lnTo>
                  <a:pt x="1051" y="2347"/>
                </a:lnTo>
                <a:lnTo>
                  <a:pt x="1105" y="2440"/>
                </a:lnTo>
                <a:lnTo>
                  <a:pt x="1131" y="2559"/>
                </a:lnTo>
                <a:lnTo>
                  <a:pt x="1197" y="2691"/>
                </a:lnTo>
                <a:lnTo>
                  <a:pt x="1224" y="2744"/>
                </a:lnTo>
                <a:lnTo>
                  <a:pt x="1276" y="2810"/>
                </a:lnTo>
                <a:lnTo>
                  <a:pt x="1246" y="2872"/>
                </a:lnTo>
                <a:lnTo>
                  <a:pt x="1263" y="2898"/>
                </a:lnTo>
                <a:lnTo>
                  <a:pt x="1281" y="2934"/>
                </a:lnTo>
                <a:lnTo>
                  <a:pt x="1298" y="2960"/>
                </a:lnTo>
                <a:lnTo>
                  <a:pt x="1307" y="2987"/>
                </a:lnTo>
                <a:lnTo>
                  <a:pt x="1325" y="3022"/>
                </a:lnTo>
                <a:lnTo>
                  <a:pt x="1343" y="3048"/>
                </a:lnTo>
                <a:lnTo>
                  <a:pt x="1360" y="3084"/>
                </a:lnTo>
                <a:lnTo>
                  <a:pt x="1360" y="3110"/>
                </a:lnTo>
                <a:lnTo>
                  <a:pt x="1378" y="3136"/>
                </a:lnTo>
                <a:lnTo>
                  <a:pt x="1387" y="3172"/>
                </a:lnTo>
                <a:lnTo>
                  <a:pt x="1404" y="3198"/>
                </a:lnTo>
                <a:lnTo>
                  <a:pt x="1413" y="3225"/>
                </a:lnTo>
                <a:lnTo>
                  <a:pt x="1431" y="3260"/>
                </a:lnTo>
                <a:lnTo>
                  <a:pt x="1440" y="3287"/>
                </a:lnTo>
                <a:lnTo>
                  <a:pt x="1448" y="3314"/>
                </a:lnTo>
                <a:lnTo>
                  <a:pt x="1457" y="3340"/>
                </a:lnTo>
                <a:lnTo>
                  <a:pt x="1466" y="3367"/>
                </a:lnTo>
                <a:lnTo>
                  <a:pt x="1484" y="3393"/>
                </a:lnTo>
                <a:lnTo>
                  <a:pt x="1484" y="3420"/>
                </a:lnTo>
                <a:lnTo>
                  <a:pt x="1492" y="3446"/>
                </a:lnTo>
                <a:lnTo>
                  <a:pt x="1510" y="3481"/>
                </a:lnTo>
                <a:lnTo>
                  <a:pt x="1519" y="3508"/>
                </a:lnTo>
                <a:lnTo>
                  <a:pt x="1519" y="3534"/>
                </a:lnTo>
                <a:lnTo>
                  <a:pt x="1536" y="3561"/>
                </a:lnTo>
                <a:lnTo>
                  <a:pt x="1554" y="3587"/>
                </a:lnTo>
                <a:lnTo>
                  <a:pt x="1572" y="3631"/>
                </a:lnTo>
                <a:lnTo>
                  <a:pt x="1581" y="3658"/>
                </a:lnTo>
                <a:lnTo>
                  <a:pt x="1598" y="3702"/>
                </a:lnTo>
                <a:lnTo>
                  <a:pt x="1616" y="3728"/>
                </a:lnTo>
                <a:lnTo>
                  <a:pt x="1633" y="3763"/>
                </a:lnTo>
                <a:lnTo>
                  <a:pt x="1642" y="3790"/>
                </a:lnTo>
                <a:lnTo>
                  <a:pt x="1660" y="3816"/>
                </a:lnTo>
                <a:lnTo>
                  <a:pt x="1669" y="3843"/>
                </a:lnTo>
                <a:lnTo>
                  <a:pt x="1678" y="3869"/>
                </a:lnTo>
                <a:lnTo>
                  <a:pt x="1695" y="3904"/>
                </a:lnTo>
                <a:lnTo>
                  <a:pt x="1722" y="3931"/>
                </a:lnTo>
                <a:lnTo>
                  <a:pt x="1739" y="3966"/>
                </a:lnTo>
                <a:lnTo>
                  <a:pt x="1757" y="3992"/>
                </a:lnTo>
                <a:lnTo>
                  <a:pt x="1775" y="4019"/>
                </a:lnTo>
                <a:lnTo>
                  <a:pt x="1792" y="4045"/>
                </a:lnTo>
                <a:lnTo>
                  <a:pt x="1810" y="4081"/>
                </a:lnTo>
                <a:lnTo>
                  <a:pt x="1827" y="4107"/>
                </a:lnTo>
                <a:lnTo>
                  <a:pt x="1845" y="4134"/>
                </a:lnTo>
                <a:lnTo>
                  <a:pt x="1871" y="4160"/>
                </a:lnTo>
                <a:lnTo>
                  <a:pt x="1889" y="4186"/>
                </a:lnTo>
                <a:lnTo>
                  <a:pt x="1916" y="4213"/>
                </a:lnTo>
                <a:lnTo>
                  <a:pt x="1942" y="4239"/>
                </a:lnTo>
                <a:lnTo>
                  <a:pt x="1968" y="4257"/>
                </a:lnTo>
                <a:lnTo>
                  <a:pt x="1986" y="4283"/>
                </a:lnTo>
                <a:lnTo>
                  <a:pt x="2013" y="4301"/>
                </a:lnTo>
                <a:lnTo>
                  <a:pt x="2039" y="4310"/>
                </a:lnTo>
                <a:lnTo>
                  <a:pt x="2065" y="4327"/>
                </a:lnTo>
                <a:lnTo>
                  <a:pt x="2092" y="4327"/>
                </a:lnTo>
                <a:lnTo>
                  <a:pt x="2118" y="4345"/>
                </a:lnTo>
                <a:lnTo>
                  <a:pt x="2224" y="4372"/>
                </a:lnTo>
                <a:lnTo>
                  <a:pt x="2251" y="4372"/>
                </a:lnTo>
                <a:lnTo>
                  <a:pt x="2277" y="4380"/>
                </a:lnTo>
                <a:lnTo>
                  <a:pt x="2303" y="4380"/>
                </a:lnTo>
                <a:lnTo>
                  <a:pt x="2330" y="4380"/>
                </a:lnTo>
                <a:lnTo>
                  <a:pt x="2365" y="4380"/>
                </a:lnTo>
                <a:lnTo>
                  <a:pt x="2409" y="4380"/>
                </a:lnTo>
                <a:lnTo>
                  <a:pt x="2453" y="4380"/>
                </a:lnTo>
                <a:lnTo>
                  <a:pt x="2480" y="4363"/>
                </a:lnTo>
                <a:lnTo>
                  <a:pt x="2506" y="4345"/>
                </a:lnTo>
                <a:lnTo>
                  <a:pt x="2533" y="4327"/>
                </a:lnTo>
                <a:lnTo>
                  <a:pt x="2585" y="4292"/>
                </a:lnTo>
                <a:lnTo>
                  <a:pt x="2612" y="4275"/>
                </a:lnTo>
                <a:lnTo>
                  <a:pt x="2638" y="4248"/>
                </a:lnTo>
                <a:lnTo>
                  <a:pt x="2665" y="4230"/>
                </a:lnTo>
                <a:lnTo>
                  <a:pt x="2691" y="4213"/>
                </a:lnTo>
                <a:lnTo>
                  <a:pt x="2718" y="4195"/>
                </a:lnTo>
                <a:lnTo>
                  <a:pt x="2744" y="4178"/>
                </a:lnTo>
                <a:lnTo>
                  <a:pt x="2771" y="4151"/>
                </a:lnTo>
                <a:lnTo>
                  <a:pt x="2815" y="4116"/>
                </a:lnTo>
                <a:lnTo>
                  <a:pt x="2850" y="4107"/>
                </a:lnTo>
                <a:lnTo>
                  <a:pt x="2903" y="4072"/>
                </a:lnTo>
                <a:lnTo>
                  <a:pt x="2920" y="4045"/>
                </a:lnTo>
                <a:lnTo>
                  <a:pt x="2938" y="4019"/>
                </a:lnTo>
                <a:lnTo>
                  <a:pt x="2965" y="4001"/>
                </a:lnTo>
                <a:lnTo>
                  <a:pt x="2991" y="3966"/>
                </a:lnTo>
                <a:lnTo>
                  <a:pt x="3017" y="3940"/>
                </a:lnTo>
                <a:lnTo>
                  <a:pt x="3044" y="3922"/>
                </a:lnTo>
                <a:lnTo>
                  <a:pt x="3070" y="3904"/>
                </a:lnTo>
                <a:lnTo>
                  <a:pt x="3106" y="3887"/>
                </a:lnTo>
                <a:lnTo>
                  <a:pt x="3132" y="3878"/>
                </a:lnTo>
                <a:lnTo>
                  <a:pt x="3158" y="3869"/>
                </a:lnTo>
                <a:lnTo>
                  <a:pt x="3185" y="3851"/>
                </a:lnTo>
                <a:lnTo>
                  <a:pt x="3211" y="3843"/>
                </a:lnTo>
                <a:lnTo>
                  <a:pt x="3248" y="3825"/>
                </a:lnTo>
                <a:lnTo>
                  <a:pt x="3283" y="3807"/>
                </a:lnTo>
                <a:lnTo>
                  <a:pt x="3309" y="3790"/>
                </a:lnTo>
                <a:lnTo>
                  <a:pt x="3336" y="3781"/>
                </a:lnTo>
                <a:lnTo>
                  <a:pt x="3362" y="3772"/>
                </a:lnTo>
                <a:lnTo>
                  <a:pt x="3389" y="3763"/>
                </a:lnTo>
                <a:lnTo>
                  <a:pt x="3415" y="3754"/>
                </a:lnTo>
                <a:lnTo>
                  <a:pt x="3450" y="3746"/>
                </a:lnTo>
                <a:lnTo>
                  <a:pt x="3545" y="3704"/>
                </a:lnTo>
                <a:lnTo>
                  <a:pt x="3572" y="3671"/>
                </a:lnTo>
                <a:lnTo>
                  <a:pt x="3605" y="3664"/>
                </a:lnTo>
                <a:lnTo>
                  <a:pt x="3624" y="3638"/>
                </a:lnTo>
                <a:lnTo>
                  <a:pt x="3638" y="3638"/>
                </a:lnTo>
                <a:lnTo>
                  <a:pt x="3664" y="3611"/>
                </a:lnTo>
                <a:lnTo>
                  <a:pt x="3677" y="3598"/>
                </a:lnTo>
                <a:lnTo>
                  <a:pt x="3697" y="3572"/>
                </a:lnTo>
                <a:lnTo>
                  <a:pt x="3730" y="3552"/>
                </a:lnTo>
                <a:lnTo>
                  <a:pt x="3763" y="3539"/>
                </a:lnTo>
                <a:lnTo>
                  <a:pt x="3803" y="3512"/>
                </a:lnTo>
                <a:lnTo>
                  <a:pt x="3836" y="3486"/>
                </a:lnTo>
                <a:lnTo>
                  <a:pt x="3849" y="3466"/>
                </a:lnTo>
                <a:lnTo>
                  <a:pt x="3849" y="3472"/>
                </a:lnTo>
                <a:lnTo>
                  <a:pt x="3955" y="3367"/>
                </a:lnTo>
                <a:lnTo>
                  <a:pt x="4087" y="3253"/>
                </a:lnTo>
                <a:lnTo>
                  <a:pt x="4173" y="3220"/>
                </a:lnTo>
                <a:lnTo>
                  <a:pt x="4292" y="319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>
            <a:off x="4253040" y="82440"/>
            <a:ext cx="1329120" cy="1152720"/>
          </a:xfrm>
          <a:custGeom>
            <a:avLst/>
            <a:gdLst/>
            <a:ahLst/>
            <a:rect l="0" t="0" r="r" b="b"/>
            <a:pathLst>
              <a:path fill="none" w="3692" h="3202">
                <a:moveTo>
                  <a:pt x="0" y="0"/>
                </a:moveTo>
                <a:lnTo>
                  <a:pt x="39" y="46"/>
                </a:lnTo>
                <a:lnTo>
                  <a:pt x="59" y="105"/>
                </a:lnTo>
                <a:lnTo>
                  <a:pt x="119" y="145"/>
                </a:lnTo>
                <a:lnTo>
                  <a:pt x="178" y="185"/>
                </a:lnTo>
                <a:lnTo>
                  <a:pt x="218" y="244"/>
                </a:lnTo>
                <a:lnTo>
                  <a:pt x="257" y="304"/>
                </a:lnTo>
                <a:lnTo>
                  <a:pt x="317" y="304"/>
                </a:lnTo>
                <a:lnTo>
                  <a:pt x="377" y="383"/>
                </a:lnTo>
                <a:lnTo>
                  <a:pt x="396" y="443"/>
                </a:lnTo>
                <a:lnTo>
                  <a:pt x="416" y="502"/>
                </a:lnTo>
                <a:lnTo>
                  <a:pt x="436" y="562"/>
                </a:lnTo>
                <a:lnTo>
                  <a:pt x="456" y="621"/>
                </a:lnTo>
                <a:lnTo>
                  <a:pt x="515" y="661"/>
                </a:lnTo>
                <a:lnTo>
                  <a:pt x="575" y="701"/>
                </a:lnTo>
                <a:lnTo>
                  <a:pt x="635" y="740"/>
                </a:lnTo>
                <a:lnTo>
                  <a:pt x="694" y="760"/>
                </a:lnTo>
                <a:lnTo>
                  <a:pt x="754" y="800"/>
                </a:lnTo>
                <a:lnTo>
                  <a:pt x="853" y="840"/>
                </a:lnTo>
                <a:lnTo>
                  <a:pt x="912" y="859"/>
                </a:lnTo>
                <a:lnTo>
                  <a:pt x="973" y="899"/>
                </a:lnTo>
                <a:lnTo>
                  <a:pt x="1052" y="939"/>
                </a:lnTo>
                <a:lnTo>
                  <a:pt x="1112" y="978"/>
                </a:lnTo>
                <a:lnTo>
                  <a:pt x="1191" y="998"/>
                </a:lnTo>
                <a:lnTo>
                  <a:pt x="1251" y="1038"/>
                </a:lnTo>
                <a:lnTo>
                  <a:pt x="1310" y="1117"/>
                </a:lnTo>
                <a:lnTo>
                  <a:pt x="1350" y="1177"/>
                </a:lnTo>
                <a:lnTo>
                  <a:pt x="1409" y="1236"/>
                </a:lnTo>
                <a:lnTo>
                  <a:pt x="1489" y="1296"/>
                </a:lnTo>
                <a:lnTo>
                  <a:pt x="1548" y="1336"/>
                </a:lnTo>
                <a:lnTo>
                  <a:pt x="1608" y="1355"/>
                </a:lnTo>
                <a:lnTo>
                  <a:pt x="1667" y="1375"/>
                </a:lnTo>
                <a:lnTo>
                  <a:pt x="1727" y="1395"/>
                </a:lnTo>
                <a:lnTo>
                  <a:pt x="1826" y="1475"/>
                </a:lnTo>
                <a:lnTo>
                  <a:pt x="1886" y="1494"/>
                </a:lnTo>
                <a:lnTo>
                  <a:pt x="1985" y="1554"/>
                </a:lnTo>
                <a:lnTo>
                  <a:pt x="2064" y="1634"/>
                </a:lnTo>
                <a:lnTo>
                  <a:pt x="2124" y="1654"/>
                </a:lnTo>
                <a:lnTo>
                  <a:pt x="2183" y="1714"/>
                </a:lnTo>
                <a:lnTo>
                  <a:pt x="2243" y="1753"/>
                </a:lnTo>
                <a:lnTo>
                  <a:pt x="2302" y="1813"/>
                </a:lnTo>
                <a:lnTo>
                  <a:pt x="2342" y="1872"/>
                </a:lnTo>
                <a:lnTo>
                  <a:pt x="2382" y="1932"/>
                </a:lnTo>
                <a:lnTo>
                  <a:pt x="2461" y="2011"/>
                </a:lnTo>
                <a:lnTo>
                  <a:pt x="2521" y="2051"/>
                </a:lnTo>
                <a:lnTo>
                  <a:pt x="2560" y="2111"/>
                </a:lnTo>
                <a:lnTo>
                  <a:pt x="2620" y="2150"/>
                </a:lnTo>
                <a:lnTo>
                  <a:pt x="2679" y="2230"/>
                </a:lnTo>
                <a:lnTo>
                  <a:pt x="2739" y="2289"/>
                </a:lnTo>
                <a:lnTo>
                  <a:pt x="2799" y="2309"/>
                </a:lnTo>
                <a:lnTo>
                  <a:pt x="2859" y="2369"/>
                </a:lnTo>
                <a:lnTo>
                  <a:pt x="2919" y="2388"/>
                </a:lnTo>
                <a:lnTo>
                  <a:pt x="2978" y="2408"/>
                </a:lnTo>
                <a:lnTo>
                  <a:pt x="3038" y="2408"/>
                </a:lnTo>
                <a:lnTo>
                  <a:pt x="3097" y="2428"/>
                </a:lnTo>
                <a:lnTo>
                  <a:pt x="3177" y="2468"/>
                </a:lnTo>
                <a:lnTo>
                  <a:pt x="3216" y="2527"/>
                </a:lnTo>
                <a:lnTo>
                  <a:pt x="3276" y="2607"/>
                </a:lnTo>
                <a:lnTo>
                  <a:pt x="3335" y="2666"/>
                </a:lnTo>
                <a:lnTo>
                  <a:pt x="3355" y="2726"/>
                </a:lnTo>
                <a:lnTo>
                  <a:pt x="3395" y="2785"/>
                </a:lnTo>
                <a:lnTo>
                  <a:pt x="3454" y="2865"/>
                </a:lnTo>
                <a:lnTo>
                  <a:pt x="3474" y="2924"/>
                </a:lnTo>
                <a:lnTo>
                  <a:pt x="3514" y="2984"/>
                </a:lnTo>
                <a:lnTo>
                  <a:pt x="3554" y="3043"/>
                </a:lnTo>
                <a:lnTo>
                  <a:pt x="3573" y="3103"/>
                </a:lnTo>
                <a:lnTo>
                  <a:pt x="3633" y="3162"/>
                </a:lnTo>
                <a:lnTo>
                  <a:pt x="3692" y="3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>
            <a:off x="3898800" y="1852560"/>
            <a:ext cx="1679760" cy="1421280"/>
          </a:xfrm>
          <a:custGeom>
            <a:avLst/>
            <a:gdLst/>
            <a:ahLst/>
            <a:rect l="0" t="0" r="r" b="b"/>
            <a:pathLst>
              <a:path fill="none" w="4666" h="3948">
                <a:moveTo>
                  <a:pt x="0" y="3948"/>
                </a:moveTo>
                <a:lnTo>
                  <a:pt x="33" y="3823"/>
                </a:lnTo>
                <a:lnTo>
                  <a:pt x="271" y="3591"/>
                </a:lnTo>
                <a:lnTo>
                  <a:pt x="528" y="3334"/>
                </a:lnTo>
                <a:lnTo>
                  <a:pt x="694" y="3228"/>
                </a:lnTo>
                <a:lnTo>
                  <a:pt x="912" y="2909"/>
                </a:lnTo>
                <a:lnTo>
                  <a:pt x="1018" y="2637"/>
                </a:lnTo>
                <a:lnTo>
                  <a:pt x="1137" y="2520"/>
                </a:lnTo>
                <a:lnTo>
                  <a:pt x="1269" y="2295"/>
                </a:lnTo>
                <a:lnTo>
                  <a:pt x="1461" y="2023"/>
                </a:lnTo>
                <a:lnTo>
                  <a:pt x="1672" y="1567"/>
                </a:lnTo>
                <a:lnTo>
                  <a:pt x="1970" y="1357"/>
                </a:lnTo>
                <a:lnTo>
                  <a:pt x="2082" y="1362"/>
                </a:lnTo>
                <a:lnTo>
                  <a:pt x="2254" y="1467"/>
                </a:lnTo>
                <a:lnTo>
                  <a:pt x="2307" y="1567"/>
                </a:lnTo>
                <a:lnTo>
                  <a:pt x="2447" y="1660"/>
                </a:lnTo>
                <a:lnTo>
                  <a:pt x="2645" y="1746"/>
                </a:lnTo>
                <a:lnTo>
                  <a:pt x="2764" y="1673"/>
                </a:lnTo>
                <a:lnTo>
                  <a:pt x="2982" y="1389"/>
                </a:lnTo>
                <a:lnTo>
                  <a:pt x="3029" y="1350"/>
                </a:lnTo>
                <a:lnTo>
                  <a:pt x="3101" y="1335"/>
                </a:lnTo>
                <a:lnTo>
                  <a:pt x="3209" y="1291"/>
                </a:lnTo>
                <a:lnTo>
                  <a:pt x="3273" y="1220"/>
                </a:lnTo>
                <a:lnTo>
                  <a:pt x="3315" y="1149"/>
                </a:lnTo>
                <a:lnTo>
                  <a:pt x="3361" y="1036"/>
                </a:lnTo>
                <a:lnTo>
                  <a:pt x="3427" y="997"/>
                </a:lnTo>
                <a:lnTo>
                  <a:pt x="3529" y="964"/>
                </a:lnTo>
                <a:lnTo>
                  <a:pt x="3546" y="969"/>
                </a:lnTo>
                <a:lnTo>
                  <a:pt x="3665" y="957"/>
                </a:lnTo>
                <a:lnTo>
                  <a:pt x="3721" y="935"/>
                </a:lnTo>
                <a:lnTo>
                  <a:pt x="3784" y="864"/>
                </a:lnTo>
                <a:lnTo>
                  <a:pt x="3848" y="839"/>
                </a:lnTo>
                <a:lnTo>
                  <a:pt x="3912" y="793"/>
                </a:lnTo>
                <a:lnTo>
                  <a:pt x="3998" y="697"/>
                </a:lnTo>
                <a:lnTo>
                  <a:pt x="4062" y="651"/>
                </a:lnTo>
                <a:lnTo>
                  <a:pt x="4126" y="626"/>
                </a:lnTo>
                <a:lnTo>
                  <a:pt x="4168" y="555"/>
                </a:lnTo>
                <a:lnTo>
                  <a:pt x="4232" y="509"/>
                </a:lnTo>
                <a:lnTo>
                  <a:pt x="4254" y="438"/>
                </a:lnTo>
                <a:lnTo>
                  <a:pt x="4298" y="342"/>
                </a:lnTo>
                <a:lnTo>
                  <a:pt x="4362" y="271"/>
                </a:lnTo>
                <a:lnTo>
                  <a:pt x="4426" y="200"/>
                </a:lnTo>
                <a:lnTo>
                  <a:pt x="4490" y="105"/>
                </a:lnTo>
                <a:lnTo>
                  <a:pt x="4554" y="34"/>
                </a:lnTo>
                <a:lnTo>
                  <a:pt x="4618" y="12"/>
                </a:lnTo>
                <a:lnTo>
                  <a:pt x="466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"/>
          <p:cNvSpPr/>
          <p:nvPr/>
        </p:nvSpPr>
        <p:spPr>
          <a:xfrm>
            <a:off x="3949560" y="1908000"/>
            <a:ext cx="1632240" cy="1365480"/>
          </a:xfrm>
          <a:custGeom>
            <a:avLst/>
            <a:gdLst/>
            <a:ahLst/>
            <a:rect l="0" t="0" r="r" b="b"/>
            <a:pathLst>
              <a:path fill="none" w="4534" h="3793">
                <a:moveTo>
                  <a:pt x="4534" y="0"/>
                </a:moveTo>
                <a:lnTo>
                  <a:pt x="4492" y="63"/>
                </a:lnTo>
                <a:lnTo>
                  <a:pt x="4428" y="127"/>
                </a:lnTo>
                <a:lnTo>
                  <a:pt x="4364" y="171"/>
                </a:lnTo>
                <a:lnTo>
                  <a:pt x="4320" y="235"/>
                </a:lnTo>
                <a:lnTo>
                  <a:pt x="4278" y="299"/>
                </a:lnTo>
                <a:lnTo>
                  <a:pt x="4236" y="363"/>
                </a:lnTo>
                <a:lnTo>
                  <a:pt x="4192" y="427"/>
                </a:lnTo>
                <a:lnTo>
                  <a:pt x="4150" y="491"/>
                </a:lnTo>
                <a:lnTo>
                  <a:pt x="4086" y="533"/>
                </a:lnTo>
                <a:lnTo>
                  <a:pt x="4022" y="597"/>
                </a:lnTo>
                <a:lnTo>
                  <a:pt x="3958" y="641"/>
                </a:lnTo>
                <a:lnTo>
                  <a:pt x="3894" y="705"/>
                </a:lnTo>
                <a:lnTo>
                  <a:pt x="3808" y="747"/>
                </a:lnTo>
                <a:lnTo>
                  <a:pt x="3744" y="811"/>
                </a:lnTo>
                <a:lnTo>
                  <a:pt x="3680" y="833"/>
                </a:lnTo>
                <a:lnTo>
                  <a:pt x="3649" y="890"/>
                </a:lnTo>
                <a:lnTo>
                  <a:pt x="3605" y="930"/>
                </a:lnTo>
                <a:lnTo>
                  <a:pt x="3539" y="956"/>
                </a:lnTo>
                <a:lnTo>
                  <a:pt x="3504" y="987"/>
                </a:lnTo>
                <a:lnTo>
                  <a:pt x="3459" y="1040"/>
                </a:lnTo>
                <a:lnTo>
                  <a:pt x="3362" y="1128"/>
                </a:lnTo>
                <a:lnTo>
                  <a:pt x="3279" y="1177"/>
                </a:lnTo>
                <a:lnTo>
                  <a:pt x="3217" y="1212"/>
                </a:lnTo>
                <a:lnTo>
                  <a:pt x="3173" y="1265"/>
                </a:lnTo>
                <a:lnTo>
                  <a:pt x="3111" y="1309"/>
                </a:lnTo>
                <a:lnTo>
                  <a:pt x="3089" y="1375"/>
                </a:lnTo>
                <a:lnTo>
                  <a:pt x="3018" y="1428"/>
                </a:lnTo>
                <a:lnTo>
                  <a:pt x="2956" y="1521"/>
                </a:lnTo>
                <a:lnTo>
                  <a:pt x="2859" y="1569"/>
                </a:lnTo>
                <a:lnTo>
                  <a:pt x="2811" y="1631"/>
                </a:lnTo>
                <a:lnTo>
                  <a:pt x="2731" y="1697"/>
                </a:lnTo>
                <a:lnTo>
                  <a:pt x="2648" y="1737"/>
                </a:lnTo>
                <a:lnTo>
                  <a:pt x="2581" y="1755"/>
                </a:lnTo>
                <a:lnTo>
                  <a:pt x="2506" y="1746"/>
                </a:lnTo>
                <a:lnTo>
                  <a:pt x="2392" y="1737"/>
                </a:lnTo>
                <a:lnTo>
                  <a:pt x="2315" y="1642"/>
                </a:lnTo>
                <a:lnTo>
                  <a:pt x="2250" y="1600"/>
                </a:lnTo>
                <a:lnTo>
                  <a:pt x="2186" y="1536"/>
                </a:lnTo>
                <a:lnTo>
                  <a:pt x="2119" y="1494"/>
                </a:lnTo>
                <a:lnTo>
                  <a:pt x="2077" y="1430"/>
                </a:lnTo>
                <a:lnTo>
                  <a:pt x="2014" y="1408"/>
                </a:lnTo>
                <a:lnTo>
                  <a:pt x="1950" y="1386"/>
                </a:lnTo>
                <a:lnTo>
                  <a:pt x="1888" y="1318"/>
                </a:lnTo>
                <a:lnTo>
                  <a:pt x="1800" y="1386"/>
                </a:lnTo>
                <a:lnTo>
                  <a:pt x="1758" y="1450"/>
                </a:lnTo>
                <a:lnTo>
                  <a:pt x="1716" y="1514"/>
                </a:lnTo>
                <a:lnTo>
                  <a:pt x="1672" y="1578"/>
                </a:lnTo>
                <a:lnTo>
                  <a:pt x="1608" y="1642"/>
                </a:lnTo>
                <a:lnTo>
                  <a:pt x="1566" y="1708"/>
                </a:lnTo>
                <a:lnTo>
                  <a:pt x="1502" y="1772"/>
                </a:lnTo>
                <a:lnTo>
                  <a:pt x="1458" y="1836"/>
                </a:lnTo>
                <a:lnTo>
                  <a:pt x="1416" y="1901"/>
                </a:lnTo>
                <a:lnTo>
                  <a:pt x="1352" y="1965"/>
                </a:lnTo>
                <a:lnTo>
                  <a:pt x="1330" y="2029"/>
                </a:lnTo>
                <a:lnTo>
                  <a:pt x="1288" y="2093"/>
                </a:lnTo>
                <a:lnTo>
                  <a:pt x="1224" y="2177"/>
                </a:lnTo>
                <a:lnTo>
                  <a:pt x="1182" y="2241"/>
                </a:lnTo>
                <a:lnTo>
                  <a:pt x="1118" y="2305"/>
                </a:lnTo>
                <a:lnTo>
                  <a:pt x="1074" y="2371"/>
                </a:lnTo>
                <a:lnTo>
                  <a:pt x="1032" y="2435"/>
                </a:lnTo>
                <a:lnTo>
                  <a:pt x="990" y="2499"/>
                </a:lnTo>
                <a:lnTo>
                  <a:pt x="946" y="2563"/>
                </a:lnTo>
                <a:lnTo>
                  <a:pt x="904" y="2626"/>
                </a:lnTo>
                <a:lnTo>
                  <a:pt x="862" y="2690"/>
                </a:lnTo>
                <a:lnTo>
                  <a:pt x="818" y="2754"/>
                </a:lnTo>
                <a:lnTo>
                  <a:pt x="776" y="2818"/>
                </a:lnTo>
                <a:lnTo>
                  <a:pt x="754" y="2882"/>
                </a:lnTo>
                <a:lnTo>
                  <a:pt x="712" y="2946"/>
                </a:lnTo>
                <a:lnTo>
                  <a:pt x="668" y="3010"/>
                </a:lnTo>
                <a:lnTo>
                  <a:pt x="626" y="3074"/>
                </a:lnTo>
                <a:lnTo>
                  <a:pt x="562" y="3160"/>
                </a:lnTo>
                <a:lnTo>
                  <a:pt x="520" y="3224"/>
                </a:lnTo>
                <a:lnTo>
                  <a:pt x="456" y="3244"/>
                </a:lnTo>
                <a:lnTo>
                  <a:pt x="392" y="3288"/>
                </a:lnTo>
                <a:lnTo>
                  <a:pt x="348" y="3352"/>
                </a:lnTo>
                <a:lnTo>
                  <a:pt x="284" y="3394"/>
                </a:lnTo>
                <a:lnTo>
                  <a:pt x="220" y="3458"/>
                </a:lnTo>
                <a:lnTo>
                  <a:pt x="178" y="3522"/>
                </a:lnTo>
                <a:lnTo>
                  <a:pt x="114" y="3586"/>
                </a:lnTo>
                <a:lnTo>
                  <a:pt x="70" y="3650"/>
                </a:lnTo>
                <a:lnTo>
                  <a:pt x="28" y="3713"/>
                </a:lnTo>
                <a:lnTo>
                  <a:pt x="0" y="37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"/>
          <p:cNvSpPr/>
          <p:nvPr/>
        </p:nvSpPr>
        <p:spPr>
          <a:xfrm>
            <a:off x="4008600" y="2065320"/>
            <a:ext cx="1575000" cy="1208520"/>
          </a:xfrm>
          <a:custGeom>
            <a:avLst/>
            <a:gdLst/>
            <a:ahLst/>
            <a:rect l="0" t="0" r="r" b="b"/>
            <a:pathLst>
              <a:path fill="none" w="4375" h="3357">
                <a:moveTo>
                  <a:pt x="4375" y="0"/>
                </a:moveTo>
                <a:lnTo>
                  <a:pt x="4326" y="13"/>
                </a:lnTo>
                <a:lnTo>
                  <a:pt x="4262" y="33"/>
                </a:lnTo>
                <a:lnTo>
                  <a:pt x="4199" y="77"/>
                </a:lnTo>
                <a:lnTo>
                  <a:pt x="4135" y="97"/>
                </a:lnTo>
                <a:lnTo>
                  <a:pt x="4071" y="141"/>
                </a:lnTo>
                <a:lnTo>
                  <a:pt x="4027" y="224"/>
                </a:lnTo>
                <a:lnTo>
                  <a:pt x="3963" y="288"/>
                </a:lnTo>
                <a:lnTo>
                  <a:pt x="3899" y="352"/>
                </a:lnTo>
                <a:lnTo>
                  <a:pt x="3835" y="396"/>
                </a:lnTo>
                <a:lnTo>
                  <a:pt x="3771" y="460"/>
                </a:lnTo>
                <a:lnTo>
                  <a:pt x="3707" y="502"/>
                </a:lnTo>
                <a:lnTo>
                  <a:pt x="3665" y="566"/>
                </a:lnTo>
                <a:lnTo>
                  <a:pt x="3630" y="648"/>
                </a:lnTo>
                <a:lnTo>
                  <a:pt x="3586" y="727"/>
                </a:lnTo>
                <a:lnTo>
                  <a:pt x="3475" y="784"/>
                </a:lnTo>
                <a:lnTo>
                  <a:pt x="3356" y="815"/>
                </a:lnTo>
                <a:lnTo>
                  <a:pt x="3279" y="845"/>
                </a:lnTo>
                <a:lnTo>
                  <a:pt x="3215" y="909"/>
                </a:lnTo>
                <a:lnTo>
                  <a:pt x="3151" y="973"/>
                </a:lnTo>
                <a:lnTo>
                  <a:pt x="3109" y="1037"/>
                </a:lnTo>
                <a:lnTo>
                  <a:pt x="3045" y="1079"/>
                </a:lnTo>
                <a:lnTo>
                  <a:pt x="3004" y="1143"/>
                </a:lnTo>
                <a:lnTo>
                  <a:pt x="2940" y="1187"/>
                </a:lnTo>
                <a:lnTo>
                  <a:pt x="2876" y="1229"/>
                </a:lnTo>
                <a:lnTo>
                  <a:pt x="2812" y="1273"/>
                </a:lnTo>
                <a:lnTo>
                  <a:pt x="2748" y="1293"/>
                </a:lnTo>
                <a:lnTo>
                  <a:pt x="2684" y="1315"/>
                </a:lnTo>
                <a:lnTo>
                  <a:pt x="2618" y="1356"/>
                </a:lnTo>
                <a:lnTo>
                  <a:pt x="2554" y="1379"/>
                </a:lnTo>
                <a:lnTo>
                  <a:pt x="2490" y="1379"/>
                </a:lnTo>
                <a:lnTo>
                  <a:pt x="2426" y="1401"/>
                </a:lnTo>
                <a:lnTo>
                  <a:pt x="2362" y="1420"/>
                </a:lnTo>
                <a:lnTo>
                  <a:pt x="2278" y="1442"/>
                </a:lnTo>
                <a:lnTo>
                  <a:pt x="2169" y="1442"/>
                </a:lnTo>
                <a:lnTo>
                  <a:pt x="2105" y="1420"/>
                </a:lnTo>
                <a:lnTo>
                  <a:pt x="2041" y="1379"/>
                </a:lnTo>
                <a:lnTo>
                  <a:pt x="1977" y="1356"/>
                </a:lnTo>
                <a:lnTo>
                  <a:pt x="1913" y="1315"/>
                </a:lnTo>
                <a:lnTo>
                  <a:pt x="1849" y="1293"/>
                </a:lnTo>
                <a:lnTo>
                  <a:pt x="1785" y="1273"/>
                </a:lnTo>
                <a:lnTo>
                  <a:pt x="1721" y="1251"/>
                </a:lnTo>
                <a:lnTo>
                  <a:pt x="1649" y="1185"/>
                </a:lnTo>
                <a:lnTo>
                  <a:pt x="1572" y="1251"/>
                </a:lnTo>
                <a:lnTo>
                  <a:pt x="1508" y="1273"/>
                </a:lnTo>
                <a:lnTo>
                  <a:pt x="1466" y="1337"/>
                </a:lnTo>
                <a:lnTo>
                  <a:pt x="1402" y="1379"/>
                </a:lnTo>
                <a:lnTo>
                  <a:pt x="1338" y="1420"/>
                </a:lnTo>
                <a:lnTo>
                  <a:pt x="1274" y="1484"/>
                </a:lnTo>
                <a:lnTo>
                  <a:pt x="1252" y="1548"/>
                </a:lnTo>
                <a:lnTo>
                  <a:pt x="1210" y="1612"/>
                </a:lnTo>
                <a:lnTo>
                  <a:pt x="1166" y="1676"/>
                </a:lnTo>
                <a:lnTo>
                  <a:pt x="1124" y="1740"/>
                </a:lnTo>
                <a:lnTo>
                  <a:pt x="1082" y="1804"/>
                </a:lnTo>
                <a:lnTo>
                  <a:pt x="1038" y="1868"/>
                </a:lnTo>
                <a:lnTo>
                  <a:pt x="996" y="1934"/>
                </a:lnTo>
                <a:lnTo>
                  <a:pt x="954" y="1998"/>
                </a:lnTo>
                <a:lnTo>
                  <a:pt x="910" y="2062"/>
                </a:lnTo>
                <a:lnTo>
                  <a:pt x="868" y="2126"/>
                </a:lnTo>
                <a:lnTo>
                  <a:pt x="826" y="2190"/>
                </a:lnTo>
                <a:lnTo>
                  <a:pt x="782" y="2254"/>
                </a:lnTo>
                <a:lnTo>
                  <a:pt x="762" y="2318"/>
                </a:lnTo>
                <a:lnTo>
                  <a:pt x="698" y="2382"/>
                </a:lnTo>
                <a:lnTo>
                  <a:pt x="676" y="2446"/>
                </a:lnTo>
                <a:lnTo>
                  <a:pt x="612" y="2510"/>
                </a:lnTo>
                <a:lnTo>
                  <a:pt x="568" y="2575"/>
                </a:lnTo>
                <a:lnTo>
                  <a:pt x="549" y="2639"/>
                </a:lnTo>
                <a:lnTo>
                  <a:pt x="526" y="2702"/>
                </a:lnTo>
                <a:lnTo>
                  <a:pt x="463" y="2766"/>
                </a:lnTo>
                <a:lnTo>
                  <a:pt x="399" y="2830"/>
                </a:lnTo>
                <a:lnTo>
                  <a:pt x="335" y="2894"/>
                </a:lnTo>
                <a:lnTo>
                  <a:pt x="271" y="2958"/>
                </a:lnTo>
                <a:lnTo>
                  <a:pt x="229" y="3022"/>
                </a:lnTo>
                <a:lnTo>
                  <a:pt x="165" y="3064"/>
                </a:lnTo>
                <a:lnTo>
                  <a:pt x="121" y="3128"/>
                </a:lnTo>
                <a:lnTo>
                  <a:pt x="79" y="3192"/>
                </a:lnTo>
                <a:lnTo>
                  <a:pt x="37" y="3258"/>
                </a:lnTo>
                <a:lnTo>
                  <a:pt x="0" y="33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>
            <a:off x="4091040" y="2244600"/>
            <a:ext cx="1492560" cy="1027440"/>
          </a:xfrm>
          <a:custGeom>
            <a:avLst/>
            <a:gdLst/>
            <a:ahLst/>
            <a:rect l="0" t="0" r="r" b="b"/>
            <a:pathLst>
              <a:path fill="none" w="4146" h="2854">
                <a:moveTo>
                  <a:pt x="4146" y="0"/>
                </a:moveTo>
                <a:lnTo>
                  <a:pt x="4097" y="46"/>
                </a:lnTo>
                <a:lnTo>
                  <a:pt x="4033" y="68"/>
                </a:lnTo>
                <a:lnTo>
                  <a:pt x="3969" y="90"/>
                </a:lnTo>
                <a:lnTo>
                  <a:pt x="3905" y="112"/>
                </a:lnTo>
                <a:lnTo>
                  <a:pt x="3841" y="154"/>
                </a:lnTo>
                <a:lnTo>
                  <a:pt x="3777" y="176"/>
                </a:lnTo>
                <a:lnTo>
                  <a:pt x="3711" y="240"/>
                </a:lnTo>
                <a:lnTo>
                  <a:pt x="3669" y="304"/>
                </a:lnTo>
                <a:lnTo>
                  <a:pt x="3605" y="346"/>
                </a:lnTo>
                <a:lnTo>
                  <a:pt x="3542" y="388"/>
                </a:lnTo>
                <a:lnTo>
                  <a:pt x="3478" y="432"/>
                </a:lnTo>
                <a:lnTo>
                  <a:pt x="3414" y="474"/>
                </a:lnTo>
                <a:lnTo>
                  <a:pt x="3350" y="496"/>
                </a:lnTo>
                <a:lnTo>
                  <a:pt x="3286" y="537"/>
                </a:lnTo>
                <a:lnTo>
                  <a:pt x="3222" y="579"/>
                </a:lnTo>
                <a:lnTo>
                  <a:pt x="3158" y="643"/>
                </a:lnTo>
                <a:lnTo>
                  <a:pt x="3072" y="707"/>
                </a:lnTo>
                <a:lnTo>
                  <a:pt x="3008" y="751"/>
                </a:lnTo>
                <a:lnTo>
                  <a:pt x="2922" y="793"/>
                </a:lnTo>
                <a:lnTo>
                  <a:pt x="2838" y="857"/>
                </a:lnTo>
                <a:lnTo>
                  <a:pt x="2774" y="901"/>
                </a:lnTo>
                <a:lnTo>
                  <a:pt x="2710" y="943"/>
                </a:lnTo>
                <a:lnTo>
                  <a:pt x="2624" y="985"/>
                </a:lnTo>
                <a:lnTo>
                  <a:pt x="2560" y="1029"/>
                </a:lnTo>
                <a:lnTo>
                  <a:pt x="2496" y="1049"/>
                </a:lnTo>
                <a:lnTo>
                  <a:pt x="2432" y="1071"/>
                </a:lnTo>
                <a:lnTo>
                  <a:pt x="2369" y="1071"/>
                </a:lnTo>
                <a:lnTo>
                  <a:pt x="2283" y="1093"/>
                </a:lnTo>
                <a:lnTo>
                  <a:pt x="2197" y="1113"/>
                </a:lnTo>
                <a:lnTo>
                  <a:pt x="2133" y="1113"/>
                </a:lnTo>
                <a:lnTo>
                  <a:pt x="2048" y="1113"/>
                </a:lnTo>
                <a:lnTo>
                  <a:pt x="1984" y="1135"/>
                </a:lnTo>
                <a:lnTo>
                  <a:pt x="1920" y="1135"/>
                </a:lnTo>
                <a:lnTo>
                  <a:pt x="1856" y="1113"/>
                </a:lnTo>
                <a:lnTo>
                  <a:pt x="1792" y="1093"/>
                </a:lnTo>
                <a:lnTo>
                  <a:pt x="1726" y="1093"/>
                </a:lnTo>
                <a:lnTo>
                  <a:pt x="1662" y="1071"/>
                </a:lnTo>
                <a:lnTo>
                  <a:pt x="1578" y="1029"/>
                </a:lnTo>
                <a:lnTo>
                  <a:pt x="1514" y="1007"/>
                </a:lnTo>
                <a:lnTo>
                  <a:pt x="1426" y="978"/>
                </a:lnTo>
                <a:lnTo>
                  <a:pt x="1349" y="923"/>
                </a:lnTo>
                <a:lnTo>
                  <a:pt x="1274" y="963"/>
                </a:lnTo>
                <a:lnTo>
                  <a:pt x="1172" y="1029"/>
                </a:lnTo>
                <a:lnTo>
                  <a:pt x="1109" y="1049"/>
                </a:lnTo>
                <a:lnTo>
                  <a:pt x="1064" y="1113"/>
                </a:lnTo>
                <a:lnTo>
                  <a:pt x="1001" y="1177"/>
                </a:lnTo>
                <a:lnTo>
                  <a:pt x="959" y="1241"/>
                </a:lnTo>
                <a:lnTo>
                  <a:pt x="937" y="1305"/>
                </a:lnTo>
                <a:lnTo>
                  <a:pt x="895" y="1369"/>
                </a:lnTo>
                <a:lnTo>
                  <a:pt x="853" y="1436"/>
                </a:lnTo>
                <a:lnTo>
                  <a:pt x="831" y="1500"/>
                </a:lnTo>
                <a:lnTo>
                  <a:pt x="767" y="1542"/>
                </a:lnTo>
                <a:lnTo>
                  <a:pt x="725" y="1628"/>
                </a:lnTo>
                <a:lnTo>
                  <a:pt x="661" y="1692"/>
                </a:lnTo>
                <a:lnTo>
                  <a:pt x="639" y="1756"/>
                </a:lnTo>
                <a:lnTo>
                  <a:pt x="597" y="1820"/>
                </a:lnTo>
                <a:lnTo>
                  <a:pt x="553" y="1883"/>
                </a:lnTo>
                <a:lnTo>
                  <a:pt x="511" y="1947"/>
                </a:lnTo>
                <a:lnTo>
                  <a:pt x="489" y="2011"/>
                </a:lnTo>
                <a:lnTo>
                  <a:pt x="447" y="2075"/>
                </a:lnTo>
                <a:lnTo>
                  <a:pt x="403" y="2139"/>
                </a:lnTo>
                <a:lnTo>
                  <a:pt x="361" y="2203"/>
                </a:lnTo>
                <a:lnTo>
                  <a:pt x="339" y="2267"/>
                </a:lnTo>
                <a:lnTo>
                  <a:pt x="297" y="2331"/>
                </a:lnTo>
                <a:lnTo>
                  <a:pt x="255" y="2395"/>
                </a:lnTo>
                <a:lnTo>
                  <a:pt x="211" y="2459"/>
                </a:lnTo>
                <a:lnTo>
                  <a:pt x="169" y="2523"/>
                </a:lnTo>
                <a:lnTo>
                  <a:pt x="127" y="2587"/>
                </a:lnTo>
                <a:lnTo>
                  <a:pt x="83" y="2651"/>
                </a:lnTo>
                <a:lnTo>
                  <a:pt x="63" y="2715"/>
                </a:lnTo>
                <a:lnTo>
                  <a:pt x="19" y="2779"/>
                </a:lnTo>
                <a:lnTo>
                  <a:pt x="0" y="285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>
            <a:off x="4124160" y="2502000"/>
            <a:ext cx="1459440" cy="771840"/>
          </a:xfrm>
          <a:custGeom>
            <a:avLst/>
            <a:gdLst/>
            <a:ahLst/>
            <a:rect l="0" t="0" r="r" b="b"/>
            <a:pathLst>
              <a:path fill="none" w="4054" h="2144">
                <a:moveTo>
                  <a:pt x="4054" y="0"/>
                </a:moveTo>
                <a:lnTo>
                  <a:pt x="4006" y="15"/>
                </a:lnTo>
                <a:lnTo>
                  <a:pt x="3942" y="37"/>
                </a:lnTo>
                <a:lnTo>
                  <a:pt x="3878" y="79"/>
                </a:lnTo>
                <a:lnTo>
                  <a:pt x="3814" y="123"/>
                </a:lnTo>
                <a:lnTo>
                  <a:pt x="3750" y="165"/>
                </a:lnTo>
                <a:lnTo>
                  <a:pt x="3686" y="207"/>
                </a:lnTo>
                <a:lnTo>
                  <a:pt x="3620" y="251"/>
                </a:lnTo>
                <a:lnTo>
                  <a:pt x="3556" y="293"/>
                </a:lnTo>
                <a:lnTo>
                  <a:pt x="3472" y="357"/>
                </a:lnTo>
                <a:lnTo>
                  <a:pt x="3386" y="399"/>
                </a:lnTo>
                <a:lnTo>
                  <a:pt x="3322" y="443"/>
                </a:lnTo>
                <a:lnTo>
                  <a:pt x="3258" y="485"/>
                </a:lnTo>
                <a:lnTo>
                  <a:pt x="3152" y="526"/>
                </a:lnTo>
                <a:lnTo>
                  <a:pt x="3066" y="549"/>
                </a:lnTo>
                <a:lnTo>
                  <a:pt x="3001" y="571"/>
                </a:lnTo>
                <a:lnTo>
                  <a:pt x="2937" y="590"/>
                </a:lnTo>
                <a:lnTo>
                  <a:pt x="2809" y="612"/>
                </a:lnTo>
                <a:lnTo>
                  <a:pt x="2724" y="635"/>
                </a:lnTo>
                <a:lnTo>
                  <a:pt x="2510" y="635"/>
                </a:lnTo>
                <a:lnTo>
                  <a:pt x="2446" y="635"/>
                </a:lnTo>
                <a:lnTo>
                  <a:pt x="2382" y="654"/>
                </a:lnTo>
                <a:lnTo>
                  <a:pt x="2318" y="654"/>
                </a:lnTo>
                <a:lnTo>
                  <a:pt x="2232" y="654"/>
                </a:lnTo>
                <a:lnTo>
                  <a:pt x="2168" y="654"/>
                </a:lnTo>
                <a:lnTo>
                  <a:pt x="2104" y="654"/>
                </a:lnTo>
                <a:lnTo>
                  <a:pt x="2020" y="635"/>
                </a:lnTo>
                <a:lnTo>
                  <a:pt x="1934" y="635"/>
                </a:lnTo>
                <a:lnTo>
                  <a:pt x="1828" y="635"/>
                </a:lnTo>
                <a:lnTo>
                  <a:pt x="1764" y="635"/>
                </a:lnTo>
                <a:lnTo>
                  <a:pt x="1678" y="612"/>
                </a:lnTo>
                <a:lnTo>
                  <a:pt x="1614" y="590"/>
                </a:lnTo>
                <a:lnTo>
                  <a:pt x="1551" y="571"/>
                </a:lnTo>
                <a:lnTo>
                  <a:pt x="1423" y="571"/>
                </a:lnTo>
                <a:lnTo>
                  <a:pt x="1359" y="571"/>
                </a:lnTo>
                <a:lnTo>
                  <a:pt x="1290" y="535"/>
                </a:lnTo>
                <a:lnTo>
                  <a:pt x="1198" y="606"/>
                </a:lnTo>
                <a:lnTo>
                  <a:pt x="1138" y="646"/>
                </a:lnTo>
                <a:lnTo>
                  <a:pt x="1103" y="720"/>
                </a:lnTo>
                <a:lnTo>
                  <a:pt x="1039" y="762"/>
                </a:lnTo>
                <a:lnTo>
                  <a:pt x="972" y="826"/>
                </a:lnTo>
                <a:lnTo>
                  <a:pt x="908" y="890"/>
                </a:lnTo>
                <a:lnTo>
                  <a:pt x="866" y="954"/>
                </a:lnTo>
                <a:lnTo>
                  <a:pt x="802" y="1018"/>
                </a:lnTo>
                <a:lnTo>
                  <a:pt x="738" y="1060"/>
                </a:lnTo>
                <a:lnTo>
                  <a:pt x="674" y="1125"/>
                </a:lnTo>
                <a:lnTo>
                  <a:pt x="610" y="1169"/>
                </a:lnTo>
                <a:lnTo>
                  <a:pt x="568" y="1233"/>
                </a:lnTo>
                <a:lnTo>
                  <a:pt x="482" y="1317"/>
                </a:lnTo>
                <a:lnTo>
                  <a:pt x="440" y="1383"/>
                </a:lnTo>
                <a:lnTo>
                  <a:pt x="418" y="1447"/>
                </a:lnTo>
                <a:lnTo>
                  <a:pt x="377" y="1511"/>
                </a:lnTo>
                <a:lnTo>
                  <a:pt x="354" y="1575"/>
                </a:lnTo>
                <a:lnTo>
                  <a:pt x="310" y="1639"/>
                </a:lnTo>
                <a:lnTo>
                  <a:pt x="268" y="1703"/>
                </a:lnTo>
                <a:lnTo>
                  <a:pt x="246" y="1767"/>
                </a:lnTo>
                <a:lnTo>
                  <a:pt x="205" y="1831"/>
                </a:lnTo>
                <a:lnTo>
                  <a:pt x="183" y="1894"/>
                </a:lnTo>
                <a:lnTo>
                  <a:pt x="99" y="1978"/>
                </a:lnTo>
                <a:lnTo>
                  <a:pt x="55" y="2044"/>
                </a:lnTo>
                <a:lnTo>
                  <a:pt x="0" y="214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>
            <a:off x="4175280" y="2716200"/>
            <a:ext cx="1408320" cy="560880"/>
          </a:xfrm>
          <a:custGeom>
            <a:avLst/>
            <a:gdLst/>
            <a:ahLst/>
            <a:rect l="0" t="0" r="r" b="b"/>
            <a:pathLst>
              <a:path fill="none" w="3912" h="1558">
                <a:moveTo>
                  <a:pt x="3912" y="0"/>
                </a:moveTo>
                <a:lnTo>
                  <a:pt x="3863" y="17"/>
                </a:lnTo>
                <a:lnTo>
                  <a:pt x="3819" y="81"/>
                </a:lnTo>
                <a:lnTo>
                  <a:pt x="3755" y="125"/>
                </a:lnTo>
                <a:lnTo>
                  <a:pt x="3691" y="167"/>
                </a:lnTo>
                <a:lnTo>
                  <a:pt x="3608" y="253"/>
                </a:lnTo>
                <a:lnTo>
                  <a:pt x="3500" y="317"/>
                </a:lnTo>
                <a:lnTo>
                  <a:pt x="3436" y="337"/>
                </a:lnTo>
                <a:lnTo>
                  <a:pt x="3372" y="359"/>
                </a:lnTo>
                <a:lnTo>
                  <a:pt x="3266" y="359"/>
                </a:lnTo>
                <a:lnTo>
                  <a:pt x="3202" y="359"/>
                </a:lnTo>
                <a:lnTo>
                  <a:pt x="3138" y="359"/>
                </a:lnTo>
                <a:lnTo>
                  <a:pt x="2541" y="337"/>
                </a:lnTo>
                <a:lnTo>
                  <a:pt x="2432" y="337"/>
                </a:lnTo>
                <a:lnTo>
                  <a:pt x="2369" y="337"/>
                </a:lnTo>
                <a:lnTo>
                  <a:pt x="2155" y="317"/>
                </a:lnTo>
                <a:lnTo>
                  <a:pt x="2071" y="295"/>
                </a:lnTo>
                <a:lnTo>
                  <a:pt x="2007" y="295"/>
                </a:lnTo>
                <a:lnTo>
                  <a:pt x="1942" y="253"/>
                </a:lnTo>
                <a:lnTo>
                  <a:pt x="1856" y="231"/>
                </a:lnTo>
                <a:lnTo>
                  <a:pt x="1770" y="231"/>
                </a:lnTo>
                <a:lnTo>
                  <a:pt x="1706" y="231"/>
                </a:lnTo>
                <a:lnTo>
                  <a:pt x="1622" y="231"/>
                </a:lnTo>
                <a:lnTo>
                  <a:pt x="1558" y="231"/>
                </a:lnTo>
                <a:lnTo>
                  <a:pt x="1472" y="231"/>
                </a:lnTo>
                <a:lnTo>
                  <a:pt x="1408" y="231"/>
                </a:lnTo>
                <a:lnTo>
                  <a:pt x="1344" y="231"/>
                </a:lnTo>
                <a:lnTo>
                  <a:pt x="1281" y="231"/>
                </a:lnTo>
                <a:lnTo>
                  <a:pt x="1217" y="231"/>
                </a:lnTo>
                <a:lnTo>
                  <a:pt x="1153" y="253"/>
                </a:lnTo>
                <a:lnTo>
                  <a:pt x="1089" y="273"/>
                </a:lnTo>
                <a:lnTo>
                  <a:pt x="1003" y="295"/>
                </a:lnTo>
                <a:lnTo>
                  <a:pt x="939" y="317"/>
                </a:lnTo>
                <a:lnTo>
                  <a:pt x="875" y="337"/>
                </a:lnTo>
                <a:lnTo>
                  <a:pt x="811" y="381"/>
                </a:lnTo>
                <a:lnTo>
                  <a:pt x="747" y="424"/>
                </a:lnTo>
                <a:lnTo>
                  <a:pt x="703" y="488"/>
                </a:lnTo>
                <a:lnTo>
                  <a:pt x="639" y="511"/>
                </a:lnTo>
                <a:lnTo>
                  <a:pt x="575" y="552"/>
                </a:lnTo>
                <a:lnTo>
                  <a:pt x="533" y="617"/>
                </a:lnTo>
                <a:lnTo>
                  <a:pt x="491" y="681"/>
                </a:lnTo>
                <a:lnTo>
                  <a:pt x="427" y="745"/>
                </a:lnTo>
                <a:lnTo>
                  <a:pt x="363" y="831"/>
                </a:lnTo>
                <a:lnTo>
                  <a:pt x="319" y="895"/>
                </a:lnTo>
                <a:lnTo>
                  <a:pt x="277" y="959"/>
                </a:lnTo>
                <a:lnTo>
                  <a:pt x="255" y="1023"/>
                </a:lnTo>
                <a:lnTo>
                  <a:pt x="235" y="1087"/>
                </a:lnTo>
                <a:lnTo>
                  <a:pt x="191" y="1174"/>
                </a:lnTo>
                <a:lnTo>
                  <a:pt x="149" y="1238"/>
                </a:lnTo>
                <a:lnTo>
                  <a:pt x="127" y="1302"/>
                </a:lnTo>
                <a:lnTo>
                  <a:pt x="105" y="1366"/>
                </a:lnTo>
                <a:lnTo>
                  <a:pt x="63" y="1430"/>
                </a:lnTo>
                <a:lnTo>
                  <a:pt x="22" y="1494"/>
                </a:lnTo>
                <a:lnTo>
                  <a:pt x="0" y="155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>
            <a:off x="4227480" y="2906640"/>
            <a:ext cx="1356120" cy="367200"/>
          </a:xfrm>
          <a:custGeom>
            <a:avLst/>
            <a:gdLst/>
            <a:ahLst/>
            <a:rect l="0" t="0" r="r" b="b"/>
            <a:pathLst>
              <a:path fill="none" w="3767" h="1020">
                <a:moveTo>
                  <a:pt x="3767" y="216"/>
                </a:moveTo>
                <a:lnTo>
                  <a:pt x="3719" y="213"/>
                </a:lnTo>
                <a:lnTo>
                  <a:pt x="3591" y="235"/>
                </a:lnTo>
                <a:lnTo>
                  <a:pt x="3527" y="258"/>
                </a:lnTo>
                <a:lnTo>
                  <a:pt x="3441" y="258"/>
                </a:lnTo>
                <a:lnTo>
                  <a:pt x="3377" y="235"/>
                </a:lnTo>
                <a:lnTo>
                  <a:pt x="3313" y="235"/>
                </a:lnTo>
                <a:lnTo>
                  <a:pt x="3249" y="235"/>
                </a:lnTo>
                <a:lnTo>
                  <a:pt x="3185" y="213"/>
                </a:lnTo>
                <a:lnTo>
                  <a:pt x="3099" y="213"/>
                </a:lnTo>
                <a:lnTo>
                  <a:pt x="2993" y="235"/>
                </a:lnTo>
                <a:lnTo>
                  <a:pt x="2930" y="235"/>
                </a:lnTo>
                <a:lnTo>
                  <a:pt x="2866" y="258"/>
                </a:lnTo>
                <a:lnTo>
                  <a:pt x="2801" y="258"/>
                </a:lnTo>
                <a:lnTo>
                  <a:pt x="2737" y="258"/>
                </a:lnTo>
                <a:lnTo>
                  <a:pt x="2671" y="258"/>
                </a:lnTo>
                <a:lnTo>
                  <a:pt x="2587" y="235"/>
                </a:lnTo>
                <a:lnTo>
                  <a:pt x="2523" y="213"/>
                </a:lnTo>
                <a:lnTo>
                  <a:pt x="2459" y="191"/>
                </a:lnTo>
                <a:lnTo>
                  <a:pt x="2373" y="171"/>
                </a:lnTo>
                <a:lnTo>
                  <a:pt x="2309" y="149"/>
                </a:lnTo>
                <a:lnTo>
                  <a:pt x="2245" y="149"/>
                </a:lnTo>
                <a:lnTo>
                  <a:pt x="2181" y="127"/>
                </a:lnTo>
                <a:lnTo>
                  <a:pt x="2117" y="127"/>
                </a:lnTo>
                <a:lnTo>
                  <a:pt x="2031" y="85"/>
                </a:lnTo>
                <a:lnTo>
                  <a:pt x="1967" y="85"/>
                </a:lnTo>
                <a:lnTo>
                  <a:pt x="1881" y="63"/>
                </a:lnTo>
                <a:lnTo>
                  <a:pt x="1817" y="44"/>
                </a:lnTo>
                <a:lnTo>
                  <a:pt x="1734" y="44"/>
                </a:lnTo>
                <a:lnTo>
                  <a:pt x="1520" y="0"/>
                </a:lnTo>
                <a:lnTo>
                  <a:pt x="1434" y="0"/>
                </a:lnTo>
                <a:lnTo>
                  <a:pt x="1348" y="0"/>
                </a:lnTo>
                <a:lnTo>
                  <a:pt x="1284" y="22"/>
                </a:lnTo>
                <a:lnTo>
                  <a:pt x="1220" y="44"/>
                </a:lnTo>
                <a:lnTo>
                  <a:pt x="1156" y="63"/>
                </a:lnTo>
                <a:lnTo>
                  <a:pt x="1092" y="108"/>
                </a:lnTo>
                <a:lnTo>
                  <a:pt x="1028" y="127"/>
                </a:lnTo>
                <a:lnTo>
                  <a:pt x="964" y="171"/>
                </a:lnTo>
                <a:lnTo>
                  <a:pt x="899" y="171"/>
                </a:lnTo>
                <a:lnTo>
                  <a:pt x="815" y="191"/>
                </a:lnTo>
                <a:lnTo>
                  <a:pt x="751" y="213"/>
                </a:lnTo>
                <a:lnTo>
                  <a:pt x="685" y="235"/>
                </a:lnTo>
                <a:lnTo>
                  <a:pt x="621" y="258"/>
                </a:lnTo>
                <a:lnTo>
                  <a:pt x="557" y="278"/>
                </a:lnTo>
                <a:lnTo>
                  <a:pt x="493" y="300"/>
                </a:lnTo>
                <a:lnTo>
                  <a:pt x="429" y="364"/>
                </a:lnTo>
                <a:lnTo>
                  <a:pt x="366" y="406"/>
                </a:lnTo>
                <a:lnTo>
                  <a:pt x="324" y="470"/>
                </a:lnTo>
                <a:lnTo>
                  <a:pt x="260" y="514"/>
                </a:lnTo>
                <a:lnTo>
                  <a:pt x="218" y="578"/>
                </a:lnTo>
                <a:lnTo>
                  <a:pt x="154" y="620"/>
                </a:lnTo>
                <a:lnTo>
                  <a:pt x="110" y="684"/>
                </a:lnTo>
                <a:lnTo>
                  <a:pt x="68" y="748"/>
                </a:lnTo>
                <a:lnTo>
                  <a:pt x="68" y="813"/>
                </a:lnTo>
                <a:lnTo>
                  <a:pt x="46" y="877"/>
                </a:lnTo>
                <a:lnTo>
                  <a:pt x="24" y="941"/>
                </a:lnTo>
                <a:lnTo>
                  <a:pt x="0" y="102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>
            <a:off x="4282920" y="3046320"/>
            <a:ext cx="1298880" cy="230400"/>
          </a:xfrm>
          <a:custGeom>
            <a:avLst/>
            <a:gdLst/>
            <a:ahLst/>
            <a:rect l="0" t="0" r="r" b="b"/>
            <a:pathLst>
              <a:path fill="none" w="3608" h="640">
                <a:moveTo>
                  <a:pt x="3608" y="255"/>
                </a:moveTo>
                <a:lnTo>
                  <a:pt x="3502" y="275"/>
                </a:lnTo>
                <a:lnTo>
                  <a:pt x="3438" y="275"/>
                </a:lnTo>
                <a:lnTo>
                  <a:pt x="3374" y="275"/>
                </a:lnTo>
                <a:lnTo>
                  <a:pt x="3310" y="233"/>
                </a:lnTo>
                <a:lnTo>
                  <a:pt x="3246" y="211"/>
                </a:lnTo>
                <a:lnTo>
                  <a:pt x="3032" y="211"/>
                </a:lnTo>
                <a:lnTo>
                  <a:pt x="2968" y="211"/>
                </a:lnTo>
                <a:lnTo>
                  <a:pt x="2904" y="211"/>
                </a:lnTo>
                <a:lnTo>
                  <a:pt x="2796" y="211"/>
                </a:lnTo>
                <a:lnTo>
                  <a:pt x="2732" y="211"/>
                </a:lnTo>
                <a:lnTo>
                  <a:pt x="2668" y="211"/>
                </a:lnTo>
                <a:lnTo>
                  <a:pt x="2584" y="211"/>
                </a:lnTo>
                <a:lnTo>
                  <a:pt x="2518" y="211"/>
                </a:lnTo>
                <a:lnTo>
                  <a:pt x="2454" y="211"/>
                </a:lnTo>
                <a:lnTo>
                  <a:pt x="2370" y="211"/>
                </a:lnTo>
                <a:lnTo>
                  <a:pt x="2242" y="211"/>
                </a:lnTo>
                <a:lnTo>
                  <a:pt x="2178" y="191"/>
                </a:lnTo>
                <a:lnTo>
                  <a:pt x="2092" y="169"/>
                </a:lnTo>
                <a:lnTo>
                  <a:pt x="2006" y="127"/>
                </a:lnTo>
                <a:lnTo>
                  <a:pt x="1942" y="105"/>
                </a:lnTo>
                <a:lnTo>
                  <a:pt x="1878" y="83"/>
                </a:lnTo>
                <a:lnTo>
                  <a:pt x="1814" y="63"/>
                </a:lnTo>
                <a:lnTo>
                  <a:pt x="1727" y="19"/>
                </a:lnTo>
                <a:lnTo>
                  <a:pt x="1621" y="19"/>
                </a:lnTo>
                <a:lnTo>
                  <a:pt x="1535" y="0"/>
                </a:lnTo>
                <a:lnTo>
                  <a:pt x="1323" y="0"/>
                </a:lnTo>
                <a:lnTo>
                  <a:pt x="1215" y="0"/>
                </a:lnTo>
                <a:lnTo>
                  <a:pt x="1151" y="19"/>
                </a:lnTo>
                <a:lnTo>
                  <a:pt x="1087" y="19"/>
                </a:lnTo>
                <a:lnTo>
                  <a:pt x="1023" y="19"/>
                </a:lnTo>
                <a:lnTo>
                  <a:pt x="937" y="19"/>
                </a:lnTo>
                <a:lnTo>
                  <a:pt x="853" y="63"/>
                </a:lnTo>
                <a:lnTo>
                  <a:pt x="789" y="63"/>
                </a:lnTo>
                <a:lnTo>
                  <a:pt x="725" y="83"/>
                </a:lnTo>
                <a:lnTo>
                  <a:pt x="661" y="105"/>
                </a:lnTo>
                <a:lnTo>
                  <a:pt x="597" y="127"/>
                </a:lnTo>
                <a:lnTo>
                  <a:pt x="511" y="191"/>
                </a:lnTo>
                <a:lnTo>
                  <a:pt x="447" y="233"/>
                </a:lnTo>
                <a:lnTo>
                  <a:pt x="383" y="275"/>
                </a:lnTo>
                <a:lnTo>
                  <a:pt x="319" y="319"/>
                </a:lnTo>
                <a:lnTo>
                  <a:pt x="255" y="362"/>
                </a:lnTo>
                <a:lnTo>
                  <a:pt x="191" y="404"/>
                </a:lnTo>
                <a:lnTo>
                  <a:pt x="127" y="448"/>
                </a:lnTo>
                <a:lnTo>
                  <a:pt x="63" y="512"/>
                </a:lnTo>
                <a:lnTo>
                  <a:pt x="19" y="576"/>
                </a:lnTo>
                <a:lnTo>
                  <a:pt x="0" y="64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>
            <a:off x="4398840" y="3191040"/>
            <a:ext cx="945000" cy="86040"/>
          </a:xfrm>
          <a:custGeom>
            <a:avLst/>
            <a:gdLst/>
            <a:ahLst/>
            <a:rect l="0" t="0" r="r" b="b"/>
            <a:pathLst>
              <a:path fill="none" w="2625" h="239">
                <a:moveTo>
                  <a:pt x="2625" y="239"/>
                </a:moveTo>
                <a:lnTo>
                  <a:pt x="2561" y="216"/>
                </a:lnTo>
                <a:lnTo>
                  <a:pt x="2497" y="216"/>
                </a:lnTo>
                <a:lnTo>
                  <a:pt x="2411" y="216"/>
                </a:lnTo>
                <a:lnTo>
                  <a:pt x="2347" y="216"/>
                </a:lnTo>
                <a:lnTo>
                  <a:pt x="2219" y="196"/>
                </a:lnTo>
                <a:lnTo>
                  <a:pt x="2197" y="132"/>
                </a:lnTo>
                <a:lnTo>
                  <a:pt x="2133" y="109"/>
                </a:lnTo>
                <a:lnTo>
                  <a:pt x="2049" y="109"/>
                </a:lnTo>
                <a:lnTo>
                  <a:pt x="1962" y="109"/>
                </a:lnTo>
                <a:lnTo>
                  <a:pt x="1898" y="109"/>
                </a:lnTo>
                <a:lnTo>
                  <a:pt x="1834" y="86"/>
                </a:lnTo>
                <a:lnTo>
                  <a:pt x="1748" y="44"/>
                </a:lnTo>
                <a:lnTo>
                  <a:pt x="1684" y="22"/>
                </a:lnTo>
                <a:lnTo>
                  <a:pt x="1578" y="0"/>
                </a:lnTo>
                <a:lnTo>
                  <a:pt x="1470" y="0"/>
                </a:lnTo>
                <a:lnTo>
                  <a:pt x="1386" y="0"/>
                </a:lnTo>
                <a:lnTo>
                  <a:pt x="1300" y="22"/>
                </a:lnTo>
                <a:lnTo>
                  <a:pt x="1236" y="44"/>
                </a:lnTo>
                <a:lnTo>
                  <a:pt x="1108" y="64"/>
                </a:lnTo>
                <a:lnTo>
                  <a:pt x="894" y="86"/>
                </a:lnTo>
                <a:lnTo>
                  <a:pt x="830" y="86"/>
                </a:lnTo>
                <a:lnTo>
                  <a:pt x="766" y="132"/>
                </a:lnTo>
                <a:lnTo>
                  <a:pt x="702" y="174"/>
                </a:lnTo>
                <a:lnTo>
                  <a:pt x="637" y="174"/>
                </a:lnTo>
                <a:lnTo>
                  <a:pt x="573" y="174"/>
                </a:lnTo>
                <a:lnTo>
                  <a:pt x="509" y="174"/>
                </a:lnTo>
                <a:lnTo>
                  <a:pt x="445" y="174"/>
                </a:lnTo>
                <a:lnTo>
                  <a:pt x="359" y="174"/>
                </a:lnTo>
                <a:lnTo>
                  <a:pt x="295" y="174"/>
                </a:lnTo>
                <a:lnTo>
                  <a:pt x="231" y="152"/>
                </a:lnTo>
                <a:lnTo>
                  <a:pt x="167" y="152"/>
                </a:lnTo>
                <a:lnTo>
                  <a:pt x="103" y="174"/>
                </a:lnTo>
                <a:lnTo>
                  <a:pt x="0" y="23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"/>
          <p:cNvSpPr/>
          <p:nvPr/>
        </p:nvSpPr>
        <p:spPr>
          <a:xfrm>
            <a:off x="4797360" y="587520"/>
            <a:ext cx="20016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>
            <a:off x="4789440" y="12175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>
            <a:off x="3298680" y="125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"/>
          <p:cNvSpPr/>
          <p:nvPr/>
        </p:nvSpPr>
        <p:spPr>
          <a:xfrm>
            <a:off x="3398760" y="3096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"/>
          <p:cNvSpPr/>
          <p:nvPr/>
        </p:nvSpPr>
        <p:spPr>
          <a:xfrm>
            <a:off x="3514680" y="5014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"/>
          <p:cNvSpPr/>
          <p:nvPr/>
        </p:nvSpPr>
        <p:spPr>
          <a:xfrm>
            <a:off x="3691080" y="81756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"/>
          <p:cNvSpPr/>
          <p:nvPr/>
        </p:nvSpPr>
        <p:spPr>
          <a:xfrm>
            <a:off x="4167360" y="9097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"/>
          <p:cNvSpPr/>
          <p:nvPr/>
        </p:nvSpPr>
        <p:spPr>
          <a:xfrm>
            <a:off x="4183200" y="17780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"/>
          <p:cNvSpPr/>
          <p:nvPr/>
        </p:nvSpPr>
        <p:spPr>
          <a:xfrm>
            <a:off x="3137040" y="19764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"/>
          <p:cNvSpPr/>
          <p:nvPr/>
        </p:nvSpPr>
        <p:spPr>
          <a:xfrm>
            <a:off x="4313160" y="20383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"/>
          <p:cNvSpPr/>
          <p:nvPr/>
        </p:nvSpPr>
        <p:spPr>
          <a:xfrm>
            <a:off x="4608360" y="2017800"/>
            <a:ext cx="17604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"/>
          <p:cNvSpPr/>
          <p:nvPr/>
        </p:nvSpPr>
        <p:spPr>
          <a:xfrm>
            <a:off x="4853160" y="2341440"/>
            <a:ext cx="16668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5127480" y="2222640"/>
            <a:ext cx="160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"/>
          <p:cNvSpPr/>
          <p:nvPr/>
        </p:nvSpPr>
        <p:spPr>
          <a:xfrm>
            <a:off x="5135400" y="26384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"/>
          <p:cNvSpPr/>
          <p:nvPr/>
        </p:nvSpPr>
        <p:spPr>
          <a:xfrm>
            <a:off x="5157720" y="24145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>
            <a:off x="5372280" y="2152800"/>
            <a:ext cx="18432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"/>
          <p:cNvSpPr/>
          <p:nvPr/>
        </p:nvSpPr>
        <p:spPr>
          <a:xfrm>
            <a:off x="5181480" y="30751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"/>
          <p:cNvSpPr/>
          <p:nvPr/>
        </p:nvSpPr>
        <p:spPr>
          <a:xfrm>
            <a:off x="4888080" y="28987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"/>
          <p:cNvSpPr/>
          <p:nvPr/>
        </p:nvSpPr>
        <p:spPr>
          <a:xfrm>
            <a:off x="5280120" y="27972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"/>
          <p:cNvSpPr/>
          <p:nvPr/>
        </p:nvSpPr>
        <p:spPr>
          <a:xfrm>
            <a:off x="4675320" y="315288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"/>
          <p:cNvSpPr txBox="1"/>
          <p:nvPr/>
        </p:nvSpPr>
        <p:spPr>
          <a:xfrm>
            <a:off x="3322800" y="125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"/>
          <p:cNvSpPr txBox="1"/>
          <p:nvPr/>
        </p:nvSpPr>
        <p:spPr>
          <a:xfrm>
            <a:off x="3384720" y="3031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"/>
          <p:cNvSpPr txBox="1"/>
          <p:nvPr/>
        </p:nvSpPr>
        <p:spPr>
          <a:xfrm>
            <a:off x="3506760" y="493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"/>
          <p:cNvSpPr txBox="1"/>
          <p:nvPr/>
        </p:nvSpPr>
        <p:spPr>
          <a:xfrm>
            <a:off x="3684600" y="8096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"/>
          <p:cNvSpPr txBox="1"/>
          <p:nvPr/>
        </p:nvSpPr>
        <p:spPr>
          <a:xfrm>
            <a:off x="3138480" y="1960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"/>
          <p:cNvSpPr txBox="1"/>
          <p:nvPr/>
        </p:nvSpPr>
        <p:spPr>
          <a:xfrm>
            <a:off x="4175280" y="176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"/>
          <p:cNvSpPr txBox="1"/>
          <p:nvPr/>
        </p:nvSpPr>
        <p:spPr>
          <a:xfrm>
            <a:off x="4307040" y="20224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"/>
          <p:cNvSpPr txBox="1"/>
          <p:nvPr/>
        </p:nvSpPr>
        <p:spPr>
          <a:xfrm>
            <a:off x="4808520" y="23209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"/>
          <p:cNvSpPr/>
          <p:nvPr/>
        </p:nvSpPr>
        <p:spPr>
          <a:xfrm>
            <a:off x="4937040" y="287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"/>
          <p:cNvSpPr txBox="1"/>
          <p:nvPr/>
        </p:nvSpPr>
        <p:spPr>
          <a:xfrm>
            <a:off x="4930920" y="2793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 txBox="1"/>
          <p:nvPr/>
        </p:nvSpPr>
        <p:spPr>
          <a:xfrm>
            <a:off x="4782960" y="577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"/>
          <p:cNvSpPr txBox="1"/>
          <p:nvPr/>
        </p:nvSpPr>
        <p:spPr>
          <a:xfrm>
            <a:off x="4151160" y="901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"/>
          <p:cNvSpPr txBox="1"/>
          <p:nvPr/>
        </p:nvSpPr>
        <p:spPr>
          <a:xfrm>
            <a:off x="4782960" y="12002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"/>
          <p:cNvSpPr txBox="1"/>
          <p:nvPr/>
        </p:nvSpPr>
        <p:spPr>
          <a:xfrm>
            <a:off x="4562640" y="20019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"/>
          <p:cNvSpPr txBox="1"/>
          <p:nvPr/>
        </p:nvSpPr>
        <p:spPr>
          <a:xfrm>
            <a:off x="5086440" y="2206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"/>
          <p:cNvSpPr txBox="1"/>
          <p:nvPr/>
        </p:nvSpPr>
        <p:spPr>
          <a:xfrm>
            <a:off x="5335560" y="21286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"/>
          <p:cNvSpPr txBox="1"/>
          <p:nvPr/>
        </p:nvSpPr>
        <p:spPr>
          <a:xfrm>
            <a:off x="5148360" y="239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"/>
          <p:cNvSpPr txBox="1"/>
          <p:nvPr/>
        </p:nvSpPr>
        <p:spPr>
          <a:xfrm>
            <a:off x="5119560" y="26128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"/>
          <p:cNvSpPr txBox="1"/>
          <p:nvPr/>
        </p:nvSpPr>
        <p:spPr>
          <a:xfrm>
            <a:off x="5268960" y="277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"/>
          <p:cNvSpPr txBox="1"/>
          <p:nvPr/>
        </p:nvSpPr>
        <p:spPr>
          <a:xfrm>
            <a:off x="4876920" y="2870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"/>
          <p:cNvSpPr txBox="1"/>
          <p:nvPr/>
        </p:nvSpPr>
        <p:spPr>
          <a:xfrm>
            <a:off x="5168880" y="3046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"/>
          <p:cNvSpPr txBox="1"/>
          <p:nvPr/>
        </p:nvSpPr>
        <p:spPr>
          <a:xfrm>
            <a:off x="4662360" y="3127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"/>
          <p:cNvSpPr/>
          <p:nvPr/>
        </p:nvSpPr>
        <p:spPr>
          <a:xfrm>
            <a:off x="4751280" y="2232000"/>
            <a:ext cx="162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"/>
          <p:cNvSpPr txBox="1"/>
          <p:nvPr/>
        </p:nvSpPr>
        <p:spPr>
          <a:xfrm>
            <a:off x="4705200" y="22176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"/>
          <p:cNvSpPr/>
          <p:nvPr/>
        </p:nvSpPr>
        <p:spPr>
          <a:xfrm>
            <a:off x="5197320" y="81000"/>
            <a:ext cx="386280" cy="437040"/>
          </a:xfrm>
          <a:custGeom>
            <a:avLst/>
            <a:gdLst/>
            <a:ahLst/>
            <a:rect l="0" t="0" r="r" b="b"/>
            <a:pathLst>
              <a:path fill="none" w="1073" h="1214">
                <a:moveTo>
                  <a:pt x="0" y="0"/>
                </a:moveTo>
                <a:lnTo>
                  <a:pt x="22" y="63"/>
                </a:lnTo>
                <a:lnTo>
                  <a:pt x="44" y="127"/>
                </a:lnTo>
                <a:lnTo>
                  <a:pt x="107" y="171"/>
                </a:lnTo>
                <a:lnTo>
                  <a:pt x="171" y="213"/>
                </a:lnTo>
                <a:lnTo>
                  <a:pt x="191" y="277"/>
                </a:lnTo>
                <a:lnTo>
                  <a:pt x="235" y="342"/>
                </a:lnTo>
                <a:lnTo>
                  <a:pt x="255" y="427"/>
                </a:lnTo>
                <a:lnTo>
                  <a:pt x="300" y="491"/>
                </a:lnTo>
                <a:lnTo>
                  <a:pt x="342" y="555"/>
                </a:lnTo>
                <a:lnTo>
                  <a:pt x="405" y="597"/>
                </a:lnTo>
                <a:lnTo>
                  <a:pt x="469" y="619"/>
                </a:lnTo>
                <a:lnTo>
                  <a:pt x="533" y="639"/>
                </a:lnTo>
                <a:lnTo>
                  <a:pt x="597" y="683"/>
                </a:lnTo>
                <a:lnTo>
                  <a:pt x="661" y="725"/>
                </a:lnTo>
                <a:lnTo>
                  <a:pt x="705" y="788"/>
                </a:lnTo>
                <a:lnTo>
                  <a:pt x="724" y="852"/>
                </a:lnTo>
                <a:lnTo>
                  <a:pt x="768" y="917"/>
                </a:lnTo>
                <a:lnTo>
                  <a:pt x="768" y="981"/>
                </a:lnTo>
                <a:lnTo>
                  <a:pt x="811" y="1045"/>
                </a:lnTo>
                <a:lnTo>
                  <a:pt x="875" y="1067"/>
                </a:lnTo>
                <a:lnTo>
                  <a:pt x="939" y="1089"/>
                </a:lnTo>
                <a:lnTo>
                  <a:pt x="1003" y="1131"/>
                </a:lnTo>
                <a:lnTo>
                  <a:pt x="1073" y="1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"/>
          <p:cNvSpPr/>
          <p:nvPr/>
        </p:nvSpPr>
        <p:spPr>
          <a:xfrm>
            <a:off x="5175360" y="17136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"/>
          <p:cNvSpPr txBox="1"/>
          <p:nvPr/>
        </p:nvSpPr>
        <p:spPr>
          <a:xfrm>
            <a:off x="5165640" y="16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8" name=""/>
          <p:cNvGrpSpPr/>
          <p:nvPr/>
        </p:nvGrpSpPr>
        <p:grpSpPr>
          <a:xfrm>
            <a:off x="2854440" y="917640"/>
            <a:ext cx="2941560" cy="0"/>
            <a:chOff x="2854440" y="917640"/>
            <a:chExt cx="2941560" cy="0"/>
          </a:xfrm>
        </p:grpSpPr>
        <p:sp>
          <p:nvSpPr>
            <p:cNvPr id="4759" name=""/>
            <p:cNvSpPr/>
            <p:nvPr/>
          </p:nvSpPr>
          <p:spPr>
            <a:xfrm>
              <a:off x="2854440" y="9176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353052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362268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3706920" y="9176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713120" y="9176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479736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4897440" y="917640"/>
              <a:ext cx="898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6" name=""/>
          <p:cNvGrpSpPr/>
          <p:nvPr/>
        </p:nvGrpSpPr>
        <p:grpSpPr>
          <a:xfrm>
            <a:off x="2854440" y="2154240"/>
            <a:ext cx="2957400" cy="0"/>
            <a:chOff x="2854440" y="2154240"/>
            <a:chExt cx="2957400" cy="0"/>
          </a:xfrm>
        </p:grpSpPr>
        <p:sp>
          <p:nvSpPr>
            <p:cNvPr id="4767" name=""/>
            <p:cNvSpPr/>
            <p:nvPr/>
          </p:nvSpPr>
          <p:spPr>
            <a:xfrm>
              <a:off x="2854440" y="21542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353052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362268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3706920" y="21542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4713120" y="21542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479736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4897440" y="2154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4" name=""/>
          <p:cNvGrpSpPr/>
          <p:nvPr/>
        </p:nvGrpSpPr>
        <p:grpSpPr>
          <a:xfrm>
            <a:off x="2854440" y="1554120"/>
            <a:ext cx="2949480" cy="0"/>
            <a:chOff x="2854440" y="1554120"/>
            <a:chExt cx="2949480" cy="0"/>
          </a:xfrm>
        </p:grpSpPr>
        <p:sp>
          <p:nvSpPr>
            <p:cNvPr id="4775" name=""/>
            <p:cNvSpPr/>
            <p:nvPr/>
          </p:nvSpPr>
          <p:spPr>
            <a:xfrm>
              <a:off x="2854440" y="155412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353052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362268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3706920" y="155412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4713120" y="155412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79736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4897440" y="1554120"/>
              <a:ext cx="90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2" name=""/>
          <p:cNvSpPr txBox="1"/>
          <p:nvPr/>
        </p:nvSpPr>
        <p:spPr>
          <a:xfrm>
            <a:off x="285444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 txBox="1"/>
          <p:nvPr/>
        </p:nvSpPr>
        <p:spPr>
          <a:xfrm>
            <a:off x="568152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 txBox="1"/>
          <p:nvPr/>
        </p:nvSpPr>
        <p:spPr>
          <a:xfrm>
            <a:off x="285444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 txBox="1"/>
          <p:nvPr/>
        </p:nvSpPr>
        <p:spPr>
          <a:xfrm>
            <a:off x="568152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 txBox="1"/>
          <p:nvPr/>
        </p:nvSpPr>
        <p:spPr>
          <a:xfrm>
            <a:off x="2854440" y="201312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 txBox="1"/>
          <p:nvPr/>
        </p:nvSpPr>
        <p:spPr>
          <a:xfrm>
            <a:off x="5681520" y="202104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>
            <a:off x="5586480" y="3305160"/>
            <a:ext cx="0" cy="1046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>
            <a:off x="3065400" y="3352680"/>
            <a:ext cx="0" cy="90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/>
          <p:nvPr/>
        </p:nvSpPr>
        <p:spPr>
          <a:xfrm>
            <a:off x="2749680" y="47880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/>
          <p:nvPr/>
        </p:nvSpPr>
        <p:spPr>
          <a:xfrm>
            <a:off x="2749680" y="49402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/>
          <p:nvPr/>
        </p:nvSpPr>
        <p:spPr>
          <a:xfrm>
            <a:off x="2749680" y="509256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>
            <a:off x="2749680" y="52452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>
            <a:off x="2749680" y="53974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"/>
          <p:cNvSpPr txBox="1"/>
          <p:nvPr/>
        </p:nvSpPr>
        <p:spPr>
          <a:xfrm>
            <a:off x="5637240" y="4664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 txBox="1"/>
          <p:nvPr/>
        </p:nvSpPr>
        <p:spPr>
          <a:xfrm>
            <a:off x="5637240" y="4816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"/>
          <p:cNvSpPr txBox="1"/>
          <p:nvPr/>
        </p:nvSpPr>
        <p:spPr>
          <a:xfrm>
            <a:off x="5637240" y="496872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"/>
          <p:cNvSpPr txBox="1"/>
          <p:nvPr/>
        </p:nvSpPr>
        <p:spPr>
          <a:xfrm>
            <a:off x="5637240" y="5121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"/>
          <p:cNvSpPr txBox="1"/>
          <p:nvPr/>
        </p:nvSpPr>
        <p:spPr>
          <a:xfrm>
            <a:off x="5637240" y="5273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"/>
          <p:cNvSpPr/>
          <p:nvPr/>
        </p:nvSpPr>
        <p:spPr>
          <a:xfrm>
            <a:off x="3067200" y="4695840"/>
            <a:ext cx="2524320" cy="702000"/>
          </a:xfrm>
          <a:custGeom>
            <a:avLst/>
            <a:gdLst/>
            <a:ahLst/>
            <a:rect l="0" t="0" r="r" b="b"/>
            <a:pathLst>
              <a:path w="7012" h="1950">
                <a:moveTo>
                  <a:pt x="0" y="0"/>
                </a:moveTo>
                <a:lnTo>
                  <a:pt x="39" y="52"/>
                </a:lnTo>
                <a:lnTo>
                  <a:pt x="92" y="57"/>
                </a:lnTo>
                <a:lnTo>
                  <a:pt x="132" y="97"/>
                </a:lnTo>
                <a:lnTo>
                  <a:pt x="171" y="110"/>
                </a:lnTo>
                <a:lnTo>
                  <a:pt x="211" y="123"/>
                </a:lnTo>
                <a:lnTo>
                  <a:pt x="251" y="136"/>
                </a:lnTo>
                <a:lnTo>
                  <a:pt x="291" y="123"/>
                </a:lnTo>
                <a:lnTo>
                  <a:pt x="330" y="123"/>
                </a:lnTo>
                <a:lnTo>
                  <a:pt x="370" y="123"/>
                </a:lnTo>
                <a:lnTo>
                  <a:pt x="436" y="149"/>
                </a:lnTo>
                <a:lnTo>
                  <a:pt x="476" y="176"/>
                </a:lnTo>
                <a:lnTo>
                  <a:pt x="515" y="189"/>
                </a:lnTo>
                <a:lnTo>
                  <a:pt x="555" y="202"/>
                </a:lnTo>
                <a:lnTo>
                  <a:pt x="621" y="202"/>
                </a:lnTo>
                <a:lnTo>
                  <a:pt x="661" y="216"/>
                </a:lnTo>
                <a:lnTo>
                  <a:pt x="701" y="229"/>
                </a:lnTo>
                <a:lnTo>
                  <a:pt x="767" y="282"/>
                </a:lnTo>
                <a:lnTo>
                  <a:pt x="806" y="321"/>
                </a:lnTo>
                <a:lnTo>
                  <a:pt x="846" y="361"/>
                </a:lnTo>
                <a:lnTo>
                  <a:pt x="899" y="388"/>
                </a:lnTo>
                <a:lnTo>
                  <a:pt x="939" y="401"/>
                </a:lnTo>
                <a:lnTo>
                  <a:pt x="992" y="414"/>
                </a:lnTo>
                <a:lnTo>
                  <a:pt x="1150" y="427"/>
                </a:lnTo>
                <a:lnTo>
                  <a:pt x="1203" y="440"/>
                </a:lnTo>
                <a:lnTo>
                  <a:pt x="1243" y="467"/>
                </a:lnTo>
                <a:lnTo>
                  <a:pt x="1283" y="480"/>
                </a:lnTo>
                <a:lnTo>
                  <a:pt x="1322" y="493"/>
                </a:lnTo>
                <a:lnTo>
                  <a:pt x="1362" y="507"/>
                </a:lnTo>
                <a:lnTo>
                  <a:pt x="1415" y="533"/>
                </a:lnTo>
                <a:lnTo>
                  <a:pt x="1468" y="573"/>
                </a:lnTo>
                <a:lnTo>
                  <a:pt x="1521" y="586"/>
                </a:lnTo>
                <a:lnTo>
                  <a:pt x="1561" y="599"/>
                </a:lnTo>
                <a:lnTo>
                  <a:pt x="1613" y="599"/>
                </a:lnTo>
                <a:lnTo>
                  <a:pt x="1653" y="612"/>
                </a:lnTo>
                <a:lnTo>
                  <a:pt x="1693" y="639"/>
                </a:lnTo>
                <a:lnTo>
                  <a:pt x="1733" y="652"/>
                </a:lnTo>
                <a:lnTo>
                  <a:pt x="1772" y="679"/>
                </a:lnTo>
                <a:lnTo>
                  <a:pt x="1812" y="692"/>
                </a:lnTo>
                <a:lnTo>
                  <a:pt x="1838" y="732"/>
                </a:lnTo>
                <a:lnTo>
                  <a:pt x="1878" y="758"/>
                </a:lnTo>
                <a:lnTo>
                  <a:pt x="1918" y="784"/>
                </a:lnTo>
                <a:lnTo>
                  <a:pt x="1957" y="811"/>
                </a:lnTo>
                <a:lnTo>
                  <a:pt x="2024" y="851"/>
                </a:lnTo>
                <a:lnTo>
                  <a:pt x="2037" y="890"/>
                </a:lnTo>
                <a:lnTo>
                  <a:pt x="2063" y="930"/>
                </a:lnTo>
                <a:lnTo>
                  <a:pt x="2103" y="956"/>
                </a:lnTo>
                <a:lnTo>
                  <a:pt x="2143" y="984"/>
                </a:lnTo>
                <a:lnTo>
                  <a:pt x="2182" y="1024"/>
                </a:lnTo>
                <a:lnTo>
                  <a:pt x="2235" y="1050"/>
                </a:lnTo>
                <a:lnTo>
                  <a:pt x="2275" y="1076"/>
                </a:lnTo>
                <a:lnTo>
                  <a:pt x="2288" y="1129"/>
                </a:lnTo>
                <a:lnTo>
                  <a:pt x="2301" y="1169"/>
                </a:lnTo>
                <a:lnTo>
                  <a:pt x="2328" y="1209"/>
                </a:lnTo>
                <a:lnTo>
                  <a:pt x="2368" y="1222"/>
                </a:lnTo>
                <a:lnTo>
                  <a:pt x="2407" y="1235"/>
                </a:lnTo>
                <a:lnTo>
                  <a:pt x="2447" y="1248"/>
                </a:lnTo>
                <a:lnTo>
                  <a:pt x="2500" y="1262"/>
                </a:lnTo>
                <a:lnTo>
                  <a:pt x="2540" y="1315"/>
                </a:lnTo>
                <a:lnTo>
                  <a:pt x="2592" y="1341"/>
                </a:lnTo>
                <a:lnTo>
                  <a:pt x="2632" y="1368"/>
                </a:lnTo>
                <a:lnTo>
                  <a:pt x="2685" y="1381"/>
                </a:lnTo>
                <a:lnTo>
                  <a:pt x="2725" y="1394"/>
                </a:lnTo>
                <a:lnTo>
                  <a:pt x="2764" y="1420"/>
                </a:lnTo>
                <a:lnTo>
                  <a:pt x="2831" y="1447"/>
                </a:lnTo>
                <a:lnTo>
                  <a:pt x="2883" y="1460"/>
                </a:lnTo>
                <a:lnTo>
                  <a:pt x="2923" y="1473"/>
                </a:lnTo>
                <a:lnTo>
                  <a:pt x="2963" y="1487"/>
                </a:lnTo>
                <a:lnTo>
                  <a:pt x="3003" y="1500"/>
                </a:lnTo>
                <a:lnTo>
                  <a:pt x="3055" y="1500"/>
                </a:lnTo>
                <a:lnTo>
                  <a:pt x="3095" y="1513"/>
                </a:lnTo>
                <a:lnTo>
                  <a:pt x="3135" y="1513"/>
                </a:lnTo>
                <a:lnTo>
                  <a:pt x="3175" y="1526"/>
                </a:lnTo>
                <a:lnTo>
                  <a:pt x="3214" y="1539"/>
                </a:lnTo>
                <a:lnTo>
                  <a:pt x="3254" y="1553"/>
                </a:lnTo>
                <a:lnTo>
                  <a:pt x="3280" y="1592"/>
                </a:lnTo>
                <a:lnTo>
                  <a:pt x="3294" y="1632"/>
                </a:lnTo>
                <a:lnTo>
                  <a:pt x="3320" y="1672"/>
                </a:lnTo>
                <a:lnTo>
                  <a:pt x="3333" y="1711"/>
                </a:lnTo>
                <a:lnTo>
                  <a:pt x="3373" y="1751"/>
                </a:lnTo>
                <a:lnTo>
                  <a:pt x="3386" y="1791"/>
                </a:lnTo>
                <a:lnTo>
                  <a:pt x="3399" y="1831"/>
                </a:lnTo>
                <a:lnTo>
                  <a:pt x="3426" y="1870"/>
                </a:lnTo>
                <a:lnTo>
                  <a:pt x="3466" y="1897"/>
                </a:lnTo>
                <a:lnTo>
                  <a:pt x="3505" y="1936"/>
                </a:lnTo>
                <a:lnTo>
                  <a:pt x="3546" y="1950"/>
                </a:lnTo>
                <a:lnTo>
                  <a:pt x="3586" y="1950"/>
                </a:lnTo>
                <a:lnTo>
                  <a:pt x="3625" y="1923"/>
                </a:lnTo>
                <a:lnTo>
                  <a:pt x="3639" y="1883"/>
                </a:lnTo>
                <a:lnTo>
                  <a:pt x="3665" y="1844"/>
                </a:lnTo>
                <a:lnTo>
                  <a:pt x="3691" y="1804"/>
                </a:lnTo>
                <a:lnTo>
                  <a:pt x="3718" y="1764"/>
                </a:lnTo>
                <a:lnTo>
                  <a:pt x="3758" y="1738"/>
                </a:lnTo>
                <a:lnTo>
                  <a:pt x="3797" y="1698"/>
                </a:lnTo>
                <a:lnTo>
                  <a:pt x="3824" y="1659"/>
                </a:lnTo>
                <a:lnTo>
                  <a:pt x="3824" y="1619"/>
                </a:lnTo>
                <a:lnTo>
                  <a:pt x="3850" y="1579"/>
                </a:lnTo>
                <a:lnTo>
                  <a:pt x="3877" y="1539"/>
                </a:lnTo>
                <a:lnTo>
                  <a:pt x="3903" y="1500"/>
                </a:lnTo>
                <a:lnTo>
                  <a:pt x="3930" y="1460"/>
                </a:lnTo>
                <a:lnTo>
                  <a:pt x="3956" y="1420"/>
                </a:lnTo>
                <a:lnTo>
                  <a:pt x="3996" y="1368"/>
                </a:lnTo>
                <a:lnTo>
                  <a:pt x="4022" y="1328"/>
                </a:lnTo>
                <a:lnTo>
                  <a:pt x="4062" y="1288"/>
                </a:lnTo>
                <a:lnTo>
                  <a:pt x="4088" y="1248"/>
                </a:lnTo>
                <a:lnTo>
                  <a:pt x="4128" y="1222"/>
                </a:lnTo>
                <a:lnTo>
                  <a:pt x="4168" y="1182"/>
                </a:lnTo>
                <a:lnTo>
                  <a:pt x="4194" y="1143"/>
                </a:lnTo>
                <a:lnTo>
                  <a:pt x="4234" y="1116"/>
                </a:lnTo>
                <a:lnTo>
                  <a:pt x="4274" y="1076"/>
                </a:lnTo>
                <a:lnTo>
                  <a:pt x="4313" y="1050"/>
                </a:lnTo>
                <a:lnTo>
                  <a:pt x="4353" y="1024"/>
                </a:lnTo>
                <a:lnTo>
                  <a:pt x="4393" y="1010"/>
                </a:lnTo>
                <a:lnTo>
                  <a:pt x="4432" y="984"/>
                </a:lnTo>
                <a:lnTo>
                  <a:pt x="4472" y="970"/>
                </a:lnTo>
                <a:lnTo>
                  <a:pt x="4512" y="943"/>
                </a:lnTo>
                <a:lnTo>
                  <a:pt x="4551" y="943"/>
                </a:lnTo>
                <a:lnTo>
                  <a:pt x="4591" y="943"/>
                </a:lnTo>
                <a:lnTo>
                  <a:pt x="4631" y="943"/>
                </a:lnTo>
                <a:lnTo>
                  <a:pt x="4670" y="943"/>
                </a:lnTo>
                <a:lnTo>
                  <a:pt x="4710" y="930"/>
                </a:lnTo>
                <a:lnTo>
                  <a:pt x="4750" y="917"/>
                </a:lnTo>
                <a:lnTo>
                  <a:pt x="4803" y="903"/>
                </a:lnTo>
                <a:lnTo>
                  <a:pt x="4842" y="890"/>
                </a:lnTo>
                <a:lnTo>
                  <a:pt x="4882" y="877"/>
                </a:lnTo>
                <a:lnTo>
                  <a:pt x="4922" y="877"/>
                </a:lnTo>
                <a:lnTo>
                  <a:pt x="4961" y="864"/>
                </a:lnTo>
                <a:lnTo>
                  <a:pt x="5001" y="851"/>
                </a:lnTo>
                <a:lnTo>
                  <a:pt x="5041" y="837"/>
                </a:lnTo>
                <a:lnTo>
                  <a:pt x="5081" y="837"/>
                </a:lnTo>
                <a:lnTo>
                  <a:pt x="5147" y="837"/>
                </a:lnTo>
                <a:lnTo>
                  <a:pt x="5186" y="837"/>
                </a:lnTo>
                <a:lnTo>
                  <a:pt x="5226" y="824"/>
                </a:lnTo>
                <a:lnTo>
                  <a:pt x="5279" y="811"/>
                </a:lnTo>
                <a:lnTo>
                  <a:pt x="5319" y="811"/>
                </a:lnTo>
                <a:lnTo>
                  <a:pt x="5385" y="798"/>
                </a:lnTo>
                <a:lnTo>
                  <a:pt x="5424" y="784"/>
                </a:lnTo>
                <a:lnTo>
                  <a:pt x="5477" y="771"/>
                </a:lnTo>
                <a:lnTo>
                  <a:pt x="5530" y="771"/>
                </a:lnTo>
                <a:lnTo>
                  <a:pt x="5570" y="758"/>
                </a:lnTo>
                <a:lnTo>
                  <a:pt x="5610" y="758"/>
                </a:lnTo>
                <a:lnTo>
                  <a:pt x="5649" y="758"/>
                </a:lnTo>
                <a:lnTo>
                  <a:pt x="5689" y="745"/>
                </a:lnTo>
                <a:lnTo>
                  <a:pt x="5729" y="718"/>
                </a:lnTo>
                <a:lnTo>
                  <a:pt x="5755" y="679"/>
                </a:lnTo>
                <a:lnTo>
                  <a:pt x="5795" y="679"/>
                </a:lnTo>
                <a:lnTo>
                  <a:pt x="5848" y="679"/>
                </a:lnTo>
                <a:lnTo>
                  <a:pt x="5887" y="679"/>
                </a:lnTo>
                <a:lnTo>
                  <a:pt x="5940" y="665"/>
                </a:lnTo>
                <a:lnTo>
                  <a:pt x="5993" y="652"/>
                </a:lnTo>
                <a:lnTo>
                  <a:pt x="6046" y="639"/>
                </a:lnTo>
                <a:lnTo>
                  <a:pt x="6086" y="626"/>
                </a:lnTo>
                <a:lnTo>
                  <a:pt x="6152" y="599"/>
                </a:lnTo>
                <a:lnTo>
                  <a:pt x="6192" y="586"/>
                </a:lnTo>
                <a:lnTo>
                  <a:pt x="6231" y="573"/>
                </a:lnTo>
                <a:lnTo>
                  <a:pt x="6271" y="546"/>
                </a:lnTo>
                <a:lnTo>
                  <a:pt x="6311" y="533"/>
                </a:lnTo>
                <a:lnTo>
                  <a:pt x="6351" y="533"/>
                </a:lnTo>
                <a:lnTo>
                  <a:pt x="6390" y="533"/>
                </a:lnTo>
                <a:lnTo>
                  <a:pt x="6443" y="533"/>
                </a:lnTo>
                <a:lnTo>
                  <a:pt x="6496" y="533"/>
                </a:lnTo>
                <a:lnTo>
                  <a:pt x="6536" y="533"/>
                </a:lnTo>
                <a:lnTo>
                  <a:pt x="6575" y="533"/>
                </a:lnTo>
                <a:lnTo>
                  <a:pt x="6734" y="507"/>
                </a:lnTo>
                <a:lnTo>
                  <a:pt x="6774" y="507"/>
                </a:lnTo>
                <a:lnTo>
                  <a:pt x="6827" y="480"/>
                </a:lnTo>
                <a:lnTo>
                  <a:pt x="6906" y="454"/>
                </a:lnTo>
                <a:lnTo>
                  <a:pt x="6946" y="454"/>
                </a:lnTo>
                <a:lnTo>
                  <a:pt x="6986" y="440"/>
                </a:lnTo>
                <a:lnTo>
                  <a:pt x="6999" y="436"/>
                </a:lnTo>
                <a:lnTo>
                  <a:pt x="6986" y="427"/>
                </a:lnTo>
                <a:lnTo>
                  <a:pt x="7012" y="427"/>
                </a:lnTo>
                <a:lnTo>
                  <a:pt x="7012" y="1950"/>
                </a:lnTo>
                <a:lnTo>
                  <a:pt x="0" y="1950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"/>
          <p:cNvSpPr txBox="1"/>
          <p:nvPr/>
        </p:nvSpPr>
        <p:spPr>
          <a:xfrm>
            <a:off x="3813120" y="5381640"/>
            <a:ext cx="1027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B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"/>
          <p:cNvSpPr/>
          <p:nvPr/>
        </p:nvSpPr>
        <p:spPr>
          <a:xfrm>
            <a:off x="2789280" y="361332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"/>
          <p:cNvSpPr/>
          <p:nvPr/>
        </p:nvSpPr>
        <p:spPr>
          <a:xfrm>
            <a:off x="2789280" y="37656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"/>
          <p:cNvSpPr/>
          <p:nvPr/>
        </p:nvSpPr>
        <p:spPr>
          <a:xfrm>
            <a:off x="2789280" y="39178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"/>
          <p:cNvSpPr/>
          <p:nvPr/>
        </p:nvSpPr>
        <p:spPr>
          <a:xfrm>
            <a:off x="2789280" y="407052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"/>
          <p:cNvSpPr/>
          <p:nvPr/>
        </p:nvSpPr>
        <p:spPr>
          <a:xfrm>
            <a:off x="2789280" y="42228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"/>
          <p:cNvSpPr txBox="1"/>
          <p:nvPr/>
        </p:nvSpPr>
        <p:spPr>
          <a:xfrm>
            <a:off x="5651640" y="349092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"/>
          <p:cNvSpPr txBox="1"/>
          <p:nvPr/>
        </p:nvSpPr>
        <p:spPr>
          <a:xfrm>
            <a:off x="5651640" y="3643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"/>
          <p:cNvSpPr txBox="1"/>
          <p:nvPr/>
        </p:nvSpPr>
        <p:spPr>
          <a:xfrm>
            <a:off x="5651640" y="37958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"/>
          <p:cNvSpPr txBox="1"/>
          <p:nvPr/>
        </p:nvSpPr>
        <p:spPr>
          <a:xfrm>
            <a:off x="5651640" y="39387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"/>
          <p:cNvSpPr txBox="1"/>
          <p:nvPr/>
        </p:nvSpPr>
        <p:spPr>
          <a:xfrm>
            <a:off x="5651640" y="40910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"/>
          <p:cNvSpPr/>
          <p:nvPr/>
        </p:nvSpPr>
        <p:spPr>
          <a:xfrm>
            <a:off x="3071880" y="77760"/>
            <a:ext cx="2514600" cy="3200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3075120" y="82440"/>
            <a:ext cx="390960" cy="340200"/>
          </a:xfrm>
          <a:custGeom>
            <a:avLst/>
            <a:gdLst/>
            <a:ahLst/>
            <a:rect l="0" t="0" r="r" b="b"/>
            <a:pathLst>
              <a:path fill="none" w="1086" h="945">
                <a:moveTo>
                  <a:pt x="1086" y="0"/>
                </a:moveTo>
                <a:lnTo>
                  <a:pt x="1086" y="70"/>
                </a:lnTo>
                <a:lnTo>
                  <a:pt x="1064" y="140"/>
                </a:lnTo>
                <a:lnTo>
                  <a:pt x="1018" y="233"/>
                </a:lnTo>
                <a:lnTo>
                  <a:pt x="971" y="348"/>
                </a:lnTo>
                <a:lnTo>
                  <a:pt x="947" y="440"/>
                </a:lnTo>
                <a:lnTo>
                  <a:pt x="876" y="489"/>
                </a:lnTo>
                <a:lnTo>
                  <a:pt x="783" y="489"/>
                </a:lnTo>
                <a:lnTo>
                  <a:pt x="690" y="557"/>
                </a:lnTo>
                <a:lnTo>
                  <a:pt x="597" y="581"/>
                </a:lnTo>
                <a:lnTo>
                  <a:pt x="504" y="649"/>
                </a:lnTo>
                <a:lnTo>
                  <a:pt x="458" y="721"/>
                </a:lnTo>
                <a:lnTo>
                  <a:pt x="387" y="743"/>
                </a:lnTo>
                <a:lnTo>
                  <a:pt x="294" y="767"/>
                </a:lnTo>
                <a:lnTo>
                  <a:pt x="201" y="835"/>
                </a:lnTo>
                <a:lnTo>
                  <a:pt x="132" y="906"/>
                </a:lnTo>
                <a:lnTo>
                  <a:pt x="61" y="930"/>
                </a:lnTo>
                <a:lnTo>
                  <a:pt x="0" y="9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3071880" y="82440"/>
            <a:ext cx="568800" cy="2595960"/>
          </a:xfrm>
          <a:custGeom>
            <a:avLst/>
            <a:gdLst/>
            <a:ahLst/>
            <a:rect l="0" t="0" r="r" b="b"/>
            <a:pathLst>
              <a:path fill="none" w="1580" h="7211">
                <a:moveTo>
                  <a:pt x="1571" y="0"/>
                </a:moveTo>
                <a:lnTo>
                  <a:pt x="1580" y="46"/>
                </a:lnTo>
                <a:lnTo>
                  <a:pt x="1558" y="138"/>
                </a:lnTo>
                <a:lnTo>
                  <a:pt x="1558" y="231"/>
                </a:lnTo>
                <a:lnTo>
                  <a:pt x="1558" y="324"/>
                </a:lnTo>
                <a:lnTo>
                  <a:pt x="1488" y="416"/>
                </a:lnTo>
                <a:lnTo>
                  <a:pt x="1441" y="487"/>
                </a:lnTo>
                <a:lnTo>
                  <a:pt x="1371" y="555"/>
                </a:lnTo>
                <a:lnTo>
                  <a:pt x="1278" y="648"/>
                </a:lnTo>
                <a:lnTo>
                  <a:pt x="1256" y="718"/>
                </a:lnTo>
                <a:lnTo>
                  <a:pt x="1210" y="811"/>
                </a:lnTo>
                <a:lnTo>
                  <a:pt x="1162" y="903"/>
                </a:lnTo>
                <a:lnTo>
                  <a:pt x="1116" y="996"/>
                </a:lnTo>
                <a:lnTo>
                  <a:pt x="1070" y="1067"/>
                </a:lnTo>
                <a:lnTo>
                  <a:pt x="999" y="1135"/>
                </a:lnTo>
                <a:lnTo>
                  <a:pt x="977" y="1206"/>
                </a:lnTo>
                <a:lnTo>
                  <a:pt x="907" y="1252"/>
                </a:lnTo>
                <a:lnTo>
                  <a:pt x="860" y="1344"/>
                </a:lnTo>
                <a:lnTo>
                  <a:pt x="790" y="1415"/>
                </a:lnTo>
                <a:lnTo>
                  <a:pt x="697" y="1483"/>
                </a:lnTo>
                <a:lnTo>
                  <a:pt x="651" y="1554"/>
                </a:lnTo>
                <a:lnTo>
                  <a:pt x="605" y="1647"/>
                </a:lnTo>
                <a:lnTo>
                  <a:pt x="536" y="1739"/>
                </a:lnTo>
                <a:lnTo>
                  <a:pt x="488" y="1811"/>
                </a:lnTo>
                <a:lnTo>
                  <a:pt x="394" y="1879"/>
                </a:lnTo>
                <a:lnTo>
                  <a:pt x="326" y="1950"/>
                </a:lnTo>
                <a:lnTo>
                  <a:pt x="255" y="1972"/>
                </a:lnTo>
                <a:lnTo>
                  <a:pt x="187" y="2042"/>
                </a:lnTo>
                <a:lnTo>
                  <a:pt x="116" y="2089"/>
                </a:lnTo>
                <a:lnTo>
                  <a:pt x="70" y="2181"/>
                </a:lnTo>
                <a:lnTo>
                  <a:pt x="24" y="2252"/>
                </a:lnTo>
                <a:lnTo>
                  <a:pt x="0" y="2344"/>
                </a:lnTo>
                <a:lnTo>
                  <a:pt x="46" y="2437"/>
                </a:lnTo>
                <a:lnTo>
                  <a:pt x="94" y="2529"/>
                </a:lnTo>
                <a:lnTo>
                  <a:pt x="116" y="2644"/>
                </a:lnTo>
                <a:lnTo>
                  <a:pt x="141" y="2715"/>
                </a:lnTo>
                <a:lnTo>
                  <a:pt x="163" y="2807"/>
                </a:lnTo>
                <a:lnTo>
                  <a:pt x="209" y="2878"/>
                </a:lnTo>
                <a:lnTo>
                  <a:pt x="255" y="2992"/>
                </a:lnTo>
                <a:lnTo>
                  <a:pt x="326" y="3063"/>
                </a:lnTo>
                <a:lnTo>
                  <a:pt x="372" y="3134"/>
                </a:lnTo>
                <a:lnTo>
                  <a:pt x="419" y="3226"/>
                </a:lnTo>
                <a:lnTo>
                  <a:pt x="466" y="3319"/>
                </a:lnTo>
                <a:lnTo>
                  <a:pt x="536" y="3411"/>
                </a:lnTo>
                <a:lnTo>
                  <a:pt x="583" y="3504"/>
                </a:lnTo>
                <a:lnTo>
                  <a:pt x="605" y="3575"/>
                </a:lnTo>
                <a:lnTo>
                  <a:pt x="651" y="3667"/>
                </a:lnTo>
                <a:lnTo>
                  <a:pt x="651" y="3760"/>
                </a:lnTo>
                <a:lnTo>
                  <a:pt x="651" y="3852"/>
                </a:lnTo>
                <a:lnTo>
                  <a:pt x="651" y="3967"/>
                </a:lnTo>
                <a:lnTo>
                  <a:pt x="675" y="4062"/>
                </a:lnTo>
                <a:lnTo>
                  <a:pt x="697" y="4154"/>
                </a:lnTo>
                <a:lnTo>
                  <a:pt x="768" y="4247"/>
                </a:lnTo>
                <a:lnTo>
                  <a:pt x="836" y="4362"/>
                </a:lnTo>
                <a:lnTo>
                  <a:pt x="882" y="4432"/>
                </a:lnTo>
                <a:lnTo>
                  <a:pt x="907" y="4503"/>
                </a:lnTo>
                <a:lnTo>
                  <a:pt x="977" y="4617"/>
                </a:lnTo>
                <a:lnTo>
                  <a:pt x="1024" y="4688"/>
                </a:lnTo>
                <a:lnTo>
                  <a:pt x="1116" y="4781"/>
                </a:lnTo>
                <a:lnTo>
                  <a:pt x="1162" y="4873"/>
                </a:lnTo>
                <a:lnTo>
                  <a:pt x="1210" y="4944"/>
                </a:lnTo>
                <a:lnTo>
                  <a:pt x="1232" y="5036"/>
                </a:lnTo>
                <a:lnTo>
                  <a:pt x="1278" y="5129"/>
                </a:lnTo>
                <a:lnTo>
                  <a:pt x="1302" y="5222"/>
                </a:lnTo>
                <a:lnTo>
                  <a:pt x="1302" y="5314"/>
                </a:lnTo>
                <a:lnTo>
                  <a:pt x="1302" y="5385"/>
                </a:lnTo>
                <a:lnTo>
                  <a:pt x="1324" y="5547"/>
                </a:lnTo>
                <a:lnTo>
                  <a:pt x="1349" y="5617"/>
                </a:lnTo>
                <a:lnTo>
                  <a:pt x="1349" y="5732"/>
                </a:lnTo>
                <a:lnTo>
                  <a:pt x="1324" y="5849"/>
                </a:lnTo>
                <a:lnTo>
                  <a:pt x="1324" y="5919"/>
                </a:lnTo>
                <a:lnTo>
                  <a:pt x="1302" y="6012"/>
                </a:lnTo>
                <a:lnTo>
                  <a:pt x="1232" y="6080"/>
                </a:lnTo>
                <a:lnTo>
                  <a:pt x="1210" y="6151"/>
                </a:lnTo>
                <a:lnTo>
                  <a:pt x="1138" y="6221"/>
                </a:lnTo>
                <a:lnTo>
                  <a:pt x="1070" y="6314"/>
                </a:lnTo>
                <a:lnTo>
                  <a:pt x="999" y="6382"/>
                </a:lnTo>
                <a:lnTo>
                  <a:pt x="953" y="6453"/>
                </a:lnTo>
                <a:lnTo>
                  <a:pt x="882" y="6568"/>
                </a:lnTo>
                <a:lnTo>
                  <a:pt x="836" y="6638"/>
                </a:lnTo>
                <a:lnTo>
                  <a:pt x="814" y="6709"/>
                </a:lnTo>
                <a:lnTo>
                  <a:pt x="814" y="6801"/>
                </a:lnTo>
                <a:lnTo>
                  <a:pt x="790" y="6894"/>
                </a:lnTo>
                <a:lnTo>
                  <a:pt x="697" y="6940"/>
                </a:lnTo>
                <a:lnTo>
                  <a:pt x="605" y="7009"/>
                </a:lnTo>
                <a:lnTo>
                  <a:pt x="536" y="7079"/>
                </a:lnTo>
                <a:lnTo>
                  <a:pt x="466" y="7079"/>
                </a:lnTo>
                <a:lnTo>
                  <a:pt x="372" y="7079"/>
                </a:lnTo>
                <a:lnTo>
                  <a:pt x="302" y="7079"/>
                </a:lnTo>
                <a:lnTo>
                  <a:pt x="209" y="7125"/>
                </a:lnTo>
                <a:lnTo>
                  <a:pt x="141" y="7196"/>
                </a:lnTo>
                <a:lnTo>
                  <a:pt x="6" y="721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>
            <a:off x="3081240" y="82440"/>
            <a:ext cx="776520" cy="2916720"/>
          </a:xfrm>
          <a:custGeom>
            <a:avLst/>
            <a:gdLst/>
            <a:ahLst/>
            <a:rect l="0" t="0" r="r" b="b"/>
            <a:pathLst>
              <a:path fill="none" w="2157" h="8102">
                <a:moveTo>
                  <a:pt x="2157" y="0"/>
                </a:moveTo>
                <a:lnTo>
                  <a:pt x="2157" y="94"/>
                </a:lnTo>
                <a:lnTo>
                  <a:pt x="2157" y="187"/>
                </a:lnTo>
                <a:lnTo>
                  <a:pt x="2157" y="302"/>
                </a:lnTo>
                <a:lnTo>
                  <a:pt x="2133" y="372"/>
                </a:lnTo>
                <a:lnTo>
                  <a:pt x="2086" y="465"/>
                </a:lnTo>
                <a:lnTo>
                  <a:pt x="2040" y="535"/>
                </a:lnTo>
                <a:lnTo>
                  <a:pt x="1972" y="628"/>
                </a:lnTo>
                <a:lnTo>
                  <a:pt x="1926" y="720"/>
                </a:lnTo>
                <a:lnTo>
                  <a:pt x="1879" y="813"/>
                </a:lnTo>
                <a:lnTo>
                  <a:pt x="1809" y="906"/>
                </a:lnTo>
                <a:lnTo>
                  <a:pt x="1785" y="976"/>
                </a:lnTo>
                <a:lnTo>
                  <a:pt x="1716" y="1069"/>
                </a:lnTo>
                <a:lnTo>
                  <a:pt x="1646" y="1137"/>
                </a:lnTo>
                <a:lnTo>
                  <a:pt x="1600" y="1208"/>
                </a:lnTo>
                <a:lnTo>
                  <a:pt x="1507" y="1300"/>
                </a:lnTo>
                <a:lnTo>
                  <a:pt x="1461" y="1371"/>
                </a:lnTo>
                <a:lnTo>
                  <a:pt x="1415" y="1464"/>
                </a:lnTo>
                <a:lnTo>
                  <a:pt x="1368" y="1556"/>
                </a:lnTo>
                <a:lnTo>
                  <a:pt x="1344" y="1649"/>
                </a:lnTo>
                <a:lnTo>
                  <a:pt x="1276" y="1741"/>
                </a:lnTo>
                <a:lnTo>
                  <a:pt x="1252" y="1812"/>
                </a:lnTo>
                <a:lnTo>
                  <a:pt x="1183" y="1905"/>
                </a:lnTo>
                <a:lnTo>
                  <a:pt x="1137" y="1997"/>
                </a:lnTo>
                <a:lnTo>
                  <a:pt x="1091" y="2113"/>
                </a:lnTo>
                <a:lnTo>
                  <a:pt x="1091" y="2183"/>
                </a:lnTo>
                <a:lnTo>
                  <a:pt x="1091" y="2254"/>
                </a:lnTo>
                <a:lnTo>
                  <a:pt x="1091" y="2346"/>
                </a:lnTo>
                <a:lnTo>
                  <a:pt x="1044" y="2439"/>
                </a:lnTo>
                <a:lnTo>
                  <a:pt x="1019" y="2554"/>
                </a:lnTo>
                <a:lnTo>
                  <a:pt x="1066" y="2646"/>
                </a:lnTo>
                <a:lnTo>
                  <a:pt x="1113" y="2741"/>
                </a:lnTo>
                <a:lnTo>
                  <a:pt x="1159" y="2834"/>
                </a:lnTo>
                <a:lnTo>
                  <a:pt x="1183" y="2926"/>
                </a:lnTo>
                <a:lnTo>
                  <a:pt x="1252" y="3019"/>
                </a:lnTo>
                <a:lnTo>
                  <a:pt x="1298" y="3136"/>
                </a:lnTo>
                <a:lnTo>
                  <a:pt x="1368" y="3228"/>
                </a:lnTo>
                <a:lnTo>
                  <a:pt x="1439" y="3297"/>
                </a:lnTo>
                <a:lnTo>
                  <a:pt x="1485" y="3389"/>
                </a:lnTo>
                <a:lnTo>
                  <a:pt x="1531" y="3460"/>
                </a:lnTo>
                <a:lnTo>
                  <a:pt x="1578" y="3577"/>
                </a:lnTo>
                <a:lnTo>
                  <a:pt x="1646" y="3716"/>
                </a:lnTo>
                <a:lnTo>
                  <a:pt x="1716" y="3808"/>
                </a:lnTo>
                <a:lnTo>
                  <a:pt x="1738" y="3901"/>
                </a:lnTo>
                <a:lnTo>
                  <a:pt x="1763" y="3994"/>
                </a:lnTo>
                <a:lnTo>
                  <a:pt x="1763" y="4064"/>
                </a:lnTo>
                <a:lnTo>
                  <a:pt x="1785" y="4157"/>
                </a:lnTo>
                <a:lnTo>
                  <a:pt x="1833" y="4249"/>
                </a:lnTo>
                <a:lnTo>
                  <a:pt x="1926" y="4364"/>
                </a:lnTo>
                <a:lnTo>
                  <a:pt x="1926" y="4434"/>
                </a:lnTo>
                <a:lnTo>
                  <a:pt x="1948" y="4505"/>
                </a:lnTo>
                <a:lnTo>
                  <a:pt x="1972" y="4598"/>
                </a:lnTo>
                <a:lnTo>
                  <a:pt x="1972" y="4690"/>
                </a:lnTo>
                <a:lnTo>
                  <a:pt x="1948" y="4783"/>
                </a:lnTo>
                <a:lnTo>
                  <a:pt x="1926" y="4875"/>
                </a:lnTo>
                <a:lnTo>
                  <a:pt x="1926" y="4946"/>
                </a:lnTo>
                <a:lnTo>
                  <a:pt x="1901" y="5039"/>
                </a:lnTo>
                <a:lnTo>
                  <a:pt x="1879" y="5153"/>
                </a:lnTo>
                <a:lnTo>
                  <a:pt x="1901" y="5246"/>
                </a:lnTo>
                <a:lnTo>
                  <a:pt x="1901" y="5316"/>
                </a:lnTo>
                <a:lnTo>
                  <a:pt x="1901" y="5387"/>
                </a:lnTo>
                <a:lnTo>
                  <a:pt x="1901" y="5480"/>
                </a:lnTo>
                <a:lnTo>
                  <a:pt x="1879" y="5572"/>
                </a:lnTo>
                <a:lnTo>
                  <a:pt x="1855" y="5665"/>
                </a:lnTo>
                <a:lnTo>
                  <a:pt x="1833" y="5757"/>
                </a:lnTo>
                <a:lnTo>
                  <a:pt x="1809" y="5850"/>
                </a:lnTo>
                <a:lnTo>
                  <a:pt x="1785" y="5943"/>
                </a:lnTo>
                <a:lnTo>
                  <a:pt x="1763" y="6013"/>
                </a:lnTo>
                <a:lnTo>
                  <a:pt x="1738" y="6107"/>
                </a:lnTo>
                <a:lnTo>
                  <a:pt x="1716" y="6199"/>
                </a:lnTo>
                <a:lnTo>
                  <a:pt x="1692" y="6292"/>
                </a:lnTo>
                <a:lnTo>
                  <a:pt x="1692" y="6363"/>
                </a:lnTo>
                <a:lnTo>
                  <a:pt x="1624" y="6523"/>
                </a:lnTo>
                <a:lnTo>
                  <a:pt x="1600" y="6594"/>
                </a:lnTo>
                <a:lnTo>
                  <a:pt x="1553" y="6711"/>
                </a:lnTo>
                <a:lnTo>
                  <a:pt x="1507" y="6803"/>
                </a:lnTo>
                <a:lnTo>
                  <a:pt x="1461" y="6918"/>
                </a:lnTo>
                <a:lnTo>
                  <a:pt x="1393" y="7035"/>
                </a:lnTo>
                <a:lnTo>
                  <a:pt x="1322" y="7267"/>
                </a:lnTo>
                <a:lnTo>
                  <a:pt x="1298" y="7337"/>
                </a:lnTo>
                <a:lnTo>
                  <a:pt x="1183" y="7405"/>
                </a:lnTo>
                <a:lnTo>
                  <a:pt x="1113" y="7452"/>
                </a:lnTo>
                <a:lnTo>
                  <a:pt x="1019" y="7522"/>
                </a:lnTo>
                <a:lnTo>
                  <a:pt x="788" y="7593"/>
                </a:lnTo>
                <a:lnTo>
                  <a:pt x="696" y="7639"/>
                </a:lnTo>
                <a:lnTo>
                  <a:pt x="603" y="7661"/>
                </a:lnTo>
                <a:lnTo>
                  <a:pt x="462" y="7707"/>
                </a:lnTo>
                <a:lnTo>
                  <a:pt x="370" y="7754"/>
                </a:lnTo>
                <a:lnTo>
                  <a:pt x="277" y="7824"/>
                </a:lnTo>
                <a:lnTo>
                  <a:pt x="209" y="7917"/>
                </a:lnTo>
                <a:lnTo>
                  <a:pt x="138" y="7963"/>
                </a:lnTo>
                <a:lnTo>
                  <a:pt x="46" y="8010"/>
                </a:lnTo>
                <a:lnTo>
                  <a:pt x="0" y="81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3075120" y="358920"/>
            <a:ext cx="1010160" cy="2832480"/>
          </a:xfrm>
          <a:custGeom>
            <a:avLst/>
            <a:gdLst/>
            <a:ahLst/>
            <a:rect l="0" t="0" r="r" b="b"/>
            <a:pathLst>
              <a:path fill="none" w="2806" h="7868">
                <a:moveTo>
                  <a:pt x="2806" y="0"/>
                </a:moveTo>
                <a:lnTo>
                  <a:pt x="2729" y="141"/>
                </a:lnTo>
                <a:lnTo>
                  <a:pt x="2689" y="185"/>
                </a:lnTo>
                <a:lnTo>
                  <a:pt x="2663" y="218"/>
                </a:lnTo>
                <a:lnTo>
                  <a:pt x="2647" y="271"/>
                </a:lnTo>
                <a:lnTo>
                  <a:pt x="2636" y="313"/>
                </a:lnTo>
                <a:lnTo>
                  <a:pt x="2614" y="352"/>
                </a:lnTo>
                <a:lnTo>
                  <a:pt x="2601" y="399"/>
                </a:lnTo>
                <a:lnTo>
                  <a:pt x="2581" y="432"/>
                </a:lnTo>
                <a:lnTo>
                  <a:pt x="2555" y="463"/>
                </a:lnTo>
                <a:lnTo>
                  <a:pt x="2495" y="515"/>
                </a:lnTo>
                <a:lnTo>
                  <a:pt x="2431" y="582"/>
                </a:lnTo>
                <a:lnTo>
                  <a:pt x="2398" y="637"/>
                </a:lnTo>
                <a:lnTo>
                  <a:pt x="2389" y="674"/>
                </a:lnTo>
                <a:lnTo>
                  <a:pt x="2363" y="754"/>
                </a:lnTo>
                <a:lnTo>
                  <a:pt x="2296" y="820"/>
                </a:lnTo>
                <a:lnTo>
                  <a:pt x="2230" y="926"/>
                </a:lnTo>
                <a:lnTo>
                  <a:pt x="2204" y="952"/>
                </a:lnTo>
                <a:lnTo>
                  <a:pt x="2177" y="1031"/>
                </a:lnTo>
                <a:lnTo>
                  <a:pt x="2151" y="1084"/>
                </a:lnTo>
                <a:lnTo>
                  <a:pt x="2097" y="1150"/>
                </a:lnTo>
                <a:lnTo>
                  <a:pt x="2097" y="1243"/>
                </a:lnTo>
                <a:lnTo>
                  <a:pt x="2057" y="1389"/>
                </a:lnTo>
                <a:lnTo>
                  <a:pt x="2057" y="1375"/>
                </a:lnTo>
                <a:lnTo>
                  <a:pt x="2031" y="1481"/>
                </a:lnTo>
                <a:lnTo>
                  <a:pt x="1991" y="1413"/>
                </a:lnTo>
                <a:lnTo>
                  <a:pt x="2057" y="1666"/>
                </a:lnTo>
                <a:lnTo>
                  <a:pt x="2111" y="1746"/>
                </a:lnTo>
                <a:lnTo>
                  <a:pt x="2070" y="1799"/>
                </a:lnTo>
                <a:lnTo>
                  <a:pt x="2111" y="1905"/>
                </a:lnTo>
                <a:lnTo>
                  <a:pt x="2124" y="1985"/>
                </a:lnTo>
                <a:lnTo>
                  <a:pt x="2164" y="2051"/>
                </a:lnTo>
                <a:lnTo>
                  <a:pt x="2217" y="2130"/>
                </a:lnTo>
                <a:lnTo>
                  <a:pt x="2257" y="2197"/>
                </a:lnTo>
                <a:lnTo>
                  <a:pt x="2296" y="2276"/>
                </a:lnTo>
                <a:lnTo>
                  <a:pt x="2310" y="2342"/>
                </a:lnTo>
                <a:lnTo>
                  <a:pt x="2323" y="2382"/>
                </a:lnTo>
                <a:lnTo>
                  <a:pt x="2310" y="2448"/>
                </a:lnTo>
                <a:lnTo>
                  <a:pt x="2296" y="2554"/>
                </a:lnTo>
                <a:lnTo>
                  <a:pt x="2283" y="2673"/>
                </a:lnTo>
                <a:lnTo>
                  <a:pt x="2243" y="2752"/>
                </a:lnTo>
                <a:lnTo>
                  <a:pt x="2177" y="2829"/>
                </a:lnTo>
                <a:lnTo>
                  <a:pt x="2177" y="2900"/>
                </a:lnTo>
                <a:lnTo>
                  <a:pt x="2199" y="2992"/>
                </a:lnTo>
                <a:lnTo>
                  <a:pt x="2224" y="3085"/>
                </a:lnTo>
                <a:lnTo>
                  <a:pt x="2224" y="3178"/>
                </a:lnTo>
                <a:lnTo>
                  <a:pt x="2224" y="3248"/>
                </a:lnTo>
                <a:lnTo>
                  <a:pt x="2224" y="3341"/>
                </a:lnTo>
                <a:lnTo>
                  <a:pt x="2246" y="3456"/>
                </a:lnTo>
                <a:lnTo>
                  <a:pt x="2270" y="3526"/>
                </a:lnTo>
                <a:lnTo>
                  <a:pt x="2316" y="3619"/>
                </a:lnTo>
                <a:lnTo>
                  <a:pt x="2340" y="3711"/>
                </a:lnTo>
                <a:lnTo>
                  <a:pt x="2363" y="3782"/>
                </a:lnTo>
                <a:lnTo>
                  <a:pt x="2387" y="3896"/>
                </a:lnTo>
                <a:lnTo>
                  <a:pt x="2409" y="3967"/>
                </a:lnTo>
                <a:lnTo>
                  <a:pt x="2409" y="4106"/>
                </a:lnTo>
                <a:lnTo>
                  <a:pt x="2409" y="4223"/>
                </a:lnTo>
                <a:lnTo>
                  <a:pt x="2409" y="4315"/>
                </a:lnTo>
                <a:lnTo>
                  <a:pt x="2409" y="4454"/>
                </a:lnTo>
                <a:lnTo>
                  <a:pt x="2433" y="4686"/>
                </a:lnTo>
                <a:lnTo>
                  <a:pt x="2433" y="4803"/>
                </a:lnTo>
                <a:lnTo>
                  <a:pt x="2433" y="5034"/>
                </a:lnTo>
                <a:lnTo>
                  <a:pt x="2409" y="5105"/>
                </a:lnTo>
                <a:lnTo>
                  <a:pt x="2363" y="5197"/>
                </a:lnTo>
                <a:lnTo>
                  <a:pt x="2270" y="5546"/>
                </a:lnTo>
                <a:lnTo>
                  <a:pt x="2199" y="5660"/>
                </a:lnTo>
                <a:lnTo>
                  <a:pt x="2177" y="5731"/>
                </a:lnTo>
                <a:lnTo>
                  <a:pt x="2131" y="6475"/>
                </a:lnTo>
                <a:lnTo>
                  <a:pt x="2084" y="6568"/>
                </a:lnTo>
                <a:lnTo>
                  <a:pt x="2013" y="6636"/>
                </a:lnTo>
                <a:lnTo>
                  <a:pt x="1945" y="6706"/>
                </a:lnTo>
                <a:lnTo>
                  <a:pt x="1898" y="6777"/>
                </a:lnTo>
                <a:lnTo>
                  <a:pt x="1828" y="6845"/>
                </a:lnTo>
                <a:lnTo>
                  <a:pt x="1757" y="6892"/>
                </a:lnTo>
                <a:lnTo>
                  <a:pt x="1642" y="7009"/>
                </a:lnTo>
                <a:lnTo>
                  <a:pt x="1572" y="7101"/>
                </a:lnTo>
                <a:lnTo>
                  <a:pt x="852" y="7425"/>
                </a:lnTo>
                <a:lnTo>
                  <a:pt x="782" y="7450"/>
                </a:lnTo>
                <a:lnTo>
                  <a:pt x="688" y="7450"/>
                </a:lnTo>
                <a:lnTo>
                  <a:pt x="573" y="7542"/>
                </a:lnTo>
                <a:lnTo>
                  <a:pt x="503" y="7610"/>
                </a:lnTo>
                <a:lnTo>
                  <a:pt x="432" y="7635"/>
                </a:lnTo>
                <a:lnTo>
                  <a:pt x="339" y="7659"/>
                </a:lnTo>
                <a:lnTo>
                  <a:pt x="247" y="7705"/>
                </a:lnTo>
                <a:lnTo>
                  <a:pt x="154" y="7727"/>
                </a:lnTo>
                <a:lnTo>
                  <a:pt x="132" y="7798"/>
                </a:lnTo>
                <a:lnTo>
                  <a:pt x="61" y="7844"/>
                </a:lnTo>
                <a:lnTo>
                  <a:pt x="0" y="786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"/>
          <p:cNvSpPr/>
          <p:nvPr/>
        </p:nvSpPr>
        <p:spPr>
          <a:xfrm>
            <a:off x="3076560" y="1733400"/>
            <a:ext cx="179640" cy="592560"/>
          </a:xfrm>
          <a:custGeom>
            <a:avLst/>
            <a:gdLst/>
            <a:ahLst/>
            <a:rect l="0" t="0" r="r" b="b"/>
            <a:pathLst>
              <a:path fill="none" w="499" h="1646">
                <a:moveTo>
                  <a:pt x="0" y="0"/>
                </a:moveTo>
                <a:lnTo>
                  <a:pt x="26" y="79"/>
                </a:lnTo>
                <a:lnTo>
                  <a:pt x="48" y="163"/>
                </a:lnTo>
                <a:lnTo>
                  <a:pt x="81" y="240"/>
                </a:lnTo>
                <a:lnTo>
                  <a:pt x="127" y="310"/>
                </a:lnTo>
                <a:lnTo>
                  <a:pt x="220" y="357"/>
                </a:lnTo>
                <a:lnTo>
                  <a:pt x="314" y="403"/>
                </a:lnTo>
                <a:lnTo>
                  <a:pt x="406" y="472"/>
                </a:lnTo>
                <a:lnTo>
                  <a:pt x="452" y="543"/>
                </a:lnTo>
                <a:lnTo>
                  <a:pt x="499" y="636"/>
                </a:lnTo>
                <a:lnTo>
                  <a:pt x="499" y="728"/>
                </a:lnTo>
                <a:lnTo>
                  <a:pt x="499" y="799"/>
                </a:lnTo>
                <a:lnTo>
                  <a:pt x="475" y="913"/>
                </a:lnTo>
                <a:lnTo>
                  <a:pt x="406" y="984"/>
                </a:lnTo>
                <a:lnTo>
                  <a:pt x="336" y="1052"/>
                </a:lnTo>
                <a:lnTo>
                  <a:pt x="314" y="1123"/>
                </a:lnTo>
                <a:lnTo>
                  <a:pt x="314" y="1193"/>
                </a:lnTo>
                <a:lnTo>
                  <a:pt x="267" y="1287"/>
                </a:lnTo>
                <a:lnTo>
                  <a:pt x="196" y="1333"/>
                </a:lnTo>
                <a:lnTo>
                  <a:pt x="127" y="1426"/>
                </a:lnTo>
                <a:lnTo>
                  <a:pt x="57" y="1494"/>
                </a:lnTo>
                <a:lnTo>
                  <a:pt x="0" y="164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"/>
          <p:cNvSpPr/>
          <p:nvPr/>
        </p:nvSpPr>
        <p:spPr>
          <a:xfrm>
            <a:off x="3456000" y="642960"/>
            <a:ext cx="878400" cy="2630880"/>
          </a:xfrm>
          <a:custGeom>
            <a:avLst/>
            <a:gdLst/>
            <a:ahLst/>
            <a:rect l="0" t="0" r="r" b="b"/>
            <a:pathLst>
              <a:path fill="none" w="2440" h="7308">
                <a:moveTo>
                  <a:pt x="1606" y="0"/>
                </a:moveTo>
                <a:lnTo>
                  <a:pt x="1625" y="244"/>
                </a:lnTo>
                <a:lnTo>
                  <a:pt x="1606" y="330"/>
                </a:lnTo>
                <a:lnTo>
                  <a:pt x="1612" y="383"/>
                </a:lnTo>
                <a:lnTo>
                  <a:pt x="1619" y="443"/>
                </a:lnTo>
                <a:lnTo>
                  <a:pt x="1639" y="482"/>
                </a:lnTo>
                <a:lnTo>
                  <a:pt x="1652" y="509"/>
                </a:lnTo>
                <a:lnTo>
                  <a:pt x="1652" y="555"/>
                </a:lnTo>
                <a:lnTo>
                  <a:pt x="1652" y="562"/>
                </a:lnTo>
                <a:lnTo>
                  <a:pt x="1645" y="568"/>
                </a:lnTo>
                <a:lnTo>
                  <a:pt x="1639" y="595"/>
                </a:lnTo>
                <a:lnTo>
                  <a:pt x="1619" y="634"/>
                </a:lnTo>
                <a:lnTo>
                  <a:pt x="1592" y="641"/>
                </a:lnTo>
                <a:lnTo>
                  <a:pt x="1606" y="694"/>
                </a:lnTo>
                <a:lnTo>
                  <a:pt x="1606" y="727"/>
                </a:lnTo>
                <a:lnTo>
                  <a:pt x="1592" y="753"/>
                </a:lnTo>
                <a:lnTo>
                  <a:pt x="1573" y="826"/>
                </a:lnTo>
                <a:lnTo>
                  <a:pt x="1553" y="872"/>
                </a:lnTo>
                <a:lnTo>
                  <a:pt x="1539" y="952"/>
                </a:lnTo>
                <a:lnTo>
                  <a:pt x="1539" y="1018"/>
                </a:lnTo>
                <a:lnTo>
                  <a:pt x="1533" y="1110"/>
                </a:lnTo>
                <a:lnTo>
                  <a:pt x="1522" y="1166"/>
                </a:lnTo>
                <a:lnTo>
                  <a:pt x="1588" y="1227"/>
                </a:lnTo>
                <a:lnTo>
                  <a:pt x="1619" y="1298"/>
                </a:lnTo>
                <a:lnTo>
                  <a:pt x="1654" y="1364"/>
                </a:lnTo>
                <a:lnTo>
                  <a:pt x="1667" y="1430"/>
                </a:lnTo>
                <a:lnTo>
                  <a:pt x="1767" y="1507"/>
                </a:lnTo>
                <a:lnTo>
                  <a:pt x="1767" y="1578"/>
                </a:lnTo>
                <a:lnTo>
                  <a:pt x="1813" y="1692"/>
                </a:lnTo>
                <a:lnTo>
                  <a:pt x="1836" y="1763"/>
                </a:lnTo>
                <a:lnTo>
                  <a:pt x="1907" y="1878"/>
                </a:lnTo>
                <a:lnTo>
                  <a:pt x="1953" y="1949"/>
                </a:lnTo>
                <a:lnTo>
                  <a:pt x="1999" y="2042"/>
                </a:lnTo>
                <a:lnTo>
                  <a:pt x="2021" y="2112"/>
                </a:lnTo>
                <a:lnTo>
                  <a:pt x="2067" y="2205"/>
                </a:lnTo>
                <a:lnTo>
                  <a:pt x="2092" y="2297"/>
                </a:lnTo>
                <a:lnTo>
                  <a:pt x="2138" y="2390"/>
                </a:lnTo>
                <a:lnTo>
                  <a:pt x="2162" y="2482"/>
                </a:lnTo>
                <a:lnTo>
                  <a:pt x="2184" y="2553"/>
                </a:lnTo>
                <a:lnTo>
                  <a:pt x="2209" y="2646"/>
                </a:lnTo>
                <a:lnTo>
                  <a:pt x="2255" y="2784"/>
                </a:lnTo>
                <a:lnTo>
                  <a:pt x="2277" y="2901"/>
                </a:lnTo>
                <a:lnTo>
                  <a:pt x="2277" y="2994"/>
                </a:lnTo>
                <a:lnTo>
                  <a:pt x="2323" y="3086"/>
                </a:lnTo>
                <a:lnTo>
                  <a:pt x="2323" y="3201"/>
                </a:lnTo>
                <a:lnTo>
                  <a:pt x="2323" y="3272"/>
                </a:lnTo>
                <a:lnTo>
                  <a:pt x="2323" y="3364"/>
                </a:lnTo>
                <a:lnTo>
                  <a:pt x="2323" y="3457"/>
                </a:lnTo>
                <a:lnTo>
                  <a:pt x="2323" y="3527"/>
                </a:lnTo>
                <a:lnTo>
                  <a:pt x="2323" y="3688"/>
                </a:lnTo>
                <a:lnTo>
                  <a:pt x="2323" y="3759"/>
                </a:lnTo>
                <a:lnTo>
                  <a:pt x="2277" y="3829"/>
                </a:lnTo>
                <a:lnTo>
                  <a:pt x="2231" y="3944"/>
                </a:lnTo>
                <a:lnTo>
                  <a:pt x="2301" y="4153"/>
                </a:lnTo>
                <a:lnTo>
                  <a:pt x="2440" y="4292"/>
                </a:lnTo>
                <a:lnTo>
                  <a:pt x="2440" y="4409"/>
                </a:lnTo>
                <a:lnTo>
                  <a:pt x="2440" y="4455"/>
                </a:lnTo>
                <a:lnTo>
                  <a:pt x="2440" y="4455"/>
                </a:lnTo>
                <a:lnTo>
                  <a:pt x="2323" y="4548"/>
                </a:lnTo>
                <a:lnTo>
                  <a:pt x="2323" y="4640"/>
                </a:lnTo>
                <a:lnTo>
                  <a:pt x="2277" y="4733"/>
                </a:lnTo>
                <a:lnTo>
                  <a:pt x="2231" y="4825"/>
                </a:lnTo>
                <a:lnTo>
                  <a:pt x="2162" y="4872"/>
                </a:lnTo>
                <a:lnTo>
                  <a:pt x="2045" y="4964"/>
                </a:lnTo>
                <a:lnTo>
                  <a:pt x="1999" y="5081"/>
                </a:lnTo>
                <a:lnTo>
                  <a:pt x="1975" y="5152"/>
                </a:lnTo>
                <a:lnTo>
                  <a:pt x="1929" y="5429"/>
                </a:lnTo>
                <a:lnTo>
                  <a:pt x="1882" y="5569"/>
                </a:lnTo>
                <a:lnTo>
                  <a:pt x="1860" y="5640"/>
                </a:lnTo>
                <a:lnTo>
                  <a:pt x="1789" y="5871"/>
                </a:lnTo>
                <a:lnTo>
                  <a:pt x="1720" y="5988"/>
                </a:lnTo>
                <a:lnTo>
                  <a:pt x="1625" y="6081"/>
                </a:lnTo>
                <a:lnTo>
                  <a:pt x="1487" y="6220"/>
                </a:lnTo>
                <a:lnTo>
                  <a:pt x="1418" y="6334"/>
                </a:lnTo>
                <a:lnTo>
                  <a:pt x="1348" y="6380"/>
                </a:lnTo>
                <a:lnTo>
                  <a:pt x="1209" y="6475"/>
                </a:lnTo>
                <a:lnTo>
                  <a:pt x="1138" y="6522"/>
                </a:lnTo>
                <a:lnTo>
                  <a:pt x="1024" y="6568"/>
                </a:lnTo>
                <a:lnTo>
                  <a:pt x="931" y="6660"/>
                </a:lnTo>
                <a:lnTo>
                  <a:pt x="860" y="6682"/>
                </a:lnTo>
                <a:lnTo>
                  <a:pt x="792" y="6753"/>
                </a:lnTo>
                <a:lnTo>
                  <a:pt x="721" y="6775"/>
                </a:lnTo>
                <a:lnTo>
                  <a:pt x="651" y="6821"/>
                </a:lnTo>
                <a:lnTo>
                  <a:pt x="582" y="6892"/>
                </a:lnTo>
                <a:lnTo>
                  <a:pt x="489" y="7009"/>
                </a:lnTo>
                <a:lnTo>
                  <a:pt x="418" y="7055"/>
                </a:lnTo>
                <a:lnTo>
                  <a:pt x="326" y="7101"/>
                </a:lnTo>
                <a:lnTo>
                  <a:pt x="255" y="7148"/>
                </a:lnTo>
                <a:lnTo>
                  <a:pt x="141" y="7216"/>
                </a:lnTo>
                <a:lnTo>
                  <a:pt x="0" y="730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"/>
          <p:cNvSpPr/>
          <p:nvPr/>
        </p:nvSpPr>
        <p:spPr>
          <a:xfrm>
            <a:off x="3760920" y="1309680"/>
            <a:ext cx="725760" cy="1962360"/>
          </a:xfrm>
          <a:custGeom>
            <a:avLst/>
            <a:gdLst/>
            <a:ahLst/>
            <a:rect l="0" t="0" r="r" b="b"/>
            <a:pathLst>
              <a:path fill="none" w="2016" h="5451">
                <a:moveTo>
                  <a:pt x="1150" y="0"/>
                </a:moveTo>
                <a:lnTo>
                  <a:pt x="1183" y="46"/>
                </a:lnTo>
                <a:lnTo>
                  <a:pt x="1229" y="125"/>
                </a:lnTo>
                <a:lnTo>
                  <a:pt x="1249" y="231"/>
                </a:lnTo>
                <a:lnTo>
                  <a:pt x="1302" y="277"/>
                </a:lnTo>
                <a:lnTo>
                  <a:pt x="1362" y="392"/>
                </a:lnTo>
                <a:lnTo>
                  <a:pt x="1430" y="485"/>
                </a:lnTo>
                <a:lnTo>
                  <a:pt x="1476" y="577"/>
                </a:lnTo>
                <a:lnTo>
                  <a:pt x="1522" y="648"/>
                </a:lnTo>
                <a:lnTo>
                  <a:pt x="1569" y="740"/>
                </a:lnTo>
                <a:lnTo>
                  <a:pt x="1639" y="809"/>
                </a:lnTo>
                <a:lnTo>
                  <a:pt x="1661" y="879"/>
                </a:lnTo>
                <a:lnTo>
                  <a:pt x="1732" y="972"/>
                </a:lnTo>
                <a:lnTo>
                  <a:pt x="1756" y="1042"/>
                </a:lnTo>
                <a:lnTo>
                  <a:pt x="1802" y="1135"/>
                </a:lnTo>
                <a:lnTo>
                  <a:pt x="1848" y="1250"/>
                </a:lnTo>
                <a:lnTo>
                  <a:pt x="1870" y="1320"/>
                </a:lnTo>
                <a:lnTo>
                  <a:pt x="1917" y="1413"/>
                </a:lnTo>
                <a:lnTo>
                  <a:pt x="1917" y="1483"/>
                </a:lnTo>
                <a:lnTo>
                  <a:pt x="1941" y="1576"/>
                </a:lnTo>
                <a:lnTo>
                  <a:pt x="1941" y="1669"/>
                </a:lnTo>
                <a:lnTo>
                  <a:pt x="1941" y="1830"/>
                </a:lnTo>
                <a:lnTo>
                  <a:pt x="1941" y="1900"/>
                </a:lnTo>
                <a:lnTo>
                  <a:pt x="1941" y="1971"/>
                </a:lnTo>
                <a:lnTo>
                  <a:pt x="1941" y="2063"/>
                </a:lnTo>
                <a:lnTo>
                  <a:pt x="1963" y="2156"/>
                </a:lnTo>
                <a:lnTo>
                  <a:pt x="1943" y="2288"/>
                </a:lnTo>
                <a:lnTo>
                  <a:pt x="1950" y="2341"/>
                </a:lnTo>
                <a:lnTo>
                  <a:pt x="1956" y="2374"/>
                </a:lnTo>
                <a:lnTo>
                  <a:pt x="1969" y="2414"/>
                </a:lnTo>
                <a:lnTo>
                  <a:pt x="1983" y="2460"/>
                </a:lnTo>
                <a:lnTo>
                  <a:pt x="2003" y="2533"/>
                </a:lnTo>
                <a:lnTo>
                  <a:pt x="2009" y="2579"/>
                </a:lnTo>
                <a:lnTo>
                  <a:pt x="2016" y="2672"/>
                </a:lnTo>
                <a:lnTo>
                  <a:pt x="1989" y="2739"/>
                </a:lnTo>
                <a:lnTo>
                  <a:pt x="1943" y="2818"/>
                </a:lnTo>
                <a:lnTo>
                  <a:pt x="1884" y="2937"/>
                </a:lnTo>
                <a:lnTo>
                  <a:pt x="1837" y="3010"/>
                </a:lnTo>
                <a:lnTo>
                  <a:pt x="1798" y="3063"/>
                </a:lnTo>
                <a:lnTo>
                  <a:pt x="1725" y="3096"/>
                </a:lnTo>
                <a:lnTo>
                  <a:pt x="1666" y="3156"/>
                </a:lnTo>
                <a:lnTo>
                  <a:pt x="1619" y="3189"/>
                </a:lnTo>
                <a:lnTo>
                  <a:pt x="1573" y="3235"/>
                </a:lnTo>
                <a:lnTo>
                  <a:pt x="1520" y="3301"/>
                </a:lnTo>
                <a:lnTo>
                  <a:pt x="1500" y="3374"/>
                </a:lnTo>
                <a:lnTo>
                  <a:pt x="1487" y="3453"/>
                </a:lnTo>
                <a:lnTo>
                  <a:pt x="1454" y="3533"/>
                </a:lnTo>
                <a:lnTo>
                  <a:pt x="1414" y="3619"/>
                </a:lnTo>
                <a:lnTo>
                  <a:pt x="1375" y="3751"/>
                </a:lnTo>
                <a:lnTo>
                  <a:pt x="1348" y="3844"/>
                </a:lnTo>
                <a:lnTo>
                  <a:pt x="1282" y="3969"/>
                </a:lnTo>
                <a:lnTo>
                  <a:pt x="1216" y="4102"/>
                </a:lnTo>
                <a:lnTo>
                  <a:pt x="1157" y="4214"/>
                </a:lnTo>
                <a:lnTo>
                  <a:pt x="1124" y="4326"/>
                </a:lnTo>
                <a:lnTo>
                  <a:pt x="1097" y="4406"/>
                </a:lnTo>
                <a:lnTo>
                  <a:pt x="1011" y="4498"/>
                </a:lnTo>
                <a:lnTo>
                  <a:pt x="931" y="4604"/>
                </a:lnTo>
                <a:lnTo>
                  <a:pt x="759" y="4703"/>
                </a:lnTo>
                <a:lnTo>
                  <a:pt x="693" y="4796"/>
                </a:lnTo>
                <a:lnTo>
                  <a:pt x="588" y="4875"/>
                </a:lnTo>
                <a:lnTo>
                  <a:pt x="488" y="4955"/>
                </a:lnTo>
                <a:lnTo>
                  <a:pt x="370" y="5061"/>
                </a:lnTo>
                <a:lnTo>
                  <a:pt x="251" y="5114"/>
                </a:lnTo>
                <a:lnTo>
                  <a:pt x="185" y="5180"/>
                </a:lnTo>
                <a:lnTo>
                  <a:pt x="72" y="5312"/>
                </a:lnTo>
                <a:lnTo>
                  <a:pt x="0" y="545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"/>
          <p:cNvSpPr/>
          <p:nvPr/>
        </p:nvSpPr>
        <p:spPr>
          <a:xfrm>
            <a:off x="4033800" y="81000"/>
            <a:ext cx="1548000" cy="2224440"/>
          </a:xfrm>
          <a:custGeom>
            <a:avLst/>
            <a:gdLst/>
            <a:ahLst/>
            <a:rect l="0" t="0" r="r" b="b"/>
            <a:pathLst>
              <a:path fill="none" w="4300" h="6179">
                <a:moveTo>
                  <a:pt x="152" y="0"/>
                </a:moveTo>
                <a:lnTo>
                  <a:pt x="138" y="50"/>
                </a:lnTo>
                <a:lnTo>
                  <a:pt x="138" y="143"/>
                </a:lnTo>
                <a:lnTo>
                  <a:pt x="138" y="236"/>
                </a:lnTo>
                <a:lnTo>
                  <a:pt x="138" y="328"/>
                </a:lnTo>
                <a:lnTo>
                  <a:pt x="163" y="421"/>
                </a:lnTo>
                <a:lnTo>
                  <a:pt x="185" y="491"/>
                </a:lnTo>
                <a:lnTo>
                  <a:pt x="185" y="584"/>
                </a:lnTo>
                <a:lnTo>
                  <a:pt x="185" y="677"/>
                </a:lnTo>
                <a:lnTo>
                  <a:pt x="138" y="769"/>
                </a:lnTo>
                <a:lnTo>
                  <a:pt x="116" y="862"/>
                </a:lnTo>
                <a:lnTo>
                  <a:pt x="70" y="932"/>
                </a:lnTo>
                <a:lnTo>
                  <a:pt x="46" y="1025"/>
                </a:lnTo>
                <a:lnTo>
                  <a:pt x="46" y="1118"/>
                </a:lnTo>
                <a:lnTo>
                  <a:pt x="46" y="1210"/>
                </a:lnTo>
                <a:lnTo>
                  <a:pt x="22" y="1303"/>
                </a:lnTo>
                <a:lnTo>
                  <a:pt x="0" y="1374"/>
                </a:lnTo>
                <a:lnTo>
                  <a:pt x="0" y="1466"/>
                </a:lnTo>
                <a:lnTo>
                  <a:pt x="0" y="1559"/>
                </a:lnTo>
                <a:lnTo>
                  <a:pt x="46" y="1652"/>
                </a:lnTo>
                <a:lnTo>
                  <a:pt x="70" y="1744"/>
                </a:lnTo>
                <a:lnTo>
                  <a:pt x="92" y="1815"/>
                </a:lnTo>
                <a:lnTo>
                  <a:pt x="116" y="1907"/>
                </a:lnTo>
                <a:lnTo>
                  <a:pt x="116" y="2000"/>
                </a:lnTo>
                <a:lnTo>
                  <a:pt x="116" y="2093"/>
                </a:lnTo>
                <a:lnTo>
                  <a:pt x="138" y="2185"/>
                </a:lnTo>
                <a:lnTo>
                  <a:pt x="163" y="2256"/>
                </a:lnTo>
                <a:lnTo>
                  <a:pt x="163" y="2349"/>
                </a:lnTo>
                <a:lnTo>
                  <a:pt x="185" y="2487"/>
                </a:lnTo>
                <a:lnTo>
                  <a:pt x="231" y="2580"/>
                </a:lnTo>
                <a:lnTo>
                  <a:pt x="255" y="2673"/>
                </a:lnTo>
                <a:lnTo>
                  <a:pt x="255" y="2743"/>
                </a:lnTo>
                <a:lnTo>
                  <a:pt x="255" y="2858"/>
                </a:lnTo>
                <a:lnTo>
                  <a:pt x="255" y="2929"/>
                </a:lnTo>
                <a:lnTo>
                  <a:pt x="277" y="3021"/>
                </a:lnTo>
                <a:lnTo>
                  <a:pt x="301" y="3115"/>
                </a:lnTo>
                <a:lnTo>
                  <a:pt x="323" y="3185"/>
                </a:lnTo>
                <a:lnTo>
                  <a:pt x="323" y="3278"/>
                </a:lnTo>
                <a:lnTo>
                  <a:pt x="398" y="3432"/>
                </a:lnTo>
                <a:lnTo>
                  <a:pt x="462" y="3463"/>
                </a:lnTo>
                <a:lnTo>
                  <a:pt x="511" y="3556"/>
                </a:lnTo>
                <a:lnTo>
                  <a:pt x="557" y="3627"/>
                </a:lnTo>
                <a:lnTo>
                  <a:pt x="650" y="3695"/>
                </a:lnTo>
                <a:lnTo>
                  <a:pt x="696" y="3766"/>
                </a:lnTo>
                <a:lnTo>
                  <a:pt x="764" y="3858"/>
                </a:lnTo>
                <a:lnTo>
                  <a:pt x="835" y="3927"/>
                </a:lnTo>
                <a:lnTo>
                  <a:pt x="857" y="3997"/>
                </a:lnTo>
                <a:lnTo>
                  <a:pt x="903" y="4068"/>
                </a:lnTo>
                <a:lnTo>
                  <a:pt x="952" y="4160"/>
                </a:lnTo>
                <a:lnTo>
                  <a:pt x="1020" y="4253"/>
                </a:lnTo>
                <a:lnTo>
                  <a:pt x="1066" y="4346"/>
                </a:lnTo>
                <a:lnTo>
                  <a:pt x="1137" y="4438"/>
                </a:lnTo>
                <a:lnTo>
                  <a:pt x="1159" y="4509"/>
                </a:lnTo>
                <a:lnTo>
                  <a:pt x="1229" y="4577"/>
                </a:lnTo>
                <a:lnTo>
                  <a:pt x="1251" y="4648"/>
                </a:lnTo>
                <a:lnTo>
                  <a:pt x="1275" y="4740"/>
                </a:lnTo>
                <a:lnTo>
                  <a:pt x="1297" y="4833"/>
                </a:lnTo>
                <a:lnTo>
                  <a:pt x="1322" y="4904"/>
                </a:lnTo>
                <a:lnTo>
                  <a:pt x="1344" y="5018"/>
                </a:lnTo>
                <a:lnTo>
                  <a:pt x="1368" y="5089"/>
                </a:lnTo>
                <a:lnTo>
                  <a:pt x="1414" y="5182"/>
                </a:lnTo>
                <a:lnTo>
                  <a:pt x="1439" y="5296"/>
                </a:lnTo>
                <a:lnTo>
                  <a:pt x="1461" y="5367"/>
                </a:lnTo>
                <a:lnTo>
                  <a:pt x="1461" y="5437"/>
                </a:lnTo>
                <a:lnTo>
                  <a:pt x="1485" y="5530"/>
                </a:lnTo>
                <a:lnTo>
                  <a:pt x="1531" y="5623"/>
                </a:lnTo>
                <a:lnTo>
                  <a:pt x="1577" y="5715"/>
                </a:lnTo>
                <a:lnTo>
                  <a:pt x="1624" y="5786"/>
                </a:lnTo>
                <a:lnTo>
                  <a:pt x="1692" y="5879"/>
                </a:lnTo>
                <a:lnTo>
                  <a:pt x="1762" y="5971"/>
                </a:lnTo>
                <a:lnTo>
                  <a:pt x="1833" y="5993"/>
                </a:lnTo>
                <a:lnTo>
                  <a:pt x="1926" y="6018"/>
                </a:lnTo>
                <a:lnTo>
                  <a:pt x="2018" y="6086"/>
                </a:lnTo>
                <a:lnTo>
                  <a:pt x="2064" y="6156"/>
                </a:lnTo>
                <a:lnTo>
                  <a:pt x="2158" y="6179"/>
                </a:lnTo>
                <a:lnTo>
                  <a:pt x="2251" y="6179"/>
                </a:lnTo>
                <a:lnTo>
                  <a:pt x="2321" y="6156"/>
                </a:lnTo>
                <a:lnTo>
                  <a:pt x="2414" y="6132"/>
                </a:lnTo>
                <a:lnTo>
                  <a:pt x="2506" y="6110"/>
                </a:lnTo>
                <a:lnTo>
                  <a:pt x="2599" y="6040"/>
                </a:lnTo>
                <a:lnTo>
                  <a:pt x="2667" y="5947"/>
                </a:lnTo>
                <a:lnTo>
                  <a:pt x="2738" y="5879"/>
                </a:lnTo>
                <a:lnTo>
                  <a:pt x="2808" y="5808"/>
                </a:lnTo>
                <a:lnTo>
                  <a:pt x="2876" y="5737"/>
                </a:lnTo>
                <a:lnTo>
                  <a:pt x="2947" y="5691"/>
                </a:lnTo>
                <a:lnTo>
                  <a:pt x="3061" y="5620"/>
                </a:lnTo>
                <a:lnTo>
                  <a:pt x="3123" y="5568"/>
                </a:lnTo>
                <a:lnTo>
                  <a:pt x="3185" y="5515"/>
                </a:lnTo>
                <a:lnTo>
                  <a:pt x="3273" y="5471"/>
                </a:lnTo>
                <a:lnTo>
                  <a:pt x="3370" y="5418"/>
                </a:lnTo>
                <a:lnTo>
                  <a:pt x="3456" y="5391"/>
                </a:lnTo>
                <a:lnTo>
                  <a:pt x="3526" y="5391"/>
                </a:lnTo>
                <a:lnTo>
                  <a:pt x="3597" y="5367"/>
                </a:lnTo>
                <a:lnTo>
                  <a:pt x="3712" y="5296"/>
                </a:lnTo>
                <a:lnTo>
                  <a:pt x="3782" y="5228"/>
                </a:lnTo>
                <a:lnTo>
                  <a:pt x="3850" y="5157"/>
                </a:lnTo>
                <a:lnTo>
                  <a:pt x="3921" y="5065"/>
                </a:lnTo>
                <a:lnTo>
                  <a:pt x="3989" y="4972"/>
                </a:lnTo>
                <a:lnTo>
                  <a:pt x="4060" y="4904"/>
                </a:lnTo>
                <a:lnTo>
                  <a:pt x="4130" y="4855"/>
                </a:lnTo>
                <a:lnTo>
                  <a:pt x="4223" y="4809"/>
                </a:lnTo>
                <a:lnTo>
                  <a:pt x="4300" y="479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"/>
          <p:cNvSpPr/>
          <p:nvPr/>
        </p:nvSpPr>
        <p:spPr>
          <a:xfrm>
            <a:off x="4853160" y="88920"/>
            <a:ext cx="729000" cy="744840"/>
          </a:xfrm>
          <a:custGeom>
            <a:avLst/>
            <a:gdLst/>
            <a:ahLst/>
            <a:rect l="0" t="0" r="r" b="b"/>
            <a:pathLst>
              <a:path fill="none" w="2025" h="2069">
                <a:moveTo>
                  <a:pt x="0" y="0"/>
                </a:moveTo>
                <a:lnTo>
                  <a:pt x="48" y="48"/>
                </a:lnTo>
                <a:lnTo>
                  <a:pt x="97" y="137"/>
                </a:lnTo>
                <a:lnTo>
                  <a:pt x="145" y="226"/>
                </a:lnTo>
                <a:lnTo>
                  <a:pt x="145" y="315"/>
                </a:lnTo>
                <a:lnTo>
                  <a:pt x="168" y="404"/>
                </a:lnTo>
                <a:lnTo>
                  <a:pt x="217" y="472"/>
                </a:lnTo>
                <a:lnTo>
                  <a:pt x="291" y="516"/>
                </a:lnTo>
                <a:lnTo>
                  <a:pt x="388" y="560"/>
                </a:lnTo>
                <a:lnTo>
                  <a:pt x="462" y="626"/>
                </a:lnTo>
                <a:lnTo>
                  <a:pt x="510" y="694"/>
                </a:lnTo>
                <a:lnTo>
                  <a:pt x="607" y="759"/>
                </a:lnTo>
                <a:lnTo>
                  <a:pt x="704" y="783"/>
                </a:lnTo>
                <a:lnTo>
                  <a:pt x="801" y="848"/>
                </a:lnTo>
                <a:lnTo>
                  <a:pt x="875" y="895"/>
                </a:lnTo>
                <a:lnTo>
                  <a:pt x="972" y="961"/>
                </a:lnTo>
                <a:lnTo>
                  <a:pt x="1093" y="1050"/>
                </a:lnTo>
                <a:lnTo>
                  <a:pt x="1167" y="1095"/>
                </a:lnTo>
                <a:lnTo>
                  <a:pt x="1216" y="1163"/>
                </a:lnTo>
                <a:lnTo>
                  <a:pt x="1313" y="1252"/>
                </a:lnTo>
                <a:lnTo>
                  <a:pt x="1320" y="1429"/>
                </a:lnTo>
                <a:lnTo>
                  <a:pt x="1491" y="1601"/>
                </a:lnTo>
                <a:lnTo>
                  <a:pt x="1703" y="1664"/>
                </a:lnTo>
                <a:lnTo>
                  <a:pt x="1874" y="1770"/>
                </a:lnTo>
                <a:lnTo>
                  <a:pt x="2025" y="20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"/>
          <p:cNvSpPr/>
          <p:nvPr/>
        </p:nvSpPr>
        <p:spPr>
          <a:xfrm>
            <a:off x="4106880" y="82440"/>
            <a:ext cx="1476720" cy="1679760"/>
          </a:xfrm>
          <a:custGeom>
            <a:avLst/>
            <a:gdLst/>
            <a:ahLst/>
            <a:rect l="0" t="0" r="r" b="b"/>
            <a:pathLst>
              <a:path fill="none" w="4102" h="4666">
                <a:moveTo>
                  <a:pt x="0" y="0"/>
                </a:moveTo>
                <a:lnTo>
                  <a:pt x="22" y="243"/>
                </a:lnTo>
                <a:lnTo>
                  <a:pt x="61" y="309"/>
                </a:lnTo>
                <a:lnTo>
                  <a:pt x="97" y="396"/>
                </a:lnTo>
                <a:lnTo>
                  <a:pt x="143" y="492"/>
                </a:lnTo>
                <a:lnTo>
                  <a:pt x="189" y="588"/>
                </a:lnTo>
                <a:lnTo>
                  <a:pt x="235" y="683"/>
                </a:lnTo>
                <a:lnTo>
                  <a:pt x="235" y="779"/>
                </a:lnTo>
                <a:lnTo>
                  <a:pt x="257" y="852"/>
                </a:lnTo>
                <a:lnTo>
                  <a:pt x="306" y="948"/>
                </a:lnTo>
                <a:lnTo>
                  <a:pt x="374" y="1043"/>
                </a:lnTo>
                <a:lnTo>
                  <a:pt x="421" y="1139"/>
                </a:lnTo>
                <a:lnTo>
                  <a:pt x="513" y="1235"/>
                </a:lnTo>
                <a:lnTo>
                  <a:pt x="537" y="1308"/>
                </a:lnTo>
                <a:lnTo>
                  <a:pt x="606" y="1403"/>
                </a:lnTo>
                <a:lnTo>
                  <a:pt x="652" y="1499"/>
                </a:lnTo>
                <a:lnTo>
                  <a:pt x="698" y="1595"/>
                </a:lnTo>
                <a:lnTo>
                  <a:pt x="723" y="1691"/>
                </a:lnTo>
                <a:lnTo>
                  <a:pt x="793" y="1739"/>
                </a:lnTo>
                <a:lnTo>
                  <a:pt x="886" y="1811"/>
                </a:lnTo>
                <a:lnTo>
                  <a:pt x="978" y="1882"/>
                </a:lnTo>
                <a:lnTo>
                  <a:pt x="1047" y="1955"/>
                </a:lnTo>
                <a:lnTo>
                  <a:pt x="1117" y="2051"/>
                </a:lnTo>
                <a:lnTo>
                  <a:pt x="1210" y="2146"/>
                </a:lnTo>
                <a:lnTo>
                  <a:pt x="1281" y="2242"/>
                </a:lnTo>
                <a:lnTo>
                  <a:pt x="1349" y="2364"/>
                </a:lnTo>
                <a:lnTo>
                  <a:pt x="1441" y="2483"/>
                </a:lnTo>
                <a:lnTo>
                  <a:pt x="1466" y="2555"/>
                </a:lnTo>
                <a:lnTo>
                  <a:pt x="1534" y="2651"/>
                </a:lnTo>
                <a:lnTo>
                  <a:pt x="1580" y="2724"/>
                </a:lnTo>
                <a:lnTo>
                  <a:pt x="1629" y="2843"/>
                </a:lnTo>
                <a:lnTo>
                  <a:pt x="1721" y="2938"/>
                </a:lnTo>
                <a:lnTo>
                  <a:pt x="1860" y="2963"/>
                </a:lnTo>
                <a:lnTo>
                  <a:pt x="1953" y="3011"/>
                </a:lnTo>
                <a:lnTo>
                  <a:pt x="2046" y="3084"/>
                </a:lnTo>
                <a:lnTo>
                  <a:pt x="2117" y="3132"/>
                </a:lnTo>
                <a:lnTo>
                  <a:pt x="2210" y="3203"/>
                </a:lnTo>
                <a:lnTo>
                  <a:pt x="2278" y="3276"/>
                </a:lnTo>
                <a:lnTo>
                  <a:pt x="2349" y="3371"/>
                </a:lnTo>
                <a:lnTo>
                  <a:pt x="2441" y="3515"/>
                </a:lnTo>
                <a:lnTo>
                  <a:pt x="2488" y="3588"/>
                </a:lnTo>
                <a:lnTo>
                  <a:pt x="2558" y="3684"/>
                </a:lnTo>
                <a:lnTo>
                  <a:pt x="2626" y="3779"/>
                </a:lnTo>
                <a:lnTo>
                  <a:pt x="2697" y="3875"/>
                </a:lnTo>
                <a:lnTo>
                  <a:pt x="2790" y="3996"/>
                </a:lnTo>
                <a:lnTo>
                  <a:pt x="2882" y="4044"/>
                </a:lnTo>
                <a:lnTo>
                  <a:pt x="2953" y="4114"/>
                </a:lnTo>
                <a:lnTo>
                  <a:pt x="3067" y="4210"/>
                </a:lnTo>
                <a:lnTo>
                  <a:pt x="3138" y="4283"/>
                </a:lnTo>
                <a:lnTo>
                  <a:pt x="3206" y="4379"/>
                </a:lnTo>
                <a:lnTo>
                  <a:pt x="3253" y="4452"/>
                </a:lnTo>
                <a:lnTo>
                  <a:pt x="3323" y="4547"/>
                </a:lnTo>
                <a:lnTo>
                  <a:pt x="3394" y="4595"/>
                </a:lnTo>
                <a:lnTo>
                  <a:pt x="3486" y="4643"/>
                </a:lnTo>
                <a:lnTo>
                  <a:pt x="3579" y="4643"/>
                </a:lnTo>
                <a:lnTo>
                  <a:pt x="3672" y="4666"/>
                </a:lnTo>
                <a:lnTo>
                  <a:pt x="3802" y="4645"/>
                </a:lnTo>
                <a:lnTo>
                  <a:pt x="3872" y="4655"/>
                </a:lnTo>
                <a:lnTo>
                  <a:pt x="3934" y="4627"/>
                </a:lnTo>
                <a:lnTo>
                  <a:pt x="4013" y="4609"/>
                </a:lnTo>
                <a:lnTo>
                  <a:pt x="4102" y="460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"/>
          <p:cNvSpPr/>
          <p:nvPr/>
        </p:nvSpPr>
        <p:spPr>
          <a:xfrm>
            <a:off x="4075200" y="326880"/>
            <a:ext cx="1508400" cy="1661040"/>
          </a:xfrm>
          <a:custGeom>
            <a:avLst/>
            <a:gdLst/>
            <a:ahLst/>
            <a:rect l="0" t="0" r="r" b="b"/>
            <a:pathLst>
              <a:path fill="none" w="4190" h="4614">
                <a:moveTo>
                  <a:pt x="63" y="0"/>
                </a:moveTo>
                <a:lnTo>
                  <a:pt x="0" y="335"/>
                </a:lnTo>
                <a:lnTo>
                  <a:pt x="11" y="474"/>
                </a:lnTo>
                <a:lnTo>
                  <a:pt x="44" y="714"/>
                </a:lnTo>
                <a:lnTo>
                  <a:pt x="176" y="1095"/>
                </a:lnTo>
                <a:lnTo>
                  <a:pt x="321" y="1387"/>
                </a:lnTo>
                <a:lnTo>
                  <a:pt x="394" y="1504"/>
                </a:lnTo>
                <a:lnTo>
                  <a:pt x="416" y="1575"/>
                </a:lnTo>
                <a:lnTo>
                  <a:pt x="463" y="1667"/>
                </a:lnTo>
                <a:lnTo>
                  <a:pt x="509" y="1760"/>
                </a:lnTo>
                <a:lnTo>
                  <a:pt x="555" y="1853"/>
                </a:lnTo>
                <a:lnTo>
                  <a:pt x="555" y="1945"/>
                </a:lnTo>
                <a:lnTo>
                  <a:pt x="555" y="2016"/>
                </a:lnTo>
                <a:lnTo>
                  <a:pt x="579" y="2108"/>
                </a:lnTo>
                <a:lnTo>
                  <a:pt x="601" y="2201"/>
                </a:lnTo>
                <a:lnTo>
                  <a:pt x="601" y="2294"/>
                </a:lnTo>
                <a:lnTo>
                  <a:pt x="648" y="2386"/>
                </a:lnTo>
                <a:lnTo>
                  <a:pt x="672" y="2525"/>
                </a:lnTo>
                <a:lnTo>
                  <a:pt x="694" y="2596"/>
                </a:lnTo>
                <a:lnTo>
                  <a:pt x="694" y="2710"/>
                </a:lnTo>
                <a:lnTo>
                  <a:pt x="787" y="2781"/>
                </a:lnTo>
                <a:lnTo>
                  <a:pt x="857" y="2827"/>
                </a:lnTo>
                <a:lnTo>
                  <a:pt x="928" y="2873"/>
                </a:lnTo>
                <a:lnTo>
                  <a:pt x="974" y="2944"/>
                </a:lnTo>
                <a:lnTo>
                  <a:pt x="1089" y="3059"/>
                </a:lnTo>
                <a:lnTo>
                  <a:pt x="1159" y="3129"/>
                </a:lnTo>
                <a:lnTo>
                  <a:pt x="1252" y="3268"/>
                </a:lnTo>
                <a:lnTo>
                  <a:pt x="1322" y="3361"/>
                </a:lnTo>
                <a:lnTo>
                  <a:pt x="1369" y="3431"/>
                </a:lnTo>
                <a:lnTo>
                  <a:pt x="1437" y="3547"/>
                </a:lnTo>
                <a:lnTo>
                  <a:pt x="1461" y="3617"/>
                </a:lnTo>
                <a:lnTo>
                  <a:pt x="1530" y="3710"/>
                </a:lnTo>
                <a:lnTo>
                  <a:pt x="1554" y="3781"/>
                </a:lnTo>
                <a:lnTo>
                  <a:pt x="1600" y="3873"/>
                </a:lnTo>
                <a:lnTo>
                  <a:pt x="1622" y="3966"/>
                </a:lnTo>
                <a:lnTo>
                  <a:pt x="1669" y="4058"/>
                </a:lnTo>
                <a:lnTo>
                  <a:pt x="1693" y="4151"/>
                </a:lnTo>
                <a:lnTo>
                  <a:pt x="1717" y="4222"/>
                </a:lnTo>
                <a:lnTo>
                  <a:pt x="1785" y="4336"/>
                </a:lnTo>
                <a:lnTo>
                  <a:pt x="1832" y="4407"/>
                </a:lnTo>
                <a:lnTo>
                  <a:pt x="1902" y="4475"/>
                </a:lnTo>
                <a:lnTo>
                  <a:pt x="1995" y="4568"/>
                </a:lnTo>
                <a:lnTo>
                  <a:pt x="2088" y="4614"/>
                </a:lnTo>
                <a:lnTo>
                  <a:pt x="2181" y="4614"/>
                </a:lnTo>
                <a:lnTo>
                  <a:pt x="2252" y="4614"/>
                </a:lnTo>
                <a:lnTo>
                  <a:pt x="2366" y="4592"/>
                </a:lnTo>
                <a:lnTo>
                  <a:pt x="2437" y="4568"/>
                </a:lnTo>
                <a:lnTo>
                  <a:pt x="2529" y="4521"/>
                </a:lnTo>
                <a:lnTo>
                  <a:pt x="2600" y="4499"/>
                </a:lnTo>
                <a:lnTo>
                  <a:pt x="2693" y="4475"/>
                </a:lnTo>
                <a:lnTo>
                  <a:pt x="2785" y="4453"/>
                </a:lnTo>
                <a:lnTo>
                  <a:pt x="2900" y="4429"/>
                </a:lnTo>
                <a:lnTo>
                  <a:pt x="2970" y="4407"/>
                </a:lnTo>
                <a:lnTo>
                  <a:pt x="3041" y="4383"/>
                </a:lnTo>
                <a:lnTo>
                  <a:pt x="3134" y="4336"/>
                </a:lnTo>
                <a:lnTo>
                  <a:pt x="3248" y="4336"/>
                </a:lnTo>
                <a:lnTo>
                  <a:pt x="3319" y="4336"/>
                </a:lnTo>
                <a:lnTo>
                  <a:pt x="3411" y="4314"/>
                </a:lnTo>
                <a:lnTo>
                  <a:pt x="3482" y="4290"/>
                </a:lnTo>
                <a:lnTo>
                  <a:pt x="3575" y="4268"/>
                </a:lnTo>
                <a:lnTo>
                  <a:pt x="3667" y="4222"/>
                </a:lnTo>
                <a:lnTo>
                  <a:pt x="3722" y="4180"/>
                </a:lnTo>
                <a:lnTo>
                  <a:pt x="3828" y="4109"/>
                </a:lnTo>
                <a:lnTo>
                  <a:pt x="3908" y="4065"/>
                </a:lnTo>
                <a:lnTo>
                  <a:pt x="4040" y="4012"/>
                </a:lnTo>
                <a:lnTo>
                  <a:pt x="4190" y="399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"/>
          <p:cNvSpPr/>
          <p:nvPr/>
        </p:nvSpPr>
        <p:spPr>
          <a:xfrm>
            <a:off x="4037040" y="647640"/>
            <a:ext cx="1545120" cy="1576800"/>
          </a:xfrm>
          <a:custGeom>
            <a:avLst/>
            <a:gdLst/>
            <a:ahLst/>
            <a:rect l="0" t="0" r="r" b="b"/>
            <a:pathLst>
              <a:path fill="none" w="4292" h="4380">
                <a:moveTo>
                  <a:pt x="0" y="0"/>
                </a:moveTo>
                <a:lnTo>
                  <a:pt x="99" y="112"/>
                </a:lnTo>
                <a:lnTo>
                  <a:pt x="165" y="224"/>
                </a:lnTo>
                <a:lnTo>
                  <a:pt x="211" y="363"/>
                </a:lnTo>
                <a:lnTo>
                  <a:pt x="238" y="542"/>
                </a:lnTo>
                <a:lnTo>
                  <a:pt x="257" y="707"/>
                </a:lnTo>
                <a:lnTo>
                  <a:pt x="323" y="872"/>
                </a:lnTo>
                <a:lnTo>
                  <a:pt x="350" y="1018"/>
                </a:lnTo>
                <a:lnTo>
                  <a:pt x="456" y="1131"/>
                </a:lnTo>
                <a:lnTo>
                  <a:pt x="456" y="1224"/>
                </a:lnTo>
                <a:lnTo>
                  <a:pt x="456" y="1290"/>
                </a:lnTo>
                <a:lnTo>
                  <a:pt x="442" y="1382"/>
                </a:lnTo>
                <a:lnTo>
                  <a:pt x="469" y="1435"/>
                </a:lnTo>
                <a:lnTo>
                  <a:pt x="495" y="1528"/>
                </a:lnTo>
                <a:lnTo>
                  <a:pt x="509" y="1581"/>
                </a:lnTo>
                <a:lnTo>
                  <a:pt x="561" y="1726"/>
                </a:lnTo>
                <a:lnTo>
                  <a:pt x="561" y="1779"/>
                </a:lnTo>
                <a:lnTo>
                  <a:pt x="614" y="1832"/>
                </a:lnTo>
                <a:lnTo>
                  <a:pt x="667" y="1885"/>
                </a:lnTo>
                <a:lnTo>
                  <a:pt x="747" y="1938"/>
                </a:lnTo>
                <a:lnTo>
                  <a:pt x="826" y="2043"/>
                </a:lnTo>
                <a:lnTo>
                  <a:pt x="918" y="2189"/>
                </a:lnTo>
                <a:lnTo>
                  <a:pt x="985" y="2242"/>
                </a:lnTo>
                <a:lnTo>
                  <a:pt x="1051" y="2347"/>
                </a:lnTo>
                <a:lnTo>
                  <a:pt x="1105" y="2440"/>
                </a:lnTo>
                <a:lnTo>
                  <a:pt x="1131" y="2559"/>
                </a:lnTo>
                <a:lnTo>
                  <a:pt x="1197" y="2691"/>
                </a:lnTo>
                <a:lnTo>
                  <a:pt x="1224" y="2744"/>
                </a:lnTo>
                <a:lnTo>
                  <a:pt x="1276" y="2810"/>
                </a:lnTo>
                <a:lnTo>
                  <a:pt x="1246" y="2872"/>
                </a:lnTo>
                <a:lnTo>
                  <a:pt x="1263" y="2898"/>
                </a:lnTo>
                <a:lnTo>
                  <a:pt x="1281" y="2934"/>
                </a:lnTo>
                <a:lnTo>
                  <a:pt x="1298" y="2960"/>
                </a:lnTo>
                <a:lnTo>
                  <a:pt x="1307" y="2987"/>
                </a:lnTo>
                <a:lnTo>
                  <a:pt x="1325" y="3022"/>
                </a:lnTo>
                <a:lnTo>
                  <a:pt x="1343" y="3048"/>
                </a:lnTo>
                <a:lnTo>
                  <a:pt x="1360" y="3084"/>
                </a:lnTo>
                <a:lnTo>
                  <a:pt x="1360" y="3110"/>
                </a:lnTo>
                <a:lnTo>
                  <a:pt x="1378" y="3136"/>
                </a:lnTo>
                <a:lnTo>
                  <a:pt x="1387" y="3172"/>
                </a:lnTo>
                <a:lnTo>
                  <a:pt x="1404" y="3198"/>
                </a:lnTo>
                <a:lnTo>
                  <a:pt x="1413" y="3225"/>
                </a:lnTo>
                <a:lnTo>
                  <a:pt x="1431" y="3260"/>
                </a:lnTo>
                <a:lnTo>
                  <a:pt x="1440" y="3287"/>
                </a:lnTo>
                <a:lnTo>
                  <a:pt x="1448" y="3314"/>
                </a:lnTo>
                <a:lnTo>
                  <a:pt x="1457" y="3340"/>
                </a:lnTo>
                <a:lnTo>
                  <a:pt x="1466" y="3367"/>
                </a:lnTo>
                <a:lnTo>
                  <a:pt x="1484" y="3393"/>
                </a:lnTo>
                <a:lnTo>
                  <a:pt x="1484" y="3420"/>
                </a:lnTo>
                <a:lnTo>
                  <a:pt x="1492" y="3446"/>
                </a:lnTo>
                <a:lnTo>
                  <a:pt x="1510" y="3481"/>
                </a:lnTo>
                <a:lnTo>
                  <a:pt x="1519" y="3508"/>
                </a:lnTo>
                <a:lnTo>
                  <a:pt x="1519" y="3534"/>
                </a:lnTo>
                <a:lnTo>
                  <a:pt x="1536" y="3561"/>
                </a:lnTo>
                <a:lnTo>
                  <a:pt x="1554" y="3587"/>
                </a:lnTo>
                <a:lnTo>
                  <a:pt x="1572" y="3631"/>
                </a:lnTo>
                <a:lnTo>
                  <a:pt x="1581" y="3658"/>
                </a:lnTo>
                <a:lnTo>
                  <a:pt x="1598" y="3702"/>
                </a:lnTo>
                <a:lnTo>
                  <a:pt x="1616" y="3728"/>
                </a:lnTo>
                <a:lnTo>
                  <a:pt x="1633" y="3763"/>
                </a:lnTo>
                <a:lnTo>
                  <a:pt x="1642" y="3790"/>
                </a:lnTo>
                <a:lnTo>
                  <a:pt x="1660" y="3816"/>
                </a:lnTo>
                <a:lnTo>
                  <a:pt x="1669" y="3843"/>
                </a:lnTo>
                <a:lnTo>
                  <a:pt x="1678" y="3869"/>
                </a:lnTo>
                <a:lnTo>
                  <a:pt x="1695" y="3904"/>
                </a:lnTo>
                <a:lnTo>
                  <a:pt x="1722" y="3931"/>
                </a:lnTo>
                <a:lnTo>
                  <a:pt x="1739" y="3966"/>
                </a:lnTo>
                <a:lnTo>
                  <a:pt x="1757" y="3992"/>
                </a:lnTo>
                <a:lnTo>
                  <a:pt x="1775" y="4019"/>
                </a:lnTo>
                <a:lnTo>
                  <a:pt x="1792" y="4045"/>
                </a:lnTo>
                <a:lnTo>
                  <a:pt x="1810" y="4081"/>
                </a:lnTo>
                <a:lnTo>
                  <a:pt x="1827" y="4107"/>
                </a:lnTo>
                <a:lnTo>
                  <a:pt x="1845" y="4134"/>
                </a:lnTo>
                <a:lnTo>
                  <a:pt x="1871" y="4160"/>
                </a:lnTo>
                <a:lnTo>
                  <a:pt x="1889" y="4186"/>
                </a:lnTo>
                <a:lnTo>
                  <a:pt x="1916" y="4213"/>
                </a:lnTo>
                <a:lnTo>
                  <a:pt x="1942" y="4239"/>
                </a:lnTo>
                <a:lnTo>
                  <a:pt x="1968" y="4257"/>
                </a:lnTo>
                <a:lnTo>
                  <a:pt x="1986" y="4283"/>
                </a:lnTo>
                <a:lnTo>
                  <a:pt x="2013" y="4301"/>
                </a:lnTo>
                <a:lnTo>
                  <a:pt x="2039" y="4310"/>
                </a:lnTo>
                <a:lnTo>
                  <a:pt x="2065" y="4327"/>
                </a:lnTo>
                <a:lnTo>
                  <a:pt x="2092" y="4327"/>
                </a:lnTo>
                <a:lnTo>
                  <a:pt x="2118" y="4345"/>
                </a:lnTo>
                <a:lnTo>
                  <a:pt x="2224" y="4372"/>
                </a:lnTo>
                <a:lnTo>
                  <a:pt x="2251" y="4372"/>
                </a:lnTo>
                <a:lnTo>
                  <a:pt x="2277" y="4380"/>
                </a:lnTo>
                <a:lnTo>
                  <a:pt x="2303" y="4380"/>
                </a:lnTo>
                <a:lnTo>
                  <a:pt x="2330" y="4380"/>
                </a:lnTo>
                <a:lnTo>
                  <a:pt x="2365" y="4380"/>
                </a:lnTo>
                <a:lnTo>
                  <a:pt x="2409" y="4380"/>
                </a:lnTo>
                <a:lnTo>
                  <a:pt x="2453" y="4380"/>
                </a:lnTo>
                <a:lnTo>
                  <a:pt x="2480" y="4363"/>
                </a:lnTo>
                <a:lnTo>
                  <a:pt x="2506" y="4345"/>
                </a:lnTo>
                <a:lnTo>
                  <a:pt x="2533" y="4327"/>
                </a:lnTo>
                <a:lnTo>
                  <a:pt x="2585" y="4292"/>
                </a:lnTo>
                <a:lnTo>
                  <a:pt x="2612" y="4275"/>
                </a:lnTo>
                <a:lnTo>
                  <a:pt x="2638" y="4248"/>
                </a:lnTo>
                <a:lnTo>
                  <a:pt x="2665" y="4230"/>
                </a:lnTo>
                <a:lnTo>
                  <a:pt x="2691" y="4213"/>
                </a:lnTo>
                <a:lnTo>
                  <a:pt x="2718" y="4195"/>
                </a:lnTo>
                <a:lnTo>
                  <a:pt x="2744" y="4178"/>
                </a:lnTo>
                <a:lnTo>
                  <a:pt x="2771" y="4151"/>
                </a:lnTo>
                <a:lnTo>
                  <a:pt x="2815" y="4116"/>
                </a:lnTo>
                <a:lnTo>
                  <a:pt x="2850" y="4107"/>
                </a:lnTo>
                <a:lnTo>
                  <a:pt x="2903" y="4072"/>
                </a:lnTo>
                <a:lnTo>
                  <a:pt x="2920" y="4045"/>
                </a:lnTo>
                <a:lnTo>
                  <a:pt x="2938" y="4019"/>
                </a:lnTo>
                <a:lnTo>
                  <a:pt x="2965" y="4001"/>
                </a:lnTo>
                <a:lnTo>
                  <a:pt x="2991" y="3966"/>
                </a:lnTo>
                <a:lnTo>
                  <a:pt x="3017" y="3940"/>
                </a:lnTo>
                <a:lnTo>
                  <a:pt x="3044" y="3922"/>
                </a:lnTo>
                <a:lnTo>
                  <a:pt x="3070" y="3904"/>
                </a:lnTo>
                <a:lnTo>
                  <a:pt x="3106" y="3887"/>
                </a:lnTo>
                <a:lnTo>
                  <a:pt x="3132" y="3878"/>
                </a:lnTo>
                <a:lnTo>
                  <a:pt x="3158" y="3869"/>
                </a:lnTo>
                <a:lnTo>
                  <a:pt x="3185" y="3851"/>
                </a:lnTo>
                <a:lnTo>
                  <a:pt x="3211" y="3843"/>
                </a:lnTo>
                <a:lnTo>
                  <a:pt x="3248" y="3825"/>
                </a:lnTo>
                <a:lnTo>
                  <a:pt x="3283" y="3807"/>
                </a:lnTo>
                <a:lnTo>
                  <a:pt x="3309" y="3790"/>
                </a:lnTo>
                <a:lnTo>
                  <a:pt x="3336" y="3781"/>
                </a:lnTo>
                <a:lnTo>
                  <a:pt x="3362" y="3772"/>
                </a:lnTo>
                <a:lnTo>
                  <a:pt x="3389" y="3763"/>
                </a:lnTo>
                <a:lnTo>
                  <a:pt x="3415" y="3754"/>
                </a:lnTo>
                <a:lnTo>
                  <a:pt x="3450" y="3746"/>
                </a:lnTo>
                <a:lnTo>
                  <a:pt x="3545" y="3704"/>
                </a:lnTo>
                <a:lnTo>
                  <a:pt x="3572" y="3671"/>
                </a:lnTo>
                <a:lnTo>
                  <a:pt x="3605" y="3664"/>
                </a:lnTo>
                <a:lnTo>
                  <a:pt x="3624" y="3638"/>
                </a:lnTo>
                <a:lnTo>
                  <a:pt x="3638" y="3638"/>
                </a:lnTo>
                <a:lnTo>
                  <a:pt x="3664" y="3611"/>
                </a:lnTo>
                <a:lnTo>
                  <a:pt x="3677" y="3598"/>
                </a:lnTo>
                <a:lnTo>
                  <a:pt x="3697" y="3572"/>
                </a:lnTo>
                <a:lnTo>
                  <a:pt x="3730" y="3552"/>
                </a:lnTo>
                <a:lnTo>
                  <a:pt x="3763" y="3539"/>
                </a:lnTo>
                <a:lnTo>
                  <a:pt x="3803" y="3512"/>
                </a:lnTo>
                <a:lnTo>
                  <a:pt x="3836" y="3486"/>
                </a:lnTo>
                <a:lnTo>
                  <a:pt x="3849" y="3466"/>
                </a:lnTo>
                <a:lnTo>
                  <a:pt x="3849" y="3472"/>
                </a:lnTo>
                <a:lnTo>
                  <a:pt x="3955" y="3367"/>
                </a:lnTo>
                <a:lnTo>
                  <a:pt x="4087" y="3253"/>
                </a:lnTo>
                <a:lnTo>
                  <a:pt x="4173" y="3220"/>
                </a:lnTo>
                <a:lnTo>
                  <a:pt x="4292" y="319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"/>
          <p:cNvSpPr/>
          <p:nvPr/>
        </p:nvSpPr>
        <p:spPr>
          <a:xfrm>
            <a:off x="4253040" y="82440"/>
            <a:ext cx="1329120" cy="1152720"/>
          </a:xfrm>
          <a:custGeom>
            <a:avLst/>
            <a:gdLst/>
            <a:ahLst/>
            <a:rect l="0" t="0" r="r" b="b"/>
            <a:pathLst>
              <a:path fill="none" w="3692" h="3202">
                <a:moveTo>
                  <a:pt x="0" y="0"/>
                </a:moveTo>
                <a:lnTo>
                  <a:pt x="39" y="46"/>
                </a:lnTo>
                <a:lnTo>
                  <a:pt x="59" y="105"/>
                </a:lnTo>
                <a:lnTo>
                  <a:pt x="119" y="145"/>
                </a:lnTo>
                <a:lnTo>
                  <a:pt x="178" y="185"/>
                </a:lnTo>
                <a:lnTo>
                  <a:pt x="218" y="244"/>
                </a:lnTo>
                <a:lnTo>
                  <a:pt x="257" y="304"/>
                </a:lnTo>
                <a:lnTo>
                  <a:pt x="317" y="304"/>
                </a:lnTo>
                <a:lnTo>
                  <a:pt x="377" y="383"/>
                </a:lnTo>
                <a:lnTo>
                  <a:pt x="396" y="443"/>
                </a:lnTo>
                <a:lnTo>
                  <a:pt x="416" y="502"/>
                </a:lnTo>
                <a:lnTo>
                  <a:pt x="436" y="562"/>
                </a:lnTo>
                <a:lnTo>
                  <a:pt x="456" y="621"/>
                </a:lnTo>
                <a:lnTo>
                  <a:pt x="515" y="661"/>
                </a:lnTo>
                <a:lnTo>
                  <a:pt x="575" y="701"/>
                </a:lnTo>
                <a:lnTo>
                  <a:pt x="635" y="740"/>
                </a:lnTo>
                <a:lnTo>
                  <a:pt x="694" y="760"/>
                </a:lnTo>
                <a:lnTo>
                  <a:pt x="754" y="800"/>
                </a:lnTo>
                <a:lnTo>
                  <a:pt x="853" y="840"/>
                </a:lnTo>
                <a:lnTo>
                  <a:pt x="912" y="859"/>
                </a:lnTo>
                <a:lnTo>
                  <a:pt x="973" y="899"/>
                </a:lnTo>
                <a:lnTo>
                  <a:pt x="1052" y="939"/>
                </a:lnTo>
                <a:lnTo>
                  <a:pt x="1112" y="978"/>
                </a:lnTo>
                <a:lnTo>
                  <a:pt x="1191" y="998"/>
                </a:lnTo>
                <a:lnTo>
                  <a:pt x="1251" y="1038"/>
                </a:lnTo>
                <a:lnTo>
                  <a:pt x="1310" y="1117"/>
                </a:lnTo>
                <a:lnTo>
                  <a:pt x="1350" y="1177"/>
                </a:lnTo>
                <a:lnTo>
                  <a:pt x="1409" y="1236"/>
                </a:lnTo>
                <a:lnTo>
                  <a:pt x="1489" y="1296"/>
                </a:lnTo>
                <a:lnTo>
                  <a:pt x="1548" y="1336"/>
                </a:lnTo>
                <a:lnTo>
                  <a:pt x="1608" y="1355"/>
                </a:lnTo>
                <a:lnTo>
                  <a:pt x="1667" y="1375"/>
                </a:lnTo>
                <a:lnTo>
                  <a:pt x="1727" y="1395"/>
                </a:lnTo>
                <a:lnTo>
                  <a:pt x="1826" y="1475"/>
                </a:lnTo>
                <a:lnTo>
                  <a:pt x="1886" y="1494"/>
                </a:lnTo>
                <a:lnTo>
                  <a:pt x="1985" y="1554"/>
                </a:lnTo>
                <a:lnTo>
                  <a:pt x="2064" y="1634"/>
                </a:lnTo>
                <a:lnTo>
                  <a:pt x="2124" y="1654"/>
                </a:lnTo>
                <a:lnTo>
                  <a:pt x="2183" y="1714"/>
                </a:lnTo>
                <a:lnTo>
                  <a:pt x="2243" y="1753"/>
                </a:lnTo>
                <a:lnTo>
                  <a:pt x="2302" y="1813"/>
                </a:lnTo>
                <a:lnTo>
                  <a:pt x="2342" y="1872"/>
                </a:lnTo>
                <a:lnTo>
                  <a:pt x="2382" y="1932"/>
                </a:lnTo>
                <a:lnTo>
                  <a:pt x="2461" y="2011"/>
                </a:lnTo>
                <a:lnTo>
                  <a:pt x="2521" y="2051"/>
                </a:lnTo>
                <a:lnTo>
                  <a:pt x="2560" y="2111"/>
                </a:lnTo>
                <a:lnTo>
                  <a:pt x="2620" y="2150"/>
                </a:lnTo>
                <a:lnTo>
                  <a:pt x="2679" y="2230"/>
                </a:lnTo>
                <a:lnTo>
                  <a:pt x="2739" y="2289"/>
                </a:lnTo>
                <a:lnTo>
                  <a:pt x="2799" y="2309"/>
                </a:lnTo>
                <a:lnTo>
                  <a:pt x="2859" y="2369"/>
                </a:lnTo>
                <a:lnTo>
                  <a:pt x="2919" y="2388"/>
                </a:lnTo>
                <a:lnTo>
                  <a:pt x="2978" y="2408"/>
                </a:lnTo>
                <a:lnTo>
                  <a:pt x="3038" y="2408"/>
                </a:lnTo>
                <a:lnTo>
                  <a:pt x="3097" y="2428"/>
                </a:lnTo>
                <a:lnTo>
                  <a:pt x="3177" y="2468"/>
                </a:lnTo>
                <a:lnTo>
                  <a:pt x="3216" y="2527"/>
                </a:lnTo>
                <a:lnTo>
                  <a:pt x="3276" y="2607"/>
                </a:lnTo>
                <a:lnTo>
                  <a:pt x="3335" y="2666"/>
                </a:lnTo>
                <a:lnTo>
                  <a:pt x="3355" y="2726"/>
                </a:lnTo>
                <a:lnTo>
                  <a:pt x="3395" y="2785"/>
                </a:lnTo>
                <a:lnTo>
                  <a:pt x="3454" y="2865"/>
                </a:lnTo>
                <a:lnTo>
                  <a:pt x="3474" y="2924"/>
                </a:lnTo>
                <a:lnTo>
                  <a:pt x="3514" y="2984"/>
                </a:lnTo>
                <a:lnTo>
                  <a:pt x="3554" y="3043"/>
                </a:lnTo>
                <a:lnTo>
                  <a:pt x="3573" y="3103"/>
                </a:lnTo>
                <a:lnTo>
                  <a:pt x="3633" y="3162"/>
                </a:lnTo>
                <a:lnTo>
                  <a:pt x="3692" y="3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"/>
          <p:cNvSpPr/>
          <p:nvPr/>
        </p:nvSpPr>
        <p:spPr>
          <a:xfrm>
            <a:off x="3898800" y="1852560"/>
            <a:ext cx="1679760" cy="1421280"/>
          </a:xfrm>
          <a:custGeom>
            <a:avLst/>
            <a:gdLst/>
            <a:ahLst/>
            <a:rect l="0" t="0" r="r" b="b"/>
            <a:pathLst>
              <a:path fill="none" w="4666" h="3948">
                <a:moveTo>
                  <a:pt x="0" y="3948"/>
                </a:moveTo>
                <a:lnTo>
                  <a:pt x="33" y="3823"/>
                </a:lnTo>
                <a:lnTo>
                  <a:pt x="271" y="3591"/>
                </a:lnTo>
                <a:lnTo>
                  <a:pt x="528" y="3334"/>
                </a:lnTo>
                <a:lnTo>
                  <a:pt x="694" y="3228"/>
                </a:lnTo>
                <a:lnTo>
                  <a:pt x="912" y="2909"/>
                </a:lnTo>
                <a:lnTo>
                  <a:pt x="1018" y="2637"/>
                </a:lnTo>
                <a:lnTo>
                  <a:pt x="1137" y="2520"/>
                </a:lnTo>
                <a:lnTo>
                  <a:pt x="1269" y="2295"/>
                </a:lnTo>
                <a:lnTo>
                  <a:pt x="1461" y="2023"/>
                </a:lnTo>
                <a:lnTo>
                  <a:pt x="1672" y="1567"/>
                </a:lnTo>
                <a:lnTo>
                  <a:pt x="1970" y="1357"/>
                </a:lnTo>
                <a:lnTo>
                  <a:pt x="2082" y="1362"/>
                </a:lnTo>
                <a:lnTo>
                  <a:pt x="2254" y="1467"/>
                </a:lnTo>
                <a:lnTo>
                  <a:pt x="2307" y="1567"/>
                </a:lnTo>
                <a:lnTo>
                  <a:pt x="2447" y="1660"/>
                </a:lnTo>
                <a:lnTo>
                  <a:pt x="2645" y="1746"/>
                </a:lnTo>
                <a:lnTo>
                  <a:pt x="2764" y="1673"/>
                </a:lnTo>
                <a:lnTo>
                  <a:pt x="2982" y="1389"/>
                </a:lnTo>
                <a:lnTo>
                  <a:pt x="3029" y="1350"/>
                </a:lnTo>
                <a:lnTo>
                  <a:pt x="3101" y="1335"/>
                </a:lnTo>
                <a:lnTo>
                  <a:pt x="3209" y="1291"/>
                </a:lnTo>
                <a:lnTo>
                  <a:pt x="3273" y="1220"/>
                </a:lnTo>
                <a:lnTo>
                  <a:pt x="3315" y="1149"/>
                </a:lnTo>
                <a:lnTo>
                  <a:pt x="3361" y="1036"/>
                </a:lnTo>
                <a:lnTo>
                  <a:pt x="3427" y="997"/>
                </a:lnTo>
                <a:lnTo>
                  <a:pt x="3529" y="964"/>
                </a:lnTo>
                <a:lnTo>
                  <a:pt x="3546" y="969"/>
                </a:lnTo>
                <a:lnTo>
                  <a:pt x="3665" y="957"/>
                </a:lnTo>
                <a:lnTo>
                  <a:pt x="3721" y="935"/>
                </a:lnTo>
                <a:lnTo>
                  <a:pt x="3784" y="864"/>
                </a:lnTo>
                <a:lnTo>
                  <a:pt x="3848" y="839"/>
                </a:lnTo>
                <a:lnTo>
                  <a:pt x="3912" y="793"/>
                </a:lnTo>
                <a:lnTo>
                  <a:pt x="3998" y="697"/>
                </a:lnTo>
                <a:lnTo>
                  <a:pt x="4062" y="651"/>
                </a:lnTo>
                <a:lnTo>
                  <a:pt x="4126" y="626"/>
                </a:lnTo>
                <a:lnTo>
                  <a:pt x="4168" y="555"/>
                </a:lnTo>
                <a:lnTo>
                  <a:pt x="4232" y="509"/>
                </a:lnTo>
                <a:lnTo>
                  <a:pt x="4254" y="438"/>
                </a:lnTo>
                <a:lnTo>
                  <a:pt x="4298" y="342"/>
                </a:lnTo>
                <a:lnTo>
                  <a:pt x="4362" y="271"/>
                </a:lnTo>
                <a:lnTo>
                  <a:pt x="4426" y="200"/>
                </a:lnTo>
                <a:lnTo>
                  <a:pt x="4490" y="105"/>
                </a:lnTo>
                <a:lnTo>
                  <a:pt x="4554" y="34"/>
                </a:lnTo>
                <a:lnTo>
                  <a:pt x="4618" y="12"/>
                </a:lnTo>
                <a:lnTo>
                  <a:pt x="466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"/>
          <p:cNvSpPr/>
          <p:nvPr/>
        </p:nvSpPr>
        <p:spPr>
          <a:xfrm>
            <a:off x="3949560" y="1908000"/>
            <a:ext cx="1632240" cy="1365480"/>
          </a:xfrm>
          <a:custGeom>
            <a:avLst/>
            <a:gdLst/>
            <a:ahLst/>
            <a:rect l="0" t="0" r="r" b="b"/>
            <a:pathLst>
              <a:path fill="none" w="4534" h="3793">
                <a:moveTo>
                  <a:pt x="4534" y="0"/>
                </a:moveTo>
                <a:lnTo>
                  <a:pt x="4492" y="63"/>
                </a:lnTo>
                <a:lnTo>
                  <a:pt x="4428" y="127"/>
                </a:lnTo>
                <a:lnTo>
                  <a:pt x="4364" y="171"/>
                </a:lnTo>
                <a:lnTo>
                  <a:pt x="4320" y="235"/>
                </a:lnTo>
                <a:lnTo>
                  <a:pt x="4278" y="299"/>
                </a:lnTo>
                <a:lnTo>
                  <a:pt x="4236" y="363"/>
                </a:lnTo>
                <a:lnTo>
                  <a:pt x="4192" y="427"/>
                </a:lnTo>
                <a:lnTo>
                  <a:pt x="4150" y="491"/>
                </a:lnTo>
                <a:lnTo>
                  <a:pt x="4086" y="533"/>
                </a:lnTo>
                <a:lnTo>
                  <a:pt x="4022" y="597"/>
                </a:lnTo>
                <a:lnTo>
                  <a:pt x="3958" y="641"/>
                </a:lnTo>
                <a:lnTo>
                  <a:pt x="3894" y="705"/>
                </a:lnTo>
                <a:lnTo>
                  <a:pt x="3808" y="747"/>
                </a:lnTo>
                <a:lnTo>
                  <a:pt x="3744" y="811"/>
                </a:lnTo>
                <a:lnTo>
                  <a:pt x="3680" y="833"/>
                </a:lnTo>
                <a:lnTo>
                  <a:pt x="3649" y="890"/>
                </a:lnTo>
                <a:lnTo>
                  <a:pt x="3605" y="930"/>
                </a:lnTo>
                <a:lnTo>
                  <a:pt x="3539" y="956"/>
                </a:lnTo>
                <a:lnTo>
                  <a:pt x="3504" y="987"/>
                </a:lnTo>
                <a:lnTo>
                  <a:pt x="3459" y="1040"/>
                </a:lnTo>
                <a:lnTo>
                  <a:pt x="3362" y="1128"/>
                </a:lnTo>
                <a:lnTo>
                  <a:pt x="3279" y="1177"/>
                </a:lnTo>
                <a:lnTo>
                  <a:pt x="3217" y="1212"/>
                </a:lnTo>
                <a:lnTo>
                  <a:pt x="3173" y="1265"/>
                </a:lnTo>
                <a:lnTo>
                  <a:pt x="3111" y="1309"/>
                </a:lnTo>
                <a:lnTo>
                  <a:pt x="3089" y="1375"/>
                </a:lnTo>
                <a:lnTo>
                  <a:pt x="3018" y="1428"/>
                </a:lnTo>
                <a:lnTo>
                  <a:pt x="2956" y="1521"/>
                </a:lnTo>
                <a:lnTo>
                  <a:pt x="2859" y="1569"/>
                </a:lnTo>
                <a:lnTo>
                  <a:pt x="2811" y="1631"/>
                </a:lnTo>
                <a:lnTo>
                  <a:pt x="2731" y="1697"/>
                </a:lnTo>
                <a:lnTo>
                  <a:pt x="2648" y="1737"/>
                </a:lnTo>
                <a:lnTo>
                  <a:pt x="2581" y="1755"/>
                </a:lnTo>
                <a:lnTo>
                  <a:pt x="2506" y="1746"/>
                </a:lnTo>
                <a:lnTo>
                  <a:pt x="2392" y="1737"/>
                </a:lnTo>
                <a:lnTo>
                  <a:pt x="2315" y="1642"/>
                </a:lnTo>
                <a:lnTo>
                  <a:pt x="2250" y="1600"/>
                </a:lnTo>
                <a:lnTo>
                  <a:pt x="2186" y="1536"/>
                </a:lnTo>
                <a:lnTo>
                  <a:pt x="2119" y="1494"/>
                </a:lnTo>
                <a:lnTo>
                  <a:pt x="2077" y="1430"/>
                </a:lnTo>
                <a:lnTo>
                  <a:pt x="2014" y="1408"/>
                </a:lnTo>
                <a:lnTo>
                  <a:pt x="1950" y="1386"/>
                </a:lnTo>
                <a:lnTo>
                  <a:pt x="1888" y="1318"/>
                </a:lnTo>
                <a:lnTo>
                  <a:pt x="1800" y="1386"/>
                </a:lnTo>
                <a:lnTo>
                  <a:pt x="1758" y="1450"/>
                </a:lnTo>
                <a:lnTo>
                  <a:pt x="1716" y="1514"/>
                </a:lnTo>
                <a:lnTo>
                  <a:pt x="1672" y="1578"/>
                </a:lnTo>
                <a:lnTo>
                  <a:pt x="1608" y="1642"/>
                </a:lnTo>
                <a:lnTo>
                  <a:pt x="1566" y="1708"/>
                </a:lnTo>
                <a:lnTo>
                  <a:pt x="1502" y="1772"/>
                </a:lnTo>
                <a:lnTo>
                  <a:pt x="1458" y="1836"/>
                </a:lnTo>
                <a:lnTo>
                  <a:pt x="1416" y="1901"/>
                </a:lnTo>
                <a:lnTo>
                  <a:pt x="1352" y="1965"/>
                </a:lnTo>
                <a:lnTo>
                  <a:pt x="1330" y="2029"/>
                </a:lnTo>
                <a:lnTo>
                  <a:pt x="1288" y="2093"/>
                </a:lnTo>
                <a:lnTo>
                  <a:pt x="1224" y="2177"/>
                </a:lnTo>
                <a:lnTo>
                  <a:pt x="1182" y="2241"/>
                </a:lnTo>
                <a:lnTo>
                  <a:pt x="1118" y="2305"/>
                </a:lnTo>
                <a:lnTo>
                  <a:pt x="1074" y="2371"/>
                </a:lnTo>
                <a:lnTo>
                  <a:pt x="1032" y="2435"/>
                </a:lnTo>
                <a:lnTo>
                  <a:pt x="990" y="2499"/>
                </a:lnTo>
                <a:lnTo>
                  <a:pt x="946" y="2563"/>
                </a:lnTo>
                <a:lnTo>
                  <a:pt x="904" y="2626"/>
                </a:lnTo>
                <a:lnTo>
                  <a:pt x="862" y="2690"/>
                </a:lnTo>
                <a:lnTo>
                  <a:pt x="818" y="2754"/>
                </a:lnTo>
                <a:lnTo>
                  <a:pt x="776" y="2818"/>
                </a:lnTo>
                <a:lnTo>
                  <a:pt x="754" y="2882"/>
                </a:lnTo>
                <a:lnTo>
                  <a:pt x="712" y="2946"/>
                </a:lnTo>
                <a:lnTo>
                  <a:pt x="668" y="3010"/>
                </a:lnTo>
                <a:lnTo>
                  <a:pt x="626" y="3074"/>
                </a:lnTo>
                <a:lnTo>
                  <a:pt x="562" y="3160"/>
                </a:lnTo>
                <a:lnTo>
                  <a:pt x="520" y="3224"/>
                </a:lnTo>
                <a:lnTo>
                  <a:pt x="456" y="3244"/>
                </a:lnTo>
                <a:lnTo>
                  <a:pt x="392" y="3288"/>
                </a:lnTo>
                <a:lnTo>
                  <a:pt x="348" y="3352"/>
                </a:lnTo>
                <a:lnTo>
                  <a:pt x="284" y="3394"/>
                </a:lnTo>
                <a:lnTo>
                  <a:pt x="220" y="3458"/>
                </a:lnTo>
                <a:lnTo>
                  <a:pt x="178" y="3522"/>
                </a:lnTo>
                <a:lnTo>
                  <a:pt x="114" y="3586"/>
                </a:lnTo>
                <a:lnTo>
                  <a:pt x="70" y="3650"/>
                </a:lnTo>
                <a:lnTo>
                  <a:pt x="28" y="3713"/>
                </a:lnTo>
                <a:lnTo>
                  <a:pt x="0" y="37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"/>
          <p:cNvSpPr/>
          <p:nvPr/>
        </p:nvSpPr>
        <p:spPr>
          <a:xfrm>
            <a:off x="4008600" y="2065320"/>
            <a:ext cx="1575000" cy="1208520"/>
          </a:xfrm>
          <a:custGeom>
            <a:avLst/>
            <a:gdLst/>
            <a:ahLst/>
            <a:rect l="0" t="0" r="r" b="b"/>
            <a:pathLst>
              <a:path fill="none" w="4375" h="3357">
                <a:moveTo>
                  <a:pt x="4375" y="0"/>
                </a:moveTo>
                <a:lnTo>
                  <a:pt x="4326" y="13"/>
                </a:lnTo>
                <a:lnTo>
                  <a:pt x="4262" y="33"/>
                </a:lnTo>
                <a:lnTo>
                  <a:pt x="4199" y="77"/>
                </a:lnTo>
                <a:lnTo>
                  <a:pt x="4135" y="97"/>
                </a:lnTo>
                <a:lnTo>
                  <a:pt x="4071" y="141"/>
                </a:lnTo>
                <a:lnTo>
                  <a:pt x="4027" y="224"/>
                </a:lnTo>
                <a:lnTo>
                  <a:pt x="3963" y="288"/>
                </a:lnTo>
                <a:lnTo>
                  <a:pt x="3899" y="352"/>
                </a:lnTo>
                <a:lnTo>
                  <a:pt x="3835" y="396"/>
                </a:lnTo>
                <a:lnTo>
                  <a:pt x="3771" y="460"/>
                </a:lnTo>
                <a:lnTo>
                  <a:pt x="3707" y="502"/>
                </a:lnTo>
                <a:lnTo>
                  <a:pt x="3665" y="566"/>
                </a:lnTo>
                <a:lnTo>
                  <a:pt x="3630" y="648"/>
                </a:lnTo>
                <a:lnTo>
                  <a:pt x="3586" y="727"/>
                </a:lnTo>
                <a:lnTo>
                  <a:pt x="3475" y="784"/>
                </a:lnTo>
                <a:lnTo>
                  <a:pt x="3356" y="815"/>
                </a:lnTo>
                <a:lnTo>
                  <a:pt x="3279" y="845"/>
                </a:lnTo>
                <a:lnTo>
                  <a:pt x="3215" y="909"/>
                </a:lnTo>
                <a:lnTo>
                  <a:pt x="3151" y="973"/>
                </a:lnTo>
                <a:lnTo>
                  <a:pt x="3109" y="1037"/>
                </a:lnTo>
                <a:lnTo>
                  <a:pt x="3045" y="1079"/>
                </a:lnTo>
                <a:lnTo>
                  <a:pt x="3004" y="1143"/>
                </a:lnTo>
                <a:lnTo>
                  <a:pt x="2940" y="1187"/>
                </a:lnTo>
                <a:lnTo>
                  <a:pt x="2876" y="1229"/>
                </a:lnTo>
                <a:lnTo>
                  <a:pt x="2812" y="1273"/>
                </a:lnTo>
                <a:lnTo>
                  <a:pt x="2748" y="1293"/>
                </a:lnTo>
                <a:lnTo>
                  <a:pt x="2684" y="1315"/>
                </a:lnTo>
                <a:lnTo>
                  <a:pt x="2618" y="1356"/>
                </a:lnTo>
                <a:lnTo>
                  <a:pt x="2554" y="1379"/>
                </a:lnTo>
                <a:lnTo>
                  <a:pt x="2490" y="1379"/>
                </a:lnTo>
                <a:lnTo>
                  <a:pt x="2426" y="1401"/>
                </a:lnTo>
                <a:lnTo>
                  <a:pt x="2362" y="1420"/>
                </a:lnTo>
                <a:lnTo>
                  <a:pt x="2278" y="1442"/>
                </a:lnTo>
                <a:lnTo>
                  <a:pt x="2169" y="1442"/>
                </a:lnTo>
                <a:lnTo>
                  <a:pt x="2105" y="1420"/>
                </a:lnTo>
                <a:lnTo>
                  <a:pt x="2041" y="1379"/>
                </a:lnTo>
                <a:lnTo>
                  <a:pt x="1977" y="1356"/>
                </a:lnTo>
                <a:lnTo>
                  <a:pt x="1913" y="1315"/>
                </a:lnTo>
                <a:lnTo>
                  <a:pt x="1849" y="1293"/>
                </a:lnTo>
                <a:lnTo>
                  <a:pt x="1785" y="1273"/>
                </a:lnTo>
                <a:lnTo>
                  <a:pt x="1721" y="1251"/>
                </a:lnTo>
                <a:lnTo>
                  <a:pt x="1649" y="1185"/>
                </a:lnTo>
                <a:lnTo>
                  <a:pt x="1572" y="1251"/>
                </a:lnTo>
                <a:lnTo>
                  <a:pt x="1508" y="1273"/>
                </a:lnTo>
                <a:lnTo>
                  <a:pt x="1466" y="1337"/>
                </a:lnTo>
                <a:lnTo>
                  <a:pt x="1402" y="1379"/>
                </a:lnTo>
                <a:lnTo>
                  <a:pt x="1338" y="1420"/>
                </a:lnTo>
                <a:lnTo>
                  <a:pt x="1274" y="1484"/>
                </a:lnTo>
                <a:lnTo>
                  <a:pt x="1252" y="1548"/>
                </a:lnTo>
                <a:lnTo>
                  <a:pt x="1210" y="1612"/>
                </a:lnTo>
                <a:lnTo>
                  <a:pt x="1166" y="1676"/>
                </a:lnTo>
                <a:lnTo>
                  <a:pt x="1124" y="1740"/>
                </a:lnTo>
                <a:lnTo>
                  <a:pt x="1082" y="1804"/>
                </a:lnTo>
                <a:lnTo>
                  <a:pt x="1038" y="1868"/>
                </a:lnTo>
                <a:lnTo>
                  <a:pt x="996" y="1934"/>
                </a:lnTo>
                <a:lnTo>
                  <a:pt x="954" y="1998"/>
                </a:lnTo>
                <a:lnTo>
                  <a:pt x="910" y="2062"/>
                </a:lnTo>
                <a:lnTo>
                  <a:pt x="868" y="2126"/>
                </a:lnTo>
                <a:lnTo>
                  <a:pt x="826" y="2190"/>
                </a:lnTo>
                <a:lnTo>
                  <a:pt x="782" y="2254"/>
                </a:lnTo>
                <a:lnTo>
                  <a:pt x="762" y="2318"/>
                </a:lnTo>
                <a:lnTo>
                  <a:pt x="698" y="2382"/>
                </a:lnTo>
                <a:lnTo>
                  <a:pt x="676" y="2446"/>
                </a:lnTo>
                <a:lnTo>
                  <a:pt x="612" y="2510"/>
                </a:lnTo>
                <a:lnTo>
                  <a:pt x="568" y="2575"/>
                </a:lnTo>
                <a:lnTo>
                  <a:pt x="549" y="2639"/>
                </a:lnTo>
                <a:lnTo>
                  <a:pt x="526" y="2702"/>
                </a:lnTo>
                <a:lnTo>
                  <a:pt x="463" y="2766"/>
                </a:lnTo>
                <a:lnTo>
                  <a:pt x="399" y="2830"/>
                </a:lnTo>
                <a:lnTo>
                  <a:pt x="335" y="2894"/>
                </a:lnTo>
                <a:lnTo>
                  <a:pt x="271" y="2958"/>
                </a:lnTo>
                <a:lnTo>
                  <a:pt x="229" y="3022"/>
                </a:lnTo>
                <a:lnTo>
                  <a:pt x="165" y="3064"/>
                </a:lnTo>
                <a:lnTo>
                  <a:pt x="121" y="3128"/>
                </a:lnTo>
                <a:lnTo>
                  <a:pt x="79" y="3192"/>
                </a:lnTo>
                <a:lnTo>
                  <a:pt x="37" y="3258"/>
                </a:lnTo>
                <a:lnTo>
                  <a:pt x="0" y="33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"/>
          <p:cNvSpPr/>
          <p:nvPr/>
        </p:nvSpPr>
        <p:spPr>
          <a:xfrm>
            <a:off x="4091040" y="2244600"/>
            <a:ext cx="1492560" cy="1027440"/>
          </a:xfrm>
          <a:custGeom>
            <a:avLst/>
            <a:gdLst/>
            <a:ahLst/>
            <a:rect l="0" t="0" r="r" b="b"/>
            <a:pathLst>
              <a:path fill="none" w="4146" h="2854">
                <a:moveTo>
                  <a:pt x="4146" y="0"/>
                </a:moveTo>
                <a:lnTo>
                  <a:pt x="4097" y="46"/>
                </a:lnTo>
                <a:lnTo>
                  <a:pt x="4033" y="68"/>
                </a:lnTo>
                <a:lnTo>
                  <a:pt x="3969" y="90"/>
                </a:lnTo>
                <a:lnTo>
                  <a:pt x="3905" y="112"/>
                </a:lnTo>
                <a:lnTo>
                  <a:pt x="3841" y="154"/>
                </a:lnTo>
                <a:lnTo>
                  <a:pt x="3777" y="176"/>
                </a:lnTo>
                <a:lnTo>
                  <a:pt x="3711" y="240"/>
                </a:lnTo>
                <a:lnTo>
                  <a:pt x="3669" y="304"/>
                </a:lnTo>
                <a:lnTo>
                  <a:pt x="3605" y="346"/>
                </a:lnTo>
                <a:lnTo>
                  <a:pt x="3542" y="388"/>
                </a:lnTo>
                <a:lnTo>
                  <a:pt x="3478" y="432"/>
                </a:lnTo>
                <a:lnTo>
                  <a:pt x="3414" y="474"/>
                </a:lnTo>
                <a:lnTo>
                  <a:pt x="3350" y="496"/>
                </a:lnTo>
                <a:lnTo>
                  <a:pt x="3286" y="537"/>
                </a:lnTo>
                <a:lnTo>
                  <a:pt x="3222" y="579"/>
                </a:lnTo>
                <a:lnTo>
                  <a:pt x="3158" y="643"/>
                </a:lnTo>
                <a:lnTo>
                  <a:pt x="3072" y="707"/>
                </a:lnTo>
                <a:lnTo>
                  <a:pt x="3008" y="751"/>
                </a:lnTo>
                <a:lnTo>
                  <a:pt x="2922" y="793"/>
                </a:lnTo>
                <a:lnTo>
                  <a:pt x="2838" y="857"/>
                </a:lnTo>
                <a:lnTo>
                  <a:pt x="2774" y="901"/>
                </a:lnTo>
                <a:lnTo>
                  <a:pt x="2710" y="943"/>
                </a:lnTo>
                <a:lnTo>
                  <a:pt x="2624" y="985"/>
                </a:lnTo>
                <a:lnTo>
                  <a:pt x="2560" y="1029"/>
                </a:lnTo>
                <a:lnTo>
                  <a:pt x="2496" y="1049"/>
                </a:lnTo>
                <a:lnTo>
                  <a:pt x="2432" y="1071"/>
                </a:lnTo>
                <a:lnTo>
                  <a:pt x="2369" y="1071"/>
                </a:lnTo>
                <a:lnTo>
                  <a:pt x="2283" y="1093"/>
                </a:lnTo>
                <a:lnTo>
                  <a:pt x="2197" y="1113"/>
                </a:lnTo>
                <a:lnTo>
                  <a:pt x="2133" y="1113"/>
                </a:lnTo>
                <a:lnTo>
                  <a:pt x="2048" y="1113"/>
                </a:lnTo>
                <a:lnTo>
                  <a:pt x="1984" y="1135"/>
                </a:lnTo>
                <a:lnTo>
                  <a:pt x="1920" y="1135"/>
                </a:lnTo>
                <a:lnTo>
                  <a:pt x="1856" y="1113"/>
                </a:lnTo>
                <a:lnTo>
                  <a:pt x="1792" y="1093"/>
                </a:lnTo>
                <a:lnTo>
                  <a:pt x="1726" y="1093"/>
                </a:lnTo>
                <a:lnTo>
                  <a:pt x="1662" y="1071"/>
                </a:lnTo>
                <a:lnTo>
                  <a:pt x="1578" y="1029"/>
                </a:lnTo>
                <a:lnTo>
                  <a:pt x="1514" y="1007"/>
                </a:lnTo>
                <a:lnTo>
                  <a:pt x="1426" y="978"/>
                </a:lnTo>
                <a:lnTo>
                  <a:pt x="1349" y="923"/>
                </a:lnTo>
                <a:lnTo>
                  <a:pt x="1274" y="963"/>
                </a:lnTo>
                <a:lnTo>
                  <a:pt x="1172" y="1029"/>
                </a:lnTo>
                <a:lnTo>
                  <a:pt x="1109" y="1049"/>
                </a:lnTo>
                <a:lnTo>
                  <a:pt x="1064" y="1113"/>
                </a:lnTo>
                <a:lnTo>
                  <a:pt x="1001" y="1177"/>
                </a:lnTo>
                <a:lnTo>
                  <a:pt x="959" y="1241"/>
                </a:lnTo>
                <a:lnTo>
                  <a:pt x="937" y="1305"/>
                </a:lnTo>
                <a:lnTo>
                  <a:pt x="895" y="1369"/>
                </a:lnTo>
                <a:lnTo>
                  <a:pt x="853" y="1436"/>
                </a:lnTo>
                <a:lnTo>
                  <a:pt x="831" y="1500"/>
                </a:lnTo>
                <a:lnTo>
                  <a:pt x="767" y="1542"/>
                </a:lnTo>
                <a:lnTo>
                  <a:pt x="725" y="1628"/>
                </a:lnTo>
                <a:lnTo>
                  <a:pt x="661" y="1692"/>
                </a:lnTo>
                <a:lnTo>
                  <a:pt x="639" y="1756"/>
                </a:lnTo>
                <a:lnTo>
                  <a:pt x="597" y="1820"/>
                </a:lnTo>
                <a:lnTo>
                  <a:pt x="553" y="1883"/>
                </a:lnTo>
                <a:lnTo>
                  <a:pt x="511" y="1947"/>
                </a:lnTo>
                <a:lnTo>
                  <a:pt x="489" y="2011"/>
                </a:lnTo>
                <a:lnTo>
                  <a:pt x="447" y="2075"/>
                </a:lnTo>
                <a:lnTo>
                  <a:pt x="403" y="2139"/>
                </a:lnTo>
                <a:lnTo>
                  <a:pt x="361" y="2203"/>
                </a:lnTo>
                <a:lnTo>
                  <a:pt x="339" y="2267"/>
                </a:lnTo>
                <a:lnTo>
                  <a:pt x="297" y="2331"/>
                </a:lnTo>
                <a:lnTo>
                  <a:pt x="255" y="2395"/>
                </a:lnTo>
                <a:lnTo>
                  <a:pt x="211" y="2459"/>
                </a:lnTo>
                <a:lnTo>
                  <a:pt x="169" y="2523"/>
                </a:lnTo>
                <a:lnTo>
                  <a:pt x="127" y="2587"/>
                </a:lnTo>
                <a:lnTo>
                  <a:pt x="83" y="2651"/>
                </a:lnTo>
                <a:lnTo>
                  <a:pt x="63" y="2715"/>
                </a:lnTo>
                <a:lnTo>
                  <a:pt x="19" y="2779"/>
                </a:lnTo>
                <a:lnTo>
                  <a:pt x="0" y="285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"/>
          <p:cNvSpPr/>
          <p:nvPr/>
        </p:nvSpPr>
        <p:spPr>
          <a:xfrm>
            <a:off x="4124160" y="2502000"/>
            <a:ext cx="1459440" cy="771840"/>
          </a:xfrm>
          <a:custGeom>
            <a:avLst/>
            <a:gdLst/>
            <a:ahLst/>
            <a:rect l="0" t="0" r="r" b="b"/>
            <a:pathLst>
              <a:path fill="none" w="4054" h="2144">
                <a:moveTo>
                  <a:pt x="4054" y="0"/>
                </a:moveTo>
                <a:lnTo>
                  <a:pt x="4006" y="15"/>
                </a:lnTo>
                <a:lnTo>
                  <a:pt x="3942" y="37"/>
                </a:lnTo>
                <a:lnTo>
                  <a:pt x="3878" y="79"/>
                </a:lnTo>
                <a:lnTo>
                  <a:pt x="3814" y="123"/>
                </a:lnTo>
                <a:lnTo>
                  <a:pt x="3750" y="165"/>
                </a:lnTo>
                <a:lnTo>
                  <a:pt x="3686" y="207"/>
                </a:lnTo>
                <a:lnTo>
                  <a:pt x="3620" y="251"/>
                </a:lnTo>
                <a:lnTo>
                  <a:pt x="3556" y="293"/>
                </a:lnTo>
                <a:lnTo>
                  <a:pt x="3472" y="357"/>
                </a:lnTo>
                <a:lnTo>
                  <a:pt x="3386" y="399"/>
                </a:lnTo>
                <a:lnTo>
                  <a:pt x="3322" y="443"/>
                </a:lnTo>
                <a:lnTo>
                  <a:pt x="3258" y="485"/>
                </a:lnTo>
                <a:lnTo>
                  <a:pt x="3152" y="526"/>
                </a:lnTo>
                <a:lnTo>
                  <a:pt x="3066" y="549"/>
                </a:lnTo>
                <a:lnTo>
                  <a:pt x="3001" y="571"/>
                </a:lnTo>
                <a:lnTo>
                  <a:pt x="2937" y="590"/>
                </a:lnTo>
                <a:lnTo>
                  <a:pt x="2809" y="612"/>
                </a:lnTo>
                <a:lnTo>
                  <a:pt x="2724" y="635"/>
                </a:lnTo>
                <a:lnTo>
                  <a:pt x="2510" y="635"/>
                </a:lnTo>
                <a:lnTo>
                  <a:pt x="2446" y="635"/>
                </a:lnTo>
                <a:lnTo>
                  <a:pt x="2382" y="654"/>
                </a:lnTo>
                <a:lnTo>
                  <a:pt x="2318" y="654"/>
                </a:lnTo>
                <a:lnTo>
                  <a:pt x="2232" y="654"/>
                </a:lnTo>
                <a:lnTo>
                  <a:pt x="2168" y="654"/>
                </a:lnTo>
                <a:lnTo>
                  <a:pt x="2104" y="654"/>
                </a:lnTo>
                <a:lnTo>
                  <a:pt x="2020" y="635"/>
                </a:lnTo>
                <a:lnTo>
                  <a:pt x="1934" y="635"/>
                </a:lnTo>
                <a:lnTo>
                  <a:pt x="1828" y="635"/>
                </a:lnTo>
                <a:lnTo>
                  <a:pt x="1764" y="635"/>
                </a:lnTo>
                <a:lnTo>
                  <a:pt x="1678" y="612"/>
                </a:lnTo>
                <a:lnTo>
                  <a:pt x="1614" y="590"/>
                </a:lnTo>
                <a:lnTo>
                  <a:pt x="1551" y="571"/>
                </a:lnTo>
                <a:lnTo>
                  <a:pt x="1423" y="571"/>
                </a:lnTo>
                <a:lnTo>
                  <a:pt x="1359" y="571"/>
                </a:lnTo>
                <a:lnTo>
                  <a:pt x="1290" y="535"/>
                </a:lnTo>
                <a:lnTo>
                  <a:pt x="1198" y="606"/>
                </a:lnTo>
                <a:lnTo>
                  <a:pt x="1138" y="646"/>
                </a:lnTo>
                <a:lnTo>
                  <a:pt x="1103" y="720"/>
                </a:lnTo>
                <a:lnTo>
                  <a:pt x="1039" y="762"/>
                </a:lnTo>
                <a:lnTo>
                  <a:pt x="972" y="826"/>
                </a:lnTo>
                <a:lnTo>
                  <a:pt x="908" y="890"/>
                </a:lnTo>
                <a:lnTo>
                  <a:pt x="866" y="954"/>
                </a:lnTo>
                <a:lnTo>
                  <a:pt x="802" y="1018"/>
                </a:lnTo>
                <a:lnTo>
                  <a:pt x="738" y="1060"/>
                </a:lnTo>
                <a:lnTo>
                  <a:pt x="674" y="1125"/>
                </a:lnTo>
                <a:lnTo>
                  <a:pt x="610" y="1169"/>
                </a:lnTo>
                <a:lnTo>
                  <a:pt x="568" y="1233"/>
                </a:lnTo>
                <a:lnTo>
                  <a:pt x="482" y="1317"/>
                </a:lnTo>
                <a:lnTo>
                  <a:pt x="440" y="1383"/>
                </a:lnTo>
                <a:lnTo>
                  <a:pt x="418" y="1447"/>
                </a:lnTo>
                <a:lnTo>
                  <a:pt x="377" y="1511"/>
                </a:lnTo>
                <a:lnTo>
                  <a:pt x="354" y="1575"/>
                </a:lnTo>
                <a:lnTo>
                  <a:pt x="310" y="1639"/>
                </a:lnTo>
                <a:lnTo>
                  <a:pt x="268" y="1703"/>
                </a:lnTo>
                <a:lnTo>
                  <a:pt x="246" y="1767"/>
                </a:lnTo>
                <a:lnTo>
                  <a:pt x="205" y="1831"/>
                </a:lnTo>
                <a:lnTo>
                  <a:pt x="183" y="1894"/>
                </a:lnTo>
                <a:lnTo>
                  <a:pt x="99" y="1978"/>
                </a:lnTo>
                <a:lnTo>
                  <a:pt x="55" y="2044"/>
                </a:lnTo>
                <a:lnTo>
                  <a:pt x="0" y="214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"/>
          <p:cNvSpPr/>
          <p:nvPr/>
        </p:nvSpPr>
        <p:spPr>
          <a:xfrm>
            <a:off x="4175280" y="2716200"/>
            <a:ext cx="1408320" cy="560880"/>
          </a:xfrm>
          <a:custGeom>
            <a:avLst/>
            <a:gdLst/>
            <a:ahLst/>
            <a:rect l="0" t="0" r="r" b="b"/>
            <a:pathLst>
              <a:path fill="none" w="3912" h="1558">
                <a:moveTo>
                  <a:pt x="3912" y="0"/>
                </a:moveTo>
                <a:lnTo>
                  <a:pt x="3863" y="17"/>
                </a:lnTo>
                <a:lnTo>
                  <a:pt x="3819" y="81"/>
                </a:lnTo>
                <a:lnTo>
                  <a:pt x="3755" y="125"/>
                </a:lnTo>
                <a:lnTo>
                  <a:pt x="3691" y="167"/>
                </a:lnTo>
                <a:lnTo>
                  <a:pt x="3608" y="253"/>
                </a:lnTo>
                <a:lnTo>
                  <a:pt x="3500" y="317"/>
                </a:lnTo>
                <a:lnTo>
                  <a:pt x="3436" y="337"/>
                </a:lnTo>
                <a:lnTo>
                  <a:pt x="3372" y="359"/>
                </a:lnTo>
                <a:lnTo>
                  <a:pt x="3266" y="359"/>
                </a:lnTo>
                <a:lnTo>
                  <a:pt x="3202" y="359"/>
                </a:lnTo>
                <a:lnTo>
                  <a:pt x="3138" y="359"/>
                </a:lnTo>
                <a:lnTo>
                  <a:pt x="2541" y="337"/>
                </a:lnTo>
                <a:lnTo>
                  <a:pt x="2432" y="337"/>
                </a:lnTo>
                <a:lnTo>
                  <a:pt x="2369" y="337"/>
                </a:lnTo>
                <a:lnTo>
                  <a:pt x="2155" y="317"/>
                </a:lnTo>
                <a:lnTo>
                  <a:pt x="2071" y="295"/>
                </a:lnTo>
                <a:lnTo>
                  <a:pt x="2007" y="295"/>
                </a:lnTo>
                <a:lnTo>
                  <a:pt x="1942" y="253"/>
                </a:lnTo>
                <a:lnTo>
                  <a:pt x="1856" y="231"/>
                </a:lnTo>
                <a:lnTo>
                  <a:pt x="1770" y="231"/>
                </a:lnTo>
                <a:lnTo>
                  <a:pt x="1706" y="231"/>
                </a:lnTo>
                <a:lnTo>
                  <a:pt x="1622" y="231"/>
                </a:lnTo>
                <a:lnTo>
                  <a:pt x="1558" y="231"/>
                </a:lnTo>
                <a:lnTo>
                  <a:pt x="1472" y="231"/>
                </a:lnTo>
                <a:lnTo>
                  <a:pt x="1408" y="231"/>
                </a:lnTo>
                <a:lnTo>
                  <a:pt x="1344" y="231"/>
                </a:lnTo>
                <a:lnTo>
                  <a:pt x="1281" y="231"/>
                </a:lnTo>
                <a:lnTo>
                  <a:pt x="1217" y="231"/>
                </a:lnTo>
                <a:lnTo>
                  <a:pt x="1153" y="253"/>
                </a:lnTo>
                <a:lnTo>
                  <a:pt x="1089" y="273"/>
                </a:lnTo>
                <a:lnTo>
                  <a:pt x="1003" y="295"/>
                </a:lnTo>
                <a:lnTo>
                  <a:pt x="939" y="317"/>
                </a:lnTo>
                <a:lnTo>
                  <a:pt x="875" y="337"/>
                </a:lnTo>
                <a:lnTo>
                  <a:pt x="811" y="381"/>
                </a:lnTo>
                <a:lnTo>
                  <a:pt x="747" y="424"/>
                </a:lnTo>
                <a:lnTo>
                  <a:pt x="703" y="488"/>
                </a:lnTo>
                <a:lnTo>
                  <a:pt x="639" y="511"/>
                </a:lnTo>
                <a:lnTo>
                  <a:pt x="575" y="552"/>
                </a:lnTo>
                <a:lnTo>
                  <a:pt x="533" y="617"/>
                </a:lnTo>
                <a:lnTo>
                  <a:pt x="491" y="681"/>
                </a:lnTo>
                <a:lnTo>
                  <a:pt x="427" y="745"/>
                </a:lnTo>
                <a:lnTo>
                  <a:pt x="363" y="831"/>
                </a:lnTo>
                <a:lnTo>
                  <a:pt x="319" y="895"/>
                </a:lnTo>
                <a:lnTo>
                  <a:pt x="277" y="959"/>
                </a:lnTo>
                <a:lnTo>
                  <a:pt x="255" y="1023"/>
                </a:lnTo>
                <a:lnTo>
                  <a:pt x="235" y="1087"/>
                </a:lnTo>
                <a:lnTo>
                  <a:pt x="191" y="1174"/>
                </a:lnTo>
                <a:lnTo>
                  <a:pt x="149" y="1238"/>
                </a:lnTo>
                <a:lnTo>
                  <a:pt x="127" y="1302"/>
                </a:lnTo>
                <a:lnTo>
                  <a:pt x="105" y="1366"/>
                </a:lnTo>
                <a:lnTo>
                  <a:pt x="63" y="1430"/>
                </a:lnTo>
                <a:lnTo>
                  <a:pt x="22" y="1494"/>
                </a:lnTo>
                <a:lnTo>
                  <a:pt x="0" y="155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"/>
          <p:cNvSpPr/>
          <p:nvPr/>
        </p:nvSpPr>
        <p:spPr>
          <a:xfrm>
            <a:off x="4227480" y="2906640"/>
            <a:ext cx="1356120" cy="367200"/>
          </a:xfrm>
          <a:custGeom>
            <a:avLst/>
            <a:gdLst/>
            <a:ahLst/>
            <a:rect l="0" t="0" r="r" b="b"/>
            <a:pathLst>
              <a:path fill="none" w="3767" h="1020">
                <a:moveTo>
                  <a:pt x="3767" y="216"/>
                </a:moveTo>
                <a:lnTo>
                  <a:pt x="3719" y="213"/>
                </a:lnTo>
                <a:lnTo>
                  <a:pt x="3591" y="235"/>
                </a:lnTo>
                <a:lnTo>
                  <a:pt x="3527" y="258"/>
                </a:lnTo>
                <a:lnTo>
                  <a:pt x="3441" y="258"/>
                </a:lnTo>
                <a:lnTo>
                  <a:pt x="3377" y="235"/>
                </a:lnTo>
                <a:lnTo>
                  <a:pt x="3313" y="235"/>
                </a:lnTo>
                <a:lnTo>
                  <a:pt x="3249" y="235"/>
                </a:lnTo>
                <a:lnTo>
                  <a:pt x="3185" y="213"/>
                </a:lnTo>
                <a:lnTo>
                  <a:pt x="3099" y="213"/>
                </a:lnTo>
                <a:lnTo>
                  <a:pt x="2993" y="235"/>
                </a:lnTo>
                <a:lnTo>
                  <a:pt x="2930" y="235"/>
                </a:lnTo>
                <a:lnTo>
                  <a:pt x="2866" y="258"/>
                </a:lnTo>
                <a:lnTo>
                  <a:pt x="2801" y="258"/>
                </a:lnTo>
                <a:lnTo>
                  <a:pt x="2737" y="258"/>
                </a:lnTo>
                <a:lnTo>
                  <a:pt x="2671" y="258"/>
                </a:lnTo>
                <a:lnTo>
                  <a:pt x="2587" y="235"/>
                </a:lnTo>
                <a:lnTo>
                  <a:pt x="2523" y="213"/>
                </a:lnTo>
                <a:lnTo>
                  <a:pt x="2459" y="191"/>
                </a:lnTo>
                <a:lnTo>
                  <a:pt x="2373" y="171"/>
                </a:lnTo>
                <a:lnTo>
                  <a:pt x="2309" y="149"/>
                </a:lnTo>
                <a:lnTo>
                  <a:pt x="2245" y="149"/>
                </a:lnTo>
                <a:lnTo>
                  <a:pt x="2181" y="127"/>
                </a:lnTo>
                <a:lnTo>
                  <a:pt x="2117" y="127"/>
                </a:lnTo>
                <a:lnTo>
                  <a:pt x="2031" y="85"/>
                </a:lnTo>
                <a:lnTo>
                  <a:pt x="1967" y="85"/>
                </a:lnTo>
                <a:lnTo>
                  <a:pt x="1881" y="63"/>
                </a:lnTo>
                <a:lnTo>
                  <a:pt x="1817" y="44"/>
                </a:lnTo>
                <a:lnTo>
                  <a:pt x="1734" y="44"/>
                </a:lnTo>
                <a:lnTo>
                  <a:pt x="1520" y="0"/>
                </a:lnTo>
                <a:lnTo>
                  <a:pt x="1434" y="0"/>
                </a:lnTo>
                <a:lnTo>
                  <a:pt x="1348" y="0"/>
                </a:lnTo>
                <a:lnTo>
                  <a:pt x="1284" y="22"/>
                </a:lnTo>
                <a:lnTo>
                  <a:pt x="1220" y="44"/>
                </a:lnTo>
                <a:lnTo>
                  <a:pt x="1156" y="63"/>
                </a:lnTo>
                <a:lnTo>
                  <a:pt x="1092" y="108"/>
                </a:lnTo>
                <a:lnTo>
                  <a:pt x="1028" y="127"/>
                </a:lnTo>
                <a:lnTo>
                  <a:pt x="964" y="171"/>
                </a:lnTo>
                <a:lnTo>
                  <a:pt x="899" y="171"/>
                </a:lnTo>
                <a:lnTo>
                  <a:pt x="815" y="191"/>
                </a:lnTo>
                <a:lnTo>
                  <a:pt x="751" y="213"/>
                </a:lnTo>
                <a:lnTo>
                  <a:pt x="685" y="235"/>
                </a:lnTo>
                <a:lnTo>
                  <a:pt x="621" y="258"/>
                </a:lnTo>
                <a:lnTo>
                  <a:pt x="557" y="278"/>
                </a:lnTo>
                <a:lnTo>
                  <a:pt x="493" y="300"/>
                </a:lnTo>
                <a:lnTo>
                  <a:pt x="429" y="364"/>
                </a:lnTo>
                <a:lnTo>
                  <a:pt x="366" y="406"/>
                </a:lnTo>
                <a:lnTo>
                  <a:pt x="324" y="470"/>
                </a:lnTo>
                <a:lnTo>
                  <a:pt x="260" y="514"/>
                </a:lnTo>
                <a:lnTo>
                  <a:pt x="218" y="578"/>
                </a:lnTo>
                <a:lnTo>
                  <a:pt x="154" y="620"/>
                </a:lnTo>
                <a:lnTo>
                  <a:pt x="110" y="684"/>
                </a:lnTo>
                <a:lnTo>
                  <a:pt x="68" y="748"/>
                </a:lnTo>
                <a:lnTo>
                  <a:pt x="68" y="813"/>
                </a:lnTo>
                <a:lnTo>
                  <a:pt x="46" y="877"/>
                </a:lnTo>
                <a:lnTo>
                  <a:pt x="24" y="941"/>
                </a:lnTo>
                <a:lnTo>
                  <a:pt x="0" y="102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"/>
          <p:cNvSpPr/>
          <p:nvPr/>
        </p:nvSpPr>
        <p:spPr>
          <a:xfrm>
            <a:off x="4282920" y="3046320"/>
            <a:ext cx="1298880" cy="230400"/>
          </a:xfrm>
          <a:custGeom>
            <a:avLst/>
            <a:gdLst/>
            <a:ahLst/>
            <a:rect l="0" t="0" r="r" b="b"/>
            <a:pathLst>
              <a:path fill="none" w="3608" h="640">
                <a:moveTo>
                  <a:pt x="3608" y="255"/>
                </a:moveTo>
                <a:lnTo>
                  <a:pt x="3502" y="275"/>
                </a:lnTo>
                <a:lnTo>
                  <a:pt x="3438" y="275"/>
                </a:lnTo>
                <a:lnTo>
                  <a:pt x="3374" y="275"/>
                </a:lnTo>
                <a:lnTo>
                  <a:pt x="3310" y="233"/>
                </a:lnTo>
                <a:lnTo>
                  <a:pt x="3246" y="211"/>
                </a:lnTo>
                <a:lnTo>
                  <a:pt x="3032" y="211"/>
                </a:lnTo>
                <a:lnTo>
                  <a:pt x="2968" y="211"/>
                </a:lnTo>
                <a:lnTo>
                  <a:pt x="2904" y="211"/>
                </a:lnTo>
                <a:lnTo>
                  <a:pt x="2796" y="211"/>
                </a:lnTo>
                <a:lnTo>
                  <a:pt x="2732" y="211"/>
                </a:lnTo>
                <a:lnTo>
                  <a:pt x="2668" y="211"/>
                </a:lnTo>
                <a:lnTo>
                  <a:pt x="2584" y="211"/>
                </a:lnTo>
                <a:lnTo>
                  <a:pt x="2518" y="211"/>
                </a:lnTo>
                <a:lnTo>
                  <a:pt x="2454" y="211"/>
                </a:lnTo>
                <a:lnTo>
                  <a:pt x="2370" y="211"/>
                </a:lnTo>
                <a:lnTo>
                  <a:pt x="2242" y="211"/>
                </a:lnTo>
                <a:lnTo>
                  <a:pt x="2178" y="191"/>
                </a:lnTo>
                <a:lnTo>
                  <a:pt x="2092" y="169"/>
                </a:lnTo>
                <a:lnTo>
                  <a:pt x="2006" y="127"/>
                </a:lnTo>
                <a:lnTo>
                  <a:pt x="1942" y="105"/>
                </a:lnTo>
                <a:lnTo>
                  <a:pt x="1878" y="83"/>
                </a:lnTo>
                <a:lnTo>
                  <a:pt x="1814" y="63"/>
                </a:lnTo>
                <a:lnTo>
                  <a:pt x="1727" y="19"/>
                </a:lnTo>
                <a:lnTo>
                  <a:pt x="1621" y="19"/>
                </a:lnTo>
                <a:lnTo>
                  <a:pt x="1535" y="0"/>
                </a:lnTo>
                <a:lnTo>
                  <a:pt x="1323" y="0"/>
                </a:lnTo>
                <a:lnTo>
                  <a:pt x="1215" y="0"/>
                </a:lnTo>
                <a:lnTo>
                  <a:pt x="1151" y="19"/>
                </a:lnTo>
                <a:lnTo>
                  <a:pt x="1087" y="19"/>
                </a:lnTo>
                <a:lnTo>
                  <a:pt x="1023" y="19"/>
                </a:lnTo>
                <a:lnTo>
                  <a:pt x="937" y="19"/>
                </a:lnTo>
                <a:lnTo>
                  <a:pt x="853" y="63"/>
                </a:lnTo>
                <a:lnTo>
                  <a:pt x="789" y="63"/>
                </a:lnTo>
                <a:lnTo>
                  <a:pt x="725" y="83"/>
                </a:lnTo>
                <a:lnTo>
                  <a:pt x="661" y="105"/>
                </a:lnTo>
                <a:lnTo>
                  <a:pt x="597" y="127"/>
                </a:lnTo>
                <a:lnTo>
                  <a:pt x="511" y="191"/>
                </a:lnTo>
                <a:lnTo>
                  <a:pt x="447" y="233"/>
                </a:lnTo>
                <a:lnTo>
                  <a:pt x="383" y="275"/>
                </a:lnTo>
                <a:lnTo>
                  <a:pt x="319" y="319"/>
                </a:lnTo>
                <a:lnTo>
                  <a:pt x="255" y="362"/>
                </a:lnTo>
                <a:lnTo>
                  <a:pt x="191" y="404"/>
                </a:lnTo>
                <a:lnTo>
                  <a:pt x="127" y="448"/>
                </a:lnTo>
                <a:lnTo>
                  <a:pt x="63" y="512"/>
                </a:lnTo>
                <a:lnTo>
                  <a:pt x="19" y="576"/>
                </a:lnTo>
                <a:lnTo>
                  <a:pt x="0" y="64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"/>
          <p:cNvSpPr/>
          <p:nvPr/>
        </p:nvSpPr>
        <p:spPr>
          <a:xfrm>
            <a:off x="4398840" y="3191040"/>
            <a:ext cx="945000" cy="86040"/>
          </a:xfrm>
          <a:custGeom>
            <a:avLst/>
            <a:gdLst/>
            <a:ahLst/>
            <a:rect l="0" t="0" r="r" b="b"/>
            <a:pathLst>
              <a:path fill="none" w="2625" h="239">
                <a:moveTo>
                  <a:pt x="2625" y="239"/>
                </a:moveTo>
                <a:lnTo>
                  <a:pt x="2561" y="216"/>
                </a:lnTo>
                <a:lnTo>
                  <a:pt x="2497" y="216"/>
                </a:lnTo>
                <a:lnTo>
                  <a:pt x="2411" y="216"/>
                </a:lnTo>
                <a:lnTo>
                  <a:pt x="2347" y="216"/>
                </a:lnTo>
                <a:lnTo>
                  <a:pt x="2219" y="196"/>
                </a:lnTo>
                <a:lnTo>
                  <a:pt x="2197" y="132"/>
                </a:lnTo>
                <a:lnTo>
                  <a:pt x="2133" y="109"/>
                </a:lnTo>
                <a:lnTo>
                  <a:pt x="2049" y="109"/>
                </a:lnTo>
                <a:lnTo>
                  <a:pt x="1962" y="109"/>
                </a:lnTo>
                <a:lnTo>
                  <a:pt x="1898" y="109"/>
                </a:lnTo>
                <a:lnTo>
                  <a:pt x="1834" y="86"/>
                </a:lnTo>
                <a:lnTo>
                  <a:pt x="1748" y="44"/>
                </a:lnTo>
                <a:lnTo>
                  <a:pt x="1684" y="22"/>
                </a:lnTo>
                <a:lnTo>
                  <a:pt x="1578" y="0"/>
                </a:lnTo>
                <a:lnTo>
                  <a:pt x="1470" y="0"/>
                </a:lnTo>
                <a:lnTo>
                  <a:pt x="1386" y="0"/>
                </a:lnTo>
                <a:lnTo>
                  <a:pt x="1300" y="22"/>
                </a:lnTo>
                <a:lnTo>
                  <a:pt x="1236" y="44"/>
                </a:lnTo>
                <a:lnTo>
                  <a:pt x="1108" y="64"/>
                </a:lnTo>
                <a:lnTo>
                  <a:pt x="894" y="86"/>
                </a:lnTo>
                <a:lnTo>
                  <a:pt x="830" y="86"/>
                </a:lnTo>
                <a:lnTo>
                  <a:pt x="766" y="132"/>
                </a:lnTo>
                <a:lnTo>
                  <a:pt x="702" y="174"/>
                </a:lnTo>
                <a:lnTo>
                  <a:pt x="637" y="174"/>
                </a:lnTo>
                <a:lnTo>
                  <a:pt x="573" y="174"/>
                </a:lnTo>
                <a:lnTo>
                  <a:pt x="509" y="174"/>
                </a:lnTo>
                <a:lnTo>
                  <a:pt x="445" y="174"/>
                </a:lnTo>
                <a:lnTo>
                  <a:pt x="359" y="174"/>
                </a:lnTo>
                <a:lnTo>
                  <a:pt x="295" y="174"/>
                </a:lnTo>
                <a:lnTo>
                  <a:pt x="231" y="152"/>
                </a:lnTo>
                <a:lnTo>
                  <a:pt x="167" y="152"/>
                </a:lnTo>
                <a:lnTo>
                  <a:pt x="103" y="174"/>
                </a:lnTo>
                <a:lnTo>
                  <a:pt x="0" y="23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"/>
          <p:cNvSpPr/>
          <p:nvPr/>
        </p:nvSpPr>
        <p:spPr>
          <a:xfrm>
            <a:off x="4797360" y="587520"/>
            <a:ext cx="20016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"/>
          <p:cNvSpPr/>
          <p:nvPr/>
        </p:nvSpPr>
        <p:spPr>
          <a:xfrm>
            <a:off x="4789440" y="12175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"/>
          <p:cNvSpPr/>
          <p:nvPr/>
        </p:nvSpPr>
        <p:spPr>
          <a:xfrm>
            <a:off x="3298680" y="125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/>
          <p:nvPr/>
        </p:nvSpPr>
        <p:spPr>
          <a:xfrm>
            <a:off x="3398760" y="3096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3514680" y="5014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"/>
          <p:cNvSpPr/>
          <p:nvPr/>
        </p:nvSpPr>
        <p:spPr>
          <a:xfrm>
            <a:off x="3691080" y="81756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"/>
          <p:cNvSpPr/>
          <p:nvPr/>
        </p:nvSpPr>
        <p:spPr>
          <a:xfrm>
            <a:off x="4167360" y="9097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"/>
          <p:cNvSpPr/>
          <p:nvPr/>
        </p:nvSpPr>
        <p:spPr>
          <a:xfrm>
            <a:off x="4183200" y="17780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"/>
          <p:cNvSpPr/>
          <p:nvPr/>
        </p:nvSpPr>
        <p:spPr>
          <a:xfrm>
            <a:off x="3137040" y="19764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"/>
          <p:cNvSpPr/>
          <p:nvPr/>
        </p:nvSpPr>
        <p:spPr>
          <a:xfrm>
            <a:off x="4313160" y="20383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"/>
          <p:cNvSpPr/>
          <p:nvPr/>
        </p:nvSpPr>
        <p:spPr>
          <a:xfrm>
            <a:off x="4608360" y="2017800"/>
            <a:ext cx="17604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"/>
          <p:cNvSpPr/>
          <p:nvPr/>
        </p:nvSpPr>
        <p:spPr>
          <a:xfrm>
            <a:off x="4853160" y="2341440"/>
            <a:ext cx="16668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"/>
          <p:cNvSpPr/>
          <p:nvPr/>
        </p:nvSpPr>
        <p:spPr>
          <a:xfrm>
            <a:off x="5127480" y="2222640"/>
            <a:ext cx="160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5135400" y="26384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>
            <a:off x="5157720" y="24145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"/>
          <p:cNvSpPr/>
          <p:nvPr/>
        </p:nvSpPr>
        <p:spPr>
          <a:xfrm>
            <a:off x="5372280" y="2152800"/>
            <a:ext cx="18432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"/>
          <p:cNvSpPr/>
          <p:nvPr/>
        </p:nvSpPr>
        <p:spPr>
          <a:xfrm>
            <a:off x="5181480" y="30751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"/>
          <p:cNvSpPr/>
          <p:nvPr/>
        </p:nvSpPr>
        <p:spPr>
          <a:xfrm>
            <a:off x="4888080" y="28987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/>
          <p:nvPr/>
        </p:nvSpPr>
        <p:spPr>
          <a:xfrm>
            <a:off x="5280120" y="27972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"/>
          <p:cNvSpPr/>
          <p:nvPr/>
        </p:nvSpPr>
        <p:spPr>
          <a:xfrm>
            <a:off x="4675320" y="315288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"/>
          <p:cNvSpPr txBox="1"/>
          <p:nvPr/>
        </p:nvSpPr>
        <p:spPr>
          <a:xfrm>
            <a:off x="3322800" y="125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"/>
          <p:cNvSpPr txBox="1"/>
          <p:nvPr/>
        </p:nvSpPr>
        <p:spPr>
          <a:xfrm>
            <a:off x="3384720" y="3031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"/>
          <p:cNvSpPr txBox="1"/>
          <p:nvPr/>
        </p:nvSpPr>
        <p:spPr>
          <a:xfrm>
            <a:off x="3506760" y="493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"/>
          <p:cNvSpPr txBox="1"/>
          <p:nvPr/>
        </p:nvSpPr>
        <p:spPr>
          <a:xfrm>
            <a:off x="3684600" y="8096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4" name=""/>
          <p:cNvSpPr txBox="1"/>
          <p:nvPr/>
        </p:nvSpPr>
        <p:spPr>
          <a:xfrm>
            <a:off x="3138480" y="1960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"/>
          <p:cNvSpPr txBox="1"/>
          <p:nvPr/>
        </p:nvSpPr>
        <p:spPr>
          <a:xfrm>
            <a:off x="4175280" y="176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"/>
          <p:cNvSpPr txBox="1"/>
          <p:nvPr/>
        </p:nvSpPr>
        <p:spPr>
          <a:xfrm>
            <a:off x="4307040" y="20224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"/>
          <p:cNvSpPr txBox="1"/>
          <p:nvPr/>
        </p:nvSpPr>
        <p:spPr>
          <a:xfrm>
            <a:off x="4808520" y="23209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"/>
          <p:cNvSpPr/>
          <p:nvPr/>
        </p:nvSpPr>
        <p:spPr>
          <a:xfrm>
            <a:off x="4937040" y="287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"/>
          <p:cNvSpPr txBox="1"/>
          <p:nvPr/>
        </p:nvSpPr>
        <p:spPr>
          <a:xfrm>
            <a:off x="4930920" y="2793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"/>
          <p:cNvSpPr txBox="1"/>
          <p:nvPr/>
        </p:nvSpPr>
        <p:spPr>
          <a:xfrm>
            <a:off x="4782960" y="577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"/>
          <p:cNvSpPr txBox="1"/>
          <p:nvPr/>
        </p:nvSpPr>
        <p:spPr>
          <a:xfrm>
            <a:off x="4151160" y="901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"/>
          <p:cNvSpPr txBox="1"/>
          <p:nvPr/>
        </p:nvSpPr>
        <p:spPr>
          <a:xfrm>
            <a:off x="4782960" y="12002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"/>
          <p:cNvSpPr txBox="1"/>
          <p:nvPr/>
        </p:nvSpPr>
        <p:spPr>
          <a:xfrm>
            <a:off x="4562640" y="20019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"/>
          <p:cNvSpPr txBox="1"/>
          <p:nvPr/>
        </p:nvSpPr>
        <p:spPr>
          <a:xfrm>
            <a:off x="5086440" y="2206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"/>
          <p:cNvSpPr txBox="1"/>
          <p:nvPr/>
        </p:nvSpPr>
        <p:spPr>
          <a:xfrm>
            <a:off x="5335560" y="21286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"/>
          <p:cNvSpPr txBox="1"/>
          <p:nvPr/>
        </p:nvSpPr>
        <p:spPr>
          <a:xfrm>
            <a:off x="5148360" y="239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"/>
          <p:cNvSpPr txBox="1"/>
          <p:nvPr/>
        </p:nvSpPr>
        <p:spPr>
          <a:xfrm>
            <a:off x="5119560" y="26128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"/>
          <p:cNvSpPr txBox="1"/>
          <p:nvPr/>
        </p:nvSpPr>
        <p:spPr>
          <a:xfrm>
            <a:off x="5268960" y="277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"/>
          <p:cNvSpPr txBox="1"/>
          <p:nvPr/>
        </p:nvSpPr>
        <p:spPr>
          <a:xfrm>
            <a:off x="4876920" y="2870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"/>
          <p:cNvSpPr txBox="1"/>
          <p:nvPr/>
        </p:nvSpPr>
        <p:spPr>
          <a:xfrm>
            <a:off x="5168880" y="3046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"/>
          <p:cNvSpPr txBox="1"/>
          <p:nvPr/>
        </p:nvSpPr>
        <p:spPr>
          <a:xfrm>
            <a:off x="4662360" y="3127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"/>
          <p:cNvSpPr/>
          <p:nvPr/>
        </p:nvSpPr>
        <p:spPr>
          <a:xfrm>
            <a:off x="4751280" y="2232000"/>
            <a:ext cx="162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"/>
          <p:cNvSpPr txBox="1"/>
          <p:nvPr/>
        </p:nvSpPr>
        <p:spPr>
          <a:xfrm>
            <a:off x="4705200" y="22176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"/>
          <p:cNvSpPr/>
          <p:nvPr/>
        </p:nvSpPr>
        <p:spPr>
          <a:xfrm>
            <a:off x="5197320" y="81000"/>
            <a:ext cx="386280" cy="437040"/>
          </a:xfrm>
          <a:custGeom>
            <a:avLst/>
            <a:gdLst/>
            <a:ahLst/>
            <a:rect l="0" t="0" r="r" b="b"/>
            <a:pathLst>
              <a:path fill="none" w="1073" h="1214">
                <a:moveTo>
                  <a:pt x="0" y="0"/>
                </a:moveTo>
                <a:lnTo>
                  <a:pt x="22" y="63"/>
                </a:lnTo>
                <a:lnTo>
                  <a:pt x="44" y="127"/>
                </a:lnTo>
                <a:lnTo>
                  <a:pt x="107" y="171"/>
                </a:lnTo>
                <a:lnTo>
                  <a:pt x="171" y="213"/>
                </a:lnTo>
                <a:lnTo>
                  <a:pt x="191" y="277"/>
                </a:lnTo>
                <a:lnTo>
                  <a:pt x="235" y="342"/>
                </a:lnTo>
                <a:lnTo>
                  <a:pt x="255" y="427"/>
                </a:lnTo>
                <a:lnTo>
                  <a:pt x="300" y="491"/>
                </a:lnTo>
                <a:lnTo>
                  <a:pt x="342" y="555"/>
                </a:lnTo>
                <a:lnTo>
                  <a:pt x="405" y="597"/>
                </a:lnTo>
                <a:lnTo>
                  <a:pt x="469" y="619"/>
                </a:lnTo>
                <a:lnTo>
                  <a:pt x="533" y="639"/>
                </a:lnTo>
                <a:lnTo>
                  <a:pt x="597" y="683"/>
                </a:lnTo>
                <a:lnTo>
                  <a:pt x="661" y="725"/>
                </a:lnTo>
                <a:lnTo>
                  <a:pt x="705" y="788"/>
                </a:lnTo>
                <a:lnTo>
                  <a:pt x="724" y="852"/>
                </a:lnTo>
                <a:lnTo>
                  <a:pt x="768" y="917"/>
                </a:lnTo>
                <a:lnTo>
                  <a:pt x="768" y="981"/>
                </a:lnTo>
                <a:lnTo>
                  <a:pt x="811" y="1045"/>
                </a:lnTo>
                <a:lnTo>
                  <a:pt x="875" y="1067"/>
                </a:lnTo>
                <a:lnTo>
                  <a:pt x="939" y="1089"/>
                </a:lnTo>
                <a:lnTo>
                  <a:pt x="1003" y="1131"/>
                </a:lnTo>
                <a:lnTo>
                  <a:pt x="1073" y="1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>
            <a:off x="5175360" y="17136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 txBox="1"/>
          <p:nvPr/>
        </p:nvSpPr>
        <p:spPr>
          <a:xfrm>
            <a:off x="5165640" y="16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7" name=""/>
          <p:cNvGrpSpPr/>
          <p:nvPr/>
        </p:nvGrpSpPr>
        <p:grpSpPr>
          <a:xfrm>
            <a:off x="2854440" y="917640"/>
            <a:ext cx="2941560" cy="0"/>
            <a:chOff x="2854440" y="917640"/>
            <a:chExt cx="2941560" cy="0"/>
          </a:xfrm>
        </p:grpSpPr>
        <p:sp>
          <p:nvSpPr>
            <p:cNvPr id="4898" name=""/>
            <p:cNvSpPr/>
            <p:nvPr/>
          </p:nvSpPr>
          <p:spPr>
            <a:xfrm>
              <a:off x="2854440" y="9176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353052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362268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3706920" y="9176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4713120" y="9176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479736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4897440" y="917640"/>
              <a:ext cx="898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"/>
          <p:cNvGrpSpPr/>
          <p:nvPr/>
        </p:nvGrpSpPr>
        <p:grpSpPr>
          <a:xfrm>
            <a:off x="2854440" y="2154240"/>
            <a:ext cx="2957400" cy="0"/>
            <a:chOff x="2854440" y="2154240"/>
            <a:chExt cx="2957400" cy="0"/>
          </a:xfrm>
        </p:grpSpPr>
        <p:sp>
          <p:nvSpPr>
            <p:cNvPr id="4906" name=""/>
            <p:cNvSpPr/>
            <p:nvPr/>
          </p:nvSpPr>
          <p:spPr>
            <a:xfrm>
              <a:off x="2854440" y="21542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353052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362268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3706920" y="21542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4713120" y="21542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479736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4897440" y="2154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3" name=""/>
          <p:cNvGrpSpPr/>
          <p:nvPr/>
        </p:nvGrpSpPr>
        <p:grpSpPr>
          <a:xfrm>
            <a:off x="2854440" y="1554120"/>
            <a:ext cx="2949480" cy="0"/>
            <a:chOff x="2854440" y="1554120"/>
            <a:chExt cx="2949480" cy="0"/>
          </a:xfrm>
        </p:grpSpPr>
        <p:sp>
          <p:nvSpPr>
            <p:cNvPr id="4914" name=""/>
            <p:cNvSpPr/>
            <p:nvPr/>
          </p:nvSpPr>
          <p:spPr>
            <a:xfrm>
              <a:off x="2854440" y="155412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353052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362268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3706920" y="155412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4713120" y="155412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479736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4897440" y="1554120"/>
              <a:ext cx="90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1" name=""/>
          <p:cNvSpPr txBox="1"/>
          <p:nvPr/>
        </p:nvSpPr>
        <p:spPr>
          <a:xfrm>
            <a:off x="285444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2" name=""/>
          <p:cNvSpPr txBox="1"/>
          <p:nvPr/>
        </p:nvSpPr>
        <p:spPr>
          <a:xfrm>
            <a:off x="568152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"/>
          <p:cNvSpPr txBox="1"/>
          <p:nvPr/>
        </p:nvSpPr>
        <p:spPr>
          <a:xfrm>
            <a:off x="285444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"/>
          <p:cNvSpPr txBox="1"/>
          <p:nvPr/>
        </p:nvSpPr>
        <p:spPr>
          <a:xfrm>
            <a:off x="568152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"/>
          <p:cNvSpPr txBox="1"/>
          <p:nvPr/>
        </p:nvSpPr>
        <p:spPr>
          <a:xfrm>
            <a:off x="2854440" y="201312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"/>
          <p:cNvSpPr txBox="1"/>
          <p:nvPr/>
        </p:nvSpPr>
        <p:spPr>
          <a:xfrm>
            <a:off x="5681520" y="202104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0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"/>
          <p:cNvSpPr/>
          <p:nvPr/>
        </p:nvSpPr>
        <p:spPr>
          <a:xfrm>
            <a:off x="5586480" y="330516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"/>
          <p:cNvSpPr/>
          <p:nvPr/>
        </p:nvSpPr>
        <p:spPr>
          <a:xfrm>
            <a:off x="3065400" y="3352680"/>
            <a:ext cx="0" cy="874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"/>
          <p:cNvSpPr/>
          <p:nvPr/>
        </p:nvSpPr>
        <p:spPr>
          <a:xfrm>
            <a:off x="2749680" y="47880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"/>
          <p:cNvSpPr/>
          <p:nvPr/>
        </p:nvSpPr>
        <p:spPr>
          <a:xfrm>
            <a:off x="2749680" y="49402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"/>
          <p:cNvSpPr/>
          <p:nvPr/>
        </p:nvSpPr>
        <p:spPr>
          <a:xfrm>
            <a:off x="2749680" y="509256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"/>
          <p:cNvSpPr/>
          <p:nvPr/>
        </p:nvSpPr>
        <p:spPr>
          <a:xfrm>
            <a:off x="2749680" y="52452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"/>
          <p:cNvSpPr/>
          <p:nvPr/>
        </p:nvSpPr>
        <p:spPr>
          <a:xfrm>
            <a:off x="2749680" y="53974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"/>
          <p:cNvSpPr txBox="1"/>
          <p:nvPr/>
        </p:nvSpPr>
        <p:spPr>
          <a:xfrm>
            <a:off x="5637240" y="4664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"/>
          <p:cNvSpPr txBox="1"/>
          <p:nvPr/>
        </p:nvSpPr>
        <p:spPr>
          <a:xfrm>
            <a:off x="5637240" y="4816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"/>
          <p:cNvSpPr txBox="1"/>
          <p:nvPr/>
        </p:nvSpPr>
        <p:spPr>
          <a:xfrm>
            <a:off x="5637240" y="496872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"/>
          <p:cNvSpPr txBox="1"/>
          <p:nvPr/>
        </p:nvSpPr>
        <p:spPr>
          <a:xfrm>
            <a:off x="5637240" y="5121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"/>
          <p:cNvSpPr txBox="1"/>
          <p:nvPr/>
        </p:nvSpPr>
        <p:spPr>
          <a:xfrm>
            <a:off x="5637240" y="5273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"/>
          <p:cNvSpPr/>
          <p:nvPr/>
        </p:nvSpPr>
        <p:spPr>
          <a:xfrm>
            <a:off x="3067200" y="4695840"/>
            <a:ext cx="2524320" cy="702000"/>
          </a:xfrm>
          <a:custGeom>
            <a:avLst/>
            <a:gdLst/>
            <a:ahLst/>
            <a:rect l="0" t="0" r="r" b="b"/>
            <a:pathLst>
              <a:path w="7012" h="1950">
                <a:moveTo>
                  <a:pt x="0" y="0"/>
                </a:moveTo>
                <a:lnTo>
                  <a:pt x="39" y="52"/>
                </a:lnTo>
                <a:lnTo>
                  <a:pt x="92" y="57"/>
                </a:lnTo>
                <a:lnTo>
                  <a:pt x="132" y="97"/>
                </a:lnTo>
                <a:lnTo>
                  <a:pt x="171" y="110"/>
                </a:lnTo>
                <a:lnTo>
                  <a:pt x="211" y="123"/>
                </a:lnTo>
                <a:lnTo>
                  <a:pt x="251" y="136"/>
                </a:lnTo>
                <a:lnTo>
                  <a:pt x="291" y="123"/>
                </a:lnTo>
                <a:lnTo>
                  <a:pt x="330" y="123"/>
                </a:lnTo>
                <a:lnTo>
                  <a:pt x="370" y="123"/>
                </a:lnTo>
                <a:lnTo>
                  <a:pt x="436" y="149"/>
                </a:lnTo>
                <a:lnTo>
                  <a:pt x="476" y="176"/>
                </a:lnTo>
                <a:lnTo>
                  <a:pt x="515" y="189"/>
                </a:lnTo>
                <a:lnTo>
                  <a:pt x="555" y="202"/>
                </a:lnTo>
                <a:lnTo>
                  <a:pt x="621" y="202"/>
                </a:lnTo>
                <a:lnTo>
                  <a:pt x="661" y="216"/>
                </a:lnTo>
                <a:lnTo>
                  <a:pt x="701" y="229"/>
                </a:lnTo>
                <a:lnTo>
                  <a:pt x="767" y="282"/>
                </a:lnTo>
                <a:lnTo>
                  <a:pt x="806" y="321"/>
                </a:lnTo>
                <a:lnTo>
                  <a:pt x="846" y="361"/>
                </a:lnTo>
                <a:lnTo>
                  <a:pt x="899" y="388"/>
                </a:lnTo>
                <a:lnTo>
                  <a:pt x="939" y="401"/>
                </a:lnTo>
                <a:lnTo>
                  <a:pt x="992" y="414"/>
                </a:lnTo>
                <a:lnTo>
                  <a:pt x="1150" y="427"/>
                </a:lnTo>
                <a:lnTo>
                  <a:pt x="1203" y="440"/>
                </a:lnTo>
                <a:lnTo>
                  <a:pt x="1243" y="467"/>
                </a:lnTo>
                <a:lnTo>
                  <a:pt x="1283" y="480"/>
                </a:lnTo>
                <a:lnTo>
                  <a:pt x="1322" y="493"/>
                </a:lnTo>
                <a:lnTo>
                  <a:pt x="1362" y="507"/>
                </a:lnTo>
                <a:lnTo>
                  <a:pt x="1415" y="533"/>
                </a:lnTo>
                <a:lnTo>
                  <a:pt x="1468" y="573"/>
                </a:lnTo>
                <a:lnTo>
                  <a:pt x="1521" y="586"/>
                </a:lnTo>
                <a:lnTo>
                  <a:pt x="1561" y="599"/>
                </a:lnTo>
                <a:lnTo>
                  <a:pt x="1613" y="599"/>
                </a:lnTo>
                <a:lnTo>
                  <a:pt x="1653" y="612"/>
                </a:lnTo>
                <a:lnTo>
                  <a:pt x="1693" y="639"/>
                </a:lnTo>
                <a:lnTo>
                  <a:pt x="1733" y="652"/>
                </a:lnTo>
                <a:lnTo>
                  <a:pt x="1772" y="679"/>
                </a:lnTo>
                <a:lnTo>
                  <a:pt x="1812" y="692"/>
                </a:lnTo>
                <a:lnTo>
                  <a:pt x="1838" y="732"/>
                </a:lnTo>
                <a:lnTo>
                  <a:pt x="1878" y="758"/>
                </a:lnTo>
                <a:lnTo>
                  <a:pt x="1918" y="784"/>
                </a:lnTo>
                <a:lnTo>
                  <a:pt x="1957" y="811"/>
                </a:lnTo>
                <a:lnTo>
                  <a:pt x="2024" y="851"/>
                </a:lnTo>
                <a:lnTo>
                  <a:pt x="2037" y="890"/>
                </a:lnTo>
                <a:lnTo>
                  <a:pt x="2063" y="930"/>
                </a:lnTo>
                <a:lnTo>
                  <a:pt x="2103" y="956"/>
                </a:lnTo>
                <a:lnTo>
                  <a:pt x="2143" y="984"/>
                </a:lnTo>
                <a:lnTo>
                  <a:pt x="2182" y="1024"/>
                </a:lnTo>
                <a:lnTo>
                  <a:pt x="2235" y="1050"/>
                </a:lnTo>
                <a:lnTo>
                  <a:pt x="2275" y="1076"/>
                </a:lnTo>
                <a:lnTo>
                  <a:pt x="2288" y="1129"/>
                </a:lnTo>
                <a:lnTo>
                  <a:pt x="2301" y="1169"/>
                </a:lnTo>
                <a:lnTo>
                  <a:pt x="2328" y="1209"/>
                </a:lnTo>
                <a:lnTo>
                  <a:pt x="2368" y="1222"/>
                </a:lnTo>
                <a:lnTo>
                  <a:pt x="2407" y="1235"/>
                </a:lnTo>
                <a:lnTo>
                  <a:pt x="2447" y="1248"/>
                </a:lnTo>
                <a:lnTo>
                  <a:pt x="2500" y="1262"/>
                </a:lnTo>
                <a:lnTo>
                  <a:pt x="2540" y="1315"/>
                </a:lnTo>
                <a:lnTo>
                  <a:pt x="2592" y="1341"/>
                </a:lnTo>
                <a:lnTo>
                  <a:pt x="2632" y="1368"/>
                </a:lnTo>
                <a:lnTo>
                  <a:pt x="2685" y="1381"/>
                </a:lnTo>
                <a:lnTo>
                  <a:pt x="2725" y="1394"/>
                </a:lnTo>
                <a:lnTo>
                  <a:pt x="2764" y="1420"/>
                </a:lnTo>
                <a:lnTo>
                  <a:pt x="2831" y="1447"/>
                </a:lnTo>
                <a:lnTo>
                  <a:pt x="2883" y="1460"/>
                </a:lnTo>
                <a:lnTo>
                  <a:pt x="2923" y="1473"/>
                </a:lnTo>
                <a:lnTo>
                  <a:pt x="2963" y="1487"/>
                </a:lnTo>
                <a:lnTo>
                  <a:pt x="3003" y="1500"/>
                </a:lnTo>
                <a:lnTo>
                  <a:pt x="3055" y="1500"/>
                </a:lnTo>
                <a:lnTo>
                  <a:pt x="3095" y="1513"/>
                </a:lnTo>
                <a:lnTo>
                  <a:pt x="3135" y="1513"/>
                </a:lnTo>
                <a:lnTo>
                  <a:pt x="3175" y="1526"/>
                </a:lnTo>
                <a:lnTo>
                  <a:pt x="3214" y="1539"/>
                </a:lnTo>
                <a:lnTo>
                  <a:pt x="3254" y="1553"/>
                </a:lnTo>
                <a:lnTo>
                  <a:pt x="3280" y="1592"/>
                </a:lnTo>
                <a:lnTo>
                  <a:pt x="3294" y="1632"/>
                </a:lnTo>
                <a:lnTo>
                  <a:pt x="3320" y="1672"/>
                </a:lnTo>
                <a:lnTo>
                  <a:pt x="3333" y="1711"/>
                </a:lnTo>
                <a:lnTo>
                  <a:pt x="3373" y="1751"/>
                </a:lnTo>
                <a:lnTo>
                  <a:pt x="3386" y="1791"/>
                </a:lnTo>
                <a:lnTo>
                  <a:pt x="3399" y="1831"/>
                </a:lnTo>
                <a:lnTo>
                  <a:pt x="3426" y="1870"/>
                </a:lnTo>
                <a:lnTo>
                  <a:pt x="3466" y="1897"/>
                </a:lnTo>
                <a:lnTo>
                  <a:pt x="3505" y="1936"/>
                </a:lnTo>
                <a:lnTo>
                  <a:pt x="3546" y="1950"/>
                </a:lnTo>
                <a:lnTo>
                  <a:pt x="3586" y="1950"/>
                </a:lnTo>
                <a:lnTo>
                  <a:pt x="3625" y="1923"/>
                </a:lnTo>
                <a:lnTo>
                  <a:pt x="3639" y="1883"/>
                </a:lnTo>
                <a:lnTo>
                  <a:pt x="3665" y="1844"/>
                </a:lnTo>
                <a:lnTo>
                  <a:pt x="3691" y="1804"/>
                </a:lnTo>
                <a:lnTo>
                  <a:pt x="3718" y="1764"/>
                </a:lnTo>
                <a:lnTo>
                  <a:pt x="3758" y="1738"/>
                </a:lnTo>
                <a:lnTo>
                  <a:pt x="3797" y="1698"/>
                </a:lnTo>
                <a:lnTo>
                  <a:pt x="3824" y="1659"/>
                </a:lnTo>
                <a:lnTo>
                  <a:pt x="3824" y="1619"/>
                </a:lnTo>
                <a:lnTo>
                  <a:pt x="3850" y="1579"/>
                </a:lnTo>
                <a:lnTo>
                  <a:pt x="3877" y="1539"/>
                </a:lnTo>
                <a:lnTo>
                  <a:pt x="3903" y="1500"/>
                </a:lnTo>
                <a:lnTo>
                  <a:pt x="3930" y="1460"/>
                </a:lnTo>
                <a:lnTo>
                  <a:pt x="3956" y="1420"/>
                </a:lnTo>
                <a:lnTo>
                  <a:pt x="3996" y="1368"/>
                </a:lnTo>
                <a:lnTo>
                  <a:pt x="4022" y="1328"/>
                </a:lnTo>
                <a:lnTo>
                  <a:pt x="4062" y="1288"/>
                </a:lnTo>
                <a:lnTo>
                  <a:pt x="4088" y="1248"/>
                </a:lnTo>
                <a:lnTo>
                  <a:pt x="4128" y="1222"/>
                </a:lnTo>
                <a:lnTo>
                  <a:pt x="4168" y="1182"/>
                </a:lnTo>
                <a:lnTo>
                  <a:pt x="4194" y="1143"/>
                </a:lnTo>
                <a:lnTo>
                  <a:pt x="4234" y="1116"/>
                </a:lnTo>
                <a:lnTo>
                  <a:pt x="4274" y="1076"/>
                </a:lnTo>
                <a:lnTo>
                  <a:pt x="4313" y="1050"/>
                </a:lnTo>
                <a:lnTo>
                  <a:pt x="4353" y="1024"/>
                </a:lnTo>
                <a:lnTo>
                  <a:pt x="4393" y="1010"/>
                </a:lnTo>
                <a:lnTo>
                  <a:pt x="4432" y="984"/>
                </a:lnTo>
                <a:lnTo>
                  <a:pt x="4472" y="970"/>
                </a:lnTo>
                <a:lnTo>
                  <a:pt x="4512" y="943"/>
                </a:lnTo>
                <a:lnTo>
                  <a:pt x="4551" y="943"/>
                </a:lnTo>
                <a:lnTo>
                  <a:pt x="4591" y="943"/>
                </a:lnTo>
                <a:lnTo>
                  <a:pt x="4631" y="943"/>
                </a:lnTo>
                <a:lnTo>
                  <a:pt x="4670" y="943"/>
                </a:lnTo>
                <a:lnTo>
                  <a:pt x="4710" y="930"/>
                </a:lnTo>
                <a:lnTo>
                  <a:pt x="4750" y="917"/>
                </a:lnTo>
                <a:lnTo>
                  <a:pt x="4803" y="903"/>
                </a:lnTo>
                <a:lnTo>
                  <a:pt x="4842" y="890"/>
                </a:lnTo>
                <a:lnTo>
                  <a:pt x="4882" y="877"/>
                </a:lnTo>
                <a:lnTo>
                  <a:pt x="4922" y="877"/>
                </a:lnTo>
                <a:lnTo>
                  <a:pt x="4961" y="864"/>
                </a:lnTo>
                <a:lnTo>
                  <a:pt x="5001" y="851"/>
                </a:lnTo>
                <a:lnTo>
                  <a:pt x="5041" y="837"/>
                </a:lnTo>
                <a:lnTo>
                  <a:pt x="5081" y="837"/>
                </a:lnTo>
                <a:lnTo>
                  <a:pt x="5147" y="837"/>
                </a:lnTo>
                <a:lnTo>
                  <a:pt x="5186" y="837"/>
                </a:lnTo>
                <a:lnTo>
                  <a:pt x="5226" y="824"/>
                </a:lnTo>
                <a:lnTo>
                  <a:pt x="5279" y="811"/>
                </a:lnTo>
                <a:lnTo>
                  <a:pt x="5319" y="811"/>
                </a:lnTo>
                <a:lnTo>
                  <a:pt x="5385" y="798"/>
                </a:lnTo>
                <a:lnTo>
                  <a:pt x="5424" y="784"/>
                </a:lnTo>
                <a:lnTo>
                  <a:pt x="5477" y="771"/>
                </a:lnTo>
                <a:lnTo>
                  <a:pt x="5530" y="771"/>
                </a:lnTo>
                <a:lnTo>
                  <a:pt x="5570" y="758"/>
                </a:lnTo>
                <a:lnTo>
                  <a:pt x="5610" y="758"/>
                </a:lnTo>
                <a:lnTo>
                  <a:pt x="5649" y="758"/>
                </a:lnTo>
                <a:lnTo>
                  <a:pt x="5689" y="745"/>
                </a:lnTo>
                <a:lnTo>
                  <a:pt x="5729" y="718"/>
                </a:lnTo>
                <a:lnTo>
                  <a:pt x="5755" y="679"/>
                </a:lnTo>
                <a:lnTo>
                  <a:pt x="5795" y="679"/>
                </a:lnTo>
                <a:lnTo>
                  <a:pt x="5848" y="679"/>
                </a:lnTo>
                <a:lnTo>
                  <a:pt x="5887" y="679"/>
                </a:lnTo>
                <a:lnTo>
                  <a:pt x="5940" y="665"/>
                </a:lnTo>
                <a:lnTo>
                  <a:pt x="5993" y="652"/>
                </a:lnTo>
                <a:lnTo>
                  <a:pt x="6046" y="639"/>
                </a:lnTo>
                <a:lnTo>
                  <a:pt x="6086" y="626"/>
                </a:lnTo>
                <a:lnTo>
                  <a:pt x="6152" y="599"/>
                </a:lnTo>
                <a:lnTo>
                  <a:pt x="6192" y="586"/>
                </a:lnTo>
                <a:lnTo>
                  <a:pt x="6231" y="573"/>
                </a:lnTo>
                <a:lnTo>
                  <a:pt x="6271" y="546"/>
                </a:lnTo>
                <a:lnTo>
                  <a:pt x="6311" y="533"/>
                </a:lnTo>
                <a:lnTo>
                  <a:pt x="6351" y="533"/>
                </a:lnTo>
                <a:lnTo>
                  <a:pt x="6390" y="533"/>
                </a:lnTo>
                <a:lnTo>
                  <a:pt x="6443" y="533"/>
                </a:lnTo>
                <a:lnTo>
                  <a:pt x="6496" y="533"/>
                </a:lnTo>
                <a:lnTo>
                  <a:pt x="6536" y="533"/>
                </a:lnTo>
                <a:lnTo>
                  <a:pt x="6575" y="533"/>
                </a:lnTo>
                <a:lnTo>
                  <a:pt x="6734" y="507"/>
                </a:lnTo>
                <a:lnTo>
                  <a:pt x="6774" y="507"/>
                </a:lnTo>
                <a:lnTo>
                  <a:pt x="6827" y="480"/>
                </a:lnTo>
                <a:lnTo>
                  <a:pt x="6906" y="454"/>
                </a:lnTo>
                <a:lnTo>
                  <a:pt x="6946" y="454"/>
                </a:lnTo>
                <a:lnTo>
                  <a:pt x="6986" y="440"/>
                </a:lnTo>
                <a:lnTo>
                  <a:pt x="6999" y="436"/>
                </a:lnTo>
                <a:lnTo>
                  <a:pt x="6986" y="427"/>
                </a:lnTo>
                <a:lnTo>
                  <a:pt x="7012" y="427"/>
                </a:lnTo>
                <a:lnTo>
                  <a:pt x="7012" y="1950"/>
                </a:lnTo>
                <a:lnTo>
                  <a:pt x="0" y="1950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"/>
          <p:cNvSpPr/>
          <p:nvPr/>
        </p:nvSpPr>
        <p:spPr>
          <a:xfrm>
            <a:off x="5248440" y="961920"/>
            <a:ext cx="0" cy="270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"/>
          <p:cNvSpPr/>
          <p:nvPr/>
        </p:nvSpPr>
        <p:spPr>
          <a:xfrm>
            <a:off x="4581360" y="961920"/>
            <a:ext cx="0" cy="283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"/>
          <p:cNvSpPr/>
          <p:nvPr/>
        </p:nvSpPr>
        <p:spPr>
          <a:xfrm>
            <a:off x="4238640" y="102888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"/>
          <p:cNvSpPr/>
          <p:nvPr/>
        </p:nvSpPr>
        <p:spPr>
          <a:xfrm>
            <a:off x="4143240" y="971640"/>
            <a:ext cx="0" cy="313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"/>
          <p:cNvSpPr/>
          <p:nvPr/>
        </p:nvSpPr>
        <p:spPr>
          <a:xfrm>
            <a:off x="4086360" y="990720"/>
            <a:ext cx="0" cy="31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"/>
          <p:cNvSpPr/>
          <p:nvPr/>
        </p:nvSpPr>
        <p:spPr>
          <a:xfrm>
            <a:off x="4038480" y="98100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0" name=""/>
          <p:cNvSpPr/>
          <p:nvPr/>
        </p:nvSpPr>
        <p:spPr>
          <a:xfrm>
            <a:off x="3809880" y="971640"/>
            <a:ext cx="0" cy="299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1" name=""/>
          <p:cNvSpPr/>
          <p:nvPr/>
        </p:nvSpPr>
        <p:spPr>
          <a:xfrm>
            <a:off x="3467160" y="981000"/>
            <a:ext cx="0" cy="2857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2" name=""/>
          <p:cNvSpPr txBox="1"/>
          <p:nvPr/>
        </p:nvSpPr>
        <p:spPr>
          <a:xfrm>
            <a:off x="3813120" y="5381640"/>
            <a:ext cx="1027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B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3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"/>
          <p:cNvSpPr/>
          <p:nvPr/>
        </p:nvSpPr>
        <p:spPr>
          <a:xfrm>
            <a:off x="2789280" y="361332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"/>
          <p:cNvSpPr/>
          <p:nvPr/>
        </p:nvSpPr>
        <p:spPr>
          <a:xfrm>
            <a:off x="2789280" y="37656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"/>
          <p:cNvSpPr/>
          <p:nvPr/>
        </p:nvSpPr>
        <p:spPr>
          <a:xfrm>
            <a:off x="2789280" y="39178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7" name=""/>
          <p:cNvSpPr/>
          <p:nvPr/>
        </p:nvSpPr>
        <p:spPr>
          <a:xfrm>
            <a:off x="2789280" y="407052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"/>
          <p:cNvSpPr/>
          <p:nvPr/>
        </p:nvSpPr>
        <p:spPr>
          <a:xfrm>
            <a:off x="2789280" y="42228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"/>
          <p:cNvSpPr txBox="1"/>
          <p:nvPr/>
        </p:nvSpPr>
        <p:spPr>
          <a:xfrm>
            <a:off x="5651640" y="349092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"/>
          <p:cNvSpPr txBox="1"/>
          <p:nvPr/>
        </p:nvSpPr>
        <p:spPr>
          <a:xfrm>
            <a:off x="5651640" y="3643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1" name=""/>
          <p:cNvSpPr txBox="1"/>
          <p:nvPr/>
        </p:nvSpPr>
        <p:spPr>
          <a:xfrm>
            <a:off x="5651640" y="37958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"/>
          <p:cNvSpPr txBox="1"/>
          <p:nvPr/>
        </p:nvSpPr>
        <p:spPr>
          <a:xfrm>
            <a:off x="5651640" y="39387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"/>
          <p:cNvSpPr txBox="1"/>
          <p:nvPr/>
        </p:nvSpPr>
        <p:spPr>
          <a:xfrm>
            <a:off x="5651640" y="40910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"/>
          <p:cNvSpPr/>
          <p:nvPr/>
        </p:nvSpPr>
        <p:spPr>
          <a:xfrm>
            <a:off x="3071880" y="77760"/>
            <a:ext cx="2514600" cy="3200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"/>
          <p:cNvSpPr/>
          <p:nvPr/>
        </p:nvSpPr>
        <p:spPr>
          <a:xfrm>
            <a:off x="3075120" y="82440"/>
            <a:ext cx="390960" cy="340200"/>
          </a:xfrm>
          <a:custGeom>
            <a:avLst/>
            <a:gdLst/>
            <a:ahLst/>
            <a:rect l="0" t="0" r="r" b="b"/>
            <a:pathLst>
              <a:path fill="none" w="1086" h="945">
                <a:moveTo>
                  <a:pt x="1086" y="0"/>
                </a:moveTo>
                <a:lnTo>
                  <a:pt x="1086" y="70"/>
                </a:lnTo>
                <a:lnTo>
                  <a:pt x="1064" y="140"/>
                </a:lnTo>
                <a:lnTo>
                  <a:pt x="1018" y="233"/>
                </a:lnTo>
                <a:lnTo>
                  <a:pt x="971" y="348"/>
                </a:lnTo>
                <a:lnTo>
                  <a:pt x="947" y="440"/>
                </a:lnTo>
                <a:lnTo>
                  <a:pt x="876" y="489"/>
                </a:lnTo>
                <a:lnTo>
                  <a:pt x="783" y="489"/>
                </a:lnTo>
                <a:lnTo>
                  <a:pt x="690" y="557"/>
                </a:lnTo>
                <a:lnTo>
                  <a:pt x="597" y="581"/>
                </a:lnTo>
                <a:lnTo>
                  <a:pt x="504" y="649"/>
                </a:lnTo>
                <a:lnTo>
                  <a:pt x="458" y="721"/>
                </a:lnTo>
                <a:lnTo>
                  <a:pt x="387" y="743"/>
                </a:lnTo>
                <a:lnTo>
                  <a:pt x="294" y="767"/>
                </a:lnTo>
                <a:lnTo>
                  <a:pt x="201" y="835"/>
                </a:lnTo>
                <a:lnTo>
                  <a:pt x="132" y="906"/>
                </a:lnTo>
                <a:lnTo>
                  <a:pt x="61" y="930"/>
                </a:lnTo>
                <a:lnTo>
                  <a:pt x="0" y="9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"/>
          <p:cNvSpPr/>
          <p:nvPr/>
        </p:nvSpPr>
        <p:spPr>
          <a:xfrm>
            <a:off x="3071880" y="82440"/>
            <a:ext cx="568800" cy="2595960"/>
          </a:xfrm>
          <a:custGeom>
            <a:avLst/>
            <a:gdLst/>
            <a:ahLst/>
            <a:rect l="0" t="0" r="r" b="b"/>
            <a:pathLst>
              <a:path fill="none" w="1580" h="7211">
                <a:moveTo>
                  <a:pt x="1571" y="0"/>
                </a:moveTo>
                <a:lnTo>
                  <a:pt x="1580" y="46"/>
                </a:lnTo>
                <a:lnTo>
                  <a:pt x="1558" y="138"/>
                </a:lnTo>
                <a:lnTo>
                  <a:pt x="1558" y="231"/>
                </a:lnTo>
                <a:lnTo>
                  <a:pt x="1558" y="324"/>
                </a:lnTo>
                <a:lnTo>
                  <a:pt x="1488" y="416"/>
                </a:lnTo>
                <a:lnTo>
                  <a:pt x="1441" y="487"/>
                </a:lnTo>
                <a:lnTo>
                  <a:pt x="1371" y="555"/>
                </a:lnTo>
                <a:lnTo>
                  <a:pt x="1278" y="648"/>
                </a:lnTo>
                <a:lnTo>
                  <a:pt x="1256" y="718"/>
                </a:lnTo>
                <a:lnTo>
                  <a:pt x="1210" y="811"/>
                </a:lnTo>
                <a:lnTo>
                  <a:pt x="1162" y="903"/>
                </a:lnTo>
                <a:lnTo>
                  <a:pt x="1116" y="996"/>
                </a:lnTo>
                <a:lnTo>
                  <a:pt x="1070" y="1067"/>
                </a:lnTo>
                <a:lnTo>
                  <a:pt x="999" y="1135"/>
                </a:lnTo>
                <a:lnTo>
                  <a:pt x="977" y="1206"/>
                </a:lnTo>
                <a:lnTo>
                  <a:pt x="907" y="1252"/>
                </a:lnTo>
                <a:lnTo>
                  <a:pt x="860" y="1344"/>
                </a:lnTo>
                <a:lnTo>
                  <a:pt x="790" y="1415"/>
                </a:lnTo>
                <a:lnTo>
                  <a:pt x="697" y="1483"/>
                </a:lnTo>
                <a:lnTo>
                  <a:pt x="651" y="1554"/>
                </a:lnTo>
                <a:lnTo>
                  <a:pt x="605" y="1647"/>
                </a:lnTo>
                <a:lnTo>
                  <a:pt x="536" y="1739"/>
                </a:lnTo>
                <a:lnTo>
                  <a:pt x="488" y="1811"/>
                </a:lnTo>
                <a:lnTo>
                  <a:pt x="394" y="1879"/>
                </a:lnTo>
                <a:lnTo>
                  <a:pt x="326" y="1950"/>
                </a:lnTo>
                <a:lnTo>
                  <a:pt x="255" y="1972"/>
                </a:lnTo>
                <a:lnTo>
                  <a:pt x="187" y="2042"/>
                </a:lnTo>
                <a:lnTo>
                  <a:pt x="116" y="2089"/>
                </a:lnTo>
                <a:lnTo>
                  <a:pt x="70" y="2181"/>
                </a:lnTo>
                <a:lnTo>
                  <a:pt x="24" y="2252"/>
                </a:lnTo>
                <a:lnTo>
                  <a:pt x="0" y="2344"/>
                </a:lnTo>
                <a:lnTo>
                  <a:pt x="46" y="2437"/>
                </a:lnTo>
                <a:lnTo>
                  <a:pt x="94" y="2529"/>
                </a:lnTo>
                <a:lnTo>
                  <a:pt x="116" y="2644"/>
                </a:lnTo>
                <a:lnTo>
                  <a:pt x="141" y="2715"/>
                </a:lnTo>
                <a:lnTo>
                  <a:pt x="163" y="2807"/>
                </a:lnTo>
                <a:lnTo>
                  <a:pt x="209" y="2878"/>
                </a:lnTo>
                <a:lnTo>
                  <a:pt x="255" y="2992"/>
                </a:lnTo>
                <a:lnTo>
                  <a:pt x="326" y="3063"/>
                </a:lnTo>
                <a:lnTo>
                  <a:pt x="372" y="3134"/>
                </a:lnTo>
                <a:lnTo>
                  <a:pt x="419" y="3226"/>
                </a:lnTo>
                <a:lnTo>
                  <a:pt x="466" y="3319"/>
                </a:lnTo>
                <a:lnTo>
                  <a:pt x="536" y="3411"/>
                </a:lnTo>
                <a:lnTo>
                  <a:pt x="583" y="3504"/>
                </a:lnTo>
                <a:lnTo>
                  <a:pt x="605" y="3575"/>
                </a:lnTo>
                <a:lnTo>
                  <a:pt x="651" y="3667"/>
                </a:lnTo>
                <a:lnTo>
                  <a:pt x="651" y="3760"/>
                </a:lnTo>
                <a:lnTo>
                  <a:pt x="651" y="3852"/>
                </a:lnTo>
                <a:lnTo>
                  <a:pt x="651" y="3967"/>
                </a:lnTo>
                <a:lnTo>
                  <a:pt x="675" y="4062"/>
                </a:lnTo>
                <a:lnTo>
                  <a:pt x="697" y="4154"/>
                </a:lnTo>
                <a:lnTo>
                  <a:pt x="768" y="4247"/>
                </a:lnTo>
                <a:lnTo>
                  <a:pt x="836" y="4362"/>
                </a:lnTo>
                <a:lnTo>
                  <a:pt x="882" y="4432"/>
                </a:lnTo>
                <a:lnTo>
                  <a:pt x="907" y="4503"/>
                </a:lnTo>
                <a:lnTo>
                  <a:pt x="977" y="4617"/>
                </a:lnTo>
                <a:lnTo>
                  <a:pt x="1024" y="4688"/>
                </a:lnTo>
                <a:lnTo>
                  <a:pt x="1116" y="4781"/>
                </a:lnTo>
                <a:lnTo>
                  <a:pt x="1162" y="4873"/>
                </a:lnTo>
                <a:lnTo>
                  <a:pt x="1210" y="4944"/>
                </a:lnTo>
                <a:lnTo>
                  <a:pt x="1232" y="5036"/>
                </a:lnTo>
                <a:lnTo>
                  <a:pt x="1278" y="5129"/>
                </a:lnTo>
                <a:lnTo>
                  <a:pt x="1302" y="5222"/>
                </a:lnTo>
                <a:lnTo>
                  <a:pt x="1302" y="5314"/>
                </a:lnTo>
                <a:lnTo>
                  <a:pt x="1302" y="5385"/>
                </a:lnTo>
                <a:lnTo>
                  <a:pt x="1324" y="5547"/>
                </a:lnTo>
                <a:lnTo>
                  <a:pt x="1349" y="5617"/>
                </a:lnTo>
                <a:lnTo>
                  <a:pt x="1349" y="5732"/>
                </a:lnTo>
                <a:lnTo>
                  <a:pt x="1324" y="5849"/>
                </a:lnTo>
                <a:lnTo>
                  <a:pt x="1324" y="5919"/>
                </a:lnTo>
                <a:lnTo>
                  <a:pt x="1302" y="6012"/>
                </a:lnTo>
                <a:lnTo>
                  <a:pt x="1232" y="6080"/>
                </a:lnTo>
                <a:lnTo>
                  <a:pt x="1210" y="6151"/>
                </a:lnTo>
                <a:lnTo>
                  <a:pt x="1138" y="6221"/>
                </a:lnTo>
                <a:lnTo>
                  <a:pt x="1070" y="6314"/>
                </a:lnTo>
                <a:lnTo>
                  <a:pt x="999" y="6382"/>
                </a:lnTo>
                <a:lnTo>
                  <a:pt x="953" y="6453"/>
                </a:lnTo>
                <a:lnTo>
                  <a:pt x="882" y="6568"/>
                </a:lnTo>
                <a:lnTo>
                  <a:pt x="836" y="6638"/>
                </a:lnTo>
                <a:lnTo>
                  <a:pt x="814" y="6709"/>
                </a:lnTo>
                <a:lnTo>
                  <a:pt x="814" y="6801"/>
                </a:lnTo>
                <a:lnTo>
                  <a:pt x="790" y="6894"/>
                </a:lnTo>
                <a:lnTo>
                  <a:pt x="697" y="6940"/>
                </a:lnTo>
                <a:lnTo>
                  <a:pt x="605" y="7009"/>
                </a:lnTo>
                <a:lnTo>
                  <a:pt x="536" y="7079"/>
                </a:lnTo>
                <a:lnTo>
                  <a:pt x="466" y="7079"/>
                </a:lnTo>
                <a:lnTo>
                  <a:pt x="372" y="7079"/>
                </a:lnTo>
                <a:lnTo>
                  <a:pt x="302" y="7079"/>
                </a:lnTo>
                <a:lnTo>
                  <a:pt x="209" y="7125"/>
                </a:lnTo>
                <a:lnTo>
                  <a:pt x="141" y="7196"/>
                </a:lnTo>
                <a:lnTo>
                  <a:pt x="6" y="721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"/>
          <p:cNvSpPr/>
          <p:nvPr/>
        </p:nvSpPr>
        <p:spPr>
          <a:xfrm>
            <a:off x="3081240" y="82440"/>
            <a:ext cx="776520" cy="2916720"/>
          </a:xfrm>
          <a:custGeom>
            <a:avLst/>
            <a:gdLst/>
            <a:ahLst/>
            <a:rect l="0" t="0" r="r" b="b"/>
            <a:pathLst>
              <a:path fill="none" w="2157" h="8102">
                <a:moveTo>
                  <a:pt x="2157" y="0"/>
                </a:moveTo>
                <a:lnTo>
                  <a:pt x="2157" y="94"/>
                </a:lnTo>
                <a:lnTo>
                  <a:pt x="2157" y="187"/>
                </a:lnTo>
                <a:lnTo>
                  <a:pt x="2157" y="302"/>
                </a:lnTo>
                <a:lnTo>
                  <a:pt x="2133" y="372"/>
                </a:lnTo>
                <a:lnTo>
                  <a:pt x="2086" y="465"/>
                </a:lnTo>
                <a:lnTo>
                  <a:pt x="2040" y="535"/>
                </a:lnTo>
                <a:lnTo>
                  <a:pt x="1972" y="628"/>
                </a:lnTo>
                <a:lnTo>
                  <a:pt x="1926" y="720"/>
                </a:lnTo>
                <a:lnTo>
                  <a:pt x="1879" y="813"/>
                </a:lnTo>
                <a:lnTo>
                  <a:pt x="1809" y="906"/>
                </a:lnTo>
                <a:lnTo>
                  <a:pt x="1785" y="976"/>
                </a:lnTo>
                <a:lnTo>
                  <a:pt x="1716" y="1069"/>
                </a:lnTo>
                <a:lnTo>
                  <a:pt x="1646" y="1137"/>
                </a:lnTo>
                <a:lnTo>
                  <a:pt x="1600" y="1208"/>
                </a:lnTo>
                <a:lnTo>
                  <a:pt x="1507" y="1300"/>
                </a:lnTo>
                <a:lnTo>
                  <a:pt x="1461" y="1371"/>
                </a:lnTo>
                <a:lnTo>
                  <a:pt x="1415" y="1464"/>
                </a:lnTo>
                <a:lnTo>
                  <a:pt x="1368" y="1556"/>
                </a:lnTo>
                <a:lnTo>
                  <a:pt x="1344" y="1649"/>
                </a:lnTo>
                <a:lnTo>
                  <a:pt x="1276" y="1741"/>
                </a:lnTo>
                <a:lnTo>
                  <a:pt x="1252" y="1812"/>
                </a:lnTo>
                <a:lnTo>
                  <a:pt x="1183" y="1905"/>
                </a:lnTo>
                <a:lnTo>
                  <a:pt x="1137" y="1997"/>
                </a:lnTo>
                <a:lnTo>
                  <a:pt x="1091" y="2113"/>
                </a:lnTo>
                <a:lnTo>
                  <a:pt x="1091" y="2183"/>
                </a:lnTo>
                <a:lnTo>
                  <a:pt x="1091" y="2254"/>
                </a:lnTo>
                <a:lnTo>
                  <a:pt x="1091" y="2346"/>
                </a:lnTo>
                <a:lnTo>
                  <a:pt x="1044" y="2439"/>
                </a:lnTo>
                <a:lnTo>
                  <a:pt x="1019" y="2554"/>
                </a:lnTo>
                <a:lnTo>
                  <a:pt x="1066" y="2646"/>
                </a:lnTo>
                <a:lnTo>
                  <a:pt x="1113" y="2741"/>
                </a:lnTo>
                <a:lnTo>
                  <a:pt x="1159" y="2834"/>
                </a:lnTo>
                <a:lnTo>
                  <a:pt x="1183" y="2926"/>
                </a:lnTo>
                <a:lnTo>
                  <a:pt x="1252" y="3019"/>
                </a:lnTo>
                <a:lnTo>
                  <a:pt x="1298" y="3136"/>
                </a:lnTo>
                <a:lnTo>
                  <a:pt x="1368" y="3228"/>
                </a:lnTo>
                <a:lnTo>
                  <a:pt x="1439" y="3297"/>
                </a:lnTo>
                <a:lnTo>
                  <a:pt x="1485" y="3389"/>
                </a:lnTo>
                <a:lnTo>
                  <a:pt x="1531" y="3460"/>
                </a:lnTo>
                <a:lnTo>
                  <a:pt x="1578" y="3577"/>
                </a:lnTo>
                <a:lnTo>
                  <a:pt x="1646" y="3716"/>
                </a:lnTo>
                <a:lnTo>
                  <a:pt x="1716" y="3808"/>
                </a:lnTo>
                <a:lnTo>
                  <a:pt x="1738" y="3901"/>
                </a:lnTo>
                <a:lnTo>
                  <a:pt x="1763" y="3994"/>
                </a:lnTo>
                <a:lnTo>
                  <a:pt x="1763" y="4064"/>
                </a:lnTo>
                <a:lnTo>
                  <a:pt x="1785" y="4157"/>
                </a:lnTo>
                <a:lnTo>
                  <a:pt x="1833" y="4249"/>
                </a:lnTo>
                <a:lnTo>
                  <a:pt x="1926" y="4364"/>
                </a:lnTo>
                <a:lnTo>
                  <a:pt x="1926" y="4434"/>
                </a:lnTo>
                <a:lnTo>
                  <a:pt x="1948" y="4505"/>
                </a:lnTo>
                <a:lnTo>
                  <a:pt x="1972" y="4598"/>
                </a:lnTo>
                <a:lnTo>
                  <a:pt x="1972" y="4690"/>
                </a:lnTo>
                <a:lnTo>
                  <a:pt x="1948" y="4783"/>
                </a:lnTo>
                <a:lnTo>
                  <a:pt x="1926" y="4875"/>
                </a:lnTo>
                <a:lnTo>
                  <a:pt x="1926" y="4946"/>
                </a:lnTo>
                <a:lnTo>
                  <a:pt x="1901" y="5039"/>
                </a:lnTo>
                <a:lnTo>
                  <a:pt x="1879" y="5153"/>
                </a:lnTo>
                <a:lnTo>
                  <a:pt x="1901" y="5246"/>
                </a:lnTo>
                <a:lnTo>
                  <a:pt x="1901" y="5316"/>
                </a:lnTo>
                <a:lnTo>
                  <a:pt x="1901" y="5387"/>
                </a:lnTo>
                <a:lnTo>
                  <a:pt x="1901" y="5480"/>
                </a:lnTo>
                <a:lnTo>
                  <a:pt x="1879" y="5572"/>
                </a:lnTo>
                <a:lnTo>
                  <a:pt x="1855" y="5665"/>
                </a:lnTo>
                <a:lnTo>
                  <a:pt x="1833" y="5757"/>
                </a:lnTo>
                <a:lnTo>
                  <a:pt x="1809" y="5850"/>
                </a:lnTo>
                <a:lnTo>
                  <a:pt x="1785" y="5943"/>
                </a:lnTo>
                <a:lnTo>
                  <a:pt x="1763" y="6013"/>
                </a:lnTo>
                <a:lnTo>
                  <a:pt x="1738" y="6107"/>
                </a:lnTo>
                <a:lnTo>
                  <a:pt x="1716" y="6199"/>
                </a:lnTo>
                <a:lnTo>
                  <a:pt x="1692" y="6292"/>
                </a:lnTo>
                <a:lnTo>
                  <a:pt x="1692" y="6363"/>
                </a:lnTo>
                <a:lnTo>
                  <a:pt x="1624" y="6523"/>
                </a:lnTo>
                <a:lnTo>
                  <a:pt x="1600" y="6594"/>
                </a:lnTo>
                <a:lnTo>
                  <a:pt x="1553" y="6711"/>
                </a:lnTo>
                <a:lnTo>
                  <a:pt x="1507" y="6803"/>
                </a:lnTo>
                <a:lnTo>
                  <a:pt x="1461" y="6918"/>
                </a:lnTo>
                <a:lnTo>
                  <a:pt x="1393" y="7035"/>
                </a:lnTo>
                <a:lnTo>
                  <a:pt x="1322" y="7267"/>
                </a:lnTo>
                <a:lnTo>
                  <a:pt x="1298" y="7337"/>
                </a:lnTo>
                <a:lnTo>
                  <a:pt x="1183" y="7405"/>
                </a:lnTo>
                <a:lnTo>
                  <a:pt x="1113" y="7452"/>
                </a:lnTo>
                <a:lnTo>
                  <a:pt x="1019" y="7522"/>
                </a:lnTo>
                <a:lnTo>
                  <a:pt x="788" y="7593"/>
                </a:lnTo>
                <a:lnTo>
                  <a:pt x="696" y="7639"/>
                </a:lnTo>
                <a:lnTo>
                  <a:pt x="603" y="7661"/>
                </a:lnTo>
                <a:lnTo>
                  <a:pt x="462" y="7707"/>
                </a:lnTo>
                <a:lnTo>
                  <a:pt x="370" y="7754"/>
                </a:lnTo>
                <a:lnTo>
                  <a:pt x="277" y="7824"/>
                </a:lnTo>
                <a:lnTo>
                  <a:pt x="209" y="7917"/>
                </a:lnTo>
                <a:lnTo>
                  <a:pt x="138" y="7963"/>
                </a:lnTo>
                <a:lnTo>
                  <a:pt x="46" y="8010"/>
                </a:lnTo>
                <a:lnTo>
                  <a:pt x="0" y="81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8" name=""/>
          <p:cNvSpPr/>
          <p:nvPr/>
        </p:nvSpPr>
        <p:spPr>
          <a:xfrm>
            <a:off x="3075120" y="358920"/>
            <a:ext cx="1010160" cy="2832480"/>
          </a:xfrm>
          <a:custGeom>
            <a:avLst/>
            <a:gdLst/>
            <a:ahLst/>
            <a:rect l="0" t="0" r="r" b="b"/>
            <a:pathLst>
              <a:path fill="none" w="2806" h="7868">
                <a:moveTo>
                  <a:pt x="2806" y="0"/>
                </a:moveTo>
                <a:lnTo>
                  <a:pt x="2729" y="141"/>
                </a:lnTo>
                <a:lnTo>
                  <a:pt x="2689" y="185"/>
                </a:lnTo>
                <a:lnTo>
                  <a:pt x="2663" y="218"/>
                </a:lnTo>
                <a:lnTo>
                  <a:pt x="2647" y="271"/>
                </a:lnTo>
                <a:lnTo>
                  <a:pt x="2636" y="313"/>
                </a:lnTo>
                <a:lnTo>
                  <a:pt x="2614" y="352"/>
                </a:lnTo>
                <a:lnTo>
                  <a:pt x="2601" y="399"/>
                </a:lnTo>
                <a:lnTo>
                  <a:pt x="2581" y="432"/>
                </a:lnTo>
                <a:lnTo>
                  <a:pt x="2555" y="463"/>
                </a:lnTo>
                <a:lnTo>
                  <a:pt x="2495" y="515"/>
                </a:lnTo>
                <a:lnTo>
                  <a:pt x="2431" y="582"/>
                </a:lnTo>
                <a:lnTo>
                  <a:pt x="2398" y="637"/>
                </a:lnTo>
                <a:lnTo>
                  <a:pt x="2389" y="674"/>
                </a:lnTo>
                <a:lnTo>
                  <a:pt x="2363" y="754"/>
                </a:lnTo>
                <a:lnTo>
                  <a:pt x="2296" y="820"/>
                </a:lnTo>
                <a:lnTo>
                  <a:pt x="2230" y="926"/>
                </a:lnTo>
                <a:lnTo>
                  <a:pt x="2204" y="952"/>
                </a:lnTo>
                <a:lnTo>
                  <a:pt x="2177" y="1031"/>
                </a:lnTo>
                <a:lnTo>
                  <a:pt x="2151" y="1084"/>
                </a:lnTo>
                <a:lnTo>
                  <a:pt x="2097" y="1150"/>
                </a:lnTo>
                <a:lnTo>
                  <a:pt x="2097" y="1243"/>
                </a:lnTo>
                <a:lnTo>
                  <a:pt x="2057" y="1389"/>
                </a:lnTo>
                <a:lnTo>
                  <a:pt x="2057" y="1375"/>
                </a:lnTo>
                <a:lnTo>
                  <a:pt x="2031" y="1481"/>
                </a:lnTo>
                <a:lnTo>
                  <a:pt x="1991" y="1413"/>
                </a:lnTo>
                <a:lnTo>
                  <a:pt x="2057" y="1666"/>
                </a:lnTo>
                <a:lnTo>
                  <a:pt x="2111" y="1746"/>
                </a:lnTo>
                <a:lnTo>
                  <a:pt x="2070" y="1799"/>
                </a:lnTo>
                <a:lnTo>
                  <a:pt x="2111" y="1905"/>
                </a:lnTo>
                <a:lnTo>
                  <a:pt x="2124" y="1985"/>
                </a:lnTo>
                <a:lnTo>
                  <a:pt x="2164" y="2051"/>
                </a:lnTo>
                <a:lnTo>
                  <a:pt x="2217" y="2130"/>
                </a:lnTo>
                <a:lnTo>
                  <a:pt x="2257" y="2197"/>
                </a:lnTo>
                <a:lnTo>
                  <a:pt x="2296" y="2276"/>
                </a:lnTo>
                <a:lnTo>
                  <a:pt x="2310" y="2342"/>
                </a:lnTo>
                <a:lnTo>
                  <a:pt x="2323" y="2382"/>
                </a:lnTo>
                <a:lnTo>
                  <a:pt x="2310" y="2448"/>
                </a:lnTo>
                <a:lnTo>
                  <a:pt x="2296" y="2554"/>
                </a:lnTo>
                <a:lnTo>
                  <a:pt x="2283" y="2673"/>
                </a:lnTo>
                <a:lnTo>
                  <a:pt x="2243" y="2752"/>
                </a:lnTo>
                <a:lnTo>
                  <a:pt x="2177" y="2829"/>
                </a:lnTo>
                <a:lnTo>
                  <a:pt x="2177" y="2900"/>
                </a:lnTo>
                <a:lnTo>
                  <a:pt x="2199" y="2992"/>
                </a:lnTo>
                <a:lnTo>
                  <a:pt x="2224" y="3085"/>
                </a:lnTo>
                <a:lnTo>
                  <a:pt x="2224" y="3178"/>
                </a:lnTo>
                <a:lnTo>
                  <a:pt x="2224" y="3248"/>
                </a:lnTo>
                <a:lnTo>
                  <a:pt x="2224" y="3341"/>
                </a:lnTo>
                <a:lnTo>
                  <a:pt x="2246" y="3456"/>
                </a:lnTo>
                <a:lnTo>
                  <a:pt x="2270" y="3526"/>
                </a:lnTo>
                <a:lnTo>
                  <a:pt x="2316" y="3619"/>
                </a:lnTo>
                <a:lnTo>
                  <a:pt x="2340" y="3711"/>
                </a:lnTo>
                <a:lnTo>
                  <a:pt x="2363" y="3782"/>
                </a:lnTo>
                <a:lnTo>
                  <a:pt x="2387" y="3896"/>
                </a:lnTo>
                <a:lnTo>
                  <a:pt x="2409" y="3967"/>
                </a:lnTo>
                <a:lnTo>
                  <a:pt x="2409" y="4106"/>
                </a:lnTo>
                <a:lnTo>
                  <a:pt x="2409" y="4223"/>
                </a:lnTo>
                <a:lnTo>
                  <a:pt x="2409" y="4315"/>
                </a:lnTo>
                <a:lnTo>
                  <a:pt x="2409" y="4454"/>
                </a:lnTo>
                <a:lnTo>
                  <a:pt x="2433" y="4686"/>
                </a:lnTo>
                <a:lnTo>
                  <a:pt x="2433" y="4803"/>
                </a:lnTo>
                <a:lnTo>
                  <a:pt x="2433" y="5034"/>
                </a:lnTo>
                <a:lnTo>
                  <a:pt x="2409" y="5105"/>
                </a:lnTo>
                <a:lnTo>
                  <a:pt x="2363" y="5197"/>
                </a:lnTo>
                <a:lnTo>
                  <a:pt x="2270" y="5546"/>
                </a:lnTo>
                <a:lnTo>
                  <a:pt x="2199" y="5660"/>
                </a:lnTo>
                <a:lnTo>
                  <a:pt x="2177" y="5731"/>
                </a:lnTo>
                <a:lnTo>
                  <a:pt x="2131" y="6475"/>
                </a:lnTo>
                <a:lnTo>
                  <a:pt x="2084" y="6568"/>
                </a:lnTo>
                <a:lnTo>
                  <a:pt x="2013" y="6636"/>
                </a:lnTo>
                <a:lnTo>
                  <a:pt x="1945" y="6706"/>
                </a:lnTo>
                <a:lnTo>
                  <a:pt x="1898" y="6777"/>
                </a:lnTo>
                <a:lnTo>
                  <a:pt x="1828" y="6845"/>
                </a:lnTo>
                <a:lnTo>
                  <a:pt x="1757" y="6892"/>
                </a:lnTo>
                <a:lnTo>
                  <a:pt x="1642" y="7009"/>
                </a:lnTo>
                <a:lnTo>
                  <a:pt x="1572" y="7101"/>
                </a:lnTo>
                <a:lnTo>
                  <a:pt x="852" y="7425"/>
                </a:lnTo>
                <a:lnTo>
                  <a:pt x="782" y="7450"/>
                </a:lnTo>
                <a:lnTo>
                  <a:pt x="688" y="7450"/>
                </a:lnTo>
                <a:lnTo>
                  <a:pt x="573" y="7542"/>
                </a:lnTo>
                <a:lnTo>
                  <a:pt x="503" y="7610"/>
                </a:lnTo>
                <a:lnTo>
                  <a:pt x="432" y="7635"/>
                </a:lnTo>
                <a:lnTo>
                  <a:pt x="339" y="7659"/>
                </a:lnTo>
                <a:lnTo>
                  <a:pt x="247" y="7705"/>
                </a:lnTo>
                <a:lnTo>
                  <a:pt x="154" y="7727"/>
                </a:lnTo>
                <a:lnTo>
                  <a:pt x="132" y="7798"/>
                </a:lnTo>
                <a:lnTo>
                  <a:pt x="61" y="7844"/>
                </a:lnTo>
                <a:lnTo>
                  <a:pt x="0" y="786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"/>
          <p:cNvSpPr/>
          <p:nvPr/>
        </p:nvSpPr>
        <p:spPr>
          <a:xfrm>
            <a:off x="3076560" y="1733400"/>
            <a:ext cx="179640" cy="592560"/>
          </a:xfrm>
          <a:custGeom>
            <a:avLst/>
            <a:gdLst/>
            <a:ahLst/>
            <a:rect l="0" t="0" r="r" b="b"/>
            <a:pathLst>
              <a:path fill="none" w="499" h="1646">
                <a:moveTo>
                  <a:pt x="0" y="0"/>
                </a:moveTo>
                <a:lnTo>
                  <a:pt x="26" y="79"/>
                </a:lnTo>
                <a:lnTo>
                  <a:pt x="48" y="163"/>
                </a:lnTo>
                <a:lnTo>
                  <a:pt x="81" y="240"/>
                </a:lnTo>
                <a:lnTo>
                  <a:pt x="127" y="310"/>
                </a:lnTo>
                <a:lnTo>
                  <a:pt x="220" y="357"/>
                </a:lnTo>
                <a:lnTo>
                  <a:pt x="314" y="403"/>
                </a:lnTo>
                <a:lnTo>
                  <a:pt x="406" y="472"/>
                </a:lnTo>
                <a:lnTo>
                  <a:pt x="452" y="543"/>
                </a:lnTo>
                <a:lnTo>
                  <a:pt x="499" y="636"/>
                </a:lnTo>
                <a:lnTo>
                  <a:pt x="499" y="728"/>
                </a:lnTo>
                <a:lnTo>
                  <a:pt x="499" y="799"/>
                </a:lnTo>
                <a:lnTo>
                  <a:pt x="475" y="913"/>
                </a:lnTo>
                <a:lnTo>
                  <a:pt x="406" y="984"/>
                </a:lnTo>
                <a:lnTo>
                  <a:pt x="336" y="1052"/>
                </a:lnTo>
                <a:lnTo>
                  <a:pt x="314" y="1123"/>
                </a:lnTo>
                <a:lnTo>
                  <a:pt x="314" y="1193"/>
                </a:lnTo>
                <a:lnTo>
                  <a:pt x="267" y="1287"/>
                </a:lnTo>
                <a:lnTo>
                  <a:pt x="196" y="1333"/>
                </a:lnTo>
                <a:lnTo>
                  <a:pt x="127" y="1426"/>
                </a:lnTo>
                <a:lnTo>
                  <a:pt x="57" y="1494"/>
                </a:lnTo>
                <a:lnTo>
                  <a:pt x="0" y="164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"/>
          <p:cNvSpPr/>
          <p:nvPr/>
        </p:nvSpPr>
        <p:spPr>
          <a:xfrm>
            <a:off x="3456000" y="642960"/>
            <a:ext cx="878400" cy="2630880"/>
          </a:xfrm>
          <a:custGeom>
            <a:avLst/>
            <a:gdLst/>
            <a:ahLst/>
            <a:rect l="0" t="0" r="r" b="b"/>
            <a:pathLst>
              <a:path fill="none" w="2440" h="7308">
                <a:moveTo>
                  <a:pt x="1606" y="0"/>
                </a:moveTo>
                <a:lnTo>
                  <a:pt x="1625" y="244"/>
                </a:lnTo>
                <a:lnTo>
                  <a:pt x="1606" y="330"/>
                </a:lnTo>
                <a:lnTo>
                  <a:pt x="1612" y="383"/>
                </a:lnTo>
                <a:lnTo>
                  <a:pt x="1619" y="443"/>
                </a:lnTo>
                <a:lnTo>
                  <a:pt x="1639" y="482"/>
                </a:lnTo>
                <a:lnTo>
                  <a:pt x="1652" y="509"/>
                </a:lnTo>
                <a:lnTo>
                  <a:pt x="1652" y="555"/>
                </a:lnTo>
                <a:lnTo>
                  <a:pt x="1652" y="562"/>
                </a:lnTo>
                <a:lnTo>
                  <a:pt x="1645" y="568"/>
                </a:lnTo>
                <a:lnTo>
                  <a:pt x="1639" y="595"/>
                </a:lnTo>
                <a:lnTo>
                  <a:pt x="1619" y="634"/>
                </a:lnTo>
                <a:lnTo>
                  <a:pt x="1592" y="641"/>
                </a:lnTo>
                <a:lnTo>
                  <a:pt x="1606" y="694"/>
                </a:lnTo>
                <a:lnTo>
                  <a:pt x="1606" y="727"/>
                </a:lnTo>
                <a:lnTo>
                  <a:pt x="1592" y="753"/>
                </a:lnTo>
                <a:lnTo>
                  <a:pt x="1573" y="826"/>
                </a:lnTo>
                <a:lnTo>
                  <a:pt x="1553" y="872"/>
                </a:lnTo>
                <a:lnTo>
                  <a:pt x="1539" y="952"/>
                </a:lnTo>
                <a:lnTo>
                  <a:pt x="1539" y="1018"/>
                </a:lnTo>
                <a:lnTo>
                  <a:pt x="1533" y="1110"/>
                </a:lnTo>
                <a:lnTo>
                  <a:pt x="1522" y="1166"/>
                </a:lnTo>
                <a:lnTo>
                  <a:pt x="1588" y="1227"/>
                </a:lnTo>
                <a:lnTo>
                  <a:pt x="1619" y="1298"/>
                </a:lnTo>
                <a:lnTo>
                  <a:pt x="1654" y="1364"/>
                </a:lnTo>
                <a:lnTo>
                  <a:pt x="1667" y="1430"/>
                </a:lnTo>
                <a:lnTo>
                  <a:pt x="1767" y="1507"/>
                </a:lnTo>
                <a:lnTo>
                  <a:pt x="1767" y="1578"/>
                </a:lnTo>
                <a:lnTo>
                  <a:pt x="1813" y="1692"/>
                </a:lnTo>
                <a:lnTo>
                  <a:pt x="1836" y="1763"/>
                </a:lnTo>
                <a:lnTo>
                  <a:pt x="1907" y="1878"/>
                </a:lnTo>
                <a:lnTo>
                  <a:pt x="1953" y="1949"/>
                </a:lnTo>
                <a:lnTo>
                  <a:pt x="1999" y="2042"/>
                </a:lnTo>
                <a:lnTo>
                  <a:pt x="2021" y="2112"/>
                </a:lnTo>
                <a:lnTo>
                  <a:pt x="2067" y="2205"/>
                </a:lnTo>
                <a:lnTo>
                  <a:pt x="2092" y="2297"/>
                </a:lnTo>
                <a:lnTo>
                  <a:pt x="2138" y="2390"/>
                </a:lnTo>
                <a:lnTo>
                  <a:pt x="2162" y="2482"/>
                </a:lnTo>
                <a:lnTo>
                  <a:pt x="2184" y="2553"/>
                </a:lnTo>
                <a:lnTo>
                  <a:pt x="2209" y="2646"/>
                </a:lnTo>
                <a:lnTo>
                  <a:pt x="2255" y="2784"/>
                </a:lnTo>
                <a:lnTo>
                  <a:pt x="2277" y="2901"/>
                </a:lnTo>
                <a:lnTo>
                  <a:pt x="2277" y="2994"/>
                </a:lnTo>
                <a:lnTo>
                  <a:pt x="2323" y="3086"/>
                </a:lnTo>
                <a:lnTo>
                  <a:pt x="2323" y="3201"/>
                </a:lnTo>
                <a:lnTo>
                  <a:pt x="2323" y="3272"/>
                </a:lnTo>
                <a:lnTo>
                  <a:pt x="2323" y="3364"/>
                </a:lnTo>
                <a:lnTo>
                  <a:pt x="2323" y="3457"/>
                </a:lnTo>
                <a:lnTo>
                  <a:pt x="2323" y="3527"/>
                </a:lnTo>
                <a:lnTo>
                  <a:pt x="2323" y="3688"/>
                </a:lnTo>
                <a:lnTo>
                  <a:pt x="2323" y="3759"/>
                </a:lnTo>
                <a:lnTo>
                  <a:pt x="2277" y="3829"/>
                </a:lnTo>
                <a:lnTo>
                  <a:pt x="2231" y="3944"/>
                </a:lnTo>
                <a:lnTo>
                  <a:pt x="2301" y="4153"/>
                </a:lnTo>
                <a:lnTo>
                  <a:pt x="2440" y="4292"/>
                </a:lnTo>
                <a:lnTo>
                  <a:pt x="2440" y="4409"/>
                </a:lnTo>
                <a:lnTo>
                  <a:pt x="2440" y="4455"/>
                </a:lnTo>
                <a:lnTo>
                  <a:pt x="2440" y="4455"/>
                </a:lnTo>
                <a:lnTo>
                  <a:pt x="2323" y="4548"/>
                </a:lnTo>
                <a:lnTo>
                  <a:pt x="2323" y="4640"/>
                </a:lnTo>
                <a:lnTo>
                  <a:pt x="2277" y="4733"/>
                </a:lnTo>
                <a:lnTo>
                  <a:pt x="2231" y="4825"/>
                </a:lnTo>
                <a:lnTo>
                  <a:pt x="2162" y="4872"/>
                </a:lnTo>
                <a:lnTo>
                  <a:pt x="2045" y="4964"/>
                </a:lnTo>
                <a:lnTo>
                  <a:pt x="1999" y="5081"/>
                </a:lnTo>
                <a:lnTo>
                  <a:pt x="1975" y="5152"/>
                </a:lnTo>
                <a:lnTo>
                  <a:pt x="1929" y="5429"/>
                </a:lnTo>
                <a:lnTo>
                  <a:pt x="1882" y="5569"/>
                </a:lnTo>
                <a:lnTo>
                  <a:pt x="1860" y="5640"/>
                </a:lnTo>
                <a:lnTo>
                  <a:pt x="1789" y="5871"/>
                </a:lnTo>
                <a:lnTo>
                  <a:pt x="1720" y="5988"/>
                </a:lnTo>
                <a:lnTo>
                  <a:pt x="1625" y="6081"/>
                </a:lnTo>
                <a:lnTo>
                  <a:pt x="1487" y="6220"/>
                </a:lnTo>
                <a:lnTo>
                  <a:pt x="1418" y="6334"/>
                </a:lnTo>
                <a:lnTo>
                  <a:pt x="1348" y="6380"/>
                </a:lnTo>
                <a:lnTo>
                  <a:pt x="1209" y="6475"/>
                </a:lnTo>
                <a:lnTo>
                  <a:pt x="1138" y="6522"/>
                </a:lnTo>
                <a:lnTo>
                  <a:pt x="1024" y="6568"/>
                </a:lnTo>
                <a:lnTo>
                  <a:pt x="931" y="6660"/>
                </a:lnTo>
                <a:lnTo>
                  <a:pt x="860" y="6682"/>
                </a:lnTo>
                <a:lnTo>
                  <a:pt x="792" y="6753"/>
                </a:lnTo>
                <a:lnTo>
                  <a:pt x="721" y="6775"/>
                </a:lnTo>
                <a:lnTo>
                  <a:pt x="651" y="6821"/>
                </a:lnTo>
                <a:lnTo>
                  <a:pt x="582" y="6892"/>
                </a:lnTo>
                <a:lnTo>
                  <a:pt x="489" y="7009"/>
                </a:lnTo>
                <a:lnTo>
                  <a:pt x="418" y="7055"/>
                </a:lnTo>
                <a:lnTo>
                  <a:pt x="326" y="7101"/>
                </a:lnTo>
                <a:lnTo>
                  <a:pt x="255" y="7148"/>
                </a:lnTo>
                <a:lnTo>
                  <a:pt x="141" y="7216"/>
                </a:lnTo>
                <a:lnTo>
                  <a:pt x="0" y="730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"/>
          <p:cNvSpPr/>
          <p:nvPr/>
        </p:nvSpPr>
        <p:spPr>
          <a:xfrm>
            <a:off x="3760920" y="1309680"/>
            <a:ext cx="725760" cy="1962360"/>
          </a:xfrm>
          <a:custGeom>
            <a:avLst/>
            <a:gdLst/>
            <a:ahLst/>
            <a:rect l="0" t="0" r="r" b="b"/>
            <a:pathLst>
              <a:path fill="none" w="2016" h="5451">
                <a:moveTo>
                  <a:pt x="1150" y="0"/>
                </a:moveTo>
                <a:lnTo>
                  <a:pt x="1183" y="46"/>
                </a:lnTo>
                <a:lnTo>
                  <a:pt x="1229" y="125"/>
                </a:lnTo>
                <a:lnTo>
                  <a:pt x="1249" y="231"/>
                </a:lnTo>
                <a:lnTo>
                  <a:pt x="1302" y="277"/>
                </a:lnTo>
                <a:lnTo>
                  <a:pt x="1362" y="392"/>
                </a:lnTo>
                <a:lnTo>
                  <a:pt x="1430" y="485"/>
                </a:lnTo>
                <a:lnTo>
                  <a:pt x="1476" y="577"/>
                </a:lnTo>
                <a:lnTo>
                  <a:pt x="1522" y="648"/>
                </a:lnTo>
                <a:lnTo>
                  <a:pt x="1569" y="740"/>
                </a:lnTo>
                <a:lnTo>
                  <a:pt x="1639" y="809"/>
                </a:lnTo>
                <a:lnTo>
                  <a:pt x="1661" y="879"/>
                </a:lnTo>
                <a:lnTo>
                  <a:pt x="1732" y="972"/>
                </a:lnTo>
                <a:lnTo>
                  <a:pt x="1756" y="1042"/>
                </a:lnTo>
                <a:lnTo>
                  <a:pt x="1802" y="1135"/>
                </a:lnTo>
                <a:lnTo>
                  <a:pt x="1848" y="1250"/>
                </a:lnTo>
                <a:lnTo>
                  <a:pt x="1870" y="1320"/>
                </a:lnTo>
                <a:lnTo>
                  <a:pt x="1917" y="1413"/>
                </a:lnTo>
                <a:lnTo>
                  <a:pt x="1917" y="1483"/>
                </a:lnTo>
                <a:lnTo>
                  <a:pt x="1941" y="1576"/>
                </a:lnTo>
                <a:lnTo>
                  <a:pt x="1941" y="1669"/>
                </a:lnTo>
                <a:lnTo>
                  <a:pt x="1941" y="1830"/>
                </a:lnTo>
                <a:lnTo>
                  <a:pt x="1941" y="1900"/>
                </a:lnTo>
                <a:lnTo>
                  <a:pt x="1941" y="1971"/>
                </a:lnTo>
                <a:lnTo>
                  <a:pt x="1941" y="2063"/>
                </a:lnTo>
                <a:lnTo>
                  <a:pt x="1963" y="2156"/>
                </a:lnTo>
                <a:lnTo>
                  <a:pt x="1943" y="2288"/>
                </a:lnTo>
                <a:lnTo>
                  <a:pt x="1950" y="2341"/>
                </a:lnTo>
                <a:lnTo>
                  <a:pt x="1956" y="2374"/>
                </a:lnTo>
                <a:lnTo>
                  <a:pt x="1969" y="2414"/>
                </a:lnTo>
                <a:lnTo>
                  <a:pt x="1983" y="2460"/>
                </a:lnTo>
                <a:lnTo>
                  <a:pt x="2003" y="2533"/>
                </a:lnTo>
                <a:lnTo>
                  <a:pt x="2009" y="2579"/>
                </a:lnTo>
                <a:lnTo>
                  <a:pt x="2016" y="2672"/>
                </a:lnTo>
                <a:lnTo>
                  <a:pt x="1989" y="2739"/>
                </a:lnTo>
                <a:lnTo>
                  <a:pt x="1943" y="2818"/>
                </a:lnTo>
                <a:lnTo>
                  <a:pt x="1884" y="2937"/>
                </a:lnTo>
                <a:lnTo>
                  <a:pt x="1837" y="3010"/>
                </a:lnTo>
                <a:lnTo>
                  <a:pt x="1798" y="3063"/>
                </a:lnTo>
                <a:lnTo>
                  <a:pt x="1725" y="3096"/>
                </a:lnTo>
                <a:lnTo>
                  <a:pt x="1666" y="3156"/>
                </a:lnTo>
                <a:lnTo>
                  <a:pt x="1619" y="3189"/>
                </a:lnTo>
                <a:lnTo>
                  <a:pt x="1573" y="3235"/>
                </a:lnTo>
                <a:lnTo>
                  <a:pt x="1520" y="3301"/>
                </a:lnTo>
                <a:lnTo>
                  <a:pt x="1500" y="3374"/>
                </a:lnTo>
                <a:lnTo>
                  <a:pt x="1487" y="3453"/>
                </a:lnTo>
                <a:lnTo>
                  <a:pt x="1454" y="3533"/>
                </a:lnTo>
                <a:lnTo>
                  <a:pt x="1414" y="3619"/>
                </a:lnTo>
                <a:lnTo>
                  <a:pt x="1375" y="3751"/>
                </a:lnTo>
                <a:lnTo>
                  <a:pt x="1348" y="3844"/>
                </a:lnTo>
                <a:lnTo>
                  <a:pt x="1282" y="3969"/>
                </a:lnTo>
                <a:lnTo>
                  <a:pt x="1216" y="4102"/>
                </a:lnTo>
                <a:lnTo>
                  <a:pt x="1157" y="4214"/>
                </a:lnTo>
                <a:lnTo>
                  <a:pt x="1124" y="4326"/>
                </a:lnTo>
                <a:lnTo>
                  <a:pt x="1097" y="4406"/>
                </a:lnTo>
                <a:lnTo>
                  <a:pt x="1011" y="4498"/>
                </a:lnTo>
                <a:lnTo>
                  <a:pt x="931" y="4604"/>
                </a:lnTo>
                <a:lnTo>
                  <a:pt x="759" y="4703"/>
                </a:lnTo>
                <a:lnTo>
                  <a:pt x="693" y="4796"/>
                </a:lnTo>
                <a:lnTo>
                  <a:pt x="588" y="4875"/>
                </a:lnTo>
                <a:lnTo>
                  <a:pt x="488" y="4955"/>
                </a:lnTo>
                <a:lnTo>
                  <a:pt x="370" y="5061"/>
                </a:lnTo>
                <a:lnTo>
                  <a:pt x="251" y="5114"/>
                </a:lnTo>
                <a:lnTo>
                  <a:pt x="185" y="5180"/>
                </a:lnTo>
                <a:lnTo>
                  <a:pt x="72" y="5312"/>
                </a:lnTo>
                <a:lnTo>
                  <a:pt x="0" y="545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2" name=""/>
          <p:cNvSpPr/>
          <p:nvPr/>
        </p:nvSpPr>
        <p:spPr>
          <a:xfrm>
            <a:off x="4033800" y="81000"/>
            <a:ext cx="1548000" cy="2224440"/>
          </a:xfrm>
          <a:custGeom>
            <a:avLst/>
            <a:gdLst/>
            <a:ahLst/>
            <a:rect l="0" t="0" r="r" b="b"/>
            <a:pathLst>
              <a:path fill="none" w="4300" h="6179">
                <a:moveTo>
                  <a:pt x="152" y="0"/>
                </a:moveTo>
                <a:lnTo>
                  <a:pt x="138" y="50"/>
                </a:lnTo>
                <a:lnTo>
                  <a:pt x="138" y="143"/>
                </a:lnTo>
                <a:lnTo>
                  <a:pt x="138" y="236"/>
                </a:lnTo>
                <a:lnTo>
                  <a:pt x="138" y="328"/>
                </a:lnTo>
                <a:lnTo>
                  <a:pt x="163" y="421"/>
                </a:lnTo>
                <a:lnTo>
                  <a:pt x="185" y="491"/>
                </a:lnTo>
                <a:lnTo>
                  <a:pt x="185" y="584"/>
                </a:lnTo>
                <a:lnTo>
                  <a:pt x="185" y="677"/>
                </a:lnTo>
                <a:lnTo>
                  <a:pt x="138" y="769"/>
                </a:lnTo>
                <a:lnTo>
                  <a:pt x="116" y="862"/>
                </a:lnTo>
                <a:lnTo>
                  <a:pt x="70" y="932"/>
                </a:lnTo>
                <a:lnTo>
                  <a:pt x="46" y="1025"/>
                </a:lnTo>
                <a:lnTo>
                  <a:pt x="46" y="1118"/>
                </a:lnTo>
                <a:lnTo>
                  <a:pt x="46" y="1210"/>
                </a:lnTo>
                <a:lnTo>
                  <a:pt x="22" y="1303"/>
                </a:lnTo>
                <a:lnTo>
                  <a:pt x="0" y="1374"/>
                </a:lnTo>
                <a:lnTo>
                  <a:pt x="0" y="1466"/>
                </a:lnTo>
                <a:lnTo>
                  <a:pt x="0" y="1559"/>
                </a:lnTo>
                <a:lnTo>
                  <a:pt x="46" y="1652"/>
                </a:lnTo>
                <a:lnTo>
                  <a:pt x="70" y="1744"/>
                </a:lnTo>
                <a:lnTo>
                  <a:pt x="92" y="1815"/>
                </a:lnTo>
                <a:lnTo>
                  <a:pt x="116" y="1907"/>
                </a:lnTo>
                <a:lnTo>
                  <a:pt x="116" y="2000"/>
                </a:lnTo>
                <a:lnTo>
                  <a:pt x="116" y="2093"/>
                </a:lnTo>
                <a:lnTo>
                  <a:pt x="138" y="2185"/>
                </a:lnTo>
                <a:lnTo>
                  <a:pt x="163" y="2256"/>
                </a:lnTo>
                <a:lnTo>
                  <a:pt x="163" y="2349"/>
                </a:lnTo>
                <a:lnTo>
                  <a:pt x="185" y="2487"/>
                </a:lnTo>
                <a:lnTo>
                  <a:pt x="231" y="2580"/>
                </a:lnTo>
                <a:lnTo>
                  <a:pt x="255" y="2673"/>
                </a:lnTo>
                <a:lnTo>
                  <a:pt x="255" y="2743"/>
                </a:lnTo>
                <a:lnTo>
                  <a:pt x="255" y="2858"/>
                </a:lnTo>
                <a:lnTo>
                  <a:pt x="255" y="2929"/>
                </a:lnTo>
                <a:lnTo>
                  <a:pt x="277" y="3021"/>
                </a:lnTo>
                <a:lnTo>
                  <a:pt x="301" y="3115"/>
                </a:lnTo>
                <a:lnTo>
                  <a:pt x="323" y="3185"/>
                </a:lnTo>
                <a:lnTo>
                  <a:pt x="323" y="3278"/>
                </a:lnTo>
                <a:lnTo>
                  <a:pt x="398" y="3432"/>
                </a:lnTo>
                <a:lnTo>
                  <a:pt x="462" y="3463"/>
                </a:lnTo>
                <a:lnTo>
                  <a:pt x="511" y="3556"/>
                </a:lnTo>
                <a:lnTo>
                  <a:pt x="557" y="3627"/>
                </a:lnTo>
                <a:lnTo>
                  <a:pt x="650" y="3695"/>
                </a:lnTo>
                <a:lnTo>
                  <a:pt x="696" y="3766"/>
                </a:lnTo>
                <a:lnTo>
                  <a:pt x="764" y="3858"/>
                </a:lnTo>
                <a:lnTo>
                  <a:pt x="835" y="3927"/>
                </a:lnTo>
                <a:lnTo>
                  <a:pt x="857" y="3997"/>
                </a:lnTo>
                <a:lnTo>
                  <a:pt x="903" y="4068"/>
                </a:lnTo>
                <a:lnTo>
                  <a:pt x="952" y="4160"/>
                </a:lnTo>
                <a:lnTo>
                  <a:pt x="1020" y="4253"/>
                </a:lnTo>
                <a:lnTo>
                  <a:pt x="1066" y="4346"/>
                </a:lnTo>
                <a:lnTo>
                  <a:pt x="1137" y="4438"/>
                </a:lnTo>
                <a:lnTo>
                  <a:pt x="1159" y="4509"/>
                </a:lnTo>
                <a:lnTo>
                  <a:pt x="1229" y="4577"/>
                </a:lnTo>
                <a:lnTo>
                  <a:pt x="1251" y="4648"/>
                </a:lnTo>
                <a:lnTo>
                  <a:pt x="1275" y="4740"/>
                </a:lnTo>
                <a:lnTo>
                  <a:pt x="1297" y="4833"/>
                </a:lnTo>
                <a:lnTo>
                  <a:pt x="1322" y="4904"/>
                </a:lnTo>
                <a:lnTo>
                  <a:pt x="1344" y="5018"/>
                </a:lnTo>
                <a:lnTo>
                  <a:pt x="1368" y="5089"/>
                </a:lnTo>
                <a:lnTo>
                  <a:pt x="1414" y="5182"/>
                </a:lnTo>
                <a:lnTo>
                  <a:pt x="1439" y="5296"/>
                </a:lnTo>
                <a:lnTo>
                  <a:pt x="1461" y="5367"/>
                </a:lnTo>
                <a:lnTo>
                  <a:pt x="1461" y="5437"/>
                </a:lnTo>
                <a:lnTo>
                  <a:pt x="1485" y="5530"/>
                </a:lnTo>
                <a:lnTo>
                  <a:pt x="1531" y="5623"/>
                </a:lnTo>
                <a:lnTo>
                  <a:pt x="1577" y="5715"/>
                </a:lnTo>
                <a:lnTo>
                  <a:pt x="1624" y="5786"/>
                </a:lnTo>
                <a:lnTo>
                  <a:pt x="1692" y="5879"/>
                </a:lnTo>
                <a:lnTo>
                  <a:pt x="1762" y="5971"/>
                </a:lnTo>
                <a:lnTo>
                  <a:pt x="1833" y="5993"/>
                </a:lnTo>
                <a:lnTo>
                  <a:pt x="1926" y="6018"/>
                </a:lnTo>
                <a:lnTo>
                  <a:pt x="2018" y="6086"/>
                </a:lnTo>
                <a:lnTo>
                  <a:pt x="2064" y="6156"/>
                </a:lnTo>
                <a:lnTo>
                  <a:pt x="2158" y="6179"/>
                </a:lnTo>
                <a:lnTo>
                  <a:pt x="2251" y="6179"/>
                </a:lnTo>
                <a:lnTo>
                  <a:pt x="2321" y="6156"/>
                </a:lnTo>
                <a:lnTo>
                  <a:pt x="2414" y="6132"/>
                </a:lnTo>
                <a:lnTo>
                  <a:pt x="2506" y="6110"/>
                </a:lnTo>
                <a:lnTo>
                  <a:pt x="2599" y="6040"/>
                </a:lnTo>
                <a:lnTo>
                  <a:pt x="2667" y="5947"/>
                </a:lnTo>
                <a:lnTo>
                  <a:pt x="2738" y="5879"/>
                </a:lnTo>
                <a:lnTo>
                  <a:pt x="2808" y="5808"/>
                </a:lnTo>
                <a:lnTo>
                  <a:pt x="2876" y="5737"/>
                </a:lnTo>
                <a:lnTo>
                  <a:pt x="2947" y="5691"/>
                </a:lnTo>
                <a:lnTo>
                  <a:pt x="3061" y="5620"/>
                </a:lnTo>
                <a:lnTo>
                  <a:pt x="3123" y="5568"/>
                </a:lnTo>
                <a:lnTo>
                  <a:pt x="3185" y="5515"/>
                </a:lnTo>
                <a:lnTo>
                  <a:pt x="3273" y="5471"/>
                </a:lnTo>
                <a:lnTo>
                  <a:pt x="3370" y="5418"/>
                </a:lnTo>
                <a:lnTo>
                  <a:pt x="3456" y="5391"/>
                </a:lnTo>
                <a:lnTo>
                  <a:pt x="3526" y="5391"/>
                </a:lnTo>
                <a:lnTo>
                  <a:pt x="3597" y="5367"/>
                </a:lnTo>
                <a:lnTo>
                  <a:pt x="3712" y="5296"/>
                </a:lnTo>
                <a:lnTo>
                  <a:pt x="3782" y="5228"/>
                </a:lnTo>
                <a:lnTo>
                  <a:pt x="3850" y="5157"/>
                </a:lnTo>
                <a:lnTo>
                  <a:pt x="3921" y="5065"/>
                </a:lnTo>
                <a:lnTo>
                  <a:pt x="3989" y="4972"/>
                </a:lnTo>
                <a:lnTo>
                  <a:pt x="4060" y="4904"/>
                </a:lnTo>
                <a:lnTo>
                  <a:pt x="4130" y="4855"/>
                </a:lnTo>
                <a:lnTo>
                  <a:pt x="4223" y="4809"/>
                </a:lnTo>
                <a:lnTo>
                  <a:pt x="4300" y="479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3" name=""/>
          <p:cNvSpPr/>
          <p:nvPr/>
        </p:nvSpPr>
        <p:spPr>
          <a:xfrm>
            <a:off x="4853160" y="88920"/>
            <a:ext cx="729000" cy="744840"/>
          </a:xfrm>
          <a:custGeom>
            <a:avLst/>
            <a:gdLst/>
            <a:ahLst/>
            <a:rect l="0" t="0" r="r" b="b"/>
            <a:pathLst>
              <a:path fill="none" w="2025" h="2069">
                <a:moveTo>
                  <a:pt x="0" y="0"/>
                </a:moveTo>
                <a:lnTo>
                  <a:pt x="48" y="48"/>
                </a:lnTo>
                <a:lnTo>
                  <a:pt x="97" y="137"/>
                </a:lnTo>
                <a:lnTo>
                  <a:pt x="145" y="226"/>
                </a:lnTo>
                <a:lnTo>
                  <a:pt x="145" y="315"/>
                </a:lnTo>
                <a:lnTo>
                  <a:pt x="168" y="404"/>
                </a:lnTo>
                <a:lnTo>
                  <a:pt x="217" y="472"/>
                </a:lnTo>
                <a:lnTo>
                  <a:pt x="291" y="516"/>
                </a:lnTo>
                <a:lnTo>
                  <a:pt x="388" y="560"/>
                </a:lnTo>
                <a:lnTo>
                  <a:pt x="462" y="626"/>
                </a:lnTo>
                <a:lnTo>
                  <a:pt x="510" y="694"/>
                </a:lnTo>
                <a:lnTo>
                  <a:pt x="607" y="759"/>
                </a:lnTo>
                <a:lnTo>
                  <a:pt x="704" y="783"/>
                </a:lnTo>
                <a:lnTo>
                  <a:pt x="801" y="848"/>
                </a:lnTo>
                <a:lnTo>
                  <a:pt x="875" y="895"/>
                </a:lnTo>
                <a:lnTo>
                  <a:pt x="972" y="961"/>
                </a:lnTo>
                <a:lnTo>
                  <a:pt x="1093" y="1050"/>
                </a:lnTo>
                <a:lnTo>
                  <a:pt x="1167" y="1095"/>
                </a:lnTo>
                <a:lnTo>
                  <a:pt x="1216" y="1163"/>
                </a:lnTo>
                <a:lnTo>
                  <a:pt x="1313" y="1252"/>
                </a:lnTo>
                <a:lnTo>
                  <a:pt x="1320" y="1429"/>
                </a:lnTo>
                <a:lnTo>
                  <a:pt x="1491" y="1601"/>
                </a:lnTo>
                <a:lnTo>
                  <a:pt x="1703" y="1664"/>
                </a:lnTo>
                <a:lnTo>
                  <a:pt x="1874" y="1770"/>
                </a:lnTo>
                <a:lnTo>
                  <a:pt x="2025" y="20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"/>
          <p:cNvSpPr/>
          <p:nvPr/>
        </p:nvSpPr>
        <p:spPr>
          <a:xfrm>
            <a:off x="4106880" y="82440"/>
            <a:ext cx="1476720" cy="1679760"/>
          </a:xfrm>
          <a:custGeom>
            <a:avLst/>
            <a:gdLst/>
            <a:ahLst/>
            <a:rect l="0" t="0" r="r" b="b"/>
            <a:pathLst>
              <a:path fill="none" w="4102" h="4666">
                <a:moveTo>
                  <a:pt x="0" y="0"/>
                </a:moveTo>
                <a:lnTo>
                  <a:pt x="22" y="243"/>
                </a:lnTo>
                <a:lnTo>
                  <a:pt x="61" y="309"/>
                </a:lnTo>
                <a:lnTo>
                  <a:pt x="97" y="396"/>
                </a:lnTo>
                <a:lnTo>
                  <a:pt x="143" y="492"/>
                </a:lnTo>
                <a:lnTo>
                  <a:pt x="189" y="588"/>
                </a:lnTo>
                <a:lnTo>
                  <a:pt x="235" y="683"/>
                </a:lnTo>
                <a:lnTo>
                  <a:pt x="235" y="779"/>
                </a:lnTo>
                <a:lnTo>
                  <a:pt x="257" y="852"/>
                </a:lnTo>
                <a:lnTo>
                  <a:pt x="306" y="948"/>
                </a:lnTo>
                <a:lnTo>
                  <a:pt x="374" y="1043"/>
                </a:lnTo>
                <a:lnTo>
                  <a:pt x="421" y="1139"/>
                </a:lnTo>
                <a:lnTo>
                  <a:pt x="513" y="1235"/>
                </a:lnTo>
                <a:lnTo>
                  <a:pt x="537" y="1308"/>
                </a:lnTo>
                <a:lnTo>
                  <a:pt x="606" y="1403"/>
                </a:lnTo>
                <a:lnTo>
                  <a:pt x="652" y="1499"/>
                </a:lnTo>
                <a:lnTo>
                  <a:pt x="698" y="1595"/>
                </a:lnTo>
                <a:lnTo>
                  <a:pt x="723" y="1691"/>
                </a:lnTo>
                <a:lnTo>
                  <a:pt x="793" y="1739"/>
                </a:lnTo>
                <a:lnTo>
                  <a:pt x="886" y="1811"/>
                </a:lnTo>
                <a:lnTo>
                  <a:pt x="978" y="1882"/>
                </a:lnTo>
                <a:lnTo>
                  <a:pt x="1047" y="1955"/>
                </a:lnTo>
                <a:lnTo>
                  <a:pt x="1117" y="2051"/>
                </a:lnTo>
                <a:lnTo>
                  <a:pt x="1210" y="2146"/>
                </a:lnTo>
                <a:lnTo>
                  <a:pt x="1281" y="2242"/>
                </a:lnTo>
                <a:lnTo>
                  <a:pt x="1349" y="2364"/>
                </a:lnTo>
                <a:lnTo>
                  <a:pt x="1441" y="2483"/>
                </a:lnTo>
                <a:lnTo>
                  <a:pt x="1466" y="2555"/>
                </a:lnTo>
                <a:lnTo>
                  <a:pt x="1534" y="2651"/>
                </a:lnTo>
                <a:lnTo>
                  <a:pt x="1580" y="2724"/>
                </a:lnTo>
                <a:lnTo>
                  <a:pt x="1629" y="2843"/>
                </a:lnTo>
                <a:lnTo>
                  <a:pt x="1721" y="2938"/>
                </a:lnTo>
                <a:lnTo>
                  <a:pt x="1860" y="2963"/>
                </a:lnTo>
                <a:lnTo>
                  <a:pt x="1953" y="3011"/>
                </a:lnTo>
                <a:lnTo>
                  <a:pt x="2046" y="3084"/>
                </a:lnTo>
                <a:lnTo>
                  <a:pt x="2117" y="3132"/>
                </a:lnTo>
                <a:lnTo>
                  <a:pt x="2210" y="3203"/>
                </a:lnTo>
                <a:lnTo>
                  <a:pt x="2278" y="3276"/>
                </a:lnTo>
                <a:lnTo>
                  <a:pt x="2349" y="3371"/>
                </a:lnTo>
                <a:lnTo>
                  <a:pt x="2441" y="3515"/>
                </a:lnTo>
                <a:lnTo>
                  <a:pt x="2488" y="3588"/>
                </a:lnTo>
                <a:lnTo>
                  <a:pt x="2558" y="3684"/>
                </a:lnTo>
                <a:lnTo>
                  <a:pt x="2626" y="3779"/>
                </a:lnTo>
                <a:lnTo>
                  <a:pt x="2697" y="3875"/>
                </a:lnTo>
                <a:lnTo>
                  <a:pt x="2790" y="3996"/>
                </a:lnTo>
                <a:lnTo>
                  <a:pt x="2882" y="4044"/>
                </a:lnTo>
                <a:lnTo>
                  <a:pt x="2953" y="4114"/>
                </a:lnTo>
                <a:lnTo>
                  <a:pt x="3067" y="4210"/>
                </a:lnTo>
                <a:lnTo>
                  <a:pt x="3138" y="4283"/>
                </a:lnTo>
                <a:lnTo>
                  <a:pt x="3206" y="4379"/>
                </a:lnTo>
                <a:lnTo>
                  <a:pt x="3253" y="4452"/>
                </a:lnTo>
                <a:lnTo>
                  <a:pt x="3323" y="4547"/>
                </a:lnTo>
                <a:lnTo>
                  <a:pt x="3394" y="4595"/>
                </a:lnTo>
                <a:lnTo>
                  <a:pt x="3486" y="4643"/>
                </a:lnTo>
                <a:lnTo>
                  <a:pt x="3579" y="4643"/>
                </a:lnTo>
                <a:lnTo>
                  <a:pt x="3672" y="4666"/>
                </a:lnTo>
                <a:lnTo>
                  <a:pt x="3802" y="4645"/>
                </a:lnTo>
                <a:lnTo>
                  <a:pt x="3872" y="4655"/>
                </a:lnTo>
                <a:lnTo>
                  <a:pt x="3934" y="4627"/>
                </a:lnTo>
                <a:lnTo>
                  <a:pt x="4013" y="4609"/>
                </a:lnTo>
                <a:lnTo>
                  <a:pt x="4102" y="460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"/>
          <p:cNvSpPr/>
          <p:nvPr/>
        </p:nvSpPr>
        <p:spPr>
          <a:xfrm>
            <a:off x="4075200" y="326880"/>
            <a:ext cx="1508400" cy="1661040"/>
          </a:xfrm>
          <a:custGeom>
            <a:avLst/>
            <a:gdLst/>
            <a:ahLst/>
            <a:rect l="0" t="0" r="r" b="b"/>
            <a:pathLst>
              <a:path fill="none" w="4190" h="4614">
                <a:moveTo>
                  <a:pt x="63" y="0"/>
                </a:moveTo>
                <a:lnTo>
                  <a:pt x="0" y="335"/>
                </a:lnTo>
                <a:lnTo>
                  <a:pt x="11" y="474"/>
                </a:lnTo>
                <a:lnTo>
                  <a:pt x="44" y="714"/>
                </a:lnTo>
                <a:lnTo>
                  <a:pt x="176" y="1095"/>
                </a:lnTo>
                <a:lnTo>
                  <a:pt x="321" y="1387"/>
                </a:lnTo>
                <a:lnTo>
                  <a:pt x="394" y="1504"/>
                </a:lnTo>
                <a:lnTo>
                  <a:pt x="416" y="1575"/>
                </a:lnTo>
                <a:lnTo>
                  <a:pt x="463" y="1667"/>
                </a:lnTo>
                <a:lnTo>
                  <a:pt x="509" y="1760"/>
                </a:lnTo>
                <a:lnTo>
                  <a:pt x="555" y="1853"/>
                </a:lnTo>
                <a:lnTo>
                  <a:pt x="555" y="1945"/>
                </a:lnTo>
                <a:lnTo>
                  <a:pt x="555" y="2016"/>
                </a:lnTo>
                <a:lnTo>
                  <a:pt x="579" y="2108"/>
                </a:lnTo>
                <a:lnTo>
                  <a:pt x="601" y="2201"/>
                </a:lnTo>
                <a:lnTo>
                  <a:pt x="601" y="2294"/>
                </a:lnTo>
                <a:lnTo>
                  <a:pt x="648" y="2386"/>
                </a:lnTo>
                <a:lnTo>
                  <a:pt x="672" y="2525"/>
                </a:lnTo>
                <a:lnTo>
                  <a:pt x="694" y="2596"/>
                </a:lnTo>
                <a:lnTo>
                  <a:pt x="694" y="2710"/>
                </a:lnTo>
                <a:lnTo>
                  <a:pt x="787" y="2781"/>
                </a:lnTo>
                <a:lnTo>
                  <a:pt x="857" y="2827"/>
                </a:lnTo>
                <a:lnTo>
                  <a:pt x="928" y="2873"/>
                </a:lnTo>
                <a:lnTo>
                  <a:pt x="974" y="2944"/>
                </a:lnTo>
                <a:lnTo>
                  <a:pt x="1089" y="3059"/>
                </a:lnTo>
                <a:lnTo>
                  <a:pt x="1159" y="3129"/>
                </a:lnTo>
                <a:lnTo>
                  <a:pt x="1252" y="3268"/>
                </a:lnTo>
                <a:lnTo>
                  <a:pt x="1322" y="3361"/>
                </a:lnTo>
                <a:lnTo>
                  <a:pt x="1369" y="3431"/>
                </a:lnTo>
                <a:lnTo>
                  <a:pt x="1437" y="3547"/>
                </a:lnTo>
                <a:lnTo>
                  <a:pt x="1461" y="3617"/>
                </a:lnTo>
                <a:lnTo>
                  <a:pt x="1530" y="3710"/>
                </a:lnTo>
                <a:lnTo>
                  <a:pt x="1554" y="3781"/>
                </a:lnTo>
                <a:lnTo>
                  <a:pt x="1600" y="3873"/>
                </a:lnTo>
                <a:lnTo>
                  <a:pt x="1622" y="3966"/>
                </a:lnTo>
                <a:lnTo>
                  <a:pt x="1669" y="4058"/>
                </a:lnTo>
                <a:lnTo>
                  <a:pt x="1693" y="4151"/>
                </a:lnTo>
                <a:lnTo>
                  <a:pt x="1717" y="4222"/>
                </a:lnTo>
                <a:lnTo>
                  <a:pt x="1785" y="4336"/>
                </a:lnTo>
                <a:lnTo>
                  <a:pt x="1832" y="4407"/>
                </a:lnTo>
                <a:lnTo>
                  <a:pt x="1902" y="4475"/>
                </a:lnTo>
                <a:lnTo>
                  <a:pt x="1995" y="4568"/>
                </a:lnTo>
                <a:lnTo>
                  <a:pt x="2088" y="4614"/>
                </a:lnTo>
                <a:lnTo>
                  <a:pt x="2181" y="4614"/>
                </a:lnTo>
                <a:lnTo>
                  <a:pt x="2252" y="4614"/>
                </a:lnTo>
                <a:lnTo>
                  <a:pt x="2366" y="4592"/>
                </a:lnTo>
                <a:lnTo>
                  <a:pt x="2437" y="4568"/>
                </a:lnTo>
                <a:lnTo>
                  <a:pt x="2529" y="4521"/>
                </a:lnTo>
                <a:lnTo>
                  <a:pt x="2600" y="4499"/>
                </a:lnTo>
                <a:lnTo>
                  <a:pt x="2693" y="4475"/>
                </a:lnTo>
                <a:lnTo>
                  <a:pt x="2785" y="4453"/>
                </a:lnTo>
                <a:lnTo>
                  <a:pt x="2900" y="4429"/>
                </a:lnTo>
                <a:lnTo>
                  <a:pt x="2970" y="4407"/>
                </a:lnTo>
                <a:lnTo>
                  <a:pt x="3041" y="4383"/>
                </a:lnTo>
                <a:lnTo>
                  <a:pt x="3134" y="4336"/>
                </a:lnTo>
                <a:lnTo>
                  <a:pt x="3248" y="4336"/>
                </a:lnTo>
                <a:lnTo>
                  <a:pt x="3319" y="4336"/>
                </a:lnTo>
                <a:lnTo>
                  <a:pt x="3411" y="4314"/>
                </a:lnTo>
                <a:lnTo>
                  <a:pt x="3482" y="4290"/>
                </a:lnTo>
                <a:lnTo>
                  <a:pt x="3575" y="4268"/>
                </a:lnTo>
                <a:lnTo>
                  <a:pt x="3667" y="4222"/>
                </a:lnTo>
                <a:lnTo>
                  <a:pt x="3722" y="4180"/>
                </a:lnTo>
                <a:lnTo>
                  <a:pt x="3828" y="4109"/>
                </a:lnTo>
                <a:lnTo>
                  <a:pt x="3908" y="4065"/>
                </a:lnTo>
                <a:lnTo>
                  <a:pt x="4040" y="4012"/>
                </a:lnTo>
                <a:lnTo>
                  <a:pt x="4190" y="399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"/>
          <p:cNvSpPr/>
          <p:nvPr/>
        </p:nvSpPr>
        <p:spPr>
          <a:xfrm>
            <a:off x="4037040" y="647640"/>
            <a:ext cx="1545120" cy="1576800"/>
          </a:xfrm>
          <a:custGeom>
            <a:avLst/>
            <a:gdLst/>
            <a:ahLst/>
            <a:rect l="0" t="0" r="r" b="b"/>
            <a:pathLst>
              <a:path fill="none" w="4292" h="4380">
                <a:moveTo>
                  <a:pt x="0" y="0"/>
                </a:moveTo>
                <a:lnTo>
                  <a:pt x="99" y="112"/>
                </a:lnTo>
                <a:lnTo>
                  <a:pt x="165" y="224"/>
                </a:lnTo>
                <a:lnTo>
                  <a:pt x="211" y="363"/>
                </a:lnTo>
                <a:lnTo>
                  <a:pt x="238" y="542"/>
                </a:lnTo>
                <a:lnTo>
                  <a:pt x="257" y="707"/>
                </a:lnTo>
                <a:lnTo>
                  <a:pt x="323" y="872"/>
                </a:lnTo>
                <a:lnTo>
                  <a:pt x="350" y="1018"/>
                </a:lnTo>
                <a:lnTo>
                  <a:pt x="456" y="1131"/>
                </a:lnTo>
                <a:lnTo>
                  <a:pt x="456" y="1224"/>
                </a:lnTo>
                <a:lnTo>
                  <a:pt x="456" y="1290"/>
                </a:lnTo>
                <a:lnTo>
                  <a:pt x="442" y="1382"/>
                </a:lnTo>
                <a:lnTo>
                  <a:pt x="469" y="1435"/>
                </a:lnTo>
                <a:lnTo>
                  <a:pt x="495" y="1528"/>
                </a:lnTo>
                <a:lnTo>
                  <a:pt x="509" y="1581"/>
                </a:lnTo>
                <a:lnTo>
                  <a:pt x="561" y="1726"/>
                </a:lnTo>
                <a:lnTo>
                  <a:pt x="561" y="1779"/>
                </a:lnTo>
                <a:lnTo>
                  <a:pt x="614" y="1832"/>
                </a:lnTo>
                <a:lnTo>
                  <a:pt x="667" y="1885"/>
                </a:lnTo>
                <a:lnTo>
                  <a:pt x="747" y="1938"/>
                </a:lnTo>
                <a:lnTo>
                  <a:pt x="826" y="2043"/>
                </a:lnTo>
                <a:lnTo>
                  <a:pt x="918" y="2189"/>
                </a:lnTo>
                <a:lnTo>
                  <a:pt x="985" y="2242"/>
                </a:lnTo>
                <a:lnTo>
                  <a:pt x="1051" y="2347"/>
                </a:lnTo>
                <a:lnTo>
                  <a:pt x="1105" y="2440"/>
                </a:lnTo>
                <a:lnTo>
                  <a:pt x="1131" y="2559"/>
                </a:lnTo>
                <a:lnTo>
                  <a:pt x="1197" y="2691"/>
                </a:lnTo>
                <a:lnTo>
                  <a:pt x="1224" y="2744"/>
                </a:lnTo>
                <a:lnTo>
                  <a:pt x="1276" y="2810"/>
                </a:lnTo>
                <a:lnTo>
                  <a:pt x="1246" y="2872"/>
                </a:lnTo>
                <a:lnTo>
                  <a:pt x="1263" y="2898"/>
                </a:lnTo>
                <a:lnTo>
                  <a:pt x="1281" y="2934"/>
                </a:lnTo>
                <a:lnTo>
                  <a:pt x="1298" y="2960"/>
                </a:lnTo>
                <a:lnTo>
                  <a:pt x="1307" y="2987"/>
                </a:lnTo>
                <a:lnTo>
                  <a:pt x="1325" y="3022"/>
                </a:lnTo>
                <a:lnTo>
                  <a:pt x="1343" y="3048"/>
                </a:lnTo>
                <a:lnTo>
                  <a:pt x="1360" y="3084"/>
                </a:lnTo>
                <a:lnTo>
                  <a:pt x="1360" y="3110"/>
                </a:lnTo>
                <a:lnTo>
                  <a:pt x="1378" y="3136"/>
                </a:lnTo>
                <a:lnTo>
                  <a:pt x="1387" y="3172"/>
                </a:lnTo>
                <a:lnTo>
                  <a:pt x="1404" y="3198"/>
                </a:lnTo>
                <a:lnTo>
                  <a:pt x="1413" y="3225"/>
                </a:lnTo>
                <a:lnTo>
                  <a:pt x="1431" y="3260"/>
                </a:lnTo>
                <a:lnTo>
                  <a:pt x="1440" y="3287"/>
                </a:lnTo>
                <a:lnTo>
                  <a:pt x="1448" y="3314"/>
                </a:lnTo>
                <a:lnTo>
                  <a:pt x="1457" y="3340"/>
                </a:lnTo>
                <a:lnTo>
                  <a:pt x="1466" y="3367"/>
                </a:lnTo>
                <a:lnTo>
                  <a:pt x="1484" y="3393"/>
                </a:lnTo>
                <a:lnTo>
                  <a:pt x="1484" y="3420"/>
                </a:lnTo>
                <a:lnTo>
                  <a:pt x="1492" y="3446"/>
                </a:lnTo>
                <a:lnTo>
                  <a:pt x="1510" y="3481"/>
                </a:lnTo>
                <a:lnTo>
                  <a:pt x="1519" y="3508"/>
                </a:lnTo>
                <a:lnTo>
                  <a:pt x="1519" y="3534"/>
                </a:lnTo>
                <a:lnTo>
                  <a:pt x="1536" y="3561"/>
                </a:lnTo>
                <a:lnTo>
                  <a:pt x="1554" y="3587"/>
                </a:lnTo>
                <a:lnTo>
                  <a:pt x="1572" y="3631"/>
                </a:lnTo>
                <a:lnTo>
                  <a:pt x="1581" y="3658"/>
                </a:lnTo>
                <a:lnTo>
                  <a:pt x="1598" y="3702"/>
                </a:lnTo>
                <a:lnTo>
                  <a:pt x="1616" y="3728"/>
                </a:lnTo>
                <a:lnTo>
                  <a:pt x="1633" y="3763"/>
                </a:lnTo>
                <a:lnTo>
                  <a:pt x="1642" y="3790"/>
                </a:lnTo>
                <a:lnTo>
                  <a:pt x="1660" y="3816"/>
                </a:lnTo>
                <a:lnTo>
                  <a:pt x="1669" y="3843"/>
                </a:lnTo>
                <a:lnTo>
                  <a:pt x="1678" y="3869"/>
                </a:lnTo>
                <a:lnTo>
                  <a:pt x="1695" y="3904"/>
                </a:lnTo>
                <a:lnTo>
                  <a:pt x="1722" y="3931"/>
                </a:lnTo>
                <a:lnTo>
                  <a:pt x="1739" y="3966"/>
                </a:lnTo>
                <a:lnTo>
                  <a:pt x="1757" y="3992"/>
                </a:lnTo>
                <a:lnTo>
                  <a:pt x="1775" y="4019"/>
                </a:lnTo>
                <a:lnTo>
                  <a:pt x="1792" y="4045"/>
                </a:lnTo>
                <a:lnTo>
                  <a:pt x="1810" y="4081"/>
                </a:lnTo>
                <a:lnTo>
                  <a:pt x="1827" y="4107"/>
                </a:lnTo>
                <a:lnTo>
                  <a:pt x="1845" y="4134"/>
                </a:lnTo>
                <a:lnTo>
                  <a:pt x="1871" y="4160"/>
                </a:lnTo>
                <a:lnTo>
                  <a:pt x="1889" y="4186"/>
                </a:lnTo>
                <a:lnTo>
                  <a:pt x="1916" y="4213"/>
                </a:lnTo>
                <a:lnTo>
                  <a:pt x="1942" y="4239"/>
                </a:lnTo>
                <a:lnTo>
                  <a:pt x="1968" y="4257"/>
                </a:lnTo>
                <a:lnTo>
                  <a:pt x="1986" y="4283"/>
                </a:lnTo>
                <a:lnTo>
                  <a:pt x="2013" y="4301"/>
                </a:lnTo>
                <a:lnTo>
                  <a:pt x="2039" y="4310"/>
                </a:lnTo>
                <a:lnTo>
                  <a:pt x="2065" y="4327"/>
                </a:lnTo>
                <a:lnTo>
                  <a:pt x="2092" y="4327"/>
                </a:lnTo>
                <a:lnTo>
                  <a:pt x="2118" y="4345"/>
                </a:lnTo>
                <a:lnTo>
                  <a:pt x="2224" y="4372"/>
                </a:lnTo>
                <a:lnTo>
                  <a:pt x="2251" y="4372"/>
                </a:lnTo>
                <a:lnTo>
                  <a:pt x="2277" y="4380"/>
                </a:lnTo>
                <a:lnTo>
                  <a:pt x="2303" y="4380"/>
                </a:lnTo>
                <a:lnTo>
                  <a:pt x="2330" y="4380"/>
                </a:lnTo>
                <a:lnTo>
                  <a:pt x="2365" y="4380"/>
                </a:lnTo>
                <a:lnTo>
                  <a:pt x="2409" y="4380"/>
                </a:lnTo>
                <a:lnTo>
                  <a:pt x="2453" y="4380"/>
                </a:lnTo>
                <a:lnTo>
                  <a:pt x="2480" y="4363"/>
                </a:lnTo>
                <a:lnTo>
                  <a:pt x="2506" y="4345"/>
                </a:lnTo>
                <a:lnTo>
                  <a:pt x="2533" y="4327"/>
                </a:lnTo>
                <a:lnTo>
                  <a:pt x="2585" y="4292"/>
                </a:lnTo>
                <a:lnTo>
                  <a:pt x="2612" y="4275"/>
                </a:lnTo>
                <a:lnTo>
                  <a:pt x="2638" y="4248"/>
                </a:lnTo>
                <a:lnTo>
                  <a:pt x="2665" y="4230"/>
                </a:lnTo>
                <a:lnTo>
                  <a:pt x="2691" y="4213"/>
                </a:lnTo>
                <a:lnTo>
                  <a:pt x="2718" y="4195"/>
                </a:lnTo>
                <a:lnTo>
                  <a:pt x="2744" y="4178"/>
                </a:lnTo>
                <a:lnTo>
                  <a:pt x="2771" y="4151"/>
                </a:lnTo>
                <a:lnTo>
                  <a:pt x="2815" y="4116"/>
                </a:lnTo>
                <a:lnTo>
                  <a:pt x="2850" y="4107"/>
                </a:lnTo>
                <a:lnTo>
                  <a:pt x="2903" y="4072"/>
                </a:lnTo>
                <a:lnTo>
                  <a:pt x="2920" y="4045"/>
                </a:lnTo>
                <a:lnTo>
                  <a:pt x="2938" y="4019"/>
                </a:lnTo>
                <a:lnTo>
                  <a:pt x="2965" y="4001"/>
                </a:lnTo>
                <a:lnTo>
                  <a:pt x="2991" y="3966"/>
                </a:lnTo>
                <a:lnTo>
                  <a:pt x="3017" y="3940"/>
                </a:lnTo>
                <a:lnTo>
                  <a:pt x="3044" y="3922"/>
                </a:lnTo>
                <a:lnTo>
                  <a:pt x="3070" y="3904"/>
                </a:lnTo>
                <a:lnTo>
                  <a:pt x="3106" y="3887"/>
                </a:lnTo>
                <a:lnTo>
                  <a:pt x="3132" y="3878"/>
                </a:lnTo>
                <a:lnTo>
                  <a:pt x="3158" y="3869"/>
                </a:lnTo>
                <a:lnTo>
                  <a:pt x="3185" y="3851"/>
                </a:lnTo>
                <a:lnTo>
                  <a:pt x="3211" y="3843"/>
                </a:lnTo>
                <a:lnTo>
                  <a:pt x="3248" y="3825"/>
                </a:lnTo>
                <a:lnTo>
                  <a:pt x="3283" y="3807"/>
                </a:lnTo>
                <a:lnTo>
                  <a:pt x="3309" y="3790"/>
                </a:lnTo>
                <a:lnTo>
                  <a:pt x="3336" y="3781"/>
                </a:lnTo>
                <a:lnTo>
                  <a:pt x="3362" y="3772"/>
                </a:lnTo>
                <a:lnTo>
                  <a:pt x="3389" y="3763"/>
                </a:lnTo>
                <a:lnTo>
                  <a:pt x="3415" y="3754"/>
                </a:lnTo>
                <a:lnTo>
                  <a:pt x="3450" y="3746"/>
                </a:lnTo>
                <a:lnTo>
                  <a:pt x="3545" y="3704"/>
                </a:lnTo>
                <a:lnTo>
                  <a:pt x="3572" y="3671"/>
                </a:lnTo>
                <a:lnTo>
                  <a:pt x="3605" y="3664"/>
                </a:lnTo>
                <a:lnTo>
                  <a:pt x="3624" y="3638"/>
                </a:lnTo>
                <a:lnTo>
                  <a:pt x="3638" y="3638"/>
                </a:lnTo>
                <a:lnTo>
                  <a:pt x="3664" y="3611"/>
                </a:lnTo>
                <a:lnTo>
                  <a:pt x="3677" y="3598"/>
                </a:lnTo>
                <a:lnTo>
                  <a:pt x="3697" y="3572"/>
                </a:lnTo>
                <a:lnTo>
                  <a:pt x="3730" y="3552"/>
                </a:lnTo>
                <a:lnTo>
                  <a:pt x="3763" y="3539"/>
                </a:lnTo>
                <a:lnTo>
                  <a:pt x="3803" y="3512"/>
                </a:lnTo>
                <a:lnTo>
                  <a:pt x="3836" y="3486"/>
                </a:lnTo>
                <a:lnTo>
                  <a:pt x="3849" y="3466"/>
                </a:lnTo>
                <a:lnTo>
                  <a:pt x="3849" y="3472"/>
                </a:lnTo>
                <a:lnTo>
                  <a:pt x="3955" y="3367"/>
                </a:lnTo>
                <a:lnTo>
                  <a:pt x="4087" y="3253"/>
                </a:lnTo>
                <a:lnTo>
                  <a:pt x="4173" y="3220"/>
                </a:lnTo>
                <a:lnTo>
                  <a:pt x="4292" y="319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"/>
          <p:cNvSpPr/>
          <p:nvPr/>
        </p:nvSpPr>
        <p:spPr>
          <a:xfrm>
            <a:off x="4253040" y="82440"/>
            <a:ext cx="1329120" cy="1152720"/>
          </a:xfrm>
          <a:custGeom>
            <a:avLst/>
            <a:gdLst/>
            <a:ahLst/>
            <a:rect l="0" t="0" r="r" b="b"/>
            <a:pathLst>
              <a:path fill="none" w="3692" h="3202">
                <a:moveTo>
                  <a:pt x="0" y="0"/>
                </a:moveTo>
                <a:lnTo>
                  <a:pt x="39" y="46"/>
                </a:lnTo>
                <a:lnTo>
                  <a:pt x="59" y="105"/>
                </a:lnTo>
                <a:lnTo>
                  <a:pt x="119" y="145"/>
                </a:lnTo>
                <a:lnTo>
                  <a:pt x="178" y="185"/>
                </a:lnTo>
                <a:lnTo>
                  <a:pt x="218" y="244"/>
                </a:lnTo>
                <a:lnTo>
                  <a:pt x="257" y="304"/>
                </a:lnTo>
                <a:lnTo>
                  <a:pt x="317" y="304"/>
                </a:lnTo>
                <a:lnTo>
                  <a:pt x="377" y="383"/>
                </a:lnTo>
                <a:lnTo>
                  <a:pt x="396" y="443"/>
                </a:lnTo>
                <a:lnTo>
                  <a:pt x="416" y="502"/>
                </a:lnTo>
                <a:lnTo>
                  <a:pt x="436" y="562"/>
                </a:lnTo>
                <a:lnTo>
                  <a:pt x="456" y="621"/>
                </a:lnTo>
                <a:lnTo>
                  <a:pt x="515" y="661"/>
                </a:lnTo>
                <a:lnTo>
                  <a:pt x="575" y="701"/>
                </a:lnTo>
                <a:lnTo>
                  <a:pt x="635" y="740"/>
                </a:lnTo>
                <a:lnTo>
                  <a:pt x="694" y="760"/>
                </a:lnTo>
                <a:lnTo>
                  <a:pt x="754" y="800"/>
                </a:lnTo>
                <a:lnTo>
                  <a:pt x="853" y="840"/>
                </a:lnTo>
                <a:lnTo>
                  <a:pt x="912" y="859"/>
                </a:lnTo>
                <a:lnTo>
                  <a:pt x="973" y="899"/>
                </a:lnTo>
                <a:lnTo>
                  <a:pt x="1052" y="939"/>
                </a:lnTo>
                <a:lnTo>
                  <a:pt x="1112" y="978"/>
                </a:lnTo>
                <a:lnTo>
                  <a:pt x="1191" y="998"/>
                </a:lnTo>
                <a:lnTo>
                  <a:pt x="1251" y="1038"/>
                </a:lnTo>
                <a:lnTo>
                  <a:pt x="1310" y="1117"/>
                </a:lnTo>
                <a:lnTo>
                  <a:pt x="1350" y="1177"/>
                </a:lnTo>
                <a:lnTo>
                  <a:pt x="1409" y="1236"/>
                </a:lnTo>
                <a:lnTo>
                  <a:pt x="1489" y="1296"/>
                </a:lnTo>
                <a:lnTo>
                  <a:pt x="1548" y="1336"/>
                </a:lnTo>
                <a:lnTo>
                  <a:pt x="1608" y="1355"/>
                </a:lnTo>
                <a:lnTo>
                  <a:pt x="1667" y="1375"/>
                </a:lnTo>
                <a:lnTo>
                  <a:pt x="1727" y="1395"/>
                </a:lnTo>
                <a:lnTo>
                  <a:pt x="1826" y="1475"/>
                </a:lnTo>
                <a:lnTo>
                  <a:pt x="1886" y="1494"/>
                </a:lnTo>
                <a:lnTo>
                  <a:pt x="1985" y="1554"/>
                </a:lnTo>
                <a:lnTo>
                  <a:pt x="2064" y="1634"/>
                </a:lnTo>
                <a:lnTo>
                  <a:pt x="2124" y="1654"/>
                </a:lnTo>
                <a:lnTo>
                  <a:pt x="2183" y="1714"/>
                </a:lnTo>
                <a:lnTo>
                  <a:pt x="2243" y="1753"/>
                </a:lnTo>
                <a:lnTo>
                  <a:pt x="2302" y="1813"/>
                </a:lnTo>
                <a:lnTo>
                  <a:pt x="2342" y="1872"/>
                </a:lnTo>
                <a:lnTo>
                  <a:pt x="2382" y="1932"/>
                </a:lnTo>
                <a:lnTo>
                  <a:pt x="2461" y="2011"/>
                </a:lnTo>
                <a:lnTo>
                  <a:pt x="2521" y="2051"/>
                </a:lnTo>
                <a:lnTo>
                  <a:pt x="2560" y="2111"/>
                </a:lnTo>
                <a:lnTo>
                  <a:pt x="2620" y="2150"/>
                </a:lnTo>
                <a:lnTo>
                  <a:pt x="2679" y="2230"/>
                </a:lnTo>
                <a:lnTo>
                  <a:pt x="2739" y="2289"/>
                </a:lnTo>
                <a:lnTo>
                  <a:pt x="2799" y="2309"/>
                </a:lnTo>
                <a:lnTo>
                  <a:pt x="2859" y="2369"/>
                </a:lnTo>
                <a:lnTo>
                  <a:pt x="2919" y="2388"/>
                </a:lnTo>
                <a:lnTo>
                  <a:pt x="2978" y="2408"/>
                </a:lnTo>
                <a:lnTo>
                  <a:pt x="3038" y="2408"/>
                </a:lnTo>
                <a:lnTo>
                  <a:pt x="3097" y="2428"/>
                </a:lnTo>
                <a:lnTo>
                  <a:pt x="3177" y="2468"/>
                </a:lnTo>
                <a:lnTo>
                  <a:pt x="3216" y="2527"/>
                </a:lnTo>
                <a:lnTo>
                  <a:pt x="3276" y="2607"/>
                </a:lnTo>
                <a:lnTo>
                  <a:pt x="3335" y="2666"/>
                </a:lnTo>
                <a:lnTo>
                  <a:pt x="3355" y="2726"/>
                </a:lnTo>
                <a:lnTo>
                  <a:pt x="3395" y="2785"/>
                </a:lnTo>
                <a:lnTo>
                  <a:pt x="3454" y="2865"/>
                </a:lnTo>
                <a:lnTo>
                  <a:pt x="3474" y="2924"/>
                </a:lnTo>
                <a:lnTo>
                  <a:pt x="3514" y="2984"/>
                </a:lnTo>
                <a:lnTo>
                  <a:pt x="3554" y="3043"/>
                </a:lnTo>
                <a:lnTo>
                  <a:pt x="3573" y="3103"/>
                </a:lnTo>
                <a:lnTo>
                  <a:pt x="3633" y="3162"/>
                </a:lnTo>
                <a:lnTo>
                  <a:pt x="3692" y="3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"/>
          <p:cNvSpPr/>
          <p:nvPr/>
        </p:nvSpPr>
        <p:spPr>
          <a:xfrm>
            <a:off x="3898800" y="1852560"/>
            <a:ext cx="1679760" cy="1421280"/>
          </a:xfrm>
          <a:custGeom>
            <a:avLst/>
            <a:gdLst/>
            <a:ahLst/>
            <a:rect l="0" t="0" r="r" b="b"/>
            <a:pathLst>
              <a:path fill="none" w="4666" h="3948">
                <a:moveTo>
                  <a:pt x="0" y="3948"/>
                </a:moveTo>
                <a:lnTo>
                  <a:pt x="33" y="3823"/>
                </a:lnTo>
                <a:lnTo>
                  <a:pt x="271" y="3591"/>
                </a:lnTo>
                <a:lnTo>
                  <a:pt x="528" y="3334"/>
                </a:lnTo>
                <a:lnTo>
                  <a:pt x="694" y="3228"/>
                </a:lnTo>
                <a:lnTo>
                  <a:pt x="912" y="2909"/>
                </a:lnTo>
                <a:lnTo>
                  <a:pt x="1018" y="2637"/>
                </a:lnTo>
                <a:lnTo>
                  <a:pt x="1137" y="2520"/>
                </a:lnTo>
                <a:lnTo>
                  <a:pt x="1269" y="2295"/>
                </a:lnTo>
                <a:lnTo>
                  <a:pt x="1461" y="2023"/>
                </a:lnTo>
                <a:lnTo>
                  <a:pt x="1672" y="1567"/>
                </a:lnTo>
                <a:lnTo>
                  <a:pt x="1970" y="1357"/>
                </a:lnTo>
                <a:lnTo>
                  <a:pt x="2082" y="1362"/>
                </a:lnTo>
                <a:lnTo>
                  <a:pt x="2254" y="1467"/>
                </a:lnTo>
                <a:lnTo>
                  <a:pt x="2307" y="1567"/>
                </a:lnTo>
                <a:lnTo>
                  <a:pt x="2447" y="1660"/>
                </a:lnTo>
                <a:lnTo>
                  <a:pt x="2645" y="1746"/>
                </a:lnTo>
                <a:lnTo>
                  <a:pt x="2764" y="1673"/>
                </a:lnTo>
                <a:lnTo>
                  <a:pt x="2982" y="1389"/>
                </a:lnTo>
                <a:lnTo>
                  <a:pt x="3029" y="1350"/>
                </a:lnTo>
                <a:lnTo>
                  <a:pt x="3101" y="1335"/>
                </a:lnTo>
                <a:lnTo>
                  <a:pt x="3209" y="1291"/>
                </a:lnTo>
                <a:lnTo>
                  <a:pt x="3273" y="1220"/>
                </a:lnTo>
                <a:lnTo>
                  <a:pt x="3315" y="1149"/>
                </a:lnTo>
                <a:lnTo>
                  <a:pt x="3361" y="1036"/>
                </a:lnTo>
                <a:lnTo>
                  <a:pt x="3427" y="997"/>
                </a:lnTo>
                <a:lnTo>
                  <a:pt x="3529" y="964"/>
                </a:lnTo>
                <a:lnTo>
                  <a:pt x="3546" y="969"/>
                </a:lnTo>
                <a:lnTo>
                  <a:pt x="3665" y="957"/>
                </a:lnTo>
                <a:lnTo>
                  <a:pt x="3721" y="935"/>
                </a:lnTo>
                <a:lnTo>
                  <a:pt x="3784" y="864"/>
                </a:lnTo>
                <a:lnTo>
                  <a:pt x="3848" y="839"/>
                </a:lnTo>
                <a:lnTo>
                  <a:pt x="3912" y="793"/>
                </a:lnTo>
                <a:lnTo>
                  <a:pt x="3998" y="697"/>
                </a:lnTo>
                <a:lnTo>
                  <a:pt x="4062" y="651"/>
                </a:lnTo>
                <a:lnTo>
                  <a:pt x="4126" y="626"/>
                </a:lnTo>
                <a:lnTo>
                  <a:pt x="4168" y="555"/>
                </a:lnTo>
                <a:lnTo>
                  <a:pt x="4232" y="509"/>
                </a:lnTo>
                <a:lnTo>
                  <a:pt x="4254" y="438"/>
                </a:lnTo>
                <a:lnTo>
                  <a:pt x="4298" y="342"/>
                </a:lnTo>
                <a:lnTo>
                  <a:pt x="4362" y="271"/>
                </a:lnTo>
                <a:lnTo>
                  <a:pt x="4426" y="200"/>
                </a:lnTo>
                <a:lnTo>
                  <a:pt x="4490" y="105"/>
                </a:lnTo>
                <a:lnTo>
                  <a:pt x="4554" y="34"/>
                </a:lnTo>
                <a:lnTo>
                  <a:pt x="4618" y="12"/>
                </a:lnTo>
                <a:lnTo>
                  <a:pt x="466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"/>
          <p:cNvSpPr/>
          <p:nvPr/>
        </p:nvSpPr>
        <p:spPr>
          <a:xfrm>
            <a:off x="3949560" y="1908000"/>
            <a:ext cx="1632240" cy="1365480"/>
          </a:xfrm>
          <a:custGeom>
            <a:avLst/>
            <a:gdLst/>
            <a:ahLst/>
            <a:rect l="0" t="0" r="r" b="b"/>
            <a:pathLst>
              <a:path fill="none" w="4534" h="3793">
                <a:moveTo>
                  <a:pt x="4534" y="0"/>
                </a:moveTo>
                <a:lnTo>
                  <a:pt x="4492" y="63"/>
                </a:lnTo>
                <a:lnTo>
                  <a:pt x="4428" y="127"/>
                </a:lnTo>
                <a:lnTo>
                  <a:pt x="4364" y="171"/>
                </a:lnTo>
                <a:lnTo>
                  <a:pt x="4320" y="235"/>
                </a:lnTo>
                <a:lnTo>
                  <a:pt x="4278" y="299"/>
                </a:lnTo>
                <a:lnTo>
                  <a:pt x="4236" y="363"/>
                </a:lnTo>
                <a:lnTo>
                  <a:pt x="4192" y="427"/>
                </a:lnTo>
                <a:lnTo>
                  <a:pt x="4150" y="491"/>
                </a:lnTo>
                <a:lnTo>
                  <a:pt x="4086" y="533"/>
                </a:lnTo>
                <a:lnTo>
                  <a:pt x="4022" y="597"/>
                </a:lnTo>
                <a:lnTo>
                  <a:pt x="3958" y="641"/>
                </a:lnTo>
                <a:lnTo>
                  <a:pt x="3894" y="705"/>
                </a:lnTo>
                <a:lnTo>
                  <a:pt x="3808" y="747"/>
                </a:lnTo>
                <a:lnTo>
                  <a:pt x="3744" y="811"/>
                </a:lnTo>
                <a:lnTo>
                  <a:pt x="3680" y="833"/>
                </a:lnTo>
                <a:lnTo>
                  <a:pt x="3649" y="890"/>
                </a:lnTo>
                <a:lnTo>
                  <a:pt x="3605" y="930"/>
                </a:lnTo>
                <a:lnTo>
                  <a:pt x="3539" y="956"/>
                </a:lnTo>
                <a:lnTo>
                  <a:pt x="3504" y="987"/>
                </a:lnTo>
                <a:lnTo>
                  <a:pt x="3459" y="1040"/>
                </a:lnTo>
                <a:lnTo>
                  <a:pt x="3362" y="1128"/>
                </a:lnTo>
                <a:lnTo>
                  <a:pt x="3279" y="1177"/>
                </a:lnTo>
                <a:lnTo>
                  <a:pt x="3217" y="1212"/>
                </a:lnTo>
                <a:lnTo>
                  <a:pt x="3173" y="1265"/>
                </a:lnTo>
                <a:lnTo>
                  <a:pt x="3111" y="1309"/>
                </a:lnTo>
                <a:lnTo>
                  <a:pt x="3089" y="1375"/>
                </a:lnTo>
                <a:lnTo>
                  <a:pt x="3018" y="1428"/>
                </a:lnTo>
                <a:lnTo>
                  <a:pt x="2956" y="1521"/>
                </a:lnTo>
                <a:lnTo>
                  <a:pt x="2859" y="1569"/>
                </a:lnTo>
                <a:lnTo>
                  <a:pt x="2811" y="1631"/>
                </a:lnTo>
                <a:lnTo>
                  <a:pt x="2731" y="1697"/>
                </a:lnTo>
                <a:lnTo>
                  <a:pt x="2648" y="1737"/>
                </a:lnTo>
                <a:lnTo>
                  <a:pt x="2581" y="1755"/>
                </a:lnTo>
                <a:lnTo>
                  <a:pt x="2506" y="1746"/>
                </a:lnTo>
                <a:lnTo>
                  <a:pt x="2392" y="1737"/>
                </a:lnTo>
                <a:lnTo>
                  <a:pt x="2315" y="1642"/>
                </a:lnTo>
                <a:lnTo>
                  <a:pt x="2250" y="1600"/>
                </a:lnTo>
                <a:lnTo>
                  <a:pt x="2186" y="1536"/>
                </a:lnTo>
                <a:lnTo>
                  <a:pt x="2119" y="1494"/>
                </a:lnTo>
                <a:lnTo>
                  <a:pt x="2077" y="1430"/>
                </a:lnTo>
                <a:lnTo>
                  <a:pt x="2014" y="1408"/>
                </a:lnTo>
                <a:lnTo>
                  <a:pt x="1950" y="1386"/>
                </a:lnTo>
                <a:lnTo>
                  <a:pt x="1888" y="1318"/>
                </a:lnTo>
                <a:lnTo>
                  <a:pt x="1800" y="1386"/>
                </a:lnTo>
                <a:lnTo>
                  <a:pt x="1758" y="1450"/>
                </a:lnTo>
                <a:lnTo>
                  <a:pt x="1716" y="1514"/>
                </a:lnTo>
                <a:lnTo>
                  <a:pt x="1672" y="1578"/>
                </a:lnTo>
                <a:lnTo>
                  <a:pt x="1608" y="1642"/>
                </a:lnTo>
                <a:lnTo>
                  <a:pt x="1566" y="1708"/>
                </a:lnTo>
                <a:lnTo>
                  <a:pt x="1502" y="1772"/>
                </a:lnTo>
                <a:lnTo>
                  <a:pt x="1458" y="1836"/>
                </a:lnTo>
                <a:lnTo>
                  <a:pt x="1416" y="1901"/>
                </a:lnTo>
                <a:lnTo>
                  <a:pt x="1352" y="1965"/>
                </a:lnTo>
                <a:lnTo>
                  <a:pt x="1330" y="2029"/>
                </a:lnTo>
                <a:lnTo>
                  <a:pt x="1288" y="2093"/>
                </a:lnTo>
                <a:lnTo>
                  <a:pt x="1224" y="2177"/>
                </a:lnTo>
                <a:lnTo>
                  <a:pt x="1182" y="2241"/>
                </a:lnTo>
                <a:lnTo>
                  <a:pt x="1118" y="2305"/>
                </a:lnTo>
                <a:lnTo>
                  <a:pt x="1074" y="2371"/>
                </a:lnTo>
                <a:lnTo>
                  <a:pt x="1032" y="2435"/>
                </a:lnTo>
                <a:lnTo>
                  <a:pt x="990" y="2499"/>
                </a:lnTo>
                <a:lnTo>
                  <a:pt x="946" y="2563"/>
                </a:lnTo>
                <a:lnTo>
                  <a:pt x="904" y="2626"/>
                </a:lnTo>
                <a:lnTo>
                  <a:pt x="862" y="2690"/>
                </a:lnTo>
                <a:lnTo>
                  <a:pt x="818" y="2754"/>
                </a:lnTo>
                <a:lnTo>
                  <a:pt x="776" y="2818"/>
                </a:lnTo>
                <a:lnTo>
                  <a:pt x="754" y="2882"/>
                </a:lnTo>
                <a:lnTo>
                  <a:pt x="712" y="2946"/>
                </a:lnTo>
                <a:lnTo>
                  <a:pt x="668" y="3010"/>
                </a:lnTo>
                <a:lnTo>
                  <a:pt x="626" y="3074"/>
                </a:lnTo>
                <a:lnTo>
                  <a:pt x="562" y="3160"/>
                </a:lnTo>
                <a:lnTo>
                  <a:pt x="520" y="3224"/>
                </a:lnTo>
                <a:lnTo>
                  <a:pt x="456" y="3244"/>
                </a:lnTo>
                <a:lnTo>
                  <a:pt x="392" y="3288"/>
                </a:lnTo>
                <a:lnTo>
                  <a:pt x="348" y="3352"/>
                </a:lnTo>
                <a:lnTo>
                  <a:pt x="284" y="3394"/>
                </a:lnTo>
                <a:lnTo>
                  <a:pt x="220" y="3458"/>
                </a:lnTo>
                <a:lnTo>
                  <a:pt x="178" y="3522"/>
                </a:lnTo>
                <a:lnTo>
                  <a:pt x="114" y="3586"/>
                </a:lnTo>
                <a:lnTo>
                  <a:pt x="70" y="3650"/>
                </a:lnTo>
                <a:lnTo>
                  <a:pt x="28" y="3713"/>
                </a:lnTo>
                <a:lnTo>
                  <a:pt x="0" y="37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0" name=""/>
          <p:cNvSpPr/>
          <p:nvPr/>
        </p:nvSpPr>
        <p:spPr>
          <a:xfrm>
            <a:off x="4008600" y="2065320"/>
            <a:ext cx="1575000" cy="1208520"/>
          </a:xfrm>
          <a:custGeom>
            <a:avLst/>
            <a:gdLst/>
            <a:ahLst/>
            <a:rect l="0" t="0" r="r" b="b"/>
            <a:pathLst>
              <a:path fill="none" w="4375" h="3357">
                <a:moveTo>
                  <a:pt x="4375" y="0"/>
                </a:moveTo>
                <a:lnTo>
                  <a:pt x="4326" y="13"/>
                </a:lnTo>
                <a:lnTo>
                  <a:pt x="4262" y="33"/>
                </a:lnTo>
                <a:lnTo>
                  <a:pt x="4199" y="77"/>
                </a:lnTo>
                <a:lnTo>
                  <a:pt x="4135" y="97"/>
                </a:lnTo>
                <a:lnTo>
                  <a:pt x="4071" y="141"/>
                </a:lnTo>
                <a:lnTo>
                  <a:pt x="4027" y="224"/>
                </a:lnTo>
                <a:lnTo>
                  <a:pt x="3963" y="288"/>
                </a:lnTo>
                <a:lnTo>
                  <a:pt x="3899" y="352"/>
                </a:lnTo>
                <a:lnTo>
                  <a:pt x="3835" y="396"/>
                </a:lnTo>
                <a:lnTo>
                  <a:pt x="3771" y="460"/>
                </a:lnTo>
                <a:lnTo>
                  <a:pt x="3707" y="502"/>
                </a:lnTo>
                <a:lnTo>
                  <a:pt x="3665" y="566"/>
                </a:lnTo>
                <a:lnTo>
                  <a:pt x="3630" y="648"/>
                </a:lnTo>
                <a:lnTo>
                  <a:pt x="3586" y="727"/>
                </a:lnTo>
                <a:lnTo>
                  <a:pt x="3475" y="784"/>
                </a:lnTo>
                <a:lnTo>
                  <a:pt x="3356" y="815"/>
                </a:lnTo>
                <a:lnTo>
                  <a:pt x="3279" y="845"/>
                </a:lnTo>
                <a:lnTo>
                  <a:pt x="3215" y="909"/>
                </a:lnTo>
                <a:lnTo>
                  <a:pt x="3151" y="973"/>
                </a:lnTo>
                <a:lnTo>
                  <a:pt x="3109" y="1037"/>
                </a:lnTo>
                <a:lnTo>
                  <a:pt x="3045" y="1079"/>
                </a:lnTo>
                <a:lnTo>
                  <a:pt x="3004" y="1143"/>
                </a:lnTo>
                <a:lnTo>
                  <a:pt x="2940" y="1187"/>
                </a:lnTo>
                <a:lnTo>
                  <a:pt x="2876" y="1229"/>
                </a:lnTo>
                <a:lnTo>
                  <a:pt x="2812" y="1273"/>
                </a:lnTo>
                <a:lnTo>
                  <a:pt x="2748" y="1293"/>
                </a:lnTo>
                <a:lnTo>
                  <a:pt x="2684" y="1315"/>
                </a:lnTo>
                <a:lnTo>
                  <a:pt x="2618" y="1356"/>
                </a:lnTo>
                <a:lnTo>
                  <a:pt x="2554" y="1379"/>
                </a:lnTo>
                <a:lnTo>
                  <a:pt x="2490" y="1379"/>
                </a:lnTo>
                <a:lnTo>
                  <a:pt x="2426" y="1401"/>
                </a:lnTo>
                <a:lnTo>
                  <a:pt x="2362" y="1420"/>
                </a:lnTo>
                <a:lnTo>
                  <a:pt x="2278" y="1442"/>
                </a:lnTo>
                <a:lnTo>
                  <a:pt x="2169" y="1442"/>
                </a:lnTo>
                <a:lnTo>
                  <a:pt x="2105" y="1420"/>
                </a:lnTo>
                <a:lnTo>
                  <a:pt x="2041" y="1379"/>
                </a:lnTo>
                <a:lnTo>
                  <a:pt x="1977" y="1356"/>
                </a:lnTo>
                <a:lnTo>
                  <a:pt x="1913" y="1315"/>
                </a:lnTo>
                <a:lnTo>
                  <a:pt x="1849" y="1293"/>
                </a:lnTo>
                <a:lnTo>
                  <a:pt x="1785" y="1273"/>
                </a:lnTo>
                <a:lnTo>
                  <a:pt x="1721" y="1251"/>
                </a:lnTo>
                <a:lnTo>
                  <a:pt x="1649" y="1185"/>
                </a:lnTo>
                <a:lnTo>
                  <a:pt x="1572" y="1251"/>
                </a:lnTo>
                <a:lnTo>
                  <a:pt x="1508" y="1273"/>
                </a:lnTo>
                <a:lnTo>
                  <a:pt x="1466" y="1337"/>
                </a:lnTo>
                <a:lnTo>
                  <a:pt x="1402" y="1379"/>
                </a:lnTo>
                <a:lnTo>
                  <a:pt x="1338" y="1420"/>
                </a:lnTo>
                <a:lnTo>
                  <a:pt x="1274" y="1484"/>
                </a:lnTo>
                <a:lnTo>
                  <a:pt x="1252" y="1548"/>
                </a:lnTo>
                <a:lnTo>
                  <a:pt x="1210" y="1612"/>
                </a:lnTo>
                <a:lnTo>
                  <a:pt x="1166" y="1676"/>
                </a:lnTo>
                <a:lnTo>
                  <a:pt x="1124" y="1740"/>
                </a:lnTo>
                <a:lnTo>
                  <a:pt x="1082" y="1804"/>
                </a:lnTo>
                <a:lnTo>
                  <a:pt x="1038" y="1868"/>
                </a:lnTo>
                <a:lnTo>
                  <a:pt x="996" y="1934"/>
                </a:lnTo>
                <a:lnTo>
                  <a:pt x="954" y="1998"/>
                </a:lnTo>
                <a:lnTo>
                  <a:pt x="910" y="2062"/>
                </a:lnTo>
                <a:lnTo>
                  <a:pt x="868" y="2126"/>
                </a:lnTo>
                <a:lnTo>
                  <a:pt x="826" y="2190"/>
                </a:lnTo>
                <a:lnTo>
                  <a:pt x="782" y="2254"/>
                </a:lnTo>
                <a:lnTo>
                  <a:pt x="762" y="2318"/>
                </a:lnTo>
                <a:lnTo>
                  <a:pt x="698" y="2382"/>
                </a:lnTo>
                <a:lnTo>
                  <a:pt x="676" y="2446"/>
                </a:lnTo>
                <a:lnTo>
                  <a:pt x="612" y="2510"/>
                </a:lnTo>
                <a:lnTo>
                  <a:pt x="568" y="2575"/>
                </a:lnTo>
                <a:lnTo>
                  <a:pt x="549" y="2639"/>
                </a:lnTo>
                <a:lnTo>
                  <a:pt x="526" y="2702"/>
                </a:lnTo>
                <a:lnTo>
                  <a:pt x="463" y="2766"/>
                </a:lnTo>
                <a:lnTo>
                  <a:pt x="399" y="2830"/>
                </a:lnTo>
                <a:lnTo>
                  <a:pt x="335" y="2894"/>
                </a:lnTo>
                <a:lnTo>
                  <a:pt x="271" y="2958"/>
                </a:lnTo>
                <a:lnTo>
                  <a:pt x="229" y="3022"/>
                </a:lnTo>
                <a:lnTo>
                  <a:pt x="165" y="3064"/>
                </a:lnTo>
                <a:lnTo>
                  <a:pt x="121" y="3128"/>
                </a:lnTo>
                <a:lnTo>
                  <a:pt x="79" y="3192"/>
                </a:lnTo>
                <a:lnTo>
                  <a:pt x="37" y="3258"/>
                </a:lnTo>
                <a:lnTo>
                  <a:pt x="0" y="33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1" name=""/>
          <p:cNvSpPr/>
          <p:nvPr/>
        </p:nvSpPr>
        <p:spPr>
          <a:xfrm>
            <a:off x="4091040" y="2244600"/>
            <a:ext cx="1492560" cy="1027440"/>
          </a:xfrm>
          <a:custGeom>
            <a:avLst/>
            <a:gdLst/>
            <a:ahLst/>
            <a:rect l="0" t="0" r="r" b="b"/>
            <a:pathLst>
              <a:path fill="none" w="4146" h="2854">
                <a:moveTo>
                  <a:pt x="4146" y="0"/>
                </a:moveTo>
                <a:lnTo>
                  <a:pt x="4097" y="46"/>
                </a:lnTo>
                <a:lnTo>
                  <a:pt x="4033" y="68"/>
                </a:lnTo>
                <a:lnTo>
                  <a:pt x="3969" y="90"/>
                </a:lnTo>
                <a:lnTo>
                  <a:pt x="3905" y="112"/>
                </a:lnTo>
                <a:lnTo>
                  <a:pt x="3841" y="154"/>
                </a:lnTo>
                <a:lnTo>
                  <a:pt x="3777" y="176"/>
                </a:lnTo>
                <a:lnTo>
                  <a:pt x="3711" y="240"/>
                </a:lnTo>
                <a:lnTo>
                  <a:pt x="3669" y="304"/>
                </a:lnTo>
                <a:lnTo>
                  <a:pt x="3605" y="346"/>
                </a:lnTo>
                <a:lnTo>
                  <a:pt x="3542" y="388"/>
                </a:lnTo>
                <a:lnTo>
                  <a:pt x="3478" y="432"/>
                </a:lnTo>
                <a:lnTo>
                  <a:pt x="3414" y="474"/>
                </a:lnTo>
                <a:lnTo>
                  <a:pt x="3350" y="496"/>
                </a:lnTo>
                <a:lnTo>
                  <a:pt x="3286" y="537"/>
                </a:lnTo>
                <a:lnTo>
                  <a:pt x="3222" y="579"/>
                </a:lnTo>
                <a:lnTo>
                  <a:pt x="3158" y="643"/>
                </a:lnTo>
                <a:lnTo>
                  <a:pt x="3072" y="707"/>
                </a:lnTo>
                <a:lnTo>
                  <a:pt x="3008" y="751"/>
                </a:lnTo>
                <a:lnTo>
                  <a:pt x="2922" y="793"/>
                </a:lnTo>
                <a:lnTo>
                  <a:pt x="2838" y="857"/>
                </a:lnTo>
                <a:lnTo>
                  <a:pt x="2774" y="901"/>
                </a:lnTo>
                <a:lnTo>
                  <a:pt x="2710" y="943"/>
                </a:lnTo>
                <a:lnTo>
                  <a:pt x="2624" y="985"/>
                </a:lnTo>
                <a:lnTo>
                  <a:pt x="2560" y="1029"/>
                </a:lnTo>
                <a:lnTo>
                  <a:pt x="2496" y="1049"/>
                </a:lnTo>
                <a:lnTo>
                  <a:pt x="2432" y="1071"/>
                </a:lnTo>
                <a:lnTo>
                  <a:pt x="2369" y="1071"/>
                </a:lnTo>
                <a:lnTo>
                  <a:pt x="2283" y="1093"/>
                </a:lnTo>
                <a:lnTo>
                  <a:pt x="2197" y="1113"/>
                </a:lnTo>
                <a:lnTo>
                  <a:pt x="2133" y="1113"/>
                </a:lnTo>
                <a:lnTo>
                  <a:pt x="2048" y="1113"/>
                </a:lnTo>
                <a:lnTo>
                  <a:pt x="1984" y="1135"/>
                </a:lnTo>
                <a:lnTo>
                  <a:pt x="1920" y="1135"/>
                </a:lnTo>
                <a:lnTo>
                  <a:pt x="1856" y="1113"/>
                </a:lnTo>
                <a:lnTo>
                  <a:pt x="1792" y="1093"/>
                </a:lnTo>
                <a:lnTo>
                  <a:pt x="1726" y="1093"/>
                </a:lnTo>
                <a:lnTo>
                  <a:pt x="1662" y="1071"/>
                </a:lnTo>
                <a:lnTo>
                  <a:pt x="1578" y="1029"/>
                </a:lnTo>
                <a:lnTo>
                  <a:pt x="1514" y="1007"/>
                </a:lnTo>
                <a:lnTo>
                  <a:pt x="1426" y="978"/>
                </a:lnTo>
                <a:lnTo>
                  <a:pt x="1349" y="923"/>
                </a:lnTo>
                <a:lnTo>
                  <a:pt x="1274" y="963"/>
                </a:lnTo>
                <a:lnTo>
                  <a:pt x="1172" y="1029"/>
                </a:lnTo>
                <a:lnTo>
                  <a:pt x="1109" y="1049"/>
                </a:lnTo>
                <a:lnTo>
                  <a:pt x="1064" y="1113"/>
                </a:lnTo>
                <a:lnTo>
                  <a:pt x="1001" y="1177"/>
                </a:lnTo>
                <a:lnTo>
                  <a:pt x="959" y="1241"/>
                </a:lnTo>
                <a:lnTo>
                  <a:pt x="937" y="1305"/>
                </a:lnTo>
                <a:lnTo>
                  <a:pt x="895" y="1369"/>
                </a:lnTo>
                <a:lnTo>
                  <a:pt x="853" y="1436"/>
                </a:lnTo>
                <a:lnTo>
                  <a:pt x="831" y="1500"/>
                </a:lnTo>
                <a:lnTo>
                  <a:pt x="767" y="1542"/>
                </a:lnTo>
                <a:lnTo>
                  <a:pt x="725" y="1628"/>
                </a:lnTo>
                <a:lnTo>
                  <a:pt x="661" y="1692"/>
                </a:lnTo>
                <a:lnTo>
                  <a:pt x="639" y="1756"/>
                </a:lnTo>
                <a:lnTo>
                  <a:pt x="597" y="1820"/>
                </a:lnTo>
                <a:lnTo>
                  <a:pt x="553" y="1883"/>
                </a:lnTo>
                <a:lnTo>
                  <a:pt x="511" y="1947"/>
                </a:lnTo>
                <a:lnTo>
                  <a:pt x="489" y="2011"/>
                </a:lnTo>
                <a:lnTo>
                  <a:pt x="447" y="2075"/>
                </a:lnTo>
                <a:lnTo>
                  <a:pt x="403" y="2139"/>
                </a:lnTo>
                <a:lnTo>
                  <a:pt x="361" y="2203"/>
                </a:lnTo>
                <a:lnTo>
                  <a:pt x="339" y="2267"/>
                </a:lnTo>
                <a:lnTo>
                  <a:pt x="297" y="2331"/>
                </a:lnTo>
                <a:lnTo>
                  <a:pt x="255" y="2395"/>
                </a:lnTo>
                <a:lnTo>
                  <a:pt x="211" y="2459"/>
                </a:lnTo>
                <a:lnTo>
                  <a:pt x="169" y="2523"/>
                </a:lnTo>
                <a:lnTo>
                  <a:pt x="127" y="2587"/>
                </a:lnTo>
                <a:lnTo>
                  <a:pt x="83" y="2651"/>
                </a:lnTo>
                <a:lnTo>
                  <a:pt x="63" y="2715"/>
                </a:lnTo>
                <a:lnTo>
                  <a:pt x="19" y="2779"/>
                </a:lnTo>
                <a:lnTo>
                  <a:pt x="0" y="285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2" name=""/>
          <p:cNvSpPr/>
          <p:nvPr/>
        </p:nvSpPr>
        <p:spPr>
          <a:xfrm>
            <a:off x="4124160" y="2502000"/>
            <a:ext cx="1459440" cy="771840"/>
          </a:xfrm>
          <a:custGeom>
            <a:avLst/>
            <a:gdLst/>
            <a:ahLst/>
            <a:rect l="0" t="0" r="r" b="b"/>
            <a:pathLst>
              <a:path fill="none" w="4054" h="2144">
                <a:moveTo>
                  <a:pt x="4054" y="0"/>
                </a:moveTo>
                <a:lnTo>
                  <a:pt x="4006" y="15"/>
                </a:lnTo>
                <a:lnTo>
                  <a:pt x="3942" y="37"/>
                </a:lnTo>
                <a:lnTo>
                  <a:pt x="3878" y="79"/>
                </a:lnTo>
                <a:lnTo>
                  <a:pt x="3814" y="123"/>
                </a:lnTo>
                <a:lnTo>
                  <a:pt x="3750" y="165"/>
                </a:lnTo>
                <a:lnTo>
                  <a:pt x="3686" y="207"/>
                </a:lnTo>
                <a:lnTo>
                  <a:pt x="3620" y="251"/>
                </a:lnTo>
                <a:lnTo>
                  <a:pt x="3556" y="293"/>
                </a:lnTo>
                <a:lnTo>
                  <a:pt x="3472" y="357"/>
                </a:lnTo>
                <a:lnTo>
                  <a:pt x="3386" y="399"/>
                </a:lnTo>
                <a:lnTo>
                  <a:pt x="3322" y="443"/>
                </a:lnTo>
                <a:lnTo>
                  <a:pt x="3258" y="485"/>
                </a:lnTo>
                <a:lnTo>
                  <a:pt x="3152" y="526"/>
                </a:lnTo>
                <a:lnTo>
                  <a:pt x="3066" y="549"/>
                </a:lnTo>
                <a:lnTo>
                  <a:pt x="3001" y="571"/>
                </a:lnTo>
                <a:lnTo>
                  <a:pt x="2937" y="590"/>
                </a:lnTo>
                <a:lnTo>
                  <a:pt x="2809" y="612"/>
                </a:lnTo>
                <a:lnTo>
                  <a:pt x="2724" y="635"/>
                </a:lnTo>
                <a:lnTo>
                  <a:pt x="2510" y="635"/>
                </a:lnTo>
                <a:lnTo>
                  <a:pt x="2446" y="635"/>
                </a:lnTo>
                <a:lnTo>
                  <a:pt x="2382" y="654"/>
                </a:lnTo>
                <a:lnTo>
                  <a:pt x="2318" y="654"/>
                </a:lnTo>
                <a:lnTo>
                  <a:pt x="2232" y="654"/>
                </a:lnTo>
                <a:lnTo>
                  <a:pt x="2168" y="654"/>
                </a:lnTo>
                <a:lnTo>
                  <a:pt x="2104" y="654"/>
                </a:lnTo>
                <a:lnTo>
                  <a:pt x="2020" y="635"/>
                </a:lnTo>
                <a:lnTo>
                  <a:pt x="1934" y="635"/>
                </a:lnTo>
                <a:lnTo>
                  <a:pt x="1828" y="635"/>
                </a:lnTo>
                <a:lnTo>
                  <a:pt x="1764" y="635"/>
                </a:lnTo>
                <a:lnTo>
                  <a:pt x="1678" y="612"/>
                </a:lnTo>
                <a:lnTo>
                  <a:pt x="1614" y="590"/>
                </a:lnTo>
                <a:lnTo>
                  <a:pt x="1551" y="571"/>
                </a:lnTo>
                <a:lnTo>
                  <a:pt x="1423" y="571"/>
                </a:lnTo>
                <a:lnTo>
                  <a:pt x="1359" y="571"/>
                </a:lnTo>
                <a:lnTo>
                  <a:pt x="1290" y="535"/>
                </a:lnTo>
                <a:lnTo>
                  <a:pt x="1198" y="606"/>
                </a:lnTo>
                <a:lnTo>
                  <a:pt x="1138" y="646"/>
                </a:lnTo>
                <a:lnTo>
                  <a:pt x="1103" y="720"/>
                </a:lnTo>
                <a:lnTo>
                  <a:pt x="1039" y="762"/>
                </a:lnTo>
                <a:lnTo>
                  <a:pt x="972" y="826"/>
                </a:lnTo>
                <a:lnTo>
                  <a:pt x="908" y="890"/>
                </a:lnTo>
                <a:lnTo>
                  <a:pt x="866" y="954"/>
                </a:lnTo>
                <a:lnTo>
                  <a:pt x="802" y="1018"/>
                </a:lnTo>
                <a:lnTo>
                  <a:pt x="738" y="1060"/>
                </a:lnTo>
                <a:lnTo>
                  <a:pt x="674" y="1125"/>
                </a:lnTo>
                <a:lnTo>
                  <a:pt x="610" y="1169"/>
                </a:lnTo>
                <a:lnTo>
                  <a:pt x="568" y="1233"/>
                </a:lnTo>
                <a:lnTo>
                  <a:pt x="482" y="1317"/>
                </a:lnTo>
                <a:lnTo>
                  <a:pt x="440" y="1383"/>
                </a:lnTo>
                <a:lnTo>
                  <a:pt x="418" y="1447"/>
                </a:lnTo>
                <a:lnTo>
                  <a:pt x="377" y="1511"/>
                </a:lnTo>
                <a:lnTo>
                  <a:pt x="354" y="1575"/>
                </a:lnTo>
                <a:lnTo>
                  <a:pt x="310" y="1639"/>
                </a:lnTo>
                <a:lnTo>
                  <a:pt x="268" y="1703"/>
                </a:lnTo>
                <a:lnTo>
                  <a:pt x="246" y="1767"/>
                </a:lnTo>
                <a:lnTo>
                  <a:pt x="205" y="1831"/>
                </a:lnTo>
                <a:lnTo>
                  <a:pt x="183" y="1894"/>
                </a:lnTo>
                <a:lnTo>
                  <a:pt x="99" y="1978"/>
                </a:lnTo>
                <a:lnTo>
                  <a:pt x="55" y="2044"/>
                </a:lnTo>
                <a:lnTo>
                  <a:pt x="0" y="214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"/>
          <p:cNvSpPr/>
          <p:nvPr/>
        </p:nvSpPr>
        <p:spPr>
          <a:xfrm>
            <a:off x="4175280" y="2716200"/>
            <a:ext cx="1408320" cy="560880"/>
          </a:xfrm>
          <a:custGeom>
            <a:avLst/>
            <a:gdLst/>
            <a:ahLst/>
            <a:rect l="0" t="0" r="r" b="b"/>
            <a:pathLst>
              <a:path fill="none" w="3912" h="1558">
                <a:moveTo>
                  <a:pt x="3912" y="0"/>
                </a:moveTo>
                <a:lnTo>
                  <a:pt x="3863" y="17"/>
                </a:lnTo>
                <a:lnTo>
                  <a:pt x="3819" y="81"/>
                </a:lnTo>
                <a:lnTo>
                  <a:pt x="3755" y="125"/>
                </a:lnTo>
                <a:lnTo>
                  <a:pt x="3691" y="167"/>
                </a:lnTo>
                <a:lnTo>
                  <a:pt x="3608" y="253"/>
                </a:lnTo>
                <a:lnTo>
                  <a:pt x="3500" y="317"/>
                </a:lnTo>
                <a:lnTo>
                  <a:pt x="3436" y="337"/>
                </a:lnTo>
                <a:lnTo>
                  <a:pt x="3372" y="359"/>
                </a:lnTo>
                <a:lnTo>
                  <a:pt x="3266" y="359"/>
                </a:lnTo>
                <a:lnTo>
                  <a:pt x="3202" y="359"/>
                </a:lnTo>
                <a:lnTo>
                  <a:pt x="3138" y="359"/>
                </a:lnTo>
                <a:lnTo>
                  <a:pt x="2541" y="337"/>
                </a:lnTo>
                <a:lnTo>
                  <a:pt x="2432" y="337"/>
                </a:lnTo>
                <a:lnTo>
                  <a:pt x="2369" y="337"/>
                </a:lnTo>
                <a:lnTo>
                  <a:pt x="2155" y="317"/>
                </a:lnTo>
                <a:lnTo>
                  <a:pt x="2071" y="295"/>
                </a:lnTo>
                <a:lnTo>
                  <a:pt x="2007" y="295"/>
                </a:lnTo>
                <a:lnTo>
                  <a:pt x="1942" y="253"/>
                </a:lnTo>
                <a:lnTo>
                  <a:pt x="1856" y="231"/>
                </a:lnTo>
                <a:lnTo>
                  <a:pt x="1770" y="231"/>
                </a:lnTo>
                <a:lnTo>
                  <a:pt x="1706" y="231"/>
                </a:lnTo>
                <a:lnTo>
                  <a:pt x="1622" y="231"/>
                </a:lnTo>
                <a:lnTo>
                  <a:pt x="1558" y="231"/>
                </a:lnTo>
                <a:lnTo>
                  <a:pt x="1472" y="231"/>
                </a:lnTo>
                <a:lnTo>
                  <a:pt x="1408" y="231"/>
                </a:lnTo>
                <a:lnTo>
                  <a:pt x="1344" y="231"/>
                </a:lnTo>
                <a:lnTo>
                  <a:pt x="1281" y="231"/>
                </a:lnTo>
                <a:lnTo>
                  <a:pt x="1217" y="231"/>
                </a:lnTo>
                <a:lnTo>
                  <a:pt x="1153" y="253"/>
                </a:lnTo>
                <a:lnTo>
                  <a:pt x="1089" y="273"/>
                </a:lnTo>
                <a:lnTo>
                  <a:pt x="1003" y="295"/>
                </a:lnTo>
                <a:lnTo>
                  <a:pt x="939" y="317"/>
                </a:lnTo>
                <a:lnTo>
                  <a:pt x="875" y="337"/>
                </a:lnTo>
                <a:lnTo>
                  <a:pt x="811" y="381"/>
                </a:lnTo>
                <a:lnTo>
                  <a:pt x="747" y="424"/>
                </a:lnTo>
                <a:lnTo>
                  <a:pt x="703" y="488"/>
                </a:lnTo>
                <a:lnTo>
                  <a:pt x="639" y="511"/>
                </a:lnTo>
                <a:lnTo>
                  <a:pt x="575" y="552"/>
                </a:lnTo>
                <a:lnTo>
                  <a:pt x="533" y="617"/>
                </a:lnTo>
                <a:lnTo>
                  <a:pt x="491" y="681"/>
                </a:lnTo>
                <a:lnTo>
                  <a:pt x="427" y="745"/>
                </a:lnTo>
                <a:lnTo>
                  <a:pt x="363" y="831"/>
                </a:lnTo>
                <a:lnTo>
                  <a:pt x="319" y="895"/>
                </a:lnTo>
                <a:lnTo>
                  <a:pt x="277" y="959"/>
                </a:lnTo>
                <a:lnTo>
                  <a:pt x="255" y="1023"/>
                </a:lnTo>
                <a:lnTo>
                  <a:pt x="235" y="1087"/>
                </a:lnTo>
                <a:lnTo>
                  <a:pt x="191" y="1174"/>
                </a:lnTo>
                <a:lnTo>
                  <a:pt x="149" y="1238"/>
                </a:lnTo>
                <a:lnTo>
                  <a:pt x="127" y="1302"/>
                </a:lnTo>
                <a:lnTo>
                  <a:pt x="105" y="1366"/>
                </a:lnTo>
                <a:lnTo>
                  <a:pt x="63" y="1430"/>
                </a:lnTo>
                <a:lnTo>
                  <a:pt x="22" y="1494"/>
                </a:lnTo>
                <a:lnTo>
                  <a:pt x="0" y="155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"/>
          <p:cNvSpPr/>
          <p:nvPr/>
        </p:nvSpPr>
        <p:spPr>
          <a:xfrm>
            <a:off x="4227480" y="2906640"/>
            <a:ext cx="1356120" cy="367200"/>
          </a:xfrm>
          <a:custGeom>
            <a:avLst/>
            <a:gdLst/>
            <a:ahLst/>
            <a:rect l="0" t="0" r="r" b="b"/>
            <a:pathLst>
              <a:path fill="none" w="3767" h="1020">
                <a:moveTo>
                  <a:pt x="3767" y="216"/>
                </a:moveTo>
                <a:lnTo>
                  <a:pt x="3719" y="213"/>
                </a:lnTo>
                <a:lnTo>
                  <a:pt x="3591" y="235"/>
                </a:lnTo>
                <a:lnTo>
                  <a:pt x="3527" y="258"/>
                </a:lnTo>
                <a:lnTo>
                  <a:pt x="3441" y="258"/>
                </a:lnTo>
                <a:lnTo>
                  <a:pt x="3377" y="235"/>
                </a:lnTo>
                <a:lnTo>
                  <a:pt x="3313" y="235"/>
                </a:lnTo>
                <a:lnTo>
                  <a:pt x="3249" y="235"/>
                </a:lnTo>
                <a:lnTo>
                  <a:pt x="3185" y="213"/>
                </a:lnTo>
                <a:lnTo>
                  <a:pt x="3099" y="213"/>
                </a:lnTo>
                <a:lnTo>
                  <a:pt x="2993" y="235"/>
                </a:lnTo>
                <a:lnTo>
                  <a:pt x="2930" y="235"/>
                </a:lnTo>
                <a:lnTo>
                  <a:pt x="2866" y="258"/>
                </a:lnTo>
                <a:lnTo>
                  <a:pt x="2801" y="258"/>
                </a:lnTo>
                <a:lnTo>
                  <a:pt x="2737" y="258"/>
                </a:lnTo>
                <a:lnTo>
                  <a:pt x="2671" y="258"/>
                </a:lnTo>
                <a:lnTo>
                  <a:pt x="2587" y="235"/>
                </a:lnTo>
                <a:lnTo>
                  <a:pt x="2523" y="213"/>
                </a:lnTo>
                <a:lnTo>
                  <a:pt x="2459" y="191"/>
                </a:lnTo>
                <a:lnTo>
                  <a:pt x="2373" y="171"/>
                </a:lnTo>
                <a:lnTo>
                  <a:pt x="2309" y="149"/>
                </a:lnTo>
                <a:lnTo>
                  <a:pt x="2245" y="149"/>
                </a:lnTo>
                <a:lnTo>
                  <a:pt x="2181" y="127"/>
                </a:lnTo>
                <a:lnTo>
                  <a:pt x="2117" y="127"/>
                </a:lnTo>
                <a:lnTo>
                  <a:pt x="2031" y="85"/>
                </a:lnTo>
                <a:lnTo>
                  <a:pt x="1967" y="85"/>
                </a:lnTo>
                <a:lnTo>
                  <a:pt x="1881" y="63"/>
                </a:lnTo>
                <a:lnTo>
                  <a:pt x="1817" y="44"/>
                </a:lnTo>
                <a:lnTo>
                  <a:pt x="1734" y="44"/>
                </a:lnTo>
                <a:lnTo>
                  <a:pt x="1520" y="0"/>
                </a:lnTo>
                <a:lnTo>
                  <a:pt x="1434" y="0"/>
                </a:lnTo>
                <a:lnTo>
                  <a:pt x="1348" y="0"/>
                </a:lnTo>
                <a:lnTo>
                  <a:pt x="1284" y="22"/>
                </a:lnTo>
                <a:lnTo>
                  <a:pt x="1220" y="44"/>
                </a:lnTo>
                <a:lnTo>
                  <a:pt x="1156" y="63"/>
                </a:lnTo>
                <a:lnTo>
                  <a:pt x="1092" y="108"/>
                </a:lnTo>
                <a:lnTo>
                  <a:pt x="1028" y="127"/>
                </a:lnTo>
                <a:lnTo>
                  <a:pt x="964" y="171"/>
                </a:lnTo>
                <a:lnTo>
                  <a:pt x="899" y="171"/>
                </a:lnTo>
                <a:lnTo>
                  <a:pt x="815" y="191"/>
                </a:lnTo>
                <a:lnTo>
                  <a:pt x="751" y="213"/>
                </a:lnTo>
                <a:lnTo>
                  <a:pt x="685" y="235"/>
                </a:lnTo>
                <a:lnTo>
                  <a:pt x="621" y="258"/>
                </a:lnTo>
                <a:lnTo>
                  <a:pt x="557" y="278"/>
                </a:lnTo>
                <a:lnTo>
                  <a:pt x="493" y="300"/>
                </a:lnTo>
                <a:lnTo>
                  <a:pt x="429" y="364"/>
                </a:lnTo>
                <a:lnTo>
                  <a:pt x="366" y="406"/>
                </a:lnTo>
                <a:lnTo>
                  <a:pt x="324" y="470"/>
                </a:lnTo>
                <a:lnTo>
                  <a:pt x="260" y="514"/>
                </a:lnTo>
                <a:lnTo>
                  <a:pt x="218" y="578"/>
                </a:lnTo>
                <a:lnTo>
                  <a:pt x="154" y="620"/>
                </a:lnTo>
                <a:lnTo>
                  <a:pt x="110" y="684"/>
                </a:lnTo>
                <a:lnTo>
                  <a:pt x="68" y="748"/>
                </a:lnTo>
                <a:lnTo>
                  <a:pt x="68" y="813"/>
                </a:lnTo>
                <a:lnTo>
                  <a:pt x="46" y="877"/>
                </a:lnTo>
                <a:lnTo>
                  <a:pt x="24" y="941"/>
                </a:lnTo>
                <a:lnTo>
                  <a:pt x="0" y="102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5" name=""/>
          <p:cNvSpPr/>
          <p:nvPr/>
        </p:nvSpPr>
        <p:spPr>
          <a:xfrm>
            <a:off x="4282920" y="3046320"/>
            <a:ext cx="1298880" cy="230400"/>
          </a:xfrm>
          <a:custGeom>
            <a:avLst/>
            <a:gdLst/>
            <a:ahLst/>
            <a:rect l="0" t="0" r="r" b="b"/>
            <a:pathLst>
              <a:path fill="none" w="3608" h="640">
                <a:moveTo>
                  <a:pt x="3608" y="255"/>
                </a:moveTo>
                <a:lnTo>
                  <a:pt x="3502" y="275"/>
                </a:lnTo>
                <a:lnTo>
                  <a:pt x="3438" y="275"/>
                </a:lnTo>
                <a:lnTo>
                  <a:pt x="3374" y="275"/>
                </a:lnTo>
                <a:lnTo>
                  <a:pt x="3310" y="233"/>
                </a:lnTo>
                <a:lnTo>
                  <a:pt x="3246" y="211"/>
                </a:lnTo>
                <a:lnTo>
                  <a:pt x="3032" y="211"/>
                </a:lnTo>
                <a:lnTo>
                  <a:pt x="2968" y="211"/>
                </a:lnTo>
                <a:lnTo>
                  <a:pt x="2904" y="211"/>
                </a:lnTo>
                <a:lnTo>
                  <a:pt x="2796" y="211"/>
                </a:lnTo>
                <a:lnTo>
                  <a:pt x="2732" y="211"/>
                </a:lnTo>
                <a:lnTo>
                  <a:pt x="2668" y="211"/>
                </a:lnTo>
                <a:lnTo>
                  <a:pt x="2584" y="211"/>
                </a:lnTo>
                <a:lnTo>
                  <a:pt x="2518" y="211"/>
                </a:lnTo>
                <a:lnTo>
                  <a:pt x="2454" y="211"/>
                </a:lnTo>
                <a:lnTo>
                  <a:pt x="2370" y="211"/>
                </a:lnTo>
                <a:lnTo>
                  <a:pt x="2242" y="211"/>
                </a:lnTo>
                <a:lnTo>
                  <a:pt x="2178" y="191"/>
                </a:lnTo>
                <a:lnTo>
                  <a:pt x="2092" y="169"/>
                </a:lnTo>
                <a:lnTo>
                  <a:pt x="2006" y="127"/>
                </a:lnTo>
                <a:lnTo>
                  <a:pt x="1942" y="105"/>
                </a:lnTo>
                <a:lnTo>
                  <a:pt x="1878" y="83"/>
                </a:lnTo>
                <a:lnTo>
                  <a:pt x="1814" y="63"/>
                </a:lnTo>
                <a:lnTo>
                  <a:pt x="1727" y="19"/>
                </a:lnTo>
                <a:lnTo>
                  <a:pt x="1621" y="19"/>
                </a:lnTo>
                <a:lnTo>
                  <a:pt x="1535" y="0"/>
                </a:lnTo>
                <a:lnTo>
                  <a:pt x="1323" y="0"/>
                </a:lnTo>
                <a:lnTo>
                  <a:pt x="1215" y="0"/>
                </a:lnTo>
                <a:lnTo>
                  <a:pt x="1151" y="19"/>
                </a:lnTo>
                <a:lnTo>
                  <a:pt x="1087" y="19"/>
                </a:lnTo>
                <a:lnTo>
                  <a:pt x="1023" y="19"/>
                </a:lnTo>
                <a:lnTo>
                  <a:pt x="937" y="19"/>
                </a:lnTo>
                <a:lnTo>
                  <a:pt x="853" y="63"/>
                </a:lnTo>
                <a:lnTo>
                  <a:pt x="789" y="63"/>
                </a:lnTo>
                <a:lnTo>
                  <a:pt x="725" y="83"/>
                </a:lnTo>
                <a:lnTo>
                  <a:pt x="661" y="105"/>
                </a:lnTo>
                <a:lnTo>
                  <a:pt x="597" y="127"/>
                </a:lnTo>
                <a:lnTo>
                  <a:pt x="511" y="191"/>
                </a:lnTo>
                <a:lnTo>
                  <a:pt x="447" y="233"/>
                </a:lnTo>
                <a:lnTo>
                  <a:pt x="383" y="275"/>
                </a:lnTo>
                <a:lnTo>
                  <a:pt x="319" y="319"/>
                </a:lnTo>
                <a:lnTo>
                  <a:pt x="255" y="362"/>
                </a:lnTo>
                <a:lnTo>
                  <a:pt x="191" y="404"/>
                </a:lnTo>
                <a:lnTo>
                  <a:pt x="127" y="448"/>
                </a:lnTo>
                <a:lnTo>
                  <a:pt x="63" y="512"/>
                </a:lnTo>
                <a:lnTo>
                  <a:pt x="19" y="576"/>
                </a:lnTo>
                <a:lnTo>
                  <a:pt x="0" y="64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6" name=""/>
          <p:cNvSpPr/>
          <p:nvPr/>
        </p:nvSpPr>
        <p:spPr>
          <a:xfrm>
            <a:off x="4398840" y="3191040"/>
            <a:ext cx="945000" cy="86040"/>
          </a:xfrm>
          <a:custGeom>
            <a:avLst/>
            <a:gdLst/>
            <a:ahLst/>
            <a:rect l="0" t="0" r="r" b="b"/>
            <a:pathLst>
              <a:path fill="none" w="2625" h="239">
                <a:moveTo>
                  <a:pt x="2625" y="239"/>
                </a:moveTo>
                <a:lnTo>
                  <a:pt x="2561" y="216"/>
                </a:lnTo>
                <a:lnTo>
                  <a:pt x="2497" y="216"/>
                </a:lnTo>
                <a:lnTo>
                  <a:pt x="2411" y="216"/>
                </a:lnTo>
                <a:lnTo>
                  <a:pt x="2347" y="216"/>
                </a:lnTo>
                <a:lnTo>
                  <a:pt x="2219" y="196"/>
                </a:lnTo>
                <a:lnTo>
                  <a:pt x="2197" y="132"/>
                </a:lnTo>
                <a:lnTo>
                  <a:pt x="2133" y="109"/>
                </a:lnTo>
                <a:lnTo>
                  <a:pt x="2049" y="109"/>
                </a:lnTo>
                <a:lnTo>
                  <a:pt x="1962" y="109"/>
                </a:lnTo>
                <a:lnTo>
                  <a:pt x="1898" y="109"/>
                </a:lnTo>
                <a:lnTo>
                  <a:pt x="1834" y="86"/>
                </a:lnTo>
                <a:lnTo>
                  <a:pt x="1748" y="44"/>
                </a:lnTo>
                <a:lnTo>
                  <a:pt x="1684" y="22"/>
                </a:lnTo>
                <a:lnTo>
                  <a:pt x="1578" y="0"/>
                </a:lnTo>
                <a:lnTo>
                  <a:pt x="1470" y="0"/>
                </a:lnTo>
                <a:lnTo>
                  <a:pt x="1386" y="0"/>
                </a:lnTo>
                <a:lnTo>
                  <a:pt x="1300" y="22"/>
                </a:lnTo>
                <a:lnTo>
                  <a:pt x="1236" y="44"/>
                </a:lnTo>
                <a:lnTo>
                  <a:pt x="1108" y="64"/>
                </a:lnTo>
                <a:lnTo>
                  <a:pt x="894" y="86"/>
                </a:lnTo>
                <a:lnTo>
                  <a:pt x="830" y="86"/>
                </a:lnTo>
                <a:lnTo>
                  <a:pt x="766" y="132"/>
                </a:lnTo>
                <a:lnTo>
                  <a:pt x="702" y="174"/>
                </a:lnTo>
                <a:lnTo>
                  <a:pt x="637" y="174"/>
                </a:lnTo>
                <a:lnTo>
                  <a:pt x="573" y="174"/>
                </a:lnTo>
                <a:lnTo>
                  <a:pt x="509" y="174"/>
                </a:lnTo>
                <a:lnTo>
                  <a:pt x="445" y="174"/>
                </a:lnTo>
                <a:lnTo>
                  <a:pt x="359" y="174"/>
                </a:lnTo>
                <a:lnTo>
                  <a:pt x="295" y="174"/>
                </a:lnTo>
                <a:lnTo>
                  <a:pt x="231" y="152"/>
                </a:lnTo>
                <a:lnTo>
                  <a:pt x="167" y="152"/>
                </a:lnTo>
                <a:lnTo>
                  <a:pt x="103" y="174"/>
                </a:lnTo>
                <a:lnTo>
                  <a:pt x="0" y="23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7" name=""/>
          <p:cNvSpPr/>
          <p:nvPr/>
        </p:nvSpPr>
        <p:spPr>
          <a:xfrm>
            <a:off x="4797360" y="587520"/>
            <a:ext cx="20016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"/>
          <p:cNvSpPr/>
          <p:nvPr/>
        </p:nvSpPr>
        <p:spPr>
          <a:xfrm>
            <a:off x="4789440" y="12175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9" name=""/>
          <p:cNvSpPr/>
          <p:nvPr/>
        </p:nvSpPr>
        <p:spPr>
          <a:xfrm>
            <a:off x="3298680" y="125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0" name=""/>
          <p:cNvSpPr/>
          <p:nvPr/>
        </p:nvSpPr>
        <p:spPr>
          <a:xfrm>
            <a:off x="3398760" y="3096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1" name=""/>
          <p:cNvSpPr/>
          <p:nvPr/>
        </p:nvSpPr>
        <p:spPr>
          <a:xfrm>
            <a:off x="3514680" y="5014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2" name=""/>
          <p:cNvSpPr/>
          <p:nvPr/>
        </p:nvSpPr>
        <p:spPr>
          <a:xfrm>
            <a:off x="3691080" y="81756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3" name=""/>
          <p:cNvSpPr/>
          <p:nvPr/>
        </p:nvSpPr>
        <p:spPr>
          <a:xfrm>
            <a:off x="4167360" y="9097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4" name=""/>
          <p:cNvSpPr/>
          <p:nvPr/>
        </p:nvSpPr>
        <p:spPr>
          <a:xfrm>
            <a:off x="4183200" y="17780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"/>
          <p:cNvSpPr/>
          <p:nvPr/>
        </p:nvSpPr>
        <p:spPr>
          <a:xfrm>
            <a:off x="3137040" y="19764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"/>
          <p:cNvSpPr/>
          <p:nvPr/>
        </p:nvSpPr>
        <p:spPr>
          <a:xfrm>
            <a:off x="4313160" y="20383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"/>
          <p:cNvSpPr/>
          <p:nvPr/>
        </p:nvSpPr>
        <p:spPr>
          <a:xfrm>
            <a:off x="4608360" y="2017800"/>
            <a:ext cx="17604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8" name=""/>
          <p:cNvSpPr/>
          <p:nvPr/>
        </p:nvSpPr>
        <p:spPr>
          <a:xfrm>
            <a:off x="4853160" y="2341440"/>
            <a:ext cx="16668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9" name=""/>
          <p:cNvSpPr/>
          <p:nvPr/>
        </p:nvSpPr>
        <p:spPr>
          <a:xfrm>
            <a:off x="5127480" y="2222640"/>
            <a:ext cx="160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"/>
          <p:cNvSpPr/>
          <p:nvPr/>
        </p:nvSpPr>
        <p:spPr>
          <a:xfrm>
            <a:off x="5135400" y="26384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"/>
          <p:cNvSpPr/>
          <p:nvPr/>
        </p:nvSpPr>
        <p:spPr>
          <a:xfrm>
            <a:off x="5157720" y="24145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2" name=""/>
          <p:cNvSpPr/>
          <p:nvPr/>
        </p:nvSpPr>
        <p:spPr>
          <a:xfrm>
            <a:off x="5372280" y="2152800"/>
            <a:ext cx="18432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3" name=""/>
          <p:cNvSpPr/>
          <p:nvPr/>
        </p:nvSpPr>
        <p:spPr>
          <a:xfrm>
            <a:off x="5181480" y="30751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4" name=""/>
          <p:cNvSpPr/>
          <p:nvPr/>
        </p:nvSpPr>
        <p:spPr>
          <a:xfrm>
            <a:off x="4888080" y="28987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"/>
          <p:cNvSpPr/>
          <p:nvPr/>
        </p:nvSpPr>
        <p:spPr>
          <a:xfrm>
            <a:off x="5280120" y="27972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"/>
          <p:cNvSpPr/>
          <p:nvPr/>
        </p:nvSpPr>
        <p:spPr>
          <a:xfrm>
            <a:off x="4675320" y="315288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"/>
          <p:cNvSpPr txBox="1"/>
          <p:nvPr/>
        </p:nvSpPr>
        <p:spPr>
          <a:xfrm>
            <a:off x="3322800" y="125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"/>
          <p:cNvSpPr txBox="1"/>
          <p:nvPr/>
        </p:nvSpPr>
        <p:spPr>
          <a:xfrm>
            <a:off x="3384720" y="3031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"/>
          <p:cNvSpPr txBox="1"/>
          <p:nvPr/>
        </p:nvSpPr>
        <p:spPr>
          <a:xfrm>
            <a:off x="3506760" y="493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"/>
          <p:cNvSpPr txBox="1"/>
          <p:nvPr/>
        </p:nvSpPr>
        <p:spPr>
          <a:xfrm>
            <a:off x="3684600" y="8096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1" name=""/>
          <p:cNvSpPr txBox="1"/>
          <p:nvPr/>
        </p:nvSpPr>
        <p:spPr>
          <a:xfrm>
            <a:off x="3138480" y="1960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2" name=""/>
          <p:cNvSpPr txBox="1"/>
          <p:nvPr/>
        </p:nvSpPr>
        <p:spPr>
          <a:xfrm>
            <a:off x="4175280" y="176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3" name=""/>
          <p:cNvSpPr txBox="1"/>
          <p:nvPr/>
        </p:nvSpPr>
        <p:spPr>
          <a:xfrm>
            <a:off x="4307040" y="20224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4" name=""/>
          <p:cNvSpPr txBox="1"/>
          <p:nvPr/>
        </p:nvSpPr>
        <p:spPr>
          <a:xfrm>
            <a:off x="4808520" y="23209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"/>
          <p:cNvSpPr/>
          <p:nvPr/>
        </p:nvSpPr>
        <p:spPr>
          <a:xfrm>
            <a:off x="4937040" y="287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"/>
          <p:cNvSpPr txBox="1"/>
          <p:nvPr/>
        </p:nvSpPr>
        <p:spPr>
          <a:xfrm>
            <a:off x="4930920" y="2793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"/>
          <p:cNvSpPr txBox="1"/>
          <p:nvPr/>
        </p:nvSpPr>
        <p:spPr>
          <a:xfrm>
            <a:off x="4782960" y="577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"/>
          <p:cNvSpPr txBox="1"/>
          <p:nvPr/>
        </p:nvSpPr>
        <p:spPr>
          <a:xfrm>
            <a:off x="4151160" y="901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"/>
          <p:cNvSpPr txBox="1"/>
          <p:nvPr/>
        </p:nvSpPr>
        <p:spPr>
          <a:xfrm>
            <a:off x="4782960" y="12002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"/>
          <p:cNvSpPr txBox="1"/>
          <p:nvPr/>
        </p:nvSpPr>
        <p:spPr>
          <a:xfrm>
            <a:off x="4562640" y="20019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"/>
          <p:cNvSpPr txBox="1"/>
          <p:nvPr/>
        </p:nvSpPr>
        <p:spPr>
          <a:xfrm>
            <a:off x="5086440" y="2206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"/>
          <p:cNvSpPr txBox="1"/>
          <p:nvPr/>
        </p:nvSpPr>
        <p:spPr>
          <a:xfrm>
            <a:off x="5335560" y="21286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"/>
          <p:cNvSpPr txBox="1"/>
          <p:nvPr/>
        </p:nvSpPr>
        <p:spPr>
          <a:xfrm>
            <a:off x="5148360" y="239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"/>
          <p:cNvSpPr txBox="1"/>
          <p:nvPr/>
        </p:nvSpPr>
        <p:spPr>
          <a:xfrm>
            <a:off x="5119560" y="26128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"/>
          <p:cNvSpPr txBox="1"/>
          <p:nvPr/>
        </p:nvSpPr>
        <p:spPr>
          <a:xfrm>
            <a:off x="5268960" y="277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6" name=""/>
          <p:cNvSpPr txBox="1"/>
          <p:nvPr/>
        </p:nvSpPr>
        <p:spPr>
          <a:xfrm>
            <a:off x="4876920" y="2870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7" name=""/>
          <p:cNvSpPr txBox="1"/>
          <p:nvPr/>
        </p:nvSpPr>
        <p:spPr>
          <a:xfrm>
            <a:off x="5168880" y="3046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8" name=""/>
          <p:cNvSpPr txBox="1"/>
          <p:nvPr/>
        </p:nvSpPr>
        <p:spPr>
          <a:xfrm>
            <a:off x="4662360" y="3127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9" name=""/>
          <p:cNvSpPr/>
          <p:nvPr/>
        </p:nvSpPr>
        <p:spPr>
          <a:xfrm>
            <a:off x="4751280" y="2232000"/>
            <a:ext cx="162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0" name=""/>
          <p:cNvSpPr txBox="1"/>
          <p:nvPr/>
        </p:nvSpPr>
        <p:spPr>
          <a:xfrm>
            <a:off x="4705200" y="22176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1" name=""/>
          <p:cNvSpPr/>
          <p:nvPr/>
        </p:nvSpPr>
        <p:spPr>
          <a:xfrm>
            <a:off x="5197320" y="81000"/>
            <a:ext cx="386280" cy="437040"/>
          </a:xfrm>
          <a:custGeom>
            <a:avLst/>
            <a:gdLst/>
            <a:ahLst/>
            <a:rect l="0" t="0" r="r" b="b"/>
            <a:pathLst>
              <a:path fill="none" w="1073" h="1214">
                <a:moveTo>
                  <a:pt x="0" y="0"/>
                </a:moveTo>
                <a:lnTo>
                  <a:pt x="22" y="63"/>
                </a:lnTo>
                <a:lnTo>
                  <a:pt x="44" y="127"/>
                </a:lnTo>
                <a:lnTo>
                  <a:pt x="107" y="171"/>
                </a:lnTo>
                <a:lnTo>
                  <a:pt x="171" y="213"/>
                </a:lnTo>
                <a:lnTo>
                  <a:pt x="191" y="277"/>
                </a:lnTo>
                <a:lnTo>
                  <a:pt x="235" y="342"/>
                </a:lnTo>
                <a:lnTo>
                  <a:pt x="255" y="427"/>
                </a:lnTo>
                <a:lnTo>
                  <a:pt x="300" y="491"/>
                </a:lnTo>
                <a:lnTo>
                  <a:pt x="342" y="555"/>
                </a:lnTo>
                <a:lnTo>
                  <a:pt x="405" y="597"/>
                </a:lnTo>
                <a:lnTo>
                  <a:pt x="469" y="619"/>
                </a:lnTo>
                <a:lnTo>
                  <a:pt x="533" y="639"/>
                </a:lnTo>
                <a:lnTo>
                  <a:pt x="597" y="683"/>
                </a:lnTo>
                <a:lnTo>
                  <a:pt x="661" y="725"/>
                </a:lnTo>
                <a:lnTo>
                  <a:pt x="705" y="788"/>
                </a:lnTo>
                <a:lnTo>
                  <a:pt x="724" y="852"/>
                </a:lnTo>
                <a:lnTo>
                  <a:pt x="768" y="917"/>
                </a:lnTo>
                <a:lnTo>
                  <a:pt x="768" y="981"/>
                </a:lnTo>
                <a:lnTo>
                  <a:pt x="811" y="1045"/>
                </a:lnTo>
                <a:lnTo>
                  <a:pt x="875" y="1067"/>
                </a:lnTo>
                <a:lnTo>
                  <a:pt x="939" y="1089"/>
                </a:lnTo>
                <a:lnTo>
                  <a:pt x="1003" y="1131"/>
                </a:lnTo>
                <a:lnTo>
                  <a:pt x="1073" y="1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2" name=""/>
          <p:cNvSpPr/>
          <p:nvPr/>
        </p:nvSpPr>
        <p:spPr>
          <a:xfrm>
            <a:off x="5175360" y="17136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3" name=""/>
          <p:cNvSpPr txBox="1"/>
          <p:nvPr/>
        </p:nvSpPr>
        <p:spPr>
          <a:xfrm>
            <a:off x="5165640" y="16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4" name=""/>
          <p:cNvGrpSpPr/>
          <p:nvPr/>
        </p:nvGrpSpPr>
        <p:grpSpPr>
          <a:xfrm>
            <a:off x="2854440" y="917640"/>
            <a:ext cx="2941560" cy="0"/>
            <a:chOff x="2854440" y="917640"/>
            <a:chExt cx="2941560" cy="0"/>
          </a:xfrm>
        </p:grpSpPr>
        <p:sp>
          <p:nvSpPr>
            <p:cNvPr id="5045" name=""/>
            <p:cNvSpPr/>
            <p:nvPr/>
          </p:nvSpPr>
          <p:spPr>
            <a:xfrm>
              <a:off x="2854440" y="9176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353052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362268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3706920" y="9176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4713120" y="9176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479736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4897440" y="917640"/>
              <a:ext cx="898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2" name=""/>
          <p:cNvGrpSpPr/>
          <p:nvPr/>
        </p:nvGrpSpPr>
        <p:grpSpPr>
          <a:xfrm>
            <a:off x="2854440" y="2154240"/>
            <a:ext cx="2957400" cy="0"/>
            <a:chOff x="2854440" y="2154240"/>
            <a:chExt cx="2957400" cy="0"/>
          </a:xfrm>
        </p:grpSpPr>
        <p:sp>
          <p:nvSpPr>
            <p:cNvPr id="5053" name=""/>
            <p:cNvSpPr/>
            <p:nvPr/>
          </p:nvSpPr>
          <p:spPr>
            <a:xfrm>
              <a:off x="2854440" y="21542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353052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362268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3706920" y="21542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4713120" y="21542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479736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4897440" y="2154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0" name=""/>
          <p:cNvGrpSpPr/>
          <p:nvPr/>
        </p:nvGrpSpPr>
        <p:grpSpPr>
          <a:xfrm>
            <a:off x="2854440" y="1554120"/>
            <a:ext cx="2949480" cy="0"/>
            <a:chOff x="2854440" y="1554120"/>
            <a:chExt cx="2949480" cy="0"/>
          </a:xfrm>
        </p:grpSpPr>
        <p:sp>
          <p:nvSpPr>
            <p:cNvPr id="5061" name=""/>
            <p:cNvSpPr/>
            <p:nvPr/>
          </p:nvSpPr>
          <p:spPr>
            <a:xfrm>
              <a:off x="2854440" y="155412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353052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362268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3706920" y="155412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4713120" y="155412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479736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4897440" y="1554120"/>
              <a:ext cx="90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8" name=""/>
          <p:cNvSpPr txBox="1"/>
          <p:nvPr/>
        </p:nvSpPr>
        <p:spPr>
          <a:xfrm>
            <a:off x="285444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9" name=""/>
          <p:cNvSpPr txBox="1"/>
          <p:nvPr/>
        </p:nvSpPr>
        <p:spPr>
          <a:xfrm>
            <a:off x="568152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0" name=""/>
          <p:cNvSpPr txBox="1"/>
          <p:nvPr/>
        </p:nvSpPr>
        <p:spPr>
          <a:xfrm>
            <a:off x="285444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"/>
          <p:cNvSpPr txBox="1"/>
          <p:nvPr/>
        </p:nvSpPr>
        <p:spPr>
          <a:xfrm>
            <a:off x="568152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"/>
          <p:cNvSpPr txBox="1"/>
          <p:nvPr/>
        </p:nvSpPr>
        <p:spPr>
          <a:xfrm>
            <a:off x="2854440" y="201312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"/>
          <p:cNvSpPr txBox="1"/>
          <p:nvPr/>
        </p:nvSpPr>
        <p:spPr>
          <a:xfrm>
            <a:off x="5681520" y="202104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0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1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2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3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"/>
          <p:cNvSpPr/>
          <p:nvPr/>
        </p:nvSpPr>
        <p:spPr>
          <a:xfrm>
            <a:off x="5586480" y="330516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"/>
          <p:cNvSpPr/>
          <p:nvPr/>
        </p:nvSpPr>
        <p:spPr>
          <a:xfrm>
            <a:off x="3065400" y="3352680"/>
            <a:ext cx="0" cy="874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"/>
          <p:cNvSpPr/>
          <p:nvPr/>
        </p:nvSpPr>
        <p:spPr>
          <a:xfrm>
            <a:off x="2749680" y="47880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"/>
          <p:cNvSpPr/>
          <p:nvPr/>
        </p:nvSpPr>
        <p:spPr>
          <a:xfrm>
            <a:off x="2749680" y="49402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"/>
          <p:cNvSpPr/>
          <p:nvPr/>
        </p:nvSpPr>
        <p:spPr>
          <a:xfrm>
            <a:off x="2749680" y="509256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"/>
          <p:cNvSpPr/>
          <p:nvPr/>
        </p:nvSpPr>
        <p:spPr>
          <a:xfrm>
            <a:off x="2749680" y="52452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"/>
          <p:cNvSpPr/>
          <p:nvPr/>
        </p:nvSpPr>
        <p:spPr>
          <a:xfrm>
            <a:off x="2749680" y="53974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"/>
          <p:cNvSpPr txBox="1"/>
          <p:nvPr/>
        </p:nvSpPr>
        <p:spPr>
          <a:xfrm>
            <a:off x="5637240" y="4664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"/>
          <p:cNvSpPr txBox="1"/>
          <p:nvPr/>
        </p:nvSpPr>
        <p:spPr>
          <a:xfrm>
            <a:off x="5637240" y="4816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"/>
          <p:cNvSpPr txBox="1"/>
          <p:nvPr/>
        </p:nvSpPr>
        <p:spPr>
          <a:xfrm>
            <a:off x="5637240" y="496872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"/>
          <p:cNvSpPr txBox="1"/>
          <p:nvPr/>
        </p:nvSpPr>
        <p:spPr>
          <a:xfrm>
            <a:off x="5637240" y="5121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"/>
          <p:cNvSpPr txBox="1"/>
          <p:nvPr/>
        </p:nvSpPr>
        <p:spPr>
          <a:xfrm>
            <a:off x="5637240" y="5273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"/>
          <p:cNvSpPr/>
          <p:nvPr/>
        </p:nvSpPr>
        <p:spPr>
          <a:xfrm>
            <a:off x="3067200" y="4695840"/>
            <a:ext cx="2524320" cy="702000"/>
          </a:xfrm>
          <a:custGeom>
            <a:avLst/>
            <a:gdLst/>
            <a:ahLst/>
            <a:rect l="0" t="0" r="r" b="b"/>
            <a:pathLst>
              <a:path w="7012" h="1950">
                <a:moveTo>
                  <a:pt x="0" y="0"/>
                </a:moveTo>
                <a:lnTo>
                  <a:pt x="39" y="52"/>
                </a:lnTo>
                <a:lnTo>
                  <a:pt x="92" y="57"/>
                </a:lnTo>
                <a:lnTo>
                  <a:pt x="132" y="97"/>
                </a:lnTo>
                <a:lnTo>
                  <a:pt x="171" y="110"/>
                </a:lnTo>
                <a:lnTo>
                  <a:pt x="211" y="123"/>
                </a:lnTo>
                <a:lnTo>
                  <a:pt x="251" y="136"/>
                </a:lnTo>
                <a:lnTo>
                  <a:pt x="291" y="123"/>
                </a:lnTo>
                <a:lnTo>
                  <a:pt x="330" y="123"/>
                </a:lnTo>
                <a:lnTo>
                  <a:pt x="370" y="123"/>
                </a:lnTo>
                <a:lnTo>
                  <a:pt x="436" y="149"/>
                </a:lnTo>
                <a:lnTo>
                  <a:pt x="476" y="176"/>
                </a:lnTo>
                <a:lnTo>
                  <a:pt x="515" y="189"/>
                </a:lnTo>
                <a:lnTo>
                  <a:pt x="555" y="202"/>
                </a:lnTo>
                <a:lnTo>
                  <a:pt x="621" y="202"/>
                </a:lnTo>
                <a:lnTo>
                  <a:pt x="661" y="216"/>
                </a:lnTo>
                <a:lnTo>
                  <a:pt x="701" y="229"/>
                </a:lnTo>
                <a:lnTo>
                  <a:pt x="767" y="282"/>
                </a:lnTo>
                <a:lnTo>
                  <a:pt x="806" y="321"/>
                </a:lnTo>
                <a:lnTo>
                  <a:pt x="846" y="361"/>
                </a:lnTo>
                <a:lnTo>
                  <a:pt x="899" y="388"/>
                </a:lnTo>
                <a:lnTo>
                  <a:pt x="939" y="401"/>
                </a:lnTo>
                <a:lnTo>
                  <a:pt x="992" y="414"/>
                </a:lnTo>
                <a:lnTo>
                  <a:pt x="1150" y="427"/>
                </a:lnTo>
                <a:lnTo>
                  <a:pt x="1203" y="440"/>
                </a:lnTo>
                <a:lnTo>
                  <a:pt x="1243" y="467"/>
                </a:lnTo>
                <a:lnTo>
                  <a:pt x="1283" y="480"/>
                </a:lnTo>
                <a:lnTo>
                  <a:pt x="1322" y="493"/>
                </a:lnTo>
                <a:lnTo>
                  <a:pt x="1362" y="507"/>
                </a:lnTo>
                <a:lnTo>
                  <a:pt x="1415" y="533"/>
                </a:lnTo>
                <a:lnTo>
                  <a:pt x="1468" y="573"/>
                </a:lnTo>
                <a:lnTo>
                  <a:pt x="1521" y="586"/>
                </a:lnTo>
                <a:lnTo>
                  <a:pt x="1561" y="599"/>
                </a:lnTo>
                <a:lnTo>
                  <a:pt x="1613" y="599"/>
                </a:lnTo>
                <a:lnTo>
                  <a:pt x="1653" y="612"/>
                </a:lnTo>
                <a:lnTo>
                  <a:pt x="1693" y="639"/>
                </a:lnTo>
                <a:lnTo>
                  <a:pt x="1733" y="652"/>
                </a:lnTo>
                <a:lnTo>
                  <a:pt x="1772" y="679"/>
                </a:lnTo>
                <a:lnTo>
                  <a:pt x="1812" y="692"/>
                </a:lnTo>
                <a:lnTo>
                  <a:pt x="1838" y="732"/>
                </a:lnTo>
                <a:lnTo>
                  <a:pt x="1878" y="758"/>
                </a:lnTo>
                <a:lnTo>
                  <a:pt x="1918" y="784"/>
                </a:lnTo>
                <a:lnTo>
                  <a:pt x="1957" y="811"/>
                </a:lnTo>
                <a:lnTo>
                  <a:pt x="2024" y="851"/>
                </a:lnTo>
                <a:lnTo>
                  <a:pt x="2037" y="890"/>
                </a:lnTo>
                <a:lnTo>
                  <a:pt x="2063" y="930"/>
                </a:lnTo>
                <a:lnTo>
                  <a:pt x="2103" y="956"/>
                </a:lnTo>
                <a:lnTo>
                  <a:pt x="2143" y="984"/>
                </a:lnTo>
                <a:lnTo>
                  <a:pt x="2182" y="1024"/>
                </a:lnTo>
                <a:lnTo>
                  <a:pt x="2235" y="1050"/>
                </a:lnTo>
                <a:lnTo>
                  <a:pt x="2275" y="1076"/>
                </a:lnTo>
                <a:lnTo>
                  <a:pt x="2288" y="1129"/>
                </a:lnTo>
                <a:lnTo>
                  <a:pt x="2301" y="1169"/>
                </a:lnTo>
                <a:lnTo>
                  <a:pt x="2328" y="1209"/>
                </a:lnTo>
                <a:lnTo>
                  <a:pt x="2368" y="1222"/>
                </a:lnTo>
                <a:lnTo>
                  <a:pt x="2407" y="1235"/>
                </a:lnTo>
                <a:lnTo>
                  <a:pt x="2447" y="1248"/>
                </a:lnTo>
                <a:lnTo>
                  <a:pt x="2500" y="1262"/>
                </a:lnTo>
                <a:lnTo>
                  <a:pt x="2540" y="1315"/>
                </a:lnTo>
                <a:lnTo>
                  <a:pt x="2592" y="1341"/>
                </a:lnTo>
                <a:lnTo>
                  <a:pt x="2632" y="1368"/>
                </a:lnTo>
                <a:lnTo>
                  <a:pt x="2685" y="1381"/>
                </a:lnTo>
                <a:lnTo>
                  <a:pt x="2725" y="1394"/>
                </a:lnTo>
                <a:lnTo>
                  <a:pt x="2764" y="1420"/>
                </a:lnTo>
                <a:lnTo>
                  <a:pt x="2831" y="1447"/>
                </a:lnTo>
                <a:lnTo>
                  <a:pt x="2883" y="1460"/>
                </a:lnTo>
                <a:lnTo>
                  <a:pt x="2923" y="1473"/>
                </a:lnTo>
                <a:lnTo>
                  <a:pt x="2963" y="1487"/>
                </a:lnTo>
                <a:lnTo>
                  <a:pt x="3003" y="1500"/>
                </a:lnTo>
                <a:lnTo>
                  <a:pt x="3055" y="1500"/>
                </a:lnTo>
                <a:lnTo>
                  <a:pt x="3095" y="1513"/>
                </a:lnTo>
                <a:lnTo>
                  <a:pt x="3135" y="1513"/>
                </a:lnTo>
                <a:lnTo>
                  <a:pt x="3175" y="1526"/>
                </a:lnTo>
                <a:lnTo>
                  <a:pt x="3214" y="1539"/>
                </a:lnTo>
                <a:lnTo>
                  <a:pt x="3254" y="1553"/>
                </a:lnTo>
                <a:lnTo>
                  <a:pt x="3280" y="1592"/>
                </a:lnTo>
                <a:lnTo>
                  <a:pt x="3294" y="1632"/>
                </a:lnTo>
                <a:lnTo>
                  <a:pt x="3320" y="1672"/>
                </a:lnTo>
                <a:lnTo>
                  <a:pt x="3333" y="1711"/>
                </a:lnTo>
                <a:lnTo>
                  <a:pt x="3373" y="1751"/>
                </a:lnTo>
                <a:lnTo>
                  <a:pt x="3386" y="1791"/>
                </a:lnTo>
                <a:lnTo>
                  <a:pt x="3399" y="1831"/>
                </a:lnTo>
                <a:lnTo>
                  <a:pt x="3426" y="1870"/>
                </a:lnTo>
                <a:lnTo>
                  <a:pt x="3466" y="1897"/>
                </a:lnTo>
                <a:lnTo>
                  <a:pt x="3505" y="1936"/>
                </a:lnTo>
                <a:lnTo>
                  <a:pt x="3546" y="1950"/>
                </a:lnTo>
                <a:lnTo>
                  <a:pt x="3586" y="1950"/>
                </a:lnTo>
                <a:lnTo>
                  <a:pt x="3625" y="1923"/>
                </a:lnTo>
                <a:lnTo>
                  <a:pt x="3639" y="1883"/>
                </a:lnTo>
                <a:lnTo>
                  <a:pt x="3665" y="1844"/>
                </a:lnTo>
                <a:lnTo>
                  <a:pt x="3691" y="1804"/>
                </a:lnTo>
                <a:lnTo>
                  <a:pt x="3718" y="1764"/>
                </a:lnTo>
                <a:lnTo>
                  <a:pt x="3758" y="1738"/>
                </a:lnTo>
                <a:lnTo>
                  <a:pt x="3797" y="1698"/>
                </a:lnTo>
                <a:lnTo>
                  <a:pt x="3824" y="1659"/>
                </a:lnTo>
                <a:lnTo>
                  <a:pt x="3824" y="1619"/>
                </a:lnTo>
                <a:lnTo>
                  <a:pt x="3850" y="1579"/>
                </a:lnTo>
                <a:lnTo>
                  <a:pt x="3877" y="1539"/>
                </a:lnTo>
                <a:lnTo>
                  <a:pt x="3903" y="1500"/>
                </a:lnTo>
                <a:lnTo>
                  <a:pt x="3930" y="1460"/>
                </a:lnTo>
                <a:lnTo>
                  <a:pt x="3956" y="1420"/>
                </a:lnTo>
                <a:lnTo>
                  <a:pt x="3996" y="1368"/>
                </a:lnTo>
                <a:lnTo>
                  <a:pt x="4022" y="1328"/>
                </a:lnTo>
                <a:lnTo>
                  <a:pt x="4062" y="1288"/>
                </a:lnTo>
                <a:lnTo>
                  <a:pt x="4088" y="1248"/>
                </a:lnTo>
                <a:lnTo>
                  <a:pt x="4128" y="1222"/>
                </a:lnTo>
                <a:lnTo>
                  <a:pt x="4168" y="1182"/>
                </a:lnTo>
                <a:lnTo>
                  <a:pt x="4194" y="1143"/>
                </a:lnTo>
                <a:lnTo>
                  <a:pt x="4234" y="1116"/>
                </a:lnTo>
                <a:lnTo>
                  <a:pt x="4274" y="1076"/>
                </a:lnTo>
                <a:lnTo>
                  <a:pt x="4313" y="1050"/>
                </a:lnTo>
                <a:lnTo>
                  <a:pt x="4353" y="1024"/>
                </a:lnTo>
                <a:lnTo>
                  <a:pt x="4393" y="1010"/>
                </a:lnTo>
                <a:lnTo>
                  <a:pt x="4432" y="984"/>
                </a:lnTo>
                <a:lnTo>
                  <a:pt x="4472" y="970"/>
                </a:lnTo>
                <a:lnTo>
                  <a:pt x="4512" y="943"/>
                </a:lnTo>
                <a:lnTo>
                  <a:pt x="4551" y="943"/>
                </a:lnTo>
                <a:lnTo>
                  <a:pt x="4591" y="943"/>
                </a:lnTo>
                <a:lnTo>
                  <a:pt x="4631" y="943"/>
                </a:lnTo>
                <a:lnTo>
                  <a:pt x="4670" y="943"/>
                </a:lnTo>
                <a:lnTo>
                  <a:pt x="4710" y="930"/>
                </a:lnTo>
                <a:lnTo>
                  <a:pt x="4750" y="917"/>
                </a:lnTo>
                <a:lnTo>
                  <a:pt x="4803" y="903"/>
                </a:lnTo>
                <a:lnTo>
                  <a:pt x="4842" y="890"/>
                </a:lnTo>
                <a:lnTo>
                  <a:pt x="4882" y="877"/>
                </a:lnTo>
                <a:lnTo>
                  <a:pt x="4922" y="877"/>
                </a:lnTo>
                <a:lnTo>
                  <a:pt x="4961" y="864"/>
                </a:lnTo>
                <a:lnTo>
                  <a:pt x="5001" y="851"/>
                </a:lnTo>
                <a:lnTo>
                  <a:pt x="5041" y="837"/>
                </a:lnTo>
                <a:lnTo>
                  <a:pt x="5081" y="837"/>
                </a:lnTo>
                <a:lnTo>
                  <a:pt x="5147" y="837"/>
                </a:lnTo>
                <a:lnTo>
                  <a:pt x="5186" y="837"/>
                </a:lnTo>
                <a:lnTo>
                  <a:pt x="5226" y="824"/>
                </a:lnTo>
                <a:lnTo>
                  <a:pt x="5279" y="811"/>
                </a:lnTo>
                <a:lnTo>
                  <a:pt x="5319" y="811"/>
                </a:lnTo>
                <a:lnTo>
                  <a:pt x="5385" y="798"/>
                </a:lnTo>
                <a:lnTo>
                  <a:pt x="5424" y="784"/>
                </a:lnTo>
                <a:lnTo>
                  <a:pt x="5477" y="771"/>
                </a:lnTo>
                <a:lnTo>
                  <a:pt x="5530" y="771"/>
                </a:lnTo>
                <a:lnTo>
                  <a:pt x="5570" y="758"/>
                </a:lnTo>
                <a:lnTo>
                  <a:pt x="5610" y="758"/>
                </a:lnTo>
                <a:lnTo>
                  <a:pt x="5649" y="758"/>
                </a:lnTo>
                <a:lnTo>
                  <a:pt x="5689" y="745"/>
                </a:lnTo>
                <a:lnTo>
                  <a:pt x="5729" y="718"/>
                </a:lnTo>
                <a:lnTo>
                  <a:pt x="5755" y="679"/>
                </a:lnTo>
                <a:lnTo>
                  <a:pt x="5795" y="679"/>
                </a:lnTo>
                <a:lnTo>
                  <a:pt x="5848" y="679"/>
                </a:lnTo>
                <a:lnTo>
                  <a:pt x="5887" y="679"/>
                </a:lnTo>
                <a:lnTo>
                  <a:pt x="5940" y="665"/>
                </a:lnTo>
                <a:lnTo>
                  <a:pt x="5993" y="652"/>
                </a:lnTo>
                <a:lnTo>
                  <a:pt x="6046" y="639"/>
                </a:lnTo>
                <a:lnTo>
                  <a:pt x="6086" y="626"/>
                </a:lnTo>
                <a:lnTo>
                  <a:pt x="6152" y="599"/>
                </a:lnTo>
                <a:lnTo>
                  <a:pt x="6192" y="586"/>
                </a:lnTo>
                <a:lnTo>
                  <a:pt x="6231" y="573"/>
                </a:lnTo>
                <a:lnTo>
                  <a:pt x="6271" y="546"/>
                </a:lnTo>
                <a:lnTo>
                  <a:pt x="6311" y="533"/>
                </a:lnTo>
                <a:lnTo>
                  <a:pt x="6351" y="533"/>
                </a:lnTo>
                <a:lnTo>
                  <a:pt x="6390" y="533"/>
                </a:lnTo>
                <a:lnTo>
                  <a:pt x="6443" y="533"/>
                </a:lnTo>
                <a:lnTo>
                  <a:pt x="6496" y="533"/>
                </a:lnTo>
                <a:lnTo>
                  <a:pt x="6536" y="533"/>
                </a:lnTo>
                <a:lnTo>
                  <a:pt x="6575" y="533"/>
                </a:lnTo>
                <a:lnTo>
                  <a:pt x="6734" y="507"/>
                </a:lnTo>
                <a:lnTo>
                  <a:pt x="6774" y="507"/>
                </a:lnTo>
                <a:lnTo>
                  <a:pt x="6827" y="480"/>
                </a:lnTo>
                <a:lnTo>
                  <a:pt x="6906" y="454"/>
                </a:lnTo>
                <a:lnTo>
                  <a:pt x="6946" y="454"/>
                </a:lnTo>
                <a:lnTo>
                  <a:pt x="6986" y="440"/>
                </a:lnTo>
                <a:lnTo>
                  <a:pt x="6999" y="436"/>
                </a:lnTo>
                <a:lnTo>
                  <a:pt x="6986" y="427"/>
                </a:lnTo>
                <a:lnTo>
                  <a:pt x="7012" y="427"/>
                </a:lnTo>
                <a:lnTo>
                  <a:pt x="7012" y="1950"/>
                </a:lnTo>
                <a:lnTo>
                  <a:pt x="0" y="1950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"/>
          <p:cNvSpPr/>
          <p:nvPr/>
        </p:nvSpPr>
        <p:spPr>
          <a:xfrm>
            <a:off x="2789280" y="361332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"/>
          <p:cNvSpPr/>
          <p:nvPr/>
        </p:nvSpPr>
        <p:spPr>
          <a:xfrm>
            <a:off x="2789280" y="37656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"/>
          <p:cNvSpPr/>
          <p:nvPr/>
        </p:nvSpPr>
        <p:spPr>
          <a:xfrm>
            <a:off x="2789280" y="39178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4" name=""/>
          <p:cNvSpPr/>
          <p:nvPr/>
        </p:nvSpPr>
        <p:spPr>
          <a:xfrm>
            <a:off x="2789280" y="407052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5" name=""/>
          <p:cNvSpPr/>
          <p:nvPr/>
        </p:nvSpPr>
        <p:spPr>
          <a:xfrm>
            <a:off x="2789280" y="42228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6" name=""/>
          <p:cNvSpPr/>
          <p:nvPr/>
        </p:nvSpPr>
        <p:spPr>
          <a:xfrm>
            <a:off x="5248440" y="961920"/>
            <a:ext cx="0" cy="270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7" name=""/>
          <p:cNvSpPr/>
          <p:nvPr/>
        </p:nvSpPr>
        <p:spPr>
          <a:xfrm>
            <a:off x="4581360" y="961920"/>
            <a:ext cx="0" cy="283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8" name=""/>
          <p:cNvSpPr/>
          <p:nvPr/>
        </p:nvSpPr>
        <p:spPr>
          <a:xfrm>
            <a:off x="4238640" y="102888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9" name=""/>
          <p:cNvSpPr/>
          <p:nvPr/>
        </p:nvSpPr>
        <p:spPr>
          <a:xfrm>
            <a:off x="4143240" y="971640"/>
            <a:ext cx="0" cy="313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0" name=""/>
          <p:cNvSpPr/>
          <p:nvPr/>
        </p:nvSpPr>
        <p:spPr>
          <a:xfrm>
            <a:off x="4086360" y="990720"/>
            <a:ext cx="0" cy="31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1" name=""/>
          <p:cNvSpPr/>
          <p:nvPr/>
        </p:nvSpPr>
        <p:spPr>
          <a:xfrm>
            <a:off x="4038480" y="98100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2" name=""/>
          <p:cNvSpPr/>
          <p:nvPr/>
        </p:nvSpPr>
        <p:spPr>
          <a:xfrm>
            <a:off x="3809880" y="971640"/>
            <a:ext cx="0" cy="299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3" name=""/>
          <p:cNvSpPr/>
          <p:nvPr/>
        </p:nvSpPr>
        <p:spPr>
          <a:xfrm>
            <a:off x="3467160" y="981000"/>
            <a:ext cx="0" cy="2857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4" name=""/>
          <p:cNvSpPr txBox="1"/>
          <p:nvPr/>
        </p:nvSpPr>
        <p:spPr>
          <a:xfrm>
            <a:off x="5651640" y="349092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5" name=""/>
          <p:cNvSpPr txBox="1"/>
          <p:nvPr/>
        </p:nvSpPr>
        <p:spPr>
          <a:xfrm>
            <a:off x="5651640" y="3643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"/>
          <p:cNvSpPr txBox="1"/>
          <p:nvPr/>
        </p:nvSpPr>
        <p:spPr>
          <a:xfrm>
            <a:off x="5651640" y="37958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7" name=""/>
          <p:cNvSpPr txBox="1"/>
          <p:nvPr/>
        </p:nvSpPr>
        <p:spPr>
          <a:xfrm>
            <a:off x="5651640" y="39387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8" name=""/>
          <p:cNvSpPr txBox="1"/>
          <p:nvPr/>
        </p:nvSpPr>
        <p:spPr>
          <a:xfrm>
            <a:off x="5651640" y="40910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"/>
          <p:cNvSpPr txBox="1"/>
          <p:nvPr/>
        </p:nvSpPr>
        <p:spPr>
          <a:xfrm>
            <a:off x="3813120" y="5381640"/>
            <a:ext cx="1027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B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"/>
          <p:cNvSpPr/>
          <p:nvPr/>
        </p:nvSpPr>
        <p:spPr>
          <a:xfrm>
            <a:off x="3071880" y="3540240"/>
            <a:ext cx="2514960" cy="690840"/>
          </a:xfrm>
          <a:custGeom>
            <a:avLst/>
            <a:gdLst/>
            <a:ahLst/>
            <a:rect l="0" t="0" r="r" b="b"/>
            <a:pathLst>
              <a:path fill="none" w="6986" h="1919">
                <a:moveTo>
                  <a:pt x="0" y="220"/>
                </a:moveTo>
                <a:lnTo>
                  <a:pt x="39" y="233"/>
                </a:lnTo>
                <a:lnTo>
                  <a:pt x="79" y="260"/>
                </a:lnTo>
                <a:lnTo>
                  <a:pt x="92" y="291"/>
                </a:lnTo>
                <a:lnTo>
                  <a:pt x="132" y="304"/>
                </a:lnTo>
                <a:lnTo>
                  <a:pt x="198" y="317"/>
                </a:lnTo>
                <a:lnTo>
                  <a:pt x="251" y="330"/>
                </a:lnTo>
                <a:lnTo>
                  <a:pt x="291" y="330"/>
                </a:lnTo>
                <a:lnTo>
                  <a:pt x="330" y="357"/>
                </a:lnTo>
                <a:lnTo>
                  <a:pt x="370" y="383"/>
                </a:lnTo>
                <a:lnTo>
                  <a:pt x="410" y="396"/>
                </a:lnTo>
                <a:lnTo>
                  <a:pt x="449" y="410"/>
                </a:lnTo>
                <a:lnTo>
                  <a:pt x="489" y="410"/>
                </a:lnTo>
                <a:lnTo>
                  <a:pt x="529" y="436"/>
                </a:lnTo>
                <a:lnTo>
                  <a:pt x="582" y="463"/>
                </a:lnTo>
                <a:lnTo>
                  <a:pt x="621" y="476"/>
                </a:lnTo>
                <a:lnTo>
                  <a:pt x="661" y="502"/>
                </a:lnTo>
                <a:lnTo>
                  <a:pt x="701" y="515"/>
                </a:lnTo>
                <a:lnTo>
                  <a:pt x="754" y="515"/>
                </a:lnTo>
                <a:lnTo>
                  <a:pt x="793" y="529"/>
                </a:lnTo>
                <a:lnTo>
                  <a:pt x="873" y="555"/>
                </a:lnTo>
                <a:lnTo>
                  <a:pt x="939" y="582"/>
                </a:lnTo>
                <a:lnTo>
                  <a:pt x="978" y="608"/>
                </a:lnTo>
                <a:lnTo>
                  <a:pt x="1031" y="621"/>
                </a:lnTo>
                <a:lnTo>
                  <a:pt x="1084" y="648"/>
                </a:lnTo>
                <a:lnTo>
                  <a:pt x="1111" y="687"/>
                </a:lnTo>
                <a:lnTo>
                  <a:pt x="1150" y="714"/>
                </a:lnTo>
                <a:lnTo>
                  <a:pt x="1203" y="740"/>
                </a:lnTo>
                <a:lnTo>
                  <a:pt x="1256" y="767"/>
                </a:lnTo>
                <a:lnTo>
                  <a:pt x="1296" y="780"/>
                </a:lnTo>
                <a:lnTo>
                  <a:pt x="1336" y="806"/>
                </a:lnTo>
                <a:lnTo>
                  <a:pt x="1375" y="833"/>
                </a:lnTo>
                <a:lnTo>
                  <a:pt x="1415" y="859"/>
                </a:lnTo>
                <a:lnTo>
                  <a:pt x="1455" y="873"/>
                </a:lnTo>
                <a:lnTo>
                  <a:pt x="1534" y="886"/>
                </a:lnTo>
                <a:lnTo>
                  <a:pt x="1587" y="912"/>
                </a:lnTo>
                <a:lnTo>
                  <a:pt x="1627" y="926"/>
                </a:lnTo>
                <a:lnTo>
                  <a:pt x="1666" y="939"/>
                </a:lnTo>
                <a:lnTo>
                  <a:pt x="1719" y="939"/>
                </a:lnTo>
                <a:lnTo>
                  <a:pt x="1759" y="939"/>
                </a:lnTo>
                <a:lnTo>
                  <a:pt x="1799" y="939"/>
                </a:lnTo>
                <a:lnTo>
                  <a:pt x="1838" y="966"/>
                </a:lnTo>
                <a:lnTo>
                  <a:pt x="1878" y="979"/>
                </a:lnTo>
                <a:lnTo>
                  <a:pt x="1918" y="1006"/>
                </a:lnTo>
                <a:lnTo>
                  <a:pt x="1957" y="1032"/>
                </a:lnTo>
                <a:lnTo>
                  <a:pt x="1997" y="1046"/>
                </a:lnTo>
                <a:lnTo>
                  <a:pt x="2037" y="1059"/>
                </a:lnTo>
                <a:lnTo>
                  <a:pt x="2090" y="1085"/>
                </a:lnTo>
                <a:lnTo>
                  <a:pt x="2156" y="1125"/>
                </a:lnTo>
                <a:lnTo>
                  <a:pt x="2196" y="1138"/>
                </a:lnTo>
                <a:lnTo>
                  <a:pt x="2235" y="1151"/>
                </a:lnTo>
                <a:lnTo>
                  <a:pt x="2275" y="1165"/>
                </a:lnTo>
                <a:lnTo>
                  <a:pt x="2328" y="1191"/>
                </a:lnTo>
                <a:lnTo>
                  <a:pt x="2381" y="1204"/>
                </a:lnTo>
                <a:lnTo>
                  <a:pt x="2460" y="1284"/>
                </a:lnTo>
                <a:lnTo>
                  <a:pt x="2500" y="1310"/>
                </a:lnTo>
                <a:lnTo>
                  <a:pt x="2540" y="1363"/>
                </a:lnTo>
                <a:lnTo>
                  <a:pt x="2592" y="1416"/>
                </a:lnTo>
                <a:lnTo>
                  <a:pt x="2619" y="1456"/>
                </a:lnTo>
                <a:lnTo>
                  <a:pt x="2650" y="1482"/>
                </a:lnTo>
                <a:lnTo>
                  <a:pt x="2685" y="1522"/>
                </a:lnTo>
                <a:lnTo>
                  <a:pt x="2689" y="1584"/>
                </a:lnTo>
                <a:lnTo>
                  <a:pt x="2703" y="1610"/>
                </a:lnTo>
                <a:lnTo>
                  <a:pt x="2725" y="1641"/>
                </a:lnTo>
                <a:lnTo>
                  <a:pt x="2738" y="1694"/>
                </a:lnTo>
                <a:lnTo>
                  <a:pt x="2756" y="1734"/>
                </a:lnTo>
                <a:lnTo>
                  <a:pt x="2778" y="1786"/>
                </a:lnTo>
                <a:lnTo>
                  <a:pt x="2791" y="1822"/>
                </a:lnTo>
                <a:lnTo>
                  <a:pt x="2791" y="1875"/>
                </a:lnTo>
                <a:lnTo>
                  <a:pt x="2831" y="1892"/>
                </a:lnTo>
                <a:lnTo>
                  <a:pt x="2817" y="1919"/>
                </a:lnTo>
                <a:lnTo>
                  <a:pt x="2831" y="1892"/>
                </a:lnTo>
                <a:lnTo>
                  <a:pt x="2844" y="1853"/>
                </a:lnTo>
                <a:lnTo>
                  <a:pt x="2857" y="1813"/>
                </a:lnTo>
                <a:lnTo>
                  <a:pt x="2883" y="1773"/>
                </a:lnTo>
                <a:lnTo>
                  <a:pt x="2883" y="1734"/>
                </a:lnTo>
                <a:lnTo>
                  <a:pt x="2897" y="1694"/>
                </a:lnTo>
                <a:lnTo>
                  <a:pt x="2910" y="1654"/>
                </a:lnTo>
                <a:lnTo>
                  <a:pt x="2950" y="1628"/>
                </a:lnTo>
                <a:lnTo>
                  <a:pt x="2963" y="1588"/>
                </a:lnTo>
                <a:lnTo>
                  <a:pt x="2989" y="1548"/>
                </a:lnTo>
                <a:lnTo>
                  <a:pt x="3003" y="1509"/>
                </a:lnTo>
                <a:lnTo>
                  <a:pt x="3016" y="1469"/>
                </a:lnTo>
                <a:lnTo>
                  <a:pt x="3029" y="1429"/>
                </a:lnTo>
                <a:lnTo>
                  <a:pt x="3069" y="1390"/>
                </a:lnTo>
                <a:lnTo>
                  <a:pt x="3095" y="1350"/>
                </a:lnTo>
                <a:lnTo>
                  <a:pt x="3122" y="1310"/>
                </a:lnTo>
                <a:lnTo>
                  <a:pt x="3148" y="1257"/>
                </a:lnTo>
                <a:lnTo>
                  <a:pt x="3175" y="1218"/>
                </a:lnTo>
                <a:lnTo>
                  <a:pt x="3188" y="1178"/>
                </a:lnTo>
                <a:lnTo>
                  <a:pt x="3201" y="1138"/>
                </a:lnTo>
                <a:lnTo>
                  <a:pt x="3227" y="1099"/>
                </a:lnTo>
                <a:lnTo>
                  <a:pt x="3280" y="1059"/>
                </a:lnTo>
                <a:lnTo>
                  <a:pt x="3320" y="1032"/>
                </a:lnTo>
                <a:lnTo>
                  <a:pt x="3360" y="1019"/>
                </a:lnTo>
                <a:lnTo>
                  <a:pt x="3399" y="1006"/>
                </a:lnTo>
                <a:lnTo>
                  <a:pt x="3559" y="979"/>
                </a:lnTo>
                <a:lnTo>
                  <a:pt x="3599" y="966"/>
                </a:lnTo>
                <a:lnTo>
                  <a:pt x="3639" y="952"/>
                </a:lnTo>
                <a:lnTo>
                  <a:pt x="3678" y="939"/>
                </a:lnTo>
                <a:lnTo>
                  <a:pt x="3718" y="939"/>
                </a:lnTo>
                <a:lnTo>
                  <a:pt x="3758" y="912"/>
                </a:lnTo>
                <a:lnTo>
                  <a:pt x="3811" y="886"/>
                </a:lnTo>
                <a:lnTo>
                  <a:pt x="3850" y="859"/>
                </a:lnTo>
                <a:lnTo>
                  <a:pt x="3890" y="833"/>
                </a:lnTo>
                <a:lnTo>
                  <a:pt x="3930" y="806"/>
                </a:lnTo>
                <a:lnTo>
                  <a:pt x="3969" y="780"/>
                </a:lnTo>
                <a:lnTo>
                  <a:pt x="4022" y="754"/>
                </a:lnTo>
                <a:lnTo>
                  <a:pt x="4075" y="727"/>
                </a:lnTo>
                <a:lnTo>
                  <a:pt x="4115" y="714"/>
                </a:lnTo>
                <a:lnTo>
                  <a:pt x="4154" y="701"/>
                </a:lnTo>
                <a:lnTo>
                  <a:pt x="4194" y="687"/>
                </a:lnTo>
                <a:lnTo>
                  <a:pt x="4234" y="674"/>
                </a:lnTo>
                <a:lnTo>
                  <a:pt x="4366" y="648"/>
                </a:lnTo>
                <a:lnTo>
                  <a:pt x="4406" y="621"/>
                </a:lnTo>
                <a:lnTo>
                  <a:pt x="4446" y="608"/>
                </a:lnTo>
                <a:lnTo>
                  <a:pt x="4498" y="568"/>
                </a:lnTo>
                <a:lnTo>
                  <a:pt x="4538" y="542"/>
                </a:lnTo>
                <a:lnTo>
                  <a:pt x="4591" y="515"/>
                </a:lnTo>
                <a:lnTo>
                  <a:pt x="4657" y="489"/>
                </a:lnTo>
                <a:lnTo>
                  <a:pt x="4723" y="476"/>
                </a:lnTo>
                <a:lnTo>
                  <a:pt x="4763" y="463"/>
                </a:lnTo>
                <a:lnTo>
                  <a:pt x="4803" y="463"/>
                </a:lnTo>
                <a:lnTo>
                  <a:pt x="4842" y="463"/>
                </a:lnTo>
                <a:lnTo>
                  <a:pt x="4895" y="449"/>
                </a:lnTo>
                <a:lnTo>
                  <a:pt x="4948" y="436"/>
                </a:lnTo>
                <a:lnTo>
                  <a:pt x="5001" y="436"/>
                </a:lnTo>
                <a:lnTo>
                  <a:pt x="5041" y="436"/>
                </a:lnTo>
                <a:lnTo>
                  <a:pt x="5186" y="436"/>
                </a:lnTo>
                <a:lnTo>
                  <a:pt x="5226" y="423"/>
                </a:lnTo>
                <a:lnTo>
                  <a:pt x="5266" y="423"/>
                </a:lnTo>
                <a:lnTo>
                  <a:pt x="5332" y="410"/>
                </a:lnTo>
                <a:lnTo>
                  <a:pt x="5372" y="396"/>
                </a:lnTo>
                <a:lnTo>
                  <a:pt x="5451" y="370"/>
                </a:lnTo>
                <a:lnTo>
                  <a:pt x="5504" y="370"/>
                </a:lnTo>
                <a:lnTo>
                  <a:pt x="5557" y="357"/>
                </a:lnTo>
                <a:lnTo>
                  <a:pt x="5610" y="357"/>
                </a:lnTo>
                <a:lnTo>
                  <a:pt x="5689" y="357"/>
                </a:lnTo>
                <a:lnTo>
                  <a:pt x="5729" y="357"/>
                </a:lnTo>
                <a:lnTo>
                  <a:pt x="5768" y="343"/>
                </a:lnTo>
                <a:lnTo>
                  <a:pt x="5808" y="330"/>
                </a:lnTo>
                <a:lnTo>
                  <a:pt x="5848" y="317"/>
                </a:lnTo>
                <a:lnTo>
                  <a:pt x="5901" y="291"/>
                </a:lnTo>
                <a:lnTo>
                  <a:pt x="5940" y="277"/>
                </a:lnTo>
                <a:lnTo>
                  <a:pt x="5980" y="264"/>
                </a:lnTo>
                <a:lnTo>
                  <a:pt x="6020" y="264"/>
                </a:lnTo>
                <a:lnTo>
                  <a:pt x="6059" y="251"/>
                </a:lnTo>
                <a:lnTo>
                  <a:pt x="6099" y="238"/>
                </a:lnTo>
                <a:lnTo>
                  <a:pt x="6139" y="224"/>
                </a:lnTo>
                <a:lnTo>
                  <a:pt x="6192" y="198"/>
                </a:lnTo>
                <a:lnTo>
                  <a:pt x="6231" y="171"/>
                </a:lnTo>
                <a:lnTo>
                  <a:pt x="6271" y="158"/>
                </a:lnTo>
                <a:lnTo>
                  <a:pt x="6337" y="145"/>
                </a:lnTo>
                <a:lnTo>
                  <a:pt x="6377" y="132"/>
                </a:lnTo>
                <a:lnTo>
                  <a:pt x="6430" y="119"/>
                </a:lnTo>
                <a:lnTo>
                  <a:pt x="6483" y="119"/>
                </a:lnTo>
                <a:lnTo>
                  <a:pt x="6522" y="119"/>
                </a:lnTo>
                <a:lnTo>
                  <a:pt x="6575" y="105"/>
                </a:lnTo>
                <a:lnTo>
                  <a:pt x="6615" y="105"/>
                </a:lnTo>
                <a:lnTo>
                  <a:pt x="6655" y="92"/>
                </a:lnTo>
                <a:lnTo>
                  <a:pt x="6694" y="92"/>
                </a:lnTo>
                <a:lnTo>
                  <a:pt x="6747" y="66"/>
                </a:lnTo>
                <a:lnTo>
                  <a:pt x="6787" y="66"/>
                </a:lnTo>
                <a:lnTo>
                  <a:pt x="6827" y="52"/>
                </a:lnTo>
                <a:lnTo>
                  <a:pt x="6866" y="39"/>
                </a:lnTo>
                <a:lnTo>
                  <a:pt x="6906" y="26"/>
                </a:lnTo>
                <a:lnTo>
                  <a:pt x="6946" y="13"/>
                </a:lnTo>
                <a:lnTo>
                  <a:pt x="6986" y="0"/>
                </a:lnTo>
                <a:lnTo>
                  <a:pt x="6986" y="13"/>
                </a:lnTo>
                <a:lnTo>
                  <a:pt x="6986" y="1919"/>
                </a:lnTo>
                <a:lnTo>
                  <a:pt x="0" y="1919"/>
                </a:lnTo>
                <a:lnTo>
                  <a:pt x="0" y="22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"/>
          <p:cNvSpPr/>
          <p:nvPr/>
        </p:nvSpPr>
        <p:spPr>
          <a:xfrm>
            <a:off x="3071880" y="77760"/>
            <a:ext cx="2514600" cy="3200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"/>
          <p:cNvSpPr/>
          <p:nvPr/>
        </p:nvSpPr>
        <p:spPr>
          <a:xfrm>
            <a:off x="3075120" y="82440"/>
            <a:ext cx="390960" cy="340200"/>
          </a:xfrm>
          <a:custGeom>
            <a:avLst/>
            <a:gdLst/>
            <a:ahLst/>
            <a:rect l="0" t="0" r="r" b="b"/>
            <a:pathLst>
              <a:path fill="none" w="1086" h="945">
                <a:moveTo>
                  <a:pt x="1086" y="0"/>
                </a:moveTo>
                <a:lnTo>
                  <a:pt x="1086" y="70"/>
                </a:lnTo>
                <a:lnTo>
                  <a:pt x="1064" y="140"/>
                </a:lnTo>
                <a:lnTo>
                  <a:pt x="1018" y="233"/>
                </a:lnTo>
                <a:lnTo>
                  <a:pt x="971" y="348"/>
                </a:lnTo>
                <a:lnTo>
                  <a:pt x="947" y="440"/>
                </a:lnTo>
                <a:lnTo>
                  <a:pt x="876" y="489"/>
                </a:lnTo>
                <a:lnTo>
                  <a:pt x="783" y="489"/>
                </a:lnTo>
                <a:lnTo>
                  <a:pt x="690" y="557"/>
                </a:lnTo>
                <a:lnTo>
                  <a:pt x="597" y="581"/>
                </a:lnTo>
                <a:lnTo>
                  <a:pt x="504" y="649"/>
                </a:lnTo>
                <a:lnTo>
                  <a:pt x="458" y="721"/>
                </a:lnTo>
                <a:lnTo>
                  <a:pt x="387" y="743"/>
                </a:lnTo>
                <a:lnTo>
                  <a:pt x="294" y="767"/>
                </a:lnTo>
                <a:lnTo>
                  <a:pt x="201" y="835"/>
                </a:lnTo>
                <a:lnTo>
                  <a:pt x="132" y="906"/>
                </a:lnTo>
                <a:lnTo>
                  <a:pt x="61" y="930"/>
                </a:lnTo>
                <a:lnTo>
                  <a:pt x="0" y="9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4" name=""/>
          <p:cNvSpPr/>
          <p:nvPr/>
        </p:nvSpPr>
        <p:spPr>
          <a:xfrm>
            <a:off x="3071880" y="82440"/>
            <a:ext cx="568800" cy="2595960"/>
          </a:xfrm>
          <a:custGeom>
            <a:avLst/>
            <a:gdLst/>
            <a:ahLst/>
            <a:rect l="0" t="0" r="r" b="b"/>
            <a:pathLst>
              <a:path fill="none" w="1580" h="7211">
                <a:moveTo>
                  <a:pt x="1571" y="0"/>
                </a:moveTo>
                <a:lnTo>
                  <a:pt x="1580" y="46"/>
                </a:lnTo>
                <a:lnTo>
                  <a:pt x="1558" y="138"/>
                </a:lnTo>
                <a:lnTo>
                  <a:pt x="1558" y="231"/>
                </a:lnTo>
                <a:lnTo>
                  <a:pt x="1558" y="324"/>
                </a:lnTo>
                <a:lnTo>
                  <a:pt x="1488" y="416"/>
                </a:lnTo>
                <a:lnTo>
                  <a:pt x="1441" y="487"/>
                </a:lnTo>
                <a:lnTo>
                  <a:pt x="1371" y="555"/>
                </a:lnTo>
                <a:lnTo>
                  <a:pt x="1278" y="648"/>
                </a:lnTo>
                <a:lnTo>
                  <a:pt x="1256" y="718"/>
                </a:lnTo>
                <a:lnTo>
                  <a:pt x="1210" y="811"/>
                </a:lnTo>
                <a:lnTo>
                  <a:pt x="1162" y="903"/>
                </a:lnTo>
                <a:lnTo>
                  <a:pt x="1116" y="996"/>
                </a:lnTo>
                <a:lnTo>
                  <a:pt x="1070" y="1067"/>
                </a:lnTo>
                <a:lnTo>
                  <a:pt x="999" y="1135"/>
                </a:lnTo>
                <a:lnTo>
                  <a:pt x="977" y="1206"/>
                </a:lnTo>
                <a:lnTo>
                  <a:pt x="907" y="1252"/>
                </a:lnTo>
                <a:lnTo>
                  <a:pt x="860" y="1344"/>
                </a:lnTo>
                <a:lnTo>
                  <a:pt x="790" y="1415"/>
                </a:lnTo>
                <a:lnTo>
                  <a:pt x="697" y="1483"/>
                </a:lnTo>
                <a:lnTo>
                  <a:pt x="651" y="1554"/>
                </a:lnTo>
                <a:lnTo>
                  <a:pt x="605" y="1647"/>
                </a:lnTo>
                <a:lnTo>
                  <a:pt x="536" y="1739"/>
                </a:lnTo>
                <a:lnTo>
                  <a:pt x="488" y="1811"/>
                </a:lnTo>
                <a:lnTo>
                  <a:pt x="394" y="1879"/>
                </a:lnTo>
                <a:lnTo>
                  <a:pt x="326" y="1950"/>
                </a:lnTo>
                <a:lnTo>
                  <a:pt x="255" y="1972"/>
                </a:lnTo>
                <a:lnTo>
                  <a:pt x="187" y="2042"/>
                </a:lnTo>
                <a:lnTo>
                  <a:pt x="116" y="2089"/>
                </a:lnTo>
                <a:lnTo>
                  <a:pt x="70" y="2181"/>
                </a:lnTo>
                <a:lnTo>
                  <a:pt x="24" y="2252"/>
                </a:lnTo>
                <a:lnTo>
                  <a:pt x="0" y="2344"/>
                </a:lnTo>
                <a:lnTo>
                  <a:pt x="46" y="2437"/>
                </a:lnTo>
                <a:lnTo>
                  <a:pt x="94" y="2529"/>
                </a:lnTo>
                <a:lnTo>
                  <a:pt x="116" y="2644"/>
                </a:lnTo>
                <a:lnTo>
                  <a:pt x="141" y="2715"/>
                </a:lnTo>
                <a:lnTo>
                  <a:pt x="163" y="2807"/>
                </a:lnTo>
                <a:lnTo>
                  <a:pt x="209" y="2878"/>
                </a:lnTo>
                <a:lnTo>
                  <a:pt x="255" y="2992"/>
                </a:lnTo>
                <a:lnTo>
                  <a:pt x="326" y="3063"/>
                </a:lnTo>
                <a:lnTo>
                  <a:pt x="372" y="3134"/>
                </a:lnTo>
                <a:lnTo>
                  <a:pt x="419" y="3226"/>
                </a:lnTo>
                <a:lnTo>
                  <a:pt x="466" y="3319"/>
                </a:lnTo>
                <a:lnTo>
                  <a:pt x="536" y="3411"/>
                </a:lnTo>
                <a:lnTo>
                  <a:pt x="583" y="3504"/>
                </a:lnTo>
                <a:lnTo>
                  <a:pt x="605" y="3575"/>
                </a:lnTo>
                <a:lnTo>
                  <a:pt x="651" y="3667"/>
                </a:lnTo>
                <a:lnTo>
                  <a:pt x="651" y="3760"/>
                </a:lnTo>
                <a:lnTo>
                  <a:pt x="651" y="3852"/>
                </a:lnTo>
                <a:lnTo>
                  <a:pt x="651" y="3967"/>
                </a:lnTo>
                <a:lnTo>
                  <a:pt x="675" y="4062"/>
                </a:lnTo>
                <a:lnTo>
                  <a:pt x="697" y="4154"/>
                </a:lnTo>
                <a:lnTo>
                  <a:pt x="768" y="4247"/>
                </a:lnTo>
                <a:lnTo>
                  <a:pt x="836" y="4362"/>
                </a:lnTo>
                <a:lnTo>
                  <a:pt x="882" y="4432"/>
                </a:lnTo>
                <a:lnTo>
                  <a:pt x="907" y="4503"/>
                </a:lnTo>
                <a:lnTo>
                  <a:pt x="977" y="4617"/>
                </a:lnTo>
                <a:lnTo>
                  <a:pt x="1024" y="4688"/>
                </a:lnTo>
                <a:lnTo>
                  <a:pt x="1116" y="4781"/>
                </a:lnTo>
                <a:lnTo>
                  <a:pt x="1162" y="4873"/>
                </a:lnTo>
                <a:lnTo>
                  <a:pt x="1210" y="4944"/>
                </a:lnTo>
                <a:lnTo>
                  <a:pt x="1232" y="5036"/>
                </a:lnTo>
                <a:lnTo>
                  <a:pt x="1278" y="5129"/>
                </a:lnTo>
                <a:lnTo>
                  <a:pt x="1302" y="5222"/>
                </a:lnTo>
                <a:lnTo>
                  <a:pt x="1302" y="5314"/>
                </a:lnTo>
                <a:lnTo>
                  <a:pt x="1302" y="5385"/>
                </a:lnTo>
                <a:lnTo>
                  <a:pt x="1324" y="5547"/>
                </a:lnTo>
                <a:lnTo>
                  <a:pt x="1349" y="5617"/>
                </a:lnTo>
                <a:lnTo>
                  <a:pt x="1349" y="5732"/>
                </a:lnTo>
                <a:lnTo>
                  <a:pt x="1324" y="5849"/>
                </a:lnTo>
                <a:lnTo>
                  <a:pt x="1324" y="5919"/>
                </a:lnTo>
                <a:lnTo>
                  <a:pt x="1302" y="6012"/>
                </a:lnTo>
                <a:lnTo>
                  <a:pt x="1232" y="6080"/>
                </a:lnTo>
                <a:lnTo>
                  <a:pt x="1210" y="6151"/>
                </a:lnTo>
                <a:lnTo>
                  <a:pt x="1138" y="6221"/>
                </a:lnTo>
                <a:lnTo>
                  <a:pt x="1070" y="6314"/>
                </a:lnTo>
                <a:lnTo>
                  <a:pt x="999" y="6382"/>
                </a:lnTo>
                <a:lnTo>
                  <a:pt x="953" y="6453"/>
                </a:lnTo>
                <a:lnTo>
                  <a:pt x="882" y="6568"/>
                </a:lnTo>
                <a:lnTo>
                  <a:pt x="836" y="6638"/>
                </a:lnTo>
                <a:lnTo>
                  <a:pt x="814" y="6709"/>
                </a:lnTo>
                <a:lnTo>
                  <a:pt x="814" y="6801"/>
                </a:lnTo>
                <a:lnTo>
                  <a:pt x="790" y="6894"/>
                </a:lnTo>
                <a:lnTo>
                  <a:pt x="697" y="6940"/>
                </a:lnTo>
                <a:lnTo>
                  <a:pt x="605" y="7009"/>
                </a:lnTo>
                <a:lnTo>
                  <a:pt x="536" y="7079"/>
                </a:lnTo>
                <a:lnTo>
                  <a:pt x="466" y="7079"/>
                </a:lnTo>
                <a:lnTo>
                  <a:pt x="372" y="7079"/>
                </a:lnTo>
                <a:lnTo>
                  <a:pt x="302" y="7079"/>
                </a:lnTo>
                <a:lnTo>
                  <a:pt x="209" y="7125"/>
                </a:lnTo>
                <a:lnTo>
                  <a:pt x="141" y="7196"/>
                </a:lnTo>
                <a:lnTo>
                  <a:pt x="6" y="721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"/>
          <p:cNvSpPr/>
          <p:nvPr/>
        </p:nvSpPr>
        <p:spPr>
          <a:xfrm>
            <a:off x="3081240" y="82440"/>
            <a:ext cx="776520" cy="2916720"/>
          </a:xfrm>
          <a:custGeom>
            <a:avLst/>
            <a:gdLst/>
            <a:ahLst/>
            <a:rect l="0" t="0" r="r" b="b"/>
            <a:pathLst>
              <a:path fill="none" w="2157" h="8102">
                <a:moveTo>
                  <a:pt x="2157" y="0"/>
                </a:moveTo>
                <a:lnTo>
                  <a:pt x="2157" y="94"/>
                </a:lnTo>
                <a:lnTo>
                  <a:pt x="2157" y="187"/>
                </a:lnTo>
                <a:lnTo>
                  <a:pt x="2157" y="302"/>
                </a:lnTo>
                <a:lnTo>
                  <a:pt x="2133" y="372"/>
                </a:lnTo>
                <a:lnTo>
                  <a:pt x="2086" y="465"/>
                </a:lnTo>
                <a:lnTo>
                  <a:pt x="2040" y="535"/>
                </a:lnTo>
                <a:lnTo>
                  <a:pt x="1972" y="628"/>
                </a:lnTo>
                <a:lnTo>
                  <a:pt x="1926" y="720"/>
                </a:lnTo>
                <a:lnTo>
                  <a:pt x="1879" y="813"/>
                </a:lnTo>
                <a:lnTo>
                  <a:pt x="1809" y="906"/>
                </a:lnTo>
                <a:lnTo>
                  <a:pt x="1785" y="976"/>
                </a:lnTo>
                <a:lnTo>
                  <a:pt x="1716" y="1069"/>
                </a:lnTo>
                <a:lnTo>
                  <a:pt x="1646" y="1137"/>
                </a:lnTo>
                <a:lnTo>
                  <a:pt x="1600" y="1208"/>
                </a:lnTo>
                <a:lnTo>
                  <a:pt x="1507" y="1300"/>
                </a:lnTo>
                <a:lnTo>
                  <a:pt x="1461" y="1371"/>
                </a:lnTo>
                <a:lnTo>
                  <a:pt x="1415" y="1464"/>
                </a:lnTo>
                <a:lnTo>
                  <a:pt x="1368" y="1556"/>
                </a:lnTo>
                <a:lnTo>
                  <a:pt x="1344" y="1649"/>
                </a:lnTo>
                <a:lnTo>
                  <a:pt x="1276" y="1741"/>
                </a:lnTo>
                <a:lnTo>
                  <a:pt x="1252" y="1812"/>
                </a:lnTo>
                <a:lnTo>
                  <a:pt x="1183" y="1905"/>
                </a:lnTo>
                <a:lnTo>
                  <a:pt x="1137" y="1997"/>
                </a:lnTo>
                <a:lnTo>
                  <a:pt x="1091" y="2113"/>
                </a:lnTo>
                <a:lnTo>
                  <a:pt x="1091" y="2183"/>
                </a:lnTo>
                <a:lnTo>
                  <a:pt x="1091" y="2254"/>
                </a:lnTo>
                <a:lnTo>
                  <a:pt x="1091" y="2346"/>
                </a:lnTo>
                <a:lnTo>
                  <a:pt x="1044" y="2439"/>
                </a:lnTo>
                <a:lnTo>
                  <a:pt x="1019" y="2554"/>
                </a:lnTo>
                <a:lnTo>
                  <a:pt x="1066" y="2646"/>
                </a:lnTo>
                <a:lnTo>
                  <a:pt x="1113" y="2741"/>
                </a:lnTo>
                <a:lnTo>
                  <a:pt x="1159" y="2834"/>
                </a:lnTo>
                <a:lnTo>
                  <a:pt x="1183" y="2926"/>
                </a:lnTo>
                <a:lnTo>
                  <a:pt x="1252" y="3019"/>
                </a:lnTo>
                <a:lnTo>
                  <a:pt x="1298" y="3136"/>
                </a:lnTo>
                <a:lnTo>
                  <a:pt x="1368" y="3228"/>
                </a:lnTo>
                <a:lnTo>
                  <a:pt x="1439" y="3297"/>
                </a:lnTo>
                <a:lnTo>
                  <a:pt x="1485" y="3389"/>
                </a:lnTo>
                <a:lnTo>
                  <a:pt x="1531" y="3460"/>
                </a:lnTo>
                <a:lnTo>
                  <a:pt x="1578" y="3577"/>
                </a:lnTo>
                <a:lnTo>
                  <a:pt x="1646" y="3716"/>
                </a:lnTo>
                <a:lnTo>
                  <a:pt x="1716" y="3808"/>
                </a:lnTo>
                <a:lnTo>
                  <a:pt x="1738" y="3901"/>
                </a:lnTo>
                <a:lnTo>
                  <a:pt x="1763" y="3994"/>
                </a:lnTo>
                <a:lnTo>
                  <a:pt x="1763" y="4064"/>
                </a:lnTo>
                <a:lnTo>
                  <a:pt x="1785" y="4157"/>
                </a:lnTo>
                <a:lnTo>
                  <a:pt x="1833" y="4249"/>
                </a:lnTo>
                <a:lnTo>
                  <a:pt x="1926" y="4364"/>
                </a:lnTo>
                <a:lnTo>
                  <a:pt x="1926" y="4434"/>
                </a:lnTo>
                <a:lnTo>
                  <a:pt x="1948" y="4505"/>
                </a:lnTo>
                <a:lnTo>
                  <a:pt x="1972" y="4598"/>
                </a:lnTo>
                <a:lnTo>
                  <a:pt x="1972" y="4690"/>
                </a:lnTo>
                <a:lnTo>
                  <a:pt x="1948" y="4783"/>
                </a:lnTo>
                <a:lnTo>
                  <a:pt x="1926" y="4875"/>
                </a:lnTo>
                <a:lnTo>
                  <a:pt x="1926" y="4946"/>
                </a:lnTo>
                <a:lnTo>
                  <a:pt x="1901" y="5039"/>
                </a:lnTo>
                <a:lnTo>
                  <a:pt x="1879" y="5153"/>
                </a:lnTo>
                <a:lnTo>
                  <a:pt x="1901" y="5246"/>
                </a:lnTo>
                <a:lnTo>
                  <a:pt x="1901" y="5316"/>
                </a:lnTo>
                <a:lnTo>
                  <a:pt x="1901" y="5387"/>
                </a:lnTo>
                <a:lnTo>
                  <a:pt x="1901" y="5480"/>
                </a:lnTo>
                <a:lnTo>
                  <a:pt x="1879" y="5572"/>
                </a:lnTo>
                <a:lnTo>
                  <a:pt x="1855" y="5665"/>
                </a:lnTo>
                <a:lnTo>
                  <a:pt x="1833" y="5757"/>
                </a:lnTo>
                <a:lnTo>
                  <a:pt x="1809" y="5850"/>
                </a:lnTo>
                <a:lnTo>
                  <a:pt x="1785" y="5943"/>
                </a:lnTo>
                <a:lnTo>
                  <a:pt x="1763" y="6013"/>
                </a:lnTo>
                <a:lnTo>
                  <a:pt x="1738" y="6107"/>
                </a:lnTo>
                <a:lnTo>
                  <a:pt x="1716" y="6199"/>
                </a:lnTo>
                <a:lnTo>
                  <a:pt x="1692" y="6292"/>
                </a:lnTo>
                <a:lnTo>
                  <a:pt x="1692" y="6363"/>
                </a:lnTo>
                <a:lnTo>
                  <a:pt x="1624" y="6523"/>
                </a:lnTo>
                <a:lnTo>
                  <a:pt x="1600" y="6594"/>
                </a:lnTo>
                <a:lnTo>
                  <a:pt x="1553" y="6711"/>
                </a:lnTo>
                <a:lnTo>
                  <a:pt x="1507" y="6803"/>
                </a:lnTo>
                <a:lnTo>
                  <a:pt x="1461" y="6918"/>
                </a:lnTo>
                <a:lnTo>
                  <a:pt x="1393" y="7035"/>
                </a:lnTo>
                <a:lnTo>
                  <a:pt x="1322" y="7267"/>
                </a:lnTo>
                <a:lnTo>
                  <a:pt x="1298" y="7337"/>
                </a:lnTo>
                <a:lnTo>
                  <a:pt x="1183" y="7405"/>
                </a:lnTo>
                <a:lnTo>
                  <a:pt x="1113" y="7452"/>
                </a:lnTo>
                <a:lnTo>
                  <a:pt x="1019" y="7522"/>
                </a:lnTo>
                <a:lnTo>
                  <a:pt x="788" y="7593"/>
                </a:lnTo>
                <a:lnTo>
                  <a:pt x="696" y="7639"/>
                </a:lnTo>
                <a:lnTo>
                  <a:pt x="603" y="7661"/>
                </a:lnTo>
                <a:lnTo>
                  <a:pt x="462" y="7707"/>
                </a:lnTo>
                <a:lnTo>
                  <a:pt x="370" y="7754"/>
                </a:lnTo>
                <a:lnTo>
                  <a:pt x="277" y="7824"/>
                </a:lnTo>
                <a:lnTo>
                  <a:pt x="209" y="7917"/>
                </a:lnTo>
                <a:lnTo>
                  <a:pt x="138" y="7963"/>
                </a:lnTo>
                <a:lnTo>
                  <a:pt x="46" y="8010"/>
                </a:lnTo>
                <a:lnTo>
                  <a:pt x="0" y="81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"/>
          <p:cNvSpPr/>
          <p:nvPr/>
        </p:nvSpPr>
        <p:spPr>
          <a:xfrm>
            <a:off x="3075120" y="358920"/>
            <a:ext cx="1010160" cy="2832480"/>
          </a:xfrm>
          <a:custGeom>
            <a:avLst/>
            <a:gdLst/>
            <a:ahLst/>
            <a:rect l="0" t="0" r="r" b="b"/>
            <a:pathLst>
              <a:path fill="none" w="2806" h="7868">
                <a:moveTo>
                  <a:pt x="2806" y="0"/>
                </a:moveTo>
                <a:lnTo>
                  <a:pt x="2729" y="141"/>
                </a:lnTo>
                <a:lnTo>
                  <a:pt x="2689" y="185"/>
                </a:lnTo>
                <a:lnTo>
                  <a:pt x="2663" y="218"/>
                </a:lnTo>
                <a:lnTo>
                  <a:pt x="2647" y="271"/>
                </a:lnTo>
                <a:lnTo>
                  <a:pt x="2636" y="313"/>
                </a:lnTo>
                <a:lnTo>
                  <a:pt x="2614" y="352"/>
                </a:lnTo>
                <a:lnTo>
                  <a:pt x="2601" y="399"/>
                </a:lnTo>
                <a:lnTo>
                  <a:pt x="2581" y="432"/>
                </a:lnTo>
                <a:lnTo>
                  <a:pt x="2555" y="463"/>
                </a:lnTo>
                <a:lnTo>
                  <a:pt x="2495" y="515"/>
                </a:lnTo>
                <a:lnTo>
                  <a:pt x="2431" y="582"/>
                </a:lnTo>
                <a:lnTo>
                  <a:pt x="2398" y="637"/>
                </a:lnTo>
                <a:lnTo>
                  <a:pt x="2389" y="674"/>
                </a:lnTo>
                <a:lnTo>
                  <a:pt x="2363" y="754"/>
                </a:lnTo>
                <a:lnTo>
                  <a:pt x="2296" y="820"/>
                </a:lnTo>
                <a:lnTo>
                  <a:pt x="2230" y="926"/>
                </a:lnTo>
                <a:lnTo>
                  <a:pt x="2204" y="952"/>
                </a:lnTo>
                <a:lnTo>
                  <a:pt x="2177" y="1031"/>
                </a:lnTo>
                <a:lnTo>
                  <a:pt x="2151" y="1084"/>
                </a:lnTo>
                <a:lnTo>
                  <a:pt x="2097" y="1150"/>
                </a:lnTo>
                <a:lnTo>
                  <a:pt x="2097" y="1243"/>
                </a:lnTo>
                <a:lnTo>
                  <a:pt x="2057" y="1389"/>
                </a:lnTo>
                <a:lnTo>
                  <a:pt x="2057" y="1375"/>
                </a:lnTo>
                <a:lnTo>
                  <a:pt x="2031" y="1481"/>
                </a:lnTo>
                <a:lnTo>
                  <a:pt x="1991" y="1413"/>
                </a:lnTo>
                <a:lnTo>
                  <a:pt x="2057" y="1666"/>
                </a:lnTo>
                <a:lnTo>
                  <a:pt x="2111" y="1746"/>
                </a:lnTo>
                <a:lnTo>
                  <a:pt x="2070" y="1799"/>
                </a:lnTo>
                <a:lnTo>
                  <a:pt x="2111" y="1905"/>
                </a:lnTo>
                <a:lnTo>
                  <a:pt x="2124" y="1985"/>
                </a:lnTo>
                <a:lnTo>
                  <a:pt x="2164" y="2051"/>
                </a:lnTo>
                <a:lnTo>
                  <a:pt x="2217" y="2130"/>
                </a:lnTo>
                <a:lnTo>
                  <a:pt x="2257" y="2197"/>
                </a:lnTo>
                <a:lnTo>
                  <a:pt x="2296" y="2276"/>
                </a:lnTo>
                <a:lnTo>
                  <a:pt x="2310" y="2342"/>
                </a:lnTo>
                <a:lnTo>
                  <a:pt x="2323" y="2382"/>
                </a:lnTo>
                <a:lnTo>
                  <a:pt x="2310" y="2448"/>
                </a:lnTo>
                <a:lnTo>
                  <a:pt x="2296" y="2554"/>
                </a:lnTo>
                <a:lnTo>
                  <a:pt x="2283" y="2673"/>
                </a:lnTo>
                <a:lnTo>
                  <a:pt x="2243" y="2752"/>
                </a:lnTo>
                <a:lnTo>
                  <a:pt x="2177" y="2829"/>
                </a:lnTo>
                <a:lnTo>
                  <a:pt x="2177" y="2900"/>
                </a:lnTo>
                <a:lnTo>
                  <a:pt x="2199" y="2992"/>
                </a:lnTo>
                <a:lnTo>
                  <a:pt x="2224" y="3085"/>
                </a:lnTo>
                <a:lnTo>
                  <a:pt x="2224" y="3178"/>
                </a:lnTo>
                <a:lnTo>
                  <a:pt x="2224" y="3248"/>
                </a:lnTo>
                <a:lnTo>
                  <a:pt x="2224" y="3341"/>
                </a:lnTo>
                <a:lnTo>
                  <a:pt x="2246" y="3456"/>
                </a:lnTo>
                <a:lnTo>
                  <a:pt x="2270" y="3526"/>
                </a:lnTo>
                <a:lnTo>
                  <a:pt x="2316" y="3619"/>
                </a:lnTo>
                <a:lnTo>
                  <a:pt x="2340" y="3711"/>
                </a:lnTo>
                <a:lnTo>
                  <a:pt x="2363" y="3782"/>
                </a:lnTo>
                <a:lnTo>
                  <a:pt x="2387" y="3896"/>
                </a:lnTo>
                <a:lnTo>
                  <a:pt x="2409" y="3967"/>
                </a:lnTo>
                <a:lnTo>
                  <a:pt x="2409" y="4106"/>
                </a:lnTo>
                <a:lnTo>
                  <a:pt x="2409" y="4223"/>
                </a:lnTo>
                <a:lnTo>
                  <a:pt x="2409" y="4315"/>
                </a:lnTo>
                <a:lnTo>
                  <a:pt x="2409" y="4454"/>
                </a:lnTo>
                <a:lnTo>
                  <a:pt x="2433" y="4686"/>
                </a:lnTo>
                <a:lnTo>
                  <a:pt x="2433" y="4803"/>
                </a:lnTo>
                <a:lnTo>
                  <a:pt x="2433" y="5034"/>
                </a:lnTo>
                <a:lnTo>
                  <a:pt x="2409" y="5105"/>
                </a:lnTo>
                <a:lnTo>
                  <a:pt x="2363" y="5197"/>
                </a:lnTo>
                <a:lnTo>
                  <a:pt x="2270" y="5546"/>
                </a:lnTo>
                <a:lnTo>
                  <a:pt x="2199" y="5660"/>
                </a:lnTo>
                <a:lnTo>
                  <a:pt x="2177" y="5731"/>
                </a:lnTo>
                <a:lnTo>
                  <a:pt x="2131" y="6475"/>
                </a:lnTo>
                <a:lnTo>
                  <a:pt x="2084" y="6568"/>
                </a:lnTo>
                <a:lnTo>
                  <a:pt x="2013" y="6636"/>
                </a:lnTo>
                <a:lnTo>
                  <a:pt x="1945" y="6706"/>
                </a:lnTo>
                <a:lnTo>
                  <a:pt x="1898" y="6777"/>
                </a:lnTo>
                <a:lnTo>
                  <a:pt x="1828" y="6845"/>
                </a:lnTo>
                <a:lnTo>
                  <a:pt x="1757" y="6892"/>
                </a:lnTo>
                <a:lnTo>
                  <a:pt x="1642" y="7009"/>
                </a:lnTo>
                <a:lnTo>
                  <a:pt x="1572" y="7101"/>
                </a:lnTo>
                <a:lnTo>
                  <a:pt x="852" y="7425"/>
                </a:lnTo>
                <a:lnTo>
                  <a:pt x="782" y="7450"/>
                </a:lnTo>
                <a:lnTo>
                  <a:pt x="688" y="7450"/>
                </a:lnTo>
                <a:lnTo>
                  <a:pt x="573" y="7542"/>
                </a:lnTo>
                <a:lnTo>
                  <a:pt x="503" y="7610"/>
                </a:lnTo>
                <a:lnTo>
                  <a:pt x="432" y="7635"/>
                </a:lnTo>
                <a:lnTo>
                  <a:pt x="339" y="7659"/>
                </a:lnTo>
                <a:lnTo>
                  <a:pt x="247" y="7705"/>
                </a:lnTo>
                <a:lnTo>
                  <a:pt x="154" y="7727"/>
                </a:lnTo>
                <a:lnTo>
                  <a:pt x="132" y="7798"/>
                </a:lnTo>
                <a:lnTo>
                  <a:pt x="61" y="7844"/>
                </a:lnTo>
                <a:lnTo>
                  <a:pt x="0" y="786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"/>
          <p:cNvSpPr/>
          <p:nvPr/>
        </p:nvSpPr>
        <p:spPr>
          <a:xfrm>
            <a:off x="3076560" y="1733400"/>
            <a:ext cx="179640" cy="592560"/>
          </a:xfrm>
          <a:custGeom>
            <a:avLst/>
            <a:gdLst/>
            <a:ahLst/>
            <a:rect l="0" t="0" r="r" b="b"/>
            <a:pathLst>
              <a:path fill="none" w="499" h="1646">
                <a:moveTo>
                  <a:pt x="0" y="0"/>
                </a:moveTo>
                <a:lnTo>
                  <a:pt x="26" y="79"/>
                </a:lnTo>
                <a:lnTo>
                  <a:pt x="48" y="163"/>
                </a:lnTo>
                <a:lnTo>
                  <a:pt x="81" y="240"/>
                </a:lnTo>
                <a:lnTo>
                  <a:pt x="127" y="310"/>
                </a:lnTo>
                <a:lnTo>
                  <a:pt x="220" y="357"/>
                </a:lnTo>
                <a:lnTo>
                  <a:pt x="314" y="403"/>
                </a:lnTo>
                <a:lnTo>
                  <a:pt x="406" y="472"/>
                </a:lnTo>
                <a:lnTo>
                  <a:pt x="452" y="543"/>
                </a:lnTo>
                <a:lnTo>
                  <a:pt x="499" y="636"/>
                </a:lnTo>
                <a:lnTo>
                  <a:pt x="499" y="728"/>
                </a:lnTo>
                <a:lnTo>
                  <a:pt x="499" y="799"/>
                </a:lnTo>
                <a:lnTo>
                  <a:pt x="475" y="913"/>
                </a:lnTo>
                <a:lnTo>
                  <a:pt x="406" y="984"/>
                </a:lnTo>
                <a:lnTo>
                  <a:pt x="336" y="1052"/>
                </a:lnTo>
                <a:lnTo>
                  <a:pt x="314" y="1123"/>
                </a:lnTo>
                <a:lnTo>
                  <a:pt x="314" y="1193"/>
                </a:lnTo>
                <a:lnTo>
                  <a:pt x="267" y="1287"/>
                </a:lnTo>
                <a:lnTo>
                  <a:pt x="196" y="1333"/>
                </a:lnTo>
                <a:lnTo>
                  <a:pt x="127" y="1426"/>
                </a:lnTo>
                <a:lnTo>
                  <a:pt x="57" y="1494"/>
                </a:lnTo>
                <a:lnTo>
                  <a:pt x="0" y="164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"/>
          <p:cNvSpPr/>
          <p:nvPr/>
        </p:nvSpPr>
        <p:spPr>
          <a:xfrm>
            <a:off x="3456000" y="642960"/>
            <a:ext cx="878400" cy="2630880"/>
          </a:xfrm>
          <a:custGeom>
            <a:avLst/>
            <a:gdLst/>
            <a:ahLst/>
            <a:rect l="0" t="0" r="r" b="b"/>
            <a:pathLst>
              <a:path fill="none" w="2440" h="7308">
                <a:moveTo>
                  <a:pt x="1606" y="0"/>
                </a:moveTo>
                <a:lnTo>
                  <a:pt x="1625" y="244"/>
                </a:lnTo>
                <a:lnTo>
                  <a:pt x="1606" y="330"/>
                </a:lnTo>
                <a:lnTo>
                  <a:pt x="1612" y="383"/>
                </a:lnTo>
                <a:lnTo>
                  <a:pt x="1619" y="443"/>
                </a:lnTo>
                <a:lnTo>
                  <a:pt x="1639" y="482"/>
                </a:lnTo>
                <a:lnTo>
                  <a:pt x="1652" y="509"/>
                </a:lnTo>
                <a:lnTo>
                  <a:pt x="1652" y="555"/>
                </a:lnTo>
                <a:lnTo>
                  <a:pt x="1652" y="562"/>
                </a:lnTo>
                <a:lnTo>
                  <a:pt x="1645" y="568"/>
                </a:lnTo>
                <a:lnTo>
                  <a:pt x="1639" y="595"/>
                </a:lnTo>
                <a:lnTo>
                  <a:pt x="1619" y="634"/>
                </a:lnTo>
                <a:lnTo>
                  <a:pt x="1592" y="641"/>
                </a:lnTo>
                <a:lnTo>
                  <a:pt x="1606" y="694"/>
                </a:lnTo>
                <a:lnTo>
                  <a:pt x="1606" y="727"/>
                </a:lnTo>
                <a:lnTo>
                  <a:pt x="1592" y="753"/>
                </a:lnTo>
                <a:lnTo>
                  <a:pt x="1573" y="826"/>
                </a:lnTo>
                <a:lnTo>
                  <a:pt x="1553" y="872"/>
                </a:lnTo>
                <a:lnTo>
                  <a:pt x="1539" y="952"/>
                </a:lnTo>
                <a:lnTo>
                  <a:pt x="1539" y="1018"/>
                </a:lnTo>
                <a:lnTo>
                  <a:pt x="1533" y="1110"/>
                </a:lnTo>
                <a:lnTo>
                  <a:pt x="1522" y="1166"/>
                </a:lnTo>
                <a:lnTo>
                  <a:pt x="1588" y="1227"/>
                </a:lnTo>
                <a:lnTo>
                  <a:pt x="1619" y="1298"/>
                </a:lnTo>
                <a:lnTo>
                  <a:pt x="1654" y="1364"/>
                </a:lnTo>
                <a:lnTo>
                  <a:pt x="1667" y="1430"/>
                </a:lnTo>
                <a:lnTo>
                  <a:pt x="1767" y="1507"/>
                </a:lnTo>
                <a:lnTo>
                  <a:pt x="1767" y="1578"/>
                </a:lnTo>
                <a:lnTo>
                  <a:pt x="1813" y="1692"/>
                </a:lnTo>
                <a:lnTo>
                  <a:pt x="1836" y="1763"/>
                </a:lnTo>
                <a:lnTo>
                  <a:pt x="1907" y="1878"/>
                </a:lnTo>
                <a:lnTo>
                  <a:pt x="1953" y="1949"/>
                </a:lnTo>
                <a:lnTo>
                  <a:pt x="1999" y="2042"/>
                </a:lnTo>
                <a:lnTo>
                  <a:pt x="2021" y="2112"/>
                </a:lnTo>
                <a:lnTo>
                  <a:pt x="2067" y="2205"/>
                </a:lnTo>
                <a:lnTo>
                  <a:pt x="2092" y="2297"/>
                </a:lnTo>
                <a:lnTo>
                  <a:pt x="2138" y="2390"/>
                </a:lnTo>
                <a:lnTo>
                  <a:pt x="2162" y="2482"/>
                </a:lnTo>
                <a:lnTo>
                  <a:pt x="2184" y="2553"/>
                </a:lnTo>
                <a:lnTo>
                  <a:pt x="2209" y="2646"/>
                </a:lnTo>
                <a:lnTo>
                  <a:pt x="2255" y="2784"/>
                </a:lnTo>
                <a:lnTo>
                  <a:pt x="2277" y="2901"/>
                </a:lnTo>
                <a:lnTo>
                  <a:pt x="2277" y="2994"/>
                </a:lnTo>
                <a:lnTo>
                  <a:pt x="2323" y="3086"/>
                </a:lnTo>
                <a:lnTo>
                  <a:pt x="2323" y="3201"/>
                </a:lnTo>
                <a:lnTo>
                  <a:pt x="2323" y="3272"/>
                </a:lnTo>
                <a:lnTo>
                  <a:pt x="2323" y="3364"/>
                </a:lnTo>
                <a:lnTo>
                  <a:pt x="2323" y="3457"/>
                </a:lnTo>
                <a:lnTo>
                  <a:pt x="2323" y="3527"/>
                </a:lnTo>
                <a:lnTo>
                  <a:pt x="2323" y="3688"/>
                </a:lnTo>
                <a:lnTo>
                  <a:pt x="2323" y="3759"/>
                </a:lnTo>
                <a:lnTo>
                  <a:pt x="2277" y="3829"/>
                </a:lnTo>
                <a:lnTo>
                  <a:pt x="2231" y="3944"/>
                </a:lnTo>
                <a:lnTo>
                  <a:pt x="2301" y="4153"/>
                </a:lnTo>
                <a:lnTo>
                  <a:pt x="2440" y="4292"/>
                </a:lnTo>
                <a:lnTo>
                  <a:pt x="2440" y="4409"/>
                </a:lnTo>
                <a:lnTo>
                  <a:pt x="2440" y="4455"/>
                </a:lnTo>
                <a:lnTo>
                  <a:pt x="2440" y="4455"/>
                </a:lnTo>
                <a:lnTo>
                  <a:pt x="2323" y="4548"/>
                </a:lnTo>
                <a:lnTo>
                  <a:pt x="2323" y="4640"/>
                </a:lnTo>
                <a:lnTo>
                  <a:pt x="2277" y="4733"/>
                </a:lnTo>
                <a:lnTo>
                  <a:pt x="2231" y="4825"/>
                </a:lnTo>
                <a:lnTo>
                  <a:pt x="2162" y="4872"/>
                </a:lnTo>
                <a:lnTo>
                  <a:pt x="2045" y="4964"/>
                </a:lnTo>
                <a:lnTo>
                  <a:pt x="1999" y="5081"/>
                </a:lnTo>
                <a:lnTo>
                  <a:pt x="1975" y="5152"/>
                </a:lnTo>
                <a:lnTo>
                  <a:pt x="1929" y="5429"/>
                </a:lnTo>
                <a:lnTo>
                  <a:pt x="1882" y="5569"/>
                </a:lnTo>
                <a:lnTo>
                  <a:pt x="1860" y="5640"/>
                </a:lnTo>
                <a:lnTo>
                  <a:pt x="1789" y="5871"/>
                </a:lnTo>
                <a:lnTo>
                  <a:pt x="1720" y="5988"/>
                </a:lnTo>
                <a:lnTo>
                  <a:pt x="1625" y="6081"/>
                </a:lnTo>
                <a:lnTo>
                  <a:pt x="1487" y="6220"/>
                </a:lnTo>
                <a:lnTo>
                  <a:pt x="1418" y="6334"/>
                </a:lnTo>
                <a:lnTo>
                  <a:pt x="1348" y="6380"/>
                </a:lnTo>
                <a:lnTo>
                  <a:pt x="1209" y="6475"/>
                </a:lnTo>
                <a:lnTo>
                  <a:pt x="1138" y="6522"/>
                </a:lnTo>
                <a:lnTo>
                  <a:pt x="1024" y="6568"/>
                </a:lnTo>
                <a:lnTo>
                  <a:pt x="931" y="6660"/>
                </a:lnTo>
                <a:lnTo>
                  <a:pt x="860" y="6682"/>
                </a:lnTo>
                <a:lnTo>
                  <a:pt x="792" y="6753"/>
                </a:lnTo>
                <a:lnTo>
                  <a:pt x="721" y="6775"/>
                </a:lnTo>
                <a:lnTo>
                  <a:pt x="651" y="6821"/>
                </a:lnTo>
                <a:lnTo>
                  <a:pt x="582" y="6892"/>
                </a:lnTo>
                <a:lnTo>
                  <a:pt x="489" y="7009"/>
                </a:lnTo>
                <a:lnTo>
                  <a:pt x="418" y="7055"/>
                </a:lnTo>
                <a:lnTo>
                  <a:pt x="326" y="7101"/>
                </a:lnTo>
                <a:lnTo>
                  <a:pt x="255" y="7148"/>
                </a:lnTo>
                <a:lnTo>
                  <a:pt x="141" y="7216"/>
                </a:lnTo>
                <a:lnTo>
                  <a:pt x="0" y="730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"/>
          <p:cNvSpPr/>
          <p:nvPr/>
        </p:nvSpPr>
        <p:spPr>
          <a:xfrm>
            <a:off x="3760920" y="1309680"/>
            <a:ext cx="725760" cy="1962360"/>
          </a:xfrm>
          <a:custGeom>
            <a:avLst/>
            <a:gdLst/>
            <a:ahLst/>
            <a:rect l="0" t="0" r="r" b="b"/>
            <a:pathLst>
              <a:path fill="none" w="2016" h="5451">
                <a:moveTo>
                  <a:pt x="1150" y="0"/>
                </a:moveTo>
                <a:lnTo>
                  <a:pt x="1183" y="46"/>
                </a:lnTo>
                <a:lnTo>
                  <a:pt x="1229" y="125"/>
                </a:lnTo>
                <a:lnTo>
                  <a:pt x="1249" y="231"/>
                </a:lnTo>
                <a:lnTo>
                  <a:pt x="1302" y="277"/>
                </a:lnTo>
                <a:lnTo>
                  <a:pt x="1362" y="392"/>
                </a:lnTo>
                <a:lnTo>
                  <a:pt x="1430" y="485"/>
                </a:lnTo>
                <a:lnTo>
                  <a:pt x="1476" y="577"/>
                </a:lnTo>
                <a:lnTo>
                  <a:pt x="1522" y="648"/>
                </a:lnTo>
                <a:lnTo>
                  <a:pt x="1569" y="740"/>
                </a:lnTo>
                <a:lnTo>
                  <a:pt x="1639" y="809"/>
                </a:lnTo>
                <a:lnTo>
                  <a:pt x="1661" y="879"/>
                </a:lnTo>
                <a:lnTo>
                  <a:pt x="1732" y="972"/>
                </a:lnTo>
                <a:lnTo>
                  <a:pt x="1756" y="1042"/>
                </a:lnTo>
                <a:lnTo>
                  <a:pt x="1802" y="1135"/>
                </a:lnTo>
                <a:lnTo>
                  <a:pt x="1848" y="1250"/>
                </a:lnTo>
                <a:lnTo>
                  <a:pt x="1870" y="1320"/>
                </a:lnTo>
                <a:lnTo>
                  <a:pt x="1917" y="1413"/>
                </a:lnTo>
                <a:lnTo>
                  <a:pt x="1917" y="1483"/>
                </a:lnTo>
                <a:lnTo>
                  <a:pt x="1941" y="1576"/>
                </a:lnTo>
                <a:lnTo>
                  <a:pt x="1941" y="1669"/>
                </a:lnTo>
                <a:lnTo>
                  <a:pt x="1941" y="1830"/>
                </a:lnTo>
                <a:lnTo>
                  <a:pt x="1941" y="1900"/>
                </a:lnTo>
                <a:lnTo>
                  <a:pt x="1941" y="1971"/>
                </a:lnTo>
                <a:lnTo>
                  <a:pt x="1941" y="2063"/>
                </a:lnTo>
                <a:lnTo>
                  <a:pt x="1963" y="2156"/>
                </a:lnTo>
                <a:lnTo>
                  <a:pt x="1943" y="2288"/>
                </a:lnTo>
                <a:lnTo>
                  <a:pt x="1950" y="2341"/>
                </a:lnTo>
                <a:lnTo>
                  <a:pt x="1956" y="2374"/>
                </a:lnTo>
                <a:lnTo>
                  <a:pt x="1969" y="2414"/>
                </a:lnTo>
                <a:lnTo>
                  <a:pt x="1983" y="2460"/>
                </a:lnTo>
                <a:lnTo>
                  <a:pt x="2003" y="2533"/>
                </a:lnTo>
                <a:lnTo>
                  <a:pt x="2009" y="2579"/>
                </a:lnTo>
                <a:lnTo>
                  <a:pt x="2016" y="2672"/>
                </a:lnTo>
                <a:lnTo>
                  <a:pt x="1989" y="2739"/>
                </a:lnTo>
                <a:lnTo>
                  <a:pt x="1943" y="2818"/>
                </a:lnTo>
                <a:lnTo>
                  <a:pt x="1884" y="2937"/>
                </a:lnTo>
                <a:lnTo>
                  <a:pt x="1837" y="3010"/>
                </a:lnTo>
                <a:lnTo>
                  <a:pt x="1798" y="3063"/>
                </a:lnTo>
                <a:lnTo>
                  <a:pt x="1725" y="3096"/>
                </a:lnTo>
                <a:lnTo>
                  <a:pt x="1666" y="3156"/>
                </a:lnTo>
                <a:lnTo>
                  <a:pt x="1619" y="3189"/>
                </a:lnTo>
                <a:lnTo>
                  <a:pt x="1573" y="3235"/>
                </a:lnTo>
                <a:lnTo>
                  <a:pt x="1520" y="3301"/>
                </a:lnTo>
                <a:lnTo>
                  <a:pt x="1500" y="3374"/>
                </a:lnTo>
                <a:lnTo>
                  <a:pt x="1487" y="3453"/>
                </a:lnTo>
                <a:lnTo>
                  <a:pt x="1454" y="3533"/>
                </a:lnTo>
                <a:lnTo>
                  <a:pt x="1414" y="3619"/>
                </a:lnTo>
                <a:lnTo>
                  <a:pt x="1375" y="3751"/>
                </a:lnTo>
                <a:lnTo>
                  <a:pt x="1348" y="3844"/>
                </a:lnTo>
                <a:lnTo>
                  <a:pt x="1282" y="3969"/>
                </a:lnTo>
                <a:lnTo>
                  <a:pt x="1216" y="4102"/>
                </a:lnTo>
                <a:lnTo>
                  <a:pt x="1157" y="4214"/>
                </a:lnTo>
                <a:lnTo>
                  <a:pt x="1124" y="4326"/>
                </a:lnTo>
                <a:lnTo>
                  <a:pt x="1097" y="4406"/>
                </a:lnTo>
                <a:lnTo>
                  <a:pt x="1011" y="4498"/>
                </a:lnTo>
                <a:lnTo>
                  <a:pt x="931" y="4604"/>
                </a:lnTo>
                <a:lnTo>
                  <a:pt x="759" y="4703"/>
                </a:lnTo>
                <a:lnTo>
                  <a:pt x="693" y="4796"/>
                </a:lnTo>
                <a:lnTo>
                  <a:pt x="588" y="4875"/>
                </a:lnTo>
                <a:lnTo>
                  <a:pt x="488" y="4955"/>
                </a:lnTo>
                <a:lnTo>
                  <a:pt x="370" y="5061"/>
                </a:lnTo>
                <a:lnTo>
                  <a:pt x="251" y="5114"/>
                </a:lnTo>
                <a:lnTo>
                  <a:pt x="185" y="5180"/>
                </a:lnTo>
                <a:lnTo>
                  <a:pt x="72" y="5312"/>
                </a:lnTo>
                <a:lnTo>
                  <a:pt x="0" y="545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"/>
          <p:cNvSpPr/>
          <p:nvPr/>
        </p:nvSpPr>
        <p:spPr>
          <a:xfrm>
            <a:off x="4033800" y="81000"/>
            <a:ext cx="1548000" cy="2224440"/>
          </a:xfrm>
          <a:custGeom>
            <a:avLst/>
            <a:gdLst/>
            <a:ahLst/>
            <a:rect l="0" t="0" r="r" b="b"/>
            <a:pathLst>
              <a:path fill="none" w="4300" h="6179">
                <a:moveTo>
                  <a:pt x="152" y="0"/>
                </a:moveTo>
                <a:lnTo>
                  <a:pt x="138" y="50"/>
                </a:lnTo>
                <a:lnTo>
                  <a:pt x="138" y="143"/>
                </a:lnTo>
                <a:lnTo>
                  <a:pt x="138" y="236"/>
                </a:lnTo>
                <a:lnTo>
                  <a:pt x="138" y="328"/>
                </a:lnTo>
                <a:lnTo>
                  <a:pt x="163" y="421"/>
                </a:lnTo>
                <a:lnTo>
                  <a:pt x="185" y="491"/>
                </a:lnTo>
                <a:lnTo>
                  <a:pt x="185" y="584"/>
                </a:lnTo>
                <a:lnTo>
                  <a:pt x="185" y="677"/>
                </a:lnTo>
                <a:lnTo>
                  <a:pt x="138" y="769"/>
                </a:lnTo>
                <a:lnTo>
                  <a:pt x="116" y="862"/>
                </a:lnTo>
                <a:lnTo>
                  <a:pt x="70" y="932"/>
                </a:lnTo>
                <a:lnTo>
                  <a:pt x="46" y="1025"/>
                </a:lnTo>
                <a:lnTo>
                  <a:pt x="46" y="1118"/>
                </a:lnTo>
                <a:lnTo>
                  <a:pt x="46" y="1210"/>
                </a:lnTo>
                <a:lnTo>
                  <a:pt x="22" y="1303"/>
                </a:lnTo>
                <a:lnTo>
                  <a:pt x="0" y="1374"/>
                </a:lnTo>
                <a:lnTo>
                  <a:pt x="0" y="1466"/>
                </a:lnTo>
                <a:lnTo>
                  <a:pt x="0" y="1559"/>
                </a:lnTo>
                <a:lnTo>
                  <a:pt x="46" y="1652"/>
                </a:lnTo>
                <a:lnTo>
                  <a:pt x="70" y="1744"/>
                </a:lnTo>
                <a:lnTo>
                  <a:pt x="92" y="1815"/>
                </a:lnTo>
                <a:lnTo>
                  <a:pt x="116" y="1907"/>
                </a:lnTo>
                <a:lnTo>
                  <a:pt x="116" y="2000"/>
                </a:lnTo>
                <a:lnTo>
                  <a:pt x="116" y="2093"/>
                </a:lnTo>
                <a:lnTo>
                  <a:pt x="138" y="2185"/>
                </a:lnTo>
                <a:lnTo>
                  <a:pt x="163" y="2256"/>
                </a:lnTo>
                <a:lnTo>
                  <a:pt x="163" y="2349"/>
                </a:lnTo>
                <a:lnTo>
                  <a:pt x="185" y="2487"/>
                </a:lnTo>
                <a:lnTo>
                  <a:pt x="231" y="2580"/>
                </a:lnTo>
                <a:lnTo>
                  <a:pt x="255" y="2673"/>
                </a:lnTo>
                <a:lnTo>
                  <a:pt x="255" y="2743"/>
                </a:lnTo>
                <a:lnTo>
                  <a:pt x="255" y="2858"/>
                </a:lnTo>
                <a:lnTo>
                  <a:pt x="255" y="2929"/>
                </a:lnTo>
                <a:lnTo>
                  <a:pt x="277" y="3021"/>
                </a:lnTo>
                <a:lnTo>
                  <a:pt x="301" y="3115"/>
                </a:lnTo>
                <a:lnTo>
                  <a:pt x="323" y="3185"/>
                </a:lnTo>
                <a:lnTo>
                  <a:pt x="323" y="3278"/>
                </a:lnTo>
                <a:lnTo>
                  <a:pt x="398" y="3432"/>
                </a:lnTo>
                <a:lnTo>
                  <a:pt x="462" y="3463"/>
                </a:lnTo>
                <a:lnTo>
                  <a:pt x="511" y="3556"/>
                </a:lnTo>
                <a:lnTo>
                  <a:pt x="557" y="3627"/>
                </a:lnTo>
                <a:lnTo>
                  <a:pt x="650" y="3695"/>
                </a:lnTo>
                <a:lnTo>
                  <a:pt x="696" y="3766"/>
                </a:lnTo>
                <a:lnTo>
                  <a:pt x="764" y="3858"/>
                </a:lnTo>
                <a:lnTo>
                  <a:pt x="835" y="3927"/>
                </a:lnTo>
                <a:lnTo>
                  <a:pt x="857" y="3997"/>
                </a:lnTo>
                <a:lnTo>
                  <a:pt x="903" y="4068"/>
                </a:lnTo>
                <a:lnTo>
                  <a:pt x="952" y="4160"/>
                </a:lnTo>
                <a:lnTo>
                  <a:pt x="1020" y="4253"/>
                </a:lnTo>
                <a:lnTo>
                  <a:pt x="1066" y="4346"/>
                </a:lnTo>
                <a:lnTo>
                  <a:pt x="1137" y="4438"/>
                </a:lnTo>
                <a:lnTo>
                  <a:pt x="1159" y="4509"/>
                </a:lnTo>
                <a:lnTo>
                  <a:pt x="1229" y="4577"/>
                </a:lnTo>
                <a:lnTo>
                  <a:pt x="1251" y="4648"/>
                </a:lnTo>
                <a:lnTo>
                  <a:pt x="1275" y="4740"/>
                </a:lnTo>
                <a:lnTo>
                  <a:pt x="1297" y="4833"/>
                </a:lnTo>
                <a:lnTo>
                  <a:pt x="1322" y="4904"/>
                </a:lnTo>
                <a:lnTo>
                  <a:pt x="1344" y="5018"/>
                </a:lnTo>
                <a:lnTo>
                  <a:pt x="1368" y="5089"/>
                </a:lnTo>
                <a:lnTo>
                  <a:pt x="1414" y="5182"/>
                </a:lnTo>
                <a:lnTo>
                  <a:pt x="1439" y="5296"/>
                </a:lnTo>
                <a:lnTo>
                  <a:pt x="1461" y="5367"/>
                </a:lnTo>
                <a:lnTo>
                  <a:pt x="1461" y="5437"/>
                </a:lnTo>
                <a:lnTo>
                  <a:pt x="1485" y="5530"/>
                </a:lnTo>
                <a:lnTo>
                  <a:pt x="1531" y="5623"/>
                </a:lnTo>
                <a:lnTo>
                  <a:pt x="1577" y="5715"/>
                </a:lnTo>
                <a:lnTo>
                  <a:pt x="1624" y="5786"/>
                </a:lnTo>
                <a:lnTo>
                  <a:pt x="1692" y="5879"/>
                </a:lnTo>
                <a:lnTo>
                  <a:pt x="1762" y="5971"/>
                </a:lnTo>
                <a:lnTo>
                  <a:pt x="1833" y="5993"/>
                </a:lnTo>
                <a:lnTo>
                  <a:pt x="1926" y="6018"/>
                </a:lnTo>
                <a:lnTo>
                  <a:pt x="2018" y="6086"/>
                </a:lnTo>
                <a:lnTo>
                  <a:pt x="2064" y="6156"/>
                </a:lnTo>
                <a:lnTo>
                  <a:pt x="2158" y="6179"/>
                </a:lnTo>
                <a:lnTo>
                  <a:pt x="2251" y="6179"/>
                </a:lnTo>
                <a:lnTo>
                  <a:pt x="2321" y="6156"/>
                </a:lnTo>
                <a:lnTo>
                  <a:pt x="2414" y="6132"/>
                </a:lnTo>
                <a:lnTo>
                  <a:pt x="2506" y="6110"/>
                </a:lnTo>
                <a:lnTo>
                  <a:pt x="2599" y="6040"/>
                </a:lnTo>
                <a:lnTo>
                  <a:pt x="2667" y="5947"/>
                </a:lnTo>
                <a:lnTo>
                  <a:pt x="2738" y="5879"/>
                </a:lnTo>
                <a:lnTo>
                  <a:pt x="2808" y="5808"/>
                </a:lnTo>
                <a:lnTo>
                  <a:pt x="2876" y="5737"/>
                </a:lnTo>
                <a:lnTo>
                  <a:pt x="2947" y="5691"/>
                </a:lnTo>
                <a:lnTo>
                  <a:pt x="3061" y="5620"/>
                </a:lnTo>
                <a:lnTo>
                  <a:pt x="3123" y="5568"/>
                </a:lnTo>
                <a:lnTo>
                  <a:pt x="3185" y="5515"/>
                </a:lnTo>
                <a:lnTo>
                  <a:pt x="3273" y="5471"/>
                </a:lnTo>
                <a:lnTo>
                  <a:pt x="3370" y="5418"/>
                </a:lnTo>
                <a:lnTo>
                  <a:pt x="3456" y="5391"/>
                </a:lnTo>
                <a:lnTo>
                  <a:pt x="3526" y="5391"/>
                </a:lnTo>
                <a:lnTo>
                  <a:pt x="3597" y="5367"/>
                </a:lnTo>
                <a:lnTo>
                  <a:pt x="3712" y="5296"/>
                </a:lnTo>
                <a:lnTo>
                  <a:pt x="3782" y="5228"/>
                </a:lnTo>
                <a:lnTo>
                  <a:pt x="3850" y="5157"/>
                </a:lnTo>
                <a:lnTo>
                  <a:pt x="3921" y="5065"/>
                </a:lnTo>
                <a:lnTo>
                  <a:pt x="3989" y="4972"/>
                </a:lnTo>
                <a:lnTo>
                  <a:pt x="4060" y="4904"/>
                </a:lnTo>
                <a:lnTo>
                  <a:pt x="4130" y="4855"/>
                </a:lnTo>
                <a:lnTo>
                  <a:pt x="4223" y="4809"/>
                </a:lnTo>
                <a:lnTo>
                  <a:pt x="4300" y="479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"/>
          <p:cNvSpPr/>
          <p:nvPr/>
        </p:nvSpPr>
        <p:spPr>
          <a:xfrm>
            <a:off x="4853160" y="88920"/>
            <a:ext cx="729000" cy="744840"/>
          </a:xfrm>
          <a:custGeom>
            <a:avLst/>
            <a:gdLst/>
            <a:ahLst/>
            <a:rect l="0" t="0" r="r" b="b"/>
            <a:pathLst>
              <a:path fill="none" w="2025" h="2069">
                <a:moveTo>
                  <a:pt x="0" y="0"/>
                </a:moveTo>
                <a:lnTo>
                  <a:pt x="48" y="48"/>
                </a:lnTo>
                <a:lnTo>
                  <a:pt x="97" y="137"/>
                </a:lnTo>
                <a:lnTo>
                  <a:pt x="145" y="226"/>
                </a:lnTo>
                <a:lnTo>
                  <a:pt x="145" y="315"/>
                </a:lnTo>
                <a:lnTo>
                  <a:pt x="168" y="404"/>
                </a:lnTo>
                <a:lnTo>
                  <a:pt x="217" y="472"/>
                </a:lnTo>
                <a:lnTo>
                  <a:pt x="291" y="516"/>
                </a:lnTo>
                <a:lnTo>
                  <a:pt x="388" y="560"/>
                </a:lnTo>
                <a:lnTo>
                  <a:pt x="462" y="626"/>
                </a:lnTo>
                <a:lnTo>
                  <a:pt x="510" y="694"/>
                </a:lnTo>
                <a:lnTo>
                  <a:pt x="607" y="759"/>
                </a:lnTo>
                <a:lnTo>
                  <a:pt x="704" y="783"/>
                </a:lnTo>
                <a:lnTo>
                  <a:pt x="801" y="848"/>
                </a:lnTo>
                <a:lnTo>
                  <a:pt x="875" y="895"/>
                </a:lnTo>
                <a:lnTo>
                  <a:pt x="972" y="961"/>
                </a:lnTo>
                <a:lnTo>
                  <a:pt x="1093" y="1050"/>
                </a:lnTo>
                <a:lnTo>
                  <a:pt x="1167" y="1095"/>
                </a:lnTo>
                <a:lnTo>
                  <a:pt x="1216" y="1163"/>
                </a:lnTo>
                <a:lnTo>
                  <a:pt x="1313" y="1252"/>
                </a:lnTo>
                <a:lnTo>
                  <a:pt x="1320" y="1429"/>
                </a:lnTo>
                <a:lnTo>
                  <a:pt x="1491" y="1601"/>
                </a:lnTo>
                <a:lnTo>
                  <a:pt x="1703" y="1664"/>
                </a:lnTo>
                <a:lnTo>
                  <a:pt x="1874" y="1770"/>
                </a:lnTo>
                <a:lnTo>
                  <a:pt x="2025" y="20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"/>
          <p:cNvSpPr/>
          <p:nvPr/>
        </p:nvSpPr>
        <p:spPr>
          <a:xfrm>
            <a:off x="4106880" y="82440"/>
            <a:ext cx="1476720" cy="1679760"/>
          </a:xfrm>
          <a:custGeom>
            <a:avLst/>
            <a:gdLst/>
            <a:ahLst/>
            <a:rect l="0" t="0" r="r" b="b"/>
            <a:pathLst>
              <a:path fill="none" w="4102" h="4666">
                <a:moveTo>
                  <a:pt x="0" y="0"/>
                </a:moveTo>
                <a:lnTo>
                  <a:pt x="22" y="243"/>
                </a:lnTo>
                <a:lnTo>
                  <a:pt x="61" y="309"/>
                </a:lnTo>
                <a:lnTo>
                  <a:pt x="97" y="396"/>
                </a:lnTo>
                <a:lnTo>
                  <a:pt x="143" y="492"/>
                </a:lnTo>
                <a:lnTo>
                  <a:pt x="189" y="588"/>
                </a:lnTo>
                <a:lnTo>
                  <a:pt x="235" y="683"/>
                </a:lnTo>
                <a:lnTo>
                  <a:pt x="235" y="779"/>
                </a:lnTo>
                <a:lnTo>
                  <a:pt x="257" y="852"/>
                </a:lnTo>
                <a:lnTo>
                  <a:pt x="306" y="948"/>
                </a:lnTo>
                <a:lnTo>
                  <a:pt x="374" y="1043"/>
                </a:lnTo>
                <a:lnTo>
                  <a:pt x="421" y="1139"/>
                </a:lnTo>
                <a:lnTo>
                  <a:pt x="513" y="1235"/>
                </a:lnTo>
                <a:lnTo>
                  <a:pt x="537" y="1308"/>
                </a:lnTo>
                <a:lnTo>
                  <a:pt x="606" y="1403"/>
                </a:lnTo>
                <a:lnTo>
                  <a:pt x="652" y="1499"/>
                </a:lnTo>
                <a:lnTo>
                  <a:pt x="698" y="1595"/>
                </a:lnTo>
                <a:lnTo>
                  <a:pt x="723" y="1691"/>
                </a:lnTo>
                <a:lnTo>
                  <a:pt x="793" y="1739"/>
                </a:lnTo>
                <a:lnTo>
                  <a:pt x="886" y="1811"/>
                </a:lnTo>
                <a:lnTo>
                  <a:pt x="978" y="1882"/>
                </a:lnTo>
                <a:lnTo>
                  <a:pt x="1047" y="1955"/>
                </a:lnTo>
                <a:lnTo>
                  <a:pt x="1117" y="2051"/>
                </a:lnTo>
                <a:lnTo>
                  <a:pt x="1210" y="2146"/>
                </a:lnTo>
                <a:lnTo>
                  <a:pt x="1281" y="2242"/>
                </a:lnTo>
                <a:lnTo>
                  <a:pt x="1349" y="2364"/>
                </a:lnTo>
                <a:lnTo>
                  <a:pt x="1441" y="2483"/>
                </a:lnTo>
                <a:lnTo>
                  <a:pt x="1466" y="2555"/>
                </a:lnTo>
                <a:lnTo>
                  <a:pt x="1534" y="2651"/>
                </a:lnTo>
                <a:lnTo>
                  <a:pt x="1580" y="2724"/>
                </a:lnTo>
                <a:lnTo>
                  <a:pt x="1629" y="2843"/>
                </a:lnTo>
                <a:lnTo>
                  <a:pt x="1721" y="2938"/>
                </a:lnTo>
                <a:lnTo>
                  <a:pt x="1860" y="2963"/>
                </a:lnTo>
                <a:lnTo>
                  <a:pt x="1953" y="3011"/>
                </a:lnTo>
                <a:lnTo>
                  <a:pt x="2046" y="3084"/>
                </a:lnTo>
                <a:lnTo>
                  <a:pt x="2117" y="3132"/>
                </a:lnTo>
                <a:lnTo>
                  <a:pt x="2210" y="3203"/>
                </a:lnTo>
                <a:lnTo>
                  <a:pt x="2278" y="3276"/>
                </a:lnTo>
                <a:lnTo>
                  <a:pt x="2349" y="3371"/>
                </a:lnTo>
                <a:lnTo>
                  <a:pt x="2441" y="3515"/>
                </a:lnTo>
                <a:lnTo>
                  <a:pt x="2488" y="3588"/>
                </a:lnTo>
                <a:lnTo>
                  <a:pt x="2558" y="3684"/>
                </a:lnTo>
                <a:lnTo>
                  <a:pt x="2626" y="3779"/>
                </a:lnTo>
                <a:lnTo>
                  <a:pt x="2697" y="3875"/>
                </a:lnTo>
                <a:lnTo>
                  <a:pt x="2790" y="3996"/>
                </a:lnTo>
                <a:lnTo>
                  <a:pt x="2882" y="4044"/>
                </a:lnTo>
                <a:lnTo>
                  <a:pt x="2953" y="4114"/>
                </a:lnTo>
                <a:lnTo>
                  <a:pt x="3067" y="4210"/>
                </a:lnTo>
                <a:lnTo>
                  <a:pt x="3138" y="4283"/>
                </a:lnTo>
                <a:lnTo>
                  <a:pt x="3206" y="4379"/>
                </a:lnTo>
                <a:lnTo>
                  <a:pt x="3253" y="4452"/>
                </a:lnTo>
                <a:lnTo>
                  <a:pt x="3323" y="4547"/>
                </a:lnTo>
                <a:lnTo>
                  <a:pt x="3394" y="4595"/>
                </a:lnTo>
                <a:lnTo>
                  <a:pt x="3486" y="4643"/>
                </a:lnTo>
                <a:lnTo>
                  <a:pt x="3579" y="4643"/>
                </a:lnTo>
                <a:lnTo>
                  <a:pt x="3672" y="4666"/>
                </a:lnTo>
                <a:lnTo>
                  <a:pt x="3802" y="4645"/>
                </a:lnTo>
                <a:lnTo>
                  <a:pt x="3872" y="4655"/>
                </a:lnTo>
                <a:lnTo>
                  <a:pt x="3934" y="4627"/>
                </a:lnTo>
                <a:lnTo>
                  <a:pt x="4013" y="4609"/>
                </a:lnTo>
                <a:lnTo>
                  <a:pt x="4102" y="460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"/>
          <p:cNvSpPr/>
          <p:nvPr/>
        </p:nvSpPr>
        <p:spPr>
          <a:xfrm>
            <a:off x="4075200" y="326880"/>
            <a:ext cx="1508400" cy="1661040"/>
          </a:xfrm>
          <a:custGeom>
            <a:avLst/>
            <a:gdLst/>
            <a:ahLst/>
            <a:rect l="0" t="0" r="r" b="b"/>
            <a:pathLst>
              <a:path fill="none" w="4190" h="4614">
                <a:moveTo>
                  <a:pt x="63" y="0"/>
                </a:moveTo>
                <a:lnTo>
                  <a:pt x="0" y="335"/>
                </a:lnTo>
                <a:lnTo>
                  <a:pt x="11" y="474"/>
                </a:lnTo>
                <a:lnTo>
                  <a:pt x="44" y="714"/>
                </a:lnTo>
                <a:lnTo>
                  <a:pt x="176" y="1095"/>
                </a:lnTo>
                <a:lnTo>
                  <a:pt x="321" y="1387"/>
                </a:lnTo>
                <a:lnTo>
                  <a:pt x="394" y="1504"/>
                </a:lnTo>
                <a:lnTo>
                  <a:pt x="416" y="1575"/>
                </a:lnTo>
                <a:lnTo>
                  <a:pt x="463" y="1667"/>
                </a:lnTo>
                <a:lnTo>
                  <a:pt x="509" y="1760"/>
                </a:lnTo>
                <a:lnTo>
                  <a:pt x="555" y="1853"/>
                </a:lnTo>
                <a:lnTo>
                  <a:pt x="555" y="1945"/>
                </a:lnTo>
                <a:lnTo>
                  <a:pt x="555" y="2016"/>
                </a:lnTo>
                <a:lnTo>
                  <a:pt x="579" y="2108"/>
                </a:lnTo>
                <a:lnTo>
                  <a:pt x="601" y="2201"/>
                </a:lnTo>
                <a:lnTo>
                  <a:pt x="601" y="2294"/>
                </a:lnTo>
                <a:lnTo>
                  <a:pt x="648" y="2386"/>
                </a:lnTo>
                <a:lnTo>
                  <a:pt x="672" y="2525"/>
                </a:lnTo>
                <a:lnTo>
                  <a:pt x="694" y="2596"/>
                </a:lnTo>
                <a:lnTo>
                  <a:pt x="694" y="2710"/>
                </a:lnTo>
                <a:lnTo>
                  <a:pt x="787" y="2781"/>
                </a:lnTo>
                <a:lnTo>
                  <a:pt x="857" y="2827"/>
                </a:lnTo>
                <a:lnTo>
                  <a:pt x="928" y="2873"/>
                </a:lnTo>
                <a:lnTo>
                  <a:pt x="974" y="2944"/>
                </a:lnTo>
                <a:lnTo>
                  <a:pt x="1089" y="3059"/>
                </a:lnTo>
                <a:lnTo>
                  <a:pt x="1159" y="3129"/>
                </a:lnTo>
                <a:lnTo>
                  <a:pt x="1252" y="3268"/>
                </a:lnTo>
                <a:lnTo>
                  <a:pt x="1322" y="3361"/>
                </a:lnTo>
                <a:lnTo>
                  <a:pt x="1369" y="3431"/>
                </a:lnTo>
                <a:lnTo>
                  <a:pt x="1437" y="3547"/>
                </a:lnTo>
                <a:lnTo>
                  <a:pt x="1461" y="3617"/>
                </a:lnTo>
                <a:lnTo>
                  <a:pt x="1530" y="3710"/>
                </a:lnTo>
                <a:lnTo>
                  <a:pt x="1554" y="3781"/>
                </a:lnTo>
                <a:lnTo>
                  <a:pt x="1600" y="3873"/>
                </a:lnTo>
                <a:lnTo>
                  <a:pt x="1622" y="3966"/>
                </a:lnTo>
                <a:lnTo>
                  <a:pt x="1669" y="4058"/>
                </a:lnTo>
                <a:lnTo>
                  <a:pt x="1693" y="4151"/>
                </a:lnTo>
                <a:lnTo>
                  <a:pt x="1717" y="4222"/>
                </a:lnTo>
                <a:lnTo>
                  <a:pt x="1785" y="4336"/>
                </a:lnTo>
                <a:lnTo>
                  <a:pt x="1832" y="4407"/>
                </a:lnTo>
                <a:lnTo>
                  <a:pt x="1902" y="4475"/>
                </a:lnTo>
                <a:lnTo>
                  <a:pt x="1995" y="4568"/>
                </a:lnTo>
                <a:lnTo>
                  <a:pt x="2088" y="4614"/>
                </a:lnTo>
                <a:lnTo>
                  <a:pt x="2181" y="4614"/>
                </a:lnTo>
                <a:lnTo>
                  <a:pt x="2252" y="4614"/>
                </a:lnTo>
                <a:lnTo>
                  <a:pt x="2366" y="4592"/>
                </a:lnTo>
                <a:lnTo>
                  <a:pt x="2437" y="4568"/>
                </a:lnTo>
                <a:lnTo>
                  <a:pt x="2529" y="4521"/>
                </a:lnTo>
                <a:lnTo>
                  <a:pt x="2600" y="4499"/>
                </a:lnTo>
                <a:lnTo>
                  <a:pt x="2693" y="4475"/>
                </a:lnTo>
                <a:lnTo>
                  <a:pt x="2785" y="4453"/>
                </a:lnTo>
                <a:lnTo>
                  <a:pt x="2900" y="4429"/>
                </a:lnTo>
                <a:lnTo>
                  <a:pt x="2970" y="4407"/>
                </a:lnTo>
                <a:lnTo>
                  <a:pt x="3041" y="4383"/>
                </a:lnTo>
                <a:lnTo>
                  <a:pt x="3134" y="4336"/>
                </a:lnTo>
                <a:lnTo>
                  <a:pt x="3248" y="4336"/>
                </a:lnTo>
                <a:lnTo>
                  <a:pt x="3319" y="4336"/>
                </a:lnTo>
                <a:lnTo>
                  <a:pt x="3411" y="4314"/>
                </a:lnTo>
                <a:lnTo>
                  <a:pt x="3482" y="4290"/>
                </a:lnTo>
                <a:lnTo>
                  <a:pt x="3575" y="4268"/>
                </a:lnTo>
                <a:lnTo>
                  <a:pt x="3667" y="4222"/>
                </a:lnTo>
                <a:lnTo>
                  <a:pt x="3722" y="4180"/>
                </a:lnTo>
                <a:lnTo>
                  <a:pt x="3828" y="4109"/>
                </a:lnTo>
                <a:lnTo>
                  <a:pt x="3908" y="4065"/>
                </a:lnTo>
                <a:lnTo>
                  <a:pt x="4040" y="4012"/>
                </a:lnTo>
                <a:lnTo>
                  <a:pt x="4190" y="399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"/>
          <p:cNvSpPr/>
          <p:nvPr/>
        </p:nvSpPr>
        <p:spPr>
          <a:xfrm>
            <a:off x="4037040" y="647640"/>
            <a:ext cx="1545120" cy="1576800"/>
          </a:xfrm>
          <a:custGeom>
            <a:avLst/>
            <a:gdLst/>
            <a:ahLst/>
            <a:rect l="0" t="0" r="r" b="b"/>
            <a:pathLst>
              <a:path fill="none" w="4292" h="4380">
                <a:moveTo>
                  <a:pt x="0" y="0"/>
                </a:moveTo>
                <a:lnTo>
                  <a:pt x="99" y="112"/>
                </a:lnTo>
                <a:lnTo>
                  <a:pt x="165" y="224"/>
                </a:lnTo>
                <a:lnTo>
                  <a:pt x="211" y="363"/>
                </a:lnTo>
                <a:lnTo>
                  <a:pt x="238" y="542"/>
                </a:lnTo>
                <a:lnTo>
                  <a:pt x="257" y="707"/>
                </a:lnTo>
                <a:lnTo>
                  <a:pt x="323" y="872"/>
                </a:lnTo>
                <a:lnTo>
                  <a:pt x="350" y="1018"/>
                </a:lnTo>
                <a:lnTo>
                  <a:pt x="456" y="1131"/>
                </a:lnTo>
                <a:lnTo>
                  <a:pt x="456" y="1224"/>
                </a:lnTo>
                <a:lnTo>
                  <a:pt x="456" y="1290"/>
                </a:lnTo>
                <a:lnTo>
                  <a:pt x="442" y="1382"/>
                </a:lnTo>
                <a:lnTo>
                  <a:pt x="469" y="1435"/>
                </a:lnTo>
                <a:lnTo>
                  <a:pt x="495" y="1528"/>
                </a:lnTo>
                <a:lnTo>
                  <a:pt x="509" y="1581"/>
                </a:lnTo>
                <a:lnTo>
                  <a:pt x="561" y="1726"/>
                </a:lnTo>
                <a:lnTo>
                  <a:pt x="561" y="1779"/>
                </a:lnTo>
                <a:lnTo>
                  <a:pt x="614" y="1832"/>
                </a:lnTo>
                <a:lnTo>
                  <a:pt x="667" y="1885"/>
                </a:lnTo>
                <a:lnTo>
                  <a:pt x="747" y="1938"/>
                </a:lnTo>
                <a:lnTo>
                  <a:pt x="826" y="2043"/>
                </a:lnTo>
                <a:lnTo>
                  <a:pt x="918" y="2189"/>
                </a:lnTo>
                <a:lnTo>
                  <a:pt x="985" y="2242"/>
                </a:lnTo>
                <a:lnTo>
                  <a:pt x="1051" y="2347"/>
                </a:lnTo>
                <a:lnTo>
                  <a:pt x="1105" y="2440"/>
                </a:lnTo>
                <a:lnTo>
                  <a:pt x="1131" y="2559"/>
                </a:lnTo>
                <a:lnTo>
                  <a:pt x="1197" y="2691"/>
                </a:lnTo>
                <a:lnTo>
                  <a:pt x="1224" y="2744"/>
                </a:lnTo>
                <a:lnTo>
                  <a:pt x="1276" y="2810"/>
                </a:lnTo>
                <a:lnTo>
                  <a:pt x="1246" y="2872"/>
                </a:lnTo>
                <a:lnTo>
                  <a:pt x="1263" y="2898"/>
                </a:lnTo>
                <a:lnTo>
                  <a:pt x="1281" y="2934"/>
                </a:lnTo>
                <a:lnTo>
                  <a:pt x="1298" y="2960"/>
                </a:lnTo>
                <a:lnTo>
                  <a:pt x="1307" y="2987"/>
                </a:lnTo>
                <a:lnTo>
                  <a:pt x="1325" y="3022"/>
                </a:lnTo>
                <a:lnTo>
                  <a:pt x="1343" y="3048"/>
                </a:lnTo>
                <a:lnTo>
                  <a:pt x="1360" y="3084"/>
                </a:lnTo>
                <a:lnTo>
                  <a:pt x="1360" y="3110"/>
                </a:lnTo>
                <a:lnTo>
                  <a:pt x="1378" y="3136"/>
                </a:lnTo>
                <a:lnTo>
                  <a:pt x="1387" y="3172"/>
                </a:lnTo>
                <a:lnTo>
                  <a:pt x="1404" y="3198"/>
                </a:lnTo>
                <a:lnTo>
                  <a:pt x="1413" y="3225"/>
                </a:lnTo>
                <a:lnTo>
                  <a:pt x="1431" y="3260"/>
                </a:lnTo>
                <a:lnTo>
                  <a:pt x="1440" y="3287"/>
                </a:lnTo>
                <a:lnTo>
                  <a:pt x="1448" y="3314"/>
                </a:lnTo>
                <a:lnTo>
                  <a:pt x="1457" y="3340"/>
                </a:lnTo>
                <a:lnTo>
                  <a:pt x="1466" y="3367"/>
                </a:lnTo>
                <a:lnTo>
                  <a:pt x="1484" y="3393"/>
                </a:lnTo>
                <a:lnTo>
                  <a:pt x="1484" y="3420"/>
                </a:lnTo>
                <a:lnTo>
                  <a:pt x="1492" y="3446"/>
                </a:lnTo>
                <a:lnTo>
                  <a:pt x="1510" y="3481"/>
                </a:lnTo>
                <a:lnTo>
                  <a:pt x="1519" y="3508"/>
                </a:lnTo>
                <a:lnTo>
                  <a:pt x="1519" y="3534"/>
                </a:lnTo>
                <a:lnTo>
                  <a:pt x="1536" y="3561"/>
                </a:lnTo>
                <a:lnTo>
                  <a:pt x="1554" y="3587"/>
                </a:lnTo>
                <a:lnTo>
                  <a:pt x="1572" y="3631"/>
                </a:lnTo>
                <a:lnTo>
                  <a:pt x="1581" y="3658"/>
                </a:lnTo>
                <a:lnTo>
                  <a:pt x="1598" y="3702"/>
                </a:lnTo>
                <a:lnTo>
                  <a:pt x="1616" y="3728"/>
                </a:lnTo>
                <a:lnTo>
                  <a:pt x="1633" y="3763"/>
                </a:lnTo>
                <a:lnTo>
                  <a:pt x="1642" y="3790"/>
                </a:lnTo>
                <a:lnTo>
                  <a:pt x="1660" y="3816"/>
                </a:lnTo>
                <a:lnTo>
                  <a:pt x="1669" y="3843"/>
                </a:lnTo>
                <a:lnTo>
                  <a:pt x="1678" y="3869"/>
                </a:lnTo>
                <a:lnTo>
                  <a:pt x="1695" y="3904"/>
                </a:lnTo>
                <a:lnTo>
                  <a:pt x="1722" y="3931"/>
                </a:lnTo>
                <a:lnTo>
                  <a:pt x="1739" y="3966"/>
                </a:lnTo>
                <a:lnTo>
                  <a:pt x="1757" y="3992"/>
                </a:lnTo>
                <a:lnTo>
                  <a:pt x="1775" y="4019"/>
                </a:lnTo>
                <a:lnTo>
                  <a:pt x="1792" y="4045"/>
                </a:lnTo>
                <a:lnTo>
                  <a:pt x="1810" y="4081"/>
                </a:lnTo>
                <a:lnTo>
                  <a:pt x="1827" y="4107"/>
                </a:lnTo>
                <a:lnTo>
                  <a:pt x="1845" y="4134"/>
                </a:lnTo>
                <a:lnTo>
                  <a:pt x="1871" y="4160"/>
                </a:lnTo>
                <a:lnTo>
                  <a:pt x="1889" y="4186"/>
                </a:lnTo>
                <a:lnTo>
                  <a:pt x="1916" y="4213"/>
                </a:lnTo>
                <a:lnTo>
                  <a:pt x="1942" y="4239"/>
                </a:lnTo>
                <a:lnTo>
                  <a:pt x="1968" y="4257"/>
                </a:lnTo>
                <a:lnTo>
                  <a:pt x="1986" y="4283"/>
                </a:lnTo>
                <a:lnTo>
                  <a:pt x="2013" y="4301"/>
                </a:lnTo>
                <a:lnTo>
                  <a:pt x="2039" y="4310"/>
                </a:lnTo>
                <a:lnTo>
                  <a:pt x="2065" y="4327"/>
                </a:lnTo>
                <a:lnTo>
                  <a:pt x="2092" y="4327"/>
                </a:lnTo>
                <a:lnTo>
                  <a:pt x="2118" y="4345"/>
                </a:lnTo>
                <a:lnTo>
                  <a:pt x="2224" y="4372"/>
                </a:lnTo>
                <a:lnTo>
                  <a:pt x="2251" y="4372"/>
                </a:lnTo>
                <a:lnTo>
                  <a:pt x="2277" y="4380"/>
                </a:lnTo>
                <a:lnTo>
                  <a:pt x="2303" y="4380"/>
                </a:lnTo>
                <a:lnTo>
                  <a:pt x="2330" y="4380"/>
                </a:lnTo>
                <a:lnTo>
                  <a:pt x="2365" y="4380"/>
                </a:lnTo>
                <a:lnTo>
                  <a:pt x="2409" y="4380"/>
                </a:lnTo>
                <a:lnTo>
                  <a:pt x="2453" y="4380"/>
                </a:lnTo>
                <a:lnTo>
                  <a:pt x="2480" y="4363"/>
                </a:lnTo>
                <a:lnTo>
                  <a:pt x="2506" y="4345"/>
                </a:lnTo>
                <a:lnTo>
                  <a:pt x="2533" y="4327"/>
                </a:lnTo>
                <a:lnTo>
                  <a:pt x="2585" y="4292"/>
                </a:lnTo>
                <a:lnTo>
                  <a:pt x="2612" y="4275"/>
                </a:lnTo>
                <a:lnTo>
                  <a:pt x="2638" y="4248"/>
                </a:lnTo>
                <a:lnTo>
                  <a:pt x="2665" y="4230"/>
                </a:lnTo>
                <a:lnTo>
                  <a:pt x="2691" y="4213"/>
                </a:lnTo>
                <a:lnTo>
                  <a:pt x="2718" y="4195"/>
                </a:lnTo>
                <a:lnTo>
                  <a:pt x="2744" y="4178"/>
                </a:lnTo>
                <a:lnTo>
                  <a:pt x="2771" y="4151"/>
                </a:lnTo>
                <a:lnTo>
                  <a:pt x="2815" y="4116"/>
                </a:lnTo>
                <a:lnTo>
                  <a:pt x="2850" y="4107"/>
                </a:lnTo>
                <a:lnTo>
                  <a:pt x="2903" y="4072"/>
                </a:lnTo>
                <a:lnTo>
                  <a:pt x="2920" y="4045"/>
                </a:lnTo>
                <a:lnTo>
                  <a:pt x="2938" y="4019"/>
                </a:lnTo>
                <a:lnTo>
                  <a:pt x="2965" y="4001"/>
                </a:lnTo>
                <a:lnTo>
                  <a:pt x="2991" y="3966"/>
                </a:lnTo>
                <a:lnTo>
                  <a:pt x="3017" y="3940"/>
                </a:lnTo>
                <a:lnTo>
                  <a:pt x="3044" y="3922"/>
                </a:lnTo>
                <a:lnTo>
                  <a:pt x="3070" y="3904"/>
                </a:lnTo>
                <a:lnTo>
                  <a:pt x="3106" y="3887"/>
                </a:lnTo>
                <a:lnTo>
                  <a:pt x="3132" y="3878"/>
                </a:lnTo>
                <a:lnTo>
                  <a:pt x="3158" y="3869"/>
                </a:lnTo>
                <a:lnTo>
                  <a:pt x="3185" y="3851"/>
                </a:lnTo>
                <a:lnTo>
                  <a:pt x="3211" y="3843"/>
                </a:lnTo>
                <a:lnTo>
                  <a:pt x="3248" y="3825"/>
                </a:lnTo>
                <a:lnTo>
                  <a:pt x="3283" y="3807"/>
                </a:lnTo>
                <a:lnTo>
                  <a:pt x="3309" y="3790"/>
                </a:lnTo>
                <a:lnTo>
                  <a:pt x="3336" y="3781"/>
                </a:lnTo>
                <a:lnTo>
                  <a:pt x="3362" y="3772"/>
                </a:lnTo>
                <a:lnTo>
                  <a:pt x="3389" y="3763"/>
                </a:lnTo>
                <a:lnTo>
                  <a:pt x="3415" y="3754"/>
                </a:lnTo>
                <a:lnTo>
                  <a:pt x="3450" y="3746"/>
                </a:lnTo>
                <a:lnTo>
                  <a:pt x="3545" y="3704"/>
                </a:lnTo>
                <a:lnTo>
                  <a:pt x="3572" y="3671"/>
                </a:lnTo>
                <a:lnTo>
                  <a:pt x="3605" y="3664"/>
                </a:lnTo>
                <a:lnTo>
                  <a:pt x="3624" y="3638"/>
                </a:lnTo>
                <a:lnTo>
                  <a:pt x="3638" y="3638"/>
                </a:lnTo>
                <a:lnTo>
                  <a:pt x="3664" y="3611"/>
                </a:lnTo>
                <a:lnTo>
                  <a:pt x="3677" y="3598"/>
                </a:lnTo>
                <a:lnTo>
                  <a:pt x="3697" y="3572"/>
                </a:lnTo>
                <a:lnTo>
                  <a:pt x="3730" y="3552"/>
                </a:lnTo>
                <a:lnTo>
                  <a:pt x="3763" y="3539"/>
                </a:lnTo>
                <a:lnTo>
                  <a:pt x="3803" y="3512"/>
                </a:lnTo>
                <a:lnTo>
                  <a:pt x="3836" y="3486"/>
                </a:lnTo>
                <a:lnTo>
                  <a:pt x="3849" y="3466"/>
                </a:lnTo>
                <a:lnTo>
                  <a:pt x="3849" y="3472"/>
                </a:lnTo>
                <a:lnTo>
                  <a:pt x="3955" y="3367"/>
                </a:lnTo>
                <a:lnTo>
                  <a:pt x="4087" y="3253"/>
                </a:lnTo>
                <a:lnTo>
                  <a:pt x="4173" y="3220"/>
                </a:lnTo>
                <a:lnTo>
                  <a:pt x="4292" y="319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"/>
          <p:cNvSpPr/>
          <p:nvPr/>
        </p:nvSpPr>
        <p:spPr>
          <a:xfrm>
            <a:off x="4253040" y="82440"/>
            <a:ext cx="1329120" cy="1152720"/>
          </a:xfrm>
          <a:custGeom>
            <a:avLst/>
            <a:gdLst/>
            <a:ahLst/>
            <a:rect l="0" t="0" r="r" b="b"/>
            <a:pathLst>
              <a:path fill="none" w="3692" h="3202">
                <a:moveTo>
                  <a:pt x="0" y="0"/>
                </a:moveTo>
                <a:lnTo>
                  <a:pt x="39" y="46"/>
                </a:lnTo>
                <a:lnTo>
                  <a:pt x="59" y="105"/>
                </a:lnTo>
                <a:lnTo>
                  <a:pt x="119" y="145"/>
                </a:lnTo>
                <a:lnTo>
                  <a:pt x="178" y="185"/>
                </a:lnTo>
                <a:lnTo>
                  <a:pt x="218" y="244"/>
                </a:lnTo>
                <a:lnTo>
                  <a:pt x="257" y="304"/>
                </a:lnTo>
                <a:lnTo>
                  <a:pt x="317" y="304"/>
                </a:lnTo>
                <a:lnTo>
                  <a:pt x="377" y="383"/>
                </a:lnTo>
                <a:lnTo>
                  <a:pt x="396" y="443"/>
                </a:lnTo>
                <a:lnTo>
                  <a:pt x="416" y="502"/>
                </a:lnTo>
                <a:lnTo>
                  <a:pt x="436" y="562"/>
                </a:lnTo>
                <a:lnTo>
                  <a:pt x="456" y="621"/>
                </a:lnTo>
                <a:lnTo>
                  <a:pt x="515" y="661"/>
                </a:lnTo>
                <a:lnTo>
                  <a:pt x="575" y="701"/>
                </a:lnTo>
                <a:lnTo>
                  <a:pt x="635" y="740"/>
                </a:lnTo>
                <a:lnTo>
                  <a:pt x="694" y="760"/>
                </a:lnTo>
                <a:lnTo>
                  <a:pt x="754" y="800"/>
                </a:lnTo>
                <a:lnTo>
                  <a:pt x="853" y="840"/>
                </a:lnTo>
                <a:lnTo>
                  <a:pt x="912" y="859"/>
                </a:lnTo>
                <a:lnTo>
                  <a:pt x="973" y="899"/>
                </a:lnTo>
                <a:lnTo>
                  <a:pt x="1052" y="939"/>
                </a:lnTo>
                <a:lnTo>
                  <a:pt x="1112" y="978"/>
                </a:lnTo>
                <a:lnTo>
                  <a:pt x="1191" y="998"/>
                </a:lnTo>
                <a:lnTo>
                  <a:pt x="1251" y="1038"/>
                </a:lnTo>
                <a:lnTo>
                  <a:pt x="1310" y="1117"/>
                </a:lnTo>
                <a:lnTo>
                  <a:pt x="1350" y="1177"/>
                </a:lnTo>
                <a:lnTo>
                  <a:pt x="1409" y="1236"/>
                </a:lnTo>
                <a:lnTo>
                  <a:pt x="1489" y="1296"/>
                </a:lnTo>
                <a:lnTo>
                  <a:pt x="1548" y="1336"/>
                </a:lnTo>
                <a:lnTo>
                  <a:pt x="1608" y="1355"/>
                </a:lnTo>
                <a:lnTo>
                  <a:pt x="1667" y="1375"/>
                </a:lnTo>
                <a:lnTo>
                  <a:pt x="1727" y="1395"/>
                </a:lnTo>
                <a:lnTo>
                  <a:pt x="1826" y="1475"/>
                </a:lnTo>
                <a:lnTo>
                  <a:pt x="1886" y="1494"/>
                </a:lnTo>
                <a:lnTo>
                  <a:pt x="1985" y="1554"/>
                </a:lnTo>
                <a:lnTo>
                  <a:pt x="2064" y="1634"/>
                </a:lnTo>
                <a:lnTo>
                  <a:pt x="2124" y="1654"/>
                </a:lnTo>
                <a:lnTo>
                  <a:pt x="2183" y="1714"/>
                </a:lnTo>
                <a:lnTo>
                  <a:pt x="2243" y="1753"/>
                </a:lnTo>
                <a:lnTo>
                  <a:pt x="2302" y="1813"/>
                </a:lnTo>
                <a:lnTo>
                  <a:pt x="2342" y="1872"/>
                </a:lnTo>
                <a:lnTo>
                  <a:pt x="2382" y="1932"/>
                </a:lnTo>
                <a:lnTo>
                  <a:pt x="2461" y="2011"/>
                </a:lnTo>
                <a:lnTo>
                  <a:pt x="2521" y="2051"/>
                </a:lnTo>
                <a:lnTo>
                  <a:pt x="2560" y="2111"/>
                </a:lnTo>
                <a:lnTo>
                  <a:pt x="2620" y="2150"/>
                </a:lnTo>
                <a:lnTo>
                  <a:pt x="2679" y="2230"/>
                </a:lnTo>
                <a:lnTo>
                  <a:pt x="2739" y="2289"/>
                </a:lnTo>
                <a:lnTo>
                  <a:pt x="2799" y="2309"/>
                </a:lnTo>
                <a:lnTo>
                  <a:pt x="2859" y="2369"/>
                </a:lnTo>
                <a:lnTo>
                  <a:pt x="2919" y="2388"/>
                </a:lnTo>
                <a:lnTo>
                  <a:pt x="2978" y="2408"/>
                </a:lnTo>
                <a:lnTo>
                  <a:pt x="3038" y="2408"/>
                </a:lnTo>
                <a:lnTo>
                  <a:pt x="3097" y="2428"/>
                </a:lnTo>
                <a:lnTo>
                  <a:pt x="3177" y="2468"/>
                </a:lnTo>
                <a:lnTo>
                  <a:pt x="3216" y="2527"/>
                </a:lnTo>
                <a:lnTo>
                  <a:pt x="3276" y="2607"/>
                </a:lnTo>
                <a:lnTo>
                  <a:pt x="3335" y="2666"/>
                </a:lnTo>
                <a:lnTo>
                  <a:pt x="3355" y="2726"/>
                </a:lnTo>
                <a:lnTo>
                  <a:pt x="3395" y="2785"/>
                </a:lnTo>
                <a:lnTo>
                  <a:pt x="3454" y="2865"/>
                </a:lnTo>
                <a:lnTo>
                  <a:pt x="3474" y="2924"/>
                </a:lnTo>
                <a:lnTo>
                  <a:pt x="3514" y="2984"/>
                </a:lnTo>
                <a:lnTo>
                  <a:pt x="3554" y="3043"/>
                </a:lnTo>
                <a:lnTo>
                  <a:pt x="3573" y="3103"/>
                </a:lnTo>
                <a:lnTo>
                  <a:pt x="3633" y="3162"/>
                </a:lnTo>
                <a:lnTo>
                  <a:pt x="3692" y="3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"/>
          <p:cNvSpPr/>
          <p:nvPr/>
        </p:nvSpPr>
        <p:spPr>
          <a:xfrm>
            <a:off x="3898800" y="1852560"/>
            <a:ext cx="1679760" cy="1421280"/>
          </a:xfrm>
          <a:custGeom>
            <a:avLst/>
            <a:gdLst/>
            <a:ahLst/>
            <a:rect l="0" t="0" r="r" b="b"/>
            <a:pathLst>
              <a:path fill="none" w="4666" h="3948">
                <a:moveTo>
                  <a:pt x="0" y="3948"/>
                </a:moveTo>
                <a:lnTo>
                  <a:pt x="33" y="3823"/>
                </a:lnTo>
                <a:lnTo>
                  <a:pt x="271" y="3591"/>
                </a:lnTo>
                <a:lnTo>
                  <a:pt x="528" y="3334"/>
                </a:lnTo>
                <a:lnTo>
                  <a:pt x="694" y="3228"/>
                </a:lnTo>
                <a:lnTo>
                  <a:pt x="912" y="2909"/>
                </a:lnTo>
                <a:lnTo>
                  <a:pt x="1018" y="2637"/>
                </a:lnTo>
                <a:lnTo>
                  <a:pt x="1137" y="2520"/>
                </a:lnTo>
                <a:lnTo>
                  <a:pt x="1269" y="2295"/>
                </a:lnTo>
                <a:lnTo>
                  <a:pt x="1461" y="2023"/>
                </a:lnTo>
                <a:lnTo>
                  <a:pt x="1672" y="1567"/>
                </a:lnTo>
                <a:lnTo>
                  <a:pt x="1970" y="1357"/>
                </a:lnTo>
                <a:lnTo>
                  <a:pt x="2082" y="1362"/>
                </a:lnTo>
                <a:lnTo>
                  <a:pt x="2254" y="1467"/>
                </a:lnTo>
                <a:lnTo>
                  <a:pt x="2307" y="1567"/>
                </a:lnTo>
                <a:lnTo>
                  <a:pt x="2447" y="1660"/>
                </a:lnTo>
                <a:lnTo>
                  <a:pt x="2645" y="1746"/>
                </a:lnTo>
                <a:lnTo>
                  <a:pt x="2764" y="1673"/>
                </a:lnTo>
                <a:lnTo>
                  <a:pt x="2982" y="1389"/>
                </a:lnTo>
                <a:lnTo>
                  <a:pt x="3029" y="1350"/>
                </a:lnTo>
                <a:lnTo>
                  <a:pt x="3101" y="1335"/>
                </a:lnTo>
                <a:lnTo>
                  <a:pt x="3209" y="1291"/>
                </a:lnTo>
                <a:lnTo>
                  <a:pt x="3273" y="1220"/>
                </a:lnTo>
                <a:lnTo>
                  <a:pt x="3315" y="1149"/>
                </a:lnTo>
                <a:lnTo>
                  <a:pt x="3361" y="1036"/>
                </a:lnTo>
                <a:lnTo>
                  <a:pt x="3427" y="997"/>
                </a:lnTo>
                <a:lnTo>
                  <a:pt x="3529" y="964"/>
                </a:lnTo>
                <a:lnTo>
                  <a:pt x="3546" y="969"/>
                </a:lnTo>
                <a:lnTo>
                  <a:pt x="3665" y="957"/>
                </a:lnTo>
                <a:lnTo>
                  <a:pt x="3721" y="935"/>
                </a:lnTo>
                <a:lnTo>
                  <a:pt x="3784" y="864"/>
                </a:lnTo>
                <a:lnTo>
                  <a:pt x="3848" y="839"/>
                </a:lnTo>
                <a:lnTo>
                  <a:pt x="3912" y="793"/>
                </a:lnTo>
                <a:lnTo>
                  <a:pt x="3998" y="697"/>
                </a:lnTo>
                <a:lnTo>
                  <a:pt x="4062" y="651"/>
                </a:lnTo>
                <a:lnTo>
                  <a:pt x="4126" y="626"/>
                </a:lnTo>
                <a:lnTo>
                  <a:pt x="4168" y="555"/>
                </a:lnTo>
                <a:lnTo>
                  <a:pt x="4232" y="509"/>
                </a:lnTo>
                <a:lnTo>
                  <a:pt x="4254" y="438"/>
                </a:lnTo>
                <a:lnTo>
                  <a:pt x="4298" y="342"/>
                </a:lnTo>
                <a:lnTo>
                  <a:pt x="4362" y="271"/>
                </a:lnTo>
                <a:lnTo>
                  <a:pt x="4426" y="200"/>
                </a:lnTo>
                <a:lnTo>
                  <a:pt x="4490" y="105"/>
                </a:lnTo>
                <a:lnTo>
                  <a:pt x="4554" y="34"/>
                </a:lnTo>
                <a:lnTo>
                  <a:pt x="4618" y="12"/>
                </a:lnTo>
                <a:lnTo>
                  <a:pt x="466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"/>
          <p:cNvSpPr/>
          <p:nvPr/>
        </p:nvSpPr>
        <p:spPr>
          <a:xfrm>
            <a:off x="3949560" y="1908000"/>
            <a:ext cx="1632240" cy="1365480"/>
          </a:xfrm>
          <a:custGeom>
            <a:avLst/>
            <a:gdLst/>
            <a:ahLst/>
            <a:rect l="0" t="0" r="r" b="b"/>
            <a:pathLst>
              <a:path fill="none" w="4534" h="3793">
                <a:moveTo>
                  <a:pt x="4534" y="0"/>
                </a:moveTo>
                <a:lnTo>
                  <a:pt x="4492" y="63"/>
                </a:lnTo>
                <a:lnTo>
                  <a:pt x="4428" y="127"/>
                </a:lnTo>
                <a:lnTo>
                  <a:pt x="4364" y="171"/>
                </a:lnTo>
                <a:lnTo>
                  <a:pt x="4320" y="235"/>
                </a:lnTo>
                <a:lnTo>
                  <a:pt x="4278" y="299"/>
                </a:lnTo>
                <a:lnTo>
                  <a:pt x="4236" y="363"/>
                </a:lnTo>
                <a:lnTo>
                  <a:pt x="4192" y="427"/>
                </a:lnTo>
                <a:lnTo>
                  <a:pt x="4150" y="491"/>
                </a:lnTo>
                <a:lnTo>
                  <a:pt x="4086" y="533"/>
                </a:lnTo>
                <a:lnTo>
                  <a:pt x="4022" y="597"/>
                </a:lnTo>
                <a:lnTo>
                  <a:pt x="3958" y="641"/>
                </a:lnTo>
                <a:lnTo>
                  <a:pt x="3894" y="705"/>
                </a:lnTo>
                <a:lnTo>
                  <a:pt x="3808" y="747"/>
                </a:lnTo>
                <a:lnTo>
                  <a:pt x="3744" y="811"/>
                </a:lnTo>
                <a:lnTo>
                  <a:pt x="3680" y="833"/>
                </a:lnTo>
                <a:lnTo>
                  <a:pt x="3649" y="890"/>
                </a:lnTo>
                <a:lnTo>
                  <a:pt x="3605" y="930"/>
                </a:lnTo>
                <a:lnTo>
                  <a:pt x="3539" y="956"/>
                </a:lnTo>
                <a:lnTo>
                  <a:pt x="3504" y="987"/>
                </a:lnTo>
                <a:lnTo>
                  <a:pt x="3459" y="1040"/>
                </a:lnTo>
                <a:lnTo>
                  <a:pt x="3362" y="1128"/>
                </a:lnTo>
                <a:lnTo>
                  <a:pt x="3279" y="1177"/>
                </a:lnTo>
                <a:lnTo>
                  <a:pt x="3217" y="1212"/>
                </a:lnTo>
                <a:lnTo>
                  <a:pt x="3173" y="1265"/>
                </a:lnTo>
                <a:lnTo>
                  <a:pt x="3111" y="1309"/>
                </a:lnTo>
                <a:lnTo>
                  <a:pt x="3089" y="1375"/>
                </a:lnTo>
                <a:lnTo>
                  <a:pt x="3018" y="1428"/>
                </a:lnTo>
                <a:lnTo>
                  <a:pt x="2956" y="1521"/>
                </a:lnTo>
                <a:lnTo>
                  <a:pt x="2859" y="1569"/>
                </a:lnTo>
                <a:lnTo>
                  <a:pt x="2811" y="1631"/>
                </a:lnTo>
                <a:lnTo>
                  <a:pt x="2731" y="1697"/>
                </a:lnTo>
                <a:lnTo>
                  <a:pt x="2648" y="1737"/>
                </a:lnTo>
                <a:lnTo>
                  <a:pt x="2581" y="1755"/>
                </a:lnTo>
                <a:lnTo>
                  <a:pt x="2506" y="1746"/>
                </a:lnTo>
                <a:lnTo>
                  <a:pt x="2392" y="1737"/>
                </a:lnTo>
                <a:lnTo>
                  <a:pt x="2315" y="1642"/>
                </a:lnTo>
                <a:lnTo>
                  <a:pt x="2250" y="1600"/>
                </a:lnTo>
                <a:lnTo>
                  <a:pt x="2186" y="1536"/>
                </a:lnTo>
                <a:lnTo>
                  <a:pt x="2119" y="1494"/>
                </a:lnTo>
                <a:lnTo>
                  <a:pt x="2077" y="1430"/>
                </a:lnTo>
                <a:lnTo>
                  <a:pt x="2014" y="1408"/>
                </a:lnTo>
                <a:lnTo>
                  <a:pt x="1950" y="1386"/>
                </a:lnTo>
                <a:lnTo>
                  <a:pt x="1888" y="1318"/>
                </a:lnTo>
                <a:lnTo>
                  <a:pt x="1800" y="1386"/>
                </a:lnTo>
                <a:lnTo>
                  <a:pt x="1758" y="1450"/>
                </a:lnTo>
                <a:lnTo>
                  <a:pt x="1716" y="1514"/>
                </a:lnTo>
                <a:lnTo>
                  <a:pt x="1672" y="1578"/>
                </a:lnTo>
                <a:lnTo>
                  <a:pt x="1608" y="1642"/>
                </a:lnTo>
                <a:lnTo>
                  <a:pt x="1566" y="1708"/>
                </a:lnTo>
                <a:lnTo>
                  <a:pt x="1502" y="1772"/>
                </a:lnTo>
                <a:lnTo>
                  <a:pt x="1458" y="1836"/>
                </a:lnTo>
                <a:lnTo>
                  <a:pt x="1416" y="1901"/>
                </a:lnTo>
                <a:lnTo>
                  <a:pt x="1352" y="1965"/>
                </a:lnTo>
                <a:lnTo>
                  <a:pt x="1330" y="2029"/>
                </a:lnTo>
                <a:lnTo>
                  <a:pt x="1288" y="2093"/>
                </a:lnTo>
                <a:lnTo>
                  <a:pt x="1224" y="2177"/>
                </a:lnTo>
                <a:lnTo>
                  <a:pt x="1182" y="2241"/>
                </a:lnTo>
                <a:lnTo>
                  <a:pt x="1118" y="2305"/>
                </a:lnTo>
                <a:lnTo>
                  <a:pt x="1074" y="2371"/>
                </a:lnTo>
                <a:lnTo>
                  <a:pt x="1032" y="2435"/>
                </a:lnTo>
                <a:lnTo>
                  <a:pt x="990" y="2499"/>
                </a:lnTo>
                <a:lnTo>
                  <a:pt x="946" y="2563"/>
                </a:lnTo>
                <a:lnTo>
                  <a:pt x="904" y="2626"/>
                </a:lnTo>
                <a:lnTo>
                  <a:pt x="862" y="2690"/>
                </a:lnTo>
                <a:lnTo>
                  <a:pt x="818" y="2754"/>
                </a:lnTo>
                <a:lnTo>
                  <a:pt x="776" y="2818"/>
                </a:lnTo>
                <a:lnTo>
                  <a:pt x="754" y="2882"/>
                </a:lnTo>
                <a:lnTo>
                  <a:pt x="712" y="2946"/>
                </a:lnTo>
                <a:lnTo>
                  <a:pt x="668" y="3010"/>
                </a:lnTo>
                <a:lnTo>
                  <a:pt x="626" y="3074"/>
                </a:lnTo>
                <a:lnTo>
                  <a:pt x="562" y="3160"/>
                </a:lnTo>
                <a:lnTo>
                  <a:pt x="520" y="3224"/>
                </a:lnTo>
                <a:lnTo>
                  <a:pt x="456" y="3244"/>
                </a:lnTo>
                <a:lnTo>
                  <a:pt x="392" y="3288"/>
                </a:lnTo>
                <a:lnTo>
                  <a:pt x="348" y="3352"/>
                </a:lnTo>
                <a:lnTo>
                  <a:pt x="284" y="3394"/>
                </a:lnTo>
                <a:lnTo>
                  <a:pt x="220" y="3458"/>
                </a:lnTo>
                <a:lnTo>
                  <a:pt x="178" y="3522"/>
                </a:lnTo>
                <a:lnTo>
                  <a:pt x="114" y="3586"/>
                </a:lnTo>
                <a:lnTo>
                  <a:pt x="70" y="3650"/>
                </a:lnTo>
                <a:lnTo>
                  <a:pt x="28" y="3713"/>
                </a:lnTo>
                <a:lnTo>
                  <a:pt x="0" y="37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"/>
          <p:cNvSpPr/>
          <p:nvPr/>
        </p:nvSpPr>
        <p:spPr>
          <a:xfrm>
            <a:off x="4008600" y="2065320"/>
            <a:ext cx="1575000" cy="1208520"/>
          </a:xfrm>
          <a:custGeom>
            <a:avLst/>
            <a:gdLst/>
            <a:ahLst/>
            <a:rect l="0" t="0" r="r" b="b"/>
            <a:pathLst>
              <a:path fill="none" w="4375" h="3357">
                <a:moveTo>
                  <a:pt x="4375" y="0"/>
                </a:moveTo>
                <a:lnTo>
                  <a:pt x="4326" y="13"/>
                </a:lnTo>
                <a:lnTo>
                  <a:pt x="4262" y="33"/>
                </a:lnTo>
                <a:lnTo>
                  <a:pt x="4199" y="77"/>
                </a:lnTo>
                <a:lnTo>
                  <a:pt x="4135" y="97"/>
                </a:lnTo>
                <a:lnTo>
                  <a:pt x="4071" y="141"/>
                </a:lnTo>
                <a:lnTo>
                  <a:pt x="4027" y="224"/>
                </a:lnTo>
                <a:lnTo>
                  <a:pt x="3963" y="288"/>
                </a:lnTo>
                <a:lnTo>
                  <a:pt x="3899" y="352"/>
                </a:lnTo>
                <a:lnTo>
                  <a:pt x="3835" y="396"/>
                </a:lnTo>
                <a:lnTo>
                  <a:pt x="3771" y="460"/>
                </a:lnTo>
                <a:lnTo>
                  <a:pt x="3707" y="502"/>
                </a:lnTo>
                <a:lnTo>
                  <a:pt x="3665" y="566"/>
                </a:lnTo>
                <a:lnTo>
                  <a:pt x="3630" y="648"/>
                </a:lnTo>
                <a:lnTo>
                  <a:pt x="3586" y="727"/>
                </a:lnTo>
                <a:lnTo>
                  <a:pt x="3475" y="784"/>
                </a:lnTo>
                <a:lnTo>
                  <a:pt x="3356" y="815"/>
                </a:lnTo>
                <a:lnTo>
                  <a:pt x="3279" y="845"/>
                </a:lnTo>
                <a:lnTo>
                  <a:pt x="3215" y="909"/>
                </a:lnTo>
                <a:lnTo>
                  <a:pt x="3151" y="973"/>
                </a:lnTo>
                <a:lnTo>
                  <a:pt x="3109" y="1037"/>
                </a:lnTo>
                <a:lnTo>
                  <a:pt x="3045" y="1079"/>
                </a:lnTo>
                <a:lnTo>
                  <a:pt x="3004" y="1143"/>
                </a:lnTo>
                <a:lnTo>
                  <a:pt x="2940" y="1187"/>
                </a:lnTo>
                <a:lnTo>
                  <a:pt x="2876" y="1229"/>
                </a:lnTo>
                <a:lnTo>
                  <a:pt x="2812" y="1273"/>
                </a:lnTo>
                <a:lnTo>
                  <a:pt x="2748" y="1293"/>
                </a:lnTo>
                <a:lnTo>
                  <a:pt x="2684" y="1315"/>
                </a:lnTo>
                <a:lnTo>
                  <a:pt x="2618" y="1356"/>
                </a:lnTo>
                <a:lnTo>
                  <a:pt x="2554" y="1379"/>
                </a:lnTo>
                <a:lnTo>
                  <a:pt x="2490" y="1379"/>
                </a:lnTo>
                <a:lnTo>
                  <a:pt x="2426" y="1401"/>
                </a:lnTo>
                <a:lnTo>
                  <a:pt x="2362" y="1420"/>
                </a:lnTo>
                <a:lnTo>
                  <a:pt x="2278" y="1442"/>
                </a:lnTo>
                <a:lnTo>
                  <a:pt x="2169" y="1442"/>
                </a:lnTo>
                <a:lnTo>
                  <a:pt x="2105" y="1420"/>
                </a:lnTo>
                <a:lnTo>
                  <a:pt x="2041" y="1379"/>
                </a:lnTo>
                <a:lnTo>
                  <a:pt x="1977" y="1356"/>
                </a:lnTo>
                <a:lnTo>
                  <a:pt x="1913" y="1315"/>
                </a:lnTo>
                <a:lnTo>
                  <a:pt x="1849" y="1293"/>
                </a:lnTo>
                <a:lnTo>
                  <a:pt x="1785" y="1273"/>
                </a:lnTo>
                <a:lnTo>
                  <a:pt x="1721" y="1251"/>
                </a:lnTo>
                <a:lnTo>
                  <a:pt x="1649" y="1185"/>
                </a:lnTo>
                <a:lnTo>
                  <a:pt x="1572" y="1251"/>
                </a:lnTo>
                <a:lnTo>
                  <a:pt x="1508" y="1273"/>
                </a:lnTo>
                <a:lnTo>
                  <a:pt x="1466" y="1337"/>
                </a:lnTo>
                <a:lnTo>
                  <a:pt x="1402" y="1379"/>
                </a:lnTo>
                <a:lnTo>
                  <a:pt x="1338" y="1420"/>
                </a:lnTo>
                <a:lnTo>
                  <a:pt x="1274" y="1484"/>
                </a:lnTo>
                <a:lnTo>
                  <a:pt x="1252" y="1548"/>
                </a:lnTo>
                <a:lnTo>
                  <a:pt x="1210" y="1612"/>
                </a:lnTo>
                <a:lnTo>
                  <a:pt x="1166" y="1676"/>
                </a:lnTo>
                <a:lnTo>
                  <a:pt x="1124" y="1740"/>
                </a:lnTo>
                <a:lnTo>
                  <a:pt x="1082" y="1804"/>
                </a:lnTo>
                <a:lnTo>
                  <a:pt x="1038" y="1868"/>
                </a:lnTo>
                <a:lnTo>
                  <a:pt x="996" y="1934"/>
                </a:lnTo>
                <a:lnTo>
                  <a:pt x="954" y="1998"/>
                </a:lnTo>
                <a:lnTo>
                  <a:pt x="910" y="2062"/>
                </a:lnTo>
                <a:lnTo>
                  <a:pt x="868" y="2126"/>
                </a:lnTo>
                <a:lnTo>
                  <a:pt x="826" y="2190"/>
                </a:lnTo>
                <a:lnTo>
                  <a:pt x="782" y="2254"/>
                </a:lnTo>
                <a:lnTo>
                  <a:pt x="762" y="2318"/>
                </a:lnTo>
                <a:lnTo>
                  <a:pt x="698" y="2382"/>
                </a:lnTo>
                <a:lnTo>
                  <a:pt x="676" y="2446"/>
                </a:lnTo>
                <a:lnTo>
                  <a:pt x="612" y="2510"/>
                </a:lnTo>
                <a:lnTo>
                  <a:pt x="568" y="2575"/>
                </a:lnTo>
                <a:lnTo>
                  <a:pt x="549" y="2639"/>
                </a:lnTo>
                <a:lnTo>
                  <a:pt x="526" y="2702"/>
                </a:lnTo>
                <a:lnTo>
                  <a:pt x="463" y="2766"/>
                </a:lnTo>
                <a:lnTo>
                  <a:pt x="399" y="2830"/>
                </a:lnTo>
                <a:lnTo>
                  <a:pt x="335" y="2894"/>
                </a:lnTo>
                <a:lnTo>
                  <a:pt x="271" y="2958"/>
                </a:lnTo>
                <a:lnTo>
                  <a:pt x="229" y="3022"/>
                </a:lnTo>
                <a:lnTo>
                  <a:pt x="165" y="3064"/>
                </a:lnTo>
                <a:lnTo>
                  <a:pt x="121" y="3128"/>
                </a:lnTo>
                <a:lnTo>
                  <a:pt x="79" y="3192"/>
                </a:lnTo>
                <a:lnTo>
                  <a:pt x="37" y="3258"/>
                </a:lnTo>
                <a:lnTo>
                  <a:pt x="0" y="33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"/>
          <p:cNvSpPr/>
          <p:nvPr/>
        </p:nvSpPr>
        <p:spPr>
          <a:xfrm>
            <a:off x="4091040" y="2244600"/>
            <a:ext cx="1492560" cy="1027440"/>
          </a:xfrm>
          <a:custGeom>
            <a:avLst/>
            <a:gdLst/>
            <a:ahLst/>
            <a:rect l="0" t="0" r="r" b="b"/>
            <a:pathLst>
              <a:path fill="none" w="4146" h="2854">
                <a:moveTo>
                  <a:pt x="4146" y="0"/>
                </a:moveTo>
                <a:lnTo>
                  <a:pt x="4097" y="46"/>
                </a:lnTo>
                <a:lnTo>
                  <a:pt x="4033" y="68"/>
                </a:lnTo>
                <a:lnTo>
                  <a:pt x="3969" y="90"/>
                </a:lnTo>
                <a:lnTo>
                  <a:pt x="3905" y="112"/>
                </a:lnTo>
                <a:lnTo>
                  <a:pt x="3841" y="154"/>
                </a:lnTo>
                <a:lnTo>
                  <a:pt x="3777" y="176"/>
                </a:lnTo>
                <a:lnTo>
                  <a:pt x="3711" y="240"/>
                </a:lnTo>
                <a:lnTo>
                  <a:pt x="3669" y="304"/>
                </a:lnTo>
                <a:lnTo>
                  <a:pt x="3605" y="346"/>
                </a:lnTo>
                <a:lnTo>
                  <a:pt x="3542" y="388"/>
                </a:lnTo>
                <a:lnTo>
                  <a:pt x="3478" y="432"/>
                </a:lnTo>
                <a:lnTo>
                  <a:pt x="3414" y="474"/>
                </a:lnTo>
                <a:lnTo>
                  <a:pt x="3350" y="496"/>
                </a:lnTo>
                <a:lnTo>
                  <a:pt x="3286" y="537"/>
                </a:lnTo>
                <a:lnTo>
                  <a:pt x="3222" y="579"/>
                </a:lnTo>
                <a:lnTo>
                  <a:pt x="3158" y="643"/>
                </a:lnTo>
                <a:lnTo>
                  <a:pt x="3072" y="707"/>
                </a:lnTo>
                <a:lnTo>
                  <a:pt x="3008" y="751"/>
                </a:lnTo>
                <a:lnTo>
                  <a:pt x="2922" y="793"/>
                </a:lnTo>
                <a:lnTo>
                  <a:pt x="2838" y="857"/>
                </a:lnTo>
                <a:lnTo>
                  <a:pt x="2774" y="901"/>
                </a:lnTo>
                <a:lnTo>
                  <a:pt x="2710" y="943"/>
                </a:lnTo>
                <a:lnTo>
                  <a:pt x="2624" y="985"/>
                </a:lnTo>
                <a:lnTo>
                  <a:pt x="2560" y="1029"/>
                </a:lnTo>
                <a:lnTo>
                  <a:pt x="2496" y="1049"/>
                </a:lnTo>
                <a:lnTo>
                  <a:pt x="2432" y="1071"/>
                </a:lnTo>
                <a:lnTo>
                  <a:pt x="2369" y="1071"/>
                </a:lnTo>
                <a:lnTo>
                  <a:pt x="2283" y="1093"/>
                </a:lnTo>
                <a:lnTo>
                  <a:pt x="2197" y="1113"/>
                </a:lnTo>
                <a:lnTo>
                  <a:pt x="2133" y="1113"/>
                </a:lnTo>
                <a:lnTo>
                  <a:pt x="2048" y="1113"/>
                </a:lnTo>
                <a:lnTo>
                  <a:pt x="1984" y="1135"/>
                </a:lnTo>
                <a:lnTo>
                  <a:pt x="1920" y="1135"/>
                </a:lnTo>
                <a:lnTo>
                  <a:pt x="1856" y="1113"/>
                </a:lnTo>
                <a:lnTo>
                  <a:pt x="1792" y="1093"/>
                </a:lnTo>
                <a:lnTo>
                  <a:pt x="1726" y="1093"/>
                </a:lnTo>
                <a:lnTo>
                  <a:pt x="1662" y="1071"/>
                </a:lnTo>
                <a:lnTo>
                  <a:pt x="1578" y="1029"/>
                </a:lnTo>
                <a:lnTo>
                  <a:pt x="1514" y="1007"/>
                </a:lnTo>
                <a:lnTo>
                  <a:pt x="1426" y="978"/>
                </a:lnTo>
                <a:lnTo>
                  <a:pt x="1349" y="923"/>
                </a:lnTo>
                <a:lnTo>
                  <a:pt x="1274" y="963"/>
                </a:lnTo>
                <a:lnTo>
                  <a:pt x="1172" y="1029"/>
                </a:lnTo>
                <a:lnTo>
                  <a:pt x="1109" y="1049"/>
                </a:lnTo>
                <a:lnTo>
                  <a:pt x="1064" y="1113"/>
                </a:lnTo>
                <a:lnTo>
                  <a:pt x="1001" y="1177"/>
                </a:lnTo>
                <a:lnTo>
                  <a:pt x="959" y="1241"/>
                </a:lnTo>
                <a:lnTo>
                  <a:pt x="937" y="1305"/>
                </a:lnTo>
                <a:lnTo>
                  <a:pt x="895" y="1369"/>
                </a:lnTo>
                <a:lnTo>
                  <a:pt x="853" y="1436"/>
                </a:lnTo>
                <a:lnTo>
                  <a:pt x="831" y="1500"/>
                </a:lnTo>
                <a:lnTo>
                  <a:pt x="767" y="1542"/>
                </a:lnTo>
                <a:lnTo>
                  <a:pt x="725" y="1628"/>
                </a:lnTo>
                <a:lnTo>
                  <a:pt x="661" y="1692"/>
                </a:lnTo>
                <a:lnTo>
                  <a:pt x="639" y="1756"/>
                </a:lnTo>
                <a:lnTo>
                  <a:pt x="597" y="1820"/>
                </a:lnTo>
                <a:lnTo>
                  <a:pt x="553" y="1883"/>
                </a:lnTo>
                <a:lnTo>
                  <a:pt x="511" y="1947"/>
                </a:lnTo>
                <a:lnTo>
                  <a:pt x="489" y="2011"/>
                </a:lnTo>
                <a:lnTo>
                  <a:pt x="447" y="2075"/>
                </a:lnTo>
                <a:lnTo>
                  <a:pt x="403" y="2139"/>
                </a:lnTo>
                <a:lnTo>
                  <a:pt x="361" y="2203"/>
                </a:lnTo>
                <a:lnTo>
                  <a:pt x="339" y="2267"/>
                </a:lnTo>
                <a:lnTo>
                  <a:pt x="297" y="2331"/>
                </a:lnTo>
                <a:lnTo>
                  <a:pt x="255" y="2395"/>
                </a:lnTo>
                <a:lnTo>
                  <a:pt x="211" y="2459"/>
                </a:lnTo>
                <a:lnTo>
                  <a:pt x="169" y="2523"/>
                </a:lnTo>
                <a:lnTo>
                  <a:pt x="127" y="2587"/>
                </a:lnTo>
                <a:lnTo>
                  <a:pt x="83" y="2651"/>
                </a:lnTo>
                <a:lnTo>
                  <a:pt x="63" y="2715"/>
                </a:lnTo>
                <a:lnTo>
                  <a:pt x="19" y="2779"/>
                </a:lnTo>
                <a:lnTo>
                  <a:pt x="0" y="285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"/>
          <p:cNvSpPr/>
          <p:nvPr/>
        </p:nvSpPr>
        <p:spPr>
          <a:xfrm>
            <a:off x="4124160" y="2502000"/>
            <a:ext cx="1459440" cy="771840"/>
          </a:xfrm>
          <a:custGeom>
            <a:avLst/>
            <a:gdLst/>
            <a:ahLst/>
            <a:rect l="0" t="0" r="r" b="b"/>
            <a:pathLst>
              <a:path fill="none" w="4054" h="2144">
                <a:moveTo>
                  <a:pt x="4054" y="0"/>
                </a:moveTo>
                <a:lnTo>
                  <a:pt x="4006" y="15"/>
                </a:lnTo>
                <a:lnTo>
                  <a:pt x="3942" y="37"/>
                </a:lnTo>
                <a:lnTo>
                  <a:pt x="3878" y="79"/>
                </a:lnTo>
                <a:lnTo>
                  <a:pt x="3814" y="123"/>
                </a:lnTo>
                <a:lnTo>
                  <a:pt x="3750" y="165"/>
                </a:lnTo>
                <a:lnTo>
                  <a:pt x="3686" y="207"/>
                </a:lnTo>
                <a:lnTo>
                  <a:pt x="3620" y="251"/>
                </a:lnTo>
                <a:lnTo>
                  <a:pt x="3556" y="293"/>
                </a:lnTo>
                <a:lnTo>
                  <a:pt x="3472" y="357"/>
                </a:lnTo>
                <a:lnTo>
                  <a:pt x="3386" y="399"/>
                </a:lnTo>
                <a:lnTo>
                  <a:pt x="3322" y="443"/>
                </a:lnTo>
                <a:lnTo>
                  <a:pt x="3258" y="485"/>
                </a:lnTo>
                <a:lnTo>
                  <a:pt x="3152" y="526"/>
                </a:lnTo>
                <a:lnTo>
                  <a:pt x="3066" y="549"/>
                </a:lnTo>
                <a:lnTo>
                  <a:pt x="3001" y="571"/>
                </a:lnTo>
                <a:lnTo>
                  <a:pt x="2937" y="590"/>
                </a:lnTo>
                <a:lnTo>
                  <a:pt x="2809" y="612"/>
                </a:lnTo>
                <a:lnTo>
                  <a:pt x="2724" y="635"/>
                </a:lnTo>
                <a:lnTo>
                  <a:pt x="2510" y="635"/>
                </a:lnTo>
                <a:lnTo>
                  <a:pt x="2446" y="635"/>
                </a:lnTo>
                <a:lnTo>
                  <a:pt x="2382" y="654"/>
                </a:lnTo>
                <a:lnTo>
                  <a:pt x="2318" y="654"/>
                </a:lnTo>
                <a:lnTo>
                  <a:pt x="2232" y="654"/>
                </a:lnTo>
                <a:lnTo>
                  <a:pt x="2168" y="654"/>
                </a:lnTo>
                <a:lnTo>
                  <a:pt x="2104" y="654"/>
                </a:lnTo>
                <a:lnTo>
                  <a:pt x="2020" y="635"/>
                </a:lnTo>
                <a:lnTo>
                  <a:pt x="1934" y="635"/>
                </a:lnTo>
                <a:lnTo>
                  <a:pt x="1828" y="635"/>
                </a:lnTo>
                <a:lnTo>
                  <a:pt x="1764" y="635"/>
                </a:lnTo>
                <a:lnTo>
                  <a:pt x="1678" y="612"/>
                </a:lnTo>
                <a:lnTo>
                  <a:pt x="1614" y="590"/>
                </a:lnTo>
                <a:lnTo>
                  <a:pt x="1551" y="571"/>
                </a:lnTo>
                <a:lnTo>
                  <a:pt x="1423" y="571"/>
                </a:lnTo>
                <a:lnTo>
                  <a:pt x="1359" y="571"/>
                </a:lnTo>
                <a:lnTo>
                  <a:pt x="1290" y="535"/>
                </a:lnTo>
                <a:lnTo>
                  <a:pt x="1198" y="606"/>
                </a:lnTo>
                <a:lnTo>
                  <a:pt x="1138" y="646"/>
                </a:lnTo>
                <a:lnTo>
                  <a:pt x="1103" y="720"/>
                </a:lnTo>
                <a:lnTo>
                  <a:pt x="1039" y="762"/>
                </a:lnTo>
                <a:lnTo>
                  <a:pt x="972" y="826"/>
                </a:lnTo>
                <a:lnTo>
                  <a:pt x="908" y="890"/>
                </a:lnTo>
                <a:lnTo>
                  <a:pt x="866" y="954"/>
                </a:lnTo>
                <a:lnTo>
                  <a:pt x="802" y="1018"/>
                </a:lnTo>
                <a:lnTo>
                  <a:pt x="738" y="1060"/>
                </a:lnTo>
                <a:lnTo>
                  <a:pt x="674" y="1125"/>
                </a:lnTo>
                <a:lnTo>
                  <a:pt x="610" y="1169"/>
                </a:lnTo>
                <a:lnTo>
                  <a:pt x="568" y="1233"/>
                </a:lnTo>
                <a:lnTo>
                  <a:pt x="482" y="1317"/>
                </a:lnTo>
                <a:lnTo>
                  <a:pt x="440" y="1383"/>
                </a:lnTo>
                <a:lnTo>
                  <a:pt x="418" y="1447"/>
                </a:lnTo>
                <a:lnTo>
                  <a:pt x="377" y="1511"/>
                </a:lnTo>
                <a:lnTo>
                  <a:pt x="354" y="1575"/>
                </a:lnTo>
                <a:lnTo>
                  <a:pt x="310" y="1639"/>
                </a:lnTo>
                <a:lnTo>
                  <a:pt x="268" y="1703"/>
                </a:lnTo>
                <a:lnTo>
                  <a:pt x="246" y="1767"/>
                </a:lnTo>
                <a:lnTo>
                  <a:pt x="205" y="1831"/>
                </a:lnTo>
                <a:lnTo>
                  <a:pt x="183" y="1894"/>
                </a:lnTo>
                <a:lnTo>
                  <a:pt x="99" y="1978"/>
                </a:lnTo>
                <a:lnTo>
                  <a:pt x="55" y="2044"/>
                </a:lnTo>
                <a:lnTo>
                  <a:pt x="0" y="214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"/>
          <p:cNvSpPr/>
          <p:nvPr/>
        </p:nvSpPr>
        <p:spPr>
          <a:xfrm>
            <a:off x="4175280" y="2716200"/>
            <a:ext cx="1408320" cy="560880"/>
          </a:xfrm>
          <a:custGeom>
            <a:avLst/>
            <a:gdLst/>
            <a:ahLst/>
            <a:rect l="0" t="0" r="r" b="b"/>
            <a:pathLst>
              <a:path fill="none" w="3912" h="1558">
                <a:moveTo>
                  <a:pt x="3912" y="0"/>
                </a:moveTo>
                <a:lnTo>
                  <a:pt x="3863" y="17"/>
                </a:lnTo>
                <a:lnTo>
                  <a:pt x="3819" y="81"/>
                </a:lnTo>
                <a:lnTo>
                  <a:pt x="3755" y="125"/>
                </a:lnTo>
                <a:lnTo>
                  <a:pt x="3691" y="167"/>
                </a:lnTo>
                <a:lnTo>
                  <a:pt x="3608" y="253"/>
                </a:lnTo>
                <a:lnTo>
                  <a:pt x="3500" y="317"/>
                </a:lnTo>
                <a:lnTo>
                  <a:pt x="3436" y="337"/>
                </a:lnTo>
                <a:lnTo>
                  <a:pt x="3372" y="359"/>
                </a:lnTo>
                <a:lnTo>
                  <a:pt x="3266" y="359"/>
                </a:lnTo>
                <a:lnTo>
                  <a:pt x="3202" y="359"/>
                </a:lnTo>
                <a:lnTo>
                  <a:pt x="3138" y="359"/>
                </a:lnTo>
                <a:lnTo>
                  <a:pt x="2541" y="337"/>
                </a:lnTo>
                <a:lnTo>
                  <a:pt x="2432" y="337"/>
                </a:lnTo>
                <a:lnTo>
                  <a:pt x="2369" y="337"/>
                </a:lnTo>
                <a:lnTo>
                  <a:pt x="2155" y="317"/>
                </a:lnTo>
                <a:lnTo>
                  <a:pt x="2071" y="295"/>
                </a:lnTo>
                <a:lnTo>
                  <a:pt x="2007" y="295"/>
                </a:lnTo>
                <a:lnTo>
                  <a:pt x="1942" y="253"/>
                </a:lnTo>
                <a:lnTo>
                  <a:pt x="1856" y="231"/>
                </a:lnTo>
                <a:lnTo>
                  <a:pt x="1770" y="231"/>
                </a:lnTo>
                <a:lnTo>
                  <a:pt x="1706" y="231"/>
                </a:lnTo>
                <a:lnTo>
                  <a:pt x="1622" y="231"/>
                </a:lnTo>
                <a:lnTo>
                  <a:pt x="1558" y="231"/>
                </a:lnTo>
                <a:lnTo>
                  <a:pt x="1472" y="231"/>
                </a:lnTo>
                <a:lnTo>
                  <a:pt x="1408" y="231"/>
                </a:lnTo>
                <a:lnTo>
                  <a:pt x="1344" y="231"/>
                </a:lnTo>
                <a:lnTo>
                  <a:pt x="1281" y="231"/>
                </a:lnTo>
                <a:lnTo>
                  <a:pt x="1217" y="231"/>
                </a:lnTo>
                <a:lnTo>
                  <a:pt x="1153" y="253"/>
                </a:lnTo>
                <a:lnTo>
                  <a:pt x="1089" y="273"/>
                </a:lnTo>
                <a:lnTo>
                  <a:pt x="1003" y="295"/>
                </a:lnTo>
                <a:lnTo>
                  <a:pt x="939" y="317"/>
                </a:lnTo>
                <a:lnTo>
                  <a:pt x="875" y="337"/>
                </a:lnTo>
                <a:lnTo>
                  <a:pt x="811" y="381"/>
                </a:lnTo>
                <a:lnTo>
                  <a:pt x="747" y="424"/>
                </a:lnTo>
                <a:lnTo>
                  <a:pt x="703" y="488"/>
                </a:lnTo>
                <a:lnTo>
                  <a:pt x="639" y="511"/>
                </a:lnTo>
                <a:lnTo>
                  <a:pt x="575" y="552"/>
                </a:lnTo>
                <a:lnTo>
                  <a:pt x="533" y="617"/>
                </a:lnTo>
                <a:lnTo>
                  <a:pt x="491" y="681"/>
                </a:lnTo>
                <a:lnTo>
                  <a:pt x="427" y="745"/>
                </a:lnTo>
                <a:lnTo>
                  <a:pt x="363" y="831"/>
                </a:lnTo>
                <a:lnTo>
                  <a:pt x="319" y="895"/>
                </a:lnTo>
                <a:lnTo>
                  <a:pt x="277" y="959"/>
                </a:lnTo>
                <a:lnTo>
                  <a:pt x="255" y="1023"/>
                </a:lnTo>
                <a:lnTo>
                  <a:pt x="235" y="1087"/>
                </a:lnTo>
                <a:lnTo>
                  <a:pt x="191" y="1174"/>
                </a:lnTo>
                <a:lnTo>
                  <a:pt x="149" y="1238"/>
                </a:lnTo>
                <a:lnTo>
                  <a:pt x="127" y="1302"/>
                </a:lnTo>
                <a:lnTo>
                  <a:pt x="105" y="1366"/>
                </a:lnTo>
                <a:lnTo>
                  <a:pt x="63" y="1430"/>
                </a:lnTo>
                <a:lnTo>
                  <a:pt x="22" y="1494"/>
                </a:lnTo>
                <a:lnTo>
                  <a:pt x="0" y="155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"/>
          <p:cNvSpPr/>
          <p:nvPr/>
        </p:nvSpPr>
        <p:spPr>
          <a:xfrm>
            <a:off x="4227480" y="2906640"/>
            <a:ext cx="1356120" cy="367200"/>
          </a:xfrm>
          <a:custGeom>
            <a:avLst/>
            <a:gdLst/>
            <a:ahLst/>
            <a:rect l="0" t="0" r="r" b="b"/>
            <a:pathLst>
              <a:path fill="none" w="3767" h="1020">
                <a:moveTo>
                  <a:pt x="3767" y="216"/>
                </a:moveTo>
                <a:lnTo>
                  <a:pt x="3719" y="213"/>
                </a:lnTo>
                <a:lnTo>
                  <a:pt x="3591" y="235"/>
                </a:lnTo>
                <a:lnTo>
                  <a:pt x="3527" y="258"/>
                </a:lnTo>
                <a:lnTo>
                  <a:pt x="3441" y="258"/>
                </a:lnTo>
                <a:lnTo>
                  <a:pt x="3377" y="235"/>
                </a:lnTo>
                <a:lnTo>
                  <a:pt x="3313" y="235"/>
                </a:lnTo>
                <a:lnTo>
                  <a:pt x="3249" y="235"/>
                </a:lnTo>
                <a:lnTo>
                  <a:pt x="3185" y="213"/>
                </a:lnTo>
                <a:lnTo>
                  <a:pt x="3099" y="213"/>
                </a:lnTo>
                <a:lnTo>
                  <a:pt x="2993" y="235"/>
                </a:lnTo>
                <a:lnTo>
                  <a:pt x="2930" y="235"/>
                </a:lnTo>
                <a:lnTo>
                  <a:pt x="2866" y="258"/>
                </a:lnTo>
                <a:lnTo>
                  <a:pt x="2801" y="258"/>
                </a:lnTo>
                <a:lnTo>
                  <a:pt x="2737" y="258"/>
                </a:lnTo>
                <a:lnTo>
                  <a:pt x="2671" y="258"/>
                </a:lnTo>
                <a:lnTo>
                  <a:pt x="2587" y="235"/>
                </a:lnTo>
                <a:lnTo>
                  <a:pt x="2523" y="213"/>
                </a:lnTo>
                <a:lnTo>
                  <a:pt x="2459" y="191"/>
                </a:lnTo>
                <a:lnTo>
                  <a:pt x="2373" y="171"/>
                </a:lnTo>
                <a:lnTo>
                  <a:pt x="2309" y="149"/>
                </a:lnTo>
                <a:lnTo>
                  <a:pt x="2245" y="149"/>
                </a:lnTo>
                <a:lnTo>
                  <a:pt x="2181" y="127"/>
                </a:lnTo>
                <a:lnTo>
                  <a:pt x="2117" y="127"/>
                </a:lnTo>
                <a:lnTo>
                  <a:pt x="2031" y="85"/>
                </a:lnTo>
                <a:lnTo>
                  <a:pt x="1967" y="85"/>
                </a:lnTo>
                <a:lnTo>
                  <a:pt x="1881" y="63"/>
                </a:lnTo>
                <a:lnTo>
                  <a:pt x="1817" y="44"/>
                </a:lnTo>
                <a:lnTo>
                  <a:pt x="1734" y="44"/>
                </a:lnTo>
                <a:lnTo>
                  <a:pt x="1520" y="0"/>
                </a:lnTo>
                <a:lnTo>
                  <a:pt x="1434" y="0"/>
                </a:lnTo>
                <a:lnTo>
                  <a:pt x="1348" y="0"/>
                </a:lnTo>
                <a:lnTo>
                  <a:pt x="1284" y="22"/>
                </a:lnTo>
                <a:lnTo>
                  <a:pt x="1220" y="44"/>
                </a:lnTo>
                <a:lnTo>
                  <a:pt x="1156" y="63"/>
                </a:lnTo>
                <a:lnTo>
                  <a:pt x="1092" y="108"/>
                </a:lnTo>
                <a:lnTo>
                  <a:pt x="1028" y="127"/>
                </a:lnTo>
                <a:lnTo>
                  <a:pt x="964" y="171"/>
                </a:lnTo>
                <a:lnTo>
                  <a:pt x="899" y="171"/>
                </a:lnTo>
                <a:lnTo>
                  <a:pt x="815" y="191"/>
                </a:lnTo>
                <a:lnTo>
                  <a:pt x="751" y="213"/>
                </a:lnTo>
                <a:lnTo>
                  <a:pt x="685" y="235"/>
                </a:lnTo>
                <a:lnTo>
                  <a:pt x="621" y="258"/>
                </a:lnTo>
                <a:lnTo>
                  <a:pt x="557" y="278"/>
                </a:lnTo>
                <a:lnTo>
                  <a:pt x="493" y="300"/>
                </a:lnTo>
                <a:lnTo>
                  <a:pt x="429" y="364"/>
                </a:lnTo>
                <a:lnTo>
                  <a:pt x="366" y="406"/>
                </a:lnTo>
                <a:lnTo>
                  <a:pt x="324" y="470"/>
                </a:lnTo>
                <a:lnTo>
                  <a:pt x="260" y="514"/>
                </a:lnTo>
                <a:lnTo>
                  <a:pt x="218" y="578"/>
                </a:lnTo>
                <a:lnTo>
                  <a:pt x="154" y="620"/>
                </a:lnTo>
                <a:lnTo>
                  <a:pt x="110" y="684"/>
                </a:lnTo>
                <a:lnTo>
                  <a:pt x="68" y="748"/>
                </a:lnTo>
                <a:lnTo>
                  <a:pt x="68" y="813"/>
                </a:lnTo>
                <a:lnTo>
                  <a:pt x="46" y="877"/>
                </a:lnTo>
                <a:lnTo>
                  <a:pt x="24" y="941"/>
                </a:lnTo>
                <a:lnTo>
                  <a:pt x="0" y="102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"/>
          <p:cNvSpPr/>
          <p:nvPr/>
        </p:nvSpPr>
        <p:spPr>
          <a:xfrm>
            <a:off x="4282920" y="3046320"/>
            <a:ext cx="1298880" cy="230400"/>
          </a:xfrm>
          <a:custGeom>
            <a:avLst/>
            <a:gdLst/>
            <a:ahLst/>
            <a:rect l="0" t="0" r="r" b="b"/>
            <a:pathLst>
              <a:path fill="none" w="3608" h="640">
                <a:moveTo>
                  <a:pt x="3608" y="255"/>
                </a:moveTo>
                <a:lnTo>
                  <a:pt x="3502" y="275"/>
                </a:lnTo>
                <a:lnTo>
                  <a:pt x="3438" y="275"/>
                </a:lnTo>
                <a:lnTo>
                  <a:pt x="3374" y="275"/>
                </a:lnTo>
                <a:lnTo>
                  <a:pt x="3310" y="233"/>
                </a:lnTo>
                <a:lnTo>
                  <a:pt x="3246" y="211"/>
                </a:lnTo>
                <a:lnTo>
                  <a:pt x="3032" y="211"/>
                </a:lnTo>
                <a:lnTo>
                  <a:pt x="2968" y="211"/>
                </a:lnTo>
                <a:lnTo>
                  <a:pt x="2904" y="211"/>
                </a:lnTo>
                <a:lnTo>
                  <a:pt x="2796" y="211"/>
                </a:lnTo>
                <a:lnTo>
                  <a:pt x="2732" y="211"/>
                </a:lnTo>
                <a:lnTo>
                  <a:pt x="2668" y="211"/>
                </a:lnTo>
                <a:lnTo>
                  <a:pt x="2584" y="211"/>
                </a:lnTo>
                <a:lnTo>
                  <a:pt x="2518" y="211"/>
                </a:lnTo>
                <a:lnTo>
                  <a:pt x="2454" y="211"/>
                </a:lnTo>
                <a:lnTo>
                  <a:pt x="2370" y="211"/>
                </a:lnTo>
                <a:lnTo>
                  <a:pt x="2242" y="211"/>
                </a:lnTo>
                <a:lnTo>
                  <a:pt x="2178" y="191"/>
                </a:lnTo>
                <a:lnTo>
                  <a:pt x="2092" y="169"/>
                </a:lnTo>
                <a:lnTo>
                  <a:pt x="2006" y="127"/>
                </a:lnTo>
                <a:lnTo>
                  <a:pt x="1942" y="105"/>
                </a:lnTo>
                <a:lnTo>
                  <a:pt x="1878" y="83"/>
                </a:lnTo>
                <a:lnTo>
                  <a:pt x="1814" y="63"/>
                </a:lnTo>
                <a:lnTo>
                  <a:pt x="1727" y="19"/>
                </a:lnTo>
                <a:lnTo>
                  <a:pt x="1621" y="19"/>
                </a:lnTo>
                <a:lnTo>
                  <a:pt x="1535" y="0"/>
                </a:lnTo>
                <a:lnTo>
                  <a:pt x="1323" y="0"/>
                </a:lnTo>
                <a:lnTo>
                  <a:pt x="1215" y="0"/>
                </a:lnTo>
                <a:lnTo>
                  <a:pt x="1151" y="19"/>
                </a:lnTo>
                <a:lnTo>
                  <a:pt x="1087" y="19"/>
                </a:lnTo>
                <a:lnTo>
                  <a:pt x="1023" y="19"/>
                </a:lnTo>
                <a:lnTo>
                  <a:pt x="937" y="19"/>
                </a:lnTo>
                <a:lnTo>
                  <a:pt x="853" y="63"/>
                </a:lnTo>
                <a:lnTo>
                  <a:pt x="789" y="63"/>
                </a:lnTo>
                <a:lnTo>
                  <a:pt x="725" y="83"/>
                </a:lnTo>
                <a:lnTo>
                  <a:pt x="661" y="105"/>
                </a:lnTo>
                <a:lnTo>
                  <a:pt x="597" y="127"/>
                </a:lnTo>
                <a:lnTo>
                  <a:pt x="511" y="191"/>
                </a:lnTo>
                <a:lnTo>
                  <a:pt x="447" y="233"/>
                </a:lnTo>
                <a:lnTo>
                  <a:pt x="383" y="275"/>
                </a:lnTo>
                <a:lnTo>
                  <a:pt x="319" y="319"/>
                </a:lnTo>
                <a:lnTo>
                  <a:pt x="255" y="362"/>
                </a:lnTo>
                <a:lnTo>
                  <a:pt x="191" y="404"/>
                </a:lnTo>
                <a:lnTo>
                  <a:pt x="127" y="448"/>
                </a:lnTo>
                <a:lnTo>
                  <a:pt x="63" y="512"/>
                </a:lnTo>
                <a:lnTo>
                  <a:pt x="19" y="576"/>
                </a:lnTo>
                <a:lnTo>
                  <a:pt x="0" y="64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"/>
          <p:cNvSpPr/>
          <p:nvPr/>
        </p:nvSpPr>
        <p:spPr>
          <a:xfrm>
            <a:off x="4398840" y="3191040"/>
            <a:ext cx="945000" cy="86040"/>
          </a:xfrm>
          <a:custGeom>
            <a:avLst/>
            <a:gdLst/>
            <a:ahLst/>
            <a:rect l="0" t="0" r="r" b="b"/>
            <a:pathLst>
              <a:path fill="none" w="2625" h="239">
                <a:moveTo>
                  <a:pt x="2625" y="239"/>
                </a:moveTo>
                <a:lnTo>
                  <a:pt x="2561" y="216"/>
                </a:lnTo>
                <a:lnTo>
                  <a:pt x="2497" y="216"/>
                </a:lnTo>
                <a:lnTo>
                  <a:pt x="2411" y="216"/>
                </a:lnTo>
                <a:lnTo>
                  <a:pt x="2347" y="216"/>
                </a:lnTo>
                <a:lnTo>
                  <a:pt x="2219" y="196"/>
                </a:lnTo>
                <a:lnTo>
                  <a:pt x="2197" y="132"/>
                </a:lnTo>
                <a:lnTo>
                  <a:pt x="2133" y="109"/>
                </a:lnTo>
                <a:lnTo>
                  <a:pt x="2049" y="109"/>
                </a:lnTo>
                <a:lnTo>
                  <a:pt x="1962" y="109"/>
                </a:lnTo>
                <a:lnTo>
                  <a:pt x="1898" y="109"/>
                </a:lnTo>
                <a:lnTo>
                  <a:pt x="1834" y="86"/>
                </a:lnTo>
                <a:lnTo>
                  <a:pt x="1748" y="44"/>
                </a:lnTo>
                <a:lnTo>
                  <a:pt x="1684" y="22"/>
                </a:lnTo>
                <a:lnTo>
                  <a:pt x="1578" y="0"/>
                </a:lnTo>
                <a:lnTo>
                  <a:pt x="1470" y="0"/>
                </a:lnTo>
                <a:lnTo>
                  <a:pt x="1386" y="0"/>
                </a:lnTo>
                <a:lnTo>
                  <a:pt x="1300" y="22"/>
                </a:lnTo>
                <a:lnTo>
                  <a:pt x="1236" y="44"/>
                </a:lnTo>
                <a:lnTo>
                  <a:pt x="1108" y="64"/>
                </a:lnTo>
                <a:lnTo>
                  <a:pt x="894" y="86"/>
                </a:lnTo>
                <a:lnTo>
                  <a:pt x="830" y="86"/>
                </a:lnTo>
                <a:lnTo>
                  <a:pt x="766" y="132"/>
                </a:lnTo>
                <a:lnTo>
                  <a:pt x="702" y="174"/>
                </a:lnTo>
                <a:lnTo>
                  <a:pt x="637" y="174"/>
                </a:lnTo>
                <a:lnTo>
                  <a:pt x="573" y="174"/>
                </a:lnTo>
                <a:lnTo>
                  <a:pt x="509" y="174"/>
                </a:lnTo>
                <a:lnTo>
                  <a:pt x="445" y="174"/>
                </a:lnTo>
                <a:lnTo>
                  <a:pt x="359" y="174"/>
                </a:lnTo>
                <a:lnTo>
                  <a:pt x="295" y="174"/>
                </a:lnTo>
                <a:lnTo>
                  <a:pt x="231" y="152"/>
                </a:lnTo>
                <a:lnTo>
                  <a:pt x="167" y="152"/>
                </a:lnTo>
                <a:lnTo>
                  <a:pt x="103" y="174"/>
                </a:lnTo>
                <a:lnTo>
                  <a:pt x="0" y="23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"/>
          <p:cNvSpPr/>
          <p:nvPr/>
        </p:nvSpPr>
        <p:spPr>
          <a:xfrm>
            <a:off x="4797360" y="587520"/>
            <a:ext cx="20016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6" name=""/>
          <p:cNvSpPr/>
          <p:nvPr/>
        </p:nvSpPr>
        <p:spPr>
          <a:xfrm>
            <a:off x="4789440" y="12175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7" name=""/>
          <p:cNvSpPr/>
          <p:nvPr/>
        </p:nvSpPr>
        <p:spPr>
          <a:xfrm>
            <a:off x="3298680" y="125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"/>
          <p:cNvSpPr/>
          <p:nvPr/>
        </p:nvSpPr>
        <p:spPr>
          <a:xfrm>
            <a:off x="3398760" y="3096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9" name=""/>
          <p:cNvSpPr/>
          <p:nvPr/>
        </p:nvSpPr>
        <p:spPr>
          <a:xfrm>
            <a:off x="3514680" y="5014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0" name=""/>
          <p:cNvSpPr/>
          <p:nvPr/>
        </p:nvSpPr>
        <p:spPr>
          <a:xfrm>
            <a:off x="3691080" y="81756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1" name=""/>
          <p:cNvSpPr/>
          <p:nvPr/>
        </p:nvSpPr>
        <p:spPr>
          <a:xfrm>
            <a:off x="4167360" y="9097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"/>
          <p:cNvSpPr/>
          <p:nvPr/>
        </p:nvSpPr>
        <p:spPr>
          <a:xfrm>
            <a:off x="4183200" y="17780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"/>
          <p:cNvSpPr/>
          <p:nvPr/>
        </p:nvSpPr>
        <p:spPr>
          <a:xfrm>
            <a:off x="3137040" y="19764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"/>
          <p:cNvSpPr/>
          <p:nvPr/>
        </p:nvSpPr>
        <p:spPr>
          <a:xfrm>
            <a:off x="4313160" y="20383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"/>
          <p:cNvSpPr/>
          <p:nvPr/>
        </p:nvSpPr>
        <p:spPr>
          <a:xfrm>
            <a:off x="4608360" y="2017800"/>
            <a:ext cx="17604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"/>
          <p:cNvSpPr/>
          <p:nvPr/>
        </p:nvSpPr>
        <p:spPr>
          <a:xfrm>
            <a:off x="4853160" y="2341440"/>
            <a:ext cx="16668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"/>
          <p:cNvSpPr/>
          <p:nvPr/>
        </p:nvSpPr>
        <p:spPr>
          <a:xfrm>
            <a:off x="5127480" y="2222640"/>
            <a:ext cx="160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"/>
          <p:cNvSpPr/>
          <p:nvPr/>
        </p:nvSpPr>
        <p:spPr>
          <a:xfrm>
            <a:off x="5135400" y="26384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"/>
          <p:cNvSpPr/>
          <p:nvPr/>
        </p:nvSpPr>
        <p:spPr>
          <a:xfrm>
            <a:off x="5157720" y="24145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"/>
          <p:cNvSpPr/>
          <p:nvPr/>
        </p:nvSpPr>
        <p:spPr>
          <a:xfrm>
            <a:off x="5372280" y="2152800"/>
            <a:ext cx="18432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1" name=""/>
          <p:cNvSpPr/>
          <p:nvPr/>
        </p:nvSpPr>
        <p:spPr>
          <a:xfrm>
            <a:off x="5181480" y="30751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2" name=""/>
          <p:cNvSpPr/>
          <p:nvPr/>
        </p:nvSpPr>
        <p:spPr>
          <a:xfrm>
            <a:off x="4888080" y="28987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3" name=""/>
          <p:cNvSpPr/>
          <p:nvPr/>
        </p:nvSpPr>
        <p:spPr>
          <a:xfrm>
            <a:off x="5280120" y="27972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4" name=""/>
          <p:cNvSpPr/>
          <p:nvPr/>
        </p:nvSpPr>
        <p:spPr>
          <a:xfrm>
            <a:off x="4675320" y="315288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5" name=""/>
          <p:cNvSpPr txBox="1"/>
          <p:nvPr/>
        </p:nvSpPr>
        <p:spPr>
          <a:xfrm>
            <a:off x="3322800" y="125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6" name=""/>
          <p:cNvSpPr txBox="1"/>
          <p:nvPr/>
        </p:nvSpPr>
        <p:spPr>
          <a:xfrm>
            <a:off x="3384720" y="3031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7" name=""/>
          <p:cNvSpPr txBox="1"/>
          <p:nvPr/>
        </p:nvSpPr>
        <p:spPr>
          <a:xfrm>
            <a:off x="3506760" y="493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"/>
          <p:cNvSpPr txBox="1"/>
          <p:nvPr/>
        </p:nvSpPr>
        <p:spPr>
          <a:xfrm>
            <a:off x="3684600" y="8096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9" name=""/>
          <p:cNvSpPr txBox="1"/>
          <p:nvPr/>
        </p:nvSpPr>
        <p:spPr>
          <a:xfrm>
            <a:off x="3138480" y="1960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"/>
          <p:cNvSpPr txBox="1"/>
          <p:nvPr/>
        </p:nvSpPr>
        <p:spPr>
          <a:xfrm>
            <a:off x="4175280" y="176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1" name=""/>
          <p:cNvSpPr txBox="1"/>
          <p:nvPr/>
        </p:nvSpPr>
        <p:spPr>
          <a:xfrm>
            <a:off x="4307040" y="20224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2" name=""/>
          <p:cNvSpPr txBox="1"/>
          <p:nvPr/>
        </p:nvSpPr>
        <p:spPr>
          <a:xfrm>
            <a:off x="4808520" y="23209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"/>
          <p:cNvSpPr/>
          <p:nvPr/>
        </p:nvSpPr>
        <p:spPr>
          <a:xfrm>
            <a:off x="4937040" y="287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4" name=""/>
          <p:cNvSpPr txBox="1"/>
          <p:nvPr/>
        </p:nvSpPr>
        <p:spPr>
          <a:xfrm>
            <a:off x="4930920" y="2793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5" name=""/>
          <p:cNvSpPr txBox="1"/>
          <p:nvPr/>
        </p:nvSpPr>
        <p:spPr>
          <a:xfrm>
            <a:off x="4782960" y="577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6" name=""/>
          <p:cNvSpPr txBox="1"/>
          <p:nvPr/>
        </p:nvSpPr>
        <p:spPr>
          <a:xfrm>
            <a:off x="4151160" y="901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7" name=""/>
          <p:cNvSpPr txBox="1"/>
          <p:nvPr/>
        </p:nvSpPr>
        <p:spPr>
          <a:xfrm>
            <a:off x="4782960" y="12002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"/>
          <p:cNvSpPr txBox="1"/>
          <p:nvPr/>
        </p:nvSpPr>
        <p:spPr>
          <a:xfrm>
            <a:off x="4562640" y="20019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9" name=""/>
          <p:cNvSpPr txBox="1"/>
          <p:nvPr/>
        </p:nvSpPr>
        <p:spPr>
          <a:xfrm>
            <a:off x="5086440" y="2206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"/>
          <p:cNvSpPr txBox="1"/>
          <p:nvPr/>
        </p:nvSpPr>
        <p:spPr>
          <a:xfrm>
            <a:off x="5335560" y="21286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"/>
          <p:cNvSpPr txBox="1"/>
          <p:nvPr/>
        </p:nvSpPr>
        <p:spPr>
          <a:xfrm>
            <a:off x="5148360" y="239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"/>
          <p:cNvSpPr txBox="1"/>
          <p:nvPr/>
        </p:nvSpPr>
        <p:spPr>
          <a:xfrm>
            <a:off x="5119560" y="26128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"/>
          <p:cNvSpPr txBox="1"/>
          <p:nvPr/>
        </p:nvSpPr>
        <p:spPr>
          <a:xfrm>
            <a:off x="5268960" y="277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"/>
          <p:cNvSpPr txBox="1"/>
          <p:nvPr/>
        </p:nvSpPr>
        <p:spPr>
          <a:xfrm>
            <a:off x="4876920" y="2870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"/>
          <p:cNvSpPr txBox="1"/>
          <p:nvPr/>
        </p:nvSpPr>
        <p:spPr>
          <a:xfrm>
            <a:off x="5168880" y="3046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"/>
          <p:cNvSpPr txBox="1"/>
          <p:nvPr/>
        </p:nvSpPr>
        <p:spPr>
          <a:xfrm>
            <a:off x="4662360" y="3127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"/>
          <p:cNvSpPr/>
          <p:nvPr/>
        </p:nvSpPr>
        <p:spPr>
          <a:xfrm>
            <a:off x="4751280" y="2232000"/>
            <a:ext cx="162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"/>
          <p:cNvSpPr txBox="1"/>
          <p:nvPr/>
        </p:nvSpPr>
        <p:spPr>
          <a:xfrm>
            <a:off x="4705200" y="22176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"/>
          <p:cNvSpPr/>
          <p:nvPr/>
        </p:nvSpPr>
        <p:spPr>
          <a:xfrm>
            <a:off x="5197320" y="81000"/>
            <a:ext cx="386280" cy="437040"/>
          </a:xfrm>
          <a:custGeom>
            <a:avLst/>
            <a:gdLst/>
            <a:ahLst/>
            <a:rect l="0" t="0" r="r" b="b"/>
            <a:pathLst>
              <a:path fill="none" w="1073" h="1214">
                <a:moveTo>
                  <a:pt x="0" y="0"/>
                </a:moveTo>
                <a:lnTo>
                  <a:pt x="22" y="63"/>
                </a:lnTo>
                <a:lnTo>
                  <a:pt x="44" y="127"/>
                </a:lnTo>
                <a:lnTo>
                  <a:pt x="107" y="171"/>
                </a:lnTo>
                <a:lnTo>
                  <a:pt x="171" y="213"/>
                </a:lnTo>
                <a:lnTo>
                  <a:pt x="191" y="277"/>
                </a:lnTo>
                <a:lnTo>
                  <a:pt x="235" y="342"/>
                </a:lnTo>
                <a:lnTo>
                  <a:pt x="255" y="427"/>
                </a:lnTo>
                <a:lnTo>
                  <a:pt x="300" y="491"/>
                </a:lnTo>
                <a:lnTo>
                  <a:pt x="342" y="555"/>
                </a:lnTo>
                <a:lnTo>
                  <a:pt x="405" y="597"/>
                </a:lnTo>
                <a:lnTo>
                  <a:pt x="469" y="619"/>
                </a:lnTo>
                <a:lnTo>
                  <a:pt x="533" y="639"/>
                </a:lnTo>
                <a:lnTo>
                  <a:pt x="597" y="683"/>
                </a:lnTo>
                <a:lnTo>
                  <a:pt x="661" y="725"/>
                </a:lnTo>
                <a:lnTo>
                  <a:pt x="705" y="788"/>
                </a:lnTo>
                <a:lnTo>
                  <a:pt x="724" y="852"/>
                </a:lnTo>
                <a:lnTo>
                  <a:pt x="768" y="917"/>
                </a:lnTo>
                <a:lnTo>
                  <a:pt x="768" y="981"/>
                </a:lnTo>
                <a:lnTo>
                  <a:pt x="811" y="1045"/>
                </a:lnTo>
                <a:lnTo>
                  <a:pt x="875" y="1067"/>
                </a:lnTo>
                <a:lnTo>
                  <a:pt x="939" y="1089"/>
                </a:lnTo>
                <a:lnTo>
                  <a:pt x="1003" y="1131"/>
                </a:lnTo>
                <a:lnTo>
                  <a:pt x="1073" y="1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"/>
          <p:cNvSpPr/>
          <p:nvPr/>
        </p:nvSpPr>
        <p:spPr>
          <a:xfrm>
            <a:off x="5175360" y="17136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1" name=""/>
          <p:cNvSpPr txBox="1"/>
          <p:nvPr/>
        </p:nvSpPr>
        <p:spPr>
          <a:xfrm>
            <a:off x="5165640" y="16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2" name=""/>
          <p:cNvGrpSpPr/>
          <p:nvPr/>
        </p:nvGrpSpPr>
        <p:grpSpPr>
          <a:xfrm>
            <a:off x="2854440" y="917640"/>
            <a:ext cx="2941560" cy="0"/>
            <a:chOff x="2854440" y="917640"/>
            <a:chExt cx="2941560" cy="0"/>
          </a:xfrm>
        </p:grpSpPr>
        <p:sp>
          <p:nvSpPr>
            <p:cNvPr id="5193" name=""/>
            <p:cNvSpPr/>
            <p:nvPr/>
          </p:nvSpPr>
          <p:spPr>
            <a:xfrm>
              <a:off x="2854440" y="9176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353052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362268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3706920" y="9176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4713120" y="9176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479736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4897440" y="917640"/>
              <a:ext cx="898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0" name=""/>
          <p:cNvGrpSpPr/>
          <p:nvPr/>
        </p:nvGrpSpPr>
        <p:grpSpPr>
          <a:xfrm>
            <a:off x="2854440" y="2154240"/>
            <a:ext cx="2957400" cy="0"/>
            <a:chOff x="2854440" y="2154240"/>
            <a:chExt cx="2957400" cy="0"/>
          </a:xfrm>
        </p:grpSpPr>
        <p:sp>
          <p:nvSpPr>
            <p:cNvPr id="5201" name=""/>
            <p:cNvSpPr/>
            <p:nvPr/>
          </p:nvSpPr>
          <p:spPr>
            <a:xfrm>
              <a:off x="2854440" y="21542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353052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362268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3706920" y="21542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4713120" y="21542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479736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4897440" y="2154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8" name=""/>
          <p:cNvGrpSpPr/>
          <p:nvPr/>
        </p:nvGrpSpPr>
        <p:grpSpPr>
          <a:xfrm>
            <a:off x="2854440" y="1554120"/>
            <a:ext cx="2949480" cy="0"/>
            <a:chOff x="2854440" y="1554120"/>
            <a:chExt cx="2949480" cy="0"/>
          </a:xfrm>
        </p:grpSpPr>
        <p:sp>
          <p:nvSpPr>
            <p:cNvPr id="5209" name=""/>
            <p:cNvSpPr/>
            <p:nvPr/>
          </p:nvSpPr>
          <p:spPr>
            <a:xfrm>
              <a:off x="2854440" y="155412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353052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362268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3706920" y="155412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4713120" y="155412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479736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4897440" y="1554120"/>
              <a:ext cx="90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6" name=""/>
          <p:cNvSpPr txBox="1"/>
          <p:nvPr/>
        </p:nvSpPr>
        <p:spPr>
          <a:xfrm>
            <a:off x="285444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7" name=""/>
          <p:cNvSpPr txBox="1"/>
          <p:nvPr/>
        </p:nvSpPr>
        <p:spPr>
          <a:xfrm>
            <a:off x="568152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8" name=""/>
          <p:cNvSpPr txBox="1"/>
          <p:nvPr/>
        </p:nvSpPr>
        <p:spPr>
          <a:xfrm>
            <a:off x="285444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"/>
          <p:cNvSpPr txBox="1"/>
          <p:nvPr/>
        </p:nvSpPr>
        <p:spPr>
          <a:xfrm>
            <a:off x="568152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"/>
          <p:cNvSpPr txBox="1"/>
          <p:nvPr/>
        </p:nvSpPr>
        <p:spPr>
          <a:xfrm>
            <a:off x="2854440" y="201312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"/>
          <p:cNvSpPr txBox="1"/>
          <p:nvPr/>
        </p:nvSpPr>
        <p:spPr>
          <a:xfrm>
            <a:off x="5681520" y="202104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6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7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8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9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0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1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2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3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4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5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6" name=""/>
          <p:cNvSpPr/>
          <p:nvPr/>
        </p:nvSpPr>
        <p:spPr>
          <a:xfrm>
            <a:off x="5586480" y="3305160"/>
            <a:ext cx="0" cy="185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7" name=""/>
          <p:cNvSpPr/>
          <p:nvPr/>
        </p:nvSpPr>
        <p:spPr>
          <a:xfrm>
            <a:off x="3065400" y="335268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8" name=""/>
          <p:cNvSpPr/>
          <p:nvPr/>
        </p:nvSpPr>
        <p:spPr>
          <a:xfrm>
            <a:off x="2749680" y="47880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"/>
          <p:cNvSpPr/>
          <p:nvPr/>
        </p:nvSpPr>
        <p:spPr>
          <a:xfrm>
            <a:off x="2749680" y="49402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0" name=""/>
          <p:cNvSpPr/>
          <p:nvPr/>
        </p:nvSpPr>
        <p:spPr>
          <a:xfrm>
            <a:off x="2749680" y="509256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1" name=""/>
          <p:cNvSpPr/>
          <p:nvPr/>
        </p:nvSpPr>
        <p:spPr>
          <a:xfrm>
            <a:off x="2749680" y="52452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2" name=""/>
          <p:cNvSpPr/>
          <p:nvPr/>
        </p:nvSpPr>
        <p:spPr>
          <a:xfrm>
            <a:off x="2749680" y="53974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3" name=""/>
          <p:cNvSpPr txBox="1"/>
          <p:nvPr/>
        </p:nvSpPr>
        <p:spPr>
          <a:xfrm>
            <a:off x="5637240" y="4664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4" name=""/>
          <p:cNvSpPr txBox="1"/>
          <p:nvPr/>
        </p:nvSpPr>
        <p:spPr>
          <a:xfrm>
            <a:off x="5637240" y="4816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5" name=""/>
          <p:cNvSpPr txBox="1"/>
          <p:nvPr/>
        </p:nvSpPr>
        <p:spPr>
          <a:xfrm>
            <a:off x="5637240" y="496872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6" name=""/>
          <p:cNvSpPr txBox="1"/>
          <p:nvPr/>
        </p:nvSpPr>
        <p:spPr>
          <a:xfrm>
            <a:off x="5637240" y="5121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7" name=""/>
          <p:cNvSpPr txBox="1"/>
          <p:nvPr/>
        </p:nvSpPr>
        <p:spPr>
          <a:xfrm>
            <a:off x="5637240" y="5273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8" name=""/>
          <p:cNvSpPr/>
          <p:nvPr/>
        </p:nvSpPr>
        <p:spPr>
          <a:xfrm>
            <a:off x="3067200" y="4695840"/>
            <a:ext cx="2524320" cy="702000"/>
          </a:xfrm>
          <a:custGeom>
            <a:avLst/>
            <a:gdLst/>
            <a:ahLst/>
            <a:rect l="0" t="0" r="r" b="b"/>
            <a:pathLst>
              <a:path w="7012" h="1950">
                <a:moveTo>
                  <a:pt x="0" y="0"/>
                </a:moveTo>
                <a:lnTo>
                  <a:pt x="39" y="52"/>
                </a:lnTo>
                <a:lnTo>
                  <a:pt x="92" y="57"/>
                </a:lnTo>
                <a:lnTo>
                  <a:pt x="132" y="97"/>
                </a:lnTo>
                <a:lnTo>
                  <a:pt x="171" y="110"/>
                </a:lnTo>
                <a:lnTo>
                  <a:pt x="211" y="123"/>
                </a:lnTo>
                <a:lnTo>
                  <a:pt x="251" y="136"/>
                </a:lnTo>
                <a:lnTo>
                  <a:pt x="291" y="123"/>
                </a:lnTo>
                <a:lnTo>
                  <a:pt x="330" y="123"/>
                </a:lnTo>
                <a:lnTo>
                  <a:pt x="370" y="123"/>
                </a:lnTo>
                <a:lnTo>
                  <a:pt x="436" y="149"/>
                </a:lnTo>
                <a:lnTo>
                  <a:pt x="476" y="176"/>
                </a:lnTo>
                <a:lnTo>
                  <a:pt x="515" y="189"/>
                </a:lnTo>
                <a:lnTo>
                  <a:pt x="555" y="202"/>
                </a:lnTo>
                <a:lnTo>
                  <a:pt x="621" y="202"/>
                </a:lnTo>
                <a:lnTo>
                  <a:pt x="661" y="216"/>
                </a:lnTo>
                <a:lnTo>
                  <a:pt x="701" y="229"/>
                </a:lnTo>
                <a:lnTo>
                  <a:pt x="767" y="282"/>
                </a:lnTo>
                <a:lnTo>
                  <a:pt x="806" y="321"/>
                </a:lnTo>
                <a:lnTo>
                  <a:pt x="846" y="361"/>
                </a:lnTo>
                <a:lnTo>
                  <a:pt x="899" y="388"/>
                </a:lnTo>
                <a:lnTo>
                  <a:pt x="939" y="401"/>
                </a:lnTo>
                <a:lnTo>
                  <a:pt x="992" y="414"/>
                </a:lnTo>
                <a:lnTo>
                  <a:pt x="1150" y="427"/>
                </a:lnTo>
                <a:lnTo>
                  <a:pt x="1203" y="440"/>
                </a:lnTo>
                <a:lnTo>
                  <a:pt x="1243" y="467"/>
                </a:lnTo>
                <a:lnTo>
                  <a:pt x="1283" y="480"/>
                </a:lnTo>
                <a:lnTo>
                  <a:pt x="1322" y="493"/>
                </a:lnTo>
                <a:lnTo>
                  <a:pt x="1362" y="507"/>
                </a:lnTo>
                <a:lnTo>
                  <a:pt x="1415" y="533"/>
                </a:lnTo>
                <a:lnTo>
                  <a:pt x="1468" y="573"/>
                </a:lnTo>
                <a:lnTo>
                  <a:pt x="1521" y="586"/>
                </a:lnTo>
                <a:lnTo>
                  <a:pt x="1561" y="599"/>
                </a:lnTo>
                <a:lnTo>
                  <a:pt x="1613" y="599"/>
                </a:lnTo>
                <a:lnTo>
                  <a:pt x="1653" y="612"/>
                </a:lnTo>
                <a:lnTo>
                  <a:pt x="1693" y="639"/>
                </a:lnTo>
                <a:lnTo>
                  <a:pt x="1733" y="652"/>
                </a:lnTo>
                <a:lnTo>
                  <a:pt x="1772" y="679"/>
                </a:lnTo>
                <a:lnTo>
                  <a:pt x="1812" y="692"/>
                </a:lnTo>
                <a:lnTo>
                  <a:pt x="1838" y="732"/>
                </a:lnTo>
                <a:lnTo>
                  <a:pt x="1878" y="758"/>
                </a:lnTo>
                <a:lnTo>
                  <a:pt x="1918" y="784"/>
                </a:lnTo>
                <a:lnTo>
                  <a:pt x="1957" y="811"/>
                </a:lnTo>
                <a:lnTo>
                  <a:pt x="2024" y="851"/>
                </a:lnTo>
                <a:lnTo>
                  <a:pt x="2037" y="890"/>
                </a:lnTo>
                <a:lnTo>
                  <a:pt x="2063" y="930"/>
                </a:lnTo>
                <a:lnTo>
                  <a:pt x="2103" y="956"/>
                </a:lnTo>
                <a:lnTo>
                  <a:pt x="2143" y="984"/>
                </a:lnTo>
                <a:lnTo>
                  <a:pt x="2182" y="1024"/>
                </a:lnTo>
                <a:lnTo>
                  <a:pt x="2235" y="1050"/>
                </a:lnTo>
                <a:lnTo>
                  <a:pt x="2275" y="1076"/>
                </a:lnTo>
                <a:lnTo>
                  <a:pt x="2288" y="1129"/>
                </a:lnTo>
                <a:lnTo>
                  <a:pt x="2301" y="1169"/>
                </a:lnTo>
                <a:lnTo>
                  <a:pt x="2328" y="1209"/>
                </a:lnTo>
                <a:lnTo>
                  <a:pt x="2368" y="1222"/>
                </a:lnTo>
                <a:lnTo>
                  <a:pt x="2407" y="1235"/>
                </a:lnTo>
                <a:lnTo>
                  <a:pt x="2447" y="1248"/>
                </a:lnTo>
                <a:lnTo>
                  <a:pt x="2500" y="1262"/>
                </a:lnTo>
                <a:lnTo>
                  <a:pt x="2540" y="1315"/>
                </a:lnTo>
                <a:lnTo>
                  <a:pt x="2592" y="1341"/>
                </a:lnTo>
                <a:lnTo>
                  <a:pt x="2632" y="1368"/>
                </a:lnTo>
                <a:lnTo>
                  <a:pt x="2685" y="1381"/>
                </a:lnTo>
                <a:lnTo>
                  <a:pt x="2725" y="1394"/>
                </a:lnTo>
                <a:lnTo>
                  <a:pt x="2764" y="1420"/>
                </a:lnTo>
                <a:lnTo>
                  <a:pt x="2831" y="1447"/>
                </a:lnTo>
                <a:lnTo>
                  <a:pt x="2883" y="1460"/>
                </a:lnTo>
                <a:lnTo>
                  <a:pt x="2923" y="1473"/>
                </a:lnTo>
                <a:lnTo>
                  <a:pt x="2963" y="1487"/>
                </a:lnTo>
                <a:lnTo>
                  <a:pt x="3003" y="1500"/>
                </a:lnTo>
                <a:lnTo>
                  <a:pt x="3055" y="1500"/>
                </a:lnTo>
                <a:lnTo>
                  <a:pt x="3095" y="1513"/>
                </a:lnTo>
                <a:lnTo>
                  <a:pt x="3135" y="1513"/>
                </a:lnTo>
                <a:lnTo>
                  <a:pt x="3175" y="1526"/>
                </a:lnTo>
                <a:lnTo>
                  <a:pt x="3214" y="1539"/>
                </a:lnTo>
                <a:lnTo>
                  <a:pt x="3254" y="1553"/>
                </a:lnTo>
                <a:lnTo>
                  <a:pt x="3280" y="1592"/>
                </a:lnTo>
                <a:lnTo>
                  <a:pt x="3294" y="1632"/>
                </a:lnTo>
                <a:lnTo>
                  <a:pt x="3320" y="1672"/>
                </a:lnTo>
                <a:lnTo>
                  <a:pt x="3333" y="1711"/>
                </a:lnTo>
                <a:lnTo>
                  <a:pt x="3373" y="1751"/>
                </a:lnTo>
                <a:lnTo>
                  <a:pt x="3386" y="1791"/>
                </a:lnTo>
                <a:lnTo>
                  <a:pt x="3399" y="1831"/>
                </a:lnTo>
                <a:lnTo>
                  <a:pt x="3426" y="1870"/>
                </a:lnTo>
                <a:lnTo>
                  <a:pt x="3466" y="1897"/>
                </a:lnTo>
                <a:lnTo>
                  <a:pt x="3505" y="1936"/>
                </a:lnTo>
                <a:lnTo>
                  <a:pt x="3546" y="1950"/>
                </a:lnTo>
                <a:lnTo>
                  <a:pt x="3586" y="1950"/>
                </a:lnTo>
                <a:lnTo>
                  <a:pt x="3625" y="1923"/>
                </a:lnTo>
                <a:lnTo>
                  <a:pt x="3639" y="1883"/>
                </a:lnTo>
                <a:lnTo>
                  <a:pt x="3665" y="1844"/>
                </a:lnTo>
                <a:lnTo>
                  <a:pt x="3691" y="1804"/>
                </a:lnTo>
                <a:lnTo>
                  <a:pt x="3718" y="1764"/>
                </a:lnTo>
                <a:lnTo>
                  <a:pt x="3758" y="1738"/>
                </a:lnTo>
                <a:lnTo>
                  <a:pt x="3797" y="1698"/>
                </a:lnTo>
                <a:lnTo>
                  <a:pt x="3824" y="1659"/>
                </a:lnTo>
                <a:lnTo>
                  <a:pt x="3824" y="1619"/>
                </a:lnTo>
                <a:lnTo>
                  <a:pt x="3850" y="1579"/>
                </a:lnTo>
                <a:lnTo>
                  <a:pt x="3877" y="1539"/>
                </a:lnTo>
                <a:lnTo>
                  <a:pt x="3903" y="1500"/>
                </a:lnTo>
                <a:lnTo>
                  <a:pt x="3930" y="1460"/>
                </a:lnTo>
                <a:lnTo>
                  <a:pt x="3956" y="1420"/>
                </a:lnTo>
                <a:lnTo>
                  <a:pt x="3996" y="1368"/>
                </a:lnTo>
                <a:lnTo>
                  <a:pt x="4022" y="1328"/>
                </a:lnTo>
                <a:lnTo>
                  <a:pt x="4062" y="1288"/>
                </a:lnTo>
                <a:lnTo>
                  <a:pt x="4088" y="1248"/>
                </a:lnTo>
                <a:lnTo>
                  <a:pt x="4128" y="1222"/>
                </a:lnTo>
                <a:lnTo>
                  <a:pt x="4168" y="1182"/>
                </a:lnTo>
                <a:lnTo>
                  <a:pt x="4194" y="1143"/>
                </a:lnTo>
                <a:lnTo>
                  <a:pt x="4234" y="1116"/>
                </a:lnTo>
                <a:lnTo>
                  <a:pt x="4274" y="1076"/>
                </a:lnTo>
                <a:lnTo>
                  <a:pt x="4313" y="1050"/>
                </a:lnTo>
                <a:lnTo>
                  <a:pt x="4353" y="1024"/>
                </a:lnTo>
                <a:lnTo>
                  <a:pt x="4393" y="1010"/>
                </a:lnTo>
                <a:lnTo>
                  <a:pt x="4432" y="984"/>
                </a:lnTo>
                <a:lnTo>
                  <a:pt x="4472" y="970"/>
                </a:lnTo>
                <a:lnTo>
                  <a:pt x="4512" y="943"/>
                </a:lnTo>
                <a:lnTo>
                  <a:pt x="4551" y="943"/>
                </a:lnTo>
                <a:lnTo>
                  <a:pt x="4591" y="943"/>
                </a:lnTo>
                <a:lnTo>
                  <a:pt x="4631" y="943"/>
                </a:lnTo>
                <a:lnTo>
                  <a:pt x="4670" y="943"/>
                </a:lnTo>
                <a:lnTo>
                  <a:pt x="4710" y="930"/>
                </a:lnTo>
                <a:lnTo>
                  <a:pt x="4750" y="917"/>
                </a:lnTo>
                <a:lnTo>
                  <a:pt x="4803" y="903"/>
                </a:lnTo>
                <a:lnTo>
                  <a:pt x="4842" y="890"/>
                </a:lnTo>
                <a:lnTo>
                  <a:pt x="4882" y="877"/>
                </a:lnTo>
                <a:lnTo>
                  <a:pt x="4922" y="877"/>
                </a:lnTo>
                <a:lnTo>
                  <a:pt x="4961" y="864"/>
                </a:lnTo>
                <a:lnTo>
                  <a:pt x="5001" y="851"/>
                </a:lnTo>
                <a:lnTo>
                  <a:pt x="5041" y="837"/>
                </a:lnTo>
                <a:lnTo>
                  <a:pt x="5081" y="837"/>
                </a:lnTo>
                <a:lnTo>
                  <a:pt x="5147" y="837"/>
                </a:lnTo>
                <a:lnTo>
                  <a:pt x="5186" y="837"/>
                </a:lnTo>
                <a:lnTo>
                  <a:pt x="5226" y="824"/>
                </a:lnTo>
                <a:lnTo>
                  <a:pt x="5279" y="811"/>
                </a:lnTo>
                <a:lnTo>
                  <a:pt x="5319" y="811"/>
                </a:lnTo>
                <a:lnTo>
                  <a:pt x="5385" y="798"/>
                </a:lnTo>
                <a:lnTo>
                  <a:pt x="5424" y="784"/>
                </a:lnTo>
                <a:lnTo>
                  <a:pt x="5477" y="771"/>
                </a:lnTo>
                <a:lnTo>
                  <a:pt x="5530" y="771"/>
                </a:lnTo>
                <a:lnTo>
                  <a:pt x="5570" y="758"/>
                </a:lnTo>
                <a:lnTo>
                  <a:pt x="5610" y="758"/>
                </a:lnTo>
                <a:lnTo>
                  <a:pt x="5649" y="758"/>
                </a:lnTo>
                <a:lnTo>
                  <a:pt x="5689" y="745"/>
                </a:lnTo>
                <a:lnTo>
                  <a:pt x="5729" y="718"/>
                </a:lnTo>
                <a:lnTo>
                  <a:pt x="5755" y="679"/>
                </a:lnTo>
                <a:lnTo>
                  <a:pt x="5795" y="679"/>
                </a:lnTo>
                <a:lnTo>
                  <a:pt x="5848" y="679"/>
                </a:lnTo>
                <a:lnTo>
                  <a:pt x="5887" y="679"/>
                </a:lnTo>
                <a:lnTo>
                  <a:pt x="5940" y="665"/>
                </a:lnTo>
                <a:lnTo>
                  <a:pt x="5993" y="652"/>
                </a:lnTo>
                <a:lnTo>
                  <a:pt x="6046" y="639"/>
                </a:lnTo>
                <a:lnTo>
                  <a:pt x="6086" y="626"/>
                </a:lnTo>
                <a:lnTo>
                  <a:pt x="6152" y="599"/>
                </a:lnTo>
                <a:lnTo>
                  <a:pt x="6192" y="586"/>
                </a:lnTo>
                <a:lnTo>
                  <a:pt x="6231" y="573"/>
                </a:lnTo>
                <a:lnTo>
                  <a:pt x="6271" y="546"/>
                </a:lnTo>
                <a:lnTo>
                  <a:pt x="6311" y="533"/>
                </a:lnTo>
                <a:lnTo>
                  <a:pt x="6351" y="533"/>
                </a:lnTo>
                <a:lnTo>
                  <a:pt x="6390" y="533"/>
                </a:lnTo>
                <a:lnTo>
                  <a:pt x="6443" y="533"/>
                </a:lnTo>
                <a:lnTo>
                  <a:pt x="6496" y="533"/>
                </a:lnTo>
                <a:lnTo>
                  <a:pt x="6536" y="533"/>
                </a:lnTo>
                <a:lnTo>
                  <a:pt x="6575" y="533"/>
                </a:lnTo>
                <a:lnTo>
                  <a:pt x="6734" y="507"/>
                </a:lnTo>
                <a:lnTo>
                  <a:pt x="6774" y="507"/>
                </a:lnTo>
                <a:lnTo>
                  <a:pt x="6827" y="480"/>
                </a:lnTo>
                <a:lnTo>
                  <a:pt x="6906" y="454"/>
                </a:lnTo>
                <a:lnTo>
                  <a:pt x="6946" y="454"/>
                </a:lnTo>
                <a:lnTo>
                  <a:pt x="6986" y="440"/>
                </a:lnTo>
                <a:lnTo>
                  <a:pt x="6999" y="436"/>
                </a:lnTo>
                <a:lnTo>
                  <a:pt x="6986" y="427"/>
                </a:lnTo>
                <a:lnTo>
                  <a:pt x="7012" y="427"/>
                </a:lnTo>
                <a:lnTo>
                  <a:pt x="7012" y="1950"/>
                </a:lnTo>
                <a:lnTo>
                  <a:pt x="0" y="1950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9" name=""/>
          <p:cNvSpPr/>
          <p:nvPr/>
        </p:nvSpPr>
        <p:spPr>
          <a:xfrm>
            <a:off x="2789280" y="361332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0" name=""/>
          <p:cNvSpPr/>
          <p:nvPr/>
        </p:nvSpPr>
        <p:spPr>
          <a:xfrm>
            <a:off x="2789280" y="37656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1" name=""/>
          <p:cNvSpPr/>
          <p:nvPr/>
        </p:nvSpPr>
        <p:spPr>
          <a:xfrm>
            <a:off x="2789280" y="39178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"/>
          <p:cNvSpPr/>
          <p:nvPr/>
        </p:nvSpPr>
        <p:spPr>
          <a:xfrm>
            <a:off x="2789280" y="407052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3" name=""/>
          <p:cNvSpPr/>
          <p:nvPr/>
        </p:nvSpPr>
        <p:spPr>
          <a:xfrm>
            <a:off x="2789280" y="42228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4" name=""/>
          <p:cNvSpPr/>
          <p:nvPr/>
        </p:nvSpPr>
        <p:spPr>
          <a:xfrm>
            <a:off x="5248440" y="961920"/>
            <a:ext cx="0" cy="270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5" name=""/>
          <p:cNvSpPr/>
          <p:nvPr/>
        </p:nvSpPr>
        <p:spPr>
          <a:xfrm>
            <a:off x="4581360" y="961920"/>
            <a:ext cx="0" cy="283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6" name=""/>
          <p:cNvSpPr/>
          <p:nvPr/>
        </p:nvSpPr>
        <p:spPr>
          <a:xfrm>
            <a:off x="4238640" y="102888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7" name=""/>
          <p:cNvSpPr/>
          <p:nvPr/>
        </p:nvSpPr>
        <p:spPr>
          <a:xfrm>
            <a:off x="4143240" y="971640"/>
            <a:ext cx="0" cy="313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8" name=""/>
          <p:cNvSpPr/>
          <p:nvPr/>
        </p:nvSpPr>
        <p:spPr>
          <a:xfrm>
            <a:off x="4086360" y="990720"/>
            <a:ext cx="0" cy="31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9" name=""/>
          <p:cNvSpPr/>
          <p:nvPr/>
        </p:nvSpPr>
        <p:spPr>
          <a:xfrm>
            <a:off x="4038480" y="98100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0" name=""/>
          <p:cNvSpPr/>
          <p:nvPr/>
        </p:nvSpPr>
        <p:spPr>
          <a:xfrm>
            <a:off x="3809880" y="971640"/>
            <a:ext cx="0" cy="299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1" name=""/>
          <p:cNvSpPr/>
          <p:nvPr/>
        </p:nvSpPr>
        <p:spPr>
          <a:xfrm>
            <a:off x="3467160" y="981000"/>
            <a:ext cx="0" cy="2857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2" name=""/>
          <p:cNvSpPr txBox="1"/>
          <p:nvPr/>
        </p:nvSpPr>
        <p:spPr>
          <a:xfrm>
            <a:off x="5651640" y="349092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3" name=""/>
          <p:cNvSpPr txBox="1"/>
          <p:nvPr/>
        </p:nvSpPr>
        <p:spPr>
          <a:xfrm>
            <a:off x="5651640" y="3643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4" name=""/>
          <p:cNvSpPr txBox="1"/>
          <p:nvPr/>
        </p:nvSpPr>
        <p:spPr>
          <a:xfrm>
            <a:off x="5651640" y="37958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5" name=""/>
          <p:cNvSpPr txBox="1"/>
          <p:nvPr/>
        </p:nvSpPr>
        <p:spPr>
          <a:xfrm>
            <a:off x="5651640" y="39387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6" name=""/>
          <p:cNvSpPr txBox="1"/>
          <p:nvPr/>
        </p:nvSpPr>
        <p:spPr>
          <a:xfrm>
            <a:off x="5651640" y="40910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7" name=""/>
          <p:cNvSpPr txBox="1"/>
          <p:nvPr/>
        </p:nvSpPr>
        <p:spPr>
          <a:xfrm>
            <a:off x="3813120" y="5381640"/>
            <a:ext cx="1027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B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8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"/>
          <p:cNvSpPr/>
          <p:nvPr/>
        </p:nvSpPr>
        <p:spPr>
          <a:xfrm>
            <a:off x="3071880" y="3540240"/>
            <a:ext cx="2514960" cy="690840"/>
          </a:xfrm>
          <a:custGeom>
            <a:avLst/>
            <a:gdLst/>
            <a:ahLst/>
            <a:rect l="0" t="0" r="r" b="b"/>
            <a:pathLst>
              <a:path w="6986" h="1919">
                <a:moveTo>
                  <a:pt x="0" y="220"/>
                </a:moveTo>
                <a:lnTo>
                  <a:pt x="39" y="233"/>
                </a:lnTo>
                <a:lnTo>
                  <a:pt x="79" y="260"/>
                </a:lnTo>
                <a:lnTo>
                  <a:pt x="92" y="291"/>
                </a:lnTo>
                <a:lnTo>
                  <a:pt x="132" y="304"/>
                </a:lnTo>
                <a:lnTo>
                  <a:pt x="198" y="317"/>
                </a:lnTo>
                <a:lnTo>
                  <a:pt x="251" y="330"/>
                </a:lnTo>
                <a:lnTo>
                  <a:pt x="291" y="330"/>
                </a:lnTo>
                <a:lnTo>
                  <a:pt x="330" y="357"/>
                </a:lnTo>
                <a:lnTo>
                  <a:pt x="370" y="383"/>
                </a:lnTo>
                <a:lnTo>
                  <a:pt x="410" y="396"/>
                </a:lnTo>
                <a:lnTo>
                  <a:pt x="449" y="410"/>
                </a:lnTo>
                <a:lnTo>
                  <a:pt x="489" y="410"/>
                </a:lnTo>
                <a:lnTo>
                  <a:pt x="529" y="436"/>
                </a:lnTo>
                <a:lnTo>
                  <a:pt x="582" y="463"/>
                </a:lnTo>
                <a:lnTo>
                  <a:pt x="621" y="476"/>
                </a:lnTo>
                <a:lnTo>
                  <a:pt x="661" y="502"/>
                </a:lnTo>
                <a:lnTo>
                  <a:pt x="701" y="515"/>
                </a:lnTo>
                <a:lnTo>
                  <a:pt x="754" y="515"/>
                </a:lnTo>
                <a:lnTo>
                  <a:pt x="793" y="529"/>
                </a:lnTo>
                <a:lnTo>
                  <a:pt x="873" y="555"/>
                </a:lnTo>
                <a:lnTo>
                  <a:pt x="939" y="582"/>
                </a:lnTo>
                <a:lnTo>
                  <a:pt x="978" y="608"/>
                </a:lnTo>
                <a:lnTo>
                  <a:pt x="1031" y="621"/>
                </a:lnTo>
                <a:lnTo>
                  <a:pt x="1084" y="648"/>
                </a:lnTo>
                <a:lnTo>
                  <a:pt x="1111" y="687"/>
                </a:lnTo>
                <a:lnTo>
                  <a:pt x="1150" y="714"/>
                </a:lnTo>
                <a:lnTo>
                  <a:pt x="1203" y="740"/>
                </a:lnTo>
                <a:lnTo>
                  <a:pt x="1256" y="767"/>
                </a:lnTo>
                <a:lnTo>
                  <a:pt x="1296" y="780"/>
                </a:lnTo>
                <a:lnTo>
                  <a:pt x="1336" y="806"/>
                </a:lnTo>
                <a:lnTo>
                  <a:pt x="1375" y="833"/>
                </a:lnTo>
                <a:lnTo>
                  <a:pt x="1415" y="859"/>
                </a:lnTo>
                <a:lnTo>
                  <a:pt x="1455" y="873"/>
                </a:lnTo>
                <a:lnTo>
                  <a:pt x="1534" y="886"/>
                </a:lnTo>
                <a:lnTo>
                  <a:pt x="1587" y="912"/>
                </a:lnTo>
                <a:lnTo>
                  <a:pt x="1627" y="926"/>
                </a:lnTo>
                <a:lnTo>
                  <a:pt x="1666" y="939"/>
                </a:lnTo>
                <a:lnTo>
                  <a:pt x="1719" y="939"/>
                </a:lnTo>
                <a:lnTo>
                  <a:pt x="1759" y="939"/>
                </a:lnTo>
                <a:lnTo>
                  <a:pt x="1799" y="939"/>
                </a:lnTo>
                <a:lnTo>
                  <a:pt x="1838" y="966"/>
                </a:lnTo>
                <a:lnTo>
                  <a:pt x="1878" y="979"/>
                </a:lnTo>
                <a:lnTo>
                  <a:pt x="1918" y="1006"/>
                </a:lnTo>
                <a:lnTo>
                  <a:pt x="1957" y="1032"/>
                </a:lnTo>
                <a:lnTo>
                  <a:pt x="1997" y="1046"/>
                </a:lnTo>
                <a:lnTo>
                  <a:pt x="2037" y="1059"/>
                </a:lnTo>
                <a:lnTo>
                  <a:pt x="2090" y="1085"/>
                </a:lnTo>
                <a:lnTo>
                  <a:pt x="2156" y="1125"/>
                </a:lnTo>
                <a:lnTo>
                  <a:pt x="2196" y="1138"/>
                </a:lnTo>
                <a:lnTo>
                  <a:pt x="2235" y="1151"/>
                </a:lnTo>
                <a:lnTo>
                  <a:pt x="2275" y="1165"/>
                </a:lnTo>
                <a:lnTo>
                  <a:pt x="2328" y="1191"/>
                </a:lnTo>
                <a:lnTo>
                  <a:pt x="2381" y="1204"/>
                </a:lnTo>
                <a:lnTo>
                  <a:pt x="2460" y="1284"/>
                </a:lnTo>
                <a:lnTo>
                  <a:pt x="2500" y="1310"/>
                </a:lnTo>
                <a:lnTo>
                  <a:pt x="2540" y="1363"/>
                </a:lnTo>
                <a:lnTo>
                  <a:pt x="2592" y="1416"/>
                </a:lnTo>
                <a:lnTo>
                  <a:pt x="2619" y="1456"/>
                </a:lnTo>
                <a:lnTo>
                  <a:pt x="2650" y="1482"/>
                </a:lnTo>
                <a:lnTo>
                  <a:pt x="2685" y="1522"/>
                </a:lnTo>
                <a:lnTo>
                  <a:pt x="2689" y="1584"/>
                </a:lnTo>
                <a:lnTo>
                  <a:pt x="2703" y="1610"/>
                </a:lnTo>
                <a:lnTo>
                  <a:pt x="2725" y="1641"/>
                </a:lnTo>
                <a:lnTo>
                  <a:pt x="2738" y="1694"/>
                </a:lnTo>
                <a:lnTo>
                  <a:pt x="2756" y="1734"/>
                </a:lnTo>
                <a:lnTo>
                  <a:pt x="2778" y="1786"/>
                </a:lnTo>
                <a:lnTo>
                  <a:pt x="2791" y="1822"/>
                </a:lnTo>
                <a:lnTo>
                  <a:pt x="2791" y="1875"/>
                </a:lnTo>
                <a:lnTo>
                  <a:pt x="2831" y="1892"/>
                </a:lnTo>
                <a:lnTo>
                  <a:pt x="2817" y="1919"/>
                </a:lnTo>
                <a:lnTo>
                  <a:pt x="2831" y="1892"/>
                </a:lnTo>
                <a:lnTo>
                  <a:pt x="2844" y="1853"/>
                </a:lnTo>
                <a:lnTo>
                  <a:pt x="2857" y="1813"/>
                </a:lnTo>
                <a:lnTo>
                  <a:pt x="2883" y="1773"/>
                </a:lnTo>
                <a:lnTo>
                  <a:pt x="2883" y="1734"/>
                </a:lnTo>
                <a:lnTo>
                  <a:pt x="2897" y="1694"/>
                </a:lnTo>
                <a:lnTo>
                  <a:pt x="2910" y="1654"/>
                </a:lnTo>
                <a:lnTo>
                  <a:pt x="2950" y="1628"/>
                </a:lnTo>
                <a:lnTo>
                  <a:pt x="2963" y="1588"/>
                </a:lnTo>
                <a:lnTo>
                  <a:pt x="2989" y="1548"/>
                </a:lnTo>
                <a:lnTo>
                  <a:pt x="3003" y="1509"/>
                </a:lnTo>
                <a:lnTo>
                  <a:pt x="3016" y="1469"/>
                </a:lnTo>
                <a:lnTo>
                  <a:pt x="3029" y="1429"/>
                </a:lnTo>
                <a:lnTo>
                  <a:pt x="3069" y="1390"/>
                </a:lnTo>
                <a:lnTo>
                  <a:pt x="3095" y="1350"/>
                </a:lnTo>
                <a:lnTo>
                  <a:pt x="3122" y="1310"/>
                </a:lnTo>
                <a:lnTo>
                  <a:pt x="3148" y="1257"/>
                </a:lnTo>
                <a:lnTo>
                  <a:pt x="3175" y="1218"/>
                </a:lnTo>
                <a:lnTo>
                  <a:pt x="3188" y="1178"/>
                </a:lnTo>
                <a:lnTo>
                  <a:pt x="3201" y="1138"/>
                </a:lnTo>
                <a:lnTo>
                  <a:pt x="3227" y="1099"/>
                </a:lnTo>
                <a:lnTo>
                  <a:pt x="3280" y="1059"/>
                </a:lnTo>
                <a:lnTo>
                  <a:pt x="3320" y="1032"/>
                </a:lnTo>
                <a:lnTo>
                  <a:pt x="3360" y="1019"/>
                </a:lnTo>
                <a:lnTo>
                  <a:pt x="3399" y="1006"/>
                </a:lnTo>
                <a:lnTo>
                  <a:pt x="3559" y="979"/>
                </a:lnTo>
                <a:lnTo>
                  <a:pt x="3599" y="966"/>
                </a:lnTo>
                <a:lnTo>
                  <a:pt x="3639" y="952"/>
                </a:lnTo>
                <a:lnTo>
                  <a:pt x="3678" y="939"/>
                </a:lnTo>
                <a:lnTo>
                  <a:pt x="3718" y="939"/>
                </a:lnTo>
                <a:lnTo>
                  <a:pt x="3758" y="912"/>
                </a:lnTo>
                <a:lnTo>
                  <a:pt x="3811" y="886"/>
                </a:lnTo>
                <a:lnTo>
                  <a:pt x="3850" y="859"/>
                </a:lnTo>
                <a:lnTo>
                  <a:pt x="3890" y="833"/>
                </a:lnTo>
                <a:lnTo>
                  <a:pt x="3930" y="806"/>
                </a:lnTo>
                <a:lnTo>
                  <a:pt x="3969" y="780"/>
                </a:lnTo>
                <a:lnTo>
                  <a:pt x="4022" y="754"/>
                </a:lnTo>
                <a:lnTo>
                  <a:pt x="4075" y="727"/>
                </a:lnTo>
                <a:lnTo>
                  <a:pt x="4115" y="714"/>
                </a:lnTo>
                <a:lnTo>
                  <a:pt x="4154" y="701"/>
                </a:lnTo>
                <a:lnTo>
                  <a:pt x="4194" y="687"/>
                </a:lnTo>
                <a:lnTo>
                  <a:pt x="4234" y="674"/>
                </a:lnTo>
                <a:lnTo>
                  <a:pt x="4366" y="648"/>
                </a:lnTo>
                <a:lnTo>
                  <a:pt x="4406" y="621"/>
                </a:lnTo>
                <a:lnTo>
                  <a:pt x="4446" y="608"/>
                </a:lnTo>
                <a:lnTo>
                  <a:pt x="4498" y="568"/>
                </a:lnTo>
                <a:lnTo>
                  <a:pt x="4538" y="542"/>
                </a:lnTo>
                <a:lnTo>
                  <a:pt x="4591" y="515"/>
                </a:lnTo>
                <a:lnTo>
                  <a:pt x="4657" y="489"/>
                </a:lnTo>
                <a:lnTo>
                  <a:pt x="4723" y="476"/>
                </a:lnTo>
                <a:lnTo>
                  <a:pt x="4763" y="463"/>
                </a:lnTo>
                <a:lnTo>
                  <a:pt x="4803" y="463"/>
                </a:lnTo>
                <a:lnTo>
                  <a:pt x="4842" y="463"/>
                </a:lnTo>
                <a:lnTo>
                  <a:pt x="4895" y="449"/>
                </a:lnTo>
                <a:lnTo>
                  <a:pt x="4948" y="436"/>
                </a:lnTo>
                <a:lnTo>
                  <a:pt x="5001" y="436"/>
                </a:lnTo>
                <a:lnTo>
                  <a:pt x="5041" y="436"/>
                </a:lnTo>
                <a:lnTo>
                  <a:pt x="5186" y="436"/>
                </a:lnTo>
                <a:lnTo>
                  <a:pt x="5226" y="423"/>
                </a:lnTo>
                <a:lnTo>
                  <a:pt x="5266" y="423"/>
                </a:lnTo>
                <a:lnTo>
                  <a:pt x="5332" y="410"/>
                </a:lnTo>
                <a:lnTo>
                  <a:pt x="5372" y="396"/>
                </a:lnTo>
                <a:lnTo>
                  <a:pt x="5451" y="370"/>
                </a:lnTo>
                <a:lnTo>
                  <a:pt x="5504" y="370"/>
                </a:lnTo>
                <a:lnTo>
                  <a:pt x="5557" y="357"/>
                </a:lnTo>
                <a:lnTo>
                  <a:pt x="5610" y="357"/>
                </a:lnTo>
                <a:lnTo>
                  <a:pt x="5689" y="357"/>
                </a:lnTo>
                <a:lnTo>
                  <a:pt x="5729" y="357"/>
                </a:lnTo>
                <a:lnTo>
                  <a:pt x="5768" y="343"/>
                </a:lnTo>
                <a:lnTo>
                  <a:pt x="5808" y="330"/>
                </a:lnTo>
                <a:lnTo>
                  <a:pt x="5848" y="317"/>
                </a:lnTo>
                <a:lnTo>
                  <a:pt x="5901" y="291"/>
                </a:lnTo>
                <a:lnTo>
                  <a:pt x="5940" y="277"/>
                </a:lnTo>
                <a:lnTo>
                  <a:pt x="5980" y="264"/>
                </a:lnTo>
                <a:lnTo>
                  <a:pt x="6020" y="264"/>
                </a:lnTo>
                <a:lnTo>
                  <a:pt x="6059" y="251"/>
                </a:lnTo>
                <a:lnTo>
                  <a:pt x="6099" y="238"/>
                </a:lnTo>
                <a:lnTo>
                  <a:pt x="6139" y="224"/>
                </a:lnTo>
                <a:lnTo>
                  <a:pt x="6192" y="198"/>
                </a:lnTo>
                <a:lnTo>
                  <a:pt x="6231" y="171"/>
                </a:lnTo>
                <a:lnTo>
                  <a:pt x="6271" y="158"/>
                </a:lnTo>
                <a:lnTo>
                  <a:pt x="6337" y="145"/>
                </a:lnTo>
                <a:lnTo>
                  <a:pt x="6377" y="132"/>
                </a:lnTo>
                <a:lnTo>
                  <a:pt x="6430" y="119"/>
                </a:lnTo>
                <a:lnTo>
                  <a:pt x="6483" y="119"/>
                </a:lnTo>
                <a:lnTo>
                  <a:pt x="6522" y="119"/>
                </a:lnTo>
                <a:lnTo>
                  <a:pt x="6575" y="105"/>
                </a:lnTo>
                <a:lnTo>
                  <a:pt x="6615" y="105"/>
                </a:lnTo>
                <a:lnTo>
                  <a:pt x="6655" y="92"/>
                </a:lnTo>
                <a:lnTo>
                  <a:pt x="6694" y="92"/>
                </a:lnTo>
                <a:lnTo>
                  <a:pt x="6747" y="66"/>
                </a:lnTo>
                <a:lnTo>
                  <a:pt x="6787" y="66"/>
                </a:lnTo>
                <a:lnTo>
                  <a:pt x="6827" y="52"/>
                </a:lnTo>
                <a:lnTo>
                  <a:pt x="6866" y="39"/>
                </a:lnTo>
                <a:lnTo>
                  <a:pt x="6906" y="26"/>
                </a:lnTo>
                <a:lnTo>
                  <a:pt x="6946" y="13"/>
                </a:lnTo>
                <a:lnTo>
                  <a:pt x="6986" y="0"/>
                </a:lnTo>
                <a:lnTo>
                  <a:pt x="6986" y="13"/>
                </a:lnTo>
                <a:lnTo>
                  <a:pt x="6986" y="1919"/>
                </a:lnTo>
                <a:lnTo>
                  <a:pt x="0" y="1919"/>
                </a:lnTo>
                <a:lnTo>
                  <a:pt x="0" y="22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0" name=""/>
          <p:cNvSpPr/>
          <p:nvPr/>
        </p:nvSpPr>
        <p:spPr>
          <a:xfrm>
            <a:off x="3071880" y="77760"/>
            <a:ext cx="2514600" cy="3200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"/>
          <p:cNvSpPr/>
          <p:nvPr/>
        </p:nvSpPr>
        <p:spPr>
          <a:xfrm>
            <a:off x="3075120" y="82440"/>
            <a:ext cx="390960" cy="340200"/>
          </a:xfrm>
          <a:custGeom>
            <a:avLst/>
            <a:gdLst/>
            <a:ahLst/>
            <a:rect l="0" t="0" r="r" b="b"/>
            <a:pathLst>
              <a:path fill="none" w="1086" h="945">
                <a:moveTo>
                  <a:pt x="1086" y="0"/>
                </a:moveTo>
                <a:lnTo>
                  <a:pt x="1086" y="70"/>
                </a:lnTo>
                <a:lnTo>
                  <a:pt x="1064" y="140"/>
                </a:lnTo>
                <a:lnTo>
                  <a:pt x="1018" y="233"/>
                </a:lnTo>
                <a:lnTo>
                  <a:pt x="971" y="348"/>
                </a:lnTo>
                <a:lnTo>
                  <a:pt x="947" y="440"/>
                </a:lnTo>
                <a:lnTo>
                  <a:pt x="876" y="489"/>
                </a:lnTo>
                <a:lnTo>
                  <a:pt x="783" y="489"/>
                </a:lnTo>
                <a:lnTo>
                  <a:pt x="690" y="557"/>
                </a:lnTo>
                <a:lnTo>
                  <a:pt x="597" y="581"/>
                </a:lnTo>
                <a:lnTo>
                  <a:pt x="504" y="649"/>
                </a:lnTo>
                <a:lnTo>
                  <a:pt x="458" y="721"/>
                </a:lnTo>
                <a:lnTo>
                  <a:pt x="387" y="743"/>
                </a:lnTo>
                <a:lnTo>
                  <a:pt x="294" y="767"/>
                </a:lnTo>
                <a:lnTo>
                  <a:pt x="201" y="835"/>
                </a:lnTo>
                <a:lnTo>
                  <a:pt x="132" y="906"/>
                </a:lnTo>
                <a:lnTo>
                  <a:pt x="61" y="930"/>
                </a:lnTo>
                <a:lnTo>
                  <a:pt x="0" y="9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"/>
          <p:cNvSpPr/>
          <p:nvPr/>
        </p:nvSpPr>
        <p:spPr>
          <a:xfrm>
            <a:off x="3071880" y="82440"/>
            <a:ext cx="568800" cy="2595960"/>
          </a:xfrm>
          <a:custGeom>
            <a:avLst/>
            <a:gdLst/>
            <a:ahLst/>
            <a:rect l="0" t="0" r="r" b="b"/>
            <a:pathLst>
              <a:path fill="none" w="1580" h="7211">
                <a:moveTo>
                  <a:pt x="1571" y="0"/>
                </a:moveTo>
                <a:lnTo>
                  <a:pt x="1580" y="46"/>
                </a:lnTo>
                <a:lnTo>
                  <a:pt x="1558" y="138"/>
                </a:lnTo>
                <a:lnTo>
                  <a:pt x="1558" y="231"/>
                </a:lnTo>
                <a:lnTo>
                  <a:pt x="1558" y="324"/>
                </a:lnTo>
                <a:lnTo>
                  <a:pt x="1488" y="416"/>
                </a:lnTo>
                <a:lnTo>
                  <a:pt x="1441" y="487"/>
                </a:lnTo>
                <a:lnTo>
                  <a:pt x="1371" y="555"/>
                </a:lnTo>
                <a:lnTo>
                  <a:pt x="1278" y="648"/>
                </a:lnTo>
                <a:lnTo>
                  <a:pt x="1256" y="718"/>
                </a:lnTo>
                <a:lnTo>
                  <a:pt x="1210" y="811"/>
                </a:lnTo>
                <a:lnTo>
                  <a:pt x="1162" y="903"/>
                </a:lnTo>
                <a:lnTo>
                  <a:pt x="1116" y="996"/>
                </a:lnTo>
                <a:lnTo>
                  <a:pt x="1070" y="1067"/>
                </a:lnTo>
                <a:lnTo>
                  <a:pt x="999" y="1135"/>
                </a:lnTo>
                <a:lnTo>
                  <a:pt x="977" y="1206"/>
                </a:lnTo>
                <a:lnTo>
                  <a:pt x="907" y="1252"/>
                </a:lnTo>
                <a:lnTo>
                  <a:pt x="860" y="1344"/>
                </a:lnTo>
                <a:lnTo>
                  <a:pt x="790" y="1415"/>
                </a:lnTo>
                <a:lnTo>
                  <a:pt x="697" y="1483"/>
                </a:lnTo>
                <a:lnTo>
                  <a:pt x="651" y="1554"/>
                </a:lnTo>
                <a:lnTo>
                  <a:pt x="605" y="1647"/>
                </a:lnTo>
                <a:lnTo>
                  <a:pt x="536" y="1739"/>
                </a:lnTo>
                <a:lnTo>
                  <a:pt x="488" y="1811"/>
                </a:lnTo>
                <a:lnTo>
                  <a:pt x="394" y="1879"/>
                </a:lnTo>
                <a:lnTo>
                  <a:pt x="326" y="1950"/>
                </a:lnTo>
                <a:lnTo>
                  <a:pt x="255" y="1972"/>
                </a:lnTo>
                <a:lnTo>
                  <a:pt x="187" y="2042"/>
                </a:lnTo>
                <a:lnTo>
                  <a:pt x="116" y="2089"/>
                </a:lnTo>
                <a:lnTo>
                  <a:pt x="70" y="2181"/>
                </a:lnTo>
                <a:lnTo>
                  <a:pt x="24" y="2252"/>
                </a:lnTo>
                <a:lnTo>
                  <a:pt x="0" y="2344"/>
                </a:lnTo>
                <a:lnTo>
                  <a:pt x="46" y="2437"/>
                </a:lnTo>
                <a:lnTo>
                  <a:pt x="94" y="2529"/>
                </a:lnTo>
                <a:lnTo>
                  <a:pt x="116" y="2644"/>
                </a:lnTo>
                <a:lnTo>
                  <a:pt x="141" y="2715"/>
                </a:lnTo>
                <a:lnTo>
                  <a:pt x="163" y="2807"/>
                </a:lnTo>
                <a:lnTo>
                  <a:pt x="209" y="2878"/>
                </a:lnTo>
                <a:lnTo>
                  <a:pt x="255" y="2992"/>
                </a:lnTo>
                <a:lnTo>
                  <a:pt x="326" y="3063"/>
                </a:lnTo>
                <a:lnTo>
                  <a:pt x="372" y="3134"/>
                </a:lnTo>
                <a:lnTo>
                  <a:pt x="419" y="3226"/>
                </a:lnTo>
                <a:lnTo>
                  <a:pt x="466" y="3319"/>
                </a:lnTo>
                <a:lnTo>
                  <a:pt x="536" y="3411"/>
                </a:lnTo>
                <a:lnTo>
                  <a:pt x="583" y="3504"/>
                </a:lnTo>
                <a:lnTo>
                  <a:pt x="605" y="3575"/>
                </a:lnTo>
                <a:lnTo>
                  <a:pt x="651" y="3667"/>
                </a:lnTo>
                <a:lnTo>
                  <a:pt x="651" y="3760"/>
                </a:lnTo>
                <a:lnTo>
                  <a:pt x="651" y="3852"/>
                </a:lnTo>
                <a:lnTo>
                  <a:pt x="651" y="3967"/>
                </a:lnTo>
                <a:lnTo>
                  <a:pt x="675" y="4062"/>
                </a:lnTo>
                <a:lnTo>
                  <a:pt x="697" y="4154"/>
                </a:lnTo>
                <a:lnTo>
                  <a:pt x="768" y="4247"/>
                </a:lnTo>
                <a:lnTo>
                  <a:pt x="836" y="4362"/>
                </a:lnTo>
                <a:lnTo>
                  <a:pt x="882" y="4432"/>
                </a:lnTo>
                <a:lnTo>
                  <a:pt x="907" y="4503"/>
                </a:lnTo>
                <a:lnTo>
                  <a:pt x="977" y="4617"/>
                </a:lnTo>
                <a:lnTo>
                  <a:pt x="1024" y="4688"/>
                </a:lnTo>
                <a:lnTo>
                  <a:pt x="1116" y="4781"/>
                </a:lnTo>
                <a:lnTo>
                  <a:pt x="1162" y="4873"/>
                </a:lnTo>
                <a:lnTo>
                  <a:pt x="1210" y="4944"/>
                </a:lnTo>
                <a:lnTo>
                  <a:pt x="1232" y="5036"/>
                </a:lnTo>
                <a:lnTo>
                  <a:pt x="1278" y="5129"/>
                </a:lnTo>
                <a:lnTo>
                  <a:pt x="1302" y="5222"/>
                </a:lnTo>
                <a:lnTo>
                  <a:pt x="1302" y="5314"/>
                </a:lnTo>
                <a:lnTo>
                  <a:pt x="1302" y="5385"/>
                </a:lnTo>
                <a:lnTo>
                  <a:pt x="1324" y="5547"/>
                </a:lnTo>
                <a:lnTo>
                  <a:pt x="1349" y="5617"/>
                </a:lnTo>
                <a:lnTo>
                  <a:pt x="1349" y="5732"/>
                </a:lnTo>
                <a:lnTo>
                  <a:pt x="1324" y="5849"/>
                </a:lnTo>
                <a:lnTo>
                  <a:pt x="1324" y="5919"/>
                </a:lnTo>
                <a:lnTo>
                  <a:pt x="1302" y="6012"/>
                </a:lnTo>
                <a:lnTo>
                  <a:pt x="1232" y="6080"/>
                </a:lnTo>
                <a:lnTo>
                  <a:pt x="1210" y="6151"/>
                </a:lnTo>
                <a:lnTo>
                  <a:pt x="1138" y="6221"/>
                </a:lnTo>
                <a:lnTo>
                  <a:pt x="1070" y="6314"/>
                </a:lnTo>
                <a:lnTo>
                  <a:pt x="999" y="6382"/>
                </a:lnTo>
                <a:lnTo>
                  <a:pt x="953" y="6453"/>
                </a:lnTo>
                <a:lnTo>
                  <a:pt x="882" y="6568"/>
                </a:lnTo>
                <a:lnTo>
                  <a:pt x="836" y="6638"/>
                </a:lnTo>
                <a:lnTo>
                  <a:pt x="814" y="6709"/>
                </a:lnTo>
                <a:lnTo>
                  <a:pt x="814" y="6801"/>
                </a:lnTo>
                <a:lnTo>
                  <a:pt x="790" y="6894"/>
                </a:lnTo>
                <a:lnTo>
                  <a:pt x="697" y="6940"/>
                </a:lnTo>
                <a:lnTo>
                  <a:pt x="605" y="7009"/>
                </a:lnTo>
                <a:lnTo>
                  <a:pt x="536" y="7079"/>
                </a:lnTo>
                <a:lnTo>
                  <a:pt x="466" y="7079"/>
                </a:lnTo>
                <a:lnTo>
                  <a:pt x="372" y="7079"/>
                </a:lnTo>
                <a:lnTo>
                  <a:pt x="302" y="7079"/>
                </a:lnTo>
                <a:lnTo>
                  <a:pt x="209" y="7125"/>
                </a:lnTo>
                <a:lnTo>
                  <a:pt x="141" y="7196"/>
                </a:lnTo>
                <a:lnTo>
                  <a:pt x="6" y="721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"/>
          <p:cNvSpPr/>
          <p:nvPr/>
        </p:nvSpPr>
        <p:spPr>
          <a:xfrm>
            <a:off x="3081240" y="82440"/>
            <a:ext cx="776520" cy="2916720"/>
          </a:xfrm>
          <a:custGeom>
            <a:avLst/>
            <a:gdLst/>
            <a:ahLst/>
            <a:rect l="0" t="0" r="r" b="b"/>
            <a:pathLst>
              <a:path fill="none" w="2157" h="8102">
                <a:moveTo>
                  <a:pt x="2157" y="0"/>
                </a:moveTo>
                <a:lnTo>
                  <a:pt x="2157" y="94"/>
                </a:lnTo>
                <a:lnTo>
                  <a:pt x="2157" y="187"/>
                </a:lnTo>
                <a:lnTo>
                  <a:pt x="2157" y="302"/>
                </a:lnTo>
                <a:lnTo>
                  <a:pt x="2133" y="372"/>
                </a:lnTo>
                <a:lnTo>
                  <a:pt x="2086" y="465"/>
                </a:lnTo>
                <a:lnTo>
                  <a:pt x="2040" y="535"/>
                </a:lnTo>
                <a:lnTo>
                  <a:pt x="1972" y="628"/>
                </a:lnTo>
                <a:lnTo>
                  <a:pt x="1926" y="720"/>
                </a:lnTo>
                <a:lnTo>
                  <a:pt x="1879" y="813"/>
                </a:lnTo>
                <a:lnTo>
                  <a:pt x="1809" y="906"/>
                </a:lnTo>
                <a:lnTo>
                  <a:pt x="1785" y="976"/>
                </a:lnTo>
                <a:lnTo>
                  <a:pt x="1716" y="1069"/>
                </a:lnTo>
                <a:lnTo>
                  <a:pt x="1646" y="1137"/>
                </a:lnTo>
                <a:lnTo>
                  <a:pt x="1600" y="1208"/>
                </a:lnTo>
                <a:lnTo>
                  <a:pt x="1507" y="1300"/>
                </a:lnTo>
                <a:lnTo>
                  <a:pt x="1461" y="1371"/>
                </a:lnTo>
                <a:lnTo>
                  <a:pt x="1415" y="1464"/>
                </a:lnTo>
                <a:lnTo>
                  <a:pt x="1368" y="1556"/>
                </a:lnTo>
                <a:lnTo>
                  <a:pt x="1344" y="1649"/>
                </a:lnTo>
                <a:lnTo>
                  <a:pt x="1276" y="1741"/>
                </a:lnTo>
                <a:lnTo>
                  <a:pt x="1252" y="1812"/>
                </a:lnTo>
                <a:lnTo>
                  <a:pt x="1183" y="1905"/>
                </a:lnTo>
                <a:lnTo>
                  <a:pt x="1137" y="1997"/>
                </a:lnTo>
                <a:lnTo>
                  <a:pt x="1091" y="2113"/>
                </a:lnTo>
                <a:lnTo>
                  <a:pt x="1091" y="2183"/>
                </a:lnTo>
                <a:lnTo>
                  <a:pt x="1091" y="2254"/>
                </a:lnTo>
                <a:lnTo>
                  <a:pt x="1091" y="2346"/>
                </a:lnTo>
                <a:lnTo>
                  <a:pt x="1044" y="2439"/>
                </a:lnTo>
                <a:lnTo>
                  <a:pt x="1019" y="2554"/>
                </a:lnTo>
                <a:lnTo>
                  <a:pt x="1066" y="2646"/>
                </a:lnTo>
                <a:lnTo>
                  <a:pt x="1113" y="2741"/>
                </a:lnTo>
                <a:lnTo>
                  <a:pt x="1159" y="2834"/>
                </a:lnTo>
                <a:lnTo>
                  <a:pt x="1183" y="2926"/>
                </a:lnTo>
                <a:lnTo>
                  <a:pt x="1252" y="3019"/>
                </a:lnTo>
                <a:lnTo>
                  <a:pt x="1298" y="3136"/>
                </a:lnTo>
                <a:lnTo>
                  <a:pt x="1368" y="3228"/>
                </a:lnTo>
                <a:lnTo>
                  <a:pt x="1439" y="3297"/>
                </a:lnTo>
                <a:lnTo>
                  <a:pt x="1485" y="3389"/>
                </a:lnTo>
                <a:lnTo>
                  <a:pt x="1531" y="3460"/>
                </a:lnTo>
                <a:lnTo>
                  <a:pt x="1578" y="3577"/>
                </a:lnTo>
                <a:lnTo>
                  <a:pt x="1646" y="3716"/>
                </a:lnTo>
                <a:lnTo>
                  <a:pt x="1716" y="3808"/>
                </a:lnTo>
                <a:lnTo>
                  <a:pt x="1738" y="3901"/>
                </a:lnTo>
                <a:lnTo>
                  <a:pt x="1763" y="3994"/>
                </a:lnTo>
                <a:lnTo>
                  <a:pt x="1763" y="4064"/>
                </a:lnTo>
                <a:lnTo>
                  <a:pt x="1785" y="4157"/>
                </a:lnTo>
                <a:lnTo>
                  <a:pt x="1833" y="4249"/>
                </a:lnTo>
                <a:lnTo>
                  <a:pt x="1926" y="4364"/>
                </a:lnTo>
                <a:lnTo>
                  <a:pt x="1926" y="4434"/>
                </a:lnTo>
                <a:lnTo>
                  <a:pt x="1948" y="4505"/>
                </a:lnTo>
                <a:lnTo>
                  <a:pt x="1972" y="4598"/>
                </a:lnTo>
                <a:lnTo>
                  <a:pt x="1972" y="4690"/>
                </a:lnTo>
                <a:lnTo>
                  <a:pt x="1948" y="4783"/>
                </a:lnTo>
                <a:lnTo>
                  <a:pt x="1926" y="4875"/>
                </a:lnTo>
                <a:lnTo>
                  <a:pt x="1926" y="4946"/>
                </a:lnTo>
                <a:lnTo>
                  <a:pt x="1901" y="5039"/>
                </a:lnTo>
                <a:lnTo>
                  <a:pt x="1879" y="5153"/>
                </a:lnTo>
                <a:lnTo>
                  <a:pt x="1901" y="5246"/>
                </a:lnTo>
                <a:lnTo>
                  <a:pt x="1901" y="5316"/>
                </a:lnTo>
                <a:lnTo>
                  <a:pt x="1901" y="5387"/>
                </a:lnTo>
                <a:lnTo>
                  <a:pt x="1901" y="5480"/>
                </a:lnTo>
                <a:lnTo>
                  <a:pt x="1879" y="5572"/>
                </a:lnTo>
                <a:lnTo>
                  <a:pt x="1855" y="5665"/>
                </a:lnTo>
                <a:lnTo>
                  <a:pt x="1833" y="5757"/>
                </a:lnTo>
                <a:lnTo>
                  <a:pt x="1809" y="5850"/>
                </a:lnTo>
                <a:lnTo>
                  <a:pt x="1785" y="5943"/>
                </a:lnTo>
                <a:lnTo>
                  <a:pt x="1763" y="6013"/>
                </a:lnTo>
                <a:lnTo>
                  <a:pt x="1738" y="6107"/>
                </a:lnTo>
                <a:lnTo>
                  <a:pt x="1716" y="6199"/>
                </a:lnTo>
                <a:lnTo>
                  <a:pt x="1692" y="6292"/>
                </a:lnTo>
                <a:lnTo>
                  <a:pt x="1692" y="6363"/>
                </a:lnTo>
                <a:lnTo>
                  <a:pt x="1624" y="6523"/>
                </a:lnTo>
                <a:lnTo>
                  <a:pt x="1600" y="6594"/>
                </a:lnTo>
                <a:lnTo>
                  <a:pt x="1553" y="6711"/>
                </a:lnTo>
                <a:lnTo>
                  <a:pt x="1507" y="6803"/>
                </a:lnTo>
                <a:lnTo>
                  <a:pt x="1461" y="6918"/>
                </a:lnTo>
                <a:lnTo>
                  <a:pt x="1393" y="7035"/>
                </a:lnTo>
                <a:lnTo>
                  <a:pt x="1322" y="7267"/>
                </a:lnTo>
                <a:lnTo>
                  <a:pt x="1298" y="7337"/>
                </a:lnTo>
                <a:lnTo>
                  <a:pt x="1183" y="7405"/>
                </a:lnTo>
                <a:lnTo>
                  <a:pt x="1113" y="7452"/>
                </a:lnTo>
                <a:lnTo>
                  <a:pt x="1019" y="7522"/>
                </a:lnTo>
                <a:lnTo>
                  <a:pt x="788" y="7593"/>
                </a:lnTo>
                <a:lnTo>
                  <a:pt x="696" y="7639"/>
                </a:lnTo>
                <a:lnTo>
                  <a:pt x="603" y="7661"/>
                </a:lnTo>
                <a:lnTo>
                  <a:pt x="462" y="7707"/>
                </a:lnTo>
                <a:lnTo>
                  <a:pt x="370" y="7754"/>
                </a:lnTo>
                <a:lnTo>
                  <a:pt x="277" y="7824"/>
                </a:lnTo>
                <a:lnTo>
                  <a:pt x="209" y="7917"/>
                </a:lnTo>
                <a:lnTo>
                  <a:pt x="138" y="7963"/>
                </a:lnTo>
                <a:lnTo>
                  <a:pt x="46" y="8010"/>
                </a:lnTo>
                <a:lnTo>
                  <a:pt x="0" y="81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4" name=""/>
          <p:cNvSpPr/>
          <p:nvPr/>
        </p:nvSpPr>
        <p:spPr>
          <a:xfrm>
            <a:off x="3075120" y="358920"/>
            <a:ext cx="1010160" cy="2832480"/>
          </a:xfrm>
          <a:custGeom>
            <a:avLst/>
            <a:gdLst/>
            <a:ahLst/>
            <a:rect l="0" t="0" r="r" b="b"/>
            <a:pathLst>
              <a:path fill="none" w="2806" h="7868">
                <a:moveTo>
                  <a:pt x="2806" y="0"/>
                </a:moveTo>
                <a:lnTo>
                  <a:pt x="2729" y="141"/>
                </a:lnTo>
                <a:lnTo>
                  <a:pt x="2689" y="185"/>
                </a:lnTo>
                <a:lnTo>
                  <a:pt x="2663" y="218"/>
                </a:lnTo>
                <a:lnTo>
                  <a:pt x="2647" y="271"/>
                </a:lnTo>
                <a:lnTo>
                  <a:pt x="2636" y="313"/>
                </a:lnTo>
                <a:lnTo>
                  <a:pt x="2614" y="352"/>
                </a:lnTo>
                <a:lnTo>
                  <a:pt x="2601" y="399"/>
                </a:lnTo>
                <a:lnTo>
                  <a:pt x="2581" y="432"/>
                </a:lnTo>
                <a:lnTo>
                  <a:pt x="2555" y="463"/>
                </a:lnTo>
                <a:lnTo>
                  <a:pt x="2495" y="515"/>
                </a:lnTo>
                <a:lnTo>
                  <a:pt x="2431" y="582"/>
                </a:lnTo>
                <a:lnTo>
                  <a:pt x="2398" y="637"/>
                </a:lnTo>
                <a:lnTo>
                  <a:pt x="2389" y="674"/>
                </a:lnTo>
                <a:lnTo>
                  <a:pt x="2363" y="754"/>
                </a:lnTo>
                <a:lnTo>
                  <a:pt x="2296" y="820"/>
                </a:lnTo>
                <a:lnTo>
                  <a:pt x="2230" y="926"/>
                </a:lnTo>
                <a:lnTo>
                  <a:pt x="2204" y="952"/>
                </a:lnTo>
                <a:lnTo>
                  <a:pt x="2177" y="1031"/>
                </a:lnTo>
                <a:lnTo>
                  <a:pt x="2151" y="1084"/>
                </a:lnTo>
                <a:lnTo>
                  <a:pt x="2097" y="1150"/>
                </a:lnTo>
                <a:lnTo>
                  <a:pt x="2097" y="1243"/>
                </a:lnTo>
                <a:lnTo>
                  <a:pt x="2057" y="1389"/>
                </a:lnTo>
                <a:lnTo>
                  <a:pt x="2057" y="1375"/>
                </a:lnTo>
                <a:lnTo>
                  <a:pt x="2031" y="1481"/>
                </a:lnTo>
                <a:lnTo>
                  <a:pt x="1991" y="1413"/>
                </a:lnTo>
                <a:lnTo>
                  <a:pt x="2057" y="1666"/>
                </a:lnTo>
                <a:lnTo>
                  <a:pt x="2111" y="1746"/>
                </a:lnTo>
                <a:lnTo>
                  <a:pt x="2070" y="1799"/>
                </a:lnTo>
                <a:lnTo>
                  <a:pt x="2111" y="1905"/>
                </a:lnTo>
                <a:lnTo>
                  <a:pt x="2124" y="1985"/>
                </a:lnTo>
                <a:lnTo>
                  <a:pt x="2164" y="2051"/>
                </a:lnTo>
                <a:lnTo>
                  <a:pt x="2217" y="2130"/>
                </a:lnTo>
                <a:lnTo>
                  <a:pt x="2257" y="2197"/>
                </a:lnTo>
                <a:lnTo>
                  <a:pt x="2296" y="2276"/>
                </a:lnTo>
                <a:lnTo>
                  <a:pt x="2310" y="2342"/>
                </a:lnTo>
                <a:lnTo>
                  <a:pt x="2323" y="2382"/>
                </a:lnTo>
                <a:lnTo>
                  <a:pt x="2310" y="2448"/>
                </a:lnTo>
                <a:lnTo>
                  <a:pt x="2296" y="2554"/>
                </a:lnTo>
                <a:lnTo>
                  <a:pt x="2283" y="2673"/>
                </a:lnTo>
                <a:lnTo>
                  <a:pt x="2243" y="2752"/>
                </a:lnTo>
                <a:lnTo>
                  <a:pt x="2177" y="2829"/>
                </a:lnTo>
                <a:lnTo>
                  <a:pt x="2177" y="2900"/>
                </a:lnTo>
                <a:lnTo>
                  <a:pt x="2199" y="2992"/>
                </a:lnTo>
                <a:lnTo>
                  <a:pt x="2224" y="3085"/>
                </a:lnTo>
                <a:lnTo>
                  <a:pt x="2224" y="3178"/>
                </a:lnTo>
                <a:lnTo>
                  <a:pt x="2224" y="3248"/>
                </a:lnTo>
                <a:lnTo>
                  <a:pt x="2224" y="3341"/>
                </a:lnTo>
                <a:lnTo>
                  <a:pt x="2246" y="3456"/>
                </a:lnTo>
                <a:lnTo>
                  <a:pt x="2270" y="3526"/>
                </a:lnTo>
                <a:lnTo>
                  <a:pt x="2316" y="3619"/>
                </a:lnTo>
                <a:lnTo>
                  <a:pt x="2340" y="3711"/>
                </a:lnTo>
                <a:lnTo>
                  <a:pt x="2363" y="3782"/>
                </a:lnTo>
                <a:lnTo>
                  <a:pt x="2387" y="3896"/>
                </a:lnTo>
                <a:lnTo>
                  <a:pt x="2409" y="3967"/>
                </a:lnTo>
                <a:lnTo>
                  <a:pt x="2409" y="4106"/>
                </a:lnTo>
                <a:lnTo>
                  <a:pt x="2409" y="4223"/>
                </a:lnTo>
                <a:lnTo>
                  <a:pt x="2409" y="4315"/>
                </a:lnTo>
                <a:lnTo>
                  <a:pt x="2409" y="4454"/>
                </a:lnTo>
                <a:lnTo>
                  <a:pt x="2433" y="4686"/>
                </a:lnTo>
                <a:lnTo>
                  <a:pt x="2433" y="4803"/>
                </a:lnTo>
                <a:lnTo>
                  <a:pt x="2433" y="5034"/>
                </a:lnTo>
                <a:lnTo>
                  <a:pt x="2409" y="5105"/>
                </a:lnTo>
                <a:lnTo>
                  <a:pt x="2363" y="5197"/>
                </a:lnTo>
                <a:lnTo>
                  <a:pt x="2270" y="5546"/>
                </a:lnTo>
                <a:lnTo>
                  <a:pt x="2199" y="5660"/>
                </a:lnTo>
                <a:lnTo>
                  <a:pt x="2177" y="5731"/>
                </a:lnTo>
                <a:lnTo>
                  <a:pt x="2131" y="6475"/>
                </a:lnTo>
                <a:lnTo>
                  <a:pt x="2084" y="6568"/>
                </a:lnTo>
                <a:lnTo>
                  <a:pt x="2013" y="6636"/>
                </a:lnTo>
                <a:lnTo>
                  <a:pt x="1945" y="6706"/>
                </a:lnTo>
                <a:lnTo>
                  <a:pt x="1898" y="6777"/>
                </a:lnTo>
                <a:lnTo>
                  <a:pt x="1828" y="6845"/>
                </a:lnTo>
                <a:lnTo>
                  <a:pt x="1757" y="6892"/>
                </a:lnTo>
                <a:lnTo>
                  <a:pt x="1642" y="7009"/>
                </a:lnTo>
                <a:lnTo>
                  <a:pt x="1572" y="7101"/>
                </a:lnTo>
                <a:lnTo>
                  <a:pt x="852" y="7425"/>
                </a:lnTo>
                <a:lnTo>
                  <a:pt x="782" y="7450"/>
                </a:lnTo>
                <a:lnTo>
                  <a:pt x="688" y="7450"/>
                </a:lnTo>
                <a:lnTo>
                  <a:pt x="573" y="7542"/>
                </a:lnTo>
                <a:lnTo>
                  <a:pt x="503" y="7610"/>
                </a:lnTo>
                <a:lnTo>
                  <a:pt x="432" y="7635"/>
                </a:lnTo>
                <a:lnTo>
                  <a:pt x="339" y="7659"/>
                </a:lnTo>
                <a:lnTo>
                  <a:pt x="247" y="7705"/>
                </a:lnTo>
                <a:lnTo>
                  <a:pt x="154" y="7727"/>
                </a:lnTo>
                <a:lnTo>
                  <a:pt x="132" y="7798"/>
                </a:lnTo>
                <a:lnTo>
                  <a:pt x="61" y="7844"/>
                </a:lnTo>
                <a:lnTo>
                  <a:pt x="0" y="786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"/>
          <p:cNvSpPr/>
          <p:nvPr/>
        </p:nvSpPr>
        <p:spPr>
          <a:xfrm>
            <a:off x="3076560" y="1733400"/>
            <a:ext cx="179640" cy="592560"/>
          </a:xfrm>
          <a:custGeom>
            <a:avLst/>
            <a:gdLst/>
            <a:ahLst/>
            <a:rect l="0" t="0" r="r" b="b"/>
            <a:pathLst>
              <a:path fill="none" w="499" h="1646">
                <a:moveTo>
                  <a:pt x="0" y="0"/>
                </a:moveTo>
                <a:lnTo>
                  <a:pt x="26" y="79"/>
                </a:lnTo>
                <a:lnTo>
                  <a:pt x="48" y="163"/>
                </a:lnTo>
                <a:lnTo>
                  <a:pt x="81" y="240"/>
                </a:lnTo>
                <a:lnTo>
                  <a:pt x="127" y="310"/>
                </a:lnTo>
                <a:lnTo>
                  <a:pt x="220" y="357"/>
                </a:lnTo>
                <a:lnTo>
                  <a:pt x="314" y="403"/>
                </a:lnTo>
                <a:lnTo>
                  <a:pt x="406" y="472"/>
                </a:lnTo>
                <a:lnTo>
                  <a:pt x="452" y="543"/>
                </a:lnTo>
                <a:lnTo>
                  <a:pt x="499" y="636"/>
                </a:lnTo>
                <a:lnTo>
                  <a:pt x="499" y="728"/>
                </a:lnTo>
                <a:lnTo>
                  <a:pt x="499" y="799"/>
                </a:lnTo>
                <a:lnTo>
                  <a:pt x="475" y="913"/>
                </a:lnTo>
                <a:lnTo>
                  <a:pt x="406" y="984"/>
                </a:lnTo>
                <a:lnTo>
                  <a:pt x="336" y="1052"/>
                </a:lnTo>
                <a:lnTo>
                  <a:pt x="314" y="1123"/>
                </a:lnTo>
                <a:lnTo>
                  <a:pt x="314" y="1193"/>
                </a:lnTo>
                <a:lnTo>
                  <a:pt x="267" y="1287"/>
                </a:lnTo>
                <a:lnTo>
                  <a:pt x="196" y="1333"/>
                </a:lnTo>
                <a:lnTo>
                  <a:pt x="127" y="1426"/>
                </a:lnTo>
                <a:lnTo>
                  <a:pt x="57" y="1494"/>
                </a:lnTo>
                <a:lnTo>
                  <a:pt x="0" y="164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"/>
          <p:cNvSpPr/>
          <p:nvPr/>
        </p:nvSpPr>
        <p:spPr>
          <a:xfrm>
            <a:off x="3456000" y="642960"/>
            <a:ext cx="878400" cy="2630880"/>
          </a:xfrm>
          <a:custGeom>
            <a:avLst/>
            <a:gdLst/>
            <a:ahLst/>
            <a:rect l="0" t="0" r="r" b="b"/>
            <a:pathLst>
              <a:path fill="none" w="2440" h="7308">
                <a:moveTo>
                  <a:pt x="1606" y="0"/>
                </a:moveTo>
                <a:lnTo>
                  <a:pt x="1625" y="244"/>
                </a:lnTo>
                <a:lnTo>
                  <a:pt x="1606" y="330"/>
                </a:lnTo>
                <a:lnTo>
                  <a:pt x="1612" y="383"/>
                </a:lnTo>
                <a:lnTo>
                  <a:pt x="1619" y="443"/>
                </a:lnTo>
                <a:lnTo>
                  <a:pt x="1639" y="482"/>
                </a:lnTo>
                <a:lnTo>
                  <a:pt x="1652" y="509"/>
                </a:lnTo>
                <a:lnTo>
                  <a:pt x="1652" y="555"/>
                </a:lnTo>
                <a:lnTo>
                  <a:pt x="1652" y="562"/>
                </a:lnTo>
                <a:lnTo>
                  <a:pt x="1645" y="568"/>
                </a:lnTo>
                <a:lnTo>
                  <a:pt x="1639" y="595"/>
                </a:lnTo>
                <a:lnTo>
                  <a:pt x="1619" y="634"/>
                </a:lnTo>
                <a:lnTo>
                  <a:pt x="1592" y="641"/>
                </a:lnTo>
                <a:lnTo>
                  <a:pt x="1606" y="694"/>
                </a:lnTo>
                <a:lnTo>
                  <a:pt x="1606" y="727"/>
                </a:lnTo>
                <a:lnTo>
                  <a:pt x="1592" y="753"/>
                </a:lnTo>
                <a:lnTo>
                  <a:pt x="1573" y="826"/>
                </a:lnTo>
                <a:lnTo>
                  <a:pt x="1553" y="872"/>
                </a:lnTo>
                <a:lnTo>
                  <a:pt x="1539" y="952"/>
                </a:lnTo>
                <a:lnTo>
                  <a:pt x="1539" y="1018"/>
                </a:lnTo>
                <a:lnTo>
                  <a:pt x="1533" y="1110"/>
                </a:lnTo>
                <a:lnTo>
                  <a:pt x="1522" y="1166"/>
                </a:lnTo>
                <a:lnTo>
                  <a:pt x="1588" y="1227"/>
                </a:lnTo>
                <a:lnTo>
                  <a:pt x="1619" y="1298"/>
                </a:lnTo>
                <a:lnTo>
                  <a:pt x="1654" y="1364"/>
                </a:lnTo>
                <a:lnTo>
                  <a:pt x="1667" y="1430"/>
                </a:lnTo>
                <a:lnTo>
                  <a:pt x="1767" y="1507"/>
                </a:lnTo>
                <a:lnTo>
                  <a:pt x="1767" y="1578"/>
                </a:lnTo>
                <a:lnTo>
                  <a:pt x="1813" y="1692"/>
                </a:lnTo>
                <a:lnTo>
                  <a:pt x="1836" y="1763"/>
                </a:lnTo>
                <a:lnTo>
                  <a:pt x="1907" y="1878"/>
                </a:lnTo>
                <a:lnTo>
                  <a:pt x="1953" y="1949"/>
                </a:lnTo>
                <a:lnTo>
                  <a:pt x="1999" y="2042"/>
                </a:lnTo>
                <a:lnTo>
                  <a:pt x="2021" y="2112"/>
                </a:lnTo>
                <a:lnTo>
                  <a:pt x="2067" y="2205"/>
                </a:lnTo>
                <a:lnTo>
                  <a:pt x="2092" y="2297"/>
                </a:lnTo>
                <a:lnTo>
                  <a:pt x="2138" y="2390"/>
                </a:lnTo>
                <a:lnTo>
                  <a:pt x="2162" y="2482"/>
                </a:lnTo>
                <a:lnTo>
                  <a:pt x="2184" y="2553"/>
                </a:lnTo>
                <a:lnTo>
                  <a:pt x="2209" y="2646"/>
                </a:lnTo>
                <a:lnTo>
                  <a:pt x="2255" y="2784"/>
                </a:lnTo>
                <a:lnTo>
                  <a:pt x="2277" y="2901"/>
                </a:lnTo>
                <a:lnTo>
                  <a:pt x="2277" y="2994"/>
                </a:lnTo>
                <a:lnTo>
                  <a:pt x="2323" y="3086"/>
                </a:lnTo>
                <a:lnTo>
                  <a:pt x="2323" y="3201"/>
                </a:lnTo>
                <a:lnTo>
                  <a:pt x="2323" y="3272"/>
                </a:lnTo>
                <a:lnTo>
                  <a:pt x="2323" y="3364"/>
                </a:lnTo>
                <a:lnTo>
                  <a:pt x="2323" y="3457"/>
                </a:lnTo>
                <a:lnTo>
                  <a:pt x="2323" y="3527"/>
                </a:lnTo>
                <a:lnTo>
                  <a:pt x="2323" y="3688"/>
                </a:lnTo>
                <a:lnTo>
                  <a:pt x="2323" y="3759"/>
                </a:lnTo>
                <a:lnTo>
                  <a:pt x="2277" y="3829"/>
                </a:lnTo>
                <a:lnTo>
                  <a:pt x="2231" y="3944"/>
                </a:lnTo>
                <a:lnTo>
                  <a:pt x="2301" y="4153"/>
                </a:lnTo>
                <a:lnTo>
                  <a:pt x="2440" y="4292"/>
                </a:lnTo>
                <a:lnTo>
                  <a:pt x="2440" y="4409"/>
                </a:lnTo>
                <a:lnTo>
                  <a:pt x="2440" y="4455"/>
                </a:lnTo>
                <a:lnTo>
                  <a:pt x="2440" y="4455"/>
                </a:lnTo>
                <a:lnTo>
                  <a:pt x="2323" y="4548"/>
                </a:lnTo>
                <a:lnTo>
                  <a:pt x="2323" y="4640"/>
                </a:lnTo>
                <a:lnTo>
                  <a:pt x="2277" y="4733"/>
                </a:lnTo>
                <a:lnTo>
                  <a:pt x="2231" y="4825"/>
                </a:lnTo>
                <a:lnTo>
                  <a:pt x="2162" y="4872"/>
                </a:lnTo>
                <a:lnTo>
                  <a:pt x="2045" y="4964"/>
                </a:lnTo>
                <a:lnTo>
                  <a:pt x="1999" y="5081"/>
                </a:lnTo>
                <a:lnTo>
                  <a:pt x="1975" y="5152"/>
                </a:lnTo>
                <a:lnTo>
                  <a:pt x="1929" y="5429"/>
                </a:lnTo>
                <a:lnTo>
                  <a:pt x="1882" y="5569"/>
                </a:lnTo>
                <a:lnTo>
                  <a:pt x="1860" y="5640"/>
                </a:lnTo>
                <a:lnTo>
                  <a:pt x="1789" y="5871"/>
                </a:lnTo>
                <a:lnTo>
                  <a:pt x="1720" y="5988"/>
                </a:lnTo>
                <a:lnTo>
                  <a:pt x="1625" y="6081"/>
                </a:lnTo>
                <a:lnTo>
                  <a:pt x="1487" y="6220"/>
                </a:lnTo>
                <a:lnTo>
                  <a:pt x="1418" y="6334"/>
                </a:lnTo>
                <a:lnTo>
                  <a:pt x="1348" y="6380"/>
                </a:lnTo>
                <a:lnTo>
                  <a:pt x="1209" y="6475"/>
                </a:lnTo>
                <a:lnTo>
                  <a:pt x="1138" y="6522"/>
                </a:lnTo>
                <a:lnTo>
                  <a:pt x="1024" y="6568"/>
                </a:lnTo>
                <a:lnTo>
                  <a:pt x="931" y="6660"/>
                </a:lnTo>
                <a:lnTo>
                  <a:pt x="860" y="6682"/>
                </a:lnTo>
                <a:lnTo>
                  <a:pt x="792" y="6753"/>
                </a:lnTo>
                <a:lnTo>
                  <a:pt x="721" y="6775"/>
                </a:lnTo>
                <a:lnTo>
                  <a:pt x="651" y="6821"/>
                </a:lnTo>
                <a:lnTo>
                  <a:pt x="582" y="6892"/>
                </a:lnTo>
                <a:lnTo>
                  <a:pt x="489" y="7009"/>
                </a:lnTo>
                <a:lnTo>
                  <a:pt x="418" y="7055"/>
                </a:lnTo>
                <a:lnTo>
                  <a:pt x="326" y="7101"/>
                </a:lnTo>
                <a:lnTo>
                  <a:pt x="255" y="7148"/>
                </a:lnTo>
                <a:lnTo>
                  <a:pt x="141" y="7216"/>
                </a:lnTo>
                <a:lnTo>
                  <a:pt x="0" y="730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"/>
          <p:cNvSpPr/>
          <p:nvPr/>
        </p:nvSpPr>
        <p:spPr>
          <a:xfrm>
            <a:off x="3760920" y="1309680"/>
            <a:ext cx="725760" cy="1962360"/>
          </a:xfrm>
          <a:custGeom>
            <a:avLst/>
            <a:gdLst/>
            <a:ahLst/>
            <a:rect l="0" t="0" r="r" b="b"/>
            <a:pathLst>
              <a:path fill="none" w="2016" h="5451">
                <a:moveTo>
                  <a:pt x="1150" y="0"/>
                </a:moveTo>
                <a:lnTo>
                  <a:pt x="1183" y="46"/>
                </a:lnTo>
                <a:lnTo>
                  <a:pt x="1229" y="125"/>
                </a:lnTo>
                <a:lnTo>
                  <a:pt x="1249" y="231"/>
                </a:lnTo>
                <a:lnTo>
                  <a:pt x="1302" y="277"/>
                </a:lnTo>
                <a:lnTo>
                  <a:pt x="1362" y="392"/>
                </a:lnTo>
                <a:lnTo>
                  <a:pt x="1430" y="485"/>
                </a:lnTo>
                <a:lnTo>
                  <a:pt x="1476" y="577"/>
                </a:lnTo>
                <a:lnTo>
                  <a:pt x="1522" y="648"/>
                </a:lnTo>
                <a:lnTo>
                  <a:pt x="1569" y="740"/>
                </a:lnTo>
                <a:lnTo>
                  <a:pt x="1639" y="809"/>
                </a:lnTo>
                <a:lnTo>
                  <a:pt x="1661" y="879"/>
                </a:lnTo>
                <a:lnTo>
                  <a:pt x="1732" y="972"/>
                </a:lnTo>
                <a:lnTo>
                  <a:pt x="1756" y="1042"/>
                </a:lnTo>
                <a:lnTo>
                  <a:pt x="1802" y="1135"/>
                </a:lnTo>
                <a:lnTo>
                  <a:pt x="1848" y="1250"/>
                </a:lnTo>
                <a:lnTo>
                  <a:pt x="1870" y="1320"/>
                </a:lnTo>
                <a:lnTo>
                  <a:pt x="1917" y="1413"/>
                </a:lnTo>
                <a:lnTo>
                  <a:pt x="1917" y="1483"/>
                </a:lnTo>
                <a:lnTo>
                  <a:pt x="1941" y="1576"/>
                </a:lnTo>
                <a:lnTo>
                  <a:pt x="1941" y="1669"/>
                </a:lnTo>
                <a:lnTo>
                  <a:pt x="1941" y="1830"/>
                </a:lnTo>
                <a:lnTo>
                  <a:pt x="1941" y="1900"/>
                </a:lnTo>
                <a:lnTo>
                  <a:pt x="1941" y="1971"/>
                </a:lnTo>
                <a:lnTo>
                  <a:pt x="1941" y="2063"/>
                </a:lnTo>
                <a:lnTo>
                  <a:pt x="1963" y="2156"/>
                </a:lnTo>
                <a:lnTo>
                  <a:pt x="1943" y="2288"/>
                </a:lnTo>
                <a:lnTo>
                  <a:pt x="1950" y="2341"/>
                </a:lnTo>
                <a:lnTo>
                  <a:pt x="1956" y="2374"/>
                </a:lnTo>
                <a:lnTo>
                  <a:pt x="1969" y="2414"/>
                </a:lnTo>
                <a:lnTo>
                  <a:pt x="1983" y="2460"/>
                </a:lnTo>
                <a:lnTo>
                  <a:pt x="2003" y="2533"/>
                </a:lnTo>
                <a:lnTo>
                  <a:pt x="2009" y="2579"/>
                </a:lnTo>
                <a:lnTo>
                  <a:pt x="2016" y="2672"/>
                </a:lnTo>
                <a:lnTo>
                  <a:pt x="1989" y="2739"/>
                </a:lnTo>
                <a:lnTo>
                  <a:pt x="1943" y="2818"/>
                </a:lnTo>
                <a:lnTo>
                  <a:pt x="1884" y="2937"/>
                </a:lnTo>
                <a:lnTo>
                  <a:pt x="1837" y="3010"/>
                </a:lnTo>
                <a:lnTo>
                  <a:pt x="1798" y="3063"/>
                </a:lnTo>
                <a:lnTo>
                  <a:pt x="1725" y="3096"/>
                </a:lnTo>
                <a:lnTo>
                  <a:pt x="1666" y="3156"/>
                </a:lnTo>
                <a:lnTo>
                  <a:pt x="1619" y="3189"/>
                </a:lnTo>
                <a:lnTo>
                  <a:pt x="1573" y="3235"/>
                </a:lnTo>
                <a:lnTo>
                  <a:pt x="1520" y="3301"/>
                </a:lnTo>
                <a:lnTo>
                  <a:pt x="1500" y="3374"/>
                </a:lnTo>
                <a:lnTo>
                  <a:pt x="1487" y="3453"/>
                </a:lnTo>
                <a:lnTo>
                  <a:pt x="1454" y="3533"/>
                </a:lnTo>
                <a:lnTo>
                  <a:pt x="1414" y="3619"/>
                </a:lnTo>
                <a:lnTo>
                  <a:pt x="1375" y="3751"/>
                </a:lnTo>
                <a:lnTo>
                  <a:pt x="1348" y="3844"/>
                </a:lnTo>
                <a:lnTo>
                  <a:pt x="1282" y="3969"/>
                </a:lnTo>
                <a:lnTo>
                  <a:pt x="1216" y="4102"/>
                </a:lnTo>
                <a:lnTo>
                  <a:pt x="1157" y="4214"/>
                </a:lnTo>
                <a:lnTo>
                  <a:pt x="1124" y="4326"/>
                </a:lnTo>
                <a:lnTo>
                  <a:pt x="1097" y="4406"/>
                </a:lnTo>
                <a:lnTo>
                  <a:pt x="1011" y="4498"/>
                </a:lnTo>
                <a:lnTo>
                  <a:pt x="931" y="4604"/>
                </a:lnTo>
                <a:lnTo>
                  <a:pt x="759" y="4703"/>
                </a:lnTo>
                <a:lnTo>
                  <a:pt x="693" y="4796"/>
                </a:lnTo>
                <a:lnTo>
                  <a:pt x="588" y="4875"/>
                </a:lnTo>
                <a:lnTo>
                  <a:pt x="488" y="4955"/>
                </a:lnTo>
                <a:lnTo>
                  <a:pt x="370" y="5061"/>
                </a:lnTo>
                <a:lnTo>
                  <a:pt x="251" y="5114"/>
                </a:lnTo>
                <a:lnTo>
                  <a:pt x="185" y="5180"/>
                </a:lnTo>
                <a:lnTo>
                  <a:pt x="72" y="5312"/>
                </a:lnTo>
                <a:lnTo>
                  <a:pt x="0" y="545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"/>
          <p:cNvSpPr/>
          <p:nvPr/>
        </p:nvSpPr>
        <p:spPr>
          <a:xfrm>
            <a:off x="4033800" y="81000"/>
            <a:ext cx="1548000" cy="2224440"/>
          </a:xfrm>
          <a:custGeom>
            <a:avLst/>
            <a:gdLst/>
            <a:ahLst/>
            <a:rect l="0" t="0" r="r" b="b"/>
            <a:pathLst>
              <a:path fill="none" w="4300" h="6179">
                <a:moveTo>
                  <a:pt x="152" y="0"/>
                </a:moveTo>
                <a:lnTo>
                  <a:pt x="138" y="50"/>
                </a:lnTo>
                <a:lnTo>
                  <a:pt x="138" y="143"/>
                </a:lnTo>
                <a:lnTo>
                  <a:pt x="138" y="236"/>
                </a:lnTo>
                <a:lnTo>
                  <a:pt x="138" y="328"/>
                </a:lnTo>
                <a:lnTo>
                  <a:pt x="163" y="421"/>
                </a:lnTo>
                <a:lnTo>
                  <a:pt x="185" y="491"/>
                </a:lnTo>
                <a:lnTo>
                  <a:pt x="185" y="584"/>
                </a:lnTo>
                <a:lnTo>
                  <a:pt x="185" y="677"/>
                </a:lnTo>
                <a:lnTo>
                  <a:pt x="138" y="769"/>
                </a:lnTo>
                <a:lnTo>
                  <a:pt x="116" y="862"/>
                </a:lnTo>
                <a:lnTo>
                  <a:pt x="70" y="932"/>
                </a:lnTo>
                <a:lnTo>
                  <a:pt x="46" y="1025"/>
                </a:lnTo>
                <a:lnTo>
                  <a:pt x="46" y="1118"/>
                </a:lnTo>
                <a:lnTo>
                  <a:pt x="46" y="1210"/>
                </a:lnTo>
                <a:lnTo>
                  <a:pt x="22" y="1303"/>
                </a:lnTo>
                <a:lnTo>
                  <a:pt x="0" y="1374"/>
                </a:lnTo>
                <a:lnTo>
                  <a:pt x="0" y="1466"/>
                </a:lnTo>
                <a:lnTo>
                  <a:pt x="0" y="1559"/>
                </a:lnTo>
                <a:lnTo>
                  <a:pt x="46" y="1652"/>
                </a:lnTo>
                <a:lnTo>
                  <a:pt x="70" y="1744"/>
                </a:lnTo>
                <a:lnTo>
                  <a:pt x="92" y="1815"/>
                </a:lnTo>
                <a:lnTo>
                  <a:pt x="116" y="1907"/>
                </a:lnTo>
                <a:lnTo>
                  <a:pt x="116" y="2000"/>
                </a:lnTo>
                <a:lnTo>
                  <a:pt x="116" y="2093"/>
                </a:lnTo>
                <a:lnTo>
                  <a:pt x="138" y="2185"/>
                </a:lnTo>
                <a:lnTo>
                  <a:pt x="163" y="2256"/>
                </a:lnTo>
                <a:lnTo>
                  <a:pt x="163" y="2349"/>
                </a:lnTo>
                <a:lnTo>
                  <a:pt x="185" y="2487"/>
                </a:lnTo>
                <a:lnTo>
                  <a:pt x="231" y="2580"/>
                </a:lnTo>
                <a:lnTo>
                  <a:pt x="255" y="2673"/>
                </a:lnTo>
                <a:lnTo>
                  <a:pt x="255" y="2743"/>
                </a:lnTo>
                <a:lnTo>
                  <a:pt x="255" y="2858"/>
                </a:lnTo>
                <a:lnTo>
                  <a:pt x="255" y="2929"/>
                </a:lnTo>
                <a:lnTo>
                  <a:pt x="277" y="3021"/>
                </a:lnTo>
                <a:lnTo>
                  <a:pt x="301" y="3115"/>
                </a:lnTo>
                <a:lnTo>
                  <a:pt x="323" y="3185"/>
                </a:lnTo>
                <a:lnTo>
                  <a:pt x="323" y="3278"/>
                </a:lnTo>
                <a:lnTo>
                  <a:pt x="398" y="3432"/>
                </a:lnTo>
                <a:lnTo>
                  <a:pt x="462" y="3463"/>
                </a:lnTo>
                <a:lnTo>
                  <a:pt x="511" y="3556"/>
                </a:lnTo>
                <a:lnTo>
                  <a:pt x="557" y="3627"/>
                </a:lnTo>
                <a:lnTo>
                  <a:pt x="650" y="3695"/>
                </a:lnTo>
                <a:lnTo>
                  <a:pt x="696" y="3766"/>
                </a:lnTo>
                <a:lnTo>
                  <a:pt x="764" y="3858"/>
                </a:lnTo>
                <a:lnTo>
                  <a:pt x="835" y="3927"/>
                </a:lnTo>
                <a:lnTo>
                  <a:pt x="857" y="3997"/>
                </a:lnTo>
                <a:lnTo>
                  <a:pt x="903" y="4068"/>
                </a:lnTo>
                <a:lnTo>
                  <a:pt x="952" y="4160"/>
                </a:lnTo>
                <a:lnTo>
                  <a:pt x="1020" y="4253"/>
                </a:lnTo>
                <a:lnTo>
                  <a:pt x="1066" y="4346"/>
                </a:lnTo>
                <a:lnTo>
                  <a:pt x="1137" y="4438"/>
                </a:lnTo>
                <a:lnTo>
                  <a:pt x="1159" y="4509"/>
                </a:lnTo>
                <a:lnTo>
                  <a:pt x="1229" y="4577"/>
                </a:lnTo>
                <a:lnTo>
                  <a:pt x="1251" y="4648"/>
                </a:lnTo>
                <a:lnTo>
                  <a:pt x="1275" y="4740"/>
                </a:lnTo>
                <a:lnTo>
                  <a:pt x="1297" y="4833"/>
                </a:lnTo>
                <a:lnTo>
                  <a:pt x="1322" y="4904"/>
                </a:lnTo>
                <a:lnTo>
                  <a:pt x="1344" y="5018"/>
                </a:lnTo>
                <a:lnTo>
                  <a:pt x="1368" y="5089"/>
                </a:lnTo>
                <a:lnTo>
                  <a:pt x="1414" y="5182"/>
                </a:lnTo>
                <a:lnTo>
                  <a:pt x="1439" y="5296"/>
                </a:lnTo>
                <a:lnTo>
                  <a:pt x="1461" y="5367"/>
                </a:lnTo>
                <a:lnTo>
                  <a:pt x="1461" y="5437"/>
                </a:lnTo>
                <a:lnTo>
                  <a:pt x="1485" y="5530"/>
                </a:lnTo>
                <a:lnTo>
                  <a:pt x="1531" y="5623"/>
                </a:lnTo>
                <a:lnTo>
                  <a:pt x="1577" y="5715"/>
                </a:lnTo>
                <a:lnTo>
                  <a:pt x="1624" y="5786"/>
                </a:lnTo>
                <a:lnTo>
                  <a:pt x="1692" y="5879"/>
                </a:lnTo>
                <a:lnTo>
                  <a:pt x="1762" y="5971"/>
                </a:lnTo>
                <a:lnTo>
                  <a:pt x="1833" y="5993"/>
                </a:lnTo>
                <a:lnTo>
                  <a:pt x="1926" y="6018"/>
                </a:lnTo>
                <a:lnTo>
                  <a:pt x="2018" y="6086"/>
                </a:lnTo>
                <a:lnTo>
                  <a:pt x="2064" y="6156"/>
                </a:lnTo>
                <a:lnTo>
                  <a:pt x="2158" y="6179"/>
                </a:lnTo>
                <a:lnTo>
                  <a:pt x="2251" y="6179"/>
                </a:lnTo>
                <a:lnTo>
                  <a:pt x="2321" y="6156"/>
                </a:lnTo>
                <a:lnTo>
                  <a:pt x="2414" y="6132"/>
                </a:lnTo>
                <a:lnTo>
                  <a:pt x="2506" y="6110"/>
                </a:lnTo>
                <a:lnTo>
                  <a:pt x="2599" y="6040"/>
                </a:lnTo>
                <a:lnTo>
                  <a:pt x="2667" y="5947"/>
                </a:lnTo>
                <a:lnTo>
                  <a:pt x="2738" y="5879"/>
                </a:lnTo>
                <a:lnTo>
                  <a:pt x="2808" y="5808"/>
                </a:lnTo>
                <a:lnTo>
                  <a:pt x="2876" y="5737"/>
                </a:lnTo>
                <a:lnTo>
                  <a:pt x="2947" y="5691"/>
                </a:lnTo>
                <a:lnTo>
                  <a:pt x="3061" y="5620"/>
                </a:lnTo>
                <a:lnTo>
                  <a:pt x="3123" y="5568"/>
                </a:lnTo>
                <a:lnTo>
                  <a:pt x="3185" y="5515"/>
                </a:lnTo>
                <a:lnTo>
                  <a:pt x="3273" y="5471"/>
                </a:lnTo>
                <a:lnTo>
                  <a:pt x="3370" y="5418"/>
                </a:lnTo>
                <a:lnTo>
                  <a:pt x="3456" y="5391"/>
                </a:lnTo>
                <a:lnTo>
                  <a:pt x="3526" y="5391"/>
                </a:lnTo>
                <a:lnTo>
                  <a:pt x="3597" y="5367"/>
                </a:lnTo>
                <a:lnTo>
                  <a:pt x="3712" y="5296"/>
                </a:lnTo>
                <a:lnTo>
                  <a:pt x="3782" y="5228"/>
                </a:lnTo>
                <a:lnTo>
                  <a:pt x="3850" y="5157"/>
                </a:lnTo>
                <a:lnTo>
                  <a:pt x="3921" y="5065"/>
                </a:lnTo>
                <a:lnTo>
                  <a:pt x="3989" y="4972"/>
                </a:lnTo>
                <a:lnTo>
                  <a:pt x="4060" y="4904"/>
                </a:lnTo>
                <a:lnTo>
                  <a:pt x="4130" y="4855"/>
                </a:lnTo>
                <a:lnTo>
                  <a:pt x="4223" y="4809"/>
                </a:lnTo>
                <a:lnTo>
                  <a:pt x="4300" y="479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9" name=""/>
          <p:cNvSpPr/>
          <p:nvPr/>
        </p:nvSpPr>
        <p:spPr>
          <a:xfrm>
            <a:off x="4853160" y="88920"/>
            <a:ext cx="729000" cy="744840"/>
          </a:xfrm>
          <a:custGeom>
            <a:avLst/>
            <a:gdLst/>
            <a:ahLst/>
            <a:rect l="0" t="0" r="r" b="b"/>
            <a:pathLst>
              <a:path fill="none" w="2025" h="2069">
                <a:moveTo>
                  <a:pt x="0" y="0"/>
                </a:moveTo>
                <a:lnTo>
                  <a:pt x="48" y="48"/>
                </a:lnTo>
                <a:lnTo>
                  <a:pt x="97" y="137"/>
                </a:lnTo>
                <a:lnTo>
                  <a:pt x="145" y="226"/>
                </a:lnTo>
                <a:lnTo>
                  <a:pt x="145" y="315"/>
                </a:lnTo>
                <a:lnTo>
                  <a:pt x="168" y="404"/>
                </a:lnTo>
                <a:lnTo>
                  <a:pt x="217" y="472"/>
                </a:lnTo>
                <a:lnTo>
                  <a:pt x="291" y="516"/>
                </a:lnTo>
                <a:lnTo>
                  <a:pt x="388" y="560"/>
                </a:lnTo>
                <a:lnTo>
                  <a:pt x="462" y="626"/>
                </a:lnTo>
                <a:lnTo>
                  <a:pt x="510" y="694"/>
                </a:lnTo>
                <a:lnTo>
                  <a:pt x="607" y="759"/>
                </a:lnTo>
                <a:lnTo>
                  <a:pt x="704" y="783"/>
                </a:lnTo>
                <a:lnTo>
                  <a:pt x="801" y="848"/>
                </a:lnTo>
                <a:lnTo>
                  <a:pt x="875" y="895"/>
                </a:lnTo>
                <a:lnTo>
                  <a:pt x="972" y="961"/>
                </a:lnTo>
                <a:lnTo>
                  <a:pt x="1093" y="1050"/>
                </a:lnTo>
                <a:lnTo>
                  <a:pt x="1167" y="1095"/>
                </a:lnTo>
                <a:lnTo>
                  <a:pt x="1216" y="1163"/>
                </a:lnTo>
                <a:lnTo>
                  <a:pt x="1313" y="1252"/>
                </a:lnTo>
                <a:lnTo>
                  <a:pt x="1320" y="1429"/>
                </a:lnTo>
                <a:lnTo>
                  <a:pt x="1491" y="1601"/>
                </a:lnTo>
                <a:lnTo>
                  <a:pt x="1703" y="1664"/>
                </a:lnTo>
                <a:lnTo>
                  <a:pt x="1874" y="1770"/>
                </a:lnTo>
                <a:lnTo>
                  <a:pt x="2025" y="20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0" name=""/>
          <p:cNvSpPr/>
          <p:nvPr/>
        </p:nvSpPr>
        <p:spPr>
          <a:xfrm>
            <a:off x="4106880" y="82440"/>
            <a:ext cx="1476720" cy="1679760"/>
          </a:xfrm>
          <a:custGeom>
            <a:avLst/>
            <a:gdLst/>
            <a:ahLst/>
            <a:rect l="0" t="0" r="r" b="b"/>
            <a:pathLst>
              <a:path fill="none" w="4102" h="4666">
                <a:moveTo>
                  <a:pt x="0" y="0"/>
                </a:moveTo>
                <a:lnTo>
                  <a:pt x="22" y="243"/>
                </a:lnTo>
                <a:lnTo>
                  <a:pt x="61" y="309"/>
                </a:lnTo>
                <a:lnTo>
                  <a:pt x="97" y="396"/>
                </a:lnTo>
                <a:lnTo>
                  <a:pt x="143" y="492"/>
                </a:lnTo>
                <a:lnTo>
                  <a:pt x="189" y="588"/>
                </a:lnTo>
                <a:lnTo>
                  <a:pt x="235" y="683"/>
                </a:lnTo>
                <a:lnTo>
                  <a:pt x="235" y="779"/>
                </a:lnTo>
                <a:lnTo>
                  <a:pt x="257" y="852"/>
                </a:lnTo>
                <a:lnTo>
                  <a:pt x="306" y="948"/>
                </a:lnTo>
                <a:lnTo>
                  <a:pt x="374" y="1043"/>
                </a:lnTo>
                <a:lnTo>
                  <a:pt x="421" y="1139"/>
                </a:lnTo>
                <a:lnTo>
                  <a:pt x="513" y="1235"/>
                </a:lnTo>
                <a:lnTo>
                  <a:pt x="537" y="1308"/>
                </a:lnTo>
                <a:lnTo>
                  <a:pt x="606" y="1403"/>
                </a:lnTo>
                <a:lnTo>
                  <a:pt x="652" y="1499"/>
                </a:lnTo>
                <a:lnTo>
                  <a:pt x="698" y="1595"/>
                </a:lnTo>
                <a:lnTo>
                  <a:pt x="723" y="1691"/>
                </a:lnTo>
                <a:lnTo>
                  <a:pt x="793" y="1739"/>
                </a:lnTo>
                <a:lnTo>
                  <a:pt x="886" y="1811"/>
                </a:lnTo>
                <a:lnTo>
                  <a:pt x="978" y="1882"/>
                </a:lnTo>
                <a:lnTo>
                  <a:pt x="1047" y="1955"/>
                </a:lnTo>
                <a:lnTo>
                  <a:pt x="1117" y="2051"/>
                </a:lnTo>
                <a:lnTo>
                  <a:pt x="1210" y="2146"/>
                </a:lnTo>
                <a:lnTo>
                  <a:pt x="1281" y="2242"/>
                </a:lnTo>
                <a:lnTo>
                  <a:pt x="1349" y="2364"/>
                </a:lnTo>
                <a:lnTo>
                  <a:pt x="1441" y="2483"/>
                </a:lnTo>
                <a:lnTo>
                  <a:pt x="1466" y="2555"/>
                </a:lnTo>
                <a:lnTo>
                  <a:pt x="1534" y="2651"/>
                </a:lnTo>
                <a:lnTo>
                  <a:pt x="1580" y="2724"/>
                </a:lnTo>
                <a:lnTo>
                  <a:pt x="1629" y="2843"/>
                </a:lnTo>
                <a:lnTo>
                  <a:pt x="1721" y="2938"/>
                </a:lnTo>
                <a:lnTo>
                  <a:pt x="1860" y="2963"/>
                </a:lnTo>
                <a:lnTo>
                  <a:pt x="1953" y="3011"/>
                </a:lnTo>
                <a:lnTo>
                  <a:pt x="2046" y="3084"/>
                </a:lnTo>
                <a:lnTo>
                  <a:pt x="2117" y="3132"/>
                </a:lnTo>
                <a:lnTo>
                  <a:pt x="2210" y="3203"/>
                </a:lnTo>
                <a:lnTo>
                  <a:pt x="2278" y="3276"/>
                </a:lnTo>
                <a:lnTo>
                  <a:pt x="2349" y="3371"/>
                </a:lnTo>
                <a:lnTo>
                  <a:pt x="2441" y="3515"/>
                </a:lnTo>
                <a:lnTo>
                  <a:pt x="2488" y="3588"/>
                </a:lnTo>
                <a:lnTo>
                  <a:pt x="2558" y="3684"/>
                </a:lnTo>
                <a:lnTo>
                  <a:pt x="2626" y="3779"/>
                </a:lnTo>
                <a:lnTo>
                  <a:pt x="2697" y="3875"/>
                </a:lnTo>
                <a:lnTo>
                  <a:pt x="2790" y="3996"/>
                </a:lnTo>
                <a:lnTo>
                  <a:pt x="2882" y="4044"/>
                </a:lnTo>
                <a:lnTo>
                  <a:pt x="2953" y="4114"/>
                </a:lnTo>
                <a:lnTo>
                  <a:pt x="3067" y="4210"/>
                </a:lnTo>
                <a:lnTo>
                  <a:pt x="3138" y="4283"/>
                </a:lnTo>
                <a:lnTo>
                  <a:pt x="3206" y="4379"/>
                </a:lnTo>
                <a:lnTo>
                  <a:pt x="3253" y="4452"/>
                </a:lnTo>
                <a:lnTo>
                  <a:pt x="3323" y="4547"/>
                </a:lnTo>
                <a:lnTo>
                  <a:pt x="3394" y="4595"/>
                </a:lnTo>
                <a:lnTo>
                  <a:pt x="3486" y="4643"/>
                </a:lnTo>
                <a:lnTo>
                  <a:pt x="3579" y="4643"/>
                </a:lnTo>
                <a:lnTo>
                  <a:pt x="3672" y="4666"/>
                </a:lnTo>
                <a:lnTo>
                  <a:pt x="3802" y="4645"/>
                </a:lnTo>
                <a:lnTo>
                  <a:pt x="3872" y="4655"/>
                </a:lnTo>
                <a:lnTo>
                  <a:pt x="3934" y="4627"/>
                </a:lnTo>
                <a:lnTo>
                  <a:pt x="4013" y="4609"/>
                </a:lnTo>
                <a:lnTo>
                  <a:pt x="4102" y="460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"/>
          <p:cNvSpPr/>
          <p:nvPr/>
        </p:nvSpPr>
        <p:spPr>
          <a:xfrm>
            <a:off x="4075200" y="326880"/>
            <a:ext cx="1508400" cy="1661040"/>
          </a:xfrm>
          <a:custGeom>
            <a:avLst/>
            <a:gdLst/>
            <a:ahLst/>
            <a:rect l="0" t="0" r="r" b="b"/>
            <a:pathLst>
              <a:path fill="none" w="4190" h="4614">
                <a:moveTo>
                  <a:pt x="63" y="0"/>
                </a:moveTo>
                <a:lnTo>
                  <a:pt x="0" y="335"/>
                </a:lnTo>
                <a:lnTo>
                  <a:pt x="11" y="474"/>
                </a:lnTo>
                <a:lnTo>
                  <a:pt x="44" y="714"/>
                </a:lnTo>
                <a:lnTo>
                  <a:pt x="176" y="1095"/>
                </a:lnTo>
                <a:lnTo>
                  <a:pt x="321" y="1387"/>
                </a:lnTo>
                <a:lnTo>
                  <a:pt x="394" y="1504"/>
                </a:lnTo>
                <a:lnTo>
                  <a:pt x="416" y="1575"/>
                </a:lnTo>
                <a:lnTo>
                  <a:pt x="463" y="1667"/>
                </a:lnTo>
                <a:lnTo>
                  <a:pt x="509" y="1760"/>
                </a:lnTo>
                <a:lnTo>
                  <a:pt x="555" y="1853"/>
                </a:lnTo>
                <a:lnTo>
                  <a:pt x="555" y="1945"/>
                </a:lnTo>
                <a:lnTo>
                  <a:pt x="555" y="2016"/>
                </a:lnTo>
                <a:lnTo>
                  <a:pt x="579" y="2108"/>
                </a:lnTo>
                <a:lnTo>
                  <a:pt x="601" y="2201"/>
                </a:lnTo>
                <a:lnTo>
                  <a:pt x="601" y="2294"/>
                </a:lnTo>
                <a:lnTo>
                  <a:pt x="648" y="2386"/>
                </a:lnTo>
                <a:lnTo>
                  <a:pt x="672" y="2525"/>
                </a:lnTo>
                <a:lnTo>
                  <a:pt x="694" y="2596"/>
                </a:lnTo>
                <a:lnTo>
                  <a:pt x="694" y="2710"/>
                </a:lnTo>
                <a:lnTo>
                  <a:pt x="787" y="2781"/>
                </a:lnTo>
                <a:lnTo>
                  <a:pt x="857" y="2827"/>
                </a:lnTo>
                <a:lnTo>
                  <a:pt x="928" y="2873"/>
                </a:lnTo>
                <a:lnTo>
                  <a:pt x="974" y="2944"/>
                </a:lnTo>
                <a:lnTo>
                  <a:pt x="1089" y="3059"/>
                </a:lnTo>
                <a:lnTo>
                  <a:pt x="1159" y="3129"/>
                </a:lnTo>
                <a:lnTo>
                  <a:pt x="1252" y="3268"/>
                </a:lnTo>
                <a:lnTo>
                  <a:pt x="1322" y="3361"/>
                </a:lnTo>
                <a:lnTo>
                  <a:pt x="1369" y="3431"/>
                </a:lnTo>
                <a:lnTo>
                  <a:pt x="1437" y="3547"/>
                </a:lnTo>
                <a:lnTo>
                  <a:pt x="1461" y="3617"/>
                </a:lnTo>
                <a:lnTo>
                  <a:pt x="1530" y="3710"/>
                </a:lnTo>
                <a:lnTo>
                  <a:pt x="1554" y="3781"/>
                </a:lnTo>
                <a:lnTo>
                  <a:pt x="1600" y="3873"/>
                </a:lnTo>
                <a:lnTo>
                  <a:pt x="1622" y="3966"/>
                </a:lnTo>
                <a:lnTo>
                  <a:pt x="1669" y="4058"/>
                </a:lnTo>
                <a:lnTo>
                  <a:pt x="1693" y="4151"/>
                </a:lnTo>
                <a:lnTo>
                  <a:pt x="1717" y="4222"/>
                </a:lnTo>
                <a:lnTo>
                  <a:pt x="1785" y="4336"/>
                </a:lnTo>
                <a:lnTo>
                  <a:pt x="1832" y="4407"/>
                </a:lnTo>
                <a:lnTo>
                  <a:pt x="1902" y="4475"/>
                </a:lnTo>
                <a:lnTo>
                  <a:pt x="1995" y="4568"/>
                </a:lnTo>
                <a:lnTo>
                  <a:pt x="2088" y="4614"/>
                </a:lnTo>
                <a:lnTo>
                  <a:pt x="2181" y="4614"/>
                </a:lnTo>
                <a:lnTo>
                  <a:pt x="2252" y="4614"/>
                </a:lnTo>
                <a:lnTo>
                  <a:pt x="2366" y="4592"/>
                </a:lnTo>
                <a:lnTo>
                  <a:pt x="2437" y="4568"/>
                </a:lnTo>
                <a:lnTo>
                  <a:pt x="2529" y="4521"/>
                </a:lnTo>
                <a:lnTo>
                  <a:pt x="2600" y="4499"/>
                </a:lnTo>
                <a:lnTo>
                  <a:pt x="2693" y="4475"/>
                </a:lnTo>
                <a:lnTo>
                  <a:pt x="2785" y="4453"/>
                </a:lnTo>
                <a:lnTo>
                  <a:pt x="2900" y="4429"/>
                </a:lnTo>
                <a:lnTo>
                  <a:pt x="2970" y="4407"/>
                </a:lnTo>
                <a:lnTo>
                  <a:pt x="3041" y="4383"/>
                </a:lnTo>
                <a:lnTo>
                  <a:pt x="3134" y="4336"/>
                </a:lnTo>
                <a:lnTo>
                  <a:pt x="3248" y="4336"/>
                </a:lnTo>
                <a:lnTo>
                  <a:pt x="3319" y="4336"/>
                </a:lnTo>
                <a:lnTo>
                  <a:pt x="3411" y="4314"/>
                </a:lnTo>
                <a:lnTo>
                  <a:pt x="3482" y="4290"/>
                </a:lnTo>
                <a:lnTo>
                  <a:pt x="3575" y="4268"/>
                </a:lnTo>
                <a:lnTo>
                  <a:pt x="3667" y="4222"/>
                </a:lnTo>
                <a:lnTo>
                  <a:pt x="3722" y="4180"/>
                </a:lnTo>
                <a:lnTo>
                  <a:pt x="3828" y="4109"/>
                </a:lnTo>
                <a:lnTo>
                  <a:pt x="3908" y="4065"/>
                </a:lnTo>
                <a:lnTo>
                  <a:pt x="4040" y="4012"/>
                </a:lnTo>
                <a:lnTo>
                  <a:pt x="4190" y="399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"/>
          <p:cNvSpPr/>
          <p:nvPr/>
        </p:nvSpPr>
        <p:spPr>
          <a:xfrm>
            <a:off x="4037040" y="647640"/>
            <a:ext cx="1545120" cy="1576800"/>
          </a:xfrm>
          <a:custGeom>
            <a:avLst/>
            <a:gdLst/>
            <a:ahLst/>
            <a:rect l="0" t="0" r="r" b="b"/>
            <a:pathLst>
              <a:path fill="none" w="4292" h="4380">
                <a:moveTo>
                  <a:pt x="0" y="0"/>
                </a:moveTo>
                <a:lnTo>
                  <a:pt x="99" y="112"/>
                </a:lnTo>
                <a:lnTo>
                  <a:pt x="165" y="224"/>
                </a:lnTo>
                <a:lnTo>
                  <a:pt x="211" y="363"/>
                </a:lnTo>
                <a:lnTo>
                  <a:pt x="238" y="542"/>
                </a:lnTo>
                <a:lnTo>
                  <a:pt x="257" y="707"/>
                </a:lnTo>
                <a:lnTo>
                  <a:pt x="323" y="872"/>
                </a:lnTo>
                <a:lnTo>
                  <a:pt x="350" y="1018"/>
                </a:lnTo>
                <a:lnTo>
                  <a:pt x="456" y="1131"/>
                </a:lnTo>
                <a:lnTo>
                  <a:pt x="456" y="1224"/>
                </a:lnTo>
                <a:lnTo>
                  <a:pt x="456" y="1290"/>
                </a:lnTo>
                <a:lnTo>
                  <a:pt x="442" y="1382"/>
                </a:lnTo>
                <a:lnTo>
                  <a:pt x="469" y="1435"/>
                </a:lnTo>
                <a:lnTo>
                  <a:pt x="495" y="1528"/>
                </a:lnTo>
                <a:lnTo>
                  <a:pt x="509" y="1581"/>
                </a:lnTo>
                <a:lnTo>
                  <a:pt x="561" y="1726"/>
                </a:lnTo>
                <a:lnTo>
                  <a:pt x="561" y="1779"/>
                </a:lnTo>
                <a:lnTo>
                  <a:pt x="614" y="1832"/>
                </a:lnTo>
                <a:lnTo>
                  <a:pt x="667" y="1885"/>
                </a:lnTo>
                <a:lnTo>
                  <a:pt x="747" y="1938"/>
                </a:lnTo>
                <a:lnTo>
                  <a:pt x="826" y="2043"/>
                </a:lnTo>
                <a:lnTo>
                  <a:pt x="918" y="2189"/>
                </a:lnTo>
                <a:lnTo>
                  <a:pt x="985" y="2242"/>
                </a:lnTo>
                <a:lnTo>
                  <a:pt x="1051" y="2347"/>
                </a:lnTo>
                <a:lnTo>
                  <a:pt x="1105" y="2440"/>
                </a:lnTo>
                <a:lnTo>
                  <a:pt x="1131" y="2559"/>
                </a:lnTo>
                <a:lnTo>
                  <a:pt x="1197" y="2691"/>
                </a:lnTo>
                <a:lnTo>
                  <a:pt x="1224" y="2744"/>
                </a:lnTo>
                <a:lnTo>
                  <a:pt x="1276" y="2810"/>
                </a:lnTo>
                <a:lnTo>
                  <a:pt x="1246" y="2872"/>
                </a:lnTo>
                <a:lnTo>
                  <a:pt x="1263" y="2898"/>
                </a:lnTo>
                <a:lnTo>
                  <a:pt x="1281" y="2934"/>
                </a:lnTo>
                <a:lnTo>
                  <a:pt x="1298" y="2960"/>
                </a:lnTo>
                <a:lnTo>
                  <a:pt x="1307" y="2987"/>
                </a:lnTo>
                <a:lnTo>
                  <a:pt x="1325" y="3022"/>
                </a:lnTo>
                <a:lnTo>
                  <a:pt x="1343" y="3048"/>
                </a:lnTo>
                <a:lnTo>
                  <a:pt x="1360" y="3084"/>
                </a:lnTo>
                <a:lnTo>
                  <a:pt x="1360" y="3110"/>
                </a:lnTo>
                <a:lnTo>
                  <a:pt x="1378" y="3136"/>
                </a:lnTo>
                <a:lnTo>
                  <a:pt x="1387" y="3172"/>
                </a:lnTo>
                <a:lnTo>
                  <a:pt x="1404" y="3198"/>
                </a:lnTo>
                <a:lnTo>
                  <a:pt x="1413" y="3225"/>
                </a:lnTo>
                <a:lnTo>
                  <a:pt x="1431" y="3260"/>
                </a:lnTo>
                <a:lnTo>
                  <a:pt x="1440" y="3287"/>
                </a:lnTo>
                <a:lnTo>
                  <a:pt x="1448" y="3314"/>
                </a:lnTo>
                <a:lnTo>
                  <a:pt x="1457" y="3340"/>
                </a:lnTo>
                <a:lnTo>
                  <a:pt x="1466" y="3367"/>
                </a:lnTo>
                <a:lnTo>
                  <a:pt x="1484" y="3393"/>
                </a:lnTo>
                <a:lnTo>
                  <a:pt x="1484" y="3420"/>
                </a:lnTo>
                <a:lnTo>
                  <a:pt x="1492" y="3446"/>
                </a:lnTo>
                <a:lnTo>
                  <a:pt x="1510" y="3481"/>
                </a:lnTo>
                <a:lnTo>
                  <a:pt x="1519" y="3508"/>
                </a:lnTo>
                <a:lnTo>
                  <a:pt x="1519" y="3534"/>
                </a:lnTo>
                <a:lnTo>
                  <a:pt x="1536" y="3561"/>
                </a:lnTo>
                <a:lnTo>
                  <a:pt x="1554" y="3587"/>
                </a:lnTo>
                <a:lnTo>
                  <a:pt x="1572" y="3631"/>
                </a:lnTo>
                <a:lnTo>
                  <a:pt x="1581" y="3658"/>
                </a:lnTo>
                <a:lnTo>
                  <a:pt x="1598" y="3702"/>
                </a:lnTo>
                <a:lnTo>
                  <a:pt x="1616" y="3728"/>
                </a:lnTo>
                <a:lnTo>
                  <a:pt x="1633" y="3763"/>
                </a:lnTo>
                <a:lnTo>
                  <a:pt x="1642" y="3790"/>
                </a:lnTo>
                <a:lnTo>
                  <a:pt x="1660" y="3816"/>
                </a:lnTo>
                <a:lnTo>
                  <a:pt x="1669" y="3843"/>
                </a:lnTo>
                <a:lnTo>
                  <a:pt x="1678" y="3869"/>
                </a:lnTo>
                <a:lnTo>
                  <a:pt x="1695" y="3904"/>
                </a:lnTo>
                <a:lnTo>
                  <a:pt x="1722" y="3931"/>
                </a:lnTo>
                <a:lnTo>
                  <a:pt x="1739" y="3966"/>
                </a:lnTo>
                <a:lnTo>
                  <a:pt x="1757" y="3992"/>
                </a:lnTo>
                <a:lnTo>
                  <a:pt x="1775" y="4019"/>
                </a:lnTo>
                <a:lnTo>
                  <a:pt x="1792" y="4045"/>
                </a:lnTo>
                <a:lnTo>
                  <a:pt x="1810" y="4081"/>
                </a:lnTo>
                <a:lnTo>
                  <a:pt x="1827" y="4107"/>
                </a:lnTo>
                <a:lnTo>
                  <a:pt x="1845" y="4134"/>
                </a:lnTo>
                <a:lnTo>
                  <a:pt x="1871" y="4160"/>
                </a:lnTo>
                <a:lnTo>
                  <a:pt x="1889" y="4186"/>
                </a:lnTo>
                <a:lnTo>
                  <a:pt x="1916" y="4213"/>
                </a:lnTo>
                <a:lnTo>
                  <a:pt x="1942" y="4239"/>
                </a:lnTo>
                <a:lnTo>
                  <a:pt x="1968" y="4257"/>
                </a:lnTo>
                <a:lnTo>
                  <a:pt x="1986" y="4283"/>
                </a:lnTo>
                <a:lnTo>
                  <a:pt x="2013" y="4301"/>
                </a:lnTo>
                <a:lnTo>
                  <a:pt x="2039" y="4310"/>
                </a:lnTo>
                <a:lnTo>
                  <a:pt x="2065" y="4327"/>
                </a:lnTo>
                <a:lnTo>
                  <a:pt x="2092" y="4327"/>
                </a:lnTo>
                <a:lnTo>
                  <a:pt x="2118" y="4345"/>
                </a:lnTo>
                <a:lnTo>
                  <a:pt x="2224" y="4372"/>
                </a:lnTo>
                <a:lnTo>
                  <a:pt x="2251" y="4372"/>
                </a:lnTo>
                <a:lnTo>
                  <a:pt x="2277" y="4380"/>
                </a:lnTo>
                <a:lnTo>
                  <a:pt x="2303" y="4380"/>
                </a:lnTo>
                <a:lnTo>
                  <a:pt x="2330" y="4380"/>
                </a:lnTo>
                <a:lnTo>
                  <a:pt x="2365" y="4380"/>
                </a:lnTo>
                <a:lnTo>
                  <a:pt x="2409" y="4380"/>
                </a:lnTo>
                <a:lnTo>
                  <a:pt x="2453" y="4380"/>
                </a:lnTo>
                <a:lnTo>
                  <a:pt x="2480" y="4363"/>
                </a:lnTo>
                <a:lnTo>
                  <a:pt x="2506" y="4345"/>
                </a:lnTo>
                <a:lnTo>
                  <a:pt x="2533" y="4327"/>
                </a:lnTo>
                <a:lnTo>
                  <a:pt x="2585" y="4292"/>
                </a:lnTo>
                <a:lnTo>
                  <a:pt x="2612" y="4275"/>
                </a:lnTo>
                <a:lnTo>
                  <a:pt x="2638" y="4248"/>
                </a:lnTo>
                <a:lnTo>
                  <a:pt x="2665" y="4230"/>
                </a:lnTo>
                <a:lnTo>
                  <a:pt x="2691" y="4213"/>
                </a:lnTo>
                <a:lnTo>
                  <a:pt x="2718" y="4195"/>
                </a:lnTo>
                <a:lnTo>
                  <a:pt x="2744" y="4178"/>
                </a:lnTo>
                <a:lnTo>
                  <a:pt x="2771" y="4151"/>
                </a:lnTo>
                <a:lnTo>
                  <a:pt x="2815" y="4116"/>
                </a:lnTo>
                <a:lnTo>
                  <a:pt x="2850" y="4107"/>
                </a:lnTo>
                <a:lnTo>
                  <a:pt x="2903" y="4072"/>
                </a:lnTo>
                <a:lnTo>
                  <a:pt x="2920" y="4045"/>
                </a:lnTo>
                <a:lnTo>
                  <a:pt x="2938" y="4019"/>
                </a:lnTo>
                <a:lnTo>
                  <a:pt x="2965" y="4001"/>
                </a:lnTo>
                <a:lnTo>
                  <a:pt x="2991" y="3966"/>
                </a:lnTo>
                <a:lnTo>
                  <a:pt x="3017" y="3940"/>
                </a:lnTo>
                <a:lnTo>
                  <a:pt x="3044" y="3922"/>
                </a:lnTo>
                <a:lnTo>
                  <a:pt x="3070" y="3904"/>
                </a:lnTo>
                <a:lnTo>
                  <a:pt x="3106" y="3887"/>
                </a:lnTo>
                <a:lnTo>
                  <a:pt x="3132" y="3878"/>
                </a:lnTo>
                <a:lnTo>
                  <a:pt x="3158" y="3869"/>
                </a:lnTo>
                <a:lnTo>
                  <a:pt x="3185" y="3851"/>
                </a:lnTo>
                <a:lnTo>
                  <a:pt x="3211" y="3843"/>
                </a:lnTo>
                <a:lnTo>
                  <a:pt x="3248" y="3825"/>
                </a:lnTo>
                <a:lnTo>
                  <a:pt x="3283" y="3807"/>
                </a:lnTo>
                <a:lnTo>
                  <a:pt x="3309" y="3790"/>
                </a:lnTo>
                <a:lnTo>
                  <a:pt x="3336" y="3781"/>
                </a:lnTo>
                <a:lnTo>
                  <a:pt x="3362" y="3772"/>
                </a:lnTo>
                <a:lnTo>
                  <a:pt x="3389" y="3763"/>
                </a:lnTo>
                <a:lnTo>
                  <a:pt x="3415" y="3754"/>
                </a:lnTo>
                <a:lnTo>
                  <a:pt x="3450" y="3746"/>
                </a:lnTo>
                <a:lnTo>
                  <a:pt x="3545" y="3704"/>
                </a:lnTo>
                <a:lnTo>
                  <a:pt x="3572" y="3671"/>
                </a:lnTo>
                <a:lnTo>
                  <a:pt x="3605" y="3664"/>
                </a:lnTo>
                <a:lnTo>
                  <a:pt x="3624" y="3638"/>
                </a:lnTo>
                <a:lnTo>
                  <a:pt x="3638" y="3638"/>
                </a:lnTo>
                <a:lnTo>
                  <a:pt x="3664" y="3611"/>
                </a:lnTo>
                <a:lnTo>
                  <a:pt x="3677" y="3598"/>
                </a:lnTo>
                <a:lnTo>
                  <a:pt x="3697" y="3572"/>
                </a:lnTo>
                <a:lnTo>
                  <a:pt x="3730" y="3552"/>
                </a:lnTo>
                <a:lnTo>
                  <a:pt x="3763" y="3539"/>
                </a:lnTo>
                <a:lnTo>
                  <a:pt x="3803" y="3512"/>
                </a:lnTo>
                <a:lnTo>
                  <a:pt x="3836" y="3486"/>
                </a:lnTo>
                <a:lnTo>
                  <a:pt x="3849" y="3466"/>
                </a:lnTo>
                <a:lnTo>
                  <a:pt x="3849" y="3472"/>
                </a:lnTo>
                <a:lnTo>
                  <a:pt x="3955" y="3367"/>
                </a:lnTo>
                <a:lnTo>
                  <a:pt x="4087" y="3253"/>
                </a:lnTo>
                <a:lnTo>
                  <a:pt x="4173" y="3220"/>
                </a:lnTo>
                <a:lnTo>
                  <a:pt x="4292" y="319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"/>
          <p:cNvSpPr/>
          <p:nvPr/>
        </p:nvSpPr>
        <p:spPr>
          <a:xfrm>
            <a:off x="4253040" y="82440"/>
            <a:ext cx="1329120" cy="1152720"/>
          </a:xfrm>
          <a:custGeom>
            <a:avLst/>
            <a:gdLst/>
            <a:ahLst/>
            <a:rect l="0" t="0" r="r" b="b"/>
            <a:pathLst>
              <a:path fill="none" w="3692" h="3202">
                <a:moveTo>
                  <a:pt x="0" y="0"/>
                </a:moveTo>
                <a:lnTo>
                  <a:pt x="39" y="46"/>
                </a:lnTo>
                <a:lnTo>
                  <a:pt x="59" y="105"/>
                </a:lnTo>
                <a:lnTo>
                  <a:pt x="119" y="145"/>
                </a:lnTo>
                <a:lnTo>
                  <a:pt x="178" y="185"/>
                </a:lnTo>
                <a:lnTo>
                  <a:pt x="218" y="244"/>
                </a:lnTo>
                <a:lnTo>
                  <a:pt x="257" y="304"/>
                </a:lnTo>
                <a:lnTo>
                  <a:pt x="317" y="304"/>
                </a:lnTo>
                <a:lnTo>
                  <a:pt x="377" y="383"/>
                </a:lnTo>
                <a:lnTo>
                  <a:pt x="396" y="443"/>
                </a:lnTo>
                <a:lnTo>
                  <a:pt x="416" y="502"/>
                </a:lnTo>
                <a:lnTo>
                  <a:pt x="436" y="562"/>
                </a:lnTo>
                <a:lnTo>
                  <a:pt x="456" y="621"/>
                </a:lnTo>
                <a:lnTo>
                  <a:pt x="515" y="661"/>
                </a:lnTo>
                <a:lnTo>
                  <a:pt x="575" y="701"/>
                </a:lnTo>
                <a:lnTo>
                  <a:pt x="635" y="740"/>
                </a:lnTo>
                <a:lnTo>
                  <a:pt x="694" y="760"/>
                </a:lnTo>
                <a:lnTo>
                  <a:pt x="754" y="800"/>
                </a:lnTo>
                <a:lnTo>
                  <a:pt x="853" y="840"/>
                </a:lnTo>
                <a:lnTo>
                  <a:pt x="912" y="859"/>
                </a:lnTo>
                <a:lnTo>
                  <a:pt x="973" y="899"/>
                </a:lnTo>
                <a:lnTo>
                  <a:pt x="1052" y="939"/>
                </a:lnTo>
                <a:lnTo>
                  <a:pt x="1112" y="978"/>
                </a:lnTo>
                <a:lnTo>
                  <a:pt x="1191" y="998"/>
                </a:lnTo>
                <a:lnTo>
                  <a:pt x="1251" y="1038"/>
                </a:lnTo>
                <a:lnTo>
                  <a:pt x="1310" y="1117"/>
                </a:lnTo>
                <a:lnTo>
                  <a:pt x="1350" y="1177"/>
                </a:lnTo>
                <a:lnTo>
                  <a:pt x="1409" y="1236"/>
                </a:lnTo>
                <a:lnTo>
                  <a:pt x="1489" y="1296"/>
                </a:lnTo>
                <a:lnTo>
                  <a:pt x="1548" y="1336"/>
                </a:lnTo>
                <a:lnTo>
                  <a:pt x="1608" y="1355"/>
                </a:lnTo>
                <a:lnTo>
                  <a:pt x="1667" y="1375"/>
                </a:lnTo>
                <a:lnTo>
                  <a:pt x="1727" y="1395"/>
                </a:lnTo>
                <a:lnTo>
                  <a:pt x="1826" y="1475"/>
                </a:lnTo>
                <a:lnTo>
                  <a:pt x="1886" y="1494"/>
                </a:lnTo>
                <a:lnTo>
                  <a:pt x="1985" y="1554"/>
                </a:lnTo>
                <a:lnTo>
                  <a:pt x="2064" y="1634"/>
                </a:lnTo>
                <a:lnTo>
                  <a:pt x="2124" y="1654"/>
                </a:lnTo>
                <a:lnTo>
                  <a:pt x="2183" y="1714"/>
                </a:lnTo>
                <a:lnTo>
                  <a:pt x="2243" y="1753"/>
                </a:lnTo>
                <a:lnTo>
                  <a:pt x="2302" y="1813"/>
                </a:lnTo>
                <a:lnTo>
                  <a:pt x="2342" y="1872"/>
                </a:lnTo>
                <a:lnTo>
                  <a:pt x="2382" y="1932"/>
                </a:lnTo>
                <a:lnTo>
                  <a:pt x="2461" y="2011"/>
                </a:lnTo>
                <a:lnTo>
                  <a:pt x="2521" y="2051"/>
                </a:lnTo>
                <a:lnTo>
                  <a:pt x="2560" y="2111"/>
                </a:lnTo>
                <a:lnTo>
                  <a:pt x="2620" y="2150"/>
                </a:lnTo>
                <a:lnTo>
                  <a:pt x="2679" y="2230"/>
                </a:lnTo>
                <a:lnTo>
                  <a:pt x="2739" y="2289"/>
                </a:lnTo>
                <a:lnTo>
                  <a:pt x="2799" y="2309"/>
                </a:lnTo>
                <a:lnTo>
                  <a:pt x="2859" y="2369"/>
                </a:lnTo>
                <a:lnTo>
                  <a:pt x="2919" y="2388"/>
                </a:lnTo>
                <a:lnTo>
                  <a:pt x="2978" y="2408"/>
                </a:lnTo>
                <a:lnTo>
                  <a:pt x="3038" y="2408"/>
                </a:lnTo>
                <a:lnTo>
                  <a:pt x="3097" y="2428"/>
                </a:lnTo>
                <a:lnTo>
                  <a:pt x="3177" y="2468"/>
                </a:lnTo>
                <a:lnTo>
                  <a:pt x="3216" y="2527"/>
                </a:lnTo>
                <a:lnTo>
                  <a:pt x="3276" y="2607"/>
                </a:lnTo>
                <a:lnTo>
                  <a:pt x="3335" y="2666"/>
                </a:lnTo>
                <a:lnTo>
                  <a:pt x="3355" y="2726"/>
                </a:lnTo>
                <a:lnTo>
                  <a:pt x="3395" y="2785"/>
                </a:lnTo>
                <a:lnTo>
                  <a:pt x="3454" y="2865"/>
                </a:lnTo>
                <a:lnTo>
                  <a:pt x="3474" y="2924"/>
                </a:lnTo>
                <a:lnTo>
                  <a:pt x="3514" y="2984"/>
                </a:lnTo>
                <a:lnTo>
                  <a:pt x="3554" y="3043"/>
                </a:lnTo>
                <a:lnTo>
                  <a:pt x="3573" y="3103"/>
                </a:lnTo>
                <a:lnTo>
                  <a:pt x="3633" y="3162"/>
                </a:lnTo>
                <a:lnTo>
                  <a:pt x="3692" y="3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"/>
          <p:cNvSpPr/>
          <p:nvPr/>
        </p:nvSpPr>
        <p:spPr>
          <a:xfrm>
            <a:off x="3898800" y="1852560"/>
            <a:ext cx="1679760" cy="1421280"/>
          </a:xfrm>
          <a:custGeom>
            <a:avLst/>
            <a:gdLst/>
            <a:ahLst/>
            <a:rect l="0" t="0" r="r" b="b"/>
            <a:pathLst>
              <a:path fill="none" w="4666" h="3948">
                <a:moveTo>
                  <a:pt x="0" y="3948"/>
                </a:moveTo>
                <a:lnTo>
                  <a:pt x="33" y="3823"/>
                </a:lnTo>
                <a:lnTo>
                  <a:pt x="271" y="3591"/>
                </a:lnTo>
                <a:lnTo>
                  <a:pt x="528" y="3334"/>
                </a:lnTo>
                <a:lnTo>
                  <a:pt x="694" y="3228"/>
                </a:lnTo>
                <a:lnTo>
                  <a:pt x="912" y="2909"/>
                </a:lnTo>
                <a:lnTo>
                  <a:pt x="1018" y="2637"/>
                </a:lnTo>
                <a:lnTo>
                  <a:pt x="1137" y="2520"/>
                </a:lnTo>
                <a:lnTo>
                  <a:pt x="1269" y="2295"/>
                </a:lnTo>
                <a:lnTo>
                  <a:pt x="1461" y="2023"/>
                </a:lnTo>
                <a:lnTo>
                  <a:pt x="1672" y="1567"/>
                </a:lnTo>
                <a:lnTo>
                  <a:pt x="1970" y="1357"/>
                </a:lnTo>
                <a:lnTo>
                  <a:pt x="2082" y="1362"/>
                </a:lnTo>
                <a:lnTo>
                  <a:pt x="2254" y="1467"/>
                </a:lnTo>
                <a:lnTo>
                  <a:pt x="2307" y="1567"/>
                </a:lnTo>
                <a:lnTo>
                  <a:pt x="2447" y="1660"/>
                </a:lnTo>
                <a:lnTo>
                  <a:pt x="2645" y="1746"/>
                </a:lnTo>
                <a:lnTo>
                  <a:pt x="2764" y="1673"/>
                </a:lnTo>
                <a:lnTo>
                  <a:pt x="2982" y="1389"/>
                </a:lnTo>
                <a:lnTo>
                  <a:pt x="3029" y="1350"/>
                </a:lnTo>
                <a:lnTo>
                  <a:pt x="3101" y="1335"/>
                </a:lnTo>
                <a:lnTo>
                  <a:pt x="3209" y="1291"/>
                </a:lnTo>
                <a:lnTo>
                  <a:pt x="3273" y="1220"/>
                </a:lnTo>
                <a:lnTo>
                  <a:pt x="3315" y="1149"/>
                </a:lnTo>
                <a:lnTo>
                  <a:pt x="3361" y="1036"/>
                </a:lnTo>
                <a:lnTo>
                  <a:pt x="3427" y="997"/>
                </a:lnTo>
                <a:lnTo>
                  <a:pt x="3529" y="964"/>
                </a:lnTo>
                <a:lnTo>
                  <a:pt x="3546" y="969"/>
                </a:lnTo>
                <a:lnTo>
                  <a:pt x="3665" y="957"/>
                </a:lnTo>
                <a:lnTo>
                  <a:pt x="3721" y="935"/>
                </a:lnTo>
                <a:lnTo>
                  <a:pt x="3784" y="864"/>
                </a:lnTo>
                <a:lnTo>
                  <a:pt x="3848" y="839"/>
                </a:lnTo>
                <a:lnTo>
                  <a:pt x="3912" y="793"/>
                </a:lnTo>
                <a:lnTo>
                  <a:pt x="3998" y="697"/>
                </a:lnTo>
                <a:lnTo>
                  <a:pt x="4062" y="651"/>
                </a:lnTo>
                <a:lnTo>
                  <a:pt x="4126" y="626"/>
                </a:lnTo>
                <a:lnTo>
                  <a:pt x="4168" y="555"/>
                </a:lnTo>
                <a:lnTo>
                  <a:pt x="4232" y="509"/>
                </a:lnTo>
                <a:lnTo>
                  <a:pt x="4254" y="438"/>
                </a:lnTo>
                <a:lnTo>
                  <a:pt x="4298" y="342"/>
                </a:lnTo>
                <a:lnTo>
                  <a:pt x="4362" y="271"/>
                </a:lnTo>
                <a:lnTo>
                  <a:pt x="4426" y="200"/>
                </a:lnTo>
                <a:lnTo>
                  <a:pt x="4490" y="105"/>
                </a:lnTo>
                <a:lnTo>
                  <a:pt x="4554" y="34"/>
                </a:lnTo>
                <a:lnTo>
                  <a:pt x="4618" y="12"/>
                </a:lnTo>
                <a:lnTo>
                  <a:pt x="466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"/>
          <p:cNvSpPr/>
          <p:nvPr/>
        </p:nvSpPr>
        <p:spPr>
          <a:xfrm>
            <a:off x="3949560" y="1908000"/>
            <a:ext cx="1632240" cy="1365480"/>
          </a:xfrm>
          <a:custGeom>
            <a:avLst/>
            <a:gdLst/>
            <a:ahLst/>
            <a:rect l="0" t="0" r="r" b="b"/>
            <a:pathLst>
              <a:path fill="none" w="4534" h="3793">
                <a:moveTo>
                  <a:pt x="4534" y="0"/>
                </a:moveTo>
                <a:lnTo>
                  <a:pt x="4492" y="63"/>
                </a:lnTo>
                <a:lnTo>
                  <a:pt x="4428" y="127"/>
                </a:lnTo>
                <a:lnTo>
                  <a:pt x="4364" y="171"/>
                </a:lnTo>
                <a:lnTo>
                  <a:pt x="4320" y="235"/>
                </a:lnTo>
                <a:lnTo>
                  <a:pt x="4278" y="299"/>
                </a:lnTo>
                <a:lnTo>
                  <a:pt x="4236" y="363"/>
                </a:lnTo>
                <a:lnTo>
                  <a:pt x="4192" y="427"/>
                </a:lnTo>
                <a:lnTo>
                  <a:pt x="4150" y="491"/>
                </a:lnTo>
                <a:lnTo>
                  <a:pt x="4086" y="533"/>
                </a:lnTo>
                <a:lnTo>
                  <a:pt x="4022" y="597"/>
                </a:lnTo>
                <a:lnTo>
                  <a:pt x="3958" y="641"/>
                </a:lnTo>
                <a:lnTo>
                  <a:pt x="3894" y="705"/>
                </a:lnTo>
                <a:lnTo>
                  <a:pt x="3808" y="747"/>
                </a:lnTo>
                <a:lnTo>
                  <a:pt x="3744" y="811"/>
                </a:lnTo>
                <a:lnTo>
                  <a:pt x="3680" y="833"/>
                </a:lnTo>
                <a:lnTo>
                  <a:pt x="3649" y="890"/>
                </a:lnTo>
                <a:lnTo>
                  <a:pt x="3605" y="930"/>
                </a:lnTo>
                <a:lnTo>
                  <a:pt x="3539" y="956"/>
                </a:lnTo>
                <a:lnTo>
                  <a:pt x="3504" y="987"/>
                </a:lnTo>
                <a:lnTo>
                  <a:pt x="3459" y="1040"/>
                </a:lnTo>
                <a:lnTo>
                  <a:pt x="3362" y="1128"/>
                </a:lnTo>
                <a:lnTo>
                  <a:pt x="3279" y="1177"/>
                </a:lnTo>
                <a:lnTo>
                  <a:pt x="3217" y="1212"/>
                </a:lnTo>
                <a:lnTo>
                  <a:pt x="3173" y="1265"/>
                </a:lnTo>
                <a:lnTo>
                  <a:pt x="3111" y="1309"/>
                </a:lnTo>
                <a:lnTo>
                  <a:pt x="3089" y="1375"/>
                </a:lnTo>
                <a:lnTo>
                  <a:pt x="3018" y="1428"/>
                </a:lnTo>
                <a:lnTo>
                  <a:pt x="2956" y="1521"/>
                </a:lnTo>
                <a:lnTo>
                  <a:pt x="2859" y="1569"/>
                </a:lnTo>
                <a:lnTo>
                  <a:pt x="2811" y="1631"/>
                </a:lnTo>
                <a:lnTo>
                  <a:pt x="2731" y="1697"/>
                </a:lnTo>
                <a:lnTo>
                  <a:pt x="2648" y="1737"/>
                </a:lnTo>
                <a:lnTo>
                  <a:pt x="2581" y="1755"/>
                </a:lnTo>
                <a:lnTo>
                  <a:pt x="2506" y="1746"/>
                </a:lnTo>
                <a:lnTo>
                  <a:pt x="2392" y="1737"/>
                </a:lnTo>
                <a:lnTo>
                  <a:pt x="2315" y="1642"/>
                </a:lnTo>
                <a:lnTo>
                  <a:pt x="2250" y="1600"/>
                </a:lnTo>
                <a:lnTo>
                  <a:pt x="2186" y="1536"/>
                </a:lnTo>
                <a:lnTo>
                  <a:pt x="2119" y="1494"/>
                </a:lnTo>
                <a:lnTo>
                  <a:pt x="2077" y="1430"/>
                </a:lnTo>
                <a:lnTo>
                  <a:pt x="2014" y="1408"/>
                </a:lnTo>
                <a:lnTo>
                  <a:pt x="1950" y="1386"/>
                </a:lnTo>
                <a:lnTo>
                  <a:pt x="1888" y="1318"/>
                </a:lnTo>
                <a:lnTo>
                  <a:pt x="1800" y="1386"/>
                </a:lnTo>
                <a:lnTo>
                  <a:pt x="1758" y="1450"/>
                </a:lnTo>
                <a:lnTo>
                  <a:pt x="1716" y="1514"/>
                </a:lnTo>
                <a:lnTo>
                  <a:pt x="1672" y="1578"/>
                </a:lnTo>
                <a:lnTo>
                  <a:pt x="1608" y="1642"/>
                </a:lnTo>
                <a:lnTo>
                  <a:pt x="1566" y="1708"/>
                </a:lnTo>
                <a:lnTo>
                  <a:pt x="1502" y="1772"/>
                </a:lnTo>
                <a:lnTo>
                  <a:pt x="1458" y="1836"/>
                </a:lnTo>
                <a:lnTo>
                  <a:pt x="1416" y="1901"/>
                </a:lnTo>
                <a:lnTo>
                  <a:pt x="1352" y="1965"/>
                </a:lnTo>
                <a:lnTo>
                  <a:pt x="1330" y="2029"/>
                </a:lnTo>
                <a:lnTo>
                  <a:pt x="1288" y="2093"/>
                </a:lnTo>
                <a:lnTo>
                  <a:pt x="1224" y="2177"/>
                </a:lnTo>
                <a:lnTo>
                  <a:pt x="1182" y="2241"/>
                </a:lnTo>
                <a:lnTo>
                  <a:pt x="1118" y="2305"/>
                </a:lnTo>
                <a:lnTo>
                  <a:pt x="1074" y="2371"/>
                </a:lnTo>
                <a:lnTo>
                  <a:pt x="1032" y="2435"/>
                </a:lnTo>
                <a:lnTo>
                  <a:pt x="990" y="2499"/>
                </a:lnTo>
                <a:lnTo>
                  <a:pt x="946" y="2563"/>
                </a:lnTo>
                <a:lnTo>
                  <a:pt x="904" y="2626"/>
                </a:lnTo>
                <a:lnTo>
                  <a:pt x="862" y="2690"/>
                </a:lnTo>
                <a:lnTo>
                  <a:pt x="818" y="2754"/>
                </a:lnTo>
                <a:lnTo>
                  <a:pt x="776" y="2818"/>
                </a:lnTo>
                <a:lnTo>
                  <a:pt x="754" y="2882"/>
                </a:lnTo>
                <a:lnTo>
                  <a:pt x="712" y="2946"/>
                </a:lnTo>
                <a:lnTo>
                  <a:pt x="668" y="3010"/>
                </a:lnTo>
                <a:lnTo>
                  <a:pt x="626" y="3074"/>
                </a:lnTo>
                <a:lnTo>
                  <a:pt x="562" y="3160"/>
                </a:lnTo>
                <a:lnTo>
                  <a:pt x="520" y="3224"/>
                </a:lnTo>
                <a:lnTo>
                  <a:pt x="456" y="3244"/>
                </a:lnTo>
                <a:lnTo>
                  <a:pt x="392" y="3288"/>
                </a:lnTo>
                <a:lnTo>
                  <a:pt x="348" y="3352"/>
                </a:lnTo>
                <a:lnTo>
                  <a:pt x="284" y="3394"/>
                </a:lnTo>
                <a:lnTo>
                  <a:pt x="220" y="3458"/>
                </a:lnTo>
                <a:lnTo>
                  <a:pt x="178" y="3522"/>
                </a:lnTo>
                <a:lnTo>
                  <a:pt x="114" y="3586"/>
                </a:lnTo>
                <a:lnTo>
                  <a:pt x="70" y="3650"/>
                </a:lnTo>
                <a:lnTo>
                  <a:pt x="28" y="3713"/>
                </a:lnTo>
                <a:lnTo>
                  <a:pt x="0" y="37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"/>
          <p:cNvSpPr/>
          <p:nvPr/>
        </p:nvSpPr>
        <p:spPr>
          <a:xfrm>
            <a:off x="4008600" y="2065320"/>
            <a:ext cx="1575000" cy="1208520"/>
          </a:xfrm>
          <a:custGeom>
            <a:avLst/>
            <a:gdLst/>
            <a:ahLst/>
            <a:rect l="0" t="0" r="r" b="b"/>
            <a:pathLst>
              <a:path fill="none" w="4375" h="3357">
                <a:moveTo>
                  <a:pt x="4375" y="0"/>
                </a:moveTo>
                <a:lnTo>
                  <a:pt x="4326" y="13"/>
                </a:lnTo>
                <a:lnTo>
                  <a:pt x="4262" y="33"/>
                </a:lnTo>
                <a:lnTo>
                  <a:pt x="4199" y="77"/>
                </a:lnTo>
                <a:lnTo>
                  <a:pt x="4135" y="97"/>
                </a:lnTo>
                <a:lnTo>
                  <a:pt x="4071" y="141"/>
                </a:lnTo>
                <a:lnTo>
                  <a:pt x="4027" y="224"/>
                </a:lnTo>
                <a:lnTo>
                  <a:pt x="3963" y="288"/>
                </a:lnTo>
                <a:lnTo>
                  <a:pt x="3899" y="352"/>
                </a:lnTo>
                <a:lnTo>
                  <a:pt x="3835" y="396"/>
                </a:lnTo>
                <a:lnTo>
                  <a:pt x="3771" y="460"/>
                </a:lnTo>
                <a:lnTo>
                  <a:pt x="3707" y="502"/>
                </a:lnTo>
                <a:lnTo>
                  <a:pt x="3665" y="566"/>
                </a:lnTo>
                <a:lnTo>
                  <a:pt x="3630" y="648"/>
                </a:lnTo>
                <a:lnTo>
                  <a:pt x="3586" y="727"/>
                </a:lnTo>
                <a:lnTo>
                  <a:pt x="3475" y="784"/>
                </a:lnTo>
                <a:lnTo>
                  <a:pt x="3356" y="815"/>
                </a:lnTo>
                <a:lnTo>
                  <a:pt x="3279" y="845"/>
                </a:lnTo>
                <a:lnTo>
                  <a:pt x="3215" y="909"/>
                </a:lnTo>
                <a:lnTo>
                  <a:pt x="3151" y="973"/>
                </a:lnTo>
                <a:lnTo>
                  <a:pt x="3109" y="1037"/>
                </a:lnTo>
                <a:lnTo>
                  <a:pt x="3045" y="1079"/>
                </a:lnTo>
                <a:lnTo>
                  <a:pt x="3004" y="1143"/>
                </a:lnTo>
                <a:lnTo>
                  <a:pt x="2940" y="1187"/>
                </a:lnTo>
                <a:lnTo>
                  <a:pt x="2876" y="1229"/>
                </a:lnTo>
                <a:lnTo>
                  <a:pt x="2812" y="1273"/>
                </a:lnTo>
                <a:lnTo>
                  <a:pt x="2748" y="1293"/>
                </a:lnTo>
                <a:lnTo>
                  <a:pt x="2684" y="1315"/>
                </a:lnTo>
                <a:lnTo>
                  <a:pt x="2618" y="1356"/>
                </a:lnTo>
                <a:lnTo>
                  <a:pt x="2554" y="1379"/>
                </a:lnTo>
                <a:lnTo>
                  <a:pt x="2490" y="1379"/>
                </a:lnTo>
                <a:lnTo>
                  <a:pt x="2426" y="1401"/>
                </a:lnTo>
                <a:lnTo>
                  <a:pt x="2362" y="1420"/>
                </a:lnTo>
                <a:lnTo>
                  <a:pt x="2278" y="1442"/>
                </a:lnTo>
                <a:lnTo>
                  <a:pt x="2169" y="1442"/>
                </a:lnTo>
                <a:lnTo>
                  <a:pt x="2105" y="1420"/>
                </a:lnTo>
                <a:lnTo>
                  <a:pt x="2041" y="1379"/>
                </a:lnTo>
                <a:lnTo>
                  <a:pt x="1977" y="1356"/>
                </a:lnTo>
                <a:lnTo>
                  <a:pt x="1913" y="1315"/>
                </a:lnTo>
                <a:lnTo>
                  <a:pt x="1849" y="1293"/>
                </a:lnTo>
                <a:lnTo>
                  <a:pt x="1785" y="1273"/>
                </a:lnTo>
                <a:lnTo>
                  <a:pt x="1721" y="1251"/>
                </a:lnTo>
                <a:lnTo>
                  <a:pt x="1649" y="1185"/>
                </a:lnTo>
                <a:lnTo>
                  <a:pt x="1572" y="1251"/>
                </a:lnTo>
                <a:lnTo>
                  <a:pt x="1508" y="1273"/>
                </a:lnTo>
                <a:lnTo>
                  <a:pt x="1466" y="1337"/>
                </a:lnTo>
                <a:lnTo>
                  <a:pt x="1402" y="1379"/>
                </a:lnTo>
                <a:lnTo>
                  <a:pt x="1338" y="1420"/>
                </a:lnTo>
                <a:lnTo>
                  <a:pt x="1274" y="1484"/>
                </a:lnTo>
                <a:lnTo>
                  <a:pt x="1252" y="1548"/>
                </a:lnTo>
                <a:lnTo>
                  <a:pt x="1210" y="1612"/>
                </a:lnTo>
                <a:lnTo>
                  <a:pt x="1166" y="1676"/>
                </a:lnTo>
                <a:lnTo>
                  <a:pt x="1124" y="1740"/>
                </a:lnTo>
                <a:lnTo>
                  <a:pt x="1082" y="1804"/>
                </a:lnTo>
                <a:lnTo>
                  <a:pt x="1038" y="1868"/>
                </a:lnTo>
                <a:lnTo>
                  <a:pt x="996" y="1934"/>
                </a:lnTo>
                <a:lnTo>
                  <a:pt x="954" y="1998"/>
                </a:lnTo>
                <a:lnTo>
                  <a:pt x="910" y="2062"/>
                </a:lnTo>
                <a:lnTo>
                  <a:pt x="868" y="2126"/>
                </a:lnTo>
                <a:lnTo>
                  <a:pt x="826" y="2190"/>
                </a:lnTo>
                <a:lnTo>
                  <a:pt x="782" y="2254"/>
                </a:lnTo>
                <a:lnTo>
                  <a:pt x="762" y="2318"/>
                </a:lnTo>
                <a:lnTo>
                  <a:pt x="698" y="2382"/>
                </a:lnTo>
                <a:lnTo>
                  <a:pt x="676" y="2446"/>
                </a:lnTo>
                <a:lnTo>
                  <a:pt x="612" y="2510"/>
                </a:lnTo>
                <a:lnTo>
                  <a:pt x="568" y="2575"/>
                </a:lnTo>
                <a:lnTo>
                  <a:pt x="549" y="2639"/>
                </a:lnTo>
                <a:lnTo>
                  <a:pt x="526" y="2702"/>
                </a:lnTo>
                <a:lnTo>
                  <a:pt x="463" y="2766"/>
                </a:lnTo>
                <a:lnTo>
                  <a:pt x="399" y="2830"/>
                </a:lnTo>
                <a:lnTo>
                  <a:pt x="335" y="2894"/>
                </a:lnTo>
                <a:lnTo>
                  <a:pt x="271" y="2958"/>
                </a:lnTo>
                <a:lnTo>
                  <a:pt x="229" y="3022"/>
                </a:lnTo>
                <a:lnTo>
                  <a:pt x="165" y="3064"/>
                </a:lnTo>
                <a:lnTo>
                  <a:pt x="121" y="3128"/>
                </a:lnTo>
                <a:lnTo>
                  <a:pt x="79" y="3192"/>
                </a:lnTo>
                <a:lnTo>
                  <a:pt x="37" y="3258"/>
                </a:lnTo>
                <a:lnTo>
                  <a:pt x="0" y="33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"/>
          <p:cNvSpPr/>
          <p:nvPr/>
        </p:nvSpPr>
        <p:spPr>
          <a:xfrm>
            <a:off x="4091040" y="2244600"/>
            <a:ext cx="1492560" cy="1027440"/>
          </a:xfrm>
          <a:custGeom>
            <a:avLst/>
            <a:gdLst/>
            <a:ahLst/>
            <a:rect l="0" t="0" r="r" b="b"/>
            <a:pathLst>
              <a:path fill="none" w="4146" h="2854">
                <a:moveTo>
                  <a:pt x="4146" y="0"/>
                </a:moveTo>
                <a:lnTo>
                  <a:pt x="4097" y="46"/>
                </a:lnTo>
                <a:lnTo>
                  <a:pt x="4033" y="68"/>
                </a:lnTo>
                <a:lnTo>
                  <a:pt x="3969" y="90"/>
                </a:lnTo>
                <a:lnTo>
                  <a:pt x="3905" y="112"/>
                </a:lnTo>
                <a:lnTo>
                  <a:pt x="3841" y="154"/>
                </a:lnTo>
                <a:lnTo>
                  <a:pt x="3777" y="176"/>
                </a:lnTo>
                <a:lnTo>
                  <a:pt x="3711" y="240"/>
                </a:lnTo>
                <a:lnTo>
                  <a:pt x="3669" y="304"/>
                </a:lnTo>
                <a:lnTo>
                  <a:pt x="3605" y="346"/>
                </a:lnTo>
                <a:lnTo>
                  <a:pt x="3542" y="388"/>
                </a:lnTo>
                <a:lnTo>
                  <a:pt x="3478" y="432"/>
                </a:lnTo>
                <a:lnTo>
                  <a:pt x="3414" y="474"/>
                </a:lnTo>
                <a:lnTo>
                  <a:pt x="3350" y="496"/>
                </a:lnTo>
                <a:lnTo>
                  <a:pt x="3286" y="537"/>
                </a:lnTo>
                <a:lnTo>
                  <a:pt x="3222" y="579"/>
                </a:lnTo>
                <a:lnTo>
                  <a:pt x="3158" y="643"/>
                </a:lnTo>
                <a:lnTo>
                  <a:pt x="3072" y="707"/>
                </a:lnTo>
                <a:lnTo>
                  <a:pt x="3008" y="751"/>
                </a:lnTo>
                <a:lnTo>
                  <a:pt x="2922" y="793"/>
                </a:lnTo>
                <a:lnTo>
                  <a:pt x="2838" y="857"/>
                </a:lnTo>
                <a:lnTo>
                  <a:pt x="2774" y="901"/>
                </a:lnTo>
                <a:lnTo>
                  <a:pt x="2710" y="943"/>
                </a:lnTo>
                <a:lnTo>
                  <a:pt x="2624" y="985"/>
                </a:lnTo>
                <a:lnTo>
                  <a:pt x="2560" y="1029"/>
                </a:lnTo>
                <a:lnTo>
                  <a:pt x="2496" y="1049"/>
                </a:lnTo>
                <a:lnTo>
                  <a:pt x="2432" y="1071"/>
                </a:lnTo>
                <a:lnTo>
                  <a:pt x="2369" y="1071"/>
                </a:lnTo>
                <a:lnTo>
                  <a:pt x="2283" y="1093"/>
                </a:lnTo>
                <a:lnTo>
                  <a:pt x="2197" y="1113"/>
                </a:lnTo>
                <a:lnTo>
                  <a:pt x="2133" y="1113"/>
                </a:lnTo>
                <a:lnTo>
                  <a:pt x="2048" y="1113"/>
                </a:lnTo>
                <a:lnTo>
                  <a:pt x="1984" y="1135"/>
                </a:lnTo>
                <a:lnTo>
                  <a:pt x="1920" y="1135"/>
                </a:lnTo>
                <a:lnTo>
                  <a:pt x="1856" y="1113"/>
                </a:lnTo>
                <a:lnTo>
                  <a:pt x="1792" y="1093"/>
                </a:lnTo>
                <a:lnTo>
                  <a:pt x="1726" y="1093"/>
                </a:lnTo>
                <a:lnTo>
                  <a:pt x="1662" y="1071"/>
                </a:lnTo>
                <a:lnTo>
                  <a:pt x="1578" y="1029"/>
                </a:lnTo>
                <a:lnTo>
                  <a:pt x="1514" y="1007"/>
                </a:lnTo>
                <a:lnTo>
                  <a:pt x="1426" y="978"/>
                </a:lnTo>
                <a:lnTo>
                  <a:pt x="1349" y="923"/>
                </a:lnTo>
                <a:lnTo>
                  <a:pt x="1274" y="963"/>
                </a:lnTo>
                <a:lnTo>
                  <a:pt x="1172" y="1029"/>
                </a:lnTo>
                <a:lnTo>
                  <a:pt x="1109" y="1049"/>
                </a:lnTo>
                <a:lnTo>
                  <a:pt x="1064" y="1113"/>
                </a:lnTo>
                <a:lnTo>
                  <a:pt x="1001" y="1177"/>
                </a:lnTo>
                <a:lnTo>
                  <a:pt x="959" y="1241"/>
                </a:lnTo>
                <a:lnTo>
                  <a:pt x="937" y="1305"/>
                </a:lnTo>
                <a:lnTo>
                  <a:pt x="895" y="1369"/>
                </a:lnTo>
                <a:lnTo>
                  <a:pt x="853" y="1436"/>
                </a:lnTo>
                <a:lnTo>
                  <a:pt x="831" y="1500"/>
                </a:lnTo>
                <a:lnTo>
                  <a:pt x="767" y="1542"/>
                </a:lnTo>
                <a:lnTo>
                  <a:pt x="725" y="1628"/>
                </a:lnTo>
                <a:lnTo>
                  <a:pt x="661" y="1692"/>
                </a:lnTo>
                <a:lnTo>
                  <a:pt x="639" y="1756"/>
                </a:lnTo>
                <a:lnTo>
                  <a:pt x="597" y="1820"/>
                </a:lnTo>
                <a:lnTo>
                  <a:pt x="553" y="1883"/>
                </a:lnTo>
                <a:lnTo>
                  <a:pt x="511" y="1947"/>
                </a:lnTo>
                <a:lnTo>
                  <a:pt x="489" y="2011"/>
                </a:lnTo>
                <a:lnTo>
                  <a:pt x="447" y="2075"/>
                </a:lnTo>
                <a:lnTo>
                  <a:pt x="403" y="2139"/>
                </a:lnTo>
                <a:lnTo>
                  <a:pt x="361" y="2203"/>
                </a:lnTo>
                <a:lnTo>
                  <a:pt x="339" y="2267"/>
                </a:lnTo>
                <a:lnTo>
                  <a:pt x="297" y="2331"/>
                </a:lnTo>
                <a:lnTo>
                  <a:pt x="255" y="2395"/>
                </a:lnTo>
                <a:lnTo>
                  <a:pt x="211" y="2459"/>
                </a:lnTo>
                <a:lnTo>
                  <a:pt x="169" y="2523"/>
                </a:lnTo>
                <a:lnTo>
                  <a:pt x="127" y="2587"/>
                </a:lnTo>
                <a:lnTo>
                  <a:pt x="83" y="2651"/>
                </a:lnTo>
                <a:lnTo>
                  <a:pt x="63" y="2715"/>
                </a:lnTo>
                <a:lnTo>
                  <a:pt x="19" y="2779"/>
                </a:lnTo>
                <a:lnTo>
                  <a:pt x="0" y="285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"/>
          <p:cNvSpPr/>
          <p:nvPr/>
        </p:nvSpPr>
        <p:spPr>
          <a:xfrm>
            <a:off x="4124160" y="2502000"/>
            <a:ext cx="1459440" cy="771840"/>
          </a:xfrm>
          <a:custGeom>
            <a:avLst/>
            <a:gdLst/>
            <a:ahLst/>
            <a:rect l="0" t="0" r="r" b="b"/>
            <a:pathLst>
              <a:path fill="none" w="4054" h="2144">
                <a:moveTo>
                  <a:pt x="4054" y="0"/>
                </a:moveTo>
                <a:lnTo>
                  <a:pt x="4006" y="15"/>
                </a:lnTo>
                <a:lnTo>
                  <a:pt x="3942" y="37"/>
                </a:lnTo>
                <a:lnTo>
                  <a:pt x="3878" y="79"/>
                </a:lnTo>
                <a:lnTo>
                  <a:pt x="3814" y="123"/>
                </a:lnTo>
                <a:lnTo>
                  <a:pt x="3750" y="165"/>
                </a:lnTo>
                <a:lnTo>
                  <a:pt x="3686" y="207"/>
                </a:lnTo>
                <a:lnTo>
                  <a:pt x="3620" y="251"/>
                </a:lnTo>
                <a:lnTo>
                  <a:pt x="3556" y="293"/>
                </a:lnTo>
                <a:lnTo>
                  <a:pt x="3472" y="357"/>
                </a:lnTo>
                <a:lnTo>
                  <a:pt x="3386" y="399"/>
                </a:lnTo>
                <a:lnTo>
                  <a:pt x="3322" y="443"/>
                </a:lnTo>
                <a:lnTo>
                  <a:pt x="3258" y="485"/>
                </a:lnTo>
                <a:lnTo>
                  <a:pt x="3152" y="526"/>
                </a:lnTo>
                <a:lnTo>
                  <a:pt x="3066" y="549"/>
                </a:lnTo>
                <a:lnTo>
                  <a:pt x="3001" y="571"/>
                </a:lnTo>
                <a:lnTo>
                  <a:pt x="2937" y="590"/>
                </a:lnTo>
                <a:lnTo>
                  <a:pt x="2809" y="612"/>
                </a:lnTo>
                <a:lnTo>
                  <a:pt x="2724" y="635"/>
                </a:lnTo>
                <a:lnTo>
                  <a:pt x="2510" y="635"/>
                </a:lnTo>
                <a:lnTo>
                  <a:pt x="2446" y="635"/>
                </a:lnTo>
                <a:lnTo>
                  <a:pt x="2382" y="654"/>
                </a:lnTo>
                <a:lnTo>
                  <a:pt x="2318" y="654"/>
                </a:lnTo>
                <a:lnTo>
                  <a:pt x="2232" y="654"/>
                </a:lnTo>
                <a:lnTo>
                  <a:pt x="2168" y="654"/>
                </a:lnTo>
                <a:lnTo>
                  <a:pt x="2104" y="654"/>
                </a:lnTo>
                <a:lnTo>
                  <a:pt x="2020" y="635"/>
                </a:lnTo>
                <a:lnTo>
                  <a:pt x="1934" y="635"/>
                </a:lnTo>
                <a:lnTo>
                  <a:pt x="1828" y="635"/>
                </a:lnTo>
                <a:lnTo>
                  <a:pt x="1764" y="635"/>
                </a:lnTo>
                <a:lnTo>
                  <a:pt x="1678" y="612"/>
                </a:lnTo>
                <a:lnTo>
                  <a:pt x="1614" y="590"/>
                </a:lnTo>
                <a:lnTo>
                  <a:pt x="1551" y="571"/>
                </a:lnTo>
                <a:lnTo>
                  <a:pt x="1423" y="571"/>
                </a:lnTo>
                <a:lnTo>
                  <a:pt x="1359" y="571"/>
                </a:lnTo>
                <a:lnTo>
                  <a:pt x="1290" y="535"/>
                </a:lnTo>
                <a:lnTo>
                  <a:pt x="1198" y="606"/>
                </a:lnTo>
                <a:lnTo>
                  <a:pt x="1138" y="646"/>
                </a:lnTo>
                <a:lnTo>
                  <a:pt x="1103" y="720"/>
                </a:lnTo>
                <a:lnTo>
                  <a:pt x="1039" y="762"/>
                </a:lnTo>
                <a:lnTo>
                  <a:pt x="972" y="826"/>
                </a:lnTo>
                <a:lnTo>
                  <a:pt x="908" y="890"/>
                </a:lnTo>
                <a:lnTo>
                  <a:pt x="866" y="954"/>
                </a:lnTo>
                <a:lnTo>
                  <a:pt x="802" y="1018"/>
                </a:lnTo>
                <a:lnTo>
                  <a:pt x="738" y="1060"/>
                </a:lnTo>
                <a:lnTo>
                  <a:pt x="674" y="1125"/>
                </a:lnTo>
                <a:lnTo>
                  <a:pt x="610" y="1169"/>
                </a:lnTo>
                <a:lnTo>
                  <a:pt x="568" y="1233"/>
                </a:lnTo>
                <a:lnTo>
                  <a:pt x="482" y="1317"/>
                </a:lnTo>
                <a:lnTo>
                  <a:pt x="440" y="1383"/>
                </a:lnTo>
                <a:lnTo>
                  <a:pt x="418" y="1447"/>
                </a:lnTo>
                <a:lnTo>
                  <a:pt x="377" y="1511"/>
                </a:lnTo>
                <a:lnTo>
                  <a:pt x="354" y="1575"/>
                </a:lnTo>
                <a:lnTo>
                  <a:pt x="310" y="1639"/>
                </a:lnTo>
                <a:lnTo>
                  <a:pt x="268" y="1703"/>
                </a:lnTo>
                <a:lnTo>
                  <a:pt x="246" y="1767"/>
                </a:lnTo>
                <a:lnTo>
                  <a:pt x="205" y="1831"/>
                </a:lnTo>
                <a:lnTo>
                  <a:pt x="183" y="1894"/>
                </a:lnTo>
                <a:lnTo>
                  <a:pt x="99" y="1978"/>
                </a:lnTo>
                <a:lnTo>
                  <a:pt x="55" y="2044"/>
                </a:lnTo>
                <a:lnTo>
                  <a:pt x="0" y="214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"/>
          <p:cNvSpPr/>
          <p:nvPr/>
        </p:nvSpPr>
        <p:spPr>
          <a:xfrm>
            <a:off x="4175280" y="2716200"/>
            <a:ext cx="1408320" cy="560880"/>
          </a:xfrm>
          <a:custGeom>
            <a:avLst/>
            <a:gdLst/>
            <a:ahLst/>
            <a:rect l="0" t="0" r="r" b="b"/>
            <a:pathLst>
              <a:path fill="none" w="3912" h="1558">
                <a:moveTo>
                  <a:pt x="3912" y="0"/>
                </a:moveTo>
                <a:lnTo>
                  <a:pt x="3863" y="17"/>
                </a:lnTo>
                <a:lnTo>
                  <a:pt x="3819" y="81"/>
                </a:lnTo>
                <a:lnTo>
                  <a:pt x="3755" y="125"/>
                </a:lnTo>
                <a:lnTo>
                  <a:pt x="3691" y="167"/>
                </a:lnTo>
                <a:lnTo>
                  <a:pt x="3608" y="253"/>
                </a:lnTo>
                <a:lnTo>
                  <a:pt x="3500" y="317"/>
                </a:lnTo>
                <a:lnTo>
                  <a:pt x="3436" y="337"/>
                </a:lnTo>
                <a:lnTo>
                  <a:pt x="3372" y="359"/>
                </a:lnTo>
                <a:lnTo>
                  <a:pt x="3266" y="359"/>
                </a:lnTo>
                <a:lnTo>
                  <a:pt x="3202" y="359"/>
                </a:lnTo>
                <a:lnTo>
                  <a:pt x="3138" y="359"/>
                </a:lnTo>
                <a:lnTo>
                  <a:pt x="2541" y="337"/>
                </a:lnTo>
                <a:lnTo>
                  <a:pt x="2432" y="337"/>
                </a:lnTo>
                <a:lnTo>
                  <a:pt x="2369" y="337"/>
                </a:lnTo>
                <a:lnTo>
                  <a:pt x="2155" y="317"/>
                </a:lnTo>
                <a:lnTo>
                  <a:pt x="2071" y="295"/>
                </a:lnTo>
                <a:lnTo>
                  <a:pt x="2007" y="295"/>
                </a:lnTo>
                <a:lnTo>
                  <a:pt x="1942" y="253"/>
                </a:lnTo>
                <a:lnTo>
                  <a:pt x="1856" y="231"/>
                </a:lnTo>
                <a:lnTo>
                  <a:pt x="1770" y="231"/>
                </a:lnTo>
                <a:lnTo>
                  <a:pt x="1706" y="231"/>
                </a:lnTo>
                <a:lnTo>
                  <a:pt x="1622" y="231"/>
                </a:lnTo>
                <a:lnTo>
                  <a:pt x="1558" y="231"/>
                </a:lnTo>
                <a:lnTo>
                  <a:pt x="1472" y="231"/>
                </a:lnTo>
                <a:lnTo>
                  <a:pt x="1408" y="231"/>
                </a:lnTo>
                <a:lnTo>
                  <a:pt x="1344" y="231"/>
                </a:lnTo>
                <a:lnTo>
                  <a:pt x="1281" y="231"/>
                </a:lnTo>
                <a:lnTo>
                  <a:pt x="1217" y="231"/>
                </a:lnTo>
                <a:lnTo>
                  <a:pt x="1153" y="253"/>
                </a:lnTo>
                <a:lnTo>
                  <a:pt x="1089" y="273"/>
                </a:lnTo>
                <a:lnTo>
                  <a:pt x="1003" y="295"/>
                </a:lnTo>
                <a:lnTo>
                  <a:pt x="939" y="317"/>
                </a:lnTo>
                <a:lnTo>
                  <a:pt x="875" y="337"/>
                </a:lnTo>
                <a:lnTo>
                  <a:pt x="811" y="381"/>
                </a:lnTo>
                <a:lnTo>
                  <a:pt x="747" y="424"/>
                </a:lnTo>
                <a:lnTo>
                  <a:pt x="703" y="488"/>
                </a:lnTo>
                <a:lnTo>
                  <a:pt x="639" y="511"/>
                </a:lnTo>
                <a:lnTo>
                  <a:pt x="575" y="552"/>
                </a:lnTo>
                <a:lnTo>
                  <a:pt x="533" y="617"/>
                </a:lnTo>
                <a:lnTo>
                  <a:pt x="491" y="681"/>
                </a:lnTo>
                <a:lnTo>
                  <a:pt x="427" y="745"/>
                </a:lnTo>
                <a:lnTo>
                  <a:pt x="363" y="831"/>
                </a:lnTo>
                <a:lnTo>
                  <a:pt x="319" y="895"/>
                </a:lnTo>
                <a:lnTo>
                  <a:pt x="277" y="959"/>
                </a:lnTo>
                <a:lnTo>
                  <a:pt x="255" y="1023"/>
                </a:lnTo>
                <a:lnTo>
                  <a:pt x="235" y="1087"/>
                </a:lnTo>
                <a:lnTo>
                  <a:pt x="191" y="1174"/>
                </a:lnTo>
                <a:lnTo>
                  <a:pt x="149" y="1238"/>
                </a:lnTo>
                <a:lnTo>
                  <a:pt x="127" y="1302"/>
                </a:lnTo>
                <a:lnTo>
                  <a:pt x="105" y="1366"/>
                </a:lnTo>
                <a:lnTo>
                  <a:pt x="63" y="1430"/>
                </a:lnTo>
                <a:lnTo>
                  <a:pt x="22" y="1494"/>
                </a:lnTo>
                <a:lnTo>
                  <a:pt x="0" y="155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"/>
          <p:cNvSpPr/>
          <p:nvPr/>
        </p:nvSpPr>
        <p:spPr>
          <a:xfrm>
            <a:off x="4227480" y="2906640"/>
            <a:ext cx="1356120" cy="367200"/>
          </a:xfrm>
          <a:custGeom>
            <a:avLst/>
            <a:gdLst/>
            <a:ahLst/>
            <a:rect l="0" t="0" r="r" b="b"/>
            <a:pathLst>
              <a:path fill="none" w="3767" h="1020">
                <a:moveTo>
                  <a:pt x="3767" y="216"/>
                </a:moveTo>
                <a:lnTo>
                  <a:pt x="3719" y="213"/>
                </a:lnTo>
                <a:lnTo>
                  <a:pt x="3591" y="235"/>
                </a:lnTo>
                <a:lnTo>
                  <a:pt x="3527" y="258"/>
                </a:lnTo>
                <a:lnTo>
                  <a:pt x="3441" y="258"/>
                </a:lnTo>
                <a:lnTo>
                  <a:pt x="3377" y="235"/>
                </a:lnTo>
                <a:lnTo>
                  <a:pt x="3313" y="235"/>
                </a:lnTo>
                <a:lnTo>
                  <a:pt x="3249" y="235"/>
                </a:lnTo>
                <a:lnTo>
                  <a:pt x="3185" y="213"/>
                </a:lnTo>
                <a:lnTo>
                  <a:pt x="3099" y="213"/>
                </a:lnTo>
                <a:lnTo>
                  <a:pt x="2993" y="235"/>
                </a:lnTo>
                <a:lnTo>
                  <a:pt x="2930" y="235"/>
                </a:lnTo>
                <a:lnTo>
                  <a:pt x="2866" y="258"/>
                </a:lnTo>
                <a:lnTo>
                  <a:pt x="2801" y="258"/>
                </a:lnTo>
                <a:lnTo>
                  <a:pt x="2737" y="258"/>
                </a:lnTo>
                <a:lnTo>
                  <a:pt x="2671" y="258"/>
                </a:lnTo>
                <a:lnTo>
                  <a:pt x="2587" y="235"/>
                </a:lnTo>
                <a:lnTo>
                  <a:pt x="2523" y="213"/>
                </a:lnTo>
                <a:lnTo>
                  <a:pt x="2459" y="191"/>
                </a:lnTo>
                <a:lnTo>
                  <a:pt x="2373" y="171"/>
                </a:lnTo>
                <a:lnTo>
                  <a:pt x="2309" y="149"/>
                </a:lnTo>
                <a:lnTo>
                  <a:pt x="2245" y="149"/>
                </a:lnTo>
                <a:lnTo>
                  <a:pt x="2181" y="127"/>
                </a:lnTo>
                <a:lnTo>
                  <a:pt x="2117" y="127"/>
                </a:lnTo>
                <a:lnTo>
                  <a:pt x="2031" y="85"/>
                </a:lnTo>
                <a:lnTo>
                  <a:pt x="1967" y="85"/>
                </a:lnTo>
                <a:lnTo>
                  <a:pt x="1881" y="63"/>
                </a:lnTo>
                <a:lnTo>
                  <a:pt x="1817" y="44"/>
                </a:lnTo>
                <a:lnTo>
                  <a:pt x="1734" y="44"/>
                </a:lnTo>
                <a:lnTo>
                  <a:pt x="1520" y="0"/>
                </a:lnTo>
                <a:lnTo>
                  <a:pt x="1434" y="0"/>
                </a:lnTo>
                <a:lnTo>
                  <a:pt x="1348" y="0"/>
                </a:lnTo>
                <a:lnTo>
                  <a:pt x="1284" y="22"/>
                </a:lnTo>
                <a:lnTo>
                  <a:pt x="1220" y="44"/>
                </a:lnTo>
                <a:lnTo>
                  <a:pt x="1156" y="63"/>
                </a:lnTo>
                <a:lnTo>
                  <a:pt x="1092" y="108"/>
                </a:lnTo>
                <a:lnTo>
                  <a:pt x="1028" y="127"/>
                </a:lnTo>
                <a:lnTo>
                  <a:pt x="964" y="171"/>
                </a:lnTo>
                <a:lnTo>
                  <a:pt x="899" y="171"/>
                </a:lnTo>
                <a:lnTo>
                  <a:pt x="815" y="191"/>
                </a:lnTo>
                <a:lnTo>
                  <a:pt x="751" y="213"/>
                </a:lnTo>
                <a:lnTo>
                  <a:pt x="685" y="235"/>
                </a:lnTo>
                <a:lnTo>
                  <a:pt x="621" y="258"/>
                </a:lnTo>
                <a:lnTo>
                  <a:pt x="557" y="278"/>
                </a:lnTo>
                <a:lnTo>
                  <a:pt x="493" y="300"/>
                </a:lnTo>
                <a:lnTo>
                  <a:pt x="429" y="364"/>
                </a:lnTo>
                <a:lnTo>
                  <a:pt x="366" y="406"/>
                </a:lnTo>
                <a:lnTo>
                  <a:pt x="324" y="470"/>
                </a:lnTo>
                <a:lnTo>
                  <a:pt x="260" y="514"/>
                </a:lnTo>
                <a:lnTo>
                  <a:pt x="218" y="578"/>
                </a:lnTo>
                <a:lnTo>
                  <a:pt x="154" y="620"/>
                </a:lnTo>
                <a:lnTo>
                  <a:pt x="110" y="684"/>
                </a:lnTo>
                <a:lnTo>
                  <a:pt x="68" y="748"/>
                </a:lnTo>
                <a:lnTo>
                  <a:pt x="68" y="813"/>
                </a:lnTo>
                <a:lnTo>
                  <a:pt x="46" y="877"/>
                </a:lnTo>
                <a:lnTo>
                  <a:pt x="24" y="941"/>
                </a:lnTo>
                <a:lnTo>
                  <a:pt x="0" y="102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"/>
          <p:cNvSpPr/>
          <p:nvPr/>
        </p:nvSpPr>
        <p:spPr>
          <a:xfrm>
            <a:off x="4282920" y="3046320"/>
            <a:ext cx="1298880" cy="230400"/>
          </a:xfrm>
          <a:custGeom>
            <a:avLst/>
            <a:gdLst/>
            <a:ahLst/>
            <a:rect l="0" t="0" r="r" b="b"/>
            <a:pathLst>
              <a:path fill="none" w="3608" h="640">
                <a:moveTo>
                  <a:pt x="3608" y="255"/>
                </a:moveTo>
                <a:lnTo>
                  <a:pt x="3502" y="275"/>
                </a:lnTo>
                <a:lnTo>
                  <a:pt x="3438" y="275"/>
                </a:lnTo>
                <a:lnTo>
                  <a:pt x="3374" y="275"/>
                </a:lnTo>
                <a:lnTo>
                  <a:pt x="3310" y="233"/>
                </a:lnTo>
                <a:lnTo>
                  <a:pt x="3246" y="211"/>
                </a:lnTo>
                <a:lnTo>
                  <a:pt x="3032" y="211"/>
                </a:lnTo>
                <a:lnTo>
                  <a:pt x="2968" y="211"/>
                </a:lnTo>
                <a:lnTo>
                  <a:pt x="2904" y="211"/>
                </a:lnTo>
                <a:lnTo>
                  <a:pt x="2796" y="211"/>
                </a:lnTo>
                <a:lnTo>
                  <a:pt x="2732" y="211"/>
                </a:lnTo>
                <a:lnTo>
                  <a:pt x="2668" y="211"/>
                </a:lnTo>
                <a:lnTo>
                  <a:pt x="2584" y="211"/>
                </a:lnTo>
                <a:lnTo>
                  <a:pt x="2518" y="211"/>
                </a:lnTo>
                <a:lnTo>
                  <a:pt x="2454" y="211"/>
                </a:lnTo>
                <a:lnTo>
                  <a:pt x="2370" y="211"/>
                </a:lnTo>
                <a:lnTo>
                  <a:pt x="2242" y="211"/>
                </a:lnTo>
                <a:lnTo>
                  <a:pt x="2178" y="191"/>
                </a:lnTo>
                <a:lnTo>
                  <a:pt x="2092" y="169"/>
                </a:lnTo>
                <a:lnTo>
                  <a:pt x="2006" y="127"/>
                </a:lnTo>
                <a:lnTo>
                  <a:pt x="1942" y="105"/>
                </a:lnTo>
                <a:lnTo>
                  <a:pt x="1878" y="83"/>
                </a:lnTo>
                <a:lnTo>
                  <a:pt x="1814" y="63"/>
                </a:lnTo>
                <a:lnTo>
                  <a:pt x="1727" y="19"/>
                </a:lnTo>
                <a:lnTo>
                  <a:pt x="1621" y="19"/>
                </a:lnTo>
                <a:lnTo>
                  <a:pt x="1535" y="0"/>
                </a:lnTo>
                <a:lnTo>
                  <a:pt x="1323" y="0"/>
                </a:lnTo>
                <a:lnTo>
                  <a:pt x="1215" y="0"/>
                </a:lnTo>
                <a:lnTo>
                  <a:pt x="1151" y="19"/>
                </a:lnTo>
                <a:lnTo>
                  <a:pt x="1087" y="19"/>
                </a:lnTo>
                <a:lnTo>
                  <a:pt x="1023" y="19"/>
                </a:lnTo>
                <a:lnTo>
                  <a:pt x="937" y="19"/>
                </a:lnTo>
                <a:lnTo>
                  <a:pt x="853" y="63"/>
                </a:lnTo>
                <a:lnTo>
                  <a:pt x="789" y="63"/>
                </a:lnTo>
                <a:lnTo>
                  <a:pt x="725" y="83"/>
                </a:lnTo>
                <a:lnTo>
                  <a:pt x="661" y="105"/>
                </a:lnTo>
                <a:lnTo>
                  <a:pt x="597" y="127"/>
                </a:lnTo>
                <a:lnTo>
                  <a:pt x="511" y="191"/>
                </a:lnTo>
                <a:lnTo>
                  <a:pt x="447" y="233"/>
                </a:lnTo>
                <a:lnTo>
                  <a:pt x="383" y="275"/>
                </a:lnTo>
                <a:lnTo>
                  <a:pt x="319" y="319"/>
                </a:lnTo>
                <a:lnTo>
                  <a:pt x="255" y="362"/>
                </a:lnTo>
                <a:lnTo>
                  <a:pt x="191" y="404"/>
                </a:lnTo>
                <a:lnTo>
                  <a:pt x="127" y="448"/>
                </a:lnTo>
                <a:lnTo>
                  <a:pt x="63" y="512"/>
                </a:lnTo>
                <a:lnTo>
                  <a:pt x="19" y="576"/>
                </a:lnTo>
                <a:lnTo>
                  <a:pt x="0" y="64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"/>
          <p:cNvSpPr/>
          <p:nvPr/>
        </p:nvSpPr>
        <p:spPr>
          <a:xfrm>
            <a:off x="4398840" y="3191040"/>
            <a:ext cx="945000" cy="86040"/>
          </a:xfrm>
          <a:custGeom>
            <a:avLst/>
            <a:gdLst/>
            <a:ahLst/>
            <a:rect l="0" t="0" r="r" b="b"/>
            <a:pathLst>
              <a:path fill="none" w="2625" h="239">
                <a:moveTo>
                  <a:pt x="2625" y="239"/>
                </a:moveTo>
                <a:lnTo>
                  <a:pt x="2561" y="216"/>
                </a:lnTo>
                <a:lnTo>
                  <a:pt x="2497" y="216"/>
                </a:lnTo>
                <a:lnTo>
                  <a:pt x="2411" y="216"/>
                </a:lnTo>
                <a:lnTo>
                  <a:pt x="2347" y="216"/>
                </a:lnTo>
                <a:lnTo>
                  <a:pt x="2219" y="196"/>
                </a:lnTo>
                <a:lnTo>
                  <a:pt x="2197" y="132"/>
                </a:lnTo>
                <a:lnTo>
                  <a:pt x="2133" y="109"/>
                </a:lnTo>
                <a:lnTo>
                  <a:pt x="2049" y="109"/>
                </a:lnTo>
                <a:lnTo>
                  <a:pt x="1962" y="109"/>
                </a:lnTo>
                <a:lnTo>
                  <a:pt x="1898" y="109"/>
                </a:lnTo>
                <a:lnTo>
                  <a:pt x="1834" y="86"/>
                </a:lnTo>
                <a:lnTo>
                  <a:pt x="1748" y="44"/>
                </a:lnTo>
                <a:lnTo>
                  <a:pt x="1684" y="22"/>
                </a:lnTo>
                <a:lnTo>
                  <a:pt x="1578" y="0"/>
                </a:lnTo>
                <a:lnTo>
                  <a:pt x="1470" y="0"/>
                </a:lnTo>
                <a:lnTo>
                  <a:pt x="1386" y="0"/>
                </a:lnTo>
                <a:lnTo>
                  <a:pt x="1300" y="22"/>
                </a:lnTo>
                <a:lnTo>
                  <a:pt x="1236" y="44"/>
                </a:lnTo>
                <a:lnTo>
                  <a:pt x="1108" y="64"/>
                </a:lnTo>
                <a:lnTo>
                  <a:pt x="894" y="86"/>
                </a:lnTo>
                <a:lnTo>
                  <a:pt x="830" y="86"/>
                </a:lnTo>
                <a:lnTo>
                  <a:pt x="766" y="132"/>
                </a:lnTo>
                <a:lnTo>
                  <a:pt x="702" y="174"/>
                </a:lnTo>
                <a:lnTo>
                  <a:pt x="637" y="174"/>
                </a:lnTo>
                <a:lnTo>
                  <a:pt x="573" y="174"/>
                </a:lnTo>
                <a:lnTo>
                  <a:pt x="509" y="174"/>
                </a:lnTo>
                <a:lnTo>
                  <a:pt x="445" y="174"/>
                </a:lnTo>
                <a:lnTo>
                  <a:pt x="359" y="174"/>
                </a:lnTo>
                <a:lnTo>
                  <a:pt x="295" y="174"/>
                </a:lnTo>
                <a:lnTo>
                  <a:pt x="231" y="152"/>
                </a:lnTo>
                <a:lnTo>
                  <a:pt x="167" y="152"/>
                </a:lnTo>
                <a:lnTo>
                  <a:pt x="103" y="174"/>
                </a:lnTo>
                <a:lnTo>
                  <a:pt x="0" y="23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"/>
          <p:cNvSpPr/>
          <p:nvPr/>
        </p:nvSpPr>
        <p:spPr>
          <a:xfrm>
            <a:off x="4797360" y="587520"/>
            <a:ext cx="20016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"/>
          <p:cNvSpPr/>
          <p:nvPr/>
        </p:nvSpPr>
        <p:spPr>
          <a:xfrm>
            <a:off x="4789440" y="12175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"/>
          <p:cNvSpPr/>
          <p:nvPr/>
        </p:nvSpPr>
        <p:spPr>
          <a:xfrm>
            <a:off x="3298680" y="125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"/>
          <p:cNvSpPr/>
          <p:nvPr/>
        </p:nvSpPr>
        <p:spPr>
          <a:xfrm>
            <a:off x="3398760" y="3096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"/>
          <p:cNvSpPr/>
          <p:nvPr/>
        </p:nvSpPr>
        <p:spPr>
          <a:xfrm>
            <a:off x="3514680" y="5014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"/>
          <p:cNvSpPr/>
          <p:nvPr/>
        </p:nvSpPr>
        <p:spPr>
          <a:xfrm>
            <a:off x="3691080" y="81756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"/>
          <p:cNvSpPr/>
          <p:nvPr/>
        </p:nvSpPr>
        <p:spPr>
          <a:xfrm>
            <a:off x="4167360" y="9097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0" name=""/>
          <p:cNvSpPr/>
          <p:nvPr/>
        </p:nvSpPr>
        <p:spPr>
          <a:xfrm>
            <a:off x="4183200" y="17780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1" name=""/>
          <p:cNvSpPr/>
          <p:nvPr/>
        </p:nvSpPr>
        <p:spPr>
          <a:xfrm>
            <a:off x="3137040" y="19764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2" name=""/>
          <p:cNvSpPr/>
          <p:nvPr/>
        </p:nvSpPr>
        <p:spPr>
          <a:xfrm>
            <a:off x="4313160" y="20383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3" name=""/>
          <p:cNvSpPr/>
          <p:nvPr/>
        </p:nvSpPr>
        <p:spPr>
          <a:xfrm>
            <a:off x="4608360" y="2017800"/>
            <a:ext cx="17604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"/>
          <p:cNvSpPr/>
          <p:nvPr/>
        </p:nvSpPr>
        <p:spPr>
          <a:xfrm>
            <a:off x="4853160" y="2341440"/>
            <a:ext cx="16668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"/>
          <p:cNvSpPr/>
          <p:nvPr/>
        </p:nvSpPr>
        <p:spPr>
          <a:xfrm>
            <a:off x="5127480" y="2222640"/>
            <a:ext cx="160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6" name=""/>
          <p:cNvSpPr/>
          <p:nvPr/>
        </p:nvSpPr>
        <p:spPr>
          <a:xfrm>
            <a:off x="5135400" y="26384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7" name=""/>
          <p:cNvSpPr/>
          <p:nvPr/>
        </p:nvSpPr>
        <p:spPr>
          <a:xfrm>
            <a:off x="5157720" y="24145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8" name=""/>
          <p:cNvSpPr/>
          <p:nvPr/>
        </p:nvSpPr>
        <p:spPr>
          <a:xfrm>
            <a:off x="5372280" y="2152800"/>
            <a:ext cx="18432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9" name=""/>
          <p:cNvSpPr/>
          <p:nvPr/>
        </p:nvSpPr>
        <p:spPr>
          <a:xfrm>
            <a:off x="5181480" y="30751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"/>
          <p:cNvSpPr/>
          <p:nvPr/>
        </p:nvSpPr>
        <p:spPr>
          <a:xfrm>
            <a:off x="4888080" y="28987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1" name=""/>
          <p:cNvSpPr/>
          <p:nvPr/>
        </p:nvSpPr>
        <p:spPr>
          <a:xfrm>
            <a:off x="5280120" y="27972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2" name=""/>
          <p:cNvSpPr/>
          <p:nvPr/>
        </p:nvSpPr>
        <p:spPr>
          <a:xfrm>
            <a:off x="4675320" y="315288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"/>
          <p:cNvSpPr txBox="1"/>
          <p:nvPr/>
        </p:nvSpPr>
        <p:spPr>
          <a:xfrm>
            <a:off x="3322800" y="125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4" name=""/>
          <p:cNvSpPr txBox="1"/>
          <p:nvPr/>
        </p:nvSpPr>
        <p:spPr>
          <a:xfrm>
            <a:off x="3384720" y="3031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"/>
          <p:cNvSpPr txBox="1"/>
          <p:nvPr/>
        </p:nvSpPr>
        <p:spPr>
          <a:xfrm>
            <a:off x="3506760" y="493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"/>
          <p:cNvSpPr txBox="1"/>
          <p:nvPr/>
        </p:nvSpPr>
        <p:spPr>
          <a:xfrm>
            <a:off x="3684600" y="8096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"/>
          <p:cNvSpPr txBox="1"/>
          <p:nvPr/>
        </p:nvSpPr>
        <p:spPr>
          <a:xfrm>
            <a:off x="3138480" y="1960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"/>
          <p:cNvSpPr txBox="1"/>
          <p:nvPr/>
        </p:nvSpPr>
        <p:spPr>
          <a:xfrm>
            <a:off x="4175280" y="176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"/>
          <p:cNvSpPr txBox="1"/>
          <p:nvPr/>
        </p:nvSpPr>
        <p:spPr>
          <a:xfrm>
            <a:off x="4307040" y="20224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"/>
          <p:cNvSpPr txBox="1"/>
          <p:nvPr/>
        </p:nvSpPr>
        <p:spPr>
          <a:xfrm>
            <a:off x="4808520" y="23209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"/>
          <p:cNvSpPr/>
          <p:nvPr/>
        </p:nvSpPr>
        <p:spPr>
          <a:xfrm>
            <a:off x="4937040" y="287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"/>
          <p:cNvSpPr txBox="1"/>
          <p:nvPr/>
        </p:nvSpPr>
        <p:spPr>
          <a:xfrm>
            <a:off x="4930920" y="2793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"/>
          <p:cNvSpPr txBox="1"/>
          <p:nvPr/>
        </p:nvSpPr>
        <p:spPr>
          <a:xfrm>
            <a:off x="4782960" y="577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"/>
          <p:cNvSpPr txBox="1"/>
          <p:nvPr/>
        </p:nvSpPr>
        <p:spPr>
          <a:xfrm>
            <a:off x="4151160" y="901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"/>
          <p:cNvSpPr txBox="1"/>
          <p:nvPr/>
        </p:nvSpPr>
        <p:spPr>
          <a:xfrm>
            <a:off x="4782960" y="12002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"/>
          <p:cNvSpPr txBox="1"/>
          <p:nvPr/>
        </p:nvSpPr>
        <p:spPr>
          <a:xfrm>
            <a:off x="4562640" y="20019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"/>
          <p:cNvSpPr txBox="1"/>
          <p:nvPr/>
        </p:nvSpPr>
        <p:spPr>
          <a:xfrm>
            <a:off x="5086440" y="2206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"/>
          <p:cNvSpPr txBox="1"/>
          <p:nvPr/>
        </p:nvSpPr>
        <p:spPr>
          <a:xfrm>
            <a:off x="5335560" y="21286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"/>
          <p:cNvSpPr txBox="1"/>
          <p:nvPr/>
        </p:nvSpPr>
        <p:spPr>
          <a:xfrm>
            <a:off x="5148360" y="239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"/>
          <p:cNvSpPr txBox="1"/>
          <p:nvPr/>
        </p:nvSpPr>
        <p:spPr>
          <a:xfrm>
            <a:off x="5119560" y="26128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"/>
          <p:cNvSpPr txBox="1"/>
          <p:nvPr/>
        </p:nvSpPr>
        <p:spPr>
          <a:xfrm>
            <a:off x="5268960" y="277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"/>
          <p:cNvSpPr txBox="1"/>
          <p:nvPr/>
        </p:nvSpPr>
        <p:spPr>
          <a:xfrm>
            <a:off x="4876920" y="2870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"/>
          <p:cNvSpPr txBox="1"/>
          <p:nvPr/>
        </p:nvSpPr>
        <p:spPr>
          <a:xfrm>
            <a:off x="5168880" y="3046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"/>
          <p:cNvSpPr txBox="1"/>
          <p:nvPr/>
        </p:nvSpPr>
        <p:spPr>
          <a:xfrm>
            <a:off x="4662360" y="3127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"/>
          <p:cNvSpPr/>
          <p:nvPr/>
        </p:nvSpPr>
        <p:spPr>
          <a:xfrm>
            <a:off x="4751280" y="2232000"/>
            <a:ext cx="162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"/>
          <p:cNvSpPr txBox="1"/>
          <p:nvPr/>
        </p:nvSpPr>
        <p:spPr>
          <a:xfrm>
            <a:off x="4705200" y="22176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7" name=""/>
          <p:cNvSpPr/>
          <p:nvPr/>
        </p:nvSpPr>
        <p:spPr>
          <a:xfrm>
            <a:off x="5197320" y="81000"/>
            <a:ext cx="386280" cy="437040"/>
          </a:xfrm>
          <a:custGeom>
            <a:avLst/>
            <a:gdLst/>
            <a:ahLst/>
            <a:rect l="0" t="0" r="r" b="b"/>
            <a:pathLst>
              <a:path fill="none" w="1073" h="1214">
                <a:moveTo>
                  <a:pt x="0" y="0"/>
                </a:moveTo>
                <a:lnTo>
                  <a:pt x="22" y="63"/>
                </a:lnTo>
                <a:lnTo>
                  <a:pt x="44" y="127"/>
                </a:lnTo>
                <a:lnTo>
                  <a:pt x="107" y="171"/>
                </a:lnTo>
                <a:lnTo>
                  <a:pt x="171" y="213"/>
                </a:lnTo>
                <a:lnTo>
                  <a:pt x="191" y="277"/>
                </a:lnTo>
                <a:lnTo>
                  <a:pt x="235" y="342"/>
                </a:lnTo>
                <a:lnTo>
                  <a:pt x="255" y="427"/>
                </a:lnTo>
                <a:lnTo>
                  <a:pt x="300" y="491"/>
                </a:lnTo>
                <a:lnTo>
                  <a:pt x="342" y="555"/>
                </a:lnTo>
                <a:lnTo>
                  <a:pt x="405" y="597"/>
                </a:lnTo>
                <a:lnTo>
                  <a:pt x="469" y="619"/>
                </a:lnTo>
                <a:lnTo>
                  <a:pt x="533" y="639"/>
                </a:lnTo>
                <a:lnTo>
                  <a:pt x="597" y="683"/>
                </a:lnTo>
                <a:lnTo>
                  <a:pt x="661" y="725"/>
                </a:lnTo>
                <a:lnTo>
                  <a:pt x="705" y="788"/>
                </a:lnTo>
                <a:lnTo>
                  <a:pt x="724" y="852"/>
                </a:lnTo>
                <a:lnTo>
                  <a:pt x="768" y="917"/>
                </a:lnTo>
                <a:lnTo>
                  <a:pt x="768" y="981"/>
                </a:lnTo>
                <a:lnTo>
                  <a:pt x="811" y="1045"/>
                </a:lnTo>
                <a:lnTo>
                  <a:pt x="875" y="1067"/>
                </a:lnTo>
                <a:lnTo>
                  <a:pt x="939" y="1089"/>
                </a:lnTo>
                <a:lnTo>
                  <a:pt x="1003" y="1131"/>
                </a:lnTo>
                <a:lnTo>
                  <a:pt x="1073" y="1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8" name=""/>
          <p:cNvSpPr/>
          <p:nvPr/>
        </p:nvSpPr>
        <p:spPr>
          <a:xfrm>
            <a:off x="5175360" y="17136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9" name=""/>
          <p:cNvSpPr txBox="1"/>
          <p:nvPr/>
        </p:nvSpPr>
        <p:spPr>
          <a:xfrm>
            <a:off x="5165640" y="16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0" name=""/>
          <p:cNvGrpSpPr/>
          <p:nvPr/>
        </p:nvGrpSpPr>
        <p:grpSpPr>
          <a:xfrm>
            <a:off x="2854440" y="917640"/>
            <a:ext cx="2941560" cy="0"/>
            <a:chOff x="2854440" y="917640"/>
            <a:chExt cx="2941560" cy="0"/>
          </a:xfrm>
        </p:grpSpPr>
        <p:sp>
          <p:nvSpPr>
            <p:cNvPr id="5341" name=""/>
            <p:cNvSpPr/>
            <p:nvPr/>
          </p:nvSpPr>
          <p:spPr>
            <a:xfrm>
              <a:off x="2854440" y="9176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353052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362268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3706920" y="9176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4713120" y="9176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479736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4897440" y="917640"/>
              <a:ext cx="898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8" name=""/>
          <p:cNvGrpSpPr/>
          <p:nvPr/>
        </p:nvGrpSpPr>
        <p:grpSpPr>
          <a:xfrm>
            <a:off x="2854440" y="2154240"/>
            <a:ext cx="2957400" cy="0"/>
            <a:chOff x="2854440" y="2154240"/>
            <a:chExt cx="2957400" cy="0"/>
          </a:xfrm>
        </p:grpSpPr>
        <p:sp>
          <p:nvSpPr>
            <p:cNvPr id="5349" name=""/>
            <p:cNvSpPr/>
            <p:nvPr/>
          </p:nvSpPr>
          <p:spPr>
            <a:xfrm>
              <a:off x="2854440" y="21542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353052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362268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3706920" y="21542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4713120" y="21542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479736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4897440" y="2154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6" name=""/>
          <p:cNvGrpSpPr/>
          <p:nvPr/>
        </p:nvGrpSpPr>
        <p:grpSpPr>
          <a:xfrm>
            <a:off x="2854440" y="1554120"/>
            <a:ext cx="2949480" cy="0"/>
            <a:chOff x="2854440" y="1554120"/>
            <a:chExt cx="2949480" cy="0"/>
          </a:xfrm>
        </p:grpSpPr>
        <p:sp>
          <p:nvSpPr>
            <p:cNvPr id="5357" name=""/>
            <p:cNvSpPr/>
            <p:nvPr/>
          </p:nvSpPr>
          <p:spPr>
            <a:xfrm>
              <a:off x="2854440" y="155412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353052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362268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3706920" y="155412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4713120" y="155412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479736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4897440" y="1554120"/>
              <a:ext cx="90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4" name=""/>
          <p:cNvSpPr txBox="1"/>
          <p:nvPr/>
        </p:nvSpPr>
        <p:spPr>
          <a:xfrm>
            <a:off x="285444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"/>
          <p:cNvSpPr txBox="1"/>
          <p:nvPr/>
        </p:nvSpPr>
        <p:spPr>
          <a:xfrm>
            <a:off x="568152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"/>
          <p:cNvSpPr txBox="1"/>
          <p:nvPr/>
        </p:nvSpPr>
        <p:spPr>
          <a:xfrm>
            <a:off x="285444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"/>
          <p:cNvSpPr txBox="1"/>
          <p:nvPr/>
        </p:nvSpPr>
        <p:spPr>
          <a:xfrm>
            <a:off x="568152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"/>
          <p:cNvSpPr txBox="1"/>
          <p:nvPr/>
        </p:nvSpPr>
        <p:spPr>
          <a:xfrm>
            <a:off x="2854440" y="201312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"/>
          <p:cNvSpPr txBox="1"/>
          <p:nvPr/>
        </p:nvSpPr>
        <p:spPr>
          <a:xfrm>
            <a:off x="5681520" y="202104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7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8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9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0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1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"/>
          <p:cNvSpPr/>
          <p:nvPr/>
        </p:nvSpPr>
        <p:spPr>
          <a:xfrm>
            <a:off x="2749680" y="47880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5" name=""/>
          <p:cNvSpPr/>
          <p:nvPr/>
        </p:nvSpPr>
        <p:spPr>
          <a:xfrm>
            <a:off x="2749680" y="49402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6" name=""/>
          <p:cNvSpPr/>
          <p:nvPr/>
        </p:nvSpPr>
        <p:spPr>
          <a:xfrm>
            <a:off x="2749680" y="509256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7" name=""/>
          <p:cNvSpPr/>
          <p:nvPr/>
        </p:nvSpPr>
        <p:spPr>
          <a:xfrm>
            <a:off x="2749680" y="52452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8" name=""/>
          <p:cNvSpPr/>
          <p:nvPr/>
        </p:nvSpPr>
        <p:spPr>
          <a:xfrm>
            <a:off x="2749680" y="53974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9" name=""/>
          <p:cNvSpPr txBox="1"/>
          <p:nvPr/>
        </p:nvSpPr>
        <p:spPr>
          <a:xfrm>
            <a:off x="5637240" y="4664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0" name=""/>
          <p:cNvSpPr txBox="1"/>
          <p:nvPr/>
        </p:nvSpPr>
        <p:spPr>
          <a:xfrm>
            <a:off x="5637240" y="4816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1" name=""/>
          <p:cNvSpPr txBox="1"/>
          <p:nvPr/>
        </p:nvSpPr>
        <p:spPr>
          <a:xfrm>
            <a:off x="5637240" y="496872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"/>
          <p:cNvSpPr txBox="1"/>
          <p:nvPr/>
        </p:nvSpPr>
        <p:spPr>
          <a:xfrm>
            <a:off x="5637240" y="5121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3" name=""/>
          <p:cNvSpPr txBox="1"/>
          <p:nvPr/>
        </p:nvSpPr>
        <p:spPr>
          <a:xfrm>
            <a:off x="5637240" y="5273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4" name=""/>
          <p:cNvSpPr/>
          <p:nvPr/>
        </p:nvSpPr>
        <p:spPr>
          <a:xfrm>
            <a:off x="3067200" y="4695840"/>
            <a:ext cx="2524320" cy="702000"/>
          </a:xfrm>
          <a:custGeom>
            <a:avLst/>
            <a:gdLst/>
            <a:ahLst/>
            <a:rect l="0" t="0" r="r" b="b"/>
            <a:pathLst>
              <a:path w="7012" h="1950">
                <a:moveTo>
                  <a:pt x="0" y="0"/>
                </a:moveTo>
                <a:lnTo>
                  <a:pt x="39" y="52"/>
                </a:lnTo>
                <a:lnTo>
                  <a:pt x="92" y="57"/>
                </a:lnTo>
                <a:lnTo>
                  <a:pt x="132" y="97"/>
                </a:lnTo>
                <a:lnTo>
                  <a:pt x="171" y="110"/>
                </a:lnTo>
                <a:lnTo>
                  <a:pt x="211" y="123"/>
                </a:lnTo>
                <a:lnTo>
                  <a:pt x="251" y="136"/>
                </a:lnTo>
                <a:lnTo>
                  <a:pt x="291" y="123"/>
                </a:lnTo>
                <a:lnTo>
                  <a:pt x="330" y="123"/>
                </a:lnTo>
                <a:lnTo>
                  <a:pt x="370" y="123"/>
                </a:lnTo>
                <a:lnTo>
                  <a:pt x="436" y="149"/>
                </a:lnTo>
                <a:lnTo>
                  <a:pt x="476" y="176"/>
                </a:lnTo>
                <a:lnTo>
                  <a:pt x="515" y="189"/>
                </a:lnTo>
                <a:lnTo>
                  <a:pt x="555" y="202"/>
                </a:lnTo>
                <a:lnTo>
                  <a:pt x="621" y="202"/>
                </a:lnTo>
                <a:lnTo>
                  <a:pt x="661" y="216"/>
                </a:lnTo>
                <a:lnTo>
                  <a:pt x="701" y="229"/>
                </a:lnTo>
                <a:lnTo>
                  <a:pt x="767" y="282"/>
                </a:lnTo>
                <a:lnTo>
                  <a:pt x="806" y="321"/>
                </a:lnTo>
                <a:lnTo>
                  <a:pt x="846" y="361"/>
                </a:lnTo>
                <a:lnTo>
                  <a:pt x="899" y="388"/>
                </a:lnTo>
                <a:lnTo>
                  <a:pt x="939" y="401"/>
                </a:lnTo>
                <a:lnTo>
                  <a:pt x="992" y="414"/>
                </a:lnTo>
                <a:lnTo>
                  <a:pt x="1150" y="427"/>
                </a:lnTo>
                <a:lnTo>
                  <a:pt x="1203" y="440"/>
                </a:lnTo>
                <a:lnTo>
                  <a:pt x="1243" y="467"/>
                </a:lnTo>
                <a:lnTo>
                  <a:pt x="1283" y="480"/>
                </a:lnTo>
                <a:lnTo>
                  <a:pt x="1322" y="493"/>
                </a:lnTo>
                <a:lnTo>
                  <a:pt x="1362" y="507"/>
                </a:lnTo>
                <a:lnTo>
                  <a:pt x="1415" y="533"/>
                </a:lnTo>
                <a:lnTo>
                  <a:pt x="1468" y="573"/>
                </a:lnTo>
                <a:lnTo>
                  <a:pt x="1521" y="586"/>
                </a:lnTo>
                <a:lnTo>
                  <a:pt x="1561" y="599"/>
                </a:lnTo>
                <a:lnTo>
                  <a:pt x="1613" y="599"/>
                </a:lnTo>
                <a:lnTo>
                  <a:pt x="1653" y="612"/>
                </a:lnTo>
                <a:lnTo>
                  <a:pt x="1693" y="639"/>
                </a:lnTo>
                <a:lnTo>
                  <a:pt x="1733" y="652"/>
                </a:lnTo>
                <a:lnTo>
                  <a:pt x="1772" y="679"/>
                </a:lnTo>
                <a:lnTo>
                  <a:pt x="1812" y="692"/>
                </a:lnTo>
                <a:lnTo>
                  <a:pt x="1838" y="732"/>
                </a:lnTo>
                <a:lnTo>
                  <a:pt x="1878" y="758"/>
                </a:lnTo>
                <a:lnTo>
                  <a:pt x="1918" y="784"/>
                </a:lnTo>
                <a:lnTo>
                  <a:pt x="1957" y="811"/>
                </a:lnTo>
                <a:lnTo>
                  <a:pt x="2024" y="851"/>
                </a:lnTo>
                <a:lnTo>
                  <a:pt x="2037" y="890"/>
                </a:lnTo>
                <a:lnTo>
                  <a:pt x="2063" y="930"/>
                </a:lnTo>
                <a:lnTo>
                  <a:pt x="2103" y="956"/>
                </a:lnTo>
                <a:lnTo>
                  <a:pt x="2143" y="984"/>
                </a:lnTo>
                <a:lnTo>
                  <a:pt x="2182" y="1024"/>
                </a:lnTo>
                <a:lnTo>
                  <a:pt x="2235" y="1050"/>
                </a:lnTo>
                <a:lnTo>
                  <a:pt x="2275" y="1076"/>
                </a:lnTo>
                <a:lnTo>
                  <a:pt x="2288" y="1129"/>
                </a:lnTo>
                <a:lnTo>
                  <a:pt x="2301" y="1169"/>
                </a:lnTo>
                <a:lnTo>
                  <a:pt x="2328" y="1209"/>
                </a:lnTo>
                <a:lnTo>
                  <a:pt x="2368" y="1222"/>
                </a:lnTo>
                <a:lnTo>
                  <a:pt x="2407" y="1235"/>
                </a:lnTo>
                <a:lnTo>
                  <a:pt x="2447" y="1248"/>
                </a:lnTo>
                <a:lnTo>
                  <a:pt x="2500" y="1262"/>
                </a:lnTo>
                <a:lnTo>
                  <a:pt x="2540" y="1315"/>
                </a:lnTo>
                <a:lnTo>
                  <a:pt x="2592" y="1341"/>
                </a:lnTo>
                <a:lnTo>
                  <a:pt x="2632" y="1368"/>
                </a:lnTo>
                <a:lnTo>
                  <a:pt x="2685" y="1381"/>
                </a:lnTo>
                <a:lnTo>
                  <a:pt x="2725" y="1394"/>
                </a:lnTo>
                <a:lnTo>
                  <a:pt x="2764" y="1420"/>
                </a:lnTo>
                <a:lnTo>
                  <a:pt x="2831" y="1447"/>
                </a:lnTo>
                <a:lnTo>
                  <a:pt x="2883" y="1460"/>
                </a:lnTo>
                <a:lnTo>
                  <a:pt x="2923" y="1473"/>
                </a:lnTo>
                <a:lnTo>
                  <a:pt x="2963" y="1487"/>
                </a:lnTo>
                <a:lnTo>
                  <a:pt x="3003" y="1500"/>
                </a:lnTo>
                <a:lnTo>
                  <a:pt x="3055" y="1500"/>
                </a:lnTo>
                <a:lnTo>
                  <a:pt x="3095" y="1513"/>
                </a:lnTo>
                <a:lnTo>
                  <a:pt x="3135" y="1513"/>
                </a:lnTo>
                <a:lnTo>
                  <a:pt x="3175" y="1526"/>
                </a:lnTo>
                <a:lnTo>
                  <a:pt x="3214" y="1539"/>
                </a:lnTo>
                <a:lnTo>
                  <a:pt x="3254" y="1553"/>
                </a:lnTo>
                <a:lnTo>
                  <a:pt x="3280" y="1592"/>
                </a:lnTo>
                <a:lnTo>
                  <a:pt x="3294" y="1632"/>
                </a:lnTo>
                <a:lnTo>
                  <a:pt x="3320" y="1672"/>
                </a:lnTo>
                <a:lnTo>
                  <a:pt x="3333" y="1711"/>
                </a:lnTo>
                <a:lnTo>
                  <a:pt x="3373" y="1751"/>
                </a:lnTo>
                <a:lnTo>
                  <a:pt x="3386" y="1791"/>
                </a:lnTo>
                <a:lnTo>
                  <a:pt x="3399" y="1831"/>
                </a:lnTo>
                <a:lnTo>
                  <a:pt x="3426" y="1870"/>
                </a:lnTo>
                <a:lnTo>
                  <a:pt x="3466" y="1897"/>
                </a:lnTo>
                <a:lnTo>
                  <a:pt x="3505" y="1936"/>
                </a:lnTo>
                <a:lnTo>
                  <a:pt x="3546" y="1950"/>
                </a:lnTo>
                <a:lnTo>
                  <a:pt x="3586" y="1950"/>
                </a:lnTo>
                <a:lnTo>
                  <a:pt x="3625" y="1923"/>
                </a:lnTo>
                <a:lnTo>
                  <a:pt x="3639" y="1883"/>
                </a:lnTo>
                <a:lnTo>
                  <a:pt x="3665" y="1844"/>
                </a:lnTo>
                <a:lnTo>
                  <a:pt x="3691" y="1804"/>
                </a:lnTo>
                <a:lnTo>
                  <a:pt x="3718" y="1764"/>
                </a:lnTo>
                <a:lnTo>
                  <a:pt x="3758" y="1738"/>
                </a:lnTo>
                <a:lnTo>
                  <a:pt x="3797" y="1698"/>
                </a:lnTo>
                <a:lnTo>
                  <a:pt x="3824" y="1659"/>
                </a:lnTo>
                <a:lnTo>
                  <a:pt x="3824" y="1619"/>
                </a:lnTo>
                <a:lnTo>
                  <a:pt x="3850" y="1579"/>
                </a:lnTo>
                <a:lnTo>
                  <a:pt x="3877" y="1539"/>
                </a:lnTo>
                <a:lnTo>
                  <a:pt x="3903" y="1500"/>
                </a:lnTo>
                <a:lnTo>
                  <a:pt x="3930" y="1460"/>
                </a:lnTo>
                <a:lnTo>
                  <a:pt x="3956" y="1420"/>
                </a:lnTo>
                <a:lnTo>
                  <a:pt x="3996" y="1368"/>
                </a:lnTo>
                <a:lnTo>
                  <a:pt x="4022" y="1328"/>
                </a:lnTo>
                <a:lnTo>
                  <a:pt x="4062" y="1288"/>
                </a:lnTo>
                <a:lnTo>
                  <a:pt x="4088" y="1248"/>
                </a:lnTo>
                <a:lnTo>
                  <a:pt x="4128" y="1222"/>
                </a:lnTo>
                <a:lnTo>
                  <a:pt x="4168" y="1182"/>
                </a:lnTo>
                <a:lnTo>
                  <a:pt x="4194" y="1143"/>
                </a:lnTo>
                <a:lnTo>
                  <a:pt x="4234" y="1116"/>
                </a:lnTo>
                <a:lnTo>
                  <a:pt x="4274" y="1076"/>
                </a:lnTo>
                <a:lnTo>
                  <a:pt x="4313" y="1050"/>
                </a:lnTo>
                <a:lnTo>
                  <a:pt x="4353" y="1024"/>
                </a:lnTo>
                <a:lnTo>
                  <a:pt x="4393" y="1010"/>
                </a:lnTo>
                <a:lnTo>
                  <a:pt x="4432" y="984"/>
                </a:lnTo>
                <a:lnTo>
                  <a:pt x="4472" y="970"/>
                </a:lnTo>
                <a:lnTo>
                  <a:pt x="4512" y="943"/>
                </a:lnTo>
                <a:lnTo>
                  <a:pt x="4551" y="943"/>
                </a:lnTo>
                <a:lnTo>
                  <a:pt x="4591" y="943"/>
                </a:lnTo>
                <a:lnTo>
                  <a:pt x="4631" y="943"/>
                </a:lnTo>
                <a:lnTo>
                  <a:pt x="4670" y="943"/>
                </a:lnTo>
                <a:lnTo>
                  <a:pt x="4710" y="930"/>
                </a:lnTo>
                <a:lnTo>
                  <a:pt x="4750" y="917"/>
                </a:lnTo>
                <a:lnTo>
                  <a:pt x="4803" y="903"/>
                </a:lnTo>
                <a:lnTo>
                  <a:pt x="4842" y="890"/>
                </a:lnTo>
                <a:lnTo>
                  <a:pt x="4882" y="877"/>
                </a:lnTo>
                <a:lnTo>
                  <a:pt x="4922" y="877"/>
                </a:lnTo>
                <a:lnTo>
                  <a:pt x="4961" y="864"/>
                </a:lnTo>
                <a:lnTo>
                  <a:pt x="5001" y="851"/>
                </a:lnTo>
                <a:lnTo>
                  <a:pt x="5041" y="837"/>
                </a:lnTo>
                <a:lnTo>
                  <a:pt x="5081" y="837"/>
                </a:lnTo>
                <a:lnTo>
                  <a:pt x="5147" y="837"/>
                </a:lnTo>
                <a:lnTo>
                  <a:pt x="5186" y="837"/>
                </a:lnTo>
                <a:lnTo>
                  <a:pt x="5226" y="824"/>
                </a:lnTo>
                <a:lnTo>
                  <a:pt x="5279" y="811"/>
                </a:lnTo>
                <a:lnTo>
                  <a:pt x="5319" y="811"/>
                </a:lnTo>
                <a:lnTo>
                  <a:pt x="5385" y="798"/>
                </a:lnTo>
                <a:lnTo>
                  <a:pt x="5424" y="784"/>
                </a:lnTo>
                <a:lnTo>
                  <a:pt x="5477" y="771"/>
                </a:lnTo>
                <a:lnTo>
                  <a:pt x="5530" y="771"/>
                </a:lnTo>
                <a:lnTo>
                  <a:pt x="5570" y="758"/>
                </a:lnTo>
                <a:lnTo>
                  <a:pt x="5610" y="758"/>
                </a:lnTo>
                <a:lnTo>
                  <a:pt x="5649" y="758"/>
                </a:lnTo>
                <a:lnTo>
                  <a:pt x="5689" y="745"/>
                </a:lnTo>
                <a:lnTo>
                  <a:pt x="5729" y="718"/>
                </a:lnTo>
                <a:lnTo>
                  <a:pt x="5755" y="679"/>
                </a:lnTo>
                <a:lnTo>
                  <a:pt x="5795" y="679"/>
                </a:lnTo>
                <a:lnTo>
                  <a:pt x="5848" y="679"/>
                </a:lnTo>
                <a:lnTo>
                  <a:pt x="5887" y="679"/>
                </a:lnTo>
                <a:lnTo>
                  <a:pt x="5940" y="665"/>
                </a:lnTo>
                <a:lnTo>
                  <a:pt x="5993" y="652"/>
                </a:lnTo>
                <a:lnTo>
                  <a:pt x="6046" y="639"/>
                </a:lnTo>
                <a:lnTo>
                  <a:pt x="6086" y="626"/>
                </a:lnTo>
                <a:lnTo>
                  <a:pt x="6152" y="599"/>
                </a:lnTo>
                <a:lnTo>
                  <a:pt x="6192" y="586"/>
                </a:lnTo>
                <a:lnTo>
                  <a:pt x="6231" y="573"/>
                </a:lnTo>
                <a:lnTo>
                  <a:pt x="6271" y="546"/>
                </a:lnTo>
                <a:lnTo>
                  <a:pt x="6311" y="533"/>
                </a:lnTo>
                <a:lnTo>
                  <a:pt x="6351" y="533"/>
                </a:lnTo>
                <a:lnTo>
                  <a:pt x="6390" y="533"/>
                </a:lnTo>
                <a:lnTo>
                  <a:pt x="6443" y="533"/>
                </a:lnTo>
                <a:lnTo>
                  <a:pt x="6496" y="533"/>
                </a:lnTo>
                <a:lnTo>
                  <a:pt x="6536" y="533"/>
                </a:lnTo>
                <a:lnTo>
                  <a:pt x="6575" y="533"/>
                </a:lnTo>
                <a:lnTo>
                  <a:pt x="6734" y="507"/>
                </a:lnTo>
                <a:lnTo>
                  <a:pt x="6774" y="507"/>
                </a:lnTo>
                <a:lnTo>
                  <a:pt x="6827" y="480"/>
                </a:lnTo>
                <a:lnTo>
                  <a:pt x="6906" y="454"/>
                </a:lnTo>
                <a:lnTo>
                  <a:pt x="6946" y="454"/>
                </a:lnTo>
                <a:lnTo>
                  <a:pt x="6986" y="440"/>
                </a:lnTo>
                <a:lnTo>
                  <a:pt x="6999" y="436"/>
                </a:lnTo>
                <a:lnTo>
                  <a:pt x="6986" y="427"/>
                </a:lnTo>
                <a:lnTo>
                  <a:pt x="7012" y="427"/>
                </a:lnTo>
                <a:lnTo>
                  <a:pt x="7012" y="1950"/>
                </a:lnTo>
                <a:lnTo>
                  <a:pt x="0" y="1950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"/>
          <p:cNvSpPr/>
          <p:nvPr/>
        </p:nvSpPr>
        <p:spPr>
          <a:xfrm>
            <a:off x="2789280" y="361332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6" name=""/>
          <p:cNvSpPr/>
          <p:nvPr/>
        </p:nvSpPr>
        <p:spPr>
          <a:xfrm>
            <a:off x="2789280" y="37656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7" name=""/>
          <p:cNvSpPr/>
          <p:nvPr/>
        </p:nvSpPr>
        <p:spPr>
          <a:xfrm>
            <a:off x="2789280" y="39178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8" name=""/>
          <p:cNvSpPr/>
          <p:nvPr/>
        </p:nvSpPr>
        <p:spPr>
          <a:xfrm>
            <a:off x="2789280" y="407052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"/>
          <p:cNvSpPr/>
          <p:nvPr/>
        </p:nvSpPr>
        <p:spPr>
          <a:xfrm>
            <a:off x="2789280" y="42228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"/>
          <p:cNvSpPr txBox="1"/>
          <p:nvPr/>
        </p:nvSpPr>
        <p:spPr>
          <a:xfrm>
            <a:off x="5651640" y="349092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"/>
          <p:cNvSpPr txBox="1"/>
          <p:nvPr/>
        </p:nvSpPr>
        <p:spPr>
          <a:xfrm>
            <a:off x="5651640" y="3643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2" name=""/>
          <p:cNvSpPr txBox="1"/>
          <p:nvPr/>
        </p:nvSpPr>
        <p:spPr>
          <a:xfrm>
            <a:off x="5651640" y="37958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3" name=""/>
          <p:cNvSpPr txBox="1"/>
          <p:nvPr/>
        </p:nvSpPr>
        <p:spPr>
          <a:xfrm>
            <a:off x="5651640" y="39387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4" name=""/>
          <p:cNvSpPr txBox="1"/>
          <p:nvPr/>
        </p:nvSpPr>
        <p:spPr>
          <a:xfrm>
            <a:off x="5651640" y="40910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5" name=""/>
          <p:cNvSpPr/>
          <p:nvPr/>
        </p:nvSpPr>
        <p:spPr>
          <a:xfrm>
            <a:off x="3071880" y="3540240"/>
            <a:ext cx="2514960" cy="690840"/>
          </a:xfrm>
          <a:custGeom>
            <a:avLst/>
            <a:gdLst/>
            <a:ahLst/>
            <a:rect l="0" t="0" r="r" b="b"/>
            <a:pathLst>
              <a:path w="6986" h="1919">
                <a:moveTo>
                  <a:pt x="0" y="220"/>
                </a:moveTo>
                <a:lnTo>
                  <a:pt x="39" y="233"/>
                </a:lnTo>
                <a:lnTo>
                  <a:pt x="79" y="260"/>
                </a:lnTo>
                <a:lnTo>
                  <a:pt x="92" y="291"/>
                </a:lnTo>
                <a:lnTo>
                  <a:pt x="132" y="304"/>
                </a:lnTo>
                <a:lnTo>
                  <a:pt x="198" y="317"/>
                </a:lnTo>
                <a:lnTo>
                  <a:pt x="251" y="330"/>
                </a:lnTo>
                <a:lnTo>
                  <a:pt x="291" y="330"/>
                </a:lnTo>
                <a:lnTo>
                  <a:pt x="330" y="357"/>
                </a:lnTo>
                <a:lnTo>
                  <a:pt x="370" y="383"/>
                </a:lnTo>
                <a:lnTo>
                  <a:pt x="410" y="396"/>
                </a:lnTo>
                <a:lnTo>
                  <a:pt x="449" y="410"/>
                </a:lnTo>
                <a:lnTo>
                  <a:pt x="489" y="410"/>
                </a:lnTo>
                <a:lnTo>
                  <a:pt x="529" y="436"/>
                </a:lnTo>
                <a:lnTo>
                  <a:pt x="582" y="463"/>
                </a:lnTo>
                <a:lnTo>
                  <a:pt x="621" y="476"/>
                </a:lnTo>
                <a:lnTo>
                  <a:pt x="661" y="502"/>
                </a:lnTo>
                <a:lnTo>
                  <a:pt x="701" y="515"/>
                </a:lnTo>
                <a:lnTo>
                  <a:pt x="754" y="515"/>
                </a:lnTo>
                <a:lnTo>
                  <a:pt x="793" y="529"/>
                </a:lnTo>
                <a:lnTo>
                  <a:pt x="873" y="555"/>
                </a:lnTo>
                <a:lnTo>
                  <a:pt x="939" y="582"/>
                </a:lnTo>
                <a:lnTo>
                  <a:pt x="978" y="608"/>
                </a:lnTo>
                <a:lnTo>
                  <a:pt x="1031" y="621"/>
                </a:lnTo>
                <a:lnTo>
                  <a:pt x="1084" y="648"/>
                </a:lnTo>
                <a:lnTo>
                  <a:pt x="1111" y="687"/>
                </a:lnTo>
                <a:lnTo>
                  <a:pt x="1150" y="714"/>
                </a:lnTo>
                <a:lnTo>
                  <a:pt x="1203" y="740"/>
                </a:lnTo>
                <a:lnTo>
                  <a:pt x="1256" y="767"/>
                </a:lnTo>
                <a:lnTo>
                  <a:pt x="1296" y="780"/>
                </a:lnTo>
                <a:lnTo>
                  <a:pt x="1336" y="806"/>
                </a:lnTo>
                <a:lnTo>
                  <a:pt x="1375" y="833"/>
                </a:lnTo>
                <a:lnTo>
                  <a:pt x="1415" y="859"/>
                </a:lnTo>
                <a:lnTo>
                  <a:pt x="1455" y="873"/>
                </a:lnTo>
                <a:lnTo>
                  <a:pt x="1534" y="886"/>
                </a:lnTo>
                <a:lnTo>
                  <a:pt x="1587" y="912"/>
                </a:lnTo>
                <a:lnTo>
                  <a:pt x="1627" y="926"/>
                </a:lnTo>
                <a:lnTo>
                  <a:pt x="1666" y="939"/>
                </a:lnTo>
                <a:lnTo>
                  <a:pt x="1719" y="939"/>
                </a:lnTo>
                <a:lnTo>
                  <a:pt x="1759" y="939"/>
                </a:lnTo>
                <a:lnTo>
                  <a:pt x="1799" y="939"/>
                </a:lnTo>
                <a:lnTo>
                  <a:pt x="1838" y="966"/>
                </a:lnTo>
                <a:lnTo>
                  <a:pt x="1878" y="979"/>
                </a:lnTo>
                <a:lnTo>
                  <a:pt x="1918" y="1006"/>
                </a:lnTo>
                <a:lnTo>
                  <a:pt x="1957" y="1032"/>
                </a:lnTo>
                <a:lnTo>
                  <a:pt x="1997" y="1046"/>
                </a:lnTo>
                <a:lnTo>
                  <a:pt x="2037" y="1059"/>
                </a:lnTo>
                <a:lnTo>
                  <a:pt x="2090" y="1085"/>
                </a:lnTo>
                <a:lnTo>
                  <a:pt x="2156" y="1125"/>
                </a:lnTo>
                <a:lnTo>
                  <a:pt x="2196" y="1138"/>
                </a:lnTo>
                <a:lnTo>
                  <a:pt x="2235" y="1151"/>
                </a:lnTo>
                <a:lnTo>
                  <a:pt x="2275" y="1165"/>
                </a:lnTo>
                <a:lnTo>
                  <a:pt x="2328" y="1191"/>
                </a:lnTo>
                <a:lnTo>
                  <a:pt x="2381" y="1204"/>
                </a:lnTo>
                <a:lnTo>
                  <a:pt x="2460" y="1284"/>
                </a:lnTo>
                <a:lnTo>
                  <a:pt x="2500" y="1310"/>
                </a:lnTo>
                <a:lnTo>
                  <a:pt x="2540" y="1363"/>
                </a:lnTo>
                <a:lnTo>
                  <a:pt x="2592" y="1416"/>
                </a:lnTo>
                <a:lnTo>
                  <a:pt x="2619" y="1456"/>
                </a:lnTo>
                <a:lnTo>
                  <a:pt x="2650" y="1482"/>
                </a:lnTo>
                <a:lnTo>
                  <a:pt x="2685" y="1522"/>
                </a:lnTo>
                <a:lnTo>
                  <a:pt x="2689" y="1584"/>
                </a:lnTo>
                <a:lnTo>
                  <a:pt x="2703" y="1610"/>
                </a:lnTo>
                <a:lnTo>
                  <a:pt x="2725" y="1641"/>
                </a:lnTo>
                <a:lnTo>
                  <a:pt x="2738" y="1694"/>
                </a:lnTo>
                <a:lnTo>
                  <a:pt x="2756" y="1734"/>
                </a:lnTo>
                <a:lnTo>
                  <a:pt x="2778" y="1786"/>
                </a:lnTo>
                <a:lnTo>
                  <a:pt x="2791" y="1822"/>
                </a:lnTo>
                <a:lnTo>
                  <a:pt x="2791" y="1875"/>
                </a:lnTo>
                <a:lnTo>
                  <a:pt x="2831" y="1892"/>
                </a:lnTo>
                <a:lnTo>
                  <a:pt x="2817" y="1919"/>
                </a:lnTo>
                <a:lnTo>
                  <a:pt x="2831" y="1892"/>
                </a:lnTo>
                <a:lnTo>
                  <a:pt x="2844" y="1853"/>
                </a:lnTo>
                <a:lnTo>
                  <a:pt x="2857" y="1813"/>
                </a:lnTo>
                <a:lnTo>
                  <a:pt x="2883" y="1773"/>
                </a:lnTo>
                <a:lnTo>
                  <a:pt x="2883" y="1734"/>
                </a:lnTo>
                <a:lnTo>
                  <a:pt x="2897" y="1694"/>
                </a:lnTo>
                <a:lnTo>
                  <a:pt x="2910" y="1654"/>
                </a:lnTo>
                <a:lnTo>
                  <a:pt x="2950" y="1628"/>
                </a:lnTo>
                <a:lnTo>
                  <a:pt x="2963" y="1588"/>
                </a:lnTo>
                <a:lnTo>
                  <a:pt x="2989" y="1548"/>
                </a:lnTo>
                <a:lnTo>
                  <a:pt x="3003" y="1509"/>
                </a:lnTo>
                <a:lnTo>
                  <a:pt x="3016" y="1469"/>
                </a:lnTo>
                <a:lnTo>
                  <a:pt x="3029" y="1429"/>
                </a:lnTo>
                <a:lnTo>
                  <a:pt x="3069" y="1390"/>
                </a:lnTo>
                <a:lnTo>
                  <a:pt x="3095" y="1350"/>
                </a:lnTo>
                <a:lnTo>
                  <a:pt x="3122" y="1310"/>
                </a:lnTo>
                <a:lnTo>
                  <a:pt x="3148" y="1257"/>
                </a:lnTo>
                <a:lnTo>
                  <a:pt x="3175" y="1218"/>
                </a:lnTo>
                <a:lnTo>
                  <a:pt x="3188" y="1178"/>
                </a:lnTo>
                <a:lnTo>
                  <a:pt x="3201" y="1138"/>
                </a:lnTo>
                <a:lnTo>
                  <a:pt x="3227" y="1099"/>
                </a:lnTo>
                <a:lnTo>
                  <a:pt x="3280" y="1059"/>
                </a:lnTo>
                <a:lnTo>
                  <a:pt x="3320" y="1032"/>
                </a:lnTo>
                <a:lnTo>
                  <a:pt x="3360" y="1019"/>
                </a:lnTo>
                <a:lnTo>
                  <a:pt x="3399" y="1006"/>
                </a:lnTo>
                <a:lnTo>
                  <a:pt x="3559" y="979"/>
                </a:lnTo>
                <a:lnTo>
                  <a:pt x="3599" y="966"/>
                </a:lnTo>
                <a:lnTo>
                  <a:pt x="3639" y="952"/>
                </a:lnTo>
                <a:lnTo>
                  <a:pt x="3678" y="939"/>
                </a:lnTo>
                <a:lnTo>
                  <a:pt x="3718" y="939"/>
                </a:lnTo>
                <a:lnTo>
                  <a:pt x="3758" y="912"/>
                </a:lnTo>
                <a:lnTo>
                  <a:pt x="3811" y="886"/>
                </a:lnTo>
                <a:lnTo>
                  <a:pt x="3850" y="859"/>
                </a:lnTo>
                <a:lnTo>
                  <a:pt x="3890" y="833"/>
                </a:lnTo>
                <a:lnTo>
                  <a:pt x="3930" y="806"/>
                </a:lnTo>
                <a:lnTo>
                  <a:pt x="3969" y="780"/>
                </a:lnTo>
                <a:lnTo>
                  <a:pt x="4022" y="754"/>
                </a:lnTo>
                <a:lnTo>
                  <a:pt x="4075" y="727"/>
                </a:lnTo>
                <a:lnTo>
                  <a:pt x="4115" y="714"/>
                </a:lnTo>
                <a:lnTo>
                  <a:pt x="4154" y="701"/>
                </a:lnTo>
                <a:lnTo>
                  <a:pt x="4194" y="687"/>
                </a:lnTo>
                <a:lnTo>
                  <a:pt x="4234" y="674"/>
                </a:lnTo>
                <a:lnTo>
                  <a:pt x="4366" y="648"/>
                </a:lnTo>
                <a:lnTo>
                  <a:pt x="4406" y="621"/>
                </a:lnTo>
                <a:lnTo>
                  <a:pt x="4446" y="608"/>
                </a:lnTo>
                <a:lnTo>
                  <a:pt x="4498" y="568"/>
                </a:lnTo>
                <a:lnTo>
                  <a:pt x="4538" y="542"/>
                </a:lnTo>
                <a:lnTo>
                  <a:pt x="4591" y="515"/>
                </a:lnTo>
                <a:lnTo>
                  <a:pt x="4657" y="489"/>
                </a:lnTo>
                <a:lnTo>
                  <a:pt x="4723" y="476"/>
                </a:lnTo>
                <a:lnTo>
                  <a:pt x="4763" y="463"/>
                </a:lnTo>
                <a:lnTo>
                  <a:pt x="4803" y="463"/>
                </a:lnTo>
                <a:lnTo>
                  <a:pt x="4842" y="463"/>
                </a:lnTo>
                <a:lnTo>
                  <a:pt x="4895" y="449"/>
                </a:lnTo>
                <a:lnTo>
                  <a:pt x="4948" y="436"/>
                </a:lnTo>
                <a:lnTo>
                  <a:pt x="5001" y="436"/>
                </a:lnTo>
                <a:lnTo>
                  <a:pt x="5041" y="436"/>
                </a:lnTo>
                <a:lnTo>
                  <a:pt x="5186" y="436"/>
                </a:lnTo>
                <a:lnTo>
                  <a:pt x="5226" y="423"/>
                </a:lnTo>
                <a:lnTo>
                  <a:pt x="5266" y="423"/>
                </a:lnTo>
                <a:lnTo>
                  <a:pt x="5332" y="410"/>
                </a:lnTo>
                <a:lnTo>
                  <a:pt x="5372" y="396"/>
                </a:lnTo>
                <a:lnTo>
                  <a:pt x="5451" y="370"/>
                </a:lnTo>
                <a:lnTo>
                  <a:pt x="5504" y="370"/>
                </a:lnTo>
                <a:lnTo>
                  <a:pt x="5557" y="357"/>
                </a:lnTo>
                <a:lnTo>
                  <a:pt x="5610" y="357"/>
                </a:lnTo>
                <a:lnTo>
                  <a:pt x="5689" y="357"/>
                </a:lnTo>
                <a:lnTo>
                  <a:pt x="5729" y="357"/>
                </a:lnTo>
                <a:lnTo>
                  <a:pt x="5768" y="343"/>
                </a:lnTo>
                <a:lnTo>
                  <a:pt x="5808" y="330"/>
                </a:lnTo>
                <a:lnTo>
                  <a:pt x="5848" y="317"/>
                </a:lnTo>
                <a:lnTo>
                  <a:pt x="5901" y="291"/>
                </a:lnTo>
                <a:lnTo>
                  <a:pt x="5940" y="277"/>
                </a:lnTo>
                <a:lnTo>
                  <a:pt x="5980" y="264"/>
                </a:lnTo>
                <a:lnTo>
                  <a:pt x="6020" y="264"/>
                </a:lnTo>
                <a:lnTo>
                  <a:pt x="6059" y="251"/>
                </a:lnTo>
                <a:lnTo>
                  <a:pt x="6099" y="238"/>
                </a:lnTo>
                <a:lnTo>
                  <a:pt x="6139" y="224"/>
                </a:lnTo>
                <a:lnTo>
                  <a:pt x="6192" y="198"/>
                </a:lnTo>
                <a:lnTo>
                  <a:pt x="6231" y="171"/>
                </a:lnTo>
                <a:lnTo>
                  <a:pt x="6271" y="158"/>
                </a:lnTo>
                <a:lnTo>
                  <a:pt x="6337" y="145"/>
                </a:lnTo>
                <a:lnTo>
                  <a:pt x="6377" y="132"/>
                </a:lnTo>
                <a:lnTo>
                  <a:pt x="6430" y="119"/>
                </a:lnTo>
                <a:lnTo>
                  <a:pt x="6483" y="119"/>
                </a:lnTo>
                <a:lnTo>
                  <a:pt x="6522" y="119"/>
                </a:lnTo>
                <a:lnTo>
                  <a:pt x="6575" y="105"/>
                </a:lnTo>
                <a:lnTo>
                  <a:pt x="6615" y="105"/>
                </a:lnTo>
                <a:lnTo>
                  <a:pt x="6655" y="92"/>
                </a:lnTo>
                <a:lnTo>
                  <a:pt x="6694" y="92"/>
                </a:lnTo>
                <a:lnTo>
                  <a:pt x="6747" y="66"/>
                </a:lnTo>
                <a:lnTo>
                  <a:pt x="6787" y="66"/>
                </a:lnTo>
                <a:lnTo>
                  <a:pt x="6827" y="52"/>
                </a:lnTo>
                <a:lnTo>
                  <a:pt x="6866" y="39"/>
                </a:lnTo>
                <a:lnTo>
                  <a:pt x="6906" y="26"/>
                </a:lnTo>
                <a:lnTo>
                  <a:pt x="6946" y="13"/>
                </a:lnTo>
                <a:lnTo>
                  <a:pt x="6986" y="0"/>
                </a:lnTo>
                <a:lnTo>
                  <a:pt x="6986" y="13"/>
                </a:lnTo>
                <a:lnTo>
                  <a:pt x="6986" y="1919"/>
                </a:lnTo>
                <a:lnTo>
                  <a:pt x="0" y="1919"/>
                </a:lnTo>
                <a:lnTo>
                  <a:pt x="0" y="22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6" name=""/>
          <p:cNvSpPr txBox="1"/>
          <p:nvPr/>
        </p:nvSpPr>
        <p:spPr>
          <a:xfrm>
            <a:off x="3813120" y="5381640"/>
            <a:ext cx="1027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B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7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"/>
          <p:cNvSpPr txBox="1"/>
          <p:nvPr/>
        </p:nvSpPr>
        <p:spPr>
          <a:xfrm>
            <a:off x="3805200" y="42289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A -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81080" y="228600"/>
            <a:ext cx="5029200" cy="6400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7560" y="236520"/>
            <a:ext cx="779760" cy="681480"/>
          </a:xfrm>
          <a:custGeom>
            <a:avLst/>
            <a:gdLst/>
            <a:ahLst/>
            <a:rect l="0" t="0" r="r" b="b"/>
            <a:pathLst>
              <a:path fill="none" w="2166" h="1893">
                <a:moveTo>
                  <a:pt x="2166" y="0"/>
                </a:moveTo>
                <a:lnTo>
                  <a:pt x="2166" y="141"/>
                </a:lnTo>
                <a:lnTo>
                  <a:pt x="2122" y="282"/>
                </a:lnTo>
                <a:lnTo>
                  <a:pt x="2029" y="467"/>
                </a:lnTo>
                <a:lnTo>
                  <a:pt x="1936" y="697"/>
                </a:lnTo>
                <a:lnTo>
                  <a:pt x="1888" y="882"/>
                </a:lnTo>
                <a:lnTo>
                  <a:pt x="1747" y="979"/>
                </a:lnTo>
                <a:lnTo>
                  <a:pt x="1562" y="979"/>
                </a:lnTo>
                <a:lnTo>
                  <a:pt x="1376" y="1116"/>
                </a:lnTo>
                <a:lnTo>
                  <a:pt x="1191" y="1165"/>
                </a:lnTo>
                <a:lnTo>
                  <a:pt x="1005" y="1301"/>
                </a:lnTo>
                <a:lnTo>
                  <a:pt x="912" y="1443"/>
                </a:lnTo>
                <a:lnTo>
                  <a:pt x="771" y="1488"/>
                </a:lnTo>
                <a:lnTo>
                  <a:pt x="586" y="1536"/>
                </a:lnTo>
                <a:lnTo>
                  <a:pt x="401" y="1673"/>
                </a:lnTo>
                <a:lnTo>
                  <a:pt x="264" y="1814"/>
                </a:lnTo>
                <a:lnTo>
                  <a:pt x="123" y="1862"/>
                </a:lnTo>
                <a:lnTo>
                  <a:pt x="0" y="1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37960"/>
            <a:ext cx="1136880" cy="5191560"/>
          </a:xfrm>
          <a:custGeom>
            <a:avLst/>
            <a:gdLst/>
            <a:ahLst/>
            <a:rect l="0" t="0" r="r" b="b"/>
            <a:pathLst>
              <a:path fill="none" w="3158" h="14421">
                <a:moveTo>
                  <a:pt x="3140" y="0"/>
                </a:moveTo>
                <a:lnTo>
                  <a:pt x="3158" y="92"/>
                </a:lnTo>
                <a:lnTo>
                  <a:pt x="3114" y="277"/>
                </a:lnTo>
                <a:lnTo>
                  <a:pt x="3114" y="463"/>
                </a:lnTo>
                <a:lnTo>
                  <a:pt x="3114" y="648"/>
                </a:lnTo>
                <a:lnTo>
                  <a:pt x="2973" y="833"/>
                </a:lnTo>
                <a:lnTo>
                  <a:pt x="2880" y="974"/>
                </a:lnTo>
                <a:lnTo>
                  <a:pt x="2739" y="1111"/>
                </a:lnTo>
                <a:lnTo>
                  <a:pt x="2554" y="1296"/>
                </a:lnTo>
                <a:lnTo>
                  <a:pt x="2510" y="1437"/>
                </a:lnTo>
                <a:lnTo>
                  <a:pt x="2417" y="1622"/>
                </a:lnTo>
                <a:lnTo>
                  <a:pt x="2324" y="1807"/>
                </a:lnTo>
                <a:lnTo>
                  <a:pt x="2232" y="1993"/>
                </a:lnTo>
                <a:lnTo>
                  <a:pt x="2139" y="2134"/>
                </a:lnTo>
                <a:lnTo>
                  <a:pt x="1998" y="2271"/>
                </a:lnTo>
                <a:lnTo>
                  <a:pt x="1954" y="2412"/>
                </a:lnTo>
                <a:lnTo>
                  <a:pt x="1813" y="2504"/>
                </a:lnTo>
                <a:lnTo>
                  <a:pt x="1720" y="2689"/>
                </a:lnTo>
                <a:lnTo>
                  <a:pt x="1578" y="2831"/>
                </a:lnTo>
                <a:lnTo>
                  <a:pt x="1393" y="2967"/>
                </a:lnTo>
                <a:lnTo>
                  <a:pt x="1300" y="3108"/>
                </a:lnTo>
                <a:lnTo>
                  <a:pt x="1208" y="3294"/>
                </a:lnTo>
                <a:lnTo>
                  <a:pt x="1071" y="3479"/>
                </a:lnTo>
                <a:lnTo>
                  <a:pt x="974" y="3621"/>
                </a:lnTo>
                <a:lnTo>
                  <a:pt x="789" y="3758"/>
                </a:lnTo>
                <a:lnTo>
                  <a:pt x="652" y="3899"/>
                </a:lnTo>
                <a:lnTo>
                  <a:pt x="511" y="3943"/>
                </a:lnTo>
                <a:lnTo>
                  <a:pt x="374" y="4084"/>
                </a:lnTo>
                <a:lnTo>
                  <a:pt x="233" y="4177"/>
                </a:lnTo>
                <a:lnTo>
                  <a:pt x="141" y="4362"/>
                </a:lnTo>
                <a:lnTo>
                  <a:pt x="48" y="4503"/>
                </a:lnTo>
                <a:lnTo>
                  <a:pt x="0" y="4688"/>
                </a:lnTo>
                <a:lnTo>
                  <a:pt x="92" y="4873"/>
                </a:lnTo>
                <a:lnTo>
                  <a:pt x="189" y="5058"/>
                </a:lnTo>
                <a:lnTo>
                  <a:pt x="233" y="5288"/>
                </a:lnTo>
                <a:lnTo>
                  <a:pt x="282" y="5429"/>
                </a:lnTo>
                <a:lnTo>
                  <a:pt x="326" y="5614"/>
                </a:lnTo>
                <a:lnTo>
                  <a:pt x="418" y="5755"/>
                </a:lnTo>
                <a:lnTo>
                  <a:pt x="511" y="5984"/>
                </a:lnTo>
                <a:lnTo>
                  <a:pt x="652" y="6126"/>
                </a:lnTo>
                <a:lnTo>
                  <a:pt x="745" y="6267"/>
                </a:lnTo>
                <a:lnTo>
                  <a:pt x="837" y="6452"/>
                </a:lnTo>
                <a:lnTo>
                  <a:pt x="930" y="6637"/>
                </a:lnTo>
                <a:lnTo>
                  <a:pt x="1071" y="6822"/>
                </a:lnTo>
                <a:lnTo>
                  <a:pt x="1164" y="7008"/>
                </a:lnTo>
                <a:lnTo>
                  <a:pt x="1208" y="7149"/>
                </a:lnTo>
                <a:lnTo>
                  <a:pt x="1300" y="7334"/>
                </a:lnTo>
                <a:lnTo>
                  <a:pt x="1300" y="7519"/>
                </a:lnTo>
                <a:lnTo>
                  <a:pt x="1300" y="7704"/>
                </a:lnTo>
                <a:lnTo>
                  <a:pt x="1300" y="7934"/>
                </a:lnTo>
                <a:lnTo>
                  <a:pt x="1349" y="8123"/>
                </a:lnTo>
                <a:lnTo>
                  <a:pt x="1393" y="8308"/>
                </a:lnTo>
                <a:lnTo>
                  <a:pt x="1534" y="8494"/>
                </a:lnTo>
                <a:lnTo>
                  <a:pt x="1672" y="8723"/>
                </a:lnTo>
                <a:lnTo>
                  <a:pt x="1764" y="8864"/>
                </a:lnTo>
                <a:lnTo>
                  <a:pt x="1813" y="9005"/>
                </a:lnTo>
                <a:lnTo>
                  <a:pt x="1954" y="9234"/>
                </a:lnTo>
                <a:lnTo>
                  <a:pt x="2047" y="9376"/>
                </a:lnTo>
                <a:lnTo>
                  <a:pt x="2232" y="9561"/>
                </a:lnTo>
                <a:lnTo>
                  <a:pt x="2324" y="9746"/>
                </a:lnTo>
                <a:lnTo>
                  <a:pt x="2417" y="9887"/>
                </a:lnTo>
                <a:lnTo>
                  <a:pt x="2461" y="10072"/>
                </a:lnTo>
                <a:lnTo>
                  <a:pt x="2554" y="10258"/>
                </a:lnTo>
                <a:lnTo>
                  <a:pt x="2602" y="10443"/>
                </a:lnTo>
                <a:lnTo>
                  <a:pt x="2602" y="10628"/>
                </a:lnTo>
                <a:lnTo>
                  <a:pt x="2602" y="10769"/>
                </a:lnTo>
                <a:lnTo>
                  <a:pt x="2646" y="11092"/>
                </a:lnTo>
                <a:lnTo>
                  <a:pt x="2695" y="11233"/>
                </a:lnTo>
                <a:lnTo>
                  <a:pt x="2695" y="11462"/>
                </a:lnTo>
                <a:lnTo>
                  <a:pt x="2646" y="11696"/>
                </a:lnTo>
                <a:lnTo>
                  <a:pt x="2646" y="11837"/>
                </a:lnTo>
                <a:lnTo>
                  <a:pt x="2602" y="12022"/>
                </a:lnTo>
                <a:lnTo>
                  <a:pt x="2461" y="12159"/>
                </a:lnTo>
                <a:lnTo>
                  <a:pt x="2417" y="12300"/>
                </a:lnTo>
                <a:lnTo>
                  <a:pt x="2276" y="12441"/>
                </a:lnTo>
                <a:lnTo>
                  <a:pt x="2139" y="12627"/>
                </a:lnTo>
                <a:lnTo>
                  <a:pt x="1998" y="12763"/>
                </a:lnTo>
                <a:lnTo>
                  <a:pt x="1906" y="12904"/>
                </a:lnTo>
                <a:lnTo>
                  <a:pt x="1764" y="13134"/>
                </a:lnTo>
                <a:lnTo>
                  <a:pt x="1672" y="13275"/>
                </a:lnTo>
                <a:lnTo>
                  <a:pt x="1628" y="13416"/>
                </a:lnTo>
                <a:lnTo>
                  <a:pt x="1628" y="13601"/>
                </a:lnTo>
                <a:lnTo>
                  <a:pt x="1578" y="13786"/>
                </a:lnTo>
                <a:lnTo>
                  <a:pt x="1393" y="13879"/>
                </a:lnTo>
                <a:lnTo>
                  <a:pt x="1208" y="14016"/>
                </a:lnTo>
                <a:lnTo>
                  <a:pt x="1071" y="14157"/>
                </a:lnTo>
                <a:lnTo>
                  <a:pt x="930" y="14157"/>
                </a:lnTo>
                <a:lnTo>
                  <a:pt x="745" y="14157"/>
                </a:lnTo>
                <a:lnTo>
                  <a:pt x="604" y="14157"/>
                </a:lnTo>
                <a:lnTo>
                  <a:pt x="418" y="14249"/>
                </a:lnTo>
                <a:lnTo>
                  <a:pt x="282" y="14390"/>
                </a:lnTo>
                <a:lnTo>
                  <a:pt x="13" y="1442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98720" y="236520"/>
            <a:ext cx="1554480" cy="5832720"/>
          </a:xfrm>
          <a:custGeom>
            <a:avLst/>
            <a:gdLst/>
            <a:ahLst/>
            <a:rect l="0" t="0" r="r" b="b"/>
            <a:pathLst>
              <a:path fill="none" w="4318" h="16202">
                <a:moveTo>
                  <a:pt x="4318" y="0"/>
                </a:moveTo>
                <a:lnTo>
                  <a:pt x="4318" y="189"/>
                </a:lnTo>
                <a:lnTo>
                  <a:pt x="4318" y="374"/>
                </a:lnTo>
                <a:lnTo>
                  <a:pt x="4318" y="604"/>
                </a:lnTo>
                <a:lnTo>
                  <a:pt x="4269" y="745"/>
                </a:lnTo>
                <a:lnTo>
                  <a:pt x="4177" y="930"/>
                </a:lnTo>
                <a:lnTo>
                  <a:pt x="4084" y="1071"/>
                </a:lnTo>
                <a:lnTo>
                  <a:pt x="3947" y="1256"/>
                </a:lnTo>
                <a:lnTo>
                  <a:pt x="3855" y="1441"/>
                </a:lnTo>
                <a:lnTo>
                  <a:pt x="3762" y="1627"/>
                </a:lnTo>
                <a:lnTo>
                  <a:pt x="3621" y="1812"/>
                </a:lnTo>
                <a:lnTo>
                  <a:pt x="3572" y="1953"/>
                </a:lnTo>
                <a:lnTo>
                  <a:pt x="3436" y="2138"/>
                </a:lnTo>
                <a:lnTo>
                  <a:pt x="3295" y="2275"/>
                </a:lnTo>
                <a:lnTo>
                  <a:pt x="3202" y="2416"/>
                </a:lnTo>
                <a:lnTo>
                  <a:pt x="3017" y="2601"/>
                </a:lnTo>
                <a:lnTo>
                  <a:pt x="2924" y="2742"/>
                </a:lnTo>
                <a:lnTo>
                  <a:pt x="2832" y="2928"/>
                </a:lnTo>
                <a:lnTo>
                  <a:pt x="2739" y="3113"/>
                </a:lnTo>
                <a:lnTo>
                  <a:pt x="2690" y="3298"/>
                </a:lnTo>
                <a:lnTo>
                  <a:pt x="2554" y="3483"/>
                </a:lnTo>
                <a:lnTo>
                  <a:pt x="2505" y="3624"/>
                </a:lnTo>
                <a:lnTo>
                  <a:pt x="2369" y="3810"/>
                </a:lnTo>
                <a:lnTo>
                  <a:pt x="2276" y="3995"/>
                </a:lnTo>
                <a:lnTo>
                  <a:pt x="2183" y="4224"/>
                </a:lnTo>
                <a:lnTo>
                  <a:pt x="2183" y="4365"/>
                </a:lnTo>
                <a:lnTo>
                  <a:pt x="2183" y="4506"/>
                </a:lnTo>
                <a:lnTo>
                  <a:pt x="2183" y="4691"/>
                </a:lnTo>
                <a:lnTo>
                  <a:pt x="2090" y="4877"/>
                </a:lnTo>
                <a:lnTo>
                  <a:pt x="2041" y="5106"/>
                </a:lnTo>
                <a:lnTo>
                  <a:pt x="2134" y="5291"/>
                </a:lnTo>
                <a:lnTo>
                  <a:pt x="2227" y="5481"/>
                </a:lnTo>
                <a:lnTo>
                  <a:pt x="2320" y="5666"/>
                </a:lnTo>
                <a:lnTo>
                  <a:pt x="2369" y="5851"/>
                </a:lnTo>
                <a:lnTo>
                  <a:pt x="2505" y="6036"/>
                </a:lnTo>
                <a:lnTo>
                  <a:pt x="2598" y="6270"/>
                </a:lnTo>
                <a:lnTo>
                  <a:pt x="2739" y="6455"/>
                </a:lnTo>
                <a:lnTo>
                  <a:pt x="2880" y="6592"/>
                </a:lnTo>
                <a:lnTo>
                  <a:pt x="2973" y="6777"/>
                </a:lnTo>
                <a:lnTo>
                  <a:pt x="3065" y="6918"/>
                </a:lnTo>
                <a:lnTo>
                  <a:pt x="3158" y="7152"/>
                </a:lnTo>
                <a:lnTo>
                  <a:pt x="3295" y="7430"/>
                </a:lnTo>
                <a:lnTo>
                  <a:pt x="3436" y="7615"/>
                </a:lnTo>
                <a:lnTo>
                  <a:pt x="3480" y="7800"/>
                </a:lnTo>
                <a:lnTo>
                  <a:pt x="3528" y="7986"/>
                </a:lnTo>
                <a:lnTo>
                  <a:pt x="3528" y="8128"/>
                </a:lnTo>
                <a:lnTo>
                  <a:pt x="3572" y="8313"/>
                </a:lnTo>
                <a:lnTo>
                  <a:pt x="3669" y="8498"/>
                </a:lnTo>
                <a:lnTo>
                  <a:pt x="3855" y="8727"/>
                </a:lnTo>
                <a:lnTo>
                  <a:pt x="3855" y="8868"/>
                </a:lnTo>
                <a:lnTo>
                  <a:pt x="3899" y="9010"/>
                </a:lnTo>
                <a:lnTo>
                  <a:pt x="3947" y="9195"/>
                </a:lnTo>
                <a:lnTo>
                  <a:pt x="3947" y="9380"/>
                </a:lnTo>
                <a:lnTo>
                  <a:pt x="3899" y="9565"/>
                </a:lnTo>
                <a:lnTo>
                  <a:pt x="3855" y="9750"/>
                </a:lnTo>
                <a:lnTo>
                  <a:pt x="3855" y="9892"/>
                </a:lnTo>
                <a:lnTo>
                  <a:pt x="3806" y="10077"/>
                </a:lnTo>
                <a:lnTo>
                  <a:pt x="3762" y="10306"/>
                </a:lnTo>
                <a:lnTo>
                  <a:pt x="3806" y="10491"/>
                </a:lnTo>
                <a:lnTo>
                  <a:pt x="3806" y="10632"/>
                </a:lnTo>
                <a:lnTo>
                  <a:pt x="3806" y="10773"/>
                </a:lnTo>
                <a:lnTo>
                  <a:pt x="3806" y="10959"/>
                </a:lnTo>
                <a:lnTo>
                  <a:pt x="3762" y="11144"/>
                </a:lnTo>
                <a:lnTo>
                  <a:pt x="3713" y="11329"/>
                </a:lnTo>
                <a:lnTo>
                  <a:pt x="3669" y="11514"/>
                </a:lnTo>
                <a:lnTo>
                  <a:pt x="3621" y="11699"/>
                </a:lnTo>
                <a:lnTo>
                  <a:pt x="3572" y="11885"/>
                </a:lnTo>
                <a:lnTo>
                  <a:pt x="3528" y="12026"/>
                </a:lnTo>
                <a:lnTo>
                  <a:pt x="3480" y="12211"/>
                </a:lnTo>
                <a:lnTo>
                  <a:pt x="3436" y="12396"/>
                </a:lnTo>
                <a:lnTo>
                  <a:pt x="3387" y="12581"/>
                </a:lnTo>
                <a:lnTo>
                  <a:pt x="3387" y="12723"/>
                </a:lnTo>
                <a:lnTo>
                  <a:pt x="3250" y="13044"/>
                </a:lnTo>
                <a:lnTo>
                  <a:pt x="3202" y="13186"/>
                </a:lnTo>
                <a:lnTo>
                  <a:pt x="3109" y="13419"/>
                </a:lnTo>
                <a:lnTo>
                  <a:pt x="3017" y="13604"/>
                </a:lnTo>
                <a:lnTo>
                  <a:pt x="2924" y="13834"/>
                </a:lnTo>
                <a:lnTo>
                  <a:pt x="2787" y="14068"/>
                </a:lnTo>
                <a:lnTo>
                  <a:pt x="2646" y="14531"/>
                </a:lnTo>
                <a:lnTo>
                  <a:pt x="2598" y="14672"/>
                </a:lnTo>
                <a:lnTo>
                  <a:pt x="2369" y="14808"/>
                </a:lnTo>
                <a:lnTo>
                  <a:pt x="2227" y="14901"/>
                </a:lnTo>
                <a:lnTo>
                  <a:pt x="2041" y="15042"/>
                </a:lnTo>
                <a:lnTo>
                  <a:pt x="1578" y="15183"/>
                </a:lnTo>
                <a:lnTo>
                  <a:pt x="1393" y="15276"/>
                </a:lnTo>
                <a:lnTo>
                  <a:pt x="1208" y="15320"/>
                </a:lnTo>
                <a:lnTo>
                  <a:pt x="926" y="15412"/>
                </a:lnTo>
                <a:lnTo>
                  <a:pt x="740" y="15505"/>
                </a:lnTo>
                <a:lnTo>
                  <a:pt x="555" y="15646"/>
                </a:lnTo>
                <a:lnTo>
                  <a:pt x="418" y="15831"/>
                </a:lnTo>
                <a:lnTo>
                  <a:pt x="277" y="15924"/>
                </a:lnTo>
                <a:lnTo>
                  <a:pt x="92" y="16017"/>
                </a:lnTo>
                <a:lnTo>
                  <a:pt x="0" y="16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7560" y="857160"/>
            <a:ext cx="1994400" cy="5598000"/>
          </a:xfrm>
          <a:custGeom>
            <a:avLst/>
            <a:gdLst/>
            <a:ahLst/>
            <a:rect l="0" t="0" r="r" b="b"/>
            <a:pathLst>
              <a:path fill="none" w="5540" h="15550">
                <a:moveTo>
                  <a:pt x="5540" y="0"/>
                </a:moveTo>
                <a:lnTo>
                  <a:pt x="5452" y="97"/>
                </a:lnTo>
                <a:lnTo>
                  <a:pt x="5373" y="185"/>
                </a:lnTo>
                <a:lnTo>
                  <a:pt x="5320" y="251"/>
                </a:lnTo>
                <a:lnTo>
                  <a:pt x="5289" y="357"/>
                </a:lnTo>
                <a:lnTo>
                  <a:pt x="5267" y="440"/>
                </a:lnTo>
                <a:lnTo>
                  <a:pt x="5223" y="520"/>
                </a:lnTo>
                <a:lnTo>
                  <a:pt x="5196" y="612"/>
                </a:lnTo>
                <a:lnTo>
                  <a:pt x="5156" y="679"/>
                </a:lnTo>
                <a:lnTo>
                  <a:pt x="5104" y="740"/>
                </a:lnTo>
                <a:lnTo>
                  <a:pt x="4984" y="846"/>
                </a:lnTo>
                <a:lnTo>
                  <a:pt x="4857" y="978"/>
                </a:lnTo>
                <a:lnTo>
                  <a:pt x="4790" y="1089"/>
                </a:lnTo>
                <a:lnTo>
                  <a:pt x="4773" y="1164"/>
                </a:lnTo>
                <a:lnTo>
                  <a:pt x="4720" y="1322"/>
                </a:lnTo>
                <a:lnTo>
                  <a:pt x="4588" y="1455"/>
                </a:lnTo>
                <a:lnTo>
                  <a:pt x="4455" y="1666"/>
                </a:lnTo>
                <a:lnTo>
                  <a:pt x="4402" y="1719"/>
                </a:lnTo>
                <a:lnTo>
                  <a:pt x="4349" y="1878"/>
                </a:lnTo>
                <a:lnTo>
                  <a:pt x="4297" y="1984"/>
                </a:lnTo>
                <a:lnTo>
                  <a:pt x="4191" y="2116"/>
                </a:lnTo>
                <a:lnTo>
                  <a:pt x="4191" y="2301"/>
                </a:lnTo>
                <a:lnTo>
                  <a:pt x="4110" y="2592"/>
                </a:lnTo>
                <a:lnTo>
                  <a:pt x="4110" y="2566"/>
                </a:lnTo>
                <a:lnTo>
                  <a:pt x="4057" y="2778"/>
                </a:lnTo>
                <a:lnTo>
                  <a:pt x="3978" y="2641"/>
                </a:lnTo>
                <a:lnTo>
                  <a:pt x="4110" y="3148"/>
                </a:lnTo>
                <a:lnTo>
                  <a:pt x="4217" y="3307"/>
                </a:lnTo>
                <a:lnTo>
                  <a:pt x="4137" y="3413"/>
                </a:lnTo>
                <a:lnTo>
                  <a:pt x="4217" y="3624"/>
                </a:lnTo>
                <a:lnTo>
                  <a:pt x="4244" y="3783"/>
                </a:lnTo>
                <a:lnTo>
                  <a:pt x="4323" y="3916"/>
                </a:lnTo>
                <a:lnTo>
                  <a:pt x="4429" y="4075"/>
                </a:lnTo>
                <a:lnTo>
                  <a:pt x="4508" y="4207"/>
                </a:lnTo>
                <a:lnTo>
                  <a:pt x="4588" y="4366"/>
                </a:lnTo>
                <a:lnTo>
                  <a:pt x="4614" y="4498"/>
                </a:lnTo>
                <a:lnTo>
                  <a:pt x="4641" y="4578"/>
                </a:lnTo>
                <a:lnTo>
                  <a:pt x="4614" y="4710"/>
                </a:lnTo>
                <a:lnTo>
                  <a:pt x="4588" y="4922"/>
                </a:lnTo>
                <a:lnTo>
                  <a:pt x="4561" y="5160"/>
                </a:lnTo>
                <a:lnTo>
                  <a:pt x="4482" y="5319"/>
                </a:lnTo>
                <a:lnTo>
                  <a:pt x="4349" y="5473"/>
                </a:lnTo>
                <a:lnTo>
                  <a:pt x="4349" y="5614"/>
                </a:lnTo>
                <a:lnTo>
                  <a:pt x="4394" y="5799"/>
                </a:lnTo>
                <a:lnTo>
                  <a:pt x="4442" y="5984"/>
                </a:lnTo>
                <a:lnTo>
                  <a:pt x="4442" y="6170"/>
                </a:lnTo>
                <a:lnTo>
                  <a:pt x="4442" y="6311"/>
                </a:lnTo>
                <a:lnTo>
                  <a:pt x="4442" y="6496"/>
                </a:lnTo>
                <a:lnTo>
                  <a:pt x="4486" y="6725"/>
                </a:lnTo>
                <a:lnTo>
                  <a:pt x="4535" y="6866"/>
                </a:lnTo>
                <a:lnTo>
                  <a:pt x="4627" y="7052"/>
                </a:lnTo>
                <a:lnTo>
                  <a:pt x="4676" y="7237"/>
                </a:lnTo>
                <a:lnTo>
                  <a:pt x="4720" y="7378"/>
                </a:lnTo>
                <a:lnTo>
                  <a:pt x="4768" y="7607"/>
                </a:lnTo>
                <a:lnTo>
                  <a:pt x="4813" y="7748"/>
                </a:lnTo>
                <a:lnTo>
                  <a:pt x="4813" y="8026"/>
                </a:lnTo>
                <a:lnTo>
                  <a:pt x="4813" y="8260"/>
                </a:lnTo>
                <a:lnTo>
                  <a:pt x="4813" y="8445"/>
                </a:lnTo>
                <a:lnTo>
                  <a:pt x="4813" y="8723"/>
                </a:lnTo>
                <a:lnTo>
                  <a:pt x="4861" y="9186"/>
                </a:lnTo>
                <a:lnTo>
                  <a:pt x="4861" y="9420"/>
                </a:lnTo>
                <a:lnTo>
                  <a:pt x="4861" y="9883"/>
                </a:lnTo>
                <a:lnTo>
                  <a:pt x="4813" y="10024"/>
                </a:lnTo>
                <a:lnTo>
                  <a:pt x="4720" y="10209"/>
                </a:lnTo>
                <a:lnTo>
                  <a:pt x="4535" y="10906"/>
                </a:lnTo>
                <a:lnTo>
                  <a:pt x="4394" y="11135"/>
                </a:lnTo>
                <a:lnTo>
                  <a:pt x="4349" y="11276"/>
                </a:lnTo>
                <a:lnTo>
                  <a:pt x="4257" y="12763"/>
                </a:lnTo>
                <a:lnTo>
                  <a:pt x="4164" y="12948"/>
                </a:lnTo>
                <a:lnTo>
                  <a:pt x="4022" y="13085"/>
                </a:lnTo>
                <a:lnTo>
                  <a:pt x="3885" y="13226"/>
                </a:lnTo>
                <a:lnTo>
                  <a:pt x="3793" y="13367"/>
                </a:lnTo>
                <a:lnTo>
                  <a:pt x="3652" y="13504"/>
                </a:lnTo>
                <a:lnTo>
                  <a:pt x="3511" y="13597"/>
                </a:lnTo>
                <a:lnTo>
                  <a:pt x="3281" y="13830"/>
                </a:lnTo>
                <a:lnTo>
                  <a:pt x="3140" y="14016"/>
                </a:lnTo>
                <a:lnTo>
                  <a:pt x="1703" y="14664"/>
                </a:lnTo>
                <a:lnTo>
                  <a:pt x="1562" y="14712"/>
                </a:lnTo>
                <a:lnTo>
                  <a:pt x="1375" y="14712"/>
                </a:lnTo>
                <a:lnTo>
                  <a:pt x="1146" y="14898"/>
                </a:lnTo>
                <a:lnTo>
                  <a:pt x="1005" y="15034"/>
                </a:lnTo>
                <a:lnTo>
                  <a:pt x="864" y="15083"/>
                </a:lnTo>
                <a:lnTo>
                  <a:pt x="679" y="15131"/>
                </a:lnTo>
                <a:lnTo>
                  <a:pt x="493" y="15224"/>
                </a:lnTo>
                <a:lnTo>
                  <a:pt x="308" y="15268"/>
                </a:lnTo>
                <a:lnTo>
                  <a:pt x="264" y="15409"/>
                </a:lnTo>
                <a:lnTo>
                  <a:pt x="123" y="15502"/>
                </a:lnTo>
                <a:lnTo>
                  <a:pt x="0" y="1555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90800" y="3540240"/>
            <a:ext cx="359280" cy="1184760"/>
          </a:xfrm>
          <a:custGeom>
            <a:avLst/>
            <a:gdLst/>
            <a:ahLst/>
            <a:rect l="0" t="0" r="r" b="b"/>
            <a:pathLst>
              <a:path fill="none" w="998" h="3291">
                <a:moveTo>
                  <a:pt x="0" y="0"/>
                </a:moveTo>
                <a:lnTo>
                  <a:pt x="52" y="158"/>
                </a:lnTo>
                <a:lnTo>
                  <a:pt x="97" y="326"/>
                </a:lnTo>
                <a:lnTo>
                  <a:pt x="163" y="480"/>
                </a:lnTo>
                <a:lnTo>
                  <a:pt x="256" y="621"/>
                </a:lnTo>
                <a:lnTo>
                  <a:pt x="441" y="714"/>
                </a:lnTo>
                <a:lnTo>
                  <a:pt x="627" y="806"/>
                </a:lnTo>
                <a:lnTo>
                  <a:pt x="813" y="944"/>
                </a:lnTo>
                <a:lnTo>
                  <a:pt x="905" y="1085"/>
                </a:lnTo>
                <a:lnTo>
                  <a:pt x="998" y="1271"/>
                </a:lnTo>
                <a:lnTo>
                  <a:pt x="998" y="1456"/>
                </a:lnTo>
                <a:lnTo>
                  <a:pt x="998" y="1597"/>
                </a:lnTo>
                <a:lnTo>
                  <a:pt x="950" y="1826"/>
                </a:lnTo>
                <a:lnTo>
                  <a:pt x="813" y="1967"/>
                </a:lnTo>
                <a:lnTo>
                  <a:pt x="671" y="2104"/>
                </a:lnTo>
                <a:lnTo>
                  <a:pt x="627" y="2245"/>
                </a:lnTo>
                <a:lnTo>
                  <a:pt x="627" y="2386"/>
                </a:lnTo>
                <a:lnTo>
                  <a:pt x="534" y="2572"/>
                </a:lnTo>
                <a:lnTo>
                  <a:pt x="393" y="2665"/>
                </a:lnTo>
                <a:lnTo>
                  <a:pt x="256" y="2850"/>
                </a:lnTo>
                <a:lnTo>
                  <a:pt x="114" y="2987"/>
                </a:lnTo>
                <a:lnTo>
                  <a:pt x="0" y="329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9680" y="1357200"/>
            <a:ext cx="1756080" cy="5262840"/>
          </a:xfrm>
          <a:custGeom>
            <a:avLst/>
            <a:gdLst/>
            <a:ahLst/>
            <a:rect l="0" t="0" r="r" b="b"/>
            <a:pathLst>
              <a:path fill="none" w="4878" h="14619">
                <a:moveTo>
                  <a:pt x="3211" y="0"/>
                </a:moveTo>
                <a:lnTo>
                  <a:pt x="3250" y="489"/>
                </a:lnTo>
                <a:lnTo>
                  <a:pt x="3211" y="661"/>
                </a:lnTo>
                <a:lnTo>
                  <a:pt x="3224" y="767"/>
                </a:lnTo>
                <a:lnTo>
                  <a:pt x="3237" y="886"/>
                </a:lnTo>
                <a:lnTo>
                  <a:pt x="3277" y="965"/>
                </a:lnTo>
                <a:lnTo>
                  <a:pt x="3303" y="1018"/>
                </a:lnTo>
                <a:lnTo>
                  <a:pt x="3303" y="1111"/>
                </a:lnTo>
                <a:lnTo>
                  <a:pt x="3303" y="1124"/>
                </a:lnTo>
                <a:lnTo>
                  <a:pt x="3290" y="1137"/>
                </a:lnTo>
                <a:lnTo>
                  <a:pt x="3277" y="1190"/>
                </a:lnTo>
                <a:lnTo>
                  <a:pt x="3237" y="1270"/>
                </a:lnTo>
                <a:lnTo>
                  <a:pt x="3184" y="1283"/>
                </a:lnTo>
                <a:lnTo>
                  <a:pt x="3211" y="1389"/>
                </a:lnTo>
                <a:lnTo>
                  <a:pt x="3211" y="1455"/>
                </a:lnTo>
                <a:lnTo>
                  <a:pt x="3184" y="1508"/>
                </a:lnTo>
                <a:lnTo>
                  <a:pt x="3145" y="1653"/>
                </a:lnTo>
                <a:lnTo>
                  <a:pt x="3105" y="1746"/>
                </a:lnTo>
                <a:lnTo>
                  <a:pt x="3078" y="1905"/>
                </a:lnTo>
                <a:lnTo>
                  <a:pt x="3078" y="2037"/>
                </a:lnTo>
                <a:lnTo>
                  <a:pt x="3065" y="2222"/>
                </a:lnTo>
                <a:lnTo>
                  <a:pt x="3043" y="2332"/>
                </a:lnTo>
                <a:lnTo>
                  <a:pt x="3176" y="2456"/>
                </a:lnTo>
                <a:lnTo>
                  <a:pt x="3237" y="2597"/>
                </a:lnTo>
                <a:lnTo>
                  <a:pt x="3308" y="2729"/>
                </a:lnTo>
                <a:lnTo>
                  <a:pt x="3334" y="2861"/>
                </a:lnTo>
                <a:lnTo>
                  <a:pt x="3533" y="3016"/>
                </a:lnTo>
                <a:lnTo>
                  <a:pt x="3533" y="3157"/>
                </a:lnTo>
                <a:lnTo>
                  <a:pt x="3625" y="3386"/>
                </a:lnTo>
                <a:lnTo>
                  <a:pt x="3669" y="3527"/>
                </a:lnTo>
                <a:lnTo>
                  <a:pt x="3811" y="3757"/>
                </a:lnTo>
                <a:lnTo>
                  <a:pt x="3903" y="3898"/>
                </a:lnTo>
                <a:lnTo>
                  <a:pt x="3996" y="4083"/>
                </a:lnTo>
                <a:lnTo>
                  <a:pt x="4040" y="4224"/>
                </a:lnTo>
                <a:lnTo>
                  <a:pt x="4132" y="4409"/>
                </a:lnTo>
                <a:lnTo>
                  <a:pt x="4181" y="4594"/>
                </a:lnTo>
                <a:lnTo>
                  <a:pt x="4274" y="4780"/>
                </a:lnTo>
                <a:lnTo>
                  <a:pt x="4322" y="4965"/>
                </a:lnTo>
                <a:lnTo>
                  <a:pt x="4366" y="5106"/>
                </a:lnTo>
                <a:lnTo>
                  <a:pt x="4415" y="5291"/>
                </a:lnTo>
                <a:lnTo>
                  <a:pt x="4507" y="5569"/>
                </a:lnTo>
                <a:lnTo>
                  <a:pt x="4551" y="5803"/>
                </a:lnTo>
                <a:lnTo>
                  <a:pt x="4551" y="5988"/>
                </a:lnTo>
                <a:lnTo>
                  <a:pt x="4644" y="6173"/>
                </a:lnTo>
                <a:lnTo>
                  <a:pt x="4644" y="6402"/>
                </a:lnTo>
                <a:lnTo>
                  <a:pt x="4644" y="6544"/>
                </a:lnTo>
                <a:lnTo>
                  <a:pt x="4644" y="6729"/>
                </a:lnTo>
                <a:lnTo>
                  <a:pt x="4644" y="6914"/>
                </a:lnTo>
                <a:lnTo>
                  <a:pt x="4644" y="7055"/>
                </a:lnTo>
                <a:lnTo>
                  <a:pt x="4644" y="7378"/>
                </a:lnTo>
                <a:lnTo>
                  <a:pt x="4644" y="7519"/>
                </a:lnTo>
                <a:lnTo>
                  <a:pt x="4551" y="7660"/>
                </a:lnTo>
                <a:lnTo>
                  <a:pt x="4459" y="7889"/>
                </a:lnTo>
                <a:lnTo>
                  <a:pt x="4600" y="8308"/>
                </a:lnTo>
                <a:lnTo>
                  <a:pt x="4878" y="8586"/>
                </a:lnTo>
                <a:lnTo>
                  <a:pt x="4878" y="8820"/>
                </a:lnTo>
                <a:lnTo>
                  <a:pt x="4878" y="8913"/>
                </a:lnTo>
                <a:lnTo>
                  <a:pt x="4878" y="8913"/>
                </a:lnTo>
                <a:lnTo>
                  <a:pt x="4644" y="9098"/>
                </a:lnTo>
                <a:lnTo>
                  <a:pt x="4644" y="9283"/>
                </a:lnTo>
                <a:lnTo>
                  <a:pt x="4551" y="9468"/>
                </a:lnTo>
                <a:lnTo>
                  <a:pt x="4459" y="9653"/>
                </a:lnTo>
                <a:lnTo>
                  <a:pt x="4322" y="9746"/>
                </a:lnTo>
                <a:lnTo>
                  <a:pt x="4088" y="9931"/>
                </a:lnTo>
                <a:lnTo>
                  <a:pt x="3996" y="10165"/>
                </a:lnTo>
                <a:lnTo>
                  <a:pt x="3947" y="10306"/>
                </a:lnTo>
                <a:lnTo>
                  <a:pt x="3855" y="10862"/>
                </a:lnTo>
                <a:lnTo>
                  <a:pt x="3762" y="11139"/>
                </a:lnTo>
                <a:lnTo>
                  <a:pt x="3718" y="11281"/>
                </a:lnTo>
                <a:lnTo>
                  <a:pt x="3577" y="11744"/>
                </a:lnTo>
                <a:lnTo>
                  <a:pt x="3440" y="11977"/>
                </a:lnTo>
                <a:lnTo>
                  <a:pt x="3250" y="12163"/>
                </a:lnTo>
                <a:lnTo>
                  <a:pt x="2973" y="12440"/>
                </a:lnTo>
                <a:lnTo>
                  <a:pt x="2836" y="12670"/>
                </a:lnTo>
                <a:lnTo>
                  <a:pt x="2695" y="12762"/>
                </a:lnTo>
                <a:lnTo>
                  <a:pt x="2416" y="12952"/>
                </a:lnTo>
                <a:lnTo>
                  <a:pt x="2275" y="13044"/>
                </a:lnTo>
                <a:lnTo>
                  <a:pt x="2046" y="13137"/>
                </a:lnTo>
                <a:lnTo>
                  <a:pt x="1860" y="13322"/>
                </a:lnTo>
                <a:lnTo>
                  <a:pt x="1719" y="13366"/>
                </a:lnTo>
                <a:lnTo>
                  <a:pt x="1583" y="13507"/>
                </a:lnTo>
                <a:lnTo>
                  <a:pt x="1441" y="13552"/>
                </a:lnTo>
                <a:lnTo>
                  <a:pt x="1300" y="13644"/>
                </a:lnTo>
                <a:lnTo>
                  <a:pt x="1164" y="13785"/>
                </a:lnTo>
                <a:lnTo>
                  <a:pt x="978" y="14019"/>
                </a:lnTo>
                <a:lnTo>
                  <a:pt x="837" y="14112"/>
                </a:lnTo>
                <a:lnTo>
                  <a:pt x="652" y="14204"/>
                </a:lnTo>
                <a:lnTo>
                  <a:pt x="511" y="14297"/>
                </a:lnTo>
                <a:lnTo>
                  <a:pt x="282" y="14434"/>
                </a:lnTo>
                <a:lnTo>
                  <a:pt x="0" y="1461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57720" y="2643120"/>
            <a:ext cx="1452960" cy="3972240"/>
          </a:xfrm>
          <a:custGeom>
            <a:avLst/>
            <a:gdLst/>
            <a:ahLst/>
            <a:rect l="0" t="0" r="r" b="b"/>
            <a:pathLst>
              <a:path fill="none" w="4036" h="11034">
                <a:moveTo>
                  <a:pt x="2276" y="0"/>
                </a:moveTo>
                <a:lnTo>
                  <a:pt x="2369" y="224"/>
                </a:lnTo>
                <a:lnTo>
                  <a:pt x="2461" y="383"/>
                </a:lnTo>
                <a:lnTo>
                  <a:pt x="2501" y="595"/>
                </a:lnTo>
                <a:lnTo>
                  <a:pt x="2607" y="687"/>
                </a:lnTo>
                <a:lnTo>
                  <a:pt x="2726" y="917"/>
                </a:lnTo>
                <a:lnTo>
                  <a:pt x="2862" y="1102"/>
                </a:lnTo>
                <a:lnTo>
                  <a:pt x="2955" y="1287"/>
                </a:lnTo>
                <a:lnTo>
                  <a:pt x="3049" y="1428"/>
                </a:lnTo>
                <a:lnTo>
                  <a:pt x="3141" y="1613"/>
                </a:lnTo>
                <a:lnTo>
                  <a:pt x="3282" y="1750"/>
                </a:lnTo>
                <a:lnTo>
                  <a:pt x="3326" y="1891"/>
                </a:lnTo>
                <a:lnTo>
                  <a:pt x="3468" y="2076"/>
                </a:lnTo>
                <a:lnTo>
                  <a:pt x="3516" y="2218"/>
                </a:lnTo>
                <a:lnTo>
                  <a:pt x="3609" y="2403"/>
                </a:lnTo>
                <a:lnTo>
                  <a:pt x="3701" y="2632"/>
                </a:lnTo>
                <a:lnTo>
                  <a:pt x="3745" y="2773"/>
                </a:lnTo>
                <a:lnTo>
                  <a:pt x="3838" y="2958"/>
                </a:lnTo>
                <a:lnTo>
                  <a:pt x="3838" y="3100"/>
                </a:lnTo>
                <a:lnTo>
                  <a:pt x="3886" y="3285"/>
                </a:lnTo>
                <a:lnTo>
                  <a:pt x="3886" y="3470"/>
                </a:lnTo>
                <a:lnTo>
                  <a:pt x="3886" y="3792"/>
                </a:lnTo>
                <a:lnTo>
                  <a:pt x="3886" y="3933"/>
                </a:lnTo>
                <a:lnTo>
                  <a:pt x="3886" y="4074"/>
                </a:lnTo>
                <a:lnTo>
                  <a:pt x="3886" y="4259"/>
                </a:lnTo>
                <a:lnTo>
                  <a:pt x="3931" y="4445"/>
                </a:lnTo>
                <a:lnTo>
                  <a:pt x="3891" y="4709"/>
                </a:lnTo>
                <a:lnTo>
                  <a:pt x="3904" y="4815"/>
                </a:lnTo>
                <a:lnTo>
                  <a:pt x="3917" y="4881"/>
                </a:lnTo>
                <a:lnTo>
                  <a:pt x="3944" y="4960"/>
                </a:lnTo>
                <a:lnTo>
                  <a:pt x="3970" y="5053"/>
                </a:lnTo>
                <a:lnTo>
                  <a:pt x="4010" y="5199"/>
                </a:lnTo>
                <a:lnTo>
                  <a:pt x="4023" y="5291"/>
                </a:lnTo>
                <a:lnTo>
                  <a:pt x="4036" y="5476"/>
                </a:lnTo>
                <a:lnTo>
                  <a:pt x="3983" y="5610"/>
                </a:lnTo>
                <a:lnTo>
                  <a:pt x="3891" y="5768"/>
                </a:lnTo>
                <a:lnTo>
                  <a:pt x="3772" y="6007"/>
                </a:lnTo>
                <a:lnTo>
                  <a:pt x="3679" y="6152"/>
                </a:lnTo>
                <a:lnTo>
                  <a:pt x="3600" y="6258"/>
                </a:lnTo>
                <a:lnTo>
                  <a:pt x="3454" y="6324"/>
                </a:lnTo>
                <a:lnTo>
                  <a:pt x="3335" y="6443"/>
                </a:lnTo>
                <a:lnTo>
                  <a:pt x="3243" y="6509"/>
                </a:lnTo>
                <a:lnTo>
                  <a:pt x="3150" y="6602"/>
                </a:lnTo>
                <a:lnTo>
                  <a:pt x="3044" y="6734"/>
                </a:lnTo>
                <a:lnTo>
                  <a:pt x="3004" y="6880"/>
                </a:lnTo>
                <a:lnTo>
                  <a:pt x="2977" y="7038"/>
                </a:lnTo>
                <a:lnTo>
                  <a:pt x="2911" y="7197"/>
                </a:lnTo>
                <a:lnTo>
                  <a:pt x="2832" y="7369"/>
                </a:lnTo>
                <a:lnTo>
                  <a:pt x="2752" y="7634"/>
                </a:lnTo>
                <a:lnTo>
                  <a:pt x="2699" y="7819"/>
                </a:lnTo>
                <a:lnTo>
                  <a:pt x="2567" y="8070"/>
                </a:lnTo>
                <a:lnTo>
                  <a:pt x="2435" y="8335"/>
                </a:lnTo>
                <a:lnTo>
                  <a:pt x="2316" y="8560"/>
                </a:lnTo>
                <a:lnTo>
                  <a:pt x="2249" y="8785"/>
                </a:lnTo>
                <a:lnTo>
                  <a:pt x="2197" y="8943"/>
                </a:lnTo>
                <a:lnTo>
                  <a:pt x="2025" y="9129"/>
                </a:lnTo>
                <a:lnTo>
                  <a:pt x="1866" y="9340"/>
                </a:lnTo>
                <a:lnTo>
                  <a:pt x="1522" y="9539"/>
                </a:lnTo>
                <a:lnTo>
                  <a:pt x="1390" y="9724"/>
                </a:lnTo>
                <a:lnTo>
                  <a:pt x="1178" y="9883"/>
                </a:lnTo>
                <a:lnTo>
                  <a:pt x="978" y="10041"/>
                </a:lnTo>
                <a:lnTo>
                  <a:pt x="740" y="10253"/>
                </a:lnTo>
                <a:lnTo>
                  <a:pt x="502" y="10359"/>
                </a:lnTo>
                <a:lnTo>
                  <a:pt x="370" y="10491"/>
                </a:lnTo>
                <a:lnTo>
                  <a:pt x="145" y="10756"/>
                </a:lnTo>
                <a:lnTo>
                  <a:pt x="0" y="1103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03840" y="235080"/>
            <a:ext cx="3097440" cy="4447080"/>
          </a:xfrm>
          <a:custGeom>
            <a:avLst/>
            <a:gdLst/>
            <a:ahLst/>
            <a:rect l="0" t="0" r="r" b="b"/>
            <a:pathLst>
              <a:path fill="none" w="8604" h="12353">
                <a:moveTo>
                  <a:pt x="304" y="0"/>
                </a:moveTo>
                <a:lnTo>
                  <a:pt x="277" y="101"/>
                </a:lnTo>
                <a:lnTo>
                  <a:pt x="277" y="286"/>
                </a:lnTo>
                <a:lnTo>
                  <a:pt x="277" y="471"/>
                </a:lnTo>
                <a:lnTo>
                  <a:pt x="277" y="657"/>
                </a:lnTo>
                <a:lnTo>
                  <a:pt x="326" y="842"/>
                </a:lnTo>
                <a:lnTo>
                  <a:pt x="370" y="983"/>
                </a:lnTo>
                <a:lnTo>
                  <a:pt x="370" y="1168"/>
                </a:lnTo>
                <a:lnTo>
                  <a:pt x="370" y="1353"/>
                </a:lnTo>
                <a:lnTo>
                  <a:pt x="277" y="1538"/>
                </a:lnTo>
                <a:lnTo>
                  <a:pt x="233" y="1724"/>
                </a:lnTo>
                <a:lnTo>
                  <a:pt x="141" y="1865"/>
                </a:lnTo>
                <a:lnTo>
                  <a:pt x="92" y="2050"/>
                </a:lnTo>
                <a:lnTo>
                  <a:pt x="92" y="2235"/>
                </a:lnTo>
                <a:lnTo>
                  <a:pt x="92" y="2420"/>
                </a:lnTo>
                <a:lnTo>
                  <a:pt x="44" y="2606"/>
                </a:lnTo>
                <a:lnTo>
                  <a:pt x="0" y="2747"/>
                </a:lnTo>
                <a:lnTo>
                  <a:pt x="0" y="2932"/>
                </a:lnTo>
                <a:lnTo>
                  <a:pt x="0" y="3118"/>
                </a:lnTo>
                <a:lnTo>
                  <a:pt x="92" y="3303"/>
                </a:lnTo>
                <a:lnTo>
                  <a:pt x="141" y="3489"/>
                </a:lnTo>
                <a:lnTo>
                  <a:pt x="185" y="3630"/>
                </a:lnTo>
                <a:lnTo>
                  <a:pt x="233" y="3815"/>
                </a:lnTo>
                <a:lnTo>
                  <a:pt x="233" y="4000"/>
                </a:lnTo>
                <a:lnTo>
                  <a:pt x="233" y="4185"/>
                </a:lnTo>
                <a:lnTo>
                  <a:pt x="277" y="4371"/>
                </a:lnTo>
                <a:lnTo>
                  <a:pt x="326" y="4512"/>
                </a:lnTo>
                <a:lnTo>
                  <a:pt x="326" y="4697"/>
                </a:lnTo>
                <a:lnTo>
                  <a:pt x="370" y="4975"/>
                </a:lnTo>
                <a:lnTo>
                  <a:pt x="463" y="5160"/>
                </a:lnTo>
                <a:lnTo>
                  <a:pt x="511" y="5345"/>
                </a:lnTo>
                <a:lnTo>
                  <a:pt x="511" y="5486"/>
                </a:lnTo>
                <a:lnTo>
                  <a:pt x="511" y="5716"/>
                </a:lnTo>
                <a:lnTo>
                  <a:pt x="511" y="5857"/>
                </a:lnTo>
                <a:lnTo>
                  <a:pt x="555" y="6042"/>
                </a:lnTo>
                <a:lnTo>
                  <a:pt x="604" y="6227"/>
                </a:lnTo>
                <a:lnTo>
                  <a:pt x="648" y="6368"/>
                </a:lnTo>
                <a:lnTo>
                  <a:pt x="648" y="6553"/>
                </a:lnTo>
                <a:lnTo>
                  <a:pt x="789" y="6739"/>
                </a:lnTo>
                <a:lnTo>
                  <a:pt x="926" y="6924"/>
                </a:lnTo>
                <a:lnTo>
                  <a:pt x="1023" y="7109"/>
                </a:lnTo>
                <a:lnTo>
                  <a:pt x="1115" y="7250"/>
                </a:lnTo>
                <a:lnTo>
                  <a:pt x="1300" y="7387"/>
                </a:lnTo>
                <a:lnTo>
                  <a:pt x="1393" y="7528"/>
                </a:lnTo>
                <a:lnTo>
                  <a:pt x="1530" y="7713"/>
                </a:lnTo>
                <a:lnTo>
                  <a:pt x="1671" y="7850"/>
                </a:lnTo>
                <a:lnTo>
                  <a:pt x="1715" y="7991"/>
                </a:lnTo>
                <a:lnTo>
                  <a:pt x="1807" y="8132"/>
                </a:lnTo>
                <a:lnTo>
                  <a:pt x="1905" y="8317"/>
                </a:lnTo>
                <a:lnTo>
                  <a:pt x="2041" y="8502"/>
                </a:lnTo>
                <a:lnTo>
                  <a:pt x="2134" y="8688"/>
                </a:lnTo>
                <a:lnTo>
                  <a:pt x="2275" y="8873"/>
                </a:lnTo>
                <a:lnTo>
                  <a:pt x="2319" y="9014"/>
                </a:lnTo>
                <a:lnTo>
                  <a:pt x="2460" y="9151"/>
                </a:lnTo>
                <a:lnTo>
                  <a:pt x="2504" y="9293"/>
                </a:lnTo>
                <a:lnTo>
                  <a:pt x="2553" y="9478"/>
                </a:lnTo>
                <a:lnTo>
                  <a:pt x="2597" y="9663"/>
                </a:lnTo>
                <a:lnTo>
                  <a:pt x="2645" y="9804"/>
                </a:lnTo>
                <a:lnTo>
                  <a:pt x="2689" y="10034"/>
                </a:lnTo>
                <a:lnTo>
                  <a:pt x="2738" y="10175"/>
                </a:lnTo>
                <a:lnTo>
                  <a:pt x="2831" y="10360"/>
                </a:lnTo>
                <a:lnTo>
                  <a:pt x="2879" y="10589"/>
                </a:lnTo>
                <a:lnTo>
                  <a:pt x="2923" y="10730"/>
                </a:lnTo>
                <a:lnTo>
                  <a:pt x="2923" y="10871"/>
                </a:lnTo>
                <a:lnTo>
                  <a:pt x="2972" y="11057"/>
                </a:lnTo>
                <a:lnTo>
                  <a:pt x="3064" y="11242"/>
                </a:lnTo>
                <a:lnTo>
                  <a:pt x="3157" y="11427"/>
                </a:lnTo>
                <a:lnTo>
                  <a:pt x="3249" y="11568"/>
                </a:lnTo>
                <a:lnTo>
                  <a:pt x="3386" y="11753"/>
                </a:lnTo>
                <a:lnTo>
                  <a:pt x="3527" y="11939"/>
                </a:lnTo>
                <a:lnTo>
                  <a:pt x="3668" y="11983"/>
                </a:lnTo>
                <a:lnTo>
                  <a:pt x="3854" y="12031"/>
                </a:lnTo>
                <a:lnTo>
                  <a:pt x="4039" y="12168"/>
                </a:lnTo>
                <a:lnTo>
                  <a:pt x="4131" y="12309"/>
                </a:lnTo>
                <a:lnTo>
                  <a:pt x="4318" y="12353"/>
                </a:lnTo>
                <a:lnTo>
                  <a:pt x="4503" y="12353"/>
                </a:lnTo>
                <a:lnTo>
                  <a:pt x="4644" y="12309"/>
                </a:lnTo>
                <a:lnTo>
                  <a:pt x="4829" y="12261"/>
                </a:lnTo>
                <a:lnTo>
                  <a:pt x="5014" y="12216"/>
                </a:lnTo>
                <a:lnTo>
                  <a:pt x="5200" y="12075"/>
                </a:lnTo>
                <a:lnTo>
                  <a:pt x="5336" y="11890"/>
                </a:lnTo>
                <a:lnTo>
                  <a:pt x="5477" y="11753"/>
                </a:lnTo>
                <a:lnTo>
                  <a:pt x="5618" y="11612"/>
                </a:lnTo>
                <a:lnTo>
                  <a:pt x="5755" y="11471"/>
                </a:lnTo>
                <a:lnTo>
                  <a:pt x="5896" y="11379"/>
                </a:lnTo>
                <a:lnTo>
                  <a:pt x="6126" y="11237"/>
                </a:lnTo>
                <a:lnTo>
                  <a:pt x="6249" y="11132"/>
                </a:lnTo>
                <a:lnTo>
                  <a:pt x="6373" y="11026"/>
                </a:lnTo>
                <a:lnTo>
                  <a:pt x="6549" y="10938"/>
                </a:lnTo>
                <a:lnTo>
                  <a:pt x="6743" y="10832"/>
                </a:lnTo>
                <a:lnTo>
                  <a:pt x="6915" y="10779"/>
                </a:lnTo>
                <a:lnTo>
                  <a:pt x="7056" y="10779"/>
                </a:lnTo>
                <a:lnTo>
                  <a:pt x="7197" y="10730"/>
                </a:lnTo>
                <a:lnTo>
                  <a:pt x="7426" y="10589"/>
                </a:lnTo>
                <a:lnTo>
                  <a:pt x="7568" y="10453"/>
                </a:lnTo>
                <a:lnTo>
                  <a:pt x="7704" y="10311"/>
                </a:lnTo>
                <a:lnTo>
                  <a:pt x="7845" y="10126"/>
                </a:lnTo>
                <a:lnTo>
                  <a:pt x="7982" y="9941"/>
                </a:lnTo>
                <a:lnTo>
                  <a:pt x="8123" y="9804"/>
                </a:lnTo>
                <a:lnTo>
                  <a:pt x="8264" y="9707"/>
                </a:lnTo>
                <a:lnTo>
                  <a:pt x="8450" y="9615"/>
                </a:lnTo>
                <a:lnTo>
                  <a:pt x="8604" y="958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51440" y="237960"/>
            <a:ext cx="2953080" cy="3358080"/>
          </a:xfrm>
          <a:custGeom>
            <a:avLst/>
            <a:gdLst/>
            <a:ahLst/>
            <a:rect l="0" t="0" r="r" b="b"/>
            <a:pathLst>
              <a:path fill="none" w="8203" h="9328">
                <a:moveTo>
                  <a:pt x="0" y="0"/>
                </a:moveTo>
                <a:lnTo>
                  <a:pt x="44" y="487"/>
                </a:lnTo>
                <a:lnTo>
                  <a:pt x="123" y="619"/>
                </a:lnTo>
                <a:lnTo>
                  <a:pt x="194" y="792"/>
                </a:lnTo>
                <a:lnTo>
                  <a:pt x="286" y="984"/>
                </a:lnTo>
                <a:lnTo>
                  <a:pt x="379" y="1175"/>
                </a:lnTo>
                <a:lnTo>
                  <a:pt x="471" y="1366"/>
                </a:lnTo>
                <a:lnTo>
                  <a:pt x="471" y="1558"/>
                </a:lnTo>
                <a:lnTo>
                  <a:pt x="515" y="1704"/>
                </a:lnTo>
                <a:lnTo>
                  <a:pt x="612" y="1895"/>
                </a:lnTo>
                <a:lnTo>
                  <a:pt x="749" y="2086"/>
                </a:lnTo>
                <a:lnTo>
                  <a:pt x="842" y="2278"/>
                </a:lnTo>
                <a:lnTo>
                  <a:pt x="1027" y="2470"/>
                </a:lnTo>
                <a:lnTo>
                  <a:pt x="1075" y="2616"/>
                </a:lnTo>
                <a:lnTo>
                  <a:pt x="1212" y="2807"/>
                </a:lnTo>
                <a:lnTo>
                  <a:pt x="1305" y="2998"/>
                </a:lnTo>
                <a:lnTo>
                  <a:pt x="1397" y="3190"/>
                </a:lnTo>
                <a:lnTo>
                  <a:pt x="1446" y="3381"/>
                </a:lnTo>
                <a:lnTo>
                  <a:pt x="1587" y="3477"/>
                </a:lnTo>
                <a:lnTo>
                  <a:pt x="1772" y="3623"/>
                </a:lnTo>
                <a:lnTo>
                  <a:pt x="1957" y="3764"/>
                </a:lnTo>
                <a:lnTo>
                  <a:pt x="2094" y="3910"/>
                </a:lnTo>
                <a:lnTo>
                  <a:pt x="2235" y="4101"/>
                </a:lnTo>
                <a:lnTo>
                  <a:pt x="2420" y="4292"/>
                </a:lnTo>
                <a:lnTo>
                  <a:pt x="2562" y="4484"/>
                </a:lnTo>
                <a:lnTo>
                  <a:pt x="2698" y="4725"/>
                </a:lnTo>
                <a:lnTo>
                  <a:pt x="2883" y="4962"/>
                </a:lnTo>
                <a:lnTo>
                  <a:pt x="2932" y="5108"/>
                </a:lnTo>
                <a:lnTo>
                  <a:pt x="3069" y="5299"/>
                </a:lnTo>
                <a:lnTo>
                  <a:pt x="3161" y="5445"/>
                </a:lnTo>
                <a:lnTo>
                  <a:pt x="3258" y="5682"/>
                </a:lnTo>
                <a:lnTo>
                  <a:pt x="3443" y="5873"/>
                </a:lnTo>
                <a:lnTo>
                  <a:pt x="3721" y="5924"/>
                </a:lnTo>
                <a:lnTo>
                  <a:pt x="3907" y="6019"/>
                </a:lnTo>
                <a:lnTo>
                  <a:pt x="4092" y="6165"/>
                </a:lnTo>
                <a:lnTo>
                  <a:pt x="4234" y="6261"/>
                </a:lnTo>
                <a:lnTo>
                  <a:pt x="4419" y="6402"/>
                </a:lnTo>
                <a:lnTo>
                  <a:pt x="4556" y="6548"/>
                </a:lnTo>
                <a:lnTo>
                  <a:pt x="4697" y="6739"/>
                </a:lnTo>
                <a:lnTo>
                  <a:pt x="4882" y="7027"/>
                </a:lnTo>
                <a:lnTo>
                  <a:pt x="4975" y="7173"/>
                </a:lnTo>
                <a:lnTo>
                  <a:pt x="5116" y="7364"/>
                </a:lnTo>
                <a:lnTo>
                  <a:pt x="5252" y="7556"/>
                </a:lnTo>
                <a:lnTo>
                  <a:pt x="5394" y="7747"/>
                </a:lnTo>
                <a:lnTo>
                  <a:pt x="5579" y="7989"/>
                </a:lnTo>
                <a:lnTo>
                  <a:pt x="5764" y="8084"/>
                </a:lnTo>
                <a:lnTo>
                  <a:pt x="5905" y="8225"/>
                </a:lnTo>
                <a:lnTo>
                  <a:pt x="6134" y="8417"/>
                </a:lnTo>
                <a:lnTo>
                  <a:pt x="6276" y="8563"/>
                </a:lnTo>
                <a:lnTo>
                  <a:pt x="6412" y="8754"/>
                </a:lnTo>
                <a:lnTo>
                  <a:pt x="6505" y="8900"/>
                </a:lnTo>
                <a:lnTo>
                  <a:pt x="6646" y="9091"/>
                </a:lnTo>
                <a:lnTo>
                  <a:pt x="6787" y="9187"/>
                </a:lnTo>
                <a:lnTo>
                  <a:pt x="6972" y="9283"/>
                </a:lnTo>
                <a:lnTo>
                  <a:pt x="7157" y="9283"/>
                </a:lnTo>
                <a:lnTo>
                  <a:pt x="7343" y="9328"/>
                </a:lnTo>
                <a:lnTo>
                  <a:pt x="7603" y="9287"/>
                </a:lnTo>
                <a:lnTo>
                  <a:pt x="7744" y="9305"/>
                </a:lnTo>
                <a:lnTo>
                  <a:pt x="7867" y="9251"/>
                </a:lnTo>
                <a:lnTo>
                  <a:pt x="8026" y="9214"/>
                </a:lnTo>
                <a:lnTo>
                  <a:pt x="8203" y="9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86280" y="863640"/>
            <a:ext cx="3018240" cy="3183120"/>
          </a:xfrm>
          <a:custGeom>
            <a:avLst/>
            <a:gdLst/>
            <a:ahLst/>
            <a:rect l="0" t="0" r="r" b="b"/>
            <a:pathLst>
              <a:path fill="none" w="8384" h="8842">
                <a:moveTo>
                  <a:pt x="0" y="0"/>
                </a:moveTo>
                <a:lnTo>
                  <a:pt x="4" y="286"/>
                </a:lnTo>
                <a:lnTo>
                  <a:pt x="26" y="564"/>
                </a:lnTo>
                <a:lnTo>
                  <a:pt x="92" y="1045"/>
                </a:lnTo>
                <a:lnTo>
                  <a:pt x="357" y="1807"/>
                </a:lnTo>
                <a:lnTo>
                  <a:pt x="648" y="2390"/>
                </a:lnTo>
                <a:lnTo>
                  <a:pt x="793" y="2623"/>
                </a:lnTo>
                <a:lnTo>
                  <a:pt x="837" y="2764"/>
                </a:lnTo>
                <a:lnTo>
                  <a:pt x="930" y="2950"/>
                </a:lnTo>
                <a:lnTo>
                  <a:pt x="1023" y="3135"/>
                </a:lnTo>
                <a:lnTo>
                  <a:pt x="1115" y="3320"/>
                </a:lnTo>
                <a:lnTo>
                  <a:pt x="1115" y="3505"/>
                </a:lnTo>
                <a:lnTo>
                  <a:pt x="1115" y="3646"/>
                </a:lnTo>
                <a:lnTo>
                  <a:pt x="1164" y="3832"/>
                </a:lnTo>
                <a:lnTo>
                  <a:pt x="1208" y="4017"/>
                </a:lnTo>
                <a:lnTo>
                  <a:pt x="1208" y="4202"/>
                </a:lnTo>
                <a:lnTo>
                  <a:pt x="1300" y="4387"/>
                </a:lnTo>
                <a:lnTo>
                  <a:pt x="1349" y="4666"/>
                </a:lnTo>
                <a:lnTo>
                  <a:pt x="1393" y="4807"/>
                </a:lnTo>
                <a:lnTo>
                  <a:pt x="1393" y="5036"/>
                </a:lnTo>
                <a:lnTo>
                  <a:pt x="1578" y="5178"/>
                </a:lnTo>
                <a:lnTo>
                  <a:pt x="1719" y="5270"/>
                </a:lnTo>
                <a:lnTo>
                  <a:pt x="1860" y="5363"/>
                </a:lnTo>
                <a:lnTo>
                  <a:pt x="1953" y="5504"/>
                </a:lnTo>
                <a:lnTo>
                  <a:pt x="2183" y="5733"/>
                </a:lnTo>
                <a:lnTo>
                  <a:pt x="2324" y="5874"/>
                </a:lnTo>
                <a:lnTo>
                  <a:pt x="2510" y="6152"/>
                </a:lnTo>
                <a:lnTo>
                  <a:pt x="2651" y="6337"/>
                </a:lnTo>
                <a:lnTo>
                  <a:pt x="2743" y="6478"/>
                </a:lnTo>
                <a:lnTo>
                  <a:pt x="2880" y="6708"/>
                </a:lnTo>
                <a:lnTo>
                  <a:pt x="2929" y="6849"/>
                </a:lnTo>
                <a:lnTo>
                  <a:pt x="3065" y="7034"/>
                </a:lnTo>
                <a:lnTo>
                  <a:pt x="3114" y="7175"/>
                </a:lnTo>
                <a:lnTo>
                  <a:pt x="3206" y="7360"/>
                </a:lnTo>
                <a:lnTo>
                  <a:pt x="3250" y="7546"/>
                </a:lnTo>
                <a:lnTo>
                  <a:pt x="3343" y="7731"/>
                </a:lnTo>
                <a:lnTo>
                  <a:pt x="3392" y="7916"/>
                </a:lnTo>
                <a:lnTo>
                  <a:pt x="3440" y="8057"/>
                </a:lnTo>
                <a:lnTo>
                  <a:pt x="3577" y="8286"/>
                </a:lnTo>
                <a:lnTo>
                  <a:pt x="3669" y="8427"/>
                </a:lnTo>
                <a:lnTo>
                  <a:pt x="3811" y="8564"/>
                </a:lnTo>
                <a:lnTo>
                  <a:pt x="3996" y="8749"/>
                </a:lnTo>
                <a:lnTo>
                  <a:pt x="4181" y="8842"/>
                </a:lnTo>
                <a:lnTo>
                  <a:pt x="4366" y="8842"/>
                </a:lnTo>
                <a:lnTo>
                  <a:pt x="4507" y="8842"/>
                </a:lnTo>
                <a:lnTo>
                  <a:pt x="4737" y="8798"/>
                </a:lnTo>
                <a:lnTo>
                  <a:pt x="4878" y="8749"/>
                </a:lnTo>
                <a:lnTo>
                  <a:pt x="5063" y="8657"/>
                </a:lnTo>
                <a:lnTo>
                  <a:pt x="5204" y="8613"/>
                </a:lnTo>
                <a:lnTo>
                  <a:pt x="5389" y="8564"/>
                </a:lnTo>
                <a:lnTo>
                  <a:pt x="5574" y="8520"/>
                </a:lnTo>
                <a:lnTo>
                  <a:pt x="5804" y="8472"/>
                </a:lnTo>
                <a:lnTo>
                  <a:pt x="5945" y="8427"/>
                </a:lnTo>
                <a:lnTo>
                  <a:pt x="6086" y="8379"/>
                </a:lnTo>
                <a:lnTo>
                  <a:pt x="6271" y="8286"/>
                </a:lnTo>
                <a:lnTo>
                  <a:pt x="6501" y="8286"/>
                </a:lnTo>
                <a:lnTo>
                  <a:pt x="6643" y="8286"/>
                </a:lnTo>
                <a:lnTo>
                  <a:pt x="6828" y="8242"/>
                </a:lnTo>
                <a:lnTo>
                  <a:pt x="6969" y="8194"/>
                </a:lnTo>
                <a:lnTo>
                  <a:pt x="7154" y="8150"/>
                </a:lnTo>
                <a:lnTo>
                  <a:pt x="7339" y="8057"/>
                </a:lnTo>
                <a:lnTo>
                  <a:pt x="7450" y="7973"/>
                </a:lnTo>
                <a:lnTo>
                  <a:pt x="7661" y="7832"/>
                </a:lnTo>
                <a:lnTo>
                  <a:pt x="7820" y="7744"/>
                </a:lnTo>
                <a:lnTo>
                  <a:pt x="8085" y="7638"/>
                </a:lnTo>
                <a:lnTo>
                  <a:pt x="8384" y="760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09960" y="1366920"/>
            <a:ext cx="3091320" cy="3154680"/>
          </a:xfrm>
          <a:custGeom>
            <a:avLst/>
            <a:gdLst/>
            <a:ahLst/>
            <a:rect l="0" t="0" r="r" b="b"/>
            <a:pathLst>
              <a:path fill="none" w="8587" h="8763">
                <a:moveTo>
                  <a:pt x="0" y="0"/>
                </a:moveTo>
                <a:lnTo>
                  <a:pt x="198" y="224"/>
                </a:lnTo>
                <a:lnTo>
                  <a:pt x="330" y="449"/>
                </a:lnTo>
                <a:lnTo>
                  <a:pt x="423" y="727"/>
                </a:lnTo>
                <a:lnTo>
                  <a:pt x="476" y="1084"/>
                </a:lnTo>
                <a:lnTo>
                  <a:pt x="515" y="1415"/>
                </a:lnTo>
                <a:lnTo>
                  <a:pt x="648" y="1746"/>
                </a:lnTo>
                <a:lnTo>
                  <a:pt x="701" y="2037"/>
                </a:lnTo>
                <a:lnTo>
                  <a:pt x="912" y="2262"/>
                </a:lnTo>
                <a:lnTo>
                  <a:pt x="912" y="2447"/>
                </a:lnTo>
                <a:lnTo>
                  <a:pt x="912" y="2579"/>
                </a:lnTo>
                <a:lnTo>
                  <a:pt x="886" y="2764"/>
                </a:lnTo>
                <a:lnTo>
                  <a:pt x="939" y="2870"/>
                </a:lnTo>
                <a:lnTo>
                  <a:pt x="992" y="3055"/>
                </a:lnTo>
                <a:lnTo>
                  <a:pt x="1018" y="3161"/>
                </a:lnTo>
                <a:lnTo>
                  <a:pt x="1124" y="3452"/>
                </a:lnTo>
                <a:lnTo>
                  <a:pt x="1124" y="3558"/>
                </a:lnTo>
                <a:lnTo>
                  <a:pt x="1230" y="3664"/>
                </a:lnTo>
                <a:lnTo>
                  <a:pt x="1336" y="3770"/>
                </a:lnTo>
                <a:lnTo>
                  <a:pt x="1494" y="3876"/>
                </a:lnTo>
                <a:lnTo>
                  <a:pt x="1653" y="4087"/>
                </a:lnTo>
                <a:lnTo>
                  <a:pt x="1838" y="4378"/>
                </a:lnTo>
                <a:lnTo>
                  <a:pt x="1971" y="4485"/>
                </a:lnTo>
                <a:lnTo>
                  <a:pt x="2103" y="4697"/>
                </a:lnTo>
                <a:lnTo>
                  <a:pt x="2210" y="4882"/>
                </a:lnTo>
                <a:lnTo>
                  <a:pt x="2263" y="5120"/>
                </a:lnTo>
                <a:lnTo>
                  <a:pt x="2395" y="5385"/>
                </a:lnTo>
                <a:lnTo>
                  <a:pt x="2448" y="5491"/>
                </a:lnTo>
                <a:lnTo>
                  <a:pt x="2554" y="5623"/>
                </a:lnTo>
                <a:lnTo>
                  <a:pt x="2492" y="5746"/>
                </a:lnTo>
                <a:lnTo>
                  <a:pt x="2527" y="5799"/>
                </a:lnTo>
                <a:lnTo>
                  <a:pt x="2563" y="5870"/>
                </a:lnTo>
                <a:lnTo>
                  <a:pt x="2598" y="5923"/>
                </a:lnTo>
                <a:lnTo>
                  <a:pt x="2615" y="5976"/>
                </a:lnTo>
                <a:lnTo>
                  <a:pt x="2651" y="6046"/>
                </a:lnTo>
                <a:lnTo>
                  <a:pt x="2686" y="6099"/>
                </a:lnTo>
                <a:lnTo>
                  <a:pt x="2721" y="6170"/>
                </a:lnTo>
                <a:lnTo>
                  <a:pt x="2721" y="6223"/>
                </a:lnTo>
                <a:lnTo>
                  <a:pt x="2757" y="6276"/>
                </a:lnTo>
                <a:lnTo>
                  <a:pt x="2774" y="6346"/>
                </a:lnTo>
                <a:lnTo>
                  <a:pt x="2809" y="6399"/>
                </a:lnTo>
                <a:lnTo>
                  <a:pt x="2827" y="6452"/>
                </a:lnTo>
                <a:lnTo>
                  <a:pt x="2862" y="6522"/>
                </a:lnTo>
                <a:lnTo>
                  <a:pt x="2880" y="6575"/>
                </a:lnTo>
                <a:lnTo>
                  <a:pt x="2898" y="6628"/>
                </a:lnTo>
                <a:lnTo>
                  <a:pt x="2915" y="6681"/>
                </a:lnTo>
                <a:lnTo>
                  <a:pt x="2933" y="6734"/>
                </a:lnTo>
                <a:lnTo>
                  <a:pt x="2968" y="6787"/>
                </a:lnTo>
                <a:lnTo>
                  <a:pt x="2968" y="6840"/>
                </a:lnTo>
                <a:lnTo>
                  <a:pt x="2986" y="6893"/>
                </a:lnTo>
                <a:lnTo>
                  <a:pt x="3021" y="6963"/>
                </a:lnTo>
                <a:lnTo>
                  <a:pt x="3039" y="7016"/>
                </a:lnTo>
                <a:lnTo>
                  <a:pt x="3039" y="7069"/>
                </a:lnTo>
                <a:lnTo>
                  <a:pt x="3074" y="7122"/>
                </a:lnTo>
                <a:lnTo>
                  <a:pt x="3109" y="7175"/>
                </a:lnTo>
                <a:lnTo>
                  <a:pt x="3145" y="7263"/>
                </a:lnTo>
                <a:lnTo>
                  <a:pt x="3162" y="7316"/>
                </a:lnTo>
                <a:lnTo>
                  <a:pt x="3198" y="7404"/>
                </a:lnTo>
                <a:lnTo>
                  <a:pt x="3233" y="7457"/>
                </a:lnTo>
                <a:lnTo>
                  <a:pt x="3268" y="7528"/>
                </a:lnTo>
                <a:lnTo>
                  <a:pt x="3286" y="7581"/>
                </a:lnTo>
                <a:lnTo>
                  <a:pt x="3321" y="7634"/>
                </a:lnTo>
                <a:lnTo>
                  <a:pt x="3339" y="7687"/>
                </a:lnTo>
                <a:lnTo>
                  <a:pt x="3356" y="7740"/>
                </a:lnTo>
                <a:lnTo>
                  <a:pt x="3392" y="7810"/>
                </a:lnTo>
                <a:lnTo>
                  <a:pt x="3444" y="7863"/>
                </a:lnTo>
                <a:lnTo>
                  <a:pt x="3480" y="7934"/>
                </a:lnTo>
                <a:lnTo>
                  <a:pt x="3515" y="7987"/>
                </a:lnTo>
                <a:lnTo>
                  <a:pt x="3550" y="8039"/>
                </a:lnTo>
                <a:lnTo>
                  <a:pt x="3586" y="8092"/>
                </a:lnTo>
                <a:lnTo>
                  <a:pt x="3621" y="8163"/>
                </a:lnTo>
                <a:lnTo>
                  <a:pt x="3656" y="8216"/>
                </a:lnTo>
                <a:lnTo>
                  <a:pt x="3691" y="8269"/>
                </a:lnTo>
                <a:lnTo>
                  <a:pt x="3744" y="8322"/>
                </a:lnTo>
                <a:lnTo>
                  <a:pt x="3780" y="8375"/>
                </a:lnTo>
                <a:lnTo>
                  <a:pt x="3833" y="8427"/>
                </a:lnTo>
                <a:lnTo>
                  <a:pt x="3885" y="8480"/>
                </a:lnTo>
                <a:lnTo>
                  <a:pt x="3938" y="8516"/>
                </a:lnTo>
                <a:lnTo>
                  <a:pt x="3974" y="8569"/>
                </a:lnTo>
                <a:lnTo>
                  <a:pt x="4027" y="8604"/>
                </a:lnTo>
                <a:lnTo>
                  <a:pt x="4079" y="8622"/>
                </a:lnTo>
                <a:lnTo>
                  <a:pt x="4132" y="8657"/>
                </a:lnTo>
                <a:lnTo>
                  <a:pt x="4185" y="8657"/>
                </a:lnTo>
                <a:lnTo>
                  <a:pt x="4238" y="8692"/>
                </a:lnTo>
                <a:lnTo>
                  <a:pt x="4450" y="8745"/>
                </a:lnTo>
                <a:lnTo>
                  <a:pt x="4503" y="8745"/>
                </a:lnTo>
                <a:lnTo>
                  <a:pt x="4556" y="8763"/>
                </a:lnTo>
                <a:lnTo>
                  <a:pt x="4609" y="8763"/>
                </a:lnTo>
                <a:lnTo>
                  <a:pt x="4662" y="8763"/>
                </a:lnTo>
                <a:lnTo>
                  <a:pt x="4732" y="8763"/>
                </a:lnTo>
                <a:lnTo>
                  <a:pt x="4820" y="8763"/>
                </a:lnTo>
                <a:lnTo>
                  <a:pt x="4909" y="8763"/>
                </a:lnTo>
                <a:lnTo>
                  <a:pt x="4961" y="8727"/>
                </a:lnTo>
                <a:lnTo>
                  <a:pt x="5014" y="8692"/>
                </a:lnTo>
                <a:lnTo>
                  <a:pt x="5067" y="8657"/>
                </a:lnTo>
                <a:lnTo>
                  <a:pt x="5173" y="8586"/>
                </a:lnTo>
                <a:lnTo>
                  <a:pt x="5226" y="8551"/>
                </a:lnTo>
                <a:lnTo>
                  <a:pt x="5279" y="8498"/>
                </a:lnTo>
                <a:lnTo>
                  <a:pt x="5332" y="8463"/>
                </a:lnTo>
                <a:lnTo>
                  <a:pt x="5385" y="8427"/>
                </a:lnTo>
                <a:lnTo>
                  <a:pt x="5438" y="8392"/>
                </a:lnTo>
                <a:lnTo>
                  <a:pt x="5491" y="8357"/>
                </a:lnTo>
                <a:lnTo>
                  <a:pt x="5544" y="8304"/>
                </a:lnTo>
                <a:lnTo>
                  <a:pt x="5632" y="8233"/>
                </a:lnTo>
                <a:lnTo>
                  <a:pt x="5702" y="8216"/>
                </a:lnTo>
                <a:lnTo>
                  <a:pt x="5808" y="8145"/>
                </a:lnTo>
                <a:lnTo>
                  <a:pt x="5843" y="8092"/>
                </a:lnTo>
                <a:lnTo>
                  <a:pt x="5879" y="8039"/>
                </a:lnTo>
                <a:lnTo>
                  <a:pt x="5932" y="8004"/>
                </a:lnTo>
                <a:lnTo>
                  <a:pt x="5984" y="7934"/>
                </a:lnTo>
                <a:lnTo>
                  <a:pt x="6037" y="7881"/>
                </a:lnTo>
                <a:lnTo>
                  <a:pt x="6090" y="7845"/>
                </a:lnTo>
                <a:lnTo>
                  <a:pt x="6143" y="7810"/>
                </a:lnTo>
                <a:lnTo>
                  <a:pt x="6214" y="7775"/>
                </a:lnTo>
                <a:lnTo>
                  <a:pt x="6267" y="7757"/>
                </a:lnTo>
                <a:lnTo>
                  <a:pt x="6320" y="7740"/>
                </a:lnTo>
                <a:lnTo>
                  <a:pt x="6373" y="7704"/>
                </a:lnTo>
                <a:lnTo>
                  <a:pt x="6425" y="7687"/>
                </a:lnTo>
                <a:lnTo>
                  <a:pt x="6497" y="7651"/>
                </a:lnTo>
                <a:lnTo>
                  <a:pt x="6568" y="7616"/>
                </a:lnTo>
                <a:lnTo>
                  <a:pt x="6620" y="7581"/>
                </a:lnTo>
                <a:lnTo>
                  <a:pt x="6673" y="7563"/>
                </a:lnTo>
                <a:lnTo>
                  <a:pt x="6726" y="7546"/>
                </a:lnTo>
                <a:lnTo>
                  <a:pt x="6779" y="7528"/>
                </a:lnTo>
                <a:lnTo>
                  <a:pt x="6832" y="7510"/>
                </a:lnTo>
                <a:lnTo>
                  <a:pt x="6903" y="7493"/>
                </a:lnTo>
                <a:lnTo>
                  <a:pt x="7092" y="7409"/>
                </a:lnTo>
                <a:lnTo>
                  <a:pt x="7145" y="7343"/>
                </a:lnTo>
                <a:lnTo>
                  <a:pt x="7211" y="7329"/>
                </a:lnTo>
                <a:lnTo>
                  <a:pt x="7251" y="7277"/>
                </a:lnTo>
                <a:lnTo>
                  <a:pt x="7278" y="7277"/>
                </a:lnTo>
                <a:lnTo>
                  <a:pt x="7330" y="7224"/>
                </a:lnTo>
                <a:lnTo>
                  <a:pt x="7357" y="7197"/>
                </a:lnTo>
                <a:lnTo>
                  <a:pt x="7397" y="7144"/>
                </a:lnTo>
                <a:lnTo>
                  <a:pt x="7463" y="7105"/>
                </a:lnTo>
                <a:lnTo>
                  <a:pt x="7529" y="7078"/>
                </a:lnTo>
                <a:lnTo>
                  <a:pt x="7608" y="7025"/>
                </a:lnTo>
                <a:lnTo>
                  <a:pt x="7674" y="6972"/>
                </a:lnTo>
                <a:lnTo>
                  <a:pt x="7701" y="6933"/>
                </a:lnTo>
                <a:lnTo>
                  <a:pt x="7701" y="6946"/>
                </a:lnTo>
                <a:lnTo>
                  <a:pt x="7913" y="6734"/>
                </a:lnTo>
                <a:lnTo>
                  <a:pt x="8177" y="6509"/>
                </a:lnTo>
                <a:lnTo>
                  <a:pt x="8349" y="6443"/>
                </a:lnTo>
                <a:lnTo>
                  <a:pt x="8587" y="639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237960"/>
            <a:ext cx="2657880" cy="2305440"/>
          </a:xfrm>
          <a:custGeom>
            <a:avLst/>
            <a:gdLst/>
            <a:ahLst/>
            <a:rect l="0" t="0" r="r" b="b"/>
            <a:pathLst>
              <a:path fill="none" w="7383" h="6404">
                <a:moveTo>
                  <a:pt x="0" y="0"/>
                </a:moveTo>
                <a:lnTo>
                  <a:pt x="79" y="92"/>
                </a:lnTo>
                <a:lnTo>
                  <a:pt x="119" y="211"/>
                </a:lnTo>
                <a:lnTo>
                  <a:pt x="238" y="291"/>
                </a:lnTo>
                <a:lnTo>
                  <a:pt x="357" y="370"/>
                </a:lnTo>
                <a:lnTo>
                  <a:pt x="436" y="489"/>
                </a:lnTo>
                <a:lnTo>
                  <a:pt x="515" y="608"/>
                </a:lnTo>
                <a:lnTo>
                  <a:pt x="635" y="608"/>
                </a:lnTo>
                <a:lnTo>
                  <a:pt x="754" y="767"/>
                </a:lnTo>
                <a:lnTo>
                  <a:pt x="793" y="886"/>
                </a:lnTo>
                <a:lnTo>
                  <a:pt x="833" y="1005"/>
                </a:lnTo>
                <a:lnTo>
                  <a:pt x="873" y="1124"/>
                </a:lnTo>
                <a:lnTo>
                  <a:pt x="912" y="1243"/>
                </a:lnTo>
                <a:lnTo>
                  <a:pt x="1031" y="1322"/>
                </a:lnTo>
                <a:lnTo>
                  <a:pt x="1150" y="1402"/>
                </a:lnTo>
                <a:lnTo>
                  <a:pt x="1270" y="1481"/>
                </a:lnTo>
                <a:lnTo>
                  <a:pt x="1389" y="1521"/>
                </a:lnTo>
                <a:lnTo>
                  <a:pt x="1508" y="1600"/>
                </a:lnTo>
                <a:lnTo>
                  <a:pt x="1706" y="1681"/>
                </a:lnTo>
                <a:lnTo>
                  <a:pt x="1825" y="1720"/>
                </a:lnTo>
                <a:lnTo>
                  <a:pt x="1945" y="1800"/>
                </a:lnTo>
                <a:lnTo>
                  <a:pt x="2104" y="1879"/>
                </a:lnTo>
                <a:lnTo>
                  <a:pt x="2223" y="1958"/>
                </a:lnTo>
                <a:lnTo>
                  <a:pt x="2382" y="1998"/>
                </a:lnTo>
                <a:lnTo>
                  <a:pt x="2501" y="2077"/>
                </a:lnTo>
                <a:lnTo>
                  <a:pt x="2620" y="2236"/>
                </a:lnTo>
                <a:lnTo>
                  <a:pt x="2699" y="2355"/>
                </a:lnTo>
                <a:lnTo>
                  <a:pt x="2818" y="2474"/>
                </a:lnTo>
                <a:lnTo>
                  <a:pt x="2977" y="2593"/>
                </a:lnTo>
                <a:lnTo>
                  <a:pt x="3096" y="2673"/>
                </a:lnTo>
                <a:lnTo>
                  <a:pt x="3215" y="2712"/>
                </a:lnTo>
                <a:lnTo>
                  <a:pt x="3334" y="2752"/>
                </a:lnTo>
                <a:lnTo>
                  <a:pt x="3453" y="2792"/>
                </a:lnTo>
                <a:lnTo>
                  <a:pt x="3652" y="2951"/>
                </a:lnTo>
                <a:lnTo>
                  <a:pt x="3771" y="2990"/>
                </a:lnTo>
                <a:lnTo>
                  <a:pt x="3969" y="3109"/>
                </a:lnTo>
                <a:lnTo>
                  <a:pt x="4128" y="3268"/>
                </a:lnTo>
                <a:lnTo>
                  <a:pt x="4247" y="3308"/>
                </a:lnTo>
                <a:lnTo>
                  <a:pt x="4366" y="3427"/>
                </a:lnTo>
                <a:lnTo>
                  <a:pt x="4485" y="3506"/>
                </a:lnTo>
                <a:lnTo>
                  <a:pt x="4604" y="3625"/>
                </a:lnTo>
                <a:lnTo>
                  <a:pt x="4684" y="3744"/>
                </a:lnTo>
                <a:lnTo>
                  <a:pt x="4763" y="3863"/>
                </a:lnTo>
                <a:lnTo>
                  <a:pt x="4922" y="4022"/>
                </a:lnTo>
                <a:lnTo>
                  <a:pt x="5041" y="4102"/>
                </a:lnTo>
                <a:lnTo>
                  <a:pt x="5120" y="4221"/>
                </a:lnTo>
                <a:lnTo>
                  <a:pt x="5239" y="4300"/>
                </a:lnTo>
                <a:lnTo>
                  <a:pt x="5358" y="4459"/>
                </a:lnTo>
                <a:lnTo>
                  <a:pt x="5477" y="4578"/>
                </a:lnTo>
                <a:lnTo>
                  <a:pt x="5597" y="4617"/>
                </a:lnTo>
                <a:lnTo>
                  <a:pt x="5717" y="4737"/>
                </a:lnTo>
                <a:lnTo>
                  <a:pt x="5836" y="4776"/>
                </a:lnTo>
                <a:lnTo>
                  <a:pt x="5955" y="4817"/>
                </a:lnTo>
                <a:lnTo>
                  <a:pt x="6074" y="4817"/>
                </a:lnTo>
                <a:lnTo>
                  <a:pt x="6193" y="4857"/>
                </a:lnTo>
                <a:lnTo>
                  <a:pt x="6352" y="4936"/>
                </a:lnTo>
                <a:lnTo>
                  <a:pt x="6431" y="5055"/>
                </a:lnTo>
                <a:lnTo>
                  <a:pt x="6550" y="5214"/>
                </a:lnTo>
                <a:lnTo>
                  <a:pt x="6669" y="5333"/>
                </a:lnTo>
                <a:lnTo>
                  <a:pt x="6709" y="5452"/>
                </a:lnTo>
                <a:lnTo>
                  <a:pt x="6788" y="5571"/>
                </a:lnTo>
                <a:lnTo>
                  <a:pt x="6907" y="5730"/>
                </a:lnTo>
                <a:lnTo>
                  <a:pt x="6947" y="5849"/>
                </a:lnTo>
                <a:lnTo>
                  <a:pt x="7026" y="5968"/>
                </a:lnTo>
                <a:lnTo>
                  <a:pt x="7106" y="6087"/>
                </a:lnTo>
                <a:lnTo>
                  <a:pt x="7145" y="6206"/>
                </a:lnTo>
                <a:lnTo>
                  <a:pt x="7264" y="6325"/>
                </a:lnTo>
                <a:lnTo>
                  <a:pt x="7383" y="640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3840" y="3776760"/>
            <a:ext cx="3360960" cy="2843640"/>
          </a:xfrm>
          <a:custGeom>
            <a:avLst/>
            <a:gdLst/>
            <a:ahLst/>
            <a:rect l="0" t="0" r="r" b="b"/>
            <a:pathLst>
              <a:path fill="none" w="9336" h="7899">
                <a:moveTo>
                  <a:pt x="0" y="7899"/>
                </a:moveTo>
                <a:lnTo>
                  <a:pt x="66" y="7649"/>
                </a:lnTo>
                <a:lnTo>
                  <a:pt x="542" y="7184"/>
                </a:lnTo>
                <a:lnTo>
                  <a:pt x="1058" y="6670"/>
                </a:lnTo>
                <a:lnTo>
                  <a:pt x="1389" y="6459"/>
                </a:lnTo>
                <a:lnTo>
                  <a:pt x="1825" y="5821"/>
                </a:lnTo>
                <a:lnTo>
                  <a:pt x="2037" y="5277"/>
                </a:lnTo>
                <a:lnTo>
                  <a:pt x="2275" y="5042"/>
                </a:lnTo>
                <a:lnTo>
                  <a:pt x="2539" y="4591"/>
                </a:lnTo>
                <a:lnTo>
                  <a:pt x="2923" y="4047"/>
                </a:lnTo>
                <a:lnTo>
                  <a:pt x="3346" y="3136"/>
                </a:lnTo>
                <a:lnTo>
                  <a:pt x="3942" y="2715"/>
                </a:lnTo>
                <a:lnTo>
                  <a:pt x="4167" y="2725"/>
                </a:lnTo>
                <a:lnTo>
                  <a:pt x="4511" y="2935"/>
                </a:lnTo>
                <a:lnTo>
                  <a:pt x="4616" y="3136"/>
                </a:lnTo>
                <a:lnTo>
                  <a:pt x="4895" y="3322"/>
                </a:lnTo>
                <a:lnTo>
                  <a:pt x="5292" y="3494"/>
                </a:lnTo>
                <a:lnTo>
                  <a:pt x="5530" y="3347"/>
                </a:lnTo>
                <a:lnTo>
                  <a:pt x="5967" y="2778"/>
                </a:lnTo>
                <a:lnTo>
                  <a:pt x="6059" y="2700"/>
                </a:lnTo>
                <a:lnTo>
                  <a:pt x="6205" y="2671"/>
                </a:lnTo>
                <a:lnTo>
                  <a:pt x="6421" y="2582"/>
                </a:lnTo>
                <a:lnTo>
                  <a:pt x="6549" y="2440"/>
                </a:lnTo>
                <a:lnTo>
                  <a:pt x="6633" y="2298"/>
                </a:lnTo>
                <a:lnTo>
                  <a:pt x="6725" y="2073"/>
                </a:lnTo>
                <a:lnTo>
                  <a:pt x="6858" y="1995"/>
                </a:lnTo>
                <a:lnTo>
                  <a:pt x="7060" y="1930"/>
                </a:lnTo>
                <a:lnTo>
                  <a:pt x="7096" y="1940"/>
                </a:lnTo>
                <a:lnTo>
                  <a:pt x="7334" y="1915"/>
                </a:lnTo>
                <a:lnTo>
                  <a:pt x="7444" y="1871"/>
                </a:lnTo>
                <a:lnTo>
                  <a:pt x="7572" y="1729"/>
                </a:lnTo>
                <a:lnTo>
                  <a:pt x="7700" y="1680"/>
                </a:lnTo>
                <a:lnTo>
                  <a:pt x="7828" y="1587"/>
                </a:lnTo>
                <a:lnTo>
                  <a:pt x="8000" y="1396"/>
                </a:lnTo>
                <a:lnTo>
                  <a:pt x="8128" y="1303"/>
                </a:lnTo>
                <a:lnTo>
                  <a:pt x="8255" y="1254"/>
                </a:lnTo>
                <a:lnTo>
                  <a:pt x="8339" y="1112"/>
                </a:lnTo>
                <a:lnTo>
                  <a:pt x="8467" y="1019"/>
                </a:lnTo>
                <a:lnTo>
                  <a:pt x="8511" y="876"/>
                </a:lnTo>
                <a:lnTo>
                  <a:pt x="8599" y="685"/>
                </a:lnTo>
                <a:lnTo>
                  <a:pt x="8727" y="543"/>
                </a:lnTo>
                <a:lnTo>
                  <a:pt x="8855" y="401"/>
                </a:lnTo>
                <a:lnTo>
                  <a:pt x="8983" y="210"/>
                </a:lnTo>
                <a:lnTo>
                  <a:pt x="9111" y="68"/>
                </a:lnTo>
                <a:lnTo>
                  <a:pt x="9239" y="24"/>
                </a:lnTo>
                <a:lnTo>
                  <a:pt x="933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6800" y="3889440"/>
            <a:ext cx="3262680" cy="2730960"/>
          </a:xfrm>
          <a:custGeom>
            <a:avLst/>
            <a:gdLst/>
            <a:ahLst/>
            <a:rect l="0" t="0" r="r" b="b"/>
            <a:pathLst>
              <a:path fill="none" w="9063" h="7586">
                <a:moveTo>
                  <a:pt x="9063" y="0"/>
                </a:moveTo>
                <a:lnTo>
                  <a:pt x="8980" y="127"/>
                </a:lnTo>
                <a:lnTo>
                  <a:pt x="8852" y="255"/>
                </a:lnTo>
                <a:lnTo>
                  <a:pt x="8724" y="343"/>
                </a:lnTo>
                <a:lnTo>
                  <a:pt x="8636" y="471"/>
                </a:lnTo>
                <a:lnTo>
                  <a:pt x="8552" y="599"/>
                </a:lnTo>
                <a:lnTo>
                  <a:pt x="8468" y="727"/>
                </a:lnTo>
                <a:lnTo>
                  <a:pt x="8380" y="855"/>
                </a:lnTo>
                <a:lnTo>
                  <a:pt x="8296" y="983"/>
                </a:lnTo>
                <a:lnTo>
                  <a:pt x="8168" y="1067"/>
                </a:lnTo>
                <a:lnTo>
                  <a:pt x="8040" y="1195"/>
                </a:lnTo>
                <a:lnTo>
                  <a:pt x="7913" y="1283"/>
                </a:lnTo>
                <a:lnTo>
                  <a:pt x="7785" y="1411"/>
                </a:lnTo>
                <a:lnTo>
                  <a:pt x="7613" y="1494"/>
                </a:lnTo>
                <a:lnTo>
                  <a:pt x="7485" y="1622"/>
                </a:lnTo>
                <a:lnTo>
                  <a:pt x="7357" y="1666"/>
                </a:lnTo>
                <a:lnTo>
                  <a:pt x="7295" y="1781"/>
                </a:lnTo>
                <a:lnTo>
                  <a:pt x="7207" y="1860"/>
                </a:lnTo>
                <a:lnTo>
                  <a:pt x="7075" y="1914"/>
                </a:lnTo>
                <a:lnTo>
                  <a:pt x="7004" y="1976"/>
                </a:lnTo>
                <a:lnTo>
                  <a:pt x="6916" y="2082"/>
                </a:lnTo>
                <a:lnTo>
                  <a:pt x="6721" y="2258"/>
                </a:lnTo>
                <a:lnTo>
                  <a:pt x="6553" y="2355"/>
                </a:lnTo>
                <a:lnTo>
                  <a:pt x="6430" y="2426"/>
                </a:lnTo>
                <a:lnTo>
                  <a:pt x="6342" y="2532"/>
                </a:lnTo>
                <a:lnTo>
                  <a:pt x="6218" y="2620"/>
                </a:lnTo>
                <a:lnTo>
                  <a:pt x="6174" y="2752"/>
                </a:lnTo>
                <a:lnTo>
                  <a:pt x="6033" y="2858"/>
                </a:lnTo>
                <a:lnTo>
                  <a:pt x="5910" y="3043"/>
                </a:lnTo>
                <a:lnTo>
                  <a:pt x="5716" y="3140"/>
                </a:lnTo>
                <a:lnTo>
                  <a:pt x="5618" y="3264"/>
                </a:lnTo>
                <a:lnTo>
                  <a:pt x="5460" y="3396"/>
                </a:lnTo>
                <a:lnTo>
                  <a:pt x="5292" y="3475"/>
                </a:lnTo>
                <a:lnTo>
                  <a:pt x="5160" y="3511"/>
                </a:lnTo>
                <a:lnTo>
                  <a:pt x="5010" y="3493"/>
                </a:lnTo>
                <a:lnTo>
                  <a:pt x="4781" y="3475"/>
                </a:lnTo>
                <a:lnTo>
                  <a:pt x="4626" y="3286"/>
                </a:lnTo>
                <a:lnTo>
                  <a:pt x="4498" y="3202"/>
                </a:lnTo>
                <a:lnTo>
                  <a:pt x="4371" y="3074"/>
                </a:lnTo>
                <a:lnTo>
                  <a:pt x="4238" y="2990"/>
                </a:lnTo>
                <a:lnTo>
                  <a:pt x="4154" y="2862"/>
                </a:lnTo>
                <a:lnTo>
                  <a:pt x="4027" y="2818"/>
                </a:lnTo>
                <a:lnTo>
                  <a:pt x="3899" y="2774"/>
                </a:lnTo>
                <a:lnTo>
                  <a:pt x="3775" y="2638"/>
                </a:lnTo>
                <a:lnTo>
                  <a:pt x="3599" y="2774"/>
                </a:lnTo>
                <a:lnTo>
                  <a:pt x="3515" y="2902"/>
                </a:lnTo>
                <a:lnTo>
                  <a:pt x="3431" y="3030"/>
                </a:lnTo>
                <a:lnTo>
                  <a:pt x="3343" y="3158"/>
                </a:lnTo>
                <a:lnTo>
                  <a:pt x="3215" y="3286"/>
                </a:lnTo>
                <a:lnTo>
                  <a:pt x="3131" y="3418"/>
                </a:lnTo>
                <a:lnTo>
                  <a:pt x="3004" y="3546"/>
                </a:lnTo>
                <a:lnTo>
                  <a:pt x="2915" y="3674"/>
                </a:lnTo>
                <a:lnTo>
                  <a:pt x="2832" y="3802"/>
                </a:lnTo>
                <a:lnTo>
                  <a:pt x="2704" y="3930"/>
                </a:lnTo>
                <a:lnTo>
                  <a:pt x="2660" y="4057"/>
                </a:lnTo>
                <a:lnTo>
                  <a:pt x="2576" y="4185"/>
                </a:lnTo>
                <a:lnTo>
                  <a:pt x="2448" y="4353"/>
                </a:lnTo>
                <a:lnTo>
                  <a:pt x="2364" y="4481"/>
                </a:lnTo>
                <a:lnTo>
                  <a:pt x="2235" y="4609"/>
                </a:lnTo>
                <a:lnTo>
                  <a:pt x="2147" y="4741"/>
                </a:lnTo>
                <a:lnTo>
                  <a:pt x="2063" y="4869"/>
                </a:lnTo>
                <a:lnTo>
                  <a:pt x="1979" y="4997"/>
                </a:lnTo>
                <a:lnTo>
                  <a:pt x="1891" y="5125"/>
                </a:lnTo>
                <a:lnTo>
                  <a:pt x="1807" y="5252"/>
                </a:lnTo>
                <a:lnTo>
                  <a:pt x="1724" y="5380"/>
                </a:lnTo>
                <a:lnTo>
                  <a:pt x="1636" y="5508"/>
                </a:lnTo>
                <a:lnTo>
                  <a:pt x="1552" y="5636"/>
                </a:lnTo>
                <a:lnTo>
                  <a:pt x="1508" y="5765"/>
                </a:lnTo>
                <a:lnTo>
                  <a:pt x="1424" y="5893"/>
                </a:lnTo>
                <a:lnTo>
                  <a:pt x="1336" y="6021"/>
                </a:lnTo>
                <a:lnTo>
                  <a:pt x="1252" y="6149"/>
                </a:lnTo>
                <a:lnTo>
                  <a:pt x="1124" y="6321"/>
                </a:lnTo>
                <a:lnTo>
                  <a:pt x="1040" y="6449"/>
                </a:lnTo>
                <a:lnTo>
                  <a:pt x="912" y="6488"/>
                </a:lnTo>
                <a:lnTo>
                  <a:pt x="784" y="6576"/>
                </a:lnTo>
                <a:lnTo>
                  <a:pt x="696" y="6704"/>
                </a:lnTo>
                <a:lnTo>
                  <a:pt x="568" y="6788"/>
                </a:lnTo>
                <a:lnTo>
                  <a:pt x="440" y="6916"/>
                </a:lnTo>
                <a:lnTo>
                  <a:pt x="357" y="7044"/>
                </a:lnTo>
                <a:lnTo>
                  <a:pt x="229" y="7172"/>
                </a:lnTo>
                <a:lnTo>
                  <a:pt x="141" y="7300"/>
                </a:lnTo>
                <a:lnTo>
                  <a:pt x="57" y="7427"/>
                </a:lnTo>
                <a:lnTo>
                  <a:pt x="0" y="758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54520" y="4203720"/>
            <a:ext cx="3150000" cy="2416680"/>
          </a:xfrm>
          <a:custGeom>
            <a:avLst/>
            <a:gdLst/>
            <a:ahLst/>
            <a:rect l="0" t="0" r="r" b="b"/>
            <a:pathLst>
              <a:path fill="none" w="8750" h="6713">
                <a:moveTo>
                  <a:pt x="8750" y="0"/>
                </a:moveTo>
                <a:lnTo>
                  <a:pt x="8653" y="26"/>
                </a:lnTo>
                <a:lnTo>
                  <a:pt x="8525" y="66"/>
                </a:lnTo>
                <a:lnTo>
                  <a:pt x="8398" y="154"/>
                </a:lnTo>
                <a:lnTo>
                  <a:pt x="8270" y="194"/>
                </a:lnTo>
                <a:lnTo>
                  <a:pt x="8142" y="282"/>
                </a:lnTo>
                <a:lnTo>
                  <a:pt x="8054" y="449"/>
                </a:lnTo>
                <a:lnTo>
                  <a:pt x="7926" y="577"/>
                </a:lnTo>
                <a:lnTo>
                  <a:pt x="7798" y="705"/>
                </a:lnTo>
                <a:lnTo>
                  <a:pt x="7670" y="793"/>
                </a:lnTo>
                <a:lnTo>
                  <a:pt x="7542" y="921"/>
                </a:lnTo>
                <a:lnTo>
                  <a:pt x="7414" y="1005"/>
                </a:lnTo>
                <a:lnTo>
                  <a:pt x="7330" y="1133"/>
                </a:lnTo>
                <a:lnTo>
                  <a:pt x="7260" y="1296"/>
                </a:lnTo>
                <a:lnTo>
                  <a:pt x="7172" y="1455"/>
                </a:lnTo>
                <a:lnTo>
                  <a:pt x="6951" y="1569"/>
                </a:lnTo>
                <a:lnTo>
                  <a:pt x="6713" y="1631"/>
                </a:lnTo>
                <a:lnTo>
                  <a:pt x="6558" y="1689"/>
                </a:lnTo>
                <a:lnTo>
                  <a:pt x="6430" y="1817"/>
                </a:lnTo>
                <a:lnTo>
                  <a:pt x="6302" y="1945"/>
                </a:lnTo>
                <a:lnTo>
                  <a:pt x="6218" y="2073"/>
                </a:lnTo>
                <a:lnTo>
                  <a:pt x="6090" y="2157"/>
                </a:lnTo>
                <a:lnTo>
                  <a:pt x="6007" y="2285"/>
                </a:lnTo>
                <a:lnTo>
                  <a:pt x="5879" y="2373"/>
                </a:lnTo>
                <a:lnTo>
                  <a:pt x="5751" y="2457"/>
                </a:lnTo>
                <a:lnTo>
                  <a:pt x="5623" y="2545"/>
                </a:lnTo>
                <a:lnTo>
                  <a:pt x="5495" y="2585"/>
                </a:lnTo>
                <a:lnTo>
                  <a:pt x="5367" y="2629"/>
                </a:lnTo>
                <a:lnTo>
                  <a:pt x="5235" y="2712"/>
                </a:lnTo>
                <a:lnTo>
                  <a:pt x="5107" y="2757"/>
                </a:lnTo>
                <a:lnTo>
                  <a:pt x="4979" y="2757"/>
                </a:lnTo>
                <a:lnTo>
                  <a:pt x="4851" y="2801"/>
                </a:lnTo>
                <a:lnTo>
                  <a:pt x="4723" y="2840"/>
                </a:lnTo>
                <a:lnTo>
                  <a:pt x="4556" y="2884"/>
                </a:lnTo>
                <a:lnTo>
                  <a:pt x="4340" y="2884"/>
                </a:lnTo>
                <a:lnTo>
                  <a:pt x="4212" y="2840"/>
                </a:lnTo>
                <a:lnTo>
                  <a:pt x="4084" y="2757"/>
                </a:lnTo>
                <a:lnTo>
                  <a:pt x="3956" y="2712"/>
                </a:lnTo>
                <a:lnTo>
                  <a:pt x="3828" y="2629"/>
                </a:lnTo>
                <a:lnTo>
                  <a:pt x="3700" y="2585"/>
                </a:lnTo>
                <a:lnTo>
                  <a:pt x="3572" y="2545"/>
                </a:lnTo>
                <a:lnTo>
                  <a:pt x="3444" y="2501"/>
                </a:lnTo>
                <a:lnTo>
                  <a:pt x="3299" y="2369"/>
                </a:lnTo>
                <a:lnTo>
                  <a:pt x="3145" y="2501"/>
                </a:lnTo>
                <a:lnTo>
                  <a:pt x="3017" y="2545"/>
                </a:lnTo>
                <a:lnTo>
                  <a:pt x="2933" y="2673"/>
                </a:lnTo>
                <a:lnTo>
                  <a:pt x="2805" y="2757"/>
                </a:lnTo>
                <a:lnTo>
                  <a:pt x="2677" y="2840"/>
                </a:lnTo>
                <a:lnTo>
                  <a:pt x="2549" y="2968"/>
                </a:lnTo>
                <a:lnTo>
                  <a:pt x="2505" y="3096"/>
                </a:lnTo>
                <a:lnTo>
                  <a:pt x="2421" y="3224"/>
                </a:lnTo>
                <a:lnTo>
                  <a:pt x="2333" y="3352"/>
                </a:lnTo>
                <a:lnTo>
                  <a:pt x="2249" y="3480"/>
                </a:lnTo>
                <a:lnTo>
                  <a:pt x="2165" y="3608"/>
                </a:lnTo>
                <a:lnTo>
                  <a:pt x="2076" y="3736"/>
                </a:lnTo>
                <a:lnTo>
                  <a:pt x="1993" y="3868"/>
                </a:lnTo>
                <a:lnTo>
                  <a:pt x="1909" y="3996"/>
                </a:lnTo>
                <a:lnTo>
                  <a:pt x="1821" y="4124"/>
                </a:lnTo>
                <a:lnTo>
                  <a:pt x="1737" y="4251"/>
                </a:lnTo>
                <a:lnTo>
                  <a:pt x="1653" y="4379"/>
                </a:lnTo>
                <a:lnTo>
                  <a:pt x="1565" y="4507"/>
                </a:lnTo>
                <a:lnTo>
                  <a:pt x="1525" y="4635"/>
                </a:lnTo>
                <a:lnTo>
                  <a:pt x="1397" y="4763"/>
                </a:lnTo>
                <a:lnTo>
                  <a:pt x="1353" y="4891"/>
                </a:lnTo>
                <a:lnTo>
                  <a:pt x="1225" y="5019"/>
                </a:lnTo>
                <a:lnTo>
                  <a:pt x="1137" y="5148"/>
                </a:lnTo>
                <a:lnTo>
                  <a:pt x="1098" y="5276"/>
                </a:lnTo>
                <a:lnTo>
                  <a:pt x="1053" y="5403"/>
                </a:lnTo>
                <a:lnTo>
                  <a:pt x="926" y="5531"/>
                </a:lnTo>
                <a:lnTo>
                  <a:pt x="798" y="5659"/>
                </a:lnTo>
                <a:lnTo>
                  <a:pt x="670" y="5787"/>
                </a:lnTo>
                <a:lnTo>
                  <a:pt x="542" y="5915"/>
                </a:lnTo>
                <a:lnTo>
                  <a:pt x="458" y="6043"/>
                </a:lnTo>
                <a:lnTo>
                  <a:pt x="330" y="6127"/>
                </a:lnTo>
                <a:lnTo>
                  <a:pt x="242" y="6254"/>
                </a:lnTo>
                <a:lnTo>
                  <a:pt x="158" y="6382"/>
                </a:lnTo>
                <a:lnTo>
                  <a:pt x="74" y="6515"/>
                </a:lnTo>
                <a:lnTo>
                  <a:pt x="0" y="671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19400" y="4562640"/>
            <a:ext cx="2984760" cy="2054520"/>
          </a:xfrm>
          <a:custGeom>
            <a:avLst/>
            <a:gdLst/>
            <a:ahLst/>
            <a:rect l="0" t="0" r="r" b="b"/>
            <a:pathLst>
              <a:path fill="none" w="8291" h="5707">
                <a:moveTo>
                  <a:pt x="8291" y="0"/>
                </a:moveTo>
                <a:lnTo>
                  <a:pt x="8194" y="92"/>
                </a:lnTo>
                <a:lnTo>
                  <a:pt x="8066" y="136"/>
                </a:lnTo>
                <a:lnTo>
                  <a:pt x="7938" y="180"/>
                </a:lnTo>
                <a:lnTo>
                  <a:pt x="7810" y="224"/>
                </a:lnTo>
                <a:lnTo>
                  <a:pt x="7682" y="308"/>
                </a:lnTo>
                <a:lnTo>
                  <a:pt x="7554" y="352"/>
                </a:lnTo>
                <a:lnTo>
                  <a:pt x="7422" y="480"/>
                </a:lnTo>
                <a:lnTo>
                  <a:pt x="7338" y="608"/>
                </a:lnTo>
                <a:lnTo>
                  <a:pt x="7210" y="692"/>
                </a:lnTo>
                <a:lnTo>
                  <a:pt x="7083" y="776"/>
                </a:lnTo>
                <a:lnTo>
                  <a:pt x="6955" y="864"/>
                </a:lnTo>
                <a:lnTo>
                  <a:pt x="6827" y="948"/>
                </a:lnTo>
                <a:lnTo>
                  <a:pt x="6699" y="992"/>
                </a:lnTo>
                <a:lnTo>
                  <a:pt x="6571" y="1075"/>
                </a:lnTo>
                <a:lnTo>
                  <a:pt x="6443" y="1159"/>
                </a:lnTo>
                <a:lnTo>
                  <a:pt x="6315" y="1287"/>
                </a:lnTo>
                <a:lnTo>
                  <a:pt x="6143" y="1415"/>
                </a:lnTo>
                <a:lnTo>
                  <a:pt x="6015" y="1503"/>
                </a:lnTo>
                <a:lnTo>
                  <a:pt x="5843" y="1587"/>
                </a:lnTo>
                <a:lnTo>
                  <a:pt x="5676" y="1715"/>
                </a:lnTo>
                <a:lnTo>
                  <a:pt x="5548" y="1803"/>
                </a:lnTo>
                <a:lnTo>
                  <a:pt x="5420" y="1887"/>
                </a:lnTo>
                <a:lnTo>
                  <a:pt x="5248" y="1971"/>
                </a:lnTo>
                <a:lnTo>
                  <a:pt x="5120" y="2059"/>
                </a:lnTo>
                <a:lnTo>
                  <a:pt x="4992" y="2099"/>
                </a:lnTo>
                <a:lnTo>
                  <a:pt x="4864" y="2143"/>
                </a:lnTo>
                <a:lnTo>
                  <a:pt x="4737" y="2143"/>
                </a:lnTo>
                <a:lnTo>
                  <a:pt x="4565" y="2187"/>
                </a:lnTo>
                <a:lnTo>
                  <a:pt x="4393" y="2226"/>
                </a:lnTo>
                <a:lnTo>
                  <a:pt x="4265" y="2226"/>
                </a:lnTo>
                <a:lnTo>
                  <a:pt x="4096" y="2226"/>
                </a:lnTo>
                <a:lnTo>
                  <a:pt x="3968" y="2271"/>
                </a:lnTo>
                <a:lnTo>
                  <a:pt x="3840" y="2271"/>
                </a:lnTo>
                <a:lnTo>
                  <a:pt x="3712" y="2226"/>
                </a:lnTo>
                <a:lnTo>
                  <a:pt x="3585" y="2187"/>
                </a:lnTo>
                <a:lnTo>
                  <a:pt x="3452" y="2187"/>
                </a:lnTo>
                <a:lnTo>
                  <a:pt x="3324" y="2143"/>
                </a:lnTo>
                <a:lnTo>
                  <a:pt x="3157" y="2059"/>
                </a:lnTo>
                <a:lnTo>
                  <a:pt x="3029" y="2015"/>
                </a:lnTo>
                <a:lnTo>
                  <a:pt x="2853" y="1957"/>
                </a:lnTo>
                <a:lnTo>
                  <a:pt x="2698" y="1847"/>
                </a:lnTo>
                <a:lnTo>
                  <a:pt x="2548" y="1927"/>
                </a:lnTo>
                <a:lnTo>
                  <a:pt x="2345" y="2059"/>
                </a:lnTo>
                <a:lnTo>
                  <a:pt x="2218" y="2099"/>
                </a:lnTo>
                <a:lnTo>
                  <a:pt x="2129" y="2226"/>
                </a:lnTo>
                <a:lnTo>
                  <a:pt x="2002" y="2354"/>
                </a:lnTo>
                <a:lnTo>
                  <a:pt x="1918" y="2482"/>
                </a:lnTo>
                <a:lnTo>
                  <a:pt x="1874" y="2610"/>
                </a:lnTo>
                <a:lnTo>
                  <a:pt x="1790" y="2738"/>
                </a:lnTo>
                <a:lnTo>
                  <a:pt x="1706" y="2871"/>
                </a:lnTo>
                <a:lnTo>
                  <a:pt x="1662" y="2999"/>
                </a:lnTo>
                <a:lnTo>
                  <a:pt x="1534" y="3083"/>
                </a:lnTo>
                <a:lnTo>
                  <a:pt x="1450" y="3255"/>
                </a:lnTo>
                <a:lnTo>
                  <a:pt x="1322" y="3383"/>
                </a:lnTo>
                <a:lnTo>
                  <a:pt x="1278" y="3511"/>
                </a:lnTo>
                <a:lnTo>
                  <a:pt x="1195" y="3639"/>
                </a:lnTo>
                <a:lnTo>
                  <a:pt x="1106" y="3766"/>
                </a:lnTo>
                <a:lnTo>
                  <a:pt x="1023" y="3894"/>
                </a:lnTo>
                <a:lnTo>
                  <a:pt x="978" y="4022"/>
                </a:lnTo>
                <a:lnTo>
                  <a:pt x="895" y="4150"/>
                </a:lnTo>
                <a:lnTo>
                  <a:pt x="806" y="4278"/>
                </a:lnTo>
                <a:lnTo>
                  <a:pt x="723" y="4406"/>
                </a:lnTo>
                <a:lnTo>
                  <a:pt x="679" y="4534"/>
                </a:lnTo>
                <a:lnTo>
                  <a:pt x="595" y="4662"/>
                </a:lnTo>
                <a:lnTo>
                  <a:pt x="511" y="4789"/>
                </a:lnTo>
                <a:lnTo>
                  <a:pt x="423" y="4917"/>
                </a:lnTo>
                <a:lnTo>
                  <a:pt x="339" y="5045"/>
                </a:lnTo>
                <a:lnTo>
                  <a:pt x="255" y="5173"/>
                </a:lnTo>
                <a:lnTo>
                  <a:pt x="167" y="5301"/>
                </a:lnTo>
                <a:lnTo>
                  <a:pt x="127" y="5429"/>
                </a:lnTo>
                <a:lnTo>
                  <a:pt x="39" y="5557"/>
                </a:lnTo>
                <a:lnTo>
                  <a:pt x="0" y="570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86360" y="5076720"/>
            <a:ext cx="2918160" cy="1543320"/>
          </a:xfrm>
          <a:custGeom>
            <a:avLst/>
            <a:gdLst/>
            <a:ahLst/>
            <a:rect l="0" t="0" r="r" b="b"/>
            <a:pathLst>
              <a:path fill="none" w="8106" h="4287">
                <a:moveTo>
                  <a:pt x="8106" y="0"/>
                </a:moveTo>
                <a:lnTo>
                  <a:pt x="8009" y="30"/>
                </a:lnTo>
                <a:lnTo>
                  <a:pt x="7881" y="74"/>
                </a:lnTo>
                <a:lnTo>
                  <a:pt x="7753" y="158"/>
                </a:lnTo>
                <a:lnTo>
                  <a:pt x="7625" y="246"/>
                </a:lnTo>
                <a:lnTo>
                  <a:pt x="7497" y="330"/>
                </a:lnTo>
                <a:lnTo>
                  <a:pt x="7369" y="414"/>
                </a:lnTo>
                <a:lnTo>
                  <a:pt x="7237" y="502"/>
                </a:lnTo>
                <a:lnTo>
                  <a:pt x="7109" y="586"/>
                </a:lnTo>
                <a:lnTo>
                  <a:pt x="6941" y="714"/>
                </a:lnTo>
                <a:lnTo>
                  <a:pt x="6769" y="798"/>
                </a:lnTo>
                <a:lnTo>
                  <a:pt x="6642" y="886"/>
                </a:lnTo>
                <a:lnTo>
                  <a:pt x="6514" y="970"/>
                </a:lnTo>
                <a:lnTo>
                  <a:pt x="6302" y="1053"/>
                </a:lnTo>
                <a:lnTo>
                  <a:pt x="6130" y="1098"/>
                </a:lnTo>
                <a:lnTo>
                  <a:pt x="6002" y="1142"/>
                </a:lnTo>
                <a:lnTo>
                  <a:pt x="5874" y="1181"/>
                </a:lnTo>
                <a:lnTo>
                  <a:pt x="5618" y="1225"/>
                </a:lnTo>
                <a:lnTo>
                  <a:pt x="5447" y="1270"/>
                </a:lnTo>
                <a:lnTo>
                  <a:pt x="5019" y="1270"/>
                </a:lnTo>
                <a:lnTo>
                  <a:pt x="4891" y="1270"/>
                </a:lnTo>
                <a:lnTo>
                  <a:pt x="4763" y="1309"/>
                </a:lnTo>
                <a:lnTo>
                  <a:pt x="4635" y="1309"/>
                </a:lnTo>
                <a:lnTo>
                  <a:pt x="4463" y="1309"/>
                </a:lnTo>
                <a:lnTo>
                  <a:pt x="4335" y="1309"/>
                </a:lnTo>
                <a:lnTo>
                  <a:pt x="4207" y="1309"/>
                </a:lnTo>
                <a:lnTo>
                  <a:pt x="4039" y="1270"/>
                </a:lnTo>
                <a:lnTo>
                  <a:pt x="3867" y="1270"/>
                </a:lnTo>
                <a:lnTo>
                  <a:pt x="3655" y="1270"/>
                </a:lnTo>
                <a:lnTo>
                  <a:pt x="3527" y="1270"/>
                </a:lnTo>
                <a:lnTo>
                  <a:pt x="3355" y="1225"/>
                </a:lnTo>
                <a:lnTo>
                  <a:pt x="3227" y="1181"/>
                </a:lnTo>
                <a:lnTo>
                  <a:pt x="3100" y="1142"/>
                </a:lnTo>
                <a:lnTo>
                  <a:pt x="2844" y="1142"/>
                </a:lnTo>
                <a:lnTo>
                  <a:pt x="2716" y="1142"/>
                </a:lnTo>
                <a:lnTo>
                  <a:pt x="2579" y="1071"/>
                </a:lnTo>
                <a:lnTo>
                  <a:pt x="2394" y="1212"/>
                </a:lnTo>
                <a:lnTo>
                  <a:pt x="2275" y="1292"/>
                </a:lnTo>
                <a:lnTo>
                  <a:pt x="2204" y="1441"/>
                </a:lnTo>
                <a:lnTo>
                  <a:pt x="2076" y="1525"/>
                </a:lnTo>
                <a:lnTo>
                  <a:pt x="1944" y="1653"/>
                </a:lnTo>
                <a:lnTo>
                  <a:pt x="1816" y="1781"/>
                </a:lnTo>
                <a:lnTo>
                  <a:pt x="1733" y="1909"/>
                </a:lnTo>
                <a:lnTo>
                  <a:pt x="1605" y="2037"/>
                </a:lnTo>
                <a:lnTo>
                  <a:pt x="1477" y="2121"/>
                </a:lnTo>
                <a:lnTo>
                  <a:pt x="1349" y="2249"/>
                </a:lnTo>
                <a:lnTo>
                  <a:pt x="1221" y="2338"/>
                </a:lnTo>
                <a:lnTo>
                  <a:pt x="1137" y="2466"/>
                </a:lnTo>
                <a:lnTo>
                  <a:pt x="965" y="2633"/>
                </a:lnTo>
                <a:lnTo>
                  <a:pt x="881" y="2765"/>
                </a:lnTo>
                <a:lnTo>
                  <a:pt x="837" y="2893"/>
                </a:lnTo>
                <a:lnTo>
                  <a:pt x="754" y="3021"/>
                </a:lnTo>
                <a:lnTo>
                  <a:pt x="709" y="3149"/>
                </a:lnTo>
                <a:lnTo>
                  <a:pt x="621" y="3277"/>
                </a:lnTo>
                <a:lnTo>
                  <a:pt x="537" y="3405"/>
                </a:lnTo>
                <a:lnTo>
                  <a:pt x="493" y="3533"/>
                </a:lnTo>
                <a:lnTo>
                  <a:pt x="410" y="3661"/>
                </a:lnTo>
                <a:lnTo>
                  <a:pt x="366" y="3788"/>
                </a:lnTo>
                <a:lnTo>
                  <a:pt x="198" y="3956"/>
                </a:lnTo>
                <a:lnTo>
                  <a:pt x="110" y="4088"/>
                </a:lnTo>
                <a:lnTo>
                  <a:pt x="0" y="428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87880" y="5505480"/>
            <a:ext cx="2816640" cy="1119600"/>
          </a:xfrm>
          <a:custGeom>
            <a:avLst/>
            <a:gdLst/>
            <a:ahLst/>
            <a:rect l="0" t="0" r="r" b="b"/>
            <a:pathLst>
              <a:path fill="none" w="7824" h="3110">
                <a:moveTo>
                  <a:pt x="7824" y="0"/>
                </a:moveTo>
                <a:lnTo>
                  <a:pt x="7727" y="35"/>
                </a:lnTo>
                <a:lnTo>
                  <a:pt x="7639" y="163"/>
                </a:lnTo>
                <a:lnTo>
                  <a:pt x="7511" y="251"/>
                </a:lnTo>
                <a:lnTo>
                  <a:pt x="7383" y="335"/>
                </a:lnTo>
                <a:lnTo>
                  <a:pt x="7216" y="507"/>
                </a:lnTo>
                <a:lnTo>
                  <a:pt x="7000" y="635"/>
                </a:lnTo>
                <a:lnTo>
                  <a:pt x="6872" y="674"/>
                </a:lnTo>
                <a:lnTo>
                  <a:pt x="6744" y="718"/>
                </a:lnTo>
                <a:lnTo>
                  <a:pt x="6532" y="718"/>
                </a:lnTo>
                <a:lnTo>
                  <a:pt x="6404" y="718"/>
                </a:lnTo>
                <a:lnTo>
                  <a:pt x="6277" y="718"/>
                </a:lnTo>
                <a:lnTo>
                  <a:pt x="5081" y="674"/>
                </a:lnTo>
                <a:lnTo>
                  <a:pt x="4864" y="674"/>
                </a:lnTo>
                <a:lnTo>
                  <a:pt x="4737" y="674"/>
                </a:lnTo>
                <a:lnTo>
                  <a:pt x="4309" y="635"/>
                </a:lnTo>
                <a:lnTo>
                  <a:pt x="4141" y="590"/>
                </a:lnTo>
                <a:lnTo>
                  <a:pt x="4013" y="590"/>
                </a:lnTo>
                <a:lnTo>
                  <a:pt x="3885" y="507"/>
                </a:lnTo>
                <a:lnTo>
                  <a:pt x="3713" y="463"/>
                </a:lnTo>
                <a:lnTo>
                  <a:pt x="3542" y="463"/>
                </a:lnTo>
                <a:lnTo>
                  <a:pt x="3414" y="463"/>
                </a:lnTo>
                <a:lnTo>
                  <a:pt x="3246" y="463"/>
                </a:lnTo>
                <a:lnTo>
                  <a:pt x="3118" y="463"/>
                </a:lnTo>
                <a:lnTo>
                  <a:pt x="2946" y="463"/>
                </a:lnTo>
                <a:lnTo>
                  <a:pt x="2818" y="463"/>
                </a:lnTo>
                <a:lnTo>
                  <a:pt x="2690" y="463"/>
                </a:lnTo>
                <a:lnTo>
                  <a:pt x="2563" y="463"/>
                </a:lnTo>
                <a:lnTo>
                  <a:pt x="2435" y="463"/>
                </a:lnTo>
                <a:lnTo>
                  <a:pt x="2307" y="507"/>
                </a:lnTo>
                <a:lnTo>
                  <a:pt x="2179" y="546"/>
                </a:lnTo>
                <a:lnTo>
                  <a:pt x="2007" y="590"/>
                </a:lnTo>
                <a:lnTo>
                  <a:pt x="1878" y="635"/>
                </a:lnTo>
                <a:lnTo>
                  <a:pt x="1750" y="674"/>
                </a:lnTo>
                <a:lnTo>
                  <a:pt x="1622" y="762"/>
                </a:lnTo>
                <a:lnTo>
                  <a:pt x="1494" y="847"/>
                </a:lnTo>
                <a:lnTo>
                  <a:pt x="1406" y="975"/>
                </a:lnTo>
                <a:lnTo>
                  <a:pt x="1278" y="1019"/>
                </a:lnTo>
                <a:lnTo>
                  <a:pt x="1150" y="1103"/>
                </a:lnTo>
                <a:lnTo>
                  <a:pt x="1067" y="1231"/>
                </a:lnTo>
                <a:lnTo>
                  <a:pt x="983" y="1359"/>
                </a:lnTo>
                <a:lnTo>
                  <a:pt x="855" y="1487"/>
                </a:lnTo>
                <a:lnTo>
                  <a:pt x="727" y="1659"/>
                </a:lnTo>
                <a:lnTo>
                  <a:pt x="639" y="1786"/>
                </a:lnTo>
                <a:lnTo>
                  <a:pt x="555" y="1914"/>
                </a:lnTo>
                <a:lnTo>
                  <a:pt x="511" y="2042"/>
                </a:lnTo>
                <a:lnTo>
                  <a:pt x="471" y="2170"/>
                </a:lnTo>
                <a:lnTo>
                  <a:pt x="383" y="2343"/>
                </a:lnTo>
                <a:lnTo>
                  <a:pt x="299" y="2471"/>
                </a:lnTo>
                <a:lnTo>
                  <a:pt x="255" y="2599"/>
                </a:lnTo>
                <a:lnTo>
                  <a:pt x="211" y="2727"/>
                </a:lnTo>
                <a:lnTo>
                  <a:pt x="127" y="2855"/>
                </a:lnTo>
                <a:lnTo>
                  <a:pt x="44" y="2982"/>
                </a:lnTo>
                <a:lnTo>
                  <a:pt x="0" y="311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92640" y="5886360"/>
            <a:ext cx="2711880" cy="733680"/>
          </a:xfrm>
          <a:custGeom>
            <a:avLst/>
            <a:gdLst/>
            <a:ahLst/>
            <a:rect l="0" t="0" r="r" b="b"/>
            <a:pathLst>
              <a:path fill="none" w="7533" h="2038">
                <a:moveTo>
                  <a:pt x="7533" y="432"/>
                </a:moveTo>
                <a:lnTo>
                  <a:pt x="7436" y="427"/>
                </a:lnTo>
                <a:lnTo>
                  <a:pt x="7181" y="471"/>
                </a:lnTo>
                <a:lnTo>
                  <a:pt x="7053" y="515"/>
                </a:lnTo>
                <a:lnTo>
                  <a:pt x="6881" y="515"/>
                </a:lnTo>
                <a:lnTo>
                  <a:pt x="6753" y="471"/>
                </a:lnTo>
                <a:lnTo>
                  <a:pt x="6625" y="471"/>
                </a:lnTo>
                <a:lnTo>
                  <a:pt x="6497" y="471"/>
                </a:lnTo>
                <a:lnTo>
                  <a:pt x="6369" y="427"/>
                </a:lnTo>
                <a:lnTo>
                  <a:pt x="6197" y="427"/>
                </a:lnTo>
                <a:lnTo>
                  <a:pt x="5985" y="471"/>
                </a:lnTo>
                <a:lnTo>
                  <a:pt x="5858" y="471"/>
                </a:lnTo>
                <a:lnTo>
                  <a:pt x="5730" y="515"/>
                </a:lnTo>
                <a:lnTo>
                  <a:pt x="5601" y="515"/>
                </a:lnTo>
                <a:lnTo>
                  <a:pt x="5473" y="515"/>
                </a:lnTo>
                <a:lnTo>
                  <a:pt x="5341" y="515"/>
                </a:lnTo>
                <a:lnTo>
                  <a:pt x="5173" y="471"/>
                </a:lnTo>
                <a:lnTo>
                  <a:pt x="5045" y="427"/>
                </a:lnTo>
                <a:lnTo>
                  <a:pt x="4917" y="383"/>
                </a:lnTo>
                <a:lnTo>
                  <a:pt x="4745" y="343"/>
                </a:lnTo>
                <a:lnTo>
                  <a:pt x="4617" y="299"/>
                </a:lnTo>
                <a:lnTo>
                  <a:pt x="4490" y="299"/>
                </a:lnTo>
                <a:lnTo>
                  <a:pt x="4362" y="255"/>
                </a:lnTo>
                <a:lnTo>
                  <a:pt x="4234" y="255"/>
                </a:lnTo>
                <a:lnTo>
                  <a:pt x="4062" y="171"/>
                </a:lnTo>
                <a:lnTo>
                  <a:pt x="3934" y="171"/>
                </a:lnTo>
                <a:lnTo>
                  <a:pt x="3762" y="127"/>
                </a:lnTo>
                <a:lnTo>
                  <a:pt x="3634" y="88"/>
                </a:lnTo>
                <a:lnTo>
                  <a:pt x="3467" y="88"/>
                </a:lnTo>
                <a:lnTo>
                  <a:pt x="3039" y="0"/>
                </a:lnTo>
                <a:lnTo>
                  <a:pt x="2867" y="0"/>
                </a:lnTo>
                <a:lnTo>
                  <a:pt x="2695" y="0"/>
                </a:lnTo>
                <a:lnTo>
                  <a:pt x="2567" y="44"/>
                </a:lnTo>
                <a:lnTo>
                  <a:pt x="2439" y="88"/>
                </a:lnTo>
                <a:lnTo>
                  <a:pt x="2311" y="127"/>
                </a:lnTo>
                <a:lnTo>
                  <a:pt x="2183" y="216"/>
                </a:lnTo>
                <a:lnTo>
                  <a:pt x="2055" y="255"/>
                </a:lnTo>
                <a:lnTo>
                  <a:pt x="1928" y="343"/>
                </a:lnTo>
                <a:lnTo>
                  <a:pt x="1799" y="343"/>
                </a:lnTo>
                <a:lnTo>
                  <a:pt x="1631" y="383"/>
                </a:lnTo>
                <a:lnTo>
                  <a:pt x="1503" y="427"/>
                </a:lnTo>
                <a:lnTo>
                  <a:pt x="1371" y="471"/>
                </a:lnTo>
                <a:lnTo>
                  <a:pt x="1243" y="515"/>
                </a:lnTo>
                <a:lnTo>
                  <a:pt x="1115" y="555"/>
                </a:lnTo>
                <a:lnTo>
                  <a:pt x="987" y="599"/>
                </a:lnTo>
                <a:lnTo>
                  <a:pt x="859" y="727"/>
                </a:lnTo>
                <a:lnTo>
                  <a:pt x="732" y="811"/>
                </a:lnTo>
                <a:lnTo>
                  <a:pt x="648" y="939"/>
                </a:lnTo>
                <a:lnTo>
                  <a:pt x="520" y="1028"/>
                </a:lnTo>
                <a:lnTo>
                  <a:pt x="436" y="1156"/>
                </a:lnTo>
                <a:lnTo>
                  <a:pt x="308" y="1240"/>
                </a:lnTo>
                <a:lnTo>
                  <a:pt x="220" y="1368"/>
                </a:lnTo>
                <a:lnTo>
                  <a:pt x="136" y="1495"/>
                </a:lnTo>
                <a:lnTo>
                  <a:pt x="136" y="1623"/>
                </a:lnTo>
                <a:lnTo>
                  <a:pt x="92" y="1751"/>
                </a:lnTo>
                <a:lnTo>
                  <a:pt x="48" y="1879"/>
                </a:lnTo>
                <a:lnTo>
                  <a:pt x="0" y="203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6164280"/>
            <a:ext cx="2595960" cy="460800"/>
          </a:xfrm>
          <a:custGeom>
            <a:avLst/>
            <a:gdLst/>
            <a:ahLst/>
            <a:rect l="0" t="0" r="r" b="b"/>
            <a:pathLst>
              <a:path fill="none" w="7211" h="1280">
                <a:moveTo>
                  <a:pt x="7211" y="512"/>
                </a:moveTo>
                <a:lnTo>
                  <a:pt x="7000" y="552"/>
                </a:lnTo>
                <a:lnTo>
                  <a:pt x="6872" y="552"/>
                </a:lnTo>
                <a:lnTo>
                  <a:pt x="6744" y="552"/>
                </a:lnTo>
                <a:lnTo>
                  <a:pt x="6616" y="468"/>
                </a:lnTo>
                <a:lnTo>
                  <a:pt x="6488" y="424"/>
                </a:lnTo>
                <a:lnTo>
                  <a:pt x="6060" y="424"/>
                </a:lnTo>
                <a:lnTo>
                  <a:pt x="5933" y="424"/>
                </a:lnTo>
                <a:lnTo>
                  <a:pt x="5805" y="424"/>
                </a:lnTo>
                <a:lnTo>
                  <a:pt x="5589" y="424"/>
                </a:lnTo>
                <a:lnTo>
                  <a:pt x="5461" y="424"/>
                </a:lnTo>
                <a:lnTo>
                  <a:pt x="5332" y="424"/>
                </a:lnTo>
                <a:lnTo>
                  <a:pt x="5164" y="424"/>
                </a:lnTo>
                <a:lnTo>
                  <a:pt x="5032" y="424"/>
                </a:lnTo>
                <a:lnTo>
                  <a:pt x="4904" y="424"/>
                </a:lnTo>
                <a:lnTo>
                  <a:pt x="4737" y="424"/>
                </a:lnTo>
                <a:lnTo>
                  <a:pt x="4481" y="424"/>
                </a:lnTo>
                <a:lnTo>
                  <a:pt x="4353" y="384"/>
                </a:lnTo>
                <a:lnTo>
                  <a:pt x="4181" y="340"/>
                </a:lnTo>
                <a:lnTo>
                  <a:pt x="4009" y="255"/>
                </a:lnTo>
                <a:lnTo>
                  <a:pt x="3881" y="211"/>
                </a:lnTo>
                <a:lnTo>
                  <a:pt x="3753" y="167"/>
                </a:lnTo>
                <a:lnTo>
                  <a:pt x="3625" y="127"/>
                </a:lnTo>
                <a:lnTo>
                  <a:pt x="3453" y="39"/>
                </a:lnTo>
                <a:lnTo>
                  <a:pt x="3242" y="39"/>
                </a:lnTo>
                <a:lnTo>
                  <a:pt x="3070" y="0"/>
                </a:lnTo>
                <a:lnTo>
                  <a:pt x="2646" y="0"/>
                </a:lnTo>
                <a:lnTo>
                  <a:pt x="2430" y="0"/>
                </a:lnTo>
                <a:lnTo>
                  <a:pt x="2302" y="39"/>
                </a:lnTo>
                <a:lnTo>
                  <a:pt x="2174" y="39"/>
                </a:lnTo>
                <a:lnTo>
                  <a:pt x="2047" y="39"/>
                </a:lnTo>
                <a:lnTo>
                  <a:pt x="1875" y="39"/>
                </a:lnTo>
                <a:lnTo>
                  <a:pt x="1706" y="127"/>
                </a:lnTo>
                <a:lnTo>
                  <a:pt x="1578" y="127"/>
                </a:lnTo>
                <a:lnTo>
                  <a:pt x="1450" y="167"/>
                </a:lnTo>
                <a:lnTo>
                  <a:pt x="1322" y="211"/>
                </a:lnTo>
                <a:lnTo>
                  <a:pt x="1195" y="255"/>
                </a:lnTo>
                <a:lnTo>
                  <a:pt x="1023" y="384"/>
                </a:lnTo>
                <a:lnTo>
                  <a:pt x="895" y="468"/>
                </a:lnTo>
                <a:lnTo>
                  <a:pt x="767" y="552"/>
                </a:lnTo>
                <a:lnTo>
                  <a:pt x="639" y="640"/>
                </a:lnTo>
                <a:lnTo>
                  <a:pt x="511" y="724"/>
                </a:lnTo>
                <a:lnTo>
                  <a:pt x="383" y="807"/>
                </a:lnTo>
                <a:lnTo>
                  <a:pt x="255" y="896"/>
                </a:lnTo>
                <a:lnTo>
                  <a:pt x="127" y="1025"/>
                </a:lnTo>
                <a:lnTo>
                  <a:pt x="39" y="1152"/>
                </a:lnTo>
                <a:lnTo>
                  <a:pt x="0" y="128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35360" y="6454800"/>
            <a:ext cx="1887840" cy="170280"/>
          </a:xfrm>
          <a:custGeom>
            <a:avLst/>
            <a:gdLst/>
            <a:ahLst/>
            <a:rect l="0" t="0" r="r" b="b"/>
            <a:pathLst>
              <a:path fill="none" w="5244" h="473">
                <a:moveTo>
                  <a:pt x="5244" y="473"/>
                </a:moveTo>
                <a:lnTo>
                  <a:pt x="5116" y="429"/>
                </a:lnTo>
                <a:lnTo>
                  <a:pt x="4988" y="429"/>
                </a:lnTo>
                <a:lnTo>
                  <a:pt x="4816" y="429"/>
                </a:lnTo>
                <a:lnTo>
                  <a:pt x="4688" y="429"/>
                </a:lnTo>
                <a:lnTo>
                  <a:pt x="4432" y="390"/>
                </a:lnTo>
                <a:lnTo>
                  <a:pt x="4388" y="261"/>
                </a:lnTo>
                <a:lnTo>
                  <a:pt x="4260" y="217"/>
                </a:lnTo>
                <a:lnTo>
                  <a:pt x="4093" y="217"/>
                </a:lnTo>
                <a:lnTo>
                  <a:pt x="3921" y="217"/>
                </a:lnTo>
                <a:lnTo>
                  <a:pt x="3793" y="217"/>
                </a:lnTo>
                <a:lnTo>
                  <a:pt x="3665" y="172"/>
                </a:lnTo>
                <a:lnTo>
                  <a:pt x="3493" y="88"/>
                </a:lnTo>
                <a:lnTo>
                  <a:pt x="3365" y="44"/>
                </a:lnTo>
                <a:lnTo>
                  <a:pt x="3153" y="0"/>
                </a:lnTo>
                <a:lnTo>
                  <a:pt x="2937" y="0"/>
                </a:lnTo>
                <a:lnTo>
                  <a:pt x="2770" y="0"/>
                </a:lnTo>
                <a:lnTo>
                  <a:pt x="2597" y="44"/>
                </a:lnTo>
                <a:lnTo>
                  <a:pt x="2469" y="88"/>
                </a:lnTo>
                <a:lnTo>
                  <a:pt x="2213" y="128"/>
                </a:lnTo>
                <a:lnTo>
                  <a:pt x="1785" y="172"/>
                </a:lnTo>
                <a:lnTo>
                  <a:pt x="1658" y="172"/>
                </a:lnTo>
                <a:lnTo>
                  <a:pt x="1530" y="261"/>
                </a:lnTo>
                <a:lnTo>
                  <a:pt x="1402" y="344"/>
                </a:lnTo>
                <a:lnTo>
                  <a:pt x="1274" y="344"/>
                </a:lnTo>
                <a:lnTo>
                  <a:pt x="1146" y="344"/>
                </a:lnTo>
                <a:lnTo>
                  <a:pt x="1018" y="344"/>
                </a:lnTo>
                <a:lnTo>
                  <a:pt x="890" y="344"/>
                </a:lnTo>
                <a:lnTo>
                  <a:pt x="718" y="344"/>
                </a:lnTo>
                <a:lnTo>
                  <a:pt x="590" y="344"/>
                </a:lnTo>
                <a:lnTo>
                  <a:pt x="463" y="300"/>
                </a:lnTo>
                <a:lnTo>
                  <a:pt x="335" y="300"/>
                </a:lnTo>
                <a:lnTo>
                  <a:pt x="207" y="344"/>
                </a:lnTo>
                <a:lnTo>
                  <a:pt x="0" y="46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60960" y="64764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43640" y="249120"/>
            <a:ext cx="1456200" cy="1489320"/>
          </a:xfrm>
          <a:custGeom>
            <a:avLst/>
            <a:gdLst/>
            <a:ahLst/>
            <a:rect l="0" t="0" r="r" b="b"/>
            <a:pathLst>
              <a:path fill="none" w="4045" h="4137">
                <a:moveTo>
                  <a:pt x="0" y="0"/>
                </a:moveTo>
                <a:lnTo>
                  <a:pt x="96" y="97"/>
                </a:lnTo>
                <a:lnTo>
                  <a:pt x="193" y="275"/>
                </a:lnTo>
                <a:lnTo>
                  <a:pt x="290" y="453"/>
                </a:lnTo>
                <a:lnTo>
                  <a:pt x="290" y="630"/>
                </a:lnTo>
                <a:lnTo>
                  <a:pt x="336" y="808"/>
                </a:lnTo>
                <a:lnTo>
                  <a:pt x="433" y="944"/>
                </a:lnTo>
                <a:lnTo>
                  <a:pt x="581" y="1033"/>
                </a:lnTo>
                <a:lnTo>
                  <a:pt x="775" y="1121"/>
                </a:lnTo>
                <a:lnTo>
                  <a:pt x="923" y="1253"/>
                </a:lnTo>
                <a:lnTo>
                  <a:pt x="1021" y="1388"/>
                </a:lnTo>
                <a:lnTo>
                  <a:pt x="1215" y="1519"/>
                </a:lnTo>
                <a:lnTo>
                  <a:pt x="1408" y="1566"/>
                </a:lnTo>
                <a:lnTo>
                  <a:pt x="1602" y="1697"/>
                </a:lnTo>
                <a:lnTo>
                  <a:pt x="1750" y="1790"/>
                </a:lnTo>
                <a:lnTo>
                  <a:pt x="1944" y="1922"/>
                </a:lnTo>
                <a:lnTo>
                  <a:pt x="2184" y="2100"/>
                </a:lnTo>
                <a:lnTo>
                  <a:pt x="2332" y="2189"/>
                </a:lnTo>
                <a:lnTo>
                  <a:pt x="2429" y="2325"/>
                </a:lnTo>
                <a:lnTo>
                  <a:pt x="2622" y="2503"/>
                </a:lnTo>
                <a:lnTo>
                  <a:pt x="2636" y="2858"/>
                </a:lnTo>
                <a:lnTo>
                  <a:pt x="2978" y="3201"/>
                </a:lnTo>
                <a:lnTo>
                  <a:pt x="3404" y="3328"/>
                </a:lnTo>
                <a:lnTo>
                  <a:pt x="3745" y="3540"/>
                </a:lnTo>
                <a:lnTo>
                  <a:pt x="4045" y="41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3680" y="739800"/>
            <a:ext cx="167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our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30880" y="233280"/>
            <a:ext cx="773640" cy="875160"/>
          </a:xfrm>
          <a:custGeom>
            <a:avLst/>
            <a:gdLst/>
            <a:ahLst/>
            <a:rect l="0" t="0" r="r" b="b"/>
            <a:pathLst>
              <a:path fill="none" w="2149" h="2431">
                <a:moveTo>
                  <a:pt x="0" y="0"/>
                </a:moveTo>
                <a:lnTo>
                  <a:pt x="44" y="127"/>
                </a:lnTo>
                <a:lnTo>
                  <a:pt x="88" y="255"/>
                </a:lnTo>
                <a:lnTo>
                  <a:pt x="216" y="343"/>
                </a:lnTo>
                <a:lnTo>
                  <a:pt x="343" y="427"/>
                </a:lnTo>
                <a:lnTo>
                  <a:pt x="383" y="555"/>
                </a:lnTo>
                <a:lnTo>
                  <a:pt x="471" y="684"/>
                </a:lnTo>
                <a:lnTo>
                  <a:pt x="511" y="856"/>
                </a:lnTo>
                <a:lnTo>
                  <a:pt x="600" y="984"/>
                </a:lnTo>
                <a:lnTo>
                  <a:pt x="684" y="1112"/>
                </a:lnTo>
                <a:lnTo>
                  <a:pt x="812" y="1196"/>
                </a:lnTo>
                <a:lnTo>
                  <a:pt x="940" y="1240"/>
                </a:lnTo>
                <a:lnTo>
                  <a:pt x="1068" y="1279"/>
                </a:lnTo>
                <a:lnTo>
                  <a:pt x="1196" y="1368"/>
                </a:lnTo>
                <a:lnTo>
                  <a:pt x="1323" y="1451"/>
                </a:lnTo>
                <a:lnTo>
                  <a:pt x="1412" y="1579"/>
                </a:lnTo>
                <a:lnTo>
                  <a:pt x="1451" y="1707"/>
                </a:lnTo>
                <a:lnTo>
                  <a:pt x="1539" y="1836"/>
                </a:lnTo>
                <a:lnTo>
                  <a:pt x="1539" y="1964"/>
                </a:lnTo>
                <a:lnTo>
                  <a:pt x="1624" y="2092"/>
                </a:lnTo>
                <a:lnTo>
                  <a:pt x="1752" y="2136"/>
                </a:lnTo>
                <a:lnTo>
                  <a:pt x="1880" y="2180"/>
                </a:lnTo>
                <a:lnTo>
                  <a:pt x="2008" y="2264"/>
                </a:lnTo>
                <a:lnTo>
                  <a:pt x="2149" y="243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9" name=""/>
          <p:cNvSpPr/>
          <p:nvPr/>
        </p:nvSpPr>
        <p:spPr>
          <a:xfrm>
            <a:off x="3071880" y="77760"/>
            <a:ext cx="2514600" cy="3200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"/>
          <p:cNvSpPr/>
          <p:nvPr/>
        </p:nvSpPr>
        <p:spPr>
          <a:xfrm>
            <a:off x="3075120" y="82440"/>
            <a:ext cx="390960" cy="340200"/>
          </a:xfrm>
          <a:custGeom>
            <a:avLst/>
            <a:gdLst/>
            <a:ahLst/>
            <a:rect l="0" t="0" r="r" b="b"/>
            <a:pathLst>
              <a:path fill="none" w="1086" h="945">
                <a:moveTo>
                  <a:pt x="1086" y="0"/>
                </a:moveTo>
                <a:lnTo>
                  <a:pt x="1086" y="70"/>
                </a:lnTo>
                <a:lnTo>
                  <a:pt x="1064" y="140"/>
                </a:lnTo>
                <a:lnTo>
                  <a:pt x="1018" y="233"/>
                </a:lnTo>
                <a:lnTo>
                  <a:pt x="971" y="348"/>
                </a:lnTo>
                <a:lnTo>
                  <a:pt x="947" y="440"/>
                </a:lnTo>
                <a:lnTo>
                  <a:pt x="876" y="489"/>
                </a:lnTo>
                <a:lnTo>
                  <a:pt x="783" y="489"/>
                </a:lnTo>
                <a:lnTo>
                  <a:pt x="690" y="557"/>
                </a:lnTo>
                <a:lnTo>
                  <a:pt x="597" y="581"/>
                </a:lnTo>
                <a:lnTo>
                  <a:pt x="504" y="649"/>
                </a:lnTo>
                <a:lnTo>
                  <a:pt x="458" y="721"/>
                </a:lnTo>
                <a:lnTo>
                  <a:pt x="387" y="743"/>
                </a:lnTo>
                <a:lnTo>
                  <a:pt x="294" y="767"/>
                </a:lnTo>
                <a:lnTo>
                  <a:pt x="201" y="835"/>
                </a:lnTo>
                <a:lnTo>
                  <a:pt x="132" y="906"/>
                </a:lnTo>
                <a:lnTo>
                  <a:pt x="61" y="930"/>
                </a:lnTo>
                <a:lnTo>
                  <a:pt x="0" y="9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"/>
          <p:cNvSpPr/>
          <p:nvPr/>
        </p:nvSpPr>
        <p:spPr>
          <a:xfrm>
            <a:off x="3071880" y="82440"/>
            <a:ext cx="568800" cy="2595960"/>
          </a:xfrm>
          <a:custGeom>
            <a:avLst/>
            <a:gdLst/>
            <a:ahLst/>
            <a:rect l="0" t="0" r="r" b="b"/>
            <a:pathLst>
              <a:path fill="none" w="1580" h="7211">
                <a:moveTo>
                  <a:pt x="1571" y="0"/>
                </a:moveTo>
                <a:lnTo>
                  <a:pt x="1580" y="46"/>
                </a:lnTo>
                <a:lnTo>
                  <a:pt x="1558" y="138"/>
                </a:lnTo>
                <a:lnTo>
                  <a:pt x="1558" y="231"/>
                </a:lnTo>
                <a:lnTo>
                  <a:pt x="1558" y="324"/>
                </a:lnTo>
                <a:lnTo>
                  <a:pt x="1488" y="416"/>
                </a:lnTo>
                <a:lnTo>
                  <a:pt x="1441" y="487"/>
                </a:lnTo>
                <a:lnTo>
                  <a:pt x="1371" y="555"/>
                </a:lnTo>
                <a:lnTo>
                  <a:pt x="1278" y="648"/>
                </a:lnTo>
                <a:lnTo>
                  <a:pt x="1256" y="718"/>
                </a:lnTo>
                <a:lnTo>
                  <a:pt x="1210" y="811"/>
                </a:lnTo>
                <a:lnTo>
                  <a:pt x="1162" y="903"/>
                </a:lnTo>
                <a:lnTo>
                  <a:pt x="1116" y="996"/>
                </a:lnTo>
                <a:lnTo>
                  <a:pt x="1070" y="1067"/>
                </a:lnTo>
                <a:lnTo>
                  <a:pt x="999" y="1135"/>
                </a:lnTo>
                <a:lnTo>
                  <a:pt x="977" y="1206"/>
                </a:lnTo>
                <a:lnTo>
                  <a:pt x="907" y="1252"/>
                </a:lnTo>
                <a:lnTo>
                  <a:pt x="860" y="1344"/>
                </a:lnTo>
                <a:lnTo>
                  <a:pt x="790" y="1415"/>
                </a:lnTo>
                <a:lnTo>
                  <a:pt x="697" y="1483"/>
                </a:lnTo>
                <a:lnTo>
                  <a:pt x="651" y="1554"/>
                </a:lnTo>
                <a:lnTo>
                  <a:pt x="605" y="1647"/>
                </a:lnTo>
                <a:lnTo>
                  <a:pt x="536" y="1739"/>
                </a:lnTo>
                <a:lnTo>
                  <a:pt x="488" y="1811"/>
                </a:lnTo>
                <a:lnTo>
                  <a:pt x="394" y="1879"/>
                </a:lnTo>
                <a:lnTo>
                  <a:pt x="326" y="1950"/>
                </a:lnTo>
                <a:lnTo>
                  <a:pt x="255" y="1972"/>
                </a:lnTo>
                <a:lnTo>
                  <a:pt x="187" y="2042"/>
                </a:lnTo>
                <a:lnTo>
                  <a:pt x="116" y="2089"/>
                </a:lnTo>
                <a:lnTo>
                  <a:pt x="70" y="2181"/>
                </a:lnTo>
                <a:lnTo>
                  <a:pt x="24" y="2252"/>
                </a:lnTo>
                <a:lnTo>
                  <a:pt x="0" y="2344"/>
                </a:lnTo>
                <a:lnTo>
                  <a:pt x="46" y="2437"/>
                </a:lnTo>
                <a:lnTo>
                  <a:pt x="94" y="2529"/>
                </a:lnTo>
                <a:lnTo>
                  <a:pt x="116" y="2644"/>
                </a:lnTo>
                <a:lnTo>
                  <a:pt x="141" y="2715"/>
                </a:lnTo>
                <a:lnTo>
                  <a:pt x="163" y="2807"/>
                </a:lnTo>
                <a:lnTo>
                  <a:pt x="209" y="2878"/>
                </a:lnTo>
                <a:lnTo>
                  <a:pt x="255" y="2992"/>
                </a:lnTo>
                <a:lnTo>
                  <a:pt x="326" y="3063"/>
                </a:lnTo>
                <a:lnTo>
                  <a:pt x="372" y="3134"/>
                </a:lnTo>
                <a:lnTo>
                  <a:pt x="419" y="3226"/>
                </a:lnTo>
                <a:lnTo>
                  <a:pt x="466" y="3319"/>
                </a:lnTo>
                <a:lnTo>
                  <a:pt x="536" y="3411"/>
                </a:lnTo>
                <a:lnTo>
                  <a:pt x="583" y="3504"/>
                </a:lnTo>
                <a:lnTo>
                  <a:pt x="605" y="3575"/>
                </a:lnTo>
                <a:lnTo>
                  <a:pt x="651" y="3667"/>
                </a:lnTo>
                <a:lnTo>
                  <a:pt x="651" y="3760"/>
                </a:lnTo>
                <a:lnTo>
                  <a:pt x="651" y="3852"/>
                </a:lnTo>
                <a:lnTo>
                  <a:pt x="651" y="3967"/>
                </a:lnTo>
                <a:lnTo>
                  <a:pt x="675" y="4062"/>
                </a:lnTo>
                <a:lnTo>
                  <a:pt x="697" y="4154"/>
                </a:lnTo>
                <a:lnTo>
                  <a:pt x="768" y="4247"/>
                </a:lnTo>
                <a:lnTo>
                  <a:pt x="836" y="4362"/>
                </a:lnTo>
                <a:lnTo>
                  <a:pt x="882" y="4432"/>
                </a:lnTo>
                <a:lnTo>
                  <a:pt x="907" y="4503"/>
                </a:lnTo>
                <a:lnTo>
                  <a:pt x="977" y="4617"/>
                </a:lnTo>
                <a:lnTo>
                  <a:pt x="1024" y="4688"/>
                </a:lnTo>
                <a:lnTo>
                  <a:pt x="1116" y="4781"/>
                </a:lnTo>
                <a:lnTo>
                  <a:pt x="1162" y="4873"/>
                </a:lnTo>
                <a:lnTo>
                  <a:pt x="1210" y="4944"/>
                </a:lnTo>
                <a:lnTo>
                  <a:pt x="1232" y="5036"/>
                </a:lnTo>
                <a:lnTo>
                  <a:pt x="1278" y="5129"/>
                </a:lnTo>
                <a:lnTo>
                  <a:pt x="1302" y="5222"/>
                </a:lnTo>
                <a:lnTo>
                  <a:pt x="1302" y="5314"/>
                </a:lnTo>
                <a:lnTo>
                  <a:pt x="1302" y="5385"/>
                </a:lnTo>
                <a:lnTo>
                  <a:pt x="1324" y="5547"/>
                </a:lnTo>
                <a:lnTo>
                  <a:pt x="1349" y="5617"/>
                </a:lnTo>
                <a:lnTo>
                  <a:pt x="1349" y="5732"/>
                </a:lnTo>
                <a:lnTo>
                  <a:pt x="1324" y="5849"/>
                </a:lnTo>
                <a:lnTo>
                  <a:pt x="1324" y="5919"/>
                </a:lnTo>
                <a:lnTo>
                  <a:pt x="1302" y="6012"/>
                </a:lnTo>
                <a:lnTo>
                  <a:pt x="1232" y="6080"/>
                </a:lnTo>
                <a:lnTo>
                  <a:pt x="1210" y="6151"/>
                </a:lnTo>
                <a:lnTo>
                  <a:pt x="1138" y="6221"/>
                </a:lnTo>
                <a:lnTo>
                  <a:pt x="1070" y="6314"/>
                </a:lnTo>
                <a:lnTo>
                  <a:pt x="999" y="6382"/>
                </a:lnTo>
                <a:lnTo>
                  <a:pt x="953" y="6453"/>
                </a:lnTo>
                <a:lnTo>
                  <a:pt x="882" y="6568"/>
                </a:lnTo>
                <a:lnTo>
                  <a:pt x="836" y="6638"/>
                </a:lnTo>
                <a:lnTo>
                  <a:pt x="814" y="6709"/>
                </a:lnTo>
                <a:lnTo>
                  <a:pt x="814" y="6801"/>
                </a:lnTo>
                <a:lnTo>
                  <a:pt x="790" y="6894"/>
                </a:lnTo>
                <a:lnTo>
                  <a:pt x="697" y="6940"/>
                </a:lnTo>
                <a:lnTo>
                  <a:pt x="605" y="7009"/>
                </a:lnTo>
                <a:lnTo>
                  <a:pt x="536" y="7079"/>
                </a:lnTo>
                <a:lnTo>
                  <a:pt x="466" y="7079"/>
                </a:lnTo>
                <a:lnTo>
                  <a:pt x="372" y="7079"/>
                </a:lnTo>
                <a:lnTo>
                  <a:pt x="302" y="7079"/>
                </a:lnTo>
                <a:lnTo>
                  <a:pt x="209" y="7125"/>
                </a:lnTo>
                <a:lnTo>
                  <a:pt x="141" y="7196"/>
                </a:lnTo>
                <a:lnTo>
                  <a:pt x="6" y="721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"/>
          <p:cNvSpPr/>
          <p:nvPr/>
        </p:nvSpPr>
        <p:spPr>
          <a:xfrm>
            <a:off x="3081240" y="82440"/>
            <a:ext cx="776520" cy="2916720"/>
          </a:xfrm>
          <a:custGeom>
            <a:avLst/>
            <a:gdLst/>
            <a:ahLst/>
            <a:rect l="0" t="0" r="r" b="b"/>
            <a:pathLst>
              <a:path fill="none" w="2157" h="8102">
                <a:moveTo>
                  <a:pt x="2157" y="0"/>
                </a:moveTo>
                <a:lnTo>
                  <a:pt x="2157" y="94"/>
                </a:lnTo>
                <a:lnTo>
                  <a:pt x="2157" y="187"/>
                </a:lnTo>
                <a:lnTo>
                  <a:pt x="2157" y="302"/>
                </a:lnTo>
                <a:lnTo>
                  <a:pt x="2133" y="372"/>
                </a:lnTo>
                <a:lnTo>
                  <a:pt x="2086" y="465"/>
                </a:lnTo>
                <a:lnTo>
                  <a:pt x="2040" y="535"/>
                </a:lnTo>
                <a:lnTo>
                  <a:pt x="1972" y="628"/>
                </a:lnTo>
                <a:lnTo>
                  <a:pt x="1926" y="720"/>
                </a:lnTo>
                <a:lnTo>
                  <a:pt x="1879" y="813"/>
                </a:lnTo>
                <a:lnTo>
                  <a:pt x="1809" y="906"/>
                </a:lnTo>
                <a:lnTo>
                  <a:pt x="1785" y="976"/>
                </a:lnTo>
                <a:lnTo>
                  <a:pt x="1716" y="1069"/>
                </a:lnTo>
                <a:lnTo>
                  <a:pt x="1646" y="1137"/>
                </a:lnTo>
                <a:lnTo>
                  <a:pt x="1600" y="1208"/>
                </a:lnTo>
                <a:lnTo>
                  <a:pt x="1507" y="1300"/>
                </a:lnTo>
                <a:lnTo>
                  <a:pt x="1461" y="1371"/>
                </a:lnTo>
                <a:lnTo>
                  <a:pt x="1415" y="1464"/>
                </a:lnTo>
                <a:lnTo>
                  <a:pt x="1368" y="1556"/>
                </a:lnTo>
                <a:lnTo>
                  <a:pt x="1344" y="1649"/>
                </a:lnTo>
                <a:lnTo>
                  <a:pt x="1276" y="1741"/>
                </a:lnTo>
                <a:lnTo>
                  <a:pt x="1252" y="1812"/>
                </a:lnTo>
                <a:lnTo>
                  <a:pt x="1183" y="1905"/>
                </a:lnTo>
                <a:lnTo>
                  <a:pt x="1137" y="1997"/>
                </a:lnTo>
                <a:lnTo>
                  <a:pt x="1091" y="2113"/>
                </a:lnTo>
                <a:lnTo>
                  <a:pt x="1091" y="2183"/>
                </a:lnTo>
                <a:lnTo>
                  <a:pt x="1091" y="2254"/>
                </a:lnTo>
                <a:lnTo>
                  <a:pt x="1091" y="2346"/>
                </a:lnTo>
                <a:lnTo>
                  <a:pt x="1044" y="2439"/>
                </a:lnTo>
                <a:lnTo>
                  <a:pt x="1019" y="2554"/>
                </a:lnTo>
                <a:lnTo>
                  <a:pt x="1066" y="2646"/>
                </a:lnTo>
                <a:lnTo>
                  <a:pt x="1113" y="2741"/>
                </a:lnTo>
                <a:lnTo>
                  <a:pt x="1159" y="2834"/>
                </a:lnTo>
                <a:lnTo>
                  <a:pt x="1183" y="2926"/>
                </a:lnTo>
                <a:lnTo>
                  <a:pt x="1252" y="3019"/>
                </a:lnTo>
                <a:lnTo>
                  <a:pt x="1298" y="3136"/>
                </a:lnTo>
                <a:lnTo>
                  <a:pt x="1368" y="3228"/>
                </a:lnTo>
                <a:lnTo>
                  <a:pt x="1439" y="3297"/>
                </a:lnTo>
                <a:lnTo>
                  <a:pt x="1485" y="3389"/>
                </a:lnTo>
                <a:lnTo>
                  <a:pt x="1531" y="3460"/>
                </a:lnTo>
                <a:lnTo>
                  <a:pt x="1578" y="3577"/>
                </a:lnTo>
                <a:lnTo>
                  <a:pt x="1646" y="3716"/>
                </a:lnTo>
                <a:lnTo>
                  <a:pt x="1716" y="3808"/>
                </a:lnTo>
                <a:lnTo>
                  <a:pt x="1738" y="3901"/>
                </a:lnTo>
                <a:lnTo>
                  <a:pt x="1763" y="3994"/>
                </a:lnTo>
                <a:lnTo>
                  <a:pt x="1763" y="4064"/>
                </a:lnTo>
                <a:lnTo>
                  <a:pt x="1785" y="4157"/>
                </a:lnTo>
                <a:lnTo>
                  <a:pt x="1833" y="4249"/>
                </a:lnTo>
                <a:lnTo>
                  <a:pt x="1926" y="4364"/>
                </a:lnTo>
                <a:lnTo>
                  <a:pt x="1926" y="4434"/>
                </a:lnTo>
                <a:lnTo>
                  <a:pt x="1948" y="4505"/>
                </a:lnTo>
                <a:lnTo>
                  <a:pt x="1972" y="4598"/>
                </a:lnTo>
                <a:lnTo>
                  <a:pt x="1972" y="4690"/>
                </a:lnTo>
                <a:lnTo>
                  <a:pt x="1948" y="4783"/>
                </a:lnTo>
                <a:lnTo>
                  <a:pt x="1926" y="4875"/>
                </a:lnTo>
                <a:lnTo>
                  <a:pt x="1926" y="4946"/>
                </a:lnTo>
                <a:lnTo>
                  <a:pt x="1901" y="5039"/>
                </a:lnTo>
                <a:lnTo>
                  <a:pt x="1879" y="5153"/>
                </a:lnTo>
                <a:lnTo>
                  <a:pt x="1901" y="5246"/>
                </a:lnTo>
                <a:lnTo>
                  <a:pt x="1901" y="5316"/>
                </a:lnTo>
                <a:lnTo>
                  <a:pt x="1901" y="5387"/>
                </a:lnTo>
                <a:lnTo>
                  <a:pt x="1901" y="5480"/>
                </a:lnTo>
                <a:lnTo>
                  <a:pt x="1879" y="5572"/>
                </a:lnTo>
                <a:lnTo>
                  <a:pt x="1855" y="5665"/>
                </a:lnTo>
                <a:lnTo>
                  <a:pt x="1833" y="5757"/>
                </a:lnTo>
                <a:lnTo>
                  <a:pt x="1809" y="5850"/>
                </a:lnTo>
                <a:lnTo>
                  <a:pt x="1785" y="5943"/>
                </a:lnTo>
                <a:lnTo>
                  <a:pt x="1763" y="6013"/>
                </a:lnTo>
                <a:lnTo>
                  <a:pt x="1738" y="6107"/>
                </a:lnTo>
                <a:lnTo>
                  <a:pt x="1716" y="6199"/>
                </a:lnTo>
                <a:lnTo>
                  <a:pt x="1692" y="6292"/>
                </a:lnTo>
                <a:lnTo>
                  <a:pt x="1692" y="6363"/>
                </a:lnTo>
                <a:lnTo>
                  <a:pt x="1624" y="6523"/>
                </a:lnTo>
                <a:lnTo>
                  <a:pt x="1600" y="6594"/>
                </a:lnTo>
                <a:lnTo>
                  <a:pt x="1553" y="6711"/>
                </a:lnTo>
                <a:lnTo>
                  <a:pt x="1507" y="6803"/>
                </a:lnTo>
                <a:lnTo>
                  <a:pt x="1461" y="6918"/>
                </a:lnTo>
                <a:lnTo>
                  <a:pt x="1393" y="7035"/>
                </a:lnTo>
                <a:lnTo>
                  <a:pt x="1322" y="7267"/>
                </a:lnTo>
                <a:lnTo>
                  <a:pt x="1298" y="7337"/>
                </a:lnTo>
                <a:lnTo>
                  <a:pt x="1183" y="7405"/>
                </a:lnTo>
                <a:lnTo>
                  <a:pt x="1113" y="7452"/>
                </a:lnTo>
                <a:lnTo>
                  <a:pt x="1019" y="7522"/>
                </a:lnTo>
                <a:lnTo>
                  <a:pt x="788" y="7593"/>
                </a:lnTo>
                <a:lnTo>
                  <a:pt x="696" y="7639"/>
                </a:lnTo>
                <a:lnTo>
                  <a:pt x="603" y="7661"/>
                </a:lnTo>
                <a:lnTo>
                  <a:pt x="462" y="7707"/>
                </a:lnTo>
                <a:lnTo>
                  <a:pt x="370" y="7754"/>
                </a:lnTo>
                <a:lnTo>
                  <a:pt x="277" y="7824"/>
                </a:lnTo>
                <a:lnTo>
                  <a:pt x="209" y="7917"/>
                </a:lnTo>
                <a:lnTo>
                  <a:pt x="138" y="7963"/>
                </a:lnTo>
                <a:lnTo>
                  <a:pt x="46" y="8010"/>
                </a:lnTo>
                <a:lnTo>
                  <a:pt x="0" y="81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"/>
          <p:cNvSpPr/>
          <p:nvPr/>
        </p:nvSpPr>
        <p:spPr>
          <a:xfrm>
            <a:off x="3075120" y="358920"/>
            <a:ext cx="1010160" cy="2832480"/>
          </a:xfrm>
          <a:custGeom>
            <a:avLst/>
            <a:gdLst/>
            <a:ahLst/>
            <a:rect l="0" t="0" r="r" b="b"/>
            <a:pathLst>
              <a:path fill="none" w="2806" h="7868">
                <a:moveTo>
                  <a:pt x="2806" y="0"/>
                </a:moveTo>
                <a:lnTo>
                  <a:pt x="2729" y="141"/>
                </a:lnTo>
                <a:lnTo>
                  <a:pt x="2689" y="185"/>
                </a:lnTo>
                <a:lnTo>
                  <a:pt x="2663" y="218"/>
                </a:lnTo>
                <a:lnTo>
                  <a:pt x="2647" y="271"/>
                </a:lnTo>
                <a:lnTo>
                  <a:pt x="2636" y="313"/>
                </a:lnTo>
                <a:lnTo>
                  <a:pt x="2614" y="352"/>
                </a:lnTo>
                <a:lnTo>
                  <a:pt x="2601" y="399"/>
                </a:lnTo>
                <a:lnTo>
                  <a:pt x="2581" y="432"/>
                </a:lnTo>
                <a:lnTo>
                  <a:pt x="2555" y="463"/>
                </a:lnTo>
                <a:lnTo>
                  <a:pt x="2495" y="515"/>
                </a:lnTo>
                <a:lnTo>
                  <a:pt x="2431" y="582"/>
                </a:lnTo>
                <a:lnTo>
                  <a:pt x="2398" y="637"/>
                </a:lnTo>
                <a:lnTo>
                  <a:pt x="2389" y="674"/>
                </a:lnTo>
                <a:lnTo>
                  <a:pt x="2363" y="754"/>
                </a:lnTo>
                <a:lnTo>
                  <a:pt x="2296" y="820"/>
                </a:lnTo>
                <a:lnTo>
                  <a:pt x="2230" y="926"/>
                </a:lnTo>
                <a:lnTo>
                  <a:pt x="2204" y="952"/>
                </a:lnTo>
                <a:lnTo>
                  <a:pt x="2177" y="1031"/>
                </a:lnTo>
                <a:lnTo>
                  <a:pt x="2151" y="1084"/>
                </a:lnTo>
                <a:lnTo>
                  <a:pt x="2097" y="1150"/>
                </a:lnTo>
                <a:lnTo>
                  <a:pt x="2097" y="1243"/>
                </a:lnTo>
                <a:lnTo>
                  <a:pt x="2057" y="1389"/>
                </a:lnTo>
                <a:lnTo>
                  <a:pt x="2057" y="1375"/>
                </a:lnTo>
                <a:lnTo>
                  <a:pt x="2031" y="1481"/>
                </a:lnTo>
                <a:lnTo>
                  <a:pt x="1991" y="1413"/>
                </a:lnTo>
                <a:lnTo>
                  <a:pt x="2057" y="1666"/>
                </a:lnTo>
                <a:lnTo>
                  <a:pt x="2111" y="1746"/>
                </a:lnTo>
                <a:lnTo>
                  <a:pt x="2070" y="1799"/>
                </a:lnTo>
                <a:lnTo>
                  <a:pt x="2111" y="1905"/>
                </a:lnTo>
                <a:lnTo>
                  <a:pt x="2124" y="1985"/>
                </a:lnTo>
                <a:lnTo>
                  <a:pt x="2164" y="2051"/>
                </a:lnTo>
                <a:lnTo>
                  <a:pt x="2217" y="2130"/>
                </a:lnTo>
                <a:lnTo>
                  <a:pt x="2257" y="2197"/>
                </a:lnTo>
                <a:lnTo>
                  <a:pt x="2296" y="2276"/>
                </a:lnTo>
                <a:lnTo>
                  <a:pt x="2310" y="2342"/>
                </a:lnTo>
                <a:lnTo>
                  <a:pt x="2323" y="2382"/>
                </a:lnTo>
                <a:lnTo>
                  <a:pt x="2310" y="2448"/>
                </a:lnTo>
                <a:lnTo>
                  <a:pt x="2296" y="2554"/>
                </a:lnTo>
                <a:lnTo>
                  <a:pt x="2283" y="2673"/>
                </a:lnTo>
                <a:lnTo>
                  <a:pt x="2243" y="2752"/>
                </a:lnTo>
                <a:lnTo>
                  <a:pt x="2177" y="2829"/>
                </a:lnTo>
                <a:lnTo>
                  <a:pt x="2177" y="2900"/>
                </a:lnTo>
                <a:lnTo>
                  <a:pt x="2199" y="2992"/>
                </a:lnTo>
                <a:lnTo>
                  <a:pt x="2224" y="3085"/>
                </a:lnTo>
                <a:lnTo>
                  <a:pt x="2224" y="3178"/>
                </a:lnTo>
                <a:lnTo>
                  <a:pt x="2224" y="3248"/>
                </a:lnTo>
                <a:lnTo>
                  <a:pt x="2224" y="3341"/>
                </a:lnTo>
                <a:lnTo>
                  <a:pt x="2246" y="3456"/>
                </a:lnTo>
                <a:lnTo>
                  <a:pt x="2270" y="3526"/>
                </a:lnTo>
                <a:lnTo>
                  <a:pt x="2316" y="3619"/>
                </a:lnTo>
                <a:lnTo>
                  <a:pt x="2340" y="3711"/>
                </a:lnTo>
                <a:lnTo>
                  <a:pt x="2363" y="3782"/>
                </a:lnTo>
                <a:lnTo>
                  <a:pt x="2387" y="3896"/>
                </a:lnTo>
                <a:lnTo>
                  <a:pt x="2409" y="3967"/>
                </a:lnTo>
                <a:lnTo>
                  <a:pt x="2409" y="4106"/>
                </a:lnTo>
                <a:lnTo>
                  <a:pt x="2409" y="4223"/>
                </a:lnTo>
                <a:lnTo>
                  <a:pt x="2409" y="4315"/>
                </a:lnTo>
                <a:lnTo>
                  <a:pt x="2409" y="4454"/>
                </a:lnTo>
                <a:lnTo>
                  <a:pt x="2433" y="4686"/>
                </a:lnTo>
                <a:lnTo>
                  <a:pt x="2433" y="4803"/>
                </a:lnTo>
                <a:lnTo>
                  <a:pt x="2433" y="5034"/>
                </a:lnTo>
                <a:lnTo>
                  <a:pt x="2409" y="5105"/>
                </a:lnTo>
                <a:lnTo>
                  <a:pt x="2363" y="5197"/>
                </a:lnTo>
                <a:lnTo>
                  <a:pt x="2270" y="5546"/>
                </a:lnTo>
                <a:lnTo>
                  <a:pt x="2199" y="5660"/>
                </a:lnTo>
                <a:lnTo>
                  <a:pt x="2177" y="5731"/>
                </a:lnTo>
                <a:lnTo>
                  <a:pt x="2131" y="6475"/>
                </a:lnTo>
                <a:lnTo>
                  <a:pt x="2084" y="6568"/>
                </a:lnTo>
                <a:lnTo>
                  <a:pt x="2013" y="6636"/>
                </a:lnTo>
                <a:lnTo>
                  <a:pt x="1945" y="6706"/>
                </a:lnTo>
                <a:lnTo>
                  <a:pt x="1898" y="6777"/>
                </a:lnTo>
                <a:lnTo>
                  <a:pt x="1828" y="6845"/>
                </a:lnTo>
                <a:lnTo>
                  <a:pt x="1757" y="6892"/>
                </a:lnTo>
                <a:lnTo>
                  <a:pt x="1642" y="7009"/>
                </a:lnTo>
                <a:lnTo>
                  <a:pt x="1572" y="7101"/>
                </a:lnTo>
                <a:lnTo>
                  <a:pt x="852" y="7425"/>
                </a:lnTo>
                <a:lnTo>
                  <a:pt x="782" y="7450"/>
                </a:lnTo>
                <a:lnTo>
                  <a:pt x="688" y="7450"/>
                </a:lnTo>
                <a:lnTo>
                  <a:pt x="573" y="7542"/>
                </a:lnTo>
                <a:lnTo>
                  <a:pt x="503" y="7610"/>
                </a:lnTo>
                <a:lnTo>
                  <a:pt x="432" y="7635"/>
                </a:lnTo>
                <a:lnTo>
                  <a:pt x="339" y="7659"/>
                </a:lnTo>
                <a:lnTo>
                  <a:pt x="247" y="7705"/>
                </a:lnTo>
                <a:lnTo>
                  <a:pt x="154" y="7727"/>
                </a:lnTo>
                <a:lnTo>
                  <a:pt x="132" y="7798"/>
                </a:lnTo>
                <a:lnTo>
                  <a:pt x="61" y="7844"/>
                </a:lnTo>
                <a:lnTo>
                  <a:pt x="0" y="786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"/>
          <p:cNvSpPr/>
          <p:nvPr/>
        </p:nvSpPr>
        <p:spPr>
          <a:xfrm>
            <a:off x="3076560" y="1733400"/>
            <a:ext cx="179640" cy="592560"/>
          </a:xfrm>
          <a:custGeom>
            <a:avLst/>
            <a:gdLst/>
            <a:ahLst/>
            <a:rect l="0" t="0" r="r" b="b"/>
            <a:pathLst>
              <a:path fill="none" w="499" h="1646">
                <a:moveTo>
                  <a:pt x="0" y="0"/>
                </a:moveTo>
                <a:lnTo>
                  <a:pt x="26" y="79"/>
                </a:lnTo>
                <a:lnTo>
                  <a:pt x="48" y="163"/>
                </a:lnTo>
                <a:lnTo>
                  <a:pt x="81" y="240"/>
                </a:lnTo>
                <a:lnTo>
                  <a:pt x="127" y="310"/>
                </a:lnTo>
                <a:lnTo>
                  <a:pt x="220" y="357"/>
                </a:lnTo>
                <a:lnTo>
                  <a:pt x="314" y="403"/>
                </a:lnTo>
                <a:lnTo>
                  <a:pt x="406" y="472"/>
                </a:lnTo>
                <a:lnTo>
                  <a:pt x="452" y="543"/>
                </a:lnTo>
                <a:lnTo>
                  <a:pt x="499" y="636"/>
                </a:lnTo>
                <a:lnTo>
                  <a:pt x="499" y="728"/>
                </a:lnTo>
                <a:lnTo>
                  <a:pt x="499" y="799"/>
                </a:lnTo>
                <a:lnTo>
                  <a:pt x="475" y="913"/>
                </a:lnTo>
                <a:lnTo>
                  <a:pt x="406" y="984"/>
                </a:lnTo>
                <a:lnTo>
                  <a:pt x="336" y="1052"/>
                </a:lnTo>
                <a:lnTo>
                  <a:pt x="314" y="1123"/>
                </a:lnTo>
                <a:lnTo>
                  <a:pt x="314" y="1193"/>
                </a:lnTo>
                <a:lnTo>
                  <a:pt x="267" y="1287"/>
                </a:lnTo>
                <a:lnTo>
                  <a:pt x="196" y="1333"/>
                </a:lnTo>
                <a:lnTo>
                  <a:pt x="127" y="1426"/>
                </a:lnTo>
                <a:lnTo>
                  <a:pt x="57" y="1494"/>
                </a:lnTo>
                <a:lnTo>
                  <a:pt x="0" y="164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"/>
          <p:cNvSpPr/>
          <p:nvPr/>
        </p:nvSpPr>
        <p:spPr>
          <a:xfrm>
            <a:off x="3456000" y="642960"/>
            <a:ext cx="878400" cy="2630880"/>
          </a:xfrm>
          <a:custGeom>
            <a:avLst/>
            <a:gdLst/>
            <a:ahLst/>
            <a:rect l="0" t="0" r="r" b="b"/>
            <a:pathLst>
              <a:path fill="none" w="2440" h="7308">
                <a:moveTo>
                  <a:pt x="1606" y="0"/>
                </a:moveTo>
                <a:lnTo>
                  <a:pt x="1625" y="244"/>
                </a:lnTo>
                <a:lnTo>
                  <a:pt x="1606" y="330"/>
                </a:lnTo>
                <a:lnTo>
                  <a:pt x="1612" y="383"/>
                </a:lnTo>
                <a:lnTo>
                  <a:pt x="1619" y="443"/>
                </a:lnTo>
                <a:lnTo>
                  <a:pt x="1639" y="482"/>
                </a:lnTo>
                <a:lnTo>
                  <a:pt x="1652" y="509"/>
                </a:lnTo>
                <a:lnTo>
                  <a:pt x="1652" y="555"/>
                </a:lnTo>
                <a:lnTo>
                  <a:pt x="1652" y="562"/>
                </a:lnTo>
                <a:lnTo>
                  <a:pt x="1645" y="568"/>
                </a:lnTo>
                <a:lnTo>
                  <a:pt x="1639" y="595"/>
                </a:lnTo>
                <a:lnTo>
                  <a:pt x="1619" y="634"/>
                </a:lnTo>
                <a:lnTo>
                  <a:pt x="1592" y="641"/>
                </a:lnTo>
                <a:lnTo>
                  <a:pt x="1606" y="694"/>
                </a:lnTo>
                <a:lnTo>
                  <a:pt x="1606" y="727"/>
                </a:lnTo>
                <a:lnTo>
                  <a:pt x="1592" y="753"/>
                </a:lnTo>
                <a:lnTo>
                  <a:pt x="1573" y="826"/>
                </a:lnTo>
                <a:lnTo>
                  <a:pt x="1553" y="872"/>
                </a:lnTo>
                <a:lnTo>
                  <a:pt x="1539" y="952"/>
                </a:lnTo>
                <a:lnTo>
                  <a:pt x="1539" y="1018"/>
                </a:lnTo>
                <a:lnTo>
                  <a:pt x="1533" y="1110"/>
                </a:lnTo>
                <a:lnTo>
                  <a:pt x="1522" y="1166"/>
                </a:lnTo>
                <a:lnTo>
                  <a:pt x="1588" y="1227"/>
                </a:lnTo>
                <a:lnTo>
                  <a:pt x="1619" y="1298"/>
                </a:lnTo>
                <a:lnTo>
                  <a:pt x="1654" y="1364"/>
                </a:lnTo>
                <a:lnTo>
                  <a:pt x="1667" y="1430"/>
                </a:lnTo>
                <a:lnTo>
                  <a:pt x="1767" y="1507"/>
                </a:lnTo>
                <a:lnTo>
                  <a:pt x="1767" y="1578"/>
                </a:lnTo>
                <a:lnTo>
                  <a:pt x="1813" y="1692"/>
                </a:lnTo>
                <a:lnTo>
                  <a:pt x="1836" y="1763"/>
                </a:lnTo>
                <a:lnTo>
                  <a:pt x="1907" y="1878"/>
                </a:lnTo>
                <a:lnTo>
                  <a:pt x="1953" y="1949"/>
                </a:lnTo>
                <a:lnTo>
                  <a:pt x="1999" y="2042"/>
                </a:lnTo>
                <a:lnTo>
                  <a:pt x="2021" y="2112"/>
                </a:lnTo>
                <a:lnTo>
                  <a:pt x="2067" y="2205"/>
                </a:lnTo>
                <a:lnTo>
                  <a:pt x="2092" y="2297"/>
                </a:lnTo>
                <a:lnTo>
                  <a:pt x="2138" y="2390"/>
                </a:lnTo>
                <a:lnTo>
                  <a:pt x="2162" y="2482"/>
                </a:lnTo>
                <a:lnTo>
                  <a:pt x="2184" y="2553"/>
                </a:lnTo>
                <a:lnTo>
                  <a:pt x="2209" y="2646"/>
                </a:lnTo>
                <a:lnTo>
                  <a:pt x="2255" y="2784"/>
                </a:lnTo>
                <a:lnTo>
                  <a:pt x="2277" y="2901"/>
                </a:lnTo>
                <a:lnTo>
                  <a:pt x="2277" y="2994"/>
                </a:lnTo>
                <a:lnTo>
                  <a:pt x="2323" y="3086"/>
                </a:lnTo>
                <a:lnTo>
                  <a:pt x="2323" y="3201"/>
                </a:lnTo>
                <a:lnTo>
                  <a:pt x="2323" y="3272"/>
                </a:lnTo>
                <a:lnTo>
                  <a:pt x="2323" y="3364"/>
                </a:lnTo>
                <a:lnTo>
                  <a:pt x="2323" y="3457"/>
                </a:lnTo>
                <a:lnTo>
                  <a:pt x="2323" y="3527"/>
                </a:lnTo>
                <a:lnTo>
                  <a:pt x="2323" y="3688"/>
                </a:lnTo>
                <a:lnTo>
                  <a:pt x="2323" y="3759"/>
                </a:lnTo>
                <a:lnTo>
                  <a:pt x="2277" y="3829"/>
                </a:lnTo>
                <a:lnTo>
                  <a:pt x="2231" y="3944"/>
                </a:lnTo>
                <a:lnTo>
                  <a:pt x="2301" y="4153"/>
                </a:lnTo>
                <a:lnTo>
                  <a:pt x="2440" y="4292"/>
                </a:lnTo>
                <a:lnTo>
                  <a:pt x="2440" y="4409"/>
                </a:lnTo>
                <a:lnTo>
                  <a:pt x="2440" y="4455"/>
                </a:lnTo>
                <a:lnTo>
                  <a:pt x="2440" y="4455"/>
                </a:lnTo>
                <a:lnTo>
                  <a:pt x="2323" y="4548"/>
                </a:lnTo>
                <a:lnTo>
                  <a:pt x="2323" y="4640"/>
                </a:lnTo>
                <a:lnTo>
                  <a:pt x="2277" y="4733"/>
                </a:lnTo>
                <a:lnTo>
                  <a:pt x="2231" y="4825"/>
                </a:lnTo>
                <a:lnTo>
                  <a:pt x="2162" y="4872"/>
                </a:lnTo>
                <a:lnTo>
                  <a:pt x="2045" y="4964"/>
                </a:lnTo>
                <a:lnTo>
                  <a:pt x="1999" y="5081"/>
                </a:lnTo>
                <a:lnTo>
                  <a:pt x="1975" y="5152"/>
                </a:lnTo>
                <a:lnTo>
                  <a:pt x="1929" y="5429"/>
                </a:lnTo>
                <a:lnTo>
                  <a:pt x="1882" y="5569"/>
                </a:lnTo>
                <a:lnTo>
                  <a:pt x="1860" y="5640"/>
                </a:lnTo>
                <a:lnTo>
                  <a:pt x="1789" y="5871"/>
                </a:lnTo>
                <a:lnTo>
                  <a:pt x="1720" y="5988"/>
                </a:lnTo>
                <a:lnTo>
                  <a:pt x="1625" y="6081"/>
                </a:lnTo>
                <a:lnTo>
                  <a:pt x="1487" y="6220"/>
                </a:lnTo>
                <a:lnTo>
                  <a:pt x="1418" y="6334"/>
                </a:lnTo>
                <a:lnTo>
                  <a:pt x="1348" y="6380"/>
                </a:lnTo>
                <a:lnTo>
                  <a:pt x="1209" y="6475"/>
                </a:lnTo>
                <a:lnTo>
                  <a:pt x="1138" y="6522"/>
                </a:lnTo>
                <a:lnTo>
                  <a:pt x="1024" y="6568"/>
                </a:lnTo>
                <a:lnTo>
                  <a:pt x="931" y="6660"/>
                </a:lnTo>
                <a:lnTo>
                  <a:pt x="860" y="6682"/>
                </a:lnTo>
                <a:lnTo>
                  <a:pt x="792" y="6753"/>
                </a:lnTo>
                <a:lnTo>
                  <a:pt x="721" y="6775"/>
                </a:lnTo>
                <a:lnTo>
                  <a:pt x="651" y="6821"/>
                </a:lnTo>
                <a:lnTo>
                  <a:pt x="582" y="6892"/>
                </a:lnTo>
                <a:lnTo>
                  <a:pt x="489" y="7009"/>
                </a:lnTo>
                <a:lnTo>
                  <a:pt x="418" y="7055"/>
                </a:lnTo>
                <a:lnTo>
                  <a:pt x="326" y="7101"/>
                </a:lnTo>
                <a:lnTo>
                  <a:pt x="255" y="7148"/>
                </a:lnTo>
                <a:lnTo>
                  <a:pt x="141" y="7216"/>
                </a:lnTo>
                <a:lnTo>
                  <a:pt x="0" y="730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"/>
          <p:cNvSpPr/>
          <p:nvPr/>
        </p:nvSpPr>
        <p:spPr>
          <a:xfrm>
            <a:off x="3760920" y="1309680"/>
            <a:ext cx="725760" cy="1962360"/>
          </a:xfrm>
          <a:custGeom>
            <a:avLst/>
            <a:gdLst/>
            <a:ahLst/>
            <a:rect l="0" t="0" r="r" b="b"/>
            <a:pathLst>
              <a:path fill="none" w="2016" h="5451">
                <a:moveTo>
                  <a:pt x="1150" y="0"/>
                </a:moveTo>
                <a:lnTo>
                  <a:pt x="1183" y="46"/>
                </a:lnTo>
                <a:lnTo>
                  <a:pt x="1229" y="125"/>
                </a:lnTo>
                <a:lnTo>
                  <a:pt x="1249" y="231"/>
                </a:lnTo>
                <a:lnTo>
                  <a:pt x="1302" y="277"/>
                </a:lnTo>
                <a:lnTo>
                  <a:pt x="1362" y="392"/>
                </a:lnTo>
                <a:lnTo>
                  <a:pt x="1430" y="485"/>
                </a:lnTo>
                <a:lnTo>
                  <a:pt x="1476" y="577"/>
                </a:lnTo>
                <a:lnTo>
                  <a:pt x="1522" y="648"/>
                </a:lnTo>
                <a:lnTo>
                  <a:pt x="1569" y="740"/>
                </a:lnTo>
                <a:lnTo>
                  <a:pt x="1639" y="809"/>
                </a:lnTo>
                <a:lnTo>
                  <a:pt x="1661" y="879"/>
                </a:lnTo>
                <a:lnTo>
                  <a:pt x="1732" y="972"/>
                </a:lnTo>
                <a:lnTo>
                  <a:pt x="1756" y="1042"/>
                </a:lnTo>
                <a:lnTo>
                  <a:pt x="1802" y="1135"/>
                </a:lnTo>
                <a:lnTo>
                  <a:pt x="1848" y="1250"/>
                </a:lnTo>
                <a:lnTo>
                  <a:pt x="1870" y="1320"/>
                </a:lnTo>
                <a:lnTo>
                  <a:pt x="1917" y="1413"/>
                </a:lnTo>
                <a:lnTo>
                  <a:pt x="1917" y="1483"/>
                </a:lnTo>
                <a:lnTo>
                  <a:pt x="1941" y="1576"/>
                </a:lnTo>
                <a:lnTo>
                  <a:pt x="1941" y="1669"/>
                </a:lnTo>
                <a:lnTo>
                  <a:pt x="1941" y="1830"/>
                </a:lnTo>
                <a:lnTo>
                  <a:pt x="1941" y="1900"/>
                </a:lnTo>
                <a:lnTo>
                  <a:pt x="1941" y="1971"/>
                </a:lnTo>
                <a:lnTo>
                  <a:pt x="1941" y="2063"/>
                </a:lnTo>
                <a:lnTo>
                  <a:pt x="1963" y="2156"/>
                </a:lnTo>
                <a:lnTo>
                  <a:pt x="1943" y="2288"/>
                </a:lnTo>
                <a:lnTo>
                  <a:pt x="1950" y="2341"/>
                </a:lnTo>
                <a:lnTo>
                  <a:pt x="1956" y="2374"/>
                </a:lnTo>
                <a:lnTo>
                  <a:pt x="1969" y="2414"/>
                </a:lnTo>
                <a:lnTo>
                  <a:pt x="1983" y="2460"/>
                </a:lnTo>
                <a:lnTo>
                  <a:pt x="2003" y="2533"/>
                </a:lnTo>
                <a:lnTo>
                  <a:pt x="2009" y="2579"/>
                </a:lnTo>
                <a:lnTo>
                  <a:pt x="2016" y="2672"/>
                </a:lnTo>
                <a:lnTo>
                  <a:pt x="1989" y="2739"/>
                </a:lnTo>
                <a:lnTo>
                  <a:pt x="1943" y="2818"/>
                </a:lnTo>
                <a:lnTo>
                  <a:pt x="1884" y="2937"/>
                </a:lnTo>
                <a:lnTo>
                  <a:pt x="1837" y="3010"/>
                </a:lnTo>
                <a:lnTo>
                  <a:pt x="1798" y="3063"/>
                </a:lnTo>
                <a:lnTo>
                  <a:pt x="1725" y="3096"/>
                </a:lnTo>
                <a:lnTo>
                  <a:pt x="1666" y="3156"/>
                </a:lnTo>
                <a:lnTo>
                  <a:pt x="1619" y="3189"/>
                </a:lnTo>
                <a:lnTo>
                  <a:pt x="1573" y="3235"/>
                </a:lnTo>
                <a:lnTo>
                  <a:pt x="1520" y="3301"/>
                </a:lnTo>
                <a:lnTo>
                  <a:pt x="1500" y="3374"/>
                </a:lnTo>
                <a:lnTo>
                  <a:pt x="1487" y="3453"/>
                </a:lnTo>
                <a:lnTo>
                  <a:pt x="1454" y="3533"/>
                </a:lnTo>
                <a:lnTo>
                  <a:pt x="1414" y="3619"/>
                </a:lnTo>
                <a:lnTo>
                  <a:pt x="1375" y="3751"/>
                </a:lnTo>
                <a:lnTo>
                  <a:pt x="1348" y="3844"/>
                </a:lnTo>
                <a:lnTo>
                  <a:pt x="1282" y="3969"/>
                </a:lnTo>
                <a:lnTo>
                  <a:pt x="1216" y="4102"/>
                </a:lnTo>
                <a:lnTo>
                  <a:pt x="1157" y="4214"/>
                </a:lnTo>
                <a:lnTo>
                  <a:pt x="1124" y="4326"/>
                </a:lnTo>
                <a:lnTo>
                  <a:pt x="1097" y="4406"/>
                </a:lnTo>
                <a:lnTo>
                  <a:pt x="1011" y="4498"/>
                </a:lnTo>
                <a:lnTo>
                  <a:pt x="931" y="4604"/>
                </a:lnTo>
                <a:lnTo>
                  <a:pt x="759" y="4703"/>
                </a:lnTo>
                <a:lnTo>
                  <a:pt x="693" y="4796"/>
                </a:lnTo>
                <a:lnTo>
                  <a:pt x="588" y="4875"/>
                </a:lnTo>
                <a:lnTo>
                  <a:pt x="488" y="4955"/>
                </a:lnTo>
                <a:lnTo>
                  <a:pt x="370" y="5061"/>
                </a:lnTo>
                <a:lnTo>
                  <a:pt x="251" y="5114"/>
                </a:lnTo>
                <a:lnTo>
                  <a:pt x="185" y="5180"/>
                </a:lnTo>
                <a:lnTo>
                  <a:pt x="72" y="5312"/>
                </a:lnTo>
                <a:lnTo>
                  <a:pt x="0" y="545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7" name=""/>
          <p:cNvSpPr/>
          <p:nvPr/>
        </p:nvSpPr>
        <p:spPr>
          <a:xfrm>
            <a:off x="4033800" y="81000"/>
            <a:ext cx="1548000" cy="2224440"/>
          </a:xfrm>
          <a:custGeom>
            <a:avLst/>
            <a:gdLst/>
            <a:ahLst/>
            <a:rect l="0" t="0" r="r" b="b"/>
            <a:pathLst>
              <a:path fill="none" w="4300" h="6179">
                <a:moveTo>
                  <a:pt x="152" y="0"/>
                </a:moveTo>
                <a:lnTo>
                  <a:pt x="138" y="50"/>
                </a:lnTo>
                <a:lnTo>
                  <a:pt x="138" y="143"/>
                </a:lnTo>
                <a:lnTo>
                  <a:pt x="138" y="236"/>
                </a:lnTo>
                <a:lnTo>
                  <a:pt x="138" y="328"/>
                </a:lnTo>
                <a:lnTo>
                  <a:pt x="163" y="421"/>
                </a:lnTo>
                <a:lnTo>
                  <a:pt x="185" y="491"/>
                </a:lnTo>
                <a:lnTo>
                  <a:pt x="185" y="584"/>
                </a:lnTo>
                <a:lnTo>
                  <a:pt x="185" y="677"/>
                </a:lnTo>
                <a:lnTo>
                  <a:pt x="138" y="769"/>
                </a:lnTo>
                <a:lnTo>
                  <a:pt x="116" y="862"/>
                </a:lnTo>
                <a:lnTo>
                  <a:pt x="70" y="932"/>
                </a:lnTo>
                <a:lnTo>
                  <a:pt x="46" y="1025"/>
                </a:lnTo>
                <a:lnTo>
                  <a:pt x="46" y="1118"/>
                </a:lnTo>
                <a:lnTo>
                  <a:pt x="46" y="1210"/>
                </a:lnTo>
                <a:lnTo>
                  <a:pt x="22" y="1303"/>
                </a:lnTo>
                <a:lnTo>
                  <a:pt x="0" y="1374"/>
                </a:lnTo>
                <a:lnTo>
                  <a:pt x="0" y="1466"/>
                </a:lnTo>
                <a:lnTo>
                  <a:pt x="0" y="1559"/>
                </a:lnTo>
                <a:lnTo>
                  <a:pt x="46" y="1652"/>
                </a:lnTo>
                <a:lnTo>
                  <a:pt x="70" y="1744"/>
                </a:lnTo>
                <a:lnTo>
                  <a:pt x="92" y="1815"/>
                </a:lnTo>
                <a:lnTo>
                  <a:pt x="116" y="1907"/>
                </a:lnTo>
                <a:lnTo>
                  <a:pt x="116" y="2000"/>
                </a:lnTo>
                <a:lnTo>
                  <a:pt x="116" y="2093"/>
                </a:lnTo>
                <a:lnTo>
                  <a:pt x="138" y="2185"/>
                </a:lnTo>
                <a:lnTo>
                  <a:pt x="163" y="2256"/>
                </a:lnTo>
                <a:lnTo>
                  <a:pt x="163" y="2349"/>
                </a:lnTo>
                <a:lnTo>
                  <a:pt x="185" y="2487"/>
                </a:lnTo>
                <a:lnTo>
                  <a:pt x="231" y="2580"/>
                </a:lnTo>
                <a:lnTo>
                  <a:pt x="255" y="2673"/>
                </a:lnTo>
                <a:lnTo>
                  <a:pt x="255" y="2743"/>
                </a:lnTo>
                <a:lnTo>
                  <a:pt x="255" y="2858"/>
                </a:lnTo>
                <a:lnTo>
                  <a:pt x="255" y="2929"/>
                </a:lnTo>
                <a:lnTo>
                  <a:pt x="277" y="3021"/>
                </a:lnTo>
                <a:lnTo>
                  <a:pt x="301" y="3115"/>
                </a:lnTo>
                <a:lnTo>
                  <a:pt x="323" y="3185"/>
                </a:lnTo>
                <a:lnTo>
                  <a:pt x="323" y="3278"/>
                </a:lnTo>
                <a:lnTo>
                  <a:pt x="398" y="3432"/>
                </a:lnTo>
                <a:lnTo>
                  <a:pt x="462" y="3463"/>
                </a:lnTo>
                <a:lnTo>
                  <a:pt x="511" y="3556"/>
                </a:lnTo>
                <a:lnTo>
                  <a:pt x="557" y="3627"/>
                </a:lnTo>
                <a:lnTo>
                  <a:pt x="650" y="3695"/>
                </a:lnTo>
                <a:lnTo>
                  <a:pt x="696" y="3766"/>
                </a:lnTo>
                <a:lnTo>
                  <a:pt x="764" y="3858"/>
                </a:lnTo>
                <a:lnTo>
                  <a:pt x="835" y="3927"/>
                </a:lnTo>
                <a:lnTo>
                  <a:pt x="857" y="3997"/>
                </a:lnTo>
                <a:lnTo>
                  <a:pt x="903" y="4068"/>
                </a:lnTo>
                <a:lnTo>
                  <a:pt x="952" y="4160"/>
                </a:lnTo>
                <a:lnTo>
                  <a:pt x="1020" y="4253"/>
                </a:lnTo>
                <a:lnTo>
                  <a:pt x="1066" y="4346"/>
                </a:lnTo>
                <a:lnTo>
                  <a:pt x="1137" y="4438"/>
                </a:lnTo>
                <a:lnTo>
                  <a:pt x="1159" y="4509"/>
                </a:lnTo>
                <a:lnTo>
                  <a:pt x="1229" y="4577"/>
                </a:lnTo>
                <a:lnTo>
                  <a:pt x="1251" y="4648"/>
                </a:lnTo>
                <a:lnTo>
                  <a:pt x="1275" y="4740"/>
                </a:lnTo>
                <a:lnTo>
                  <a:pt x="1297" y="4833"/>
                </a:lnTo>
                <a:lnTo>
                  <a:pt x="1322" y="4904"/>
                </a:lnTo>
                <a:lnTo>
                  <a:pt x="1344" y="5018"/>
                </a:lnTo>
                <a:lnTo>
                  <a:pt x="1368" y="5089"/>
                </a:lnTo>
                <a:lnTo>
                  <a:pt x="1414" y="5182"/>
                </a:lnTo>
                <a:lnTo>
                  <a:pt x="1439" y="5296"/>
                </a:lnTo>
                <a:lnTo>
                  <a:pt x="1461" y="5367"/>
                </a:lnTo>
                <a:lnTo>
                  <a:pt x="1461" y="5437"/>
                </a:lnTo>
                <a:lnTo>
                  <a:pt x="1485" y="5530"/>
                </a:lnTo>
                <a:lnTo>
                  <a:pt x="1531" y="5623"/>
                </a:lnTo>
                <a:lnTo>
                  <a:pt x="1577" y="5715"/>
                </a:lnTo>
                <a:lnTo>
                  <a:pt x="1624" y="5786"/>
                </a:lnTo>
                <a:lnTo>
                  <a:pt x="1692" y="5879"/>
                </a:lnTo>
                <a:lnTo>
                  <a:pt x="1762" y="5971"/>
                </a:lnTo>
                <a:lnTo>
                  <a:pt x="1833" y="5993"/>
                </a:lnTo>
                <a:lnTo>
                  <a:pt x="1926" y="6018"/>
                </a:lnTo>
                <a:lnTo>
                  <a:pt x="2018" y="6086"/>
                </a:lnTo>
                <a:lnTo>
                  <a:pt x="2064" y="6156"/>
                </a:lnTo>
                <a:lnTo>
                  <a:pt x="2158" y="6179"/>
                </a:lnTo>
                <a:lnTo>
                  <a:pt x="2251" y="6179"/>
                </a:lnTo>
                <a:lnTo>
                  <a:pt x="2321" y="6156"/>
                </a:lnTo>
                <a:lnTo>
                  <a:pt x="2414" y="6132"/>
                </a:lnTo>
                <a:lnTo>
                  <a:pt x="2506" y="6110"/>
                </a:lnTo>
                <a:lnTo>
                  <a:pt x="2599" y="6040"/>
                </a:lnTo>
                <a:lnTo>
                  <a:pt x="2667" y="5947"/>
                </a:lnTo>
                <a:lnTo>
                  <a:pt x="2738" y="5879"/>
                </a:lnTo>
                <a:lnTo>
                  <a:pt x="2808" y="5808"/>
                </a:lnTo>
                <a:lnTo>
                  <a:pt x="2876" y="5737"/>
                </a:lnTo>
                <a:lnTo>
                  <a:pt x="2947" y="5691"/>
                </a:lnTo>
                <a:lnTo>
                  <a:pt x="3061" y="5620"/>
                </a:lnTo>
                <a:lnTo>
                  <a:pt x="3123" y="5568"/>
                </a:lnTo>
                <a:lnTo>
                  <a:pt x="3185" y="5515"/>
                </a:lnTo>
                <a:lnTo>
                  <a:pt x="3273" y="5471"/>
                </a:lnTo>
                <a:lnTo>
                  <a:pt x="3370" y="5418"/>
                </a:lnTo>
                <a:lnTo>
                  <a:pt x="3456" y="5391"/>
                </a:lnTo>
                <a:lnTo>
                  <a:pt x="3526" y="5391"/>
                </a:lnTo>
                <a:lnTo>
                  <a:pt x="3597" y="5367"/>
                </a:lnTo>
                <a:lnTo>
                  <a:pt x="3712" y="5296"/>
                </a:lnTo>
                <a:lnTo>
                  <a:pt x="3782" y="5228"/>
                </a:lnTo>
                <a:lnTo>
                  <a:pt x="3850" y="5157"/>
                </a:lnTo>
                <a:lnTo>
                  <a:pt x="3921" y="5065"/>
                </a:lnTo>
                <a:lnTo>
                  <a:pt x="3989" y="4972"/>
                </a:lnTo>
                <a:lnTo>
                  <a:pt x="4060" y="4904"/>
                </a:lnTo>
                <a:lnTo>
                  <a:pt x="4130" y="4855"/>
                </a:lnTo>
                <a:lnTo>
                  <a:pt x="4223" y="4809"/>
                </a:lnTo>
                <a:lnTo>
                  <a:pt x="4300" y="479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8" name=""/>
          <p:cNvSpPr/>
          <p:nvPr/>
        </p:nvSpPr>
        <p:spPr>
          <a:xfrm>
            <a:off x="4853160" y="88920"/>
            <a:ext cx="729000" cy="744840"/>
          </a:xfrm>
          <a:custGeom>
            <a:avLst/>
            <a:gdLst/>
            <a:ahLst/>
            <a:rect l="0" t="0" r="r" b="b"/>
            <a:pathLst>
              <a:path fill="none" w="2025" h="2069">
                <a:moveTo>
                  <a:pt x="0" y="0"/>
                </a:moveTo>
                <a:lnTo>
                  <a:pt x="48" y="48"/>
                </a:lnTo>
                <a:lnTo>
                  <a:pt x="97" y="137"/>
                </a:lnTo>
                <a:lnTo>
                  <a:pt x="145" y="226"/>
                </a:lnTo>
                <a:lnTo>
                  <a:pt x="145" y="315"/>
                </a:lnTo>
                <a:lnTo>
                  <a:pt x="168" y="404"/>
                </a:lnTo>
                <a:lnTo>
                  <a:pt x="217" y="472"/>
                </a:lnTo>
                <a:lnTo>
                  <a:pt x="291" y="516"/>
                </a:lnTo>
                <a:lnTo>
                  <a:pt x="388" y="560"/>
                </a:lnTo>
                <a:lnTo>
                  <a:pt x="462" y="626"/>
                </a:lnTo>
                <a:lnTo>
                  <a:pt x="510" y="694"/>
                </a:lnTo>
                <a:lnTo>
                  <a:pt x="607" y="759"/>
                </a:lnTo>
                <a:lnTo>
                  <a:pt x="704" y="783"/>
                </a:lnTo>
                <a:lnTo>
                  <a:pt x="801" y="848"/>
                </a:lnTo>
                <a:lnTo>
                  <a:pt x="875" y="895"/>
                </a:lnTo>
                <a:lnTo>
                  <a:pt x="972" y="961"/>
                </a:lnTo>
                <a:lnTo>
                  <a:pt x="1093" y="1050"/>
                </a:lnTo>
                <a:lnTo>
                  <a:pt x="1167" y="1095"/>
                </a:lnTo>
                <a:lnTo>
                  <a:pt x="1216" y="1163"/>
                </a:lnTo>
                <a:lnTo>
                  <a:pt x="1313" y="1252"/>
                </a:lnTo>
                <a:lnTo>
                  <a:pt x="1320" y="1429"/>
                </a:lnTo>
                <a:lnTo>
                  <a:pt x="1491" y="1601"/>
                </a:lnTo>
                <a:lnTo>
                  <a:pt x="1703" y="1664"/>
                </a:lnTo>
                <a:lnTo>
                  <a:pt x="1874" y="1770"/>
                </a:lnTo>
                <a:lnTo>
                  <a:pt x="2025" y="20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9" name=""/>
          <p:cNvSpPr/>
          <p:nvPr/>
        </p:nvSpPr>
        <p:spPr>
          <a:xfrm>
            <a:off x="4106880" y="82440"/>
            <a:ext cx="1476720" cy="1679760"/>
          </a:xfrm>
          <a:custGeom>
            <a:avLst/>
            <a:gdLst/>
            <a:ahLst/>
            <a:rect l="0" t="0" r="r" b="b"/>
            <a:pathLst>
              <a:path fill="none" w="4102" h="4666">
                <a:moveTo>
                  <a:pt x="0" y="0"/>
                </a:moveTo>
                <a:lnTo>
                  <a:pt x="22" y="243"/>
                </a:lnTo>
                <a:lnTo>
                  <a:pt x="61" y="309"/>
                </a:lnTo>
                <a:lnTo>
                  <a:pt x="97" y="396"/>
                </a:lnTo>
                <a:lnTo>
                  <a:pt x="143" y="492"/>
                </a:lnTo>
                <a:lnTo>
                  <a:pt x="189" y="588"/>
                </a:lnTo>
                <a:lnTo>
                  <a:pt x="235" y="683"/>
                </a:lnTo>
                <a:lnTo>
                  <a:pt x="235" y="779"/>
                </a:lnTo>
                <a:lnTo>
                  <a:pt x="257" y="852"/>
                </a:lnTo>
                <a:lnTo>
                  <a:pt x="306" y="948"/>
                </a:lnTo>
                <a:lnTo>
                  <a:pt x="374" y="1043"/>
                </a:lnTo>
                <a:lnTo>
                  <a:pt x="421" y="1139"/>
                </a:lnTo>
                <a:lnTo>
                  <a:pt x="513" y="1235"/>
                </a:lnTo>
                <a:lnTo>
                  <a:pt x="537" y="1308"/>
                </a:lnTo>
                <a:lnTo>
                  <a:pt x="606" y="1403"/>
                </a:lnTo>
                <a:lnTo>
                  <a:pt x="652" y="1499"/>
                </a:lnTo>
                <a:lnTo>
                  <a:pt x="698" y="1595"/>
                </a:lnTo>
                <a:lnTo>
                  <a:pt x="723" y="1691"/>
                </a:lnTo>
                <a:lnTo>
                  <a:pt x="793" y="1739"/>
                </a:lnTo>
                <a:lnTo>
                  <a:pt x="886" y="1811"/>
                </a:lnTo>
                <a:lnTo>
                  <a:pt x="978" y="1882"/>
                </a:lnTo>
                <a:lnTo>
                  <a:pt x="1047" y="1955"/>
                </a:lnTo>
                <a:lnTo>
                  <a:pt x="1117" y="2051"/>
                </a:lnTo>
                <a:lnTo>
                  <a:pt x="1210" y="2146"/>
                </a:lnTo>
                <a:lnTo>
                  <a:pt x="1281" y="2242"/>
                </a:lnTo>
                <a:lnTo>
                  <a:pt x="1349" y="2364"/>
                </a:lnTo>
                <a:lnTo>
                  <a:pt x="1441" y="2483"/>
                </a:lnTo>
                <a:lnTo>
                  <a:pt x="1466" y="2555"/>
                </a:lnTo>
                <a:lnTo>
                  <a:pt x="1534" y="2651"/>
                </a:lnTo>
                <a:lnTo>
                  <a:pt x="1580" y="2724"/>
                </a:lnTo>
                <a:lnTo>
                  <a:pt x="1629" y="2843"/>
                </a:lnTo>
                <a:lnTo>
                  <a:pt x="1721" y="2938"/>
                </a:lnTo>
                <a:lnTo>
                  <a:pt x="1860" y="2963"/>
                </a:lnTo>
                <a:lnTo>
                  <a:pt x="1953" y="3011"/>
                </a:lnTo>
                <a:lnTo>
                  <a:pt x="2046" y="3084"/>
                </a:lnTo>
                <a:lnTo>
                  <a:pt x="2117" y="3132"/>
                </a:lnTo>
                <a:lnTo>
                  <a:pt x="2210" y="3203"/>
                </a:lnTo>
                <a:lnTo>
                  <a:pt x="2278" y="3276"/>
                </a:lnTo>
                <a:lnTo>
                  <a:pt x="2349" y="3371"/>
                </a:lnTo>
                <a:lnTo>
                  <a:pt x="2441" y="3515"/>
                </a:lnTo>
                <a:lnTo>
                  <a:pt x="2488" y="3588"/>
                </a:lnTo>
                <a:lnTo>
                  <a:pt x="2558" y="3684"/>
                </a:lnTo>
                <a:lnTo>
                  <a:pt x="2626" y="3779"/>
                </a:lnTo>
                <a:lnTo>
                  <a:pt x="2697" y="3875"/>
                </a:lnTo>
                <a:lnTo>
                  <a:pt x="2790" y="3996"/>
                </a:lnTo>
                <a:lnTo>
                  <a:pt x="2882" y="4044"/>
                </a:lnTo>
                <a:lnTo>
                  <a:pt x="2953" y="4114"/>
                </a:lnTo>
                <a:lnTo>
                  <a:pt x="3067" y="4210"/>
                </a:lnTo>
                <a:lnTo>
                  <a:pt x="3138" y="4283"/>
                </a:lnTo>
                <a:lnTo>
                  <a:pt x="3206" y="4379"/>
                </a:lnTo>
                <a:lnTo>
                  <a:pt x="3253" y="4452"/>
                </a:lnTo>
                <a:lnTo>
                  <a:pt x="3323" y="4547"/>
                </a:lnTo>
                <a:lnTo>
                  <a:pt x="3394" y="4595"/>
                </a:lnTo>
                <a:lnTo>
                  <a:pt x="3486" y="4643"/>
                </a:lnTo>
                <a:lnTo>
                  <a:pt x="3579" y="4643"/>
                </a:lnTo>
                <a:lnTo>
                  <a:pt x="3672" y="4666"/>
                </a:lnTo>
                <a:lnTo>
                  <a:pt x="3802" y="4645"/>
                </a:lnTo>
                <a:lnTo>
                  <a:pt x="3872" y="4655"/>
                </a:lnTo>
                <a:lnTo>
                  <a:pt x="3934" y="4627"/>
                </a:lnTo>
                <a:lnTo>
                  <a:pt x="4013" y="4609"/>
                </a:lnTo>
                <a:lnTo>
                  <a:pt x="4102" y="460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0" name=""/>
          <p:cNvSpPr/>
          <p:nvPr/>
        </p:nvSpPr>
        <p:spPr>
          <a:xfrm>
            <a:off x="4075200" y="326880"/>
            <a:ext cx="1508400" cy="1661040"/>
          </a:xfrm>
          <a:custGeom>
            <a:avLst/>
            <a:gdLst/>
            <a:ahLst/>
            <a:rect l="0" t="0" r="r" b="b"/>
            <a:pathLst>
              <a:path fill="none" w="4190" h="4614">
                <a:moveTo>
                  <a:pt x="63" y="0"/>
                </a:moveTo>
                <a:lnTo>
                  <a:pt x="0" y="335"/>
                </a:lnTo>
                <a:lnTo>
                  <a:pt x="11" y="474"/>
                </a:lnTo>
                <a:lnTo>
                  <a:pt x="44" y="714"/>
                </a:lnTo>
                <a:lnTo>
                  <a:pt x="176" y="1095"/>
                </a:lnTo>
                <a:lnTo>
                  <a:pt x="321" y="1387"/>
                </a:lnTo>
                <a:lnTo>
                  <a:pt x="394" y="1504"/>
                </a:lnTo>
                <a:lnTo>
                  <a:pt x="416" y="1575"/>
                </a:lnTo>
                <a:lnTo>
                  <a:pt x="463" y="1667"/>
                </a:lnTo>
                <a:lnTo>
                  <a:pt x="509" y="1760"/>
                </a:lnTo>
                <a:lnTo>
                  <a:pt x="555" y="1853"/>
                </a:lnTo>
                <a:lnTo>
                  <a:pt x="555" y="1945"/>
                </a:lnTo>
                <a:lnTo>
                  <a:pt x="555" y="2016"/>
                </a:lnTo>
                <a:lnTo>
                  <a:pt x="579" y="2108"/>
                </a:lnTo>
                <a:lnTo>
                  <a:pt x="601" y="2201"/>
                </a:lnTo>
                <a:lnTo>
                  <a:pt x="601" y="2294"/>
                </a:lnTo>
                <a:lnTo>
                  <a:pt x="648" y="2386"/>
                </a:lnTo>
                <a:lnTo>
                  <a:pt x="672" y="2525"/>
                </a:lnTo>
                <a:lnTo>
                  <a:pt x="694" y="2596"/>
                </a:lnTo>
                <a:lnTo>
                  <a:pt x="694" y="2710"/>
                </a:lnTo>
                <a:lnTo>
                  <a:pt x="787" y="2781"/>
                </a:lnTo>
                <a:lnTo>
                  <a:pt x="857" y="2827"/>
                </a:lnTo>
                <a:lnTo>
                  <a:pt x="928" y="2873"/>
                </a:lnTo>
                <a:lnTo>
                  <a:pt x="974" y="2944"/>
                </a:lnTo>
                <a:lnTo>
                  <a:pt x="1089" y="3059"/>
                </a:lnTo>
                <a:lnTo>
                  <a:pt x="1159" y="3129"/>
                </a:lnTo>
                <a:lnTo>
                  <a:pt x="1252" y="3268"/>
                </a:lnTo>
                <a:lnTo>
                  <a:pt x="1322" y="3361"/>
                </a:lnTo>
                <a:lnTo>
                  <a:pt x="1369" y="3431"/>
                </a:lnTo>
                <a:lnTo>
                  <a:pt x="1437" y="3547"/>
                </a:lnTo>
                <a:lnTo>
                  <a:pt x="1461" y="3617"/>
                </a:lnTo>
                <a:lnTo>
                  <a:pt x="1530" y="3710"/>
                </a:lnTo>
                <a:lnTo>
                  <a:pt x="1554" y="3781"/>
                </a:lnTo>
                <a:lnTo>
                  <a:pt x="1600" y="3873"/>
                </a:lnTo>
                <a:lnTo>
                  <a:pt x="1622" y="3966"/>
                </a:lnTo>
                <a:lnTo>
                  <a:pt x="1669" y="4058"/>
                </a:lnTo>
                <a:lnTo>
                  <a:pt x="1693" y="4151"/>
                </a:lnTo>
                <a:lnTo>
                  <a:pt x="1717" y="4222"/>
                </a:lnTo>
                <a:lnTo>
                  <a:pt x="1785" y="4336"/>
                </a:lnTo>
                <a:lnTo>
                  <a:pt x="1832" y="4407"/>
                </a:lnTo>
                <a:lnTo>
                  <a:pt x="1902" y="4475"/>
                </a:lnTo>
                <a:lnTo>
                  <a:pt x="1995" y="4568"/>
                </a:lnTo>
                <a:lnTo>
                  <a:pt x="2088" y="4614"/>
                </a:lnTo>
                <a:lnTo>
                  <a:pt x="2181" y="4614"/>
                </a:lnTo>
                <a:lnTo>
                  <a:pt x="2252" y="4614"/>
                </a:lnTo>
                <a:lnTo>
                  <a:pt x="2366" y="4592"/>
                </a:lnTo>
                <a:lnTo>
                  <a:pt x="2437" y="4568"/>
                </a:lnTo>
                <a:lnTo>
                  <a:pt x="2529" y="4521"/>
                </a:lnTo>
                <a:lnTo>
                  <a:pt x="2600" y="4499"/>
                </a:lnTo>
                <a:lnTo>
                  <a:pt x="2693" y="4475"/>
                </a:lnTo>
                <a:lnTo>
                  <a:pt x="2785" y="4453"/>
                </a:lnTo>
                <a:lnTo>
                  <a:pt x="2900" y="4429"/>
                </a:lnTo>
                <a:lnTo>
                  <a:pt x="2970" y="4407"/>
                </a:lnTo>
                <a:lnTo>
                  <a:pt x="3041" y="4383"/>
                </a:lnTo>
                <a:lnTo>
                  <a:pt x="3134" y="4336"/>
                </a:lnTo>
                <a:lnTo>
                  <a:pt x="3248" y="4336"/>
                </a:lnTo>
                <a:lnTo>
                  <a:pt x="3319" y="4336"/>
                </a:lnTo>
                <a:lnTo>
                  <a:pt x="3411" y="4314"/>
                </a:lnTo>
                <a:lnTo>
                  <a:pt x="3482" y="4290"/>
                </a:lnTo>
                <a:lnTo>
                  <a:pt x="3575" y="4268"/>
                </a:lnTo>
                <a:lnTo>
                  <a:pt x="3667" y="4222"/>
                </a:lnTo>
                <a:lnTo>
                  <a:pt x="3722" y="4180"/>
                </a:lnTo>
                <a:lnTo>
                  <a:pt x="3828" y="4109"/>
                </a:lnTo>
                <a:lnTo>
                  <a:pt x="3908" y="4065"/>
                </a:lnTo>
                <a:lnTo>
                  <a:pt x="4040" y="4012"/>
                </a:lnTo>
                <a:lnTo>
                  <a:pt x="4190" y="399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"/>
          <p:cNvSpPr/>
          <p:nvPr/>
        </p:nvSpPr>
        <p:spPr>
          <a:xfrm>
            <a:off x="4037040" y="647640"/>
            <a:ext cx="1545120" cy="1576800"/>
          </a:xfrm>
          <a:custGeom>
            <a:avLst/>
            <a:gdLst/>
            <a:ahLst/>
            <a:rect l="0" t="0" r="r" b="b"/>
            <a:pathLst>
              <a:path fill="none" w="4292" h="4380">
                <a:moveTo>
                  <a:pt x="0" y="0"/>
                </a:moveTo>
                <a:lnTo>
                  <a:pt x="99" y="112"/>
                </a:lnTo>
                <a:lnTo>
                  <a:pt x="165" y="224"/>
                </a:lnTo>
                <a:lnTo>
                  <a:pt x="211" y="363"/>
                </a:lnTo>
                <a:lnTo>
                  <a:pt x="238" y="542"/>
                </a:lnTo>
                <a:lnTo>
                  <a:pt x="257" y="707"/>
                </a:lnTo>
                <a:lnTo>
                  <a:pt x="323" y="872"/>
                </a:lnTo>
                <a:lnTo>
                  <a:pt x="350" y="1018"/>
                </a:lnTo>
                <a:lnTo>
                  <a:pt x="456" y="1131"/>
                </a:lnTo>
                <a:lnTo>
                  <a:pt x="456" y="1224"/>
                </a:lnTo>
                <a:lnTo>
                  <a:pt x="456" y="1290"/>
                </a:lnTo>
                <a:lnTo>
                  <a:pt x="442" y="1382"/>
                </a:lnTo>
                <a:lnTo>
                  <a:pt x="469" y="1435"/>
                </a:lnTo>
                <a:lnTo>
                  <a:pt x="495" y="1528"/>
                </a:lnTo>
                <a:lnTo>
                  <a:pt x="509" y="1581"/>
                </a:lnTo>
                <a:lnTo>
                  <a:pt x="561" y="1726"/>
                </a:lnTo>
                <a:lnTo>
                  <a:pt x="561" y="1779"/>
                </a:lnTo>
                <a:lnTo>
                  <a:pt x="614" y="1832"/>
                </a:lnTo>
                <a:lnTo>
                  <a:pt x="667" y="1885"/>
                </a:lnTo>
                <a:lnTo>
                  <a:pt x="747" y="1938"/>
                </a:lnTo>
                <a:lnTo>
                  <a:pt x="826" y="2043"/>
                </a:lnTo>
                <a:lnTo>
                  <a:pt x="918" y="2189"/>
                </a:lnTo>
                <a:lnTo>
                  <a:pt x="985" y="2242"/>
                </a:lnTo>
                <a:lnTo>
                  <a:pt x="1051" y="2347"/>
                </a:lnTo>
                <a:lnTo>
                  <a:pt x="1105" y="2440"/>
                </a:lnTo>
                <a:lnTo>
                  <a:pt x="1131" y="2559"/>
                </a:lnTo>
                <a:lnTo>
                  <a:pt x="1197" y="2691"/>
                </a:lnTo>
                <a:lnTo>
                  <a:pt x="1224" y="2744"/>
                </a:lnTo>
                <a:lnTo>
                  <a:pt x="1276" y="2810"/>
                </a:lnTo>
                <a:lnTo>
                  <a:pt x="1246" y="2872"/>
                </a:lnTo>
                <a:lnTo>
                  <a:pt x="1263" y="2898"/>
                </a:lnTo>
                <a:lnTo>
                  <a:pt x="1281" y="2934"/>
                </a:lnTo>
                <a:lnTo>
                  <a:pt x="1298" y="2960"/>
                </a:lnTo>
                <a:lnTo>
                  <a:pt x="1307" y="2987"/>
                </a:lnTo>
                <a:lnTo>
                  <a:pt x="1325" y="3022"/>
                </a:lnTo>
                <a:lnTo>
                  <a:pt x="1343" y="3048"/>
                </a:lnTo>
                <a:lnTo>
                  <a:pt x="1360" y="3084"/>
                </a:lnTo>
                <a:lnTo>
                  <a:pt x="1360" y="3110"/>
                </a:lnTo>
                <a:lnTo>
                  <a:pt x="1378" y="3136"/>
                </a:lnTo>
                <a:lnTo>
                  <a:pt x="1387" y="3172"/>
                </a:lnTo>
                <a:lnTo>
                  <a:pt x="1404" y="3198"/>
                </a:lnTo>
                <a:lnTo>
                  <a:pt x="1413" y="3225"/>
                </a:lnTo>
                <a:lnTo>
                  <a:pt x="1431" y="3260"/>
                </a:lnTo>
                <a:lnTo>
                  <a:pt x="1440" y="3287"/>
                </a:lnTo>
                <a:lnTo>
                  <a:pt x="1448" y="3314"/>
                </a:lnTo>
                <a:lnTo>
                  <a:pt x="1457" y="3340"/>
                </a:lnTo>
                <a:lnTo>
                  <a:pt x="1466" y="3367"/>
                </a:lnTo>
                <a:lnTo>
                  <a:pt x="1484" y="3393"/>
                </a:lnTo>
                <a:lnTo>
                  <a:pt x="1484" y="3420"/>
                </a:lnTo>
                <a:lnTo>
                  <a:pt x="1492" y="3446"/>
                </a:lnTo>
                <a:lnTo>
                  <a:pt x="1510" y="3481"/>
                </a:lnTo>
                <a:lnTo>
                  <a:pt x="1519" y="3508"/>
                </a:lnTo>
                <a:lnTo>
                  <a:pt x="1519" y="3534"/>
                </a:lnTo>
                <a:lnTo>
                  <a:pt x="1536" y="3561"/>
                </a:lnTo>
                <a:lnTo>
                  <a:pt x="1554" y="3587"/>
                </a:lnTo>
                <a:lnTo>
                  <a:pt x="1572" y="3631"/>
                </a:lnTo>
                <a:lnTo>
                  <a:pt x="1581" y="3658"/>
                </a:lnTo>
                <a:lnTo>
                  <a:pt x="1598" y="3702"/>
                </a:lnTo>
                <a:lnTo>
                  <a:pt x="1616" y="3728"/>
                </a:lnTo>
                <a:lnTo>
                  <a:pt x="1633" y="3763"/>
                </a:lnTo>
                <a:lnTo>
                  <a:pt x="1642" y="3790"/>
                </a:lnTo>
                <a:lnTo>
                  <a:pt x="1660" y="3816"/>
                </a:lnTo>
                <a:lnTo>
                  <a:pt x="1669" y="3843"/>
                </a:lnTo>
                <a:lnTo>
                  <a:pt x="1678" y="3869"/>
                </a:lnTo>
                <a:lnTo>
                  <a:pt x="1695" y="3904"/>
                </a:lnTo>
                <a:lnTo>
                  <a:pt x="1722" y="3931"/>
                </a:lnTo>
                <a:lnTo>
                  <a:pt x="1739" y="3966"/>
                </a:lnTo>
                <a:lnTo>
                  <a:pt x="1757" y="3992"/>
                </a:lnTo>
                <a:lnTo>
                  <a:pt x="1775" y="4019"/>
                </a:lnTo>
                <a:lnTo>
                  <a:pt x="1792" y="4045"/>
                </a:lnTo>
                <a:lnTo>
                  <a:pt x="1810" y="4081"/>
                </a:lnTo>
                <a:lnTo>
                  <a:pt x="1827" y="4107"/>
                </a:lnTo>
                <a:lnTo>
                  <a:pt x="1845" y="4134"/>
                </a:lnTo>
                <a:lnTo>
                  <a:pt x="1871" y="4160"/>
                </a:lnTo>
                <a:lnTo>
                  <a:pt x="1889" y="4186"/>
                </a:lnTo>
                <a:lnTo>
                  <a:pt x="1916" y="4213"/>
                </a:lnTo>
                <a:lnTo>
                  <a:pt x="1942" y="4239"/>
                </a:lnTo>
                <a:lnTo>
                  <a:pt x="1968" y="4257"/>
                </a:lnTo>
                <a:lnTo>
                  <a:pt x="1986" y="4283"/>
                </a:lnTo>
                <a:lnTo>
                  <a:pt x="2013" y="4301"/>
                </a:lnTo>
                <a:lnTo>
                  <a:pt x="2039" y="4310"/>
                </a:lnTo>
                <a:lnTo>
                  <a:pt x="2065" y="4327"/>
                </a:lnTo>
                <a:lnTo>
                  <a:pt x="2092" y="4327"/>
                </a:lnTo>
                <a:lnTo>
                  <a:pt x="2118" y="4345"/>
                </a:lnTo>
                <a:lnTo>
                  <a:pt x="2224" y="4372"/>
                </a:lnTo>
                <a:lnTo>
                  <a:pt x="2251" y="4372"/>
                </a:lnTo>
                <a:lnTo>
                  <a:pt x="2277" y="4380"/>
                </a:lnTo>
                <a:lnTo>
                  <a:pt x="2303" y="4380"/>
                </a:lnTo>
                <a:lnTo>
                  <a:pt x="2330" y="4380"/>
                </a:lnTo>
                <a:lnTo>
                  <a:pt x="2365" y="4380"/>
                </a:lnTo>
                <a:lnTo>
                  <a:pt x="2409" y="4380"/>
                </a:lnTo>
                <a:lnTo>
                  <a:pt x="2453" y="4380"/>
                </a:lnTo>
                <a:lnTo>
                  <a:pt x="2480" y="4363"/>
                </a:lnTo>
                <a:lnTo>
                  <a:pt x="2506" y="4345"/>
                </a:lnTo>
                <a:lnTo>
                  <a:pt x="2533" y="4327"/>
                </a:lnTo>
                <a:lnTo>
                  <a:pt x="2585" y="4292"/>
                </a:lnTo>
                <a:lnTo>
                  <a:pt x="2612" y="4275"/>
                </a:lnTo>
                <a:lnTo>
                  <a:pt x="2638" y="4248"/>
                </a:lnTo>
                <a:lnTo>
                  <a:pt x="2665" y="4230"/>
                </a:lnTo>
                <a:lnTo>
                  <a:pt x="2691" y="4213"/>
                </a:lnTo>
                <a:lnTo>
                  <a:pt x="2718" y="4195"/>
                </a:lnTo>
                <a:lnTo>
                  <a:pt x="2744" y="4178"/>
                </a:lnTo>
                <a:lnTo>
                  <a:pt x="2771" y="4151"/>
                </a:lnTo>
                <a:lnTo>
                  <a:pt x="2815" y="4116"/>
                </a:lnTo>
                <a:lnTo>
                  <a:pt x="2850" y="4107"/>
                </a:lnTo>
                <a:lnTo>
                  <a:pt x="2903" y="4072"/>
                </a:lnTo>
                <a:lnTo>
                  <a:pt x="2920" y="4045"/>
                </a:lnTo>
                <a:lnTo>
                  <a:pt x="2938" y="4019"/>
                </a:lnTo>
                <a:lnTo>
                  <a:pt x="2965" y="4001"/>
                </a:lnTo>
                <a:lnTo>
                  <a:pt x="2991" y="3966"/>
                </a:lnTo>
                <a:lnTo>
                  <a:pt x="3017" y="3940"/>
                </a:lnTo>
                <a:lnTo>
                  <a:pt x="3044" y="3922"/>
                </a:lnTo>
                <a:lnTo>
                  <a:pt x="3070" y="3904"/>
                </a:lnTo>
                <a:lnTo>
                  <a:pt x="3106" y="3887"/>
                </a:lnTo>
                <a:lnTo>
                  <a:pt x="3132" y="3878"/>
                </a:lnTo>
                <a:lnTo>
                  <a:pt x="3158" y="3869"/>
                </a:lnTo>
                <a:lnTo>
                  <a:pt x="3185" y="3851"/>
                </a:lnTo>
                <a:lnTo>
                  <a:pt x="3211" y="3843"/>
                </a:lnTo>
                <a:lnTo>
                  <a:pt x="3248" y="3825"/>
                </a:lnTo>
                <a:lnTo>
                  <a:pt x="3283" y="3807"/>
                </a:lnTo>
                <a:lnTo>
                  <a:pt x="3309" y="3790"/>
                </a:lnTo>
                <a:lnTo>
                  <a:pt x="3336" y="3781"/>
                </a:lnTo>
                <a:lnTo>
                  <a:pt x="3362" y="3772"/>
                </a:lnTo>
                <a:lnTo>
                  <a:pt x="3389" y="3763"/>
                </a:lnTo>
                <a:lnTo>
                  <a:pt x="3415" y="3754"/>
                </a:lnTo>
                <a:lnTo>
                  <a:pt x="3450" y="3746"/>
                </a:lnTo>
                <a:lnTo>
                  <a:pt x="3545" y="3704"/>
                </a:lnTo>
                <a:lnTo>
                  <a:pt x="3572" y="3671"/>
                </a:lnTo>
                <a:lnTo>
                  <a:pt x="3605" y="3664"/>
                </a:lnTo>
                <a:lnTo>
                  <a:pt x="3624" y="3638"/>
                </a:lnTo>
                <a:lnTo>
                  <a:pt x="3638" y="3638"/>
                </a:lnTo>
                <a:lnTo>
                  <a:pt x="3664" y="3611"/>
                </a:lnTo>
                <a:lnTo>
                  <a:pt x="3677" y="3598"/>
                </a:lnTo>
                <a:lnTo>
                  <a:pt x="3697" y="3572"/>
                </a:lnTo>
                <a:lnTo>
                  <a:pt x="3730" y="3552"/>
                </a:lnTo>
                <a:lnTo>
                  <a:pt x="3763" y="3539"/>
                </a:lnTo>
                <a:lnTo>
                  <a:pt x="3803" y="3512"/>
                </a:lnTo>
                <a:lnTo>
                  <a:pt x="3836" y="3486"/>
                </a:lnTo>
                <a:lnTo>
                  <a:pt x="3849" y="3466"/>
                </a:lnTo>
                <a:lnTo>
                  <a:pt x="3849" y="3472"/>
                </a:lnTo>
                <a:lnTo>
                  <a:pt x="3955" y="3367"/>
                </a:lnTo>
                <a:lnTo>
                  <a:pt x="4087" y="3253"/>
                </a:lnTo>
                <a:lnTo>
                  <a:pt x="4173" y="3220"/>
                </a:lnTo>
                <a:lnTo>
                  <a:pt x="4292" y="319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2" name=""/>
          <p:cNvSpPr/>
          <p:nvPr/>
        </p:nvSpPr>
        <p:spPr>
          <a:xfrm>
            <a:off x="4253040" y="82440"/>
            <a:ext cx="1329120" cy="1152720"/>
          </a:xfrm>
          <a:custGeom>
            <a:avLst/>
            <a:gdLst/>
            <a:ahLst/>
            <a:rect l="0" t="0" r="r" b="b"/>
            <a:pathLst>
              <a:path fill="none" w="3692" h="3202">
                <a:moveTo>
                  <a:pt x="0" y="0"/>
                </a:moveTo>
                <a:lnTo>
                  <a:pt x="39" y="46"/>
                </a:lnTo>
                <a:lnTo>
                  <a:pt x="59" y="105"/>
                </a:lnTo>
                <a:lnTo>
                  <a:pt x="119" y="145"/>
                </a:lnTo>
                <a:lnTo>
                  <a:pt x="178" y="185"/>
                </a:lnTo>
                <a:lnTo>
                  <a:pt x="218" y="244"/>
                </a:lnTo>
                <a:lnTo>
                  <a:pt x="257" y="304"/>
                </a:lnTo>
                <a:lnTo>
                  <a:pt x="317" y="304"/>
                </a:lnTo>
                <a:lnTo>
                  <a:pt x="377" y="383"/>
                </a:lnTo>
                <a:lnTo>
                  <a:pt x="396" y="443"/>
                </a:lnTo>
                <a:lnTo>
                  <a:pt x="416" y="502"/>
                </a:lnTo>
                <a:lnTo>
                  <a:pt x="436" y="562"/>
                </a:lnTo>
                <a:lnTo>
                  <a:pt x="456" y="621"/>
                </a:lnTo>
                <a:lnTo>
                  <a:pt x="515" y="661"/>
                </a:lnTo>
                <a:lnTo>
                  <a:pt x="575" y="701"/>
                </a:lnTo>
                <a:lnTo>
                  <a:pt x="635" y="740"/>
                </a:lnTo>
                <a:lnTo>
                  <a:pt x="694" y="760"/>
                </a:lnTo>
                <a:lnTo>
                  <a:pt x="754" y="800"/>
                </a:lnTo>
                <a:lnTo>
                  <a:pt x="853" y="840"/>
                </a:lnTo>
                <a:lnTo>
                  <a:pt x="912" y="859"/>
                </a:lnTo>
                <a:lnTo>
                  <a:pt x="973" y="899"/>
                </a:lnTo>
                <a:lnTo>
                  <a:pt x="1052" y="939"/>
                </a:lnTo>
                <a:lnTo>
                  <a:pt x="1112" y="978"/>
                </a:lnTo>
                <a:lnTo>
                  <a:pt x="1191" y="998"/>
                </a:lnTo>
                <a:lnTo>
                  <a:pt x="1251" y="1038"/>
                </a:lnTo>
                <a:lnTo>
                  <a:pt x="1310" y="1117"/>
                </a:lnTo>
                <a:lnTo>
                  <a:pt x="1350" y="1177"/>
                </a:lnTo>
                <a:lnTo>
                  <a:pt x="1409" y="1236"/>
                </a:lnTo>
                <a:lnTo>
                  <a:pt x="1489" y="1296"/>
                </a:lnTo>
                <a:lnTo>
                  <a:pt x="1548" y="1336"/>
                </a:lnTo>
                <a:lnTo>
                  <a:pt x="1608" y="1355"/>
                </a:lnTo>
                <a:lnTo>
                  <a:pt x="1667" y="1375"/>
                </a:lnTo>
                <a:lnTo>
                  <a:pt x="1727" y="1395"/>
                </a:lnTo>
                <a:lnTo>
                  <a:pt x="1826" y="1475"/>
                </a:lnTo>
                <a:lnTo>
                  <a:pt x="1886" y="1494"/>
                </a:lnTo>
                <a:lnTo>
                  <a:pt x="1985" y="1554"/>
                </a:lnTo>
                <a:lnTo>
                  <a:pt x="2064" y="1634"/>
                </a:lnTo>
                <a:lnTo>
                  <a:pt x="2124" y="1654"/>
                </a:lnTo>
                <a:lnTo>
                  <a:pt x="2183" y="1714"/>
                </a:lnTo>
                <a:lnTo>
                  <a:pt x="2243" y="1753"/>
                </a:lnTo>
                <a:lnTo>
                  <a:pt x="2302" y="1813"/>
                </a:lnTo>
                <a:lnTo>
                  <a:pt x="2342" y="1872"/>
                </a:lnTo>
                <a:lnTo>
                  <a:pt x="2382" y="1932"/>
                </a:lnTo>
                <a:lnTo>
                  <a:pt x="2461" y="2011"/>
                </a:lnTo>
                <a:lnTo>
                  <a:pt x="2521" y="2051"/>
                </a:lnTo>
                <a:lnTo>
                  <a:pt x="2560" y="2111"/>
                </a:lnTo>
                <a:lnTo>
                  <a:pt x="2620" y="2150"/>
                </a:lnTo>
                <a:lnTo>
                  <a:pt x="2679" y="2230"/>
                </a:lnTo>
                <a:lnTo>
                  <a:pt x="2739" y="2289"/>
                </a:lnTo>
                <a:lnTo>
                  <a:pt x="2799" y="2309"/>
                </a:lnTo>
                <a:lnTo>
                  <a:pt x="2859" y="2369"/>
                </a:lnTo>
                <a:lnTo>
                  <a:pt x="2919" y="2388"/>
                </a:lnTo>
                <a:lnTo>
                  <a:pt x="2978" y="2408"/>
                </a:lnTo>
                <a:lnTo>
                  <a:pt x="3038" y="2408"/>
                </a:lnTo>
                <a:lnTo>
                  <a:pt x="3097" y="2428"/>
                </a:lnTo>
                <a:lnTo>
                  <a:pt x="3177" y="2468"/>
                </a:lnTo>
                <a:lnTo>
                  <a:pt x="3216" y="2527"/>
                </a:lnTo>
                <a:lnTo>
                  <a:pt x="3276" y="2607"/>
                </a:lnTo>
                <a:lnTo>
                  <a:pt x="3335" y="2666"/>
                </a:lnTo>
                <a:lnTo>
                  <a:pt x="3355" y="2726"/>
                </a:lnTo>
                <a:lnTo>
                  <a:pt x="3395" y="2785"/>
                </a:lnTo>
                <a:lnTo>
                  <a:pt x="3454" y="2865"/>
                </a:lnTo>
                <a:lnTo>
                  <a:pt x="3474" y="2924"/>
                </a:lnTo>
                <a:lnTo>
                  <a:pt x="3514" y="2984"/>
                </a:lnTo>
                <a:lnTo>
                  <a:pt x="3554" y="3043"/>
                </a:lnTo>
                <a:lnTo>
                  <a:pt x="3573" y="3103"/>
                </a:lnTo>
                <a:lnTo>
                  <a:pt x="3633" y="3162"/>
                </a:lnTo>
                <a:lnTo>
                  <a:pt x="3692" y="3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3" name=""/>
          <p:cNvSpPr/>
          <p:nvPr/>
        </p:nvSpPr>
        <p:spPr>
          <a:xfrm>
            <a:off x="3898800" y="1852560"/>
            <a:ext cx="1679760" cy="1421280"/>
          </a:xfrm>
          <a:custGeom>
            <a:avLst/>
            <a:gdLst/>
            <a:ahLst/>
            <a:rect l="0" t="0" r="r" b="b"/>
            <a:pathLst>
              <a:path fill="none" w="4666" h="3948">
                <a:moveTo>
                  <a:pt x="0" y="3948"/>
                </a:moveTo>
                <a:lnTo>
                  <a:pt x="33" y="3823"/>
                </a:lnTo>
                <a:lnTo>
                  <a:pt x="271" y="3591"/>
                </a:lnTo>
                <a:lnTo>
                  <a:pt x="528" y="3334"/>
                </a:lnTo>
                <a:lnTo>
                  <a:pt x="694" y="3228"/>
                </a:lnTo>
                <a:lnTo>
                  <a:pt x="912" y="2909"/>
                </a:lnTo>
                <a:lnTo>
                  <a:pt x="1018" y="2637"/>
                </a:lnTo>
                <a:lnTo>
                  <a:pt x="1137" y="2520"/>
                </a:lnTo>
                <a:lnTo>
                  <a:pt x="1269" y="2295"/>
                </a:lnTo>
                <a:lnTo>
                  <a:pt x="1461" y="2023"/>
                </a:lnTo>
                <a:lnTo>
                  <a:pt x="1672" y="1567"/>
                </a:lnTo>
                <a:lnTo>
                  <a:pt x="1970" y="1357"/>
                </a:lnTo>
                <a:lnTo>
                  <a:pt x="2082" y="1362"/>
                </a:lnTo>
                <a:lnTo>
                  <a:pt x="2254" y="1467"/>
                </a:lnTo>
                <a:lnTo>
                  <a:pt x="2307" y="1567"/>
                </a:lnTo>
                <a:lnTo>
                  <a:pt x="2447" y="1660"/>
                </a:lnTo>
                <a:lnTo>
                  <a:pt x="2645" y="1746"/>
                </a:lnTo>
                <a:lnTo>
                  <a:pt x="2764" y="1673"/>
                </a:lnTo>
                <a:lnTo>
                  <a:pt x="2982" y="1389"/>
                </a:lnTo>
                <a:lnTo>
                  <a:pt x="3029" y="1350"/>
                </a:lnTo>
                <a:lnTo>
                  <a:pt x="3101" y="1335"/>
                </a:lnTo>
                <a:lnTo>
                  <a:pt x="3209" y="1291"/>
                </a:lnTo>
                <a:lnTo>
                  <a:pt x="3273" y="1220"/>
                </a:lnTo>
                <a:lnTo>
                  <a:pt x="3315" y="1149"/>
                </a:lnTo>
                <a:lnTo>
                  <a:pt x="3361" y="1036"/>
                </a:lnTo>
                <a:lnTo>
                  <a:pt x="3427" y="997"/>
                </a:lnTo>
                <a:lnTo>
                  <a:pt x="3529" y="964"/>
                </a:lnTo>
                <a:lnTo>
                  <a:pt x="3546" y="969"/>
                </a:lnTo>
                <a:lnTo>
                  <a:pt x="3665" y="957"/>
                </a:lnTo>
                <a:lnTo>
                  <a:pt x="3721" y="935"/>
                </a:lnTo>
                <a:lnTo>
                  <a:pt x="3784" y="864"/>
                </a:lnTo>
                <a:lnTo>
                  <a:pt x="3848" y="839"/>
                </a:lnTo>
                <a:lnTo>
                  <a:pt x="3912" y="793"/>
                </a:lnTo>
                <a:lnTo>
                  <a:pt x="3998" y="697"/>
                </a:lnTo>
                <a:lnTo>
                  <a:pt x="4062" y="651"/>
                </a:lnTo>
                <a:lnTo>
                  <a:pt x="4126" y="626"/>
                </a:lnTo>
                <a:lnTo>
                  <a:pt x="4168" y="555"/>
                </a:lnTo>
                <a:lnTo>
                  <a:pt x="4232" y="509"/>
                </a:lnTo>
                <a:lnTo>
                  <a:pt x="4254" y="438"/>
                </a:lnTo>
                <a:lnTo>
                  <a:pt x="4298" y="342"/>
                </a:lnTo>
                <a:lnTo>
                  <a:pt x="4362" y="271"/>
                </a:lnTo>
                <a:lnTo>
                  <a:pt x="4426" y="200"/>
                </a:lnTo>
                <a:lnTo>
                  <a:pt x="4490" y="105"/>
                </a:lnTo>
                <a:lnTo>
                  <a:pt x="4554" y="34"/>
                </a:lnTo>
                <a:lnTo>
                  <a:pt x="4618" y="12"/>
                </a:lnTo>
                <a:lnTo>
                  <a:pt x="466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4" name=""/>
          <p:cNvSpPr/>
          <p:nvPr/>
        </p:nvSpPr>
        <p:spPr>
          <a:xfrm>
            <a:off x="3949560" y="1908000"/>
            <a:ext cx="1632240" cy="1365480"/>
          </a:xfrm>
          <a:custGeom>
            <a:avLst/>
            <a:gdLst/>
            <a:ahLst/>
            <a:rect l="0" t="0" r="r" b="b"/>
            <a:pathLst>
              <a:path fill="none" w="4534" h="3793">
                <a:moveTo>
                  <a:pt x="4534" y="0"/>
                </a:moveTo>
                <a:lnTo>
                  <a:pt x="4492" y="63"/>
                </a:lnTo>
                <a:lnTo>
                  <a:pt x="4428" y="127"/>
                </a:lnTo>
                <a:lnTo>
                  <a:pt x="4364" y="171"/>
                </a:lnTo>
                <a:lnTo>
                  <a:pt x="4320" y="235"/>
                </a:lnTo>
                <a:lnTo>
                  <a:pt x="4278" y="299"/>
                </a:lnTo>
                <a:lnTo>
                  <a:pt x="4236" y="363"/>
                </a:lnTo>
                <a:lnTo>
                  <a:pt x="4192" y="427"/>
                </a:lnTo>
                <a:lnTo>
                  <a:pt x="4150" y="491"/>
                </a:lnTo>
                <a:lnTo>
                  <a:pt x="4086" y="533"/>
                </a:lnTo>
                <a:lnTo>
                  <a:pt x="4022" y="597"/>
                </a:lnTo>
                <a:lnTo>
                  <a:pt x="3958" y="641"/>
                </a:lnTo>
                <a:lnTo>
                  <a:pt x="3894" y="705"/>
                </a:lnTo>
                <a:lnTo>
                  <a:pt x="3808" y="747"/>
                </a:lnTo>
                <a:lnTo>
                  <a:pt x="3744" y="811"/>
                </a:lnTo>
                <a:lnTo>
                  <a:pt x="3680" y="833"/>
                </a:lnTo>
                <a:lnTo>
                  <a:pt x="3649" y="890"/>
                </a:lnTo>
                <a:lnTo>
                  <a:pt x="3605" y="930"/>
                </a:lnTo>
                <a:lnTo>
                  <a:pt x="3539" y="956"/>
                </a:lnTo>
                <a:lnTo>
                  <a:pt x="3504" y="987"/>
                </a:lnTo>
                <a:lnTo>
                  <a:pt x="3459" y="1040"/>
                </a:lnTo>
                <a:lnTo>
                  <a:pt x="3362" y="1128"/>
                </a:lnTo>
                <a:lnTo>
                  <a:pt x="3279" y="1177"/>
                </a:lnTo>
                <a:lnTo>
                  <a:pt x="3217" y="1212"/>
                </a:lnTo>
                <a:lnTo>
                  <a:pt x="3173" y="1265"/>
                </a:lnTo>
                <a:lnTo>
                  <a:pt x="3111" y="1309"/>
                </a:lnTo>
                <a:lnTo>
                  <a:pt x="3089" y="1375"/>
                </a:lnTo>
                <a:lnTo>
                  <a:pt x="3018" y="1428"/>
                </a:lnTo>
                <a:lnTo>
                  <a:pt x="2956" y="1521"/>
                </a:lnTo>
                <a:lnTo>
                  <a:pt x="2859" y="1569"/>
                </a:lnTo>
                <a:lnTo>
                  <a:pt x="2811" y="1631"/>
                </a:lnTo>
                <a:lnTo>
                  <a:pt x="2731" y="1697"/>
                </a:lnTo>
                <a:lnTo>
                  <a:pt x="2648" y="1737"/>
                </a:lnTo>
                <a:lnTo>
                  <a:pt x="2581" y="1755"/>
                </a:lnTo>
                <a:lnTo>
                  <a:pt x="2506" y="1746"/>
                </a:lnTo>
                <a:lnTo>
                  <a:pt x="2392" y="1737"/>
                </a:lnTo>
                <a:lnTo>
                  <a:pt x="2315" y="1642"/>
                </a:lnTo>
                <a:lnTo>
                  <a:pt x="2250" y="1600"/>
                </a:lnTo>
                <a:lnTo>
                  <a:pt x="2186" y="1536"/>
                </a:lnTo>
                <a:lnTo>
                  <a:pt x="2119" y="1494"/>
                </a:lnTo>
                <a:lnTo>
                  <a:pt x="2077" y="1430"/>
                </a:lnTo>
                <a:lnTo>
                  <a:pt x="2014" y="1408"/>
                </a:lnTo>
                <a:lnTo>
                  <a:pt x="1950" y="1386"/>
                </a:lnTo>
                <a:lnTo>
                  <a:pt x="1888" y="1318"/>
                </a:lnTo>
                <a:lnTo>
                  <a:pt x="1800" y="1386"/>
                </a:lnTo>
                <a:lnTo>
                  <a:pt x="1758" y="1450"/>
                </a:lnTo>
                <a:lnTo>
                  <a:pt x="1716" y="1514"/>
                </a:lnTo>
                <a:lnTo>
                  <a:pt x="1672" y="1578"/>
                </a:lnTo>
                <a:lnTo>
                  <a:pt x="1608" y="1642"/>
                </a:lnTo>
                <a:lnTo>
                  <a:pt x="1566" y="1708"/>
                </a:lnTo>
                <a:lnTo>
                  <a:pt x="1502" y="1772"/>
                </a:lnTo>
                <a:lnTo>
                  <a:pt x="1458" y="1836"/>
                </a:lnTo>
                <a:lnTo>
                  <a:pt x="1416" y="1901"/>
                </a:lnTo>
                <a:lnTo>
                  <a:pt x="1352" y="1965"/>
                </a:lnTo>
                <a:lnTo>
                  <a:pt x="1330" y="2029"/>
                </a:lnTo>
                <a:lnTo>
                  <a:pt x="1288" y="2093"/>
                </a:lnTo>
                <a:lnTo>
                  <a:pt x="1224" y="2177"/>
                </a:lnTo>
                <a:lnTo>
                  <a:pt x="1182" y="2241"/>
                </a:lnTo>
                <a:lnTo>
                  <a:pt x="1118" y="2305"/>
                </a:lnTo>
                <a:lnTo>
                  <a:pt x="1074" y="2371"/>
                </a:lnTo>
                <a:lnTo>
                  <a:pt x="1032" y="2435"/>
                </a:lnTo>
                <a:lnTo>
                  <a:pt x="990" y="2499"/>
                </a:lnTo>
                <a:lnTo>
                  <a:pt x="946" y="2563"/>
                </a:lnTo>
                <a:lnTo>
                  <a:pt x="904" y="2626"/>
                </a:lnTo>
                <a:lnTo>
                  <a:pt x="862" y="2690"/>
                </a:lnTo>
                <a:lnTo>
                  <a:pt x="818" y="2754"/>
                </a:lnTo>
                <a:lnTo>
                  <a:pt x="776" y="2818"/>
                </a:lnTo>
                <a:lnTo>
                  <a:pt x="754" y="2882"/>
                </a:lnTo>
                <a:lnTo>
                  <a:pt x="712" y="2946"/>
                </a:lnTo>
                <a:lnTo>
                  <a:pt x="668" y="3010"/>
                </a:lnTo>
                <a:lnTo>
                  <a:pt x="626" y="3074"/>
                </a:lnTo>
                <a:lnTo>
                  <a:pt x="562" y="3160"/>
                </a:lnTo>
                <a:lnTo>
                  <a:pt x="520" y="3224"/>
                </a:lnTo>
                <a:lnTo>
                  <a:pt x="456" y="3244"/>
                </a:lnTo>
                <a:lnTo>
                  <a:pt x="392" y="3288"/>
                </a:lnTo>
                <a:lnTo>
                  <a:pt x="348" y="3352"/>
                </a:lnTo>
                <a:lnTo>
                  <a:pt x="284" y="3394"/>
                </a:lnTo>
                <a:lnTo>
                  <a:pt x="220" y="3458"/>
                </a:lnTo>
                <a:lnTo>
                  <a:pt x="178" y="3522"/>
                </a:lnTo>
                <a:lnTo>
                  <a:pt x="114" y="3586"/>
                </a:lnTo>
                <a:lnTo>
                  <a:pt x="70" y="3650"/>
                </a:lnTo>
                <a:lnTo>
                  <a:pt x="28" y="3713"/>
                </a:lnTo>
                <a:lnTo>
                  <a:pt x="0" y="37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"/>
          <p:cNvSpPr/>
          <p:nvPr/>
        </p:nvSpPr>
        <p:spPr>
          <a:xfrm>
            <a:off x="4008600" y="2065320"/>
            <a:ext cx="1575000" cy="1208520"/>
          </a:xfrm>
          <a:custGeom>
            <a:avLst/>
            <a:gdLst/>
            <a:ahLst/>
            <a:rect l="0" t="0" r="r" b="b"/>
            <a:pathLst>
              <a:path fill="none" w="4375" h="3357">
                <a:moveTo>
                  <a:pt x="4375" y="0"/>
                </a:moveTo>
                <a:lnTo>
                  <a:pt x="4326" y="13"/>
                </a:lnTo>
                <a:lnTo>
                  <a:pt x="4262" y="33"/>
                </a:lnTo>
                <a:lnTo>
                  <a:pt x="4199" y="77"/>
                </a:lnTo>
                <a:lnTo>
                  <a:pt x="4135" y="97"/>
                </a:lnTo>
                <a:lnTo>
                  <a:pt x="4071" y="141"/>
                </a:lnTo>
                <a:lnTo>
                  <a:pt x="4027" y="224"/>
                </a:lnTo>
                <a:lnTo>
                  <a:pt x="3963" y="288"/>
                </a:lnTo>
                <a:lnTo>
                  <a:pt x="3899" y="352"/>
                </a:lnTo>
                <a:lnTo>
                  <a:pt x="3835" y="396"/>
                </a:lnTo>
                <a:lnTo>
                  <a:pt x="3771" y="460"/>
                </a:lnTo>
                <a:lnTo>
                  <a:pt x="3707" y="502"/>
                </a:lnTo>
                <a:lnTo>
                  <a:pt x="3665" y="566"/>
                </a:lnTo>
                <a:lnTo>
                  <a:pt x="3630" y="648"/>
                </a:lnTo>
                <a:lnTo>
                  <a:pt x="3586" y="727"/>
                </a:lnTo>
                <a:lnTo>
                  <a:pt x="3475" y="784"/>
                </a:lnTo>
                <a:lnTo>
                  <a:pt x="3356" y="815"/>
                </a:lnTo>
                <a:lnTo>
                  <a:pt x="3279" y="845"/>
                </a:lnTo>
                <a:lnTo>
                  <a:pt x="3215" y="909"/>
                </a:lnTo>
                <a:lnTo>
                  <a:pt x="3151" y="973"/>
                </a:lnTo>
                <a:lnTo>
                  <a:pt x="3109" y="1037"/>
                </a:lnTo>
                <a:lnTo>
                  <a:pt x="3045" y="1079"/>
                </a:lnTo>
                <a:lnTo>
                  <a:pt x="3004" y="1143"/>
                </a:lnTo>
                <a:lnTo>
                  <a:pt x="2940" y="1187"/>
                </a:lnTo>
                <a:lnTo>
                  <a:pt x="2876" y="1229"/>
                </a:lnTo>
                <a:lnTo>
                  <a:pt x="2812" y="1273"/>
                </a:lnTo>
                <a:lnTo>
                  <a:pt x="2748" y="1293"/>
                </a:lnTo>
                <a:lnTo>
                  <a:pt x="2684" y="1315"/>
                </a:lnTo>
                <a:lnTo>
                  <a:pt x="2618" y="1356"/>
                </a:lnTo>
                <a:lnTo>
                  <a:pt x="2554" y="1379"/>
                </a:lnTo>
                <a:lnTo>
                  <a:pt x="2490" y="1379"/>
                </a:lnTo>
                <a:lnTo>
                  <a:pt x="2426" y="1401"/>
                </a:lnTo>
                <a:lnTo>
                  <a:pt x="2362" y="1420"/>
                </a:lnTo>
                <a:lnTo>
                  <a:pt x="2278" y="1442"/>
                </a:lnTo>
                <a:lnTo>
                  <a:pt x="2169" y="1442"/>
                </a:lnTo>
                <a:lnTo>
                  <a:pt x="2105" y="1420"/>
                </a:lnTo>
                <a:lnTo>
                  <a:pt x="2041" y="1379"/>
                </a:lnTo>
                <a:lnTo>
                  <a:pt x="1977" y="1356"/>
                </a:lnTo>
                <a:lnTo>
                  <a:pt x="1913" y="1315"/>
                </a:lnTo>
                <a:lnTo>
                  <a:pt x="1849" y="1293"/>
                </a:lnTo>
                <a:lnTo>
                  <a:pt x="1785" y="1273"/>
                </a:lnTo>
                <a:lnTo>
                  <a:pt x="1721" y="1251"/>
                </a:lnTo>
                <a:lnTo>
                  <a:pt x="1649" y="1185"/>
                </a:lnTo>
                <a:lnTo>
                  <a:pt x="1572" y="1251"/>
                </a:lnTo>
                <a:lnTo>
                  <a:pt x="1508" y="1273"/>
                </a:lnTo>
                <a:lnTo>
                  <a:pt x="1466" y="1337"/>
                </a:lnTo>
                <a:lnTo>
                  <a:pt x="1402" y="1379"/>
                </a:lnTo>
                <a:lnTo>
                  <a:pt x="1338" y="1420"/>
                </a:lnTo>
                <a:lnTo>
                  <a:pt x="1274" y="1484"/>
                </a:lnTo>
                <a:lnTo>
                  <a:pt x="1252" y="1548"/>
                </a:lnTo>
                <a:lnTo>
                  <a:pt x="1210" y="1612"/>
                </a:lnTo>
                <a:lnTo>
                  <a:pt x="1166" y="1676"/>
                </a:lnTo>
                <a:lnTo>
                  <a:pt x="1124" y="1740"/>
                </a:lnTo>
                <a:lnTo>
                  <a:pt x="1082" y="1804"/>
                </a:lnTo>
                <a:lnTo>
                  <a:pt x="1038" y="1868"/>
                </a:lnTo>
                <a:lnTo>
                  <a:pt x="996" y="1934"/>
                </a:lnTo>
                <a:lnTo>
                  <a:pt x="954" y="1998"/>
                </a:lnTo>
                <a:lnTo>
                  <a:pt x="910" y="2062"/>
                </a:lnTo>
                <a:lnTo>
                  <a:pt x="868" y="2126"/>
                </a:lnTo>
                <a:lnTo>
                  <a:pt x="826" y="2190"/>
                </a:lnTo>
                <a:lnTo>
                  <a:pt x="782" y="2254"/>
                </a:lnTo>
                <a:lnTo>
                  <a:pt x="762" y="2318"/>
                </a:lnTo>
                <a:lnTo>
                  <a:pt x="698" y="2382"/>
                </a:lnTo>
                <a:lnTo>
                  <a:pt x="676" y="2446"/>
                </a:lnTo>
                <a:lnTo>
                  <a:pt x="612" y="2510"/>
                </a:lnTo>
                <a:lnTo>
                  <a:pt x="568" y="2575"/>
                </a:lnTo>
                <a:lnTo>
                  <a:pt x="549" y="2639"/>
                </a:lnTo>
                <a:lnTo>
                  <a:pt x="526" y="2702"/>
                </a:lnTo>
                <a:lnTo>
                  <a:pt x="463" y="2766"/>
                </a:lnTo>
                <a:lnTo>
                  <a:pt x="399" y="2830"/>
                </a:lnTo>
                <a:lnTo>
                  <a:pt x="335" y="2894"/>
                </a:lnTo>
                <a:lnTo>
                  <a:pt x="271" y="2958"/>
                </a:lnTo>
                <a:lnTo>
                  <a:pt x="229" y="3022"/>
                </a:lnTo>
                <a:lnTo>
                  <a:pt x="165" y="3064"/>
                </a:lnTo>
                <a:lnTo>
                  <a:pt x="121" y="3128"/>
                </a:lnTo>
                <a:lnTo>
                  <a:pt x="79" y="3192"/>
                </a:lnTo>
                <a:lnTo>
                  <a:pt x="37" y="3258"/>
                </a:lnTo>
                <a:lnTo>
                  <a:pt x="0" y="33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"/>
          <p:cNvSpPr/>
          <p:nvPr/>
        </p:nvSpPr>
        <p:spPr>
          <a:xfrm>
            <a:off x="4091040" y="2244600"/>
            <a:ext cx="1492560" cy="1027440"/>
          </a:xfrm>
          <a:custGeom>
            <a:avLst/>
            <a:gdLst/>
            <a:ahLst/>
            <a:rect l="0" t="0" r="r" b="b"/>
            <a:pathLst>
              <a:path fill="none" w="4146" h="2854">
                <a:moveTo>
                  <a:pt x="4146" y="0"/>
                </a:moveTo>
                <a:lnTo>
                  <a:pt x="4097" y="46"/>
                </a:lnTo>
                <a:lnTo>
                  <a:pt x="4033" y="68"/>
                </a:lnTo>
                <a:lnTo>
                  <a:pt x="3969" y="90"/>
                </a:lnTo>
                <a:lnTo>
                  <a:pt x="3905" y="112"/>
                </a:lnTo>
                <a:lnTo>
                  <a:pt x="3841" y="154"/>
                </a:lnTo>
                <a:lnTo>
                  <a:pt x="3777" y="176"/>
                </a:lnTo>
                <a:lnTo>
                  <a:pt x="3711" y="240"/>
                </a:lnTo>
                <a:lnTo>
                  <a:pt x="3669" y="304"/>
                </a:lnTo>
                <a:lnTo>
                  <a:pt x="3605" y="346"/>
                </a:lnTo>
                <a:lnTo>
                  <a:pt x="3542" y="388"/>
                </a:lnTo>
                <a:lnTo>
                  <a:pt x="3478" y="432"/>
                </a:lnTo>
                <a:lnTo>
                  <a:pt x="3414" y="474"/>
                </a:lnTo>
                <a:lnTo>
                  <a:pt x="3350" y="496"/>
                </a:lnTo>
                <a:lnTo>
                  <a:pt x="3286" y="537"/>
                </a:lnTo>
                <a:lnTo>
                  <a:pt x="3222" y="579"/>
                </a:lnTo>
                <a:lnTo>
                  <a:pt x="3158" y="643"/>
                </a:lnTo>
                <a:lnTo>
                  <a:pt x="3072" y="707"/>
                </a:lnTo>
                <a:lnTo>
                  <a:pt x="3008" y="751"/>
                </a:lnTo>
                <a:lnTo>
                  <a:pt x="2922" y="793"/>
                </a:lnTo>
                <a:lnTo>
                  <a:pt x="2838" y="857"/>
                </a:lnTo>
                <a:lnTo>
                  <a:pt x="2774" y="901"/>
                </a:lnTo>
                <a:lnTo>
                  <a:pt x="2710" y="943"/>
                </a:lnTo>
                <a:lnTo>
                  <a:pt x="2624" y="985"/>
                </a:lnTo>
                <a:lnTo>
                  <a:pt x="2560" y="1029"/>
                </a:lnTo>
                <a:lnTo>
                  <a:pt x="2496" y="1049"/>
                </a:lnTo>
                <a:lnTo>
                  <a:pt x="2432" y="1071"/>
                </a:lnTo>
                <a:lnTo>
                  <a:pt x="2369" y="1071"/>
                </a:lnTo>
                <a:lnTo>
                  <a:pt x="2283" y="1093"/>
                </a:lnTo>
                <a:lnTo>
                  <a:pt x="2197" y="1113"/>
                </a:lnTo>
                <a:lnTo>
                  <a:pt x="2133" y="1113"/>
                </a:lnTo>
                <a:lnTo>
                  <a:pt x="2048" y="1113"/>
                </a:lnTo>
                <a:lnTo>
                  <a:pt x="1984" y="1135"/>
                </a:lnTo>
                <a:lnTo>
                  <a:pt x="1920" y="1135"/>
                </a:lnTo>
                <a:lnTo>
                  <a:pt x="1856" y="1113"/>
                </a:lnTo>
                <a:lnTo>
                  <a:pt x="1792" y="1093"/>
                </a:lnTo>
                <a:lnTo>
                  <a:pt x="1726" y="1093"/>
                </a:lnTo>
                <a:lnTo>
                  <a:pt x="1662" y="1071"/>
                </a:lnTo>
                <a:lnTo>
                  <a:pt x="1578" y="1029"/>
                </a:lnTo>
                <a:lnTo>
                  <a:pt x="1514" y="1007"/>
                </a:lnTo>
                <a:lnTo>
                  <a:pt x="1426" y="978"/>
                </a:lnTo>
                <a:lnTo>
                  <a:pt x="1349" y="923"/>
                </a:lnTo>
                <a:lnTo>
                  <a:pt x="1274" y="963"/>
                </a:lnTo>
                <a:lnTo>
                  <a:pt x="1172" y="1029"/>
                </a:lnTo>
                <a:lnTo>
                  <a:pt x="1109" y="1049"/>
                </a:lnTo>
                <a:lnTo>
                  <a:pt x="1064" y="1113"/>
                </a:lnTo>
                <a:lnTo>
                  <a:pt x="1001" y="1177"/>
                </a:lnTo>
                <a:lnTo>
                  <a:pt x="959" y="1241"/>
                </a:lnTo>
                <a:lnTo>
                  <a:pt x="937" y="1305"/>
                </a:lnTo>
                <a:lnTo>
                  <a:pt x="895" y="1369"/>
                </a:lnTo>
                <a:lnTo>
                  <a:pt x="853" y="1436"/>
                </a:lnTo>
                <a:lnTo>
                  <a:pt x="831" y="1500"/>
                </a:lnTo>
                <a:lnTo>
                  <a:pt x="767" y="1542"/>
                </a:lnTo>
                <a:lnTo>
                  <a:pt x="725" y="1628"/>
                </a:lnTo>
                <a:lnTo>
                  <a:pt x="661" y="1692"/>
                </a:lnTo>
                <a:lnTo>
                  <a:pt x="639" y="1756"/>
                </a:lnTo>
                <a:lnTo>
                  <a:pt x="597" y="1820"/>
                </a:lnTo>
                <a:lnTo>
                  <a:pt x="553" y="1883"/>
                </a:lnTo>
                <a:lnTo>
                  <a:pt x="511" y="1947"/>
                </a:lnTo>
                <a:lnTo>
                  <a:pt x="489" y="2011"/>
                </a:lnTo>
                <a:lnTo>
                  <a:pt x="447" y="2075"/>
                </a:lnTo>
                <a:lnTo>
                  <a:pt x="403" y="2139"/>
                </a:lnTo>
                <a:lnTo>
                  <a:pt x="361" y="2203"/>
                </a:lnTo>
                <a:lnTo>
                  <a:pt x="339" y="2267"/>
                </a:lnTo>
                <a:lnTo>
                  <a:pt x="297" y="2331"/>
                </a:lnTo>
                <a:lnTo>
                  <a:pt x="255" y="2395"/>
                </a:lnTo>
                <a:lnTo>
                  <a:pt x="211" y="2459"/>
                </a:lnTo>
                <a:lnTo>
                  <a:pt x="169" y="2523"/>
                </a:lnTo>
                <a:lnTo>
                  <a:pt x="127" y="2587"/>
                </a:lnTo>
                <a:lnTo>
                  <a:pt x="83" y="2651"/>
                </a:lnTo>
                <a:lnTo>
                  <a:pt x="63" y="2715"/>
                </a:lnTo>
                <a:lnTo>
                  <a:pt x="19" y="2779"/>
                </a:lnTo>
                <a:lnTo>
                  <a:pt x="0" y="285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7" name=""/>
          <p:cNvSpPr/>
          <p:nvPr/>
        </p:nvSpPr>
        <p:spPr>
          <a:xfrm>
            <a:off x="4124160" y="2502000"/>
            <a:ext cx="1459440" cy="771840"/>
          </a:xfrm>
          <a:custGeom>
            <a:avLst/>
            <a:gdLst/>
            <a:ahLst/>
            <a:rect l="0" t="0" r="r" b="b"/>
            <a:pathLst>
              <a:path fill="none" w="4054" h="2144">
                <a:moveTo>
                  <a:pt x="4054" y="0"/>
                </a:moveTo>
                <a:lnTo>
                  <a:pt x="4006" y="15"/>
                </a:lnTo>
                <a:lnTo>
                  <a:pt x="3942" y="37"/>
                </a:lnTo>
                <a:lnTo>
                  <a:pt x="3878" y="79"/>
                </a:lnTo>
                <a:lnTo>
                  <a:pt x="3814" y="123"/>
                </a:lnTo>
                <a:lnTo>
                  <a:pt x="3750" y="165"/>
                </a:lnTo>
                <a:lnTo>
                  <a:pt x="3686" y="207"/>
                </a:lnTo>
                <a:lnTo>
                  <a:pt x="3620" y="251"/>
                </a:lnTo>
                <a:lnTo>
                  <a:pt x="3556" y="293"/>
                </a:lnTo>
                <a:lnTo>
                  <a:pt x="3472" y="357"/>
                </a:lnTo>
                <a:lnTo>
                  <a:pt x="3386" y="399"/>
                </a:lnTo>
                <a:lnTo>
                  <a:pt x="3322" y="443"/>
                </a:lnTo>
                <a:lnTo>
                  <a:pt x="3258" y="485"/>
                </a:lnTo>
                <a:lnTo>
                  <a:pt x="3152" y="526"/>
                </a:lnTo>
                <a:lnTo>
                  <a:pt x="3066" y="549"/>
                </a:lnTo>
                <a:lnTo>
                  <a:pt x="3001" y="571"/>
                </a:lnTo>
                <a:lnTo>
                  <a:pt x="2937" y="590"/>
                </a:lnTo>
                <a:lnTo>
                  <a:pt x="2809" y="612"/>
                </a:lnTo>
                <a:lnTo>
                  <a:pt x="2724" y="635"/>
                </a:lnTo>
                <a:lnTo>
                  <a:pt x="2510" y="635"/>
                </a:lnTo>
                <a:lnTo>
                  <a:pt x="2446" y="635"/>
                </a:lnTo>
                <a:lnTo>
                  <a:pt x="2382" y="654"/>
                </a:lnTo>
                <a:lnTo>
                  <a:pt x="2318" y="654"/>
                </a:lnTo>
                <a:lnTo>
                  <a:pt x="2232" y="654"/>
                </a:lnTo>
                <a:lnTo>
                  <a:pt x="2168" y="654"/>
                </a:lnTo>
                <a:lnTo>
                  <a:pt x="2104" y="654"/>
                </a:lnTo>
                <a:lnTo>
                  <a:pt x="2020" y="635"/>
                </a:lnTo>
                <a:lnTo>
                  <a:pt x="1934" y="635"/>
                </a:lnTo>
                <a:lnTo>
                  <a:pt x="1828" y="635"/>
                </a:lnTo>
                <a:lnTo>
                  <a:pt x="1764" y="635"/>
                </a:lnTo>
                <a:lnTo>
                  <a:pt x="1678" y="612"/>
                </a:lnTo>
                <a:lnTo>
                  <a:pt x="1614" y="590"/>
                </a:lnTo>
                <a:lnTo>
                  <a:pt x="1551" y="571"/>
                </a:lnTo>
                <a:lnTo>
                  <a:pt x="1423" y="571"/>
                </a:lnTo>
                <a:lnTo>
                  <a:pt x="1359" y="571"/>
                </a:lnTo>
                <a:lnTo>
                  <a:pt x="1290" y="535"/>
                </a:lnTo>
                <a:lnTo>
                  <a:pt x="1198" y="606"/>
                </a:lnTo>
                <a:lnTo>
                  <a:pt x="1138" y="646"/>
                </a:lnTo>
                <a:lnTo>
                  <a:pt x="1103" y="720"/>
                </a:lnTo>
                <a:lnTo>
                  <a:pt x="1039" y="762"/>
                </a:lnTo>
                <a:lnTo>
                  <a:pt x="972" y="826"/>
                </a:lnTo>
                <a:lnTo>
                  <a:pt x="908" y="890"/>
                </a:lnTo>
                <a:lnTo>
                  <a:pt x="866" y="954"/>
                </a:lnTo>
                <a:lnTo>
                  <a:pt x="802" y="1018"/>
                </a:lnTo>
                <a:lnTo>
                  <a:pt x="738" y="1060"/>
                </a:lnTo>
                <a:lnTo>
                  <a:pt x="674" y="1125"/>
                </a:lnTo>
                <a:lnTo>
                  <a:pt x="610" y="1169"/>
                </a:lnTo>
                <a:lnTo>
                  <a:pt x="568" y="1233"/>
                </a:lnTo>
                <a:lnTo>
                  <a:pt x="482" y="1317"/>
                </a:lnTo>
                <a:lnTo>
                  <a:pt x="440" y="1383"/>
                </a:lnTo>
                <a:lnTo>
                  <a:pt x="418" y="1447"/>
                </a:lnTo>
                <a:lnTo>
                  <a:pt x="377" y="1511"/>
                </a:lnTo>
                <a:lnTo>
                  <a:pt x="354" y="1575"/>
                </a:lnTo>
                <a:lnTo>
                  <a:pt x="310" y="1639"/>
                </a:lnTo>
                <a:lnTo>
                  <a:pt x="268" y="1703"/>
                </a:lnTo>
                <a:lnTo>
                  <a:pt x="246" y="1767"/>
                </a:lnTo>
                <a:lnTo>
                  <a:pt x="205" y="1831"/>
                </a:lnTo>
                <a:lnTo>
                  <a:pt x="183" y="1894"/>
                </a:lnTo>
                <a:lnTo>
                  <a:pt x="99" y="1978"/>
                </a:lnTo>
                <a:lnTo>
                  <a:pt x="55" y="2044"/>
                </a:lnTo>
                <a:lnTo>
                  <a:pt x="0" y="214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"/>
          <p:cNvSpPr/>
          <p:nvPr/>
        </p:nvSpPr>
        <p:spPr>
          <a:xfrm>
            <a:off x="4175280" y="2716200"/>
            <a:ext cx="1408320" cy="560880"/>
          </a:xfrm>
          <a:custGeom>
            <a:avLst/>
            <a:gdLst/>
            <a:ahLst/>
            <a:rect l="0" t="0" r="r" b="b"/>
            <a:pathLst>
              <a:path fill="none" w="3912" h="1558">
                <a:moveTo>
                  <a:pt x="3912" y="0"/>
                </a:moveTo>
                <a:lnTo>
                  <a:pt x="3863" y="17"/>
                </a:lnTo>
                <a:lnTo>
                  <a:pt x="3819" y="81"/>
                </a:lnTo>
                <a:lnTo>
                  <a:pt x="3755" y="125"/>
                </a:lnTo>
                <a:lnTo>
                  <a:pt x="3691" y="167"/>
                </a:lnTo>
                <a:lnTo>
                  <a:pt x="3608" y="253"/>
                </a:lnTo>
                <a:lnTo>
                  <a:pt x="3500" y="317"/>
                </a:lnTo>
                <a:lnTo>
                  <a:pt x="3436" y="337"/>
                </a:lnTo>
                <a:lnTo>
                  <a:pt x="3372" y="359"/>
                </a:lnTo>
                <a:lnTo>
                  <a:pt x="3266" y="359"/>
                </a:lnTo>
                <a:lnTo>
                  <a:pt x="3202" y="359"/>
                </a:lnTo>
                <a:lnTo>
                  <a:pt x="3138" y="359"/>
                </a:lnTo>
                <a:lnTo>
                  <a:pt x="2541" y="337"/>
                </a:lnTo>
                <a:lnTo>
                  <a:pt x="2432" y="337"/>
                </a:lnTo>
                <a:lnTo>
                  <a:pt x="2369" y="337"/>
                </a:lnTo>
                <a:lnTo>
                  <a:pt x="2155" y="317"/>
                </a:lnTo>
                <a:lnTo>
                  <a:pt x="2071" y="295"/>
                </a:lnTo>
                <a:lnTo>
                  <a:pt x="2007" y="295"/>
                </a:lnTo>
                <a:lnTo>
                  <a:pt x="1942" y="253"/>
                </a:lnTo>
                <a:lnTo>
                  <a:pt x="1856" y="231"/>
                </a:lnTo>
                <a:lnTo>
                  <a:pt x="1770" y="231"/>
                </a:lnTo>
                <a:lnTo>
                  <a:pt x="1706" y="231"/>
                </a:lnTo>
                <a:lnTo>
                  <a:pt x="1622" y="231"/>
                </a:lnTo>
                <a:lnTo>
                  <a:pt x="1558" y="231"/>
                </a:lnTo>
                <a:lnTo>
                  <a:pt x="1472" y="231"/>
                </a:lnTo>
                <a:lnTo>
                  <a:pt x="1408" y="231"/>
                </a:lnTo>
                <a:lnTo>
                  <a:pt x="1344" y="231"/>
                </a:lnTo>
                <a:lnTo>
                  <a:pt x="1281" y="231"/>
                </a:lnTo>
                <a:lnTo>
                  <a:pt x="1217" y="231"/>
                </a:lnTo>
                <a:lnTo>
                  <a:pt x="1153" y="253"/>
                </a:lnTo>
                <a:lnTo>
                  <a:pt x="1089" y="273"/>
                </a:lnTo>
                <a:lnTo>
                  <a:pt x="1003" y="295"/>
                </a:lnTo>
                <a:lnTo>
                  <a:pt x="939" y="317"/>
                </a:lnTo>
                <a:lnTo>
                  <a:pt x="875" y="337"/>
                </a:lnTo>
                <a:lnTo>
                  <a:pt x="811" y="381"/>
                </a:lnTo>
                <a:lnTo>
                  <a:pt x="747" y="424"/>
                </a:lnTo>
                <a:lnTo>
                  <a:pt x="703" y="488"/>
                </a:lnTo>
                <a:lnTo>
                  <a:pt x="639" y="511"/>
                </a:lnTo>
                <a:lnTo>
                  <a:pt x="575" y="552"/>
                </a:lnTo>
                <a:lnTo>
                  <a:pt x="533" y="617"/>
                </a:lnTo>
                <a:lnTo>
                  <a:pt x="491" y="681"/>
                </a:lnTo>
                <a:lnTo>
                  <a:pt x="427" y="745"/>
                </a:lnTo>
                <a:lnTo>
                  <a:pt x="363" y="831"/>
                </a:lnTo>
                <a:lnTo>
                  <a:pt x="319" y="895"/>
                </a:lnTo>
                <a:lnTo>
                  <a:pt x="277" y="959"/>
                </a:lnTo>
                <a:lnTo>
                  <a:pt x="255" y="1023"/>
                </a:lnTo>
                <a:lnTo>
                  <a:pt x="235" y="1087"/>
                </a:lnTo>
                <a:lnTo>
                  <a:pt x="191" y="1174"/>
                </a:lnTo>
                <a:lnTo>
                  <a:pt x="149" y="1238"/>
                </a:lnTo>
                <a:lnTo>
                  <a:pt x="127" y="1302"/>
                </a:lnTo>
                <a:lnTo>
                  <a:pt x="105" y="1366"/>
                </a:lnTo>
                <a:lnTo>
                  <a:pt x="63" y="1430"/>
                </a:lnTo>
                <a:lnTo>
                  <a:pt x="22" y="1494"/>
                </a:lnTo>
                <a:lnTo>
                  <a:pt x="0" y="155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"/>
          <p:cNvSpPr/>
          <p:nvPr/>
        </p:nvSpPr>
        <p:spPr>
          <a:xfrm>
            <a:off x="4227480" y="2906640"/>
            <a:ext cx="1356120" cy="367200"/>
          </a:xfrm>
          <a:custGeom>
            <a:avLst/>
            <a:gdLst/>
            <a:ahLst/>
            <a:rect l="0" t="0" r="r" b="b"/>
            <a:pathLst>
              <a:path fill="none" w="3767" h="1020">
                <a:moveTo>
                  <a:pt x="3767" y="216"/>
                </a:moveTo>
                <a:lnTo>
                  <a:pt x="3719" y="213"/>
                </a:lnTo>
                <a:lnTo>
                  <a:pt x="3591" y="235"/>
                </a:lnTo>
                <a:lnTo>
                  <a:pt x="3527" y="258"/>
                </a:lnTo>
                <a:lnTo>
                  <a:pt x="3441" y="258"/>
                </a:lnTo>
                <a:lnTo>
                  <a:pt x="3377" y="235"/>
                </a:lnTo>
                <a:lnTo>
                  <a:pt x="3313" y="235"/>
                </a:lnTo>
                <a:lnTo>
                  <a:pt x="3249" y="235"/>
                </a:lnTo>
                <a:lnTo>
                  <a:pt x="3185" y="213"/>
                </a:lnTo>
                <a:lnTo>
                  <a:pt x="3099" y="213"/>
                </a:lnTo>
                <a:lnTo>
                  <a:pt x="2993" y="235"/>
                </a:lnTo>
                <a:lnTo>
                  <a:pt x="2930" y="235"/>
                </a:lnTo>
                <a:lnTo>
                  <a:pt x="2866" y="258"/>
                </a:lnTo>
                <a:lnTo>
                  <a:pt x="2801" y="258"/>
                </a:lnTo>
                <a:lnTo>
                  <a:pt x="2737" y="258"/>
                </a:lnTo>
                <a:lnTo>
                  <a:pt x="2671" y="258"/>
                </a:lnTo>
                <a:lnTo>
                  <a:pt x="2587" y="235"/>
                </a:lnTo>
                <a:lnTo>
                  <a:pt x="2523" y="213"/>
                </a:lnTo>
                <a:lnTo>
                  <a:pt x="2459" y="191"/>
                </a:lnTo>
                <a:lnTo>
                  <a:pt x="2373" y="171"/>
                </a:lnTo>
                <a:lnTo>
                  <a:pt x="2309" y="149"/>
                </a:lnTo>
                <a:lnTo>
                  <a:pt x="2245" y="149"/>
                </a:lnTo>
                <a:lnTo>
                  <a:pt x="2181" y="127"/>
                </a:lnTo>
                <a:lnTo>
                  <a:pt x="2117" y="127"/>
                </a:lnTo>
                <a:lnTo>
                  <a:pt x="2031" y="85"/>
                </a:lnTo>
                <a:lnTo>
                  <a:pt x="1967" y="85"/>
                </a:lnTo>
                <a:lnTo>
                  <a:pt x="1881" y="63"/>
                </a:lnTo>
                <a:lnTo>
                  <a:pt x="1817" y="44"/>
                </a:lnTo>
                <a:lnTo>
                  <a:pt x="1734" y="44"/>
                </a:lnTo>
                <a:lnTo>
                  <a:pt x="1520" y="0"/>
                </a:lnTo>
                <a:lnTo>
                  <a:pt x="1434" y="0"/>
                </a:lnTo>
                <a:lnTo>
                  <a:pt x="1348" y="0"/>
                </a:lnTo>
                <a:lnTo>
                  <a:pt x="1284" y="22"/>
                </a:lnTo>
                <a:lnTo>
                  <a:pt x="1220" y="44"/>
                </a:lnTo>
                <a:lnTo>
                  <a:pt x="1156" y="63"/>
                </a:lnTo>
                <a:lnTo>
                  <a:pt x="1092" y="108"/>
                </a:lnTo>
                <a:lnTo>
                  <a:pt x="1028" y="127"/>
                </a:lnTo>
                <a:lnTo>
                  <a:pt x="964" y="171"/>
                </a:lnTo>
                <a:lnTo>
                  <a:pt x="899" y="171"/>
                </a:lnTo>
                <a:lnTo>
                  <a:pt x="815" y="191"/>
                </a:lnTo>
                <a:lnTo>
                  <a:pt x="751" y="213"/>
                </a:lnTo>
                <a:lnTo>
                  <a:pt x="685" y="235"/>
                </a:lnTo>
                <a:lnTo>
                  <a:pt x="621" y="258"/>
                </a:lnTo>
                <a:lnTo>
                  <a:pt x="557" y="278"/>
                </a:lnTo>
                <a:lnTo>
                  <a:pt x="493" y="300"/>
                </a:lnTo>
                <a:lnTo>
                  <a:pt x="429" y="364"/>
                </a:lnTo>
                <a:lnTo>
                  <a:pt x="366" y="406"/>
                </a:lnTo>
                <a:lnTo>
                  <a:pt x="324" y="470"/>
                </a:lnTo>
                <a:lnTo>
                  <a:pt x="260" y="514"/>
                </a:lnTo>
                <a:lnTo>
                  <a:pt x="218" y="578"/>
                </a:lnTo>
                <a:lnTo>
                  <a:pt x="154" y="620"/>
                </a:lnTo>
                <a:lnTo>
                  <a:pt x="110" y="684"/>
                </a:lnTo>
                <a:lnTo>
                  <a:pt x="68" y="748"/>
                </a:lnTo>
                <a:lnTo>
                  <a:pt x="68" y="813"/>
                </a:lnTo>
                <a:lnTo>
                  <a:pt x="46" y="877"/>
                </a:lnTo>
                <a:lnTo>
                  <a:pt x="24" y="941"/>
                </a:lnTo>
                <a:lnTo>
                  <a:pt x="0" y="102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0" name=""/>
          <p:cNvSpPr/>
          <p:nvPr/>
        </p:nvSpPr>
        <p:spPr>
          <a:xfrm>
            <a:off x="4282920" y="3046320"/>
            <a:ext cx="1298880" cy="230400"/>
          </a:xfrm>
          <a:custGeom>
            <a:avLst/>
            <a:gdLst/>
            <a:ahLst/>
            <a:rect l="0" t="0" r="r" b="b"/>
            <a:pathLst>
              <a:path fill="none" w="3608" h="640">
                <a:moveTo>
                  <a:pt x="3608" y="255"/>
                </a:moveTo>
                <a:lnTo>
                  <a:pt x="3502" y="275"/>
                </a:lnTo>
                <a:lnTo>
                  <a:pt x="3438" y="275"/>
                </a:lnTo>
                <a:lnTo>
                  <a:pt x="3374" y="275"/>
                </a:lnTo>
                <a:lnTo>
                  <a:pt x="3310" y="233"/>
                </a:lnTo>
                <a:lnTo>
                  <a:pt x="3246" y="211"/>
                </a:lnTo>
                <a:lnTo>
                  <a:pt x="3032" y="211"/>
                </a:lnTo>
                <a:lnTo>
                  <a:pt x="2968" y="211"/>
                </a:lnTo>
                <a:lnTo>
                  <a:pt x="2904" y="211"/>
                </a:lnTo>
                <a:lnTo>
                  <a:pt x="2796" y="211"/>
                </a:lnTo>
                <a:lnTo>
                  <a:pt x="2732" y="211"/>
                </a:lnTo>
                <a:lnTo>
                  <a:pt x="2668" y="211"/>
                </a:lnTo>
                <a:lnTo>
                  <a:pt x="2584" y="211"/>
                </a:lnTo>
                <a:lnTo>
                  <a:pt x="2518" y="211"/>
                </a:lnTo>
                <a:lnTo>
                  <a:pt x="2454" y="211"/>
                </a:lnTo>
                <a:lnTo>
                  <a:pt x="2370" y="211"/>
                </a:lnTo>
                <a:lnTo>
                  <a:pt x="2242" y="211"/>
                </a:lnTo>
                <a:lnTo>
                  <a:pt x="2178" y="191"/>
                </a:lnTo>
                <a:lnTo>
                  <a:pt x="2092" y="169"/>
                </a:lnTo>
                <a:lnTo>
                  <a:pt x="2006" y="127"/>
                </a:lnTo>
                <a:lnTo>
                  <a:pt x="1942" y="105"/>
                </a:lnTo>
                <a:lnTo>
                  <a:pt x="1878" y="83"/>
                </a:lnTo>
                <a:lnTo>
                  <a:pt x="1814" y="63"/>
                </a:lnTo>
                <a:lnTo>
                  <a:pt x="1727" y="19"/>
                </a:lnTo>
                <a:lnTo>
                  <a:pt x="1621" y="19"/>
                </a:lnTo>
                <a:lnTo>
                  <a:pt x="1535" y="0"/>
                </a:lnTo>
                <a:lnTo>
                  <a:pt x="1323" y="0"/>
                </a:lnTo>
                <a:lnTo>
                  <a:pt x="1215" y="0"/>
                </a:lnTo>
                <a:lnTo>
                  <a:pt x="1151" y="19"/>
                </a:lnTo>
                <a:lnTo>
                  <a:pt x="1087" y="19"/>
                </a:lnTo>
                <a:lnTo>
                  <a:pt x="1023" y="19"/>
                </a:lnTo>
                <a:lnTo>
                  <a:pt x="937" y="19"/>
                </a:lnTo>
                <a:lnTo>
                  <a:pt x="853" y="63"/>
                </a:lnTo>
                <a:lnTo>
                  <a:pt x="789" y="63"/>
                </a:lnTo>
                <a:lnTo>
                  <a:pt x="725" y="83"/>
                </a:lnTo>
                <a:lnTo>
                  <a:pt x="661" y="105"/>
                </a:lnTo>
                <a:lnTo>
                  <a:pt x="597" y="127"/>
                </a:lnTo>
                <a:lnTo>
                  <a:pt x="511" y="191"/>
                </a:lnTo>
                <a:lnTo>
                  <a:pt x="447" y="233"/>
                </a:lnTo>
                <a:lnTo>
                  <a:pt x="383" y="275"/>
                </a:lnTo>
                <a:lnTo>
                  <a:pt x="319" y="319"/>
                </a:lnTo>
                <a:lnTo>
                  <a:pt x="255" y="362"/>
                </a:lnTo>
                <a:lnTo>
                  <a:pt x="191" y="404"/>
                </a:lnTo>
                <a:lnTo>
                  <a:pt x="127" y="448"/>
                </a:lnTo>
                <a:lnTo>
                  <a:pt x="63" y="512"/>
                </a:lnTo>
                <a:lnTo>
                  <a:pt x="19" y="576"/>
                </a:lnTo>
                <a:lnTo>
                  <a:pt x="0" y="64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"/>
          <p:cNvSpPr/>
          <p:nvPr/>
        </p:nvSpPr>
        <p:spPr>
          <a:xfrm>
            <a:off x="4398840" y="3191040"/>
            <a:ext cx="945000" cy="86040"/>
          </a:xfrm>
          <a:custGeom>
            <a:avLst/>
            <a:gdLst/>
            <a:ahLst/>
            <a:rect l="0" t="0" r="r" b="b"/>
            <a:pathLst>
              <a:path fill="none" w="2625" h="239">
                <a:moveTo>
                  <a:pt x="2625" y="239"/>
                </a:moveTo>
                <a:lnTo>
                  <a:pt x="2561" y="216"/>
                </a:lnTo>
                <a:lnTo>
                  <a:pt x="2497" y="216"/>
                </a:lnTo>
                <a:lnTo>
                  <a:pt x="2411" y="216"/>
                </a:lnTo>
                <a:lnTo>
                  <a:pt x="2347" y="216"/>
                </a:lnTo>
                <a:lnTo>
                  <a:pt x="2219" y="196"/>
                </a:lnTo>
                <a:lnTo>
                  <a:pt x="2197" y="132"/>
                </a:lnTo>
                <a:lnTo>
                  <a:pt x="2133" y="109"/>
                </a:lnTo>
                <a:lnTo>
                  <a:pt x="2049" y="109"/>
                </a:lnTo>
                <a:lnTo>
                  <a:pt x="1962" y="109"/>
                </a:lnTo>
                <a:lnTo>
                  <a:pt x="1898" y="109"/>
                </a:lnTo>
                <a:lnTo>
                  <a:pt x="1834" y="86"/>
                </a:lnTo>
                <a:lnTo>
                  <a:pt x="1748" y="44"/>
                </a:lnTo>
                <a:lnTo>
                  <a:pt x="1684" y="22"/>
                </a:lnTo>
                <a:lnTo>
                  <a:pt x="1578" y="0"/>
                </a:lnTo>
                <a:lnTo>
                  <a:pt x="1470" y="0"/>
                </a:lnTo>
                <a:lnTo>
                  <a:pt x="1386" y="0"/>
                </a:lnTo>
                <a:lnTo>
                  <a:pt x="1300" y="22"/>
                </a:lnTo>
                <a:lnTo>
                  <a:pt x="1236" y="44"/>
                </a:lnTo>
                <a:lnTo>
                  <a:pt x="1108" y="64"/>
                </a:lnTo>
                <a:lnTo>
                  <a:pt x="894" y="86"/>
                </a:lnTo>
                <a:lnTo>
                  <a:pt x="830" y="86"/>
                </a:lnTo>
                <a:lnTo>
                  <a:pt x="766" y="132"/>
                </a:lnTo>
                <a:lnTo>
                  <a:pt x="702" y="174"/>
                </a:lnTo>
                <a:lnTo>
                  <a:pt x="637" y="174"/>
                </a:lnTo>
                <a:lnTo>
                  <a:pt x="573" y="174"/>
                </a:lnTo>
                <a:lnTo>
                  <a:pt x="509" y="174"/>
                </a:lnTo>
                <a:lnTo>
                  <a:pt x="445" y="174"/>
                </a:lnTo>
                <a:lnTo>
                  <a:pt x="359" y="174"/>
                </a:lnTo>
                <a:lnTo>
                  <a:pt x="295" y="174"/>
                </a:lnTo>
                <a:lnTo>
                  <a:pt x="231" y="152"/>
                </a:lnTo>
                <a:lnTo>
                  <a:pt x="167" y="152"/>
                </a:lnTo>
                <a:lnTo>
                  <a:pt x="103" y="174"/>
                </a:lnTo>
                <a:lnTo>
                  <a:pt x="0" y="23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"/>
          <p:cNvSpPr/>
          <p:nvPr/>
        </p:nvSpPr>
        <p:spPr>
          <a:xfrm>
            <a:off x="4797360" y="587520"/>
            <a:ext cx="20016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"/>
          <p:cNvSpPr/>
          <p:nvPr/>
        </p:nvSpPr>
        <p:spPr>
          <a:xfrm>
            <a:off x="4789440" y="12175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"/>
          <p:cNvSpPr/>
          <p:nvPr/>
        </p:nvSpPr>
        <p:spPr>
          <a:xfrm>
            <a:off x="3298680" y="125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"/>
          <p:cNvSpPr/>
          <p:nvPr/>
        </p:nvSpPr>
        <p:spPr>
          <a:xfrm>
            <a:off x="3398760" y="3096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"/>
          <p:cNvSpPr/>
          <p:nvPr/>
        </p:nvSpPr>
        <p:spPr>
          <a:xfrm>
            <a:off x="3514680" y="5014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"/>
          <p:cNvSpPr/>
          <p:nvPr/>
        </p:nvSpPr>
        <p:spPr>
          <a:xfrm>
            <a:off x="3691080" y="81756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"/>
          <p:cNvSpPr/>
          <p:nvPr/>
        </p:nvSpPr>
        <p:spPr>
          <a:xfrm>
            <a:off x="4167360" y="9097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"/>
          <p:cNvSpPr/>
          <p:nvPr/>
        </p:nvSpPr>
        <p:spPr>
          <a:xfrm>
            <a:off x="4183200" y="17780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"/>
          <p:cNvSpPr/>
          <p:nvPr/>
        </p:nvSpPr>
        <p:spPr>
          <a:xfrm>
            <a:off x="3137040" y="19764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"/>
          <p:cNvSpPr/>
          <p:nvPr/>
        </p:nvSpPr>
        <p:spPr>
          <a:xfrm>
            <a:off x="4313160" y="20383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"/>
          <p:cNvSpPr/>
          <p:nvPr/>
        </p:nvSpPr>
        <p:spPr>
          <a:xfrm>
            <a:off x="4608360" y="2017800"/>
            <a:ext cx="17604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"/>
          <p:cNvSpPr/>
          <p:nvPr/>
        </p:nvSpPr>
        <p:spPr>
          <a:xfrm>
            <a:off x="4853160" y="2341440"/>
            <a:ext cx="16668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"/>
          <p:cNvSpPr/>
          <p:nvPr/>
        </p:nvSpPr>
        <p:spPr>
          <a:xfrm>
            <a:off x="5127480" y="2222640"/>
            <a:ext cx="160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5" name=""/>
          <p:cNvSpPr/>
          <p:nvPr/>
        </p:nvSpPr>
        <p:spPr>
          <a:xfrm>
            <a:off x="5135400" y="263844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6" name=""/>
          <p:cNvSpPr/>
          <p:nvPr/>
        </p:nvSpPr>
        <p:spPr>
          <a:xfrm>
            <a:off x="5157720" y="24145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"/>
          <p:cNvSpPr/>
          <p:nvPr/>
        </p:nvSpPr>
        <p:spPr>
          <a:xfrm>
            <a:off x="5372280" y="2152800"/>
            <a:ext cx="18432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"/>
          <p:cNvSpPr/>
          <p:nvPr/>
        </p:nvSpPr>
        <p:spPr>
          <a:xfrm>
            <a:off x="5181480" y="307512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"/>
          <p:cNvSpPr/>
          <p:nvPr/>
        </p:nvSpPr>
        <p:spPr>
          <a:xfrm>
            <a:off x="4888080" y="289872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"/>
          <p:cNvSpPr/>
          <p:nvPr/>
        </p:nvSpPr>
        <p:spPr>
          <a:xfrm>
            <a:off x="5280120" y="279720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"/>
          <p:cNvSpPr/>
          <p:nvPr/>
        </p:nvSpPr>
        <p:spPr>
          <a:xfrm>
            <a:off x="4675320" y="315288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"/>
          <p:cNvSpPr txBox="1"/>
          <p:nvPr/>
        </p:nvSpPr>
        <p:spPr>
          <a:xfrm>
            <a:off x="3322800" y="125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3" name=""/>
          <p:cNvSpPr txBox="1"/>
          <p:nvPr/>
        </p:nvSpPr>
        <p:spPr>
          <a:xfrm>
            <a:off x="3384720" y="3031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4" name=""/>
          <p:cNvSpPr txBox="1"/>
          <p:nvPr/>
        </p:nvSpPr>
        <p:spPr>
          <a:xfrm>
            <a:off x="3506760" y="493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5" name=""/>
          <p:cNvSpPr txBox="1"/>
          <p:nvPr/>
        </p:nvSpPr>
        <p:spPr>
          <a:xfrm>
            <a:off x="3684600" y="8096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6" name=""/>
          <p:cNvSpPr txBox="1"/>
          <p:nvPr/>
        </p:nvSpPr>
        <p:spPr>
          <a:xfrm>
            <a:off x="3138480" y="19605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"/>
          <p:cNvSpPr txBox="1"/>
          <p:nvPr/>
        </p:nvSpPr>
        <p:spPr>
          <a:xfrm>
            <a:off x="4175280" y="176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8" name=""/>
          <p:cNvSpPr txBox="1"/>
          <p:nvPr/>
        </p:nvSpPr>
        <p:spPr>
          <a:xfrm>
            <a:off x="4307040" y="20224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9" name=""/>
          <p:cNvSpPr txBox="1"/>
          <p:nvPr/>
        </p:nvSpPr>
        <p:spPr>
          <a:xfrm>
            <a:off x="4808520" y="23209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0" name=""/>
          <p:cNvSpPr/>
          <p:nvPr/>
        </p:nvSpPr>
        <p:spPr>
          <a:xfrm>
            <a:off x="4937040" y="287280"/>
            <a:ext cx="216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1" name=""/>
          <p:cNvSpPr txBox="1"/>
          <p:nvPr/>
        </p:nvSpPr>
        <p:spPr>
          <a:xfrm>
            <a:off x="4930920" y="2793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2" name=""/>
          <p:cNvSpPr txBox="1"/>
          <p:nvPr/>
        </p:nvSpPr>
        <p:spPr>
          <a:xfrm>
            <a:off x="4782960" y="577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3" name=""/>
          <p:cNvSpPr txBox="1"/>
          <p:nvPr/>
        </p:nvSpPr>
        <p:spPr>
          <a:xfrm>
            <a:off x="4151160" y="901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4" name=""/>
          <p:cNvSpPr txBox="1"/>
          <p:nvPr/>
        </p:nvSpPr>
        <p:spPr>
          <a:xfrm>
            <a:off x="4782960" y="12002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5" name=""/>
          <p:cNvSpPr txBox="1"/>
          <p:nvPr/>
        </p:nvSpPr>
        <p:spPr>
          <a:xfrm>
            <a:off x="4562640" y="200196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6" name=""/>
          <p:cNvSpPr txBox="1"/>
          <p:nvPr/>
        </p:nvSpPr>
        <p:spPr>
          <a:xfrm>
            <a:off x="5086440" y="22068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7" name=""/>
          <p:cNvSpPr txBox="1"/>
          <p:nvPr/>
        </p:nvSpPr>
        <p:spPr>
          <a:xfrm>
            <a:off x="5335560" y="21286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8" name=""/>
          <p:cNvSpPr txBox="1"/>
          <p:nvPr/>
        </p:nvSpPr>
        <p:spPr>
          <a:xfrm>
            <a:off x="5148360" y="23922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"/>
          <p:cNvSpPr txBox="1"/>
          <p:nvPr/>
        </p:nvSpPr>
        <p:spPr>
          <a:xfrm>
            <a:off x="5119560" y="26128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0" name=""/>
          <p:cNvSpPr txBox="1"/>
          <p:nvPr/>
        </p:nvSpPr>
        <p:spPr>
          <a:xfrm>
            <a:off x="5268960" y="277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1" name=""/>
          <p:cNvSpPr txBox="1"/>
          <p:nvPr/>
        </p:nvSpPr>
        <p:spPr>
          <a:xfrm>
            <a:off x="4876920" y="287028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"/>
          <p:cNvSpPr txBox="1"/>
          <p:nvPr/>
        </p:nvSpPr>
        <p:spPr>
          <a:xfrm>
            <a:off x="5168880" y="3046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3" name=""/>
          <p:cNvSpPr txBox="1"/>
          <p:nvPr/>
        </p:nvSpPr>
        <p:spPr>
          <a:xfrm>
            <a:off x="4662360" y="312732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4" name=""/>
          <p:cNvSpPr/>
          <p:nvPr/>
        </p:nvSpPr>
        <p:spPr>
          <a:xfrm>
            <a:off x="4751280" y="2232000"/>
            <a:ext cx="1620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5" name=""/>
          <p:cNvSpPr txBox="1"/>
          <p:nvPr/>
        </p:nvSpPr>
        <p:spPr>
          <a:xfrm>
            <a:off x="4705200" y="221760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"/>
          <p:cNvSpPr/>
          <p:nvPr/>
        </p:nvSpPr>
        <p:spPr>
          <a:xfrm>
            <a:off x="5197320" y="81000"/>
            <a:ext cx="386280" cy="437040"/>
          </a:xfrm>
          <a:custGeom>
            <a:avLst/>
            <a:gdLst/>
            <a:ahLst/>
            <a:rect l="0" t="0" r="r" b="b"/>
            <a:pathLst>
              <a:path fill="none" w="1073" h="1214">
                <a:moveTo>
                  <a:pt x="0" y="0"/>
                </a:moveTo>
                <a:lnTo>
                  <a:pt x="22" y="63"/>
                </a:lnTo>
                <a:lnTo>
                  <a:pt x="44" y="127"/>
                </a:lnTo>
                <a:lnTo>
                  <a:pt x="107" y="171"/>
                </a:lnTo>
                <a:lnTo>
                  <a:pt x="171" y="213"/>
                </a:lnTo>
                <a:lnTo>
                  <a:pt x="191" y="277"/>
                </a:lnTo>
                <a:lnTo>
                  <a:pt x="235" y="342"/>
                </a:lnTo>
                <a:lnTo>
                  <a:pt x="255" y="427"/>
                </a:lnTo>
                <a:lnTo>
                  <a:pt x="300" y="491"/>
                </a:lnTo>
                <a:lnTo>
                  <a:pt x="342" y="555"/>
                </a:lnTo>
                <a:lnTo>
                  <a:pt x="405" y="597"/>
                </a:lnTo>
                <a:lnTo>
                  <a:pt x="469" y="619"/>
                </a:lnTo>
                <a:lnTo>
                  <a:pt x="533" y="639"/>
                </a:lnTo>
                <a:lnTo>
                  <a:pt x="597" y="683"/>
                </a:lnTo>
                <a:lnTo>
                  <a:pt x="661" y="725"/>
                </a:lnTo>
                <a:lnTo>
                  <a:pt x="705" y="788"/>
                </a:lnTo>
                <a:lnTo>
                  <a:pt x="724" y="852"/>
                </a:lnTo>
                <a:lnTo>
                  <a:pt x="768" y="917"/>
                </a:lnTo>
                <a:lnTo>
                  <a:pt x="768" y="981"/>
                </a:lnTo>
                <a:lnTo>
                  <a:pt x="811" y="1045"/>
                </a:lnTo>
                <a:lnTo>
                  <a:pt x="875" y="1067"/>
                </a:lnTo>
                <a:lnTo>
                  <a:pt x="939" y="1089"/>
                </a:lnTo>
                <a:lnTo>
                  <a:pt x="1003" y="1131"/>
                </a:lnTo>
                <a:lnTo>
                  <a:pt x="1073" y="1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7" name=""/>
          <p:cNvSpPr/>
          <p:nvPr/>
        </p:nvSpPr>
        <p:spPr>
          <a:xfrm>
            <a:off x="5175360" y="171360"/>
            <a:ext cx="21420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8" name=""/>
          <p:cNvSpPr txBox="1"/>
          <p:nvPr/>
        </p:nvSpPr>
        <p:spPr>
          <a:xfrm>
            <a:off x="5165640" y="163440"/>
            <a:ext cx="2444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9" name=""/>
          <p:cNvGrpSpPr/>
          <p:nvPr/>
        </p:nvGrpSpPr>
        <p:grpSpPr>
          <a:xfrm>
            <a:off x="2854440" y="917640"/>
            <a:ext cx="2941560" cy="0"/>
            <a:chOff x="2854440" y="917640"/>
            <a:chExt cx="2941560" cy="0"/>
          </a:xfrm>
        </p:grpSpPr>
        <p:sp>
          <p:nvSpPr>
            <p:cNvPr id="5480" name=""/>
            <p:cNvSpPr/>
            <p:nvPr/>
          </p:nvSpPr>
          <p:spPr>
            <a:xfrm>
              <a:off x="2854440" y="9176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353052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362268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3706920" y="9176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4713120" y="9176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4797360" y="917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4897440" y="917640"/>
              <a:ext cx="898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7" name=""/>
          <p:cNvGrpSpPr/>
          <p:nvPr/>
        </p:nvGrpSpPr>
        <p:grpSpPr>
          <a:xfrm>
            <a:off x="2854440" y="2154240"/>
            <a:ext cx="2957400" cy="0"/>
            <a:chOff x="2854440" y="2154240"/>
            <a:chExt cx="2957400" cy="0"/>
          </a:xfrm>
        </p:grpSpPr>
        <p:sp>
          <p:nvSpPr>
            <p:cNvPr id="5488" name=""/>
            <p:cNvSpPr/>
            <p:nvPr/>
          </p:nvSpPr>
          <p:spPr>
            <a:xfrm>
              <a:off x="2854440" y="215424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353052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362268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3706920" y="215424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4713120" y="215424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4797360" y="21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4897440" y="2154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5" name=""/>
          <p:cNvGrpSpPr/>
          <p:nvPr/>
        </p:nvGrpSpPr>
        <p:grpSpPr>
          <a:xfrm>
            <a:off x="2854440" y="1554120"/>
            <a:ext cx="2949480" cy="0"/>
            <a:chOff x="2854440" y="1554120"/>
            <a:chExt cx="2949480" cy="0"/>
          </a:xfrm>
        </p:grpSpPr>
        <p:sp>
          <p:nvSpPr>
            <p:cNvPr id="5496" name=""/>
            <p:cNvSpPr/>
            <p:nvPr/>
          </p:nvSpPr>
          <p:spPr>
            <a:xfrm>
              <a:off x="2854440" y="1554120"/>
              <a:ext cx="63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353052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362268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3706920" y="1554120"/>
              <a:ext cx="9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4713120" y="1554120"/>
              <a:ext cx="46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4797360" y="155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4897440" y="1554120"/>
              <a:ext cx="90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3" name=""/>
          <p:cNvSpPr txBox="1"/>
          <p:nvPr/>
        </p:nvSpPr>
        <p:spPr>
          <a:xfrm>
            <a:off x="285444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4" name=""/>
          <p:cNvSpPr txBox="1"/>
          <p:nvPr/>
        </p:nvSpPr>
        <p:spPr>
          <a:xfrm>
            <a:off x="5681520" y="78408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5" name=""/>
          <p:cNvSpPr txBox="1"/>
          <p:nvPr/>
        </p:nvSpPr>
        <p:spPr>
          <a:xfrm>
            <a:off x="285444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6" name=""/>
          <p:cNvSpPr txBox="1"/>
          <p:nvPr/>
        </p:nvSpPr>
        <p:spPr>
          <a:xfrm>
            <a:off x="5681520" y="1420920"/>
            <a:ext cx="15084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7" name=""/>
          <p:cNvSpPr txBox="1"/>
          <p:nvPr/>
        </p:nvSpPr>
        <p:spPr>
          <a:xfrm>
            <a:off x="2854440" y="201312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8" name=""/>
          <p:cNvSpPr txBox="1"/>
          <p:nvPr/>
        </p:nvSpPr>
        <p:spPr>
          <a:xfrm>
            <a:off x="5681520" y="202104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9" name=""/>
          <p:cNvSpPr/>
          <p:nvPr/>
        </p:nvSpPr>
        <p:spPr>
          <a:xfrm>
            <a:off x="2793960" y="57816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0" name=""/>
          <p:cNvSpPr/>
          <p:nvPr/>
        </p:nvSpPr>
        <p:spPr>
          <a:xfrm>
            <a:off x="2793960" y="59342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"/>
          <p:cNvSpPr/>
          <p:nvPr/>
        </p:nvSpPr>
        <p:spPr>
          <a:xfrm>
            <a:off x="2793960" y="6086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2" name=""/>
          <p:cNvSpPr/>
          <p:nvPr/>
        </p:nvSpPr>
        <p:spPr>
          <a:xfrm>
            <a:off x="2793960" y="62388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3" name=""/>
          <p:cNvSpPr/>
          <p:nvPr/>
        </p:nvSpPr>
        <p:spPr>
          <a:xfrm>
            <a:off x="2793960" y="63914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4" name=""/>
          <p:cNvSpPr/>
          <p:nvPr/>
        </p:nvSpPr>
        <p:spPr>
          <a:xfrm>
            <a:off x="2793960" y="6543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5" name=""/>
          <p:cNvSpPr txBox="1"/>
          <p:nvPr/>
        </p:nvSpPr>
        <p:spPr>
          <a:xfrm>
            <a:off x="5680080" y="5672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"/>
          <p:cNvSpPr txBox="1"/>
          <p:nvPr/>
        </p:nvSpPr>
        <p:spPr>
          <a:xfrm>
            <a:off x="5680080" y="5824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"/>
          <p:cNvSpPr txBox="1"/>
          <p:nvPr/>
        </p:nvSpPr>
        <p:spPr>
          <a:xfrm>
            <a:off x="5680080" y="5967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8" name=""/>
          <p:cNvSpPr txBox="1"/>
          <p:nvPr/>
        </p:nvSpPr>
        <p:spPr>
          <a:xfrm>
            <a:off x="5680080" y="6119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9" name=""/>
          <p:cNvSpPr txBox="1"/>
          <p:nvPr/>
        </p:nvSpPr>
        <p:spPr>
          <a:xfrm>
            <a:off x="5680080" y="62625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0" name=""/>
          <p:cNvSpPr txBox="1"/>
          <p:nvPr/>
        </p:nvSpPr>
        <p:spPr>
          <a:xfrm>
            <a:off x="5680080" y="6415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"/>
          <p:cNvSpPr/>
          <p:nvPr/>
        </p:nvSpPr>
        <p:spPr>
          <a:xfrm>
            <a:off x="3062160" y="5691240"/>
            <a:ext cx="2538720" cy="852840"/>
          </a:xfrm>
          <a:custGeom>
            <a:avLst/>
            <a:gdLst/>
            <a:ahLst/>
            <a:rect l="0" t="0" r="r" b="b"/>
            <a:pathLst>
              <a:path fill="none" w="7052" h="2369">
                <a:moveTo>
                  <a:pt x="0" y="0"/>
                </a:moveTo>
                <a:lnTo>
                  <a:pt x="0" y="2369"/>
                </a:lnTo>
                <a:lnTo>
                  <a:pt x="3890" y="2369"/>
                </a:lnTo>
                <a:lnTo>
                  <a:pt x="4287" y="2369"/>
                </a:lnTo>
                <a:lnTo>
                  <a:pt x="5596" y="2369"/>
                </a:lnTo>
                <a:lnTo>
                  <a:pt x="7052" y="2369"/>
                </a:lnTo>
                <a:lnTo>
                  <a:pt x="7052" y="8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"/>
          <p:cNvSpPr/>
          <p:nvPr/>
        </p:nvSpPr>
        <p:spPr>
          <a:xfrm>
            <a:off x="3062160" y="5695920"/>
            <a:ext cx="2538720" cy="852840"/>
          </a:xfrm>
          <a:custGeom>
            <a:avLst/>
            <a:gdLst/>
            <a:ahLst/>
            <a:rect l="0" t="0" r="r" b="b"/>
            <a:pathLst>
              <a:path w="7052" h="2369">
                <a:moveTo>
                  <a:pt x="13" y="0"/>
                </a:moveTo>
                <a:lnTo>
                  <a:pt x="52" y="39"/>
                </a:lnTo>
                <a:lnTo>
                  <a:pt x="92" y="52"/>
                </a:lnTo>
                <a:lnTo>
                  <a:pt x="132" y="79"/>
                </a:lnTo>
                <a:lnTo>
                  <a:pt x="171" y="92"/>
                </a:lnTo>
                <a:lnTo>
                  <a:pt x="211" y="119"/>
                </a:lnTo>
                <a:lnTo>
                  <a:pt x="251" y="158"/>
                </a:lnTo>
                <a:lnTo>
                  <a:pt x="291" y="185"/>
                </a:lnTo>
                <a:lnTo>
                  <a:pt x="330" y="198"/>
                </a:lnTo>
                <a:lnTo>
                  <a:pt x="370" y="211"/>
                </a:lnTo>
                <a:lnTo>
                  <a:pt x="410" y="238"/>
                </a:lnTo>
                <a:lnTo>
                  <a:pt x="449" y="264"/>
                </a:lnTo>
                <a:lnTo>
                  <a:pt x="489" y="277"/>
                </a:lnTo>
                <a:lnTo>
                  <a:pt x="555" y="304"/>
                </a:lnTo>
                <a:lnTo>
                  <a:pt x="595" y="330"/>
                </a:lnTo>
                <a:lnTo>
                  <a:pt x="648" y="357"/>
                </a:lnTo>
                <a:lnTo>
                  <a:pt x="714" y="383"/>
                </a:lnTo>
                <a:lnTo>
                  <a:pt x="754" y="396"/>
                </a:lnTo>
                <a:lnTo>
                  <a:pt x="793" y="423"/>
                </a:lnTo>
                <a:lnTo>
                  <a:pt x="873" y="449"/>
                </a:lnTo>
                <a:lnTo>
                  <a:pt x="912" y="463"/>
                </a:lnTo>
                <a:lnTo>
                  <a:pt x="952" y="476"/>
                </a:lnTo>
                <a:lnTo>
                  <a:pt x="992" y="502"/>
                </a:lnTo>
                <a:lnTo>
                  <a:pt x="1031" y="515"/>
                </a:lnTo>
                <a:lnTo>
                  <a:pt x="1071" y="529"/>
                </a:lnTo>
                <a:lnTo>
                  <a:pt x="1124" y="529"/>
                </a:lnTo>
                <a:lnTo>
                  <a:pt x="1164" y="542"/>
                </a:lnTo>
                <a:lnTo>
                  <a:pt x="1217" y="555"/>
                </a:lnTo>
                <a:lnTo>
                  <a:pt x="1256" y="568"/>
                </a:lnTo>
                <a:lnTo>
                  <a:pt x="1296" y="595"/>
                </a:lnTo>
                <a:lnTo>
                  <a:pt x="1336" y="635"/>
                </a:lnTo>
                <a:lnTo>
                  <a:pt x="1375" y="674"/>
                </a:lnTo>
                <a:lnTo>
                  <a:pt x="1415" y="701"/>
                </a:lnTo>
                <a:lnTo>
                  <a:pt x="1455" y="714"/>
                </a:lnTo>
                <a:lnTo>
                  <a:pt x="1494" y="740"/>
                </a:lnTo>
                <a:lnTo>
                  <a:pt x="1534" y="767"/>
                </a:lnTo>
                <a:lnTo>
                  <a:pt x="1574" y="780"/>
                </a:lnTo>
                <a:lnTo>
                  <a:pt x="1613" y="806"/>
                </a:lnTo>
                <a:lnTo>
                  <a:pt x="1653" y="846"/>
                </a:lnTo>
                <a:lnTo>
                  <a:pt x="1706" y="899"/>
                </a:lnTo>
                <a:lnTo>
                  <a:pt x="1746" y="939"/>
                </a:lnTo>
                <a:lnTo>
                  <a:pt x="1785" y="965"/>
                </a:lnTo>
                <a:lnTo>
                  <a:pt x="1812" y="1005"/>
                </a:lnTo>
                <a:lnTo>
                  <a:pt x="1865" y="1031"/>
                </a:lnTo>
                <a:lnTo>
                  <a:pt x="1891" y="1071"/>
                </a:lnTo>
                <a:lnTo>
                  <a:pt x="1931" y="1111"/>
                </a:lnTo>
                <a:lnTo>
                  <a:pt x="1971" y="1137"/>
                </a:lnTo>
                <a:lnTo>
                  <a:pt x="2010" y="1164"/>
                </a:lnTo>
                <a:lnTo>
                  <a:pt x="2050" y="1191"/>
                </a:lnTo>
                <a:lnTo>
                  <a:pt x="2103" y="1218"/>
                </a:lnTo>
                <a:lnTo>
                  <a:pt x="2143" y="1257"/>
                </a:lnTo>
                <a:lnTo>
                  <a:pt x="2182" y="1284"/>
                </a:lnTo>
                <a:lnTo>
                  <a:pt x="2222" y="1323"/>
                </a:lnTo>
                <a:lnTo>
                  <a:pt x="2248" y="1363"/>
                </a:lnTo>
                <a:lnTo>
                  <a:pt x="2288" y="1390"/>
                </a:lnTo>
                <a:lnTo>
                  <a:pt x="2341" y="1416"/>
                </a:lnTo>
                <a:lnTo>
                  <a:pt x="2381" y="1442"/>
                </a:lnTo>
                <a:lnTo>
                  <a:pt x="2420" y="1442"/>
                </a:lnTo>
                <a:lnTo>
                  <a:pt x="2460" y="1469"/>
                </a:lnTo>
                <a:lnTo>
                  <a:pt x="2526" y="1509"/>
                </a:lnTo>
                <a:lnTo>
                  <a:pt x="2579" y="1548"/>
                </a:lnTo>
                <a:lnTo>
                  <a:pt x="2619" y="1575"/>
                </a:lnTo>
                <a:lnTo>
                  <a:pt x="2659" y="1628"/>
                </a:lnTo>
                <a:lnTo>
                  <a:pt x="2711" y="1654"/>
                </a:lnTo>
                <a:lnTo>
                  <a:pt x="2764" y="1707"/>
                </a:lnTo>
                <a:lnTo>
                  <a:pt x="2817" y="1760"/>
                </a:lnTo>
                <a:lnTo>
                  <a:pt x="2857" y="1786"/>
                </a:lnTo>
                <a:lnTo>
                  <a:pt x="2897" y="1813"/>
                </a:lnTo>
                <a:lnTo>
                  <a:pt x="2950" y="1826"/>
                </a:lnTo>
                <a:lnTo>
                  <a:pt x="2989" y="1839"/>
                </a:lnTo>
                <a:lnTo>
                  <a:pt x="3029" y="1853"/>
                </a:lnTo>
                <a:lnTo>
                  <a:pt x="3069" y="1879"/>
                </a:lnTo>
                <a:lnTo>
                  <a:pt x="3108" y="1892"/>
                </a:lnTo>
                <a:lnTo>
                  <a:pt x="3148" y="1906"/>
                </a:lnTo>
                <a:lnTo>
                  <a:pt x="3188" y="1919"/>
                </a:lnTo>
                <a:lnTo>
                  <a:pt x="3227" y="1932"/>
                </a:lnTo>
                <a:lnTo>
                  <a:pt x="3267" y="1932"/>
                </a:lnTo>
                <a:lnTo>
                  <a:pt x="3307" y="1945"/>
                </a:lnTo>
                <a:lnTo>
                  <a:pt x="3346" y="1945"/>
                </a:lnTo>
                <a:lnTo>
                  <a:pt x="3413" y="1985"/>
                </a:lnTo>
                <a:lnTo>
                  <a:pt x="3452" y="2025"/>
                </a:lnTo>
                <a:lnTo>
                  <a:pt x="3492" y="2064"/>
                </a:lnTo>
                <a:lnTo>
                  <a:pt x="3533" y="2104"/>
                </a:lnTo>
                <a:lnTo>
                  <a:pt x="3572" y="2130"/>
                </a:lnTo>
                <a:lnTo>
                  <a:pt x="3612" y="2170"/>
                </a:lnTo>
                <a:lnTo>
                  <a:pt x="3652" y="2197"/>
                </a:lnTo>
                <a:lnTo>
                  <a:pt x="3691" y="2223"/>
                </a:lnTo>
                <a:lnTo>
                  <a:pt x="3850" y="2276"/>
                </a:lnTo>
                <a:lnTo>
                  <a:pt x="3890" y="2316"/>
                </a:lnTo>
                <a:lnTo>
                  <a:pt x="3916" y="2369"/>
                </a:lnTo>
                <a:lnTo>
                  <a:pt x="3956" y="2369"/>
                </a:lnTo>
                <a:lnTo>
                  <a:pt x="3996" y="2369"/>
                </a:lnTo>
                <a:lnTo>
                  <a:pt x="4035" y="2369"/>
                </a:lnTo>
                <a:lnTo>
                  <a:pt x="4075" y="2369"/>
                </a:lnTo>
                <a:lnTo>
                  <a:pt x="4115" y="2369"/>
                </a:lnTo>
                <a:lnTo>
                  <a:pt x="4168" y="2369"/>
                </a:lnTo>
                <a:lnTo>
                  <a:pt x="4207" y="2369"/>
                </a:lnTo>
                <a:lnTo>
                  <a:pt x="4247" y="2369"/>
                </a:lnTo>
                <a:lnTo>
                  <a:pt x="4287" y="2369"/>
                </a:lnTo>
                <a:lnTo>
                  <a:pt x="4300" y="2329"/>
                </a:lnTo>
                <a:lnTo>
                  <a:pt x="4326" y="2289"/>
                </a:lnTo>
                <a:lnTo>
                  <a:pt x="4353" y="2236"/>
                </a:lnTo>
                <a:lnTo>
                  <a:pt x="4379" y="2197"/>
                </a:lnTo>
                <a:lnTo>
                  <a:pt x="4419" y="2157"/>
                </a:lnTo>
                <a:lnTo>
                  <a:pt x="4445" y="2117"/>
                </a:lnTo>
                <a:lnTo>
                  <a:pt x="4472" y="2077"/>
                </a:lnTo>
                <a:lnTo>
                  <a:pt x="4498" y="2038"/>
                </a:lnTo>
                <a:lnTo>
                  <a:pt x="4538" y="2011"/>
                </a:lnTo>
                <a:lnTo>
                  <a:pt x="4565" y="1972"/>
                </a:lnTo>
                <a:lnTo>
                  <a:pt x="4631" y="1945"/>
                </a:lnTo>
                <a:lnTo>
                  <a:pt x="4670" y="1919"/>
                </a:lnTo>
                <a:lnTo>
                  <a:pt x="4710" y="1919"/>
                </a:lnTo>
                <a:lnTo>
                  <a:pt x="4750" y="1919"/>
                </a:lnTo>
                <a:lnTo>
                  <a:pt x="4789" y="1892"/>
                </a:lnTo>
                <a:lnTo>
                  <a:pt x="4829" y="1892"/>
                </a:lnTo>
                <a:lnTo>
                  <a:pt x="4869" y="1892"/>
                </a:lnTo>
                <a:lnTo>
                  <a:pt x="4909" y="1879"/>
                </a:lnTo>
                <a:lnTo>
                  <a:pt x="4948" y="1879"/>
                </a:lnTo>
                <a:lnTo>
                  <a:pt x="5001" y="1879"/>
                </a:lnTo>
                <a:lnTo>
                  <a:pt x="5041" y="1879"/>
                </a:lnTo>
                <a:lnTo>
                  <a:pt x="5094" y="1866"/>
                </a:lnTo>
                <a:lnTo>
                  <a:pt x="5133" y="1866"/>
                </a:lnTo>
                <a:lnTo>
                  <a:pt x="5186" y="1866"/>
                </a:lnTo>
                <a:lnTo>
                  <a:pt x="5239" y="1879"/>
                </a:lnTo>
                <a:lnTo>
                  <a:pt x="5279" y="1892"/>
                </a:lnTo>
                <a:lnTo>
                  <a:pt x="5319" y="1892"/>
                </a:lnTo>
                <a:lnTo>
                  <a:pt x="5358" y="1892"/>
                </a:lnTo>
                <a:lnTo>
                  <a:pt x="5398" y="1892"/>
                </a:lnTo>
                <a:lnTo>
                  <a:pt x="5438" y="1919"/>
                </a:lnTo>
                <a:lnTo>
                  <a:pt x="5477" y="1932"/>
                </a:lnTo>
                <a:lnTo>
                  <a:pt x="5477" y="1972"/>
                </a:lnTo>
                <a:lnTo>
                  <a:pt x="5504" y="2011"/>
                </a:lnTo>
                <a:lnTo>
                  <a:pt x="5530" y="2051"/>
                </a:lnTo>
                <a:lnTo>
                  <a:pt x="5544" y="2091"/>
                </a:lnTo>
                <a:lnTo>
                  <a:pt x="5557" y="2130"/>
                </a:lnTo>
                <a:lnTo>
                  <a:pt x="5570" y="2170"/>
                </a:lnTo>
                <a:lnTo>
                  <a:pt x="5583" y="2210"/>
                </a:lnTo>
                <a:lnTo>
                  <a:pt x="5583" y="2249"/>
                </a:lnTo>
                <a:lnTo>
                  <a:pt x="5610" y="2289"/>
                </a:lnTo>
                <a:lnTo>
                  <a:pt x="5623" y="2329"/>
                </a:lnTo>
                <a:lnTo>
                  <a:pt x="5663" y="2289"/>
                </a:lnTo>
                <a:lnTo>
                  <a:pt x="5689" y="2249"/>
                </a:lnTo>
                <a:lnTo>
                  <a:pt x="5729" y="2210"/>
                </a:lnTo>
                <a:lnTo>
                  <a:pt x="5768" y="2197"/>
                </a:lnTo>
                <a:lnTo>
                  <a:pt x="5808" y="2183"/>
                </a:lnTo>
                <a:lnTo>
                  <a:pt x="5848" y="2157"/>
                </a:lnTo>
                <a:lnTo>
                  <a:pt x="5914" y="2117"/>
                </a:lnTo>
                <a:lnTo>
                  <a:pt x="5954" y="2091"/>
                </a:lnTo>
                <a:lnTo>
                  <a:pt x="5993" y="2064"/>
                </a:lnTo>
                <a:lnTo>
                  <a:pt x="6033" y="2051"/>
                </a:lnTo>
                <a:lnTo>
                  <a:pt x="6073" y="2025"/>
                </a:lnTo>
                <a:lnTo>
                  <a:pt x="6126" y="2011"/>
                </a:lnTo>
                <a:lnTo>
                  <a:pt x="6165" y="1972"/>
                </a:lnTo>
                <a:lnTo>
                  <a:pt x="6205" y="1958"/>
                </a:lnTo>
                <a:lnTo>
                  <a:pt x="6218" y="1919"/>
                </a:lnTo>
                <a:lnTo>
                  <a:pt x="6245" y="1879"/>
                </a:lnTo>
                <a:lnTo>
                  <a:pt x="6271" y="1839"/>
                </a:lnTo>
                <a:lnTo>
                  <a:pt x="6311" y="1800"/>
                </a:lnTo>
                <a:lnTo>
                  <a:pt x="6324" y="1760"/>
                </a:lnTo>
                <a:lnTo>
                  <a:pt x="6337" y="1707"/>
                </a:lnTo>
                <a:lnTo>
                  <a:pt x="6350" y="1667"/>
                </a:lnTo>
                <a:lnTo>
                  <a:pt x="6364" y="1628"/>
                </a:lnTo>
                <a:lnTo>
                  <a:pt x="6377" y="1588"/>
                </a:lnTo>
                <a:lnTo>
                  <a:pt x="6403" y="1548"/>
                </a:lnTo>
                <a:lnTo>
                  <a:pt x="6430" y="1509"/>
                </a:lnTo>
                <a:lnTo>
                  <a:pt x="6456" y="1469"/>
                </a:lnTo>
                <a:lnTo>
                  <a:pt x="6483" y="1416"/>
                </a:lnTo>
                <a:lnTo>
                  <a:pt x="6509" y="1376"/>
                </a:lnTo>
                <a:lnTo>
                  <a:pt x="6536" y="1337"/>
                </a:lnTo>
                <a:lnTo>
                  <a:pt x="6562" y="1284"/>
                </a:lnTo>
                <a:lnTo>
                  <a:pt x="6589" y="1244"/>
                </a:lnTo>
                <a:lnTo>
                  <a:pt x="6615" y="1204"/>
                </a:lnTo>
                <a:lnTo>
                  <a:pt x="6642" y="1164"/>
                </a:lnTo>
                <a:lnTo>
                  <a:pt x="6668" y="1124"/>
                </a:lnTo>
                <a:lnTo>
                  <a:pt x="6721" y="1071"/>
                </a:lnTo>
                <a:lnTo>
                  <a:pt x="6761" y="1018"/>
                </a:lnTo>
                <a:lnTo>
                  <a:pt x="6800" y="992"/>
                </a:lnTo>
                <a:lnTo>
                  <a:pt x="6840" y="952"/>
                </a:lnTo>
                <a:lnTo>
                  <a:pt x="6880" y="926"/>
                </a:lnTo>
                <a:lnTo>
                  <a:pt x="6919" y="912"/>
                </a:lnTo>
                <a:lnTo>
                  <a:pt x="6972" y="899"/>
                </a:lnTo>
                <a:lnTo>
                  <a:pt x="7012" y="873"/>
                </a:lnTo>
                <a:lnTo>
                  <a:pt x="7052" y="859"/>
                </a:lnTo>
                <a:lnTo>
                  <a:pt x="7038" y="873"/>
                </a:lnTo>
                <a:lnTo>
                  <a:pt x="7038" y="2355"/>
                </a:lnTo>
                <a:lnTo>
                  <a:pt x="0" y="2355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"/>
          <p:cNvSpPr/>
          <p:nvPr/>
        </p:nvSpPr>
        <p:spPr>
          <a:xfrm>
            <a:off x="2749680" y="47880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"/>
          <p:cNvSpPr/>
          <p:nvPr/>
        </p:nvSpPr>
        <p:spPr>
          <a:xfrm>
            <a:off x="2749680" y="49402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"/>
          <p:cNvSpPr/>
          <p:nvPr/>
        </p:nvSpPr>
        <p:spPr>
          <a:xfrm>
            <a:off x="2749680" y="509256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"/>
          <p:cNvSpPr/>
          <p:nvPr/>
        </p:nvSpPr>
        <p:spPr>
          <a:xfrm>
            <a:off x="2749680" y="52452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"/>
          <p:cNvSpPr/>
          <p:nvPr/>
        </p:nvSpPr>
        <p:spPr>
          <a:xfrm>
            <a:off x="2749680" y="53974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"/>
          <p:cNvSpPr txBox="1"/>
          <p:nvPr/>
        </p:nvSpPr>
        <p:spPr>
          <a:xfrm>
            <a:off x="5637240" y="4664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"/>
          <p:cNvSpPr txBox="1"/>
          <p:nvPr/>
        </p:nvSpPr>
        <p:spPr>
          <a:xfrm>
            <a:off x="5637240" y="48164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"/>
          <p:cNvSpPr txBox="1"/>
          <p:nvPr/>
        </p:nvSpPr>
        <p:spPr>
          <a:xfrm>
            <a:off x="5637240" y="496872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"/>
          <p:cNvSpPr txBox="1"/>
          <p:nvPr/>
        </p:nvSpPr>
        <p:spPr>
          <a:xfrm>
            <a:off x="5637240" y="51213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2" name=""/>
          <p:cNvSpPr txBox="1"/>
          <p:nvPr/>
        </p:nvSpPr>
        <p:spPr>
          <a:xfrm>
            <a:off x="5637240" y="52736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3" name=""/>
          <p:cNvSpPr/>
          <p:nvPr/>
        </p:nvSpPr>
        <p:spPr>
          <a:xfrm>
            <a:off x="3067200" y="4695840"/>
            <a:ext cx="2524320" cy="702000"/>
          </a:xfrm>
          <a:custGeom>
            <a:avLst/>
            <a:gdLst/>
            <a:ahLst/>
            <a:rect l="0" t="0" r="r" b="b"/>
            <a:pathLst>
              <a:path w="7012" h="1950">
                <a:moveTo>
                  <a:pt x="0" y="0"/>
                </a:moveTo>
                <a:lnTo>
                  <a:pt x="39" y="52"/>
                </a:lnTo>
                <a:lnTo>
                  <a:pt x="92" y="57"/>
                </a:lnTo>
                <a:lnTo>
                  <a:pt x="132" y="97"/>
                </a:lnTo>
                <a:lnTo>
                  <a:pt x="171" y="110"/>
                </a:lnTo>
                <a:lnTo>
                  <a:pt x="211" y="123"/>
                </a:lnTo>
                <a:lnTo>
                  <a:pt x="251" y="136"/>
                </a:lnTo>
                <a:lnTo>
                  <a:pt x="291" y="123"/>
                </a:lnTo>
                <a:lnTo>
                  <a:pt x="330" y="123"/>
                </a:lnTo>
                <a:lnTo>
                  <a:pt x="370" y="123"/>
                </a:lnTo>
                <a:lnTo>
                  <a:pt x="436" y="149"/>
                </a:lnTo>
                <a:lnTo>
                  <a:pt x="476" y="176"/>
                </a:lnTo>
                <a:lnTo>
                  <a:pt x="515" y="189"/>
                </a:lnTo>
                <a:lnTo>
                  <a:pt x="555" y="202"/>
                </a:lnTo>
                <a:lnTo>
                  <a:pt x="621" y="202"/>
                </a:lnTo>
                <a:lnTo>
                  <a:pt x="661" y="216"/>
                </a:lnTo>
                <a:lnTo>
                  <a:pt x="701" y="229"/>
                </a:lnTo>
                <a:lnTo>
                  <a:pt x="767" y="282"/>
                </a:lnTo>
                <a:lnTo>
                  <a:pt x="806" y="321"/>
                </a:lnTo>
                <a:lnTo>
                  <a:pt x="846" y="361"/>
                </a:lnTo>
                <a:lnTo>
                  <a:pt x="899" y="388"/>
                </a:lnTo>
                <a:lnTo>
                  <a:pt x="939" y="401"/>
                </a:lnTo>
                <a:lnTo>
                  <a:pt x="992" y="414"/>
                </a:lnTo>
                <a:lnTo>
                  <a:pt x="1150" y="427"/>
                </a:lnTo>
                <a:lnTo>
                  <a:pt x="1203" y="440"/>
                </a:lnTo>
                <a:lnTo>
                  <a:pt x="1243" y="467"/>
                </a:lnTo>
                <a:lnTo>
                  <a:pt x="1283" y="480"/>
                </a:lnTo>
                <a:lnTo>
                  <a:pt x="1322" y="493"/>
                </a:lnTo>
                <a:lnTo>
                  <a:pt x="1362" y="507"/>
                </a:lnTo>
                <a:lnTo>
                  <a:pt x="1415" y="533"/>
                </a:lnTo>
                <a:lnTo>
                  <a:pt x="1468" y="573"/>
                </a:lnTo>
                <a:lnTo>
                  <a:pt x="1521" y="586"/>
                </a:lnTo>
                <a:lnTo>
                  <a:pt x="1561" y="599"/>
                </a:lnTo>
                <a:lnTo>
                  <a:pt x="1613" y="599"/>
                </a:lnTo>
                <a:lnTo>
                  <a:pt x="1653" y="612"/>
                </a:lnTo>
                <a:lnTo>
                  <a:pt x="1693" y="639"/>
                </a:lnTo>
                <a:lnTo>
                  <a:pt x="1733" y="652"/>
                </a:lnTo>
                <a:lnTo>
                  <a:pt x="1772" y="679"/>
                </a:lnTo>
                <a:lnTo>
                  <a:pt x="1812" y="692"/>
                </a:lnTo>
                <a:lnTo>
                  <a:pt x="1838" y="732"/>
                </a:lnTo>
                <a:lnTo>
                  <a:pt x="1878" y="758"/>
                </a:lnTo>
                <a:lnTo>
                  <a:pt x="1918" y="784"/>
                </a:lnTo>
                <a:lnTo>
                  <a:pt x="1957" y="811"/>
                </a:lnTo>
                <a:lnTo>
                  <a:pt x="2024" y="851"/>
                </a:lnTo>
                <a:lnTo>
                  <a:pt x="2037" y="890"/>
                </a:lnTo>
                <a:lnTo>
                  <a:pt x="2063" y="930"/>
                </a:lnTo>
                <a:lnTo>
                  <a:pt x="2103" y="956"/>
                </a:lnTo>
                <a:lnTo>
                  <a:pt x="2143" y="984"/>
                </a:lnTo>
                <a:lnTo>
                  <a:pt x="2182" y="1024"/>
                </a:lnTo>
                <a:lnTo>
                  <a:pt x="2235" y="1050"/>
                </a:lnTo>
                <a:lnTo>
                  <a:pt x="2275" y="1076"/>
                </a:lnTo>
                <a:lnTo>
                  <a:pt x="2288" y="1129"/>
                </a:lnTo>
                <a:lnTo>
                  <a:pt x="2301" y="1169"/>
                </a:lnTo>
                <a:lnTo>
                  <a:pt x="2328" y="1209"/>
                </a:lnTo>
                <a:lnTo>
                  <a:pt x="2368" y="1222"/>
                </a:lnTo>
                <a:lnTo>
                  <a:pt x="2407" y="1235"/>
                </a:lnTo>
                <a:lnTo>
                  <a:pt x="2447" y="1248"/>
                </a:lnTo>
                <a:lnTo>
                  <a:pt x="2500" y="1262"/>
                </a:lnTo>
                <a:lnTo>
                  <a:pt x="2540" y="1315"/>
                </a:lnTo>
                <a:lnTo>
                  <a:pt x="2592" y="1341"/>
                </a:lnTo>
                <a:lnTo>
                  <a:pt x="2632" y="1368"/>
                </a:lnTo>
                <a:lnTo>
                  <a:pt x="2685" y="1381"/>
                </a:lnTo>
                <a:lnTo>
                  <a:pt x="2725" y="1394"/>
                </a:lnTo>
                <a:lnTo>
                  <a:pt x="2764" y="1420"/>
                </a:lnTo>
                <a:lnTo>
                  <a:pt x="2831" y="1447"/>
                </a:lnTo>
                <a:lnTo>
                  <a:pt x="2883" y="1460"/>
                </a:lnTo>
                <a:lnTo>
                  <a:pt x="2923" y="1473"/>
                </a:lnTo>
                <a:lnTo>
                  <a:pt x="2963" y="1487"/>
                </a:lnTo>
                <a:lnTo>
                  <a:pt x="3003" y="1500"/>
                </a:lnTo>
                <a:lnTo>
                  <a:pt x="3055" y="1500"/>
                </a:lnTo>
                <a:lnTo>
                  <a:pt x="3095" y="1513"/>
                </a:lnTo>
                <a:lnTo>
                  <a:pt x="3135" y="1513"/>
                </a:lnTo>
                <a:lnTo>
                  <a:pt x="3175" y="1526"/>
                </a:lnTo>
                <a:lnTo>
                  <a:pt x="3214" y="1539"/>
                </a:lnTo>
                <a:lnTo>
                  <a:pt x="3254" y="1553"/>
                </a:lnTo>
                <a:lnTo>
                  <a:pt x="3280" y="1592"/>
                </a:lnTo>
                <a:lnTo>
                  <a:pt x="3294" y="1632"/>
                </a:lnTo>
                <a:lnTo>
                  <a:pt x="3320" y="1672"/>
                </a:lnTo>
                <a:lnTo>
                  <a:pt x="3333" y="1711"/>
                </a:lnTo>
                <a:lnTo>
                  <a:pt x="3373" y="1751"/>
                </a:lnTo>
                <a:lnTo>
                  <a:pt x="3386" y="1791"/>
                </a:lnTo>
                <a:lnTo>
                  <a:pt x="3399" y="1831"/>
                </a:lnTo>
                <a:lnTo>
                  <a:pt x="3426" y="1870"/>
                </a:lnTo>
                <a:lnTo>
                  <a:pt x="3466" y="1897"/>
                </a:lnTo>
                <a:lnTo>
                  <a:pt x="3505" y="1936"/>
                </a:lnTo>
                <a:lnTo>
                  <a:pt x="3546" y="1950"/>
                </a:lnTo>
                <a:lnTo>
                  <a:pt x="3586" y="1950"/>
                </a:lnTo>
                <a:lnTo>
                  <a:pt x="3625" y="1923"/>
                </a:lnTo>
                <a:lnTo>
                  <a:pt x="3639" y="1883"/>
                </a:lnTo>
                <a:lnTo>
                  <a:pt x="3665" y="1844"/>
                </a:lnTo>
                <a:lnTo>
                  <a:pt x="3691" y="1804"/>
                </a:lnTo>
                <a:lnTo>
                  <a:pt x="3718" y="1764"/>
                </a:lnTo>
                <a:lnTo>
                  <a:pt x="3758" y="1738"/>
                </a:lnTo>
                <a:lnTo>
                  <a:pt x="3797" y="1698"/>
                </a:lnTo>
                <a:lnTo>
                  <a:pt x="3824" y="1659"/>
                </a:lnTo>
                <a:lnTo>
                  <a:pt x="3824" y="1619"/>
                </a:lnTo>
                <a:lnTo>
                  <a:pt x="3850" y="1579"/>
                </a:lnTo>
                <a:lnTo>
                  <a:pt x="3877" y="1539"/>
                </a:lnTo>
                <a:lnTo>
                  <a:pt x="3903" y="1500"/>
                </a:lnTo>
                <a:lnTo>
                  <a:pt x="3930" y="1460"/>
                </a:lnTo>
                <a:lnTo>
                  <a:pt x="3956" y="1420"/>
                </a:lnTo>
                <a:lnTo>
                  <a:pt x="3996" y="1368"/>
                </a:lnTo>
                <a:lnTo>
                  <a:pt x="4022" y="1328"/>
                </a:lnTo>
                <a:lnTo>
                  <a:pt x="4062" y="1288"/>
                </a:lnTo>
                <a:lnTo>
                  <a:pt x="4088" y="1248"/>
                </a:lnTo>
                <a:lnTo>
                  <a:pt x="4128" y="1222"/>
                </a:lnTo>
                <a:lnTo>
                  <a:pt x="4168" y="1182"/>
                </a:lnTo>
                <a:lnTo>
                  <a:pt x="4194" y="1143"/>
                </a:lnTo>
                <a:lnTo>
                  <a:pt x="4234" y="1116"/>
                </a:lnTo>
                <a:lnTo>
                  <a:pt x="4274" y="1076"/>
                </a:lnTo>
                <a:lnTo>
                  <a:pt x="4313" y="1050"/>
                </a:lnTo>
                <a:lnTo>
                  <a:pt x="4353" y="1024"/>
                </a:lnTo>
                <a:lnTo>
                  <a:pt x="4393" y="1010"/>
                </a:lnTo>
                <a:lnTo>
                  <a:pt x="4432" y="984"/>
                </a:lnTo>
                <a:lnTo>
                  <a:pt x="4472" y="970"/>
                </a:lnTo>
                <a:lnTo>
                  <a:pt x="4512" y="943"/>
                </a:lnTo>
                <a:lnTo>
                  <a:pt x="4551" y="943"/>
                </a:lnTo>
                <a:lnTo>
                  <a:pt x="4591" y="943"/>
                </a:lnTo>
                <a:lnTo>
                  <a:pt x="4631" y="943"/>
                </a:lnTo>
                <a:lnTo>
                  <a:pt x="4670" y="943"/>
                </a:lnTo>
                <a:lnTo>
                  <a:pt x="4710" y="930"/>
                </a:lnTo>
                <a:lnTo>
                  <a:pt x="4750" y="917"/>
                </a:lnTo>
                <a:lnTo>
                  <a:pt x="4803" y="903"/>
                </a:lnTo>
                <a:lnTo>
                  <a:pt x="4842" y="890"/>
                </a:lnTo>
                <a:lnTo>
                  <a:pt x="4882" y="877"/>
                </a:lnTo>
                <a:lnTo>
                  <a:pt x="4922" y="877"/>
                </a:lnTo>
                <a:lnTo>
                  <a:pt x="4961" y="864"/>
                </a:lnTo>
                <a:lnTo>
                  <a:pt x="5001" y="851"/>
                </a:lnTo>
                <a:lnTo>
                  <a:pt x="5041" y="837"/>
                </a:lnTo>
                <a:lnTo>
                  <a:pt x="5081" y="837"/>
                </a:lnTo>
                <a:lnTo>
                  <a:pt x="5147" y="837"/>
                </a:lnTo>
                <a:lnTo>
                  <a:pt x="5186" y="837"/>
                </a:lnTo>
                <a:lnTo>
                  <a:pt x="5226" y="824"/>
                </a:lnTo>
                <a:lnTo>
                  <a:pt x="5279" y="811"/>
                </a:lnTo>
                <a:lnTo>
                  <a:pt x="5319" y="811"/>
                </a:lnTo>
                <a:lnTo>
                  <a:pt x="5385" y="798"/>
                </a:lnTo>
                <a:lnTo>
                  <a:pt x="5424" y="784"/>
                </a:lnTo>
                <a:lnTo>
                  <a:pt x="5477" y="771"/>
                </a:lnTo>
                <a:lnTo>
                  <a:pt x="5530" y="771"/>
                </a:lnTo>
                <a:lnTo>
                  <a:pt x="5570" y="758"/>
                </a:lnTo>
                <a:lnTo>
                  <a:pt x="5610" y="758"/>
                </a:lnTo>
                <a:lnTo>
                  <a:pt x="5649" y="758"/>
                </a:lnTo>
                <a:lnTo>
                  <a:pt x="5689" y="745"/>
                </a:lnTo>
                <a:lnTo>
                  <a:pt x="5729" y="718"/>
                </a:lnTo>
                <a:lnTo>
                  <a:pt x="5755" y="679"/>
                </a:lnTo>
                <a:lnTo>
                  <a:pt x="5795" y="679"/>
                </a:lnTo>
                <a:lnTo>
                  <a:pt x="5848" y="679"/>
                </a:lnTo>
                <a:lnTo>
                  <a:pt x="5887" y="679"/>
                </a:lnTo>
                <a:lnTo>
                  <a:pt x="5940" y="665"/>
                </a:lnTo>
                <a:lnTo>
                  <a:pt x="5993" y="652"/>
                </a:lnTo>
                <a:lnTo>
                  <a:pt x="6046" y="639"/>
                </a:lnTo>
                <a:lnTo>
                  <a:pt x="6086" y="626"/>
                </a:lnTo>
                <a:lnTo>
                  <a:pt x="6152" y="599"/>
                </a:lnTo>
                <a:lnTo>
                  <a:pt x="6192" y="586"/>
                </a:lnTo>
                <a:lnTo>
                  <a:pt x="6231" y="573"/>
                </a:lnTo>
                <a:lnTo>
                  <a:pt x="6271" y="546"/>
                </a:lnTo>
                <a:lnTo>
                  <a:pt x="6311" y="533"/>
                </a:lnTo>
                <a:lnTo>
                  <a:pt x="6351" y="533"/>
                </a:lnTo>
                <a:lnTo>
                  <a:pt x="6390" y="533"/>
                </a:lnTo>
                <a:lnTo>
                  <a:pt x="6443" y="533"/>
                </a:lnTo>
                <a:lnTo>
                  <a:pt x="6496" y="533"/>
                </a:lnTo>
                <a:lnTo>
                  <a:pt x="6536" y="533"/>
                </a:lnTo>
                <a:lnTo>
                  <a:pt x="6575" y="533"/>
                </a:lnTo>
                <a:lnTo>
                  <a:pt x="6734" y="507"/>
                </a:lnTo>
                <a:lnTo>
                  <a:pt x="6774" y="507"/>
                </a:lnTo>
                <a:lnTo>
                  <a:pt x="6827" y="480"/>
                </a:lnTo>
                <a:lnTo>
                  <a:pt x="6906" y="454"/>
                </a:lnTo>
                <a:lnTo>
                  <a:pt x="6946" y="454"/>
                </a:lnTo>
                <a:lnTo>
                  <a:pt x="6986" y="440"/>
                </a:lnTo>
                <a:lnTo>
                  <a:pt x="6999" y="436"/>
                </a:lnTo>
                <a:lnTo>
                  <a:pt x="6986" y="427"/>
                </a:lnTo>
                <a:lnTo>
                  <a:pt x="7012" y="427"/>
                </a:lnTo>
                <a:lnTo>
                  <a:pt x="7012" y="1950"/>
                </a:lnTo>
                <a:lnTo>
                  <a:pt x="0" y="195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4" name=""/>
          <p:cNvSpPr/>
          <p:nvPr/>
        </p:nvSpPr>
        <p:spPr>
          <a:xfrm>
            <a:off x="2789280" y="361332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5" name=""/>
          <p:cNvSpPr/>
          <p:nvPr/>
        </p:nvSpPr>
        <p:spPr>
          <a:xfrm>
            <a:off x="2789280" y="37656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"/>
          <p:cNvSpPr/>
          <p:nvPr/>
        </p:nvSpPr>
        <p:spPr>
          <a:xfrm>
            <a:off x="2789280" y="391788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7" name=""/>
          <p:cNvSpPr/>
          <p:nvPr/>
        </p:nvSpPr>
        <p:spPr>
          <a:xfrm>
            <a:off x="2789280" y="407052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8" name=""/>
          <p:cNvSpPr/>
          <p:nvPr/>
        </p:nvSpPr>
        <p:spPr>
          <a:xfrm>
            <a:off x="2789280" y="4222800"/>
            <a:ext cx="290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"/>
          <p:cNvSpPr txBox="1"/>
          <p:nvPr/>
        </p:nvSpPr>
        <p:spPr>
          <a:xfrm>
            <a:off x="5651640" y="349092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0" name=""/>
          <p:cNvSpPr txBox="1"/>
          <p:nvPr/>
        </p:nvSpPr>
        <p:spPr>
          <a:xfrm>
            <a:off x="5651640" y="364320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1" name=""/>
          <p:cNvSpPr txBox="1"/>
          <p:nvPr/>
        </p:nvSpPr>
        <p:spPr>
          <a:xfrm>
            <a:off x="5651640" y="37958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2" name=""/>
          <p:cNvSpPr txBox="1"/>
          <p:nvPr/>
        </p:nvSpPr>
        <p:spPr>
          <a:xfrm>
            <a:off x="5651640" y="39387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3" name=""/>
          <p:cNvSpPr txBox="1"/>
          <p:nvPr/>
        </p:nvSpPr>
        <p:spPr>
          <a:xfrm>
            <a:off x="5651640" y="409104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4" name=""/>
          <p:cNvSpPr txBox="1"/>
          <p:nvPr/>
        </p:nvSpPr>
        <p:spPr>
          <a:xfrm>
            <a:off x="3813120" y="5381640"/>
            <a:ext cx="1027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B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5" name=""/>
          <p:cNvSpPr txBox="1"/>
          <p:nvPr/>
        </p:nvSpPr>
        <p:spPr>
          <a:xfrm>
            <a:off x="3714840" y="65023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C 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6" name=""/>
          <p:cNvSpPr txBox="1"/>
          <p:nvPr/>
        </p:nvSpPr>
        <p:spPr>
          <a:xfrm>
            <a:off x="3805200" y="4228920"/>
            <a:ext cx="104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ction A -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7" name=""/>
          <p:cNvSpPr/>
          <p:nvPr/>
        </p:nvSpPr>
        <p:spPr>
          <a:xfrm>
            <a:off x="3071880" y="3540240"/>
            <a:ext cx="2514960" cy="690840"/>
          </a:xfrm>
          <a:custGeom>
            <a:avLst/>
            <a:gdLst/>
            <a:ahLst/>
            <a:rect l="0" t="0" r="r" b="b"/>
            <a:pathLst>
              <a:path w="6986" h="1919">
                <a:moveTo>
                  <a:pt x="0" y="220"/>
                </a:moveTo>
                <a:lnTo>
                  <a:pt x="39" y="233"/>
                </a:lnTo>
                <a:lnTo>
                  <a:pt x="79" y="260"/>
                </a:lnTo>
                <a:lnTo>
                  <a:pt x="92" y="291"/>
                </a:lnTo>
                <a:lnTo>
                  <a:pt x="132" y="304"/>
                </a:lnTo>
                <a:lnTo>
                  <a:pt x="198" y="317"/>
                </a:lnTo>
                <a:lnTo>
                  <a:pt x="251" y="330"/>
                </a:lnTo>
                <a:lnTo>
                  <a:pt x="291" y="330"/>
                </a:lnTo>
                <a:lnTo>
                  <a:pt x="330" y="357"/>
                </a:lnTo>
                <a:lnTo>
                  <a:pt x="370" y="383"/>
                </a:lnTo>
                <a:lnTo>
                  <a:pt x="410" y="396"/>
                </a:lnTo>
                <a:lnTo>
                  <a:pt x="449" y="410"/>
                </a:lnTo>
                <a:lnTo>
                  <a:pt x="489" y="410"/>
                </a:lnTo>
                <a:lnTo>
                  <a:pt x="529" y="436"/>
                </a:lnTo>
                <a:lnTo>
                  <a:pt x="582" y="463"/>
                </a:lnTo>
                <a:lnTo>
                  <a:pt x="621" y="476"/>
                </a:lnTo>
                <a:lnTo>
                  <a:pt x="661" y="502"/>
                </a:lnTo>
                <a:lnTo>
                  <a:pt x="701" y="515"/>
                </a:lnTo>
                <a:lnTo>
                  <a:pt x="754" y="515"/>
                </a:lnTo>
                <a:lnTo>
                  <a:pt x="793" y="529"/>
                </a:lnTo>
                <a:lnTo>
                  <a:pt x="873" y="555"/>
                </a:lnTo>
                <a:lnTo>
                  <a:pt x="939" y="582"/>
                </a:lnTo>
                <a:lnTo>
                  <a:pt x="978" y="608"/>
                </a:lnTo>
                <a:lnTo>
                  <a:pt x="1031" y="621"/>
                </a:lnTo>
                <a:lnTo>
                  <a:pt x="1084" y="648"/>
                </a:lnTo>
                <a:lnTo>
                  <a:pt x="1111" y="687"/>
                </a:lnTo>
                <a:lnTo>
                  <a:pt x="1150" y="714"/>
                </a:lnTo>
                <a:lnTo>
                  <a:pt x="1203" y="740"/>
                </a:lnTo>
                <a:lnTo>
                  <a:pt x="1256" y="767"/>
                </a:lnTo>
                <a:lnTo>
                  <a:pt x="1296" y="780"/>
                </a:lnTo>
                <a:lnTo>
                  <a:pt x="1336" y="806"/>
                </a:lnTo>
                <a:lnTo>
                  <a:pt x="1375" y="833"/>
                </a:lnTo>
                <a:lnTo>
                  <a:pt x="1415" y="859"/>
                </a:lnTo>
                <a:lnTo>
                  <a:pt x="1455" y="873"/>
                </a:lnTo>
                <a:lnTo>
                  <a:pt x="1534" y="886"/>
                </a:lnTo>
                <a:lnTo>
                  <a:pt x="1587" y="912"/>
                </a:lnTo>
                <a:lnTo>
                  <a:pt x="1627" y="926"/>
                </a:lnTo>
                <a:lnTo>
                  <a:pt x="1666" y="939"/>
                </a:lnTo>
                <a:lnTo>
                  <a:pt x="1719" y="939"/>
                </a:lnTo>
                <a:lnTo>
                  <a:pt x="1759" y="939"/>
                </a:lnTo>
                <a:lnTo>
                  <a:pt x="1799" y="939"/>
                </a:lnTo>
                <a:lnTo>
                  <a:pt x="1838" y="966"/>
                </a:lnTo>
                <a:lnTo>
                  <a:pt x="1878" y="979"/>
                </a:lnTo>
                <a:lnTo>
                  <a:pt x="1918" y="1006"/>
                </a:lnTo>
                <a:lnTo>
                  <a:pt x="1957" y="1032"/>
                </a:lnTo>
                <a:lnTo>
                  <a:pt x="1997" y="1046"/>
                </a:lnTo>
                <a:lnTo>
                  <a:pt x="2037" y="1059"/>
                </a:lnTo>
                <a:lnTo>
                  <a:pt x="2090" y="1085"/>
                </a:lnTo>
                <a:lnTo>
                  <a:pt x="2156" y="1125"/>
                </a:lnTo>
                <a:lnTo>
                  <a:pt x="2196" y="1138"/>
                </a:lnTo>
                <a:lnTo>
                  <a:pt x="2235" y="1151"/>
                </a:lnTo>
                <a:lnTo>
                  <a:pt x="2275" y="1165"/>
                </a:lnTo>
                <a:lnTo>
                  <a:pt x="2328" y="1191"/>
                </a:lnTo>
                <a:lnTo>
                  <a:pt x="2381" y="1204"/>
                </a:lnTo>
                <a:lnTo>
                  <a:pt x="2460" y="1284"/>
                </a:lnTo>
                <a:lnTo>
                  <a:pt x="2500" y="1310"/>
                </a:lnTo>
                <a:lnTo>
                  <a:pt x="2540" y="1363"/>
                </a:lnTo>
                <a:lnTo>
                  <a:pt x="2592" y="1416"/>
                </a:lnTo>
                <a:lnTo>
                  <a:pt x="2619" y="1456"/>
                </a:lnTo>
                <a:lnTo>
                  <a:pt x="2650" y="1482"/>
                </a:lnTo>
                <a:lnTo>
                  <a:pt x="2685" y="1522"/>
                </a:lnTo>
                <a:lnTo>
                  <a:pt x="2689" y="1584"/>
                </a:lnTo>
                <a:lnTo>
                  <a:pt x="2703" y="1610"/>
                </a:lnTo>
                <a:lnTo>
                  <a:pt x="2725" y="1641"/>
                </a:lnTo>
                <a:lnTo>
                  <a:pt x="2738" y="1694"/>
                </a:lnTo>
                <a:lnTo>
                  <a:pt x="2756" y="1734"/>
                </a:lnTo>
                <a:lnTo>
                  <a:pt x="2778" y="1786"/>
                </a:lnTo>
                <a:lnTo>
                  <a:pt x="2791" y="1822"/>
                </a:lnTo>
                <a:lnTo>
                  <a:pt x="2791" y="1875"/>
                </a:lnTo>
                <a:lnTo>
                  <a:pt x="2831" y="1892"/>
                </a:lnTo>
                <a:lnTo>
                  <a:pt x="2817" y="1919"/>
                </a:lnTo>
                <a:lnTo>
                  <a:pt x="2831" y="1892"/>
                </a:lnTo>
                <a:lnTo>
                  <a:pt x="2844" y="1853"/>
                </a:lnTo>
                <a:lnTo>
                  <a:pt x="2857" y="1813"/>
                </a:lnTo>
                <a:lnTo>
                  <a:pt x="2883" y="1773"/>
                </a:lnTo>
                <a:lnTo>
                  <a:pt x="2883" y="1734"/>
                </a:lnTo>
                <a:lnTo>
                  <a:pt x="2897" y="1694"/>
                </a:lnTo>
                <a:lnTo>
                  <a:pt x="2910" y="1654"/>
                </a:lnTo>
                <a:lnTo>
                  <a:pt x="2950" y="1628"/>
                </a:lnTo>
                <a:lnTo>
                  <a:pt x="2963" y="1588"/>
                </a:lnTo>
                <a:lnTo>
                  <a:pt x="2989" y="1548"/>
                </a:lnTo>
                <a:lnTo>
                  <a:pt x="3003" y="1509"/>
                </a:lnTo>
                <a:lnTo>
                  <a:pt x="3016" y="1469"/>
                </a:lnTo>
                <a:lnTo>
                  <a:pt x="3029" y="1429"/>
                </a:lnTo>
                <a:lnTo>
                  <a:pt x="3069" y="1390"/>
                </a:lnTo>
                <a:lnTo>
                  <a:pt x="3095" y="1350"/>
                </a:lnTo>
                <a:lnTo>
                  <a:pt x="3122" y="1310"/>
                </a:lnTo>
                <a:lnTo>
                  <a:pt x="3148" y="1257"/>
                </a:lnTo>
                <a:lnTo>
                  <a:pt x="3175" y="1218"/>
                </a:lnTo>
                <a:lnTo>
                  <a:pt x="3188" y="1178"/>
                </a:lnTo>
                <a:lnTo>
                  <a:pt x="3201" y="1138"/>
                </a:lnTo>
                <a:lnTo>
                  <a:pt x="3227" y="1099"/>
                </a:lnTo>
                <a:lnTo>
                  <a:pt x="3280" y="1059"/>
                </a:lnTo>
                <a:lnTo>
                  <a:pt x="3320" y="1032"/>
                </a:lnTo>
                <a:lnTo>
                  <a:pt x="3360" y="1019"/>
                </a:lnTo>
                <a:lnTo>
                  <a:pt x="3399" y="1006"/>
                </a:lnTo>
                <a:lnTo>
                  <a:pt x="3559" y="979"/>
                </a:lnTo>
                <a:lnTo>
                  <a:pt x="3599" y="966"/>
                </a:lnTo>
                <a:lnTo>
                  <a:pt x="3639" y="952"/>
                </a:lnTo>
                <a:lnTo>
                  <a:pt x="3678" y="939"/>
                </a:lnTo>
                <a:lnTo>
                  <a:pt x="3718" y="939"/>
                </a:lnTo>
                <a:lnTo>
                  <a:pt x="3758" y="912"/>
                </a:lnTo>
                <a:lnTo>
                  <a:pt x="3811" y="886"/>
                </a:lnTo>
                <a:lnTo>
                  <a:pt x="3850" y="859"/>
                </a:lnTo>
                <a:lnTo>
                  <a:pt x="3890" y="833"/>
                </a:lnTo>
                <a:lnTo>
                  <a:pt x="3930" y="806"/>
                </a:lnTo>
                <a:lnTo>
                  <a:pt x="3969" y="780"/>
                </a:lnTo>
                <a:lnTo>
                  <a:pt x="4022" y="754"/>
                </a:lnTo>
                <a:lnTo>
                  <a:pt x="4075" y="727"/>
                </a:lnTo>
                <a:lnTo>
                  <a:pt x="4115" y="714"/>
                </a:lnTo>
                <a:lnTo>
                  <a:pt x="4154" y="701"/>
                </a:lnTo>
                <a:lnTo>
                  <a:pt x="4194" y="687"/>
                </a:lnTo>
                <a:lnTo>
                  <a:pt x="4234" y="674"/>
                </a:lnTo>
                <a:lnTo>
                  <a:pt x="4366" y="648"/>
                </a:lnTo>
                <a:lnTo>
                  <a:pt x="4406" y="621"/>
                </a:lnTo>
                <a:lnTo>
                  <a:pt x="4446" y="608"/>
                </a:lnTo>
                <a:lnTo>
                  <a:pt x="4498" y="568"/>
                </a:lnTo>
                <a:lnTo>
                  <a:pt x="4538" y="542"/>
                </a:lnTo>
                <a:lnTo>
                  <a:pt x="4591" y="515"/>
                </a:lnTo>
                <a:lnTo>
                  <a:pt x="4657" y="489"/>
                </a:lnTo>
                <a:lnTo>
                  <a:pt x="4723" y="476"/>
                </a:lnTo>
                <a:lnTo>
                  <a:pt x="4763" y="463"/>
                </a:lnTo>
                <a:lnTo>
                  <a:pt x="4803" y="463"/>
                </a:lnTo>
                <a:lnTo>
                  <a:pt x="4842" y="463"/>
                </a:lnTo>
                <a:lnTo>
                  <a:pt x="4895" y="449"/>
                </a:lnTo>
                <a:lnTo>
                  <a:pt x="4948" y="436"/>
                </a:lnTo>
                <a:lnTo>
                  <a:pt x="5001" y="436"/>
                </a:lnTo>
                <a:lnTo>
                  <a:pt x="5041" y="436"/>
                </a:lnTo>
                <a:lnTo>
                  <a:pt x="5186" y="436"/>
                </a:lnTo>
                <a:lnTo>
                  <a:pt x="5226" y="423"/>
                </a:lnTo>
                <a:lnTo>
                  <a:pt x="5266" y="423"/>
                </a:lnTo>
                <a:lnTo>
                  <a:pt x="5332" y="410"/>
                </a:lnTo>
                <a:lnTo>
                  <a:pt x="5372" y="396"/>
                </a:lnTo>
                <a:lnTo>
                  <a:pt x="5451" y="370"/>
                </a:lnTo>
                <a:lnTo>
                  <a:pt x="5504" y="370"/>
                </a:lnTo>
                <a:lnTo>
                  <a:pt x="5557" y="357"/>
                </a:lnTo>
                <a:lnTo>
                  <a:pt x="5610" y="357"/>
                </a:lnTo>
                <a:lnTo>
                  <a:pt x="5689" y="357"/>
                </a:lnTo>
                <a:lnTo>
                  <a:pt x="5729" y="357"/>
                </a:lnTo>
                <a:lnTo>
                  <a:pt x="5768" y="343"/>
                </a:lnTo>
                <a:lnTo>
                  <a:pt x="5808" y="330"/>
                </a:lnTo>
                <a:lnTo>
                  <a:pt x="5848" y="317"/>
                </a:lnTo>
                <a:lnTo>
                  <a:pt x="5901" y="291"/>
                </a:lnTo>
                <a:lnTo>
                  <a:pt x="5940" y="277"/>
                </a:lnTo>
                <a:lnTo>
                  <a:pt x="5980" y="264"/>
                </a:lnTo>
                <a:lnTo>
                  <a:pt x="6020" y="264"/>
                </a:lnTo>
                <a:lnTo>
                  <a:pt x="6059" y="251"/>
                </a:lnTo>
                <a:lnTo>
                  <a:pt x="6099" y="238"/>
                </a:lnTo>
                <a:lnTo>
                  <a:pt x="6139" y="224"/>
                </a:lnTo>
                <a:lnTo>
                  <a:pt x="6192" y="198"/>
                </a:lnTo>
                <a:lnTo>
                  <a:pt x="6231" y="171"/>
                </a:lnTo>
                <a:lnTo>
                  <a:pt x="6271" y="158"/>
                </a:lnTo>
                <a:lnTo>
                  <a:pt x="6337" y="145"/>
                </a:lnTo>
                <a:lnTo>
                  <a:pt x="6377" y="132"/>
                </a:lnTo>
                <a:lnTo>
                  <a:pt x="6430" y="119"/>
                </a:lnTo>
                <a:lnTo>
                  <a:pt x="6483" y="119"/>
                </a:lnTo>
                <a:lnTo>
                  <a:pt x="6522" y="119"/>
                </a:lnTo>
                <a:lnTo>
                  <a:pt x="6575" y="105"/>
                </a:lnTo>
                <a:lnTo>
                  <a:pt x="6615" y="105"/>
                </a:lnTo>
                <a:lnTo>
                  <a:pt x="6655" y="92"/>
                </a:lnTo>
                <a:lnTo>
                  <a:pt x="6694" y="92"/>
                </a:lnTo>
                <a:lnTo>
                  <a:pt x="6747" y="66"/>
                </a:lnTo>
                <a:lnTo>
                  <a:pt x="6787" y="66"/>
                </a:lnTo>
                <a:lnTo>
                  <a:pt x="6827" y="52"/>
                </a:lnTo>
                <a:lnTo>
                  <a:pt x="6866" y="39"/>
                </a:lnTo>
                <a:lnTo>
                  <a:pt x="6906" y="26"/>
                </a:lnTo>
                <a:lnTo>
                  <a:pt x="6946" y="13"/>
                </a:lnTo>
                <a:lnTo>
                  <a:pt x="6986" y="0"/>
                </a:lnTo>
                <a:lnTo>
                  <a:pt x="6986" y="13"/>
                </a:lnTo>
                <a:lnTo>
                  <a:pt x="6986" y="1919"/>
                </a:lnTo>
                <a:lnTo>
                  <a:pt x="0" y="1919"/>
                </a:lnTo>
                <a:lnTo>
                  <a:pt x="0" y="220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81080" y="228600"/>
            <a:ext cx="5029200" cy="6400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87560" y="236520"/>
            <a:ext cx="779760" cy="681480"/>
          </a:xfrm>
          <a:custGeom>
            <a:avLst/>
            <a:gdLst/>
            <a:ahLst/>
            <a:rect l="0" t="0" r="r" b="b"/>
            <a:pathLst>
              <a:path fill="none" w="2166" h="1893">
                <a:moveTo>
                  <a:pt x="2166" y="0"/>
                </a:moveTo>
                <a:lnTo>
                  <a:pt x="2166" y="141"/>
                </a:lnTo>
                <a:lnTo>
                  <a:pt x="2122" y="282"/>
                </a:lnTo>
                <a:lnTo>
                  <a:pt x="2029" y="467"/>
                </a:lnTo>
                <a:lnTo>
                  <a:pt x="1936" y="697"/>
                </a:lnTo>
                <a:lnTo>
                  <a:pt x="1888" y="882"/>
                </a:lnTo>
                <a:lnTo>
                  <a:pt x="1747" y="979"/>
                </a:lnTo>
                <a:lnTo>
                  <a:pt x="1562" y="979"/>
                </a:lnTo>
                <a:lnTo>
                  <a:pt x="1376" y="1116"/>
                </a:lnTo>
                <a:lnTo>
                  <a:pt x="1191" y="1165"/>
                </a:lnTo>
                <a:lnTo>
                  <a:pt x="1005" y="1301"/>
                </a:lnTo>
                <a:lnTo>
                  <a:pt x="912" y="1443"/>
                </a:lnTo>
                <a:lnTo>
                  <a:pt x="771" y="1488"/>
                </a:lnTo>
                <a:lnTo>
                  <a:pt x="586" y="1536"/>
                </a:lnTo>
                <a:lnTo>
                  <a:pt x="401" y="1673"/>
                </a:lnTo>
                <a:lnTo>
                  <a:pt x="264" y="1814"/>
                </a:lnTo>
                <a:lnTo>
                  <a:pt x="123" y="1862"/>
                </a:lnTo>
                <a:lnTo>
                  <a:pt x="0" y="1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237960"/>
            <a:ext cx="1136880" cy="5191560"/>
          </a:xfrm>
          <a:custGeom>
            <a:avLst/>
            <a:gdLst/>
            <a:ahLst/>
            <a:rect l="0" t="0" r="r" b="b"/>
            <a:pathLst>
              <a:path fill="none" w="3158" h="14421">
                <a:moveTo>
                  <a:pt x="3140" y="0"/>
                </a:moveTo>
                <a:lnTo>
                  <a:pt x="3158" y="92"/>
                </a:lnTo>
                <a:lnTo>
                  <a:pt x="3114" y="277"/>
                </a:lnTo>
                <a:lnTo>
                  <a:pt x="3114" y="463"/>
                </a:lnTo>
                <a:lnTo>
                  <a:pt x="3114" y="648"/>
                </a:lnTo>
                <a:lnTo>
                  <a:pt x="2973" y="833"/>
                </a:lnTo>
                <a:lnTo>
                  <a:pt x="2880" y="974"/>
                </a:lnTo>
                <a:lnTo>
                  <a:pt x="2739" y="1111"/>
                </a:lnTo>
                <a:lnTo>
                  <a:pt x="2554" y="1296"/>
                </a:lnTo>
                <a:lnTo>
                  <a:pt x="2510" y="1437"/>
                </a:lnTo>
                <a:lnTo>
                  <a:pt x="2417" y="1622"/>
                </a:lnTo>
                <a:lnTo>
                  <a:pt x="2324" y="1807"/>
                </a:lnTo>
                <a:lnTo>
                  <a:pt x="2232" y="1993"/>
                </a:lnTo>
                <a:lnTo>
                  <a:pt x="2139" y="2134"/>
                </a:lnTo>
                <a:lnTo>
                  <a:pt x="1998" y="2271"/>
                </a:lnTo>
                <a:lnTo>
                  <a:pt x="1954" y="2412"/>
                </a:lnTo>
                <a:lnTo>
                  <a:pt x="1813" y="2504"/>
                </a:lnTo>
                <a:lnTo>
                  <a:pt x="1720" y="2689"/>
                </a:lnTo>
                <a:lnTo>
                  <a:pt x="1578" y="2831"/>
                </a:lnTo>
                <a:lnTo>
                  <a:pt x="1393" y="2967"/>
                </a:lnTo>
                <a:lnTo>
                  <a:pt x="1300" y="3108"/>
                </a:lnTo>
                <a:lnTo>
                  <a:pt x="1208" y="3294"/>
                </a:lnTo>
                <a:lnTo>
                  <a:pt x="1071" y="3479"/>
                </a:lnTo>
                <a:lnTo>
                  <a:pt x="974" y="3621"/>
                </a:lnTo>
                <a:lnTo>
                  <a:pt x="789" y="3758"/>
                </a:lnTo>
                <a:lnTo>
                  <a:pt x="652" y="3899"/>
                </a:lnTo>
                <a:lnTo>
                  <a:pt x="511" y="3943"/>
                </a:lnTo>
                <a:lnTo>
                  <a:pt x="374" y="4084"/>
                </a:lnTo>
                <a:lnTo>
                  <a:pt x="233" y="4177"/>
                </a:lnTo>
                <a:lnTo>
                  <a:pt x="141" y="4362"/>
                </a:lnTo>
                <a:lnTo>
                  <a:pt x="48" y="4503"/>
                </a:lnTo>
                <a:lnTo>
                  <a:pt x="0" y="4688"/>
                </a:lnTo>
                <a:lnTo>
                  <a:pt x="92" y="4873"/>
                </a:lnTo>
                <a:lnTo>
                  <a:pt x="189" y="5058"/>
                </a:lnTo>
                <a:lnTo>
                  <a:pt x="233" y="5288"/>
                </a:lnTo>
                <a:lnTo>
                  <a:pt x="282" y="5429"/>
                </a:lnTo>
                <a:lnTo>
                  <a:pt x="326" y="5614"/>
                </a:lnTo>
                <a:lnTo>
                  <a:pt x="418" y="5755"/>
                </a:lnTo>
                <a:lnTo>
                  <a:pt x="511" y="5984"/>
                </a:lnTo>
                <a:lnTo>
                  <a:pt x="652" y="6126"/>
                </a:lnTo>
                <a:lnTo>
                  <a:pt x="745" y="6267"/>
                </a:lnTo>
                <a:lnTo>
                  <a:pt x="837" y="6452"/>
                </a:lnTo>
                <a:lnTo>
                  <a:pt x="930" y="6637"/>
                </a:lnTo>
                <a:lnTo>
                  <a:pt x="1071" y="6822"/>
                </a:lnTo>
                <a:lnTo>
                  <a:pt x="1164" y="7008"/>
                </a:lnTo>
                <a:lnTo>
                  <a:pt x="1208" y="7149"/>
                </a:lnTo>
                <a:lnTo>
                  <a:pt x="1300" y="7334"/>
                </a:lnTo>
                <a:lnTo>
                  <a:pt x="1300" y="7519"/>
                </a:lnTo>
                <a:lnTo>
                  <a:pt x="1300" y="7704"/>
                </a:lnTo>
                <a:lnTo>
                  <a:pt x="1300" y="7934"/>
                </a:lnTo>
                <a:lnTo>
                  <a:pt x="1349" y="8123"/>
                </a:lnTo>
                <a:lnTo>
                  <a:pt x="1393" y="8308"/>
                </a:lnTo>
                <a:lnTo>
                  <a:pt x="1534" y="8494"/>
                </a:lnTo>
                <a:lnTo>
                  <a:pt x="1672" y="8723"/>
                </a:lnTo>
                <a:lnTo>
                  <a:pt x="1764" y="8864"/>
                </a:lnTo>
                <a:lnTo>
                  <a:pt x="1813" y="9005"/>
                </a:lnTo>
                <a:lnTo>
                  <a:pt x="1954" y="9234"/>
                </a:lnTo>
                <a:lnTo>
                  <a:pt x="2047" y="9376"/>
                </a:lnTo>
                <a:lnTo>
                  <a:pt x="2232" y="9561"/>
                </a:lnTo>
                <a:lnTo>
                  <a:pt x="2324" y="9746"/>
                </a:lnTo>
                <a:lnTo>
                  <a:pt x="2417" y="9887"/>
                </a:lnTo>
                <a:lnTo>
                  <a:pt x="2461" y="10072"/>
                </a:lnTo>
                <a:lnTo>
                  <a:pt x="2554" y="10258"/>
                </a:lnTo>
                <a:lnTo>
                  <a:pt x="2602" y="10443"/>
                </a:lnTo>
                <a:lnTo>
                  <a:pt x="2602" y="10628"/>
                </a:lnTo>
                <a:lnTo>
                  <a:pt x="2602" y="10769"/>
                </a:lnTo>
                <a:lnTo>
                  <a:pt x="2646" y="11092"/>
                </a:lnTo>
                <a:lnTo>
                  <a:pt x="2695" y="11233"/>
                </a:lnTo>
                <a:lnTo>
                  <a:pt x="2695" y="11462"/>
                </a:lnTo>
                <a:lnTo>
                  <a:pt x="2646" y="11696"/>
                </a:lnTo>
                <a:lnTo>
                  <a:pt x="2646" y="11837"/>
                </a:lnTo>
                <a:lnTo>
                  <a:pt x="2602" y="12022"/>
                </a:lnTo>
                <a:lnTo>
                  <a:pt x="2461" y="12159"/>
                </a:lnTo>
                <a:lnTo>
                  <a:pt x="2417" y="12300"/>
                </a:lnTo>
                <a:lnTo>
                  <a:pt x="2276" y="12441"/>
                </a:lnTo>
                <a:lnTo>
                  <a:pt x="2139" y="12627"/>
                </a:lnTo>
                <a:lnTo>
                  <a:pt x="1998" y="12763"/>
                </a:lnTo>
                <a:lnTo>
                  <a:pt x="1906" y="12904"/>
                </a:lnTo>
                <a:lnTo>
                  <a:pt x="1764" y="13134"/>
                </a:lnTo>
                <a:lnTo>
                  <a:pt x="1672" y="13275"/>
                </a:lnTo>
                <a:lnTo>
                  <a:pt x="1628" y="13416"/>
                </a:lnTo>
                <a:lnTo>
                  <a:pt x="1628" y="13601"/>
                </a:lnTo>
                <a:lnTo>
                  <a:pt x="1578" y="13786"/>
                </a:lnTo>
                <a:lnTo>
                  <a:pt x="1393" y="13879"/>
                </a:lnTo>
                <a:lnTo>
                  <a:pt x="1208" y="14016"/>
                </a:lnTo>
                <a:lnTo>
                  <a:pt x="1071" y="14157"/>
                </a:lnTo>
                <a:lnTo>
                  <a:pt x="930" y="14157"/>
                </a:lnTo>
                <a:lnTo>
                  <a:pt x="745" y="14157"/>
                </a:lnTo>
                <a:lnTo>
                  <a:pt x="604" y="14157"/>
                </a:lnTo>
                <a:lnTo>
                  <a:pt x="418" y="14249"/>
                </a:lnTo>
                <a:lnTo>
                  <a:pt x="282" y="14390"/>
                </a:lnTo>
                <a:lnTo>
                  <a:pt x="13" y="1442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98720" y="236520"/>
            <a:ext cx="1554480" cy="5832720"/>
          </a:xfrm>
          <a:custGeom>
            <a:avLst/>
            <a:gdLst/>
            <a:ahLst/>
            <a:rect l="0" t="0" r="r" b="b"/>
            <a:pathLst>
              <a:path fill="none" w="4318" h="16202">
                <a:moveTo>
                  <a:pt x="4318" y="0"/>
                </a:moveTo>
                <a:lnTo>
                  <a:pt x="4318" y="189"/>
                </a:lnTo>
                <a:lnTo>
                  <a:pt x="4318" y="374"/>
                </a:lnTo>
                <a:lnTo>
                  <a:pt x="4318" y="604"/>
                </a:lnTo>
                <a:lnTo>
                  <a:pt x="4269" y="745"/>
                </a:lnTo>
                <a:lnTo>
                  <a:pt x="4177" y="930"/>
                </a:lnTo>
                <a:lnTo>
                  <a:pt x="4084" y="1071"/>
                </a:lnTo>
                <a:lnTo>
                  <a:pt x="3947" y="1256"/>
                </a:lnTo>
                <a:lnTo>
                  <a:pt x="3855" y="1441"/>
                </a:lnTo>
                <a:lnTo>
                  <a:pt x="3762" y="1627"/>
                </a:lnTo>
                <a:lnTo>
                  <a:pt x="3621" y="1812"/>
                </a:lnTo>
                <a:lnTo>
                  <a:pt x="3572" y="1953"/>
                </a:lnTo>
                <a:lnTo>
                  <a:pt x="3436" y="2138"/>
                </a:lnTo>
                <a:lnTo>
                  <a:pt x="3295" y="2275"/>
                </a:lnTo>
                <a:lnTo>
                  <a:pt x="3202" y="2416"/>
                </a:lnTo>
                <a:lnTo>
                  <a:pt x="3017" y="2601"/>
                </a:lnTo>
                <a:lnTo>
                  <a:pt x="2924" y="2742"/>
                </a:lnTo>
                <a:lnTo>
                  <a:pt x="2832" y="2928"/>
                </a:lnTo>
                <a:lnTo>
                  <a:pt x="2739" y="3113"/>
                </a:lnTo>
                <a:lnTo>
                  <a:pt x="2690" y="3298"/>
                </a:lnTo>
                <a:lnTo>
                  <a:pt x="2554" y="3483"/>
                </a:lnTo>
                <a:lnTo>
                  <a:pt x="2505" y="3624"/>
                </a:lnTo>
                <a:lnTo>
                  <a:pt x="2369" y="3810"/>
                </a:lnTo>
                <a:lnTo>
                  <a:pt x="2276" y="3995"/>
                </a:lnTo>
                <a:lnTo>
                  <a:pt x="2183" y="4224"/>
                </a:lnTo>
                <a:lnTo>
                  <a:pt x="2183" y="4365"/>
                </a:lnTo>
                <a:lnTo>
                  <a:pt x="2183" y="4506"/>
                </a:lnTo>
                <a:lnTo>
                  <a:pt x="2183" y="4691"/>
                </a:lnTo>
                <a:lnTo>
                  <a:pt x="2090" y="4877"/>
                </a:lnTo>
                <a:lnTo>
                  <a:pt x="2041" y="5106"/>
                </a:lnTo>
                <a:lnTo>
                  <a:pt x="2134" y="5291"/>
                </a:lnTo>
                <a:lnTo>
                  <a:pt x="2227" y="5481"/>
                </a:lnTo>
                <a:lnTo>
                  <a:pt x="2320" y="5666"/>
                </a:lnTo>
                <a:lnTo>
                  <a:pt x="2369" y="5851"/>
                </a:lnTo>
                <a:lnTo>
                  <a:pt x="2505" y="6036"/>
                </a:lnTo>
                <a:lnTo>
                  <a:pt x="2598" y="6270"/>
                </a:lnTo>
                <a:lnTo>
                  <a:pt x="2739" y="6455"/>
                </a:lnTo>
                <a:lnTo>
                  <a:pt x="2880" y="6592"/>
                </a:lnTo>
                <a:lnTo>
                  <a:pt x="2973" y="6777"/>
                </a:lnTo>
                <a:lnTo>
                  <a:pt x="3065" y="6918"/>
                </a:lnTo>
                <a:lnTo>
                  <a:pt x="3158" y="7152"/>
                </a:lnTo>
                <a:lnTo>
                  <a:pt x="3295" y="7430"/>
                </a:lnTo>
                <a:lnTo>
                  <a:pt x="3436" y="7615"/>
                </a:lnTo>
                <a:lnTo>
                  <a:pt x="3480" y="7800"/>
                </a:lnTo>
                <a:lnTo>
                  <a:pt x="3528" y="7986"/>
                </a:lnTo>
                <a:lnTo>
                  <a:pt x="3528" y="8128"/>
                </a:lnTo>
                <a:lnTo>
                  <a:pt x="3572" y="8313"/>
                </a:lnTo>
                <a:lnTo>
                  <a:pt x="3669" y="8498"/>
                </a:lnTo>
                <a:lnTo>
                  <a:pt x="3855" y="8727"/>
                </a:lnTo>
                <a:lnTo>
                  <a:pt x="3855" y="8868"/>
                </a:lnTo>
                <a:lnTo>
                  <a:pt x="3899" y="9010"/>
                </a:lnTo>
                <a:lnTo>
                  <a:pt x="3947" y="9195"/>
                </a:lnTo>
                <a:lnTo>
                  <a:pt x="3947" y="9380"/>
                </a:lnTo>
                <a:lnTo>
                  <a:pt x="3899" y="9565"/>
                </a:lnTo>
                <a:lnTo>
                  <a:pt x="3855" y="9750"/>
                </a:lnTo>
                <a:lnTo>
                  <a:pt x="3855" y="9892"/>
                </a:lnTo>
                <a:lnTo>
                  <a:pt x="3806" y="10077"/>
                </a:lnTo>
                <a:lnTo>
                  <a:pt x="3762" y="10306"/>
                </a:lnTo>
                <a:lnTo>
                  <a:pt x="3806" y="10491"/>
                </a:lnTo>
                <a:lnTo>
                  <a:pt x="3806" y="10632"/>
                </a:lnTo>
                <a:lnTo>
                  <a:pt x="3806" y="10773"/>
                </a:lnTo>
                <a:lnTo>
                  <a:pt x="3806" y="10959"/>
                </a:lnTo>
                <a:lnTo>
                  <a:pt x="3762" y="11144"/>
                </a:lnTo>
                <a:lnTo>
                  <a:pt x="3713" y="11329"/>
                </a:lnTo>
                <a:lnTo>
                  <a:pt x="3669" y="11514"/>
                </a:lnTo>
                <a:lnTo>
                  <a:pt x="3621" y="11699"/>
                </a:lnTo>
                <a:lnTo>
                  <a:pt x="3572" y="11885"/>
                </a:lnTo>
                <a:lnTo>
                  <a:pt x="3528" y="12026"/>
                </a:lnTo>
                <a:lnTo>
                  <a:pt x="3480" y="12211"/>
                </a:lnTo>
                <a:lnTo>
                  <a:pt x="3436" y="12396"/>
                </a:lnTo>
                <a:lnTo>
                  <a:pt x="3387" y="12581"/>
                </a:lnTo>
                <a:lnTo>
                  <a:pt x="3387" y="12723"/>
                </a:lnTo>
                <a:lnTo>
                  <a:pt x="3250" y="13044"/>
                </a:lnTo>
                <a:lnTo>
                  <a:pt x="3202" y="13186"/>
                </a:lnTo>
                <a:lnTo>
                  <a:pt x="3109" y="13419"/>
                </a:lnTo>
                <a:lnTo>
                  <a:pt x="3017" y="13604"/>
                </a:lnTo>
                <a:lnTo>
                  <a:pt x="2924" y="13834"/>
                </a:lnTo>
                <a:lnTo>
                  <a:pt x="2787" y="14068"/>
                </a:lnTo>
                <a:lnTo>
                  <a:pt x="2646" y="14531"/>
                </a:lnTo>
                <a:lnTo>
                  <a:pt x="2598" y="14672"/>
                </a:lnTo>
                <a:lnTo>
                  <a:pt x="2369" y="14808"/>
                </a:lnTo>
                <a:lnTo>
                  <a:pt x="2227" y="14901"/>
                </a:lnTo>
                <a:lnTo>
                  <a:pt x="2041" y="15042"/>
                </a:lnTo>
                <a:lnTo>
                  <a:pt x="1578" y="15183"/>
                </a:lnTo>
                <a:lnTo>
                  <a:pt x="1393" y="15276"/>
                </a:lnTo>
                <a:lnTo>
                  <a:pt x="1208" y="15320"/>
                </a:lnTo>
                <a:lnTo>
                  <a:pt x="926" y="15412"/>
                </a:lnTo>
                <a:lnTo>
                  <a:pt x="740" y="15505"/>
                </a:lnTo>
                <a:lnTo>
                  <a:pt x="555" y="15646"/>
                </a:lnTo>
                <a:lnTo>
                  <a:pt x="418" y="15831"/>
                </a:lnTo>
                <a:lnTo>
                  <a:pt x="277" y="15924"/>
                </a:lnTo>
                <a:lnTo>
                  <a:pt x="92" y="16017"/>
                </a:lnTo>
                <a:lnTo>
                  <a:pt x="0" y="16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7560" y="857160"/>
            <a:ext cx="1994400" cy="5598000"/>
          </a:xfrm>
          <a:custGeom>
            <a:avLst/>
            <a:gdLst/>
            <a:ahLst/>
            <a:rect l="0" t="0" r="r" b="b"/>
            <a:pathLst>
              <a:path fill="none" w="5540" h="15550">
                <a:moveTo>
                  <a:pt x="5540" y="0"/>
                </a:moveTo>
                <a:lnTo>
                  <a:pt x="5452" y="97"/>
                </a:lnTo>
                <a:lnTo>
                  <a:pt x="5373" y="185"/>
                </a:lnTo>
                <a:lnTo>
                  <a:pt x="5320" y="251"/>
                </a:lnTo>
                <a:lnTo>
                  <a:pt x="5289" y="357"/>
                </a:lnTo>
                <a:lnTo>
                  <a:pt x="5267" y="440"/>
                </a:lnTo>
                <a:lnTo>
                  <a:pt x="5223" y="520"/>
                </a:lnTo>
                <a:lnTo>
                  <a:pt x="5196" y="612"/>
                </a:lnTo>
                <a:lnTo>
                  <a:pt x="5156" y="679"/>
                </a:lnTo>
                <a:lnTo>
                  <a:pt x="5104" y="740"/>
                </a:lnTo>
                <a:lnTo>
                  <a:pt x="4984" y="846"/>
                </a:lnTo>
                <a:lnTo>
                  <a:pt x="4857" y="978"/>
                </a:lnTo>
                <a:lnTo>
                  <a:pt x="4790" y="1089"/>
                </a:lnTo>
                <a:lnTo>
                  <a:pt x="4773" y="1164"/>
                </a:lnTo>
                <a:lnTo>
                  <a:pt x="4720" y="1322"/>
                </a:lnTo>
                <a:lnTo>
                  <a:pt x="4588" y="1455"/>
                </a:lnTo>
                <a:lnTo>
                  <a:pt x="4455" y="1666"/>
                </a:lnTo>
                <a:lnTo>
                  <a:pt x="4402" y="1719"/>
                </a:lnTo>
                <a:lnTo>
                  <a:pt x="4349" y="1878"/>
                </a:lnTo>
                <a:lnTo>
                  <a:pt x="4297" y="1984"/>
                </a:lnTo>
                <a:lnTo>
                  <a:pt x="4191" y="2116"/>
                </a:lnTo>
                <a:lnTo>
                  <a:pt x="4191" y="2301"/>
                </a:lnTo>
                <a:lnTo>
                  <a:pt x="4110" y="2592"/>
                </a:lnTo>
                <a:lnTo>
                  <a:pt x="4110" y="2566"/>
                </a:lnTo>
                <a:lnTo>
                  <a:pt x="4057" y="2778"/>
                </a:lnTo>
                <a:lnTo>
                  <a:pt x="3978" y="2641"/>
                </a:lnTo>
                <a:lnTo>
                  <a:pt x="4110" y="3148"/>
                </a:lnTo>
                <a:lnTo>
                  <a:pt x="4217" y="3307"/>
                </a:lnTo>
                <a:lnTo>
                  <a:pt x="4137" y="3413"/>
                </a:lnTo>
                <a:lnTo>
                  <a:pt x="4217" y="3624"/>
                </a:lnTo>
                <a:lnTo>
                  <a:pt x="4244" y="3783"/>
                </a:lnTo>
                <a:lnTo>
                  <a:pt x="4323" y="3916"/>
                </a:lnTo>
                <a:lnTo>
                  <a:pt x="4429" y="4075"/>
                </a:lnTo>
                <a:lnTo>
                  <a:pt x="4508" y="4207"/>
                </a:lnTo>
                <a:lnTo>
                  <a:pt x="4588" y="4366"/>
                </a:lnTo>
                <a:lnTo>
                  <a:pt x="4614" y="4498"/>
                </a:lnTo>
                <a:lnTo>
                  <a:pt x="4641" y="4578"/>
                </a:lnTo>
                <a:lnTo>
                  <a:pt x="4614" y="4710"/>
                </a:lnTo>
                <a:lnTo>
                  <a:pt x="4588" y="4922"/>
                </a:lnTo>
                <a:lnTo>
                  <a:pt x="4561" y="5160"/>
                </a:lnTo>
                <a:lnTo>
                  <a:pt x="4482" y="5319"/>
                </a:lnTo>
                <a:lnTo>
                  <a:pt x="4349" y="5473"/>
                </a:lnTo>
                <a:lnTo>
                  <a:pt x="4349" y="5614"/>
                </a:lnTo>
                <a:lnTo>
                  <a:pt x="4394" y="5799"/>
                </a:lnTo>
                <a:lnTo>
                  <a:pt x="4442" y="5984"/>
                </a:lnTo>
                <a:lnTo>
                  <a:pt x="4442" y="6170"/>
                </a:lnTo>
                <a:lnTo>
                  <a:pt x="4442" y="6311"/>
                </a:lnTo>
                <a:lnTo>
                  <a:pt x="4442" y="6496"/>
                </a:lnTo>
                <a:lnTo>
                  <a:pt x="4486" y="6725"/>
                </a:lnTo>
                <a:lnTo>
                  <a:pt x="4535" y="6866"/>
                </a:lnTo>
                <a:lnTo>
                  <a:pt x="4627" y="7052"/>
                </a:lnTo>
                <a:lnTo>
                  <a:pt x="4676" y="7237"/>
                </a:lnTo>
                <a:lnTo>
                  <a:pt x="4720" y="7378"/>
                </a:lnTo>
                <a:lnTo>
                  <a:pt x="4768" y="7607"/>
                </a:lnTo>
                <a:lnTo>
                  <a:pt x="4813" y="7748"/>
                </a:lnTo>
                <a:lnTo>
                  <a:pt x="4813" y="8026"/>
                </a:lnTo>
                <a:lnTo>
                  <a:pt x="4813" y="8260"/>
                </a:lnTo>
                <a:lnTo>
                  <a:pt x="4813" y="8445"/>
                </a:lnTo>
                <a:lnTo>
                  <a:pt x="4813" y="8723"/>
                </a:lnTo>
                <a:lnTo>
                  <a:pt x="4861" y="9186"/>
                </a:lnTo>
                <a:lnTo>
                  <a:pt x="4861" y="9420"/>
                </a:lnTo>
                <a:lnTo>
                  <a:pt x="4861" y="9883"/>
                </a:lnTo>
                <a:lnTo>
                  <a:pt x="4813" y="10024"/>
                </a:lnTo>
                <a:lnTo>
                  <a:pt x="4720" y="10209"/>
                </a:lnTo>
                <a:lnTo>
                  <a:pt x="4535" y="10906"/>
                </a:lnTo>
                <a:lnTo>
                  <a:pt x="4394" y="11135"/>
                </a:lnTo>
                <a:lnTo>
                  <a:pt x="4349" y="11276"/>
                </a:lnTo>
                <a:lnTo>
                  <a:pt x="4257" y="12763"/>
                </a:lnTo>
                <a:lnTo>
                  <a:pt x="4164" y="12948"/>
                </a:lnTo>
                <a:lnTo>
                  <a:pt x="4022" y="13085"/>
                </a:lnTo>
                <a:lnTo>
                  <a:pt x="3885" y="13226"/>
                </a:lnTo>
                <a:lnTo>
                  <a:pt x="3793" y="13367"/>
                </a:lnTo>
                <a:lnTo>
                  <a:pt x="3652" y="13504"/>
                </a:lnTo>
                <a:lnTo>
                  <a:pt x="3511" y="13597"/>
                </a:lnTo>
                <a:lnTo>
                  <a:pt x="3281" y="13830"/>
                </a:lnTo>
                <a:lnTo>
                  <a:pt x="3140" y="14016"/>
                </a:lnTo>
                <a:lnTo>
                  <a:pt x="1703" y="14664"/>
                </a:lnTo>
                <a:lnTo>
                  <a:pt x="1562" y="14712"/>
                </a:lnTo>
                <a:lnTo>
                  <a:pt x="1375" y="14712"/>
                </a:lnTo>
                <a:lnTo>
                  <a:pt x="1146" y="14898"/>
                </a:lnTo>
                <a:lnTo>
                  <a:pt x="1005" y="15034"/>
                </a:lnTo>
                <a:lnTo>
                  <a:pt x="864" y="15083"/>
                </a:lnTo>
                <a:lnTo>
                  <a:pt x="679" y="15131"/>
                </a:lnTo>
                <a:lnTo>
                  <a:pt x="493" y="15224"/>
                </a:lnTo>
                <a:lnTo>
                  <a:pt x="308" y="15268"/>
                </a:lnTo>
                <a:lnTo>
                  <a:pt x="264" y="15409"/>
                </a:lnTo>
                <a:lnTo>
                  <a:pt x="123" y="15502"/>
                </a:lnTo>
                <a:lnTo>
                  <a:pt x="0" y="1555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90800" y="3540240"/>
            <a:ext cx="359280" cy="1184760"/>
          </a:xfrm>
          <a:custGeom>
            <a:avLst/>
            <a:gdLst/>
            <a:ahLst/>
            <a:rect l="0" t="0" r="r" b="b"/>
            <a:pathLst>
              <a:path fill="none" w="998" h="3291">
                <a:moveTo>
                  <a:pt x="0" y="0"/>
                </a:moveTo>
                <a:lnTo>
                  <a:pt x="52" y="158"/>
                </a:lnTo>
                <a:lnTo>
                  <a:pt x="97" y="326"/>
                </a:lnTo>
                <a:lnTo>
                  <a:pt x="163" y="480"/>
                </a:lnTo>
                <a:lnTo>
                  <a:pt x="256" y="621"/>
                </a:lnTo>
                <a:lnTo>
                  <a:pt x="441" y="714"/>
                </a:lnTo>
                <a:lnTo>
                  <a:pt x="627" y="806"/>
                </a:lnTo>
                <a:lnTo>
                  <a:pt x="813" y="944"/>
                </a:lnTo>
                <a:lnTo>
                  <a:pt x="905" y="1085"/>
                </a:lnTo>
                <a:lnTo>
                  <a:pt x="998" y="1271"/>
                </a:lnTo>
                <a:lnTo>
                  <a:pt x="998" y="1456"/>
                </a:lnTo>
                <a:lnTo>
                  <a:pt x="998" y="1597"/>
                </a:lnTo>
                <a:lnTo>
                  <a:pt x="950" y="1826"/>
                </a:lnTo>
                <a:lnTo>
                  <a:pt x="813" y="1967"/>
                </a:lnTo>
                <a:lnTo>
                  <a:pt x="671" y="2104"/>
                </a:lnTo>
                <a:lnTo>
                  <a:pt x="627" y="2245"/>
                </a:lnTo>
                <a:lnTo>
                  <a:pt x="627" y="2386"/>
                </a:lnTo>
                <a:lnTo>
                  <a:pt x="534" y="2572"/>
                </a:lnTo>
                <a:lnTo>
                  <a:pt x="393" y="2665"/>
                </a:lnTo>
                <a:lnTo>
                  <a:pt x="256" y="2850"/>
                </a:lnTo>
                <a:lnTo>
                  <a:pt x="114" y="2987"/>
                </a:lnTo>
                <a:lnTo>
                  <a:pt x="0" y="329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49680" y="1357200"/>
            <a:ext cx="1756080" cy="5262840"/>
          </a:xfrm>
          <a:custGeom>
            <a:avLst/>
            <a:gdLst/>
            <a:ahLst/>
            <a:rect l="0" t="0" r="r" b="b"/>
            <a:pathLst>
              <a:path fill="none" w="4878" h="14619">
                <a:moveTo>
                  <a:pt x="3211" y="0"/>
                </a:moveTo>
                <a:lnTo>
                  <a:pt x="3250" y="489"/>
                </a:lnTo>
                <a:lnTo>
                  <a:pt x="3211" y="661"/>
                </a:lnTo>
                <a:lnTo>
                  <a:pt x="3224" y="767"/>
                </a:lnTo>
                <a:lnTo>
                  <a:pt x="3237" y="886"/>
                </a:lnTo>
                <a:lnTo>
                  <a:pt x="3277" y="965"/>
                </a:lnTo>
                <a:lnTo>
                  <a:pt x="3303" y="1018"/>
                </a:lnTo>
                <a:lnTo>
                  <a:pt x="3303" y="1111"/>
                </a:lnTo>
                <a:lnTo>
                  <a:pt x="3303" y="1124"/>
                </a:lnTo>
                <a:lnTo>
                  <a:pt x="3290" y="1137"/>
                </a:lnTo>
                <a:lnTo>
                  <a:pt x="3277" y="1190"/>
                </a:lnTo>
                <a:lnTo>
                  <a:pt x="3237" y="1270"/>
                </a:lnTo>
                <a:lnTo>
                  <a:pt x="3184" y="1283"/>
                </a:lnTo>
                <a:lnTo>
                  <a:pt x="3211" y="1389"/>
                </a:lnTo>
                <a:lnTo>
                  <a:pt x="3211" y="1455"/>
                </a:lnTo>
                <a:lnTo>
                  <a:pt x="3184" y="1508"/>
                </a:lnTo>
                <a:lnTo>
                  <a:pt x="3145" y="1653"/>
                </a:lnTo>
                <a:lnTo>
                  <a:pt x="3105" y="1746"/>
                </a:lnTo>
                <a:lnTo>
                  <a:pt x="3078" y="1905"/>
                </a:lnTo>
                <a:lnTo>
                  <a:pt x="3078" y="2037"/>
                </a:lnTo>
                <a:lnTo>
                  <a:pt x="3065" y="2222"/>
                </a:lnTo>
                <a:lnTo>
                  <a:pt x="3043" y="2332"/>
                </a:lnTo>
                <a:lnTo>
                  <a:pt x="3176" y="2456"/>
                </a:lnTo>
                <a:lnTo>
                  <a:pt x="3237" y="2597"/>
                </a:lnTo>
                <a:lnTo>
                  <a:pt x="3308" y="2729"/>
                </a:lnTo>
                <a:lnTo>
                  <a:pt x="3334" y="2861"/>
                </a:lnTo>
                <a:lnTo>
                  <a:pt x="3533" y="3016"/>
                </a:lnTo>
                <a:lnTo>
                  <a:pt x="3533" y="3157"/>
                </a:lnTo>
                <a:lnTo>
                  <a:pt x="3625" y="3386"/>
                </a:lnTo>
                <a:lnTo>
                  <a:pt x="3669" y="3527"/>
                </a:lnTo>
                <a:lnTo>
                  <a:pt x="3811" y="3757"/>
                </a:lnTo>
                <a:lnTo>
                  <a:pt x="3903" y="3898"/>
                </a:lnTo>
                <a:lnTo>
                  <a:pt x="3996" y="4083"/>
                </a:lnTo>
                <a:lnTo>
                  <a:pt x="4040" y="4224"/>
                </a:lnTo>
                <a:lnTo>
                  <a:pt x="4132" y="4409"/>
                </a:lnTo>
                <a:lnTo>
                  <a:pt x="4181" y="4594"/>
                </a:lnTo>
                <a:lnTo>
                  <a:pt x="4274" y="4780"/>
                </a:lnTo>
                <a:lnTo>
                  <a:pt x="4322" y="4965"/>
                </a:lnTo>
                <a:lnTo>
                  <a:pt x="4366" y="5106"/>
                </a:lnTo>
                <a:lnTo>
                  <a:pt x="4415" y="5291"/>
                </a:lnTo>
                <a:lnTo>
                  <a:pt x="4507" y="5569"/>
                </a:lnTo>
                <a:lnTo>
                  <a:pt x="4551" y="5803"/>
                </a:lnTo>
                <a:lnTo>
                  <a:pt x="4551" y="5988"/>
                </a:lnTo>
                <a:lnTo>
                  <a:pt x="4644" y="6173"/>
                </a:lnTo>
                <a:lnTo>
                  <a:pt x="4644" y="6402"/>
                </a:lnTo>
                <a:lnTo>
                  <a:pt x="4644" y="6544"/>
                </a:lnTo>
                <a:lnTo>
                  <a:pt x="4644" y="6729"/>
                </a:lnTo>
                <a:lnTo>
                  <a:pt x="4644" y="6914"/>
                </a:lnTo>
                <a:lnTo>
                  <a:pt x="4644" y="7055"/>
                </a:lnTo>
                <a:lnTo>
                  <a:pt x="4644" y="7378"/>
                </a:lnTo>
                <a:lnTo>
                  <a:pt x="4644" y="7519"/>
                </a:lnTo>
                <a:lnTo>
                  <a:pt x="4551" y="7660"/>
                </a:lnTo>
                <a:lnTo>
                  <a:pt x="4459" y="7889"/>
                </a:lnTo>
                <a:lnTo>
                  <a:pt x="4600" y="8308"/>
                </a:lnTo>
                <a:lnTo>
                  <a:pt x="4878" y="8586"/>
                </a:lnTo>
                <a:lnTo>
                  <a:pt x="4878" y="8820"/>
                </a:lnTo>
                <a:lnTo>
                  <a:pt x="4878" y="8913"/>
                </a:lnTo>
                <a:lnTo>
                  <a:pt x="4878" y="8913"/>
                </a:lnTo>
                <a:lnTo>
                  <a:pt x="4644" y="9098"/>
                </a:lnTo>
                <a:lnTo>
                  <a:pt x="4644" y="9283"/>
                </a:lnTo>
                <a:lnTo>
                  <a:pt x="4551" y="9468"/>
                </a:lnTo>
                <a:lnTo>
                  <a:pt x="4459" y="9653"/>
                </a:lnTo>
                <a:lnTo>
                  <a:pt x="4322" y="9746"/>
                </a:lnTo>
                <a:lnTo>
                  <a:pt x="4088" y="9931"/>
                </a:lnTo>
                <a:lnTo>
                  <a:pt x="3996" y="10165"/>
                </a:lnTo>
                <a:lnTo>
                  <a:pt x="3947" y="10306"/>
                </a:lnTo>
                <a:lnTo>
                  <a:pt x="3855" y="10862"/>
                </a:lnTo>
                <a:lnTo>
                  <a:pt x="3762" y="11139"/>
                </a:lnTo>
                <a:lnTo>
                  <a:pt x="3718" y="11281"/>
                </a:lnTo>
                <a:lnTo>
                  <a:pt x="3577" y="11744"/>
                </a:lnTo>
                <a:lnTo>
                  <a:pt x="3440" y="11977"/>
                </a:lnTo>
                <a:lnTo>
                  <a:pt x="3250" y="12163"/>
                </a:lnTo>
                <a:lnTo>
                  <a:pt x="2973" y="12440"/>
                </a:lnTo>
                <a:lnTo>
                  <a:pt x="2836" y="12670"/>
                </a:lnTo>
                <a:lnTo>
                  <a:pt x="2695" y="12762"/>
                </a:lnTo>
                <a:lnTo>
                  <a:pt x="2416" y="12952"/>
                </a:lnTo>
                <a:lnTo>
                  <a:pt x="2275" y="13044"/>
                </a:lnTo>
                <a:lnTo>
                  <a:pt x="2046" y="13137"/>
                </a:lnTo>
                <a:lnTo>
                  <a:pt x="1860" y="13322"/>
                </a:lnTo>
                <a:lnTo>
                  <a:pt x="1719" y="13366"/>
                </a:lnTo>
                <a:lnTo>
                  <a:pt x="1583" y="13507"/>
                </a:lnTo>
                <a:lnTo>
                  <a:pt x="1441" y="13552"/>
                </a:lnTo>
                <a:lnTo>
                  <a:pt x="1300" y="13644"/>
                </a:lnTo>
                <a:lnTo>
                  <a:pt x="1164" y="13785"/>
                </a:lnTo>
                <a:lnTo>
                  <a:pt x="978" y="14019"/>
                </a:lnTo>
                <a:lnTo>
                  <a:pt x="837" y="14112"/>
                </a:lnTo>
                <a:lnTo>
                  <a:pt x="652" y="14204"/>
                </a:lnTo>
                <a:lnTo>
                  <a:pt x="511" y="14297"/>
                </a:lnTo>
                <a:lnTo>
                  <a:pt x="282" y="14434"/>
                </a:lnTo>
                <a:lnTo>
                  <a:pt x="0" y="1461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57720" y="2643120"/>
            <a:ext cx="1452960" cy="3972240"/>
          </a:xfrm>
          <a:custGeom>
            <a:avLst/>
            <a:gdLst/>
            <a:ahLst/>
            <a:rect l="0" t="0" r="r" b="b"/>
            <a:pathLst>
              <a:path fill="none" w="4036" h="11034">
                <a:moveTo>
                  <a:pt x="2276" y="0"/>
                </a:moveTo>
                <a:lnTo>
                  <a:pt x="2369" y="224"/>
                </a:lnTo>
                <a:lnTo>
                  <a:pt x="2461" y="383"/>
                </a:lnTo>
                <a:lnTo>
                  <a:pt x="2501" y="595"/>
                </a:lnTo>
                <a:lnTo>
                  <a:pt x="2607" y="687"/>
                </a:lnTo>
                <a:lnTo>
                  <a:pt x="2726" y="917"/>
                </a:lnTo>
                <a:lnTo>
                  <a:pt x="2862" y="1102"/>
                </a:lnTo>
                <a:lnTo>
                  <a:pt x="2955" y="1287"/>
                </a:lnTo>
                <a:lnTo>
                  <a:pt x="3049" y="1428"/>
                </a:lnTo>
                <a:lnTo>
                  <a:pt x="3141" y="1613"/>
                </a:lnTo>
                <a:lnTo>
                  <a:pt x="3282" y="1750"/>
                </a:lnTo>
                <a:lnTo>
                  <a:pt x="3326" y="1891"/>
                </a:lnTo>
                <a:lnTo>
                  <a:pt x="3468" y="2076"/>
                </a:lnTo>
                <a:lnTo>
                  <a:pt x="3516" y="2218"/>
                </a:lnTo>
                <a:lnTo>
                  <a:pt x="3609" y="2403"/>
                </a:lnTo>
                <a:lnTo>
                  <a:pt x="3701" y="2632"/>
                </a:lnTo>
                <a:lnTo>
                  <a:pt x="3745" y="2773"/>
                </a:lnTo>
                <a:lnTo>
                  <a:pt x="3838" y="2958"/>
                </a:lnTo>
                <a:lnTo>
                  <a:pt x="3838" y="3100"/>
                </a:lnTo>
                <a:lnTo>
                  <a:pt x="3886" y="3285"/>
                </a:lnTo>
                <a:lnTo>
                  <a:pt x="3886" y="3470"/>
                </a:lnTo>
                <a:lnTo>
                  <a:pt x="3886" y="3792"/>
                </a:lnTo>
                <a:lnTo>
                  <a:pt x="3886" y="3933"/>
                </a:lnTo>
                <a:lnTo>
                  <a:pt x="3886" y="4074"/>
                </a:lnTo>
                <a:lnTo>
                  <a:pt x="3886" y="4259"/>
                </a:lnTo>
                <a:lnTo>
                  <a:pt x="3931" y="4445"/>
                </a:lnTo>
                <a:lnTo>
                  <a:pt x="3891" y="4709"/>
                </a:lnTo>
                <a:lnTo>
                  <a:pt x="3904" y="4815"/>
                </a:lnTo>
                <a:lnTo>
                  <a:pt x="3917" y="4881"/>
                </a:lnTo>
                <a:lnTo>
                  <a:pt x="3944" y="4960"/>
                </a:lnTo>
                <a:lnTo>
                  <a:pt x="3970" y="5053"/>
                </a:lnTo>
                <a:lnTo>
                  <a:pt x="4010" y="5199"/>
                </a:lnTo>
                <a:lnTo>
                  <a:pt x="4023" y="5291"/>
                </a:lnTo>
                <a:lnTo>
                  <a:pt x="4036" y="5476"/>
                </a:lnTo>
                <a:lnTo>
                  <a:pt x="3983" y="5610"/>
                </a:lnTo>
                <a:lnTo>
                  <a:pt x="3891" y="5768"/>
                </a:lnTo>
                <a:lnTo>
                  <a:pt x="3772" y="6007"/>
                </a:lnTo>
                <a:lnTo>
                  <a:pt x="3679" y="6152"/>
                </a:lnTo>
                <a:lnTo>
                  <a:pt x="3600" y="6258"/>
                </a:lnTo>
                <a:lnTo>
                  <a:pt x="3454" y="6324"/>
                </a:lnTo>
                <a:lnTo>
                  <a:pt x="3335" y="6443"/>
                </a:lnTo>
                <a:lnTo>
                  <a:pt x="3243" y="6509"/>
                </a:lnTo>
                <a:lnTo>
                  <a:pt x="3150" y="6602"/>
                </a:lnTo>
                <a:lnTo>
                  <a:pt x="3044" y="6734"/>
                </a:lnTo>
                <a:lnTo>
                  <a:pt x="3004" y="6880"/>
                </a:lnTo>
                <a:lnTo>
                  <a:pt x="2977" y="7038"/>
                </a:lnTo>
                <a:lnTo>
                  <a:pt x="2911" y="7197"/>
                </a:lnTo>
                <a:lnTo>
                  <a:pt x="2832" y="7369"/>
                </a:lnTo>
                <a:lnTo>
                  <a:pt x="2752" y="7634"/>
                </a:lnTo>
                <a:lnTo>
                  <a:pt x="2699" y="7819"/>
                </a:lnTo>
                <a:lnTo>
                  <a:pt x="2567" y="8070"/>
                </a:lnTo>
                <a:lnTo>
                  <a:pt x="2435" y="8335"/>
                </a:lnTo>
                <a:lnTo>
                  <a:pt x="2316" y="8560"/>
                </a:lnTo>
                <a:lnTo>
                  <a:pt x="2249" y="8785"/>
                </a:lnTo>
                <a:lnTo>
                  <a:pt x="2197" y="8943"/>
                </a:lnTo>
                <a:lnTo>
                  <a:pt x="2025" y="9129"/>
                </a:lnTo>
                <a:lnTo>
                  <a:pt x="1866" y="9340"/>
                </a:lnTo>
                <a:lnTo>
                  <a:pt x="1522" y="9539"/>
                </a:lnTo>
                <a:lnTo>
                  <a:pt x="1390" y="9724"/>
                </a:lnTo>
                <a:lnTo>
                  <a:pt x="1178" y="9883"/>
                </a:lnTo>
                <a:lnTo>
                  <a:pt x="978" y="10041"/>
                </a:lnTo>
                <a:lnTo>
                  <a:pt x="740" y="10253"/>
                </a:lnTo>
                <a:lnTo>
                  <a:pt x="502" y="10359"/>
                </a:lnTo>
                <a:lnTo>
                  <a:pt x="370" y="10491"/>
                </a:lnTo>
                <a:lnTo>
                  <a:pt x="145" y="10756"/>
                </a:lnTo>
                <a:lnTo>
                  <a:pt x="0" y="1103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03840" y="235080"/>
            <a:ext cx="3097440" cy="4447080"/>
          </a:xfrm>
          <a:custGeom>
            <a:avLst/>
            <a:gdLst/>
            <a:ahLst/>
            <a:rect l="0" t="0" r="r" b="b"/>
            <a:pathLst>
              <a:path fill="none" w="8604" h="12353">
                <a:moveTo>
                  <a:pt x="304" y="0"/>
                </a:moveTo>
                <a:lnTo>
                  <a:pt x="277" y="101"/>
                </a:lnTo>
                <a:lnTo>
                  <a:pt x="277" y="286"/>
                </a:lnTo>
                <a:lnTo>
                  <a:pt x="277" y="471"/>
                </a:lnTo>
                <a:lnTo>
                  <a:pt x="277" y="657"/>
                </a:lnTo>
                <a:lnTo>
                  <a:pt x="326" y="842"/>
                </a:lnTo>
                <a:lnTo>
                  <a:pt x="370" y="983"/>
                </a:lnTo>
                <a:lnTo>
                  <a:pt x="370" y="1168"/>
                </a:lnTo>
                <a:lnTo>
                  <a:pt x="370" y="1353"/>
                </a:lnTo>
                <a:lnTo>
                  <a:pt x="277" y="1538"/>
                </a:lnTo>
                <a:lnTo>
                  <a:pt x="233" y="1724"/>
                </a:lnTo>
                <a:lnTo>
                  <a:pt x="141" y="1865"/>
                </a:lnTo>
                <a:lnTo>
                  <a:pt x="92" y="2050"/>
                </a:lnTo>
                <a:lnTo>
                  <a:pt x="92" y="2235"/>
                </a:lnTo>
                <a:lnTo>
                  <a:pt x="92" y="2420"/>
                </a:lnTo>
                <a:lnTo>
                  <a:pt x="44" y="2606"/>
                </a:lnTo>
                <a:lnTo>
                  <a:pt x="0" y="2747"/>
                </a:lnTo>
                <a:lnTo>
                  <a:pt x="0" y="2932"/>
                </a:lnTo>
                <a:lnTo>
                  <a:pt x="0" y="3118"/>
                </a:lnTo>
                <a:lnTo>
                  <a:pt x="92" y="3303"/>
                </a:lnTo>
                <a:lnTo>
                  <a:pt x="141" y="3489"/>
                </a:lnTo>
                <a:lnTo>
                  <a:pt x="185" y="3630"/>
                </a:lnTo>
                <a:lnTo>
                  <a:pt x="233" y="3815"/>
                </a:lnTo>
                <a:lnTo>
                  <a:pt x="233" y="4000"/>
                </a:lnTo>
                <a:lnTo>
                  <a:pt x="233" y="4185"/>
                </a:lnTo>
                <a:lnTo>
                  <a:pt x="277" y="4371"/>
                </a:lnTo>
                <a:lnTo>
                  <a:pt x="326" y="4512"/>
                </a:lnTo>
                <a:lnTo>
                  <a:pt x="326" y="4697"/>
                </a:lnTo>
                <a:lnTo>
                  <a:pt x="370" y="4975"/>
                </a:lnTo>
                <a:lnTo>
                  <a:pt x="463" y="5160"/>
                </a:lnTo>
                <a:lnTo>
                  <a:pt x="511" y="5345"/>
                </a:lnTo>
                <a:lnTo>
                  <a:pt x="511" y="5486"/>
                </a:lnTo>
                <a:lnTo>
                  <a:pt x="511" y="5716"/>
                </a:lnTo>
                <a:lnTo>
                  <a:pt x="511" y="5857"/>
                </a:lnTo>
                <a:lnTo>
                  <a:pt x="555" y="6042"/>
                </a:lnTo>
                <a:lnTo>
                  <a:pt x="604" y="6227"/>
                </a:lnTo>
                <a:lnTo>
                  <a:pt x="648" y="6368"/>
                </a:lnTo>
                <a:lnTo>
                  <a:pt x="648" y="6553"/>
                </a:lnTo>
                <a:lnTo>
                  <a:pt x="789" y="6739"/>
                </a:lnTo>
                <a:lnTo>
                  <a:pt x="926" y="6924"/>
                </a:lnTo>
                <a:lnTo>
                  <a:pt x="1023" y="7109"/>
                </a:lnTo>
                <a:lnTo>
                  <a:pt x="1115" y="7250"/>
                </a:lnTo>
                <a:lnTo>
                  <a:pt x="1300" y="7387"/>
                </a:lnTo>
                <a:lnTo>
                  <a:pt x="1393" y="7528"/>
                </a:lnTo>
                <a:lnTo>
                  <a:pt x="1530" y="7713"/>
                </a:lnTo>
                <a:lnTo>
                  <a:pt x="1671" y="7850"/>
                </a:lnTo>
                <a:lnTo>
                  <a:pt x="1715" y="7991"/>
                </a:lnTo>
                <a:lnTo>
                  <a:pt x="1807" y="8132"/>
                </a:lnTo>
                <a:lnTo>
                  <a:pt x="1905" y="8317"/>
                </a:lnTo>
                <a:lnTo>
                  <a:pt x="2041" y="8502"/>
                </a:lnTo>
                <a:lnTo>
                  <a:pt x="2134" y="8688"/>
                </a:lnTo>
                <a:lnTo>
                  <a:pt x="2275" y="8873"/>
                </a:lnTo>
                <a:lnTo>
                  <a:pt x="2319" y="9014"/>
                </a:lnTo>
                <a:lnTo>
                  <a:pt x="2460" y="9151"/>
                </a:lnTo>
                <a:lnTo>
                  <a:pt x="2504" y="9293"/>
                </a:lnTo>
                <a:lnTo>
                  <a:pt x="2553" y="9478"/>
                </a:lnTo>
                <a:lnTo>
                  <a:pt x="2597" y="9663"/>
                </a:lnTo>
                <a:lnTo>
                  <a:pt x="2645" y="9804"/>
                </a:lnTo>
                <a:lnTo>
                  <a:pt x="2689" y="10034"/>
                </a:lnTo>
                <a:lnTo>
                  <a:pt x="2738" y="10175"/>
                </a:lnTo>
                <a:lnTo>
                  <a:pt x="2831" y="10360"/>
                </a:lnTo>
                <a:lnTo>
                  <a:pt x="2879" y="10589"/>
                </a:lnTo>
                <a:lnTo>
                  <a:pt x="2923" y="10730"/>
                </a:lnTo>
                <a:lnTo>
                  <a:pt x="2923" y="10871"/>
                </a:lnTo>
                <a:lnTo>
                  <a:pt x="2972" y="11057"/>
                </a:lnTo>
                <a:lnTo>
                  <a:pt x="3064" y="11242"/>
                </a:lnTo>
                <a:lnTo>
                  <a:pt x="3157" y="11427"/>
                </a:lnTo>
                <a:lnTo>
                  <a:pt x="3249" y="11568"/>
                </a:lnTo>
                <a:lnTo>
                  <a:pt x="3386" y="11753"/>
                </a:lnTo>
                <a:lnTo>
                  <a:pt x="3527" y="11939"/>
                </a:lnTo>
                <a:lnTo>
                  <a:pt x="3668" y="11983"/>
                </a:lnTo>
                <a:lnTo>
                  <a:pt x="3854" y="12031"/>
                </a:lnTo>
                <a:lnTo>
                  <a:pt x="4039" y="12168"/>
                </a:lnTo>
                <a:lnTo>
                  <a:pt x="4131" y="12309"/>
                </a:lnTo>
                <a:lnTo>
                  <a:pt x="4318" y="12353"/>
                </a:lnTo>
                <a:lnTo>
                  <a:pt x="4503" y="12353"/>
                </a:lnTo>
                <a:lnTo>
                  <a:pt x="4644" y="12309"/>
                </a:lnTo>
                <a:lnTo>
                  <a:pt x="4829" y="12261"/>
                </a:lnTo>
                <a:lnTo>
                  <a:pt x="5014" y="12216"/>
                </a:lnTo>
                <a:lnTo>
                  <a:pt x="5200" y="12075"/>
                </a:lnTo>
                <a:lnTo>
                  <a:pt x="5336" y="11890"/>
                </a:lnTo>
                <a:lnTo>
                  <a:pt x="5477" y="11753"/>
                </a:lnTo>
                <a:lnTo>
                  <a:pt x="5618" y="11612"/>
                </a:lnTo>
                <a:lnTo>
                  <a:pt x="5755" y="11471"/>
                </a:lnTo>
                <a:lnTo>
                  <a:pt x="5896" y="11379"/>
                </a:lnTo>
                <a:lnTo>
                  <a:pt x="6126" y="11237"/>
                </a:lnTo>
                <a:lnTo>
                  <a:pt x="6249" y="11132"/>
                </a:lnTo>
                <a:lnTo>
                  <a:pt x="6373" y="11026"/>
                </a:lnTo>
                <a:lnTo>
                  <a:pt x="6549" y="10938"/>
                </a:lnTo>
                <a:lnTo>
                  <a:pt x="6743" y="10832"/>
                </a:lnTo>
                <a:lnTo>
                  <a:pt x="6915" y="10779"/>
                </a:lnTo>
                <a:lnTo>
                  <a:pt x="7056" y="10779"/>
                </a:lnTo>
                <a:lnTo>
                  <a:pt x="7197" y="10730"/>
                </a:lnTo>
                <a:lnTo>
                  <a:pt x="7426" y="10589"/>
                </a:lnTo>
                <a:lnTo>
                  <a:pt x="7568" y="10453"/>
                </a:lnTo>
                <a:lnTo>
                  <a:pt x="7704" y="10311"/>
                </a:lnTo>
                <a:lnTo>
                  <a:pt x="7845" y="10126"/>
                </a:lnTo>
                <a:lnTo>
                  <a:pt x="7982" y="9941"/>
                </a:lnTo>
                <a:lnTo>
                  <a:pt x="8123" y="9804"/>
                </a:lnTo>
                <a:lnTo>
                  <a:pt x="8264" y="9707"/>
                </a:lnTo>
                <a:lnTo>
                  <a:pt x="8450" y="9615"/>
                </a:lnTo>
                <a:lnTo>
                  <a:pt x="8604" y="958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51440" y="237960"/>
            <a:ext cx="2953080" cy="3358080"/>
          </a:xfrm>
          <a:custGeom>
            <a:avLst/>
            <a:gdLst/>
            <a:ahLst/>
            <a:rect l="0" t="0" r="r" b="b"/>
            <a:pathLst>
              <a:path fill="none" w="8203" h="9328">
                <a:moveTo>
                  <a:pt x="0" y="0"/>
                </a:moveTo>
                <a:lnTo>
                  <a:pt x="44" y="487"/>
                </a:lnTo>
                <a:lnTo>
                  <a:pt x="123" y="619"/>
                </a:lnTo>
                <a:lnTo>
                  <a:pt x="194" y="792"/>
                </a:lnTo>
                <a:lnTo>
                  <a:pt x="286" y="984"/>
                </a:lnTo>
                <a:lnTo>
                  <a:pt x="379" y="1175"/>
                </a:lnTo>
                <a:lnTo>
                  <a:pt x="471" y="1366"/>
                </a:lnTo>
                <a:lnTo>
                  <a:pt x="471" y="1558"/>
                </a:lnTo>
                <a:lnTo>
                  <a:pt x="515" y="1704"/>
                </a:lnTo>
                <a:lnTo>
                  <a:pt x="612" y="1895"/>
                </a:lnTo>
                <a:lnTo>
                  <a:pt x="749" y="2086"/>
                </a:lnTo>
                <a:lnTo>
                  <a:pt x="842" y="2278"/>
                </a:lnTo>
                <a:lnTo>
                  <a:pt x="1027" y="2470"/>
                </a:lnTo>
                <a:lnTo>
                  <a:pt x="1075" y="2616"/>
                </a:lnTo>
                <a:lnTo>
                  <a:pt x="1212" y="2807"/>
                </a:lnTo>
                <a:lnTo>
                  <a:pt x="1305" y="2998"/>
                </a:lnTo>
                <a:lnTo>
                  <a:pt x="1397" y="3190"/>
                </a:lnTo>
                <a:lnTo>
                  <a:pt x="1446" y="3381"/>
                </a:lnTo>
                <a:lnTo>
                  <a:pt x="1587" y="3477"/>
                </a:lnTo>
                <a:lnTo>
                  <a:pt x="1772" y="3623"/>
                </a:lnTo>
                <a:lnTo>
                  <a:pt x="1957" y="3764"/>
                </a:lnTo>
                <a:lnTo>
                  <a:pt x="2094" y="3910"/>
                </a:lnTo>
                <a:lnTo>
                  <a:pt x="2235" y="4101"/>
                </a:lnTo>
                <a:lnTo>
                  <a:pt x="2420" y="4292"/>
                </a:lnTo>
                <a:lnTo>
                  <a:pt x="2562" y="4484"/>
                </a:lnTo>
                <a:lnTo>
                  <a:pt x="2698" y="4725"/>
                </a:lnTo>
                <a:lnTo>
                  <a:pt x="2883" y="4962"/>
                </a:lnTo>
                <a:lnTo>
                  <a:pt x="2932" y="5108"/>
                </a:lnTo>
                <a:lnTo>
                  <a:pt x="3069" y="5299"/>
                </a:lnTo>
                <a:lnTo>
                  <a:pt x="3161" y="5445"/>
                </a:lnTo>
                <a:lnTo>
                  <a:pt x="3258" y="5682"/>
                </a:lnTo>
                <a:lnTo>
                  <a:pt x="3443" y="5873"/>
                </a:lnTo>
                <a:lnTo>
                  <a:pt x="3721" y="5924"/>
                </a:lnTo>
                <a:lnTo>
                  <a:pt x="3907" y="6019"/>
                </a:lnTo>
                <a:lnTo>
                  <a:pt x="4092" y="6165"/>
                </a:lnTo>
                <a:lnTo>
                  <a:pt x="4234" y="6261"/>
                </a:lnTo>
                <a:lnTo>
                  <a:pt x="4419" y="6402"/>
                </a:lnTo>
                <a:lnTo>
                  <a:pt x="4556" y="6548"/>
                </a:lnTo>
                <a:lnTo>
                  <a:pt x="4697" y="6739"/>
                </a:lnTo>
                <a:lnTo>
                  <a:pt x="4882" y="7027"/>
                </a:lnTo>
                <a:lnTo>
                  <a:pt x="4975" y="7173"/>
                </a:lnTo>
                <a:lnTo>
                  <a:pt x="5116" y="7364"/>
                </a:lnTo>
                <a:lnTo>
                  <a:pt x="5252" y="7556"/>
                </a:lnTo>
                <a:lnTo>
                  <a:pt x="5394" y="7747"/>
                </a:lnTo>
                <a:lnTo>
                  <a:pt x="5579" y="7989"/>
                </a:lnTo>
                <a:lnTo>
                  <a:pt x="5764" y="8084"/>
                </a:lnTo>
                <a:lnTo>
                  <a:pt x="5905" y="8225"/>
                </a:lnTo>
                <a:lnTo>
                  <a:pt x="6134" y="8417"/>
                </a:lnTo>
                <a:lnTo>
                  <a:pt x="6276" y="8563"/>
                </a:lnTo>
                <a:lnTo>
                  <a:pt x="6412" y="8754"/>
                </a:lnTo>
                <a:lnTo>
                  <a:pt x="6505" y="8900"/>
                </a:lnTo>
                <a:lnTo>
                  <a:pt x="6646" y="9091"/>
                </a:lnTo>
                <a:lnTo>
                  <a:pt x="6787" y="9187"/>
                </a:lnTo>
                <a:lnTo>
                  <a:pt x="6972" y="9283"/>
                </a:lnTo>
                <a:lnTo>
                  <a:pt x="7157" y="9283"/>
                </a:lnTo>
                <a:lnTo>
                  <a:pt x="7343" y="9328"/>
                </a:lnTo>
                <a:lnTo>
                  <a:pt x="7603" y="9287"/>
                </a:lnTo>
                <a:lnTo>
                  <a:pt x="7744" y="9305"/>
                </a:lnTo>
                <a:lnTo>
                  <a:pt x="7867" y="9251"/>
                </a:lnTo>
                <a:lnTo>
                  <a:pt x="8026" y="9214"/>
                </a:lnTo>
                <a:lnTo>
                  <a:pt x="8203" y="9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86280" y="863640"/>
            <a:ext cx="3018240" cy="3183120"/>
          </a:xfrm>
          <a:custGeom>
            <a:avLst/>
            <a:gdLst/>
            <a:ahLst/>
            <a:rect l="0" t="0" r="r" b="b"/>
            <a:pathLst>
              <a:path fill="none" w="8384" h="8842">
                <a:moveTo>
                  <a:pt x="0" y="0"/>
                </a:moveTo>
                <a:lnTo>
                  <a:pt x="4" y="286"/>
                </a:lnTo>
                <a:lnTo>
                  <a:pt x="26" y="564"/>
                </a:lnTo>
                <a:lnTo>
                  <a:pt x="92" y="1045"/>
                </a:lnTo>
                <a:lnTo>
                  <a:pt x="357" y="1807"/>
                </a:lnTo>
                <a:lnTo>
                  <a:pt x="648" y="2390"/>
                </a:lnTo>
                <a:lnTo>
                  <a:pt x="793" y="2623"/>
                </a:lnTo>
                <a:lnTo>
                  <a:pt x="837" y="2764"/>
                </a:lnTo>
                <a:lnTo>
                  <a:pt x="930" y="2950"/>
                </a:lnTo>
                <a:lnTo>
                  <a:pt x="1023" y="3135"/>
                </a:lnTo>
                <a:lnTo>
                  <a:pt x="1115" y="3320"/>
                </a:lnTo>
                <a:lnTo>
                  <a:pt x="1115" y="3505"/>
                </a:lnTo>
                <a:lnTo>
                  <a:pt x="1115" y="3646"/>
                </a:lnTo>
                <a:lnTo>
                  <a:pt x="1164" y="3832"/>
                </a:lnTo>
                <a:lnTo>
                  <a:pt x="1208" y="4017"/>
                </a:lnTo>
                <a:lnTo>
                  <a:pt x="1208" y="4202"/>
                </a:lnTo>
                <a:lnTo>
                  <a:pt x="1300" y="4387"/>
                </a:lnTo>
                <a:lnTo>
                  <a:pt x="1349" y="4666"/>
                </a:lnTo>
                <a:lnTo>
                  <a:pt x="1393" y="4807"/>
                </a:lnTo>
                <a:lnTo>
                  <a:pt x="1393" y="5036"/>
                </a:lnTo>
                <a:lnTo>
                  <a:pt x="1578" y="5178"/>
                </a:lnTo>
                <a:lnTo>
                  <a:pt x="1719" y="5270"/>
                </a:lnTo>
                <a:lnTo>
                  <a:pt x="1860" y="5363"/>
                </a:lnTo>
                <a:lnTo>
                  <a:pt x="1953" y="5504"/>
                </a:lnTo>
                <a:lnTo>
                  <a:pt x="2183" y="5733"/>
                </a:lnTo>
                <a:lnTo>
                  <a:pt x="2324" y="5874"/>
                </a:lnTo>
                <a:lnTo>
                  <a:pt x="2510" y="6152"/>
                </a:lnTo>
                <a:lnTo>
                  <a:pt x="2651" y="6337"/>
                </a:lnTo>
                <a:lnTo>
                  <a:pt x="2743" y="6478"/>
                </a:lnTo>
                <a:lnTo>
                  <a:pt x="2880" y="6708"/>
                </a:lnTo>
                <a:lnTo>
                  <a:pt x="2929" y="6849"/>
                </a:lnTo>
                <a:lnTo>
                  <a:pt x="3065" y="7034"/>
                </a:lnTo>
                <a:lnTo>
                  <a:pt x="3114" y="7175"/>
                </a:lnTo>
                <a:lnTo>
                  <a:pt x="3206" y="7360"/>
                </a:lnTo>
                <a:lnTo>
                  <a:pt x="3250" y="7546"/>
                </a:lnTo>
                <a:lnTo>
                  <a:pt x="3343" y="7731"/>
                </a:lnTo>
                <a:lnTo>
                  <a:pt x="3392" y="7916"/>
                </a:lnTo>
                <a:lnTo>
                  <a:pt x="3440" y="8057"/>
                </a:lnTo>
                <a:lnTo>
                  <a:pt x="3577" y="8286"/>
                </a:lnTo>
                <a:lnTo>
                  <a:pt x="3669" y="8427"/>
                </a:lnTo>
                <a:lnTo>
                  <a:pt x="3811" y="8564"/>
                </a:lnTo>
                <a:lnTo>
                  <a:pt x="3996" y="8749"/>
                </a:lnTo>
                <a:lnTo>
                  <a:pt x="4181" y="8842"/>
                </a:lnTo>
                <a:lnTo>
                  <a:pt x="4366" y="8842"/>
                </a:lnTo>
                <a:lnTo>
                  <a:pt x="4507" y="8842"/>
                </a:lnTo>
                <a:lnTo>
                  <a:pt x="4737" y="8798"/>
                </a:lnTo>
                <a:lnTo>
                  <a:pt x="4878" y="8749"/>
                </a:lnTo>
                <a:lnTo>
                  <a:pt x="5063" y="8657"/>
                </a:lnTo>
                <a:lnTo>
                  <a:pt x="5204" y="8613"/>
                </a:lnTo>
                <a:lnTo>
                  <a:pt x="5389" y="8564"/>
                </a:lnTo>
                <a:lnTo>
                  <a:pt x="5574" y="8520"/>
                </a:lnTo>
                <a:lnTo>
                  <a:pt x="5804" y="8472"/>
                </a:lnTo>
                <a:lnTo>
                  <a:pt x="5945" y="8427"/>
                </a:lnTo>
                <a:lnTo>
                  <a:pt x="6086" y="8379"/>
                </a:lnTo>
                <a:lnTo>
                  <a:pt x="6271" y="8286"/>
                </a:lnTo>
                <a:lnTo>
                  <a:pt x="6501" y="8286"/>
                </a:lnTo>
                <a:lnTo>
                  <a:pt x="6643" y="8286"/>
                </a:lnTo>
                <a:lnTo>
                  <a:pt x="6828" y="8242"/>
                </a:lnTo>
                <a:lnTo>
                  <a:pt x="6969" y="8194"/>
                </a:lnTo>
                <a:lnTo>
                  <a:pt x="7154" y="8150"/>
                </a:lnTo>
                <a:lnTo>
                  <a:pt x="7339" y="8057"/>
                </a:lnTo>
                <a:lnTo>
                  <a:pt x="7450" y="7973"/>
                </a:lnTo>
                <a:lnTo>
                  <a:pt x="7661" y="7832"/>
                </a:lnTo>
                <a:lnTo>
                  <a:pt x="7820" y="7744"/>
                </a:lnTo>
                <a:lnTo>
                  <a:pt x="8085" y="7638"/>
                </a:lnTo>
                <a:lnTo>
                  <a:pt x="8384" y="760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09960" y="1366920"/>
            <a:ext cx="3091320" cy="3154680"/>
          </a:xfrm>
          <a:custGeom>
            <a:avLst/>
            <a:gdLst/>
            <a:ahLst/>
            <a:rect l="0" t="0" r="r" b="b"/>
            <a:pathLst>
              <a:path fill="none" w="8587" h="8763">
                <a:moveTo>
                  <a:pt x="0" y="0"/>
                </a:moveTo>
                <a:lnTo>
                  <a:pt x="198" y="224"/>
                </a:lnTo>
                <a:lnTo>
                  <a:pt x="330" y="449"/>
                </a:lnTo>
                <a:lnTo>
                  <a:pt x="423" y="727"/>
                </a:lnTo>
                <a:lnTo>
                  <a:pt x="476" y="1084"/>
                </a:lnTo>
                <a:lnTo>
                  <a:pt x="515" y="1415"/>
                </a:lnTo>
                <a:lnTo>
                  <a:pt x="648" y="1746"/>
                </a:lnTo>
                <a:lnTo>
                  <a:pt x="701" y="2037"/>
                </a:lnTo>
                <a:lnTo>
                  <a:pt x="912" y="2262"/>
                </a:lnTo>
                <a:lnTo>
                  <a:pt x="912" y="2447"/>
                </a:lnTo>
                <a:lnTo>
                  <a:pt x="912" y="2579"/>
                </a:lnTo>
                <a:lnTo>
                  <a:pt x="886" y="2764"/>
                </a:lnTo>
                <a:lnTo>
                  <a:pt x="939" y="2870"/>
                </a:lnTo>
                <a:lnTo>
                  <a:pt x="992" y="3055"/>
                </a:lnTo>
                <a:lnTo>
                  <a:pt x="1018" y="3161"/>
                </a:lnTo>
                <a:lnTo>
                  <a:pt x="1124" y="3452"/>
                </a:lnTo>
                <a:lnTo>
                  <a:pt x="1124" y="3558"/>
                </a:lnTo>
                <a:lnTo>
                  <a:pt x="1230" y="3664"/>
                </a:lnTo>
                <a:lnTo>
                  <a:pt x="1336" y="3770"/>
                </a:lnTo>
                <a:lnTo>
                  <a:pt x="1494" y="3876"/>
                </a:lnTo>
                <a:lnTo>
                  <a:pt x="1653" y="4087"/>
                </a:lnTo>
                <a:lnTo>
                  <a:pt x="1838" y="4378"/>
                </a:lnTo>
                <a:lnTo>
                  <a:pt x="1971" y="4485"/>
                </a:lnTo>
                <a:lnTo>
                  <a:pt x="2103" y="4697"/>
                </a:lnTo>
                <a:lnTo>
                  <a:pt x="2210" y="4882"/>
                </a:lnTo>
                <a:lnTo>
                  <a:pt x="2263" y="5120"/>
                </a:lnTo>
                <a:lnTo>
                  <a:pt x="2395" y="5385"/>
                </a:lnTo>
                <a:lnTo>
                  <a:pt x="2448" y="5491"/>
                </a:lnTo>
                <a:lnTo>
                  <a:pt x="2554" y="5623"/>
                </a:lnTo>
                <a:lnTo>
                  <a:pt x="2492" y="5746"/>
                </a:lnTo>
                <a:lnTo>
                  <a:pt x="2527" y="5799"/>
                </a:lnTo>
                <a:lnTo>
                  <a:pt x="2563" y="5870"/>
                </a:lnTo>
                <a:lnTo>
                  <a:pt x="2598" y="5923"/>
                </a:lnTo>
                <a:lnTo>
                  <a:pt x="2615" y="5976"/>
                </a:lnTo>
                <a:lnTo>
                  <a:pt x="2651" y="6046"/>
                </a:lnTo>
                <a:lnTo>
                  <a:pt x="2686" y="6099"/>
                </a:lnTo>
                <a:lnTo>
                  <a:pt x="2721" y="6170"/>
                </a:lnTo>
                <a:lnTo>
                  <a:pt x="2721" y="6223"/>
                </a:lnTo>
                <a:lnTo>
                  <a:pt x="2757" y="6276"/>
                </a:lnTo>
                <a:lnTo>
                  <a:pt x="2774" y="6346"/>
                </a:lnTo>
                <a:lnTo>
                  <a:pt x="2809" y="6399"/>
                </a:lnTo>
                <a:lnTo>
                  <a:pt x="2827" y="6452"/>
                </a:lnTo>
                <a:lnTo>
                  <a:pt x="2862" y="6522"/>
                </a:lnTo>
                <a:lnTo>
                  <a:pt x="2880" y="6575"/>
                </a:lnTo>
                <a:lnTo>
                  <a:pt x="2898" y="6628"/>
                </a:lnTo>
                <a:lnTo>
                  <a:pt x="2915" y="6681"/>
                </a:lnTo>
                <a:lnTo>
                  <a:pt x="2933" y="6734"/>
                </a:lnTo>
                <a:lnTo>
                  <a:pt x="2968" y="6787"/>
                </a:lnTo>
                <a:lnTo>
                  <a:pt x="2968" y="6840"/>
                </a:lnTo>
                <a:lnTo>
                  <a:pt x="2986" y="6893"/>
                </a:lnTo>
                <a:lnTo>
                  <a:pt x="3021" y="6963"/>
                </a:lnTo>
                <a:lnTo>
                  <a:pt x="3039" y="7016"/>
                </a:lnTo>
                <a:lnTo>
                  <a:pt x="3039" y="7069"/>
                </a:lnTo>
                <a:lnTo>
                  <a:pt x="3074" y="7122"/>
                </a:lnTo>
                <a:lnTo>
                  <a:pt x="3109" y="7175"/>
                </a:lnTo>
                <a:lnTo>
                  <a:pt x="3145" y="7263"/>
                </a:lnTo>
                <a:lnTo>
                  <a:pt x="3162" y="7316"/>
                </a:lnTo>
                <a:lnTo>
                  <a:pt x="3198" y="7404"/>
                </a:lnTo>
                <a:lnTo>
                  <a:pt x="3233" y="7457"/>
                </a:lnTo>
                <a:lnTo>
                  <a:pt x="3268" y="7528"/>
                </a:lnTo>
                <a:lnTo>
                  <a:pt x="3286" y="7581"/>
                </a:lnTo>
                <a:lnTo>
                  <a:pt x="3321" y="7634"/>
                </a:lnTo>
                <a:lnTo>
                  <a:pt x="3339" y="7687"/>
                </a:lnTo>
                <a:lnTo>
                  <a:pt x="3356" y="7740"/>
                </a:lnTo>
                <a:lnTo>
                  <a:pt x="3392" y="7810"/>
                </a:lnTo>
                <a:lnTo>
                  <a:pt x="3444" y="7863"/>
                </a:lnTo>
                <a:lnTo>
                  <a:pt x="3480" y="7934"/>
                </a:lnTo>
                <a:lnTo>
                  <a:pt x="3515" y="7987"/>
                </a:lnTo>
                <a:lnTo>
                  <a:pt x="3550" y="8039"/>
                </a:lnTo>
                <a:lnTo>
                  <a:pt x="3586" y="8092"/>
                </a:lnTo>
                <a:lnTo>
                  <a:pt x="3621" y="8163"/>
                </a:lnTo>
                <a:lnTo>
                  <a:pt x="3656" y="8216"/>
                </a:lnTo>
                <a:lnTo>
                  <a:pt x="3691" y="8269"/>
                </a:lnTo>
                <a:lnTo>
                  <a:pt x="3744" y="8322"/>
                </a:lnTo>
                <a:lnTo>
                  <a:pt x="3780" y="8375"/>
                </a:lnTo>
                <a:lnTo>
                  <a:pt x="3833" y="8427"/>
                </a:lnTo>
                <a:lnTo>
                  <a:pt x="3885" y="8480"/>
                </a:lnTo>
                <a:lnTo>
                  <a:pt x="3938" y="8516"/>
                </a:lnTo>
                <a:lnTo>
                  <a:pt x="3974" y="8569"/>
                </a:lnTo>
                <a:lnTo>
                  <a:pt x="4027" y="8604"/>
                </a:lnTo>
                <a:lnTo>
                  <a:pt x="4079" y="8622"/>
                </a:lnTo>
                <a:lnTo>
                  <a:pt x="4132" y="8657"/>
                </a:lnTo>
                <a:lnTo>
                  <a:pt x="4185" y="8657"/>
                </a:lnTo>
                <a:lnTo>
                  <a:pt x="4238" y="8692"/>
                </a:lnTo>
                <a:lnTo>
                  <a:pt x="4450" y="8745"/>
                </a:lnTo>
                <a:lnTo>
                  <a:pt x="4503" y="8745"/>
                </a:lnTo>
                <a:lnTo>
                  <a:pt x="4556" y="8763"/>
                </a:lnTo>
                <a:lnTo>
                  <a:pt x="4609" y="8763"/>
                </a:lnTo>
                <a:lnTo>
                  <a:pt x="4662" y="8763"/>
                </a:lnTo>
                <a:lnTo>
                  <a:pt x="4732" y="8763"/>
                </a:lnTo>
                <a:lnTo>
                  <a:pt x="4820" y="8763"/>
                </a:lnTo>
                <a:lnTo>
                  <a:pt x="4909" y="8763"/>
                </a:lnTo>
                <a:lnTo>
                  <a:pt x="4961" y="8727"/>
                </a:lnTo>
                <a:lnTo>
                  <a:pt x="5014" y="8692"/>
                </a:lnTo>
                <a:lnTo>
                  <a:pt x="5067" y="8657"/>
                </a:lnTo>
                <a:lnTo>
                  <a:pt x="5173" y="8586"/>
                </a:lnTo>
                <a:lnTo>
                  <a:pt x="5226" y="8551"/>
                </a:lnTo>
                <a:lnTo>
                  <a:pt x="5279" y="8498"/>
                </a:lnTo>
                <a:lnTo>
                  <a:pt x="5332" y="8463"/>
                </a:lnTo>
                <a:lnTo>
                  <a:pt x="5385" y="8427"/>
                </a:lnTo>
                <a:lnTo>
                  <a:pt x="5438" y="8392"/>
                </a:lnTo>
                <a:lnTo>
                  <a:pt x="5491" y="8357"/>
                </a:lnTo>
                <a:lnTo>
                  <a:pt x="5544" y="8304"/>
                </a:lnTo>
                <a:lnTo>
                  <a:pt x="5632" y="8233"/>
                </a:lnTo>
                <a:lnTo>
                  <a:pt x="5702" y="8216"/>
                </a:lnTo>
                <a:lnTo>
                  <a:pt x="5808" y="8145"/>
                </a:lnTo>
                <a:lnTo>
                  <a:pt x="5843" y="8092"/>
                </a:lnTo>
                <a:lnTo>
                  <a:pt x="5879" y="8039"/>
                </a:lnTo>
                <a:lnTo>
                  <a:pt x="5932" y="8004"/>
                </a:lnTo>
                <a:lnTo>
                  <a:pt x="5984" y="7934"/>
                </a:lnTo>
                <a:lnTo>
                  <a:pt x="6037" y="7881"/>
                </a:lnTo>
                <a:lnTo>
                  <a:pt x="6090" y="7845"/>
                </a:lnTo>
                <a:lnTo>
                  <a:pt x="6143" y="7810"/>
                </a:lnTo>
                <a:lnTo>
                  <a:pt x="6214" y="7775"/>
                </a:lnTo>
                <a:lnTo>
                  <a:pt x="6267" y="7757"/>
                </a:lnTo>
                <a:lnTo>
                  <a:pt x="6320" y="7740"/>
                </a:lnTo>
                <a:lnTo>
                  <a:pt x="6373" y="7704"/>
                </a:lnTo>
                <a:lnTo>
                  <a:pt x="6425" y="7687"/>
                </a:lnTo>
                <a:lnTo>
                  <a:pt x="6497" y="7651"/>
                </a:lnTo>
                <a:lnTo>
                  <a:pt x="6568" y="7616"/>
                </a:lnTo>
                <a:lnTo>
                  <a:pt x="6620" y="7581"/>
                </a:lnTo>
                <a:lnTo>
                  <a:pt x="6673" y="7563"/>
                </a:lnTo>
                <a:lnTo>
                  <a:pt x="6726" y="7546"/>
                </a:lnTo>
                <a:lnTo>
                  <a:pt x="6779" y="7528"/>
                </a:lnTo>
                <a:lnTo>
                  <a:pt x="6832" y="7510"/>
                </a:lnTo>
                <a:lnTo>
                  <a:pt x="6903" y="7493"/>
                </a:lnTo>
                <a:lnTo>
                  <a:pt x="7092" y="7409"/>
                </a:lnTo>
                <a:lnTo>
                  <a:pt x="7145" y="7343"/>
                </a:lnTo>
                <a:lnTo>
                  <a:pt x="7211" y="7329"/>
                </a:lnTo>
                <a:lnTo>
                  <a:pt x="7251" y="7277"/>
                </a:lnTo>
                <a:lnTo>
                  <a:pt x="7278" y="7277"/>
                </a:lnTo>
                <a:lnTo>
                  <a:pt x="7330" y="7224"/>
                </a:lnTo>
                <a:lnTo>
                  <a:pt x="7357" y="7197"/>
                </a:lnTo>
                <a:lnTo>
                  <a:pt x="7397" y="7144"/>
                </a:lnTo>
                <a:lnTo>
                  <a:pt x="7463" y="7105"/>
                </a:lnTo>
                <a:lnTo>
                  <a:pt x="7529" y="7078"/>
                </a:lnTo>
                <a:lnTo>
                  <a:pt x="7608" y="7025"/>
                </a:lnTo>
                <a:lnTo>
                  <a:pt x="7674" y="6972"/>
                </a:lnTo>
                <a:lnTo>
                  <a:pt x="7701" y="6933"/>
                </a:lnTo>
                <a:lnTo>
                  <a:pt x="7701" y="6946"/>
                </a:lnTo>
                <a:lnTo>
                  <a:pt x="7913" y="6734"/>
                </a:lnTo>
                <a:lnTo>
                  <a:pt x="8177" y="6509"/>
                </a:lnTo>
                <a:lnTo>
                  <a:pt x="8349" y="6443"/>
                </a:lnTo>
                <a:lnTo>
                  <a:pt x="8587" y="639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237960"/>
            <a:ext cx="2657880" cy="2305440"/>
          </a:xfrm>
          <a:custGeom>
            <a:avLst/>
            <a:gdLst/>
            <a:ahLst/>
            <a:rect l="0" t="0" r="r" b="b"/>
            <a:pathLst>
              <a:path fill="none" w="7383" h="6404">
                <a:moveTo>
                  <a:pt x="0" y="0"/>
                </a:moveTo>
                <a:lnTo>
                  <a:pt x="79" y="92"/>
                </a:lnTo>
                <a:lnTo>
                  <a:pt x="119" y="211"/>
                </a:lnTo>
                <a:lnTo>
                  <a:pt x="238" y="291"/>
                </a:lnTo>
                <a:lnTo>
                  <a:pt x="357" y="370"/>
                </a:lnTo>
                <a:lnTo>
                  <a:pt x="436" y="489"/>
                </a:lnTo>
                <a:lnTo>
                  <a:pt x="515" y="608"/>
                </a:lnTo>
                <a:lnTo>
                  <a:pt x="635" y="608"/>
                </a:lnTo>
                <a:lnTo>
                  <a:pt x="754" y="767"/>
                </a:lnTo>
                <a:lnTo>
                  <a:pt x="793" y="886"/>
                </a:lnTo>
                <a:lnTo>
                  <a:pt x="833" y="1005"/>
                </a:lnTo>
                <a:lnTo>
                  <a:pt x="873" y="1124"/>
                </a:lnTo>
                <a:lnTo>
                  <a:pt x="912" y="1243"/>
                </a:lnTo>
                <a:lnTo>
                  <a:pt x="1031" y="1322"/>
                </a:lnTo>
                <a:lnTo>
                  <a:pt x="1150" y="1402"/>
                </a:lnTo>
                <a:lnTo>
                  <a:pt x="1270" y="1481"/>
                </a:lnTo>
                <a:lnTo>
                  <a:pt x="1389" y="1521"/>
                </a:lnTo>
                <a:lnTo>
                  <a:pt x="1508" y="1600"/>
                </a:lnTo>
                <a:lnTo>
                  <a:pt x="1706" y="1681"/>
                </a:lnTo>
                <a:lnTo>
                  <a:pt x="1825" y="1720"/>
                </a:lnTo>
                <a:lnTo>
                  <a:pt x="1945" y="1800"/>
                </a:lnTo>
                <a:lnTo>
                  <a:pt x="2104" y="1879"/>
                </a:lnTo>
                <a:lnTo>
                  <a:pt x="2223" y="1958"/>
                </a:lnTo>
                <a:lnTo>
                  <a:pt x="2382" y="1998"/>
                </a:lnTo>
                <a:lnTo>
                  <a:pt x="2501" y="2077"/>
                </a:lnTo>
                <a:lnTo>
                  <a:pt x="2620" y="2236"/>
                </a:lnTo>
                <a:lnTo>
                  <a:pt x="2699" y="2355"/>
                </a:lnTo>
                <a:lnTo>
                  <a:pt x="2818" y="2474"/>
                </a:lnTo>
                <a:lnTo>
                  <a:pt x="2977" y="2593"/>
                </a:lnTo>
                <a:lnTo>
                  <a:pt x="3096" y="2673"/>
                </a:lnTo>
                <a:lnTo>
                  <a:pt x="3215" y="2712"/>
                </a:lnTo>
                <a:lnTo>
                  <a:pt x="3334" y="2752"/>
                </a:lnTo>
                <a:lnTo>
                  <a:pt x="3453" y="2792"/>
                </a:lnTo>
                <a:lnTo>
                  <a:pt x="3652" y="2951"/>
                </a:lnTo>
                <a:lnTo>
                  <a:pt x="3771" y="2990"/>
                </a:lnTo>
                <a:lnTo>
                  <a:pt x="3969" y="3109"/>
                </a:lnTo>
                <a:lnTo>
                  <a:pt x="4128" y="3268"/>
                </a:lnTo>
                <a:lnTo>
                  <a:pt x="4247" y="3308"/>
                </a:lnTo>
                <a:lnTo>
                  <a:pt x="4366" y="3427"/>
                </a:lnTo>
                <a:lnTo>
                  <a:pt x="4485" y="3506"/>
                </a:lnTo>
                <a:lnTo>
                  <a:pt x="4604" y="3625"/>
                </a:lnTo>
                <a:lnTo>
                  <a:pt x="4684" y="3744"/>
                </a:lnTo>
                <a:lnTo>
                  <a:pt x="4763" y="3863"/>
                </a:lnTo>
                <a:lnTo>
                  <a:pt x="4922" y="4022"/>
                </a:lnTo>
                <a:lnTo>
                  <a:pt x="5041" y="4102"/>
                </a:lnTo>
                <a:lnTo>
                  <a:pt x="5120" y="4221"/>
                </a:lnTo>
                <a:lnTo>
                  <a:pt x="5239" y="4300"/>
                </a:lnTo>
                <a:lnTo>
                  <a:pt x="5358" y="4459"/>
                </a:lnTo>
                <a:lnTo>
                  <a:pt x="5477" y="4578"/>
                </a:lnTo>
                <a:lnTo>
                  <a:pt x="5597" y="4617"/>
                </a:lnTo>
                <a:lnTo>
                  <a:pt x="5717" y="4737"/>
                </a:lnTo>
                <a:lnTo>
                  <a:pt x="5836" y="4776"/>
                </a:lnTo>
                <a:lnTo>
                  <a:pt x="5955" y="4817"/>
                </a:lnTo>
                <a:lnTo>
                  <a:pt x="6074" y="4817"/>
                </a:lnTo>
                <a:lnTo>
                  <a:pt x="6193" y="4857"/>
                </a:lnTo>
                <a:lnTo>
                  <a:pt x="6352" y="4936"/>
                </a:lnTo>
                <a:lnTo>
                  <a:pt x="6431" y="5055"/>
                </a:lnTo>
                <a:lnTo>
                  <a:pt x="6550" y="5214"/>
                </a:lnTo>
                <a:lnTo>
                  <a:pt x="6669" y="5333"/>
                </a:lnTo>
                <a:lnTo>
                  <a:pt x="6709" y="5452"/>
                </a:lnTo>
                <a:lnTo>
                  <a:pt x="6788" y="5571"/>
                </a:lnTo>
                <a:lnTo>
                  <a:pt x="6907" y="5730"/>
                </a:lnTo>
                <a:lnTo>
                  <a:pt x="6947" y="5849"/>
                </a:lnTo>
                <a:lnTo>
                  <a:pt x="7026" y="5968"/>
                </a:lnTo>
                <a:lnTo>
                  <a:pt x="7106" y="6087"/>
                </a:lnTo>
                <a:lnTo>
                  <a:pt x="7145" y="6206"/>
                </a:lnTo>
                <a:lnTo>
                  <a:pt x="7264" y="6325"/>
                </a:lnTo>
                <a:lnTo>
                  <a:pt x="7383" y="640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33840" y="3776760"/>
            <a:ext cx="3360960" cy="2843640"/>
          </a:xfrm>
          <a:custGeom>
            <a:avLst/>
            <a:gdLst/>
            <a:ahLst/>
            <a:rect l="0" t="0" r="r" b="b"/>
            <a:pathLst>
              <a:path fill="none" w="9336" h="7899">
                <a:moveTo>
                  <a:pt x="0" y="7899"/>
                </a:moveTo>
                <a:lnTo>
                  <a:pt x="66" y="7649"/>
                </a:lnTo>
                <a:lnTo>
                  <a:pt x="542" y="7184"/>
                </a:lnTo>
                <a:lnTo>
                  <a:pt x="1058" y="6670"/>
                </a:lnTo>
                <a:lnTo>
                  <a:pt x="1389" y="6459"/>
                </a:lnTo>
                <a:lnTo>
                  <a:pt x="1825" y="5821"/>
                </a:lnTo>
                <a:lnTo>
                  <a:pt x="2037" y="5277"/>
                </a:lnTo>
                <a:lnTo>
                  <a:pt x="2275" y="5042"/>
                </a:lnTo>
                <a:lnTo>
                  <a:pt x="2539" y="4591"/>
                </a:lnTo>
                <a:lnTo>
                  <a:pt x="2923" y="4047"/>
                </a:lnTo>
                <a:lnTo>
                  <a:pt x="3346" y="3136"/>
                </a:lnTo>
                <a:lnTo>
                  <a:pt x="3942" y="2715"/>
                </a:lnTo>
                <a:lnTo>
                  <a:pt x="4167" y="2725"/>
                </a:lnTo>
                <a:lnTo>
                  <a:pt x="4511" y="2935"/>
                </a:lnTo>
                <a:lnTo>
                  <a:pt x="4616" y="3136"/>
                </a:lnTo>
                <a:lnTo>
                  <a:pt x="4895" y="3322"/>
                </a:lnTo>
                <a:lnTo>
                  <a:pt x="5292" y="3494"/>
                </a:lnTo>
                <a:lnTo>
                  <a:pt x="5530" y="3347"/>
                </a:lnTo>
                <a:lnTo>
                  <a:pt x="5967" y="2778"/>
                </a:lnTo>
                <a:lnTo>
                  <a:pt x="6059" y="2700"/>
                </a:lnTo>
                <a:lnTo>
                  <a:pt x="6205" y="2671"/>
                </a:lnTo>
                <a:lnTo>
                  <a:pt x="6421" y="2582"/>
                </a:lnTo>
                <a:lnTo>
                  <a:pt x="6549" y="2440"/>
                </a:lnTo>
                <a:lnTo>
                  <a:pt x="6633" y="2298"/>
                </a:lnTo>
                <a:lnTo>
                  <a:pt x="6725" y="2073"/>
                </a:lnTo>
                <a:lnTo>
                  <a:pt x="6858" y="1995"/>
                </a:lnTo>
                <a:lnTo>
                  <a:pt x="7060" y="1930"/>
                </a:lnTo>
                <a:lnTo>
                  <a:pt x="7096" y="1940"/>
                </a:lnTo>
                <a:lnTo>
                  <a:pt x="7334" y="1915"/>
                </a:lnTo>
                <a:lnTo>
                  <a:pt x="7444" y="1871"/>
                </a:lnTo>
                <a:lnTo>
                  <a:pt x="7572" y="1729"/>
                </a:lnTo>
                <a:lnTo>
                  <a:pt x="7700" y="1680"/>
                </a:lnTo>
                <a:lnTo>
                  <a:pt x="7828" y="1587"/>
                </a:lnTo>
                <a:lnTo>
                  <a:pt x="8000" y="1396"/>
                </a:lnTo>
                <a:lnTo>
                  <a:pt x="8128" y="1303"/>
                </a:lnTo>
                <a:lnTo>
                  <a:pt x="8255" y="1254"/>
                </a:lnTo>
                <a:lnTo>
                  <a:pt x="8339" y="1112"/>
                </a:lnTo>
                <a:lnTo>
                  <a:pt x="8467" y="1019"/>
                </a:lnTo>
                <a:lnTo>
                  <a:pt x="8511" y="876"/>
                </a:lnTo>
                <a:lnTo>
                  <a:pt x="8599" y="685"/>
                </a:lnTo>
                <a:lnTo>
                  <a:pt x="8727" y="543"/>
                </a:lnTo>
                <a:lnTo>
                  <a:pt x="8855" y="401"/>
                </a:lnTo>
                <a:lnTo>
                  <a:pt x="8983" y="210"/>
                </a:lnTo>
                <a:lnTo>
                  <a:pt x="9111" y="68"/>
                </a:lnTo>
                <a:lnTo>
                  <a:pt x="9239" y="24"/>
                </a:lnTo>
                <a:lnTo>
                  <a:pt x="933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6800" y="3889440"/>
            <a:ext cx="3262680" cy="2730960"/>
          </a:xfrm>
          <a:custGeom>
            <a:avLst/>
            <a:gdLst/>
            <a:ahLst/>
            <a:rect l="0" t="0" r="r" b="b"/>
            <a:pathLst>
              <a:path fill="none" w="9063" h="7586">
                <a:moveTo>
                  <a:pt x="9063" y="0"/>
                </a:moveTo>
                <a:lnTo>
                  <a:pt x="8980" y="127"/>
                </a:lnTo>
                <a:lnTo>
                  <a:pt x="8852" y="255"/>
                </a:lnTo>
                <a:lnTo>
                  <a:pt x="8724" y="343"/>
                </a:lnTo>
                <a:lnTo>
                  <a:pt x="8636" y="471"/>
                </a:lnTo>
                <a:lnTo>
                  <a:pt x="8552" y="599"/>
                </a:lnTo>
                <a:lnTo>
                  <a:pt x="8468" y="727"/>
                </a:lnTo>
                <a:lnTo>
                  <a:pt x="8380" y="855"/>
                </a:lnTo>
                <a:lnTo>
                  <a:pt x="8296" y="983"/>
                </a:lnTo>
                <a:lnTo>
                  <a:pt x="8168" y="1067"/>
                </a:lnTo>
                <a:lnTo>
                  <a:pt x="8040" y="1195"/>
                </a:lnTo>
                <a:lnTo>
                  <a:pt x="7913" y="1283"/>
                </a:lnTo>
                <a:lnTo>
                  <a:pt x="7785" y="1411"/>
                </a:lnTo>
                <a:lnTo>
                  <a:pt x="7613" y="1494"/>
                </a:lnTo>
                <a:lnTo>
                  <a:pt x="7485" y="1622"/>
                </a:lnTo>
                <a:lnTo>
                  <a:pt x="7357" y="1666"/>
                </a:lnTo>
                <a:lnTo>
                  <a:pt x="7295" y="1781"/>
                </a:lnTo>
                <a:lnTo>
                  <a:pt x="7207" y="1860"/>
                </a:lnTo>
                <a:lnTo>
                  <a:pt x="7075" y="1914"/>
                </a:lnTo>
                <a:lnTo>
                  <a:pt x="7004" y="1976"/>
                </a:lnTo>
                <a:lnTo>
                  <a:pt x="6916" y="2082"/>
                </a:lnTo>
                <a:lnTo>
                  <a:pt x="6721" y="2258"/>
                </a:lnTo>
                <a:lnTo>
                  <a:pt x="6553" y="2355"/>
                </a:lnTo>
                <a:lnTo>
                  <a:pt x="6430" y="2426"/>
                </a:lnTo>
                <a:lnTo>
                  <a:pt x="6342" y="2532"/>
                </a:lnTo>
                <a:lnTo>
                  <a:pt x="6218" y="2620"/>
                </a:lnTo>
                <a:lnTo>
                  <a:pt x="6174" y="2752"/>
                </a:lnTo>
                <a:lnTo>
                  <a:pt x="6033" y="2858"/>
                </a:lnTo>
                <a:lnTo>
                  <a:pt x="5910" y="3043"/>
                </a:lnTo>
                <a:lnTo>
                  <a:pt x="5716" y="3140"/>
                </a:lnTo>
                <a:lnTo>
                  <a:pt x="5618" y="3264"/>
                </a:lnTo>
                <a:lnTo>
                  <a:pt x="5460" y="3396"/>
                </a:lnTo>
                <a:lnTo>
                  <a:pt x="5292" y="3475"/>
                </a:lnTo>
                <a:lnTo>
                  <a:pt x="5160" y="3511"/>
                </a:lnTo>
                <a:lnTo>
                  <a:pt x="5010" y="3493"/>
                </a:lnTo>
                <a:lnTo>
                  <a:pt x="4781" y="3475"/>
                </a:lnTo>
                <a:lnTo>
                  <a:pt x="4626" y="3286"/>
                </a:lnTo>
                <a:lnTo>
                  <a:pt x="4498" y="3202"/>
                </a:lnTo>
                <a:lnTo>
                  <a:pt x="4371" y="3074"/>
                </a:lnTo>
                <a:lnTo>
                  <a:pt x="4238" y="2990"/>
                </a:lnTo>
                <a:lnTo>
                  <a:pt x="4154" y="2862"/>
                </a:lnTo>
                <a:lnTo>
                  <a:pt x="4027" y="2818"/>
                </a:lnTo>
                <a:lnTo>
                  <a:pt x="3899" y="2774"/>
                </a:lnTo>
                <a:lnTo>
                  <a:pt x="3775" y="2638"/>
                </a:lnTo>
                <a:lnTo>
                  <a:pt x="3599" y="2774"/>
                </a:lnTo>
                <a:lnTo>
                  <a:pt x="3515" y="2902"/>
                </a:lnTo>
                <a:lnTo>
                  <a:pt x="3431" y="3030"/>
                </a:lnTo>
                <a:lnTo>
                  <a:pt x="3343" y="3158"/>
                </a:lnTo>
                <a:lnTo>
                  <a:pt x="3215" y="3286"/>
                </a:lnTo>
                <a:lnTo>
                  <a:pt x="3131" y="3418"/>
                </a:lnTo>
                <a:lnTo>
                  <a:pt x="3004" y="3546"/>
                </a:lnTo>
                <a:lnTo>
                  <a:pt x="2915" y="3674"/>
                </a:lnTo>
                <a:lnTo>
                  <a:pt x="2832" y="3802"/>
                </a:lnTo>
                <a:lnTo>
                  <a:pt x="2704" y="3930"/>
                </a:lnTo>
                <a:lnTo>
                  <a:pt x="2660" y="4057"/>
                </a:lnTo>
                <a:lnTo>
                  <a:pt x="2576" y="4185"/>
                </a:lnTo>
                <a:lnTo>
                  <a:pt x="2448" y="4353"/>
                </a:lnTo>
                <a:lnTo>
                  <a:pt x="2364" y="4481"/>
                </a:lnTo>
                <a:lnTo>
                  <a:pt x="2235" y="4609"/>
                </a:lnTo>
                <a:lnTo>
                  <a:pt x="2147" y="4741"/>
                </a:lnTo>
                <a:lnTo>
                  <a:pt x="2063" y="4869"/>
                </a:lnTo>
                <a:lnTo>
                  <a:pt x="1979" y="4997"/>
                </a:lnTo>
                <a:lnTo>
                  <a:pt x="1891" y="5125"/>
                </a:lnTo>
                <a:lnTo>
                  <a:pt x="1807" y="5252"/>
                </a:lnTo>
                <a:lnTo>
                  <a:pt x="1724" y="5380"/>
                </a:lnTo>
                <a:lnTo>
                  <a:pt x="1636" y="5508"/>
                </a:lnTo>
                <a:lnTo>
                  <a:pt x="1552" y="5636"/>
                </a:lnTo>
                <a:lnTo>
                  <a:pt x="1508" y="5765"/>
                </a:lnTo>
                <a:lnTo>
                  <a:pt x="1424" y="5893"/>
                </a:lnTo>
                <a:lnTo>
                  <a:pt x="1336" y="6021"/>
                </a:lnTo>
                <a:lnTo>
                  <a:pt x="1252" y="6149"/>
                </a:lnTo>
                <a:lnTo>
                  <a:pt x="1124" y="6321"/>
                </a:lnTo>
                <a:lnTo>
                  <a:pt x="1040" y="6449"/>
                </a:lnTo>
                <a:lnTo>
                  <a:pt x="912" y="6488"/>
                </a:lnTo>
                <a:lnTo>
                  <a:pt x="784" y="6576"/>
                </a:lnTo>
                <a:lnTo>
                  <a:pt x="696" y="6704"/>
                </a:lnTo>
                <a:lnTo>
                  <a:pt x="568" y="6788"/>
                </a:lnTo>
                <a:lnTo>
                  <a:pt x="440" y="6916"/>
                </a:lnTo>
                <a:lnTo>
                  <a:pt x="357" y="7044"/>
                </a:lnTo>
                <a:lnTo>
                  <a:pt x="229" y="7172"/>
                </a:lnTo>
                <a:lnTo>
                  <a:pt x="141" y="7300"/>
                </a:lnTo>
                <a:lnTo>
                  <a:pt x="57" y="7427"/>
                </a:lnTo>
                <a:lnTo>
                  <a:pt x="0" y="758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4520" y="4203720"/>
            <a:ext cx="3150000" cy="2416680"/>
          </a:xfrm>
          <a:custGeom>
            <a:avLst/>
            <a:gdLst/>
            <a:ahLst/>
            <a:rect l="0" t="0" r="r" b="b"/>
            <a:pathLst>
              <a:path fill="none" w="8750" h="6713">
                <a:moveTo>
                  <a:pt x="8750" y="0"/>
                </a:moveTo>
                <a:lnTo>
                  <a:pt x="8653" y="26"/>
                </a:lnTo>
                <a:lnTo>
                  <a:pt x="8525" y="66"/>
                </a:lnTo>
                <a:lnTo>
                  <a:pt x="8398" y="154"/>
                </a:lnTo>
                <a:lnTo>
                  <a:pt x="8270" y="194"/>
                </a:lnTo>
                <a:lnTo>
                  <a:pt x="8142" y="282"/>
                </a:lnTo>
                <a:lnTo>
                  <a:pt x="8054" y="449"/>
                </a:lnTo>
                <a:lnTo>
                  <a:pt x="7926" y="577"/>
                </a:lnTo>
                <a:lnTo>
                  <a:pt x="7798" y="705"/>
                </a:lnTo>
                <a:lnTo>
                  <a:pt x="7670" y="793"/>
                </a:lnTo>
                <a:lnTo>
                  <a:pt x="7542" y="921"/>
                </a:lnTo>
                <a:lnTo>
                  <a:pt x="7414" y="1005"/>
                </a:lnTo>
                <a:lnTo>
                  <a:pt x="7330" y="1133"/>
                </a:lnTo>
                <a:lnTo>
                  <a:pt x="7260" y="1296"/>
                </a:lnTo>
                <a:lnTo>
                  <a:pt x="7172" y="1455"/>
                </a:lnTo>
                <a:lnTo>
                  <a:pt x="6951" y="1569"/>
                </a:lnTo>
                <a:lnTo>
                  <a:pt x="6713" y="1631"/>
                </a:lnTo>
                <a:lnTo>
                  <a:pt x="6558" y="1689"/>
                </a:lnTo>
                <a:lnTo>
                  <a:pt x="6430" y="1817"/>
                </a:lnTo>
                <a:lnTo>
                  <a:pt x="6302" y="1945"/>
                </a:lnTo>
                <a:lnTo>
                  <a:pt x="6218" y="2073"/>
                </a:lnTo>
                <a:lnTo>
                  <a:pt x="6090" y="2157"/>
                </a:lnTo>
                <a:lnTo>
                  <a:pt x="6007" y="2285"/>
                </a:lnTo>
                <a:lnTo>
                  <a:pt x="5879" y="2373"/>
                </a:lnTo>
                <a:lnTo>
                  <a:pt x="5751" y="2457"/>
                </a:lnTo>
                <a:lnTo>
                  <a:pt x="5623" y="2545"/>
                </a:lnTo>
                <a:lnTo>
                  <a:pt x="5495" y="2585"/>
                </a:lnTo>
                <a:lnTo>
                  <a:pt x="5367" y="2629"/>
                </a:lnTo>
                <a:lnTo>
                  <a:pt x="5235" y="2712"/>
                </a:lnTo>
                <a:lnTo>
                  <a:pt x="5107" y="2757"/>
                </a:lnTo>
                <a:lnTo>
                  <a:pt x="4979" y="2757"/>
                </a:lnTo>
                <a:lnTo>
                  <a:pt x="4851" y="2801"/>
                </a:lnTo>
                <a:lnTo>
                  <a:pt x="4723" y="2840"/>
                </a:lnTo>
                <a:lnTo>
                  <a:pt x="4556" y="2884"/>
                </a:lnTo>
                <a:lnTo>
                  <a:pt x="4340" y="2884"/>
                </a:lnTo>
                <a:lnTo>
                  <a:pt x="4212" y="2840"/>
                </a:lnTo>
                <a:lnTo>
                  <a:pt x="4084" y="2757"/>
                </a:lnTo>
                <a:lnTo>
                  <a:pt x="3956" y="2712"/>
                </a:lnTo>
                <a:lnTo>
                  <a:pt x="3828" y="2629"/>
                </a:lnTo>
                <a:lnTo>
                  <a:pt x="3700" y="2585"/>
                </a:lnTo>
                <a:lnTo>
                  <a:pt x="3572" y="2545"/>
                </a:lnTo>
                <a:lnTo>
                  <a:pt x="3444" y="2501"/>
                </a:lnTo>
                <a:lnTo>
                  <a:pt x="3299" y="2369"/>
                </a:lnTo>
                <a:lnTo>
                  <a:pt x="3145" y="2501"/>
                </a:lnTo>
                <a:lnTo>
                  <a:pt x="3017" y="2545"/>
                </a:lnTo>
                <a:lnTo>
                  <a:pt x="2933" y="2673"/>
                </a:lnTo>
                <a:lnTo>
                  <a:pt x="2805" y="2757"/>
                </a:lnTo>
                <a:lnTo>
                  <a:pt x="2677" y="2840"/>
                </a:lnTo>
                <a:lnTo>
                  <a:pt x="2549" y="2968"/>
                </a:lnTo>
                <a:lnTo>
                  <a:pt x="2505" y="3096"/>
                </a:lnTo>
                <a:lnTo>
                  <a:pt x="2421" y="3224"/>
                </a:lnTo>
                <a:lnTo>
                  <a:pt x="2333" y="3352"/>
                </a:lnTo>
                <a:lnTo>
                  <a:pt x="2249" y="3480"/>
                </a:lnTo>
                <a:lnTo>
                  <a:pt x="2165" y="3608"/>
                </a:lnTo>
                <a:lnTo>
                  <a:pt x="2076" y="3736"/>
                </a:lnTo>
                <a:lnTo>
                  <a:pt x="1993" y="3868"/>
                </a:lnTo>
                <a:lnTo>
                  <a:pt x="1909" y="3996"/>
                </a:lnTo>
                <a:lnTo>
                  <a:pt x="1821" y="4124"/>
                </a:lnTo>
                <a:lnTo>
                  <a:pt x="1737" y="4251"/>
                </a:lnTo>
                <a:lnTo>
                  <a:pt x="1653" y="4379"/>
                </a:lnTo>
                <a:lnTo>
                  <a:pt x="1565" y="4507"/>
                </a:lnTo>
                <a:lnTo>
                  <a:pt x="1525" y="4635"/>
                </a:lnTo>
                <a:lnTo>
                  <a:pt x="1397" y="4763"/>
                </a:lnTo>
                <a:lnTo>
                  <a:pt x="1353" y="4891"/>
                </a:lnTo>
                <a:lnTo>
                  <a:pt x="1225" y="5019"/>
                </a:lnTo>
                <a:lnTo>
                  <a:pt x="1137" y="5148"/>
                </a:lnTo>
                <a:lnTo>
                  <a:pt x="1098" y="5276"/>
                </a:lnTo>
                <a:lnTo>
                  <a:pt x="1053" y="5403"/>
                </a:lnTo>
                <a:lnTo>
                  <a:pt x="926" y="5531"/>
                </a:lnTo>
                <a:lnTo>
                  <a:pt x="798" y="5659"/>
                </a:lnTo>
                <a:lnTo>
                  <a:pt x="670" y="5787"/>
                </a:lnTo>
                <a:lnTo>
                  <a:pt x="542" y="5915"/>
                </a:lnTo>
                <a:lnTo>
                  <a:pt x="458" y="6043"/>
                </a:lnTo>
                <a:lnTo>
                  <a:pt x="330" y="6127"/>
                </a:lnTo>
                <a:lnTo>
                  <a:pt x="242" y="6254"/>
                </a:lnTo>
                <a:lnTo>
                  <a:pt x="158" y="6382"/>
                </a:lnTo>
                <a:lnTo>
                  <a:pt x="74" y="6515"/>
                </a:lnTo>
                <a:lnTo>
                  <a:pt x="0" y="671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19400" y="4562640"/>
            <a:ext cx="2984760" cy="2054520"/>
          </a:xfrm>
          <a:custGeom>
            <a:avLst/>
            <a:gdLst/>
            <a:ahLst/>
            <a:rect l="0" t="0" r="r" b="b"/>
            <a:pathLst>
              <a:path fill="none" w="8291" h="5707">
                <a:moveTo>
                  <a:pt x="8291" y="0"/>
                </a:moveTo>
                <a:lnTo>
                  <a:pt x="8194" y="92"/>
                </a:lnTo>
                <a:lnTo>
                  <a:pt x="8066" y="136"/>
                </a:lnTo>
                <a:lnTo>
                  <a:pt x="7938" y="180"/>
                </a:lnTo>
                <a:lnTo>
                  <a:pt x="7810" y="224"/>
                </a:lnTo>
                <a:lnTo>
                  <a:pt x="7682" y="308"/>
                </a:lnTo>
                <a:lnTo>
                  <a:pt x="7554" y="352"/>
                </a:lnTo>
                <a:lnTo>
                  <a:pt x="7422" y="480"/>
                </a:lnTo>
                <a:lnTo>
                  <a:pt x="7338" y="608"/>
                </a:lnTo>
                <a:lnTo>
                  <a:pt x="7210" y="692"/>
                </a:lnTo>
                <a:lnTo>
                  <a:pt x="7083" y="776"/>
                </a:lnTo>
                <a:lnTo>
                  <a:pt x="6955" y="864"/>
                </a:lnTo>
                <a:lnTo>
                  <a:pt x="6827" y="948"/>
                </a:lnTo>
                <a:lnTo>
                  <a:pt x="6699" y="992"/>
                </a:lnTo>
                <a:lnTo>
                  <a:pt x="6571" y="1075"/>
                </a:lnTo>
                <a:lnTo>
                  <a:pt x="6443" y="1159"/>
                </a:lnTo>
                <a:lnTo>
                  <a:pt x="6315" y="1287"/>
                </a:lnTo>
                <a:lnTo>
                  <a:pt x="6143" y="1415"/>
                </a:lnTo>
                <a:lnTo>
                  <a:pt x="6015" y="1503"/>
                </a:lnTo>
                <a:lnTo>
                  <a:pt x="5843" y="1587"/>
                </a:lnTo>
                <a:lnTo>
                  <a:pt x="5676" y="1715"/>
                </a:lnTo>
                <a:lnTo>
                  <a:pt x="5548" y="1803"/>
                </a:lnTo>
                <a:lnTo>
                  <a:pt x="5420" y="1887"/>
                </a:lnTo>
                <a:lnTo>
                  <a:pt x="5248" y="1971"/>
                </a:lnTo>
                <a:lnTo>
                  <a:pt x="5120" y="2059"/>
                </a:lnTo>
                <a:lnTo>
                  <a:pt x="4992" y="2099"/>
                </a:lnTo>
                <a:lnTo>
                  <a:pt x="4864" y="2143"/>
                </a:lnTo>
                <a:lnTo>
                  <a:pt x="4737" y="2143"/>
                </a:lnTo>
                <a:lnTo>
                  <a:pt x="4565" y="2187"/>
                </a:lnTo>
                <a:lnTo>
                  <a:pt x="4393" y="2226"/>
                </a:lnTo>
                <a:lnTo>
                  <a:pt x="4265" y="2226"/>
                </a:lnTo>
                <a:lnTo>
                  <a:pt x="4096" y="2226"/>
                </a:lnTo>
                <a:lnTo>
                  <a:pt x="3968" y="2271"/>
                </a:lnTo>
                <a:lnTo>
                  <a:pt x="3840" y="2271"/>
                </a:lnTo>
                <a:lnTo>
                  <a:pt x="3712" y="2226"/>
                </a:lnTo>
                <a:lnTo>
                  <a:pt x="3585" y="2187"/>
                </a:lnTo>
                <a:lnTo>
                  <a:pt x="3452" y="2187"/>
                </a:lnTo>
                <a:lnTo>
                  <a:pt x="3324" y="2143"/>
                </a:lnTo>
                <a:lnTo>
                  <a:pt x="3157" y="2059"/>
                </a:lnTo>
                <a:lnTo>
                  <a:pt x="3029" y="2015"/>
                </a:lnTo>
                <a:lnTo>
                  <a:pt x="2853" y="1957"/>
                </a:lnTo>
                <a:lnTo>
                  <a:pt x="2698" y="1847"/>
                </a:lnTo>
                <a:lnTo>
                  <a:pt x="2548" y="1927"/>
                </a:lnTo>
                <a:lnTo>
                  <a:pt x="2345" y="2059"/>
                </a:lnTo>
                <a:lnTo>
                  <a:pt x="2218" y="2099"/>
                </a:lnTo>
                <a:lnTo>
                  <a:pt x="2129" y="2226"/>
                </a:lnTo>
                <a:lnTo>
                  <a:pt x="2002" y="2354"/>
                </a:lnTo>
                <a:lnTo>
                  <a:pt x="1918" y="2482"/>
                </a:lnTo>
                <a:lnTo>
                  <a:pt x="1874" y="2610"/>
                </a:lnTo>
                <a:lnTo>
                  <a:pt x="1790" y="2738"/>
                </a:lnTo>
                <a:lnTo>
                  <a:pt x="1706" y="2871"/>
                </a:lnTo>
                <a:lnTo>
                  <a:pt x="1662" y="2999"/>
                </a:lnTo>
                <a:lnTo>
                  <a:pt x="1534" y="3083"/>
                </a:lnTo>
                <a:lnTo>
                  <a:pt x="1450" y="3255"/>
                </a:lnTo>
                <a:lnTo>
                  <a:pt x="1322" y="3383"/>
                </a:lnTo>
                <a:lnTo>
                  <a:pt x="1278" y="3511"/>
                </a:lnTo>
                <a:lnTo>
                  <a:pt x="1195" y="3639"/>
                </a:lnTo>
                <a:lnTo>
                  <a:pt x="1106" y="3766"/>
                </a:lnTo>
                <a:lnTo>
                  <a:pt x="1023" y="3894"/>
                </a:lnTo>
                <a:lnTo>
                  <a:pt x="978" y="4022"/>
                </a:lnTo>
                <a:lnTo>
                  <a:pt x="895" y="4150"/>
                </a:lnTo>
                <a:lnTo>
                  <a:pt x="806" y="4278"/>
                </a:lnTo>
                <a:lnTo>
                  <a:pt x="723" y="4406"/>
                </a:lnTo>
                <a:lnTo>
                  <a:pt x="679" y="4534"/>
                </a:lnTo>
                <a:lnTo>
                  <a:pt x="595" y="4662"/>
                </a:lnTo>
                <a:lnTo>
                  <a:pt x="511" y="4789"/>
                </a:lnTo>
                <a:lnTo>
                  <a:pt x="423" y="4917"/>
                </a:lnTo>
                <a:lnTo>
                  <a:pt x="339" y="5045"/>
                </a:lnTo>
                <a:lnTo>
                  <a:pt x="255" y="5173"/>
                </a:lnTo>
                <a:lnTo>
                  <a:pt x="167" y="5301"/>
                </a:lnTo>
                <a:lnTo>
                  <a:pt x="127" y="5429"/>
                </a:lnTo>
                <a:lnTo>
                  <a:pt x="39" y="5557"/>
                </a:lnTo>
                <a:lnTo>
                  <a:pt x="0" y="570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86360" y="5076720"/>
            <a:ext cx="2918160" cy="1543320"/>
          </a:xfrm>
          <a:custGeom>
            <a:avLst/>
            <a:gdLst/>
            <a:ahLst/>
            <a:rect l="0" t="0" r="r" b="b"/>
            <a:pathLst>
              <a:path fill="none" w="8106" h="4287">
                <a:moveTo>
                  <a:pt x="8106" y="0"/>
                </a:moveTo>
                <a:lnTo>
                  <a:pt x="8009" y="30"/>
                </a:lnTo>
                <a:lnTo>
                  <a:pt x="7881" y="74"/>
                </a:lnTo>
                <a:lnTo>
                  <a:pt x="7753" y="158"/>
                </a:lnTo>
                <a:lnTo>
                  <a:pt x="7625" y="246"/>
                </a:lnTo>
                <a:lnTo>
                  <a:pt x="7497" y="330"/>
                </a:lnTo>
                <a:lnTo>
                  <a:pt x="7369" y="414"/>
                </a:lnTo>
                <a:lnTo>
                  <a:pt x="7237" y="502"/>
                </a:lnTo>
                <a:lnTo>
                  <a:pt x="7109" y="586"/>
                </a:lnTo>
                <a:lnTo>
                  <a:pt x="6941" y="714"/>
                </a:lnTo>
                <a:lnTo>
                  <a:pt x="6769" y="798"/>
                </a:lnTo>
                <a:lnTo>
                  <a:pt x="6642" y="886"/>
                </a:lnTo>
                <a:lnTo>
                  <a:pt x="6514" y="970"/>
                </a:lnTo>
                <a:lnTo>
                  <a:pt x="6302" y="1053"/>
                </a:lnTo>
                <a:lnTo>
                  <a:pt x="6130" y="1098"/>
                </a:lnTo>
                <a:lnTo>
                  <a:pt x="6002" y="1142"/>
                </a:lnTo>
                <a:lnTo>
                  <a:pt x="5874" y="1181"/>
                </a:lnTo>
                <a:lnTo>
                  <a:pt x="5618" y="1225"/>
                </a:lnTo>
                <a:lnTo>
                  <a:pt x="5447" y="1270"/>
                </a:lnTo>
                <a:lnTo>
                  <a:pt x="5019" y="1270"/>
                </a:lnTo>
                <a:lnTo>
                  <a:pt x="4891" y="1270"/>
                </a:lnTo>
                <a:lnTo>
                  <a:pt x="4763" y="1309"/>
                </a:lnTo>
                <a:lnTo>
                  <a:pt x="4635" y="1309"/>
                </a:lnTo>
                <a:lnTo>
                  <a:pt x="4463" y="1309"/>
                </a:lnTo>
                <a:lnTo>
                  <a:pt x="4335" y="1309"/>
                </a:lnTo>
                <a:lnTo>
                  <a:pt x="4207" y="1309"/>
                </a:lnTo>
                <a:lnTo>
                  <a:pt x="4039" y="1270"/>
                </a:lnTo>
                <a:lnTo>
                  <a:pt x="3867" y="1270"/>
                </a:lnTo>
                <a:lnTo>
                  <a:pt x="3655" y="1270"/>
                </a:lnTo>
                <a:lnTo>
                  <a:pt x="3527" y="1270"/>
                </a:lnTo>
                <a:lnTo>
                  <a:pt x="3355" y="1225"/>
                </a:lnTo>
                <a:lnTo>
                  <a:pt x="3227" y="1181"/>
                </a:lnTo>
                <a:lnTo>
                  <a:pt x="3100" y="1142"/>
                </a:lnTo>
                <a:lnTo>
                  <a:pt x="2844" y="1142"/>
                </a:lnTo>
                <a:lnTo>
                  <a:pt x="2716" y="1142"/>
                </a:lnTo>
                <a:lnTo>
                  <a:pt x="2579" y="1071"/>
                </a:lnTo>
                <a:lnTo>
                  <a:pt x="2394" y="1212"/>
                </a:lnTo>
                <a:lnTo>
                  <a:pt x="2275" y="1292"/>
                </a:lnTo>
                <a:lnTo>
                  <a:pt x="2204" y="1441"/>
                </a:lnTo>
                <a:lnTo>
                  <a:pt x="2076" y="1525"/>
                </a:lnTo>
                <a:lnTo>
                  <a:pt x="1944" y="1653"/>
                </a:lnTo>
                <a:lnTo>
                  <a:pt x="1816" y="1781"/>
                </a:lnTo>
                <a:lnTo>
                  <a:pt x="1733" y="1909"/>
                </a:lnTo>
                <a:lnTo>
                  <a:pt x="1605" y="2037"/>
                </a:lnTo>
                <a:lnTo>
                  <a:pt x="1477" y="2121"/>
                </a:lnTo>
                <a:lnTo>
                  <a:pt x="1349" y="2249"/>
                </a:lnTo>
                <a:lnTo>
                  <a:pt x="1221" y="2338"/>
                </a:lnTo>
                <a:lnTo>
                  <a:pt x="1137" y="2466"/>
                </a:lnTo>
                <a:lnTo>
                  <a:pt x="965" y="2633"/>
                </a:lnTo>
                <a:lnTo>
                  <a:pt x="881" y="2765"/>
                </a:lnTo>
                <a:lnTo>
                  <a:pt x="837" y="2893"/>
                </a:lnTo>
                <a:lnTo>
                  <a:pt x="754" y="3021"/>
                </a:lnTo>
                <a:lnTo>
                  <a:pt x="709" y="3149"/>
                </a:lnTo>
                <a:lnTo>
                  <a:pt x="621" y="3277"/>
                </a:lnTo>
                <a:lnTo>
                  <a:pt x="537" y="3405"/>
                </a:lnTo>
                <a:lnTo>
                  <a:pt x="493" y="3533"/>
                </a:lnTo>
                <a:lnTo>
                  <a:pt x="410" y="3661"/>
                </a:lnTo>
                <a:lnTo>
                  <a:pt x="366" y="3788"/>
                </a:lnTo>
                <a:lnTo>
                  <a:pt x="198" y="3956"/>
                </a:lnTo>
                <a:lnTo>
                  <a:pt x="110" y="4088"/>
                </a:lnTo>
                <a:lnTo>
                  <a:pt x="0" y="428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87880" y="5505480"/>
            <a:ext cx="2816640" cy="1119600"/>
          </a:xfrm>
          <a:custGeom>
            <a:avLst/>
            <a:gdLst/>
            <a:ahLst/>
            <a:rect l="0" t="0" r="r" b="b"/>
            <a:pathLst>
              <a:path fill="none" w="7824" h="3110">
                <a:moveTo>
                  <a:pt x="7824" y="0"/>
                </a:moveTo>
                <a:lnTo>
                  <a:pt x="7727" y="35"/>
                </a:lnTo>
                <a:lnTo>
                  <a:pt x="7639" y="163"/>
                </a:lnTo>
                <a:lnTo>
                  <a:pt x="7511" y="251"/>
                </a:lnTo>
                <a:lnTo>
                  <a:pt x="7383" y="335"/>
                </a:lnTo>
                <a:lnTo>
                  <a:pt x="7216" y="507"/>
                </a:lnTo>
                <a:lnTo>
                  <a:pt x="7000" y="635"/>
                </a:lnTo>
                <a:lnTo>
                  <a:pt x="6872" y="674"/>
                </a:lnTo>
                <a:lnTo>
                  <a:pt x="6744" y="718"/>
                </a:lnTo>
                <a:lnTo>
                  <a:pt x="6532" y="718"/>
                </a:lnTo>
                <a:lnTo>
                  <a:pt x="6404" y="718"/>
                </a:lnTo>
                <a:lnTo>
                  <a:pt x="6277" y="718"/>
                </a:lnTo>
                <a:lnTo>
                  <a:pt x="5081" y="674"/>
                </a:lnTo>
                <a:lnTo>
                  <a:pt x="4864" y="674"/>
                </a:lnTo>
                <a:lnTo>
                  <a:pt x="4737" y="674"/>
                </a:lnTo>
                <a:lnTo>
                  <a:pt x="4309" y="635"/>
                </a:lnTo>
                <a:lnTo>
                  <a:pt x="4141" y="590"/>
                </a:lnTo>
                <a:lnTo>
                  <a:pt x="4013" y="590"/>
                </a:lnTo>
                <a:lnTo>
                  <a:pt x="3885" y="507"/>
                </a:lnTo>
                <a:lnTo>
                  <a:pt x="3713" y="463"/>
                </a:lnTo>
                <a:lnTo>
                  <a:pt x="3542" y="463"/>
                </a:lnTo>
                <a:lnTo>
                  <a:pt x="3414" y="463"/>
                </a:lnTo>
                <a:lnTo>
                  <a:pt x="3246" y="463"/>
                </a:lnTo>
                <a:lnTo>
                  <a:pt x="3118" y="463"/>
                </a:lnTo>
                <a:lnTo>
                  <a:pt x="2946" y="463"/>
                </a:lnTo>
                <a:lnTo>
                  <a:pt x="2818" y="463"/>
                </a:lnTo>
                <a:lnTo>
                  <a:pt x="2690" y="463"/>
                </a:lnTo>
                <a:lnTo>
                  <a:pt x="2563" y="463"/>
                </a:lnTo>
                <a:lnTo>
                  <a:pt x="2435" y="463"/>
                </a:lnTo>
                <a:lnTo>
                  <a:pt x="2307" y="507"/>
                </a:lnTo>
                <a:lnTo>
                  <a:pt x="2179" y="546"/>
                </a:lnTo>
                <a:lnTo>
                  <a:pt x="2007" y="590"/>
                </a:lnTo>
                <a:lnTo>
                  <a:pt x="1878" y="635"/>
                </a:lnTo>
                <a:lnTo>
                  <a:pt x="1750" y="674"/>
                </a:lnTo>
                <a:lnTo>
                  <a:pt x="1622" y="762"/>
                </a:lnTo>
                <a:lnTo>
                  <a:pt x="1494" y="847"/>
                </a:lnTo>
                <a:lnTo>
                  <a:pt x="1406" y="975"/>
                </a:lnTo>
                <a:lnTo>
                  <a:pt x="1278" y="1019"/>
                </a:lnTo>
                <a:lnTo>
                  <a:pt x="1150" y="1103"/>
                </a:lnTo>
                <a:lnTo>
                  <a:pt x="1067" y="1231"/>
                </a:lnTo>
                <a:lnTo>
                  <a:pt x="983" y="1359"/>
                </a:lnTo>
                <a:lnTo>
                  <a:pt x="855" y="1487"/>
                </a:lnTo>
                <a:lnTo>
                  <a:pt x="727" y="1659"/>
                </a:lnTo>
                <a:lnTo>
                  <a:pt x="639" y="1786"/>
                </a:lnTo>
                <a:lnTo>
                  <a:pt x="555" y="1914"/>
                </a:lnTo>
                <a:lnTo>
                  <a:pt x="511" y="2042"/>
                </a:lnTo>
                <a:lnTo>
                  <a:pt x="471" y="2170"/>
                </a:lnTo>
                <a:lnTo>
                  <a:pt x="383" y="2343"/>
                </a:lnTo>
                <a:lnTo>
                  <a:pt x="299" y="2471"/>
                </a:lnTo>
                <a:lnTo>
                  <a:pt x="255" y="2599"/>
                </a:lnTo>
                <a:lnTo>
                  <a:pt x="211" y="2727"/>
                </a:lnTo>
                <a:lnTo>
                  <a:pt x="127" y="2855"/>
                </a:lnTo>
                <a:lnTo>
                  <a:pt x="44" y="2982"/>
                </a:lnTo>
                <a:lnTo>
                  <a:pt x="0" y="311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92640" y="5886360"/>
            <a:ext cx="2711880" cy="733680"/>
          </a:xfrm>
          <a:custGeom>
            <a:avLst/>
            <a:gdLst/>
            <a:ahLst/>
            <a:rect l="0" t="0" r="r" b="b"/>
            <a:pathLst>
              <a:path fill="none" w="7533" h="2038">
                <a:moveTo>
                  <a:pt x="7533" y="432"/>
                </a:moveTo>
                <a:lnTo>
                  <a:pt x="7436" y="427"/>
                </a:lnTo>
                <a:lnTo>
                  <a:pt x="7181" y="471"/>
                </a:lnTo>
                <a:lnTo>
                  <a:pt x="7053" y="515"/>
                </a:lnTo>
                <a:lnTo>
                  <a:pt x="6881" y="515"/>
                </a:lnTo>
                <a:lnTo>
                  <a:pt x="6753" y="471"/>
                </a:lnTo>
                <a:lnTo>
                  <a:pt x="6625" y="471"/>
                </a:lnTo>
                <a:lnTo>
                  <a:pt x="6497" y="471"/>
                </a:lnTo>
                <a:lnTo>
                  <a:pt x="6369" y="427"/>
                </a:lnTo>
                <a:lnTo>
                  <a:pt x="6197" y="427"/>
                </a:lnTo>
                <a:lnTo>
                  <a:pt x="5985" y="471"/>
                </a:lnTo>
                <a:lnTo>
                  <a:pt x="5858" y="471"/>
                </a:lnTo>
                <a:lnTo>
                  <a:pt x="5730" y="515"/>
                </a:lnTo>
                <a:lnTo>
                  <a:pt x="5601" y="515"/>
                </a:lnTo>
                <a:lnTo>
                  <a:pt x="5473" y="515"/>
                </a:lnTo>
                <a:lnTo>
                  <a:pt x="5341" y="515"/>
                </a:lnTo>
                <a:lnTo>
                  <a:pt x="5173" y="471"/>
                </a:lnTo>
                <a:lnTo>
                  <a:pt x="5045" y="427"/>
                </a:lnTo>
                <a:lnTo>
                  <a:pt x="4917" y="383"/>
                </a:lnTo>
                <a:lnTo>
                  <a:pt x="4745" y="343"/>
                </a:lnTo>
                <a:lnTo>
                  <a:pt x="4617" y="299"/>
                </a:lnTo>
                <a:lnTo>
                  <a:pt x="4490" y="299"/>
                </a:lnTo>
                <a:lnTo>
                  <a:pt x="4362" y="255"/>
                </a:lnTo>
                <a:lnTo>
                  <a:pt x="4234" y="255"/>
                </a:lnTo>
                <a:lnTo>
                  <a:pt x="4062" y="171"/>
                </a:lnTo>
                <a:lnTo>
                  <a:pt x="3934" y="171"/>
                </a:lnTo>
                <a:lnTo>
                  <a:pt x="3762" y="127"/>
                </a:lnTo>
                <a:lnTo>
                  <a:pt x="3634" y="88"/>
                </a:lnTo>
                <a:lnTo>
                  <a:pt x="3467" y="88"/>
                </a:lnTo>
                <a:lnTo>
                  <a:pt x="3039" y="0"/>
                </a:lnTo>
                <a:lnTo>
                  <a:pt x="2867" y="0"/>
                </a:lnTo>
                <a:lnTo>
                  <a:pt x="2695" y="0"/>
                </a:lnTo>
                <a:lnTo>
                  <a:pt x="2567" y="44"/>
                </a:lnTo>
                <a:lnTo>
                  <a:pt x="2439" y="88"/>
                </a:lnTo>
                <a:lnTo>
                  <a:pt x="2311" y="127"/>
                </a:lnTo>
                <a:lnTo>
                  <a:pt x="2183" y="216"/>
                </a:lnTo>
                <a:lnTo>
                  <a:pt x="2055" y="255"/>
                </a:lnTo>
                <a:lnTo>
                  <a:pt x="1928" y="343"/>
                </a:lnTo>
                <a:lnTo>
                  <a:pt x="1799" y="343"/>
                </a:lnTo>
                <a:lnTo>
                  <a:pt x="1631" y="383"/>
                </a:lnTo>
                <a:lnTo>
                  <a:pt x="1503" y="427"/>
                </a:lnTo>
                <a:lnTo>
                  <a:pt x="1371" y="471"/>
                </a:lnTo>
                <a:lnTo>
                  <a:pt x="1243" y="515"/>
                </a:lnTo>
                <a:lnTo>
                  <a:pt x="1115" y="555"/>
                </a:lnTo>
                <a:lnTo>
                  <a:pt x="987" y="599"/>
                </a:lnTo>
                <a:lnTo>
                  <a:pt x="859" y="727"/>
                </a:lnTo>
                <a:lnTo>
                  <a:pt x="732" y="811"/>
                </a:lnTo>
                <a:lnTo>
                  <a:pt x="648" y="939"/>
                </a:lnTo>
                <a:lnTo>
                  <a:pt x="520" y="1028"/>
                </a:lnTo>
                <a:lnTo>
                  <a:pt x="436" y="1156"/>
                </a:lnTo>
                <a:lnTo>
                  <a:pt x="308" y="1240"/>
                </a:lnTo>
                <a:lnTo>
                  <a:pt x="220" y="1368"/>
                </a:lnTo>
                <a:lnTo>
                  <a:pt x="136" y="1495"/>
                </a:lnTo>
                <a:lnTo>
                  <a:pt x="136" y="1623"/>
                </a:lnTo>
                <a:lnTo>
                  <a:pt x="92" y="1751"/>
                </a:lnTo>
                <a:lnTo>
                  <a:pt x="48" y="1879"/>
                </a:lnTo>
                <a:lnTo>
                  <a:pt x="0" y="203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03880" y="6164280"/>
            <a:ext cx="2595960" cy="460800"/>
          </a:xfrm>
          <a:custGeom>
            <a:avLst/>
            <a:gdLst/>
            <a:ahLst/>
            <a:rect l="0" t="0" r="r" b="b"/>
            <a:pathLst>
              <a:path fill="none" w="7211" h="1280">
                <a:moveTo>
                  <a:pt x="7211" y="512"/>
                </a:moveTo>
                <a:lnTo>
                  <a:pt x="7000" y="552"/>
                </a:lnTo>
                <a:lnTo>
                  <a:pt x="6872" y="552"/>
                </a:lnTo>
                <a:lnTo>
                  <a:pt x="6744" y="552"/>
                </a:lnTo>
                <a:lnTo>
                  <a:pt x="6616" y="468"/>
                </a:lnTo>
                <a:lnTo>
                  <a:pt x="6488" y="424"/>
                </a:lnTo>
                <a:lnTo>
                  <a:pt x="6060" y="424"/>
                </a:lnTo>
                <a:lnTo>
                  <a:pt x="5933" y="424"/>
                </a:lnTo>
                <a:lnTo>
                  <a:pt x="5805" y="424"/>
                </a:lnTo>
                <a:lnTo>
                  <a:pt x="5589" y="424"/>
                </a:lnTo>
                <a:lnTo>
                  <a:pt x="5461" y="424"/>
                </a:lnTo>
                <a:lnTo>
                  <a:pt x="5332" y="424"/>
                </a:lnTo>
                <a:lnTo>
                  <a:pt x="5164" y="424"/>
                </a:lnTo>
                <a:lnTo>
                  <a:pt x="5032" y="424"/>
                </a:lnTo>
                <a:lnTo>
                  <a:pt x="4904" y="424"/>
                </a:lnTo>
                <a:lnTo>
                  <a:pt x="4737" y="424"/>
                </a:lnTo>
                <a:lnTo>
                  <a:pt x="4481" y="424"/>
                </a:lnTo>
                <a:lnTo>
                  <a:pt x="4353" y="384"/>
                </a:lnTo>
                <a:lnTo>
                  <a:pt x="4181" y="340"/>
                </a:lnTo>
                <a:lnTo>
                  <a:pt x="4009" y="255"/>
                </a:lnTo>
                <a:lnTo>
                  <a:pt x="3881" y="211"/>
                </a:lnTo>
                <a:lnTo>
                  <a:pt x="3753" y="167"/>
                </a:lnTo>
                <a:lnTo>
                  <a:pt x="3625" y="127"/>
                </a:lnTo>
                <a:lnTo>
                  <a:pt x="3453" y="39"/>
                </a:lnTo>
                <a:lnTo>
                  <a:pt x="3242" y="39"/>
                </a:lnTo>
                <a:lnTo>
                  <a:pt x="3070" y="0"/>
                </a:lnTo>
                <a:lnTo>
                  <a:pt x="2646" y="0"/>
                </a:lnTo>
                <a:lnTo>
                  <a:pt x="2430" y="0"/>
                </a:lnTo>
                <a:lnTo>
                  <a:pt x="2302" y="39"/>
                </a:lnTo>
                <a:lnTo>
                  <a:pt x="2174" y="39"/>
                </a:lnTo>
                <a:lnTo>
                  <a:pt x="2047" y="39"/>
                </a:lnTo>
                <a:lnTo>
                  <a:pt x="1875" y="39"/>
                </a:lnTo>
                <a:lnTo>
                  <a:pt x="1706" y="127"/>
                </a:lnTo>
                <a:lnTo>
                  <a:pt x="1578" y="127"/>
                </a:lnTo>
                <a:lnTo>
                  <a:pt x="1450" y="167"/>
                </a:lnTo>
                <a:lnTo>
                  <a:pt x="1322" y="211"/>
                </a:lnTo>
                <a:lnTo>
                  <a:pt x="1195" y="255"/>
                </a:lnTo>
                <a:lnTo>
                  <a:pt x="1023" y="384"/>
                </a:lnTo>
                <a:lnTo>
                  <a:pt x="895" y="468"/>
                </a:lnTo>
                <a:lnTo>
                  <a:pt x="767" y="552"/>
                </a:lnTo>
                <a:lnTo>
                  <a:pt x="639" y="640"/>
                </a:lnTo>
                <a:lnTo>
                  <a:pt x="511" y="724"/>
                </a:lnTo>
                <a:lnTo>
                  <a:pt x="383" y="807"/>
                </a:lnTo>
                <a:lnTo>
                  <a:pt x="255" y="896"/>
                </a:lnTo>
                <a:lnTo>
                  <a:pt x="127" y="1025"/>
                </a:lnTo>
                <a:lnTo>
                  <a:pt x="39" y="1152"/>
                </a:lnTo>
                <a:lnTo>
                  <a:pt x="0" y="128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35360" y="6454800"/>
            <a:ext cx="1887840" cy="170280"/>
          </a:xfrm>
          <a:custGeom>
            <a:avLst/>
            <a:gdLst/>
            <a:ahLst/>
            <a:rect l="0" t="0" r="r" b="b"/>
            <a:pathLst>
              <a:path fill="none" w="5244" h="473">
                <a:moveTo>
                  <a:pt x="5244" y="473"/>
                </a:moveTo>
                <a:lnTo>
                  <a:pt x="5116" y="429"/>
                </a:lnTo>
                <a:lnTo>
                  <a:pt x="4988" y="429"/>
                </a:lnTo>
                <a:lnTo>
                  <a:pt x="4816" y="429"/>
                </a:lnTo>
                <a:lnTo>
                  <a:pt x="4688" y="429"/>
                </a:lnTo>
                <a:lnTo>
                  <a:pt x="4432" y="390"/>
                </a:lnTo>
                <a:lnTo>
                  <a:pt x="4388" y="261"/>
                </a:lnTo>
                <a:lnTo>
                  <a:pt x="4260" y="217"/>
                </a:lnTo>
                <a:lnTo>
                  <a:pt x="4093" y="217"/>
                </a:lnTo>
                <a:lnTo>
                  <a:pt x="3921" y="217"/>
                </a:lnTo>
                <a:lnTo>
                  <a:pt x="3793" y="217"/>
                </a:lnTo>
                <a:lnTo>
                  <a:pt x="3665" y="172"/>
                </a:lnTo>
                <a:lnTo>
                  <a:pt x="3493" y="88"/>
                </a:lnTo>
                <a:lnTo>
                  <a:pt x="3365" y="44"/>
                </a:lnTo>
                <a:lnTo>
                  <a:pt x="3153" y="0"/>
                </a:lnTo>
                <a:lnTo>
                  <a:pt x="2937" y="0"/>
                </a:lnTo>
                <a:lnTo>
                  <a:pt x="2770" y="0"/>
                </a:lnTo>
                <a:lnTo>
                  <a:pt x="2597" y="44"/>
                </a:lnTo>
                <a:lnTo>
                  <a:pt x="2469" y="88"/>
                </a:lnTo>
                <a:lnTo>
                  <a:pt x="2213" y="128"/>
                </a:lnTo>
                <a:lnTo>
                  <a:pt x="1785" y="172"/>
                </a:lnTo>
                <a:lnTo>
                  <a:pt x="1658" y="172"/>
                </a:lnTo>
                <a:lnTo>
                  <a:pt x="1530" y="261"/>
                </a:lnTo>
                <a:lnTo>
                  <a:pt x="1402" y="344"/>
                </a:lnTo>
                <a:lnTo>
                  <a:pt x="1274" y="344"/>
                </a:lnTo>
                <a:lnTo>
                  <a:pt x="1146" y="344"/>
                </a:lnTo>
                <a:lnTo>
                  <a:pt x="1018" y="344"/>
                </a:lnTo>
                <a:lnTo>
                  <a:pt x="890" y="344"/>
                </a:lnTo>
                <a:lnTo>
                  <a:pt x="718" y="344"/>
                </a:lnTo>
                <a:lnTo>
                  <a:pt x="590" y="344"/>
                </a:lnTo>
                <a:lnTo>
                  <a:pt x="463" y="300"/>
                </a:lnTo>
                <a:lnTo>
                  <a:pt x="335" y="300"/>
                </a:lnTo>
                <a:lnTo>
                  <a:pt x="207" y="344"/>
                </a:lnTo>
                <a:lnTo>
                  <a:pt x="0" y="46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2400" y="1247760"/>
            <a:ext cx="3999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6560" y="25066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5400" y="3240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35200" y="6922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67040" y="10764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19480" y="17064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70240" y="189072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02280" y="36273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11400" y="40258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62560" y="414972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54760" y="4106880"/>
            <a:ext cx="35244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41840" y="4754520"/>
            <a:ext cx="3333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3000" y="4518000"/>
            <a:ext cx="3189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07040" y="53481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1680" y="49006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1880" y="4376880"/>
            <a:ext cx="36828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99200" y="62229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13480" y="58690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97560" y="56674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6520" y="637704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481120" y="326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604960" y="6825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1200" y="10652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05080" y="16956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14640" y="3998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187880" y="3600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449600" y="41227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52920" y="4716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60960" y="64764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02160" y="1233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140360" y="18795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02160" y="24782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962600" y="40813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08760" y="44910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507000" y="43354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32600" y="48610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75360" y="5303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375240" y="56228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589720" y="58183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175440" y="61707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160960" y="63324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8800" y="4535640"/>
            <a:ext cx="3240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248440" y="45086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43640" y="249120"/>
            <a:ext cx="1456200" cy="1489320"/>
          </a:xfrm>
          <a:custGeom>
            <a:avLst/>
            <a:gdLst/>
            <a:ahLst/>
            <a:rect l="0" t="0" r="r" b="b"/>
            <a:pathLst>
              <a:path fill="none" w="4045" h="4137">
                <a:moveTo>
                  <a:pt x="0" y="0"/>
                </a:moveTo>
                <a:lnTo>
                  <a:pt x="96" y="97"/>
                </a:lnTo>
                <a:lnTo>
                  <a:pt x="193" y="275"/>
                </a:lnTo>
                <a:lnTo>
                  <a:pt x="290" y="453"/>
                </a:lnTo>
                <a:lnTo>
                  <a:pt x="290" y="630"/>
                </a:lnTo>
                <a:lnTo>
                  <a:pt x="336" y="808"/>
                </a:lnTo>
                <a:lnTo>
                  <a:pt x="433" y="944"/>
                </a:lnTo>
                <a:lnTo>
                  <a:pt x="581" y="1033"/>
                </a:lnTo>
                <a:lnTo>
                  <a:pt x="775" y="1121"/>
                </a:lnTo>
                <a:lnTo>
                  <a:pt x="923" y="1253"/>
                </a:lnTo>
                <a:lnTo>
                  <a:pt x="1021" y="1388"/>
                </a:lnTo>
                <a:lnTo>
                  <a:pt x="1215" y="1519"/>
                </a:lnTo>
                <a:lnTo>
                  <a:pt x="1408" y="1566"/>
                </a:lnTo>
                <a:lnTo>
                  <a:pt x="1602" y="1697"/>
                </a:lnTo>
                <a:lnTo>
                  <a:pt x="1750" y="1790"/>
                </a:lnTo>
                <a:lnTo>
                  <a:pt x="1944" y="1922"/>
                </a:lnTo>
                <a:lnTo>
                  <a:pt x="2184" y="2100"/>
                </a:lnTo>
                <a:lnTo>
                  <a:pt x="2332" y="2189"/>
                </a:lnTo>
                <a:lnTo>
                  <a:pt x="2429" y="2325"/>
                </a:lnTo>
                <a:lnTo>
                  <a:pt x="2622" y="2503"/>
                </a:lnTo>
                <a:lnTo>
                  <a:pt x="2636" y="2858"/>
                </a:lnTo>
                <a:lnTo>
                  <a:pt x="2978" y="3201"/>
                </a:lnTo>
                <a:lnTo>
                  <a:pt x="3404" y="3328"/>
                </a:lnTo>
                <a:lnTo>
                  <a:pt x="3745" y="3540"/>
                </a:lnTo>
                <a:lnTo>
                  <a:pt x="4045" y="41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11760" y="64764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97360" y="6350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3680" y="739800"/>
            <a:ext cx="1863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ontour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ith elev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168960" y="233280"/>
            <a:ext cx="835560" cy="875160"/>
            <a:chOff x="6168960" y="233280"/>
            <a:chExt cx="835560" cy="875160"/>
          </a:xfrm>
        </p:grpSpPr>
        <p:sp>
          <p:nvSpPr>
            <p:cNvPr id="145" name=""/>
            <p:cNvSpPr/>
            <p:nvPr/>
          </p:nvSpPr>
          <p:spPr>
            <a:xfrm>
              <a:off x="6230880" y="233280"/>
              <a:ext cx="773640" cy="875160"/>
            </a:xfrm>
            <a:custGeom>
              <a:avLst/>
              <a:gdLst/>
              <a:ahLst/>
              <a:rect l="0" t="0" r="r" b="b"/>
              <a:pathLst>
                <a:path fill="none" w="2149" h="2431">
                  <a:moveTo>
                    <a:pt x="0" y="0"/>
                  </a:moveTo>
                  <a:lnTo>
                    <a:pt x="44" y="127"/>
                  </a:lnTo>
                  <a:lnTo>
                    <a:pt x="88" y="255"/>
                  </a:lnTo>
                  <a:lnTo>
                    <a:pt x="216" y="343"/>
                  </a:lnTo>
                  <a:lnTo>
                    <a:pt x="343" y="427"/>
                  </a:lnTo>
                  <a:lnTo>
                    <a:pt x="383" y="555"/>
                  </a:lnTo>
                  <a:lnTo>
                    <a:pt x="471" y="684"/>
                  </a:lnTo>
                  <a:lnTo>
                    <a:pt x="511" y="856"/>
                  </a:lnTo>
                  <a:lnTo>
                    <a:pt x="600" y="984"/>
                  </a:lnTo>
                  <a:lnTo>
                    <a:pt x="684" y="1112"/>
                  </a:lnTo>
                  <a:lnTo>
                    <a:pt x="812" y="1196"/>
                  </a:lnTo>
                  <a:lnTo>
                    <a:pt x="940" y="1240"/>
                  </a:lnTo>
                  <a:lnTo>
                    <a:pt x="1068" y="1279"/>
                  </a:lnTo>
                  <a:lnTo>
                    <a:pt x="1196" y="1368"/>
                  </a:lnTo>
                  <a:lnTo>
                    <a:pt x="1323" y="1451"/>
                  </a:lnTo>
                  <a:lnTo>
                    <a:pt x="1412" y="1579"/>
                  </a:lnTo>
                  <a:lnTo>
                    <a:pt x="1451" y="1707"/>
                  </a:lnTo>
                  <a:lnTo>
                    <a:pt x="1539" y="1836"/>
                  </a:lnTo>
                  <a:lnTo>
                    <a:pt x="1539" y="1964"/>
                  </a:lnTo>
                  <a:lnTo>
                    <a:pt x="1624" y="2092"/>
                  </a:lnTo>
                  <a:lnTo>
                    <a:pt x="1752" y="2136"/>
                  </a:lnTo>
                  <a:lnTo>
                    <a:pt x="1880" y="2180"/>
                  </a:lnTo>
                  <a:lnTo>
                    <a:pt x="2008" y="2264"/>
                  </a:lnTo>
                  <a:lnTo>
                    <a:pt x="2149" y="243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86600" y="415800"/>
              <a:ext cx="43020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6168960" y="404640"/>
              <a:ext cx="488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81080" y="228600"/>
            <a:ext cx="5029200" cy="6400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7560" y="236520"/>
            <a:ext cx="779760" cy="681480"/>
          </a:xfrm>
          <a:custGeom>
            <a:avLst/>
            <a:gdLst/>
            <a:ahLst/>
            <a:rect l="0" t="0" r="r" b="b"/>
            <a:pathLst>
              <a:path fill="none" w="2166" h="1893">
                <a:moveTo>
                  <a:pt x="2166" y="0"/>
                </a:moveTo>
                <a:lnTo>
                  <a:pt x="2166" y="141"/>
                </a:lnTo>
                <a:lnTo>
                  <a:pt x="2122" y="282"/>
                </a:lnTo>
                <a:lnTo>
                  <a:pt x="2029" y="467"/>
                </a:lnTo>
                <a:lnTo>
                  <a:pt x="1936" y="697"/>
                </a:lnTo>
                <a:lnTo>
                  <a:pt x="1888" y="882"/>
                </a:lnTo>
                <a:lnTo>
                  <a:pt x="1747" y="979"/>
                </a:lnTo>
                <a:lnTo>
                  <a:pt x="1562" y="979"/>
                </a:lnTo>
                <a:lnTo>
                  <a:pt x="1376" y="1116"/>
                </a:lnTo>
                <a:lnTo>
                  <a:pt x="1191" y="1165"/>
                </a:lnTo>
                <a:lnTo>
                  <a:pt x="1005" y="1301"/>
                </a:lnTo>
                <a:lnTo>
                  <a:pt x="912" y="1443"/>
                </a:lnTo>
                <a:lnTo>
                  <a:pt x="771" y="1488"/>
                </a:lnTo>
                <a:lnTo>
                  <a:pt x="586" y="1536"/>
                </a:lnTo>
                <a:lnTo>
                  <a:pt x="401" y="1673"/>
                </a:lnTo>
                <a:lnTo>
                  <a:pt x="264" y="1814"/>
                </a:lnTo>
                <a:lnTo>
                  <a:pt x="123" y="1862"/>
                </a:lnTo>
                <a:lnTo>
                  <a:pt x="0" y="1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237960"/>
            <a:ext cx="1136880" cy="5191560"/>
          </a:xfrm>
          <a:custGeom>
            <a:avLst/>
            <a:gdLst/>
            <a:ahLst/>
            <a:rect l="0" t="0" r="r" b="b"/>
            <a:pathLst>
              <a:path fill="none" w="3158" h="14421">
                <a:moveTo>
                  <a:pt x="3140" y="0"/>
                </a:moveTo>
                <a:lnTo>
                  <a:pt x="3158" y="92"/>
                </a:lnTo>
                <a:lnTo>
                  <a:pt x="3114" y="277"/>
                </a:lnTo>
                <a:lnTo>
                  <a:pt x="3114" y="463"/>
                </a:lnTo>
                <a:lnTo>
                  <a:pt x="3114" y="648"/>
                </a:lnTo>
                <a:lnTo>
                  <a:pt x="2973" y="833"/>
                </a:lnTo>
                <a:lnTo>
                  <a:pt x="2880" y="974"/>
                </a:lnTo>
                <a:lnTo>
                  <a:pt x="2739" y="1111"/>
                </a:lnTo>
                <a:lnTo>
                  <a:pt x="2554" y="1296"/>
                </a:lnTo>
                <a:lnTo>
                  <a:pt x="2510" y="1437"/>
                </a:lnTo>
                <a:lnTo>
                  <a:pt x="2417" y="1622"/>
                </a:lnTo>
                <a:lnTo>
                  <a:pt x="2324" y="1807"/>
                </a:lnTo>
                <a:lnTo>
                  <a:pt x="2232" y="1993"/>
                </a:lnTo>
                <a:lnTo>
                  <a:pt x="2139" y="2134"/>
                </a:lnTo>
                <a:lnTo>
                  <a:pt x="1998" y="2271"/>
                </a:lnTo>
                <a:lnTo>
                  <a:pt x="1954" y="2412"/>
                </a:lnTo>
                <a:lnTo>
                  <a:pt x="1813" y="2504"/>
                </a:lnTo>
                <a:lnTo>
                  <a:pt x="1720" y="2689"/>
                </a:lnTo>
                <a:lnTo>
                  <a:pt x="1578" y="2831"/>
                </a:lnTo>
                <a:lnTo>
                  <a:pt x="1393" y="2967"/>
                </a:lnTo>
                <a:lnTo>
                  <a:pt x="1300" y="3108"/>
                </a:lnTo>
                <a:lnTo>
                  <a:pt x="1208" y="3294"/>
                </a:lnTo>
                <a:lnTo>
                  <a:pt x="1071" y="3479"/>
                </a:lnTo>
                <a:lnTo>
                  <a:pt x="974" y="3621"/>
                </a:lnTo>
                <a:lnTo>
                  <a:pt x="789" y="3758"/>
                </a:lnTo>
                <a:lnTo>
                  <a:pt x="652" y="3899"/>
                </a:lnTo>
                <a:lnTo>
                  <a:pt x="511" y="3943"/>
                </a:lnTo>
                <a:lnTo>
                  <a:pt x="374" y="4084"/>
                </a:lnTo>
                <a:lnTo>
                  <a:pt x="233" y="4177"/>
                </a:lnTo>
                <a:lnTo>
                  <a:pt x="141" y="4362"/>
                </a:lnTo>
                <a:lnTo>
                  <a:pt x="48" y="4503"/>
                </a:lnTo>
                <a:lnTo>
                  <a:pt x="0" y="4688"/>
                </a:lnTo>
                <a:lnTo>
                  <a:pt x="92" y="4873"/>
                </a:lnTo>
                <a:lnTo>
                  <a:pt x="189" y="5058"/>
                </a:lnTo>
                <a:lnTo>
                  <a:pt x="233" y="5288"/>
                </a:lnTo>
                <a:lnTo>
                  <a:pt x="282" y="5429"/>
                </a:lnTo>
                <a:lnTo>
                  <a:pt x="326" y="5614"/>
                </a:lnTo>
                <a:lnTo>
                  <a:pt x="418" y="5755"/>
                </a:lnTo>
                <a:lnTo>
                  <a:pt x="511" y="5984"/>
                </a:lnTo>
                <a:lnTo>
                  <a:pt x="652" y="6126"/>
                </a:lnTo>
                <a:lnTo>
                  <a:pt x="745" y="6267"/>
                </a:lnTo>
                <a:lnTo>
                  <a:pt x="837" y="6452"/>
                </a:lnTo>
                <a:lnTo>
                  <a:pt x="930" y="6637"/>
                </a:lnTo>
                <a:lnTo>
                  <a:pt x="1071" y="6822"/>
                </a:lnTo>
                <a:lnTo>
                  <a:pt x="1164" y="7008"/>
                </a:lnTo>
                <a:lnTo>
                  <a:pt x="1208" y="7149"/>
                </a:lnTo>
                <a:lnTo>
                  <a:pt x="1300" y="7334"/>
                </a:lnTo>
                <a:lnTo>
                  <a:pt x="1300" y="7519"/>
                </a:lnTo>
                <a:lnTo>
                  <a:pt x="1300" y="7704"/>
                </a:lnTo>
                <a:lnTo>
                  <a:pt x="1300" y="7934"/>
                </a:lnTo>
                <a:lnTo>
                  <a:pt x="1349" y="8123"/>
                </a:lnTo>
                <a:lnTo>
                  <a:pt x="1393" y="8308"/>
                </a:lnTo>
                <a:lnTo>
                  <a:pt x="1534" y="8494"/>
                </a:lnTo>
                <a:lnTo>
                  <a:pt x="1672" y="8723"/>
                </a:lnTo>
                <a:lnTo>
                  <a:pt x="1764" y="8864"/>
                </a:lnTo>
                <a:lnTo>
                  <a:pt x="1813" y="9005"/>
                </a:lnTo>
                <a:lnTo>
                  <a:pt x="1954" y="9234"/>
                </a:lnTo>
                <a:lnTo>
                  <a:pt x="2047" y="9376"/>
                </a:lnTo>
                <a:lnTo>
                  <a:pt x="2232" y="9561"/>
                </a:lnTo>
                <a:lnTo>
                  <a:pt x="2324" y="9746"/>
                </a:lnTo>
                <a:lnTo>
                  <a:pt x="2417" y="9887"/>
                </a:lnTo>
                <a:lnTo>
                  <a:pt x="2461" y="10072"/>
                </a:lnTo>
                <a:lnTo>
                  <a:pt x="2554" y="10258"/>
                </a:lnTo>
                <a:lnTo>
                  <a:pt x="2602" y="10443"/>
                </a:lnTo>
                <a:lnTo>
                  <a:pt x="2602" y="10628"/>
                </a:lnTo>
                <a:lnTo>
                  <a:pt x="2602" y="10769"/>
                </a:lnTo>
                <a:lnTo>
                  <a:pt x="2646" y="11092"/>
                </a:lnTo>
                <a:lnTo>
                  <a:pt x="2695" y="11233"/>
                </a:lnTo>
                <a:lnTo>
                  <a:pt x="2695" y="11462"/>
                </a:lnTo>
                <a:lnTo>
                  <a:pt x="2646" y="11696"/>
                </a:lnTo>
                <a:lnTo>
                  <a:pt x="2646" y="11837"/>
                </a:lnTo>
                <a:lnTo>
                  <a:pt x="2602" y="12022"/>
                </a:lnTo>
                <a:lnTo>
                  <a:pt x="2461" y="12159"/>
                </a:lnTo>
                <a:lnTo>
                  <a:pt x="2417" y="12300"/>
                </a:lnTo>
                <a:lnTo>
                  <a:pt x="2276" y="12441"/>
                </a:lnTo>
                <a:lnTo>
                  <a:pt x="2139" y="12627"/>
                </a:lnTo>
                <a:lnTo>
                  <a:pt x="1998" y="12763"/>
                </a:lnTo>
                <a:lnTo>
                  <a:pt x="1906" y="12904"/>
                </a:lnTo>
                <a:lnTo>
                  <a:pt x="1764" y="13134"/>
                </a:lnTo>
                <a:lnTo>
                  <a:pt x="1672" y="13275"/>
                </a:lnTo>
                <a:lnTo>
                  <a:pt x="1628" y="13416"/>
                </a:lnTo>
                <a:lnTo>
                  <a:pt x="1628" y="13601"/>
                </a:lnTo>
                <a:lnTo>
                  <a:pt x="1578" y="13786"/>
                </a:lnTo>
                <a:lnTo>
                  <a:pt x="1393" y="13879"/>
                </a:lnTo>
                <a:lnTo>
                  <a:pt x="1208" y="14016"/>
                </a:lnTo>
                <a:lnTo>
                  <a:pt x="1071" y="14157"/>
                </a:lnTo>
                <a:lnTo>
                  <a:pt x="930" y="14157"/>
                </a:lnTo>
                <a:lnTo>
                  <a:pt x="745" y="14157"/>
                </a:lnTo>
                <a:lnTo>
                  <a:pt x="604" y="14157"/>
                </a:lnTo>
                <a:lnTo>
                  <a:pt x="418" y="14249"/>
                </a:lnTo>
                <a:lnTo>
                  <a:pt x="282" y="14390"/>
                </a:lnTo>
                <a:lnTo>
                  <a:pt x="13" y="1442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98720" y="236520"/>
            <a:ext cx="1554480" cy="5832720"/>
          </a:xfrm>
          <a:custGeom>
            <a:avLst/>
            <a:gdLst/>
            <a:ahLst/>
            <a:rect l="0" t="0" r="r" b="b"/>
            <a:pathLst>
              <a:path fill="none" w="4318" h="16202">
                <a:moveTo>
                  <a:pt x="4318" y="0"/>
                </a:moveTo>
                <a:lnTo>
                  <a:pt x="4318" y="189"/>
                </a:lnTo>
                <a:lnTo>
                  <a:pt x="4318" y="374"/>
                </a:lnTo>
                <a:lnTo>
                  <a:pt x="4318" y="604"/>
                </a:lnTo>
                <a:lnTo>
                  <a:pt x="4269" y="745"/>
                </a:lnTo>
                <a:lnTo>
                  <a:pt x="4177" y="930"/>
                </a:lnTo>
                <a:lnTo>
                  <a:pt x="4084" y="1071"/>
                </a:lnTo>
                <a:lnTo>
                  <a:pt x="3947" y="1256"/>
                </a:lnTo>
                <a:lnTo>
                  <a:pt x="3855" y="1441"/>
                </a:lnTo>
                <a:lnTo>
                  <a:pt x="3762" y="1627"/>
                </a:lnTo>
                <a:lnTo>
                  <a:pt x="3621" y="1812"/>
                </a:lnTo>
                <a:lnTo>
                  <a:pt x="3572" y="1953"/>
                </a:lnTo>
                <a:lnTo>
                  <a:pt x="3436" y="2138"/>
                </a:lnTo>
                <a:lnTo>
                  <a:pt x="3295" y="2275"/>
                </a:lnTo>
                <a:lnTo>
                  <a:pt x="3202" y="2416"/>
                </a:lnTo>
                <a:lnTo>
                  <a:pt x="3017" y="2601"/>
                </a:lnTo>
                <a:lnTo>
                  <a:pt x="2924" y="2742"/>
                </a:lnTo>
                <a:lnTo>
                  <a:pt x="2832" y="2928"/>
                </a:lnTo>
                <a:lnTo>
                  <a:pt x="2739" y="3113"/>
                </a:lnTo>
                <a:lnTo>
                  <a:pt x="2690" y="3298"/>
                </a:lnTo>
                <a:lnTo>
                  <a:pt x="2554" y="3483"/>
                </a:lnTo>
                <a:lnTo>
                  <a:pt x="2505" y="3624"/>
                </a:lnTo>
                <a:lnTo>
                  <a:pt x="2369" y="3810"/>
                </a:lnTo>
                <a:lnTo>
                  <a:pt x="2276" y="3995"/>
                </a:lnTo>
                <a:lnTo>
                  <a:pt x="2183" y="4224"/>
                </a:lnTo>
                <a:lnTo>
                  <a:pt x="2183" y="4365"/>
                </a:lnTo>
                <a:lnTo>
                  <a:pt x="2183" y="4506"/>
                </a:lnTo>
                <a:lnTo>
                  <a:pt x="2183" y="4691"/>
                </a:lnTo>
                <a:lnTo>
                  <a:pt x="2090" y="4877"/>
                </a:lnTo>
                <a:lnTo>
                  <a:pt x="2041" y="5106"/>
                </a:lnTo>
                <a:lnTo>
                  <a:pt x="2134" y="5291"/>
                </a:lnTo>
                <a:lnTo>
                  <a:pt x="2227" y="5481"/>
                </a:lnTo>
                <a:lnTo>
                  <a:pt x="2320" y="5666"/>
                </a:lnTo>
                <a:lnTo>
                  <a:pt x="2369" y="5851"/>
                </a:lnTo>
                <a:lnTo>
                  <a:pt x="2505" y="6036"/>
                </a:lnTo>
                <a:lnTo>
                  <a:pt x="2598" y="6270"/>
                </a:lnTo>
                <a:lnTo>
                  <a:pt x="2739" y="6455"/>
                </a:lnTo>
                <a:lnTo>
                  <a:pt x="2880" y="6592"/>
                </a:lnTo>
                <a:lnTo>
                  <a:pt x="2973" y="6777"/>
                </a:lnTo>
                <a:lnTo>
                  <a:pt x="3065" y="6918"/>
                </a:lnTo>
                <a:lnTo>
                  <a:pt x="3158" y="7152"/>
                </a:lnTo>
                <a:lnTo>
                  <a:pt x="3295" y="7430"/>
                </a:lnTo>
                <a:lnTo>
                  <a:pt x="3436" y="7615"/>
                </a:lnTo>
                <a:lnTo>
                  <a:pt x="3480" y="7800"/>
                </a:lnTo>
                <a:lnTo>
                  <a:pt x="3528" y="7986"/>
                </a:lnTo>
                <a:lnTo>
                  <a:pt x="3528" y="8128"/>
                </a:lnTo>
                <a:lnTo>
                  <a:pt x="3572" y="8313"/>
                </a:lnTo>
                <a:lnTo>
                  <a:pt x="3669" y="8498"/>
                </a:lnTo>
                <a:lnTo>
                  <a:pt x="3855" y="8727"/>
                </a:lnTo>
                <a:lnTo>
                  <a:pt x="3855" y="8868"/>
                </a:lnTo>
                <a:lnTo>
                  <a:pt x="3899" y="9010"/>
                </a:lnTo>
                <a:lnTo>
                  <a:pt x="3947" y="9195"/>
                </a:lnTo>
                <a:lnTo>
                  <a:pt x="3947" y="9380"/>
                </a:lnTo>
                <a:lnTo>
                  <a:pt x="3899" y="9565"/>
                </a:lnTo>
                <a:lnTo>
                  <a:pt x="3855" y="9750"/>
                </a:lnTo>
                <a:lnTo>
                  <a:pt x="3855" y="9892"/>
                </a:lnTo>
                <a:lnTo>
                  <a:pt x="3806" y="10077"/>
                </a:lnTo>
                <a:lnTo>
                  <a:pt x="3762" y="10306"/>
                </a:lnTo>
                <a:lnTo>
                  <a:pt x="3806" y="10491"/>
                </a:lnTo>
                <a:lnTo>
                  <a:pt x="3806" y="10632"/>
                </a:lnTo>
                <a:lnTo>
                  <a:pt x="3806" y="10773"/>
                </a:lnTo>
                <a:lnTo>
                  <a:pt x="3806" y="10959"/>
                </a:lnTo>
                <a:lnTo>
                  <a:pt x="3762" y="11144"/>
                </a:lnTo>
                <a:lnTo>
                  <a:pt x="3713" y="11329"/>
                </a:lnTo>
                <a:lnTo>
                  <a:pt x="3669" y="11514"/>
                </a:lnTo>
                <a:lnTo>
                  <a:pt x="3621" y="11699"/>
                </a:lnTo>
                <a:lnTo>
                  <a:pt x="3572" y="11885"/>
                </a:lnTo>
                <a:lnTo>
                  <a:pt x="3528" y="12026"/>
                </a:lnTo>
                <a:lnTo>
                  <a:pt x="3480" y="12211"/>
                </a:lnTo>
                <a:lnTo>
                  <a:pt x="3436" y="12396"/>
                </a:lnTo>
                <a:lnTo>
                  <a:pt x="3387" y="12581"/>
                </a:lnTo>
                <a:lnTo>
                  <a:pt x="3387" y="12723"/>
                </a:lnTo>
                <a:lnTo>
                  <a:pt x="3250" y="13044"/>
                </a:lnTo>
                <a:lnTo>
                  <a:pt x="3202" y="13186"/>
                </a:lnTo>
                <a:lnTo>
                  <a:pt x="3109" y="13419"/>
                </a:lnTo>
                <a:lnTo>
                  <a:pt x="3017" y="13604"/>
                </a:lnTo>
                <a:lnTo>
                  <a:pt x="2924" y="13834"/>
                </a:lnTo>
                <a:lnTo>
                  <a:pt x="2787" y="14068"/>
                </a:lnTo>
                <a:lnTo>
                  <a:pt x="2646" y="14531"/>
                </a:lnTo>
                <a:lnTo>
                  <a:pt x="2598" y="14672"/>
                </a:lnTo>
                <a:lnTo>
                  <a:pt x="2369" y="14808"/>
                </a:lnTo>
                <a:lnTo>
                  <a:pt x="2227" y="14901"/>
                </a:lnTo>
                <a:lnTo>
                  <a:pt x="2041" y="15042"/>
                </a:lnTo>
                <a:lnTo>
                  <a:pt x="1578" y="15183"/>
                </a:lnTo>
                <a:lnTo>
                  <a:pt x="1393" y="15276"/>
                </a:lnTo>
                <a:lnTo>
                  <a:pt x="1208" y="15320"/>
                </a:lnTo>
                <a:lnTo>
                  <a:pt x="926" y="15412"/>
                </a:lnTo>
                <a:lnTo>
                  <a:pt x="740" y="15505"/>
                </a:lnTo>
                <a:lnTo>
                  <a:pt x="555" y="15646"/>
                </a:lnTo>
                <a:lnTo>
                  <a:pt x="418" y="15831"/>
                </a:lnTo>
                <a:lnTo>
                  <a:pt x="277" y="15924"/>
                </a:lnTo>
                <a:lnTo>
                  <a:pt x="92" y="16017"/>
                </a:lnTo>
                <a:lnTo>
                  <a:pt x="0" y="16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7560" y="857160"/>
            <a:ext cx="1994400" cy="5598000"/>
          </a:xfrm>
          <a:custGeom>
            <a:avLst/>
            <a:gdLst/>
            <a:ahLst/>
            <a:rect l="0" t="0" r="r" b="b"/>
            <a:pathLst>
              <a:path fill="none" w="5540" h="15550">
                <a:moveTo>
                  <a:pt x="5540" y="0"/>
                </a:moveTo>
                <a:lnTo>
                  <a:pt x="5452" y="97"/>
                </a:lnTo>
                <a:lnTo>
                  <a:pt x="5373" y="185"/>
                </a:lnTo>
                <a:lnTo>
                  <a:pt x="5320" y="251"/>
                </a:lnTo>
                <a:lnTo>
                  <a:pt x="5289" y="357"/>
                </a:lnTo>
                <a:lnTo>
                  <a:pt x="5267" y="440"/>
                </a:lnTo>
                <a:lnTo>
                  <a:pt x="5223" y="520"/>
                </a:lnTo>
                <a:lnTo>
                  <a:pt x="5196" y="612"/>
                </a:lnTo>
                <a:lnTo>
                  <a:pt x="5156" y="679"/>
                </a:lnTo>
                <a:lnTo>
                  <a:pt x="5104" y="740"/>
                </a:lnTo>
                <a:lnTo>
                  <a:pt x="4984" y="846"/>
                </a:lnTo>
                <a:lnTo>
                  <a:pt x="4857" y="978"/>
                </a:lnTo>
                <a:lnTo>
                  <a:pt x="4790" y="1089"/>
                </a:lnTo>
                <a:lnTo>
                  <a:pt x="4773" y="1164"/>
                </a:lnTo>
                <a:lnTo>
                  <a:pt x="4720" y="1322"/>
                </a:lnTo>
                <a:lnTo>
                  <a:pt x="4588" y="1455"/>
                </a:lnTo>
                <a:lnTo>
                  <a:pt x="4455" y="1666"/>
                </a:lnTo>
                <a:lnTo>
                  <a:pt x="4402" y="1719"/>
                </a:lnTo>
                <a:lnTo>
                  <a:pt x="4349" y="1878"/>
                </a:lnTo>
                <a:lnTo>
                  <a:pt x="4297" y="1984"/>
                </a:lnTo>
                <a:lnTo>
                  <a:pt x="4191" y="2116"/>
                </a:lnTo>
                <a:lnTo>
                  <a:pt x="4191" y="2301"/>
                </a:lnTo>
                <a:lnTo>
                  <a:pt x="4110" y="2592"/>
                </a:lnTo>
                <a:lnTo>
                  <a:pt x="4110" y="2566"/>
                </a:lnTo>
                <a:lnTo>
                  <a:pt x="4057" y="2778"/>
                </a:lnTo>
                <a:lnTo>
                  <a:pt x="3978" y="2641"/>
                </a:lnTo>
                <a:lnTo>
                  <a:pt x="4110" y="3148"/>
                </a:lnTo>
                <a:lnTo>
                  <a:pt x="4217" y="3307"/>
                </a:lnTo>
                <a:lnTo>
                  <a:pt x="4137" y="3413"/>
                </a:lnTo>
                <a:lnTo>
                  <a:pt x="4217" y="3624"/>
                </a:lnTo>
                <a:lnTo>
                  <a:pt x="4244" y="3783"/>
                </a:lnTo>
                <a:lnTo>
                  <a:pt x="4323" y="3916"/>
                </a:lnTo>
                <a:lnTo>
                  <a:pt x="4429" y="4075"/>
                </a:lnTo>
                <a:lnTo>
                  <a:pt x="4508" y="4207"/>
                </a:lnTo>
                <a:lnTo>
                  <a:pt x="4588" y="4366"/>
                </a:lnTo>
                <a:lnTo>
                  <a:pt x="4614" y="4498"/>
                </a:lnTo>
                <a:lnTo>
                  <a:pt x="4641" y="4578"/>
                </a:lnTo>
                <a:lnTo>
                  <a:pt x="4614" y="4710"/>
                </a:lnTo>
                <a:lnTo>
                  <a:pt x="4588" y="4922"/>
                </a:lnTo>
                <a:lnTo>
                  <a:pt x="4561" y="5160"/>
                </a:lnTo>
                <a:lnTo>
                  <a:pt x="4482" y="5319"/>
                </a:lnTo>
                <a:lnTo>
                  <a:pt x="4349" y="5473"/>
                </a:lnTo>
                <a:lnTo>
                  <a:pt x="4349" y="5614"/>
                </a:lnTo>
                <a:lnTo>
                  <a:pt x="4394" y="5799"/>
                </a:lnTo>
                <a:lnTo>
                  <a:pt x="4442" y="5984"/>
                </a:lnTo>
                <a:lnTo>
                  <a:pt x="4442" y="6170"/>
                </a:lnTo>
                <a:lnTo>
                  <a:pt x="4442" y="6311"/>
                </a:lnTo>
                <a:lnTo>
                  <a:pt x="4442" y="6496"/>
                </a:lnTo>
                <a:lnTo>
                  <a:pt x="4486" y="6725"/>
                </a:lnTo>
                <a:lnTo>
                  <a:pt x="4535" y="6866"/>
                </a:lnTo>
                <a:lnTo>
                  <a:pt x="4627" y="7052"/>
                </a:lnTo>
                <a:lnTo>
                  <a:pt x="4676" y="7237"/>
                </a:lnTo>
                <a:lnTo>
                  <a:pt x="4720" y="7378"/>
                </a:lnTo>
                <a:lnTo>
                  <a:pt x="4768" y="7607"/>
                </a:lnTo>
                <a:lnTo>
                  <a:pt x="4813" y="7748"/>
                </a:lnTo>
                <a:lnTo>
                  <a:pt x="4813" y="8026"/>
                </a:lnTo>
                <a:lnTo>
                  <a:pt x="4813" y="8260"/>
                </a:lnTo>
                <a:lnTo>
                  <a:pt x="4813" y="8445"/>
                </a:lnTo>
                <a:lnTo>
                  <a:pt x="4813" y="8723"/>
                </a:lnTo>
                <a:lnTo>
                  <a:pt x="4861" y="9186"/>
                </a:lnTo>
                <a:lnTo>
                  <a:pt x="4861" y="9420"/>
                </a:lnTo>
                <a:lnTo>
                  <a:pt x="4861" y="9883"/>
                </a:lnTo>
                <a:lnTo>
                  <a:pt x="4813" y="10024"/>
                </a:lnTo>
                <a:lnTo>
                  <a:pt x="4720" y="10209"/>
                </a:lnTo>
                <a:lnTo>
                  <a:pt x="4535" y="10906"/>
                </a:lnTo>
                <a:lnTo>
                  <a:pt x="4394" y="11135"/>
                </a:lnTo>
                <a:lnTo>
                  <a:pt x="4349" y="11276"/>
                </a:lnTo>
                <a:lnTo>
                  <a:pt x="4257" y="12763"/>
                </a:lnTo>
                <a:lnTo>
                  <a:pt x="4164" y="12948"/>
                </a:lnTo>
                <a:lnTo>
                  <a:pt x="4022" y="13085"/>
                </a:lnTo>
                <a:lnTo>
                  <a:pt x="3885" y="13226"/>
                </a:lnTo>
                <a:lnTo>
                  <a:pt x="3793" y="13367"/>
                </a:lnTo>
                <a:lnTo>
                  <a:pt x="3652" y="13504"/>
                </a:lnTo>
                <a:lnTo>
                  <a:pt x="3511" y="13597"/>
                </a:lnTo>
                <a:lnTo>
                  <a:pt x="3281" y="13830"/>
                </a:lnTo>
                <a:lnTo>
                  <a:pt x="3140" y="14016"/>
                </a:lnTo>
                <a:lnTo>
                  <a:pt x="1703" y="14664"/>
                </a:lnTo>
                <a:lnTo>
                  <a:pt x="1562" y="14712"/>
                </a:lnTo>
                <a:lnTo>
                  <a:pt x="1375" y="14712"/>
                </a:lnTo>
                <a:lnTo>
                  <a:pt x="1146" y="14898"/>
                </a:lnTo>
                <a:lnTo>
                  <a:pt x="1005" y="15034"/>
                </a:lnTo>
                <a:lnTo>
                  <a:pt x="864" y="15083"/>
                </a:lnTo>
                <a:lnTo>
                  <a:pt x="679" y="15131"/>
                </a:lnTo>
                <a:lnTo>
                  <a:pt x="493" y="15224"/>
                </a:lnTo>
                <a:lnTo>
                  <a:pt x="308" y="15268"/>
                </a:lnTo>
                <a:lnTo>
                  <a:pt x="264" y="15409"/>
                </a:lnTo>
                <a:lnTo>
                  <a:pt x="123" y="15502"/>
                </a:lnTo>
                <a:lnTo>
                  <a:pt x="0" y="1555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90800" y="3540240"/>
            <a:ext cx="359280" cy="1184760"/>
          </a:xfrm>
          <a:custGeom>
            <a:avLst/>
            <a:gdLst/>
            <a:ahLst/>
            <a:rect l="0" t="0" r="r" b="b"/>
            <a:pathLst>
              <a:path fill="none" w="998" h="3291">
                <a:moveTo>
                  <a:pt x="0" y="0"/>
                </a:moveTo>
                <a:lnTo>
                  <a:pt x="52" y="158"/>
                </a:lnTo>
                <a:lnTo>
                  <a:pt x="97" y="326"/>
                </a:lnTo>
                <a:lnTo>
                  <a:pt x="163" y="480"/>
                </a:lnTo>
                <a:lnTo>
                  <a:pt x="256" y="621"/>
                </a:lnTo>
                <a:lnTo>
                  <a:pt x="441" y="714"/>
                </a:lnTo>
                <a:lnTo>
                  <a:pt x="627" y="806"/>
                </a:lnTo>
                <a:lnTo>
                  <a:pt x="813" y="944"/>
                </a:lnTo>
                <a:lnTo>
                  <a:pt x="905" y="1085"/>
                </a:lnTo>
                <a:lnTo>
                  <a:pt x="998" y="1271"/>
                </a:lnTo>
                <a:lnTo>
                  <a:pt x="998" y="1456"/>
                </a:lnTo>
                <a:lnTo>
                  <a:pt x="998" y="1597"/>
                </a:lnTo>
                <a:lnTo>
                  <a:pt x="950" y="1826"/>
                </a:lnTo>
                <a:lnTo>
                  <a:pt x="813" y="1967"/>
                </a:lnTo>
                <a:lnTo>
                  <a:pt x="671" y="2104"/>
                </a:lnTo>
                <a:lnTo>
                  <a:pt x="627" y="2245"/>
                </a:lnTo>
                <a:lnTo>
                  <a:pt x="627" y="2386"/>
                </a:lnTo>
                <a:lnTo>
                  <a:pt x="534" y="2572"/>
                </a:lnTo>
                <a:lnTo>
                  <a:pt x="393" y="2665"/>
                </a:lnTo>
                <a:lnTo>
                  <a:pt x="256" y="2850"/>
                </a:lnTo>
                <a:lnTo>
                  <a:pt x="114" y="2987"/>
                </a:lnTo>
                <a:lnTo>
                  <a:pt x="0" y="329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9680" y="1357200"/>
            <a:ext cx="1756080" cy="5262840"/>
          </a:xfrm>
          <a:custGeom>
            <a:avLst/>
            <a:gdLst/>
            <a:ahLst/>
            <a:rect l="0" t="0" r="r" b="b"/>
            <a:pathLst>
              <a:path fill="none" w="4878" h="14619">
                <a:moveTo>
                  <a:pt x="3211" y="0"/>
                </a:moveTo>
                <a:lnTo>
                  <a:pt x="3250" y="489"/>
                </a:lnTo>
                <a:lnTo>
                  <a:pt x="3211" y="661"/>
                </a:lnTo>
                <a:lnTo>
                  <a:pt x="3224" y="767"/>
                </a:lnTo>
                <a:lnTo>
                  <a:pt x="3237" y="886"/>
                </a:lnTo>
                <a:lnTo>
                  <a:pt x="3277" y="965"/>
                </a:lnTo>
                <a:lnTo>
                  <a:pt x="3303" y="1018"/>
                </a:lnTo>
                <a:lnTo>
                  <a:pt x="3303" y="1111"/>
                </a:lnTo>
                <a:lnTo>
                  <a:pt x="3303" y="1124"/>
                </a:lnTo>
                <a:lnTo>
                  <a:pt x="3290" y="1137"/>
                </a:lnTo>
                <a:lnTo>
                  <a:pt x="3277" y="1190"/>
                </a:lnTo>
                <a:lnTo>
                  <a:pt x="3237" y="1270"/>
                </a:lnTo>
                <a:lnTo>
                  <a:pt x="3184" y="1283"/>
                </a:lnTo>
                <a:lnTo>
                  <a:pt x="3211" y="1389"/>
                </a:lnTo>
                <a:lnTo>
                  <a:pt x="3211" y="1455"/>
                </a:lnTo>
                <a:lnTo>
                  <a:pt x="3184" y="1508"/>
                </a:lnTo>
                <a:lnTo>
                  <a:pt x="3145" y="1653"/>
                </a:lnTo>
                <a:lnTo>
                  <a:pt x="3105" y="1746"/>
                </a:lnTo>
                <a:lnTo>
                  <a:pt x="3078" y="1905"/>
                </a:lnTo>
                <a:lnTo>
                  <a:pt x="3078" y="2037"/>
                </a:lnTo>
                <a:lnTo>
                  <a:pt x="3065" y="2222"/>
                </a:lnTo>
                <a:lnTo>
                  <a:pt x="3043" y="2332"/>
                </a:lnTo>
                <a:lnTo>
                  <a:pt x="3176" y="2456"/>
                </a:lnTo>
                <a:lnTo>
                  <a:pt x="3237" y="2597"/>
                </a:lnTo>
                <a:lnTo>
                  <a:pt x="3308" y="2729"/>
                </a:lnTo>
                <a:lnTo>
                  <a:pt x="3334" y="2861"/>
                </a:lnTo>
                <a:lnTo>
                  <a:pt x="3533" y="3016"/>
                </a:lnTo>
                <a:lnTo>
                  <a:pt x="3533" y="3157"/>
                </a:lnTo>
                <a:lnTo>
                  <a:pt x="3625" y="3386"/>
                </a:lnTo>
                <a:lnTo>
                  <a:pt x="3669" y="3527"/>
                </a:lnTo>
                <a:lnTo>
                  <a:pt x="3811" y="3757"/>
                </a:lnTo>
                <a:lnTo>
                  <a:pt x="3903" y="3898"/>
                </a:lnTo>
                <a:lnTo>
                  <a:pt x="3996" y="4083"/>
                </a:lnTo>
                <a:lnTo>
                  <a:pt x="4040" y="4224"/>
                </a:lnTo>
                <a:lnTo>
                  <a:pt x="4132" y="4409"/>
                </a:lnTo>
                <a:lnTo>
                  <a:pt x="4181" y="4594"/>
                </a:lnTo>
                <a:lnTo>
                  <a:pt x="4274" y="4780"/>
                </a:lnTo>
                <a:lnTo>
                  <a:pt x="4322" y="4965"/>
                </a:lnTo>
                <a:lnTo>
                  <a:pt x="4366" y="5106"/>
                </a:lnTo>
                <a:lnTo>
                  <a:pt x="4415" y="5291"/>
                </a:lnTo>
                <a:lnTo>
                  <a:pt x="4507" y="5569"/>
                </a:lnTo>
                <a:lnTo>
                  <a:pt x="4551" y="5803"/>
                </a:lnTo>
                <a:lnTo>
                  <a:pt x="4551" y="5988"/>
                </a:lnTo>
                <a:lnTo>
                  <a:pt x="4644" y="6173"/>
                </a:lnTo>
                <a:lnTo>
                  <a:pt x="4644" y="6402"/>
                </a:lnTo>
                <a:lnTo>
                  <a:pt x="4644" y="6544"/>
                </a:lnTo>
                <a:lnTo>
                  <a:pt x="4644" y="6729"/>
                </a:lnTo>
                <a:lnTo>
                  <a:pt x="4644" y="6914"/>
                </a:lnTo>
                <a:lnTo>
                  <a:pt x="4644" y="7055"/>
                </a:lnTo>
                <a:lnTo>
                  <a:pt x="4644" y="7378"/>
                </a:lnTo>
                <a:lnTo>
                  <a:pt x="4644" y="7519"/>
                </a:lnTo>
                <a:lnTo>
                  <a:pt x="4551" y="7660"/>
                </a:lnTo>
                <a:lnTo>
                  <a:pt x="4459" y="7889"/>
                </a:lnTo>
                <a:lnTo>
                  <a:pt x="4600" y="8308"/>
                </a:lnTo>
                <a:lnTo>
                  <a:pt x="4878" y="8586"/>
                </a:lnTo>
                <a:lnTo>
                  <a:pt x="4878" y="8820"/>
                </a:lnTo>
                <a:lnTo>
                  <a:pt x="4878" y="8913"/>
                </a:lnTo>
                <a:lnTo>
                  <a:pt x="4878" y="8913"/>
                </a:lnTo>
                <a:lnTo>
                  <a:pt x="4644" y="9098"/>
                </a:lnTo>
                <a:lnTo>
                  <a:pt x="4644" y="9283"/>
                </a:lnTo>
                <a:lnTo>
                  <a:pt x="4551" y="9468"/>
                </a:lnTo>
                <a:lnTo>
                  <a:pt x="4459" y="9653"/>
                </a:lnTo>
                <a:lnTo>
                  <a:pt x="4322" y="9746"/>
                </a:lnTo>
                <a:lnTo>
                  <a:pt x="4088" y="9931"/>
                </a:lnTo>
                <a:lnTo>
                  <a:pt x="3996" y="10165"/>
                </a:lnTo>
                <a:lnTo>
                  <a:pt x="3947" y="10306"/>
                </a:lnTo>
                <a:lnTo>
                  <a:pt x="3855" y="10862"/>
                </a:lnTo>
                <a:lnTo>
                  <a:pt x="3762" y="11139"/>
                </a:lnTo>
                <a:lnTo>
                  <a:pt x="3718" y="11281"/>
                </a:lnTo>
                <a:lnTo>
                  <a:pt x="3577" y="11744"/>
                </a:lnTo>
                <a:lnTo>
                  <a:pt x="3440" y="11977"/>
                </a:lnTo>
                <a:lnTo>
                  <a:pt x="3250" y="12163"/>
                </a:lnTo>
                <a:lnTo>
                  <a:pt x="2973" y="12440"/>
                </a:lnTo>
                <a:lnTo>
                  <a:pt x="2836" y="12670"/>
                </a:lnTo>
                <a:lnTo>
                  <a:pt x="2695" y="12762"/>
                </a:lnTo>
                <a:lnTo>
                  <a:pt x="2416" y="12952"/>
                </a:lnTo>
                <a:lnTo>
                  <a:pt x="2275" y="13044"/>
                </a:lnTo>
                <a:lnTo>
                  <a:pt x="2046" y="13137"/>
                </a:lnTo>
                <a:lnTo>
                  <a:pt x="1860" y="13322"/>
                </a:lnTo>
                <a:lnTo>
                  <a:pt x="1719" y="13366"/>
                </a:lnTo>
                <a:lnTo>
                  <a:pt x="1583" y="13507"/>
                </a:lnTo>
                <a:lnTo>
                  <a:pt x="1441" y="13552"/>
                </a:lnTo>
                <a:lnTo>
                  <a:pt x="1300" y="13644"/>
                </a:lnTo>
                <a:lnTo>
                  <a:pt x="1164" y="13785"/>
                </a:lnTo>
                <a:lnTo>
                  <a:pt x="978" y="14019"/>
                </a:lnTo>
                <a:lnTo>
                  <a:pt x="837" y="14112"/>
                </a:lnTo>
                <a:lnTo>
                  <a:pt x="652" y="14204"/>
                </a:lnTo>
                <a:lnTo>
                  <a:pt x="511" y="14297"/>
                </a:lnTo>
                <a:lnTo>
                  <a:pt x="282" y="14434"/>
                </a:lnTo>
                <a:lnTo>
                  <a:pt x="0" y="1461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57720" y="2643120"/>
            <a:ext cx="1452960" cy="3972240"/>
          </a:xfrm>
          <a:custGeom>
            <a:avLst/>
            <a:gdLst/>
            <a:ahLst/>
            <a:rect l="0" t="0" r="r" b="b"/>
            <a:pathLst>
              <a:path fill="none" w="4036" h="11034">
                <a:moveTo>
                  <a:pt x="2276" y="0"/>
                </a:moveTo>
                <a:lnTo>
                  <a:pt x="2369" y="224"/>
                </a:lnTo>
                <a:lnTo>
                  <a:pt x="2461" y="383"/>
                </a:lnTo>
                <a:lnTo>
                  <a:pt x="2501" y="595"/>
                </a:lnTo>
                <a:lnTo>
                  <a:pt x="2607" y="687"/>
                </a:lnTo>
                <a:lnTo>
                  <a:pt x="2726" y="917"/>
                </a:lnTo>
                <a:lnTo>
                  <a:pt x="2862" y="1102"/>
                </a:lnTo>
                <a:lnTo>
                  <a:pt x="2955" y="1287"/>
                </a:lnTo>
                <a:lnTo>
                  <a:pt x="3049" y="1428"/>
                </a:lnTo>
                <a:lnTo>
                  <a:pt x="3141" y="1613"/>
                </a:lnTo>
                <a:lnTo>
                  <a:pt x="3282" y="1750"/>
                </a:lnTo>
                <a:lnTo>
                  <a:pt x="3326" y="1891"/>
                </a:lnTo>
                <a:lnTo>
                  <a:pt x="3468" y="2076"/>
                </a:lnTo>
                <a:lnTo>
                  <a:pt x="3516" y="2218"/>
                </a:lnTo>
                <a:lnTo>
                  <a:pt x="3609" y="2403"/>
                </a:lnTo>
                <a:lnTo>
                  <a:pt x="3701" y="2632"/>
                </a:lnTo>
                <a:lnTo>
                  <a:pt x="3745" y="2773"/>
                </a:lnTo>
                <a:lnTo>
                  <a:pt x="3838" y="2958"/>
                </a:lnTo>
                <a:lnTo>
                  <a:pt x="3838" y="3100"/>
                </a:lnTo>
                <a:lnTo>
                  <a:pt x="3886" y="3285"/>
                </a:lnTo>
                <a:lnTo>
                  <a:pt x="3886" y="3470"/>
                </a:lnTo>
                <a:lnTo>
                  <a:pt x="3886" y="3792"/>
                </a:lnTo>
                <a:lnTo>
                  <a:pt x="3886" y="3933"/>
                </a:lnTo>
                <a:lnTo>
                  <a:pt x="3886" y="4074"/>
                </a:lnTo>
                <a:lnTo>
                  <a:pt x="3886" y="4259"/>
                </a:lnTo>
                <a:lnTo>
                  <a:pt x="3931" y="4445"/>
                </a:lnTo>
                <a:lnTo>
                  <a:pt x="3891" y="4709"/>
                </a:lnTo>
                <a:lnTo>
                  <a:pt x="3904" y="4815"/>
                </a:lnTo>
                <a:lnTo>
                  <a:pt x="3917" y="4881"/>
                </a:lnTo>
                <a:lnTo>
                  <a:pt x="3944" y="4960"/>
                </a:lnTo>
                <a:lnTo>
                  <a:pt x="3970" y="5053"/>
                </a:lnTo>
                <a:lnTo>
                  <a:pt x="4010" y="5199"/>
                </a:lnTo>
                <a:lnTo>
                  <a:pt x="4023" y="5291"/>
                </a:lnTo>
                <a:lnTo>
                  <a:pt x="4036" y="5476"/>
                </a:lnTo>
                <a:lnTo>
                  <a:pt x="3983" y="5610"/>
                </a:lnTo>
                <a:lnTo>
                  <a:pt x="3891" y="5768"/>
                </a:lnTo>
                <a:lnTo>
                  <a:pt x="3772" y="6007"/>
                </a:lnTo>
                <a:lnTo>
                  <a:pt x="3679" y="6152"/>
                </a:lnTo>
                <a:lnTo>
                  <a:pt x="3600" y="6258"/>
                </a:lnTo>
                <a:lnTo>
                  <a:pt x="3454" y="6324"/>
                </a:lnTo>
                <a:lnTo>
                  <a:pt x="3335" y="6443"/>
                </a:lnTo>
                <a:lnTo>
                  <a:pt x="3243" y="6509"/>
                </a:lnTo>
                <a:lnTo>
                  <a:pt x="3150" y="6602"/>
                </a:lnTo>
                <a:lnTo>
                  <a:pt x="3044" y="6734"/>
                </a:lnTo>
                <a:lnTo>
                  <a:pt x="3004" y="6880"/>
                </a:lnTo>
                <a:lnTo>
                  <a:pt x="2977" y="7038"/>
                </a:lnTo>
                <a:lnTo>
                  <a:pt x="2911" y="7197"/>
                </a:lnTo>
                <a:lnTo>
                  <a:pt x="2832" y="7369"/>
                </a:lnTo>
                <a:lnTo>
                  <a:pt x="2752" y="7634"/>
                </a:lnTo>
                <a:lnTo>
                  <a:pt x="2699" y="7819"/>
                </a:lnTo>
                <a:lnTo>
                  <a:pt x="2567" y="8070"/>
                </a:lnTo>
                <a:lnTo>
                  <a:pt x="2435" y="8335"/>
                </a:lnTo>
                <a:lnTo>
                  <a:pt x="2316" y="8560"/>
                </a:lnTo>
                <a:lnTo>
                  <a:pt x="2249" y="8785"/>
                </a:lnTo>
                <a:lnTo>
                  <a:pt x="2197" y="8943"/>
                </a:lnTo>
                <a:lnTo>
                  <a:pt x="2025" y="9129"/>
                </a:lnTo>
                <a:lnTo>
                  <a:pt x="1866" y="9340"/>
                </a:lnTo>
                <a:lnTo>
                  <a:pt x="1522" y="9539"/>
                </a:lnTo>
                <a:lnTo>
                  <a:pt x="1390" y="9724"/>
                </a:lnTo>
                <a:lnTo>
                  <a:pt x="1178" y="9883"/>
                </a:lnTo>
                <a:lnTo>
                  <a:pt x="978" y="10041"/>
                </a:lnTo>
                <a:lnTo>
                  <a:pt x="740" y="10253"/>
                </a:lnTo>
                <a:lnTo>
                  <a:pt x="502" y="10359"/>
                </a:lnTo>
                <a:lnTo>
                  <a:pt x="370" y="10491"/>
                </a:lnTo>
                <a:lnTo>
                  <a:pt x="145" y="10756"/>
                </a:lnTo>
                <a:lnTo>
                  <a:pt x="0" y="1103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03840" y="235080"/>
            <a:ext cx="3097440" cy="4447080"/>
          </a:xfrm>
          <a:custGeom>
            <a:avLst/>
            <a:gdLst/>
            <a:ahLst/>
            <a:rect l="0" t="0" r="r" b="b"/>
            <a:pathLst>
              <a:path fill="none" w="8604" h="12353">
                <a:moveTo>
                  <a:pt x="304" y="0"/>
                </a:moveTo>
                <a:lnTo>
                  <a:pt x="277" y="101"/>
                </a:lnTo>
                <a:lnTo>
                  <a:pt x="277" y="286"/>
                </a:lnTo>
                <a:lnTo>
                  <a:pt x="277" y="471"/>
                </a:lnTo>
                <a:lnTo>
                  <a:pt x="277" y="657"/>
                </a:lnTo>
                <a:lnTo>
                  <a:pt x="326" y="842"/>
                </a:lnTo>
                <a:lnTo>
                  <a:pt x="370" y="983"/>
                </a:lnTo>
                <a:lnTo>
                  <a:pt x="370" y="1168"/>
                </a:lnTo>
                <a:lnTo>
                  <a:pt x="370" y="1353"/>
                </a:lnTo>
                <a:lnTo>
                  <a:pt x="277" y="1538"/>
                </a:lnTo>
                <a:lnTo>
                  <a:pt x="233" y="1724"/>
                </a:lnTo>
                <a:lnTo>
                  <a:pt x="141" y="1865"/>
                </a:lnTo>
                <a:lnTo>
                  <a:pt x="92" y="2050"/>
                </a:lnTo>
                <a:lnTo>
                  <a:pt x="92" y="2235"/>
                </a:lnTo>
                <a:lnTo>
                  <a:pt x="92" y="2420"/>
                </a:lnTo>
                <a:lnTo>
                  <a:pt x="44" y="2606"/>
                </a:lnTo>
                <a:lnTo>
                  <a:pt x="0" y="2747"/>
                </a:lnTo>
                <a:lnTo>
                  <a:pt x="0" y="2932"/>
                </a:lnTo>
                <a:lnTo>
                  <a:pt x="0" y="3118"/>
                </a:lnTo>
                <a:lnTo>
                  <a:pt x="92" y="3303"/>
                </a:lnTo>
                <a:lnTo>
                  <a:pt x="141" y="3489"/>
                </a:lnTo>
                <a:lnTo>
                  <a:pt x="185" y="3630"/>
                </a:lnTo>
                <a:lnTo>
                  <a:pt x="233" y="3815"/>
                </a:lnTo>
                <a:lnTo>
                  <a:pt x="233" y="4000"/>
                </a:lnTo>
                <a:lnTo>
                  <a:pt x="233" y="4185"/>
                </a:lnTo>
                <a:lnTo>
                  <a:pt x="277" y="4371"/>
                </a:lnTo>
                <a:lnTo>
                  <a:pt x="326" y="4512"/>
                </a:lnTo>
                <a:lnTo>
                  <a:pt x="326" y="4697"/>
                </a:lnTo>
                <a:lnTo>
                  <a:pt x="370" y="4975"/>
                </a:lnTo>
                <a:lnTo>
                  <a:pt x="463" y="5160"/>
                </a:lnTo>
                <a:lnTo>
                  <a:pt x="511" y="5345"/>
                </a:lnTo>
                <a:lnTo>
                  <a:pt x="511" y="5486"/>
                </a:lnTo>
                <a:lnTo>
                  <a:pt x="511" y="5716"/>
                </a:lnTo>
                <a:lnTo>
                  <a:pt x="511" y="5857"/>
                </a:lnTo>
                <a:lnTo>
                  <a:pt x="555" y="6042"/>
                </a:lnTo>
                <a:lnTo>
                  <a:pt x="604" y="6227"/>
                </a:lnTo>
                <a:lnTo>
                  <a:pt x="648" y="6368"/>
                </a:lnTo>
                <a:lnTo>
                  <a:pt x="648" y="6553"/>
                </a:lnTo>
                <a:lnTo>
                  <a:pt x="789" y="6739"/>
                </a:lnTo>
                <a:lnTo>
                  <a:pt x="926" y="6924"/>
                </a:lnTo>
                <a:lnTo>
                  <a:pt x="1023" y="7109"/>
                </a:lnTo>
                <a:lnTo>
                  <a:pt x="1115" y="7250"/>
                </a:lnTo>
                <a:lnTo>
                  <a:pt x="1300" y="7387"/>
                </a:lnTo>
                <a:lnTo>
                  <a:pt x="1393" y="7528"/>
                </a:lnTo>
                <a:lnTo>
                  <a:pt x="1530" y="7713"/>
                </a:lnTo>
                <a:lnTo>
                  <a:pt x="1671" y="7850"/>
                </a:lnTo>
                <a:lnTo>
                  <a:pt x="1715" y="7991"/>
                </a:lnTo>
                <a:lnTo>
                  <a:pt x="1807" y="8132"/>
                </a:lnTo>
                <a:lnTo>
                  <a:pt x="1905" y="8317"/>
                </a:lnTo>
                <a:lnTo>
                  <a:pt x="2041" y="8502"/>
                </a:lnTo>
                <a:lnTo>
                  <a:pt x="2134" y="8688"/>
                </a:lnTo>
                <a:lnTo>
                  <a:pt x="2275" y="8873"/>
                </a:lnTo>
                <a:lnTo>
                  <a:pt x="2319" y="9014"/>
                </a:lnTo>
                <a:lnTo>
                  <a:pt x="2460" y="9151"/>
                </a:lnTo>
                <a:lnTo>
                  <a:pt x="2504" y="9293"/>
                </a:lnTo>
                <a:lnTo>
                  <a:pt x="2553" y="9478"/>
                </a:lnTo>
                <a:lnTo>
                  <a:pt x="2597" y="9663"/>
                </a:lnTo>
                <a:lnTo>
                  <a:pt x="2645" y="9804"/>
                </a:lnTo>
                <a:lnTo>
                  <a:pt x="2689" y="10034"/>
                </a:lnTo>
                <a:lnTo>
                  <a:pt x="2738" y="10175"/>
                </a:lnTo>
                <a:lnTo>
                  <a:pt x="2831" y="10360"/>
                </a:lnTo>
                <a:lnTo>
                  <a:pt x="2879" y="10589"/>
                </a:lnTo>
                <a:lnTo>
                  <a:pt x="2923" y="10730"/>
                </a:lnTo>
                <a:lnTo>
                  <a:pt x="2923" y="10871"/>
                </a:lnTo>
                <a:lnTo>
                  <a:pt x="2972" y="11057"/>
                </a:lnTo>
                <a:lnTo>
                  <a:pt x="3064" y="11242"/>
                </a:lnTo>
                <a:lnTo>
                  <a:pt x="3157" y="11427"/>
                </a:lnTo>
                <a:lnTo>
                  <a:pt x="3249" y="11568"/>
                </a:lnTo>
                <a:lnTo>
                  <a:pt x="3386" y="11753"/>
                </a:lnTo>
                <a:lnTo>
                  <a:pt x="3527" y="11939"/>
                </a:lnTo>
                <a:lnTo>
                  <a:pt x="3668" y="11983"/>
                </a:lnTo>
                <a:lnTo>
                  <a:pt x="3854" y="12031"/>
                </a:lnTo>
                <a:lnTo>
                  <a:pt x="4039" y="12168"/>
                </a:lnTo>
                <a:lnTo>
                  <a:pt x="4131" y="12309"/>
                </a:lnTo>
                <a:lnTo>
                  <a:pt x="4318" y="12353"/>
                </a:lnTo>
                <a:lnTo>
                  <a:pt x="4503" y="12353"/>
                </a:lnTo>
                <a:lnTo>
                  <a:pt x="4644" y="12309"/>
                </a:lnTo>
                <a:lnTo>
                  <a:pt x="4829" y="12261"/>
                </a:lnTo>
                <a:lnTo>
                  <a:pt x="5014" y="12216"/>
                </a:lnTo>
                <a:lnTo>
                  <a:pt x="5200" y="12075"/>
                </a:lnTo>
                <a:lnTo>
                  <a:pt x="5336" y="11890"/>
                </a:lnTo>
                <a:lnTo>
                  <a:pt x="5477" y="11753"/>
                </a:lnTo>
                <a:lnTo>
                  <a:pt x="5618" y="11612"/>
                </a:lnTo>
                <a:lnTo>
                  <a:pt x="5755" y="11471"/>
                </a:lnTo>
                <a:lnTo>
                  <a:pt x="5896" y="11379"/>
                </a:lnTo>
                <a:lnTo>
                  <a:pt x="6126" y="11237"/>
                </a:lnTo>
                <a:lnTo>
                  <a:pt x="6249" y="11132"/>
                </a:lnTo>
                <a:lnTo>
                  <a:pt x="6373" y="11026"/>
                </a:lnTo>
                <a:lnTo>
                  <a:pt x="6549" y="10938"/>
                </a:lnTo>
                <a:lnTo>
                  <a:pt x="6743" y="10832"/>
                </a:lnTo>
                <a:lnTo>
                  <a:pt x="6915" y="10779"/>
                </a:lnTo>
                <a:lnTo>
                  <a:pt x="7056" y="10779"/>
                </a:lnTo>
                <a:lnTo>
                  <a:pt x="7197" y="10730"/>
                </a:lnTo>
                <a:lnTo>
                  <a:pt x="7426" y="10589"/>
                </a:lnTo>
                <a:lnTo>
                  <a:pt x="7568" y="10453"/>
                </a:lnTo>
                <a:lnTo>
                  <a:pt x="7704" y="10311"/>
                </a:lnTo>
                <a:lnTo>
                  <a:pt x="7845" y="10126"/>
                </a:lnTo>
                <a:lnTo>
                  <a:pt x="7982" y="9941"/>
                </a:lnTo>
                <a:lnTo>
                  <a:pt x="8123" y="9804"/>
                </a:lnTo>
                <a:lnTo>
                  <a:pt x="8264" y="9707"/>
                </a:lnTo>
                <a:lnTo>
                  <a:pt x="8450" y="9615"/>
                </a:lnTo>
                <a:lnTo>
                  <a:pt x="8604" y="958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51440" y="237960"/>
            <a:ext cx="2953080" cy="3358080"/>
          </a:xfrm>
          <a:custGeom>
            <a:avLst/>
            <a:gdLst/>
            <a:ahLst/>
            <a:rect l="0" t="0" r="r" b="b"/>
            <a:pathLst>
              <a:path fill="none" w="8203" h="9328">
                <a:moveTo>
                  <a:pt x="0" y="0"/>
                </a:moveTo>
                <a:lnTo>
                  <a:pt x="44" y="487"/>
                </a:lnTo>
                <a:lnTo>
                  <a:pt x="123" y="619"/>
                </a:lnTo>
                <a:lnTo>
                  <a:pt x="194" y="792"/>
                </a:lnTo>
                <a:lnTo>
                  <a:pt x="286" y="984"/>
                </a:lnTo>
                <a:lnTo>
                  <a:pt x="379" y="1175"/>
                </a:lnTo>
                <a:lnTo>
                  <a:pt x="471" y="1366"/>
                </a:lnTo>
                <a:lnTo>
                  <a:pt x="471" y="1558"/>
                </a:lnTo>
                <a:lnTo>
                  <a:pt x="515" y="1704"/>
                </a:lnTo>
                <a:lnTo>
                  <a:pt x="612" y="1895"/>
                </a:lnTo>
                <a:lnTo>
                  <a:pt x="749" y="2086"/>
                </a:lnTo>
                <a:lnTo>
                  <a:pt x="842" y="2278"/>
                </a:lnTo>
                <a:lnTo>
                  <a:pt x="1027" y="2470"/>
                </a:lnTo>
                <a:lnTo>
                  <a:pt x="1075" y="2616"/>
                </a:lnTo>
                <a:lnTo>
                  <a:pt x="1212" y="2807"/>
                </a:lnTo>
                <a:lnTo>
                  <a:pt x="1305" y="2998"/>
                </a:lnTo>
                <a:lnTo>
                  <a:pt x="1397" y="3190"/>
                </a:lnTo>
                <a:lnTo>
                  <a:pt x="1446" y="3381"/>
                </a:lnTo>
                <a:lnTo>
                  <a:pt x="1587" y="3477"/>
                </a:lnTo>
                <a:lnTo>
                  <a:pt x="1772" y="3623"/>
                </a:lnTo>
                <a:lnTo>
                  <a:pt x="1957" y="3764"/>
                </a:lnTo>
                <a:lnTo>
                  <a:pt x="2094" y="3910"/>
                </a:lnTo>
                <a:lnTo>
                  <a:pt x="2235" y="4101"/>
                </a:lnTo>
                <a:lnTo>
                  <a:pt x="2420" y="4292"/>
                </a:lnTo>
                <a:lnTo>
                  <a:pt x="2562" y="4484"/>
                </a:lnTo>
                <a:lnTo>
                  <a:pt x="2698" y="4725"/>
                </a:lnTo>
                <a:lnTo>
                  <a:pt x="2883" y="4962"/>
                </a:lnTo>
                <a:lnTo>
                  <a:pt x="2932" y="5108"/>
                </a:lnTo>
                <a:lnTo>
                  <a:pt x="3069" y="5299"/>
                </a:lnTo>
                <a:lnTo>
                  <a:pt x="3161" y="5445"/>
                </a:lnTo>
                <a:lnTo>
                  <a:pt x="3258" y="5682"/>
                </a:lnTo>
                <a:lnTo>
                  <a:pt x="3443" y="5873"/>
                </a:lnTo>
                <a:lnTo>
                  <a:pt x="3721" y="5924"/>
                </a:lnTo>
                <a:lnTo>
                  <a:pt x="3907" y="6019"/>
                </a:lnTo>
                <a:lnTo>
                  <a:pt x="4092" y="6165"/>
                </a:lnTo>
                <a:lnTo>
                  <a:pt x="4234" y="6261"/>
                </a:lnTo>
                <a:lnTo>
                  <a:pt x="4419" y="6402"/>
                </a:lnTo>
                <a:lnTo>
                  <a:pt x="4556" y="6548"/>
                </a:lnTo>
                <a:lnTo>
                  <a:pt x="4697" y="6739"/>
                </a:lnTo>
                <a:lnTo>
                  <a:pt x="4882" y="7027"/>
                </a:lnTo>
                <a:lnTo>
                  <a:pt x="4975" y="7173"/>
                </a:lnTo>
                <a:lnTo>
                  <a:pt x="5116" y="7364"/>
                </a:lnTo>
                <a:lnTo>
                  <a:pt x="5252" y="7556"/>
                </a:lnTo>
                <a:lnTo>
                  <a:pt x="5394" y="7747"/>
                </a:lnTo>
                <a:lnTo>
                  <a:pt x="5579" y="7989"/>
                </a:lnTo>
                <a:lnTo>
                  <a:pt x="5764" y="8084"/>
                </a:lnTo>
                <a:lnTo>
                  <a:pt x="5905" y="8225"/>
                </a:lnTo>
                <a:lnTo>
                  <a:pt x="6134" y="8417"/>
                </a:lnTo>
                <a:lnTo>
                  <a:pt x="6276" y="8563"/>
                </a:lnTo>
                <a:lnTo>
                  <a:pt x="6412" y="8754"/>
                </a:lnTo>
                <a:lnTo>
                  <a:pt x="6505" y="8900"/>
                </a:lnTo>
                <a:lnTo>
                  <a:pt x="6646" y="9091"/>
                </a:lnTo>
                <a:lnTo>
                  <a:pt x="6787" y="9187"/>
                </a:lnTo>
                <a:lnTo>
                  <a:pt x="6972" y="9283"/>
                </a:lnTo>
                <a:lnTo>
                  <a:pt x="7157" y="9283"/>
                </a:lnTo>
                <a:lnTo>
                  <a:pt x="7343" y="9328"/>
                </a:lnTo>
                <a:lnTo>
                  <a:pt x="7603" y="9287"/>
                </a:lnTo>
                <a:lnTo>
                  <a:pt x="7744" y="9305"/>
                </a:lnTo>
                <a:lnTo>
                  <a:pt x="7867" y="9251"/>
                </a:lnTo>
                <a:lnTo>
                  <a:pt x="8026" y="9214"/>
                </a:lnTo>
                <a:lnTo>
                  <a:pt x="8203" y="9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86280" y="863640"/>
            <a:ext cx="3018240" cy="3183120"/>
          </a:xfrm>
          <a:custGeom>
            <a:avLst/>
            <a:gdLst/>
            <a:ahLst/>
            <a:rect l="0" t="0" r="r" b="b"/>
            <a:pathLst>
              <a:path fill="none" w="8384" h="8842">
                <a:moveTo>
                  <a:pt x="0" y="0"/>
                </a:moveTo>
                <a:lnTo>
                  <a:pt x="4" y="286"/>
                </a:lnTo>
                <a:lnTo>
                  <a:pt x="26" y="564"/>
                </a:lnTo>
                <a:lnTo>
                  <a:pt x="92" y="1045"/>
                </a:lnTo>
                <a:lnTo>
                  <a:pt x="357" y="1807"/>
                </a:lnTo>
                <a:lnTo>
                  <a:pt x="648" y="2390"/>
                </a:lnTo>
                <a:lnTo>
                  <a:pt x="793" y="2623"/>
                </a:lnTo>
                <a:lnTo>
                  <a:pt x="837" y="2764"/>
                </a:lnTo>
                <a:lnTo>
                  <a:pt x="930" y="2950"/>
                </a:lnTo>
                <a:lnTo>
                  <a:pt x="1023" y="3135"/>
                </a:lnTo>
                <a:lnTo>
                  <a:pt x="1115" y="3320"/>
                </a:lnTo>
                <a:lnTo>
                  <a:pt x="1115" y="3505"/>
                </a:lnTo>
                <a:lnTo>
                  <a:pt x="1115" y="3646"/>
                </a:lnTo>
                <a:lnTo>
                  <a:pt x="1164" y="3832"/>
                </a:lnTo>
                <a:lnTo>
                  <a:pt x="1208" y="4017"/>
                </a:lnTo>
                <a:lnTo>
                  <a:pt x="1208" y="4202"/>
                </a:lnTo>
                <a:lnTo>
                  <a:pt x="1300" y="4387"/>
                </a:lnTo>
                <a:lnTo>
                  <a:pt x="1349" y="4666"/>
                </a:lnTo>
                <a:lnTo>
                  <a:pt x="1393" y="4807"/>
                </a:lnTo>
                <a:lnTo>
                  <a:pt x="1393" y="5036"/>
                </a:lnTo>
                <a:lnTo>
                  <a:pt x="1578" y="5178"/>
                </a:lnTo>
                <a:lnTo>
                  <a:pt x="1719" y="5270"/>
                </a:lnTo>
                <a:lnTo>
                  <a:pt x="1860" y="5363"/>
                </a:lnTo>
                <a:lnTo>
                  <a:pt x="1953" y="5504"/>
                </a:lnTo>
                <a:lnTo>
                  <a:pt x="2183" y="5733"/>
                </a:lnTo>
                <a:lnTo>
                  <a:pt x="2324" y="5874"/>
                </a:lnTo>
                <a:lnTo>
                  <a:pt x="2510" y="6152"/>
                </a:lnTo>
                <a:lnTo>
                  <a:pt x="2651" y="6337"/>
                </a:lnTo>
                <a:lnTo>
                  <a:pt x="2743" y="6478"/>
                </a:lnTo>
                <a:lnTo>
                  <a:pt x="2880" y="6708"/>
                </a:lnTo>
                <a:lnTo>
                  <a:pt x="2929" y="6849"/>
                </a:lnTo>
                <a:lnTo>
                  <a:pt x="3065" y="7034"/>
                </a:lnTo>
                <a:lnTo>
                  <a:pt x="3114" y="7175"/>
                </a:lnTo>
                <a:lnTo>
                  <a:pt x="3206" y="7360"/>
                </a:lnTo>
                <a:lnTo>
                  <a:pt x="3250" y="7546"/>
                </a:lnTo>
                <a:lnTo>
                  <a:pt x="3343" y="7731"/>
                </a:lnTo>
                <a:lnTo>
                  <a:pt x="3392" y="7916"/>
                </a:lnTo>
                <a:lnTo>
                  <a:pt x="3440" y="8057"/>
                </a:lnTo>
                <a:lnTo>
                  <a:pt x="3577" y="8286"/>
                </a:lnTo>
                <a:lnTo>
                  <a:pt x="3669" y="8427"/>
                </a:lnTo>
                <a:lnTo>
                  <a:pt x="3811" y="8564"/>
                </a:lnTo>
                <a:lnTo>
                  <a:pt x="3996" y="8749"/>
                </a:lnTo>
                <a:lnTo>
                  <a:pt x="4181" y="8842"/>
                </a:lnTo>
                <a:lnTo>
                  <a:pt x="4366" y="8842"/>
                </a:lnTo>
                <a:lnTo>
                  <a:pt x="4507" y="8842"/>
                </a:lnTo>
                <a:lnTo>
                  <a:pt x="4737" y="8798"/>
                </a:lnTo>
                <a:lnTo>
                  <a:pt x="4878" y="8749"/>
                </a:lnTo>
                <a:lnTo>
                  <a:pt x="5063" y="8657"/>
                </a:lnTo>
                <a:lnTo>
                  <a:pt x="5204" y="8613"/>
                </a:lnTo>
                <a:lnTo>
                  <a:pt x="5389" y="8564"/>
                </a:lnTo>
                <a:lnTo>
                  <a:pt x="5574" y="8520"/>
                </a:lnTo>
                <a:lnTo>
                  <a:pt x="5804" y="8472"/>
                </a:lnTo>
                <a:lnTo>
                  <a:pt x="5945" y="8427"/>
                </a:lnTo>
                <a:lnTo>
                  <a:pt x="6086" y="8379"/>
                </a:lnTo>
                <a:lnTo>
                  <a:pt x="6271" y="8286"/>
                </a:lnTo>
                <a:lnTo>
                  <a:pt x="6501" y="8286"/>
                </a:lnTo>
                <a:lnTo>
                  <a:pt x="6643" y="8286"/>
                </a:lnTo>
                <a:lnTo>
                  <a:pt x="6828" y="8242"/>
                </a:lnTo>
                <a:lnTo>
                  <a:pt x="6969" y="8194"/>
                </a:lnTo>
                <a:lnTo>
                  <a:pt x="7154" y="8150"/>
                </a:lnTo>
                <a:lnTo>
                  <a:pt x="7339" y="8057"/>
                </a:lnTo>
                <a:lnTo>
                  <a:pt x="7450" y="7973"/>
                </a:lnTo>
                <a:lnTo>
                  <a:pt x="7661" y="7832"/>
                </a:lnTo>
                <a:lnTo>
                  <a:pt x="7820" y="7744"/>
                </a:lnTo>
                <a:lnTo>
                  <a:pt x="8085" y="7638"/>
                </a:lnTo>
                <a:lnTo>
                  <a:pt x="8384" y="760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09960" y="1366920"/>
            <a:ext cx="3091320" cy="3154680"/>
          </a:xfrm>
          <a:custGeom>
            <a:avLst/>
            <a:gdLst/>
            <a:ahLst/>
            <a:rect l="0" t="0" r="r" b="b"/>
            <a:pathLst>
              <a:path fill="none" w="8587" h="8763">
                <a:moveTo>
                  <a:pt x="0" y="0"/>
                </a:moveTo>
                <a:lnTo>
                  <a:pt x="198" y="224"/>
                </a:lnTo>
                <a:lnTo>
                  <a:pt x="330" y="449"/>
                </a:lnTo>
                <a:lnTo>
                  <a:pt x="423" y="727"/>
                </a:lnTo>
                <a:lnTo>
                  <a:pt x="476" y="1084"/>
                </a:lnTo>
                <a:lnTo>
                  <a:pt x="515" y="1415"/>
                </a:lnTo>
                <a:lnTo>
                  <a:pt x="648" y="1746"/>
                </a:lnTo>
                <a:lnTo>
                  <a:pt x="701" y="2037"/>
                </a:lnTo>
                <a:lnTo>
                  <a:pt x="912" y="2262"/>
                </a:lnTo>
                <a:lnTo>
                  <a:pt x="912" y="2447"/>
                </a:lnTo>
                <a:lnTo>
                  <a:pt x="912" y="2579"/>
                </a:lnTo>
                <a:lnTo>
                  <a:pt x="886" y="2764"/>
                </a:lnTo>
                <a:lnTo>
                  <a:pt x="939" y="2870"/>
                </a:lnTo>
                <a:lnTo>
                  <a:pt x="992" y="3055"/>
                </a:lnTo>
                <a:lnTo>
                  <a:pt x="1018" y="3161"/>
                </a:lnTo>
                <a:lnTo>
                  <a:pt x="1124" y="3452"/>
                </a:lnTo>
                <a:lnTo>
                  <a:pt x="1124" y="3558"/>
                </a:lnTo>
                <a:lnTo>
                  <a:pt x="1230" y="3664"/>
                </a:lnTo>
                <a:lnTo>
                  <a:pt x="1336" y="3770"/>
                </a:lnTo>
                <a:lnTo>
                  <a:pt x="1494" y="3876"/>
                </a:lnTo>
                <a:lnTo>
                  <a:pt x="1653" y="4087"/>
                </a:lnTo>
                <a:lnTo>
                  <a:pt x="1838" y="4378"/>
                </a:lnTo>
                <a:lnTo>
                  <a:pt x="1971" y="4485"/>
                </a:lnTo>
                <a:lnTo>
                  <a:pt x="2103" y="4697"/>
                </a:lnTo>
                <a:lnTo>
                  <a:pt x="2210" y="4882"/>
                </a:lnTo>
                <a:lnTo>
                  <a:pt x="2263" y="5120"/>
                </a:lnTo>
                <a:lnTo>
                  <a:pt x="2395" y="5385"/>
                </a:lnTo>
                <a:lnTo>
                  <a:pt x="2448" y="5491"/>
                </a:lnTo>
                <a:lnTo>
                  <a:pt x="2554" y="5623"/>
                </a:lnTo>
                <a:lnTo>
                  <a:pt x="2492" y="5746"/>
                </a:lnTo>
                <a:lnTo>
                  <a:pt x="2527" y="5799"/>
                </a:lnTo>
                <a:lnTo>
                  <a:pt x="2563" y="5870"/>
                </a:lnTo>
                <a:lnTo>
                  <a:pt x="2598" y="5923"/>
                </a:lnTo>
                <a:lnTo>
                  <a:pt x="2615" y="5976"/>
                </a:lnTo>
                <a:lnTo>
                  <a:pt x="2651" y="6046"/>
                </a:lnTo>
                <a:lnTo>
                  <a:pt x="2686" y="6099"/>
                </a:lnTo>
                <a:lnTo>
                  <a:pt x="2721" y="6170"/>
                </a:lnTo>
                <a:lnTo>
                  <a:pt x="2721" y="6223"/>
                </a:lnTo>
                <a:lnTo>
                  <a:pt x="2757" y="6276"/>
                </a:lnTo>
                <a:lnTo>
                  <a:pt x="2774" y="6346"/>
                </a:lnTo>
                <a:lnTo>
                  <a:pt x="2809" y="6399"/>
                </a:lnTo>
                <a:lnTo>
                  <a:pt x="2827" y="6452"/>
                </a:lnTo>
                <a:lnTo>
                  <a:pt x="2862" y="6522"/>
                </a:lnTo>
                <a:lnTo>
                  <a:pt x="2880" y="6575"/>
                </a:lnTo>
                <a:lnTo>
                  <a:pt x="2898" y="6628"/>
                </a:lnTo>
                <a:lnTo>
                  <a:pt x="2915" y="6681"/>
                </a:lnTo>
                <a:lnTo>
                  <a:pt x="2933" y="6734"/>
                </a:lnTo>
                <a:lnTo>
                  <a:pt x="2968" y="6787"/>
                </a:lnTo>
                <a:lnTo>
                  <a:pt x="2968" y="6840"/>
                </a:lnTo>
                <a:lnTo>
                  <a:pt x="2986" y="6893"/>
                </a:lnTo>
                <a:lnTo>
                  <a:pt x="3021" y="6963"/>
                </a:lnTo>
                <a:lnTo>
                  <a:pt x="3039" y="7016"/>
                </a:lnTo>
                <a:lnTo>
                  <a:pt x="3039" y="7069"/>
                </a:lnTo>
                <a:lnTo>
                  <a:pt x="3074" y="7122"/>
                </a:lnTo>
                <a:lnTo>
                  <a:pt x="3109" y="7175"/>
                </a:lnTo>
                <a:lnTo>
                  <a:pt x="3145" y="7263"/>
                </a:lnTo>
                <a:lnTo>
                  <a:pt x="3162" y="7316"/>
                </a:lnTo>
                <a:lnTo>
                  <a:pt x="3198" y="7404"/>
                </a:lnTo>
                <a:lnTo>
                  <a:pt x="3233" y="7457"/>
                </a:lnTo>
                <a:lnTo>
                  <a:pt x="3268" y="7528"/>
                </a:lnTo>
                <a:lnTo>
                  <a:pt x="3286" y="7581"/>
                </a:lnTo>
                <a:lnTo>
                  <a:pt x="3321" y="7634"/>
                </a:lnTo>
                <a:lnTo>
                  <a:pt x="3339" y="7687"/>
                </a:lnTo>
                <a:lnTo>
                  <a:pt x="3356" y="7740"/>
                </a:lnTo>
                <a:lnTo>
                  <a:pt x="3392" y="7810"/>
                </a:lnTo>
                <a:lnTo>
                  <a:pt x="3444" y="7863"/>
                </a:lnTo>
                <a:lnTo>
                  <a:pt x="3480" y="7934"/>
                </a:lnTo>
                <a:lnTo>
                  <a:pt x="3515" y="7987"/>
                </a:lnTo>
                <a:lnTo>
                  <a:pt x="3550" y="8039"/>
                </a:lnTo>
                <a:lnTo>
                  <a:pt x="3586" y="8092"/>
                </a:lnTo>
                <a:lnTo>
                  <a:pt x="3621" y="8163"/>
                </a:lnTo>
                <a:lnTo>
                  <a:pt x="3656" y="8216"/>
                </a:lnTo>
                <a:lnTo>
                  <a:pt x="3691" y="8269"/>
                </a:lnTo>
                <a:lnTo>
                  <a:pt x="3744" y="8322"/>
                </a:lnTo>
                <a:lnTo>
                  <a:pt x="3780" y="8375"/>
                </a:lnTo>
                <a:lnTo>
                  <a:pt x="3833" y="8427"/>
                </a:lnTo>
                <a:lnTo>
                  <a:pt x="3885" y="8480"/>
                </a:lnTo>
                <a:lnTo>
                  <a:pt x="3938" y="8516"/>
                </a:lnTo>
                <a:lnTo>
                  <a:pt x="3974" y="8569"/>
                </a:lnTo>
                <a:lnTo>
                  <a:pt x="4027" y="8604"/>
                </a:lnTo>
                <a:lnTo>
                  <a:pt x="4079" y="8622"/>
                </a:lnTo>
                <a:lnTo>
                  <a:pt x="4132" y="8657"/>
                </a:lnTo>
                <a:lnTo>
                  <a:pt x="4185" y="8657"/>
                </a:lnTo>
                <a:lnTo>
                  <a:pt x="4238" y="8692"/>
                </a:lnTo>
                <a:lnTo>
                  <a:pt x="4450" y="8745"/>
                </a:lnTo>
                <a:lnTo>
                  <a:pt x="4503" y="8745"/>
                </a:lnTo>
                <a:lnTo>
                  <a:pt x="4556" y="8763"/>
                </a:lnTo>
                <a:lnTo>
                  <a:pt x="4609" y="8763"/>
                </a:lnTo>
                <a:lnTo>
                  <a:pt x="4662" y="8763"/>
                </a:lnTo>
                <a:lnTo>
                  <a:pt x="4732" y="8763"/>
                </a:lnTo>
                <a:lnTo>
                  <a:pt x="4820" y="8763"/>
                </a:lnTo>
                <a:lnTo>
                  <a:pt x="4909" y="8763"/>
                </a:lnTo>
                <a:lnTo>
                  <a:pt x="4961" y="8727"/>
                </a:lnTo>
                <a:lnTo>
                  <a:pt x="5014" y="8692"/>
                </a:lnTo>
                <a:lnTo>
                  <a:pt x="5067" y="8657"/>
                </a:lnTo>
                <a:lnTo>
                  <a:pt x="5173" y="8586"/>
                </a:lnTo>
                <a:lnTo>
                  <a:pt x="5226" y="8551"/>
                </a:lnTo>
                <a:lnTo>
                  <a:pt x="5279" y="8498"/>
                </a:lnTo>
                <a:lnTo>
                  <a:pt x="5332" y="8463"/>
                </a:lnTo>
                <a:lnTo>
                  <a:pt x="5385" y="8427"/>
                </a:lnTo>
                <a:lnTo>
                  <a:pt x="5438" y="8392"/>
                </a:lnTo>
                <a:lnTo>
                  <a:pt x="5491" y="8357"/>
                </a:lnTo>
                <a:lnTo>
                  <a:pt x="5544" y="8304"/>
                </a:lnTo>
                <a:lnTo>
                  <a:pt x="5632" y="8233"/>
                </a:lnTo>
                <a:lnTo>
                  <a:pt x="5702" y="8216"/>
                </a:lnTo>
                <a:lnTo>
                  <a:pt x="5808" y="8145"/>
                </a:lnTo>
                <a:lnTo>
                  <a:pt x="5843" y="8092"/>
                </a:lnTo>
                <a:lnTo>
                  <a:pt x="5879" y="8039"/>
                </a:lnTo>
                <a:lnTo>
                  <a:pt x="5932" y="8004"/>
                </a:lnTo>
                <a:lnTo>
                  <a:pt x="5984" y="7934"/>
                </a:lnTo>
                <a:lnTo>
                  <a:pt x="6037" y="7881"/>
                </a:lnTo>
                <a:lnTo>
                  <a:pt x="6090" y="7845"/>
                </a:lnTo>
                <a:lnTo>
                  <a:pt x="6143" y="7810"/>
                </a:lnTo>
                <a:lnTo>
                  <a:pt x="6214" y="7775"/>
                </a:lnTo>
                <a:lnTo>
                  <a:pt x="6267" y="7757"/>
                </a:lnTo>
                <a:lnTo>
                  <a:pt x="6320" y="7740"/>
                </a:lnTo>
                <a:lnTo>
                  <a:pt x="6373" y="7704"/>
                </a:lnTo>
                <a:lnTo>
                  <a:pt x="6425" y="7687"/>
                </a:lnTo>
                <a:lnTo>
                  <a:pt x="6497" y="7651"/>
                </a:lnTo>
                <a:lnTo>
                  <a:pt x="6568" y="7616"/>
                </a:lnTo>
                <a:lnTo>
                  <a:pt x="6620" y="7581"/>
                </a:lnTo>
                <a:lnTo>
                  <a:pt x="6673" y="7563"/>
                </a:lnTo>
                <a:lnTo>
                  <a:pt x="6726" y="7546"/>
                </a:lnTo>
                <a:lnTo>
                  <a:pt x="6779" y="7528"/>
                </a:lnTo>
                <a:lnTo>
                  <a:pt x="6832" y="7510"/>
                </a:lnTo>
                <a:lnTo>
                  <a:pt x="6903" y="7493"/>
                </a:lnTo>
                <a:lnTo>
                  <a:pt x="7092" y="7409"/>
                </a:lnTo>
                <a:lnTo>
                  <a:pt x="7145" y="7343"/>
                </a:lnTo>
                <a:lnTo>
                  <a:pt x="7211" y="7329"/>
                </a:lnTo>
                <a:lnTo>
                  <a:pt x="7251" y="7277"/>
                </a:lnTo>
                <a:lnTo>
                  <a:pt x="7278" y="7277"/>
                </a:lnTo>
                <a:lnTo>
                  <a:pt x="7330" y="7224"/>
                </a:lnTo>
                <a:lnTo>
                  <a:pt x="7357" y="7197"/>
                </a:lnTo>
                <a:lnTo>
                  <a:pt x="7397" y="7144"/>
                </a:lnTo>
                <a:lnTo>
                  <a:pt x="7463" y="7105"/>
                </a:lnTo>
                <a:lnTo>
                  <a:pt x="7529" y="7078"/>
                </a:lnTo>
                <a:lnTo>
                  <a:pt x="7608" y="7025"/>
                </a:lnTo>
                <a:lnTo>
                  <a:pt x="7674" y="6972"/>
                </a:lnTo>
                <a:lnTo>
                  <a:pt x="7701" y="6933"/>
                </a:lnTo>
                <a:lnTo>
                  <a:pt x="7701" y="6946"/>
                </a:lnTo>
                <a:lnTo>
                  <a:pt x="7913" y="6734"/>
                </a:lnTo>
                <a:lnTo>
                  <a:pt x="8177" y="6509"/>
                </a:lnTo>
                <a:lnTo>
                  <a:pt x="8349" y="6443"/>
                </a:lnTo>
                <a:lnTo>
                  <a:pt x="8587" y="639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237960"/>
            <a:ext cx="2657880" cy="2305440"/>
          </a:xfrm>
          <a:custGeom>
            <a:avLst/>
            <a:gdLst/>
            <a:ahLst/>
            <a:rect l="0" t="0" r="r" b="b"/>
            <a:pathLst>
              <a:path fill="none" w="7383" h="6404">
                <a:moveTo>
                  <a:pt x="0" y="0"/>
                </a:moveTo>
                <a:lnTo>
                  <a:pt x="79" y="92"/>
                </a:lnTo>
                <a:lnTo>
                  <a:pt x="119" y="211"/>
                </a:lnTo>
                <a:lnTo>
                  <a:pt x="238" y="291"/>
                </a:lnTo>
                <a:lnTo>
                  <a:pt x="357" y="370"/>
                </a:lnTo>
                <a:lnTo>
                  <a:pt x="436" y="489"/>
                </a:lnTo>
                <a:lnTo>
                  <a:pt x="515" y="608"/>
                </a:lnTo>
                <a:lnTo>
                  <a:pt x="635" y="608"/>
                </a:lnTo>
                <a:lnTo>
                  <a:pt x="754" y="767"/>
                </a:lnTo>
                <a:lnTo>
                  <a:pt x="793" y="886"/>
                </a:lnTo>
                <a:lnTo>
                  <a:pt x="833" y="1005"/>
                </a:lnTo>
                <a:lnTo>
                  <a:pt x="873" y="1124"/>
                </a:lnTo>
                <a:lnTo>
                  <a:pt x="912" y="1243"/>
                </a:lnTo>
                <a:lnTo>
                  <a:pt x="1031" y="1322"/>
                </a:lnTo>
                <a:lnTo>
                  <a:pt x="1150" y="1402"/>
                </a:lnTo>
                <a:lnTo>
                  <a:pt x="1270" y="1481"/>
                </a:lnTo>
                <a:lnTo>
                  <a:pt x="1389" y="1521"/>
                </a:lnTo>
                <a:lnTo>
                  <a:pt x="1508" y="1600"/>
                </a:lnTo>
                <a:lnTo>
                  <a:pt x="1706" y="1681"/>
                </a:lnTo>
                <a:lnTo>
                  <a:pt x="1825" y="1720"/>
                </a:lnTo>
                <a:lnTo>
                  <a:pt x="1945" y="1800"/>
                </a:lnTo>
                <a:lnTo>
                  <a:pt x="2104" y="1879"/>
                </a:lnTo>
                <a:lnTo>
                  <a:pt x="2223" y="1958"/>
                </a:lnTo>
                <a:lnTo>
                  <a:pt x="2382" y="1998"/>
                </a:lnTo>
                <a:lnTo>
                  <a:pt x="2501" y="2077"/>
                </a:lnTo>
                <a:lnTo>
                  <a:pt x="2620" y="2236"/>
                </a:lnTo>
                <a:lnTo>
                  <a:pt x="2699" y="2355"/>
                </a:lnTo>
                <a:lnTo>
                  <a:pt x="2818" y="2474"/>
                </a:lnTo>
                <a:lnTo>
                  <a:pt x="2977" y="2593"/>
                </a:lnTo>
                <a:lnTo>
                  <a:pt x="3096" y="2673"/>
                </a:lnTo>
                <a:lnTo>
                  <a:pt x="3215" y="2712"/>
                </a:lnTo>
                <a:lnTo>
                  <a:pt x="3334" y="2752"/>
                </a:lnTo>
                <a:lnTo>
                  <a:pt x="3453" y="2792"/>
                </a:lnTo>
                <a:lnTo>
                  <a:pt x="3652" y="2951"/>
                </a:lnTo>
                <a:lnTo>
                  <a:pt x="3771" y="2990"/>
                </a:lnTo>
                <a:lnTo>
                  <a:pt x="3969" y="3109"/>
                </a:lnTo>
                <a:lnTo>
                  <a:pt x="4128" y="3268"/>
                </a:lnTo>
                <a:lnTo>
                  <a:pt x="4247" y="3308"/>
                </a:lnTo>
                <a:lnTo>
                  <a:pt x="4366" y="3427"/>
                </a:lnTo>
                <a:lnTo>
                  <a:pt x="4485" y="3506"/>
                </a:lnTo>
                <a:lnTo>
                  <a:pt x="4604" y="3625"/>
                </a:lnTo>
                <a:lnTo>
                  <a:pt x="4684" y="3744"/>
                </a:lnTo>
                <a:lnTo>
                  <a:pt x="4763" y="3863"/>
                </a:lnTo>
                <a:lnTo>
                  <a:pt x="4922" y="4022"/>
                </a:lnTo>
                <a:lnTo>
                  <a:pt x="5041" y="4102"/>
                </a:lnTo>
                <a:lnTo>
                  <a:pt x="5120" y="4221"/>
                </a:lnTo>
                <a:lnTo>
                  <a:pt x="5239" y="4300"/>
                </a:lnTo>
                <a:lnTo>
                  <a:pt x="5358" y="4459"/>
                </a:lnTo>
                <a:lnTo>
                  <a:pt x="5477" y="4578"/>
                </a:lnTo>
                <a:lnTo>
                  <a:pt x="5597" y="4617"/>
                </a:lnTo>
                <a:lnTo>
                  <a:pt x="5717" y="4737"/>
                </a:lnTo>
                <a:lnTo>
                  <a:pt x="5836" y="4776"/>
                </a:lnTo>
                <a:lnTo>
                  <a:pt x="5955" y="4817"/>
                </a:lnTo>
                <a:lnTo>
                  <a:pt x="6074" y="4817"/>
                </a:lnTo>
                <a:lnTo>
                  <a:pt x="6193" y="4857"/>
                </a:lnTo>
                <a:lnTo>
                  <a:pt x="6352" y="4936"/>
                </a:lnTo>
                <a:lnTo>
                  <a:pt x="6431" y="5055"/>
                </a:lnTo>
                <a:lnTo>
                  <a:pt x="6550" y="5214"/>
                </a:lnTo>
                <a:lnTo>
                  <a:pt x="6669" y="5333"/>
                </a:lnTo>
                <a:lnTo>
                  <a:pt x="6709" y="5452"/>
                </a:lnTo>
                <a:lnTo>
                  <a:pt x="6788" y="5571"/>
                </a:lnTo>
                <a:lnTo>
                  <a:pt x="6907" y="5730"/>
                </a:lnTo>
                <a:lnTo>
                  <a:pt x="6947" y="5849"/>
                </a:lnTo>
                <a:lnTo>
                  <a:pt x="7026" y="5968"/>
                </a:lnTo>
                <a:lnTo>
                  <a:pt x="7106" y="6087"/>
                </a:lnTo>
                <a:lnTo>
                  <a:pt x="7145" y="6206"/>
                </a:lnTo>
                <a:lnTo>
                  <a:pt x="7264" y="6325"/>
                </a:lnTo>
                <a:lnTo>
                  <a:pt x="7383" y="640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3840" y="3776760"/>
            <a:ext cx="3360960" cy="2843640"/>
          </a:xfrm>
          <a:custGeom>
            <a:avLst/>
            <a:gdLst/>
            <a:ahLst/>
            <a:rect l="0" t="0" r="r" b="b"/>
            <a:pathLst>
              <a:path fill="none" w="9336" h="7899">
                <a:moveTo>
                  <a:pt x="0" y="7899"/>
                </a:moveTo>
                <a:lnTo>
                  <a:pt x="66" y="7649"/>
                </a:lnTo>
                <a:lnTo>
                  <a:pt x="542" y="7184"/>
                </a:lnTo>
                <a:lnTo>
                  <a:pt x="1058" y="6670"/>
                </a:lnTo>
                <a:lnTo>
                  <a:pt x="1389" y="6459"/>
                </a:lnTo>
                <a:lnTo>
                  <a:pt x="1825" y="5821"/>
                </a:lnTo>
                <a:lnTo>
                  <a:pt x="2037" y="5277"/>
                </a:lnTo>
                <a:lnTo>
                  <a:pt x="2275" y="5042"/>
                </a:lnTo>
                <a:lnTo>
                  <a:pt x="2539" y="4591"/>
                </a:lnTo>
                <a:lnTo>
                  <a:pt x="2923" y="4047"/>
                </a:lnTo>
                <a:lnTo>
                  <a:pt x="3346" y="3136"/>
                </a:lnTo>
                <a:lnTo>
                  <a:pt x="3942" y="2715"/>
                </a:lnTo>
                <a:lnTo>
                  <a:pt x="4167" y="2725"/>
                </a:lnTo>
                <a:lnTo>
                  <a:pt x="4511" y="2935"/>
                </a:lnTo>
                <a:lnTo>
                  <a:pt x="4616" y="3136"/>
                </a:lnTo>
                <a:lnTo>
                  <a:pt x="4895" y="3322"/>
                </a:lnTo>
                <a:lnTo>
                  <a:pt x="5292" y="3494"/>
                </a:lnTo>
                <a:lnTo>
                  <a:pt x="5530" y="3347"/>
                </a:lnTo>
                <a:lnTo>
                  <a:pt x="5967" y="2778"/>
                </a:lnTo>
                <a:lnTo>
                  <a:pt x="6059" y="2700"/>
                </a:lnTo>
                <a:lnTo>
                  <a:pt x="6205" y="2671"/>
                </a:lnTo>
                <a:lnTo>
                  <a:pt x="6421" y="2582"/>
                </a:lnTo>
                <a:lnTo>
                  <a:pt x="6549" y="2440"/>
                </a:lnTo>
                <a:lnTo>
                  <a:pt x="6633" y="2298"/>
                </a:lnTo>
                <a:lnTo>
                  <a:pt x="6725" y="2073"/>
                </a:lnTo>
                <a:lnTo>
                  <a:pt x="6858" y="1995"/>
                </a:lnTo>
                <a:lnTo>
                  <a:pt x="7060" y="1930"/>
                </a:lnTo>
                <a:lnTo>
                  <a:pt x="7096" y="1940"/>
                </a:lnTo>
                <a:lnTo>
                  <a:pt x="7334" y="1915"/>
                </a:lnTo>
                <a:lnTo>
                  <a:pt x="7444" y="1871"/>
                </a:lnTo>
                <a:lnTo>
                  <a:pt x="7572" y="1729"/>
                </a:lnTo>
                <a:lnTo>
                  <a:pt x="7700" y="1680"/>
                </a:lnTo>
                <a:lnTo>
                  <a:pt x="7828" y="1587"/>
                </a:lnTo>
                <a:lnTo>
                  <a:pt x="8000" y="1396"/>
                </a:lnTo>
                <a:lnTo>
                  <a:pt x="8128" y="1303"/>
                </a:lnTo>
                <a:lnTo>
                  <a:pt x="8255" y="1254"/>
                </a:lnTo>
                <a:lnTo>
                  <a:pt x="8339" y="1112"/>
                </a:lnTo>
                <a:lnTo>
                  <a:pt x="8467" y="1019"/>
                </a:lnTo>
                <a:lnTo>
                  <a:pt x="8511" y="876"/>
                </a:lnTo>
                <a:lnTo>
                  <a:pt x="8599" y="685"/>
                </a:lnTo>
                <a:lnTo>
                  <a:pt x="8727" y="543"/>
                </a:lnTo>
                <a:lnTo>
                  <a:pt x="8855" y="401"/>
                </a:lnTo>
                <a:lnTo>
                  <a:pt x="8983" y="210"/>
                </a:lnTo>
                <a:lnTo>
                  <a:pt x="9111" y="68"/>
                </a:lnTo>
                <a:lnTo>
                  <a:pt x="9239" y="24"/>
                </a:lnTo>
                <a:lnTo>
                  <a:pt x="933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6800" y="3889440"/>
            <a:ext cx="3262680" cy="2730960"/>
          </a:xfrm>
          <a:custGeom>
            <a:avLst/>
            <a:gdLst/>
            <a:ahLst/>
            <a:rect l="0" t="0" r="r" b="b"/>
            <a:pathLst>
              <a:path fill="none" w="9063" h="7586">
                <a:moveTo>
                  <a:pt x="9063" y="0"/>
                </a:moveTo>
                <a:lnTo>
                  <a:pt x="8980" y="127"/>
                </a:lnTo>
                <a:lnTo>
                  <a:pt x="8852" y="255"/>
                </a:lnTo>
                <a:lnTo>
                  <a:pt x="8724" y="343"/>
                </a:lnTo>
                <a:lnTo>
                  <a:pt x="8636" y="471"/>
                </a:lnTo>
                <a:lnTo>
                  <a:pt x="8552" y="599"/>
                </a:lnTo>
                <a:lnTo>
                  <a:pt x="8468" y="727"/>
                </a:lnTo>
                <a:lnTo>
                  <a:pt x="8380" y="855"/>
                </a:lnTo>
                <a:lnTo>
                  <a:pt x="8296" y="983"/>
                </a:lnTo>
                <a:lnTo>
                  <a:pt x="8168" y="1067"/>
                </a:lnTo>
                <a:lnTo>
                  <a:pt x="8040" y="1195"/>
                </a:lnTo>
                <a:lnTo>
                  <a:pt x="7913" y="1283"/>
                </a:lnTo>
                <a:lnTo>
                  <a:pt x="7785" y="1411"/>
                </a:lnTo>
                <a:lnTo>
                  <a:pt x="7613" y="1494"/>
                </a:lnTo>
                <a:lnTo>
                  <a:pt x="7485" y="1622"/>
                </a:lnTo>
                <a:lnTo>
                  <a:pt x="7357" y="1666"/>
                </a:lnTo>
                <a:lnTo>
                  <a:pt x="7295" y="1781"/>
                </a:lnTo>
                <a:lnTo>
                  <a:pt x="7207" y="1860"/>
                </a:lnTo>
                <a:lnTo>
                  <a:pt x="7075" y="1914"/>
                </a:lnTo>
                <a:lnTo>
                  <a:pt x="7004" y="1976"/>
                </a:lnTo>
                <a:lnTo>
                  <a:pt x="6916" y="2082"/>
                </a:lnTo>
                <a:lnTo>
                  <a:pt x="6721" y="2258"/>
                </a:lnTo>
                <a:lnTo>
                  <a:pt x="6553" y="2355"/>
                </a:lnTo>
                <a:lnTo>
                  <a:pt x="6430" y="2426"/>
                </a:lnTo>
                <a:lnTo>
                  <a:pt x="6342" y="2532"/>
                </a:lnTo>
                <a:lnTo>
                  <a:pt x="6218" y="2620"/>
                </a:lnTo>
                <a:lnTo>
                  <a:pt x="6174" y="2752"/>
                </a:lnTo>
                <a:lnTo>
                  <a:pt x="6033" y="2858"/>
                </a:lnTo>
                <a:lnTo>
                  <a:pt x="5910" y="3043"/>
                </a:lnTo>
                <a:lnTo>
                  <a:pt x="5716" y="3140"/>
                </a:lnTo>
                <a:lnTo>
                  <a:pt x="5618" y="3264"/>
                </a:lnTo>
                <a:lnTo>
                  <a:pt x="5460" y="3396"/>
                </a:lnTo>
                <a:lnTo>
                  <a:pt x="5292" y="3475"/>
                </a:lnTo>
                <a:lnTo>
                  <a:pt x="5160" y="3511"/>
                </a:lnTo>
                <a:lnTo>
                  <a:pt x="5010" y="3493"/>
                </a:lnTo>
                <a:lnTo>
                  <a:pt x="4781" y="3475"/>
                </a:lnTo>
                <a:lnTo>
                  <a:pt x="4626" y="3286"/>
                </a:lnTo>
                <a:lnTo>
                  <a:pt x="4498" y="3202"/>
                </a:lnTo>
                <a:lnTo>
                  <a:pt x="4371" y="3074"/>
                </a:lnTo>
                <a:lnTo>
                  <a:pt x="4238" y="2990"/>
                </a:lnTo>
                <a:lnTo>
                  <a:pt x="4154" y="2862"/>
                </a:lnTo>
                <a:lnTo>
                  <a:pt x="4027" y="2818"/>
                </a:lnTo>
                <a:lnTo>
                  <a:pt x="3899" y="2774"/>
                </a:lnTo>
                <a:lnTo>
                  <a:pt x="3775" y="2638"/>
                </a:lnTo>
                <a:lnTo>
                  <a:pt x="3599" y="2774"/>
                </a:lnTo>
                <a:lnTo>
                  <a:pt x="3515" y="2902"/>
                </a:lnTo>
                <a:lnTo>
                  <a:pt x="3431" y="3030"/>
                </a:lnTo>
                <a:lnTo>
                  <a:pt x="3343" y="3158"/>
                </a:lnTo>
                <a:lnTo>
                  <a:pt x="3215" y="3286"/>
                </a:lnTo>
                <a:lnTo>
                  <a:pt x="3131" y="3418"/>
                </a:lnTo>
                <a:lnTo>
                  <a:pt x="3004" y="3546"/>
                </a:lnTo>
                <a:lnTo>
                  <a:pt x="2915" y="3674"/>
                </a:lnTo>
                <a:lnTo>
                  <a:pt x="2832" y="3802"/>
                </a:lnTo>
                <a:lnTo>
                  <a:pt x="2704" y="3930"/>
                </a:lnTo>
                <a:lnTo>
                  <a:pt x="2660" y="4057"/>
                </a:lnTo>
                <a:lnTo>
                  <a:pt x="2576" y="4185"/>
                </a:lnTo>
                <a:lnTo>
                  <a:pt x="2448" y="4353"/>
                </a:lnTo>
                <a:lnTo>
                  <a:pt x="2364" y="4481"/>
                </a:lnTo>
                <a:lnTo>
                  <a:pt x="2235" y="4609"/>
                </a:lnTo>
                <a:lnTo>
                  <a:pt x="2147" y="4741"/>
                </a:lnTo>
                <a:lnTo>
                  <a:pt x="2063" y="4869"/>
                </a:lnTo>
                <a:lnTo>
                  <a:pt x="1979" y="4997"/>
                </a:lnTo>
                <a:lnTo>
                  <a:pt x="1891" y="5125"/>
                </a:lnTo>
                <a:lnTo>
                  <a:pt x="1807" y="5252"/>
                </a:lnTo>
                <a:lnTo>
                  <a:pt x="1724" y="5380"/>
                </a:lnTo>
                <a:lnTo>
                  <a:pt x="1636" y="5508"/>
                </a:lnTo>
                <a:lnTo>
                  <a:pt x="1552" y="5636"/>
                </a:lnTo>
                <a:lnTo>
                  <a:pt x="1508" y="5765"/>
                </a:lnTo>
                <a:lnTo>
                  <a:pt x="1424" y="5893"/>
                </a:lnTo>
                <a:lnTo>
                  <a:pt x="1336" y="6021"/>
                </a:lnTo>
                <a:lnTo>
                  <a:pt x="1252" y="6149"/>
                </a:lnTo>
                <a:lnTo>
                  <a:pt x="1124" y="6321"/>
                </a:lnTo>
                <a:lnTo>
                  <a:pt x="1040" y="6449"/>
                </a:lnTo>
                <a:lnTo>
                  <a:pt x="912" y="6488"/>
                </a:lnTo>
                <a:lnTo>
                  <a:pt x="784" y="6576"/>
                </a:lnTo>
                <a:lnTo>
                  <a:pt x="696" y="6704"/>
                </a:lnTo>
                <a:lnTo>
                  <a:pt x="568" y="6788"/>
                </a:lnTo>
                <a:lnTo>
                  <a:pt x="440" y="6916"/>
                </a:lnTo>
                <a:lnTo>
                  <a:pt x="357" y="7044"/>
                </a:lnTo>
                <a:lnTo>
                  <a:pt x="229" y="7172"/>
                </a:lnTo>
                <a:lnTo>
                  <a:pt x="141" y="7300"/>
                </a:lnTo>
                <a:lnTo>
                  <a:pt x="57" y="7427"/>
                </a:lnTo>
                <a:lnTo>
                  <a:pt x="0" y="758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4520" y="4203720"/>
            <a:ext cx="3150000" cy="2416680"/>
          </a:xfrm>
          <a:custGeom>
            <a:avLst/>
            <a:gdLst/>
            <a:ahLst/>
            <a:rect l="0" t="0" r="r" b="b"/>
            <a:pathLst>
              <a:path fill="none" w="8750" h="6713">
                <a:moveTo>
                  <a:pt x="8750" y="0"/>
                </a:moveTo>
                <a:lnTo>
                  <a:pt x="8653" y="26"/>
                </a:lnTo>
                <a:lnTo>
                  <a:pt x="8525" y="66"/>
                </a:lnTo>
                <a:lnTo>
                  <a:pt x="8398" y="154"/>
                </a:lnTo>
                <a:lnTo>
                  <a:pt x="8270" y="194"/>
                </a:lnTo>
                <a:lnTo>
                  <a:pt x="8142" y="282"/>
                </a:lnTo>
                <a:lnTo>
                  <a:pt x="8054" y="449"/>
                </a:lnTo>
                <a:lnTo>
                  <a:pt x="7926" y="577"/>
                </a:lnTo>
                <a:lnTo>
                  <a:pt x="7798" y="705"/>
                </a:lnTo>
                <a:lnTo>
                  <a:pt x="7670" y="793"/>
                </a:lnTo>
                <a:lnTo>
                  <a:pt x="7542" y="921"/>
                </a:lnTo>
                <a:lnTo>
                  <a:pt x="7414" y="1005"/>
                </a:lnTo>
                <a:lnTo>
                  <a:pt x="7330" y="1133"/>
                </a:lnTo>
                <a:lnTo>
                  <a:pt x="7260" y="1296"/>
                </a:lnTo>
                <a:lnTo>
                  <a:pt x="7172" y="1455"/>
                </a:lnTo>
                <a:lnTo>
                  <a:pt x="6951" y="1569"/>
                </a:lnTo>
                <a:lnTo>
                  <a:pt x="6713" y="1631"/>
                </a:lnTo>
                <a:lnTo>
                  <a:pt x="6558" y="1689"/>
                </a:lnTo>
                <a:lnTo>
                  <a:pt x="6430" y="1817"/>
                </a:lnTo>
                <a:lnTo>
                  <a:pt x="6302" y="1945"/>
                </a:lnTo>
                <a:lnTo>
                  <a:pt x="6218" y="2073"/>
                </a:lnTo>
                <a:lnTo>
                  <a:pt x="6090" y="2157"/>
                </a:lnTo>
                <a:lnTo>
                  <a:pt x="6007" y="2285"/>
                </a:lnTo>
                <a:lnTo>
                  <a:pt x="5879" y="2373"/>
                </a:lnTo>
                <a:lnTo>
                  <a:pt x="5751" y="2457"/>
                </a:lnTo>
                <a:lnTo>
                  <a:pt x="5623" y="2545"/>
                </a:lnTo>
                <a:lnTo>
                  <a:pt x="5495" y="2585"/>
                </a:lnTo>
                <a:lnTo>
                  <a:pt x="5367" y="2629"/>
                </a:lnTo>
                <a:lnTo>
                  <a:pt x="5235" y="2712"/>
                </a:lnTo>
                <a:lnTo>
                  <a:pt x="5107" y="2757"/>
                </a:lnTo>
                <a:lnTo>
                  <a:pt x="4979" y="2757"/>
                </a:lnTo>
                <a:lnTo>
                  <a:pt x="4851" y="2801"/>
                </a:lnTo>
                <a:lnTo>
                  <a:pt x="4723" y="2840"/>
                </a:lnTo>
                <a:lnTo>
                  <a:pt x="4556" y="2884"/>
                </a:lnTo>
                <a:lnTo>
                  <a:pt x="4340" y="2884"/>
                </a:lnTo>
                <a:lnTo>
                  <a:pt x="4212" y="2840"/>
                </a:lnTo>
                <a:lnTo>
                  <a:pt x="4084" y="2757"/>
                </a:lnTo>
                <a:lnTo>
                  <a:pt x="3956" y="2712"/>
                </a:lnTo>
                <a:lnTo>
                  <a:pt x="3828" y="2629"/>
                </a:lnTo>
                <a:lnTo>
                  <a:pt x="3700" y="2585"/>
                </a:lnTo>
                <a:lnTo>
                  <a:pt x="3572" y="2545"/>
                </a:lnTo>
                <a:lnTo>
                  <a:pt x="3444" y="2501"/>
                </a:lnTo>
                <a:lnTo>
                  <a:pt x="3299" y="2369"/>
                </a:lnTo>
                <a:lnTo>
                  <a:pt x="3145" y="2501"/>
                </a:lnTo>
                <a:lnTo>
                  <a:pt x="3017" y="2545"/>
                </a:lnTo>
                <a:lnTo>
                  <a:pt x="2933" y="2673"/>
                </a:lnTo>
                <a:lnTo>
                  <a:pt x="2805" y="2757"/>
                </a:lnTo>
                <a:lnTo>
                  <a:pt x="2677" y="2840"/>
                </a:lnTo>
                <a:lnTo>
                  <a:pt x="2549" y="2968"/>
                </a:lnTo>
                <a:lnTo>
                  <a:pt x="2505" y="3096"/>
                </a:lnTo>
                <a:lnTo>
                  <a:pt x="2421" y="3224"/>
                </a:lnTo>
                <a:lnTo>
                  <a:pt x="2333" y="3352"/>
                </a:lnTo>
                <a:lnTo>
                  <a:pt x="2249" y="3480"/>
                </a:lnTo>
                <a:lnTo>
                  <a:pt x="2165" y="3608"/>
                </a:lnTo>
                <a:lnTo>
                  <a:pt x="2076" y="3736"/>
                </a:lnTo>
                <a:lnTo>
                  <a:pt x="1993" y="3868"/>
                </a:lnTo>
                <a:lnTo>
                  <a:pt x="1909" y="3996"/>
                </a:lnTo>
                <a:lnTo>
                  <a:pt x="1821" y="4124"/>
                </a:lnTo>
                <a:lnTo>
                  <a:pt x="1737" y="4251"/>
                </a:lnTo>
                <a:lnTo>
                  <a:pt x="1653" y="4379"/>
                </a:lnTo>
                <a:lnTo>
                  <a:pt x="1565" y="4507"/>
                </a:lnTo>
                <a:lnTo>
                  <a:pt x="1525" y="4635"/>
                </a:lnTo>
                <a:lnTo>
                  <a:pt x="1397" y="4763"/>
                </a:lnTo>
                <a:lnTo>
                  <a:pt x="1353" y="4891"/>
                </a:lnTo>
                <a:lnTo>
                  <a:pt x="1225" y="5019"/>
                </a:lnTo>
                <a:lnTo>
                  <a:pt x="1137" y="5148"/>
                </a:lnTo>
                <a:lnTo>
                  <a:pt x="1098" y="5276"/>
                </a:lnTo>
                <a:lnTo>
                  <a:pt x="1053" y="5403"/>
                </a:lnTo>
                <a:lnTo>
                  <a:pt x="926" y="5531"/>
                </a:lnTo>
                <a:lnTo>
                  <a:pt x="798" y="5659"/>
                </a:lnTo>
                <a:lnTo>
                  <a:pt x="670" y="5787"/>
                </a:lnTo>
                <a:lnTo>
                  <a:pt x="542" y="5915"/>
                </a:lnTo>
                <a:lnTo>
                  <a:pt x="458" y="6043"/>
                </a:lnTo>
                <a:lnTo>
                  <a:pt x="330" y="6127"/>
                </a:lnTo>
                <a:lnTo>
                  <a:pt x="242" y="6254"/>
                </a:lnTo>
                <a:lnTo>
                  <a:pt x="158" y="6382"/>
                </a:lnTo>
                <a:lnTo>
                  <a:pt x="74" y="6515"/>
                </a:lnTo>
                <a:lnTo>
                  <a:pt x="0" y="671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4562640"/>
            <a:ext cx="2984760" cy="2054520"/>
          </a:xfrm>
          <a:custGeom>
            <a:avLst/>
            <a:gdLst/>
            <a:ahLst/>
            <a:rect l="0" t="0" r="r" b="b"/>
            <a:pathLst>
              <a:path fill="none" w="8291" h="5707">
                <a:moveTo>
                  <a:pt x="8291" y="0"/>
                </a:moveTo>
                <a:lnTo>
                  <a:pt x="8194" y="92"/>
                </a:lnTo>
                <a:lnTo>
                  <a:pt x="8066" y="136"/>
                </a:lnTo>
                <a:lnTo>
                  <a:pt x="7938" y="180"/>
                </a:lnTo>
                <a:lnTo>
                  <a:pt x="7810" y="224"/>
                </a:lnTo>
                <a:lnTo>
                  <a:pt x="7682" y="308"/>
                </a:lnTo>
                <a:lnTo>
                  <a:pt x="7554" y="352"/>
                </a:lnTo>
                <a:lnTo>
                  <a:pt x="7422" y="480"/>
                </a:lnTo>
                <a:lnTo>
                  <a:pt x="7338" y="608"/>
                </a:lnTo>
                <a:lnTo>
                  <a:pt x="7210" y="692"/>
                </a:lnTo>
                <a:lnTo>
                  <a:pt x="7083" y="776"/>
                </a:lnTo>
                <a:lnTo>
                  <a:pt x="6955" y="864"/>
                </a:lnTo>
                <a:lnTo>
                  <a:pt x="6827" y="948"/>
                </a:lnTo>
                <a:lnTo>
                  <a:pt x="6699" y="992"/>
                </a:lnTo>
                <a:lnTo>
                  <a:pt x="6571" y="1075"/>
                </a:lnTo>
                <a:lnTo>
                  <a:pt x="6443" y="1159"/>
                </a:lnTo>
                <a:lnTo>
                  <a:pt x="6315" y="1287"/>
                </a:lnTo>
                <a:lnTo>
                  <a:pt x="6143" y="1415"/>
                </a:lnTo>
                <a:lnTo>
                  <a:pt x="6015" y="1503"/>
                </a:lnTo>
                <a:lnTo>
                  <a:pt x="5843" y="1587"/>
                </a:lnTo>
                <a:lnTo>
                  <a:pt x="5676" y="1715"/>
                </a:lnTo>
                <a:lnTo>
                  <a:pt x="5548" y="1803"/>
                </a:lnTo>
                <a:lnTo>
                  <a:pt x="5420" y="1887"/>
                </a:lnTo>
                <a:lnTo>
                  <a:pt x="5248" y="1971"/>
                </a:lnTo>
                <a:lnTo>
                  <a:pt x="5120" y="2059"/>
                </a:lnTo>
                <a:lnTo>
                  <a:pt x="4992" y="2099"/>
                </a:lnTo>
                <a:lnTo>
                  <a:pt x="4864" y="2143"/>
                </a:lnTo>
                <a:lnTo>
                  <a:pt x="4737" y="2143"/>
                </a:lnTo>
                <a:lnTo>
                  <a:pt x="4565" y="2187"/>
                </a:lnTo>
                <a:lnTo>
                  <a:pt x="4393" y="2226"/>
                </a:lnTo>
                <a:lnTo>
                  <a:pt x="4265" y="2226"/>
                </a:lnTo>
                <a:lnTo>
                  <a:pt x="4096" y="2226"/>
                </a:lnTo>
                <a:lnTo>
                  <a:pt x="3968" y="2271"/>
                </a:lnTo>
                <a:lnTo>
                  <a:pt x="3840" y="2271"/>
                </a:lnTo>
                <a:lnTo>
                  <a:pt x="3712" y="2226"/>
                </a:lnTo>
                <a:lnTo>
                  <a:pt x="3585" y="2187"/>
                </a:lnTo>
                <a:lnTo>
                  <a:pt x="3452" y="2187"/>
                </a:lnTo>
                <a:lnTo>
                  <a:pt x="3324" y="2143"/>
                </a:lnTo>
                <a:lnTo>
                  <a:pt x="3157" y="2059"/>
                </a:lnTo>
                <a:lnTo>
                  <a:pt x="3029" y="2015"/>
                </a:lnTo>
                <a:lnTo>
                  <a:pt x="2853" y="1957"/>
                </a:lnTo>
                <a:lnTo>
                  <a:pt x="2698" y="1847"/>
                </a:lnTo>
                <a:lnTo>
                  <a:pt x="2548" y="1927"/>
                </a:lnTo>
                <a:lnTo>
                  <a:pt x="2345" y="2059"/>
                </a:lnTo>
                <a:lnTo>
                  <a:pt x="2218" y="2099"/>
                </a:lnTo>
                <a:lnTo>
                  <a:pt x="2129" y="2226"/>
                </a:lnTo>
                <a:lnTo>
                  <a:pt x="2002" y="2354"/>
                </a:lnTo>
                <a:lnTo>
                  <a:pt x="1918" y="2482"/>
                </a:lnTo>
                <a:lnTo>
                  <a:pt x="1874" y="2610"/>
                </a:lnTo>
                <a:lnTo>
                  <a:pt x="1790" y="2738"/>
                </a:lnTo>
                <a:lnTo>
                  <a:pt x="1706" y="2871"/>
                </a:lnTo>
                <a:lnTo>
                  <a:pt x="1662" y="2999"/>
                </a:lnTo>
                <a:lnTo>
                  <a:pt x="1534" y="3083"/>
                </a:lnTo>
                <a:lnTo>
                  <a:pt x="1450" y="3255"/>
                </a:lnTo>
                <a:lnTo>
                  <a:pt x="1322" y="3383"/>
                </a:lnTo>
                <a:lnTo>
                  <a:pt x="1278" y="3511"/>
                </a:lnTo>
                <a:lnTo>
                  <a:pt x="1195" y="3639"/>
                </a:lnTo>
                <a:lnTo>
                  <a:pt x="1106" y="3766"/>
                </a:lnTo>
                <a:lnTo>
                  <a:pt x="1023" y="3894"/>
                </a:lnTo>
                <a:lnTo>
                  <a:pt x="978" y="4022"/>
                </a:lnTo>
                <a:lnTo>
                  <a:pt x="895" y="4150"/>
                </a:lnTo>
                <a:lnTo>
                  <a:pt x="806" y="4278"/>
                </a:lnTo>
                <a:lnTo>
                  <a:pt x="723" y="4406"/>
                </a:lnTo>
                <a:lnTo>
                  <a:pt x="679" y="4534"/>
                </a:lnTo>
                <a:lnTo>
                  <a:pt x="595" y="4662"/>
                </a:lnTo>
                <a:lnTo>
                  <a:pt x="511" y="4789"/>
                </a:lnTo>
                <a:lnTo>
                  <a:pt x="423" y="4917"/>
                </a:lnTo>
                <a:lnTo>
                  <a:pt x="339" y="5045"/>
                </a:lnTo>
                <a:lnTo>
                  <a:pt x="255" y="5173"/>
                </a:lnTo>
                <a:lnTo>
                  <a:pt x="167" y="5301"/>
                </a:lnTo>
                <a:lnTo>
                  <a:pt x="127" y="5429"/>
                </a:lnTo>
                <a:lnTo>
                  <a:pt x="39" y="5557"/>
                </a:lnTo>
                <a:lnTo>
                  <a:pt x="0" y="570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86360" y="5076720"/>
            <a:ext cx="2918160" cy="1543320"/>
          </a:xfrm>
          <a:custGeom>
            <a:avLst/>
            <a:gdLst/>
            <a:ahLst/>
            <a:rect l="0" t="0" r="r" b="b"/>
            <a:pathLst>
              <a:path fill="none" w="8106" h="4287">
                <a:moveTo>
                  <a:pt x="8106" y="0"/>
                </a:moveTo>
                <a:lnTo>
                  <a:pt x="8009" y="30"/>
                </a:lnTo>
                <a:lnTo>
                  <a:pt x="7881" y="74"/>
                </a:lnTo>
                <a:lnTo>
                  <a:pt x="7753" y="158"/>
                </a:lnTo>
                <a:lnTo>
                  <a:pt x="7625" y="246"/>
                </a:lnTo>
                <a:lnTo>
                  <a:pt x="7497" y="330"/>
                </a:lnTo>
                <a:lnTo>
                  <a:pt x="7369" y="414"/>
                </a:lnTo>
                <a:lnTo>
                  <a:pt x="7237" y="502"/>
                </a:lnTo>
                <a:lnTo>
                  <a:pt x="7109" y="586"/>
                </a:lnTo>
                <a:lnTo>
                  <a:pt x="6941" y="714"/>
                </a:lnTo>
                <a:lnTo>
                  <a:pt x="6769" y="798"/>
                </a:lnTo>
                <a:lnTo>
                  <a:pt x="6642" y="886"/>
                </a:lnTo>
                <a:lnTo>
                  <a:pt x="6514" y="970"/>
                </a:lnTo>
                <a:lnTo>
                  <a:pt x="6302" y="1053"/>
                </a:lnTo>
                <a:lnTo>
                  <a:pt x="6130" y="1098"/>
                </a:lnTo>
                <a:lnTo>
                  <a:pt x="6002" y="1142"/>
                </a:lnTo>
                <a:lnTo>
                  <a:pt x="5874" y="1181"/>
                </a:lnTo>
                <a:lnTo>
                  <a:pt x="5618" y="1225"/>
                </a:lnTo>
                <a:lnTo>
                  <a:pt x="5447" y="1270"/>
                </a:lnTo>
                <a:lnTo>
                  <a:pt x="5019" y="1270"/>
                </a:lnTo>
                <a:lnTo>
                  <a:pt x="4891" y="1270"/>
                </a:lnTo>
                <a:lnTo>
                  <a:pt x="4763" y="1309"/>
                </a:lnTo>
                <a:lnTo>
                  <a:pt x="4635" y="1309"/>
                </a:lnTo>
                <a:lnTo>
                  <a:pt x="4463" y="1309"/>
                </a:lnTo>
                <a:lnTo>
                  <a:pt x="4335" y="1309"/>
                </a:lnTo>
                <a:lnTo>
                  <a:pt x="4207" y="1309"/>
                </a:lnTo>
                <a:lnTo>
                  <a:pt x="4039" y="1270"/>
                </a:lnTo>
                <a:lnTo>
                  <a:pt x="3867" y="1270"/>
                </a:lnTo>
                <a:lnTo>
                  <a:pt x="3655" y="1270"/>
                </a:lnTo>
                <a:lnTo>
                  <a:pt x="3527" y="1270"/>
                </a:lnTo>
                <a:lnTo>
                  <a:pt x="3355" y="1225"/>
                </a:lnTo>
                <a:lnTo>
                  <a:pt x="3227" y="1181"/>
                </a:lnTo>
                <a:lnTo>
                  <a:pt x="3100" y="1142"/>
                </a:lnTo>
                <a:lnTo>
                  <a:pt x="2844" y="1142"/>
                </a:lnTo>
                <a:lnTo>
                  <a:pt x="2716" y="1142"/>
                </a:lnTo>
                <a:lnTo>
                  <a:pt x="2579" y="1071"/>
                </a:lnTo>
                <a:lnTo>
                  <a:pt x="2394" y="1212"/>
                </a:lnTo>
                <a:lnTo>
                  <a:pt x="2275" y="1292"/>
                </a:lnTo>
                <a:lnTo>
                  <a:pt x="2204" y="1441"/>
                </a:lnTo>
                <a:lnTo>
                  <a:pt x="2076" y="1525"/>
                </a:lnTo>
                <a:lnTo>
                  <a:pt x="1944" y="1653"/>
                </a:lnTo>
                <a:lnTo>
                  <a:pt x="1816" y="1781"/>
                </a:lnTo>
                <a:lnTo>
                  <a:pt x="1733" y="1909"/>
                </a:lnTo>
                <a:lnTo>
                  <a:pt x="1605" y="2037"/>
                </a:lnTo>
                <a:lnTo>
                  <a:pt x="1477" y="2121"/>
                </a:lnTo>
                <a:lnTo>
                  <a:pt x="1349" y="2249"/>
                </a:lnTo>
                <a:lnTo>
                  <a:pt x="1221" y="2338"/>
                </a:lnTo>
                <a:lnTo>
                  <a:pt x="1137" y="2466"/>
                </a:lnTo>
                <a:lnTo>
                  <a:pt x="965" y="2633"/>
                </a:lnTo>
                <a:lnTo>
                  <a:pt x="881" y="2765"/>
                </a:lnTo>
                <a:lnTo>
                  <a:pt x="837" y="2893"/>
                </a:lnTo>
                <a:lnTo>
                  <a:pt x="754" y="3021"/>
                </a:lnTo>
                <a:lnTo>
                  <a:pt x="709" y="3149"/>
                </a:lnTo>
                <a:lnTo>
                  <a:pt x="621" y="3277"/>
                </a:lnTo>
                <a:lnTo>
                  <a:pt x="537" y="3405"/>
                </a:lnTo>
                <a:lnTo>
                  <a:pt x="493" y="3533"/>
                </a:lnTo>
                <a:lnTo>
                  <a:pt x="410" y="3661"/>
                </a:lnTo>
                <a:lnTo>
                  <a:pt x="366" y="3788"/>
                </a:lnTo>
                <a:lnTo>
                  <a:pt x="198" y="3956"/>
                </a:lnTo>
                <a:lnTo>
                  <a:pt x="110" y="4088"/>
                </a:lnTo>
                <a:lnTo>
                  <a:pt x="0" y="428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87880" y="5505480"/>
            <a:ext cx="2816640" cy="1119600"/>
          </a:xfrm>
          <a:custGeom>
            <a:avLst/>
            <a:gdLst/>
            <a:ahLst/>
            <a:rect l="0" t="0" r="r" b="b"/>
            <a:pathLst>
              <a:path fill="none" w="7824" h="3110">
                <a:moveTo>
                  <a:pt x="7824" y="0"/>
                </a:moveTo>
                <a:lnTo>
                  <a:pt x="7727" y="35"/>
                </a:lnTo>
                <a:lnTo>
                  <a:pt x="7639" y="163"/>
                </a:lnTo>
                <a:lnTo>
                  <a:pt x="7511" y="251"/>
                </a:lnTo>
                <a:lnTo>
                  <a:pt x="7383" y="335"/>
                </a:lnTo>
                <a:lnTo>
                  <a:pt x="7216" y="507"/>
                </a:lnTo>
                <a:lnTo>
                  <a:pt x="7000" y="635"/>
                </a:lnTo>
                <a:lnTo>
                  <a:pt x="6872" y="674"/>
                </a:lnTo>
                <a:lnTo>
                  <a:pt x="6744" y="718"/>
                </a:lnTo>
                <a:lnTo>
                  <a:pt x="6532" y="718"/>
                </a:lnTo>
                <a:lnTo>
                  <a:pt x="6404" y="718"/>
                </a:lnTo>
                <a:lnTo>
                  <a:pt x="6277" y="718"/>
                </a:lnTo>
                <a:lnTo>
                  <a:pt x="5081" y="674"/>
                </a:lnTo>
                <a:lnTo>
                  <a:pt x="4864" y="674"/>
                </a:lnTo>
                <a:lnTo>
                  <a:pt x="4737" y="674"/>
                </a:lnTo>
                <a:lnTo>
                  <a:pt x="4309" y="635"/>
                </a:lnTo>
                <a:lnTo>
                  <a:pt x="4141" y="590"/>
                </a:lnTo>
                <a:lnTo>
                  <a:pt x="4013" y="590"/>
                </a:lnTo>
                <a:lnTo>
                  <a:pt x="3885" y="507"/>
                </a:lnTo>
                <a:lnTo>
                  <a:pt x="3713" y="463"/>
                </a:lnTo>
                <a:lnTo>
                  <a:pt x="3542" y="463"/>
                </a:lnTo>
                <a:lnTo>
                  <a:pt x="3414" y="463"/>
                </a:lnTo>
                <a:lnTo>
                  <a:pt x="3246" y="463"/>
                </a:lnTo>
                <a:lnTo>
                  <a:pt x="3118" y="463"/>
                </a:lnTo>
                <a:lnTo>
                  <a:pt x="2946" y="463"/>
                </a:lnTo>
                <a:lnTo>
                  <a:pt x="2818" y="463"/>
                </a:lnTo>
                <a:lnTo>
                  <a:pt x="2690" y="463"/>
                </a:lnTo>
                <a:lnTo>
                  <a:pt x="2563" y="463"/>
                </a:lnTo>
                <a:lnTo>
                  <a:pt x="2435" y="463"/>
                </a:lnTo>
                <a:lnTo>
                  <a:pt x="2307" y="507"/>
                </a:lnTo>
                <a:lnTo>
                  <a:pt x="2179" y="546"/>
                </a:lnTo>
                <a:lnTo>
                  <a:pt x="2007" y="590"/>
                </a:lnTo>
                <a:lnTo>
                  <a:pt x="1878" y="635"/>
                </a:lnTo>
                <a:lnTo>
                  <a:pt x="1750" y="674"/>
                </a:lnTo>
                <a:lnTo>
                  <a:pt x="1622" y="762"/>
                </a:lnTo>
                <a:lnTo>
                  <a:pt x="1494" y="847"/>
                </a:lnTo>
                <a:lnTo>
                  <a:pt x="1406" y="975"/>
                </a:lnTo>
                <a:lnTo>
                  <a:pt x="1278" y="1019"/>
                </a:lnTo>
                <a:lnTo>
                  <a:pt x="1150" y="1103"/>
                </a:lnTo>
                <a:lnTo>
                  <a:pt x="1067" y="1231"/>
                </a:lnTo>
                <a:lnTo>
                  <a:pt x="983" y="1359"/>
                </a:lnTo>
                <a:lnTo>
                  <a:pt x="855" y="1487"/>
                </a:lnTo>
                <a:lnTo>
                  <a:pt x="727" y="1659"/>
                </a:lnTo>
                <a:lnTo>
                  <a:pt x="639" y="1786"/>
                </a:lnTo>
                <a:lnTo>
                  <a:pt x="555" y="1914"/>
                </a:lnTo>
                <a:lnTo>
                  <a:pt x="511" y="2042"/>
                </a:lnTo>
                <a:lnTo>
                  <a:pt x="471" y="2170"/>
                </a:lnTo>
                <a:lnTo>
                  <a:pt x="383" y="2343"/>
                </a:lnTo>
                <a:lnTo>
                  <a:pt x="299" y="2471"/>
                </a:lnTo>
                <a:lnTo>
                  <a:pt x="255" y="2599"/>
                </a:lnTo>
                <a:lnTo>
                  <a:pt x="211" y="2727"/>
                </a:lnTo>
                <a:lnTo>
                  <a:pt x="127" y="2855"/>
                </a:lnTo>
                <a:lnTo>
                  <a:pt x="44" y="2982"/>
                </a:lnTo>
                <a:lnTo>
                  <a:pt x="0" y="311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92640" y="5886360"/>
            <a:ext cx="2711880" cy="733680"/>
          </a:xfrm>
          <a:custGeom>
            <a:avLst/>
            <a:gdLst/>
            <a:ahLst/>
            <a:rect l="0" t="0" r="r" b="b"/>
            <a:pathLst>
              <a:path fill="none" w="7533" h="2038">
                <a:moveTo>
                  <a:pt x="7533" y="432"/>
                </a:moveTo>
                <a:lnTo>
                  <a:pt x="7436" y="427"/>
                </a:lnTo>
                <a:lnTo>
                  <a:pt x="7181" y="471"/>
                </a:lnTo>
                <a:lnTo>
                  <a:pt x="7053" y="515"/>
                </a:lnTo>
                <a:lnTo>
                  <a:pt x="6881" y="515"/>
                </a:lnTo>
                <a:lnTo>
                  <a:pt x="6753" y="471"/>
                </a:lnTo>
                <a:lnTo>
                  <a:pt x="6625" y="471"/>
                </a:lnTo>
                <a:lnTo>
                  <a:pt x="6497" y="471"/>
                </a:lnTo>
                <a:lnTo>
                  <a:pt x="6369" y="427"/>
                </a:lnTo>
                <a:lnTo>
                  <a:pt x="6197" y="427"/>
                </a:lnTo>
                <a:lnTo>
                  <a:pt x="5985" y="471"/>
                </a:lnTo>
                <a:lnTo>
                  <a:pt x="5858" y="471"/>
                </a:lnTo>
                <a:lnTo>
                  <a:pt x="5730" y="515"/>
                </a:lnTo>
                <a:lnTo>
                  <a:pt x="5601" y="515"/>
                </a:lnTo>
                <a:lnTo>
                  <a:pt x="5473" y="515"/>
                </a:lnTo>
                <a:lnTo>
                  <a:pt x="5341" y="515"/>
                </a:lnTo>
                <a:lnTo>
                  <a:pt x="5173" y="471"/>
                </a:lnTo>
                <a:lnTo>
                  <a:pt x="5045" y="427"/>
                </a:lnTo>
                <a:lnTo>
                  <a:pt x="4917" y="383"/>
                </a:lnTo>
                <a:lnTo>
                  <a:pt x="4745" y="343"/>
                </a:lnTo>
                <a:lnTo>
                  <a:pt x="4617" y="299"/>
                </a:lnTo>
                <a:lnTo>
                  <a:pt x="4490" y="299"/>
                </a:lnTo>
                <a:lnTo>
                  <a:pt x="4362" y="255"/>
                </a:lnTo>
                <a:lnTo>
                  <a:pt x="4234" y="255"/>
                </a:lnTo>
                <a:lnTo>
                  <a:pt x="4062" y="171"/>
                </a:lnTo>
                <a:lnTo>
                  <a:pt x="3934" y="171"/>
                </a:lnTo>
                <a:lnTo>
                  <a:pt x="3762" y="127"/>
                </a:lnTo>
                <a:lnTo>
                  <a:pt x="3634" y="88"/>
                </a:lnTo>
                <a:lnTo>
                  <a:pt x="3467" y="88"/>
                </a:lnTo>
                <a:lnTo>
                  <a:pt x="3039" y="0"/>
                </a:lnTo>
                <a:lnTo>
                  <a:pt x="2867" y="0"/>
                </a:lnTo>
                <a:lnTo>
                  <a:pt x="2695" y="0"/>
                </a:lnTo>
                <a:lnTo>
                  <a:pt x="2567" y="44"/>
                </a:lnTo>
                <a:lnTo>
                  <a:pt x="2439" y="88"/>
                </a:lnTo>
                <a:lnTo>
                  <a:pt x="2311" y="127"/>
                </a:lnTo>
                <a:lnTo>
                  <a:pt x="2183" y="216"/>
                </a:lnTo>
                <a:lnTo>
                  <a:pt x="2055" y="255"/>
                </a:lnTo>
                <a:lnTo>
                  <a:pt x="1928" y="343"/>
                </a:lnTo>
                <a:lnTo>
                  <a:pt x="1799" y="343"/>
                </a:lnTo>
                <a:lnTo>
                  <a:pt x="1631" y="383"/>
                </a:lnTo>
                <a:lnTo>
                  <a:pt x="1503" y="427"/>
                </a:lnTo>
                <a:lnTo>
                  <a:pt x="1371" y="471"/>
                </a:lnTo>
                <a:lnTo>
                  <a:pt x="1243" y="515"/>
                </a:lnTo>
                <a:lnTo>
                  <a:pt x="1115" y="555"/>
                </a:lnTo>
                <a:lnTo>
                  <a:pt x="987" y="599"/>
                </a:lnTo>
                <a:lnTo>
                  <a:pt x="859" y="727"/>
                </a:lnTo>
                <a:lnTo>
                  <a:pt x="732" y="811"/>
                </a:lnTo>
                <a:lnTo>
                  <a:pt x="648" y="939"/>
                </a:lnTo>
                <a:lnTo>
                  <a:pt x="520" y="1028"/>
                </a:lnTo>
                <a:lnTo>
                  <a:pt x="436" y="1156"/>
                </a:lnTo>
                <a:lnTo>
                  <a:pt x="308" y="1240"/>
                </a:lnTo>
                <a:lnTo>
                  <a:pt x="220" y="1368"/>
                </a:lnTo>
                <a:lnTo>
                  <a:pt x="136" y="1495"/>
                </a:lnTo>
                <a:lnTo>
                  <a:pt x="136" y="1623"/>
                </a:lnTo>
                <a:lnTo>
                  <a:pt x="92" y="1751"/>
                </a:lnTo>
                <a:lnTo>
                  <a:pt x="48" y="1879"/>
                </a:lnTo>
                <a:lnTo>
                  <a:pt x="0" y="203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03880" y="6164280"/>
            <a:ext cx="2595960" cy="460800"/>
          </a:xfrm>
          <a:custGeom>
            <a:avLst/>
            <a:gdLst/>
            <a:ahLst/>
            <a:rect l="0" t="0" r="r" b="b"/>
            <a:pathLst>
              <a:path fill="none" w="7211" h="1280">
                <a:moveTo>
                  <a:pt x="7211" y="512"/>
                </a:moveTo>
                <a:lnTo>
                  <a:pt x="7000" y="552"/>
                </a:lnTo>
                <a:lnTo>
                  <a:pt x="6872" y="552"/>
                </a:lnTo>
                <a:lnTo>
                  <a:pt x="6744" y="552"/>
                </a:lnTo>
                <a:lnTo>
                  <a:pt x="6616" y="468"/>
                </a:lnTo>
                <a:lnTo>
                  <a:pt x="6488" y="424"/>
                </a:lnTo>
                <a:lnTo>
                  <a:pt x="6060" y="424"/>
                </a:lnTo>
                <a:lnTo>
                  <a:pt x="5933" y="424"/>
                </a:lnTo>
                <a:lnTo>
                  <a:pt x="5805" y="424"/>
                </a:lnTo>
                <a:lnTo>
                  <a:pt x="5589" y="424"/>
                </a:lnTo>
                <a:lnTo>
                  <a:pt x="5461" y="424"/>
                </a:lnTo>
                <a:lnTo>
                  <a:pt x="5332" y="424"/>
                </a:lnTo>
                <a:lnTo>
                  <a:pt x="5164" y="424"/>
                </a:lnTo>
                <a:lnTo>
                  <a:pt x="5032" y="424"/>
                </a:lnTo>
                <a:lnTo>
                  <a:pt x="4904" y="424"/>
                </a:lnTo>
                <a:lnTo>
                  <a:pt x="4737" y="424"/>
                </a:lnTo>
                <a:lnTo>
                  <a:pt x="4481" y="424"/>
                </a:lnTo>
                <a:lnTo>
                  <a:pt x="4353" y="384"/>
                </a:lnTo>
                <a:lnTo>
                  <a:pt x="4181" y="340"/>
                </a:lnTo>
                <a:lnTo>
                  <a:pt x="4009" y="255"/>
                </a:lnTo>
                <a:lnTo>
                  <a:pt x="3881" y="211"/>
                </a:lnTo>
                <a:lnTo>
                  <a:pt x="3753" y="167"/>
                </a:lnTo>
                <a:lnTo>
                  <a:pt x="3625" y="127"/>
                </a:lnTo>
                <a:lnTo>
                  <a:pt x="3453" y="39"/>
                </a:lnTo>
                <a:lnTo>
                  <a:pt x="3242" y="39"/>
                </a:lnTo>
                <a:lnTo>
                  <a:pt x="3070" y="0"/>
                </a:lnTo>
                <a:lnTo>
                  <a:pt x="2646" y="0"/>
                </a:lnTo>
                <a:lnTo>
                  <a:pt x="2430" y="0"/>
                </a:lnTo>
                <a:lnTo>
                  <a:pt x="2302" y="39"/>
                </a:lnTo>
                <a:lnTo>
                  <a:pt x="2174" y="39"/>
                </a:lnTo>
                <a:lnTo>
                  <a:pt x="2047" y="39"/>
                </a:lnTo>
                <a:lnTo>
                  <a:pt x="1875" y="39"/>
                </a:lnTo>
                <a:lnTo>
                  <a:pt x="1706" y="127"/>
                </a:lnTo>
                <a:lnTo>
                  <a:pt x="1578" y="127"/>
                </a:lnTo>
                <a:lnTo>
                  <a:pt x="1450" y="167"/>
                </a:lnTo>
                <a:lnTo>
                  <a:pt x="1322" y="211"/>
                </a:lnTo>
                <a:lnTo>
                  <a:pt x="1195" y="255"/>
                </a:lnTo>
                <a:lnTo>
                  <a:pt x="1023" y="384"/>
                </a:lnTo>
                <a:lnTo>
                  <a:pt x="895" y="468"/>
                </a:lnTo>
                <a:lnTo>
                  <a:pt x="767" y="552"/>
                </a:lnTo>
                <a:lnTo>
                  <a:pt x="639" y="640"/>
                </a:lnTo>
                <a:lnTo>
                  <a:pt x="511" y="724"/>
                </a:lnTo>
                <a:lnTo>
                  <a:pt x="383" y="807"/>
                </a:lnTo>
                <a:lnTo>
                  <a:pt x="255" y="896"/>
                </a:lnTo>
                <a:lnTo>
                  <a:pt x="127" y="1025"/>
                </a:lnTo>
                <a:lnTo>
                  <a:pt x="39" y="1152"/>
                </a:lnTo>
                <a:lnTo>
                  <a:pt x="0" y="128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35360" y="6454800"/>
            <a:ext cx="1887840" cy="170280"/>
          </a:xfrm>
          <a:custGeom>
            <a:avLst/>
            <a:gdLst/>
            <a:ahLst/>
            <a:rect l="0" t="0" r="r" b="b"/>
            <a:pathLst>
              <a:path fill="none" w="5244" h="473">
                <a:moveTo>
                  <a:pt x="5244" y="473"/>
                </a:moveTo>
                <a:lnTo>
                  <a:pt x="5116" y="429"/>
                </a:lnTo>
                <a:lnTo>
                  <a:pt x="4988" y="429"/>
                </a:lnTo>
                <a:lnTo>
                  <a:pt x="4816" y="429"/>
                </a:lnTo>
                <a:lnTo>
                  <a:pt x="4688" y="429"/>
                </a:lnTo>
                <a:lnTo>
                  <a:pt x="4432" y="390"/>
                </a:lnTo>
                <a:lnTo>
                  <a:pt x="4388" y="261"/>
                </a:lnTo>
                <a:lnTo>
                  <a:pt x="4260" y="217"/>
                </a:lnTo>
                <a:lnTo>
                  <a:pt x="4093" y="217"/>
                </a:lnTo>
                <a:lnTo>
                  <a:pt x="3921" y="217"/>
                </a:lnTo>
                <a:lnTo>
                  <a:pt x="3793" y="217"/>
                </a:lnTo>
                <a:lnTo>
                  <a:pt x="3665" y="172"/>
                </a:lnTo>
                <a:lnTo>
                  <a:pt x="3493" y="88"/>
                </a:lnTo>
                <a:lnTo>
                  <a:pt x="3365" y="44"/>
                </a:lnTo>
                <a:lnTo>
                  <a:pt x="3153" y="0"/>
                </a:lnTo>
                <a:lnTo>
                  <a:pt x="2937" y="0"/>
                </a:lnTo>
                <a:lnTo>
                  <a:pt x="2770" y="0"/>
                </a:lnTo>
                <a:lnTo>
                  <a:pt x="2597" y="44"/>
                </a:lnTo>
                <a:lnTo>
                  <a:pt x="2469" y="88"/>
                </a:lnTo>
                <a:lnTo>
                  <a:pt x="2213" y="128"/>
                </a:lnTo>
                <a:lnTo>
                  <a:pt x="1785" y="172"/>
                </a:lnTo>
                <a:lnTo>
                  <a:pt x="1658" y="172"/>
                </a:lnTo>
                <a:lnTo>
                  <a:pt x="1530" y="261"/>
                </a:lnTo>
                <a:lnTo>
                  <a:pt x="1402" y="344"/>
                </a:lnTo>
                <a:lnTo>
                  <a:pt x="1274" y="344"/>
                </a:lnTo>
                <a:lnTo>
                  <a:pt x="1146" y="344"/>
                </a:lnTo>
                <a:lnTo>
                  <a:pt x="1018" y="344"/>
                </a:lnTo>
                <a:lnTo>
                  <a:pt x="890" y="344"/>
                </a:lnTo>
                <a:lnTo>
                  <a:pt x="718" y="344"/>
                </a:lnTo>
                <a:lnTo>
                  <a:pt x="590" y="344"/>
                </a:lnTo>
                <a:lnTo>
                  <a:pt x="463" y="300"/>
                </a:lnTo>
                <a:lnTo>
                  <a:pt x="335" y="300"/>
                </a:lnTo>
                <a:lnTo>
                  <a:pt x="207" y="344"/>
                </a:lnTo>
                <a:lnTo>
                  <a:pt x="0" y="46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2400" y="1247760"/>
            <a:ext cx="3999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6560" y="25066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5400" y="3240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35200" y="6922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67040" y="10764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19480" y="17064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70240" y="189072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02280" y="36273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11400" y="40258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62560" y="414972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54760" y="4106880"/>
            <a:ext cx="35244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41840" y="4754520"/>
            <a:ext cx="3333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3000" y="4518000"/>
            <a:ext cx="3189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07040" y="53481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51680" y="49006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81880" y="4376880"/>
            <a:ext cx="36828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99200" y="62229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13480" y="58690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7560" y="56674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86520" y="637704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481120" y="326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604960" y="6825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851200" y="10652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05080" y="16956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14640" y="3998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187880" y="3600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449600" y="41227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52920" y="4716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60960" y="64764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402160" y="1233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140360" y="18795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02160" y="24782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962600" y="40813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08760" y="44910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507000" y="43354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132600" y="48610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75360" y="5303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375240" y="56228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89720" y="58183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175440" y="61707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160960" y="63324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8800" y="4535640"/>
            <a:ext cx="3240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248440" y="45086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43640" y="249120"/>
            <a:ext cx="1456200" cy="1489320"/>
          </a:xfrm>
          <a:custGeom>
            <a:avLst/>
            <a:gdLst/>
            <a:ahLst/>
            <a:rect l="0" t="0" r="r" b="b"/>
            <a:pathLst>
              <a:path fill="none" w="4045" h="4137">
                <a:moveTo>
                  <a:pt x="0" y="0"/>
                </a:moveTo>
                <a:lnTo>
                  <a:pt x="96" y="97"/>
                </a:lnTo>
                <a:lnTo>
                  <a:pt x="193" y="275"/>
                </a:lnTo>
                <a:lnTo>
                  <a:pt x="290" y="453"/>
                </a:lnTo>
                <a:lnTo>
                  <a:pt x="290" y="630"/>
                </a:lnTo>
                <a:lnTo>
                  <a:pt x="336" y="808"/>
                </a:lnTo>
                <a:lnTo>
                  <a:pt x="433" y="944"/>
                </a:lnTo>
                <a:lnTo>
                  <a:pt x="581" y="1033"/>
                </a:lnTo>
                <a:lnTo>
                  <a:pt x="775" y="1121"/>
                </a:lnTo>
                <a:lnTo>
                  <a:pt x="923" y="1253"/>
                </a:lnTo>
                <a:lnTo>
                  <a:pt x="1021" y="1388"/>
                </a:lnTo>
                <a:lnTo>
                  <a:pt x="1215" y="1519"/>
                </a:lnTo>
                <a:lnTo>
                  <a:pt x="1408" y="1566"/>
                </a:lnTo>
                <a:lnTo>
                  <a:pt x="1602" y="1697"/>
                </a:lnTo>
                <a:lnTo>
                  <a:pt x="1750" y="1790"/>
                </a:lnTo>
                <a:lnTo>
                  <a:pt x="1944" y="1922"/>
                </a:lnTo>
                <a:lnTo>
                  <a:pt x="2184" y="2100"/>
                </a:lnTo>
                <a:lnTo>
                  <a:pt x="2332" y="2189"/>
                </a:lnTo>
                <a:lnTo>
                  <a:pt x="2429" y="2325"/>
                </a:lnTo>
                <a:lnTo>
                  <a:pt x="2622" y="2503"/>
                </a:lnTo>
                <a:lnTo>
                  <a:pt x="2636" y="2858"/>
                </a:lnTo>
                <a:lnTo>
                  <a:pt x="2978" y="3201"/>
                </a:lnTo>
                <a:lnTo>
                  <a:pt x="3404" y="3328"/>
                </a:lnTo>
                <a:lnTo>
                  <a:pt x="3745" y="3540"/>
                </a:lnTo>
                <a:lnTo>
                  <a:pt x="4045" y="41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11760" y="64764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697360" y="6350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094520" y="352440"/>
            <a:ext cx="18986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utting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re added at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desired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168960" y="233280"/>
            <a:ext cx="835560" cy="875160"/>
            <a:chOff x="6168960" y="233280"/>
            <a:chExt cx="835560" cy="875160"/>
          </a:xfrm>
        </p:grpSpPr>
        <p:sp>
          <p:nvSpPr>
            <p:cNvPr id="218" name=""/>
            <p:cNvSpPr/>
            <p:nvPr/>
          </p:nvSpPr>
          <p:spPr>
            <a:xfrm>
              <a:off x="6230880" y="233280"/>
              <a:ext cx="773640" cy="875160"/>
            </a:xfrm>
            <a:custGeom>
              <a:avLst/>
              <a:gdLst/>
              <a:ahLst/>
              <a:rect l="0" t="0" r="r" b="b"/>
              <a:pathLst>
                <a:path fill="none" w="2149" h="2431">
                  <a:moveTo>
                    <a:pt x="0" y="0"/>
                  </a:moveTo>
                  <a:lnTo>
                    <a:pt x="44" y="127"/>
                  </a:lnTo>
                  <a:lnTo>
                    <a:pt x="88" y="255"/>
                  </a:lnTo>
                  <a:lnTo>
                    <a:pt x="216" y="343"/>
                  </a:lnTo>
                  <a:lnTo>
                    <a:pt x="343" y="427"/>
                  </a:lnTo>
                  <a:lnTo>
                    <a:pt x="383" y="555"/>
                  </a:lnTo>
                  <a:lnTo>
                    <a:pt x="471" y="684"/>
                  </a:lnTo>
                  <a:lnTo>
                    <a:pt x="511" y="856"/>
                  </a:lnTo>
                  <a:lnTo>
                    <a:pt x="600" y="984"/>
                  </a:lnTo>
                  <a:lnTo>
                    <a:pt x="684" y="1112"/>
                  </a:lnTo>
                  <a:lnTo>
                    <a:pt x="812" y="1196"/>
                  </a:lnTo>
                  <a:lnTo>
                    <a:pt x="940" y="1240"/>
                  </a:lnTo>
                  <a:lnTo>
                    <a:pt x="1068" y="1279"/>
                  </a:lnTo>
                  <a:lnTo>
                    <a:pt x="1196" y="1368"/>
                  </a:lnTo>
                  <a:lnTo>
                    <a:pt x="1323" y="1451"/>
                  </a:lnTo>
                  <a:lnTo>
                    <a:pt x="1412" y="1579"/>
                  </a:lnTo>
                  <a:lnTo>
                    <a:pt x="1451" y="1707"/>
                  </a:lnTo>
                  <a:lnTo>
                    <a:pt x="1539" y="1836"/>
                  </a:lnTo>
                  <a:lnTo>
                    <a:pt x="1539" y="1964"/>
                  </a:lnTo>
                  <a:lnTo>
                    <a:pt x="1624" y="2092"/>
                  </a:lnTo>
                  <a:lnTo>
                    <a:pt x="1752" y="2136"/>
                  </a:lnTo>
                  <a:lnTo>
                    <a:pt x="1880" y="2180"/>
                  </a:lnTo>
                  <a:lnTo>
                    <a:pt x="2008" y="2264"/>
                  </a:lnTo>
                  <a:lnTo>
                    <a:pt x="2149" y="243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86600" y="415800"/>
              <a:ext cx="43020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6168960" y="404640"/>
              <a:ext cx="488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981080" y="228600"/>
            <a:ext cx="5029200" cy="6400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87560" y="236520"/>
            <a:ext cx="779760" cy="681480"/>
          </a:xfrm>
          <a:custGeom>
            <a:avLst/>
            <a:gdLst/>
            <a:ahLst/>
            <a:rect l="0" t="0" r="r" b="b"/>
            <a:pathLst>
              <a:path fill="none" w="2166" h="1893">
                <a:moveTo>
                  <a:pt x="2166" y="0"/>
                </a:moveTo>
                <a:lnTo>
                  <a:pt x="2166" y="141"/>
                </a:lnTo>
                <a:lnTo>
                  <a:pt x="2122" y="282"/>
                </a:lnTo>
                <a:lnTo>
                  <a:pt x="2029" y="467"/>
                </a:lnTo>
                <a:lnTo>
                  <a:pt x="1936" y="697"/>
                </a:lnTo>
                <a:lnTo>
                  <a:pt x="1888" y="882"/>
                </a:lnTo>
                <a:lnTo>
                  <a:pt x="1747" y="979"/>
                </a:lnTo>
                <a:lnTo>
                  <a:pt x="1562" y="979"/>
                </a:lnTo>
                <a:lnTo>
                  <a:pt x="1376" y="1116"/>
                </a:lnTo>
                <a:lnTo>
                  <a:pt x="1191" y="1165"/>
                </a:lnTo>
                <a:lnTo>
                  <a:pt x="1005" y="1301"/>
                </a:lnTo>
                <a:lnTo>
                  <a:pt x="912" y="1443"/>
                </a:lnTo>
                <a:lnTo>
                  <a:pt x="771" y="1488"/>
                </a:lnTo>
                <a:lnTo>
                  <a:pt x="586" y="1536"/>
                </a:lnTo>
                <a:lnTo>
                  <a:pt x="401" y="1673"/>
                </a:lnTo>
                <a:lnTo>
                  <a:pt x="264" y="1814"/>
                </a:lnTo>
                <a:lnTo>
                  <a:pt x="123" y="1862"/>
                </a:lnTo>
                <a:lnTo>
                  <a:pt x="0" y="1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237960"/>
            <a:ext cx="1136880" cy="5191560"/>
          </a:xfrm>
          <a:custGeom>
            <a:avLst/>
            <a:gdLst/>
            <a:ahLst/>
            <a:rect l="0" t="0" r="r" b="b"/>
            <a:pathLst>
              <a:path fill="none" w="3158" h="14421">
                <a:moveTo>
                  <a:pt x="3140" y="0"/>
                </a:moveTo>
                <a:lnTo>
                  <a:pt x="3158" y="92"/>
                </a:lnTo>
                <a:lnTo>
                  <a:pt x="3114" y="277"/>
                </a:lnTo>
                <a:lnTo>
                  <a:pt x="3114" y="463"/>
                </a:lnTo>
                <a:lnTo>
                  <a:pt x="3114" y="648"/>
                </a:lnTo>
                <a:lnTo>
                  <a:pt x="2973" y="833"/>
                </a:lnTo>
                <a:lnTo>
                  <a:pt x="2880" y="974"/>
                </a:lnTo>
                <a:lnTo>
                  <a:pt x="2739" y="1111"/>
                </a:lnTo>
                <a:lnTo>
                  <a:pt x="2554" y="1296"/>
                </a:lnTo>
                <a:lnTo>
                  <a:pt x="2510" y="1437"/>
                </a:lnTo>
                <a:lnTo>
                  <a:pt x="2417" y="1622"/>
                </a:lnTo>
                <a:lnTo>
                  <a:pt x="2324" y="1807"/>
                </a:lnTo>
                <a:lnTo>
                  <a:pt x="2232" y="1993"/>
                </a:lnTo>
                <a:lnTo>
                  <a:pt x="2139" y="2134"/>
                </a:lnTo>
                <a:lnTo>
                  <a:pt x="1998" y="2271"/>
                </a:lnTo>
                <a:lnTo>
                  <a:pt x="1954" y="2412"/>
                </a:lnTo>
                <a:lnTo>
                  <a:pt x="1813" y="2504"/>
                </a:lnTo>
                <a:lnTo>
                  <a:pt x="1720" y="2689"/>
                </a:lnTo>
                <a:lnTo>
                  <a:pt x="1578" y="2831"/>
                </a:lnTo>
                <a:lnTo>
                  <a:pt x="1393" y="2967"/>
                </a:lnTo>
                <a:lnTo>
                  <a:pt x="1300" y="3108"/>
                </a:lnTo>
                <a:lnTo>
                  <a:pt x="1208" y="3294"/>
                </a:lnTo>
                <a:lnTo>
                  <a:pt x="1071" y="3479"/>
                </a:lnTo>
                <a:lnTo>
                  <a:pt x="974" y="3621"/>
                </a:lnTo>
                <a:lnTo>
                  <a:pt x="789" y="3758"/>
                </a:lnTo>
                <a:lnTo>
                  <a:pt x="652" y="3899"/>
                </a:lnTo>
                <a:lnTo>
                  <a:pt x="511" y="3943"/>
                </a:lnTo>
                <a:lnTo>
                  <a:pt x="374" y="4084"/>
                </a:lnTo>
                <a:lnTo>
                  <a:pt x="233" y="4177"/>
                </a:lnTo>
                <a:lnTo>
                  <a:pt x="141" y="4362"/>
                </a:lnTo>
                <a:lnTo>
                  <a:pt x="48" y="4503"/>
                </a:lnTo>
                <a:lnTo>
                  <a:pt x="0" y="4688"/>
                </a:lnTo>
                <a:lnTo>
                  <a:pt x="92" y="4873"/>
                </a:lnTo>
                <a:lnTo>
                  <a:pt x="189" y="5058"/>
                </a:lnTo>
                <a:lnTo>
                  <a:pt x="233" y="5288"/>
                </a:lnTo>
                <a:lnTo>
                  <a:pt x="282" y="5429"/>
                </a:lnTo>
                <a:lnTo>
                  <a:pt x="326" y="5614"/>
                </a:lnTo>
                <a:lnTo>
                  <a:pt x="418" y="5755"/>
                </a:lnTo>
                <a:lnTo>
                  <a:pt x="511" y="5984"/>
                </a:lnTo>
                <a:lnTo>
                  <a:pt x="652" y="6126"/>
                </a:lnTo>
                <a:lnTo>
                  <a:pt x="745" y="6267"/>
                </a:lnTo>
                <a:lnTo>
                  <a:pt x="837" y="6452"/>
                </a:lnTo>
                <a:lnTo>
                  <a:pt x="930" y="6637"/>
                </a:lnTo>
                <a:lnTo>
                  <a:pt x="1071" y="6822"/>
                </a:lnTo>
                <a:lnTo>
                  <a:pt x="1164" y="7008"/>
                </a:lnTo>
                <a:lnTo>
                  <a:pt x="1208" y="7149"/>
                </a:lnTo>
                <a:lnTo>
                  <a:pt x="1300" y="7334"/>
                </a:lnTo>
                <a:lnTo>
                  <a:pt x="1300" y="7519"/>
                </a:lnTo>
                <a:lnTo>
                  <a:pt x="1300" y="7704"/>
                </a:lnTo>
                <a:lnTo>
                  <a:pt x="1300" y="7934"/>
                </a:lnTo>
                <a:lnTo>
                  <a:pt x="1349" y="8123"/>
                </a:lnTo>
                <a:lnTo>
                  <a:pt x="1393" y="8308"/>
                </a:lnTo>
                <a:lnTo>
                  <a:pt x="1534" y="8494"/>
                </a:lnTo>
                <a:lnTo>
                  <a:pt x="1672" y="8723"/>
                </a:lnTo>
                <a:lnTo>
                  <a:pt x="1764" y="8864"/>
                </a:lnTo>
                <a:lnTo>
                  <a:pt x="1813" y="9005"/>
                </a:lnTo>
                <a:lnTo>
                  <a:pt x="1954" y="9234"/>
                </a:lnTo>
                <a:lnTo>
                  <a:pt x="2047" y="9376"/>
                </a:lnTo>
                <a:lnTo>
                  <a:pt x="2232" y="9561"/>
                </a:lnTo>
                <a:lnTo>
                  <a:pt x="2324" y="9746"/>
                </a:lnTo>
                <a:lnTo>
                  <a:pt x="2417" y="9887"/>
                </a:lnTo>
                <a:lnTo>
                  <a:pt x="2461" y="10072"/>
                </a:lnTo>
                <a:lnTo>
                  <a:pt x="2554" y="10258"/>
                </a:lnTo>
                <a:lnTo>
                  <a:pt x="2602" y="10443"/>
                </a:lnTo>
                <a:lnTo>
                  <a:pt x="2602" y="10628"/>
                </a:lnTo>
                <a:lnTo>
                  <a:pt x="2602" y="10769"/>
                </a:lnTo>
                <a:lnTo>
                  <a:pt x="2646" y="11092"/>
                </a:lnTo>
                <a:lnTo>
                  <a:pt x="2695" y="11233"/>
                </a:lnTo>
                <a:lnTo>
                  <a:pt x="2695" y="11462"/>
                </a:lnTo>
                <a:lnTo>
                  <a:pt x="2646" y="11696"/>
                </a:lnTo>
                <a:lnTo>
                  <a:pt x="2646" y="11837"/>
                </a:lnTo>
                <a:lnTo>
                  <a:pt x="2602" y="12022"/>
                </a:lnTo>
                <a:lnTo>
                  <a:pt x="2461" y="12159"/>
                </a:lnTo>
                <a:lnTo>
                  <a:pt x="2417" y="12300"/>
                </a:lnTo>
                <a:lnTo>
                  <a:pt x="2276" y="12441"/>
                </a:lnTo>
                <a:lnTo>
                  <a:pt x="2139" y="12627"/>
                </a:lnTo>
                <a:lnTo>
                  <a:pt x="1998" y="12763"/>
                </a:lnTo>
                <a:lnTo>
                  <a:pt x="1906" y="12904"/>
                </a:lnTo>
                <a:lnTo>
                  <a:pt x="1764" y="13134"/>
                </a:lnTo>
                <a:lnTo>
                  <a:pt x="1672" y="13275"/>
                </a:lnTo>
                <a:lnTo>
                  <a:pt x="1628" y="13416"/>
                </a:lnTo>
                <a:lnTo>
                  <a:pt x="1628" y="13601"/>
                </a:lnTo>
                <a:lnTo>
                  <a:pt x="1578" y="13786"/>
                </a:lnTo>
                <a:lnTo>
                  <a:pt x="1393" y="13879"/>
                </a:lnTo>
                <a:lnTo>
                  <a:pt x="1208" y="14016"/>
                </a:lnTo>
                <a:lnTo>
                  <a:pt x="1071" y="14157"/>
                </a:lnTo>
                <a:lnTo>
                  <a:pt x="930" y="14157"/>
                </a:lnTo>
                <a:lnTo>
                  <a:pt x="745" y="14157"/>
                </a:lnTo>
                <a:lnTo>
                  <a:pt x="604" y="14157"/>
                </a:lnTo>
                <a:lnTo>
                  <a:pt x="418" y="14249"/>
                </a:lnTo>
                <a:lnTo>
                  <a:pt x="282" y="14390"/>
                </a:lnTo>
                <a:lnTo>
                  <a:pt x="13" y="1442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98720" y="236520"/>
            <a:ext cx="1554480" cy="5832720"/>
          </a:xfrm>
          <a:custGeom>
            <a:avLst/>
            <a:gdLst/>
            <a:ahLst/>
            <a:rect l="0" t="0" r="r" b="b"/>
            <a:pathLst>
              <a:path fill="none" w="4318" h="16202">
                <a:moveTo>
                  <a:pt x="4318" y="0"/>
                </a:moveTo>
                <a:lnTo>
                  <a:pt x="4318" y="189"/>
                </a:lnTo>
                <a:lnTo>
                  <a:pt x="4318" y="374"/>
                </a:lnTo>
                <a:lnTo>
                  <a:pt x="4318" y="604"/>
                </a:lnTo>
                <a:lnTo>
                  <a:pt x="4269" y="745"/>
                </a:lnTo>
                <a:lnTo>
                  <a:pt x="4177" y="930"/>
                </a:lnTo>
                <a:lnTo>
                  <a:pt x="4084" y="1071"/>
                </a:lnTo>
                <a:lnTo>
                  <a:pt x="3947" y="1256"/>
                </a:lnTo>
                <a:lnTo>
                  <a:pt x="3855" y="1441"/>
                </a:lnTo>
                <a:lnTo>
                  <a:pt x="3762" y="1627"/>
                </a:lnTo>
                <a:lnTo>
                  <a:pt x="3621" y="1812"/>
                </a:lnTo>
                <a:lnTo>
                  <a:pt x="3572" y="1953"/>
                </a:lnTo>
                <a:lnTo>
                  <a:pt x="3436" y="2138"/>
                </a:lnTo>
                <a:lnTo>
                  <a:pt x="3295" y="2275"/>
                </a:lnTo>
                <a:lnTo>
                  <a:pt x="3202" y="2416"/>
                </a:lnTo>
                <a:lnTo>
                  <a:pt x="3017" y="2601"/>
                </a:lnTo>
                <a:lnTo>
                  <a:pt x="2924" y="2742"/>
                </a:lnTo>
                <a:lnTo>
                  <a:pt x="2832" y="2928"/>
                </a:lnTo>
                <a:lnTo>
                  <a:pt x="2739" y="3113"/>
                </a:lnTo>
                <a:lnTo>
                  <a:pt x="2690" y="3298"/>
                </a:lnTo>
                <a:lnTo>
                  <a:pt x="2554" y="3483"/>
                </a:lnTo>
                <a:lnTo>
                  <a:pt x="2505" y="3624"/>
                </a:lnTo>
                <a:lnTo>
                  <a:pt x="2369" y="3810"/>
                </a:lnTo>
                <a:lnTo>
                  <a:pt x="2276" y="3995"/>
                </a:lnTo>
                <a:lnTo>
                  <a:pt x="2183" y="4224"/>
                </a:lnTo>
                <a:lnTo>
                  <a:pt x="2183" y="4365"/>
                </a:lnTo>
                <a:lnTo>
                  <a:pt x="2183" y="4506"/>
                </a:lnTo>
                <a:lnTo>
                  <a:pt x="2183" y="4691"/>
                </a:lnTo>
                <a:lnTo>
                  <a:pt x="2090" y="4877"/>
                </a:lnTo>
                <a:lnTo>
                  <a:pt x="2041" y="5106"/>
                </a:lnTo>
                <a:lnTo>
                  <a:pt x="2134" y="5291"/>
                </a:lnTo>
                <a:lnTo>
                  <a:pt x="2227" y="5481"/>
                </a:lnTo>
                <a:lnTo>
                  <a:pt x="2320" y="5666"/>
                </a:lnTo>
                <a:lnTo>
                  <a:pt x="2369" y="5851"/>
                </a:lnTo>
                <a:lnTo>
                  <a:pt x="2505" y="6036"/>
                </a:lnTo>
                <a:lnTo>
                  <a:pt x="2598" y="6270"/>
                </a:lnTo>
                <a:lnTo>
                  <a:pt x="2739" y="6455"/>
                </a:lnTo>
                <a:lnTo>
                  <a:pt x="2880" y="6592"/>
                </a:lnTo>
                <a:lnTo>
                  <a:pt x="2973" y="6777"/>
                </a:lnTo>
                <a:lnTo>
                  <a:pt x="3065" y="6918"/>
                </a:lnTo>
                <a:lnTo>
                  <a:pt x="3158" y="7152"/>
                </a:lnTo>
                <a:lnTo>
                  <a:pt x="3295" y="7430"/>
                </a:lnTo>
                <a:lnTo>
                  <a:pt x="3436" y="7615"/>
                </a:lnTo>
                <a:lnTo>
                  <a:pt x="3480" y="7800"/>
                </a:lnTo>
                <a:lnTo>
                  <a:pt x="3528" y="7986"/>
                </a:lnTo>
                <a:lnTo>
                  <a:pt x="3528" y="8128"/>
                </a:lnTo>
                <a:lnTo>
                  <a:pt x="3572" y="8313"/>
                </a:lnTo>
                <a:lnTo>
                  <a:pt x="3669" y="8498"/>
                </a:lnTo>
                <a:lnTo>
                  <a:pt x="3855" y="8727"/>
                </a:lnTo>
                <a:lnTo>
                  <a:pt x="3855" y="8868"/>
                </a:lnTo>
                <a:lnTo>
                  <a:pt x="3899" y="9010"/>
                </a:lnTo>
                <a:lnTo>
                  <a:pt x="3947" y="9195"/>
                </a:lnTo>
                <a:lnTo>
                  <a:pt x="3947" y="9380"/>
                </a:lnTo>
                <a:lnTo>
                  <a:pt x="3899" y="9565"/>
                </a:lnTo>
                <a:lnTo>
                  <a:pt x="3855" y="9750"/>
                </a:lnTo>
                <a:lnTo>
                  <a:pt x="3855" y="9892"/>
                </a:lnTo>
                <a:lnTo>
                  <a:pt x="3806" y="10077"/>
                </a:lnTo>
                <a:lnTo>
                  <a:pt x="3762" y="10306"/>
                </a:lnTo>
                <a:lnTo>
                  <a:pt x="3806" y="10491"/>
                </a:lnTo>
                <a:lnTo>
                  <a:pt x="3806" y="10632"/>
                </a:lnTo>
                <a:lnTo>
                  <a:pt x="3806" y="10773"/>
                </a:lnTo>
                <a:lnTo>
                  <a:pt x="3806" y="10959"/>
                </a:lnTo>
                <a:lnTo>
                  <a:pt x="3762" y="11144"/>
                </a:lnTo>
                <a:lnTo>
                  <a:pt x="3713" y="11329"/>
                </a:lnTo>
                <a:lnTo>
                  <a:pt x="3669" y="11514"/>
                </a:lnTo>
                <a:lnTo>
                  <a:pt x="3621" y="11699"/>
                </a:lnTo>
                <a:lnTo>
                  <a:pt x="3572" y="11885"/>
                </a:lnTo>
                <a:lnTo>
                  <a:pt x="3528" y="12026"/>
                </a:lnTo>
                <a:lnTo>
                  <a:pt x="3480" y="12211"/>
                </a:lnTo>
                <a:lnTo>
                  <a:pt x="3436" y="12396"/>
                </a:lnTo>
                <a:lnTo>
                  <a:pt x="3387" y="12581"/>
                </a:lnTo>
                <a:lnTo>
                  <a:pt x="3387" y="12723"/>
                </a:lnTo>
                <a:lnTo>
                  <a:pt x="3250" y="13044"/>
                </a:lnTo>
                <a:lnTo>
                  <a:pt x="3202" y="13186"/>
                </a:lnTo>
                <a:lnTo>
                  <a:pt x="3109" y="13419"/>
                </a:lnTo>
                <a:lnTo>
                  <a:pt x="3017" y="13604"/>
                </a:lnTo>
                <a:lnTo>
                  <a:pt x="2924" y="13834"/>
                </a:lnTo>
                <a:lnTo>
                  <a:pt x="2787" y="14068"/>
                </a:lnTo>
                <a:lnTo>
                  <a:pt x="2646" y="14531"/>
                </a:lnTo>
                <a:lnTo>
                  <a:pt x="2598" y="14672"/>
                </a:lnTo>
                <a:lnTo>
                  <a:pt x="2369" y="14808"/>
                </a:lnTo>
                <a:lnTo>
                  <a:pt x="2227" y="14901"/>
                </a:lnTo>
                <a:lnTo>
                  <a:pt x="2041" y="15042"/>
                </a:lnTo>
                <a:lnTo>
                  <a:pt x="1578" y="15183"/>
                </a:lnTo>
                <a:lnTo>
                  <a:pt x="1393" y="15276"/>
                </a:lnTo>
                <a:lnTo>
                  <a:pt x="1208" y="15320"/>
                </a:lnTo>
                <a:lnTo>
                  <a:pt x="926" y="15412"/>
                </a:lnTo>
                <a:lnTo>
                  <a:pt x="740" y="15505"/>
                </a:lnTo>
                <a:lnTo>
                  <a:pt x="555" y="15646"/>
                </a:lnTo>
                <a:lnTo>
                  <a:pt x="418" y="15831"/>
                </a:lnTo>
                <a:lnTo>
                  <a:pt x="277" y="15924"/>
                </a:lnTo>
                <a:lnTo>
                  <a:pt x="92" y="16017"/>
                </a:lnTo>
                <a:lnTo>
                  <a:pt x="0" y="16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87560" y="790560"/>
            <a:ext cx="2018160" cy="5664600"/>
          </a:xfrm>
          <a:custGeom>
            <a:avLst/>
            <a:gdLst/>
            <a:ahLst/>
            <a:rect l="0" t="0" r="r" b="b"/>
            <a:pathLst>
              <a:path fill="none" w="5606" h="15735">
                <a:moveTo>
                  <a:pt x="5606" y="0"/>
                </a:moveTo>
                <a:lnTo>
                  <a:pt x="5452" y="282"/>
                </a:lnTo>
                <a:lnTo>
                  <a:pt x="5373" y="370"/>
                </a:lnTo>
                <a:lnTo>
                  <a:pt x="5320" y="436"/>
                </a:lnTo>
                <a:lnTo>
                  <a:pt x="5289" y="542"/>
                </a:lnTo>
                <a:lnTo>
                  <a:pt x="5267" y="626"/>
                </a:lnTo>
                <a:lnTo>
                  <a:pt x="5223" y="705"/>
                </a:lnTo>
                <a:lnTo>
                  <a:pt x="5196" y="798"/>
                </a:lnTo>
                <a:lnTo>
                  <a:pt x="5156" y="864"/>
                </a:lnTo>
                <a:lnTo>
                  <a:pt x="5104" y="926"/>
                </a:lnTo>
                <a:lnTo>
                  <a:pt x="4984" y="1031"/>
                </a:lnTo>
                <a:lnTo>
                  <a:pt x="4857" y="1164"/>
                </a:lnTo>
                <a:lnTo>
                  <a:pt x="4790" y="1274"/>
                </a:lnTo>
                <a:lnTo>
                  <a:pt x="4773" y="1349"/>
                </a:lnTo>
                <a:lnTo>
                  <a:pt x="4720" y="1508"/>
                </a:lnTo>
                <a:lnTo>
                  <a:pt x="4588" y="1640"/>
                </a:lnTo>
                <a:lnTo>
                  <a:pt x="4455" y="1852"/>
                </a:lnTo>
                <a:lnTo>
                  <a:pt x="4402" y="1904"/>
                </a:lnTo>
                <a:lnTo>
                  <a:pt x="4349" y="2063"/>
                </a:lnTo>
                <a:lnTo>
                  <a:pt x="4297" y="2169"/>
                </a:lnTo>
                <a:lnTo>
                  <a:pt x="4190" y="2301"/>
                </a:lnTo>
                <a:lnTo>
                  <a:pt x="4190" y="2487"/>
                </a:lnTo>
                <a:lnTo>
                  <a:pt x="4110" y="2778"/>
                </a:lnTo>
                <a:lnTo>
                  <a:pt x="4110" y="2751"/>
                </a:lnTo>
                <a:lnTo>
                  <a:pt x="4057" y="2963"/>
                </a:lnTo>
                <a:lnTo>
                  <a:pt x="3978" y="2826"/>
                </a:lnTo>
                <a:lnTo>
                  <a:pt x="4110" y="3333"/>
                </a:lnTo>
                <a:lnTo>
                  <a:pt x="4217" y="3492"/>
                </a:lnTo>
                <a:lnTo>
                  <a:pt x="4137" y="3598"/>
                </a:lnTo>
                <a:lnTo>
                  <a:pt x="4217" y="3810"/>
                </a:lnTo>
                <a:lnTo>
                  <a:pt x="4244" y="3969"/>
                </a:lnTo>
                <a:lnTo>
                  <a:pt x="4323" y="4102"/>
                </a:lnTo>
                <a:lnTo>
                  <a:pt x="4429" y="4260"/>
                </a:lnTo>
                <a:lnTo>
                  <a:pt x="4508" y="4393"/>
                </a:lnTo>
                <a:lnTo>
                  <a:pt x="4588" y="4551"/>
                </a:lnTo>
                <a:lnTo>
                  <a:pt x="4614" y="4684"/>
                </a:lnTo>
                <a:lnTo>
                  <a:pt x="4641" y="4763"/>
                </a:lnTo>
                <a:lnTo>
                  <a:pt x="4614" y="4895"/>
                </a:lnTo>
                <a:lnTo>
                  <a:pt x="4588" y="5107"/>
                </a:lnTo>
                <a:lnTo>
                  <a:pt x="4561" y="5345"/>
                </a:lnTo>
                <a:lnTo>
                  <a:pt x="4482" y="5504"/>
                </a:lnTo>
                <a:lnTo>
                  <a:pt x="4349" y="5658"/>
                </a:lnTo>
                <a:lnTo>
                  <a:pt x="4349" y="5799"/>
                </a:lnTo>
                <a:lnTo>
                  <a:pt x="4394" y="5984"/>
                </a:lnTo>
                <a:lnTo>
                  <a:pt x="4442" y="6170"/>
                </a:lnTo>
                <a:lnTo>
                  <a:pt x="4442" y="6355"/>
                </a:lnTo>
                <a:lnTo>
                  <a:pt x="4442" y="6496"/>
                </a:lnTo>
                <a:lnTo>
                  <a:pt x="4442" y="6681"/>
                </a:lnTo>
                <a:lnTo>
                  <a:pt x="4486" y="6911"/>
                </a:lnTo>
                <a:lnTo>
                  <a:pt x="4535" y="7052"/>
                </a:lnTo>
                <a:lnTo>
                  <a:pt x="4627" y="7237"/>
                </a:lnTo>
                <a:lnTo>
                  <a:pt x="4676" y="7422"/>
                </a:lnTo>
                <a:lnTo>
                  <a:pt x="4720" y="7563"/>
                </a:lnTo>
                <a:lnTo>
                  <a:pt x="4768" y="7792"/>
                </a:lnTo>
                <a:lnTo>
                  <a:pt x="4813" y="7934"/>
                </a:lnTo>
                <a:lnTo>
                  <a:pt x="4813" y="8211"/>
                </a:lnTo>
                <a:lnTo>
                  <a:pt x="4813" y="8445"/>
                </a:lnTo>
                <a:lnTo>
                  <a:pt x="4813" y="8630"/>
                </a:lnTo>
                <a:lnTo>
                  <a:pt x="4813" y="8908"/>
                </a:lnTo>
                <a:lnTo>
                  <a:pt x="4861" y="9371"/>
                </a:lnTo>
                <a:lnTo>
                  <a:pt x="4861" y="9605"/>
                </a:lnTo>
                <a:lnTo>
                  <a:pt x="4861" y="10068"/>
                </a:lnTo>
                <a:lnTo>
                  <a:pt x="4813" y="10209"/>
                </a:lnTo>
                <a:lnTo>
                  <a:pt x="4720" y="10394"/>
                </a:lnTo>
                <a:lnTo>
                  <a:pt x="4535" y="11091"/>
                </a:lnTo>
                <a:lnTo>
                  <a:pt x="4394" y="11320"/>
                </a:lnTo>
                <a:lnTo>
                  <a:pt x="4349" y="11461"/>
                </a:lnTo>
                <a:lnTo>
                  <a:pt x="4257" y="12948"/>
                </a:lnTo>
                <a:lnTo>
                  <a:pt x="4163" y="13134"/>
                </a:lnTo>
                <a:lnTo>
                  <a:pt x="4022" y="13270"/>
                </a:lnTo>
                <a:lnTo>
                  <a:pt x="3885" y="13411"/>
                </a:lnTo>
                <a:lnTo>
                  <a:pt x="3793" y="13553"/>
                </a:lnTo>
                <a:lnTo>
                  <a:pt x="3652" y="13689"/>
                </a:lnTo>
                <a:lnTo>
                  <a:pt x="3511" y="13782"/>
                </a:lnTo>
                <a:lnTo>
                  <a:pt x="3281" y="14016"/>
                </a:lnTo>
                <a:lnTo>
                  <a:pt x="3140" y="14201"/>
                </a:lnTo>
                <a:lnTo>
                  <a:pt x="1703" y="14849"/>
                </a:lnTo>
                <a:lnTo>
                  <a:pt x="1562" y="14898"/>
                </a:lnTo>
                <a:lnTo>
                  <a:pt x="1375" y="14898"/>
                </a:lnTo>
                <a:lnTo>
                  <a:pt x="1146" y="15083"/>
                </a:lnTo>
                <a:lnTo>
                  <a:pt x="1005" y="15219"/>
                </a:lnTo>
                <a:lnTo>
                  <a:pt x="864" y="15268"/>
                </a:lnTo>
                <a:lnTo>
                  <a:pt x="679" y="15316"/>
                </a:lnTo>
                <a:lnTo>
                  <a:pt x="493" y="15409"/>
                </a:lnTo>
                <a:lnTo>
                  <a:pt x="308" y="15453"/>
                </a:lnTo>
                <a:lnTo>
                  <a:pt x="264" y="15594"/>
                </a:lnTo>
                <a:lnTo>
                  <a:pt x="123" y="15687"/>
                </a:lnTo>
                <a:lnTo>
                  <a:pt x="0" y="1573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90800" y="3540240"/>
            <a:ext cx="359280" cy="1184760"/>
          </a:xfrm>
          <a:custGeom>
            <a:avLst/>
            <a:gdLst/>
            <a:ahLst/>
            <a:rect l="0" t="0" r="r" b="b"/>
            <a:pathLst>
              <a:path fill="none" w="998" h="3291">
                <a:moveTo>
                  <a:pt x="0" y="0"/>
                </a:moveTo>
                <a:lnTo>
                  <a:pt x="52" y="158"/>
                </a:lnTo>
                <a:lnTo>
                  <a:pt x="97" y="326"/>
                </a:lnTo>
                <a:lnTo>
                  <a:pt x="163" y="480"/>
                </a:lnTo>
                <a:lnTo>
                  <a:pt x="256" y="621"/>
                </a:lnTo>
                <a:lnTo>
                  <a:pt x="441" y="714"/>
                </a:lnTo>
                <a:lnTo>
                  <a:pt x="627" y="806"/>
                </a:lnTo>
                <a:lnTo>
                  <a:pt x="813" y="944"/>
                </a:lnTo>
                <a:lnTo>
                  <a:pt x="905" y="1085"/>
                </a:lnTo>
                <a:lnTo>
                  <a:pt x="998" y="1271"/>
                </a:lnTo>
                <a:lnTo>
                  <a:pt x="998" y="1456"/>
                </a:lnTo>
                <a:lnTo>
                  <a:pt x="998" y="1597"/>
                </a:lnTo>
                <a:lnTo>
                  <a:pt x="950" y="1826"/>
                </a:lnTo>
                <a:lnTo>
                  <a:pt x="813" y="1967"/>
                </a:lnTo>
                <a:lnTo>
                  <a:pt x="671" y="2104"/>
                </a:lnTo>
                <a:lnTo>
                  <a:pt x="627" y="2245"/>
                </a:lnTo>
                <a:lnTo>
                  <a:pt x="627" y="2386"/>
                </a:lnTo>
                <a:lnTo>
                  <a:pt x="534" y="2572"/>
                </a:lnTo>
                <a:lnTo>
                  <a:pt x="393" y="2665"/>
                </a:lnTo>
                <a:lnTo>
                  <a:pt x="256" y="2850"/>
                </a:lnTo>
                <a:lnTo>
                  <a:pt x="114" y="2987"/>
                </a:lnTo>
                <a:lnTo>
                  <a:pt x="0" y="329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49680" y="1357200"/>
            <a:ext cx="1756080" cy="5262840"/>
          </a:xfrm>
          <a:custGeom>
            <a:avLst/>
            <a:gdLst/>
            <a:ahLst/>
            <a:rect l="0" t="0" r="r" b="b"/>
            <a:pathLst>
              <a:path fill="none" w="4878" h="14619">
                <a:moveTo>
                  <a:pt x="3211" y="0"/>
                </a:moveTo>
                <a:lnTo>
                  <a:pt x="3250" y="489"/>
                </a:lnTo>
                <a:lnTo>
                  <a:pt x="3211" y="661"/>
                </a:lnTo>
                <a:lnTo>
                  <a:pt x="3224" y="767"/>
                </a:lnTo>
                <a:lnTo>
                  <a:pt x="3237" y="886"/>
                </a:lnTo>
                <a:lnTo>
                  <a:pt x="3277" y="965"/>
                </a:lnTo>
                <a:lnTo>
                  <a:pt x="3303" y="1018"/>
                </a:lnTo>
                <a:lnTo>
                  <a:pt x="3303" y="1111"/>
                </a:lnTo>
                <a:lnTo>
                  <a:pt x="3303" y="1124"/>
                </a:lnTo>
                <a:lnTo>
                  <a:pt x="3290" y="1137"/>
                </a:lnTo>
                <a:lnTo>
                  <a:pt x="3277" y="1190"/>
                </a:lnTo>
                <a:lnTo>
                  <a:pt x="3237" y="1270"/>
                </a:lnTo>
                <a:lnTo>
                  <a:pt x="3184" y="1283"/>
                </a:lnTo>
                <a:lnTo>
                  <a:pt x="3211" y="1389"/>
                </a:lnTo>
                <a:lnTo>
                  <a:pt x="3211" y="1455"/>
                </a:lnTo>
                <a:lnTo>
                  <a:pt x="3184" y="1508"/>
                </a:lnTo>
                <a:lnTo>
                  <a:pt x="3145" y="1653"/>
                </a:lnTo>
                <a:lnTo>
                  <a:pt x="3105" y="1746"/>
                </a:lnTo>
                <a:lnTo>
                  <a:pt x="3078" y="1905"/>
                </a:lnTo>
                <a:lnTo>
                  <a:pt x="3078" y="2037"/>
                </a:lnTo>
                <a:lnTo>
                  <a:pt x="3065" y="2222"/>
                </a:lnTo>
                <a:lnTo>
                  <a:pt x="3043" y="2332"/>
                </a:lnTo>
                <a:lnTo>
                  <a:pt x="3176" y="2456"/>
                </a:lnTo>
                <a:lnTo>
                  <a:pt x="3237" y="2597"/>
                </a:lnTo>
                <a:lnTo>
                  <a:pt x="3308" y="2729"/>
                </a:lnTo>
                <a:lnTo>
                  <a:pt x="3334" y="2861"/>
                </a:lnTo>
                <a:lnTo>
                  <a:pt x="3533" y="3016"/>
                </a:lnTo>
                <a:lnTo>
                  <a:pt x="3533" y="3157"/>
                </a:lnTo>
                <a:lnTo>
                  <a:pt x="3625" y="3386"/>
                </a:lnTo>
                <a:lnTo>
                  <a:pt x="3669" y="3527"/>
                </a:lnTo>
                <a:lnTo>
                  <a:pt x="3811" y="3757"/>
                </a:lnTo>
                <a:lnTo>
                  <a:pt x="3903" y="3898"/>
                </a:lnTo>
                <a:lnTo>
                  <a:pt x="3996" y="4083"/>
                </a:lnTo>
                <a:lnTo>
                  <a:pt x="4040" y="4224"/>
                </a:lnTo>
                <a:lnTo>
                  <a:pt x="4132" y="4409"/>
                </a:lnTo>
                <a:lnTo>
                  <a:pt x="4181" y="4594"/>
                </a:lnTo>
                <a:lnTo>
                  <a:pt x="4274" y="4780"/>
                </a:lnTo>
                <a:lnTo>
                  <a:pt x="4322" y="4965"/>
                </a:lnTo>
                <a:lnTo>
                  <a:pt x="4366" y="5106"/>
                </a:lnTo>
                <a:lnTo>
                  <a:pt x="4415" y="5291"/>
                </a:lnTo>
                <a:lnTo>
                  <a:pt x="4507" y="5569"/>
                </a:lnTo>
                <a:lnTo>
                  <a:pt x="4551" y="5803"/>
                </a:lnTo>
                <a:lnTo>
                  <a:pt x="4551" y="5988"/>
                </a:lnTo>
                <a:lnTo>
                  <a:pt x="4644" y="6173"/>
                </a:lnTo>
                <a:lnTo>
                  <a:pt x="4644" y="6402"/>
                </a:lnTo>
                <a:lnTo>
                  <a:pt x="4644" y="6544"/>
                </a:lnTo>
                <a:lnTo>
                  <a:pt x="4644" y="6729"/>
                </a:lnTo>
                <a:lnTo>
                  <a:pt x="4644" y="6914"/>
                </a:lnTo>
                <a:lnTo>
                  <a:pt x="4644" y="7055"/>
                </a:lnTo>
                <a:lnTo>
                  <a:pt x="4644" y="7378"/>
                </a:lnTo>
                <a:lnTo>
                  <a:pt x="4644" y="7519"/>
                </a:lnTo>
                <a:lnTo>
                  <a:pt x="4551" y="7660"/>
                </a:lnTo>
                <a:lnTo>
                  <a:pt x="4459" y="7889"/>
                </a:lnTo>
                <a:lnTo>
                  <a:pt x="4600" y="8308"/>
                </a:lnTo>
                <a:lnTo>
                  <a:pt x="4878" y="8586"/>
                </a:lnTo>
                <a:lnTo>
                  <a:pt x="4878" y="8820"/>
                </a:lnTo>
                <a:lnTo>
                  <a:pt x="4878" y="8913"/>
                </a:lnTo>
                <a:lnTo>
                  <a:pt x="4878" y="8913"/>
                </a:lnTo>
                <a:lnTo>
                  <a:pt x="4644" y="9098"/>
                </a:lnTo>
                <a:lnTo>
                  <a:pt x="4644" y="9283"/>
                </a:lnTo>
                <a:lnTo>
                  <a:pt x="4551" y="9468"/>
                </a:lnTo>
                <a:lnTo>
                  <a:pt x="4459" y="9653"/>
                </a:lnTo>
                <a:lnTo>
                  <a:pt x="4322" y="9746"/>
                </a:lnTo>
                <a:lnTo>
                  <a:pt x="4088" y="9931"/>
                </a:lnTo>
                <a:lnTo>
                  <a:pt x="3996" y="10165"/>
                </a:lnTo>
                <a:lnTo>
                  <a:pt x="3947" y="10306"/>
                </a:lnTo>
                <a:lnTo>
                  <a:pt x="3855" y="10862"/>
                </a:lnTo>
                <a:lnTo>
                  <a:pt x="3762" y="11139"/>
                </a:lnTo>
                <a:lnTo>
                  <a:pt x="3718" y="11281"/>
                </a:lnTo>
                <a:lnTo>
                  <a:pt x="3577" y="11744"/>
                </a:lnTo>
                <a:lnTo>
                  <a:pt x="3440" y="11977"/>
                </a:lnTo>
                <a:lnTo>
                  <a:pt x="3250" y="12163"/>
                </a:lnTo>
                <a:lnTo>
                  <a:pt x="2973" y="12440"/>
                </a:lnTo>
                <a:lnTo>
                  <a:pt x="2836" y="12670"/>
                </a:lnTo>
                <a:lnTo>
                  <a:pt x="2695" y="12762"/>
                </a:lnTo>
                <a:lnTo>
                  <a:pt x="2416" y="12952"/>
                </a:lnTo>
                <a:lnTo>
                  <a:pt x="2275" y="13044"/>
                </a:lnTo>
                <a:lnTo>
                  <a:pt x="2046" y="13137"/>
                </a:lnTo>
                <a:lnTo>
                  <a:pt x="1860" y="13322"/>
                </a:lnTo>
                <a:lnTo>
                  <a:pt x="1719" y="13366"/>
                </a:lnTo>
                <a:lnTo>
                  <a:pt x="1583" y="13507"/>
                </a:lnTo>
                <a:lnTo>
                  <a:pt x="1441" y="13552"/>
                </a:lnTo>
                <a:lnTo>
                  <a:pt x="1300" y="13644"/>
                </a:lnTo>
                <a:lnTo>
                  <a:pt x="1164" y="13785"/>
                </a:lnTo>
                <a:lnTo>
                  <a:pt x="978" y="14019"/>
                </a:lnTo>
                <a:lnTo>
                  <a:pt x="837" y="14112"/>
                </a:lnTo>
                <a:lnTo>
                  <a:pt x="652" y="14204"/>
                </a:lnTo>
                <a:lnTo>
                  <a:pt x="511" y="14297"/>
                </a:lnTo>
                <a:lnTo>
                  <a:pt x="282" y="14434"/>
                </a:lnTo>
                <a:lnTo>
                  <a:pt x="0" y="1461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57720" y="2690640"/>
            <a:ext cx="1452960" cy="3924720"/>
          </a:xfrm>
          <a:custGeom>
            <a:avLst/>
            <a:gdLst/>
            <a:ahLst/>
            <a:rect l="0" t="0" r="r" b="b"/>
            <a:pathLst>
              <a:path fill="none" w="4036" h="10902">
                <a:moveTo>
                  <a:pt x="2302" y="0"/>
                </a:moveTo>
                <a:lnTo>
                  <a:pt x="2369" y="92"/>
                </a:lnTo>
                <a:lnTo>
                  <a:pt x="2461" y="251"/>
                </a:lnTo>
                <a:lnTo>
                  <a:pt x="2501" y="463"/>
                </a:lnTo>
                <a:lnTo>
                  <a:pt x="2607" y="555"/>
                </a:lnTo>
                <a:lnTo>
                  <a:pt x="2726" y="784"/>
                </a:lnTo>
                <a:lnTo>
                  <a:pt x="2862" y="970"/>
                </a:lnTo>
                <a:lnTo>
                  <a:pt x="2955" y="1155"/>
                </a:lnTo>
                <a:lnTo>
                  <a:pt x="3049" y="1296"/>
                </a:lnTo>
                <a:lnTo>
                  <a:pt x="3141" y="1481"/>
                </a:lnTo>
                <a:lnTo>
                  <a:pt x="3282" y="1618"/>
                </a:lnTo>
                <a:lnTo>
                  <a:pt x="3326" y="1759"/>
                </a:lnTo>
                <a:lnTo>
                  <a:pt x="3468" y="1944"/>
                </a:lnTo>
                <a:lnTo>
                  <a:pt x="3516" y="2085"/>
                </a:lnTo>
                <a:lnTo>
                  <a:pt x="3609" y="2271"/>
                </a:lnTo>
                <a:lnTo>
                  <a:pt x="3701" y="2500"/>
                </a:lnTo>
                <a:lnTo>
                  <a:pt x="3745" y="2641"/>
                </a:lnTo>
                <a:lnTo>
                  <a:pt x="3838" y="2827"/>
                </a:lnTo>
                <a:lnTo>
                  <a:pt x="3838" y="2968"/>
                </a:lnTo>
                <a:lnTo>
                  <a:pt x="3886" y="3153"/>
                </a:lnTo>
                <a:lnTo>
                  <a:pt x="3886" y="3339"/>
                </a:lnTo>
                <a:lnTo>
                  <a:pt x="3886" y="3661"/>
                </a:lnTo>
                <a:lnTo>
                  <a:pt x="3886" y="3802"/>
                </a:lnTo>
                <a:lnTo>
                  <a:pt x="3886" y="3943"/>
                </a:lnTo>
                <a:lnTo>
                  <a:pt x="3886" y="4128"/>
                </a:lnTo>
                <a:lnTo>
                  <a:pt x="3931" y="4313"/>
                </a:lnTo>
                <a:lnTo>
                  <a:pt x="3891" y="4578"/>
                </a:lnTo>
                <a:lnTo>
                  <a:pt x="3904" y="4684"/>
                </a:lnTo>
                <a:lnTo>
                  <a:pt x="3917" y="4750"/>
                </a:lnTo>
                <a:lnTo>
                  <a:pt x="3944" y="4829"/>
                </a:lnTo>
                <a:lnTo>
                  <a:pt x="3970" y="4922"/>
                </a:lnTo>
                <a:lnTo>
                  <a:pt x="4010" y="5067"/>
                </a:lnTo>
                <a:lnTo>
                  <a:pt x="4023" y="5160"/>
                </a:lnTo>
                <a:lnTo>
                  <a:pt x="4036" y="5345"/>
                </a:lnTo>
                <a:lnTo>
                  <a:pt x="3983" y="5477"/>
                </a:lnTo>
                <a:lnTo>
                  <a:pt x="3891" y="5636"/>
                </a:lnTo>
                <a:lnTo>
                  <a:pt x="3772" y="5874"/>
                </a:lnTo>
                <a:lnTo>
                  <a:pt x="3679" y="6020"/>
                </a:lnTo>
                <a:lnTo>
                  <a:pt x="3600" y="6126"/>
                </a:lnTo>
                <a:lnTo>
                  <a:pt x="3454" y="6192"/>
                </a:lnTo>
                <a:lnTo>
                  <a:pt x="3335" y="6311"/>
                </a:lnTo>
                <a:lnTo>
                  <a:pt x="3243" y="6377"/>
                </a:lnTo>
                <a:lnTo>
                  <a:pt x="3150" y="6470"/>
                </a:lnTo>
                <a:lnTo>
                  <a:pt x="3044" y="6602"/>
                </a:lnTo>
                <a:lnTo>
                  <a:pt x="3004" y="6747"/>
                </a:lnTo>
                <a:lnTo>
                  <a:pt x="2977" y="6906"/>
                </a:lnTo>
                <a:lnTo>
                  <a:pt x="2911" y="7065"/>
                </a:lnTo>
                <a:lnTo>
                  <a:pt x="2832" y="7237"/>
                </a:lnTo>
                <a:lnTo>
                  <a:pt x="2752" y="7501"/>
                </a:lnTo>
                <a:lnTo>
                  <a:pt x="2699" y="7687"/>
                </a:lnTo>
                <a:lnTo>
                  <a:pt x="2567" y="7938"/>
                </a:lnTo>
                <a:lnTo>
                  <a:pt x="2435" y="8204"/>
                </a:lnTo>
                <a:lnTo>
                  <a:pt x="2316" y="8428"/>
                </a:lnTo>
                <a:lnTo>
                  <a:pt x="2249" y="8653"/>
                </a:lnTo>
                <a:lnTo>
                  <a:pt x="2197" y="8812"/>
                </a:lnTo>
                <a:lnTo>
                  <a:pt x="2025" y="8997"/>
                </a:lnTo>
                <a:lnTo>
                  <a:pt x="1866" y="9209"/>
                </a:lnTo>
                <a:lnTo>
                  <a:pt x="1522" y="9407"/>
                </a:lnTo>
                <a:lnTo>
                  <a:pt x="1390" y="9593"/>
                </a:lnTo>
                <a:lnTo>
                  <a:pt x="1178" y="9751"/>
                </a:lnTo>
                <a:lnTo>
                  <a:pt x="978" y="9910"/>
                </a:lnTo>
                <a:lnTo>
                  <a:pt x="740" y="10122"/>
                </a:lnTo>
                <a:lnTo>
                  <a:pt x="502" y="10228"/>
                </a:lnTo>
                <a:lnTo>
                  <a:pt x="370" y="10360"/>
                </a:lnTo>
                <a:lnTo>
                  <a:pt x="145" y="10625"/>
                </a:lnTo>
                <a:lnTo>
                  <a:pt x="0" y="109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03840" y="235080"/>
            <a:ext cx="3097440" cy="4447080"/>
          </a:xfrm>
          <a:custGeom>
            <a:avLst/>
            <a:gdLst/>
            <a:ahLst/>
            <a:rect l="0" t="0" r="r" b="b"/>
            <a:pathLst>
              <a:path fill="none" w="8604" h="12353">
                <a:moveTo>
                  <a:pt x="304" y="0"/>
                </a:moveTo>
                <a:lnTo>
                  <a:pt x="277" y="101"/>
                </a:lnTo>
                <a:lnTo>
                  <a:pt x="277" y="286"/>
                </a:lnTo>
                <a:lnTo>
                  <a:pt x="277" y="471"/>
                </a:lnTo>
                <a:lnTo>
                  <a:pt x="277" y="657"/>
                </a:lnTo>
                <a:lnTo>
                  <a:pt x="326" y="842"/>
                </a:lnTo>
                <a:lnTo>
                  <a:pt x="370" y="983"/>
                </a:lnTo>
                <a:lnTo>
                  <a:pt x="370" y="1168"/>
                </a:lnTo>
                <a:lnTo>
                  <a:pt x="370" y="1353"/>
                </a:lnTo>
                <a:lnTo>
                  <a:pt x="277" y="1538"/>
                </a:lnTo>
                <a:lnTo>
                  <a:pt x="233" y="1724"/>
                </a:lnTo>
                <a:lnTo>
                  <a:pt x="141" y="1865"/>
                </a:lnTo>
                <a:lnTo>
                  <a:pt x="92" y="2050"/>
                </a:lnTo>
                <a:lnTo>
                  <a:pt x="92" y="2235"/>
                </a:lnTo>
                <a:lnTo>
                  <a:pt x="92" y="2420"/>
                </a:lnTo>
                <a:lnTo>
                  <a:pt x="44" y="2606"/>
                </a:lnTo>
                <a:lnTo>
                  <a:pt x="0" y="2747"/>
                </a:lnTo>
                <a:lnTo>
                  <a:pt x="0" y="2932"/>
                </a:lnTo>
                <a:lnTo>
                  <a:pt x="0" y="3118"/>
                </a:lnTo>
                <a:lnTo>
                  <a:pt x="92" y="3303"/>
                </a:lnTo>
                <a:lnTo>
                  <a:pt x="141" y="3489"/>
                </a:lnTo>
                <a:lnTo>
                  <a:pt x="185" y="3630"/>
                </a:lnTo>
                <a:lnTo>
                  <a:pt x="233" y="3815"/>
                </a:lnTo>
                <a:lnTo>
                  <a:pt x="233" y="4000"/>
                </a:lnTo>
                <a:lnTo>
                  <a:pt x="233" y="4185"/>
                </a:lnTo>
                <a:lnTo>
                  <a:pt x="277" y="4371"/>
                </a:lnTo>
                <a:lnTo>
                  <a:pt x="326" y="4512"/>
                </a:lnTo>
                <a:lnTo>
                  <a:pt x="326" y="4697"/>
                </a:lnTo>
                <a:lnTo>
                  <a:pt x="370" y="4975"/>
                </a:lnTo>
                <a:lnTo>
                  <a:pt x="463" y="5160"/>
                </a:lnTo>
                <a:lnTo>
                  <a:pt x="511" y="5345"/>
                </a:lnTo>
                <a:lnTo>
                  <a:pt x="511" y="5486"/>
                </a:lnTo>
                <a:lnTo>
                  <a:pt x="511" y="5716"/>
                </a:lnTo>
                <a:lnTo>
                  <a:pt x="511" y="5857"/>
                </a:lnTo>
                <a:lnTo>
                  <a:pt x="555" y="6042"/>
                </a:lnTo>
                <a:lnTo>
                  <a:pt x="604" y="6227"/>
                </a:lnTo>
                <a:lnTo>
                  <a:pt x="648" y="6368"/>
                </a:lnTo>
                <a:lnTo>
                  <a:pt x="648" y="6553"/>
                </a:lnTo>
                <a:lnTo>
                  <a:pt x="798" y="6862"/>
                </a:lnTo>
                <a:lnTo>
                  <a:pt x="926" y="6924"/>
                </a:lnTo>
                <a:lnTo>
                  <a:pt x="1023" y="7109"/>
                </a:lnTo>
                <a:lnTo>
                  <a:pt x="1115" y="7250"/>
                </a:lnTo>
                <a:lnTo>
                  <a:pt x="1300" y="7387"/>
                </a:lnTo>
                <a:lnTo>
                  <a:pt x="1393" y="7528"/>
                </a:lnTo>
                <a:lnTo>
                  <a:pt x="1530" y="7713"/>
                </a:lnTo>
                <a:lnTo>
                  <a:pt x="1671" y="7850"/>
                </a:lnTo>
                <a:lnTo>
                  <a:pt x="1715" y="7991"/>
                </a:lnTo>
                <a:lnTo>
                  <a:pt x="1807" y="8132"/>
                </a:lnTo>
                <a:lnTo>
                  <a:pt x="1905" y="8317"/>
                </a:lnTo>
                <a:lnTo>
                  <a:pt x="2041" y="8502"/>
                </a:lnTo>
                <a:lnTo>
                  <a:pt x="2134" y="8688"/>
                </a:lnTo>
                <a:lnTo>
                  <a:pt x="2275" y="8873"/>
                </a:lnTo>
                <a:lnTo>
                  <a:pt x="2319" y="9014"/>
                </a:lnTo>
                <a:lnTo>
                  <a:pt x="2460" y="9151"/>
                </a:lnTo>
                <a:lnTo>
                  <a:pt x="2504" y="9293"/>
                </a:lnTo>
                <a:lnTo>
                  <a:pt x="2553" y="9478"/>
                </a:lnTo>
                <a:lnTo>
                  <a:pt x="2597" y="9663"/>
                </a:lnTo>
                <a:lnTo>
                  <a:pt x="2645" y="9804"/>
                </a:lnTo>
                <a:lnTo>
                  <a:pt x="2689" y="10034"/>
                </a:lnTo>
                <a:lnTo>
                  <a:pt x="2738" y="10175"/>
                </a:lnTo>
                <a:lnTo>
                  <a:pt x="2831" y="10360"/>
                </a:lnTo>
                <a:lnTo>
                  <a:pt x="2879" y="10589"/>
                </a:lnTo>
                <a:lnTo>
                  <a:pt x="2923" y="10730"/>
                </a:lnTo>
                <a:lnTo>
                  <a:pt x="2923" y="10871"/>
                </a:lnTo>
                <a:lnTo>
                  <a:pt x="2972" y="11057"/>
                </a:lnTo>
                <a:lnTo>
                  <a:pt x="3064" y="11242"/>
                </a:lnTo>
                <a:lnTo>
                  <a:pt x="3157" y="11427"/>
                </a:lnTo>
                <a:lnTo>
                  <a:pt x="3249" y="11568"/>
                </a:lnTo>
                <a:lnTo>
                  <a:pt x="3386" y="11753"/>
                </a:lnTo>
                <a:lnTo>
                  <a:pt x="3527" y="11939"/>
                </a:lnTo>
                <a:lnTo>
                  <a:pt x="3668" y="11983"/>
                </a:lnTo>
                <a:lnTo>
                  <a:pt x="3854" y="12031"/>
                </a:lnTo>
                <a:lnTo>
                  <a:pt x="4039" y="12168"/>
                </a:lnTo>
                <a:lnTo>
                  <a:pt x="4131" y="12309"/>
                </a:lnTo>
                <a:lnTo>
                  <a:pt x="4318" y="12353"/>
                </a:lnTo>
                <a:lnTo>
                  <a:pt x="4503" y="12353"/>
                </a:lnTo>
                <a:lnTo>
                  <a:pt x="4644" y="12309"/>
                </a:lnTo>
                <a:lnTo>
                  <a:pt x="4829" y="12261"/>
                </a:lnTo>
                <a:lnTo>
                  <a:pt x="5014" y="12216"/>
                </a:lnTo>
                <a:lnTo>
                  <a:pt x="5200" y="12075"/>
                </a:lnTo>
                <a:lnTo>
                  <a:pt x="5336" y="11890"/>
                </a:lnTo>
                <a:lnTo>
                  <a:pt x="5477" y="11753"/>
                </a:lnTo>
                <a:lnTo>
                  <a:pt x="5618" y="11612"/>
                </a:lnTo>
                <a:lnTo>
                  <a:pt x="5755" y="11471"/>
                </a:lnTo>
                <a:lnTo>
                  <a:pt x="5896" y="11379"/>
                </a:lnTo>
                <a:lnTo>
                  <a:pt x="6126" y="11237"/>
                </a:lnTo>
                <a:lnTo>
                  <a:pt x="6249" y="11132"/>
                </a:lnTo>
                <a:lnTo>
                  <a:pt x="6373" y="11026"/>
                </a:lnTo>
                <a:lnTo>
                  <a:pt x="6549" y="10938"/>
                </a:lnTo>
                <a:lnTo>
                  <a:pt x="6743" y="10832"/>
                </a:lnTo>
                <a:lnTo>
                  <a:pt x="6915" y="10779"/>
                </a:lnTo>
                <a:lnTo>
                  <a:pt x="7056" y="10779"/>
                </a:lnTo>
                <a:lnTo>
                  <a:pt x="7197" y="10730"/>
                </a:lnTo>
                <a:lnTo>
                  <a:pt x="7426" y="10589"/>
                </a:lnTo>
                <a:lnTo>
                  <a:pt x="7568" y="10453"/>
                </a:lnTo>
                <a:lnTo>
                  <a:pt x="7704" y="10311"/>
                </a:lnTo>
                <a:lnTo>
                  <a:pt x="7845" y="10126"/>
                </a:lnTo>
                <a:lnTo>
                  <a:pt x="7982" y="9941"/>
                </a:lnTo>
                <a:lnTo>
                  <a:pt x="8123" y="9804"/>
                </a:lnTo>
                <a:lnTo>
                  <a:pt x="8264" y="9707"/>
                </a:lnTo>
                <a:lnTo>
                  <a:pt x="8450" y="9615"/>
                </a:lnTo>
                <a:lnTo>
                  <a:pt x="8604" y="958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43640" y="249120"/>
            <a:ext cx="1456200" cy="1489320"/>
          </a:xfrm>
          <a:custGeom>
            <a:avLst/>
            <a:gdLst/>
            <a:ahLst/>
            <a:rect l="0" t="0" r="r" b="b"/>
            <a:pathLst>
              <a:path fill="none" w="4045" h="4137">
                <a:moveTo>
                  <a:pt x="0" y="0"/>
                </a:moveTo>
                <a:lnTo>
                  <a:pt x="96" y="97"/>
                </a:lnTo>
                <a:lnTo>
                  <a:pt x="193" y="275"/>
                </a:lnTo>
                <a:lnTo>
                  <a:pt x="290" y="453"/>
                </a:lnTo>
                <a:lnTo>
                  <a:pt x="290" y="630"/>
                </a:lnTo>
                <a:lnTo>
                  <a:pt x="336" y="808"/>
                </a:lnTo>
                <a:lnTo>
                  <a:pt x="433" y="944"/>
                </a:lnTo>
                <a:lnTo>
                  <a:pt x="581" y="1033"/>
                </a:lnTo>
                <a:lnTo>
                  <a:pt x="775" y="1121"/>
                </a:lnTo>
                <a:lnTo>
                  <a:pt x="923" y="1253"/>
                </a:lnTo>
                <a:lnTo>
                  <a:pt x="1021" y="1388"/>
                </a:lnTo>
                <a:lnTo>
                  <a:pt x="1215" y="1519"/>
                </a:lnTo>
                <a:lnTo>
                  <a:pt x="1408" y="1566"/>
                </a:lnTo>
                <a:lnTo>
                  <a:pt x="1602" y="1697"/>
                </a:lnTo>
                <a:lnTo>
                  <a:pt x="1750" y="1790"/>
                </a:lnTo>
                <a:lnTo>
                  <a:pt x="1944" y="1922"/>
                </a:lnTo>
                <a:lnTo>
                  <a:pt x="2184" y="2100"/>
                </a:lnTo>
                <a:lnTo>
                  <a:pt x="2332" y="2189"/>
                </a:lnTo>
                <a:lnTo>
                  <a:pt x="2429" y="2325"/>
                </a:lnTo>
                <a:lnTo>
                  <a:pt x="2622" y="2503"/>
                </a:lnTo>
                <a:lnTo>
                  <a:pt x="2636" y="2858"/>
                </a:lnTo>
                <a:lnTo>
                  <a:pt x="2978" y="3201"/>
                </a:lnTo>
                <a:lnTo>
                  <a:pt x="3404" y="3328"/>
                </a:lnTo>
                <a:lnTo>
                  <a:pt x="3745" y="3540"/>
                </a:lnTo>
                <a:lnTo>
                  <a:pt x="4045" y="41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51440" y="237960"/>
            <a:ext cx="2953080" cy="3358080"/>
          </a:xfrm>
          <a:custGeom>
            <a:avLst/>
            <a:gdLst/>
            <a:ahLst/>
            <a:rect l="0" t="0" r="r" b="b"/>
            <a:pathLst>
              <a:path fill="none" w="8203" h="9328">
                <a:moveTo>
                  <a:pt x="0" y="0"/>
                </a:moveTo>
                <a:lnTo>
                  <a:pt x="44" y="487"/>
                </a:lnTo>
                <a:lnTo>
                  <a:pt x="123" y="619"/>
                </a:lnTo>
                <a:lnTo>
                  <a:pt x="194" y="792"/>
                </a:lnTo>
                <a:lnTo>
                  <a:pt x="286" y="984"/>
                </a:lnTo>
                <a:lnTo>
                  <a:pt x="379" y="1175"/>
                </a:lnTo>
                <a:lnTo>
                  <a:pt x="471" y="1366"/>
                </a:lnTo>
                <a:lnTo>
                  <a:pt x="471" y="1558"/>
                </a:lnTo>
                <a:lnTo>
                  <a:pt x="515" y="1704"/>
                </a:lnTo>
                <a:lnTo>
                  <a:pt x="612" y="1895"/>
                </a:lnTo>
                <a:lnTo>
                  <a:pt x="749" y="2086"/>
                </a:lnTo>
                <a:lnTo>
                  <a:pt x="842" y="2278"/>
                </a:lnTo>
                <a:lnTo>
                  <a:pt x="1027" y="2470"/>
                </a:lnTo>
                <a:lnTo>
                  <a:pt x="1075" y="2616"/>
                </a:lnTo>
                <a:lnTo>
                  <a:pt x="1212" y="2807"/>
                </a:lnTo>
                <a:lnTo>
                  <a:pt x="1305" y="2998"/>
                </a:lnTo>
                <a:lnTo>
                  <a:pt x="1397" y="3190"/>
                </a:lnTo>
                <a:lnTo>
                  <a:pt x="1446" y="3381"/>
                </a:lnTo>
                <a:lnTo>
                  <a:pt x="1587" y="3477"/>
                </a:lnTo>
                <a:lnTo>
                  <a:pt x="1772" y="3623"/>
                </a:lnTo>
                <a:lnTo>
                  <a:pt x="1957" y="3764"/>
                </a:lnTo>
                <a:lnTo>
                  <a:pt x="2094" y="3910"/>
                </a:lnTo>
                <a:lnTo>
                  <a:pt x="2235" y="4101"/>
                </a:lnTo>
                <a:lnTo>
                  <a:pt x="2420" y="4292"/>
                </a:lnTo>
                <a:lnTo>
                  <a:pt x="2562" y="4484"/>
                </a:lnTo>
                <a:lnTo>
                  <a:pt x="2698" y="4725"/>
                </a:lnTo>
                <a:lnTo>
                  <a:pt x="2883" y="4962"/>
                </a:lnTo>
                <a:lnTo>
                  <a:pt x="2932" y="5108"/>
                </a:lnTo>
                <a:lnTo>
                  <a:pt x="3069" y="5299"/>
                </a:lnTo>
                <a:lnTo>
                  <a:pt x="3161" y="5445"/>
                </a:lnTo>
                <a:lnTo>
                  <a:pt x="3258" y="5682"/>
                </a:lnTo>
                <a:lnTo>
                  <a:pt x="3443" y="5873"/>
                </a:lnTo>
                <a:lnTo>
                  <a:pt x="3721" y="5924"/>
                </a:lnTo>
                <a:lnTo>
                  <a:pt x="3907" y="6019"/>
                </a:lnTo>
                <a:lnTo>
                  <a:pt x="4092" y="6165"/>
                </a:lnTo>
                <a:lnTo>
                  <a:pt x="4234" y="6261"/>
                </a:lnTo>
                <a:lnTo>
                  <a:pt x="4419" y="6402"/>
                </a:lnTo>
                <a:lnTo>
                  <a:pt x="4556" y="6548"/>
                </a:lnTo>
                <a:lnTo>
                  <a:pt x="4697" y="6739"/>
                </a:lnTo>
                <a:lnTo>
                  <a:pt x="4882" y="7027"/>
                </a:lnTo>
                <a:lnTo>
                  <a:pt x="4975" y="7173"/>
                </a:lnTo>
                <a:lnTo>
                  <a:pt x="5116" y="7364"/>
                </a:lnTo>
                <a:lnTo>
                  <a:pt x="5252" y="7556"/>
                </a:lnTo>
                <a:lnTo>
                  <a:pt x="5394" y="7747"/>
                </a:lnTo>
                <a:lnTo>
                  <a:pt x="5579" y="7989"/>
                </a:lnTo>
                <a:lnTo>
                  <a:pt x="5764" y="8084"/>
                </a:lnTo>
                <a:lnTo>
                  <a:pt x="5905" y="8225"/>
                </a:lnTo>
                <a:lnTo>
                  <a:pt x="6134" y="8417"/>
                </a:lnTo>
                <a:lnTo>
                  <a:pt x="6276" y="8563"/>
                </a:lnTo>
                <a:lnTo>
                  <a:pt x="6412" y="8754"/>
                </a:lnTo>
                <a:lnTo>
                  <a:pt x="6505" y="8900"/>
                </a:lnTo>
                <a:lnTo>
                  <a:pt x="6646" y="9091"/>
                </a:lnTo>
                <a:lnTo>
                  <a:pt x="6787" y="9187"/>
                </a:lnTo>
                <a:lnTo>
                  <a:pt x="6972" y="9283"/>
                </a:lnTo>
                <a:lnTo>
                  <a:pt x="7157" y="9283"/>
                </a:lnTo>
                <a:lnTo>
                  <a:pt x="7343" y="9328"/>
                </a:lnTo>
                <a:lnTo>
                  <a:pt x="7603" y="9287"/>
                </a:lnTo>
                <a:lnTo>
                  <a:pt x="7744" y="9305"/>
                </a:lnTo>
                <a:lnTo>
                  <a:pt x="7867" y="9251"/>
                </a:lnTo>
                <a:lnTo>
                  <a:pt x="8026" y="9214"/>
                </a:lnTo>
                <a:lnTo>
                  <a:pt x="8203" y="9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725400"/>
            <a:ext cx="3016440" cy="3321360"/>
          </a:xfrm>
          <a:custGeom>
            <a:avLst/>
            <a:gdLst/>
            <a:ahLst/>
            <a:rect l="0" t="0" r="r" b="b"/>
            <a:pathLst>
              <a:path fill="none" w="8379" h="9226">
                <a:moveTo>
                  <a:pt x="127" y="0"/>
                </a:moveTo>
                <a:lnTo>
                  <a:pt x="0" y="670"/>
                </a:lnTo>
                <a:lnTo>
                  <a:pt x="22" y="948"/>
                </a:lnTo>
                <a:lnTo>
                  <a:pt x="88" y="1428"/>
                </a:lnTo>
                <a:lnTo>
                  <a:pt x="352" y="2191"/>
                </a:lnTo>
                <a:lnTo>
                  <a:pt x="643" y="2773"/>
                </a:lnTo>
                <a:lnTo>
                  <a:pt x="789" y="3007"/>
                </a:lnTo>
                <a:lnTo>
                  <a:pt x="833" y="3148"/>
                </a:lnTo>
                <a:lnTo>
                  <a:pt x="926" y="3333"/>
                </a:lnTo>
                <a:lnTo>
                  <a:pt x="1018" y="3518"/>
                </a:lnTo>
                <a:lnTo>
                  <a:pt x="1111" y="3704"/>
                </a:lnTo>
                <a:lnTo>
                  <a:pt x="1111" y="3889"/>
                </a:lnTo>
                <a:lnTo>
                  <a:pt x="1111" y="4030"/>
                </a:lnTo>
                <a:lnTo>
                  <a:pt x="1159" y="4215"/>
                </a:lnTo>
                <a:lnTo>
                  <a:pt x="1203" y="4400"/>
                </a:lnTo>
                <a:lnTo>
                  <a:pt x="1203" y="4586"/>
                </a:lnTo>
                <a:lnTo>
                  <a:pt x="1296" y="4772"/>
                </a:lnTo>
                <a:lnTo>
                  <a:pt x="1344" y="5050"/>
                </a:lnTo>
                <a:lnTo>
                  <a:pt x="1389" y="5191"/>
                </a:lnTo>
                <a:lnTo>
                  <a:pt x="1389" y="5420"/>
                </a:lnTo>
                <a:lnTo>
                  <a:pt x="1574" y="5561"/>
                </a:lnTo>
                <a:lnTo>
                  <a:pt x="1715" y="5654"/>
                </a:lnTo>
                <a:lnTo>
                  <a:pt x="1856" y="5746"/>
                </a:lnTo>
                <a:lnTo>
                  <a:pt x="1949" y="5887"/>
                </a:lnTo>
                <a:lnTo>
                  <a:pt x="2178" y="6117"/>
                </a:lnTo>
                <a:lnTo>
                  <a:pt x="2319" y="6258"/>
                </a:lnTo>
                <a:lnTo>
                  <a:pt x="2504" y="6536"/>
                </a:lnTo>
                <a:lnTo>
                  <a:pt x="2645" y="6721"/>
                </a:lnTo>
                <a:lnTo>
                  <a:pt x="2738" y="6862"/>
                </a:lnTo>
                <a:lnTo>
                  <a:pt x="2875" y="7091"/>
                </a:lnTo>
                <a:lnTo>
                  <a:pt x="2923" y="7232"/>
                </a:lnTo>
                <a:lnTo>
                  <a:pt x="3060" y="7418"/>
                </a:lnTo>
                <a:lnTo>
                  <a:pt x="3108" y="7559"/>
                </a:lnTo>
                <a:lnTo>
                  <a:pt x="3201" y="7744"/>
                </a:lnTo>
                <a:lnTo>
                  <a:pt x="3245" y="7929"/>
                </a:lnTo>
                <a:lnTo>
                  <a:pt x="3338" y="8114"/>
                </a:lnTo>
                <a:lnTo>
                  <a:pt x="3386" y="8300"/>
                </a:lnTo>
                <a:lnTo>
                  <a:pt x="3435" y="8441"/>
                </a:lnTo>
                <a:lnTo>
                  <a:pt x="3571" y="8670"/>
                </a:lnTo>
                <a:lnTo>
                  <a:pt x="3664" y="8811"/>
                </a:lnTo>
                <a:lnTo>
                  <a:pt x="3805" y="8948"/>
                </a:lnTo>
                <a:lnTo>
                  <a:pt x="3990" y="9133"/>
                </a:lnTo>
                <a:lnTo>
                  <a:pt x="4176" y="9226"/>
                </a:lnTo>
                <a:lnTo>
                  <a:pt x="4362" y="9226"/>
                </a:lnTo>
                <a:lnTo>
                  <a:pt x="4503" y="9226"/>
                </a:lnTo>
                <a:lnTo>
                  <a:pt x="4732" y="9182"/>
                </a:lnTo>
                <a:lnTo>
                  <a:pt x="4873" y="9133"/>
                </a:lnTo>
                <a:lnTo>
                  <a:pt x="5058" y="9040"/>
                </a:lnTo>
                <a:lnTo>
                  <a:pt x="5200" y="8996"/>
                </a:lnTo>
                <a:lnTo>
                  <a:pt x="5385" y="8948"/>
                </a:lnTo>
                <a:lnTo>
                  <a:pt x="5570" y="8904"/>
                </a:lnTo>
                <a:lnTo>
                  <a:pt x="5799" y="8855"/>
                </a:lnTo>
                <a:lnTo>
                  <a:pt x="5940" y="8811"/>
                </a:lnTo>
                <a:lnTo>
                  <a:pt x="6082" y="8763"/>
                </a:lnTo>
                <a:lnTo>
                  <a:pt x="6267" y="8670"/>
                </a:lnTo>
                <a:lnTo>
                  <a:pt x="6496" y="8670"/>
                </a:lnTo>
                <a:lnTo>
                  <a:pt x="6637" y="8670"/>
                </a:lnTo>
                <a:lnTo>
                  <a:pt x="6822" y="8626"/>
                </a:lnTo>
                <a:lnTo>
                  <a:pt x="6963" y="8577"/>
                </a:lnTo>
                <a:lnTo>
                  <a:pt x="7149" y="8533"/>
                </a:lnTo>
                <a:lnTo>
                  <a:pt x="7334" y="8441"/>
                </a:lnTo>
                <a:lnTo>
                  <a:pt x="7444" y="8357"/>
                </a:lnTo>
                <a:lnTo>
                  <a:pt x="7656" y="8216"/>
                </a:lnTo>
                <a:lnTo>
                  <a:pt x="7815" y="8128"/>
                </a:lnTo>
                <a:lnTo>
                  <a:pt x="8079" y="8022"/>
                </a:lnTo>
                <a:lnTo>
                  <a:pt x="8379" y="798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09960" y="1366920"/>
            <a:ext cx="3091320" cy="3154680"/>
          </a:xfrm>
          <a:custGeom>
            <a:avLst/>
            <a:gdLst/>
            <a:ahLst/>
            <a:rect l="0" t="0" r="r" b="b"/>
            <a:pathLst>
              <a:path fill="none" w="8587" h="8763">
                <a:moveTo>
                  <a:pt x="0" y="0"/>
                </a:moveTo>
                <a:lnTo>
                  <a:pt x="198" y="224"/>
                </a:lnTo>
                <a:lnTo>
                  <a:pt x="330" y="449"/>
                </a:lnTo>
                <a:lnTo>
                  <a:pt x="423" y="727"/>
                </a:lnTo>
                <a:lnTo>
                  <a:pt x="476" y="1084"/>
                </a:lnTo>
                <a:lnTo>
                  <a:pt x="515" y="1415"/>
                </a:lnTo>
                <a:lnTo>
                  <a:pt x="648" y="1746"/>
                </a:lnTo>
                <a:lnTo>
                  <a:pt x="701" y="2037"/>
                </a:lnTo>
                <a:lnTo>
                  <a:pt x="912" y="2262"/>
                </a:lnTo>
                <a:lnTo>
                  <a:pt x="912" y="2447"/>
                </a:lnTo>
                <a:lnTo>
                  <a:pt x="912" y="2579"/>
                </a:lnTo>
                <a:lnTo>
                  <a:pt x="886" y="2764"/>
                </a:lnTo>
                <a:lnTo>
                  <a:pt x="939" y="2870"/>
                </a:lnTo>
                <a:lnTo>
                  <a:pt x="992" y="3055"/>
                </a:lnTo>
                <a:lnTo>
                  <a:pt x="1018" y="3161"/>
                </a:lnTo>
                <a:lnTo>
                  <a:pt x="1124" y="3452"/>
                </a:lnTo>
                <a:lnTo>
                  <a:pt x="1124" y="3558"/>
                </a:lnTo>
                <a:lnTo>
                  <a:pt x="1230" y="3664"/>
                </a:lnTo>
                <a:lnTo>
                  <a:pt x="1336" y="3770"/>
                </a:lnTo>
                <a:lnTo>
                  <a:pt x="1494" y="3876"/>
                </a:lnTo>
                <a:lnTo>
                  <a:pt x="1653" y="4087"/>
                </a:lnTo>
                <a:lnTo>
                  <a:pt x="1838" y="4378"/>
                </a:lnTo>
                <a:lnTo>
                  <a:pt x="1971" y="4485"/>
                </a:lnTo>
                <a:lnTo>
                  <a:pt x="2103" y="4697"/>
                </a:lnTo>
                <a:lnTo>
                  <a:pt x="2210" y="4882"/>
                </a:lnTo>
                <a:lnTo>
                  <a:pt x="2263" y="5120"/>
                </a:lnTo>
                <a:lnTo>
                  <a:pt x="2395" y="5385"/>
                </a:lnTo>
                <a:lnTo>
                  <a:pt x="2448" y="5491"/>
                </a:lnTo>
                <a:lnTo>
                  <a:pt x="2554" y="5623"/>
                </a:lnTo>
                <a:lnTo>
                  <a:pt x="2492" y="5746"/>
                </a:lnTo>
                <a:lnTo>
                  <a:pt x="2527" y="5799"/>
                </a:lnTo>
                <a:lnTo>
                  <a:pt x="2563" y="5870"/>
                </a:lnTo>
                <a:lnTo>
                  <a:pt x="2598" y="5923"/>
                </a:lnTo>
                <a:lnTo>
                  <a:pt x="2615" y="5976"/>
                </a:lnTo>
                <a:lnTo>
                  <a:pt x="2651" y="6046"/>
                </a:lnTo>
                <a:lnTo>
                  <a:pt x="2686" y="6099"/>
                </a:lnTo>
                <a:lnTo>
                  <a:pt x="2721" y="6170"/>
                </a:lnTo>
                <a:lnTo>
                  <a:pt x="2721" y="6223"/>
                </a:lnTo>
                <a:lnTo>
                  <a:pt x="2757" y="6276"/>
                </a:lnTo>
                <a:lnTo>
                  <a:pt x="2774" y="6346"/>
                </a:lnTo>
                <a:lnTo>
                  <a:pt x="2809" y="6399"/>
                </a:lnTo>
                <a:lnTo>
                  <a:pt x="2827" y="6452"/>
                </a:lnTo>
                <a:lnTo>
                  <a:pt x="2862" y="6522"/>
                </a:lnTo>
                <a:lnTo>
                  <a:pt x="2880" y="6575"/>
                </a:lnTo>
                <a:lnTo>
                  <a:pt x="2898" y="6628"/>
                </a:lnTo>
                <a:lnTo>
                  <a:pt x="2915" y="6681"/>
                </a:lnTo>
                <a:lnTo>
                  <a:pt x="2933" y="6734"/>
                </a:lnTo>
                <a:lnTo>
                  <a:pt x="2968" y="6787"/>
                </a:lnTo>
                <a:lnTo>
                  <a:pt x="2968" y="6840"/>
                </a:lnTo>
                <a:lnTo>
                  <a:pt x="2986" y="6893"/>
                </a:lnTo>
                <a:lnTo>
                  <a:pt x="3021" y="6963"/>
                </a:lnTo>
                <a:lnTo>
                  <a:pt x="3039" y="7016"/>
                </a:lnTo>
                <a:lnTo>
                  <a:pt x="3039" y="7069"/>
                </a:lnTo>
                <a:lnTo>
                  <a:pt x="3074" y="7122"/>
                </a:lnTo>
                <a:lnTo>
                  <a:pt x="3109" y="7175"/>
                </a:lnTo>
                <a:lnTo>
                  <a:pt x="3145" y="7263"/>
                </a:lnTo>
                <a:lnTo>
                  <a:pt x="3162" y="7316"/>
                </a:lnTo>
                <a:lnTo>
                  <a:pt x="3198" y="7404"/>
                </a:lnTo>
                <a:lnTo>
                  <a:pt x="3233" y="7457"/>
                </a:lnTo>
                <a:lnTo>
                  <a:pt x="3268" y="7528"/>
                </a:lnTo>
                <a:lnTo>
                  <a:pt x="3286" y="7581"/>
                </a:lnTo>
                <a:lnTo>
                  <a:pt x="3321" y="7634"/>
                </a:lnTo>
                <a:lnTo>
                  <a:pt x="3339" y="7687"/>
                </a:lnTo>
                <a:lnTo>
                  <a:pt x="3356" y="7740"/>
                </a:lnTo>
                <a:lnTo>
                  <a:pt x="3392" y="7810"/>
                </a:lnTo>
                <a:lnTo>
                  <a:pt x="3444" y="7863"/>
                </a:lnTo>
                <a:lnTo>
                  <a:pt x="3480" y="7934"/>
                </a:lnTo>
                <a:lnTo>
                  <a:pt x="3515" y="7987"/>
                </a:lnTo>
                <a:lnTo>
                  <a:pt x="3550" y="8039"/>
                </a:lnTo>
                <a:lnTo>
                  <a:pt x="3586" y="8092"/>
                </a:lnTo>
                <a:lnTo>
                  <a:pt x="3621" y="8163"/>
                </a:lnTo>
                <a:lnTo>
                  <a:pt x="3656" y="8216"/>
                </a:lnTo>
                <a:lnTo>
                  <a:pt x="3691" y="8269"/>
                </a:lnTo>
                <a:lnTo>
                  <a:pt x="3744" y="8322"/>
                </a:lnTo>
                <a:lnTo>
                  <a:pt x="3780" y="8375"/>
                </a:lnTo>
                <a:lnTo>
                  <a:pt x="3833" y="8427"/>
                </a:lnTo>
                <a:lnTo>
                  <a:pt x="3885" y="8480"/>
                </a:lnTo>
                <a:lnTo>
                  <a:pt x="3938" y="8516"/>
                </a:lnTo>
                <a:lnTo>
                  <a:pt x="3974" y="8569"/>
                </a:lnTo>
                <a:lnTo>
                  <a:pt x="4027" y="8604"/>
                </a:lnTo>
                <a:lnTo>
                  <a:pt x="4079" y="8622"/>
                </a:lnTo>
                <a:lnTo>
                  <a:pt x="4132" y="8657"/>
                </a:lnTo>
                <a:lnTo>
                  <a:pt x="4185" y="8657"/>
                </a:lnTo>
                <a:lnTo>
                  <a:pt x="4238" y="8692"/>
                </a:lnTo>
                <a:lnTo>
                  <a:pt x="4450" y="8745"/>
                </a:lnTo>
                <a:lnTo>
                  <a:pt x="4503" y="8745"/>
                </a:lnTo>
                <a:lnTo>
                  <a:pt x="4556" y="8763"/>
                </a:lnTo>
                <a:lnTo>
                  <a:pt x="4609" y="8763"/>
                </a:lnTo>
                <a:lnTo>
                  <a:pt x="4662" y="8763"/>
                </a:lnTo>
                <a:lnTo>
                  <a:pt x="4732" y="8763"/>
                </a:lnTo>
                <a:lnTo>
                  <a:pt x="4820" y="8763"/>
                </a:lnTo>
                <a:lnTo>
                  <a:pt x="4909" y="8763"/>
                </a:lnTo>
                <a:lnTo>
                  <a:pt x="4961" y="8727"/>
                </a:lnTo>
                <a:lnTo>
                  <a:pt x="5014" y="8692"/>
                </a:lnTo>
                <a:lnTo>
                  <a:pt x="5067" y="8657"/>
                </a:lnTo>
                <a:lnTo>
                  <a:pt x="5173" y="8586"/>
                </a:lnTo>
                <a:lnTo>
                  <a:pt x="5226" y="8551"/>
                </a:lnTo>
                <a:lnTo>
                  <a:pt x="5279" y="8498"/>
                </a:lnTo>
                <a:lnTo>
                  <a:pt x="5332" y="8463"/>
                </a:lnTo>
                <a:lnTo>
                  <a:pt x="5385" y="8427"/>
                </a:lnTo>
                <a:lnTo>
                  <a:pt x="5438" y="8392"/>
                </a:lnTo>
                <a:lnTo>
                  <a:pt x="5491" y="8357"/>
                </a:lnTo>
                <a:lnTo>
                  <a:pt x="5544" y="8304"/>
                </a:lnTo>
                <a:lnTo>
                  <a:pt x="5632" y="8233"/>
                </a:lnTo>
                <a:lnTo>
                  <a:pt x="5702" y="8216"/>
                </a:lnTo>
                <a:lnTo>
                  <a:pt x="5808" y="8145"/>
                </a:lnTo>
                <a:lnTo>
                  <a:pt x="5843" y="8092"/>
                </a:lnTo>
                <a:lnTo>
                  <a:pt x="5879" y="8039"/>
                </a:lnTo>
                <a:lnTo>
                  <a:pt x="5932" y="8004"/>
                </a:lnTo>
                <a:lnTo>
                  <a:pt x="5984" y="7934"/>
                </a:lnTo>
                <a:lnTo>
                  <a:pt x="6037" y="7881"/>
                </a:lnTo>
                <a:lnTo>
                  <a:pt x="6090" y="7845"/>
                </a:lnTo>
                <a:lnTo>
                  <a:pt x="6143" y="7810"/>
                </a:lnTo>
                <a:lnTo>
                  <a:pt x="6214" y="7775"/>
                </a:lnTo>
                <a:lnTo>
                  <a:pt x="6267" y="7757"/>
                </a:lnTo>
                <a:lnTo>
                  <a:pt x="6320" y="7740"/>
                </a:lnTo>
                <a:lnTo>
                  <a:pt x="6373" y="7704"/>
                </a:lnTo>
                <a:lnTo>
                  <a:pt x="6425" y="7687"/>
                </a:lnTo>
                <a:lnTo>
                  <a:pt x="6497" y="7651"/>
                </a:lnTo>
                <a:lnTo>
                  <a:pt x="6568" y="7616"/>
                </a:lnTo>
                <a:lnTo>
                  <a:pt x="6620" y="7581"/>
                </a:lnTo>
                <a:lnTo>
                  <a:pt x="6673" y="7563"/>
                </a:lnTo>
                <a:lnTo>
                  <a:pt x="6726" y="7546"/>
                </a:lnTo>
                <a:lnTo>
                  <a:pt x="6779" y="7528"/>
                </a:lnTo>
                <a:lnTo>
                  <a:pt x="6832" y="7510"/>
                </a:lnTo>
                <a:lnTo>
                  <a:pt x="6903" y="7493"/>
                </a:lnTo>
                <a:lnTo>
                  <a:pt x="7092" y="7409"/>
                </a:lnTo>
                <a:lnTo>
                  <a:pt x="7145" y="7343"/>
                </a:lnTo>
                <a:lnTo>
                  <a:pt x="7211" y="7329"/>
                </a:lnTo>
                <a:lnTo>
                  <a:pt x="7251" y="7277"/>
                </a:lnTo>
                <a:lnTo>
                  <a:pt x="7278" y="7277"/>
                </a:lnTo>
                <a:lnTo>
                  <a:pt x="7330" y="7224"/>
                </a:lnTo>
                <a:lnTo>
                  <a:pt x="7357" y="7197"/>
                </a:lnTo>
                <a:lnTo>
                  <a:pt x="7397" y="7144"/>
                </a:lnTo>
                <a:lnTo>
                  <a:pt x="7463" y="7105"/>
                </a:lnTo>
                <a:lnTo>
                  <a:pt x="7529" y="7078"/>
                </a:lnTo>
                <a:lnTo>
                  <a:pt x="7608" y="7025"/>
                </a:lnTo>
                <a:lnTo>
                  <a:pt x="7674" y="6972"/>
                </a:lnTo>
                <a:lnTo>
                  <a:pt x="7701" y="6933"/>
                </a:lnTo>
                <a:lnTo>
                  <a:pt x="7701" y="6946"/>
                </a:lnTo>
                <a:lnTo>
                  <a:pt x="7913" y="6734"/>
                </a:lnTo>
                <a:lnTo>
                  <a:pt x="8177" y="6509"/>
                </a:lnTo>
                <a:lnTo>
                  <a:pt x="8349" y="6443"/>
                </a:lnTo>
                <a:lnTo>
                  <a:pt x="8587" y="639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237960"/>
            <a:ext cx="2657880" cy="2305440"/>
          </a:xfrm>
          <a:custGeom>
            <a:avLst/>
            <a:gdLst/>
            <a:ahLst/>
            <a:rect l="0" t="0" r="r" b="b"/>
            <a:pathLst>
              <a:path fill="none" w="7383" h="6404">
                <a:moveTo>
                  <a:pt x="0" y="0"/>
                </a:moveTo>
                <a:lnTo>
                  <a:pt x="79" y="92"/>
                </a:lnTo>
                <a:lnTo>
                  <a:pt x="119" y="211"/>
                </a:lnTo>
                <a:lnTo>
                  <a:pt x="238" y="291"/>
                </a:lnTo>
                <a:lnTo>
                  <a:pt x="357" y="370"/>
                </a:lnTo>
                <a:lnTo>
                  <a:pt x="436" y="489"/>
                </a:lnTo>
                <a:lnTo>
                  <a:pt x="515" y="608"/>
                </a:lnTo>
                <a:lnTo>
                  <a:pt x="635" y="608"/>
                </a:lnTo>
                <a:lnTo>
                  <a:pt x="754" y="767"/>
                </a:lnTo>
                <a:lnTo>
                  <a:pt x="793" y="886"/>
                </a:lnTo>
                <a:lnTo>
                  <a:pt x="833" y="1005"/>
                </a:lnTo>
                <a:lnTo>
                  <a:pt x="873" y="1124"/>
                </a:lnTo>
                <a:lnTo>
                  <a:pt x="912" y="1243"/>
                </a:lnTo>
                <a:lnTo>
                  <a:pt x="1031" y="1322"/>
                </a:lnTo>
                <a:lnTo>
                  <a:pt x="1150" y="1402"/>
                </a:lnTo>
                <a:lnTo>
                  <a:pt x="1270" y="1481"/>
                </a:lnTo>
                <a:lnTo>
                  <a:pt x="1389" y="1521"/>
                </a:lnTo>
                <a:lnTo>
                  <a:pt x="1508" y="1600"/>
                </a:lnTo>
                <a:lnTo>
                  <a:pt x="1706" y="1681"/>
                </a:lnTo>
                <a:lnTo>
                  <a:pt x="1825" y="1720"/>
                </a:lnTo>
                <a:lnTo>
                  <a:pt x="1945" y="1800"/>
                </a:lnTo>
                <a:lnTo>
                  <a:pt x="2104" y="1879"/>
                </a:lnTo>
                <a:lnTo>
                  <a:pt x="2223" y="1958"/>
                </a:lnTo>
                <a:lnTo>
                  <a:pt x="2382" y="1998"/>
                </a:lnTo>
                <a:lnTo>
                  <a:pt x="2501" y="2077"/>
                </a:lnTo>
                <a:lnTo>
                  <a:pt x="2620" y="2236"/>
                </a:lnTo>
                <a:lnTo>
                  <a:pt x="2699" y="2355"/>
                </a:lnTo>
                <a:lnTo>
                  <a:pt x="2818" y="2474"/>
                </a:lnTo>
                <a:lnTo>
                  <a:pt x="2977" y="2593"/>
                </a:lnTo>
                <a:lnTo>
                  <a:pt x="3096" y="2673"/>
                </a:lnTo>
                <a:lnTo>
                  <a:pt x="3215" y="2712"/>
                </a:lnTo>
                <a:lnTo>
                  <a:pt x="3334" y="2752"/>
                </a:lnTo>
                <a:lnTo>
                  <a:pt x="3453" y="2792"/>
                </a:lnTo>
                <a:lnTo>
                  <a:pt x="3652" y="2951"/>
                </a:lnTo>
                <a:lnTo>
                  <a:pt x="3771" y="2990"/>
                </a:lnTo>
                <a:lnTo>
                  <a:pt x="3969" y="3109"/>
                </a:lnTo>
                <a:lnTo>
                  <a:pt x="4128" y="3268"/>
                </a:lnTo>
                <a:lnTo>
                  <a:pt x="4247" y="3308"/>
                </a:lnTo>
                <a:lnTo>
                  <a:pt x="4366" y="3427"/>
                </a:lnTo>
                <a:lnTo>
                  <a:pt x="4485" y="3506"/>
                </a:lnTo>
                <a:lnTo>
                  <a:pt x="4604" y="3625"/>
                </a:lnTo>
                <a:lnTo>
                  <a:pt x="4684" y="3744"/>
                </a:lnTo>
                <a:lnTo>
                  <a:pt x="4763" y="3863"/>
                </a:lnTo>
                <a:lnTo>
                  <a:pt x="4922" y="4022"/>
                </a:lnTo>
                <a:lnTo>
                  <a:pt x="5041" y="4102"/>
                </a:lnTo>
                <a:lnTo>
                  <a:pt x="5120" y="4221"/>
                </a:lnTo>
                <a:lnTo>
                  <a:pt x="5239" y="4300"/>
                </a:lnTo>
                <a:lnTo>
                  <a:pt x="5358" y="4459"/>
                </a:lnTo>
                <a:lnTo>
                  <a:pt x="5477" y="4578"/>
                </a:lnTo>
                <a:lnTo>
                  <a:pt x="5597" y="4617"/>
                </a:lnTo>
                <a:lnTo>
                  <a:pt x="5717" y="4737"/>
                </a:lnTo>
                <a:lnTo>
                  <a:pt x="5836" y="4776"/>
                </a:lnTo>
                <a:lnTo>
                  <a:pt x="5955" y="4817"/>
                </a:lnTo>
                <a:lnTo>
                  <a:pt x="6074" y="4817"/>
                </a:lnTo>
                <a:lnTo>
                  <a:pt x="6193" y="4857"/>
                </a:lnTo>
                <a:lnTo>
                  <a:pt x="6352" y="4936"/>
                </a:lnTo>
                <a:lnTo>
                  <a:pt x="6431" y="5055"/>
                </a:lnTo>
                <a:lnTo>
                  <a:pt x="6550" y="5214"/>
                </a:lnTo>
                <a:lnTo>
                  <a:pt x="6669" y="5333"/>
                </a:lnTo>
                <a:lnTo>
                  <a:pt x="6709" y="5452"/>
                </a:lnTo>
                <a:lnTo>
                  <a:pt x="6788" y="5571"/>
                </a:lnTo>
                <a:lnTo>
                  <a:pt x="6907" y="5730"/>
                </a:lnTo>
                <a:lnTo>
                  <a:pt x="6947" y="5849"/>
                </a:lnTo>
                <a:lnTo>
                  <a:pt x="7026" y="5968"/>
                </a:lnTo>
                <a:lnTo>
                  <a:pt x="7106" y="6087"/>
                </a:lnTo>
                <a:lnTo>
                  <a:pt x="7145" y="6206"/>
                </a:lnTo>
                <a:lnTo>
                  <a:pt x="7264" y="6325"/>
                </a:lnTo>
                <a:lnTo>
                  <a:pt x="7383" y="640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33840" y="3776760"/>
            <a:ext cx="3360960" cy="2843640"/>
          </a:xfrm>
          <a:custGeom>
            <a:avLst/>
            <a:gdLst/>
            <a:ahLst/>
            <a:rect l="0" t="0" r="r" b="b"/>
            <a:pathLst>
              <a:path fill="none" w="9336" h="7899">
                <a:moveTo>
                  <a:pt x="0" y="7899"/>
                </a:moveTo>
                <a:lnTo>
                  <a:pt x="66" y="7649"/>
                </a:lnTo>
                <a:lnTo>
                  <a:pt x="542" y="7184"/>
                </a:lnTo>
                <a:lnTo>
                  <a:pt x="1058" y="6670"/>
                </a:lnTo>
                <a:lnTo>
                  <a:pt x="1389" y="6459"/>
                </a:lnTo>
                <a:lnTo>
                  <a:pt x="1825" y="5821"/>
                </a:lnTo>
                <a:lnTo>
                  <a:pt x="2037" y="5277"/>
                </a:lnTo>
                <a:lnTo>
                  <a:pt x="2275" y="5042"/>
                </a:lnTo>
                <a:lnTo>
                  <a:pt x="2539" y="4591"/>
                </a:lnTo>
                <a:lnTo>
                  <a:pt x="2923" y="4047"/>
                </a:lnTo>
                <a:lnTo>
                  <a:pt x="3346" y="3136"/>
                </a:lnTo>
                <a:lnTo>
                  <a:pt x="3942" y="2715"/>
                </a:lnTo>
                <a:lnTo>
                  <a:pt x="4167" y="2725"/>
                </a:lnTo>
                <a:lnTo>
                  <a:pt x="4511" y="2935"/>
                </a:lnTo>
                <a:lnTo>
                  <a:pt x="4616" y="3136"/>
                </a:lnTo>
                <a:lnTo>
                  <a:pt x="4895" y="3322"/>
                </a:lnTo>
                <a:lnTo>
                  <a:pt x="5292" y="3494"/>
                </a:lnTo>
                <a:lnTo>
                  <a:pt x="5530" y="3347"/>
                </a:lnTo>
                <a:lnTo>
                  <a:pt x="5967" y="2778"/>
                </a:lnTo>
                <a:lnTo>
                  <a:pt x="6059" y="2700"/>
                </a:lnTo>
                <a:lnTo>
                  <a:pt x="6205" y="2671"/>
                </a:lnTo>
                <a:lnTo>
                  <a:pt x="6421" y="2582"/>
                </a:lnTo>
                <a:lnTo>
                  <a:pt x="6549" y="2440"/>
                </a:lnTo>
                <a:lnTo>
                  <a:pt x="6633" y="2298"/>
                </a:lnTo>
                <a:lnTo>
                  <a:pt x="6725" y="2073"/>
                </a:lnTo>
                <a:lnTo>
                  <a:pt x="6858" y="1995"/>
                </a:lnTo>
                <a:lnTo>
                  <a:pt x="7060" y="1930"/>
                </a:lnTo>
                <a:lnTo>
                  <a:pt x="7096" y="1940"/>
                </a:lnTo>
                <a:lnTo>
                  <a:pt x="7334" y="1915"/>
                </a:lnTo>
                <a:lnTo>
                  <a:pt x="7444" y="1871"/>
                </a:lnTo>
                <a:lnTo>
                  <a:pt x="7572" y="1729"/>
                </a:lnTo>
                <a:lnTo>
                  <a:pt x="7700" y="1680"/>
                </a:lnTo>
                <a:lnTo>
                  <a:pt x="7828" y="1587"/>
                </a:lnTo>
                <a:lnTo>
                  <a:pt x="8000" y="1396"/>
                </a:lnTo>
                <a:lnTo>
                  <a:pt x="8128" y="1303"/>
                </a:lnTo>
                <a:lnTo>
                  <a:pt x="8255" y="1254"/>
                </a:lnTo>
                <a:lnTo>
                  <a:pt x="8339" y="1112"/>
                </a:lnTo>
                <a:lnTo>
                  <a:pt x="8467" y="1019"/>
                </a:lnTo>
                <a:lnTo>
                  <a:pt x="8511" y="876"/>
                </a:lnTo>
                <a:lnTo>
                  <a:pt x="8599" y="685"/>
                </a:lnTo>
                <a:lnTo>
                  <a:pt x="8727" y="543"/>
                </a:lnTo>
                <a:lnTo>
                  <a:pt x="8855" y="401"/>
                </a:lnTo>
                <a:lnTo>
                  <a:pt x="8983" y="210"/>
                </a:lnTo>
                <a:lnTo>
                  <a:pt x="9111" y="68"/>
                </a:lnTo>
                <a:lnTo>
                  <a:pt x="9239" y="24"/>
                </a:lnTo>
                <a:lnTo>
                  <a:pt x="933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36800" y="3889440"/>
            <a:ext cx="3262680" cy="2730960"/>
          </a:xfrm>
          <a:custGeom>
            <a:avLst/>
            <a:gdLst/>
            <a:ahLst/>
            <a:rect l="0" t="0" r="r" b="b"/>
            <a:pathLst>
              <a:path fill="none" w="9063" h="7586">
                <a:moveTo>
                  <a:pt x="9063" y="0"/>
                </a:moveTo>
                <a:lnTo>
                  <a:pt x="8980" y="127"/>
                </a:lnTo>
                <a:lnTo>
                  <a:pt x="8852" y="255"/>
                </a:lnTo>
                <a:lnTo>
                  <a:pt x="8724" y="343"/>
                </a:lnTo>
                <a:lnTo>
                  <a:pt x="8636" y="471"/>
                </a:lnTo>
                <a:lnTo>
                  <a:pt x="8552" y="599"/>
                </a:lnTo>
                <a:lnTo>
                  <a:pt x="8468" y="727"/>
                </a:lnTo>
                <a:lnTo>
                  <a:pt x="8380" y="855"/>
                </a:lnTo>
                <a:lnTo>
                  <a:pt x="8296" y="983"/>
                </a:lnTo>
                <a:lnTo>
                  <a:pt x="8168" y="1067"/>
                </a:lnTo>
                <a:lnTo>
                  <a:pt x="8040" y="1195"/>
                </a:lnTo>
                <a:lnTo>
                  <a:pt x="7913" y="1283"/>
                </a:lnTo>
                <a:lnTo>
                  <a:pt x="7785" y="1411"/>
                </a:lnTo>
                <a:lnTo>
                  <a:pt x="7613" y="1494"/>
                </a:lnTo>
                <a:lnTo>
                  <a:pt x="7485" y="1622"/>
                </a:lnTo>
                <a:lnTo>
                  <a:pt x="7357" y="1666"/>
                </a:lnTo>
                <a:lnTo>
                  <a:pt x="7295" y="1781"/>
                </a:lnTo>
                <a:lnTo>
                  <a:pt x="7207" y="1860"/>
                </a:lnTo>
                <a:lnTo>
                  <a:pt x="7075" y="1914"/>
                </a:lnTo>
                <a:lnTo>
                  <a:pt x="7004" y="1976"/>
                </a:lnTo>
                <a:lnTo>
                  <a:pt x="6916" y="2082"/>
                </a:lnTo>
                <a:lnTo>
                  <a:pt x="6721" y="2258"/>
                </a:lnTo>
                <a:lnTo>
                  <a:pt x="6553" y="2355"/>
                </a:lnTo>
                <a:lnTo>
                  <a:pt x="6430" y="2426"/>
                </a:lnTo>
                <a:lnTo>
                  <a:pt x="6342" y="2532"/>
                </a:lnTo>
                <a:lnTo>
                  <a:pt x="6218" y="2620"/>
                </a:lnTo>
                <a:lnTo>
                  <a:pt x="6174" y="2752"/>
                </a:lnTo>
                <a:lnTo>
                  <a:pt x="6033" y="2858"/>
                </a:lnTo>
                <a:lnTo>
                  <a:pt x="5910" y="3043"/>
                </a:lnTo>
                <a:lnTo>
                  <a:pt x="5716" y="3140"/>
                </a:lnTo>
                <a:lnTo>
                  <a:pt x="5618" y="3264"/>
                </a:lnTo>
                <a:lnTo>
                  <a:pt x="5460" y="3396"/>
                </a:lnTo>
                <a:lnTo>
                  <a:pt x="5292" y="3475"/>
                </a:lnTo>
                <a:lnTo>
                  <a:pt x="5160" y="3511"/>
                </a:lnTo>
                <a:lnTo>
                  <a:pt x="5010" y="3493"/>
                </a:lnTo>
                <a:lnTo>
                  <a:pt x="4781" y="3475"/>
                </a:lnTo>
                <a:lnTo>
                  <a:pt x="4626" y="3286"/>
                </a:lnTo>
                <a:lnTo>
                  <a:pt x="4498" y="3202"/>
                </a:lnTo>
                <a:lnTo>
                  <a:pt x="4371" y="3074"/>
                </a:lnTo>
                <a:lnTo>
                  <a:pt x="4238" y="2990"/>
                </a:lnTo>
                <a:lnTo>
                  <a:pt x="4154" y="2862"/>
                </a:lnTo>
                <a:lnTo>
                  <a:pt x="4027" y="2818"/>
                </a:lnTo>
                <a:lnTo>
                  <a:pt x="3899" y="2774"/>
                </a:lnTo>
                <a:lnTo>
                  <a:pt x="3775" y="2638"/>
                </a:lnTo>
                <a:lnTo>
                  <a:pt x="3599" y="2774"/>
                </a:lnTo>
                <a:lnTo>
                  <a:pt x="3515" y="2902"/>
                </a:lnTo>
                <a:lnTo>
                  <a:pt x="3431" y="3030"/>
                </a:lnTo>
                <a:lnTo>
                  <a:pt x="3343" y="3158"/>
                </a:lnTo>
                <a:lnTo>
                  <a:pt x="3215" y="3286"/>
                </a:lnTo>
                <a:lnTo>
                  <a:pt x="3131" y="3418"/>
                </a:lnTo>
                <a:lnTo>
                  <a:pt x="3004" y="3546"/>
                </a:lnTo>
                <a:lnTo>
                  <a:pt x="2915" y="3674"/>
                </a:lnTo>
                <a:lnTo>
                  <a:pt x="2832" y="3802"/>
                </a:lnTo>
                <a:lnTo>
                  <a:pt x="2704" y="3930"/>
                </a:lnTo>
                <a:lnTo>
                  <a:pt x="2660" y="4057"/>
                </a:lnTo>
                <a:lnTo>
                  <a:pt x="2576" y="4185"/>
                </a:lnTo>
                <a:lnTo>
                  <a:pt x="2448" y="4353"/>
                </a:lnTo>
                <a:lnTo>
                  <a:pt x="2364" y="4481"/>
                </a:lnTo>
                <a:lnTo>
                  <a:pt x="2235" y="4609"/>
                </a:lnTo>
                <a:lnTo>
                  <a:pt x="2147" y="4741"/>
                </a:lnTo>
                <a:lnTo>
                  <a:pt x="2063" y="4869"/>
                </a:lnTo>
                <a:lnTo>
                  <a:pt x="1979" y="4997"/>
                </a:lnTo>
                <a:lnTo>
                  <a:pt x="1891" y="5125"/>
                </a:lnTo>
                <a:lnTo>
                  <a:pt x="1807" y="5252"/>
                </a:lnTo>
                <a:lnTo>
                  <a:pt x="1724" y="5380"/>
                </a:lnTo>
                <a:lnTo>
                  <a:pt x="1636" y="5508"/>
                </a:lnTo>
                <a:lnTo>
                  <a:pt x="1552" y="5636"/>
                </a:lnTo>
                <a:lnTo>
                  <a:pt x="1508" y="5765"/>
                </a:lnTo>
                <a:lnTo>
                  <a:pt x="1424" y="5893"/>
                </a:lnTo>
                <a:lnTo>
                  <a:pt x="1336" y="6021"/>
                </a:lnTo>
                <a:lnTo>
                  <a:pt x="1252" y="6149"/>
                </a:lnTo>
                <a:lnTo>
                  <a:pt x="1124" y="6321"/>
                </a:lnTo>
                <a:lnTo>
                  <a:pt x="1040" y="6449"/>
                </a:lnTo>
                <a:lnTo>
                  <a:pt x="912" y="6488"/>
                </a:lnTo>
                <a:lnTo>
                  <a:pt x="784" y="6576"/>
                </a:lnTo>
                <a:lnTo>
                  <a:pt x="696" y="6704"/>
                </a:lnTo>
                <a:lnTo>
                  <a:pt x="568" y="6788"/>
                </a:lnTo>
                <a:lnTo>
                  <a:pt x="440" y="6916"/>
                </a:lnTo>
                <a:lnTo>
                  <a:pt x="357" y="7044"/>
                </a:lnTo>
                <a:lnTo>
                  <a:pt x="229" y="7172"/>
                </a:lnTo>
                <a:lnTo>
                  <a:pt x="141" y="7300"/>
                </a:lnTo>
                <a:lnTo>
                  <a:pt x="57" y="7427"/>
                </a:lnTo>
                <a:lnTo>
                  <a:pt x="0" y="758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54520" y="4203720"/>
            <a:ext cx="3150000" cy="2416680"/>
          </a:xfrm>
          <a:custGeom>
            <a:avLst/>
            <a:gdLst/>
            <a:ahLst/>
            <a:rect l="0" t="0" r="r" b="b"/>
            <a:pathLst>
              <a:path fill="none" w="8750" h="6713">
                <a:moveTo>
                  <a:pt x="8750" y="0"/>
                </a:moveTo>
                <a:lnTo>
                  <a:pt x="8653" y="26"/>
                </a:lnTo>
                <a:lnTo>
                  <a:pt x="8525" y="66"/>
                </a:lnTo>
                <a:lnTo>
                  <a:pt x="8398" y="154"/>
                </a:lnTo>
                <a:lnTo>
                  <a:pt x="8270" y="194"/>
                </a:lnTo>
                <a:lnTo>
                  <a:pt x="8142" y="282"/>
                </a:lnTo>
                <a:lnTo>
                  <a:pt x="8054" y="449"/>
                </a:lnTo>
                <a:lnTo>
                  <a:pt x="7926" y="577"/>
                </a:lnTo>
                <a:lnTo>
                  <a:pt x="7798" y="705"/>
                </a:lnTo>
                <a:lnTo>
                  <a:pt x="7670" y="793"/>
                </a:lnTo>
                <a:lnTo>
                  <a:pt x="7542" y="921"/>
                </a:lnTo>
                <a:lnTo>
                  <a:pt x="7414" y="1005"/>
                </a:lnTo>
                <a:lnTo>
                  <a:pt x="7330" y="1133"/>
                </a:lnTo>
                <a:lnTo>
                  <a:pt x="7260" y="1296"/>
                </a:lnTo>
                <a:lnTo>
                  <a:pt x="7172" y="1455"/>
                </a:lnTo>
                <a:lnTo>
                  <a:pt x="6951" y="1569"/>
                </a:lnTo>
                <a:lnTo>
                  <a:pt x="6713" y="1631"/>
                </a:lnTo>
                <a:lnTo>
                  <a:pt x="6558" y="1689"/>
                </a:lnTo>
                <a:lnTo>
                  <a:pt x="6430" y="1817"/>
                </a:lnTo>
                <a:lnTo>
                  <a:pt x="6302" y="1945"/>
                </a:lnTo>
                <a:lnTo>
                  <a:pt x="6218" y="2073"/>
                </a:lnTo>
                <a:lnTo>
                  <a:pt x="6090" y="2157"/>
                </a:lnTo>
                <a:lnTo>
                  <a:pt x="6007" y="2285"/>
                </a:lnTo>
                <a:lnTo>
                  <a:pt x="5879" y="2373"/>
                </a:lnTo>
                <a:lnTo>
                  <a:pt x="5751" y="2457"/>
                </a:lnTo>
                <a:lnTo>
                  <a:pt x="5623" y="2545"/>
                </a:lnTo>
                <a:lnTo>
                  <a:pt x="5495" y="2585"/>
                </a:lnTo>
                <a:lnTo>
                  <a:pt x="5367" y="2629"/>
                </a:lnTo>
                <a:lnTo>
                  <a:pt x="5235" y="2712"/>
                </a:lnTo>
                <a:lnTo>
                  <a:pt x="5107" y="2757"/>
                </a:lnTo>
                <a:lnTo>
                  <a:pt x="4979" y="2757"/>
                </a:lnTo>
                <a:lnTo>
                  <a:pt x="4851" y="2801"/>
                </a:lnTo>
                <a:lnTo>
                  <a:pt x="4723" y="2840"/>
                </a:lnTo>
                <a:lnTo>
                  <a:pt x="4556" y="2884"/>
                </a:lnTo>
                <a:lnTo>
                  <a:pt x="4340" y="2884"/>
                </a:lnTo>
                <a:lnTo>
                  <a:pt x="4212" y="2840"/>
                </a:lnTo>
                <a:lnTo>
                  <a:pt x="4084" y="2757"/>
                </a:lnTo>
                <a:lnTo>
                  <a:pt x="3956" y="2712"/>
                </a:lnTo>
                <a:lnTo>
                  <a:pt x="3828" y="2629"/>
                </a:lnTo>
                <a:lnTo>
                  <a:pt x="3700" y="2585"/>
                </a:lnTo>
                <a:lnTo>
                  <a:pt x="3572" y="2545"/>
                </a:lnTo>
                <a:lnTo>
                  <a:pt x="3444" y="2501"/>
                </a:lnTo>
                <a:lnTo>
                  <a:pt x="3299" y="2369"/>
                </a:lnTo>
                <a:lnTo>
                  <a:pt x="3145" y="2501"/>
                </a:lnTo>
                <a:lnTo>
                  <a:pt x="3017" y="2545"/>
                </a:lnTo>
                <a:lnTo>
                  <a:pt x="2933" y="2673"/>
                </a:lnTo>
                <a:lnTo>
                  <a:pt x="2805" y="2757"/>
                </a:lnTo>
                <a:lnTo>
                  <a:pt x="2677" y="2840"/>
                </a:lnTo>
                <a:lnTo>
                  <a:pt x="2549" y="2968"/>
                </a:lnTo>
                <a:lnTo>
                  <a:pt x="2505" y="3096"/>
                </a:lnTo>
                <a:lnTo>
                  <a:pt x="2421" y="3224"/>
                </a:lnTo>
                <a:lnTo>
                  <a:pt x="2333" y="3352"/>
                </a:lnTo>
                <a:lnTo>
                  <a:pt x="2249" y="3480"/>
                </a:lnTo>
                <a:lnTo>
                  <a:pt x="2165" y="3608"/>
                </a:lnTo>
                <a:lnTo>
                  <a:pt x="2076" y="3736"/>
                </a:lnTo>
                <a:lnTo>
                  <a:pt x="1993" y="3868"/>
                </a:lnTo>
                <a:lnTo>
                  <a:pt x="1909" y="3996"/>
                </a:lnTo>
                <a:lnTo>
                  <a:pt x="1821" y="4124"/>
                </a:lnTo>
                <a:lnTo>
                  <a:pt x="1737" y="4251"/>
                </a:lnTo>
                <a:lnTo>
                  <a:pt x="1653" y="4379"/>
                </a:lnTo>
                <a:lnTo>
                  <a:pt x="1565" y="4507"/>
                </a:lnTo>
                <a:lnTo>
                  <a:pt x="1525" y="4635"/>
                </a:lnTo>
                <a:lnTo>
                  <a:pt x="1397" y="4763"/>
                </a:lnTo>
                <a:lnTo>
                  <a:pt x="1353" y="4891"/>
                </a:lnTo>
                <a:lnTo>
                  <a:pt x="1225" y="5019"/>
                </a:lnTo>
                <a:lnTo>
                  <a:pt x="1137" y="5148"/>
                </a:lnTo>
                <a:lnTo>
                  <a:pt x="1098" y="5276"/>
                </a:lnTo>
                <a:lnTo>
                  <a:pt x="1053" y="5403"/>
                </a:lnTo>
                <a:lnTo>
                  <a:pt x="926" y="5531"/>
                </a:lnTo>
                <a:lnTo>
                  <a:pt x="798" y="5659"/>
                </a:lnTo>
                <a:lnTo>
                  <a:pt x="670" y="5787"/>
                </a:lnTo>
                <a:lnTo>
                  <a:pt x="542" y="5915"/>
                </a:lnTo>
                <a:lnTo>
                  <a:pt x="458" y="6043"/>
                </a:lnTo>
                <a:lnTo>
                  <a:pt x="330" y="6127"/>
                </a:lnTo>
                <a:lnTo>
                  <a:pt x="242" y="6254"/>
                </a:lnTo>
                <a:lnTo>
                  <a:pt x="158" y="6382"/>
                </a:lnTo>
                <a:lnTo>
                  <a:pt x="74" y="6515"/>
                </a:lnTo>
                <a:lnTo>
                  <a:pt x="0" y="671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19400" y="4562640"/>
            <a:ext cx="2984760" cy="2054520"/>
          </a:xfrm>
          <a:custGeom>
            <a:avLst/>
            <a:gdLst/>
            <a:ahLst/>
            <a:rect l="0" t="0" r="r" b="b"/>
            <a:pathLst>
              <a:path fill="none" w="8291" h="5707">
                <a:moveTo>
                  <a:pt x="8291" y="0"/>
                </a:moveTo>
                <a:lnTo>
                  <a:pt x="8194" y="92"/>
                </a:lnTo>
                <a:lnTo>
                  <a:pt x="8066" y="136"/>
                </a:lnTo>
                <a:lnTo>
                  <a:pt x="7938" y="180"/>
                </a:lnTo>
                <a:lnTo>
                  <a:pt x="7810" y="224"/>
                </a:lnTo>
                <a:lnTo>
                  <a:pt x="7682" y="308"/>
                </a:lnTo>
                <a:lnTo>
                  <a:pt x="7554" y="352"/>
                </a:lnTo>
                <a:lnTo>
                  <a:pt x="7422" y="480"/>
                </a:lnTo>
                <a:lnTo>
                  <a:pt x="7338" y="608"/>
                </a:lnTo>
                <a:lnTo>
                  <a:pt x="7210" y="692"/>
                </a:lnTo>
                <a:lnTo>
                  <a:pt x="7083" y="776"/>
                </a:lnTo>
                <a:lnTo>
                  <a:pt x="6955" y="864"/>
                </a:lnTo>
                <a:lnTo>
                  <a:pt x="6827" y="948"/>
                </a:lnTo>
                <a:lnTo>
                  <a:pt x="6699" y="992"/>
                </a:lnTo>
                <a:lnTo>
                  <a:pt x="6571" y="1075"/>
                </a:lnTo>
                <a:lnTo>
                  <a:pt x="6443" y="1159"/>
                </a:lnTo>
                <a:lnTo>
                  <a:pt x="6315" y="1287"/>
                </a:lnTo>
                <a:lnTo>
                  <a:pt x="6143" y="1415"/>
                </a:lnTo>
                <a:lnTo>
                  <a:pt x="6015" y="1503"/>
                </a:lnTo>
                <a:lnTo>
                  <a:pt x="5843" y="1587"/>
                </a:lnTo>
                <a:lnTo>
                  <a:pt x="5676" y="1715"/>
                </a:lnTo>
                <a:lnTo>
                  <a:pt x="5548" y="1803"/>
                </a:lnTo>
                <a:lnTo>
                  <a:pt x="5420" y="1887"/>
                </a:lnTo>
                <a:lnTo>
                  <a:pt x="5248" y="1971"/>
                </a:lnTo>
                <a:lnTo>
                  <a:pt x="5120" y="2059"/>
                </a:lnTo>
                <a:lnTo>
                  <a:pt x="4992" y="2099"/>
                </a:lnTo>
                <a:lnTo>
                  <a:pt x="4864" y="2143"/>
                </a:lnTo>
                <a:lnTo>
                  <a:pt x="4737" y="2143"/>
                </a:lnTo>
                <a:lnTo>
                  <a:pt x="4565" y="2187"/>
                </a:lnTo>
                <a:lnTo>
                  <a:pt x="4393" y="2226"/>
                </a:lnTo>
                <a:lnTo>
                  <a:pt x="4265" y="2226"/>
                </a:lnTo>
                <a:lnTo>
                  <a:pt x="4096" y="2226"/>
                </a:lnTo>
                <a:lnTo>
                  <a:pt x="3968" y="2271"/>
                </a:lnTo>
                <a:lnTo>
                  <a:pt x="3840" y="2271"/>
                </a:lnTo>
                <a:lnTo>
                  <a:pt x="3712" y="2226"/>
                </a:lnTo>
                <a:lnTo>
                  <a:pt x="3585" y="2187"/>
                </a:lnTo>
                <a:lnTo>
                  <a:pt x="3452" y="2187"/>
                </a:lnTo>
                <a:lnTo>
                  <a:pt x="3324" y="2143"/>
                </a:lnTo>
                <a:lnTo>
                  <a:pt x="3157" y="2059"/>
                </a:lnTo>
                <a:lnTo>
                  <a:pt x="3029" y="2015"/>
                </a:lnTo>
                <a:lnTo>
                  <a:pt x="2853" y="1957"/>
                </a:lnTo>
                <a:lnTo>
                  <a:pt x="2698" y="1847"/>
                </a:lnTo>
                <a:lnTo>
                  <a:pt x="2548" y="1927"/>
                </a:lnTo>
                <a:lnTo>
                  <a:pt x="2345" y="2059"/>
                </a:lnTo>
                <a:lnTo>
                  <a:pt x="2218" y="2099"/>
                </a:lnTo>
                <a:lnTo>
                  <a:pt x="2129" y="2226"/>
                </a:lnTo>
                <a:lnTo>
                  <a:pt x="2002" y="2354"/>
                </a:lnTo>
                <a:lnTo>
                  <a:pt x="1918" y="2482"/>
                </a:lnTo>
                <a:lnTo>
                  <a:pt x="1874" y="2610"/>
                </a:lnTo>
                <a:lnTo>
                  <a:pt x="1790" y="2738"/>
                </a:lnTo>
                <a:lnTo>
                  <a:pt x="1706" y="2871"/>
                </a:lnTo>
                <a:lnTo>
                  <a:pt x="1662" y="2999"/>
                </a:lnTo>
                <a:lnTo>
                  <a:pt x="1534" y="3083"/>
                </a:lnTo>
                <a:lnTo>
                  <a:pt x="1450" y="3255"/>
                </a:lnTo>
                <a:lnTo>
                  <a:pt x="1322" y="3383"/>
                </a:lnTo>
                <a:lnTo>
                  <a:pt x="1278" y="3511"/>
                </a:lnTo>
                <a:lnTo>
                  <a:pt x="1195" y="3639"/>
                </a:lnTo>
                <a:lnTo>
                  <a:pt x="1106" y="3766"/>
                </a:lnTo>
                <a:lnTo>
                  <a:pt x="1023" y="3894"/>
                </a:lnTo>
                <a:lnTo>
                  <a:pt x="978" y="4022"/>
                </a:lnTo>
                <a:lnTo>
                  <a:pt x="895" y="4150"/>
                </a:lnTo>
                <a:lnTo>
                  <a:pt x="806" y="4278"/>
                </a:lnTo>
                <a:lnTo>
                  <a:pt x="723" y="4406"/>
                </a:lnTo>
                <a:lnTo>
                  <a:pt x="679" y="4534"/>
                </a:lnTo>
                <a:lnTo>
                  <a:pt x="595" y="4662"/>
                </a:lnTo>
                <a:lnTo>
                  <a:pt x="511" y="4789"/>
                </a:lnTo>
                <a:lnTo>
                  <a:pt x="423" y="4917"/>
                </a:lnTo>
                <a:lnTo>
                  <a:pt x="339" y="5045"/>
                </a:lnTo>
                <a:lnTo>
                  <a:pt x="255" y="5173"/>
                </a:lnTo>
                <a:lnTo>
                  <a:pt x="167" y="5301"/>
                </a:lnTo>
                <a:lnTo>
                  <a:pt x="127" y="5429"/>
                </a:lnTo>
                <a:lnTo>
                  <a:pt x="39" y="5557"/>
                </a:lnTo>
                <a:lnTo>
                  <a:pt x="0" y="570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86360" y="5076720"/>
            <a:ext cx="2918160" cy="1543320"/>
          </a:xfrm>
          <a:custGeom>
            <a:avLst/>
            <a:gdLst/>
            <a:ahLst/>
            <a:rect l="0" t="0" r="r" b="b"/>
            <a:pathLst>
              <a:path fill="none" w="8106" h="4287">
                <a:moveTo>
                  <a:pt x="8106" y="0"/>
                </a:moveTo>
                <a:lnTo>
                  <a:pt x="8009" y="30"/>
                </a:lnTo>
                <a:lnTo>
                  <a:pt x="7881" y="74"/>
                </a:lnTo>
                <a:lnTo>
                  <a:pt x="7753" y="158"/>
                </a:lnTo>
                <a:lnTo>
                  <a:pt x="7625" y="246"/>
                </a:lnTo>
                <a:lnTo>
                  <a:pt x="7497" y="330"/>
                </a:lnTo>
                <a:lnTo>
                  <a:pt x="7369" y="414"/>
                </a:lnTo>
                <a:lnTo>
                  <a:pt x="7237" y="502"/>
                </a:lnTo>
                <a:lnTo>
                  <a:pt x="7109" y="586"/>
                </a:lnTo>
                <a:lnTo>
                  <a:pt x="6941" y="714"/>
                </a:lnTo>
                <a:lnTo>
                  <a:pt x="6769" y="798"/>
                </a:lnTo>
                <a:lnTo>
                  <a:pt x="6642" y="886"/>
                </a:lnTo>
                <a:lnTo>
                  <a:pt x="6514" y="970"/>
                </a:lnTo>
                <a:lnTo>
                  <a:pt x="6302" y="1053"/>
                </a:lnTo>
                <a:lnTo>
                  <a:pt x="6130" y="1098"/>
                </a:lnTo>
                <a:lnTo>
                  <a:pt x="6002" y="1142"/>
                </a:lnTo>
                <a:lnTo>
                  <a:pt x="5874" y="1181"/>
                </a:lnTo>
                <a:lnTo>
                  <a:pt x="5618" y="1225"/>
                </a:lnTo>
                <a:lnTo>
                  <a:pt x="5447" y="1270"/>
                </a:lnTo>
                <a:lnTo>
                  <a:pt x="5019" y="1270"/>
                </a:lnTo>
                <a:lnTo>
                  <a:pt x="4891" y="1270"/>
                </a:lnTo>
                <a:lnTo>
                  <a:pt x="4763" y="1309"/>
                </a:lnTo>
                <a:lnTo>
                  <a:pt x="4635" y="1309"/>
                </a:lnTo>
                <a:lnTo>
                  <a:pt x="4463" y="1309"/>
                </a:lnTo>
                <a:lnTo>
                  <a:pt x="4335" y="1309"/>
                </a:lnTo>
                <a:lnTo>
                  <a:pt x="4207" y="1309"/>
                </a:lnTo>
                <a:lnTo>
                  <a:pt x="4039" y="1270"/>
                </a:lnTo>
                <a:lnTo>
                  <a:pt x="3867" y="1270"/>
                </a:lnTo>
                <a:lnTo>
                  <a:pt x="3655" y="1270"/>
                </a:lnTo>
                <a:lnTo>
                  <a:pt x="3527" y="1270"/>
                </a:lnTo>
                <a:lnTo>
                  <a:pt x="3355" y="1225"/>
                </a:lnTo>
                <a:lnTo>
                  <a:pt x="3227" y="1181"/>
                </a:lnTo>
                <a:lnTo>
                  <a:pt x="3100" y="1142"/>
                </a:lnTo>
                <a:lnTo>
                  <a:pt x="2844" y="1142"/>
                </a:lnTo>
                <a:lnTo>
                  <a:pt x="2716" y="1142"/>
                </a:lnTo>
                <a:lnTo>
                  <a:pt x="2579" y="1071"/>
                </a:lnTo>
                <a:lnTo>
                  <a:pt x="2394" y="1212"/>
                </a:lnTo>
                <a:lnTo>
                  <a:pt x="2275" y="1292"/>
                </a:lnTo>
                <a:lnTo>
                  <a:pt x="2204" y="1441"/>
                </a:lnTo>
                <a:lnTo>
                  <a:pt x="2076" y="1525"/>
                </a:lnTo>
                <a:lnTo>
                  <a:pt x="1944" y="1653"/>
                </a:lnTo>
                <a:lnTo>
                  <a:pt x="1816" y="1781"/>
                </a:lnTo>
                <a:lnTo>
                  <a:pt x="1733" y="1909"/>
                </a:lnTo>
                <a:lnTo>
                  <a:pt x="1605" y="2037"/>
                </a:lnTo>
                <a:lnTo>
                  <a:pt x="1477" y="2121"/>
                </a:lnTo>
                <a:lnTo>
                  <a:pt x="1349" y="2249"/>
                </a:lnTo>
                <a:lnTo>
                  <a:pt x="1221" y="2338"/>
                </a:lnTo>
                <a:lnTo>
                  <a:pt x="1137" y="2466"/>
                </a:lnTo>
                <a:lnTo>
                  <a:pt x="965" y="2633"/>
                </a:lnTo>
                <a:lnTo>
                  <a:pt x="881" y="2765"/>
                </a:lnTo>
                <a:lnTo>
                  <a:pt x="837" y="2893"/>
                </a:lnTo>
                <a:lnTo>
                  <a:pt x="754" y="3021"/>
                </a:lnTo>
                <a:lnTo>
                  <a:pt x="709" y="3149"/>
                </a:lnTo>
                <a:lnTo>
                  <a:pt x="621" y="3277"/>
                </a:lnTo>
                <a:lnTo>
                  <a:pt x="537" y="3405"/>
                </a:lnTo>
                <a:lnTo>
                  <a:pt x="493" y="3533"/>
                </a:lnTo>
                <a:lnTo>
                  <a:pt x="410" y="3661"/>
                </a:lnTo>
                <a:lnTo>
                  <a:pt x="366" y="3788"/>
                </a:lnTo>
                <a:lnTo>
                  <a:pt x="198" y="3956"/>
                </a:lnTo>
                <a:lnTo>
                  <a:pt x="110" y="4088"/>
                </a:lnTo>
                <a:lnTo>
                  <a:pt x="0" y="428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87880" y="5505480"/>
            <a:ext cx="2816640" cy="1119600"/>
          </a:xfrm>
          <a:custGeom>
            <a:avLst/>
            <a:gdLst/>
            <a:ahLst/>
            <a:rect l="0" t="0" r="r" b="b"/>
            <a:pathLst>
              <a:path fill="none" w="7824" h="3110">
                <a:moveTo>
                  <a:pt x="7824" y="0"/>
                </a:moveTo>
                <a:lnTo>
                  <a:pt x="7727" y="35"/>
                </a:lnTo>
                <a:lnTo>
                  <a:pt x="7639" y="163"/>
                </a:lnTo>
                <a:lnTo>
                  <a:pt x="7511" y="251"/>
                </a:lnTo>
                <a:lnTo>
                  <a:pt x="7383" y="335"/>
                </a:lnTo>
                <a:lnTo>
                  <a:pt x="7216" y="507"/>
                </a:lnTo>
                <a:lnTo>
                  <a:pt x="7000" y="635"/>
                </a:lnTo>
                <a:lnTo>
                  <a:pt x="6872" y="674"/>
                </a:lnTo>
                <a:lnTo>
                  <a:pt x="6744" y="718"/>
                </a:lnTo>
                <a:lnTo>
                  <a:pt x="6532" y="718"/>
                </a:lnTo>
                <a:lnTo>
                  <a:pt x="6404" y="718"/>
                </a:lnTo>
                <a:lnTo>
                  <a:pt x="6277" y="718"/>
                </a:lnTo>
                <a:lnTo>
                  <a:pt x="5081" y="674"/>
                </a:lnTo>
                <a:lnTo>
                  <a:pt x="4864" y="674"/>
                </a:lnTo>
                <a:lnTo>
                  <a:pt x="4737" y="674"/>
                </a:lnTo>
                <a:lnTo>
                  <a:pt x="4309" y="635"/>
                </a:lnTo>
                <a:lnTo>
                  <a:pt x="4141" y="590"/>
                </a:lnTo>
                <a:lnTo>
                  <a:pt x="4013" y="590"/>
                </a:lnTo>
                <a:lnTo>
                  <a:pt x="3885" y="507"/>
                </a:lnTo>
                <a:lnTo>
                  <a:pt x="3713" y="463"/>
                </a:lnTo>
                <a:lnTo>
                  <a:pt x="3542" y="463"/>
                </a:lnTo>
                <a:lnTo>
                  <a:pt x="3414" y="463"/>
                </a:lnTo>
                <a:lnTo>
                  <a:pt x="3246" y="463"/>
                </a:lnTo>
                <a:lnTo>
                  <a:pt x="3118" y="463"/>
                </a:lnTo>
                <a:lnTo>
                  <a:pt x="2946" y="463"/>
                </a:lnTo>
                <a:lnTo>
                  <a:pt x="2818" y="463"/>
                </a:lnTo>
                <a:lnTo>
                  <a:pt x="2690" y="463"/>
                </a:lnTo>
                <a:lnTo>
                  <a:pt x="2563" y="463"/>
                </a:lnTo>
                <a:lnTo>
                  <a:pt x="2435" y="463"/>
                </a:lnTo>
                <a:lnTo>
                  <a:pt x="2307" y="507"/>
                </a:lnTo>
                <a:lnTo>
                  <a:pt x="2179" y="546"/>
                </a:lnTo>
                <a:lnTo>
                  <a:pt x="2007" y="590"/>
                </a:lnTo>
                <a:lnTo>
                  <a:pt x="1878" y="635"/>
                </a:lnTo>
                <a:lnTo>
                  <a:pt x="1750" y="674"/>
                </a:lnTo>
                <a:lnTo>
                  <a:pt x="1622" y="762"/>
                </a:lnTo>
                <a:lnTo>
                  <a:pt x="1494" y="847"/>
                </a:lnTo>
                <a:lnTo>
                  <a:pt x="1406" y="975"/>
                </a:lnTo>
                <a:lnTo>
                  <a:pt x="1278" y="1019"/>
                </a:lnTo>
                <a:lnTo>
                  <a:pt x="1150" y="1103"/>
                </a:lnTo>
                <a:lnTo>
                  <a:pt x="1067" y="1231"/>
                </a:lnTo>
                <a:lnTo>
                  <a:pt x="983" y="1359"/>
                </a:lnTo>
                <a:lnTo>
                  <a:pt x="855" y="1487"/>
                </a:lnTo>
                <a:lnTo>
                  <a:pt x="727" y="1659"/>
                </a:lnTo>
                <a:lnTo>
                  <a:pt x="639" y="1786"/>
                </a:lnTo>
                <a:lnTo>
                  <a:pt x="555" y="1914"/>
                </a:lnTo>
                <a:lnTo>
                  <a:pt x="511" y="2042"/>
                </a:lnTo>
                <a:lnTo>
                  <a:pt x="471" y="2170"/>
                </a:lnTo>
                <a:lnTo>
                  <a:pt x="383" y="2343"/>
                </a:lnTo>
                <a:lnTo>
                  <a:pt x="299" y="2471"/>
                </a:lnTo>
                <a:lnTo>
                  <a:pt x="255" y="2599"/>
                </a:lnTo>
                <a:lnTo>
                  <a:pt x="211" y="2727"/>
                </a:lnTo>
                <a:lnTo>
                  <a:pt x="127" y="2855"/>
                </a:lnTo>
                <a:lnTo>
                  <a:pt x="44" y="2982"/>
                </a:lnTo>
                <a:lnTo>
                  <a:pt x="0" y="311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92640" y="5886360"/>
            <a:ext cx="2711880" cy="733680"/>
          </a:xfrm>
          <a:custGeom>
            <a:avLst/>
            <a:gdLst/>
            <a:ahLst/>
            <a:rect l="0" t="0" r="r" b="b"/>
            <a:pathLst>
              <a:path fill="none" w="7533" h="2038">
                <a:moveTo>
                  <a:pt x="7533" y="432"/>
                </a:moveTo>
                <a:lnTo>
                  <a:pt x="7436" y="427"/>
                </a:lnTo>
                <a:lnTo>
                  <a:pt x="7181" y="471"/>
                </a:lnTo>
                <a:lnTo>
                  <a:pt x="7053" y="515"/>
                </a:lnTo>
                <a:lnTo>
                  <a:pt x="6881" y="515"/>
                </a:lnTo>
                <a:lnTo>
                  <a:pt x="6753" y="471"/>
                </a:lnTo>
                <a:lnTo>
                  <a:pt x="6625" y="471"/>
                </a:lnTo>
                <a:lnTo>
                  <a:pt x="6497" y="471"/>
                </a:lnTo>
                <a:lnTo>
                  <a:pt x="6369" y="427"/>
                </a:lnTo>
                <a:lnTo>
                  <a:pt x="6197" y="427"/>
                </a:lnTo>
                <a:lnTo>
                  <a:pt x="5985" y="471"/>
                </a:lnTo>
                <a:lnTo>
                  <a:pt x="5858" y="471"/>
                </a:lnTo>
                <a:lnTo>
                  <a:pt x="5730" y="515"/>
                </a:lnTo>
                <a:lnTo>
                  <a:pt x="5601" y="515"/>
                </a:lnTo>
                <a:lnTo>
                  <a:pt x="5473" y="515"/>
                </a:lnTo>
                <a:lnTo>
                  <a:pt x="5341" y="515"/>
                </a:lnTo>
                <a:lnTo>
                  <a:pt x="5173" y="471"/>
                </a:lnTo>
                <a:lnTo>
                  <a:pt x="5045" y="427"/>
                </a:lnTo>
                <a:lnTo>
                  <a:pt x="4917" y="383"/>
                </a:lnTo>
                <a:lnTo>
                  <a:pt x="4745" y="343"/>
                </a:lnTo>
                <a:lnTo>
                  <a:pt x="4617" y="299"/>
                </a:lnTo>
                <a:lnTo>
                  <a:pt x="4490" y="299"/>
                </a:lnTo>
                <a:lnTo>
                  <a:pt x="4362" y="255"/>
                </a:lnTo>
                <a:lnTo>
                  <a:pt x="4234" y="255"/>
                </a:lnTo>
                <a:lnTo>
                  <a:pt x="4062" y="171"/>
                </a:lnTo>
                <a:lnTo>
                  <a:pt x="3934" y="171"/>
                </a:lnTo>
                <a:lnTo>
                  <a:pt x="3762" y="127"/>
                </a:lnTo>
                <a:lnTo>
                  <a:pt x="3634" y="88"/>
                </a:lnTo>
                <a:lnTo>
                  <a:pt x="3467" y="88"/>
                </a:lnTo>
                <a:lnTo>
                  <a:pt x="3039" y="0"/>
                </a:lnTo>
                <a:lnTo>
                  <a:pt x="2867" y="0"/>
                </a:lnTo>
                <a:lnTo>
                  <a:pt x="2695" y="0"/>
                </a:lnTo>
                <a:lnTo>
                  <a:pt x="2567" y="44"/>
                </a:lnTo>
                <a:lnTo>
                  <a:pt x="2439" y="88"/>
                </a:lnTo>
                <a:lnTo>
                  <a:pt x="2311" y="127"/>
                </a:lnTo>
                <a:lnTo>
                  <a:pt x="2183" y="216"/>
                </a:lnTo>
                <a:lnTo>
                  <a:pt x="2055" y="255"/>
                </a:lnTo>
                <a:lnTo>
                  <a:pt x="1928" y="343"/>
                </a:lnTo>
                <a:lnTo>
                  <a:pt x="1799" y="343"/>
                </a:lnTo>
                <a:lnTo>
                  <a:pt x="1631" y="383"/>
                </a:lnTo>
                <a:lnTo>
                  <a:pt x="1503" y="427"/>
                </a:lnTo>
                <a:lnTo>
                  <a:pt x="1371" y="471"/>
                </a:lnTo>
                <a:lnTo>
                  <a:pt x="1243" y="515"/>
                </a:lnTo>
                <a:lnTo>
                  <a:pt x="1115" y="555"/>
                </a:lnTo>
                <a:lnTo>
                  <a:pt x="987" y="599"/>
                </a:lnTo>
                <a:lnTo>
                  <a:pt x="859" y="727"/>
                </a:lnTo>
                <a:lnTo>
                  <a:pt x="732" y="811"/>
                </a:lnTo>
                <a:lnTo>
                  <a:pt x="648" y="939"/>
                </a:lnTo>
                <a:lnTo>
                  <a:pt x="520" y="1028"/>
                </a:lnTo>
                <a:lnTo>
                  <a:pt x="436" y="1156"/>
                </a:lnTo>
                <a:lnTo>
                  <a:pt x="308" y="1240"/>
                </a:lnTo>
                <a:lnTo>
                  <a:pt x="220" y="1368"/>
                </a:lnTo>
                <a:lnTo>
                  <a:pt x="136" y="1495"/>
                </a:lnTo>
                <a:lnTo>
                  <a:pt x="136" y="1623"/>
                </a:lnTo>
                <a:lnTo>
                  <a:pt x="92" y="1751"/>
                </a:lnTo>
                <a:lnTo>
                  <a:pt x="48" y="1879"/>
                </a:lnTo>
                <a:lnTo>
                  <a:pt x="0" y="203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03880" y="6164280"/>
            <a:ext cx="2595960" cy="460800"/>
          </a:xfrm>
          <a:custGeom>
            <a:avLst/>
            <a:gdLst/>
            <a:ahLst/>
            <a:rect l="0" t="0" r="r" b="b"/>
            <a:pathLst>
              <a:path fill="none" w="7211" h="1280">
                <a:moveTo>
                  <a:pt x="7211" y="512"/>
                </a:moveTo>
                <a:lnTo>
                  <a:pt x="7000" y="552"/>
                </a:lnTo>
                <a:lnTo>
                  <a:pt x="6872" y="552"/>
                </a:lnTo>
                <a:lnTo>
                  <a:pt x="6744" y="552"/>
                </a:lnTo>
                <a:lnTo>
                  <a:pt x="6616" y="468"/>
                </a:lnTo>
                <a:lnTo>
                  <a:pt x="6488" y="424"/>
                </a:lnTo>
                <a:lnTo>
                  <a:pt x="6060" y="424"/>
                </a:lnTo>
                <a:lnTo>
                  <a:pt x="5933" y="424"/>
                </a:lnTo>
                <a:lnTo>
                  <a:pt x="5805" y="424"/>
                </a:lnTo>
                <a:lnTo>
                  <a:pt x="5589" y="424"/>
                </a:lnTo>
                <a:lnTo>
                  <a:pt x="5461" y="424"/>
                </a:lnTo>
                <a:lnTo>
                  <a:pt x="5332" y="424"/>
                </a:lnTo>
                <a:lnTo>
                  <a:pt x="5164" y="424"/>
                </a:lnTo>
                <a:lnTo>
                  <a:pt x="5032" y="424"/>
                </a:lnTo>
                <a:lnTo>
                  <a:pt x="4904" y="424"/>
                </a:lnTo>
                <a:lnTo>
                  <a:pt x="4737" y="424"/>
                </a:lnTo>
                <a:lnTo>
                  <a:pt x="4481" y="424"/>
                </a:lnTo>
                <a:lnTo>
                  <a:pt x="4353" y="384"/>
                </a:lnTo>
                <a:lnTo>
                  <a:pt x="4181" y="340"/>
                </a:lnTo>
                <a:lnTo>
                  <a:pt x="4009" y="255"/>
                </a:lnTo>
                <a:lnTo>
                  <a:pt x="3881" y="211"/>
                </a:lnTo>
                <a:lnTo>
                  <a:pt x="3753" y="167"/>
                </a:lnTo>
                <a:lnTo>
                  <a:pt x="3625" y="127"/>
                </a:lnTo>
                <a:lnTo>
                  <a:pt x="3453" y="39"/>
                </a:lnTo>
                <a:lnTo>
                  <a:pt x="3242" y="39"/>
                </a:lnTo>
                <a:lnTo>
                  <a:pt x="3070" y="0"/>
                </a:lnTo>
                <a:lnTo>
                  <a:pt x="2646" y="0"/>
                </a:lnTo>
                <a:lnTo>
                  <a:pt x="2430" y="0"/>
                </a:lnTo>
                <a:lnTo>
                  <a:pt x="2302" y="39"/>
                </a:lnTo>
                <a:lnTo>
                  <a:pt x="2174" y="39"/>
                </a:lnTo>
                <a:lnTo>
                  <a:pt x="2047" y="39"/>
                </a:lnTo>
                <a:lnTo>
                  <a:pt x="1875" y="39"/>
                </a:lnTo>
                <a:lnTo>
                  <a:pt x="1706" y="127"/>
                </a:lnTo>
                <a:lnTo>
                  <a:pt x="1578" y="127"/>
                </a:lnTo>
                <a:lnTo>
                  <a:pt x="1450" y="167"/>
                </a:lnTo>
                <a:lnTo>
                  <a:pt x="1322" y="211"/>
                </a:lnTo>
                <a:lnTo>
                  <a:pt x="1195" y="255"/>
                </a:lnTo>
                <a:lnTo>
                  <a:pt x="1023" y="384"/>
                </a:lnTo>
                <a:lnTo>
                  <a:pt x="895" y="468"/>
                </a:lnTo>
                <a:lnTo>
                  <a:pt x="767" y="552"/>
                </a:lnTo>
                <a:lnTo>
                  <a:pt x="639" y="640"/>
                </a:lnTo>
                <a:lnTo>
                  <a:pt x="511" y="724"/>
                </a:lnTo>
                <a:lnTo>
                  <a:pt x="383" y="807"/>
                </a:lnTo>
                <a:lnTo>
                  <a:pt x="255" y="896"/>
                </a:lnTo>
                <a:lnTo>
                  <a:pt x="127" y="1025"/>
                </a:lnTo>
                <a:lnTo>
                  <a:pt x="39" y="1152"/>
                </a:lnTo>
                <a:lnTo>
                  <a:pt x="0" y="128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35360" y="6454800"/>
            <a:ext cx="1887840" cy="170280"/>
          </a:xfrm>
          <a:custGeom>
            <a:avLst/>
            <a:gdLst/>
            <a:ahLst/>
            <a:rect l="0" t="0" r="r" b="b"/>
            <a:pathLst>
              <a:path fill="none" w="5244" h="473">
                <a:moveTo>
                  <a:pt x="5244" y="473"/>
                </a:moveTo>
                <a:lnTo>
                  <a:pt x="5116" y="429"/>
                </a:lnTo>
                <a:lnTo>
                  <a:pt x="4988" y="429"/>
                </a:lnTo>
                <a:lnTo>
                  <a:pt x="4816" y="429"/>
                </a:lnTo>
                <a:lnTo>
                  <a:pt x="4688" y="429"/>
                </a:lnTo>
                <a:lnTo>
                  <a:pt x="4432" y="390"/>
                </a:lnTo>
                <a:lnTo>
                  <a:pt x="4388" y="261"/>
                </a:lnTo>
                <a:lnTo>
                  <a:pt x="4260" y="217"/>
                </a:lnTo>
                <a:lnTo>
                  <a:pt x="4093" y="217"/>
                </a:lnTo>
                <a:lnTo>
                  <a:pt x="3921" y="217"/>
                </a:lnTo>
                <a:lnTo>
                  <a:pt x="3793" y="217"/>
                </a:lnTo>
                <a:lnTo>
                  <a:pt x="3665" y="172"/>
                </a:lnTo>
                <a:lnTo>
                  <a:pt x="3493" y="88"/>
                </a:lnTo>
                <a:lnTo>
                  <a:pt x="3365" y="44"/>
                </a:lnTo>
                <a:lnTo>
                  <a:pt x="3153" y="0"/>
                </a:lnTo>
                <a:lnTo>
                  <a:pt x="2937" y="0"/>
                </a:lnTo>
                <a:lnTo>
                  <a:pt x="2770" y="0"/>
                </a:lnTo>
                <a:lnTo>
                  <a:pt x="2597" y="44"/>
                </a:lnTo>
                <a:lnTo>
                  <a:pt x="2469" y="88"/>
                </a:lnTo>
                <a:lnTo>
                  <a:pt x="2213" y="128"/>
                </a:lnTo>
                <a:lnTo>
                  <a:pt x="1785" y="172"/>
                </a:lnTo>
                <a:lnTo>
                  <a:pt x="1658" y="172"/>
                </a:lnTo>
                <a:lnTo>
                  <a:pt x="1530" y="261"/>
                </a:lnTo>
                <a:lnTo>
                  <a:pt x="1402" y="344"/>
                </a:lnTo>
                <a:lnTo>
                  <a:pt x="1274" y="344"/>
                </a:lnTo>
                <a:lnTo>
                  <a:pt x="1146" y="344"/>
                </a:lnTo>
                <a:lnTo>
                  <a:pt x="1018" y="344"/>
                </a:lnTo>
                <a:lnTo>
                  <a:pt x="890" y="344"/>
                </a:lnTo>
                <a:lnTo>
                  <a:pt x="718" y="344"/>
                </a:lnTo>
                <a:lnTo>
                  <a:pt x="590" y="344"/>
                </a:lnTo>
                <a:lnTo>
                  <a:pt x="463" y="300"/>
                </a:lnTo>
                <a:lnTo>
                  <a:pt x="335" y="300"/>
                </a:lnTo>
                <a:lnTo>
                  <a:pt x="207" y="344"/>
                </a:lnTo>
                <a:lnTo>
                  <a:pt x="0" y="46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32400" y="1247760"/>
            <a:ext cx="3999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16560" y="25066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35400" y="3240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35200" y="6922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67040" y="10764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19480" y="17064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70240" y="189072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02280" y="36273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11400" y="40258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62560" y="414972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54760" y="4106880"/>
            <a:ext cx="35244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41840" y="4754520"/>
            <a:ext cx="3333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3000" y="4518000"/>
            <a:ext cx="3189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07040" y="53481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51680" y="49006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81880" y="4376880"/>
            <a:ext cx="36828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99200" y="62229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13480" y="58690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97560" y="56674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86520" y="637704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481120" y="326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604960" y="6825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851200" y="10652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05080" y="16956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114640" y="3998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187880" y="3600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449600" y="41227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452920" y="4716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11760" y="64764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697360" y="6350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402160" y="1233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140360" y="18795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402160" y="24782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962600" y="40813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008760" y="44910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507000" y="43354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132600" y="48610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75360" y="5303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375240" y="56228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589720" y="58183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175440" y="61707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160960" y="63324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8800" y="4535640"/>
            <a:ext cx="3240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248440" y="45086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168960" y="233280"/>
            <a:ext cx="835560" cy="875160"/>
            <a:chOff x="6168960" y="233280"/>
            <a:chExt cx="835560" cy="875160"/>
          </a:xfrm>
        </p:grpSpPr>
        <p:sp>
          <p:nvSpPr>
            <p:cNvPr id="289" name=""/>
            <p:cNvSpPr/>
            <p:nvPr/>
          </p:nvSpPr>
          <p:spPr>
            <a:xfrm>
              <a:off x="6230880" y="233280"/>
              <a:ext cx="773640" cy="875160"/>
            </a:xfrm>
            <a:custGeom>
              <a:avLst/>
              <a:gdLst/>
              <a:ahLst/>
              <a:rect l="0" t="0" r="r" b="b"/>
              <a:pathLst>
                <a:path fill="none" w="2149" h="2431">
                  <a:moveTo>
                    <a:pt x="0" y="0"/>
                  </a:moveTo>
                  <a:lnTo>
                    <a:pt x="44" y="127"/>
                  </a:lnTo>
                  <a:lnTo>
                    <a:pt x="88" y="255"/>
                  </a:lnTo>
                  <a:lnTo>
                    <a:pt x="216" y="343"/>
                  </a:lnTo>
                  <a:lnTo>
                    <a:pt x="343" y="427"/>
                  </a:lnTo>
                  <a:lnTo>
                    <a:pt x="383" y="555"/>
                  </a:lnTo>
                  <a:lnTo>
                    <a:pt x="471" y="684"/>
                  </a:lnTo>
                  <a:lnTo>
                    <a:pt x="511" y="856"/>
                  </a:lnTo>
                  <a:lnTo>
                    <a:pt x="600" y="984"/>
                  </a:lnTo>
                  <a:lnTo>
                    <a:pt x="684" y="1112"/>
                  </a:lnTo>
                  <a:lnTo>
                    <a:pt x="812" y="1196"/>
                  </a:lnTo>
                  <a:lnTo>
                    <a:pt x="940" y="1240"/>
                  </a:lnTo>
                  <a:lnTo>
                    <a:pt x="1068" y="1279"/>
                  </a:lnTo>
                  <a:lnTo>
                    <a:pt x="1196" y="1368"/>
                  </a:lnTo>
                  <a:lnTo>
                    <a:pt x="1323" y="1451"/>
                  </a:lnTo>
                  <a:lnTo>
                    <a:pt x="1412" y="1579"/>
                  </a:lnTo>
                  <a:lnTo>
                    <a:pt x="1451" y="1707"/>
                  </a:lnTo>
                  <a:lnTo>
                    <a:pt x="1539" y="1836"/>
                  </a:lnTo>
                  <a:lnTo>
                    <a:pt x="1539" y="1964"/>
                  </a:lnTo>
                  <a:lnTo>
                    <a:pt x="1624" y="2092"/>
                  </a:lnTo>
                  <a:lnTo>
                    <a:pt x="1752" y="2136"/>
                  </a:lnTo>
                  <a:lnTo>
                    <a:pt x="1880" y="2180"/>
                  </a:lnTo>
                  <a:lnTo>
                    <a:pt x="2008" y="2264"/>
                  </a:lnTo>
                  <a:lnTo>
                    <a:pt x="2149" y="2431"/>
                  </a:lnTo>
                </a:path>
              </a:pathLst>
            </a:custGeom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86600" y="415800"/>
              <a:ext cx="43020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6168960" y="404640"/>
              <a:ext cx="488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546200" y="1908000"/>
            <a:ext cx="5883480" cy="0"/>
            <a:chOff x="1546200" y="1908000"/>
            <a:chExt cx="5883480" cy="0"/>
          </a:xfrm>
        </p:grpSpPr>
        <p:sp>
          <p:nvSpPr>
            <p:cNvPr id="293" name=""/>
            <p:cNvSpPr/>
            <p:nvPr/>
          </p:nvSpPr>
          <p:spPr>
            <a:xfrm>
              <a:off x="1546200" y="1908000"/>
              <a:ext cx="125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97280" y="190800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81240" y="190800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51160" y="1908000"/>
              <a:ext cx="195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4280" y="1908000"/>
              <a:ext cx="9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32400" y="19080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32560" y="1908000"/>
              <a:ext cx="1797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 txBox="1"/>
          <p:nvPr/>
        </p:nvSpPr>
        <p:spPr>
          <a:xfrm>
            <a:off x="1546200" y="16398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199280" y="16416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7094520" y="352440"/>
            <a:ext cx="18986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utting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re added at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desired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981080" y="228600"/>
            <a:ext cx="5029200" cy="6400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87560" y="236520"/>
            <a:ext cx="779760" cy="681480"/>
          </a:xfrm>
          <a:custGeom>
            <a:avLst/>
            <a:gdLst/>
            <a:ahLst/>
            <a:rect l="0" t="0" r="r" b="b"/>
            <a:pathLst>
              <a:path fill="none" w="2166" h="1893">
                <a:moveTo>
                  <a:pt x="2166" y="0"/>
                </a:moveTo>
                <a:lnTo>
                  <a:pt x="2166" y="141"/>
                </a:lnTo>
                <a:lnTo>
                  <a:pt x="2122" y="282"/>
                </a:lnTo>
                <a:lnTo>
                  <a:pt x="2029" y="467"/>
                </a:lnTo>
                <a:lnTo>
                  <a:pt x="1936" y="697"/>
                </a:lnTo>
                <a:lnTo>
                  <a:pt x="1888" y="882"/>
                </a:lnTo>
                <a:lnTo>
                  <a:pt x="1747" y="979"/>
                </a:lnTo>
                <a:lnTo>
                  <a:pt x="1562" y="979"/>
                </a:lnTo>
                <a:lnTo>
                  <a:pt x="1376" y="1116"/>
                </a:lnTo>
                <a:lnTo>
                  <a:pt x="1191" y="1165"/>
                </a:lnTo>
                <a:lnTo>
                  <a:pt x="1005" y="1301"/>
                </a:lnTo>
                <a:lnTo>
                  <a:pt x="912" y="1443"/>
                </a:lnTo>
                <a:lnTo>
                  <a:pt x="771" y="1488"/>
                </a:lnTo>
                <a:lnTo>
                  <a:pt x="586" y="1536"/>
                </a:lnTo>
                <a:lnTo>
                  <a:pt x="401" y="1673"/>
                </a:lnTo>
                <a:lnTo>
                  <a:pt x="264" y="1814"/>
                </a:lnTo>
                <a:lnTo>
                  <a:pt x="123" y="1862"/>
                </a:lnTo>
                <a:lnTo>
                  <a:pt x="0" y="1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7960"/>
            <a:ext cx="1136880" cy="5191560"/>
          </a:xfrm>
          <a:custGeom>
            <a:avLst/>
            <a:gdLst/>
            <a:ahLst/>
            <a:rect l="0" t="0" r="r" b="b"/>
            <a:pathLst>
              <a:path fill="none" w="3158" h="14421">
                <a:moveTo>
                  <a:pt x="3140" y="0"/>
                </a:moveTo>
                <a:lnTo>
                  <a:pt x="3158" y="92"/>
                </a:lnTo>
                <a:lnTo>
                  <a:pt x="3114" y="277"/>
                </a:lnTo>
                <a:lnTo>
                  <a:pt x="3114" y="463"/>
                </a:lnTo>
                <a:lnTo>
                  <a:pt x="3114" y="648"/>
                </a:lnTo>
                <a:lnTo>
                  <a:pt x="2973" y="833"/>
                </a:lnTo>
                <a:lnTo>
                  <a:pt x="2880" y="974"/>
                </a:lnTo>
                <a:lnTo>
                  <a:pt x="2739" y="1111"/>
                </a:lnTo>
                <a:lnTo>
                  <a:pt x="2554" y="1296"/>
                </a:lnTo>
                <a:lnTo>
                  <a:pt x="2510" y="1437"/>
                </a:lnTo>
                <a:lnTo>
                  <a:pt x="2417" y="1622"/>
                </a:lnTo>
                <a:lnTo>
                  <a:pt x="2324" y="1807"/>
                </a:lnTo>
                <a:lnTo>
                  <a:pt x="2232" y="1993"/>
                </a:lnTo>
                <a:lnTo>
                  <a:pt x="2139" y="2134"/>
                </a:lnTo>
                <a:lnTo>
                  <a:pt x="1998" y="2271"/>
                </a:lnTo>
                <a:lnTo>
                  <a:pt x="1954" y="2412"/>
                </a:lnTo>
                <a:lnTo>
                  <a:pt x="1813" y="2504"/>
                </a:lnTo>
                <a:lnTo>
                  <a:pt x="1720" y="2689"/>
                </a:lnTo>
                <a:lnTo>
                  <a:pt x="1578" y="2831"/>
                </a:lnTo>
                <a:lnTo>
                  <a:pt x="1393" y="2967"/>
                </a:lnTo>
                <a:lnTo>
                  <a:pt x="1300" y="3108"/>
                </a:lnTo>
                <a:lnTo>
                  <a:pt x="1208" y="3294"/>
                </a:lnTo>
                <a:lnTo>
                  <a:pt x="1071" y="3479"/>
                </a:lnTo>
                <a:lnTo>
                  <a:pt x="974" y="3621"/>
                </a:lnTo>
                <a:lnTo>
                  <a:pt x="789" y="3758"/>
                </a:lnTo>
                <a:lnTo>
                  <a:pt x="652" y="3899"/>
                </a:lnTo>
                <a:lnTo>
                  <a:pt x="511" y="3943"/>
                </a:lnTo>
                <a:lnTo>
                  <a:pt x="374" y="4084"/>
                </a:lnTo>
                <a:lnTo>
                  <a:pt x="233" y="4177"/>
                </a:lnTo>
                <a:lnTo>
                  <a:pt x="141" y="4362"/>
                </a:lnTo>
                <a:lnTo>
                  <a:pt x="48" y="4503"/>
                </a:lnTo>
                <a:lnTo>
                  <a:pt x="0" y="4688"/>
                </a:lnTo>
                <a:lnTo>
                  <a:pt x="92" y="4873"/>
                </a:lnTo>
                <a:lnTo>
                  <a:pt x="189" y="5058"/>
                </a:lnTo>
                <a:lnTo>
                  <a:pt x="233" y="5288"/>
                </a:lnTo>
                <a:lnTo>
                  <a:pt x="282" y="5429"/>
                </a:lnTo>
                <a:lnTo>
                  <a:pt x="326" y="5614"/>
                </a:lnTo>
                <a:lnTo>
                  <a:pt x="418" y="5755"/>
                </a:lnTo>
                <a:lnTo>
                  <a:pt x="511" y="5984"/>
                </a:lnTo>
                <a:lnTo>
                  <a:pt x="652" y="6126"/>
                </a:lnTo>
                <a:lnTo>
                  <a:pt x="745" y="6267"/>
                </a:lnTo>
                <a:lnTo>
                  <a:pt x="837" y="6452"/>
                </a:lnTo>
                <a:lnTo>
                  <a:pt x="930" y="6637"/>
                </a:lnTo>
                <a:lnTo>
                  <a:pt x="1071" y="6822"/>
                </a:lnTo>
                <a:lnTo>
                  <a:pt x="1164" y="7008"/>
                </a:lnTo>
                <a:lnTo>
                  <a:pt x="1208" y="7149"/>
                </a:lnTo>
                <a:lnTo>
                  <a:pt x="1300" y="7334"/>
                </a:lnTo>
                <a:lnTo>
                  <a:pt x="1300" y="7519"/>
                </a:lnTo>
                <a:lnTo>
                  <a:pt x="1300" y="7704"/>
                </a:lnTo>
                <a:lnTo>
                  <a:pt x="1300" y="7934"/>
                </a:lnTo>
                <a:lnTo>
                  <a:pt x="1349" y="8123"/>
                </a:lnTo>
                <a:lnTo>
                  <a:pt x="1393" y="8308"/>
                </a:lnTo>
                <a:lnTo>
                  <a:pt x="1534" y="8494"/>
                </a:lnTo>
                <a:lnTo>
                  <a:pt x="1672" y="8723"/>
                </a:lnTo>
                <a:lnTo>
                  <a:pt x="1764" y="8864"/>
                </a:lnTo>
                <a:lnTo>
                  <a:pt x="1813" y="9005"/>
                </a:lnTo>
                <a:lnTo>
                  <a:pt x="1954" y="9234"/>
                </a:lnTo>
                <a:lnTo>
                  <a:pt x="2047" y="9376"/>
                </a:lnTo>
                <a:lnTo>
                  <a:pt x="2232" y="9561"/>
                </a:lnTo>
                <a:lnTo>
                  <a:pt x="2324" y="9746"/>
                </a:lnTo>
                <a:lnTo>
                  <a:pt x="2417" y="9887"/>
                </a:lnTo>
                <a:lnTo>
                  <a:pt x="2461" y="10072"/>
                </a:lnTo>
                <a:lnTo>
                  <a:pt x="2554" y="10258"/>
                </a:lnTo>
                <a:lnTo>
                  <a:pt x="2602" y="10443"/>
                </a:lnTo>
                <a:lnTo>
                  <a:pt x="2602" y="10628"/>
                </a:lnTo>
                <a:lnTo>
                  <a:pt x="2602" y="10769"/>
                </a:lnTo>
                <a:lnTo>
                  <a:pt x="2646" y="11092"/>
                </a:lnTo>
                <a:lnTo>
                  <a:pt x="2695" y="11233"/>
                </a:lnTo>
                <a:lnTo>
                  <a:pt x="2695" y="11462"/>
                </a:lnTo>
                <a:lnTo>
                  <a:pt x="2646" y="11696"/>
                </a:lnTo>
                <a:lnTo>
                  <a:pt x="2646" y="11837"/>
                </a:lnTo>
                <a:lnTo>
                  <a:pt x="2602" y="12022"/>
                </a:lnTo>
                <a:lnTo>
                  <a:pt x="2461" y="12159"/>
                </a:lnTo>
                <a:lnTo>
                  <a:pt x="2417" y="12300"/>
                </a:lnTo>
                <a:lnTo>
                  <a:pt x="2276" y="12441"/>
                </a:lnTo>
                <a:lnTo>
                  <a:pt x="2139" y="12627"/>
                </a:lnTo>
                <a:lnTo>
                  <a:pt x="1998" y="12763"/>
                </a:lnTo>
                <a:lnTo>
                  <a:pt x="1906" y="12904"/>
                </a:lnTo>
                <a:lnTo>
                  <a:pt x="1764" y="13134"/>
                </a:lnTo>
                <a:lnTo>
                  <a:pt x="1672" y="13275"/>
                </a:lnTo>
                <a:lnTo>
                  <a:pt x="1628" y="13416"/>
                </a:lnTo>
                <a:lnTo>
                  <a:pt x="1628" y="13601"/>
                </a:lnTo>
                <a:lnTo>
                  <a:pt x="1578" y="13786"/>
                </a:lnTo>
                <a:lnTo>
                  <a:pt x="1393" y="13879"/>
                </a:lnTo>
                <a:lnTo>
                  <a:pt x="1208" y="14016"/>
                </a:lnTo>
                <a:lnTo>
                  <a:pt x="1071" y="14157"/>
                </a:lnTo>
                <a:lnTo>
                  <a:pt x="930" y="14157"/>
                </a:lnTo>
                <a:lnTo>
                  <a:pt x="745" y="14157"/>
                </a:lnTo>
                <a:lnTo>
                  <a:pt x="604" y="14157"/>
                </a:lnTo>
                <a:lnTo>
                  <a:pt x="418" y="14249"/>
                </a:lnTo>
                <a:lnTo>
                  <a:pt x="282" y="14390"/>
                </a:lnTo>
                <a:lnTo>
                  <a:pt x="13" y="1442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98720" y="236520"/>
            <a:ext cx="1554480" cy="5832720"/>
          </a:xfrm>
          <a:custGeom>
            <a:avLst/>
            <a:gdLst/>
            <a:ahLst/>
            <a:rect l="0" t="0" r="r" b="b"/>
            <a:pathLst>
              <a:path fill="none" w="4318" h="16202">
                <a:moveTo>
                  <a:pt x="4318" y="0"/>
                </a:moveTo>
                <a:lnTo>
                  <a:pt x="4318" y="189"/>
                </a:lnTo>
                <a:lnTo>
                  <a:pt x="4318" y="374"/>
                </a:lnTo>
                <a:lnTo>
                  <a:pt x="4318" y="604"/>
                </a:lnTo>
                <a:lnTo>
                  <a:pt x="4269" y="745"/>
                </a:lnTo>
                <a:lnTo>
                  <a:pt x="4177" y="930"/>
                </a:lnTo>
                <a:lnTo>
                  <a:pt x="4084" y="1071"/>
                </a:lnTo>
                <a:lnTo>
                  <a:pt x="3947" y="1256"/>
                </a:lnTo>
                <a:lnTo>
                  <a:pt x="3855" y="1441"/>
                </a:lnTo>
                <a:lnTo>
                  <a:pt x="3762" y="1627"/>
                </a:lnTo>
                <a:lnTo>
                  <a:pt x="3621" y="1812"/>
                </a:lnTo>
                <a:lnTo>
                  <a:pt x="3572" y="1953"/>
                </a:lnTo>
                <a:lnTo>
                  <a:pt x="3436" y="2138"/>
                </a:lnTo>
                <a:lnTo>
                  <a:pt x="3295" y="2275"/>
                </a:lnTo>
                <a:lnTo>
                  <a:pt x="3202" y="2416"/>
                </a:lnTo>
                <a:lnTo>
                  <a:pt x="3017" y="2601"/>
                </a:lnTo>
                <a:lnTo>
                  <a:pt x="2924" y="2742"/>
                </a:lnTo>
                <a:lnTo>
                  <a:pt x="2832" y="2928"/>
                </a:lnTo>
                <a:lnTo>
                  <a:pt x="2739" y="3113"/>
                </a:lnTo>
                <a:lnTo>
                  <a:pt x="2690" y="3298"/>
                </a:lnTo>
                <a:lnTo>
                  <a:pt x="2554" y="3483"/>
                </a:lnTo>
                <a:lnTo>
                  <a:pt x="2505" y="3624"/>
                </a:lnTo>
                <a:lnTo>
                  <a:pt x="2369" y="3810"/>
                </a:lnTo>
                <a:lnTo>
                  <a:pt x="2276" y="3995"/>
                </a:lnTo>
                <a:lnTo>
                  <a:pt x="2183" y="4224"/>
                </a:lnTo>
                <a:lnTo>
                  <a:pt x="2183" y="4365"/>
                </a:lnTo>
                <a:lnTo>
                  <a:pt x="2183" y="4506"/>
                </a:lnTo>
                <a:lnTo>
                  <a:pt x="2183" y="4691"/>
                </a:lnTo>
                <a:lnTo>
                  <a:pt x="2090" y="4877"/>
                </a:lnTo>
                <a:lnTo>
                  <a:pt x="2041" y="5106"/>
                </a:lnTo>
                <a:lnTo>
                  <a:pt x="2134" y="5291"/>
                </a:lnTo>
                <a:lnTo>
                  <a:pt x="2227" y="5481"/>
                </a:lnTo>
                <a:lnTo>
                  <a:pt x="2320" y="5666"/>
                </a:lnTo>
                <a:lnTo>
                  <a:pt x="2369" y="5851"/>
                </a:lnTo>
                <a:lnTo>
                  <a:pt x="2505" y="6036"/>
                </a:lnTo>
                <a:lnTo>
                  <a:pt x="2598" y="6270"/>
                </a:lnTo>
                <a:lnTo>
                  <a:pt x="2739" y="6455"/>
                </a:lnTo>
                <a:lnTo>
                  <a:pt x="2880" y="6592"/>
                </a:lnTo>
                <a:lnTo>
                  <a:pt x="2973" y="6777"/>
                </a:lnTo>
                <a:lnTo>
                  <a:pt x="3065" y="6918"/>
                </a:lnTo>
                <a:lnTo>
                  <a:pt x="3158" y="7152"/>
                </a:lnTo>
                <a:lnTo>
                  <a:pt x="3295" y="7430"/>
                </a:lnTo>
                <a:lnTo>
                  <a:pt x="3436" y="7615"/>
                </a:lnTo>
                <a:lnTo>
                  <a:pt x="3480" y="7800"/>
                </a:lnTo>
                <a:lnTo>
                  <a:pt x="3528" y="7986"/>
                </a:lnTo>
                <a:lnTo>
                  <a:pt x="3528" y="8128"/>
                </a:lnTo>
                <a:lnTo>
                  <a:pt x="3572" y="8313"/>
                </a:lnTo>
                <a:lnTo>
                  <a:pt x="3669" y="8498"/>
                </a:lnTo>
                <a:lnTo>
                  <a:pt x="3855" y="8727"/>
                </a:lnTo>
                <a:lnTo>
                  <a:pt x="3855" y="8868"/>
                </a:lnTo>
                <a:lnTo>
                  <a:pt x="3899" y="9010"/>
                </a:lnTo>
                <a:lnTo>
                  <a:pt x="3947" y="9195"/>
                </a:lnTo>
                <a:lnTo>
                  <a:pt x="3947" y="9380"/>
                </a:lnTo>
                <a:lnTo>
                  <a:pt x="3899" y="9565"/>
                </a:lnTo>
                <a:lnTo>
                  <a:pt x="3855" y="9750"/>
                </a:lnTo>
                <a:lnTo>
                  <a:pt x="3855" y="9892"/>
                </a:lnTo>
                <a:lnTo>
                  <a:pt x="3806" y="10077"/>
                </a:lnTo>
                <a:lnTo>
                  <a:pt x="3762" y="10306"/>
                </a:lnTo>
                <a:lnTo>
                  <a:pt x="3806" y="10491"/>
                </a:lnTo>
                <a:lnTo>
                  <a:pt x="3806" y="10632"/>
                </a:lnTo>
                <a:lnTo>
                  <a:pt x="3806" y="10773"/>
                </a:lnTo>
                <a:lnTo>
                  <a:pt x="3806" y="10959"/>
                </a:lnTo>
                <a:lnTo>
                  <a:pt x="3762" y="11144"/>
                </a:lnTo>
                <a:lnTo>
                  <a:pt x="3713" y="11329"/>
                </a:lnTo>
                <a:lnTo>
                  <a:pt x="3669" y="11514"/>
                </a:lnTo>
                <a:lnTo>
                  <a:pt x="3621" y="11699"/>
                </a:lnTo>
                <a:lnTo>
                  <a:pt x="3572" y="11885"/>
                </a:lnTo>
                <a:lnTo>
                  <a:pt x="3528" y="12026"/>
                </a:lnTo>
                <a:lnTo>
                  <a:pt x="3480" y="12211"/>
                </a:lnTo>
                <a:lnTo>
                  <a:pt x="3436" y="12396"/>
                </a:lnTo>
                <a:lnTo>
                  <a:pt x="3387" y="12581"/>
                </a:lnTo>
                <a:lnTo>
                  <a:pt x="3387" y="12723"/>
                </a:lnTo>
                <a:lnTo>
                  <a:pt x="3250" y="13044"/>
                </a:lnTo>
                <a:lnTo>
                  <a:pt x="3202" y="13186"/>
                </a:lnTo>
                <a:lnTo>
                  <a:pt x="3109" y="13419"/>
                </a:lnTo>
                <a:lnTo>
                  <a:pt x="3017" y="13604"/>
                </a:lnTo>
                <a:lnTo>
                  <a:pt x="2924" y="13834"/>
                </a:lnTo>
                <a:lnTo>
                  <a:pt x="2787" y="14068"/>
                </a:lnTo>
                <a:lnTo>
                  <a:pt x="2646" y="14531"/>
                </a:lnTo>
                <a:lnTo>
                  <a:pt x="2598" y="14672"/>
                </a:lnTo>
                <a:lnTo>
                  <a:pt x="2369" y="14808"/>
                </a:lnTo>
                <a:lnTo>
                  <a:pt x="2227" y="14901"/>
                </a:lnTo>
                <a:lnTo>
                  <a:pt x="2041" y="15042"/>
                </a:lnTo>
                <a:lnTo>
                  <a:pt x="1578" y="15183"/>
                </a:lnTo>
                <a:lnTo>
                  <a:pt x="1393" y="15276"/>
                </a:lnTo>
                <a:lnTo>
                  <a:pt x="1208" y="15320"/>
                </a:lnTo>
                <a:lnTo>
                  <a:pt x="926" y="15412"/>
                </a:lnTo>
                <a:lnTo>
                  <a:pt x="740" y="15505"/>
                </a:lnTo>
                <a:lnTo>
                  <a:pt x="555" y="15646"/>
                </a:lnTo>
                <a:lnTo>
                  <a:pt x="418" y="15831"/>
                </a:lnTo>
                <a:lnTo>
                  <a:pt x="277" y="15924"/>
                </a:lnTo>
                <a:lnTo>
                  <a:pt x="92" y="16017"/>
                </a:lnTo>
                <a:lnTo>
                  <a:pt x="0" y="162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87560" y="790560"/>
            <a:ext cx="2018160" cy="5664600"/>
          </a:xfrm>
          <a:custGeom>
            <a:avLst/>
            <a:gdLst/>
            <a:ahLst/>
            <a:rect l="0" t="0" r="r" b="b"/>
            <a:pathLst>
              <a:path fill="none" w="5606" h="15735">
                <a:moveTo>
                  <a:pt x="5606" y="0"/>
                </a:moveTo>
                <a:lnTo>
                  <a:pt x="5452" y="282"/>
                </a:lnTo>
                <a:lnTo>
                  <a:pt x="5373" y="370"/>
                </a:lnTo>
                <a:lnTo>
                  <a:pt x="5320" y="436"/>
                </a:lnTo>
                <a:lnTo>
                  <a:pt x="5289" y="542"/>
                </a:lnTo>
                <a:lnTo>
                  <a:pt x="5267" y="626"/>
                </a:lnTo>
                <a:lnTo>
                  <a:pt x="5223" y="705"/>
                </a:lnTo>
                <a:lnTo>
                  <a:pt x="5196" y="798"/>
                </a:lnTo>
                <a:lnTo>
                  <a:pt x="5156" y="864"/>
                </a:lnTo>
                <a:lnTo>
                  <a:pt x="5104" y="926"/>
                </a:lnTo>
                <a:lnTo>
                  <a:pt x="4984" y="1031"/>
                </a:lnTo>
                <a:lnTo>
                  <a:pt x="4857" y="1164"/>
                </a:lnTo>
                <a:lnTo>
                  <a:pt x="4790" y="1274"/>
                </a:lnTo>
                <a:lnTo>
                  <a:pt x="4773" y="1349"/>
                </a:lnTo>
                <a:lnTo>
                  <a:pt x="4720" y="1508"/>
                </a:lnTo>
                <a:lnTo>
                  <a:pt x="4588" y="1640"/>
                </a:lnTo>
                <a:lnTo>
                  <a:pt x="4455" y="1852"/>
                </a:lnTo>
                <a:lnTo>
                  <a:pt x="4402" y="1904"/>
                </a:lnTo>
                <a:lnTo>
                  <a:pt x="4349" y="2063"/>
                </a:lnTo>
                <a:lnTo>
                  <a:pt x="4297" y="2169"/>
                </a:lnTo>
                <a:lnTo>
                  <a:pt x="4190" y="2301"/>
                </a:lnTo>
                <a:lnTo>
                  <a:pt x="4190" y="2487"/>
                </a:lnTo>
                <a:lnTo>
                  <a:pt x="4110" y="2778"/>
                </a:lnTo>
                <a:lnTo>
                  <a:pt x="4110" y="2751"/>
                </a:lnTo>
                <a:lnTo>
                  <a:pt x="4057" y="2963"/>
                </a:lnTo>
                <a:lnTo>
                  <a:pt x="3978" y="2826"/>
                </a:lnTo>
                <a:lnTo>
                  <a:pt x="4110" y="3333"/>
                </a:lnTo>
                <a:lnTo>
                  <a:pt x="4217" y="3492"/>
                </a:lnTo>
                <a:lnTo>
                  <a:pt x="4137" y="3598"/>
                </a:lnTo>
                <a:lnTo>
                  <a:pt x="4217" y="3810"/>
                </a:lnTo>
                <a:lnTo>
                  <a:pt x="4244" y="3969"/>
                </a:lnTo>
                <a:lnTo>
                  <a:pt x="4323" y="4102"/>
                </a:lnTo>
                <a:lnTo>
                  <a:pt x="4429" y="4260"/>
                </a:lnTo>
                <a:lnTo>
                  <a:pt x="4508" y="4393"/>
                </a:lnTo>
                <a:lnTo>
                  <a:pt x="4588" y="4551"/>
                </a:lnTo>
                <a:lnTo>
                  <a:pt x="4614" y="4684"/>
                </a:lnTo>
                <a:lnTo>
                  <a:pt x="4641" y="4763"/>
                </a:lnTo>
                <a:lnTo>
                  <a:pt x="4614" y="4895"/>
                </a:lnTo>
                <a:lnTo>
                  <a:pt x="4588" y="5107"/>
                </a:lnTo>
                <a:lnTo>
                  <a:pt x="4561" y="5345"/>
                </a:lnTo>
                <a:lnTo>
                  <a:pt x="4482" y="5504"/>
                </a:lnTo>
                <a:lnTo>
                  <a:pt x="4349" y="5658"/>
                </a:lnTo>
                <a:lnTo>
                  <a:pt x="4349" y="5799"/>
                </a:lnTo>
                <a:lnTo>
                  <a:pt x="4394" y="5984"/>
                </a:lnTo>
                <a:lnTo>
                  <a:pt x="4442" y="6170"/>
                </a:lnTo>
                <a:lnTo>
                  <a:pt x="4442" y="6355"/>
                </a:lnTo>
                <a:lnTo>
                  <a:pt x="4442" y="6496"/>
                </a:lnTo>
                <a:lnTo>
                  <a:pt x="4442" y="6681"/>
                </a:lnTo>
                <a:lnTo>
                  <a:pt x="4486" y="6911"/>
                </a:lnTo>
                <a:lnTo>
                  <a:pt x="4535" y="7052"/>
                </a:lnTo>
                <a:lnTo>
                  <a:pt x="4627" y="7237"/>
                </a:lnTo>
                <a:lnTo>
                  <a:pt x="4676" y="7422"/>
                </a:lnTo>
                <a:lnTo>
                  <a:pt x="4720" y="7563"/>
                </a:lnTo>
                <a:lnTo>
                  <a:pt x="4768" y="7792"/>
                </a:lnTo>
                <a:lnTo>
                  <a:pt x="4813" y="7934"/>
                </a:lnTo>
                <a:lnTo>
                  <a:pt x="4813" y="8211"/>
                </a:lnTo>
                <a:lnTo>
                  <a:pt x="4813" y="8445"/>
                </a:lnTo>
                <a:lnTo>
                  <a:pt x="4813" y="8630"/>
                </a:lnTo>
                <a:lnTo>
                  <a:pt x="4813" y="8908"/>
                </a:lnTo>
                <a:lnTo>
                  <a:pt x="4861" y="9371"/>
                </a:lnTo>
                <a:lnTo>
                  <a:pt x="4861" y="9605"/>
                </a:lnTo>
                <a:lnTo>
                  <a:pt x="4861" y="10068"/>
                </a:lnTo>
                <a:lnTo>
                  <a:pt x="4813" y="10209"/>
                </a:lnTo>
                <a:lnTo>
                  <a:pt x="4720" y="10394"/>
                </a:lnTo>
                <a:lnTo>
                  <a:pt x="4535" y="11091"/>
                </a:lnTo>
                <a:lnTo>
                  <a:pt x="4394" y="11320"/>
                </a:lnTo>
                <a:lnTo>
                  <a:pt x="4349" y="11461"/>
                </a:lnTo>
                <a:lnTo>
                  <a:pt x="4257" y="12948"/>
                </a:lnTo>
                <a:lnTo>
                  <a:pt x="4163" y="13134"/>
                </a:lnTo>
                <a:lnTo>
                  <a:pt x="4022" y="13270"/>
                </a:lnTo>
                <a:lnTo>
                  <a:pt x="3885" y="13411"/>
                </a:lnTo>
                <a:lnTo>
                  <a:pt x="3793" y="13553"/>
                </a:lnTo>
                <a:lnTo>
                  <a:pt x="3652" y="13689"/>
                </a:lnTo>
                <a:lnTo>
                  <a:pt x="3511" y="13782"/>
                </a:lnTo>
                <a:lnTo>
                  <a:pt x="3281" y="14016"/>
                </a:lnTo>
                <a:lnTo>
                  <a:pt x="3140" y="14201"/>
                </a:lnTo>
                <a:lnTo>
                  <a:pt x="1703" y="14849"/>
                </a:lnTo>
                <a:lnTo>
                  <a:pt x="1562" y="14898"/>
                </a:lnTo>
                <a:lnTo>
                  <a:pt x="1375" y="14898"/>
                </a:lnTo>
                <a:lnTo>
                  <a:pt x="1146" y="15083"/>
                </a:lnTo>
                <a:lnTo>
                  <a:pt x="1005" y="15219"/>
                </a:lnTo>
                <a:lnTo>
                  <a:pt x="864" y="15268"/>
                </a:lnTo>
                <a:lnTo>
                  <a:pt x="679" y="15316"/>
                </a:lnTo>
                <a:lnTo>
                  <a:pt x="493" y="15409"/>
                </a:lnTo>
                <a:lnTo>
                  <a:pt x="308" y="15453"/>
                </a:lnTo>
                <a:lnTo>
                  <a:pt x="264" y="15594"/>
                </a:lnTo>
                <a:lnTo>
                  <a:pt x="123" y="15687"/>
                </a:lnTo>
                <a:lnTo>
                  <a:pt x="0" y="1573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90800" y="3540240"/>
            <a:ext cx="359280" cy="1184760"/>
          </a:xfrm>
          <a:custGeom>
            <a:avLst/>
            <a:gdLst/>
            <a:ahLst/>
            <a:rect l="0" t="0" r="r" b="b"/>
            <a:pathLst>
              <a:path fill="none" w="998" h="3291">
                <a:moveTo>
                  <a:pt x="0" y="0"/>
                </a:moveTo>
                <a:lnTo>
                  <a:pt x="52" y="158"/>
                </a:lnTo>
                <a:lnTo>
                  <a:pt x="97" y="326"/>
                </a:lnTo>
                <a:lnTo>
                  <a:pt x="163" y="480"/>
                </a:lnTo>
                <a:lnTo>
                  <a:pt x="256" y="621"/>
                </a:lnTo>
                <a:lnTo>
                  <a:pt x="441" y="714"/>
                </a:lnTo>
                <a:lnTo>
                  <a:pt x="627" y="806"/>
                </a:lnTo>
                <a:lnTo>
                  <a:pt x="813" y="944"/>
                </a:lnTo>
                <a:lnTo>
                  <a:pt x="905" y="1085"/>
                </a:lnTo>
                <a:lnTo>
                  <a:pt x="998" y="1271"/>
                </a:lnTo>
                <a:lnTo>
                  <a:pt x="998" y="1456"/>
                </a:lnTo>
                <a:lnTo>
                  <a:pt x="998" y="1597"/>
                </a:lnTo>
                <a:lnTo>
                  <a:pt x="950" y="1826"/>
                </a:lnTo>
                <a:lnTo>
                  <a:pt x="813" y="1967"/>
                </a:lnTo>
                <a:lnTo>
                  <a:pt x="671" y="2104"/>
                </a:lnTo>
                <a:lnTo>
                  <a:pt x="627" y="2245"/>
                </a:lnTo>
                <a:lnTo>
                  <a:pt x="627" y="2386"/>
                </a:lnTo>
                <a:lnTo>
                  <a:pt x="534" y="2572"/>
                </a:lnTo>
                <a:lnTo>
                  <a:pt x="393" y="2665"/>
                </a:lnTo>
                <a:lnTo>
                  <a:pt x="256" y="2850"/>
                </a:lnTo>
                <a:lnTo>
                  <a:pt x="114" y="2987"/>
                </a:lnTo>
                <a:lnTo>
                  <a:pt x="0" y="329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9680" y="1357200"/>
            <a:ext cx="1756080" cy="5262840"/>
          </a:xfrm>
          <a:custGeom>
            <a:avLst/>
            <a:gdLst/>
            <a:ahLst/>
            <a:rect l="0" t="0" r="r" b="b"/>
            <a:pathLst>
              <a:path fill="none" w="4878" h="14619">
                <a:moveTo>
                  <a:pt x="3211" y="0"/>
                </a:moveTo>
                <a:lnTo>
                  <a:pt x="3250" y="489"/>
                </a:lnTo>
                <a:lnTo>
                  <a:pt x="3211" y="661"/>
                </a:lnTo>
                <a:lnTo>
                  <a:pt x="3224" y="767"/>
                </a:lnTo>
                <a:lnTo>
                  <a:pt x="3237" y="886"/>
                </a:lnTo>
                <a:lnTo>
                  <a:pt x="3277" y="965"/>
                </a:lnTo>
                <a:lnTo>
                  <a:pt x="3303" y="1018"/>
                </a:lnTo>
                <a:lnTo>
                  <a:pt x="3303" y="1111"/>
                </a:lnTo>
                <a:lnTo>
                  <a:pt x="3303" y="1124"/>
                </a:lnTo>
                <a:lnTo>
                  <a:pt x="3290" y="1137"/>
                </a:lnTo>
                <a:lnTo>
                  <a:pt x="3277" y="1190"/>
                </a:lnTo>
                <a:lnTo>
                  <a:pt x="3237" y="1270"/>
                </a:lnTo>
                <a:lnTo>
                  <a:pt x="3184" y="1283"/>
                </a:lnTo>
                <a:lnTo>
                  <a:pt x="3211" y="1389"/>
                </a:lnTo>
                <a:lnTo>
                  <a:pt x="3211" y="1455"/>
                </a:lnTo>
                <a:lnTo>
                  <a:pt x="3184" y="1508"/>
                </a:lnTo>
                <a:lnTo>
                  <a:pt x="3145" y="1653"/>
                </a:lnTo>
                <a:lnTo>
                  <a:pt x="3105" y="1746"/>
                </a:lnTo>
                <a:lnTo>
                  <a:pt x="3078" y="1905"/>
                </a:lnTo>
                <a:lnTo>
                  <a:pt x="3078" y="2037"/>
                </a:lnTo>
                <a:lnTo>
                  <a:pt x="3065" y="2222"/>
                </a:lnTo>
                <a:lnTo>
                  <a:pt x="3043" y="2332"/>
                </a:lnTo>
                <a:lnTo>
                  <a:pt x="3176" y="2456"/>
                </a:lnTo>
                <a:lnTo>
                  <a:pt x="3237" y="2597"/>
                </a:lnTo>
                <a:lnTo>
                  <a:pt x="3308" y="2729"/>
                </a:lnTo>
                <a:lnTo>
                  <a:pt x="3334" y="2861"/>
                </a:lnTo>
                <a:lnTo>
                  <a:pt x="3533" y="3016"/>
                </a:lnTo>
                <a:lnTo>
                  <a:pt x="3533" y="3157"/>
                </a:lnTo>
                <a:lnTo>
                  <a:pt x="3625" y="3386"/>
                </a:lnTo>
                <a:lnTo>
                  <a:pt x="3669" y="3527"/>
                </a:lnTo>
                <a:lnTo>
                  <a:pt x="3811" y="3757"/>
                </a:lnTo>
                <a:lnTo>
                  <a:pt x="3903" y="3898"/>
                </a:lnTo>
                <a:lnTo>
                  <a:pt x="3996" y="4083"/>
                </a:lnTo>
                <a:lnTo>
                  <a:pt x="4040" y="4224"/>
                </a:lnTo>
                <a:lnTo>
                  <a:pt x="4132" y="4409"/>
                </a:lnTo>
                <a:lnTo>
                  <a:pt x="4181" y="4594"/>
                </a:lnTo>
                <a:lnTo>
                  <a:pt x="4274" y="4780"/>
                </a:lnTo>
                <a:lnTo>
                  <a:pt x="4322" y="4965"/>
                </a:lnTo>
                <a:lnTo>
                  <a:pt x="4366" y="5106"/>
                </a:lnTo>
                <a:lnTo>
                  <a:pt x="4415" y="5291"/>
                </a:lnTo>
                <a:lnTo>
                  <a:pt x="4507" y="5569"/>
                </a:lnTo>
                <a:lnTo>
                  <a:pt x="4551" y="5803"/>
                </a:lnTo>
                <a:lnTo>
                  <a:pt x="4551" y="5988"/>
                </a:lnTo>
                <a:lnTo>
                  <a:pt x="4644" y="6173"/>
                </a:lnTo>
                <a:lnTo>
                  <a:pt x="4644" y="6402"/>
                </a:lnTo>
                <a:lnTo>
                  <a:pt x="4644" y="6544"/>
                </a:lnTo>
                <a:lnTo>
                  <a:pt x="4644" y="6729"/>
                </a:lnTo>
                <a:lnTo>
                  <a:pt x="4644" y="6914"/>
                </a:lnTo>
                <a:lnTo>
                  <a:pt x="4644" y="7055"/>
                </a:lnTo>
                <a:lnTo>
                  <a:pt x="4644" y="7378"/>
                </a:lnTo>
                <a:lnTo>
                  <a:pt x="4644" y="7519"/>
                </a:lnTo>
                <a:lnTo>
                  <a:pt x="4551" y="7660"/>
                </a:lnTo>
                <a:lnTo>
                  <a:pt x="4459" y="7889"/>
                </a:lnTo>
                <a:lnTo>
                  <a:pt x="4600" y="8308"/>
                </a:lnTo>
                <a:lnTo>
                  <a:pt x="4878" y="8586"/>
                </a:lnTo>
                <a:lnTo>
                  <a:pt x="4878" y="8820"/>
                </a:lnTo>
                <a:lnTo>
                  <a:pt x="4878" y="8913"/>
                </a:lnTo>
                <a:lnTo>
                  <a:pt x="4878" y="8913"/>
                </a:lnTo>
                <a:lnTo>
                  <a:pt x="4644" y="9098"/>
                </a:lnTo>
                <a:lnTo>
                  <a:pt x="4644" y="9283"/>
                </a:lnTo>
                <a:lnTo>
                  <a:pt x="4551" y="9468"/>
                </a:lnTo>
                <a:lnTo>
                  <a:pt x="4459" y="9653"/>
                </a:lnTo>
                <a:lnTo>
                  <a:pt x="4322" y="9746"/>
                </a:lnTo>
                <a:lnTo>
                  <a:pt x="4088" y="9931"/>
                </a:lnTo>
                <a:lnTo>
                  <a:pt x="3996" y="10165"/>
                </a:lnTo>
                <a:lnTo>
                  <a:pt x="3947" y="10306"/>
                </a:lnTo>
                <a:lnTo>
                  <a:pt x="3855" y="10862"/>
                </a:lnTo>
                <a:lnTo>
                  <a:pt x="3762" y="11139"/>
                </a:lnTo>
                <a:lnTo>
                  <a:pt x="3718" y="11281"/>
                </a:lnTo>
                <a:lnTo>
                  <a:pt x="3577" y="11744"/>
                </a:lnTo>
                <a:lnTo>
                  <a:pt x="3440" y="11977"/>
                </a:lnTo>
                <a:lnTo>
                  <a:pt x="3250" y="12163"/>
                </a:lnTo>
                <a:lnTo>
                  <a:pt x="2973" y="12440"/>
                </a:lnTo>
                <a:lnTo>
                  <a:pt x="2836" y="12670"/>
                </a:lnTo>
                <a:lnTo>
                  <a:pt x="2695" y="12762"/>
                </a:lnTo>
                <a:lnTo>
                  <a:pt x="2416" y="12952"/>
                </a:lnTo>
                <a:lnTo>
                  <a:pt x="2275" y="13044"/>
                </a:lnTo>
                <a:lnTo>
                  <a:pt x="2046" y="13137"/>
                </a:lnTo>
                <a:lnTo>
                  <a:pt x="1860" y="13322"/>
                </a:lnTo>
                <a:lnTo>
                  <a:pt x="1719" y="13366"/>
                </a:lnTo>
                <a:lnTo>
                  <a:pt x="1583" y="13507"/>
                </a:lnTo>
                <a:lnTo>
                  <a:pt x="1441" y="13552"/>
                </a:lnTo>
                <a:lnTo>
                  <a:pt x="1300" y="13644"/>
                </a:lnTo>
                <a:lnTo>
                  <a:pt x="1164" y="13785"/>
                </a:lnTo>
                <a:lnTo>
                  <a:pt x="978" y="14019"/>
                </a:lnTo>
                <a:lnTo>
                  <a:pt x="837" y="14112"/>
                </a:lnTo>
                <a:lnTo>
                  <a:pt x="652" y="14204"/>
                </a:lnTo>
                <a:lnTo>
                  <a:pt x="511" y="14297"/>
                </a:lnTo>
                <a:lnTo>
                  <a:pt x="282" y="14434"/>
                </a:lnTo>
                <a:lnTo>
                  <a:pt x="0" y="1461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57720" y="2690640"/>
            <a:ext cx="1452960" cy="3924720"/>
          </a:xfrm>
          <a:custGeom>
            <a:avLst/>
            <a:gdLst/>
            <a:ahLst/>
            <a:rect l="0" t="0" r="r" b="b"/>
            <a:pathLst>
              <a:path fill="none" w="4036" h="10902">
                <a:moveTo>
                  <a:pt x="2302" y="0"/>
                </a:moveTo>
                <a:lnTo>
                  <a:pt x="2369" y="92"/>
                </a:lnTo>
                <a:lnTo>
                  <a:pt x="2461" y="251"/>
                </a:lnTo>
                <a:lnTo>
                  <a:pt x="2501" y="463"/>
                </a:lnTo>
                <a:lnTo>
                  <a:pt x="2607" y="555"/>
                </a:lnTo>
                <a:lnTo>
                  <a:pt x="2726" y="784"/>
                </a:lnTo>
                <a:lnTo>
                  <a:pt x="2862" y="970"/>
                </a:lnTo>
                <a:lnTo>
                  <a:pt x="2955" y="1155"/>
                </a:lnTo>
                <a:lnTo>
                  <a:pt x="3049" y="1296"/>
                </a:lnTo>
                <a:lnTo>
                  <a:pt x="3141" y="1481"/>
                </a:lnTo>
                <a:lnTo>
                  <a:pt x="3282" y="1618"/>
                </a:lnTo>
                <a:lnTo>
                  <a:pt x="3326" y="1759"/>
                </a:lnTo>
                <a:lnTo>
                  <a:pt x="3468" y="1944"/>
                </a:lnTo>
                <a:lnTo>
                  <a:pt x="3516" y="2085"/>
                </a:lnTo>
                <a:lnTo>
                  <a:pt x="3609" y="2271"/>
                </a:lnTo>
                <a:lnTo>
                  <a:pt x="3701" y="2500"/>
                </a:lnTo>
                <a:lnTo>
                  <a:pt x="3745" y="2641"/>
                </a:lnTo>
                <a:lnTo>
                  <a:pt x="3838" y="2827"/>
                </a:lnTo>
                <a:lnTo>
                  <a:pt x="3838" y="2968"/>
                </a:lnTo>
                <a:lnTo>
                  <a:pt x="3886" y="3153"/>
                </a:lnTo>
                <a:lnTo>
                  <a:pt x="3886" y="3339"/>
                </a:lnTo>
                <a:lnTo>
                  <a:pt x="3886" y="3661"/>
                </a:lnTo>
                <a:lnTo>
                  <a:pt x="3886" y="3802"/>
                </a:lnTo>
                <a:lnTo>
                  <a:pt x="3886" y="3943"/>
                </a:lnTo>
                <a:lnTo>
                  <a:pt x="3886" y="4128"/>
                </a:lnTo>
                <a:lnTo>
                  <a:pt x="3931" y="4313"/>
                </a:lnTo>
                <a:lnTo>
                  <a:pt x="3891" y="4578"/>
                </a:lnTo>
                <a:lnTo>
                  <a:pt x="3904" y="4684"/>
                </a:lnTo>
                <a:lnTo>
                  <a:pt x="3917" y="4750"/>
                </a:lnTo>
                <a:lnTo>
                  <a:pt x="3944" y="4829"/>
                </a:lnTo>
                <a:lnTo>
                  <a:pt x="3970" y="4922"/>
                </a:lnTo>
                <a:lnTo>
                  <a:pt x="4010" y="5067"/>
                </a:lnTo>
                <a:lnTo>
                  <a:pt x="4023" y="5160"/>
                </a:lnTo>
                <a:lnTo>
                  <a:pt x="4036" y="5345"/>
                </a:lnTo>
                <a:lnTo>
                  <a:pt x="3983" y="5477"/>
                </a:lnTo>
                <a:lnTo>
                  <a:pt x="3891" y="5636"/>
                </a:lnTo>
                <a:lnTo>
                  <a:pt x="3772" y="5874"/>
                </a:lnTo>
                <a:lnTo>
                  <a:pt x="3679" y="6020"/>
                </a:lnTo>
                <a:lnTo>
                  <a:pt x="3600" y="6126"/>
                </a:lnTo>
                <a:lnTo>
                  <a:pt x="3454" y="6192"/>
                </a:lnTo>
                <a:lnTo>
                  <a:pt x="3335" y="6311"/>
                </a:lnTo>
                <a:lnTo>
                  <a:pt x="3243" y="6377"/>
                </a:lnTo>
                <a:lnTo>
                  <a:pt x="3150" y="6470"/>
                </a:lnTo>
                <a:lnTo>
                  <a:pt x="3044" y="6602"/>
                </a:lnTo>
                <a:lnTo>
                  <a:pt x="3004" y="6747"/>
                </a:lnTo>
                <a:lnTo>
                  <a:pt x="2977" y="6906"/>
                </a:lnTo>
                <a:lnTo>
                  <a:pt x="2911" y="7065"/>
                </a:lnTo>
                <a:lnTo>
                  <a:pt x="2832" y="7237"/>
                </a:lnTo>
                <a:lnTo>
                  <a:pt x="2752" y="7501"/>
                </a:lnTo>
                <a:lnTo>
                  <a:pt x="2699" y="7687"/>
                </a:lnTo>
                <a:lnTo>
                  <a:pt x="2567" y="7938"/>
                </a:lnTo>
                <a:lnTo>
                  <a:pt x="2435" y="8204"/>
                </a:lnTo>
                <a:lnTo>
                  <a:pt x="2316" y="8428"/>
                </a:lnTo>
                <a:lnTo>
                  <a:pt x="2249" y="8653"/>
                </a:lnTo>
                <a:lnTo>
                  <a:pt x="2197" y="8812"/>
                </a:lnTo>
                <a:lnTo>
                  <a:pt x="2025" y="8997"/>
                </a:lnTo>
                <a:lnTo>
                  <a:pt x="1866" y="9209"/>
                </a:lnTo>
                <a:lnTo>
                  <a:pt x="1522" y="9407"/>
                </a:lnTo>
                <a:lnTo>
                  <a:pt x="1390" y="9593"/>
                </a:lnTo>
                <a:lnTo>
                  <a:pt x="1178" y="9751"/>
                </a:lnTo>
                <a:lnTo>
                  <a:pt x="978" y="9910"/>
                </a:lnTo>
                <a:lnTo>
                  <a:pt x="740" y="10122"/>
                </a:lnTo>
                <a:lnTo>
                  <a:pt x="502" y="10228"/>
                </a:lnTo>
                <a:lnTo>
                  <a:pt x="370" y="10360"/>
                </a:lnTo>
                <a:lnTo>
                  <a:pt x="145" y="10625"/>
                </a:lnTo>
                <a:lnTo>
                  <a:pt x="0" y="1090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03840" y="235080"/>
            <a:ext cx="3097440" cy="4447080"/>
          </a:xfrm>
          <a:custGeom>
            <a:avLst/>
            <a:gdLst/>
            <a:ahLst/>
            <a:rect l="0" t="0" r="r" b="b"/>
            <a:pathLst>
              <a:path fill="none" w="8604" h="12353">
                <a:moveTo>
                  <a:pt x="304" y="0"/>
                </a:moveTo>
                <a:lnTo>
                  <a:pt x="277" y="101"/>
                </a:lnTo>
                <a:lnTo>
                  <a:pt x="277" y="286"/>
                </a:lnTo>
                <a:lnTo>
                  <a:pt x="277" y="471"/>
                </a:lnTo>
                <a:lnTo>
                  <a:pt x="277" y="657"/>
                </a:lnTo>
                <a:lnTo>
                  <a:pt x="326" y="842"/>
                </a:lnTo>
                <a:lnTo>
                  <a:pt x="370" y="983"/>
                </a:lnTo>
                <a:lnTo>
                  <a:pt x="370" y="1168"/>
                </a:lnTo>
                <a:lnTo>
                  <a:pt x="370" y="1353"/>
                </a:lnTo>
                <a:lnTo>
                  <a:pt x="277" y="1538"/>
                </a:lnTo>
                <a:lnTo>
                  <a:pt x="233" y="1724"/>
                </a:lnTo>
                <a:lnTo>
                  <a:pt x="141" y="1865"/>
                </a:lnTo>
                <a:lnTo>
                  <a:pt x="92" y="2050"/>
                </a:lnTo>
                <a:lnTo>
                  <a:pt x="92" y="2235"/>
                </a:lnTo>
                <a:lnTo>
                  <a:pt x="92" y="2420"/>
                </a:lnTo>
                <a:lnTo>
                  <a:pt x="44" y="2606"/>
                </a:lnTo>
                <a:lnTo>
                  <a:pt x="0" y="2747"/>
                </a:lnTo>
                <a:lnTo>
                  <a:pt x="0" y="2932"/>
                </a:lnTo>
                <a:lnTo>
                  <a:pt x="0" y="3118"/>
                </a:lnTo>
                <a:lnTo>
                  <a:pt x="92" y="3303"/>
                </a:lnTo>
                <a:lnTo>
                  <a:pt x="141" y="3489"/>
                </a:lnTo>
                <a:lnTo>
                  <a:pt x="185" y="3630"/>
                </a:lnTo>
                <a:lnTo>
                  <a:pt x="233" y="3815"/>
                </a:lnTo>
                <a:lnTo>
                  <a:pt x="233" y="4000"/>
                </a:lnTo>
                <a:lnTo>
                  <a:pt x="233" y="4185"/>
                </a:lnTo>
                <a:lnTo>
                  <a:pt x="277" y="4371"/>
                </a:lnTo>
                <a:lnTo>
                  <a:pt x="326" y="4512"/>
                </a:lnTo>
                <a:lnTo>
                  <a:pt x="326" y="4697"/>
                </a:lnTo>
                <a:lnTo>
                  <a:pt x="370" y="4975"/>
                </a:lnTo>
                <a:lnTo>
                  <a:pt x="463" y="5160"/>
                </a:lnTo>
                <a:lnTo>
                  <a:pt x="511" y="5345"/>
                </a:lnTo>
                <a:lnTo>
                  <a:pt x="511" y="5486"/>
                </a:lnTo>
                <a:lnTo>
                  <a:pt x="511" y="5716"/>
                </a:lnTo>
                <a:lnTo>
                  <a:pt x="511" y="5857"/>
                </a:lnTo>
                <a:lnTo>
                  <a:pt x="555" y="6042"/>
                </a:lnTo>
                <a:lnTo>
                  <a:pt x="604" y="6227"/>
                </a:lnTo>
                <a:lnTo>
                  <a:pt x="648" y="6368"/>
                </a:lnTo>
                <a:lnTo>
                  <a:pt x="648" y="6553"/>
                </a:lnTo>
                <a:lnTo>
                  <a:pt x="798" y="6862"/>
                </a:lnTo>
                <a:lnTo>
                  <a:pt x="926" y="6924"/>
                </a:lnTo>
                <a:lnTo>
                  <a:pt x="1023" y="7109"/>
                </a:lnTo>
                <a:lnTo>
                  <a:pt x="1115" y="7250"/>
                </a:lnTo>
                <a:lnTo>
                  <a:pt x="1300" y="7387"/>
                </a:lnTo>
                <a:lnTo>
                  <a:pt x="1393" y="7528"/>
                </a:lnTo>
                <a:lnTo>
                  <a:pt x="1530" y="7713"/>
                </a:lnTo>
                <a:lnTo>
                  <a:pt x="1671" y="7850"/>
                </a:lnTo>
                <a:lnTo>
                  <a:pt x="1715" y="7991"/>
                </a:lnTo>
                <a:lnTo>
                  <a:pt x="1807" y="8132"/>
                </a:lnTo>
                <a:lnTo>
                  <a:pt x="1905" y="8317"/>
                </a:lnTo>
                <a:lnTo>
                  <a:pt x="2041" y="8502"/>
                </a:lnTo>
                <a:lnTo>
                  <a:pt x="2134" y="8688"/>
                </a:lnTo>
                <a:lnTo>
                  <a:pt x="2275" y="8873"/>
                </a:lnTo>
                <a:lnTo>
                  <a:pt x="2319" y="9014"/>
                </a:lnTo>
                <a:lnTo>
                  <a:pt x="2460" y="9151"/>
                </a:lnTo>
                <a:lnTo>
                  <a:pt x="2504" y="9293"/>
                </a:lnTo>
                <a:lnTo>
                  <a:pt x="2553" y="9478"/>
                </a:lnTo>
                <a:lnTo>
                  <a:pt x="2597" y="9663"/>
                </a:lnTo>
                <a:lnTo>
                  <a:pt x="2645" y="9804"/>
                </a:lnTo>
                <a:lnTo>
                  <a:pt x="2689" y="10034"/>
                </a:lnTo>
                <a:lnTo>
                  <a:pt x="2738" y="10175"/>
                </a:lnTo>
                <a:lnTo>
                  <a:pt x="2831" y="10360"/>
                </a:lnTo>
                <a:lnTo>
                  <a:pt x="2879" y="10589"/>
                </a:lnTo>
                <a:lnTo>
                  <a:pt x="2923" y="10730"/>
                </a:lnTo>
                <a:lnTo>
                  <a:pt x="2923" y="10871"/>
                </a:lnTo>
                <a:lnTo>
                  <a:pt x="2972" y="11057"/>
                </a:lnTo>
                <a:lnTo>
                  <a:pt x="3064" y="11242"/>
                </a:lnTo>
                <a:lnTo>
                  <a:pt x="3157" y="11427"/>
                </a:lnTo>
                <a:lnTo>
                  <a:pt x="3249" y="11568"/>
                </a:lnTo>
                <a:lnTo>
                  <a:pt x="3386" y="11753"/>
                </a:lnTo>
                <a:lnTo>
                  <a:pt x="3527" y="11939"/>
                </a:lnTo>
                <a:lnTo>
                  <a:pt x="3668" y="11983"/>
                </a:lnTo>
                <a:lnTo>
                  <a:pt x="3854" y="12031"/>
                </a:lnTo>
                <a:lnTo>
                  <a:pt x="4039" y="12168"/>
                </a:lnTo>
                <a:lnTo>
                  <a:pt x="4131" y="12309"/>
                </a:lnTo>
                <a:lnTo>
                  <a:pt x="4318" y="12353"/>
                </a:lnTo>
                <a:lnTo>
                  <a:pt x="4503" y="12353"/>
                </a:lnTo>
                <a:lnTo>
                  <a:pt x="4644" y="12309"/>
                </a:lnTo>
                <a:lnTo>
                  <a:pt x="4829" y="12261"/>
                </a:lnTo>
                <a:lnTo>
                  <a:pt x="5014" y="12216"/>
                </a:lnTo>
                <a:lnTo>
                  <a:pt x="5200" y="12075"/>
                </a:lnTo>
                <a:lnTo>
                  <a:pt x="5336" y="11890"/>
                </a:lnTo>
                <a:lnTo>
                  <a:pt x="5477" y="11753"/>
                </a:lnTo>
                <a:lnTo>
                  <a:pt x="5618" y="11612"/>
                </a:lnTo>
                <a:lnTo>
                  <a:pt x="5755" y="11471"/>
                </a:lnTo>
                <a:lnTo>
                  <a:pt x="5896" y="11379"/>
                </a:lnTo>
                <a:lnTo>
                  <a:pt x="6126" y="11237"/>
                </a:lnTo>
                <a:lnTo>
                  <a:pt x="6249" y="11132"/>
                </a:lnTo>
                <a:lnTo>
                  <a:pt x="6373" y="11026"/>
                </a:lnTo>
                <a:lnTo>
                  <a:pt x="6549" y="10938"/>
                </a:lnTo>
                <a:lnTo>
                  <a:pt x="6743" y="10832"/>
                </a:lnTo>
                <a:lnTo>
                  <a:pt x="6915" y="10779"/>
                </a:lnTo>
                <a:lnTo>
                  <a:pt x="7056" y="10779"/>
                </a:lnTo>
                <a:lnTo>
                  <a:pt x="7197" y="10730"/>
                </a:lnTo>
                <a:lnTo>
                  <a:pt x="7426" y="10589"/>
                </a:lnTo>
                <a:lnTo>
                  <a:pt x="7568" y="10453"/>
                </a:lnTo>
                <a:lnTo>
                  <a:pt x="7704" y="10311"/>
                </a:lnTo>
                <a:lnTo>
                  <a:pt x="7845" y="10126"/>
                </a:lnTo>
                <a:lnTo>
                  <a:pt x="7982" y="9941"/>
                </a:lnTo>
                <a:lnTo>
                  <a:pt x="8123" y="9804"/>
                </a:lnTo>
                <a:lnTo>
                  <a:pt x="8264" y="9707"/>
                </a:lnTo>
                <a:lnTo>
                  <a:pt x="8450" y="9615"/>
                </a:lnTo>
                <a:lnTo>
                  <a:pt x="8604" y="958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543640" y="249120"/>
            <a:ext cx="1456200" cy="1489320"/>
          </a:xfrm>
          <a:custGeom>
            <a:avLst/>
            <a:gdLst/>
            <a:ahLst/>
            <a:rect l="0" t="0" r="r" b="b"/>
            <a:pathLst>
              <a:path fill="none" w="4045" h="4137">
                <a:moveTo>
                  <a:pt x="0" y="0"/>
                </a:moveTo>
                <a:lnTo>
                  <a:pt x="96" y="97"/>
                </a:lnTo>
                <a:lnTo>
                  <a:pt x="193" y="275"/>
                </a:lnTo>
                <a:lnTo>
                  <a:pt x="290" y="453"/>
                </a:lnTo>
                <a:lnTo>
                  <a:pt x="290" y="630"/>
                </a:lnTo>
                <a:lnTo>
                  <a:pt x="336" y="808"/>
                </a:lnTo>
                <a:lnTo>
                  <a:pt x="433" y="944"/>
                </a:lnTo>
                <a:lnTo>
                  <a:pt x="581" y="1033"/>
                </a:lnTo>
                <a:lnTo>
                  <a:pt x="775" y="1121"/>
                </a:lnTo>
                <a:lnTo>
                  <a:pt x="923" y="1253"/>
                </a:lnTo>
                <a:lnTo>
                  <a:pt x="1021" y="1388"/>
                </a:lnTo>
                <a:lnTo>
                  <a:pt x="1215" y="1519"/>
                </a:lnTo>
                <a:lnTo>
                  <a:pt x="1408" y="1566"/>
                </a:lnTo>
                <a:lnTo>
                  <a:pt x="1602" y="1697"/>
                </a:lnTo>
                <a:lnTo>
                  <a:pt x="1750" y="1790"/>
                </a:lnTo>
                <a:lnTo>
                  <a:pt x="1944" y="1922"/>
                </a:lnTo>
                <a:lnTo>
                  <a:pt x="2184" y="2100"/>
                </a:lnTo>
                <a:lnTo>
                  <a:pt x="2332" y="2189"/>
                </a:lnTo>
                <a:lnTo>
                  <a:pt x="2429" y="2325"/>
                </a:lnTo>
                <a:lnTo>
                  <a:pt x="2622" y="2503"/>
                </a:lnTo>
                <a:lnTo>
                  <a:pt x="2636" y="2858"/>
                </a:lnTo>
                <a:lnTo>
                  <a:pt x="2978" y="3201"/>
                </a:lnTo>
                <a:lnTo>
                  <a:pt x="3404" y="3328"/>
                </a:lnTo>
                <a:lnTo>
                  <a:pt x="3745" y="3540"/>
                </a:lnTo>
                <a:lnTo>
                  <a:pt x="4045" y="41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51440" y="237960"/>
            <a:ext cx="2953080" cy="3358080"/>
          </a:xfrm>
          <a:custGeom>
            <a:avLst/>
            <a:gdLst/>
            <a:ahLst/>
            <a:rect l="0" t="0" r="r" b="b"/>
            <a:pathLst>
              <a:path fill="none" w="8203" h="9328">
                <a:moveTo>
                  <a:pt x="0" y="0"/>
                </a:moveTo>
                <a:lnTo>
                  <a:pt x="44" y="487"/>
                </a:lnTo>
                <a:lnTo>
                  <a:pt x="123" y="619"/>
                </a:lnTo>
                <a:lnTo>
                  <a:pt x="194" y="792"/>
                </a:lnTo>
                <a:lnTo>
                  <a:pt x="286" y="984"/>
                </a:lnTo>
                <a:lnTo>
                  <a:pt x="379" y="1175"/>
                </a:lnTo>
                <a:lnTo>
                  <a:pt x="471" y="1366"/>
                </a:lnTo>
                <a:lnTo>
                  <a:pt x="471" y="1558"/>
                </a:lnTo>
                <a:lnTo>
                  <a:pt x="515" y="1704"/>
                </a:lnTo>
                <a:lnTo>
                  <a:pt x="612" y="1895"/>
                </a:lnTo>
                <a:lnTo>
                  <a:pt x="749" y="2086"/>
                </a:lnTo>
                <a:lnTo>
                  <a:pt x="842" y="2278"/>
                </a:lnTo>
                <a:lnTo>
                  <a:pt x="1027" y="2470"/>
                </a:lnTo>
                <a:lnTo>
                  <a:pt x="1075" y="2616"/>
                </a:lnTo>
                <a:lnTo>
                  <a:pt x="1212" y="2807"/>
                </a:lnTo>
                <a:lnTo>
                  <a:pt x="1305" y="2998"/>
                </a:lnTo>
                <a:lnTo>
                  <a:pt x="1397" y="3190"/>
                </a:lnTo>
                <a:lnTo>
                  <a:pt x="1446" y="3381"/>
                </a:lnTo>
                <a:lnTo>
                  <a:pt x="1587" y="3477"/>
                </a:lnTo>
                <a:lnTo>
                  <a:pt x="1772" y="3623"/>
                </a:lnTo>
                <a:lnTo>
                  <a:pt x="1957" y="3764"/>
                </a:lnTo>
                <a:lnTo>
                  <a:pt x="2094" y="3910"/>
                </a:lnTo>
                <a:lnTo>
                  <a:pt x="2235" y="4101"/>
                </a:lnTo>
                <a:lnTo>
                  <a:pt x="2420" y="4292"/>
                </a:lnTo>
                <a:lnTo>
                  <a:pt x="2562" y="4484"/>
                </a:lnTo>
                <a:lnTo>
                  <a:pt x="2698" y="4725"/>
                </a:lnTo>
                <a:lnTo>
                  <a:pt x="2883" y="4962"/>
                </a:lnTo>
                <a:lnTo>
                  <a:pt x="2932" y="5108"/>
                </a:lnTo>
                <a:lnTo>
                  <a:pt x="3069" y="5299"/>
                </a:lnTo>
                <a:lnTo>
                  <a:pt x="3161" y="5445"/>
                </a:lnTo>
                <a:lnTo>
                  <a:pt x="3258" y="5682"/>
                </a:lnTo>
                <a:lnTo>
                  <a:pt x="3443" y="5873"/>
                </a:lnTo>
                <a:lnTo>
                  <a:pt x="3721" y="5924"/>
                </a:lnTo>
                <a:lnTo>
                  <a:pt x="3907" y="6019"/>
                </a:lnTo>
                <a:lnTo>
                  <a:pt x="4092" y="6165"/>
                </a:lnTo>
                <a:lnTo>
                  <a:pt x="4234" y="6261"/>
                </a:lnTo>
                <a:lnTo>
                  <a:pt x="4419" y="6402"/>
                </a:lnTo>
                <a:lnTo>
                  <a:pt x="4556" y="6548"/>
                </a:lnTo>
                <a:lnTo>
                  <a:pt x="4697" y="6739"/>
                </a:lnTo>
                <a:lnTo>
                  <a:pt x="4882" y="7027"/>
                </a:lnTo>
                <a:lnTo>
                  <a:pt x="4975" y="7173"/>
                </a:lnTo>
                <a:lnTo>
                  <a:pt x="5116" y="7364"/>
                </a:lnTo>
                <a:lnTo>
                  <a:pt x="5252" y="7556"/>
                </a:lnTo>
                <a:lnTo>
                  <a:pt x="5394" y="7747"/>
                </a:lnTo>
                <a:lnTo>
                  <a:pt x="5579" y="7989"/>
                </a:lnTo>
                <a:lnTo>
                  <a:pt x="5764" y="8084"/>
                </a:lnTo>
                <a:lnTo>
                  <a:pt x="5905" y="8225"/>
                </a:lnTo>
                <a:lnTo>
                  <a:pt x="6134" y="8417"/>
                </a:lnTo>
                <a:lnTo>
                  <a:pt x="6276" y="8563"/>
                </a:lnTo>
                <a:lnTo>
                  <a:pt x="6412" y="8754"/>
                </a:lnTo>
                <a:lnTo>
                  <a:pt x="6505" y="8900"/>
                </a:lnTo>
                <a:lnTo>
                  <a:pt x="6646" y="9091"/>
                </a:lnTo>
                <a:lnTo>
                  <a:pt x="6787" y="9187"/>
                </a:lnTo>
                <a:lnTo>
                  <a:pt x="6972" y="9283"/>
                </a:lnTo>
                <a:lnTo>
                  <a:pt x="7157" y="9283"/>
                </a:lnTo>
                <a:lnTo>
                  <a:pt x="7343" y="9328"/>
                </a:lnTo>
                <a:lnTo>
                  <a:pt x="7603" y="9287"/>
                </a:lnTo>
                <a:lnTo>
                  <a:pt x="7744" y="9305"/>
                </a:lnTo>
                <a:lnTo>
                  <a:pt x="7867" y="9251"/>
                </a:lnTo>
                <a:lnTo>
                  <a:pt x="8026" y="9214"/>
                </a:lnTo>
                <a:lnTo>
                  <a:pt x="8203" y="921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87720" y="725400"/>
            <a:ext cx="3016440" cy="3321360"/>
          </a:xfrm>
          <a:custGeom>
            <a:avLst/>
            <a:gdLst/>
            <a:ahLst/>
            <a:rect l="0" t="0" r="r" b="b"/>
            <a:pathLst>
              <a:path fill="none" w="8379" h="9226">
                <a:moveTo>
                  <a:pt x="127" y="0"/>
                </a:moveTo>
                <a:lnTo>
                  <a:pt x="0" y="670"/>
                </a:lnTo>
                <a:lnTo>
                  <a:pt x="22" y="948"/>
                </a:lnTo>
                <a:lnTo>
                  <a:pt x="88" y="1428"/>
                </a:lnTo>
                <a:lnTo>
                  <a:pt x="352" y="2191"/>
                </a:lnTo>
                <a:lnTo>
                  <a:pt x="643" y="2773"/>
                </a:lnTo>
                <a:lnTo>
                  <a:pt x="789" y="3007"/>
                </a:lnTo>
                <a:lnTo>
                  <a:pt x="833" y="3148"/>
                </a:lnTo>
                <a:lnTo>
                  <a:pt x="926" y="3333"/>
                </a:lnTo>
                <a:lnTo>
                  <a:pt x="1018" y="3518"/>
                </a:lnTo>
                <a:lnTo>
                  <a:pt x="1111" y="3704"/>
                </a:lnTo>
                <a:lnTo>
                  <a:pt x="1111" y="3889"/>
                </a:lnTo>
                <a:lnTo>
                  <a:pt x="1111" y="4030"/>
                </a:lnTo>
                <a:lnTo>
                  <a:pt x="1159" y="4215"/>
                </a:lnTo>
                <a:lnTo>
                  <a:pt x="1203" y="4400"/>
                </a:lnTo>
                <a:lnTo>
                  <a:pt x="1203" y="4586"/>
                </a:lnTo>
                <a:lnTo>
                  <a:pt x="1296" y="4772"/>
                </a:lnTo>
                <a:lnTo>
                  <a:pt x="1344" y="5050"/>
                </a:lnTo>
                <a:lnTo>
                  <a:pt x="1389" y="5191"/>
                </a:lnTo>
                <a:lnTo>
                  <a:pt x="1389" y="5420"/>
                </a:lnTo>
                <a:lnTo>
                  <a:pt x="1574" y="5561"/>
                </a:lnTo>
                <a:lnTo>
                  <a:pt x="1715" y="5654"/>
                </a:lnTo>
                <a:lnTo>
                  <a:pt x="1856" y="5746"/>
                </a:lnTo>
                <a:lnTo>
                  <a:pt x="1949" y="5887"/>
                </a:lnTo>
                <a:lnTo>
                  <a:pt x="2178" y="6117"/>
                </a:lnTo>
                <a:lnTo>
                  <a:pt x="2319" y="6258"/>
                </a:lnTo>
                <a:lnTo>
                  <a:pt x="2504" y="6536"/>
                </a:lnTo>
                <a:lnTo>
                  <a:pt x="2645" y="6721"/>
                </a:lnTo>
                <a:lnTo>
                  <a:pt x="2738" y="6862"/>
                </a:lnTo>
                <a:lnTo>
                  <a:pt x="2875" y="7091"/>
                </a:lnTo>
                <a:lnTo>
                  <a:pt x="2923" y="7232"/>
                </a:lnTo>
                <a:lnTo>
                  <a:pt x="3060" y="7418"/>
                </a:lnTo>
                <a:lnTo>
                  <a:pt x="3108" y="7559"/>
                </a:lnTo>
                <a:lnTo>
                  <a:pt x="3201" y="7744"/>
                </a:lnTo>
                <a:lnTo>
                  <a:pt x="3245" y="7929"/>
                </a:lnTo>
                <a:lnTo>
                  <a:pt x="3338" y="8114"/>
                </a:lnTo>
                <a:lnTo>
                  <a:pt x="3386" y="8300"/>
                </a:lnTo>
                <a:lnTo>
                  <a:pt x="3435" y="8441"/>
                </a:lnTo>
                <a:lnTo>
                  <a:pt x="3571" y="8670"/>
                </a:lnTo>
                <a:lnTo>
                  <a:pt x="3664" y="8811"/>
                </a:lnTo>
                <a:lnTo>
                  <a:pt x="3805" y="8948"/>
                </a:lnTo>
                <a:lnTo>
                  <a:pt x="3990" y="9133"/>
                </a:lnTo>
                <a:lnTo>
                  <a:pt x="4176" y="9226"/>
                </a:lnTo>
                <a:lnTo>
                  <a:pt x="4362" y="9226"/>
                </a:lnTo>
                <a:lnTo>
                  <a:pt x="4503" y="9226"/>
                </a:lnTo>
                <a:lnTo>
                  <a:pt x="4732" y="9182"/>
                </a:lnTo>
                <a:lnTo>
                  <a:pt x="4873" y="9133"/>
                </a:lnTo>
                <a:lnTo>
                  <a:pt x="5058" y="9040"/>
                </a:lnTo>
                <a:lnTo>
                  <a:pt x="5200" y="8996"/>
                </a:lnTo>
                <a:lnTo>
                  <a:pt x="5385" y="8948"/>
                </a:lnTo>
                <a:lnTo>
                  <a:pt x="5570" y="8904"/>
                </a:lnTo>
                <a:lnTo>
                  <a:pt x="5799" y="8855"/>
                </a:lnTo>
                <a:lnTo>
                  <a:pt x="5940" y="8811"/>
                </a:lnTo>
                <a:lnTo>
                  <a:pt x="6082" y="8763"/>
                </a:lnTo>
                <a:lnTo>
                  <a:pt x="6267" y="8670"/>
                </a:lnTo>
                <a:lnTo>
                  <a:pt x="6496" y="8670"/>
                </a:lnTo>
                <a:lnTo>
                  <a:pt x="6637" y="8670"/>
                </a:lnTo>
                <a:lnTo>
                  <a:pt x="6822" y="8626"/>
                </a:lnTo>
                <a:lnTo>
                  <a:pt x="6963" y="8577"/>
                </a:lnTo>
                <a:lnTo>
                  <a:pt x="7149" y="8533"/>
                </a:lnTo>
                <a:lnTo>
                  <a:pt x="7334" y="8441"/>
                </a:lnTo>
                <a:lnTo>
                  <a:pt x="7444" y="8357"/>
                </a:lnTo>
                <a:lnTo>
                  <a:pt x="7656" y="8216"/>
                </a:lnTo>
                <a:lnTo>
                  <a:pt x="7815" y="8128"/>
                </a:lnTo>
                <a:lnTo>
                  <a:pt x="8079" y="8022"/>
                </a:lnTo>
                <a:lnTo>
                  <a:pt x="8379" y="798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09960" y="1366920"/>
            <a:ext cx="3091320" cy="3154680"/>
          </a:xfrm>
          <a:custGeom>
            <a:avLst/>
            <a:gdLst/>
            <a:ahLst/>
            <a:rect l="0" t="0" r="r" b="b"/>
            <a:pathLst>
              <a:path fill="none" w="8587" h="8763">
                <a:moveTo>
                  <a:pt x="0" y="0"/>
                </a:moveTo>
                <a:lnTo>
                  <a:pt x="198" y="224"/>
                </a:lnTo>
                <a:lnTo>
                  <a:pt x="330" y="449"/>
                </a:lnTo>
                <a:lnTo>
                  <a:pt x="423" y="727"/>
                </a:lnTo>
                <a:lnTo>
                  <a:pt x="476" y="1084"/>
                </a:lnTo>
                <a:lnTo>
                  <a:pt x="515" y="1415"/>
                </a:lnTo>
                <a:lnTo>
                  <a:pt x="648" y="1746"/>
                </a:lnTo>
                <a:lnTo>
                  <a:pt x="701" y="2037"/>
                </a:lnTo>
                <a:lnTo>
                  <a:pt x="912" y="2262"/>
                </a:lnTo>
                <a:lnTo>
                  <a:pt x="912" y="2447"/>
                </a:lnTo>
                <a:lnTo>
                  <a:pt x="912" y="2579"/>
                </a:lnTo>
                <a:lnTo>
                  <a:pt x="886" y="2764"/>
                </a:lnTo>
                <a:lnTo>
                  <a:pt x="939" y="2870"/>
                </a:lnTo>
                <a:lnTo>
                  <a:pt x="992" y="3055"/>
                </a:lnTo>
                <a:lnTo>
                  <a:pt x="1018" y="3161"/>
                </a:lnTo>
                <a:lnTo>
                  <a:pt x="1124" y="3452"/>
                </a:lnTo>
                <a:lnTo>
                  <a:pt x="1124" y="3558"/>
                </a:lnTo>
                <a:lnTo>
                  <a:pt x="1230" y="3664"/>
                </a:lnTo>
                <a:lnTo>
                  <a:pt x="1336" y="3770"/>
                </a:lnTo>
                <a:lnTo>
                  <a:pt x="1494" y="3876"/>
                </a:lnTo>
                <a:lnTo>
                  <a:pt x="1653" y="4087"/>
                </a:lnTo>
                <a:lnTo>
                  <a:pt x="1838" y="4378"/>
                </a:lnTo>
                <a:lnTo>
                  <a:pt x="1971" y="4485"/>
                </a:lnTo>
                <a:lnTo>
                  <a:pt x="2103" y="4697"/>
                </a:lnTo>
                <a:lnTo>
                  <a:pt x="2210" y="4882"/>
                </a:lnTo>
                <a:lnTo>
                  <a:pt x="2263" y="5120"/>
                </a:lnTo>
                <a:lnTo>
                  <a:pt x="2395" y="5385"/>
                </a:lnTo>
                <a:lnTo>
                  <a:pt x="2448" y="5491"/>
                </a:lnTo>
                <a:lnTo>
                  <a:pt x="2554" y="5623"/>
                </a:lnTo>
                <a:lnTo>
                  <a:pt x="2492" y="5746"/>
                </a:lnTo>
                <a:lnTo>
                  <a:pt x="2527" y="5799"/>
                </a:lnTo>
                <a:lnTo>
                  <a:pt x="2563" y="5870"/>
                </a:lnTo>
                <a:lnTo>
                  <a:pt x="2598" y="5923"/>
                </a:lnTo>
                <a:lnTo>
                  <a:pt x="2615" y="5976"/>
                </a:lnTo>
                <a:lnTo>
                  <a:pt x="2651" y="6046"/>
                </a:lnTo>
                <a:lnTo>
                  <a:pt x="2686" y="6099"/>
                </a:lnTo>
                <a:lnTo>
                  <a:pt x="2721" y="6170"/>
                </a:lnTo>
                <a:lnTo>
                  <a:pt x="2721" y="6223"/>
                </a:lnTo>
                <a:lnTo>
                  <a:pt x="2757" y="6276"/>
                </a:lnTo>
                <a:lnTo>
                  <a:pt x="2774" y="6346"/>
                </a:lnTo>
                <a:lnTo>
                  <a:pt x="2809" y="6399"/>
                </a:lnTo>
                <a:lnTo>
                  <a:pt x="2827" y="6452"/>
                </a:lnTo>
                <a:lnTo>
                  <a:pt x="2862" y="6522"/>
                </a:lnTo>
                <a:lnTo>
                  <a:pt x="2880" y="6575"/>
                </a:lnTo>
                <a:lnTo>
                  <a:pt x="2898" y="6628"/>
                </a:lnTo>
                <a:lnTo>
                  <a:pt x="2915" y="6681"/>
                </a:lnTo>
                <a:lnTo>
                  <a:pt x="2933" y="6734"/>
                </a:lnTo>
                <a:lnTo>
                  <a:pt x="2968" y="6787"/>
                </a:lnTo>
                <a:lnTo>
                  <a:pt x="2968" y="6840"/>
                </a:lnTo>
                <a:lnTo>
                  <a:pt x="2986" y="6893"/>
                </a:lnTo>
                <a:lnTo>
                  <a:pt x="3021" y="6963"/>
                </a:lnTo>
                <a:lnTo>
                  <a:pt x="3039" y="7016"/>
                </a:lnTo>
                <a:lnTo>
                  <a:pt x="3039" y="7069"/>
                </a:lnTo>
                <a:lnTo>
                  <a:pt x="3074" y="7122"/>
                </a:lnTo>
                <a:lnTo>
                  <a:pt x="3109" y="7175"/>
                </a:lnTo>
                <a:lnTo>
                  <a:pt x="3145" y="7263"/>
                </a:lnTo>
                <a:lnTo>
                  <a:pt x="3162" y="7316"/>
                </a:lnTo>
                <a:lnTo>
                  <a:pt x="3198" y="7404"/>
                </a:lnTo>
                <a:lnTo>
                  <a:pt x="3233" y="7457"/>
                </a:lnTo>
                <a:lnTo>
                  <a:pt x="3268" y="7528"/>
                </a:lnTo>
                <a:lnTo>
                  <a:pt x="3286" y="7581"/>
                </a:lnTo>
                <a:lnTo>
                  <a:pt x="3321" y="7634"/>
                </a:lnTo>
                <a:lnTo>
                  <a:pt x="3339" y="7687"/>
                </a:lnTo>
                <a:lnTo>
                  <a:pt x="3356" y="7740"/>
                </a:lnTo>
                <a:lnTo>
                  <a:pt x="3392" y="7810"/>
                </a:lnTo>
                <a:lnTo>
                  <a:pt x="3444" y="7863"/>
                </a:lnTo>
                <a:lnTo>
                  <a:pt x="3480" y="7934"/>
                </a:lnTo>
                <a:lnTo>
                  <a:pt x="3515" y="7987"/>
                </a:lnTo>
                <a:lnTo>
                  <a:pt x="3550" y="8039"/>
                </a:lnTo>
                <a:lnTo>
                  <a:pt x="3586" y="8092"/>
                </a:lnTo>
                <a:lnTo>
                  <a:pt x="3621" y="8163"/>
                </a:lnTo>
                <a:lnTo>
                  <a:pt x="3656" y="8216"/>
                </a:lnTo>
                <a:lnTo>
                  <a:pt x="3691" y="8269"/>
                </a:lnTo>
                <a:lnTo>
                  <a:pt x="3744" y="8322"/>
                </a:lnTo>
                <a:lnTo>
                  <a:pt x="3780" y="8375"/>
                </a:lnTo>
                <a:lnTo>
                  <a:pt x="3833" y="8427"/>
                </a:lnTo>
                <a:lnTo>
                  <a:pt x="3885" y="8480"/>
                </a:lnTo>
                <a:lnTo>
                  <a:pt x="3938" y="8516"/>
                </a:lnTo>
                <a:lnTo>
                  <a:pt x="3974" y="8569"/>
                </a:lnTo>
                <a:lnTo>
                  <a:pt x="4027" y="8604"/>
                </a:lnTo>
                <a:lnTo>
                  <a:pt x="4079" y="8622"/>
                </a:lnTo>
                <a:lnTo>
                  <a:pt x="4132" y="8657"/>
                </a:lnTo>
                <a:lnTo>
                  <a:pt x="4185" y="8657"/>
                </a:lnTo>
                <a:lnTo>
                  <a:pt x="4238" y="8692"/>
                </a:lnTo>
                <a:lnTo>
                  <a:pt x="4450" y="8745"/>
                </a:lnTo>
                <a:lnTo>
                  <a:pt x="4503" y="8745"/>
                </a:lnTo>
                <a:lnTo>
                  <a:pt x="4556" y="8763"/>
                </a:lnTo>
                <a:lnTo>
                  <a:pt x="4609" y="8763"/>
                </a:lnTo>
                <a:lnTo>
                  <a:pt x="4662" y="8763"/>
                </a:lnTo>
                <a:lnTo>
                  <a:pt x="4732" y="8763"/>
                </a:lnTo>
                <a:lnTo>
                  <a:pt x="4820" y="8763"/>
                </a:lnTo>
                <a:lnTo>
                  <a:pt x="4909" y="8763"/>
                </a:lnTo>
                <a:lnTo>
                  <a:pt x="4961" y="8727"/>
                </a:lnTo>
                <a:lnTo>
                  <a:pt x="5014" y="8692"/>
                </a:lnTo>
                <a:lnTo>
                  <a:pt x="5067" y="8657"/>
                </a:lnTo>
                <a:lnTo>
                  <a:pt x="5173" y="8586"/>
                </a:lnTo>
                <a:lnTo>
                  <a:pt x="5226" y="8551"/>
                </a:lnTo>
                <a:lnTo>
                  <a:pt x="5279" y="8498"/>
                </a:lnTo>
                <a:lnTo>
                  <a:pt x="5332" y="8463"/>
                </a:lnTo>
                <a:lnTo>
                  <a:pt x="5385" y="8427"/>
                </a:lnTo>
                <a:lnTo>
                  <a:pt x="5438" y="8392"/>
                </a:lnTo>
                <a:lnTo>
                  <a:pt x="5491" y="8357"/>
                </a:lnTo>
                <a:lnTo>
                  <a:pt x="5544" y="8304"/>
                </a:lnTo>
                <a:lnTo>
                  <a:pt x="5632" y="8233"/>
                </a:lnTo>
                <a:lnTo>
                  <a:pt x="5702" y="8216"/>
                </a:lnTo>
                <a:lnTo>
                  <a:pt x="5808" y="8145"/>
                </a:lnTo>
                <a:lnTo>
                  <a:pt x="5843" y="8092"/>
                </a:lnTo>
                <a:lnTo>
                  <a:pt x="5879" y="8039"/>
                </a:lnTo>
                <a:lnTo>
                  <a:pt x="5932" y="8004"/>
                </a:lnTo>
                <a:lnTo>
                  <a:pt x="5984" y="7934"/>
                </a:lnTo>
                <a:lnTo>
                  <a:pt x="6037" y="7881"/>
                </a:lnTo>
                <a:lnTo>
                  <a:pt x="6090" y="7845"/>
                </a:lnTo>
                <a:lnTo>
                  <a:pt x="6143" y="7810"/>
                </a:lnTo>
                <a:lnTo>
                  <a:pt x="6214" y="7775"/>
                </a:lnTo>
                <a:lnTo>
                  <a:pt x="6267" y="7757"/>
                </a:lnTo>
                <a:lnTo>
                  <a:pt x="6320" y="7740"/>
                </a:lnTo>
                <a:lnTo>
                  <a:pt x="6373" y="7704"/>
                </a:lnTo>
                <a:lnTo>
                  <a:pt x="6425" y="7687"/>
                </a:lnTo>
                <a:lnTo>
                  <a:pt x="6497" y="7651"/>
                </a:lnTo>
                <a:lnTo>
                  <a:pt x="6568" y="7616"/>
                </a:lnTo>
                <a:lnTo>
                  <a:pt x="6620" y="7581"/>
                </a:lnTo>
                <a:lnTo>
                  <a:pt x="6673" y="7563"/>
                </a:lnTo>
                <a:lnTo>
                  <a:pt x="6726" y="7546"/>
                </a:lnTo>
                <a:lnTo>
                  <a:pt x="6779" y="7528"/>
                </a:lnTo>
                <a:lnTo>
                  <a:pt x="6832" y="7510"/>
                </a:lnTo>
                <a:lnTo>
                  <a:pt x="6903" y="7493"/>
                </a:lnTo>
                <a:lnTo>
                  <a:pt x="7092" y="7409"/>
                </a:lnTo>
                <a:lnTo>
                  <a:pt x="7145" y="7343"/>
                </a:lnTo>
                <a:lnTo>
                  <a:pt x="7211" y="7329"/>
                </a:lnTo>
                <a:lnTo>
                  <a:pt x="7251" y="7277"/>
                </a:lnTo>
                <a:lnTo>
                  <a:pt x="7278" y="7277"/>
                </a:lnTo>
                <a:lnTo>
                  <a:pt x="7330" y="7224"/>
                </a:lnTo>
                <a:lnTo>
                  <a:pt x="7357" y="7197"/>
                </a:lnTo>
                <a:lnTo>
                  <a:pt x="7397" y="7144"/>
                </a:lnTo>
                <a:lnTo>
                  <a:pt x="7463" y="7105"/>
                </a:lnTo>
                <a:lnTo>
                  <a:pt x="7529" y="7078"/>
                </a:lnTo>
                <a:lnTo>
                  <a:pt x="7608" y="7025"/>
                </a:lnTo>
                <a:lnTo>
                  <a:pt x="7674" y="6972"/>
                </a:lnTo>
                <a:lnTo>
                  <a:pt x="7701" y="6933"/>
                </a:lnTo>
                <a:lnTo>
                  <a:pt x="7701" y="6946"/>
                </a:lnTo>
                <a:lnTo>
                  <a:pt x="7913" y="6734"/>
                </a:lnTo>
                <a:lnTo>
                  <a:pt x="8177" y="6509"/>
                </a:lnTo>
                <a:lnTo>
                  <a:pt x="8349" y="6443"/>
                </a:lnTo>
                <a:lnTo>
                  <a:pt x="8587" y="639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343400" y="237960"/>
            <a:ext cx="2657880" cy="2305440"/>
          </a:xfrm>
          <a:custGeom>
            <a:avLst/>
            <a:gdLst/>
            <a:ahLst/>
            <a:rect l="0" t="0" r="r" b="b"/>
            <a:pathLst>
              <a:path fill="none" w="7383" h="6404">
                <a:moveTo>
                  <a:pt x="0" y="0"/>
                </a:moveTo>
                <a:lnTo>
                  <a:pt x="79" y="92"/>
                </a:lnTo>
                <a:lnTo>
                  <a:pt x="119" y="211"/>
                </a:lnTo>
                <a:lnTo>
                  <a:pt x="238" y="291"/>
                </a:lnTo>
                <a:lnTo>
                  <a:pt x="357" y="370"/>
                </a:lnTo>
                <a:lnTo>
                  <a:pt x="436" y="489"/>
                </a:lnTo>
                <a:lnTo>
                  <a:pt x="515" y="608"/>
                </a:lnTo>
                <a:lnTo>
                  <a:pt x="635" y="608"/>
                </a:lnTo>
                <a:lnTo>
                  <a:pt x="754" y="767"/>
                </a:lnTo>
                <a:lnTo>
                  <a:pt x="793" y="886"/>
                </a:lnTo>
                <a:lnTo>
                  <a:pt x="833" y="1005"/>
                </a:lnTo>
                <a:lnTo>
                  <a:pt x="873" y="1124"/>
                </a:lnTo>
                <a:lnTo>
                  <a:pt x="912" y="1243"/>
                </a:lnTo>
                <a:lnTo>
                  <a:pt x="1031" y="1322"/>
                </a:lnTo>
                <a:lnTo>
                  <a:pt x="1150" y="1402"/>
                </a:lnTo>
                <a:lnTo>
                  <a:pt x="1270" y="1481"/>
                </a:lnTo>
                <a:lnTo>
                  <a:pt x="1389" y="1521"/>
                </a:lnTo>
                <a:lnTo>
                  <a:pt x="1508" y="1600"/>
                </a:lnTo>
                <a:lnTo>
                  <a:pt x="1706" y="1681"/>
                </a:lnTo>
                <a:lnTo>
                  <a:pt x="1825" y="1720"/>
                </a:lnTo>
                <a:lnTo>
                  <a:pt x="1945" y="1800"/>
                </a:lnTo>
                <a:lnTo>
                  <a:pt x="2104" y="1879"/>
                </a:lnTo>
                <a:lnTo>
                  <a:pt x="2223" y="1958"/>
                </a:lnTo>
                <a:lnTo>
                  <a:pt x="2382" y="1998"/>
                </a:lnTo>
                <a:lnTo>
                  <a:pt x="2501" y="2077"/>
                </a:lnTo>
                <a:lnTo>
                  <a:pt x="2620" y="2236"/>
                </a:lnTo>
                <a:lnTo>
                  <a:pt x="2699" y="2355"/>
                </a:lnTo>
                <a:lnTo>
                  <a:pt x="2818" y="2474"/>
                </a:lnTo>
                <a:lnTo>
                  <a:pt x="2977" y="2593"/>
                </a:lnTo>
                <a:lnTo>
                  <a:pt x="3096" y="2673"/>
                </a:lnTo>
                <a:lnTo>
                  <a:pt x="3215" y="2712"/>
                </a:lnTo>
                <a:lnTo>
                  <a:pt x="3334" y="2752"/>
                </a:lnTo>
                <a:lnTo>
                  <a:pt x="3453" y="2792"/>
                </a:lnTo>
                <a:lnTo>
                  <a:pt x="3652" y="2951"/>
                </a:lnTo>
                <a:lnTo>
                  <a:pt x="3771" y="2990"/>
                </a:lnTo>
                <a:lnTo>
                  <a:pt x="3969" y="3109"/>
                </a:lnTo>
                <a:lnTo>
                  <a:pt x="4128" y="3268"/>
                </a:lnTo>
                <a:lnTo>
                  <a:pt x="4247" y="3308"/>
                </a:lnTo>
                <a:lnTo>
                  <a:pt x="4366" y="3427"/>
                </a:lnTo>
                <a:lnTo>
                  <a:pt x="4485" y="3506"/>
                </a:lnTo>
                <a:lnTo>
                  <a:pt x="4604" y="3625"/>
                </a:lnTo>
                <a:lnTo>
                  <a:pt x="4684" y="3744"/>
                </a:lnTo>
                <a:lnTo>
                  <a:pt x="4763" y="3863"/>
                </a:lnTo>
                <a:lnTo>
                  <a:pt x="4922" y="4022"/>
                </a:lnTo>
                <a:lnTo>
                  <a:pt x="5041" y="4102"/>
                </a:lnTo>
                <a:lnTo>
                  <a:pt x="5120" y="4221"/>
                </a:lnTo>
                <a:lnTo>
                  <a:pt x="5239" y="4300"/>
                </a:lnTo>
                <a:lnTo>
                  <a:pt x="5358" y="4459"/>
                </a:lnTo>
                <a:lnTo>
                  <a:pt x="5477" y="4578"/>
                </a:lnTo>
                <a:lnTo>
                  <a:pt x="5597" y="4617"/>
                </a:lnTo>
                <a:lnTo>
                  <a:pt x="5717" y="4737"/>
                </a:lnTo>
                <a:lnTo>
                  <a:pt x="5836" y="4776"/>
                </a:lnTo>
                <a:lnTo>
                  <a:pt x="5955" y="4817"/>
                </a:lnTo>
                <a:lnTo>
                  <a:pt x="6074" y="4817"/>
                </a:lnTo>
                <a:lnTo>
                  <a:pt x="6193" y="4857"/>
                </a:lnTo>
                <a:lnTo>
                  <a:pt x="6352" y="4936"/>
                </a:lnTo>
                <a:lnTo>
                  <a:pt x="6431" y="5055"/>
                </a:lnTo>
                <a:lnTo>
                  <a:pt x="6550" y="5214"/>
                </a:lnTo>
                <a:lnTo>
                  <a:pt x="6669" y="5333"/>
                </a:lnTo>
                <a:lnTo>
                  <a:pt x="6709" y="5452"/>
                </a:lnTo>
                <a:lnTo>
                  <a:pt x="6788" y="5571"/>
                </a:lnTo>
                <a:lnTo>
                  <a:pt x="6907" y="5730"/>
                </a:lnTo>
                <a:lnTo>
                  <a:pt x="6947" y="5849"/>
                </a:lnTo>
                <a:lnTo>
                  <a:pt x="7026" y="5968"/>
                </a:lnTo>
                <a:lnTo>
                  <a:pt x="7106" y="6087"/>
                </a:lnTo>
                <a:lnTo>
                  <a:pt x="7145" y="6206"/>
                </a:lnTo>
                <a:lnTo>
                  <a:pt x="7264" y="6325"/>
                </a:lnTo>
                <a:lnTo>
                  <a:pt x="7383" y="640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33840" y="3776760"/>
            <a:ext cx="3360960" cy="2843640"/>
          </a:xfrm>
          <a:custGeom>
            <a:avLst/>
            <a:gdLst/>
            <a:ahLst/>
            <a:rect l="0" t="0" r="r" b="b"/>
            <a:pathLst>
              <a:path fill="none" w="9336" h="7899">
                <a:moveTo>
                  <a:pt x="0" y="7899"/>
                </a:moveTo>
                <a:lnTo>
                  <a:pt x="66" y="7649"/>
                </a:lnTo>
                <a:lnTo>
                  <a:pt x="542" y="7184"/>
                </a:lnTo>
                <a:lnTo>
                  <a:pt x="1058" y="6670"/>
                </a:lnTo>
                <a:lnTo>
                  <a:pt x="1389" y="6459"/>
                </a:lnTo>
                <a:lnTo>
                  <a:pt x="1825" y="5821"/>
                </a:lnTo>
                <a:lnTo>
                  <a:pt x="2037" y="5277"/>
                </a:lnTo>
                <a:lnTo>
                  <a:pt x="2275" y="5042"/>
                </a:lnTo>
                <a:lnTo>
                  <a:pt x="2539" y="4591"/>
                </a:lnTo>
                <a:lnTo>
                  <a:pt x="2923" y="4047"/>
                </a:lnTo>
                <a:lnTo>
                  <a:pt x="3346" y="3136"/>
                </a:lnTo>
                <a:lnTo>
                  <a:pt x="3942" y="2715"/>
                </a:lnTo>
                <a:lnTo>
                  <a:pt x="4167" y="2725"/>
                </a:lnTo>
                <a:lnTo>
                  <a:pt x="4511" y="2935"/>
                </a:lnTo>
                <a:lnTo>
                  <a:pt x="4616" y="3136"/>
                </a:lnTo>
                <a:lnTo>
                  <a:pt x="4895" y="3322"/>
                </a:lnTo>
                <a:lnTo>
                  <a:pt x="5292" y="3494"/>
                </a:lnTo>
                <a:lnTo>
                  <a:pt x="5530" y="3347"/>
                </a:lnTo>
                <a:lnTo>
                  <a:pt x="5967" y="2778"/>
                </a:lnTo>
                <a:lnTo>
                  <a:pt x="6059" y="2700"/>
                </a:lnTo>
                <a:lnTo>
                  <a:pt x="6205" y="2671"/>
                </a:lnTo>
                <a:lnTo>
                  <a:pt x="6421" y="2582"/>
                </a:lnTo>
                <a:lnTo>
                  <a:pt x="6549" y="2440"/>
                </a:lnTo>
                <a:lnTo>
                  <a:pt x="6633" y="2298"/>
                </a:lnTo>
                <a:lnTo>
                  <a:pt x="6725" y="2073"/>
                </a:lnTo>
                <a:lnTo>
                  <a:pt x="6858" y="1995"/>
                </a:lnTo>
                <a:lnTo>
                  <a:pt x="7060" y="1930"/>
                </a:lnTo>
                <a:lnTo>
                  <a:pt x="7096" y="1940"/>
                </a:lnTo>
                <a:lnTo>
                  <a:pt x="7334" y="1915"/>
                </a:lnTo>
                <a:lnTo>
                  <a:pt x="7444" y="1871"/>
                </a:lnTo>
                <a:lnTo>
                  <a:pt x="7572" y="1729"/>
                </a:lnTo>
                <a:lnTo>
                  <a:pt x="7700" y="1680"/>
                </a:lnTo>
                <a:lnTo>
                  <a:pt x="7828" y="1587"/>
                </a:lnTo>
                <a:lnTo>
                  <a:pt x="8000" y="1396"/>
                </a:lnTo>
                <a:lnTo>
                  <a:pt x="8128" y="1303"/>
                </a:lnTo>
                <a:lnTo>
                  <a:pt x="8255" y="1254"/>
                </a:lnTo>
                <a:lnTo>
                  <a:pt x="8339" y="1112"/>
                </a:lnTo>
                <a:lnTo>
                  <a:pt x="8467" y="1019"/>
                </a:lnTo>
                <a:lnTo>
                  <a:pt x="8511" y="876"/>
                </a:lnTo>
                <a:lnTo>
                  <a:pt x="8599" y="685"/>
                </a:lnTo>
                <a:lnTo>
                  <a:pt x="8727" y="543"/>
                </a:lnTo>
                <a:lnTo>
                  <a:pt x="8855" y="401"/>
                </a:lnTo>
                <a:lnTo>
                  <a:pt x="8983" y="210"/>
                </a:lnTo>
                <a:lnTo>
                  <a:pt x="9111" y="68"/>
                </a:lnTo>
                <a:lnTo>
                  <a:pt x="9239" y="24"/>
                </a:lnTo>
                <a:lnTo>
                  <a:pt x="9336" y="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36800" y="3889440"/>
            <a:ext cx="3262680" cy="2730960"/>
          </a:xfrm>
          <a:custGeom>
            <a:avLst/>
            <a:gdLst/>
            <a:ahLst/>
            <a:rect l="0" t="0" r="r" b="b"/>
            <a:pathLst>
              <a:path fill="none" w="9063" h="7586">
                <a:moveTo>
                  <a:pt x="9063" y="0"/>
                </a:moveTo>
                <a:lnTo>
                  <a:pt x="8980" y="127"/>
                </a:lnTo>
                <a:lnTo>
                  <a:pt x="8852" y="255"/>
                </a:lnTo>
                <a:lnTo>
                  <a:pt x="8724" y="343"/>
                </a:lnTo>
                <a:lnTo>
                  <a:pt x="8636" y="471"/>
                </a:lnTo>
                <a:lnTo>
                  <a:pt x="8552" y="599"/>
                </a:lnTo>
                <a:lnTo>
                  <a:pt x="8468" y="727"/>
                </a:lnTo>
                <a:lnTo>
                  <a:pt x="8380" y="855"/>
                </a:lnTo>
                <a:lnTo>
                  <a:pt x="8296" y="983"/>
                </a:lnTo>
                <a:lnTo>
                  <a:pt x="8168" y="1067"/>
                </a:lnTo>
                <a:lnTo>
                  <a:pt x="8040" y="1195"/>
                </a:lnTo>
                <a:lnTo>
                  <a:pt x="7913" y="1283"/>
                </a:lnTo>
                <a:lnTo>
                  <a:pt x="7785" y="1411"/>
                </a:lnTo>
                <a:lnTo>
                  <a:pt x="7613" y="1494"/>
                </a:lnTo>
                <a:lnTo>
                  <a:pt x="7485" y="1622"/>
                </a:lnTo>
                <a:lnTo>
                  <a:pt x="7357" y="1666"/>
                </a:lnTo>
                <a:lnTo>
                  <a:pt x="7295" y="1781"/>
                </a:lnTo>
                <a:lnTo>
                  <a:pt x="7207" y="1860"/>
                </a:lnTo>
                <a:lnTo>
                  <a:pt x="7075" y="1914"/>
                </a:lnTo>
                <a:lnTo>
                  <a:pt x="7004" y="1976"/>
                </a:lnTo>
                <a:lnTo>
                  <a:pt x="6916" y="2082"/>
                </a:lnTo>
                <a:lnTo>
                  <a:pt x="6721" y="2258"/>
                </a:lnTo>
                <a:lnTo>
                  <a:pt x="6553" y="2355"/>
                </a:lnTo>
                <a:lnTo>
                  <a:pt x="6430" y="2426"/>
                </a:lnTo>
                <a:lnTo>
                  <a:pt x="6342" y="2532"/>
                </a:lnTo>
                <a:lnTo>
                  <a:pt x="6218" y="2620"/>
                </a:lnTo>
                <a:lnTo>
                  <a:pt x="6174" y="2752"/>
                </a:lnTo>
                <a:lnTo>
                  <a:pt x="6033" y="2858"/>
                </a:lnTo>
                <a:lnTo>
                  <a:pt x="5910" y="3043"/>
                </a:lnTo>
                <a:lnTo>
                  <a:pt x="5716" y="3140"/>
                </a:lnTo>
                <a:lnTo>
                  <a:pt x="5618" y="3264"/>
                </a:lnTo>
                <a:lnTo>
                  <a:pt x="5460" y="3396"/>
                </a:lnTo>
                <a:lnTo>
                  <a:pt x="5292" y="3475"/>
                </a:lnTo>
                <a:lnTo>
                  <a:pt x="5160" y="3511"/>
                </a:lnTo>
                <a:lnTo>
                  <a:pt x="5010" y="3493"/>
                </a:lnTo>
                <a:lnTo>
                  <a:pt x="4781" y="3475"/>
                </a:lnTo>
                <a:lnTo>
                  <a:pt x="4626" y="3286"/>
                </a:lnTo>
                <a:lnTo>
                  <a:pt x="4498" y="3202"/>
                </a:lnTo>
                <a:lnTo>
                  <a:pt x="4371" y="3074"/>
                </a:lnTo>
                <a:lnTo>
                  <a:pt x="4238" y="2990"/>
                </a:lnTo>
                <a:lnTo>
                  <a:pt x="4154" y="2862"/>
                </a:lnTo>
                <a:lnTo>
                  <a:pt x="4027" y="2818"/>
                </a:lnTo>
                <a:lnTo>
                  <a:pt x="3899" y="2774"/>
                </a:lnTo>
                <a:lnTo>
                  <a:pt x="3775" y="2638"/>
                </a:lnTo>
                <a:lnTo>
                  <a:pt x="3599" y="2774"/>
                </a:lnTo>
                <a:lnTo>
                  <a:pt x="3515" y="2902"/>
                </a:lnTo>
                <a:lnTo>
                  <a:pt x="3431" y="3030"/>
                </a:lnTo>
                <a:lnTo>
                  <a:pt x="3343" y="3158"/>
                </a:lnTo>
                <a:lnTo>
                  <a:pt x="3215" y="3286"/>
                </a:lnTo>
                <a:lnTo>
                  <a:pt x="3131" y="3418"/>
                </a:lnTo>
                <a:lnTo>
                  <a:pt x="3004" y="3546"/>
                </a:lnTo>
                <a:lnTo>
                  <a:pt x="2915" y="3674"/>
                </a:lnTo>
                <a:lnTo>
                  <a:pt x="2832" y="3802"/>
                </a:lnTo>
                <a:lnTo>
                  <a:pt x="2704" y="3930"/>
                </a:lnTo>
                <a:lnTo>
                  <a:pt x="2660" y="4057"/>
                </a:lnTo>
                <a:lnTo>
                  <a:pt x="2576" y="4185"/>
                </a:lnTo>
                <a:lnTo>
                  <a:pt x="2448" y="4353"/>
                </a:lnTo>
                <a:lnTo>
                  <a:pt x="2364" y="4481"/>
                </a:lnTo>
                <a:lnTo>
                  <a:pt x="2235" y="4609"/>
                </a:lnTo>
                <a:lnTo>
                  <a:pt x="2147" y="4741"/>
                </a:lnTo>
                <a:lnTo>
                  <a:pt x="2063" y="4869"/>
                </a:lnTo>
                <a:lnTo>
                  <a:pt x="1979" y="4997"/>
                </a:lnTo>
                <a:lnTo>
                  <a:pt x="1891" y="5125"/>
                </a:lnTo>
                <a:lnTo>
                  <a:pt x="1807" y="5252"/>
                </a:lnTo>
                <a:lnTo>
                  <a:pt x="1724" y="5380"/>
                </a:lnTo>
                <a:lnTo>
                  <a:pt x="1636" y="5508"/>
                </a:lnTo>
                <a:lnTo>
                  <a:pt x="1552" y="5636"/>
                </a:lnTo>
                <a:lnTo>
                  <a:pt x="1508" y="5765"/>
                </a:lnTo>
                <a:lnTo>
                  <a:pt x="1424" y="5893"/>
                </a:lnTo>
                <a:lnTo>
                  <a:pt x="1336" y="6021"/>
                </a:lnTo>
                <a:lnTo>
                  <a:pt x="1252" y="6149"/>
                </a:lnTo>
                <a:lnTo>
                  <a:pt x="1124" y="6321"/>
                </a:lnTo>
                <a:lnTo>
                  <a:pt x="1040" y="6449"/>
                </a:lnTo>
                <a:lnTo>
                  <a:pt x="912" y="6488"/>
                </a:lnTo>
                <a:lnTo>
                  <a:pt x="784" y="6576"/>
                </a:lnTo>
                <a:lnTo>
                  <a:pt x="696" y="6704"/>
                </a:lnTo>
                <a:lnTo>
                  <a:pt x="568" y="6788"/>
                </a:lnTo>
                <a:lnTo>
                  <a:pt x="440" y="6916"/>
                </a:lnTo>
                <a:lnTo>
                  <a:pt x="357" y="7044"/>
                </a:lnTo>
                <a:lnTo>
                  <a:pt x="229" y="7172"/>
                </a:lnTo>
                <a:lnTo>
                  <a:pt x="141" y="7300"/>
                </a:lnTo>
                <a:lnTo>
                  <a:pt x="57" y="7427"/>
                </a:lnTo>
                <a:lnTo>
                  <a:pt x="0" y="758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54520" y="4203720"/>
            <a:ext cx="3150000" cy="2416680"/>
          </a:xfrm>
          <a:custGeom>
            <a:avLst/>
            <a:gdLst/>
            <a:ahLst/>
            <a:rect l="0" t="0" r="r" b="b"/>
            <a:pathLst>
              <a:path fill="none" w="8750" h="6713">
                <a:moveTo>
                  <a:pt x="8750" y="0"/>
                </a:moveTo>
                <a:lnTo>
                  <a:pt x="8653" y="26"/>
                </a:lnTo>
                <a:lnTo>
                  <a:pt x="8525" y="66"/>
                </a:lnTo>
                <a:lnTo>
                  <a:pt x="8398" y="154"/>
                </a:lnTo>
                <a:lnTo>
                  <a:pt x="8270" y="194"/>
                </a:lnTo>
                <a:lnTo>
                  <a:pt x="8142" y="282"/>
                </a:lnTo>
                <a:lnTo>
                  <a:pt x="8054" y="449"/>
                </a:lnTo>
                <a:lnTo>
                  <a:pt x="7926" y="577"/>
                </a:lnTo>
                <a:lnTo>
                  <a:pt x="7798" y="705"/>
                </a:lnTo>
                <a:lnTo>
                  <a:pt x="7670" y="793"/>
                </a:lnTo>
                <a:lnTo>
                  <a:pt x="7542" y="921"/>
                </a:lnTo>
                <a:lnTo>
                  <a:pt x="7414" y="1005"/>
                </a:lnTo>
                <a:lnTo>
                  <a:pt x="7330" y="1133"/>
                </a:lnTo>
                <a:lnTo>
                  <a:pt x="7260" y="1296"/>
                </a:lnTo>
                <a:lnTo>
                  <a:pt x="7172" y="1455"/>
                </a:lnTo>
                <a:lnTo>
                  <a:pt x="6951" y="1569"/>
                </a:lnTo>
                <a:lnTo>
                  <a:pt x="6713" y="1631"/>
                </a:lnTo>
                <a:lnTo>
                  <a:pt x="6558" y="1689"/>
                </a:lnTo>
                <a:lnTo>
                  <a:pt x="6430" y="1817"/>
                </a:lnTo>
                <a:lnTo>
                  <a:pt x="6302" y="1945"/>
                </a:lnTo>
                <a:lnTo>
                  <a:pt x="6218" y="2073"/>
                </a:lnTo>
                <a:lnTo>
                  <a:pt x="6090" y="2157"/>
                </a:lnTo>
                <a:lnTo>
                  <a:pt x="6007" y="2285"/>
                </a:lnTo>
                <a:lnTo>
                  <a:pt x="5879" y="2373"/>
                </a:lnTo>
                <a:lnTo>
                  <a:pt x="5751" y="2457"/>
                </a:lnTo>
                <a:lnTo>
                  <a:pt x="5623" y="2545"/>
                </a:lnTo>
                <a:lnTo>
                  <a:pt x="5495" y="2585"/>
                </a:lnTo>
                <a:lnTo>
                  <a:pt x="5367" y="2629"/>
                </a:lnTo>
                <a:lnTo>
                  <a:pt x="5235" y="2712"/>
                </a:lnTo>
                <a:lnTo>
                  <a:pt x="5107" y="2757"/>
                </a:lnTo>
                <a:lnTo>
                  <a:pt x="4979" y="2757"/>
                </a:lnTo>
                <a:lnTo>
                  <a:pt x="4851" y="2801"/>
                </a:lnTo>
                <a:lnTo>
                  <a:pt x="4723" y="2840"/>
                </a:lnTo>
                <a:lnTo>
                  <a:pt x="4556" y="2884"/>
                </a:lnTo>
                <a:lnTo>
                  <a:pt x="4340" y="2884"/>
                </a:lnTo>
                <a:lnTo>
                  <a:pt x="4212" y="2840"/>
                </a:lnTo>
                <a:lnTo>
                  <a:pt x="4084" y="2757"/>
                </a:lnTo>
                <a:lnTo>
                  <a:pt x="3956" y="2712"/>
                </a:lnTo>
                <a:lnTo>
                  <a:pt x="3828" y="2629"/>
                </a:lnTo>
                <a:lnTo>
                  <a:pt x="3700" y="2585"/>
                </a:lnTo>
                <a:lnTo>
                  <a:pt x="3572" y="2545"/>
                </a:lnTo>
                <a:lnTo>
                  <a:pt x="3444" y="2501"/>
                </a:lnTo>
                <a:lnTo>
                  <a:pt x="3299" y="2369"/>
                </a:lnTo>
                <a:lnTo>
                  <a:pt x="3145" y="2501"/>
                </a:lnTo>
                <a:lnTo>
                  <a:pt x="3017" y="2545"/>
                </a:lnTo>
                <a:lnTo>
                  <a:pt x="2933" y="2673"/>
                </a:lnTo>
                <a:lnTo>
                  <a:pt x="2805" y="2757"/>
                </a:lnTo>
                <a:lnTo>
                  <a:pt x="2677" y="2840"/>
                </a:lnTo>
                <a:lnTo>
                  <a:pt x="2549" y="2968"/>
                </a:lnTo>
                <a:lnTo>
                  <a:pt x="2505" y="3096"/>
                </a:lnTo>
                <a:lnTo>
                  <a:pt x="2421" y="3224"/>
                </a:lnTo>
                <a:lnTo>
                  <a:pt x="2333" y="3352"/>
                </a:lnTo>
                <a:lnTo>
                  <a:pt x="2249" y="3480"/>
                </a:lnTo>
                <a:lnTo>
                  <a:pt x="2165" y="3608"/>
                </a:lnTo>
                <a:lnTo>
                  <a:pt x="2076" y="3736"/>
                </a:lnTo>
                <a:lnTo>
                  <a:pt x="1993" y="3868"/>
                </a:lnTo>
                <a:lnTo>
                  <a:pt x="1909" y="3996"/>
                </a:lnTo>
                <a:lnTo>
                  <a:pt x="1821" y="4124"/>
                </a:lnTo>
                <a:lnTo>
                  <a:pt x="1737" y="4251"/>
                </a:lnTo>
                <a:lnTo>
                  <a:pt x="1653" y="4379"/>
                </a:lnTo>
                <a:lnTo>
                  <a:pt x="1565" y="4507"/>
                </a:lnTo>
                <a:lnTo>
                  <a:pt x="1525" y="4635"/>
                </a:lnTo>
                <a:lnTo>
                  <a:pt x="1397" y="4763"/>
                </a:lnTo>
                <a:lnTo>
                  <a:pt x="1353" y="4891"/>
                </a:lnTo>
                <a:lnTo>
                  <a:pt x="1225" y="5019"/>
                </a:lnTo>
                <a:lnTo>
                  <a:pt x="1137" y="5148"/>
                </a:lnTo>
                <a:lnTo>
                  <a:pt x="1098" y="5276"/>
                </a:lnTo>
                <a:lnTo>
                  <a:pt x="1053" y="5403"/>
                </a:lnTo>
                <a:lnTo>
                  <a:pt x="926" y="5531"/>
                </a:lnTo>
                <a:lnTo>
                  <a:pt x="798" y="5659"/>
                </a:lnTo>
                <a:lnTo>
                  <a:pt x="670" y="5787"/>
                </a:lnTo>
                <a:lnTo>
                  <a:pt x="542" y="5915"/>
                </a:lnTo>
                <a:lnTo>
                  <a:pt x="458" y="6043"/>
                </a:lnTo>
                <a:lnTo>
                  <a:pt x="330" y="6127"/>
                </a:lnTo>
                <a:lnTo>
                  <a:pt x="242" y="6254"/>
                </a:lnTo>
                <a:lnTo>
                  <a:pt x="158" y="6382"/>
                </a:lnTo>
                <a:lnTo>
                  <a:pt x="74" y="6515"/>
                </a:lnTo>
                <a:lnTo>
                  <a:pt x="0" y="671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19400" y="4562640"/>
            <a:ext cx="2984760" cy="2054520"/>
          </a:xfrm>
          <a:custGeom>
            <a:avLst/>
            <a:gdLst/>
            <a:ahLst/>
            <a:rect l="0" t="0" r="r" b="b"/>
            <a:pathLst>
              <a:path fill="none" w="8291" h="5707">
                <a:moveTo>
                  <a:pt x="8291" y="0"/>
                </a:moveTo>
                <a:lnTo>
                  <a:pt x="8194" y="92"/>
                </a:lnTo>
                <a:lnTo>
                  <a:pt x="8066" y="136"/>
                </a:lnTo>
                <a:lnTo>
                  <a:pt x="7938" y="180"/>
                </a:lnTo>
                <a:lnTo>
                  <a:pt x="7810" y="224"/>
                </a:lnTo>
                <a:lnTo>
                  <a:pt x="7682" y="308"/>
                </a:lnTo>
                <a:lnTo>
                  <a:pt x="7554" y="352"/>
                </a:lnTo>
                <a:lnTo>
                  <a:pt x="7422" y="480"/>
                </a:lnTo>
                <a:lnTo>
                  <a:pt x="7338" y="608"/>
                </a:lnTo>
                <a:lnTo>
                  <a:pt x="7210" y="692"/>
                </a:lnTo>
                <a:lnTo>
                  <a:pt x="7083" y="776"/>
                </a:lnTo>
                <a:lnTo>
                  <a:pt x="6955" y="864"/>
                </a:lnTo>
                <a:lnTo>
                  <a:pt x="6827" y="948"/>
                </a:lnTo>
                <a:lnTo>
                  <a:pt x="6699" y="992"/>
                </a:lnTo>
                <a:lnTo>
                  <a:pt x="6571" y="1075"/>
                </a:lnTo>
                <a:lnTo>
                  <a:pt x="6443" y="1159"/>
                </a:lnTo>
                <a:lnTo>
                  <a:pt x="6315" y="1287"/>
                </a:lnTo>
                <a:lnTo>
                  <a:pt x="6143" y="1415"/>
                </a:lnTo>
                <a:lnTo>
                  <a:pt x="6015" y="1503"/>
                </a:lnTo>
                <a:lnTo>
                  <a:pt x="5843" y="1587"/>
                </a:lnTo>
                <a:lnTo>
                  <a:pt x="5676" y="1715"/>
                </a:lnTo>
                <a:lnTo>
                  <a:pt x="5548" y="1803"/>
                </a:lnTo>
                <a:lnTo>
                  <a:pt x="5420" y="1887"/>
                </a:lnTo>
                <a:lnTo>
                  <a:pt x="5248" y="1971"/>
                </a:lnTo>
                <a:lnTo>
                  <a:pt x="5120" y="2059"/>
                </a:lnTo>
                <a:lnTo>
                  <a:pt x="4992" y="2099"/>
                </a:lnTo>
                <a:lnTo>
                  <a:pt x="4864" y="2143"/>
                </a:lnTo>
                <a:lnTo>
                  <a:pt x="4737" y="2143"/>
                </a:lnTo>
                <a:lnTo>
                  <a:pt x="4565" y="2187"/>
                </a:lnTo>
                <a:lnTo>
                  <a:pt x="4393" y="2226"/>
                </a:lnTo>
                <a:lnTo>
                  <a:pt x="4265" y="2226"/>
                </a:lnTo>
                <a:lnTo>
                  <a:pt x="4096" y="2226"/>
                </a:lnTo>
                <a:lnTo>
                  <a:pt x="3968" y="2271"/>
                </a:lnTo>
                <a:lnTo>
                  <a:pt x="3840" y="2271"/>
                </a:lnTo>
                <a:lnTo>
                  <a:pt x="3712" y="2226"/>
                </a:lnTo>
                <a:lnTo>
                  <a:pt x="3585" y="2187"/>
                </a:lnTo>
                <a:lnTo>
                  <a:pt x="3452" y="2187"/>
                </a:lnTo>
                <a:lnTo>
                  <a:pt x="3324" y="2143"/>
                </a:lnTo>
                <a:lnTo>
                  <a:pt x="3157" y="2059"/>
                </a:lnTo>
                <a:lnTo>
                  <a:pt x="3029" y="2015"/>
                </a:lnTo>
                <a:lnTo>
                  <a:pt x="2853" y="1957"/>
                </a:lnTo>
                <a:lnTo>
                  <a:pt x="2698" y="1847"/>
                </a:lnTo>
                <a:lnTo>
                  <a:pt x="2548" y="1927"/>
                </a:lnTo>
                <a:lnTo>
                  <a:pt x="2345" y="2059"/>
                </a:lnTo>
                <a:lnTo>
                  <a:pt x="2218" y="2099"/>
                </a:lnTo>
                <a:lnTo>
                  <a:pt x="2129" y="2226"/>
                </a:lnTo>
                <a:lnTo>
                  <a:pt x="2002" y="2354"/>
                </a:lnTo>
                <a:lnTo>
                  <a:pt x="1918" y="2482"/>
                </a:lnTo>
                <a:lnTo>
                  <a:pt x="1874" y="2610"/>
                </a:lnTo>
                <a:lnTo>
                  <a:pt x="1790" y="2738"/>
                </a:lnTo>
                <a:lnTo>
                  <a:pt x="1706" y="2871"/>
                </a:lnTo>
                <a:lnTo>
                  <a:pt x="1662" y="2999"/>
                </a:lnTo>
                <a:lnTo>
                  <a:pt x="1534" y="3083"/>
                </a:lnTo>
                <a:lnTo>
                  <a:pt x="1450" y="3255"/>
                </a:lnTo>
                <a:lnTo>
                  <a:pt x="1322" y="3383"/>
                </a:lnTo>
                <a:lnTo>
                  <a:pt x="1278" y="3511"/>
                </a:lnTo>
                <a:lnTo>
                  <a:pt x="1195" y="3639"/>
                </a:lnTo>
                <a:lnTo>
                  <a:pt x="1106" y="3766"/>
                </a:lnTo>
                <a:lnTo>
                  <a:pt x="1023" y="3894"/>
                </a:lnTo>
                <a:lnTo>
                  <a:pt x="978" y="4022"/>
                </a:lnTo>
                <a:lnTo>
                  <a:pt x="895" y="4150"/>
                </a:lnTo>
                <a:lnTo>
                  <a:pt x="806" y="4278"/>
                </a:lnTo>
                <a:lnTo>
                  <a:pt x="723" y="4406"/>
                </a:lnTo>
                <a:lnTo>
                  <a:pt x="679" y="4534"/>
                </a:lnTo>
                <a:lnTo>
                  <a:pt x="595" y="4662"/>
                </a:lnTo>
                <a:lnTo>
                  <a:pt x="511" y="4789"/>
                </a:lnTo>
                <a:lnTo>
                  <a:pt x="423" y="4917"/>
                </a:lnTo>
                <a:lnTo>
                  <a:pt x="339" y="5045"/>
                </a:lnTo>
                <a:lnTo>
                  <a:pt x="255" y="5173"/>
                </a:lnTo>
                <a:lnTo>
                  <a:pt x="167" y="5301"/>
                </a:lnTo>
                <a:lnTo>
                  <a:pt x="127" y="5429"/>
                </a:lnTo>
                <a:lnTo>
                  <a:pt x="39" y="5557"/>
                </a:lnTo>
                <a:lnTo>
                  <a:pt x="0" y="570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086360" y="5076720"/>
            <a:ext cx="2918160" cy="1543320"/>
          </a:xfrm>
          <a:custGeom>
            <a:avLst/>
            <a:gdLst/>
            <a:ahLst/>
            <a:rect l="0" t="0" r="r" b="b"/>
            <a:pathLst>
              <a:path fill="none" w="8106" h="4287">
                <a:moveTo>
                  <a:pt x="8106" y="0"/>
                </a:moveTo>
                <a:lnTo>
                  <a:pt x="8009" y="30"/>
                </a:lnTo>
                <a:lnTo>
                  <a:pt x="7881" y="74"/>
                </a:lnTo>
                <a:lnTo>
                  <a:pt x="7753" y="158"/>
                </a:lnTo>
                <a:lnTo>
                  <a:pt x="7625" y="246"/>
                </a:lnTo>
                <a:lnTo>
                  <a:pt x="7497" y="330"/>
                </a:lnTo>
                <a:lnTo>
                  <a:pt x="7369" y="414"/>
                </a:lnTo>
                <a:lnTo>
                  <a:pt x="7237" y="502"/>
                </a:lnTo>
                <a:lnTo>
                  <a:pt x="7109" y="586"/>
                </a:lnTo>
                <a:lnTo>
                  <a:pt x="6941" y="714"/>
                </a:lnTo>
                <a:lnTo>
                  <a:pt x="6769" y="798"/>
                </a:lnTo>
                <a:lnTo>
                  <a:pt x="6642" y="886"/>
                </a:lnTo>
                <a:lnTo>
                  <a:pt x="6514" y="970"/>
                </a:lnTo>
                <a:lnTo>
                  <a:pt x="6302" y="1053"/>
                </a:lnTo>
                <a:lnTo>
                  <a:pt x="6130" y="1098"/>
                </a:lnTo>
                <a:lnTo>
                  <a:pt x="6002" y="1142"/>
                </a:lnTo>
                <a:lnTo>
                  <a:pt x="5874" y="1181"/>
                </a:lnTo>
                <a:lnTo>
                  <a:pt x="5618" y="1225"/>
                </a:lnTo>
                <a:lnTo>
                  <a:pt x="5447" y="1270"/>
                </a:lnTo>
                <a:lnTo>
                  <a:pt x="5019" y="1270"/>
                </a:lnTo>
                <a:lnTo>
                  <a:pt x="4891" y="1270"/>
                </a:lnTo>
                <a:lnTo>
                  <a:pt x="4763" y="1309"/>
                </a:lnTo>
                <a:lnTo>
                  <a:pt x="4635" y="1309"/>
                </a:lnTo>
                <a:lnTo>
                  <a:pt x="4463" y="1309"/>
                </a:lnTo>
                <a:lnTo>
                  <a:pt x="4335" y="1309"/>
                </a:lnTo>
                <a:lnTo>
                  <a:pt x="4207" y="1309"/>
                </a:lnTo>
                <a:lnTo>
                  <a:pt x="4039" y="1270"/>
                </a:lnTo>
                <a:lnTo>
                  <a:pt x="3867" y="1270"/>
                </a:lnTo>
                <a:lnTo>
                  <a:pt x="3655" y="1270"/>
                </a:lnTo>
                <a:lnTo>
                  <a:pt x="3527" y="1270"/>
                </a:lnTo>
                <a:lnTo>
                  <a:pt x="3355" y="1225"/>
                </a:lnTo>
                <a:lnTo>
                  <a:pt x="3227" y="1181"/>
                </a:lnTo>
                <a:lnTo>
                  <a:pt x="3100" y="1142"/>
                </a:lnTo>
                <a:lnTo>
                  <a:pt x="2844" y="1142"/>
                </a:lnTo>
                <a:lnTo>
                  <a:pt x="2716" y="1142"/>
                </a:lnTo>
                <a:lnTo>
                  <a:pt x="2579" y="1071"/>
                </a:lnTo>
                <a:lnTo>
                  <a:pt x="2394" y="1212"/>
                </a:lnTo>
                <a:lnTo>
                  <a:pt x="2275" y="1292"/>
                </a:lnTo>
                <a:lnTo>
                  <a:pt x="2204" y="1441"/>
                </a:lnTo>
                <a:lnTo>
                  <a:pt x="2076" y="1525"/>
                </a:lnTo>
                <a:lnTo>
                  <a:pt x="1944" y="1653"/>
                </a:lnTo>
                <a:lnTo>
                  <a:pt x="1816" y="1781"/>
                </a:lnTo>
                <a:lnTo>
                  <a:pt x="1733" y="1909"/>
                </a:lnTo>
                <a:lnTo>
                  <a:pt x="1605" y="2037"/>
                </a:lnTo>
                <a:lnTo>
                  <a:pt x="1477" y="2121"/>
                </a:lnTo>
                <a:lnTo>
                  <a:pt x="1349" y="2249"/>
                </a:lnTo>
                <a:lnTo>
                  <a:pt x="1221" y="2338"/>
                </a:lnTo>
                <a:lnTo>
                  <a:pt x="1137" y="2466"/>
                </a:lnTo>
                <a:lnTo>
                  <a:pt x="965" y="2633"/>
                </a:lnTo>
                <a:lnTo>
                  <a:pt x="881" y="2765"/>
                </a:lnTo>
                <a:lnTo>
                  <a:pt x="837" y="2893"/>
                </a:lnTo>
                <a:lnTo>
                  <a:pt x="754" y="3021"/>
                </a:lnTo>
                <a:lnTo>
                  <a:pt x="709" y="3149"/>
                </a:lnTo>
                <a:lnTo>
                  <a:pt x="621" y="3277"/>
                </a:lnTo>
                <a:lnTo>
                  <a:pt x="537" y="3405"/>
                </a:lnTo>
                <a:lnTo>
                  <a:pt x="493" y="3533"/>
                </a:lnTo>
                <a:lnTo>
                  <a:pt x="410" y="3661"/>
                </a:lnTo>
                <a:lnTo>
                  <a:pt x="366" y="3788"/>
                </a:lnTo>
                <a:lnTo>
                  <a:pt x="198" y="3956"/>
                </a:lnTo>
                <a:lnTo>
                  <a:pt x="110" y="4088"/>
                </a:lnTo>
                <a:lnTo>
                  <a:pt x="0" y="428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87880" y="5505480"/>
            <a:ext cx="2816640" cy="1119600"/>
          </a:xfrm>
          <a:custGeom>
            <a:avLst/>
            <a:gdLst/>
            <a:ahLst/>
            <a:rect l="0" t="0" r="r" b="b"/>
            <a:pathLst>
              <a:path fill="none" w="7824" h="3110">
                <a:moveTo>
                  <a:pt x="7824" y="0"/>
                </a:moveTo>
                <a:lnTo>
                  <a:pt x="7727" y="35"/>
                </a:lnTo>
                <a:lnTo>
                  <a:pt x="7639" y="163"/>
                </a:lnTo>
                <a:lnTo>
                  <a:pt x="7511" y="251"/>
                </a:lnTo>
                <a:lnTo>
                  <a:pt x="7383" y="335"/>
                </a:lnTo>
                <a:lnTo>
                  <a:pt x="7216" y="507"/>
                </a:lnTo>
                <a:lnTo>
                  <a:pt x="7000" y="635"/>
                </a:lnTo>
                <a:lnTo>
                  <a:pt x="6872" y="674"/>
                </a:lnTo>
                <a:lnTo>
                  <a:pt x="6744" y="718"/>
                </a:lnTo>
                <a:lnTo>
                  <a:pt x="6532" y="718"/>
                </a:lnTo>
                <a:lnTo>
                  <a:pt x="6404" y="718"/>
                </a:lnTo>
                <a:lnTo>
                  <a:pt x="6277" y="718"/>
                </a:lnTo>
                <a:lnTo>
                  <a:pt x="5081" y="674"/>
                </a:lnTo>
                <a:lnTo>
                  <a:pt x="4864" y="674"/>
                </a:lnTo>
                <a:lnTo>
                  <a:pt x="4737" y="674"/>
                </a:lnTo>
                <a:lnTo>
                  <a:pt x="4309" y="635"/>
                </a:lnTo>
                <a:lnTo>
                  <a:pt x="4141" y="590"/>
                </a:lnTo>
                <a:lnTo>
                  <a:pt x="4013" y="590"/>
                </a:lnTo>
                <a:lnTo>
                  <a:pt x="3885" y="507"/>
                </a:lnTo>
                <a:lnTo>
                  <a:pt x="3713" y="463"/>
                </a:lnTo>
                <a:lnTo>
                  <a:pt x="3542" y="463"/>
                </a:lnTo>
                <a:lnTo>
                  <a:pt x="3414" y="463"/>
                </a:lnTo>
                <a:lnTo>
                  <a:pt x="3246" y="463"/>
                </a:lnTo>
                <a:lnTo>
                  <a:pt x="3118" y="463"/>
                </a:lnTo>
                <a:lnTo>
                  <a:pt x="2946" y="463"/>
                </a:lnTo>
                <a:lnTo>
                  <a:pt x="2818" y="463"/>
                </a:lnTo>
                <a:lnTo>
                  <a:pt x="2690" y="463"/>
                </a:lnTo>
                <a:lnTo>
                  <a:pt x="2563" y="463"/>
                </a:lnTo>
                <a:lnTo>
                  <a:pt x="2435" y="463"/>
                </a:lnTo>
                <a:lnTo>
                  <a:pt x="2307" y="507"/>
                </a:lnTo>
                <a:lnTo>
                  <a:pt x="2179" y="546"/>
                </a:lnTo>
                <a:lnTo>
                  <a:pt x="2007" y="590"/>
                </a:lnTo>
                <a:lnTo>
                  <a:pt x="1878" y="635"/>
                </a:lnTo>
                <a:lnTo>
                  <a:pt x="1750" y="674"/>
                </a:lnTo>
                <a:lnTo>
                  <a:pt x="1622" y="762"/>
                </a:lnTo>
                <a:lnTo>
                  <a:pt x="1494" y="847"/>
                </a:lnTo>
                <a:lnTo>
                  <a:pt x="1406" y="975"/>
                </a:lnTo>
                <a:lnTo>
                  <a:pt x="1278" y="1019"/>
                </a:lnTo>
                <a:lnTo>
                  <a:pt x="1150" y="1103"/>
                </a:lnTo>
                <a:lnTo>
                  <a:pt x="1067" y="1231"/>
                </a:lnTo>
                <a:lnTo>
                  <a:pt x="983" y="1359"/>
                </a:lnTo>
                <a:lnTo>
                  <a:pt x="855" y="1487"/>
                </a:lnTo>
                <a:lnTo>
                  <a:pt x="727" y="1659"/>
                </a:lnTo>
                <a:lnTo>
                  <a:pt x="639" y="1786"/>
                </a:lnTo>
                <a:lnTo>
                  <a:pt x="555" y="1914"/>
                </a:lnTo>
                <a:lnTo>
                  <a:pt x="511" y="2042"/>
                </a:lnTo>
                <a:lnTo>
                  <a:pt x="471" y="2170"/>
                </a:lnTo>
                <a:lnTo>
                  <a:pt x="383" y="2343"/>
                </a:lnTo>
                <a:lnTo>
                  <a:pt x="299" y="2471"/>
                </a:lnTo>
                <a:lnTo>
                  <a:pt x="255" y="2599"/>
                </a:lnTo>
                <a:lnTo>
                  <a:pt x="211" y="2727"/>
                </a:lnTo>
                <a:lnTo>
                  <a:pt x="127" y="2855"/>
                </a:lnTo>
                <a:lnTo>
                  <a:pt x="44" y="2982"/>
                </a:lnTo>
                <a:lnTo>
                  <a:pt x="0" y="311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92640" y="5886360"/>
            <a:ext cx="2711880" cy="733680"/>
          </a:xfrm>
          <a:custGeom>
            <a:avLst/>
            <a:gdLst/>
            <a:ahLst/>
            <a:rect l="0" t="0" r="r" b="b"/>
            <a:pathLst>
              <a:path fill="none" w="7533" h="2038">
                <a:moveTo>
                  <a:pt x="7533" y="432"/>
                </a:moveTo>
                <a:lnTo>
                  <a:pt x="7436" y="427"/>
                </a:lnTo>
                <a:lnTo>
                  <a:pt x="7181" y="471"/>
                </a:lnTo>
                <a:lnTo>
                  <a:pt x="7053" y="515"/>
                </a:lnTo>
                <a:lnTo>
                  <a:pt x="6881" y="515"/>
                </a:lnTo>
                <a:lnTo>
                  <a:pt x="6753" y="471"/>
                </a:lnTo>
                <a:lnTo>
                  <a:pt x="6625" y="471"/>
                </a:lnTo>
                <a:lnTo>
                  <a:pt x="6497" y="471"/>
                </a:lnTo>
                <a:lnTo>
                  <a:pt x="6369" y="427"/>
                </a:lnTo>
                <a:lnTo>
                  <a:pt x="6197" y="427"/>
                </a:lnTo>
                <a:lnTo>
                  <a:pt x="5985" y="471"/>
                </a:lnTo>
                <a:lnTo>
                  <a:pt x="5858" y="471"/>
                </a:lnTo>
                <a:lnTo>
                  <a:pt x="5730" y="515"/>
                </a:lnTo>
                <a:lnTo>
                  <a:pt x="5601" y="515"/>
                </a:lnTo>
                <a:lnTo>
                  <a:pt x="5473" y="515"/>
                </a:lnTo>
                <a:lnTo>
                  <a:pt x="5341" y="515"/>
                </a:lnTo>
                <a:lnTo>
                  <a:pt x="5173" y="471"/>
                </a:lnTo>
                <a:lnTo>
                  <a:pt x="5045" y="427"/>
                </a:lnTo>
                <a:lnTo>
                  <a:pt x="4917" y="383"/>
                </a:lnTo>
                <a:lnTo>
                  <a:pt x="4745" y="343"/>
                </a:lnTo>
                <a:lnTo>
                  <a:pt x="4617" y="299"/>
                </a:lnTo>
                <a:lnTo>
                  <a:pt x="4490" y="299"/>
                </a:lnTo>
                <a:lnTo>
                  <a:pt x="4362" y="255"/>
                </a:lnTo>
                <a:lnTo>
                  <a:pt x="4234" y="255"/>
                </a:lnTo>
                <a:lnTo>
                  <a:pt x="4062" y="171"/>
                </a:lnTo>
                <a:lnTo>
                  <a:pt x="3934" y="171"/>
                </a:lnTo>
                <a:lnTo>
                  <a:pt x="3762" y="127"/>
                </a:lnTo>
                <a:lnTo>
                  <a:pt x="3634" y="88"/>
                </a:lnTo>
                <a:lnTo>
                  <a:pt x="3467" y="88"/>
                </a:lnTo>
                <a:lnTo>
                  <a:pt x="3039" y="0"/>
                </a:lnTo>
                <a:lnTo>
                  <a:pt x="2867" y="0"/>
                </a:lnTo>
                <a:lnTo>
                  <a:pt x="2695" y="0"/>
                </a:lnTo>
                <a:lnTo>
                  <a:pt x="2567" y="44"/>
                </a:lnTo>
                <a:lnTo>
                  <a:pt x="2439" y="88"/>
                </a:lnTo>
                <a:lnTo>
                  <a:pt x="2311" y="127"/>
                </a:lnTo>
                <a:lnTo>
                  <a:pt x="2183" y="216"/>
                </a:lnTo>
                <a:lnTo>
                  <a:pt x="2055" y="255"/>
                </a:lnTo>
                <a:lnTo>
                  <a:pt x="1928" y="343"/>
                </a:lnTo>
                <a:lnTo>
                  <a:pt x="1799" y="343"/>
                </a:lnTo>
                <a:lnTo>
                  <a:pt x="1631" y="383"/>
                </a:lnTo>
                <a:lnTo>
                  <a:pt x="1503" y="427"/>
                </a:lnTo>
                <a:lnTo>
                  <a:pt x="1371" y="471"/>
                </a:lnTo>
                <a:lnTo>
                  <a:pt x="1243" y="515"/>
                </a:lnTo>
                <a:lnTo>
                  <a:pt x="1115" y="555"/>
                </a:lnTo>
                <a:lnTo>
                  <a:pt x="987" y="599"/>
                </a:lnTo>
                <a:lnTo>
                  <a:pt x="859" y="727"/>
                </a:lnTo>
                <a:lnTo>
                  <a:pt x="732" y="811"/>
                </a:lnTo>
                <a:lnTo>
                  <a:pt x="648" y="939"/>
                </a:lnTo>
                <a:lnTo>
                  <a:pt x="520" y="1028"/>
                </a:lnTo>
                <a:lnTo>
                  <a:pt x="436" y="1156"/>
                </a:lnTo>
                <a:lnTo>
                  <a:pt x="308" y="1240"/>
                </a:lnTo>
                <a:lnTo>
                  <a:pt x="220" y="1368"/>
                </a:lnTo>
                <a:lnTo>
                  <a:pt x="136" y="1495"/>
                </a:lnTo>
                <a:lnTo>
                  <a:pt x="136" y="1623"/>
                </a:lnTo>
                <a:lnTo>
                  <a:pt x="92" y="1751"/>
                </a:lnTo>
                <a:lnTo>
                  <a:pt x="48" y="1879"/>
                </a:lnTo>
                <a:lnTo>
                  <a:pt x="0" y="203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03880" y="6164280"/>
            <a:ext cx="2595960" cy="460800"/>
          </a:xfrm>
          <a:custGeom>
            <a:avLst/>
            <a:gdLst/>
            <a:ahLst/>
            <a:rect l="0" t="0" r="r" b="b"/>
            <a:pathLst>
              <a:path fill="none" w="7211" h="1280">
                <a:moveTo>
                  <a:pt x="7211" y="512"/>
                </a:moveTo>
                <a:lnTo>
                  <a:pt x="7000" y="552"/>
                </a:lnTo>
                <a:lnTo>
                  <a:pt x="6872" y="552"/>
                </a:lnTo>
                <a:lnTo>
                  <a:pt x="6744" y="552"/>
                </a:lnTo>
                <a:lnTo>
                  <a:pt x="6616" y="468"/>
                </a:lnTo>
                <a:lnTo>
                  <a:pt x="6488" y="424"/>
                </a:lnTo>
                <a:lnTo>
                  <a:pt x="6060" y="424"/>
                </a:lnTo>
                <a:lnTo>
                  <a:pt x="5933" y="424"/>
                </a:lnTo>
                <a:lnTo>
                  <a:pt x="5805" y="424"/>
                </a:lnTo>
                <a:lnTo>
                  <a:pt x="5589" y="424"/>
                </a:lnTo>
                <a:lnTo>
                  <a:pt x="5461" y="424"/>
                </a:lnTo>
                <a:lnTo>
                  <a:pt x="5332" y="424"/>
                </a:lnTo>
                <a:lnTo>
                  <a:pt x="5164" y="424"/>
                </a:lnTo>
                <a:lnTo>
                  <a:pt x="5032" y="424"/>
                </a:lnTo>
                <a:lnTo>
                  <a:pt x="4904" y="424"/>
                </a:lnTo>
                <a:lnTo>
                  <a:pt x="4737" y="424"/>
                </a:lnTo>
                <a:lnTo>
                  <a:pt x="4481" y="424"/>
                </a:lnTo>
                <a:lnTo>
                  <a:pt x="4353" y="384"/>
                </a:lnTo>
                <a:lnTo>
                  <a:pt x="4181" y="340"/>
                </a:lnTo>
                <a:lnTo>
                  <a:pt x="4009" y="255"/>
                </a:lnTo>
                <a:lnTo>
                  <a:pt x="3881" y="211"/>
                </a:lnTo>
                <a:lnTo>
                  <a:pt x="3753" y="167"/>
                </a:lnTo>
                <a:lnTo>
                  <a:pt x="3625" y="127"/>
                </a:lnTo>
                <a:lnTo>
                  <a:pt x="3453" y="39"/>
                </a:lnTo>
                <a:lnTo>
                  <a:pt x="3242" y="39"/>
                </a:lnTo>
                <a:lnTo>
                  <a:pt x="3070" y="0"/>
                </a:lnTo>
                <a:lnTo>
                  <a:pt x="2646" y="0"/>
                </a:lnTo>
                <a:lnTo>
                  <a:pt x="2430" y="0"/>
                </a:lnTo>
                <a:lnTo>
                  <a:pt x="2302" y="39"/>
                </a:lnTo>
                <a:lnTo>
                  <a:pt x="2174" y="39"/>
                </a:lnTo>
                <a:lnTo>
                  <a:pt x="2047" y="39"/>
                </a:lnTo>
                <a:lnTo>
                  <a:pt x="1875" y="39"/>
                </a:lnTo>
                <a:lnTo>
                  <a:pt x="1706" y="127"/>
                </a:lnTo>
                <a:lnTo>
                  <a:pt x="1578" y="127"/>
                </a:lnTo>
                <a:lnTo>
                  <a:pt x="1450" y="167"/>
                </a:lnTo>
                <a:lnTo>
                  <a:pt x="1322" y="211"/>
                </a:lnTo>
                <a:lnTo>
                  <a:pt x="1195" y="255"/>
                </a:lnTo>
                <a:lnTo>
                  <a:pt x="1023" y="384"/>
                </a:lnTo>
                <a:lnTo>
                  <a:pt x="895" y="468"/>
                </a:lnTo>
                <a:lnTo>
                  <a:pt x="767" y="552"/>
                </a:lnTo>
                <a:lnTo>
                  <a:pt x="639" y="640"/>
                </a:lnTo>
                <a:lnTo>
                  <a:pt x="511" y="724"/>
                </a:lnTo>
                <a:lnTo>
                  <a:pt x="383" y="807"/>
                </a:lnTo>
                <a:lnTo>
                  <a:pt x="255" y="896"/>
                </a:lnTo>
                <a:lnTo>
                  <a:pt x="127" y="1025"/>
                </a:lnTo>
                <a:lnTo>
                  <a:pt x="39" y="1152"/>
                </a:lnTo>
                <a:lnTo>
                  <a:pt x="0" y="128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35360" y="6454800"/>
            <a:ext cx="1887840" cy="170280"/>
          </a:xfrm>
          <a:custGeom>
            <a:avLst/>
            <a:gdLst/>
            <a:ahLst/>
            <a:rect l="0" t="0" r="r" b="b"/>
            <a:pathLst>
              <a:path fill="none" w="5244" h="473">
                <a:moveTo>
                  <a:pt x="5244" y="473"/>
                </a:moveTo>
                <a:lnTo>
                  <a:pt x="5116" y="429"/>
                </a:lnTo>
                <a:lnTo>
                  <a:pt x="4988" y="429"/>
                </a:lnTo>
                <a:lnTo>
                  <a:pt x="4816" y="429"/>
                </a:lnTo>
                <a:lnTo>
                  <a:pt x="4688" y="429"/>
                </a:lnTo>
                <a:lnTo>
                  <a:pt x="4432" y="390"/>
                </a:lnTo>
                <a:lnTo>
                  <a:pt x="4388" y="261"/>
                </a:lnTo>
                <a:lnTo>
                  <a:pt x="4260" y="217"/>
                </a:lnTo>
                <a:lnTo>
                  <a:pt x="4093" y="217"/>
                </a:lnTo>
                <a:lnTo>
                  <a:pt x="3921" y="217"/>
                </a:lnTo>
                <a:lnTo>
                  <a:pt x="3793" y="217"/>
                </a:lnTo>
                <a:lnTo>
                  <a:pt x="3665" y="172"/>
                </a:lnTo>
                <a:lnTo>
                  <a:pt x="3493" y="88"/>
                </a:lnTo>
                <a:lnTo>
                  <a:pt x="3365" y="44"/>
                </a:lnTo>
                <a:lnTo>
                  <a:pt x="3153" y="0"/>
                </a:lnTo>
                <a:lnTo>
                  <a:pt x="2937" y="0"/>
                </a:lnTo>
                <a:lnTo>
                  <a:pt x="2770" y="0"/>
                </a:lnTo>
                <a:lnTo>
                  <a:pt x="2597" y="44"/>
                </a:lnTo>
                <a:lnTo>
                  <a:pt x="2469" y="88"/>
                </a:lnTo>
                <a:lnTo>
                  <a:pt x="2213" y="128"/>
                </a:lnTo>
                <a:lnTo>
                  <a:pt x="1785" y="172"/>
                </a:lnTo>
                <a:lnTo>
                  <a:pt x="1658" y="172"/>
                </a:lnTo>
                <a:lnTo>
                  <a:pt x="1530" y="261"/>
                </a:lnTo>
                <a:lnTo>
                  <a:pt x="1402" y="344"/>
                </a:lnTo>
                <a:lnTo>
                  <a:pt x="1274" y="344"/>
                </a:lnTo>
                <a:lnTo>
                  <a:pt x="1146" y="344"/>
                </a:lnTo>
                <a:lnTo>
                  <a:pt x="1018" y="344"/>
                </a:lnTo>
                <a:lnTo>
                  <a:pt x="890" y="344"/>
                </a:lnTo>
                <a:lnTo>
                  <a:pt x="718" y="344"/>
                </a:lnTo>
                <a:lnTo>
                  <a:pt x="590" y="344"/>
                </a:lnTo>
                <a:lnTo>
                  <a:pt x="463" y="300"/>
                </a:lnTo>
                <a:lnTo>
                  <a:pt x="335" y="300"/>
                </a:lnTo>
                <a:lnTo>
                  <a:pt x="207" y="344"/>
                </a:lnTo>
                <a:lnTo>
                  <a:pt x="0" y="46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32400" y="1247760"/>
            <a:ext cx="3999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416560" y="25066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35400" y="3240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35200" y="6922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67040" y="10764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19480" y="17064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70240" y="189072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02280" y="36273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0258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62560" y="414972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54760" y="4106880"/>
            <a:ext cx="35244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41840" y="4754520"/>
            <a:ext cx="3333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93000" y="4518000"/>
            <a:ext cx="3189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07040" y="53481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151680" y="49006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81880" y="4376880"/>
            <a:ext cx="36828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99200" y="622296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13480" y="58690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397560" y="566748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186520" y="637704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481120" y="326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604960" y="6825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851200" y="10652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205080" y="16956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114640" y="3998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187880" y="3600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449600" y="41227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452920" y="4716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1760" y="64764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697360" y="6350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402160" y="12333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140360" y="18795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402160" y="24782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962600" y="40813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008760" y="44910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507000" y="43354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32600" y="48610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075360" y="53038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375240" y="56228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589720" y="58183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75440" y="61707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160960" y="633240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38800" y="4535640"/>
            <a:ext cx="3240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248440" y="45086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230880" y="233280"/>
            <a:ext cx="773640" cy="875160"/>
          </a:xfrm>
          <a:custGeom>
            <a:avLst/>
            <a:gdLst/>
            <a:ahLst/>
            <a:rect l="0" t="0" r="r" b="b"/>
            <a:pathLst>
              <a:path fill="none" w="2149" h="2431">
                <a:moveTo>
                  <a:pt x="0" y="0"/>
                </a:moveTo>
                <a:lnTo>
                  <a:pt x="44" y="127"/>
                </a:lnTo>
                <a:lnTo>
                  <a:pt x="88" y="255"/>
                </a:lnTo>
                <a:lnTo>
                  <a:pt x="216" y="343"/>
                </a:lnTo>
                <a:lnTo>
                  <a:pt x="343" y="427"/>
                </a:lnTo>
                <a:lnTo>
                  <a:pt x="383" y="555"/>
                </a:lnTo>
                <a:lnTo>
                  <a:pt x="471" y="684"/>
                </a:lnTo>
                <a:lnTo>
                  <a:pt x="511" y="856"/>
                </a:lnTo>
                <a:lnTo>
                  <a:pt x="600" y="984"/>
                </a:lnTo>
                <a:lnTo>
                  <a:pt x="684" y="1112"/>
                </a:lnTo>
                <a:lnTo>
                  <a:pt x="812" y="1196"/>
                </a:lnTo>
                <a:lnTo>
                  <a:pt x="940" y="1240"/>
                </a:lnTo>
                <a:lnTo>
                  <a:pt x="1068" y="1279"/>
                </a:lnTo>
                <a:lnTo>
                  <a:pt x="1196" y="1368"/>
                </a:lnTo>
                <a:lnTo>
                  <a:pt x="1323" y="1451"/>
                </a:lnTo>
                <a:lnTo>
                  <a:pt x="1412" y="1579"/>
                </a:lnTo>
                <a:lnTo>
                  <a:pt x="1451" y="1707"/>
                </a:lnTo>
                <a:lnTo>
                  <a:pt x="1539" y="1836"/>
                </a:lnTo>
                <a:lnTo>
                  <a:pt x="1539" y="1964"/>
                </a:lnTo>
                <a:lnTo>
                  <a:pt x="1624" y="2092"/>
                </a:lnTo>
                <a:lnTo>
                  <a:pt x="1752" y="2136"/>
                </a:lnTo>
                <a:lnTo>
                  <a:pt x="1880" y="2180"/>
                </a:lnTo>
                <a:lnTo>
                  <a:pt x="2008" y="2264"/>
                </a:lnTo>
                <a:lnTo>
                  <a:pt x="2149" y="243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86600" y="415800"/>
            <a:ext cx="430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68960" y="4046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546200" y="1908000"/>
            <a:ext cx="5883480" cy="0"/>
            <a:chOff x="1546200" y="1908000"/>
            <a:chExt cx="5883480" cy="0"/>
          </a:xfrm>
        </p:grpSpPr>
        <p:sp>
          <p:nvSpPr>
            <p:cNvPr id="374" name=""/>
            <p:cNvSpPr/>
            <p:nvPr/>
          </p:nvSpPr>
          <p:spPr>
            <a:xfrm>
              <a:off x="1546200" y="1908000"/>
              <a:ext cx="125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97280" y="190800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81240" y="190800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51160" y="1908000"/>
              <a:ext cx="195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64280" y="1908000"/>
              <a:ext cx="9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32400" y="19080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32560" y="1908000"/>
              <a:ext cx="1797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546200" y="3181320"/>
            <a:ext cx="5899320" cy="0"/>
            <a:chOff x="1546200" y="3181320"/>
            <a:chExt cx="5899320" cy="0"/>
          </a:xfrm>
        </p:grpSpPr>
        <p:sp>
          <p:nvSpPr>
            <p:cNvPr id="382" name=""/>
            <p:cNvSpPr/>
            <p:nvPr/>
          </p:nvSpPr>
          <p:spPr>
            <a:xfrm>
              <a:off x="1546200" y="3181320"/>
              <a:ext cx="1258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7280" y="318132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81240" y="318132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51160" y="3181320"/>
              <a:ext cx="195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64280" y="3181320"/>
              <a:ext cx="9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32400" y="31813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2560" y="3181320"/>
              <a:ext cx="1812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 txBox="1"/>
          <p:nvPr/>
        </p:nvSpPr>
        <p:spPr>
          <a:xfrm>
            <a:off x="1546200" y="16398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199280" y="16416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546200" y="291456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199280" y="291456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7094520" y="352440"/>
            <a:ext cx="18986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utting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re added at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desired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Max Raisor</dc:creator>
  <dc:description/>
  <dc:language>en-US</dc:language>
  <cp:lastModifiedBy>E. Max Raisor</cp:lastModifiedBy>
  <cp:revision>0</cp:revision>
  <dc:subject/>
  <dc:title>CROSS  SECTIONS</dc:title>
</cp:coreProperties>
</file>