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40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409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40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33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89.xml.rels" ContentType="application/vnd.openxmlformats-package.relationships+xml"/>
  <Override PartName="/ppt/slides/_rels/slide28.xml.rels" ContentType="application/vnd.openxmlformats-package.relationships+xml"/>
  <Override PartName="/ppt/slides/_rels/slide355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353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62.xml.rels" ContentType="application/vnd.openxmlformats-package.relationships+xml"/>
  <Override PartName="/ppt/slides/_rels/slide258.xml.rels" ContentType="application/vnd.openxmlformats-package.relationships+xml"/>
  <Override PartName="/ppt/slides/_rels/slide345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56.xml.rels" ContentType="application/vnd.openxmlformats-package.relationships+xml"/>
  <Override PartName="/ppt/slides/_rels/slide34.xml.rels" ContentType="application/vnd.openxmlformats-package.relationships+xml"/>
  <Override PartName="/ppt/slides/_rels/slide36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367.xml.rels" ContentType="application/vnd.openxmlformats-package.relationships+xml"/>
  <Override PartName="/ppt/slides/_rels/slide125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265.xml.rels" ContentType="application/vnd.openxmlformats-package.relationships+xml"/>
  <Override PartName="/ppt/slides/_rels/slide270.xml.rels" ContentType="application/vnd.openxmlformats-package.relationships+xml"/>
  <Override PartName="/ppt/slides/_rels/slide46.xml.rels" ContentType="application/vnd.openxmlformats-package.relationships+xml"/>
  <Override PartName="/ppt/slides/_rels/slide118.xml.rels" ContentType="application/vnd.openxmlformats-package.relationships+xml"/>
  <Override PartName="/ppt/slides/_rels/slide12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13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134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85.xml.rels" ContentType="application/vnd.openxmlformats-package.relationships+xml"/>
  <Override PartName="/ppt/slides/_rels/slide90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396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83.xml.rels" ContentType="application/vnd.openxmlformats-package.relationships+xml"/>
  <Override PartName="/ppt/slides/_rels/slide40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69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406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411.xml.rels" ContentType="application/vnd.openxmlformats-package.relationships+xml"/>
  <Override PartName="/ppt/slides/_rels/slide390.xml.rels" ContentType="application/vnd.openxmlformats-package.relationships+xml"/>
  <Override PartName="/ppt/slides/_rels/slide385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77.xml.rels" ContentType="application/vnd.openxmlformats-package.relationships+xml"/>
  <Override PartName="/ppt/slides/_rels/slide55.xml.rels" ContentType="application/vnd.openxmlformats-package.relationships+xml"/>
  <Override PartName="/ppt/slides/_rels/slide346.xml.rels" ContentType="application/vnd.openxmlformats-package.relationships+xml"/>
  <Override PartName="/ppt/slides/_rels/slide351.xml.rels" ContentType="application/vnd.openxmlformats-package.relationships+xml"/>
  <Override PartName="/ppt/slides/_rels/slide29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97.xml.rels" ContentType="application/vnd.openxmlformats-package.relationships+xml"/>
  <Override PartName="/ppt/slides/_rels/slide414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98.xml.rels" ContentType="application/vnd.openxmlformats-package.relationships+xml"/>
  <Override PartName="/ppt/slides/_rels/slide415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412.xml.rels" ContentType="application/vnd.openxmlformats-package.relationships+xml"/>
  <Override PartName="/ppt/slides/_rels/slide391.xml.rels" ContentType="application/vnd.openxmlformats-package.relationships+xml"/>
  <Override PartName="/ppt/slides/_rels/slide264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78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10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413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36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90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9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25.xml" ContentType="application/vnd.openxmlformats-officedocument.presentationml.slide+xml"/>
  <Override PartName="/ppt/slides/slide386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24.xml" ContentType="application/vnd.openxmlformats-officedocument.presentationml.slide+xml"/>
  <Override PartName="/ppt/slides/slide39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7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60.xml" ContentType="application/vnd.openxmlformats-officedocument.presentationml.slide+xml"/>
  <Override PartName="/ppt/slides/slide372.xml" ContentType="application/vnd.openxmlformats-officedocument.presentationml.slide+xml"/>
  <Override PartName="/ppt/slides/slide410.xml" ContentType="application/vnd.openxmlformats-officedocument.presentationml.slide+xml"/>
  <Override PartName="/ppt/slides/slide376.xml" ContentType="application/vnd.openxmlformats-officedocument.presentationml.slide+xml"/>
  <Override PartName="/ppt/slides/slide414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77.xml" ContentType="application/vnd.openxmlformats-officedocument.presentationml.slide+xml"/>
  <Override PartName="/ppt/slides/slide415.xml" ContentType="application/vnd.openxmlformats-officedocument.presentationml.slide+xml"/>
  <Override PartName="/ppt/slides/slide395.xml" ContentType="application/vnd.openxmlformats-officedocument.presentationml.slide+xml"/>
  <Override PartName="/ppt/slides/slide394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26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374.xml" ContentType="application/vnd.openxmlformats-officedocument.presentationml.slide+xml"/>
  <Override PartName="/ppt/slides/slide412.xml" ContentType="application/vnd.openxmlformats-officedocument.presentationml.slide+xml"/>
  <Override PartName="/ppt/slides/slide282.xml" ContentType="application/vnd.openxmlformats-officedocument.presentationml.slide+xml"/>
  <Override PartName="/ppt/slides/slide350.xml" ContentType="application/vnd.openxmlformats-officedocument.presentationml.slide+xml"/>
  <Override PartName="/ppt/slides/slide373.xml" ContentType="application/vnd.openxmlformats-officedocument.presentationml.slide+xml"/>
  <Override PartName="/ppt/slides/slide411.xml" ContentType="application/vnd.openxmlformats-officedocument.presentationml.slide+xml"/>
  <Override PartName="/ppt/slides/slide281.xml" ContentType="application/vnd.openxmlformats-officedocument.presentationml.slide+xml"/>
  <Override PartName="/ppt/slides/slide262.xml" ContentType="application/vnd.openxmlformats-officedocument.presentationml.slide+xml"/>
  <Override PartName="/ppt/slides/slide405.xml" ContentType="application/vnd.openxmlformats-officedocument.presentationml.slide+xml"/>
  <Override PartName="/ppt/slides/slide36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413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404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403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09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408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  <p:sldId id="602" r:id="rId349"/>
    <p:sldId id="603" r:id="rId350"/>
    <p:sldId id="604" r:id="rId351"/>
    <p:sldId id="605" r:id="rId352"/>
    <p:sldId id="606" r:id="rId353"/>
    <p:sldId id="607" r:id="rId354"/>
    <p:sldId id="608" r:id="rId355"/>
    <p:sldId id="609" r:id="rId356"/>
    <p:sldId id="610" r:id="rId357"/>
    <p:sldId id="611" r:id="rId358"/>
    <p:sldId id="612" r:id="rId359"/>
    <p:sldId id="613" r:id="rId360"/>
    <p:sldId id="614" r:id="rId361"/>
    <p:sldId id="615" r:id="rId362"/>
    <p:sldId id="616" r:id="rId363"/>
    <p:sldId id="617" r:id="rId364"/>
    <p:sldId id="618" r:id="rId365"/>
    <p:sldId id="619" r:id="rId366"/>
    <p:sldId id="620" r:id="rId367"/>
    <p:sldId id="621" r:id="rId368"/>
    <p:sldId id="622" r:id="rId369"/>
    <p:sldId id="623" r:id="rId370"/>
    <p:sldId id="624" r:id="rId371"/>
    <p:sldId id="625" r:id="rId372"/>
    <p:sldId id="626" r:id="rId373"/>
    <p:sldId id="627" r:id="rId374"/>
    <p:sldId id="628" r:id="rId375"/>
    <p:sldId id="629" r:id="rId376"/>
    <p:sldId id="630" r:id="rId377"/>
    <p:sldId id="631" r:id="rId378"/>
    <p:sldId id="632" r:id="rId379"/>
    <p:sldId id="633" r:id="rId380"/>
    <p:sldId id="634" r:id="rId381"/>
    <p:sldId id="635" r:id="rId382"/>
    <p:sldId id="636" r:id="rId383"/>
    <p:sldId id="637" r:id="rId384"/>
    <p:sldId id="638" r:id="rId385"/>
    <p:sldId id="639" r:id="rId386"/>
    <p:sldId id="640" r:id="rId387"/>
    <p:sldId id="641" r:id="rId388"/>
    <p:sldId id="642" r:id="rId389"/>
    <p:sldId id="643" r:id="rId390"/>
    <p:sldId id="644" r:id="rId391"/>
    <p:sldId id="645" r:id="rId392"/>
    <p:sldId id="646" r:id="rId393"/>
    <p:sldId id="647" r:id="rId394"/>
    <p:sldId id="648" r:id="rId395"/>
    <p:sldId id="649" r:id="rId396"/>
    <p:sldId id="650" r:id="rId397"/>
    <p:sldId id="651" r:id="rId398"/>
    <p:sldId id="652" r:id="rId399"/>
    <p:sldId id="653" r:id="rId400"/>
    <p:sldId id="654" r:id="rId401"/>
    <p:sldId id="655" r:id="rId402"/>
    <p:sldId id="656" r:id="rId403"/>
    <p:sldId id="657" r:id="rId404"/>
    <p:sldId id="658" r:id="rId405"/>
    <p:sldId id="659" r:id="rId406"/>
    <p:sldId id="660" r:id="rId407"/>
    <p:sldId id="661" r:id="rId408"/>
    <p:sldId id="662" r:id="rId409"/>
    <p:sldId id="663" r:id="rId410"/>
    <p:sldId id="664" r:id="rId411"/>
    <p:sldId id="665" r:id="rId412"/>
    <p:sldId id="666" r:id="rId413"/>
    <p:sldId id="667" r:id="rId414"/>
    <p:sldId id="668" r:id="rId415"/>
    <p:sldId id="669" r:id="rId416"/>
    <p:sldId id="670" r:id="rId4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slide" Target="slides/slide347.xml"/><Relationship Id="rId350" Type="http://schemas.openxmlformats.org/officeDocument/2006/relationships/slide" Target="slides/slide348.xml"/><Relationship Id="rId351" Type="http://schemas.openxmlformats.org/officeDocument/2006/relationships/slide" Target="slides/slide349.xml"/><Relationship Id="rId352" Type="http://schemas.openxmlformats.org/officeDocument/2006/relationships/slide" Target="slides/slide350.xml"/><Relationship Id="rId353" Type="http://schemas.openxmlformats.org/officeDocument/2006/relationships/slide" Target="slides/slide351.xml"/><Relationship Id="rId354" Type="http://schemas.openxmlformats.org/officeDocument/2006/relationships/slide" Target="slides/slide352.xml"/><Relationship Id="rId355" Type="http://schemas.openxmlformats.org/officeDocument/2006/relationships/slide" Target="slides/slide353.xml"/><Relationship Id="rId356" Type="http://schemas.openxmlformats.org/officeDocument/2006/relationships/slide" Target="slides/slide354.xml"/><Relationship Id="rId357" Type="http://schemas.openxmlformats.org/officeDocument/2006/relationships/slide" Target="slides/slide355.xml"/><Relationship Id="rId358" Type="http://schemas.openxmlformats.org/officeDocument/2006/relationships/slide" Target="slides/slide356.xml"/><Relationship Id="rId359" Type="http://schemas.openxmlformats.org/officeDocument/2006/relationships/slide" Target="slides/slide357.xml"/><Relationship Id="rId360" Type="http://schemas.openxmlformats.org/officeDocument/2006/relationships/slide" Target="slides/slide358.xml"/><Relationship Id="rId361" Type="http://schemas.openxmlformats.org/officeDocument/2006/relationships/slide" Target="slides/slide359.xml"/><Relationship Id="rId362" Type="http://schemas.openxmlformats.org/officeDocument/2006/relationships/slide" Target="slides/slide360.xml"/><Relationship Id="rId363" Type="http://schemas.openxmlformats.org/officeDocument/2006/relationships/slide" Target="slides/slide361.xml"/><Relationship Id="rId364" Type="http://schemas.openxmlformats.org/officeDocument/2006/relationships/slide" Target="slides/slide362.xml"/><Relationship Id="rId365" Type="http://schemas.openxmlformats.org/officeDocument/2006/relationships/slide" Target="slides/slide363.xml"/><Relationship Id="rId366" Type="http://schemas.openxmlformats.org/officeDocument/2006/relationships/slide" Target="slides/slide364.xml"/><Relationship Id="rId367" Type="http://schemas.openxmlformats.org/officeDocument/2006/relationships/slide" Target="slides/slide365.xml"/><Relationship Id="rId368" Type="http://schemas.openxmlformats.org/officeDocument/2006/relationships/slide" Target="slides/slide366.xml"/><Relationship Id="rId369" Type="http://schemas.openxmlformats.org/officeDocument/2006/relationships/slide" Target="slides/slide367.xml"/><Relationship Id="rId370" Type="http://schemas.openxmlformats.org/officeDocument/2006/relationships/slide" Target="slides/slide368.xml"/><Relationship Id="rId371" Type="http://schemas.openxmlformats.org/officeDocument/2006/relationships/slide" Target="slides/slide369.xml"/><Relationship Id="rId372" Type="http://schemas.openxmlformats.org/officeDocument/2006/relationships/slide" Target="slides/slide370.xml"/><Relationship Id="rId373" Type="http://schemas.openxmlformats.org/officeDocument/2006/relationships/slide" Target="slides/slide371.xml"/><Relationship Id="rId374" Type="http://schemas.openxmlformats.org/officeDocument/2006/relationships/slide" Target="slides/slide372.xml"/><Relationship Id="rId375" Type="http://schemas.openxmlformats.org/officeDocument/2006/relationships/slide" Target="slides/slide373.xml"/><Relationship Id="rId376" Type="http://schemas.openxmlformats.org/officeDocument/2006/relationships/slide" Target="slides/slide374.xml"/><Relationship Id="rId377" Type="http://schemas.openxmlformats.org/officeDocument/2006/relationships/slide" Target="slides/slide375.xml"/><Relationship Id="rId378" Type="http://schemas.openxmlformats.org/officeDocument/2006/relationships/slide" Target="slides/slide376.xml"/><Relationship Id="rId379" Type="http://schemas.openxmlformats.org/officeDocument/2006/relationships/slide" Target="slides/slide377.xml"/><Relationship Id="rId380" Type="http://schemas.openxmlformats.org/officeDocument/2006/relationships/slide" Target="slides/slide378.xml"/><Relationship Id="rId381" Type="http://schemas.openxmlformats.org/officeDocument/2006/relationships/slide" Target="slides/slide379.xml"/><Relationship Id="rId382" Type="http://schemas.openxmlformats.org/officeDocument/2006/relationships/slide" Target="slides/slide380.xml"/><Relationship Id="rId383" Type="http://schemas.openxmlformats.org/officeDocument/2006/relationships/slide" Target="slides/slide381.xml"/><Relationship Id="rId384" Type="http://schemas.openxmlformats.org/officeDocument/2006/relationships/slide" Target="slides/slide382.xml"/><Relationship Id="rId385" Type="http://schemas.openxmlformats.org/officeDocument/2006/relationships/slide" Target="slides/slide383.xml"/><Relationship Id="rId386" Type="http://schemas.openxmlformats.org/officeDocument/2006/relationships/slide" Target="slides/slide384.xml"/><Relationship Id="rId387" Type="http://schemas.openxmlformats.org/officeDocument/2006/relationships/slide" Target="slides/slide385.xml"/><Relationship Id="rId388" Type="http://schemas.openxmlformats.org/officeDocument/2006/relationships/slide" Target="slides/slide386.xml"/><Relationship Id="rId389" Type="http://schemas.openxmlformats.org/officeDocument/2006/relationships/slide" Target="slides/slide387.xml"/><Relationship Id="rId390" Type="http://schemas.openxmlformats.org/officeDocument/2006/relationships/slide" Target="slides/slide388.xml"/><Relationship Id="rId391" Type="http://schemas.openxmlformats.org/officeDocument/2006/relationships/slide" Target="slides/slide389.xml"/><Relationship Id="rId392" Type="http://schemas.openxmlformats.org/officeDocument/2006/relationships/slide" Target="slides/slide390.xml"/><Relationship Id="rId393" Type="http://schemas.openxmlformats.org/officeDocument/2006/relationships/slide" Target="slides/slide391.xml"/><Relationship Id="rId394" Type="http://schemas.openxmlformats.org/officeDocument/2006/relationships/slide" Target="slides/slide392.xml"/><Relationship Id="rId395" Type="http://schemas.openxmlformats.org/officeDocument/2006/relationships/slide" Target="slides/slide393.xml"/><Relationship Id="rId396" Type="http://schemas.openxmlformats.org/officeDocument/2006/relationships/slide" Target="slides/slide394.xml"/><Relationship Id="rId397" Type="http://schemas.openxmlformats.org/officeDocument/2006/relationships/slide" Target="slides/slide395.xml"/><Relationship Id="rId398" Type="http://schemas.openxmlformats.org/officeDocument/2006/relationships/slide" Target="slides/slide396.xml"/><Relationship Id="rId399" Type="http://schemas.openxmlformats.org/officeDocument/2006/relationships/slide" Target="slides/slide397.xml"/><Relationship Id="rId400" Type="http://schemas.openxmlformats.org/officeDocument/2006/relationships/slide" Target="slides/slide398.xml"/><Relationship Id="rId401" Type="http://schemas.openxmlformats.org/officeDocument/2006/relationships/slide" Target="slides/slide399.xml"/><Relationship Id="rId402" Type="http://schemas.openxmlformats.org/officeDocument/2006/relationships/slide" Target="slides/slide400.xml"/><Relationship Id="rId403" Type="http://schemas.openxmlformats.org/officeDocument/2006/relationships/slide" Target="slides/slide401.xml"/><Relationship Id="rId404" Type="http://schemas.openxmlformats.org/officeDocument/2006/relationships/slide" Target="slides/slide402.xml"/><Relationship Id="rId405" Type="http://schemas.openxmlformats.org/officeDocument/2006/relationships/slide" Target="slides/slide403.xml"/><Relationship Id="rId406" Type="http://schemas.openxmlformats.org/officeDocument/2006/relationships/slide" Target="slides/slide404.xml"/><Relationship Id="rId407" Type="http://schemas.openxmlformats.org/officeDocument/2006/relationships/slide" Target="slides/slide405.xml"/><Relationship Id="rId408" Type="http://schemas.openxmlformats.org/officeDocument/2006/relationships/slide" Target="slides/slide406.xml"/><Relationship Id="rId409" Type="http://schemas.openxmlformats.org/officeDocument/2006/relationships/slide" Target="slides/slide407.xml"/><Relationship Id="rId410" Type="http://schemas.openxmlformats.org/officeDocument/2006/relationships/slide" Target="slides/slide408.xml"/><Relationship Id="rId411" Type="http://schemas.openxmlformats.org/officeDocument/2006/relationships/slide" Target="slides/slide409.xml"/><Relationship Id="rId412" Type="http://schemas.openxmlformats.org/officeDocument/2006/relationships/slide" Target="slides/slide410.xml"/><Relationship Id="rId413" Type="http://schemas.openxmlformats.org/officeDocument/2006/relationships/slide" Target="slides/slide411.xml"/><Relationship Id="rId414" Type="http://schemas.openxmlformats.org/officeDocument/2006/relationships/slide" Target="slides/slide412.xml"/><Relationship Id="rId415" Type="http://schemas.openxmlformats.org/officeDocument/2006/relationships/slide" Target="slides/slide413.xml"/><Relationship Id="rId416" Type="http://schemas.openxmlformats.org/officeDocument/2006/relationships/slide" Target="slides/slide414.xml"/><Relationship Id="rId417" Type="http://schemas.openxmlformats.org/officeDocument/2006/relationships/slide" Target="slides/slide415.xml"/><Relationship Id="rId4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385920" y="6427800"/>
            <a:ext cx="1650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751800" y="6559560"/>
            <a:ext cx="2198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of Contents . . . . . Slide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1520" y="6221520"/>
            <a:ext cx="226224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607080" y="6254640"/>
            <a:ext cx="2359080" cy="59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278320" y="4890960"/>
            <a:ext cx="3873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to point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(with the same compass set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nother arc (a2) that inters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16200" y="1608120"/>
            <a:ext cx="4113360" cy="406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75040" y="3836880"/>
            <a:ext cx="0" cy="249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70360" y="5394240"/>
            <a:ext cx="277920" cy="277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782880" y="5587920"/>
            <a:ext cx="185760" cy="18576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1036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4095720" y="3633840"/>
            <a:ext cx="204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623960" y="3633840"/>
            <a:ext cx="1995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868560" y="1433520"/>
            <a:ext cx="0" cy="199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941400" y="1295280"/>
            <a:ext cx="7448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circle of a given diameter that is tangent to both circles, b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nly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479760" y="301788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1406520" y="5246640"/>
            <a:ext cx="6807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at some arbitrary angle through the center of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given cir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479760" y="301788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479760" y="301788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957240" y="1400040"/>
            <a:ext cx="7540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set to the radius of the required circle, center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on one of the intersections the line makes with the given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 flipV="1">
            <a:off x="224172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47976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58400" y="2313000"/>
            <a:ext cx="404640" cy="273960"/>
          </a:xfrm>
          <a:custGeom>
            <a:avLst/>
            <a:gdLst/>
            <a:ahLst/>
            <a:rect l="0" t="0" r="r" b="b"/>
            <a:pathLst>
              <a:path fill="none" w="1124" h="761">
                <a:moveTo>
                  <a:pt x="1124" y="0"/>
                </a:moveTo>
                <a:lnTo>
                  <a:pt x="1124" y="0"/>
                </a:lnTo>
                <a:cubicBezTo>
                  <a:pt x="986" y="55"/>
                  <a:pt x="851" y="120"/>
                  <a:pt x="722" y="194"/>
                </a:cubicBezTo>
                <a:cubicBezTo>
                  <a:pt x="455" y="347"/>
                  <a:pt x="211" y="538"/>
                  <a:pt x="0" y="7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959200" y="3618000"/>
            <a:ext cx="69840" cy="698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758400" y="2313000"/>
            <a:ext cx="404640" cy="273960"/>
          </a:xfrm>
          <a:custGeom>
            <a:avLst/>
            <a:gdLst/>
            <a:ahLst/>
            <a:rect l="0" t="0" r="r" b="b"/>
            <a:pathLst>
              <a:path fill="none" w="1124" h="761">
                <a:moveTo>
                  <a:pt x="1124" y="0"/>
                </a:moveTo>
                <a:lnTo>
                  <a:pt x="1124" y="0"/>
                </a:lnTo>
                <a:cubicBezTo>
                  <a:pt x="986" y="55"/>
                  <a:pt x="851" y="120"/>
                  <a:pt x="722" y="194"/>
                </a:cubicBezTo>
                <a:cubicBezTo>
                  <a:pt x="455" y="347"/>
                  <a:pt x="211" y="538"/>
                  <a:pt x="0" y="7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394000" y="5135400"/>
            <a:ext cx="6157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compass to the center of the circle and using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from the center to the small arc, construct a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6294600" y="1325520"/>
            <a:ext cx="2595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onstruct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itrary line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of the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968640" y="3362400"/>
            <a:ext cx="1947960" cy="25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5146560" y="1174680"/>
            <a:ext cx="36115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intersection of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circle (on the outside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line with a dist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radius of the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2720" y="227484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0"/>
                </a:moveTo>
                <a:lnTo>
                  <a:pt x="0" y="0"/>
                </a:lnTo>
                <a:cubicBezTo>
                  <a:pt x="0" y="1507"/>
                  <a:pt x="397" y="2988"/>
                  <a:pt x="1150" y="4294"/>
                </a:cubicBezTo>
                <a:cubicBezTo>
                  <a:pt x="1904" y="5599"/>
                  <a:pt x="2988" y="6683"/>
                  <a:pt x="4294" y="7437"/>
                </a:cubicBezTo>
                <a:cubicBezTo>
                  <a:pt x="5599" y="8190"/>
                  <a:pt x="7080" y="8587"/>
                  <a:pt x="8587" y="858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968640" y="3362400"/>
            <a:ext cx="1947960" cy="25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254560" y="413712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041000" y="565812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752280" y="3907440"/>
            <a:ext cx="211680" cy="276120"/>
          </a:xfrm>
          <a:custGeom>
            <a:avLst/>
            <a:gdLst/>
            <a:ahLst/>
            <a:rect l="0" t="0" r="r" b="b"/>
            <a:pathLst>
              <a:path fill="none" w="588" h="767">
                <a:moveTo>
                  <a:pt x="588" y="0"/>
                </a:moveTo>
                <a:lnTo>
                  <a:pt x="588" y="0"/>
                </a:lnTo>
                <a:cubicBezTo>
                  <a:pt x="375" y="242"/>
                  <a:pt x="178" y="498"/>
                  <a:pt x="0" y="7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968640" y="3362400"/>
            <a:ext cx="1947960" cy="25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48440" y="41403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041000" y="565812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752280" y="3907440"/>
            <a:ext cx="211680" cy="276120"/>
          </a:xfrm>
          <a:custGeom>
            <a:avLst/>
            <a:gdLst/>
            <a:ahLst/>
            <a:rect l="0" t="0" r="r" b="b"/>
            <a:pathLst>
              <a:path fill="none" w="588" h="767">
                <a:moveTo>
                  <a:pt x="588" y="0"/>
                </a:moveTo>
                <a:lnTo>
                  <a:pt x="588" y="0"/>
                </a:lnTo>
                <a:cubicBezTo>
                  <a:pt x="375" y="242"/>
                  <a:pt x="178" y="498"/>
                  <a:pt x="0" y="76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5295960" y="4500720"/>
            <a:ext cx="33926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of the circle,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allel arc to intersec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one draw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968640" y="3362400"/>
            <a:ext cx="1947960" cy="25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32560" y="3645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041000" y="565812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271320" y="3559680"/>
            <a:ext cx="1833120" cy="1329840"/>
          </a:xfrm>
          <a:custGeom>
            <a:avLst/>
            <a:gdLst/>
            <a:ahLst/>
            <a:rect l="0" t="0" r="r" b="b"/>
            <a:pathLst>
              <a:path fill="none" w="5092" h="3694">
                <a:moveTo>
                  <a:pt x="5092" y="0"/>
                </a:moveTo>
                <a:lnTo>
                  <a:pt x="5092" y="0"/>
                </a:lnTo>
                <a:cubicBezTo>
                  <a:pt x="4260" y="140"/>
                  <a:pt x="3459" y="428"/>
                  <a:pt x="2728" y="851"/>
                </a:cubicBezTo>
                <a:cubicBezTo>
                  <a:pt x="1652" y="1473"/>
                  <a:pt x="759" y="2367"/>
                  <a:pt x="137" y="3445"/>
                </a:cubicBezTo>
                <a:cubicBezTo>
                  <a:pt x="90" y="3527"/>
                  <a:pt x="44" y="3610"/>
                  <a:pt x="0" y="369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968640" y="3362400"/>
            <a:ext cx="1947960" cy="25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632560" y="3645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898720" y="2508120"/>
            <a:ext cx="1952280" cy="1799280"/>
          </a:xfrm>
          <a:custGeom>
            <a:avLst/>
            <a:gdLst/>
            <a:ahLst/>
            <a:rect l="0" t="0" r="r" b="b"/>
            <a:pathLst>
              <a:path fill="none" w="5423" h="4998">
                <a:moveTo>
                  <a:pt x="4792" y="4998"/>
                </a:moveTo>
                <a:lnTo>
                  <a:pt x="4792" y="4998"/>
                </a:lnTo>
                <a:cubicBezTo>
                  <a:pt x="4868" y="4898"/>
                  <a:pt x="4938" y="4793"/>
                  <a:pt x="5001" y="4684"/>
                </a:cubicBezTo>
                <a:cubicBezTo>
                  <a:pt x="5278" y="4209"/>
                  <a:pt x="5423" y="3671"/>
                  <a:pt x="5423" y="3123"/>
                </a:cubicBezTo>
                <a:cubicBezTo>
                  <a:pt x="5423" y="2574"/>
                  <a:pt x="5278" y="2036"/>
                  <a:pt x="5001" y="1561"/>
                </a:cubicBezTo>
                <a:cubicBezTo>
                  <a:pt x="4725" y="1087"/>
                  <a:pt x="4327" y="692"/>
                  <a:pt x="3848" y="418"/>
                </a:cubicBezTo>
                <a:cubicBezTo>
                  <a:pt x="3370" y="144"/>
                  <a:pt x="2827" y="0"/>
                  <a:pt x="2274" y="0"/>
                </a:cubicBezTo>
                <a:cubicBezTo>
                  <a:pt x="1721" y="0"/>
                  <a:pt x="1178" y="144"/>
                  <a:pt x="699" y="418"/>
                </a:cubicBezTo>
                <a:cubicBezTo>
                  <a:pt x="441" y="566"/>
                  <a:pt x="206" y="749"/>
                  <a:pt x="0" y="96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041000" y="565812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71320" y="3559680"/>
            <a:ext cx="1833120" cy="1329840"/>
          </a:xfrm>
          <a:custGeom>
            <a:avLst/>
            <a:gdLst/>
            <a:ahLst/>
            <a:rect l="0" t="0" r="r" b="b"/>
            <a:pathLst>
              <a:path fill="none" w="5092" h="3694">
                <a:moveTo>
                  <a:pt x="5092" y="0"/>
                </a:moveTo>
                <a:lnTo>
                  <a:pt x="5092" y="0"/>
                </a:lnTo>
                <a:cubicBezTo>
                  <a:pt x="4260" y="140"/>
                  <a:pt x="3459" y="428"/>
                  <a:pt x="2728" y="851"/>
                </a:cubicBezTo>
                <a:cubicBezTo>
                  <a:pt x="1652" y="1473"/>
                  <a:pt x="759" y="2367"/>
                  <a:pt x="137" y="3445"/>
                </a:cubicBezTo>
                <a:cubicBezTo>
                  <a:pt x="90" y="3527"/>
                  <a:pt x="44" y="3610"/>
                  <a:pt x="0" y="369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265720" y="4818240"/>
            <a:ext cx="35830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veloped intersec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rcs is the center of a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will be tangent to both gi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s, but contain only one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4014720" y="3362400"/>
            <a:ext cx="1901880" cy="24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1640" y="565308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933640" y="2543040"/>
            <a:ext cx="1950480" cy="1729440"/>
          </a:xfrm>
          <a:custGeom>
            <a:avLst/>
            <a:gdLst/>
            <a:ahLst/>
            <a:rect l="0" t="0" r="r" b="b"/>
            <a:pathLst>
              <a:path fill="none" w="5418" h="4804">
                <a:moveTo>
                  <a:pt x="4922" y="4804"/>
                </a:moveTo>
                <a:lnTo>
                  <a:pt x="4922" y="4804"/>
                </a:lnTo>
                <a:cubicBezTo>
                  <a:pt x="4947" y="4764"/>
                  <a:pt x="4972" y="4724"/>
                  <a:pt x="4996" y="4683"/>
                </a:cubicBezTo>
                <a:cubicBezTo>
                  <a:pt x="5272" y="4209"/>
                  <a:pt x="5418" y="3670"/>
                  <a:pt x="5418" y="3122"/>
                </a:cubicBezTo>
                <a:cubicBezTo>
                  <a:pt x="5418" y="2574"/>
                  <a:pt x="5272" y="2036"/>
                  <a:pt x="4996" y="1561"/>
                </a:cubicBezTo>
                <a:cubicBezTo>
                  <a:pt x="4719" y="1086"/>
                  <a:pt x="4322" y="692"/>
                  <a:pt x="3843" y="418"/>
                </a:cubicBezTo>
                <a:cubicBezTo>
                  <a:pt x="3364" y="144"/>
                  <a:pt x="2821" y="0"/>
                  <a:pt x="2268" y="0"/>
                </a:cubicBezTo>
                <a:cubicBezTo>
                  <a:pt x="1716" y="0"/>
                  <a:pt x="1173" y="144"/>
                  <a:pt x="694" y="418"/>
                </a:cubicBezTo>
                <a:cubicBezTo>
                  <a:pt x="438" y="564"/>
                  <a:pt x="205" y="745"/>
                  <a:pt x="0" y="9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71320" y="3559680"/>
            <a:ext cx="1833120" cy="1329840"/>
          </a:xfrm>
          <a:custGeom>
            <a:avLst/>
            <a:gdLst/>
            <a:ahLst/>
            <a:rect l="0" t="0" r="r" b="b"/>
            <a:pathLst>
              <a:path fill="none" w="5092" h="3694">
                <a:moveTo>
                  <a:pt x="5092" y="0"/>
                </a:moveTo>
                <a:lnTo>
                  <a:pt x="5092" y="0"/>
                </a:lnTo>
                <a:cubicBezTo>
                  <a:pt x="4260" y="140"/>
                  <a:pt x="3459" y="428"/>
                  <a:pt x="2728" y="851"/>
                </a:cubicBezTo>
                <a:cubicBezTo>
                  <a:pt x="1652" y="1473"/>
                  <a:pt x="759" y="2367"/>
                  <a:pt x="137" y="3445"/>
                </a:cubicBezTo>
                <a:cubicBezTo>
                  <a:pt x="90" y="3527"/>
                  <a:pt x="44" y="3610"/>
                  <a:pt x="0" y="369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3083040" y="4183200"/>
            <a:ext cx="182520" cy="174600"/>
            <a:chOff x="3083040" y="4183200"/>
            <a:chExt cx="182520" cy="174600"/>
          </a:xfrm>
        </p:grpSpPr>
        <p:sp>
          <p:nvSpPr>
            <p:cNvPr id="1171" name=""/>
            <p:cNvSpPr/>
            <p:nvPr/>
          </p:nvSpPr>
          <p:spPr>
            <a:xfrm>
              <a:off x="3174840" y="41832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83040" y="42721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32560" y="3645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014720" y="3362400"/>
            <a:ext cx="1901880" cy="24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031640" y="565308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33640" y="2543040"/>
            <a:ext cx="1950480" cy="1729440"/>
          </a:xfrm>
          <a:custGeom>
            <a:avLst/>
            <a:gdLst/>
            <a:ahLst/>
            <a:rect l="0" t="0" r="r" b="b"/>
            <a:pathLst>
              <a:path fill="none" w="5418" h="4804">
                <a:moveTo>
                  <a:pt x="4922" y="4804"/>
                </a:moveTo>
                <a:lnTo>
                  <a:pt x="4922" y="4804"/>
                </a:lnTo>
                <a:cubicBezTo>
                  <a:pt x="4947" y="4764"/>
                  <a:pt x="4972" y="4724"/>
                  <a:pt x="4996" y="4683"/>
                </a:cubicBezTo>
                <a:cubicBezTo>
                  <a:pt x="5272" y="4209"/>
                  <a:pt x="5418" y="3670"/>
                  <a:pt x="5418" y="3122"/>
                </a:cubicBezTo>
                <a:cubicBezTo>
                  <a:pt x="5418" y="2574"/>
                  <a:pt x="5272" y="2036"/>
                  <a:pt x="4996" y="1561"/>
                </a:cubicBezTo>
                <a:cubicBezTo>
                  <a:pt x="4719" y="1086"/>
                  <a:pt x="4322" y="692"/>
                  <a:pt x="3843" y="418"/>
                </a:cubicBezTo>
                <a:cubicBezTo>
                  <a:pt x="3364" y="144"/>
                  <a:pt x="2821" y="0"/>
                  <a:pt x="2268" y="0"/>
                </a:cubicBezTo>
                <a:cubicBezTo>
                  <a:pt x="1716" y="0"/>
                  <a:pt x="1173" y="144"/>
                  <a:pt x="694" y="418"/>
                </a:cubicBezTo>
                <a:cubicBezTo>
                  <a:pt x="438" y="564"/>
                  <a:pt x="205" y="745"/>
                  <a:pt x="0" y="9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271320" y="3559680"/>
            <a:ext cx="1833120" cy="1329840"/>
          </a:xfrm>
          <a:custGeom>
            <a:avLst/>
            <a:gdLst/>
            <a:ahLst/>
            <a:rect l="0" t="0" r="r" b="b"/>
            <a:pathLst>
              <a:path fill="none" w="5092" h="3694">
                <a:moveTo>
                  <a:pt x="5092" y="0"/>
                </a:moveTo>
                <a:lnTo>
                  <a:pt x="5092" y="0"/>
                </a:lnTo>
                <a:cubicBezTo>
                  <a:pt x="4260" y="140"/>
                  <a:pt x="3459" y="428"/>
                  <a:pt x="2728" y="851"/>
                </a:cubicBezTo>
                <a:cubicBezTo>
                  <a:pt x="1652" y="1473"/>
                  <a:pt x="759" y="2367"/>
                  <a:pt x="137" y="3445"/>
                </a:cubicBezTo>
                <a:cubicBezTo>
                  <a:pt x="90" y="3527"/>
                  <a:pt x="44" y="3610"/>
                  <a:pt x="0" y="369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083040" y="4183200"/>
            <a:ext cx="182520" cy="174600"/>
            <a:chOff x="3083040" y="4183200"/>
            <a:chExt cx="182520" cy="174600"/>
          </a:xfrm>
        </p:grpSpPr>
        <p:sp>
          <p:nvSpPr>
            <p:cNvPr id="1186" name=""/>
            <p:cNvSpPr/>
            <p:nvPr/>
          </p:nvSpPr>
          <p:spPr>
            <a:xfrm>
              <a:off x="3174840" y="41832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83040" y="42721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8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235480" y="4681440"/>
            <a:ext cx="37116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equired radius se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your compass, and the comp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ed on the intersection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arcs, draw a circle th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angent to both sma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s, but contain only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632560" y="3645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014720" y="3362400"/>
            <a:ext cx="1901880" cy="24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31640" y="5653080"/>
            <a:ext cx="140760" cy="104760"/>
          </a:xfrm>
          <a:custGeom>
            <a:avLst/>
            <a:gdLst/>
            <a:ahLst/>
            <a:rect l="0" t="0" r="r" b="b"/>
            <a:pathLst>
              <a:path fill="none" w="391" h="291">
                <a:moveTo>
                  <a:pt x="0" y="0"/>
                </a:moveTo>
                <a:lnTo>
                  <a:pt x="0" y="0"/>
                </a:lnTo>
                <a:cubicBezTo>
                  <a:pt x="123" y="106"/>
                  <a:pt x="254" y="203"/>
                  <a:pt x="391" y="29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933640" y="2543040"/>
            <a:ext cx="1950480" cy="1729440"/>
          </a:xfrm>
          <a:custGeom>
            <a:avLst/>
            <a:gdLst/>
            <a:ahLst/>
            <a:rect l="0" t="0" r="r" b="b"/>
            <a:pathLst>
              <a:path fill="none" w="5418" h="4804">
                <a:moveTo>
                  <a:pt x="4922" y="4804"/>
                </a:moveTo>
                <a:lnTo>
                  <a:pt x="4922" y="4804"/>
                </a:lnTo>
                <a:cubicBezTo>
                  <a:pt x="4947" y="4764"/>
                  <a:pt x="4972" y="4724"/>
                  <a:pt x="4996" y="4683"/>
                </a:cubicBezTo>
                <a:cubicBezTo>
                  <a:pt x="5272" y="4209"/>
                  <a:pt x="5418" y="3670"/>
                  <a:pt x="5418" y="3122"/>
                </a:cubicBezTo>
                <a:cubicBezTo>
                  <a:pt x="5418" y="2574"/>
                  <a:pt x="5272" y="2036"/>
                  <a:pt x="4996" y="1561"/>
                </a:cubicBezTo>
                <a:cubicBezTo>
                  <a:pt x="4719" y="1086"/>
                  <a:pt x="4322" y="692"/>
                  <a:pt x="3843" y="418"/>
                </a:cubicBezTo>
                <a:cubicBezTo>
                  <a:pt x="3364" y="144"/>
                  <a:pt x="2821" y="0"/>
                  <a:pt x="2268" y="0"/>
                </a:cubicBezTo>
                <a:cubicBezTo>
                  <a:pt x="1716" y="0"/>
                  <a:pt x="1173" y="144"/>
                  <a:pt x="694" y="418"/>
                </a:cubicBezTo>
                <a:cubicBezTo>
                  <a:pt x="438" y="564"/>
                  <a:pt x="205" y="745"/>
                  <a:pt x="0" y="9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271320" y="3559680"/>
            <a:ext cx="1833120" cy="1329840"/>
          </a:xfrm>
          <a:custGeom>
            <a:avLst/>
            <a:gdLst/>
            <a:ahLst/>
            <a:rect l="0" t="0" r="r" b="b"/>
            <a:pathLst>
              <a:path fill="none" w="5092" h="3694">
                <a:moveTo>
                  <a:pt x="5092" y="0"/>
                </a:moveTo>
                <a:lnTo>
                  <a:pt x="5092" y="0"/>
                </a:lnTo>
                <a:cubicBezTo>
                  <a:pt x="4260" y="140"/>
                  <a:pt x="3459" y="428"/>
                  <a:pt x="2728" y="851"/>
                </a:cubicBezTo>
                <a:cubicBezTo>
                  <a:pt x="1652" y="1473"/>
                  <a:pt x="759" y="2367"/>
                  <a:pt x="137" y="3445"/>
                </a:cubicBezTo>
                <a:cubicBezTo>
                  <a:pt x="90" y="3527"/>
                  <a:pt x="44" y="3610"/>
                  <a:pt x="0" y="369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03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5" name=""/>
          <p:cNvSpPr txBox="1"/>
          <p:nvPr/>
        </p:nvSpPr>
        <p:spPr>
          <a:xfrm>
            <a:off x="3473280" y="302436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613320" y="321300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632560" y="36450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16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8" name=""/>
          <p:cNvSpPr txBox="1"/>
          <p:nvPr/>
        </p:nvSpPr>
        <p:spPr>
          <a:xfrm>
            <a:off x="4389480" y="1370160"/>
            <a:ext cx="457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 can be determined by dra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 connecting the centers of the cir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the one case the line must be extend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173400" y="2151000"/>
            <a:ext cx="976320" cy="21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28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3173400" y="2151000"/>
            <a:ext cx="976320" cy="21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914640" y="2438280"/>
            <a:ext cx="142920" cy="14292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40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720" y="227484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0"/>
                </a:moveTo>
                <a:lnTo>
                  <a:pt x="0" y="0"/>
                </a:lnTo>
                <a:cubicBezTo>
                  <a:pt x="0" y="1507"/>
                  <a:pt x="397" y="2988"/>
                  <a:pt x="1150" y="4294"/>
                </a:cubicBezTo>
                <a:cubicBezTo>
                  <a:pt x="1904" y="5599"/>
                  <a:pt x="2988" y="6683"/>
                  <a:pt x="4294" y="7437"/>
                </a:cubicBezTo>
                <a:cubicBezTo>
                  <a:pt x="5599" y="8190"/>
                  <a:pt x="7080" y="8587"/>
                  <a:pt x="8587" y="858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10120" y="5081760"/>
            <a:ext cx="3803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passes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intersections created by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s a1 and a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86080" y="196380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0480" y="56642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173400" y="2151000"/>
            <a:ext cx="976320" cy="21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14640" y="2438280"/>
            <a:ext cx="142920" cy="14292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01840" y="3594240"/>
            <a:ext cx="2811600" cy="671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53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266840" y="2319480"/>
            <a:ext cx="3809880" cy="3809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173400" y="2151000"/>
            <a:ext cx="976320" cy="2114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914640" y="2438280"/>
            <a:ext cx="142920" cy="14292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201840" y="3594240"/>
            <a:ext cx="2811600" cy="671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962600" y="3759120"/>
            <a:ext cx="142920" cy="14292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3086280" y="4186080"/>
            <a:ext cx="182520" cy="174960"/>
            <a:chOff x="3086280" y="4186080"/>
            <a:chExt cx="182520" cy="174960"/>
          </a:xfrm>
        </p:grpSpPr>
        <p:sp>
          <p:nvSpPr>
            <p:cNvPr id="1267" name=""/>
            <p:cNvSpPr/>
            <p:nvPr/>
          </p:nvSpPr>
          <p:spPr>
            <a:xfrm>
              <a:off x="3178080" y="4186080"/>
              <a:ext cx="0" cy="174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6280" y="427500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546200" y="1370160"/>
            <a:ext cx="6630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tangent to the circle.  Show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verify tang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546200" y="1370160"/>
            <a:ext cx="6630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 line that is tangent to the circle.  Show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verify tang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338880" y="4227480"/>
            <a:ext cx="2666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radial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begins at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circle and ext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circumf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6338880" y="4227480"/>
            <a:ext cx="2666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 radial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at begins at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f the circle and ext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the circumf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5281560" y="1536840"/>
            <a:ext cx="3732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enter your compass 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 formed by the line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803240" y="1249200"/>
            <a:ext cx="6913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two points on the line by arcs drawn with your comp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2016000" y="1400040"/>
            <a:ext cx="534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perpendicular bisector to the line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with your comp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930400" y="28195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0"/>
                </a:moveTo>
                <a:lnTo>
                  <a:pt x="3688" y="0"/>
                </a:lnTo>
                <a:cubicBezTo>
                  <a:pt x="3041" y="0"/>
                  <a:pt x="2405" y="172"/>
                  <a:pt x="1844" y="498"/>
                </a:cubicBezTo>
                <a:cubicBezTo>
                  <a:pt x="1283" y="824"/>
                  <a:pt x="818" y="1293"/>
                  <a:pt x="494" y="1858"/>
                </a:cubicBezTo>
                <a:cubicBezTo>
                  <a:pt x="170" y="2423"/>
                  <a:pt x="0" y="3064"/>
                  <a:pt x="0" y="371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2016000" y="1400040"/>
            <a:ext cx="534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perpendicular bisector to the line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with your comp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2720" y="2304360"/>
            <a:ext cx="3091320" cy="3074400"/>
          </a:xfrm>
          <a:custGeom>
            <a:avLst/>
            <a:gdLst/>
            <a:ahLst/>
            <a:rect l="0" t="0" r="r" b="b"/>
            <a:pathLst>
              <a:path fill="none" w="8587" h="8540">
                <a:moveTo>
                  <a:pt x="0" y="0"/>
                </a:moveTo>
                <a:lnTo>
                  <a:pt x="0" y="0"/>
                </a:lnTo>
                <a:cubicBezTo>
                  <a:pt x="8" y="1491"/>
                  <a:pt x="405" y="2955"/>
                  <a:pt x="1150" y="4246"/>
                </a:cubicBezTo>
                <a:cubicBezTo>
                  <a:pt x="1904" y="5552"/>
                  <a:pt x="2988" y="6636"/>
                  <a:pt x="4293" y="7390"/>
                </a:cubicBezTo>
                <a:cubicBezTo>
                  <a:pt x="5599" y="8143"/>
                  <a:pt x="7080" y="8540"/>
                  <a:pt x="8587" y="8540"/>
                </a:cubicBezTo>
                <a:lnTo>
                  <a:pt x="8587" y="854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8120" y="1757520"/>
            <a:ext cx="0" cy="434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9040" y="196992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00480" y="56642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03840" y="4440240"/>
            <a:ext cx="31813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connecting the tw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s passes throug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act center of the line 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 It is also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pendicul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A,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930400" y="28195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0"/>
                </a:moveTo>
                <a:lnTo>
                  <a:pt x="3688" y="0"/>
                </a:lnTo>
                <a:cubicBezTo>
                  <a:pt x="3041" y="0"/>
                  <a:pt x="2405" y="172"/>
                  <a:pt x="1844" y="498"/>
                </a:cubicBezTo>
                <a:cubicBezTo>
                  <a:pt x="1283" y="824"/>
                  <a:pt x="818" y="1293"/>
                  <a:pt x="494" y="1858"/>
                </a:cubicBezTo>
                <a:cubicBezTo>
                  <a:pt x="170" y="2423"/>
                  <a:pt x="0" y="3064"/>
                  <a:pt x="0" y="371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84440" y="26827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3716"/>
                </a:moveTo>
                <a:lnTo>
                  <a:pt x="3688" y="3716"/>
                </a:lnTo>
                <a:lnTo>
                  <a:pt x="3688" y="3716"/>
                </a:lnTo>
                <a:cubicBezTo>
                  <a:pt x="3688" y="3064"/>
                  <a:pt x="3518" y="2423"/>
                  <a:pt x="3194" y="1858"/>
                </a:cubicBezTo>
                <a:cubicBezTo>
                  <a:pt x="2870" y="1293"/>
                  <a:pt x="2405" y="824"/>
                  <a:pt x="1844" y="498"/>
                </a:cubicBezTo>
                <a:cubicBezTo>
                  <a:pt x="1283" y="172"/>
                  <a:pt x="64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2016000" y="1400040"/>
            <a:ext cx="534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perpendicular bisector to the line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with your comp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2597040" y="1685880"/>
            <a:ext cx="1575000" cy="371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930400" y="28195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0"/>
                </a:moveTo>
                <a:lnTo>
                  <a:pt x="3688" y="0"/>
                </a:lnTo>
                <a:cubicBezTo>
                  <a:pt x="3041" y="0"/>
                  <a:pt x="2405" y="172"/>
                  <a:pt x="1844" y="498"/>
                </a:cubicBezTo>
                <a:cubicBezTo>
                  <a:pt x="1283" y="824"/>
                  <a:pt x="818" y="1293"/>
                  <a:pt x="494" y="1858"/>
                </a:cubicBezTo>
                <a:cubicBezTo>
                  <a:pt x="170" y="2423"/>
                  <a:pt x="0" y="3064"/>
                  <a:pt x="0" y="371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584440" y="26827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3716"/>
                </a:moveTo>
                <a:lnTo>
                  <a:pt x="3688" y="3716"/>
                </a:lnTo>
                <a:lnTo>
                  <a:pt x="3688" y="3716"/>
                </a:lnTo>
                <a:cubicBezTo>
                  <a:pt x="3688" y="3064"/>
                  <a:pt x="3518" y="2423"/>
                  <a:pt x="3194" y="1858"/>
                </a:cubicBezTo>
                <a:cubicBezTo>
                  <a:pt x="2870" y="1293"/>
                  <a:pt x="2405" y="824"/>
                  <a:pt x="1844" y="498"/>
                </a:cubicBezTo>
                <a:cubicBezTo>
                  <a:pt x="1283" y="172"/>
                  <a:pt x="64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405240" y="3376440"/>
            <a:ext cx="66600" cy="66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2597040" y="1685880"/>
            <a:ext cx="1575000" cy="371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930400" y="28195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0"/>
                </a:moveTo>
                <a:lnTo>
                  <a:pt x="3688" y="0"/>
                </a:lnTo>
                <a:cubicBezTo>
                  <a:pt x="3041" y="0"/>
                  <a:pt x="2405" y="172"/>
                  <a:pt x="1844" y="498"/>
                </a:cubicBezTo>
                <a:cubicBezTo>
                  <a:pt x="1283" y="824"/>
                  <a:pt x="818" y="1293"/>
                  <a:pt x="494" y="1858"/>
                </a:cubicBezTo>
                <a:cubicBezTo>
                  <a:pt x="170" y="2423"/>
                  <a:pt x="0" y="3064"/>
                  <a:pt x="0" y="371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4440" y="2682720"/>
            <a:ext cx="1327680" cy="1337760"/>
          </a:xfrm>
          <a:custGeom>
            <a:avLst/>
            <a:gdLst/>
            <a:ahLst/>
            <a:rect l="0" t="0" r="r" b="b"/>
            <a:pathLst>
              <a:path fill="none" w="3688" h="3716">
                <a:moveTo>
                  <a:pt x="3688" y="3716"/>
                </a:moveTo>
                <a:lnTo>
                  <a:pt x="3688" y="3716"/>
                </a:lnTo>
                <a:lnTo>
                  <a:pt x="3688" y="3716"/>
                </a:lnTo>
                <a:cubicBezTo>
                  <a:pt x="3688" y="3064"/>
                  <a:pt x="3518" y="2423"/>
                  <a:pt x="3194" y="1858"/>
                </a:cubicBezTo>
                <a:cubicBezTo>
                  <a:pt x="2870" y="1293"/>
                  <a:pt x="2405" y="824"/>
                  <a:pt x="1844" y="498"/>
                </a:cubicBezTo>
                <a:cubicBezTo>
                  <a:pt x="1283" y="172"/>
                  <a:pt x="64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2411280" y="2895480"/>
            <a:ext cx="6984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4429080" y="3778200"/>
            <a:ext cx="49320" cy="12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5703840" y="1339920"/>
            <a:ext cx="290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pendicular bi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597040" y="1685880"/>
            <a:ext cx="1575000" cy="371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360600" y="3332160"/>
            <a:ext cx="158760" cy="158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17760" y="2592360"/>
            <a:ext cx="2833560" cy="2833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525920" y="3643200"/>
            <a:ext cx="44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255760" y="2905200"/>
            <a:ext cx="2467080" cy="104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597040" y="1685880"/>
            <a:ext cx="1575000" cy="371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65360" y="3278160"/>
            <a:ext cx="169920" cy="169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360600" y="3332160"/>
            <a:ext cx="158760" cy="158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514600" y="5119560"/>
            <a:ext cx="4197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line into seven equal spa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514600" y="5119560"/>
            <a:ext cx="4197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ivide the line into seven equal spa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1184400" y="1643040"/>
            <a:ext cx="593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at any arbitrary angle with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1184400" y="1643040"/>
            <a:ext cx="593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at any arbitrary angle with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1184400" y="1643040"/>
            <a:ext cx="593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 line at any arbitrary angle with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030400" y="5165640"/>
            <a:ext cx="6067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tandard simple distances, step off with a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with your compass, 7 equal steps along the angled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720" y="2304360"/>
            <a:ext cx="3091320" cy="3074400"/>
          </a:xfrm>
          <a:custGeom>
            <a:avLst/>
            <a:gdLst/>
            <a:ahLst/>
            <a:rect l="0" t="0" r="r" b="b"/>
            <a:pathLst>
              <a:path fill="none" w="8587" h="8540">
                <a:moveTo>
                  <a:pt x="0" y="0"/>
                </a:moveTo>
                <a:lnTo>
                  <a:pt x="0" y="0"/>
                </a:lnTo>
                <a:cubicBezTo>
                  <a:pt x="8" y="1491"/>
                  <a:pt x="405" y="2955"/>
                  <a:pt x="1150" y="4246"/>
                </a:cubicBezTo>
                <a:cubicBezTo>
                  <a:pt x="1904" y="5552"/>
                  <a:pt x="2988" y="6636"/>
                  <a:pt x="4293" y="7390"/>
                </a:cubicBezTo>
                <a:cubicBezTo>
                  <a:pt x="5599" y="8143"/>
                  <a:pt x="7080" y="8540"/>
                  <a:pt x="8587" y="8540"/>
                </a:cubicBezTo>
                <a:lnTo>
                  <a:pt x="8587" y="854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3568680"/>
            <a:ext cx="284040" cy="277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3160" y="3814920"/>
            <a:ext cx="61920" cy="61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4280" y="3816360"/>
            <a:ext cx="61920" cy="61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22880" y="1924200"/>
            <a:ext cx="187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22800" y="2127240"/>
            <a:ext cx="766800" cy="511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89600" y="212724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811680"/>
            <a:ext cx="6192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8120" y="1757520"/>
            <a:ext cx="0" cy="4344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1819440" y="4998960"/>
            <a:ext cx="6059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last point in the series, to the end of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047600" y="1596960"/>
            <a:ext cx="51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lines that are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of the remaining 6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1047600" y="1596960"/>
            <a:ext cx="51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lines that are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of the remaining 5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047600" y="1596960"/>
            <a:ext cx="51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lines that are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of the remaining 4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381560" y="3052800"/>
            <a:ext cx="8953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1047600" y="1596960"/>
            <a:ext cx="51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lines that are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of the remaining 3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381560" y="3052800"/>
            <a:ext cx="8953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675240" y="3362400"/>
            <a:ext cx="728640" cy="130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1047600" y="1596960"/>
            <a:ext cx="518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lines that are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of the remaining 2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381560" y="3052800"/>
            <a:ext cx="8953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675240" y="3362400"/>
            <a:ext cx="728640" cy="130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52720" y="3693960"/>
            <a:ext cx="555480" cy="99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1047600" y="1596960"/>
            <a:ext cx="5121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line that is parallel to the first joine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remaining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381560" y="3052800"/>
            <a:ext cx="8953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675240" y="3362400"/>
            <a:ext cx="728640" cy="130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952720" y="3693960"/>
            <a:ext cx="555480" cy="99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222640" y="4000680"/>
            <a:ext cx="361800" cy="64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668600" y="4495680"/>
            <a:ext cx="6202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1676520" y="1685880"/>
            <a:ext cx="6134040" cy="281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515280" y="2043000"/>
            <a:ext cx="1371600" cy="2457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791320" y="2359080"/>
            <a:ext cx="1266840" cy="227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95800" y="2728800"/>
            <a:ext cx="1076400" cy="192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381560" y="3052800"/>
            <a:ext cx="89532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675240" y="3362400"/>
            <a:ext cx="728640" cy="130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952720" y="3693960"/>
            <a:ext cx="555480" cy="99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222640" y="4000680"/>
            <a:ext cx="361800" cy="64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2938320" y="5043600"/>
            <a:ext cx="374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ase line is now divided into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seg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149800" y="285912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583320" y="2197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021120" y="3835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297160" y="4159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73760" y="253044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740040" y="350208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40240" y="3182760"/>
            <a:ext cx="65160" cy="65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3111480" y="1370160"/>
            <a:ext cx="292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tional Line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1168560" y="1596960"/>
            <a:ext cx="590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line proportionally as follows: 1 ,  2 ,  3 ,  2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5568840" y="15382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977080" y="1533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6367320" y="15382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6746760" y="15397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168560" y="1596960"/>
            <a:ext cx="590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line proportionally as follows: 1 ,  2 ,  3 ,  2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5568840" y="15382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5977080" y="1533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6367320" y="15382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6746760" y="15397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000160" y="5164200"/>
            <a:ext cx="5000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line at an arbitrary angle 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258920" y="1596960"/>
            <a:ext cx="481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maximum number of di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to satisfy the probl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258920" y="1596960"/>
            <a:ext cx="481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maximum number of di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to satisfy the probl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1289160" y="244332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he number of divi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measuremen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nven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1258920" y="1596960"/>
            <a:ext cx="481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maximum number of di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to satisfy the probl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1289160" y="244332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he number of divi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measuremen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nven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1909800" y="4968720"/>
            <a:ext cx="5143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he last point to the end of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444680" y="4560840"/>
            <a:ext cx="5960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2454120" y="4892760"/>
            <a:ext cx="4910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onnect the appropriate poin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, using parallel projectors.  1   eq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, so connect the first point to the base 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6278400" y="51656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90000" y="2461680"/>
            <a:ext cx="3401640" cy="3522600"/>
          </a:xfrm>
          <a:custGeom>
            <a:avLst/>
            <a:gdLst/>
            <a:ahLst/>
            <a:rect l="0" t="0" r="r" b="b"/>
            <a:pathLst>
              <a:path fill="none" w="9449" h="9785">
                <a:moveTo>
                  <a:pt x="0" y="9785"/>
                </a:moveTo>
                <a:lnTo>
                  <a:pt x="0" y="9785"/>
                </a:lnTo>
                <a:cubicBezTo>
                  <a:pt x="1464" y="9623"/>
                  <a:pt x="2878" y="9159"/>
                  <a:pt x="4154" y="8423"/>
                </a:cubicBezTo>
                <a:cubicBezTo>
                  <a:pt x="5773" y="7488"/>
                  <a:pt x="7118" y="6144"/>
                  <a:pt x="8052" y="4525"/>
                </a:cubicBezTo>
                <a:cubicBezTo>
                  <a:pt x="8851" y="3140"/>
                  <a:pt x="9329" y="1594"/>
                  <a:pt x="944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79840" y="143028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iven arc A, B must be divid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exact center poi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1471680" y="1763640"/>
            <a:ext cx="43243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quared is four, therefore the fou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in the series is transferre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--paralle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ed end 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479760" y="3478320"/>
            <a:ext cx="671400" cy="119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083120" y="447516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3922560" y="50148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4102200" y="4964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1471680" y="1763640"/>
            <a:ext cx="43243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quared is four, therefore the fou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in the series is transferre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--paralle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ed end 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479760" y="3478320"/>
            <a:ext cx="671400" cy="119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083120" y="447516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3922560" y="50148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4102200" y="4964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1592280" y="1673280"/>
            <a:ext cx="4232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ubed equals eight.  Therefor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ghth point in the series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ed to th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479760" y="3478320"/>
            <a:ext cx="671400" cy="119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557680" y="2455920"/>
            <a:ext cx="1224000" cy="219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083120" y="447516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730920" y="447192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3922560" y="50148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6593040" y="49896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4102200" y="4964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6769080" y="49957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1592280" y="1673280"/>
            <a:ext cx="4232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ubed equals eight.  Therefor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ghth point in the series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ed to th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479760" y="3478320"/>
            <a:ext cx="671400" cy="119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557680" y="2455920"/>
            <a:ext cx="1224000" cy="219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083120" y="447516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730920" y="447192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3922560" y="50148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6593040" y="49896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4102200" y="4964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6769080" y="49957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108080" y="1627200"/>
            <a:ext cx="4861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ly, three squared equals nine.  Therefo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inth point in the series is transfer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444680" y="4560840"/>
            <a:ext cx="595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1450800" y="2232000"/>
            <a:ext cx="5094360" cy="233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4044960" y="33228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100480" y="28447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448000" y="4054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905120" y="429732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587840" y="307656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987640" y="380520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513240" y="3565440"/>
            <a:ext cx="6984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479760" y="3478320"/>
            <a:ext cx="671400" cy="119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860480" y="4189320"/>
            <a:ext cx="271440" cy="486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159600" y="2349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616720" y="2592360"/>
            <a:ext cx="71280" cy="698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103800" y="2235240"/>
            <a:ext cx="1373400" cy="246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557680" y="2455920"/>
            <a:ext cx="1224000" cy="219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071800" y="447660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083120" y="447516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730920" y="4471920"/>
            <a:ext cx="0" cy="51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397640" y="4481640"/>
            <a:ext cx="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1901880" y="50371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2017800" y="49658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3922560" y="50148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7289640" y="50133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6593040" y="498960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4102200" y="4964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6769080" y="49957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7480440" y="4989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1108080" y="1627200"/>
            <a:ext cx="4861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ly, three squared equals nine.  Therefo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inth point in the series is transfer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911160" y="3502080"/>
            <a:ext cx="4006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circle of a given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will be tangent to the line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5961240" y="4257720"/>
            <a:ext cx="2441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construct 2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2200" y="384012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90000" y="2461680"/>
            <a:ext cx="3401640" cy="3522600"/>
          </a:xfrm>
          <a:custGeom>
            <a:avLst/>
            <a:gdLst/>
            <a:ahLst/>
            <a:rect l="0" t="0" r="r" b="b"/>
            <a:pathLst>
              <a:path fill="none" w="9449" h="9785">
                <a:moveTo>
                  <a:pt x="0" y="9785"/>
                </a:moveTo>
                <a:lnTo>
                  <a:pt x="0" y="9785"/>
                </a:lnTo>
                <a:cubicBezTo>
                  <a:pt x="1464" y="9623"/>
                  <a:pt x="2878" y="9159"/>
                  <a:pt x="4154" y="8423"/>
                </a:cubicBezTo>
                <a:cubicBezTo>
                  <a:pt x="5773" y="7488"/>
                  <a:pt x="7118" y="6144"/>
                  <a:pt x="8052" y="4525"/>
                </a:cubicBezTo>
                <a:cubicBezTo>
                  <a:pt x="8851" y="3140"/>
                  <a:pt x="9329" y="1594"/>
                  <a:pt x="944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79840" y="1430280"/>
            <a:ext cx="44020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iven arc A, B must be divid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exact center point.  Foll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ame procedure you did when fi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point of a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5961240" y="4257720"/>
            <a:ext cx="2441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construct 2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5961240" y="4257720"/>
            <a:ext cx="2441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construct 2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6173640" y="3683160"/>
            <a:ext cx="23702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onstruct arc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in radii 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 of the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on each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 txBox="1"/>
          <p:nvPr/>
        </p:nvSpPr>
        <p:spPr>
          <a:xfrm>
            <a:off x="5613480" y="4711680"/>
            <a:ext cx="3203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construct a line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intersections form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 two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6067440" y="3502080"/>
            <a:ext cx="29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draw an arc that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radiu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equire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244600" y="2827440"/>
            <a:ext cx="2080080" cy="2098440"/>
          </a:xfrm>
          <a:custGeom>
            <a:avLst/>
            <a:gdLst/>
            <a:ahLst/>
            <a:rect l="0" t="0" r="r" b="b"/>
            <a:pathLst>
              <a:path fill="none" w="5778" h="5829">
                <a:moveTo>
                  <a:pt x="5778" y="5829"/>
                </a:moveTo>
                <a:lnTo>
                  <a:pt x="5778" y="5829"/>
                </a:lnTo>
                <a:lnTo>
                  <a:pt x="5778" y="5829"/>
                </a:lnTo>
                <a:cubicBezTo>
                  <a:pt x="5778" y="4806"/>
                  <a:pt x="5511" y="3801"/>
                  <a:pt x="5004" y="2914"/>
                </a:cubicBezTo>
                <a:cubicBezTo>
                  <a:pt x="4497" y="2028"/>
                  <a:pt x="3767" y="1293"/>
                  <a:pt x="2889" y="781"/>
                </a:cubicBezTo>
                <a:cubicBezTo>
                  <a:pt x="2011" y="269"/>
                  <a:pt x="101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6067440" y="3502080"/>
            <a:ext cx="29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draw an arc that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radiu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equire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244600" y="2827440"/>
            <a:ext cx="2080080" cy="2098440"/>
          </a:xfrm>
          <a:custGeom>
            <a:avLst/>
            <a:gdLst/>
            <a:ahLst/>
            <a:rect l="0" t="0" r="r" b="b"/>
            <a:pathLst>
              <a:path fill="none" w="5778" h="5829">
                <a:moveTo>
                  <a:pt x="5778" y="5829"/>
                </a:moveTo>
                <a:lnTo>
                  <a:pt x="5778" y="5829"/>
                </a:lnTo>
                <a:lnTo>
                  <a:pt x="5778" y="5829"/>
                </a:lnTo>
                <a:cubicBezTo>
                  <a:pt x="5778" y="4806"/>
                  <a:pt x="5511" y="3801"/>
                  <a:pt x="5004" y="2914"/>
                </a:cubicBezTo>
                <a:cubicBezTo>
                  <a:pt x="4497" y="2028"/>
                  <a:pt x="3767" y="1293"/>
                  <a:pt x="2889" y="781"/>
                </a:cubicBezTo>
                <a:cubicBezTo>
                  <a:pt x="2011" y="269"/>
                  <a:pt x="101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6067440" y="3502080"/>
            <a:ext cx="2820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of the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will be  wher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parallel offset li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3643200" y="4294080"/>
            <a:ext cx="277920" cy="273240"/>
            <a:chOff x="3643200" y="4294080"/>
            <a:chExt cx="277920" cy="273240"/>
          </a:xfrm>
        </p:grpSpPr>
        <p:sp>
          <p:nvSpPr>
            <p:cNvPr id="1907" name=""/>
            <p:cNvSpPr/>
            <p:nvPr/>
          </p:nvSpPr>
          <p:spPr>
            <a:xfrm>
              <a:off x="3643200" y="4427640"/>
              <a:ext cx="277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781440" y="4294080"/>
              <a:ext cx="0" cy="2732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49600" y="384012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90000" y="2461680"/>
            <a:ext cx="3401640" cy="3522600"/>
          </a:xfrm>
          <a:custGeom>
            <a:avLst/>
            <a:gdLst/>
            <a:ahLst/>
            <a:rect l="0" t="0" r="r" b="b"/>
            <a:pathLst>
              <a:path fill="none" w="9449" h="9785">
                <a:moveTo>
                  <a:pt x="0" y="9785"/>
                </a:moveTo>
                <a:lnTo>
                  <a:pt x="0" y="9785"/>
                </a:lnTo>
                <a:cubicBezTo>
                  <a:pt x="1464" y="9623"/>
                  <a:pt x="2878" y="9159"/>
                  <a:pt x="4154" y="8423"/>
                </a:cubicBezTo>
                <a:cubicBezTo>
                  <a:pt x="5773" y="7488"/>
                  <a:pt x="7118" y="6144"/>
                  <a:pt x="8052" y="4525"/>
                </a:cubicBezTo>
                <a:cubicBezTo>
                  <a:pt x="8851" y="3140"/>
                  <a:pt x="9329" y="1594"/>
                  <a:pt x="944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314960" y="4605480"/>
            <a:ext cx="4521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compass centered at point A (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compass setting equal to a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than one-half the length of the arc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rc a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244600" y="2827440"/>
            <a:ext cx="2080080" cy="2098440"/>
          </a:xfrm>
          <a:custGeom>
            <a:avLst/>
            <a:gdLst/>
            <a:ahLst/>
            <a:rect l="0" t="0" r="r" b="b"/>
            <a:pathLst>
              <a:path fill="none" w="5778" h="5829">
                <a:moveTo>
                  <a:pt x="5778" y="5829"/>
                </a:moveTo>
                <a:lnTo>
                  <a:pt x="5778" y="5829"/>
                </a:lnTo>
                <a:lnTo>
                  <a:pt x="5778" y="5829"/>
                </a:lnTo>
                <a:cubicBezTo>
                  <a:pt x="5778" y="4806"/>
                  <a:pt x="5511" y="3801"/>
                  <a:pt x="5004" y="2914"/>
                </a:cubicBezTo>
                <a:cubicBezTo>
                  <a:pt x="4497" y="2028"/>
                  <a:pt x="3767" y="1293"/>
                  <a:pt x="2889" y="781"/>
                </a:cubicBezTo>
                <a:cubicBezTo>
                  <a:pt x="2011" y="269"/>
                  <a:pt x="101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3643200" y="4294080"/>
            <a:ext cx="277920" cy="273240"/>
            <a:chOff x="3643200" y="4294080"/>
            <a:chExt cx="277920" cy="273240"/>
          </a:xfrm>
        </p:grpSpPr>
        <p:sp>
          <p:nvSpPr>
            <p:cNvPr id="1923" name=""/>
            <p:cNvSpPr/>
            <p:nvPr/>
          </p:nvSpPr>
          <p:spPr>
            <a:xfrm>
              <a:off x="3643200" y="4427640"/>
              <a:ext cx="277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781440" y="4294080"/>
              <a:ext cx="0" cy="2732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244600" y="2827440"/>
            <a:ext cx="2080080" cy="2098440"/>
          </a:xfrm>
          <a:custGeom>
            <a:avLst/>
            <a:gdLst/>
            <a:ahLst/>
            <a:rect l="0" t="0" r="r" b="b"/>
            <a:pathLst>
              <a:path fill="none" w="5778" h="5829">
                <a:moveTo>
                  <a:pt x="5778" y="5829"/>
                </a:moveTo>
                <a:lnTo>
                  <a:pt x="5778" y="5829"/>
                </a:lnTo>
                <a:lnTo>
                  <a:pt x="5778" y="5829"/>
                </a:lnTo>
                <a:cubicBezTo>
                  <a:pt x="5778" y="4806"/>
                  <a:pt x="5511" y="3801"/>
                  <a:pt x="5004" y="2914"/>
                </a:cubicBezTo>
                <a:cubicBezTo>
                  <a:pt x="4497" y="2028"/>
                  <a:pt x="3767" y="1293"/>
                  <a:pt x="2889" y="781"/>
                </a:cubicBezTo>
                <a:cubicBezTo>
                  <a:pt x="2011" y="269"/>
                  <a:pt x="101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6173640" y="3622680"/>
            <a:ext cx="2736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offset lines, wit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(offset) radius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require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3643200" y="4294080"/>
            <a:ext cx="277920" cy="273240"/>
            <a:chOff x="3643200" y="4294080"/>
            <a:chExt cx="277920" cy="273240"/>
          </a:xfrm>
        </p:grpSpPr>
        <p:sp>
          <p:nvSpPr>
            <p:cNvPr id="1940" name=""/>
            <p:cNvSpPr/>
            <p:nvPr/>
          </p:nvSpPr>
          <p:spPr>
            <a:xfrm>
              <a:off x="3643200" y="4427640"/>
              <a:ext cx="277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781440" y="4294080"/>
              <a:ext cx="0" cy="2732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244600" y="2827440"/>
            <a:ext cx="2080080" cy="2098440"/>
          </a:xfrm>
          <a:custGeom>
            <a:avLst/>
            <a:gdLst/>
            <a:ahLst/>
            <a:rect l="0" t="0" r="r" b="b"/>
            <a:pathLst>
              <a:path fill="none" w="5778" h="5829">
                <a:moveTo>
                  <a:pt x="5778" y="5829"/>
                </a:moveTo>
                <a:lnTo>
                  <a:pt x="5778" y="5829"/>
                </a:lnTo>
                <a:lnTo>
                  <a:pt x="5778" y="5829"/>
                </a:lnTo>
                <a:cubicBezTo>
                  <a:pt x="5778" y="4806"/>
                  <a:pt x="5511" y="3801"/>
                  <a:pt x="5004" y="2914"/>
                </a:cubicBezTo>
                <a:cubicBezTo>
                  <a:pt x="4497" y="2028"/>
                  <a:pt x="3767" y="1293"/>
                  <a:pt x="2889" y="781"/>
                </a:cubicBezTo>
                <a:cubicBezTo>
                  <a:pt x="2011" y="269"/>
                  <a:pt x="101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3135240" y="1662120"/>
            <a:ext cx="2276640" cy="385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003640" y="1714680"/>
            <a:ext cx="1822680" cy="11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328920" y="4514760"/>
            <a:ext cx="1790640" cy="1065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299280" y="233208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4657680" y="5118120"/>
            <a:ext cx="244440" cy="24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5163840" y="224172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436920" y="5143680"/>
            <a:ext cx="606600" cy="532080"/>
          </a:xfrm>
          <a:custGeom>
            <a:avLst/>
            <a:gdLst/>
            <a:ahLst/>
            <a:rect l="0" t="0" r="r" b="b"/>
            <a:pathLst>
              <a:path fill="none" w="1685" h="1478">
                <a:moveTo>
                  <a:pt x="0" y="0"/>
                </a:moveTo>
                <a:lnTo>
                  <a:pt x="0" y="0"/>
                </a:lnTo>
                <a:cubicBezTo>
                  <a:pt x="342" y="542"/>
                  <a:pt x="810" y="992"/>
                  <a:pt x="1364" y="1312"/>
                </a:cubicBezTo>
                <a:cubicBezTo>
                  <a:pt x="1469" y="1372"/>
                  <a:pt x="1576" y="1428"/>
                  <a:pt x="1685" y="147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3643200" y="4294080"/>
            <a:ext cx="277920" cy="273240"/>
            <a:chOff x="3643200" y="4294080"/>
            <a:chExt cx="277920" cy="273240"/>
          </a:xfrm>
        </p:grpSpPr>
        <p:sp>
          <p:nvSpPr>
            <p:cNvPr id="1957" name=""/>
            <p:cNvSpPr/>
            <p:nvPr/>
          </p:nvSpPr>
          <p:spPr>
            <a:xfrm>
              <a:off x="3643200" y="4427640"/>
              <a:ext cx="277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781440" y="4294080"/>
              <a:ext cx="0" cy="2732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6051600" y="3835440"/>
            <a:ext cx="28224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f tangency can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d by connec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s of the circl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onnecting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larger diameter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radially, and p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dicular to th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197160" y="2181240"/>
            <a:ext cx="588960" cy="22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197160" y="2181240"/>
            <a:ext cx="588960" cy="22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365640" y="303840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778200" y="4427640"/>
            <a:ext cx="1530360" cy="93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197160" y="2181240"/>
            <a:ext cx="588960" cy="22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365640" y="303840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778200" y="4427640"/>
            <a:ext cx="1530360" cy="93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781520" y="4829040"/>
            <a:ext cx="270000" cy="2700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197160" y="2181240"/>
            <a:ext cx="588960" cy="22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365640" y="303840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525760" y="1662120"/>
            <a:ext cx="1463760" cy="1463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4689360" y="1779480"/>
            <a:ext cx="2276640" cy="385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247920" y="2281320"/>
            <a:ext cx="0" cy="19512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147840" y="2382840"/>
            <a:ext cx="2001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643200" y="4427640"/>
            <a:ext cx="27792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781440" y="4294080"/>
            <a:ext cx="0" cy="27324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778200" y="4427640"/>
            <a:ext cx="1530360" cy="93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781520" y="4829040"/>
            <a:ext cx="270000" cy="2700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92760" y="508320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197160" y="2181240"/>
            <a:ext cx="588960" cy="22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365640" y="303840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398680" y="3067200"/>
            <a:ext cx="2768760" cy="2768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49600" y="3840120"/>
            <a:ext cx="460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90000" y="2461680"/>
            <a:ext cx="3401640" cy="3522600"/>
          </a:xfrm>
          <a:custGeom>
            <a:avLst/>
            <a:gdLst/>
            <a:ahLst/>
            <a:rect l="0" t="0" r="r" b="b"/>
            <a:pathLst>
              <a:path fill="none" w="9449" h="9785">
                <a:moveTo>
                  <a:pt x="0" y="9785"/>
                </a:moveTo>
                <a:lnTo>
                  <a:pt x="0" y="9785"/>
                </a:lnTo>
                <a:cubicBezTo>
                  <a:pt x="1464" y="9623"/>
                  <a:pt x="2878" y="9159"/>
                  <a:pt x="4154" y="8423"/>
                </a:cubicBezTo>
                <a:cubicBezTo>
                  <a:pt x="5773" y="7488"/>
                  <a:pt x="7118" y="6144"/>
                  <a:pt x="8052" y="4525"/>
                </a:cubicBezTo>
                <a:cubicBezTo>
                  <a:pt x="8851" y="3140"/>
                  <a:pt x="9329" y="1594"/>
                  <a:pt x="944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4540320" y="1521000"/>
            <a:ext cx="394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n “S” curve (someti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ed to as a reverse curve)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qual on both sid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angen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4540320" y="1521000"/>
            <a:ext cx="394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n “S” curve (someti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ferred to as a reverse curve)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qual on both sides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nd tangen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ints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156280" y="2932200"/>
            <a:ext cx="3189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conn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4540320" y="1521000"/>
            <a:ext cx="394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n “S” curve (someti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ferred to as a reverse curve)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qual on both sides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nd tangen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ints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5156280" y="2932200"/>
            <a:ext cx="3189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conn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4540320" y="1521000"/>
            <a:ext cx="393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rpendicular bisector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A,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488880" y="3622680"/>
            <a:ext cx="2955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find the center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both sides of the di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52388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GRAPHIC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221520"/>
            <a:ext cx="2262240" cy="62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07080" y="6254640"/>
            <a:ext cx="2359080" cy="59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49600" y="384012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90000" y="2461680"/>
            <a:ext cx="3401640" cy="3522600"/>
          </a:xfrm>
          <a:custGeom>
            <a:avLst/>
            <a:gdLst/>
            <a:ahLst/>
            <a:rect l="0" t="0" r="r" b="b"/>
            <a:pathLst>
              <a:path fill="none" w="9449" h="9785">
                <a:moveTo>
                  <a:pt x="0" y="9785"/>
                </a:moveTo>
                <a:lnTo>
                  <a:pt x="0" y="9785"/>
                </a:lnTo>
                <a:cubicBezTo>
                  <a:pt x="1464" y="9623"/>
                  <a:pt x="2878" y="9159"/>
                  <a:pt x="4154" y="8423"/>
                </a:cubicBezTo>
                <a:cubicBezTo>
                  <a:pt x="5773" y="7488"/>
                  <a:pt x="7118" y="6144"/>
                  <a:pt x="8052" y="4525"/>
                </a:cubicBezTo>
                <a:cubicBezTo>
                  <a:pt x="8851" y="3140"/>
                  <a:pt x="9329" y="1594"/>
                  <a:pt x="944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62360" y="5073480"/>
            <a:ext cx="430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ame compass setting,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 with the compass centered at 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263520" y="4756320"/>
            <a:ext cx="58770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--through point A, and another that is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horizontal line at the bottom and through 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263520" y="4756320"/>
            <a:ext cx="58770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--through point A, and another that is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horizontal line at the bottom and through 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263520" y="4756320"/>
            <a:ext cx="58770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--through point A, and another that is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horizontal line at the bottom and through 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5265720" y="1386000"/>
            <a:ext cx="36702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rtical lines intersec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pendicular bisectors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outside divisions of line A,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009960" y="22813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2971800" y="3809880"/>
            <a:ext cx="176040" cy="176400"/>
            <a:chOff x="2971800" y="3809880"/>
            <a:chExt cx="176040" cy="176400"/>
          </a:xfrm>
        </p:grpSpPr>
        <p:sp>
          <p:nvSpPr>
            <p:cNvPr id="2300" name=""/>
            <p:cNvSpPr/>
            <p:nvPr/>
          </p:nvSpPr>
          <p:spPr>
            <a:xfrm>
              <a:off x="2971800" y="38955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57480" y="38098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5843520" y="3314880"/>
            <a:ext cx="176400" cy="176040"/>
            <a:chOff x="5843520" y="3314880"/>
            <a:chExt cx="176400" cy="176040"/>
          </a:xfrm>
        </p:grpSpPr>
        <p:sp>
          <p:nvSpPr>
            <p:cNvPr id="2303" name=""/>
            <p:cNvSpPr/>
            <p:nvPr/>
          </p:nvSpPr>
          <p:spPr>
            <a:xfrm>
              <a:off x="5843520" y="3400560"/>
              <a:ext cx="1764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929200" y="331488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5" name=""/>
          <p:cNvSpPr txBox="1"/>
          <p:nvPr/>
        </p:nvSpPr>
        <p:spPr>
          <a:xfrm>
            <a:off x="4994280" y="1370160"/>
            <a:ext cx="3392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two intersections ar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s of the two arcs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he Ogee (“S”) 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01160" y="2473200"/>
            <a:ext cx="3388680" cy="3512880"/>
          </a:xfrm>
          <a:custGeom>
            <a:avLst/>
            <a:gdLst/>
            <a:ahLst/>
            <a:rect l="0" t="0" r="r" b="b"/>
            <a:pathLst>
              <a:path fill="none" w="9413" h="9758">
                <a:moveTo>
                  <a:pt x="0" y="9758"/>
                </a:moveTo>
                <a:lnTo>
                  <a:pt x="0" y="9758"/>
                </a:lnTo>
                <a:cubicBezTo>
                  <a:pt x="1452" y="9593"/>
                  <a:pt x="2854" y="9130"/>
                  <a:pt x="4120" y="8400"/>
                </a:cubicBezTo>
                <a:cubicBezTo>
                  <a:pt x="5739" y="7465"/>
                  <a:pt x="7083" y="6120"/>
                  <a:pt x="8018" y="4501"/>
                </a:cubicBezTo>
                <a:cubicBezTo>
                  <a:pt x="8813" y="3124"/>
                  <a:pt x="9290" y="1586"/>
                  <a:pt x="941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62360" y="5073480"/>
            <a:ext cx="430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ame compass setting,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 with the compass centered at 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79720" y="2315520"/>
            <a:ext cx="3073680" cy="3055320"/>
          </a:xfrm>
          <a:custGeom>
            <a:avLst/>
            <a:gdLst/>
            <a:ahLst/>
            <a:rect l="0" t="0" r="r" b="b"/>
            <a:pathLst>
              <a:path fill="none" w="8538" h="8487">
                <a:moveTo>
                  <a:pt x="0" y="0"/>
                </a:moveTo>
                <a:lnTo>
                  <a:pt x="0" y="0"/>
                </a:lnTo>
                <a:cubicBezTo>
                  <a:pt x="8" y="1482"/>
                  <a:pt x="402" y="2937"/>
                  <a:pt x="1144" y="4220"/>
                </a:cubicBezTo>
                <a:cubicBezTo>
                  <a:pt x="1893" y="5518"/>
                  <a:pt x="2971" y="6595"/>
                  <a:pt x="4269" y="7344"/>
                </a:cubicBezTo>
                <a:cubicBezTo>
                  <a:pt x="5567" y="8093"/>
                  <a:pt x="7039" y="8487"/>
                  <a:pt x="8538" y="8487"/>
                </a:cubicBezTo>
                <a:lnTo>
                  <a:pt x="8538" y="84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009960" y="22813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8" name=""/>
          <p:cNvGrpSpPr/>
          <p:nvPr/>
        </p:nvGrpSpPr>
        <p:grpSpPr>
          <a:xfrm>
            <a:off x="2971800" y="3809880"/>
            <a:ext cx="176040" cy="176400"/>
            <a:chOff x="2971800" y="3809880"/>
            <a:chExt cx="176040" cy="176400"/>
          </a:xfrm>
        </p:grpSpPr>
        <p:sp>
          <p:nvSpPr>
            <p:cNvPr id="2329" name=""/>
            <p:cNvSpPr/>
            <p:nvPr/>
          </p:nvSpPr>
          <p:spPr>
            <a:xfrm>
              <a:off x="2971800" y="38955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57480" y="38098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5843520" y="3314880"/>
            <a:ext cx="176400" cy="176040"/>
            <a:chOff x="5843520" y="3314880"/>
            <a:chExt cx="176400" cy="176040"/>
          </a:xfrm>
        </p:grpSpPr>
        <p:sp>
          <p:nvSpPr>
            <p:cNvPr id="2332" name=""/>
            <p:cNvSpPr/>
            <p:nvPr/>
          </p:nvSpPr>
          <p:spPr>
            <a:xfrm>
              <a:off x="5843520" y="3400560"/>
              <a:ext cx="1764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29200" y="331488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4" name=""/>
          <p:cNvSpPr txBox="1"/>
          <p:nvPr/>
        </p:nvSpPr>
        <p:spPr>
          <a:xfrm>
            <a:off x="4994280" y="1370160"/>
            <a:ext cx="3392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se two intersections ar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enters of the two arcs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orm the Ogee (“S”) 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776160" y="4818240"/>
            <a:ext cx="4395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with a radius equal to the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oints A, and B respectively,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086640" y="2309760"/>
            <a:ext cx="1455840" cy="1404000"/>
          </a:xfrm>
          <a:custGeom>
            <a:avLst/>
            <a:gdLst/>
            <a:ahLst/>
            <a:rect l="0" t="0" r="r" b="b"/>
            <a:pathLst>
              <a:path fill="none" w="4044" h="3900">
                <a:moveTo>
                  <a:pt x="4044" y="3900"/>
                </a:moveTo>
                <a:lnTo>
                  <a:pt x="4044" y="3900"/>
                </a:lnTo>
                <a:lnTo>
                  <a:pt x="4044" y="3899"/>
                </a:lnTo>
                <a:cubicBezTo>
                  <a:pt x="4044" y="3215"/>
                  <a:pt x="3864" y="2543"/>
                  <a:pt x="3522" y="1950"/>
                </a:cubicBezTo>
                <a:cubicBezTo>
                  <a:pt x="3179" y="1357"/>
                  <a:pt x="2687" y="865"/>
                  <a:pt x="2094" y="523"/>
                </a:cubicBezTo>
                <a:cubicBezTo>
                  <a:pt x="1501" y="180"/>
                  <a:pt x="829" y="0"/>
                  <a:pt x="144" y="0"/>
                </a:cubicBezTo>
                <a:cubicBezTo>
                  <a:pt x="96" y="0"/>
                  <a:pt x="48" y="1"/>
                  <a:pt x="0" y="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2971800" y="3809880"/>
            <a:ext cx="176040" cy="176400"/>
            <a:chOff x="2971800" y="3809880"/>
            <a:chExt cx="176040" cy="176400"/>
          </a:xfrm>
        </p:grpSpPr>
        <p:sp>
          <p:nvSpPr>
            <p:cNvPr id="2360" name=""/>
            <p:cNvSpPr/>
            <p:nvPr/>
          </p:nvSpPr>
          <p:spPr>
            <a:xfrm>
              <a:off x="2971800" y="38955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057480" y="38098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5843520" y="3314880"/>
            <a:ext cx="176400" cy="176040"/>
            <a:chOff x="5843520" y="3314880"/>
            <a:chExt cx="176400" cy="176040"/>
          </a:xfrm>
        </p:grpSpPr>
        <p:sp>
          <p:nvSpPr>
            <p:cNvPr id="2363" name=""/>
            <p:cNvSpPr/>
            <p:nvPr/>
          </p:nvSpPr>
          <p:spPr>
            <a:xfrm>
              <a:off x="5843520" y="3400560"/>
              <a:ext cx="1764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29200" y="331488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5" name=""/>
          <p:cNvSpPr txBox="1"/>
          <p:nvPr/>
        </p:nvSpPr>
        <p:spPr>
          <a:xfrm>
            <a:off x="776160" y="4818240"/>
            <a:ext cx="3625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with a radius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A, and B respectively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3781440" y="2706840"/>
            <a:ext cx="1533600" cy="183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925800" y="3068640"/>
            <a:ext cx="1511640" cy="1466280"/>
          </a:xfrm>
          <a:custGeom>
            <a:avLst/>
            <a:gdLst/>
            <a:ahLst/>
            <a:rect l="0" t="0" r="r" b="b"/>
            <a:pathLst>
              <a:path fill="none" w="4199" h="4073">
                <a:moveTo>
                  <a:pt x="4199" y="4073"/>
                </a:moveTo>
                <a:lnTo>
                  <a:pt x="4199" y="4073"/>
                </a:lnTo>
                <a:lnTo>
                  <a:pt x="4199" y="4073"/>
                </a:lnTo>
                <a:cubicBezTo>
                  <a:pt x="4199" y="3358"/>
                  <a:pt x="4005" y="2656"/>
                  <a:pt x="3636" y="2036"/>
                </a:cubicBezTo>
                <a:cubicBezTo>
                  <a:pt x="3268" y="1417"/>
                  <a:pt x="2738" y="903"/>
                  <a:pt x="2099" y="546"/>
                </a:cubicBezTo>
                <a:cubicBezTo>
                  <a:pt x="1461" y="188"/>
                  <a:pt x="7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595680" y="2766960"/>
            <a:ext cx="1486440" cy="1486440"/>
          </a:xfrm>
          <a:custGeom>
            <a:avLst/>
            <a:gdLst/>
            <a:ahLst/>
            <a:rect l="0" t="0" r="r" b="b"/>
            <a:pathLst>
              <a:path fill="none" w="4129" h="4129">
                <a:moveTo>
                  <a:pt x="4129" y="0"/>
                </a:moveTo>
                <a:lnTo>
                  <a:pt x="4129" y="0"/>
                </a:lnTo>
                <a:cubicBezTo>
                  <a:pt x="3404" y="0"/>
                  <a:pt x="2692" y="191"/>
                  <a:pt x="2064" y="553"/>
                </a:cubicBezTo>
                <a:cubicBezTo>
                  <a:pt x="1437" y="916"/>
                  <a:pt x="916" y="1437"/>
                  <a:pt x="553" y="2065"/>
                </a:cubicBezTo>
                <a:cubicBezTo>
                  <a:pt x="191" y="2692"/>
                  <a:pt x="0" y="3404"/>
                  <a:pt x="0" y="412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500720" y="3571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2917800" y="2324160"/>
            <a:ext cx="1444680" cy="1733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390120" y="257796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159000" y="236700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4545000" y="3276720"/>
            <a:ext cx="1498680" cy="179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4804560" y="3849840"/>
            <a:ext cx="1058400" cy="1026720"/>
          </a:xfrm>
          <a:custGeom>
            <a:avLst/>
            <a:gdLst/>
            <a:ahLst/>
            <a:rect l="0" t="0" r="r" b="b"/>
            <a:pathLst>
              <a:path fill="none" w="2940" h="2852">
                <a:moveTo>
                  <a:pt x="2940" y="2852"/>
                </a:moveTo>
                <a:lnTo>
                  <a:pt x="2940" y="2852"/>
                </a:lnTo>
                <a:lnTo>
                  <a:pt x="2940" y="2852"/>
                </a:lnTo>
                <a:cubicBezTo>
                  <a:pt x="2940" y="2351"/>
                  <a:pt x="2804" y="1860"/>
                  <a:pt x="2546" y="1426"/>
                </a:cubicBezTo>
                <a:cubicBezTo>
                  <a:pt x="2288" y="992"/>
                  <a:pt x="1917" y="632"/>
                  <a:pt x="1470" y="382"/>
                </a:cubicBezTo>
                <a:cubicBezTo>
                  <a:pt x="1023" y="132"/>
                  <a:pt x="51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573440" y="3638520"/>
            <a:ext cx="1040040" cy="1040040"/>
          </a:xfrm>
          <a:custGeom>
            <a:avLst/>
            <a:gdLst/>
            <a:ahLst/>
            <a:rect l="0" t="0" r="r" b="b"/>
            <a:pathLst>
              <a:path fill="none" w="2889" h="2889">
                <a:moveTo>
                  <a:pt x="2889" y="0"/>
                </a:moveTo>
                <a:lnTo>
                  <a:pt x="2889" y="0"/>
                </a:lnTo>
                <a:cubicBezTo>
                  <a:pt x="2382" y="0"/>
                  <a:pt x="1884" y="133"/>
                  <a:pt x="1444" y="387"/>
                </a:cubicBezTo>
                <a:cubicBezTo>
                  <a:pt x="1005" y="641"/>
                  <a:pt x="641" y="1005"/>
                  <a:pt x="387" y="1445"/>
                </a:cubicBezTo>
                <a:cubicBezTo>
                  <a:pt x="133" y="1884"/>
                  <a:pt x="0" y="2382"/>
                  <a:pt x="0" y="288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5929200" y="2943360"/>
            <a:ext cx="0" cy="20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3057480" y="2228760"/>
            <a:ext cx="0" cy="181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29160" y="3443400"/>
            <a:ext cx="1403640" cy="1403640"/>
          </a:xfrm>
          <a:custGeom>
            <a:avLst/>
            <a:gdLst/>
            <a:ahLst/>
            <a:rect l="0" t="0" r="r" b="b"/>
            <a:pathLst>
              <a:path fill="none" w="3899" h="3899">
                <a:moveTo>
                  <a:pt x="3899" y="3899"/>
                </a:moveTo>
                <a:lnTo>
                  <a:pt x="3899" y="3899"/>
                </a:lnTo>
                <a:lnTo>
                  <a:pt x="3899" y="3899"/>
                </a:lnTo>
                <a:cubicBezTo>
                  <a:pt x="3899" y="3215"/>
                  <a:pt x="3719" y="2542"/>
                  <a:pt x="3377" y="1949"/>
                </a:cubicBezTo>
                <a:cubicBezTo>
                  <a:pt x="3034" y="1357"/>
                  <a:pt x="2542" y="865"/>
                  <a:pt x="1949" y="522"/>
                </a:cubicBezTo>
                <a:cubicBezTo>
                  <a:pt x="1357" y="180"/>
                  <a:pt x="684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086640" y="2309760"/>
            <a:ext cx="1455840" cy="1404000"/>
          </a:xfrm>
          <a:custGeom>
            <a:avLst/>
            <a:gdLst/>
            <a:ahLst/>
            <a:rect l="0" t="0" r="r" b="b"/>
            <a:pathLst>
              <a:path fill="none" w="4044" h="3900">
                <a:moveTo>
                  <a:pt x="4044" y="3900"/>
                </a:moveTo>
                <a:lnTo>
                  <a:pt x="4044" y="3900"/>
                </a:lnTo>
                <a:lnTo>
                  <a:pt x="4044" y="3899"/>
                </a:lnTo>
                <a:cubicBezTo>
                  <a:pt x="4044" y="3215"/>
                  <a:pt x="3864" y="2543"/>
                  <a:pt x="3522" y="1950"/>
                </a:cubicBezTo>
                <a:cubicBezTo>
                  <a:pt x="3179" y="1357"/>
                  <a:pt x="2687" y="865"/>
                  <a:pt x="2094" y="523"/>
                </a:cubicBezTo>
                <a:cubicBezTo>
                  <a:pt x="1501" y="180"/>
                  <a:pt x="829" y="0"/>
                  <a:pt x="144" y="0"/>
                </a:cubicBezTo>
                <a:cubicBezTo>
                  <a:pt x="96" y="0"/>
                  <a:pt x="48" y="1"/>
                  <a:pt x="0" y="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2971800" y="3809880"/>
            <a:ext cx="176040" cy="176400"/>
            <a:chOff x="2971800" y="3809880"/>
            <a:chExt cx="176040" cy="176400"/>
          </a:xfrm>
        </p:grpSpPr>
        <p:sp>
          <p:nvSpPr>
            <p:cNvPr id="2391" name=""/>
            <p:cNvSpPr/>
            <p:nvPr/>
          </p:nvSpPr>
          <p:spPr>
            <a:xfrm>
              <a:off x="2971800" y="38955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057480" y="38098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843520" y="3314880"/>
            <a:ext cx="176400" cy="176040"/>
            <a:chOff x="5843520" y="3314880"/>
            <a:chExt cx="176400" cy="176040"/>
          </a:xfrm>
        </p:grpSpPr>
        <p:sp>
          <p:nvSpPr>
            <p:cNvPr id="2394" name=""/>
            <p:cNvSpPr/>
            <p:nvPr/>
          </p:nvSpPr>
          <p:spPr>
            <a:xfrm>
              <a:off x="5843520" y="3400560"/>
              <a:ext cx="1764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29200" y="331488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6" name=""/>
          <p:cNvSpPr txBox="1"/>
          <p:nvPr/>
        </p:nvSpPr>
        <p:spPr>
          <a:xfrm>
            <a:off x="776160" y="4818240"/>
            <a:ext cx="3625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with a radius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A, and B respectively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4540320" y="3443400"/>
            <a:ext cx="1397880" cy="1258560"/>
          </a:xfrm>
          <a:custGeom>
            <a:avLst/>
            <a:gdLst/>
            <a:ahLst/>
            <a:rect l="0" t="0" r="r" b="b"/>
            <a:pathLst>
              <a:path fill="none" w="3883" h="3496">
                <a:moveTo>
                  <a:pt x="3883" y="3496"/>
                </a:moveTo>
                <a:lnTo>
                  <a:pt x="3883" y="3496"/>
                </a:lnTo>
                <a:cubicBezTo>
                  <a:pt x="3826" y="2951"/>
                  <a:pt x="3655" y="2424"/>
                  <a:pt x="3381" y="1950"/>
                </a:cubicBezTo>
                <a:cubicBezTo>
                  <a:pt x="3038" y="1357"/>
                  <a:pt x="2546" y="865"/>
                  <a:pt x="1952" y="523"/>
                </a:cubicBezTo>
                <a:cubicBezTo>
                  <a:pt x="1359" y="180"/>
                  <a:pt x="685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048120" y="2309760"/>
            <a:ext cx="1489320" cy="1290600"/>
          </a:xfrm>
          <a:custGeom>
            <a:avLst/>
            <a:gdLst/>
            <a:ahLst/>
            <a:rect l="0" t="0" r="r" b="b"/>
            <a:pathLst>
              <a:path fill="none" w="4137" h="3585">
                <a:moveTo>
                  <a:pt x="4137" y="3585"/>
                </a:moveTo>
                <a:lnTo>
                  <a:pt x="4137" y="3585"/>
                </a:lnTo>
                <a:cubicBezTo>
                  <a:pt x="4090" y="3009"/>
                  <a:pt x="3916" y="2451"/>
                  <a:pt x="3627" y="1950"/>
                </a:cubicBezTo>
                <a:cubicBezTo>
                  <a:pt x="3285" y="1357"/>
                  <a:pt x="2793" y="865"/>
                  <a:pt x="2200" y="522"/>
                </a:cubicBezTo>
                <a:cubicBezTo>
                  <a:pt x="1608" y="180"/>
                  <a:pt x="935" y="0"/>
                  <a:pt x="251" y="0"/>
                </a:cubicBezTo>
                <a:cubicBezTo>
                  <a:pt x="167" y="0"/>
                  <a:pt x="83" y="3"/>
                  <a:pt x="0" y="8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992320" y="2259000"/>
            <a:ext cx="115920" cy="1159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4478400" y="3543120"/>
            <a:ext cx="115920" cy="1159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881680" y="4788000"/>
            <a:ext cx="115920" cy="1159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549360" y="3441600"/>
            <a:ext cx="3570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n Ogee curve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nequal in size of the two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646520" y="2276640"/>
            <a:ext cx="3654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int of tangency is arbitr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>
            <a:off x="3827520" y="2987640"/>
            <a:ext cx="23184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 txBox="1"/>
          <p:nvPr/>
        </p:nvSpPr>
        <p:spPr>
          <a:xfrm>
            <a:off x="4646520" y="2276640"/>
            <a:ext cx="39369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int of tangency is arbitrary (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roblem).  However, in m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s where this type of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required, the loc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may be criti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 flipH="1">
            <a:off x="3827520" y="2987640"/>
            <a:ext cx="23184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 txBox="1"/>
          <p:nvPr/>
        </p:nvSpPr>
        <p:spPr>
          <a:xfrm>
            <a:off x="4646520" y="2276640"/>
            <a:ext cx="3992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e division is determined, co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 perpendicular bisectors of b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of the line between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3827520" y="2987640"/>
            <a:ext cx="23184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01160" y="2473200"/>
            <a:ext cx="3388680" cy="3512880"/>
          </a:xfrm>
          <a:custGeom>
            <a:avLst/>
            <a:gdLst/>
            <a:ahLst/>
            <a:rect l="0" t="0" r="r" b="b"/>
            <a:pathLst>
              <a:path fill="none" w="9413" h="9758">
                <a:moveTo>
                  <a:pt x="0" y="9758"/>
                </a:moveTo>
                <a:lnTo>
                  <a:pt x="0" y="9758"/>
                </a:lnTo>
                <a:cubicBezTo>
                  <a:pt x="1452" y="9593"/>
                  <a:pt x="2854" y="9130"/>
                  <a:pt x="4120" y="8400"/>
                </a:cubicBezTo>
                <a:cubicBezTo>
                  <a:pt x="5739" y="7465"/>
                  <a:pt x="7083" y="6120"/>
                  <a:pt x="8018" y="4501"/>
                </a:cubicBezTo>
                <a:cubicBezTo>
                  <a:pt x="8813" y="3124"/>
                  <a:pt x="9290" y="1586"/>
                  <a:pt x="941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92600" y="5059440"/>
            <a:ext cx="4287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he intersecting points of a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2 to create a perpendicular bi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rc A,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6960" y="199080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7240" y="564048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9720" y="2315520"/>
            <a:ext cx="3073680" cy="3055320"/>
          </a:xfrm>
          <a:custGeom>
            <a:avLst/>
            <a:gdLst/>
            <a:ahLst/>
            <a:rect l="0" t="0" r="r" b="b"/>
            <a:pathLst>
              <a:path fill="none" w="8538" h="8487">
                <a:moveTo>
                  <a:pt x="0" y="0"/>
                </a:moveTo>
                <a:lnTo>
                  <a:pt x="0" y="0"/>
                </a:lnTo>
                <a:cubicBezTo>
                  <a:pt x="8" y="1482"/>
                  <a:pt x="402" y="2937"/>
                  <a:pt x="1144" y="4220"/>
                </a:cubicBezTo>
                <a:cubicBezTo>
                  <a:pt x="1893" y="5518"/>
                  <a:pt x="2971" y="6595"/>
                  <a:pt x="4269" y="7344"/>
                </a:cubicBezTo>
                <a:cubicBezTo>
                  <a:pt x="5567" y="8093"/>
                  <a:pt x="7039" y="8487"/>
                  <a:pt x="8538" y="8487"/>
                </a:cubicBezTo>
                <a:lnTo>
                  <a:pt x="8538" y="84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3827520" y="2987640"/>
            <a:ext cx="23184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3255840" y="5316480"/>
            <a:ext cx="55306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perpendicular bisectors are constructed,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construct a perpendicular line from th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, through point B to intersect with the bis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776160" y="4408560"/>
            <a:ext cx="47052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of the bi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perpendicular line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, is the center of the arc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ed to construct the first half of the og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525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7" name=""/>
          <p:cNvSpPr txBox="1"/>
          <p:nvPr/>
        </p:nvSpPr>
        <p:spPr>
          <a:xfrm>
            <a:off x="776160" y="4408560"/>
            <a:ext cx="47052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of the bi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perpendicular line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, is the center of the arc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ed to construct the first half of the og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543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5" name=""/>
          <p:cNvSpPr txBox="1"/>
          <p:nvPr/>
        </p:nvSpPr>
        <p:spPr>
          <a:xfrm>
            <a:off x="776160" y="4408560"/>
            <a:ext cx="47052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of the bi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perpendicular line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, is the center of the arc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used to construct the first half of the og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561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3" name=""/>
          <p:cNvSpPr txBox="1"/>
          <p:nvPr/>
        </p:nvSpPr>
        <p:spPr>
          <a:xfrm>
            <a:off x="746280" y="3940200"/>
            <a:ext cx="282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second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between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0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581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3" name=""/>
          <p:cNvSpPr txBox="1"/>
          <p:nvPr/>
        </p:nvSpPr>
        <p:spPr>
          <a:xfrm>
            <a:off x="746280" y="3940200"/>
            <a:ext cx="282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second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between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1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602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4" name=""/>
          <p:cNvSpPr txBox="1"/>
          <p:nvPr/>
        </p:nvSpPr>
        <p:spPr>
          <a:xfrm>
            <a:off x="746280" y="3940200"/>
            <a:ext cx="282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second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between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222800" y="1754280"/>
            <a:ext cx="6480" cy="435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79720" y="2315520"/>
            <a:ext cx="3073680" cy="3055320"/>
          </a:xfrm>
          <a:custGeom>
            <a:avLst/>
            <a:gdLst/>
            <a:ahLst/>
            <a:rect l="0" t="0" r="r" b="b"/>
            <a:pathLst>
              <a:path fill="none" w="8538" h="8487">
                <a:moveTo>
                  <a:pt x="0" y="0"/>
                </a:moveTo>
                <a:lnTo>
                  <a:pt x="0" y="0"/>
                </a:lnTo>
                <a:cubicBezTo>
                  <a:pt x="8" y="1482"/>
                  <a:pt x="402" y="2937"/>
                  <a:pt x="1144" y="4220"/>
                </a:cubicBezTo>
                <a:cubicBezTo>
                  <a:pt x="1893" y="5518"/>
                  <a:pt x="2971" y="6595"/>
                  <a:pt x="4269" y="7344"/>
                </a:cubicBezTo>
                <a:cubicBezTo>
                  <a:pt x="5567" y="8093"/>
                  <a:pt x="7039" y="8487"/>
                  <a:pt x="8538" y="8487"/>
                </a:cubicBezTo>
                <a:lnTo>
                  <a:pt x="8538" y="84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01840" y="266544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01160" y="2473200"/>
            <a:ext cx="3388680" cy="3512880"/>
          </a:xfrm>
          <a:custGeom>
            <a:avLst/>
            <a:gdLst/>
            <a:ahLst/>
            <a:rect l="0" t="0" r="r" b="b"/>
            <a:pathLst>
              <a:path fill="none" w="9413" h="9758">
                <a:moveTo>
                  <a:pt x="0" y="9758"/>
                </a:moveTo>
                <a:lnTo>
                  <a:pt x="0" y="9758"/>
                </a:lnTo>
                <a:cubicBezTo>
                  <a:pt x="1452" y="9593"/>
                  <a:pt x="2854" y="9130"/>
                  <a:pt x="4120" y="8400"/>
                </a:cubicBezTo>
                <a:cubicBezTo>
                  <a:pt x="5739" y="7465"/>
                  <a:pt x="7083" y="6120"/>
                  <a:pt x="8018" y="4501"/>
                </a:cubicBezTo>
                <a:cubicBezTo>
                  <a:pt x="8813" y="3124"/>
                  <a:pt x="9290" y="1586"/>
                  <a:pt x="941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06960" y="199080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9040" y="563724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2867040" y="2168640"/>
            <a:ext cx="1114560" cy="13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624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6" name=""/>
          <p:cNvSpPr txBox="1"/>
          <p:nvPr/>
        </p:nvSpPr>
        <p:spPr>
          <a:xfrm>
            <a:off x="746280" y="3940200"/>
            <a:ext cx="282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second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ne between 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2867040" y="2168640"/>
            <a:ext cx="1114560" cy="13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646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8" name=""/>
          <p:cNvSpPr txBox="1"/>
          <p:nvPr/>
        </p:nvSpPr>
        <p:spPr>
          <a:xfrm>
            <a:off x="2498760" y="5483160"/>
            <a:ext cx="4246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rpendicular line from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line on top, through 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2867040" y="2168640"/>
            <a:ext cx="1114560" cy="13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057480" y="222876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670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2" name=""/>
          <p:cNvSpPr txBox="1"/>
          <p:nvPr/>
        </p:nvSpPr>
        <p:spPr>
          <a:xfrm>
            <a:off x="639720" y="3819600"/>
            <a:ext cx="3160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is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adius that will bl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lower part of the u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ogee 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2867040" y="2168640"/>
            <a:ext cx="1114560" cy="13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H="1">
            <a:off x="4334040" y="2489040"/>
            <a:ext cx="1724040" cy="20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4807440" y="34027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3970440" y="30283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5929200" y="2486160"/>
            <a:ext cx="0" cy="24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057480" y="222876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929200" y="462924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2971800" y="3195720"/>
            <a:ext cx="176040" cy="176040"/>
            <a:chOff x="2971800" y="3195720"/>
            <a:chExt cx="176040" cy="176040"/>
          </a:xfrm>
        </p:grpSpPr>
        <p:sp>
          <p:nvSpPr>
            <p:cNvPr id="2694" name=""/>
            <p:cNvSpPr/>
            <p:nvPr/>
          </p:nvSpPr>
          <p:spPr>
            <a:xfrm>
              <a:off x="2971800" y="328140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57480" y="319572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5850000" y="2546280"/>
            <a:ext cx="176040" cy="176400"/>
            <a:chOff x="5850000" y="2546280"/>
            <a:chExt cx="176040" cy="176400"/>
          </a:xfrm>
        </p:grpSpPr>
        <p:sp>
          <p:nvSpPr>
            <p:cNvPr id="2697" name=""/>
            <p:cNvSpPr/>
            <p:nvPr/>
          </p:nvSpPr>
          <p:spPr>
            <a:xfrm>
              <a:off x="5850000" y="263196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35680" y="2546280"/>
              <a:ext cx="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9" name=""/>
          <p:cNvSpPr txBox="1"/>
          <p:nvPr/>
        </p:nvSpPr>
        <p:spPr>
          <a:xfrm>
            <a:off x="639720" y="3819600"/>
            <a:ext cx="3160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is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radius that will bl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lower part of the u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ogee cu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3054240" y="2314440"/>
            <a:ext cx="2874960" cy="253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3897360" y="30607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009960" y="226692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5891040" y="4805280"/>
            <a:ext cx="85680" cy="85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2867040" y="2168640"/>
            <a:ext cx="1114560" cy="13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3248280" y="2318040"/>
            <a:ext cx="913320" cy="863640"/>
          </a:xfrm>
          <a:custGeom>
            <a:avLst/>
            <a:gdLst/>
            <a:ahLst/>
            <a:rect l="0" t="0" r="r" b="b"/>
            <a:pathLst>
              <a:path fill="none" w="2537" h="2399">
                <a:moveTo>
                  <a:pt x="2537" y="2399"/>
                </a:moveTo>
                <a:lnTo>
                  <a:pt x="2537" y="2399"/>
                </a:lnTo>
                <a:cubicBezTo>
                  <a:pt x="2482" y="2048"/>
                  <a:pt x="2360" y="1711"/>
                  <a:pt x="2177" y="1403"/>
                </a:cubicBezTo>
                <a:cubicBezTo>
                  <a:pt x="1918" y="970"/>
                  <a:pt x="1547" y="610"/>
                  <a:pt x="1100" y="359"/>
                </a:cubicBezTo>
                <a:cubicBezTo>
                  <a:pt x="761" y="170"/>
                  <a:pt x="388" y="4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874600" y="2095200"/>
            <a:ext cx="865080" cy="849240"/>
          </a:xfrm>
          <a:custGeom>
            <a:avLst/>
            <a:gdLst/>
            <a:ahLst/>
            <a:rect l="0" t="0" r="r" b="b"/>
            <a:pathLst>
              <a:path fill="none" w="2403" h="2359">
                <a:moveTo>
                  <a:pt x="2403" y="0"/>
                </a:moveTo>
                <a:lnTo>
                  <a:pt x="2403" y="0"/>
                </a:lnTo>
                <a:cubicBezTo>
                  <a:pt x="2051" y="55"/>
                  <a:pt x="1712" y="174"/>
                  <a:pt x="1403" y="352"/>
                </a:cubicBezTo>
                <a:cubicBezTo>
                  <a:pt x="964" y="606"/>
                  <a:pt x="599" y="971"/>
                  <a:pt x="345" y="1410"/>
                </a:cubicBezTo>
                <a:cubicBezTo>
                  <a:pt x="175" y="1704"/>
                  <a:pt x="58" y="2025"/>
                  <a:pt x="0" y="235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057480" y="222876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014280" y="2311560"/>
            <a:ext cx="923040" cy="746640"/>
          </a:xfrm>
          <a:custGeom>
            <a:avLst/>
            <a:gdLst/>
            <a:ahLst/>
            <a:rect l="0" t="0" r="r" b="b"/>
            <a:pathLst>
              <a:path fill="none" w="2564" h="2074">
                <a:moveTo>
                  <a:pt x="2564" y="2074"/>
                </a:moveTo>
                <a:lnTo>
                  <a:pt x="2564" y="2074"/>
                </a:lnTo>
                <a:lnTo>
                  <a:pt x="2564" y="2074"/>
                </a:lnTo>
                <a:cubicBezTo>
                  <a:pt x="2564" y="1709"/>
                  <a:pt x="2450" y="1352"/>
                  <a:pt x="2233" y="1037"/>
                </a:cubicBezTo>
                <a:cubicBezTo>
                  <a:pt x="2016" y="721"/>
                  <a:pt x="1704" y="459"/>
                  <a:pt x="1328" y="277"/>
                </a:cubicBezTo>
                <a:cubicBezTo>
                  <a:pt x="952" y="95"/>
                  <a:pt x="526" y="0"/>
                  <a:pt x="92" y="0"/>
                </a:cubicBezTo>
                <a:cubicBezTo>
                  <a:pt x="61" y="0"/>
                  <a:pt x="31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2838600" y="2309760"/>
            <a:ext cx="214200" cy="214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6" name=""/>
          <p:cNvGrpSpPr/>
          <p:nvPr/>
        </p:nvGrpSpPr>
        <p:grpSpPr>
          <a:xfrm>
            <a:off x="2971800" y="3195720"/>
            <a:ext cx="176040" cy="176040"/>
            <a:chOff x="2971800" y="3195720"/>
            <a:chExt cx="176040" cy="176040"/>
          </a:xfrm>
        </p:grpSpPr>
        <p:sp>
          <p:nvSpPr>
            <p:cNvPr id="2717" name=""/>
            <p:cNvSpPr/>
            <p:nvPr/>
          </p:nvSpPr>
          <p:spPr>
            <a:xfrm>
              <a:off x="2971800" y="3281400"/>
              <a:ext cx="1760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057480" y="3195720"/>
              <a:ext cx="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3970440" y="2486160"/>
            <a:ext cx="2172960" cy="2471760"/>
            <a:chOff x="3970440" y="2486160"/>
            <a:chExt cx="2172960" cy="2471760"/>
          </a:xfrm>
        </p:grpSpPr>
        <p:sp>
          <p:nvSpPr>
            <p:cNvPr id="2720" name=""/>
            <p:cNvSpPr/>
            <p:nvPr/>
          </p:nvSpPr>
          <p:spPr>
            <a:xfrm flipH="1">
              <a:off x="4334040" y="2489040"/>
              <a:ext cx="1724040" cy="2063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07440" y="3402720"/>
              <a:ext cx="1103760" cy="1078560"/>
            </a:xfrm>
            <a:custGeom>
              <a:avLst/>
              <a:gdLst/>
              <a:ahLst/>
              <a:rect l="0" t="0" r="r" b="b"/>
              <a:pathLst>
                <a:path fill="none" w="3066" h="2996">
                  <a:moveTo>
                    <a:pt x="3066" y="2996"/>
                  </a:moveTo>
                  <a:lnTo>
                    <a:pt x="3066" y="2996"/>
                  </a:lnTo>
                  <a:cubicBezTo>
                    <a:pt x="2966" y="2639"/>
                    <a:pt x="2819" y="2296"/>
                    <a:pt x="2627" y="1975"/>
                  </a:cubicBezTo>
                  <a:cubicBezTo>
                    <a:pt x="2239" y="1326"/>
                    <a:pt x="1681" y="787"/>
                    <a:pt x="1010" y="412"/>
                  </a:cubicBezTo>
                  <a:cubicBezTo>
                    <a:pt x="692" y="235"/>
                    <a:pt x="353" y="96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970440" y="3028320"/>
              <a:ext cx="1062360" cy="1057320"/>
            </a:xfrm>
            <a:custGeom>
              <a:avLst/>
              <a:gdLst/>
              <a:ahLst/>
              <a:rect l="0" t="0" r="r" b="b"/>
              <a:pathLst>
                <a:path fill="none" w="2951" h="2937">
                  <a:moveTo>
                    <a:pt x="2951" y="0"/>
                  </a:moveTo>
                  <a:lnTo>
                    <a:pt x="2951" y="0"/>
                  </a:lnTo>
                  <a:cubicBezTo>
                    <a:pt x="2562" y="86"/>
                    <a:pt x="2188" y="231"/>
                    <a:pt x="1843" y="431"/>
                  </a:cubicBezTo>
                  <a:cubicBezTo>
                    <a:pt x="1253" y="773"/>
                    <a:pt x="763" y="1265"/>
                    <a:pt x="422" y="1857"/>
                  </a:cubicBezTo>
                  <a:cubicBezTo>
                    <a:pt x="229" y="2194"/>
                    <a:pt x="86" y="2558"/>
                    <a:pt x="0" y="293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5929200" y="2486160"/>
              <a:ext cx="0" cy="2471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929200" y="4629240"/>
              <a:ext cx="214200" cy="214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"/>
            <p:cNvGrpSpPr/>
            <p:nvPr/>
          </p:nvGrpSpPr>
          <p:grpSpPr>
            <a:xfrm>
              <a:off x="5850000" y="2546280"/>
              <a:ext cx="176040" cy="176400"/>
              <a:chOff x="5850000" y="2546280"/>
              <a:chExt cx="176040" cy="176400"/>
            </a:xfrm>
          </p:grpSpPr>
          <p:sp>
            <p:nvSpPr>
              <p:cNvPr id="2726" name=""/>
              <p:cNvSpPr/>
              <p:nvPr/>
            </p:nvSpPr>
            <p:spPr>
              <a:xfrm>
                <a:off x="5850000" y="2631960"/>
                <a:ext cx="1760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935680" y="2546280"/>
                <a:ext cx="0" cy="176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1017720" y="2314440"/>
            <a:ext cx="202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5942160" y="4846680"/>
            <a:ext cx="230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943800" y="3102120"/>
            <a:ext cx="1963800" cy="1748520"/>
          </a:xfrm>
          <a:custGeom>
            <a:avLst/>
            <a:gdLst/>
            <a:ahLst/>
            <a:rect l="0" t="0" r="r" b="b"/>
            <a:pathLst>
              <a:path fill="none" w="5455" h="4857">
                <a:moveTo>
                  <a:pt x="5455" y="4857"/>
                </a:moveTo>
                <a:lnTo>
                  <a:pt x="5455" y="4857"/>
                </a:lnTo>
                <a:lnTo>
                  <a:pt x="5455" y="4856"/>
                </a:lnTo>
                <a:cubicBezTo>
                  <a:pt x="5455" y="4004"/>
                  <a:pt x="5208" y="3166"/>
                  <a:pt x="4738" y="2428"/>
                </a:cubicBezTo>
                <a:cubicBezTo>
                  <a:pt x="4269" y="1690"/>
                  <a:pt x="3594" y="1077"/>
                  <a:pt x="2781" y="651"/>
                </a:cubicBezTo>
                <a:cubicBezTo>
                  <a:pt x="1967" y="224"/>
                  <a:pt x="1045" y="0"/>
                  <a:pt x="106" y="0"/>
                </a:cubicBezTo>
                <a:cubicBezTo>
                  <a:pt x="71" y="0"/>
                  <a:pt x="35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014280" y="2311560"/>
            <a:ext cx="923040" cy="746640"/>
          </a:xfrm>
          <a:custGeom>
            <a:avLst/>
            <a:gdLst/>
            <a:ahLst/>
            <a:rect l="0" t="0" r="r" b="b"/>
            <a:pathLst>
              <a:path fill="none" w="2564" h="2074">
                <a:moveTo>
                  <a:pt x="2564" y="2074"/>
                </a:moveTo>
                <a:lnTo>
                  <a:pt x="2564" y="2074"/>
                </a:lnTo>
                <a:lnTo>
                  <a:pt x="2564" y="2074"/>
                </a:lnTo>
                <a:cubicBezTo>
                  <a:pt x="2564" y="1709"/>
                  <a:pt x="2450" y="1352"/>
                  <a:pt x="2233" y="1037"/>
                </a:cubicBezTo>
                <a:cubicBezTo>
                  <a:pt x="2016" y="721"/>
                  <a:pt x="1704" y="459"/>
                  <a:pt x="1328" y="277"/>
                </a:cubicBezTo>
                <a:cubicBezTo>
                  <a:pt x="952" y="95"/>
                  <a:pt x="526" y="0"/>
                  <a:pt x="92" y="0"/>
                </a:cubicBezTo>
                <a:cubicBezTo>
                  <a:pt x="61" y="0"/>
                  <a:pt x="31" y="0"/>
                  <a:pt x="0" y="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 txBox="1"/>
          <p:nvPr/>
        </p:nvSpPr>
        <p:spPr>
          <a:xfrm>
            <a:off x="2793960" y="1793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 txBox="1"/>
          <p:nvPr/>
        </p:nvSpPr>
        <p:spPr>
          <a:xfrm>
            <a:off x="5908680" y="4836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986200" y="2243160"/>
            <a:ext cx="135000" cy="135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876840" y="3040200"/>
            <a:ext cx="128520" cy="1285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870520" y="4784760"/>
            <a:ext cx="128520" cy="1285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1636560" y="1490760"/>
            <a:ext cx="5840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n unequal ogee curve that does not origi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ines that are conveniently horizontal.  The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one of the arcs is giv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1981080" y="1203480"/>
            <a:ext cx="5424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of these lines as the center line of a highw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passes through mountainous ter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1981080" y="1203480"/>
            <a:ext cx="5424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of these lines as the center line of a highw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passes through mountainous ter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 txBox="1"/>
          <p:nvPr/>
        </p:nvSpPr>
        <p:spPr>
          <a:xfrm>
            <a:off x="3268800" y="3666960"/>
            <a:ext cx="4965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cles have been encountered that requir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ad to wind around them and join seamless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68560" y="2320200"/>
            <a:ext cx="3091320" cy="3074400"/>
          </a:xfrm>
          <a:custGeom>
            <a:avLst/>
            <a:gdLst/>
            <a:ahLst/>
            <a:rect l="0" t="0" r="r" b="b"/>
            <a:pathLst>
              <a:path fill="none" w="8587" h="8540">
                <a:moveTo>
                  <a:pt x="0" y="0"/>
                </a:moveTo>
                <a:lnTo>
                  <a:pt x="0" y="0"/>
                </a:lnTo>
                <a:cubicBezTo>
                  <a:pt x="8" y="1491"/>
                  <a:pt x="405" y="2955"/>
                  <a:pt x="1150" y="4246"/>
                </a:cubicBezTo>
                <a:cubicBezTo>
                  <a:pt x="1904" y="5552"/>
                  <a:pt x="2988" y="6636"/>
                  <a:pt x="4293" y="7390"/>
                </a:cubicBezTo>
                <a:cubicBezTo>
                  <a:pt x="5599" y="8143"/>
                  <a:pt x="7080" y="8540"/>
                  <a:pt x="8587" y="8540"/>
                </a:cubicBezTo>
                <a:lnTo>
                  <a:pt x="8587" y="854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218120" y="1755720"/>
            <a:ext cx="6120" cy="4346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2252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24640" y="33861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829040" y="427032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01840" y="259704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3160" y="3814920"/>
            <a:ext cx="61920" cy="61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54280" y="3816360"/>
            <a:ext cx="61920" cy="61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62640" y="2445840"/>
            <a:ext cx="3431880" cy="3538440"/>
          </a:xfrm>
          <a:custGeom>
            <a:avLst/>
            <a:gdLst/>
            <a:ahLst/>
            <a:rect l="0" t="0" r="r" b="b"/>
            <a:pathLst>
              <a:path fill="none" w="9533" h="9829">
                <a:moveTo>
                  <a:pt x="0" y="9829"/>
                </a:moveTo>
                <a:lnTo>
                  <a:pt x="0" y="9829"/>
                </a:lnTo>
                <a:cubicBezTo>
                  <a:pt x="1492" y="9675"/>
                  <a:pt x="2936" y="9208"/>
                  <a:pt x="4235" y="8458"/>
                </a:cubicBezTo>
                <a:cubicBezTo>
                  <a:pt x="5854" y="7523"/>
                  <a:pt x="7199" y="6179"/>
                  <a:pt x="8134" y="4559"/>
                </a:cubicBezTo>
                <a:cubicBezTo>
                  <a:pt x="8939" y="3165"/>
                  <a:pt x="9417" y="1606"/>
                  <a:pt x="95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86080" y="291636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222880" y="1924200"/>
            <a:ext cx="187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222800" y="2127240"/>
            <a:ext cx="766800" cy="511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89600" y="212724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 txBox="1"/>
          <p:nvPr/>
        </p:nvSpPr>
        <p:spPr>
          <a:xfrm>
            <a:off x="2604960" y="572436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perpendicular to both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closest ends of the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 txBox="1"/>
          <p:nvPr/>
        </p:nvSpPr>
        <p:spPr>
          <a:xfrm>
            <a:off x="2604960" y="572436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perpendicular to both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closest ends of the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2604960" y="572436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perpendicular to both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closest ends of the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 txBox="1"/>
          <p:nvPr/>
        </p:nvSpPr>
        <p:spPr>
          <a:xfrm>
            <a:off x="2604960" y="572436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 line perpendicular to both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rough the closest ends of the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6157800" y="3154320"/>
            <a:ext cx="2476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ce that this lin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3346560" y="4592520"/>
            <a:ext cx="5030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length of the known radius on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 perpendicular 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791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3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3346560" y="4592520"/>
            <a:ext cx="5030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length of the known radius on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 perpendicular 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02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4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1184400" y="2776680"/>
            <a:ext cx="35193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specified arc with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centered at the cor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2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13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5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1184400" y="2776680"/>
            <a:ext cx="35193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specified arc with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centered at the cor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4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25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 txBox="1"/>
          <p:nvPr/>
        </p:nvSpPr>
        <p:spPr>
          <a:xfrm>
            <a:off x="911160" y="1460520"/>
            <a:ext cx="4070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end of the line on top, 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ngth of the specified radius--(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the line be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6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37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9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841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3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911160" y="1460520"/>
            <a:ext cx="4070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end of the line on top, 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ngth of the specified radius--(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the line be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1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52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5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856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8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2884320" y="3886200"/>
            <a:ext cx="478080" cy="17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1108080" y="1838160"/>
            <a:ext cx="3309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two points with a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1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72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4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875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7" name=""/>
          <p:cNvSpPr txBox="1"/>
          <p:nvPr/>
        </p:nvSpPr>
        <p:spPr>
          <a:xfrm>
            <a:off x="1108080" y="1838160"/>
            <a:ext cx="3309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two points with a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888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891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3" name=""/>
          <p:cNvSpPr txBox="1"/>
          <p:nvPr/>
        </p:nvSpPr>
        <p:spPr>
          <a:xfrm>
            <a:off x="201600" y="2398680"/>
            <a:ext cx="3139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line betwe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representing the 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of the requ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905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908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0" name=""/>
          <p:cNvSpPr txBox="1"/>
          <p:nvPr/>
        </p:nvSpPr>
        <p:spPr>
          <a:xfrm>
            <a:off x="201600" y="2398680"/>
            <a:ext cx="3139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line betwe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representing the 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of the requ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923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926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8" name=""/>
          <p:cNvSpPr txBox="1"/>
          <p:nvPr/>
        </p:nvSpPr>
        <p:spPr>
          <a:xfrm>
            <a:off x="201600" y="2398680"/>
            <a:ext cx="3139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line betwe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representing the 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of the requ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6" name=""/>
          <p:cNvGrpSpPr/>
          <p:nvPr/>
        </p:nvGrpSpPr>
        <p:grpSpPr>
          <a:xfrm>
            <a:off x="3429360" y="1654560"/>
            <a:ext cx="2908080" cy="2565000"/>
            <a:chOff x="3429360" y="1654560"/>
            <a:chExt cx="2908080" cy="2565000"/>
          </a:xfrm>
        </p:grpSpPr>
        <p:sp>
          <p:nvSpPr>
            <p:cNvPr id="2937" name=""/>
            <p:cNvSpPr/>
            <p:nvPr/>
          </p:nvSpPr>
          <p:spPr>
            <a:xfrm>
              <a:off x="3479760" y="2076480"/>
              <a:ext cx="2857680" cy="2143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177080" y="1654560"/>
              <a:ext cx="1103760" cy="1078560"/>
            </a:xfrm>
            <a:custGeom>
              <a:avLst/>
              <a:gdLst/>
              <a:ahLst/>
              <a:rect l="0" t="0" r="r" b="b"/>
              <a:pathLst>
                <a:path fill="none" w="3066" h="2996">
                  <a:moveTo>
                    <a:pt x="3066" y="2996"/>
                  </a:moveTo>
                  <a:lnTo>
                    <a:pt x="3066" y="2996"/>
                  </a:lnTo>
                  <a:cubicBezTo>
                    <a:pt x="2966" y="2639"/>
                    <a:pt x="2819" y="2296"/>
                    <a:pt x="2627" y="1975"/>
                  </a:cubicBezTo>
                  <a:cubicBezTo>
                    <a:pt x="2239" y="1326"/>
                    <a:pt x="1681" y="787"/>
                    <a:pt x="1010" y="412"/>
                  </a:cubicBezTo>
                  <a:cubicBezTo>
                    <a:pt x="692" y="235"/>
                    <a:pt x="353" y="96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429360" y="2223360"/>
              <a:ext cx="1062360" cy="1057320"/>
            </a:xfrm>
            <a:custGeom>
              <a:avLst/>
              <a:gdLst/>
              <a:ahLst/>
              <a:rect l="0" t="0" r="r" b="b"/>
              <a:pathLst>
                <a:path fill="none" w="2951" h="2937">
                  <a:moveTo>
                    <a:pt x="2951" y="0"/>
                  </a:moveTo>
                  <a:lnTo>
                    <a:pt x="2951" y="0"/>
                  </a:lnTo>
                  <a:cubicBezTo>
                    <a:pt x="2562" y="86"/>
                    <a:pt x="2188" y="231"/>
                    <a:pt x="1843" y="431"/>
                  </a:cubicBezTo>
                  <a:cubicBezTo>
                    <a:pt x="1253" y="773"/>
                    <a:pt x="763" y="1265"/>
                    <a:pt x="422" y="1857"/>
                  </a:cubicBezTo>
                  <a:cubicBezTo>
                    <a:pt x="229" y="2194"/>
                    <a:pt x="86" y="2558"/>
                    <a:pt x="0" y="293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943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946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8" name=""/>
          <p:cNvSpPr txBox="1"/>
          <p:nvPr/>
        </p:nvSpPr>
        <p:spPr>
          <a:xfrm>
            <a:off x="201600" y="2398680"/>
            <a:ext cx="3139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 the line betwe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representing the 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set of the requ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6" name=""/>
          <p:cNvGrpSpPr/>
          <p:nvPr/>
        </p:nvGrpSpPr>
        <p:grpSpPr>
          <a:xfrm>
            <a:off x="3429360" y="1654560"/>
            <a:ext cx="2908080" cy="2565000"/>
            <a:chOff x="3429360" y="1654560"/>
            <a:chExt cx="2908080" cy="2565000"/>
          </a:xfrm>
        </p:grpSpPr>
        <p:sp>
          <p:nvSpPr>
            <p:cNvPr id="2957" name=""/>
            <p:cNvSpPr/>
            <p:nvPr/>
          </p:nvSpPr>
          <p:spPr>
            <a:xfrm>
              <a:off x="3479760" y="2076480"/>
              <a:ext cx="2857680" cy="2143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177080" y="1654560"/>
              <a:ext cx="1103760" cy="1078560"/>
            </a:xfrm>
            <a:custGeom>
              <a:avLst/>
              <a:gdLst/>
              <a:ahLst/>
              <a:rect l="0" t="0" r="r" b="b"/>
              <a:pathLst>
                <a:path fill="none" w="3066" h="2996">
                  <a:moveTo>
                    <a:pt x="3066" y="2996"/>
                  </a:moveTo>
                  <a:lnTo>
                    <a:pt x="3066" y="2996"/>
                  </a:lnTo>
                  <a:cubicBezTo>
                    <a:pt x="2966" y="2639"/>
                    <a:pt x="2819" y="2296"/>
                    <a:pt x="2627" y="1975"/>
                  </a:cubicBezTo>
                  <a:cubicBezTo>
                    <a:pt x="2239" y="1326"/>
                    <a:pt x="1681" y="787"/>
                    <a:pt x="1010" y="412"/>
                  </a:cubicBezTo>
                  <a:cubicBezTo>
                    <a:pt x="692" y="235"/>
                    <a:pt x="353" y="96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429360" y="2223360"/>
              <a:ext cx="1062360" cy="1057320"/>
            </a:xfrm>
            <a:custGeom>
              <a:avLst/>
              <a:gdLst/>
              <a:ahLst/>
              <a:rect l="0" t="0" r="r" b="b"/>
              <a:pathLst>
                <a:path fill="none" w="2951" h="2937">
                  <a:moveTo>
                    <a:pt x="2951" y="0"/>
                  </a:moveTo>
                  <a:lnTo>
                    <a:pt x="2951" y="0"/>
                  </a:lnTo>
                  <a:cubicBezTo>
                    <a:pt x="2562" y="86"/>
                    <a:pt x="2188" y="231"/>
                    <a:pt x="1843" y="431"/>
                  </a:cubicBezTo>
                  <a:cubicBezTo>
                    <a:pt x="1253" y="773"/>
                    <a:pt x="763" y="1265"/>
                    <a:pt x="422" y="1857"/>
                  </a:cubicBezTo>
                  <a:cubicBezTo>
                    <a:pt x="229" y="2194"/>
                    <a:pt x="86" y="2558"/>
                    <a:pt x="0" y="293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0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963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5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966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8" name=""/>
          <p:cNvSpPr txBox="1"/>
          <p:nvPr/>
        </p:nvSpPr>
        <p:spPr>
          <a:xfrm>
            <a:off x="4660920" y="5029200"/>
            <a:ext cx="4056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tended bisector intersects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pendicular line through the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first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9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2980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2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2985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2988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0" name=""/>
          <p:cNvSpPr txBox="1"/>
          <p:nvPr/>
        </p:nvSpPr>
        <p:spPr>
          <a:xfrm>
            <a:off x="4660920" y="5029200"/>
            <a:ext cx="4056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tended bisector intersects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pendicular line through the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first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002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4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007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010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2" name=""/>
          <p:cNvSpPr txBox="1"/>
          <p:nvPr/>
        </p:nvSpPr>
        <p:spPr>
          <a:xfrm>
            <a:off x="4660920" y="5029200"/>
            <a:ext cx="420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ntersection is the center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arc in the ogee curve.  Center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at the intersection, and co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 an arc equal to the distance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024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030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033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826240" y="1717560"/>
            <a:ext cx="3251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 is given with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now center.  The 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o solve for the cent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, and be prep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ally 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ncl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046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8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052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055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7" name=""/>
          <p:cNvSpPr txBox="1"/>
          <p:nvPr/>
        </p:nvSpPr>
        <p:spPr>
          <a:xfrm>
            <a:off x="4600440" y="5119560"/>
            <a:ext cx="372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t the centers of the two arc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e the tangent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8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069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3132000" y="3881520"/>
            <a:ext cx="301968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076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079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1" name=""/>
          <p:cNvSpPr txBox="1"/>
          <p:nvPr/>
        </p:nvSpPr>
        <p:spPr>
          <a:xfrm>
            <a:off x="4600440" y="5119560"/>
            <a:ext cx="372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t the centers of the two arc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e the tangent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2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093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5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132000" y="3881520"/>
            <a:ext cx="301968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4673520" y="3848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0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101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104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6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117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132000" y="3881520"/>
            <a:ext cx="301968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4673520" y="3848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125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128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0" name=""/>
          <p:cNvSpPr/>
          <p:nvPr/>
        </p:nvSpPr>
        <p:spPr>
          <a:xfrm>
            <a:off x="2932200" y="5180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2998800" y="3886200"/>
            <a:ext cx="363600" cy="134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5164200" y="1528920"/>
            <a:ext cx="957240" cy="294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V="1">
            <a:off x="3352680" y="1542960"/>
            <a:ext cx="1809720" cy="234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479760" y="2076480"/>
            <a:ext cx="2857680" cy="21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4177080" y="16545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3429360" y="222336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5856120" y="3841920"/>
            <a:ext cx="179640" cy="176040"/>
            <a:chOff x="5856120" y="3841920"/>
            <a:chExt cx="179640" cy="176040"/>
          </a:xfrm>
        </p:grpSpPr>
        <p:sp>
          <p:nvSpPr>
            <p:cNvPr id="3142" name=""/>
            <p:cNvSpPr/>
            <p:nvPr/>
          </p:nvSpPr>
          <p:spPr>
            <a:xfrm flipH="1" flipV="1">
              <a:off x="5940360" y="3841920"/>
              <a:ext cx="3240" cy="176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856120" y="3927600"/>
              <a:ext cx="179640" cy="1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4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3132000" y="3881520"/>
            <a:ext cx="301968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4673520" y="3848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5553000" y="258300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2797200" y="4986360"/>
            <a:ext cx="231840" cy="23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9" name=""/>
          <p:cNvGrpSpPr/>
          <p:nvPr/>
        </p:nvGrpSpPr>
        <p:grpSpPr>
          <a:xfrm>
            <a:off x="3273480" y="3801960"/>
            <a:ext cx="179280" cy="176400"/>
            <a:chOff x="3273480" y="3801960"/>
            <a:chExt cx="179280" cy="176400"/>
          </a:xfrm>
        </p:grpSpPr>
        <p:sp>
          <p:nvSpPr>
            <p:cNvPr id="3150" name=""/>
            <p:cNvSpPr/>
            <p:nvPr/>
          </p:nvSpPr>
          <p:spPr>
            <a:xfrm flipH="1" flipV="1">
              <a:off x="3357720" y="3801960"/>
              <a:ext cx="288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273480" y="388764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2" name=""/>
          <p:cNvGrpSpPr/>
          <p:nvPr/>
        </p:nvGrpSpPr>
        <p:grpSpPr>
          <a:xfrm>
            <a:off x="5079960" y="1446120"/>
            <a:ext cx="179280" cy="176400"/>
            <a:chOff x="5079960" y="1446120"/>
            <a:chExt cx="179280" cy="176400"/>
          </a:xfrm>
        </p:grpSpPr>
        <p:sp>
          <p:nvSpPr>
            <p:cNvPr id="3153" name=""/>
            <p:cNvSpPr/>
            <p:nvPr/>
          </p:nvSpPr>
          <p:spPr>
            <a:xfrm flipH="1" flipV="1">
              <a:off x="5164200" y="1446120"/>
              <a:ext cx="3240" cy="1764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79960" y="1531800"/>
              <a:ext cx="179280" cy="180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5530680" y="2786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2932200" y="5180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909720" y="4680000"/>
            <a:ext cx="2065320" cy="55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602320" y="2173320"/>
            <a:ext cx="205272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011760" y="3927600"/>
            <a:ext cx="1721880" cy="1346400"/>
          </a:xfrm>
          <a:custGeom>
            <a:avLst/>
            <a:gdLst/>
            <a:ahLst/>
            <a:rect l="0" t="0" r="r" b="b"/>
            <a:pathLst>
              <a:path fill="none" w="4783" h="3740">
                <a:moveTo>
                  <a:pt x="4783" y="127"/>
                </a:moveTo>
                <a:lnTo>
                  <a:pt x="4783" y="127"/>
                </a:lnTo>
                <a:cubicBezTo>
                  <a:pt x="4464" y="42"/>
                  <a:pt x="4136" y="0"/>
                  <a:pt x="3806" y="0"/>
                </a:cubicBezTo>
                <a:cubicBezTo>
                  <a:pt x="3138" y="0"/>
                  <a:pt x="2481" y="175"/>
                  <a:pt x="1903" y="509"/>
                </a:cubicBezTo>
                <a:cubicBezTo>
                  <a:pt x="1324" y="844"/>
                  <a:pt x="844" y="1324"/>
                  <a:pt x="509" y="1903"/>
                </a:cubicBezTo>
                <a:cubicBezTo>
                  <a:pt x="186" y="2462"/>
                  <a:pt x="11" y="3094"/>
                  <a:pt x="0" y="374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4729320" y="2840760"/>
            <a:ext cx="849600" cy="1135800"/>
          </a:xfrm>
          <a:custGeom>
            <a:avLst/>
            <a:gdLst/>
            <a:ahLst/>
            <a:rect l="0" t="0" r="r" b="b"/>
            <a:pathLst>
              <a:path fill="none" w="2360" h="3155">
                <a:moveTo>
                  <a:pt x="2360" y="0"/>
                </a:moveTo>
                <a:lnTo>
                  <a:pt x="2360" y="0"/>
                </a:lnTo>
                <a:cubicBezTo>
                  <a:pt x="2118" y="70"/>
                  <a:pt x="1886" y="167"/>
                  <a:pt x="1667" y="287"/>
                </a:cubicBezTo>
                <a:cubicBezTo>
                  <a:pt x="1160" y="566"/>
                  <a:pt x="739" y="967"/>
                  <a:pt x="446" y="1450"/>
                </a:cubicBezTo>
                <a:cubicBezTo>
                  <a:pt x="154" y="1933"/>
                  <a:pt x="0" y="2481"/>
                  <a:pt x="0" y="3038"/>
                </a:cubicBezTo>
                <a:cubicBezTo>
                  <a:pt x="0" y="3077"/>
                  <a:pt x="1" y="3116"/>
                  <a:pt x="2" y="31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4673520" y="3848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5530680" y="2786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2932200" y="5180040"/>
            <a:ext cx="120600" cy="1206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"/>
          <p:cNvSpPr txBox="1"/>
          <p:nvPr/>
        </p:nvSpPr>
        <p:spPr>
          <a:xfrm>
            <a:off x="6431040" y="1249200"/>
            <a:ext cx="240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"/>
          <p:cNvSpPr txBox="1"/>
          <p:nvPr/>
        </p:nvSpPr>
        <p:spPr>
          <a:xfrm>
            <a:off x="6431040" y="1249200"/>
            <a:ext cx="240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519120" y="1309680"/>
            <a:ext cx="2808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 to one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rizontal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19120" y="1309680"/>
            <a:ext cx="2808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 to one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rizontal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826240" y="1717560"/>
            <a:ext cx="3251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circle is given with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 know center.  The 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s to solve for the cent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circle, and be prep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graphically 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your concl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29240" y="3683160"/>
            <a:ext cx="26892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straight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ng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wo locations.  Th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a “chord”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c or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 txBox="1"/>
          <p:nvPr/>
        </p:nvSpPr>
        <p:spPr>
          <a:xfrm>
            <a:off x="519120" y="1309680"/>
            <a:ext cx="2808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 to one half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rizontal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488880" y="1203480"/>
            <a:ext cx="33735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is center point, set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to the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center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lin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p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488880" y="1203480"/>
            <a:ext cx="33735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is center point, set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to the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center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lin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p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"/>
          <p:cNvSpPr txBox="1"/>
          <p:nvPr/>
        </p:nvSpPr>
        <p:spPr>
          <a:xfrm>
            <a:off x="488880" y="1203480"/>
            <a:ext cx="33735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rom this center point, set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mpass to the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rom the center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inters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f th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enter lin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top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6431040" y="1249200"/>
            <a:ext cx="2405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, draw an arc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til it crosse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6431040" y="1249200"/>
            <a:ext cx="2405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, draw an arc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til it crosse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276120" y="1112760"/>
            <a:ext cx="419724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the inter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top of the circle, with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 equal to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intersec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on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306360" y="4848120"/>
            <a:ext cx="297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n arc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mferance of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26240" y="1717560"/>
            <a:ext cx="32511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circle is given with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 know center.  The 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s to solve for the cent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circle, and be prep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graphically 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your concl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429240" y="3683160"/>
            <a:ext cx="26892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straight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ng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wo locations.  Th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a “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r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c or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 txBox="1"/>
          <p:nvPr/>
        </p:nvSpPr>
        <p:spPr>
          <a:xfrm>
            <a:off x="368280" y="947880"/>
            <a:ext cx="28368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oint on the circl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 point o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agon. 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point 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 of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627440" y="1577880"/>
            <a:ext cx="92160" cy="92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 txBox="1"/>
          <p:nvPr/>
        </p:nvSpPr>
        <p:spPr>
          <a:xfrm>
            <a:off x="368280" y="947880"/>
            <a:ext cx="28368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is point on the circl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second point o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entagon. 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s the point 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p of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"/>
          <p:cNvSpPr txBox="1"/>
          <p:nvPr/>
        </p:nvSpPr>
        <p:spPr>
          <a:xfrm>
            <a:off x="398520" y="4167360"/>
            <a:ext cx="193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the side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tag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4780080" y="2941560"/>
            <a:ext cx="2102760" cy="1695600"/>
            <a:chOff x="4780080" y="2941560"/>
            <a:chExt cx="2102760" cy="1695600"/>
          </a:xfrm>
        </p:grpSpPr>
        <p:sp>
          <p:nvSpPr>
            <p:cNvPr id="3410" name=""/>
            <p:cNvSpPr/>
            <p:nvPr/>
          </p:nvSpPr>
          <p:spPr>
            <a:xfrm>
              <a:off x="5779080" y="3039120"/>
              <a:ext cx="1103760" cy="1078560"/>
            </a:xfrm>
            <a:custGeom>
              <a:avLst/>
              <a:gdLst/>
              <a:ahLst/>
              <a:rect l="0" t="0" r="r" b="b"/>
              <a:pathLst>
                <a:path fill="none" w="3066" h="2996">
                  <a:moveTo>
                    <a:pt x="3066" y="2996"/>
                  </a:moveTo>
                  <a:lnTo>
                    <a:pt x="3066" y="2996"/>
                  </a:lnTo>
                  <a:cubicBezTo>
                    <a:pt x="2966" y="2639"/>
                    <a:pt x="2819" y="2296"/>
                    <a:pt x="2627" y="1975"/>
                  </a:cubicBezTo>
                  <a:cubicBezTo>
                    <a:pt x="2239" y="1326"/>
                    <a:pt x="1681" y="787"/>
                    <a:pt x="1010" y="412"/>
                  </a:cubicBezTo>
                  <a:cubicBezTo>
                    <a:pt x="692" y="235"/>
                    <a:pt x="353" y="96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780080" y="3080520"/>
              <a:ext cx="1062360" cy="1057320"/>
            </a:xfrm>
            <a:custGeom>
              <a:avLst/>
              <a:gdLst/>
              <a:ahLst/>
              <a:rect l="0" t="0" r="r" b="b"/>
              <a:pathLst>
                <a:path fill="none" w="2951" h="2937">
                  <a:moveTo>
                    <a:pt x="2951" y="0"/>
                  </a:moveTo>
                  <a:lnTo>
                    <a:pt x="2951" y="0"/>
                  </a:lnTo>
                  <a:cubicBezTo>
                    <a:pt x="2562" y="86"/>
                    <a:pt x="2188" y="231"/>
                    <a:pt x="1843" y="431"/>
                  </a:cubicBezTo>
                  <a:cubicBezTo>
                    <a:pt x="1253" y="773"/>
                    <a:pt x="763" y="1265"/>
                    <a:pt x="422" y="1857"/>
                  </a:cubicBezTo>
                  <a:cubicBezTo>
                    <a:pt x="229" y="2194"/>
                    <a:pt x="86" y="2558"/>
                    <a:pt x="0" y="293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756400" y="2941560"/>
              <a:ext cx="0" cy="1695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3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8" name=""/>
          <p:cNvGrpSpPr/>
          <p:nvPr/>
        </p:nvGrpSpPr>
        <p:grpSpPr>
          <a:xfrm>
            <a:off x="4780080" y="2941560"/>
            <a:ext cx="2102760" cy="1695600"/>
            <a:chOff x="4780080" y="2941560"/>
            <a:chExt cx="2102760" cy="1695600"/>
          </a:xfrm>
        </p:grpSpPr>
        <p:sp>
          <p:nvSpPr>
            <p:cNvPr id="3429" name=""/>
            <p:cNvSpPr/>
            <p:nvPr/>
          </p:nvSpPr>
          <p:spPr>
            <a:xfrm>
              <a:off x="5779080" y="3039120"/>
              <a:ext cx="1103760" cy="1078560"/>
            </a:xfrm>
            <a:custGeom>
              <a:avLst/>
              <a:gdLst/>
              <a:ahLst/>
              <a:rect l="0" t="0" r="r" b="b"/>
              <a:pathLst>
                <a:path fill="none" w="3066" h="2996">
                  <a:moveTo>
                    <a:pt x="3066" y="2996"/>
                  </a:moveTo>
                  <a:lnTo>
                    <a:pt x="3066" y="2996"/>
                  </a:lnTo>
                  <a:cubicBezTo>
                    <a:pt x="2966" y="2639"/>
                    <a:pt x="2819" y="2296"/>
                    <a:pt x="2627" y="1975"/>
                  </a:cubicBezTo>
                  <a:cubicBezTo>
                    <a:pt x="2239" y="1326"/>
                    <a:pt x="1681" y="787"/>
                    <a:pt x="1010" y="412"/>
                  </a:cubicBezTo>
                  <a:cubicBezTo>
                    <a:pt x="692" y="235"/>
                    <a:pt x="353" y="96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780080" y="3080520"/>
              <a:ext cx="1062360" cy="1057320"/>
            </a:xfrm>
            <a:custGeom>
              <a:avLst/>
              <a:gdLst/>
              <a:ahLst/>
              <a:rect l="0" t="0" r="r" b="b"/>
              <a:pathLst>
                <a:path fill="none" w="2951" h="2937">
                  <a:moveTo>
                    <a:pt x="2951" y="0"/>
                  </a:moveTo>
                  <a:lnTo>
                    <a:pt x="2951" y="0"/>
                  </a:lnTo>
                  <a:cubicBezTo>
                    <a:pt x="2562" y="86"/>
                    <a:pt x="2188" y="231"/>
                    <a:pt x="1843" y="431"/>
                  </a:cubicBezTo>
                  <a:cubicBezTo>
                    <a:pt x="1253" y="773"/>
                    <a:pt x="763" y="1265"/>
                    <a:pt x="422" y="1857"/>
                  </a:cubicBezTo>
                  <a:cubicBezTo>
                    <a:pt x="229" y="2194"/>
                    <a:pt x="86" y="2558"/>
                    <a:pt x="0" y="2937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756400" y="2941560"/>
              <a:ext cx="0" cy="1695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"/>
          <p:cNvSpPr txBox="1"/>
          <p:nvPr/>
        </p:nvSpPr>
        <p:spPr>
          <a:xfrm>
            <a:off x="368280" y="1112760"/>
            <a:ext cx="3160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project the point o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to the other sid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the mi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"/>
          <p:cNvSpPr txBox="1"/>
          <p:nvPr/>
        </p:nvSpPr>
        <p:spPr>
          <a:xfrm>
            <a:off x="368280" y="1112760"/>
            <a:ext cx="3160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project the point o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to the other side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the mi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"/>
          <p:cNvSpPr txBox="1"/>
          <p:nvPr/>
        </p:nvSpPr>
        <p:spPr>
          <a:xfrm>
            <a:off x="618804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"/>
          <p:cNvSpPr txBox="1"/>
          <p:nvPr/>
        </p:nvSpPr>
        <p:spPr>
          <a:xfrm>
            <a:off x="608976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5558040" y="545976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"/>
          <p:cNvSpPr txBox="1"/>
          <p:nvPr/>
        </p:nvSpPr>
        <p:spPr>
          <a:xfrm>
            <a:off x="608976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5558040" y="545976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"/>
          <p:cNvSpPr txBox="1"/>
          <p:nvPr/>
        </p:nvSpPr>
        <p:spPr>
          <a:xfrm>
            <a:off x="608976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75320" y="1868400"/>
            <a:ext cx="27306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 a second ch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 angle to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second chord can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parallel to the firs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490920" y="556740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5558040" y="545976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"/>
          <p:cNvSpPr txBox="1"/>
          <p:nvPr/>
        </p:nvSpPr>
        <p:spPr>
          <a:xfrm>
            <a:off x="608976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490920" y="556740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558040" y="545976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6089760" y="1233360"/>
            <a:ext cx="30528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radius set fo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compass on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oints yo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determine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id ed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779080" y="303912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780080" y="30805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5756400" y="2941560"/>
            <a:ext cx="0" cy="169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5707080" y="372096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3325320" y="1573200"/>
            <a:ext cx="2502720" cy="1554120"/>
          </a:xfrm>
          <a:custGeom>
            <a:avLst/>
            <a:gdLst/>
            <a:ahLst/>
            <a:rect l="0" t="0" r="r" b="b"/>
            <a:pathLst>
              <a:path fill="none" w="6952" h="4317">
                <a:moveTo>
                  <a:pt x="6952" y="4317"/>
                </a:moveTo>
                <a:lnTo>
                  <a:pt x="6952" y="4317"/>
                </a:lnTo>
                <a:cubicBezTo>
                  <a:pt x="6822" y="3962"/>
                  <a:pt x="6661" y="3618"/>
                  <a:pt x="6472" y="3291"/>
                </a:cubicBezTo>
                <a:cubicBezTo>
                  <a:pt x="5894" y="2290"/>
                  <a:pt x="5064" y="1460"/>
                  <a:pt x="4063" y="882"/>
                </a:cubicBezTo>
                <a:cubicBezTo>
                  <a:pt x="3063" y="305"/>
                  <a:pt x="1928" y="0"/>
                  <a:pt x="773" y="0"/>
                </a:cubicBezTo>
                <a:cubicBezTo>
                  <a:pt x="515" y="0"/>
                  <a:pt x="256" y="16"/>
                  <a:pt x="0" y="4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562640" y="1409760"/>
            <a:ext cx="1193760" cy="23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3390840" y="1457280"/>
            <a:ext cx="1381320" cy="231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725640" y="2698560"/>
            <a:ext cx="947880" cy="1092600"/>
          </a:xfrm>
          <a:custGeom>
            <a:avLst/>
            <a:gdLst/>
            <a:ahLst/>
            <a:rect l="0" t="0" r="r" b="b"/>
            <a:pathLst>
              <a:path fill="none" w="2633" h="3035">
                <a:moveTo>
                  <a:pt x="0" y="3035"/>
                </a:moveTo>
                <a:lnTo>
                  <a:pt x="0" y="3035"/>
                </a:lnTo>
                <a:cubicBezTo>
                  <a:pt x="955" y="2440"/>
                  <a:pt x="1748" y="1617"/>
                  <a:pt x="2310" y="638"/>
                </a:cubicBezTo>
                <a:cubicBezTo>
                  <a:pt x="2429" y="431"/>
                  <a:pt x="2536" y="218"/>
                  <a:pt x="2633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476440" y="3130560"/>
            <a:ext cx="436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045240" y="541404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490920" y="556740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5558040" y="545976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"/>
          <p:cNvSpPr txBox="1"/>
          <p:nvPr/>
        </p:nvSpPr>
        <p:spPr>
          <a:xfrm>
            <a:off x="382680" y="1265400"/>
            <a:ext cx="3097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perfect five-po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 by joining every-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490920" y="556740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2712960" y="1639800"/>
            <a:ext cx="3904200" cy="3904200"/>
          </a:xfrm>
          <a:custGeom>
            <a:avLst/>
            <a:gdLst/>
            <a:ahLst/>
            <a:rect l="0" t="0" r="r" b="b"/>
            <a:pathLst>
              <a:path fill="none" w="10845" h="10845">
                <a:moveTo>
                  <a:pt x="5422" y="0"/>
                </a:moveTo>
                <a:lnTo>
                  <a:pt x="4154" y="4154"/>
                </a:lnTo>
                <a:lnTo>
                  <a:pt x="0" y="4154"/>
                </a:lnTo>
                <a:lnTo>
                  <a:pt x="3375" y="6723"/>
                </a:lnTo>
                <a:lnTo>
                  <a:pt x="2106" y="10845"/>
                </a:lnTo>
                <a:lnTo>
                  <a:pt x="5422" y="8459"/>
                </a:lnTo>
                <a:lnTo>
                  <a:pt x="8737" y="10845"/>
                </a:lnTo>
                <a:lnTo>
                  <a:pt x="7461" y="6723"/>
                </a:lnTo>
                <a:lnTo>
                  <a:pt x="10845" y="4145"/>
                </a:lnTo>
                <a:lnTo>
                  <a:pt x="6688" y="4145"/>
                </a:lnTo>
                <a:lnTo>
                  <a:pt x="5422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943520" y="377208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1957320" y="3772080"/>
            <a:ext cx="247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4672080" y="1357200"/>
            <a:ext cx="0" cy="218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4672080" y="4029120"/>
            <a:ext cx="0" cy="217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2712960" y="1639800"/>
            <a:ext cx="3904200" cy="3904200"/>
          </a:xfrm>
          <a:custGeom>
            <a:avLst/>
            <a:gdLst/>
            <a:ahLst/>
            <a:rect l="0" t="0" r="r" b="b"/>
            <a:pathLst>
              <a:path fill="none" w="10845" h="10845">
                <a:moveTo>
                  <a:pt x="5422" y="0"/>
                </a:moveTo>
                <a:lnTo>
                  <a:pt x="4154" y="4154"/>
                </a:lnTo>
                <a:lnTo>
                  <a:pt x="0" y="4154"/>
                </a:lnTo>
                <a:lnTo>
                  <a:pt x="3375" y="6723"/>
                </a:lnTo>
                <a:lnTo>
                  <a:pt x="2106" y="10845"/>
                </a:lnTo>
                <a:lnTo>
                  <a:pt x="5422" y="8459"/>
                </a:lnTo>
                <a:lnTo>
                  <a:pt x="8737" y="10845"/>
                </a:lnTo>
                <a:lnTo>
                  <a:pt x="7461" y="6723"/>
                </a:lnTo>
                <a:lnTo>
                  <a:pt x="10845" y="4145"/>
                </a:lnTo>
                <a:lnTo>
                  <a:pt x="6688" y="4145"/>
                </a:lnTo>
                <a:lnTo>
                  <a:pt x="5422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"/>
          <p:cNvSpPr txBox="1"/>
          <p:nvPr/>
        </p:nvSpPr>
        <p:spPr>
          <a:xfrm>
            <a:off x="2114640" y="1316160"/>
            <a:ext cx="498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where one side is know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re is no circle, and no center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"/>
          <p:cNvSpPr txBox="1"/>
          <p:nvPr/>
        </p:nvSpPr>
        <p:spPr>
          <a:xfrm>
            <a:off x="2114640" y="1316160"/>
            <a:ext cx="498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where one side is know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re is no circle, and no center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"/>
          <p:cNvSpPr txBox="1"/>
          <p:nvPr/>
        </p:nvSpPr>
        <p:spPr>
          <a:xfrm>
            <a:off x="3168720" y="4164120"/>
            <a:ext cx="303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bisect the know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"/>
          <p:cNvSpPr txBox="1"/>
          <p:nvPr/>
        </p:nvSpPr>
        <p:spPr>
          <a:xfrm>
            <a:off x="2114640" y="1316160"/>
            <a:ext cx="498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where one side is know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re is no circle, and no center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>
            <a:off x="3168720" y="4164120"/>
            <a:ext cx="303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bisect the know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6" name=""/>
          <p:cNvSpPr txBox="1"/>
          <p:nvPr/>
        </p:nvSpPr>
        <p:spPr>
          <a:xfrm>
            <a:off x="2114640" y="1316160"/>
            <a:ext cx="498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pentagon where one side is know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re is no circle, and no center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7" name=""/>
          <p:cNvSpPr txBox="1"/>
          <p:nvPr/>
        </p:nvSpPr>
        <p:spPr>
          <a:xfrm>
            <a:off x="3168720" y="4164120"/>
            <a:ext cx="303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bisect the know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8" name=""/>
          <p:cNvSpPr txBox="1"/>
          <p:nvPr/>
        </p:nvSpPr>
        <p:spPr>
          <a:xfrm>
            <a:off x="4962600" y="5978520"/>
            <a:ext cx="3668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 the perpendicular bis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388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ING GRAPHIC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CO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6221520"/>
            <a:ext cx="2262240" cy="62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07080" y="6254640"/>
            <a:ext cx="2359080" cy="59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13040" y="5616720"/>
            <a:ext cx="18525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 199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8280" y="5587920"/>
            <a:ext cx="2038320" cy="754200"/>
          </a:xfrm>
          <a:prstGeom prst="rect">
            <a:avLst/>
          </a:prstGeom>
          <a:noFill/>
          <a:ln w="50760">
            <a:solidFill>
              <a:srgbClr val="ffffff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75320" y="1868400"/>
            <a:ext cx="27306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 a second ch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 angle to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second chord can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parallel to the firs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"/>
          <p:cNvSpPr txBox="1"/>
          <p:nvPr/>
        </p:nvSpPr>
        <p:spPr>
          <a:xfrm>
            <a:off x="5700600" y="1989000"/>
            <a:ext cx="30193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know that the top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agon will be on the ex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ed bisector.  We al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at the center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cribing circle will be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isector.  We just don’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where either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347976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"/>
          <p:cNvSpPr txBox="1"/>
          <p:nvPr/>
        </p:nvSpPr>
        <p:spPr>
          <a:xfrm>
            <a:off x="1611360" y="2201760"/>
            <a:ext cx="2730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and through on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348444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3484440" y="5562720"/>
            <a:ext cx="0" cy="101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5" name=""/>
          <p:cNvSpPr txBox="1"/>
          <p:nvPr/>
        </p:nvSpPr>
        <p:spPr>
          <a:xfrm>
            <a:off x="961920" y="2292480"/>
            <a:ext cx="3139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eight of the line shou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qual to one-half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the side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agon.  Use a compas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the he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 txBox="1"/>
          <p:nvPr/>
        </p:nvSpPr>
        <p:spPr>
          <a:xfrm>
            <a:off x="961920" y="2292480"/>
            <a:ext cx="3139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eight of the line shou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qual to one-half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the side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agon.  Use a compass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the he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 txBox="1"/>
          <p:nvPr/>
        </p:nvSpPr>
        <p:spPr>
          <a:xfrm>
            <a:off x="5140440" y="2627280"/>
            <a:ext cx="36482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the oppo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of the base line throug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 of the arc with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line, and extend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tance equal to one-hal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the pentago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 txBox="1"/>
          <p:nvPr/>
        </p:nvSpPr>
        <p:spPr>
          <a:xfrm>
            <a:off x="5140440" y="2627280"/>
            <a:ext cx="36482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the oppo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of the base line throug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 of the arc with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line, and extend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tance equal to one-hal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the pentago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 txBox="1"/>
          <p:nvPr/>
        </p:nvSpPr>
        <p:spPr>
          <a:xfrm>
            <a:off x="5140440" y="2627280"/>
            <a:ext cx="36482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the oppo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of the base line throug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 of the arc with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line, and extend th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tance equal to one-hal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the pentagon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 txBox="1"/>
          <p:nvPr/>
        </p:nvSpPr>
        <p:spPr>
          <a:xfrm>
            <a:off x="714240" y="1552680"/>
            <a:ext cx="32796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cente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left end of the base li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 setting equal to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marked exten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be an arc that crosse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bis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3452760" y="55324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 txBox="1"/>
          <p:nvPr/>
        </p:nvSpPr>
        <p:spPr>
          <a:xfrm>
            <a:off x="714240" y="1552680"/>
            <a:ext cx="32796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cente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left end of the base li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 setting equal to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marked exten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be an arc that crosse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bis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475320" y="1868400"/>
            <a:ext cx="27306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 a second ch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 angle to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second chord can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parallel to the firs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3452760" y="55324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 txBox="1"/>
          <p:nvPr/>
        </p:nvSpPr>
        <p:spPr>
          <a:xfrm>
            <a:off x="714240" y="1552680"/>
            <a:ext cx="32796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your compass cente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left end of the base li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 setting equal to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marked exten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be an arc that crosse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bis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3452760" y="55324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 txBox="1"/>
          <p:nvPr/>
        </p:nvSpPr>
        <p:spPr>
          <a:xfrm>
            <a:off x="5262480" y="2000160"/>
            <a:ext cx="36464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section on the center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center of a circle that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cribe the pentag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7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868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0" name=""/>
          <p:cNvSpPr txBox="1"/>
          <p:nvPr/>
        </p:nvSpPr>
        <p:spPr>
          <a:xfrm>
            <a:off x="5845320" y="2571840"/>
            <a:ext cx="28926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same radiu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point and draw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2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883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5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0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901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 txBox="1"/>
          <p:nvPr/>
        </p:nvSpPr>
        <p:spPr>
          <a:xfrm>
            <a:off x="415800" y="1197000"/>
            <a:ext cx="33084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your compass to a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one known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entagon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e it at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of th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and the top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9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920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2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4630680" y="16048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915840" y="1495440"/>
            <a:ext cx="2546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n arc acr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umferanc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--o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and o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s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0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941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4630680" y="16048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0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961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3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4630680" y="16048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1" name=""/>
          <p:cNvGrpSpPr/>
          <p:nvPr/>
        </p:nvGrpSpPr>
        <p:grpSpPr>
          <a:xfrm>
            <a:off x="4554360" y="3657600"/>
            <a:ext cx="227160" cy="231840"/>
            <a:chOff x="4554360" y="3657600"/>
            <a:chExt cx="227160" cy="231840"/>
          </a:xfrm>
        </p:grpSpPr>
        <p:sp>
          <p:nvSpPr>
            <p:cNvPr id="3982" name=""/>
            <p:cNvSpPr/>
            <p:nvPr/>
          </p:nvSpPr>
          <p:spPr>
            <a:xfrm>
              <a:off x="4554360" y="3772080"/>
              <a:ext cx="227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4667400" y="3657600"/>
              <a:ext cx="0" cy="2318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4" name=""/>
          <p:cNvSpPr/>
          <p:nvPr/>
        </p:nvSpPr>
        <p:spPr>
          <a:xfrm>
            <a:off x="4686840" y="4827960"/>
            <a:ext cx="1103760" cy="1078560"/>
          </a:xfrm>
          <a:custGeom>
            <a:avLst/>
            <a:gdLst/>
            <a:ahLst/>
            <a:rect l="0" t="0" r="r" b="b"/>
            <a:pathLst>
              <a:path fill="none" w="3066" h="2996">
                <a:moveTo>
                  <a:pt x="3066" y="2996"/>
                </a:moveTo>
                <a:lnTo>
                  <a:pt x="3066" y="2996"/>
                </a:lnTo>
                <a:cubicBezTo>
                  <a:pt x="2966" y="2639"/>
                  <a:pt x="2819" y="2296"/>
                  <a:pt x="2627" y="1975"/>
                </a:cubicBezTo>
                <a:cubicBezTo>
                  <a:pt x="2239" y="1326"/>
                  <a:pt x="1681" y="787"/>
                  <a:pt x="1010" y="412"/>
                </a:cubicBezTo>
                <a:cubicBezTo>
                  <a:pt x="692" y="235"/>
                  <a:pt x="353" y="96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687840" y="4869720"/>
            <a:ext cx="1062360" cy="1057320"/>
          </a:xfrm>
          <a:custGeom>
            <a:avLst/>
            <a:gdLst/>
            <a:ahLst/>
            <a:rect l="0" t="0" r="r" b="b"/>
            <a:pathLst>
              <a:path fill="none" w="2951" h="2937">
                <a:moveTo>
                  <a:pt x="2951" y="0"/>
                </a:moveTo>
                <a:lnTo>
                  <a:pt x="2951" y="0"/>
                </a:lnTo>
                <a:cubicBezTo>
                  <a:pt x="2562" y="86"/>
                  <a:pt x="2188" y="231"/>
                  <a:pt x="1843" y="431"/>
                </a:cubicBezTo>
                <a:cubicBezTo>
                  <a:pt x="1253" y="773"/>
                  <a:pt x="763" y="1265"/>
                  <a:pt x="422" y="1857"/>
                </a:cubicBezTo>
                <a:cubicBezTo>
                  <a:pt x="229" y="2194"/>
                  <a:pt x="86" y="2558"/>
                  <a:pt x="0" y="293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4664160" y="1407960"/>
            <a:ext cx="0" cy="501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4630680" y="1604880"/>
            <a:ext cx="6660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 txBox="1"/>
          <p:nvPr/>
        </p:nvSpPr>
        <p:spPr>
          <a:xfrm>
            <a:off x="552600" y="143208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all of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form the five div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ons on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 txBox="1"/>
          <p:nvPr/>
        </p:nvSpPr>
        <p:spPr>
          <a:xfrm>
            <a:off x="552600" y="143208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all of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form the five div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ons on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 txBox="1"/>
          <p:nvPr/>
        </p:nvSpPr>
        <p:spPr>
          <a:xfrm>
            <a:off x="552600" y="143208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all of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form the five div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ons on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 txBox="1"/>
          <p:nvPr/>
        </p:nvSpPr>
        <p:spPr>
          <a:xfrm>
            <a:off x="552600" y="143208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all of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form the five div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ons on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 txBox="1"/>
          <p:nvPr/>
        </p:nvSpPr>
        <p:spPr>
          <a:xfrm>
            <a:off x="552600" y="1432080"/>
            <a:ext cx="3154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all of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form the five div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ons on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3483000" y="5357880"/>
            <a:ext cx="20952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 txBox="1"/>
          <p:nvPr/>
        </p:nvSpPr>
        <p:spPr>
          <a:xfrm>
            <a:off x="744480" y="1378080"/>
            <a:ext cx="2751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ing every-other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duce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ve-pointed s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4648320" y="158760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5867280" y="557532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4672080" y="1557360"/>
            <a:ext cx="0" cy="448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486240" y="42577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3500280" y="4371840"/>
            <a:ext cx="1171800" cy="1171800"/>
          </a:xfrm>
          <a:custGeom>
            <a:avLst/>
            <a:gdLst/>
            <a:ahLst/>
            <a:rect l="0" t="0" r="r" b="b"/>
            <a:pathLst>
              <a:path fill="none" w="3255" h="3255">
                <a:moveTo>
                  <a:pt x="0" y="0"/>
                </a:moveTo>
                <a:lnTo>
                  <a:pt x="0" y="0"/>
                </a:lnTo>
                <a:cubicBezTo>
                  <a:pt x="0" y="571"/>
                  <a:pt x="150" y="1133"/>
                  <a:pt x="436" y="1628"/>
                </a:cubicBezTo>
                <a:cubicBezTo>
                  <a:pt x="722" y="2122"/>
                  <a:pt x="1133" y="2533"/>
                  <a:pt x="1628" y="2819"/>
                </a:cubicBezTo>
                <a:cubicBezTo>
                  <a:pt x="2122" y="3105"/>
                  <a:pt x="2684" y="3255"/>
                  <a:pt x="3255" y="32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2185920" y="3716280"/>
            <a:ext cx="4029120" cy="1998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2492640" y="4206600"/>
            <a:ext cx="607680" cy="322560"/>
          </a:xfrm>
          <a:custGeom>
            <a:avLst/>
            <a:gdLst/>
            <a:ahLst/>
            <a:rect l="0" t="0" r="r" b="b"/>
            <a:pathLst>
              <a:path fill="none" w="1688" h="896">
                <a:moveTo>
                  <a:pt x="0" y="0"/>
                </a:moveTo>
                <a:lnTo>
                  <a:pt x="0" y="0"/>
                </a:lnTo>
                <a:cubicBezTo>
                  <a:pt x="201" y="201"/>
                  <a:pt x="427" y="375"/>
                  <a:pt x="674" y="517"/>
                </a:cubicBezTo>
                <a:cubicBezTo>
                  <a:pt x="988" y="699"/>
                  <a:pt x="1331" y="827"/>
                  <a:pt x="1688" y="89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2214720" y="3457440"/>
            <a:ext cx="1257120" cy="2086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2256120" y="5181840"/>
            <a:ext cx="2703240" cy="417960"/>
          </a:xfrm>
          <a:custGeom>
            <a:avLst/>
            <a:gdLst/>
            <a:ahLst/>
            <a:rect l="0" t="0" r="r" b="b"/>
            <a:pathLst>
              <a:path fill="none" w="7509" h="1161">
                <a:moveTo>
                  <a:pt x="0" y="0"/>
                </a:moveTo>
                <a:lnTo>
                  <a:pt x="0" y="0"/>
                </a:lnTo>
                <a:cubicBezTo>
                  <a:pt x="203" y="141"/>
                  <a:pt x="415" y="271"/>
                  <a:pt x="635" y="388"/>
                </a:cubicBezTo>
                <a:cubicBezTo>
                  <a:pt x="1584" y="894"/>
                  <a:pt x="2659" y="1161"/>
                  <a:pt x="3755" y="1161"/>
                </a:cubicBezTo>
                <a:cubicBezTo>
                  <a:pt x="4850" y="1161"/>
                  <a:pt x="5925" y="894"/>
                  <a:pt x="6874" y="388"/>
                </a:cubicBezTo>
                <a:cubicBezTo>
                  <a:pt x="7094" y="271"/>
                  <a:pt x="7306" y="141"/>
                  <a:pt x="7509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3231000" y="3285360"/>
            <a:ext cx="851400" cy="246960"/>
          </a:xfrm>
          <a:custGeom>
            <a:avLst/>
            <a:gdLst/>
            <a:ahLst/>
            <a:rect l="0" t="0" r="r" b="b"/>
            <a:pathLst>
              <a:path fill="none" w="2365" h="686">
                <a:moveTo>
                  <a:pt x="0" y="686"/>
                </a:moveTo>
                <a:lnTo>
                  <a:pt x="0" y="686"/>
                </a:lnTo>
                <a:cubicBezTo>
                  <a:pt x="822" y="582"/>
                  <a:pt x="1621" y="350"/>
                  <a:pt x="236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272200" y="3327840"/>
            <a:ext cx="695880" cy="194040"/>
          </a:xfrm>
          <a:custGeom>
            <a:avLst/>
            <a:gdLst/>
            <a:ahLst/>
            <a:rect l="0" t="0" r="r" b="b"/>
            <a:pathLst>
              <a:path fill="none" w="1933" h="539">
                <a:moveTo>
                  <a:pt x="0" y="0"/>
                </a:moveTo>
                <a:lnTo>
                  <a:pt x="0" y="0"/>
                </a:lnTo>
                <a:cubicBezTo>
                  <a:pt x="616" y="261"/>
                  <a:pt x="1266" y="442"/>
                  <a:pt x="1933" y="53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 flipH="1">
            <a:off x="2676600" y="1633680"/>
            <a:ext cx="1990800" cy="148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2676600" y="3129120"/>
            <a:ext cx="814320" cy="243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4672080" y="1633680"/>
            <a:ext cx="2000160" cy="149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 flipH="1">
            <a:off x="5872320" y="3133800"/>
            <a:ext cx="795240" cy="241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2712960" y="1639800"/>
            <a:ext cx="3904200" cy="3904200"/>
          </a:xfrm>
          <a:custGeom>
            <a:avLst/>
            <a:gdLst/>
            <a:ahLst/>
            <a:rect l="0" t="0" r="r" b="b"/>
            <a:pathLst>
              <a:path fill="none" w="10845" h="10845">
                <a:moveTo>
                  <a:pt x="5422" y="0"/>
                </a:moveTo>
                <a:lnTo>
                  <a:pt x="4154" y="4154"/>
                </a:lnTo>
                <a:lnTo>
                  <a:pt x="0" y="4154"/>
                </a:lnTo>
                <a:lnTo>
                  <a:pt x="3375" y="6723"/>
                </a:lnTo>
                <a:lnTo>
                  <a:pt x="2106" y="10845"/>
                </a:lnTo>
                <a:lnTo>
                  <a:pt x="5422" y="8459"/>
                </a:lnTo>
                <a:lnTo>
                  <a:pt x="8737" y="10845"/>
                </a:lnTo>
                <a:lnTo>
                  <a:pt x="7461" y="6723"/>
                </a:lnTo>
                <a:lnTo>
                  <a:pt x="10845" y="4145"/>
                </a:lnTo>
                <a:lnTo>
                  <a:pt x="6688" y="4145"/>
                </a:lnTo>
                <a:lnTo>
                  <a:pt x="5422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490920" y="5567400"/>
            <a:ext cx="23814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"/>
          <p:cNvSpPr/>
          <p:nvPr/>
        </p:nvSpPr>
        <p:spPr>
          <a:xfrm>
            <a:off x="838080" y="39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2557440" y="1628640"/>
            <a:ext cx="4214880" cy="43149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4554360" y="3772080"/>
            <a:ext cx="22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4667400" y="36576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2712960" y="1639800"/>
            <a:ext cx="3904200" cy="3904200"/>
          </a:xfrm>
          <a:custGeom>
            <a:avLst/>
            <a:gdLst/>
            <a:ahLst/>
            <a:rect l="0" t="0" r="r" b="b"/>
            <a:pathLst>
              <a:path fill="none" w="10845" h="10845">
                <a:moveTo>
                  <a:pt x="5422" y="0"/>
                </a:moveTo>
                <a:lnTo>
                  <a:pt x="4154" y="4154"/>
                </a:lnTo>
                <a:lnTo>
                  <a:pt x="0" y="4154"/>
                </a:lnTo>
                <a:lnTo>
                  <a:pt x="3375" y="6723"/>
                </a:lnTo>
                <a:lnTo>
                  <a:pt x="2106" y="10845"/>
                </a:lnTo>
                <a:lnTo>
                  <a:pt x="5422" y="8459"/>
                </a:lnTo>
                <a:lnTo>
                  <a:pt x="8737" y="10845"/>
                </a:lnTo>
                <a:lnTo>
                  <a:pt x="7461" y="6723"/>
                </a:lnTo>
                <a:lnTo>
                  <a:pt x="10845" y="4145"/>
                </a:lnTo>
                <a:lnTo>
                  <a:pt x="6688" y="4145"/>
                </a:lnTo>
                <a:lnTo>
                  <a:pt x="5422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31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3" name=""/>
          <p:cNvSpPr txBox="1"/>
          <p:nvPr/>
        </p:nvSpPr>
        <p:spPr>
          <a:xfrm>
            <a:off x="2809800" y="5497560"/>
            <a:ext cx="4535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where the center should be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erpendicular center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6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37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9" name=""/>
          <p:cNvSpPr txBox="1"/>
          <p:nvPr/>
        </p:nvSpPr>
        <p:spPr>
          <a:xfrm>
            <a:off x="2809800" y="5497560"/>
            <a:ext cx="3865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a center point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erpendicular center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44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6" name=""/>
          <p:cNvSpPr txBox="1"/>
          <p:nvPr/>
        </p:nvSpPr>
        <p:spPr>
          <a:xfrm>
            <a:off x="6620040" y="1635120"/>
            <a:ext cx="2378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circle with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meter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diameter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1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52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4" name=""/>
          <p:cNvSpPr txBox="1"/>
          <p:nvPr/>
        </p:nvSpPr>
        <p:spPr>
          <a:xfrm>
            <a:off x="6620040" y="1635120"/>
            <a:ext cx="2378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circle with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meter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diameter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9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60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2" name=""/>
          <p:cNvSpPr txBox="1"/>
          <p:nvPr/>
        </p:nvSpPr>
        <p:spPr>
          <a:xfrm>
            <a:off x="6620040" y="1635120"/>
            <a:ext cx="2378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raw a circle with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iameter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jor diameter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llip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"/>
          <p:cNvSpPr txBox="1"/>
          <p:nvPr/>
        </p:nvSpPr>
        <p:spPr>
          <a:xfrm>
            <a:off x="6942240" y="4032360"/>
            <a:ext cx="211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r diameter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8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69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"/>
          <p:cNvSpPr txBox="1"/>
          <p:nvPr/>
        </p:nvSpPr>
        <p:spPr>
          <a:xfrm>
            <a:off x="6942240" y="4032360"/>
            <a:ext cx="211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or axi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7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78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0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6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87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9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1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6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197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9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7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08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0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9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20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2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7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2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33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5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1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6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47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9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"/>
          <p:cNvSpPr txBox="1"/>
          <p:nvPr/>
        </p:nvSpPr>
        <p:spPr>
          <a:xfrm>
            <a:off x="349200" y="1644480"/>
            <a:ext cx="261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circles into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of 16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62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4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"/>
          <p:cNvSpPr txBox="1"/>
          <p:nvPr/>
        </p:nvSpPr>
        <p:spPr>
          <a:xfrm>
            <a:off x="7112160" y="1635120"/>
            <a:ext cx="20318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viding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es the l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 v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c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77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9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"/>
          <p:cNvSpPr txBox="1"/>
          <p:nvPr/>
        </p:nvSpPr>
        <p:spPr>
          <a:xfrm>
            <a:off x="7110360" y="1635120"/>
            <a:ext cx="20318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viding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es the l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 v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c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7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298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0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"/>
          <p:cNvSpPr txBox="1"/>
          <p:nvPr/>
        </p:nvSpPr>
        <p:spPr>
          <a:xfrm>
            <a:off x="7110360" y="1635120"/>
            <a:ext cx="20318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viding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es the l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 v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c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4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325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7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6" name=""/>
          <p:cNvSpPr txBox="1"/>
          <p:nvPr/>
        </p:nvSpPr>
        <p:spPr>
          <a:xfrm>
            <a:off x="189000" y="1655640"/>
            <a:ext cx="25462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div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crosse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352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9" name=""/>
          <p:cNvSpPr txBox="1"/>
          <p:nvPr/>
        </p:nvSpPr>
        <p:spPr>
          <a:xfrm>
            <a:off x="189000" y="1655640"/>
            <a:ext cx="25462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div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crosse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385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7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189000" y="1655640"/>
            <a:ext cx="25462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each div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crosse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draw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424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6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7" name=""/>
          <p:cNvSpPr txBox="1"/>
          <p:nvPr/>
        </p:nvSpPr>
        <p:spPr>
          <a:xfrm>
            <a:off x="6534000" y="5305320"/>
            <a:ext cx="227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each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se proje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2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463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5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6534000" y="5305320"/>
            <a:ext cx="2279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each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ect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se proje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7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518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0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 txBox="1"/>
          <p:nvPr/>
        </p:nvSpPr>
        <p:spPr>
          <a:xfrm>
            <a:off x="177840" y="1763640"/>
            <a:ext cx="2624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n irregular curv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2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573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5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2314440" y="2585880"/>
            <a:ext cx="2215080" cy="1329120"/>
          </a:xfrm>
          <a:custGeom>
            <a:avLst/>
            <a:gdLst/>
            <a:ahLst/>
            <a:rect l="0" t="0" r="r" b="b"/>
            <a:pathLst>
              <a:path fill="none" w="6153" h="3692">
                <a:moveTo>
                  <a:pt x="6153" y="0"/>
                </a:moveTo>
                <a:lnTo>
                  <a:pt x="6153" y="0"/>
                </a:lnTo>
                <a:cubicBezTo>
                  <a:pt x="5073" y="0"/>
                  <a:pt x="4012" y="171"/>
                  <a:pt x="3076" y="495"/>
                </a:cubicBezTo>
                <a:cubicBezTo>
                  <a:pt x="2141" y="819"/>
                  <a:pt x="1364" y="1285"/>
                  <a:pt x="824" y="1846"/>
                </a:cubicBezTo>
                <a:cubicBezTo>
                  <a:pt x="284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177840" y="1763640"/>
            <a:ext cx="2624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n irregular curv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11800" y="227160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37120" y="36496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8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629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1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2305080" y="2585880"/>
            <a:ext cx="2233800" cy="1329120"/>
          </a:xfrm>
          <a:custGeom>
            <a:avLst/>
            <a:gdLst/>
            <a:ahLst/>
            <a:rect l="0" t="0" r="r" b="b"/>
            <a:pathLst>
              <a:path fill="none" w="6205" h="3692">
                <a:moveTo>
                  <a:pt x="6205" y="0"/>
                </a:moveTo>
                <a:lnTo>
                  <a:pt x="6205" y="0"/>
                </a:lnTo>
                <a:cubicBezTo>
                  <a:pt x="5116" y="0"/>
                  <a:pt x="4046" y="171"/>
                  <a:pt x="3102" y="495"/>
                </a:cubicBezTo>
                <a:cubicBezTo>
                  <a:pt x="2159" y="819"/>
                  <a:pt x="1376" y="1285"/>
                  <a:pt x="831" y="1846"/>
                </a:cubicBezTo>
                <a:cubicBezTo>
                  <a:pt x="287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2305080" y="3925800"/>
            <a:ext cx="2248200" cy="1329120"/>
          </a:xfrm>
          <a:custGeom>
            <a:avLst/>
            <a:gdLst/>
            <a:ahLst/>
            <a:rect l="0" t="0" r="r" b="b"/>
            <a:pathLst>
              <a:path fill="none" w="6245" h="3692">
                <a:moveTo>
                  <a:pt x="6245" y="3692"/>
                </a:moveTo>
                <a:lnTo>
                  <a:pt x="6245" y="3692"/>
                </a:lnTo>
                <a:lnTo>
                  <a:pt x="6245" y="3692"/>
                </a:lnTo>
                <a:cubicBezTo>
                  <a:pt x="6245" y="3044"/>
                  <a:pt x="5956" y="2407"/>
                  <a:pt x="5408" y="1846"/>
                </a:cubicBezTo>
                <a:cubicBezTo>
                  <a:pt x="4860" y="1285"/>
                  <a:pt x="4072" y="819"/>
                  <a:pt x="3122" y="495"/>
                </a:cubicBezTo>
                <a:cubicBezTo>
                  <a:pt x="2173" y="171"/>
                  <a:pt x="109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177840" y="1763640"/>
            <a:ext cx="2624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n irregular curv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5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686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8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2295360" y="3919680"/>
            <a:ext cx="2233800" cy="1329120"/>
          </a:xfrm>
          <a:custGeom>
            <a:avLst/>
            <a:gdLst/>
            <a:ahLst/>
            <a:rect l="0" t="0" r="r" b="b"/>
            <a:pathLst>
              <a:path fill="none" w="6205" h="3692">
                <a:moveTo>
                  <a:pt x="6205" y="3692"/>
                </a:moveTo>
                <a:lnTo>
                  <a:pt x="6205" y="3692"/>
                </a:lnTo>
                <a:lnTo>
                  <a:pt x="6205" y="3692"/>
                </a:lnTo>
                <a:cubicBezTo>
                  <a:pt x="6205" y="3044"/>
                  <a:pt x="5918" y="2407"/>
                  <a:pt x="5374" y="1846"/>
                </a:cubicBezTo>
                <a:cubicBezTo>
                  <a:pt x="4829" y="1285"/>
                  <a:pt x="4046" y="819"/>
                  <a:pt x="3102" y="495"/>
                </a:cubicBezTo>
                <a:cubicBezTo>
                  <a:pt x="2159" y="171"/>
                  <a:pt x="108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4543560" y="3925800"/>
            <a:ext cx="2248200" cy="1329120"/>
          </a:xfrm>
          <a:custGeom>
            <a:avLst/>
            <a:gdLst/>
            <a:ahLst/>
            <a:rect l="0" t="0" r="r" b="b"/>
            <a:pathLst>
              <a:path fill="none" w="6245" h="3692">
                <a:moveTo>
                  <a:pt x="6245" y="0"/>
                </a:moveTo>
                <a:lnTo>
                  <a:pt x="6245" y="0"/>
                </a:lnTo>
                <a:cubicBezTo>
                  <a:pt x="5149" y="0"/>
                  <a:pt x="4072" y="171"/>
                  <a:pt x="3122" y="495"/>
                </a:cubicBezTo>
                <a:cubicBezTo>
                  <a:pt x="2173" y="819"/>
                  <a:pt x="1385" y="1285"/>
                  <a:pt x="837" y="1846"/>
                </a:cubicBezTo>
                <a:cubicBezTo>
                  <a:pt x="289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2295360" y="2592360"/>
            <a:ext cx="2233800" cy="1329120"/>
          </a:xfrm>
          <a:custGeom>
            <a:avLst/>
            <a:gdLst/>
            <a:ahLst/>
            <a:rect l="0" t="0" r="r" b="b"/>
            <a:pathLst>
              <a:path fill="none" w="6205" h="3692">
                <a:moveTo>
                  <a:pt x="6205" y="0"/>
                </a:moveTo>
                <a:lnTo>
                  <a:pt x="6205" y="0"/>
                </a:lnTo>
                <a:cubicBezTo>
                  <a:pt x="5116" y="0"/>
                  <a:pt x="4046" y="171"/>
                  <a:pt x="3102" y="495"/>
                </a:cubicBezTo>
                <a:cubicBezTo>
                  <a:pt x="2159" y="819"/>
                  <a:pt x="1376" y="1285"/>
                  <a:pt x="831" y="1846"/>
                </a:cubicBezTo>
                <a:cubicBezTo>
                  <a:pt x="287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 txBox="1"/>
          <p:nvPr/>
        </p:nvSpPr>
        <p:spPr>
          <a:xfrm>
            <a:off x="177840" y="1763640"/>
            <a:ext cx="2624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n irregular curv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744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6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2295360" y="3919680"/>
            <a:ext cx="2233800" cy="1329120"/>
          </a:xfrm>
          <a:custGeom>
            <a:avLst/>
            <a:gdLst/>
            <a:ahLst/>
            <a:rect l="0" t="0" r="r" b="b"/>
            <a:pathLst>
              <a:path fill="none" w="6205" h="3692">
                <a:moveTo>
                  <a:pt x="6205" y="3692"/>
                </a:moveTo>
                <a:lnTo>
                  <a:pt x="6205" y="3692"/>
                </a:lnTo>
                <a:lnTo>
                  <a:pt x="6205" y="3692"/>
                </a:lnTo>
                <a:cubicBezTo>
                  <a:pt x="6205" y="3044"/>
                  <a:pt x="5918" y="2407"/>
                  <a:pt x="5374" y="1846"/>
                </a:cubicBezTo>
                <a:cubicBezTo>
                  <a:pt x="4829" y="1285"/>
                  <a:pt x="4046" y="819"/>
                  <a:pt x="3102" y="495"/>
                </a:cubicBezTo>
                <a:cubicBezTo>
                  <a:pt x="2159" y="171"/>
                  <a:pt x="108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548240" y="2589120"/>
            <a:ext cx="2248200" cy="1329120"/>
          </a:xfrm>
          <a:custGeom>
            <a:avLst/>
            <a:gdLst/>
            <a:ahLst/>
            <a:rect l="0" t="0" r="r" b="b"/>
            <a:pathLst>
              <a:path fill="none" w="6245" h="3692">
                <a:moveTo>
                  <a:pt x="6245" y="3692"/>
                </a:moveTo>
                <a:lnTo>
                  <a:pt x="6245" y="3692"/>
                </a:lnTo>
                <a:lnTo>
                  <a:pt x="6245" y="3692"/>
                </a:lnTo>
                <a:cubicBezTo>
                  <a:pt x="6245" y="3044"/>
                  <a:pt x="5956" y="2407"/>
                  <a:pt x="5408" y="1846"/>
                </a:cubicBezTo>
                <a:cubicBezTo>
                  <a:pt x="4860" y="1285"/>
                  <a:pt x="4072" y="819"/>
                  <a:pt x="3122" y="495"/>
                </a:cubicBezTo>
                <a:cubicBezTo>
                  <a:pt x="2173" y="171"/>
                  <a:pt x="109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2295360" y="2592360"/>
            <a:ext cx="2233800" cy="1329120"/>
          </a:xfrm>
          <a:custGeom>
            <a:avLst/>
            <a:gdLst/>
            <a:ahLst/>
            <a:rect l="0" t="0" r="r" b="b"/>
            <a:pathLst>
              <a:path fill="none" w="6205" h="3692">
                <a:moveTo>
                  <a:pt x="6205" y="0"/>
                </a:moveTo>
                <a:lnTo>
                  <a:pt x="6205" y="0"/>
                </a:lnTo>
                <a:cubicBezTo>
                  <a:pt x="5116" y="0"/>
                  <a:pt x="4046" y="171"/>
                  <a:pt x="3102" y="495"/>
                </a:cubicBezTo>
                <a:cubicBezTo>
                  <a:pt x="2159" y="819"/>
                  <a:pt x="1376" y="1285"/>
                  <a:pt x="831" y="1846"/>
                </a:cubicBezTo>
                <a:cubicBezTo>
                  <a:pt x="287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4543560" y="3925800"/>
            <a:ext cx="2248200" cy="1329120"/>
          </a:xfrm>
          <a:custGeom>
            <a:avLst/>
            <a:gdLst/>
            <a:ahLst/>
            <a:rect l="0" t="0" r="r" b="b"/>
            <a:pathLst>
              <a:path fill="none" w="6245" h="3692">
                <a:moveTo>
                  <a:pt x="6245" y="0"/>
                </a:moveTo>
                <a:lnTo>
                  <a:pt x="6245" y="0"/>
                </a:lnTo>
                <a:cubicBezTo>
                  <a:pt x="5149" y="0"/>
                  <a:pt x="4072" y="171"/>
                  <a:pt x="3122" y="495"/>
                </a:cubicBezTo>
                <a:cubicBezTo>
                  <a:pt x="2173" y="819"/>
                  <a:pt x="1385" y="1285"/>
                  <a:pt x="837" y="1846"/>
                </a:cubicBezTo>
                <a:cubicBezTo>
                  <a:pt x="289" y="2407"/>
                  <a:pt x="0" y="3044"/>
                  <a:pt x="0" y="3692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524480" y="2562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6385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291456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2428920" y="3400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2266920" y="39052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2438280" y="44006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2933640" y="48387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367668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4524480" y="52387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400720" y="26668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6620040" y="34099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6124680" y="296244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6591240" y="442908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6772320" y="38955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6095880" y="484812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5362560" y="5133960"/>
            <a:ext cx="57240" cy="5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 txBox="1"/>
          <p:nvPr/>
        </p:nvSpPr>
        <p:spPr>
          <a:xfrm>
            <a:off x="177840" y="1763640"/>
            <a:ext cx="2624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n irregular curv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 the point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2297160" y="1658880"/>
            <a:ext cx="4506840" cy="45068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2295360" y="2590920"/>
            <a:ext cx="4505400" cy="2666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3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804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6" name=""/>
          <p:cNvSpPr/>
          <p:nvPr/>
        </p:nvSpPr>
        <p:spPr>
          <a:xfrm>
            <a:off x="2789280" y="2160720"/>
            <a:ext cx="3524040" cy="3524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 flipH="1">
            <a:off x="2751120" y="2198520"/>
            <a:ext cx="3543480" cy="354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3573360" y="1569960"/>
            <a:ext cx="1927440" cy="469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 flipH="1">
            <a:off x="3633840" y="1722600"/>
            <a:ext cx="1834920" cy="446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2249640" y="2962440"/>
            <a:ext cx="4622760" cy="19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 flipV="1">
            <a:off x="2232000" y="3003480"/>
            <a:ext cx="465768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3670200" y="1755720"/>
            <a:ext cx="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2940120" y="222084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245916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5427720" y="1733400"/>
            <a:ext cx="0" cy="1019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6151680" y="2174760"/>
            <a:ext cx="0" cy="87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6648480" y="2941560"/>
            <a:ext cx="0" cy="57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3247920" y="2590920"/>
            <a:ext cx="2655720" cy="26654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 flipH="1">
            <a:off x="2400480" y="3429000"/>
            <a:ext cx="95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 flipH="1">
            <a:off x="2867040" y="29908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H="1">
            <a:off x="3543480" y="26956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5067360" y="26956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505480" y="2990880"/>
            <a:ext cx="723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5810400" y="3438360"/>
            <a:ext cx="86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5791320" y="4457880"/>
            <a:ext cx="876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 flipV="1">
            <a:off x="6620040" y="44006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505480" y="4876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6124680" y="48290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048280" y="51624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5391000" y="5133960"/>
            <a:ext cx="0" cy="924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2467080" y="439092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2428920" y="44290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 flipH="1">
            <a:off x="2838600" y="4867200"/>
            <a:ext cx="79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2962440" y="4819680"/>
            <a:ext cx="0" cy="79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 flipH="1">
            <a:off x="3629160" y="5162400"/>
            <a:ext cx="438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3705120" y="5105520"/>
            <a:ext cx="0" cy="96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"/>
          <p:cNvSpPr txBox="1"/>
          <p:nvPr/>
        </p:nvSpPr>
        <p:spPr>
          <a:xfrm>
            <a:off x="685800" y="239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ic Circles Tech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2295360" y="2590920"/>
            <a:ext cx="4505400" cy="2666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2039760" y="3932280"/>
            <a:ext cx="504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4552920" y="1468440"/>
            <a:ext cx="0" cy="490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1" name=""/>
          <p:cNvGrpSpPr/>
          <p:nvPr/>
        </p:nvGrpSpPr>
        <p:grpSpPr>
          <a:xfrm>
            <a:off x="4435560" y="3816360"/>
            <a:ext cx="242640" cy="233280"/>
            <a:chOff x="4435560" y="3816360"/>
            <a:chExt cx="242640" cy="233280"/>
          </a:xfrm>
        </p:grpSpPr>
        <p:sp>
          <p:nvSpPr>
            <p:cNvPr id="4842" name=""/>
            <p:cNvSpPr/>
            <p:nvPr/>
          </p:nvSpPr>
          <p:spPr>
            <a:xfrm>
              <a:off x="4556160" y="3816360"/>
              <a:ext cx="0" cy="23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435560" y="393228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6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7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0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851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3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854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6" name=""/>
          <p:cNvSpPr txBox="1"/>
          <p:nvPr/>
        </p:nvSpPr>
        <p:spPr>
          <a:xfrm>
            <a:off x="3505320" y="1389240"/>
            <a:ext cx="373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py and transfer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gle at A to location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9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0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3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864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86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9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0" name=""/>
          <p:cNvSpPr txBox="1"/>
          <p:nvPr/>
        </p:nvSpPr>
        <p:spPr>
          <a:xfrm>
            <a:off x="1579680" y="4802040"/>
            <a:ext cx="4500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intersection 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n arc that crosses the lines f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2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3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7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878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0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881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3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1579680" y="4802040"/>
            <a:ext cx="4500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intersection 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n arc that crosses the lines f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7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1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892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89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7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8" name=""/>
          <p:cNvSpPr txBox="1"/>
          <p:nvPr/>
        </p:nvSpPr>
        <p:spPr>
          <a:xfrm>
            <a:off x="4179960" y="1924200"/>
            <a:ext cx="3238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ame setting on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, move it to point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an arc from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4880" y="20527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1800" y="227160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37120" y="36496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24240" y="216072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0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2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7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08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0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11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4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22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2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7" name=""/>
          <p:cNvSpPr txBox="1"/>
          <p:nvPr/>
        </p:nvSpPr>
        <p:spPr>
          <a:xfrm>
            <a:off x="1515960" y="4791240"/>
            <a:ext cx="4910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 lower inter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arc from point A, and measure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intersection on the other leg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9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1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1590840" y="2830680"/>
            <a:ext cx="874440" cy="1124640"/>
          </a:xfrm>
          <a:custGeom>
            <a:avLst/>
            <a:gdLst/>
            <a:ahLst/>
            <a:rect l="0" t="0" r="r" b="b"/>
            <a:pathLst>
              <a:path fill="none" w="2429" h="3124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5" y="2102"/>
                  <a:pt x="1123" y="2509"/>
                  <a:pt x="1613" y="2792"/>
                </a:cubicBezTo>
                <a:cubicBezTo>
                  <a:pt x="1869" y="2939"/>
                  <a:pt x="2143" y="3051"/>
                  <a:pt x="2429" y="31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7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38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0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41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3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 txBox="1"/>
          <p:nvPr/>
        </p:nvSpPr>
        <p:spPr>
          <a:xfrm>
            <a:off x="1515960" y="4791240"/>
            <a:ext cx="4910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 lower inter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arc from point A, and measure the di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ce to the intersection on the other leg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6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8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1590840" y="2830680"/>
            <a:ext cx="874440" cy="1124640"/>
          </a:xfrm>
          <a:custGeom>
            <a:avLst/>
            <a:gdLst/>
            <a:ahLst/>
            <a:rect l="0" t="0" r="r" b="b"/>
            <a:pathLst>
              <a:path fill="none" w="2429" h="3124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5" y="2102"/>
                  <a:pt x="1123" y="2509"/>
                  <a:pt x="1613" y="2792"/>
                </a:cubicBezTo>
                <a:cubicBezTo>
                  <a:pt x="1869" y="2939"/>
                  <a:pt x="2143" y="3051"/>
                  <a:pt x="2429" y="31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4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55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7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58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0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"/>
          <p:cNvSpPr txBox="1"/>
          <p:nvPr/>
        </p:nvSpPr>
        <p:spPr>
          <a:xfrm>
            <a:off x="4211640" y="1677960"/>
            <a:ext cx="3633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cate the compass to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on the leg of angle 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an arc that inters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ar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3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5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7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>
            <a:off x="1590840" y="2830680"/>
            <a:ext cx="874440" cy="1124640"/>
          </a:xfrm>
          <a:custGeom>
            <a:avLst/>
            <a:gdLst/>
            <a:ahLst/>
            <a:rect l="0" t="0" r="r" b="b"/>
            <a:pathLst>
              <a:path fill="none" w="2429" h="3124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5" y="2102"/>
                  <a:pt x="1123" y="2509"/>
                  <a:pt x="1613" y="2792"/>
                </a:cubicBezTo>
                <a:cubicBezTo>
                  <a:pt x="1869" y="2939"/>
                  <a:pt x="2143" y="3051"/>
                  <a:pt x="2429" y="31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1" name=""/>
          <p:cNvSpPr/>
          <p:nvPr/>
        </p:nvSpPr>
        <p:spPr>
          <a:xfrm>
            <a:off x="5705640" y="3646440"/>
            <a:ext cx="925200" cy="1136520"/>
          </a:xfrm>
          <a:custGeom>
            <a:avLst/>
            <a:gdLst/>
            <a:ahLst/>
            <a:rect l="0" t="0" r="r" b="b"/>
            <a:pathLst>
              <a:path fill="none" w="2570" h="3157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6" y="2102"/>
                  <a:pt x="1123" y="2510"/>
                  <a:pt x="1614" y="2793"/>
                </a:cubicBezTo>
                <a:cubicBezTo>
                  <a:pt x="1911" y="2964"/>
                  <a:pt x="2234" y="3087"/>
                  <a:pt x="2570" y="31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2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73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5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76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8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>
            <a:off x="7062840" y="401004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 txBox="1"/>
          <p:nvPr/>
        </p:nvSpPr>
        <p:spPr>
          <a:xfrm>
            <a:off x="4211640" y="1677960"/>
            <a:ext cx="3633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cate the compass to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on the leg of angle 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an arc that inters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ar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2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 flipV="1">
            <a:off x="6467400" y="2084400"/>
            <a:ext cx="1293840" cy="383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4" name=""/>
          <p:cNvSpPr txBox="1"/>
          <p:nvPr/>
        </p:nvSpPr>
        <p:spPr>
          <a:xfrm>
            <a:off x="67309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7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>
            <a:off x="1590840" y="2830680"/>
            <a:ext cx="874440" cy="1124640"/>
          </a:xfrm>
          <a:custGeom>
            <a:avLst/>
            <a:gdLst/>
            <a:ahLst/>
            <a:rect l="0" t="0" r="r" b="b"/>
            <a:pathLst>
              <a:path fill="none" w="2429" h="3124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5" y="2102"/>
                  <a:pt x="1123" y="2509"/>
                  <a:pt x="1613" y="2792"/>
                </a:cubicBezTo>
                <a:cubicBezTo>
                  <a:pt x="1869" y="2939"/>
                  <a:pt x="2143" y="3051"/>
                  <a:pt x="2429" y="31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0" name=""/>
          <p:cNvSpPr/>
          <p:nvPr/>
        </p:nvSpPr>
        <p:spPr>
          <a:xfrm>
            <a:off x="5705640" y="3646440"/>
            <a:ext cx="925200" cy="1136520"/>
          </a:xfrm>
          <a:custGeom>
            <a:avLst/>
            <a:gdLst/>
            <a:ahLst/>
            <a:rect l="0" t="0" r="r" b="b"/>
            <a:pathLst>
              <a:path fill="none" w="2570" h="3157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6" y="2102"/>
                  <a:pt x="1123" y="2510"/>
                  <a:pt x="1614" y="2793"/>
                </a:cubicBezTo>
                <a:cubicBezTo>
                  <a:pt x="1911" y="2964"/>
                  <a:pt x="2234" y="3087"/>
                  <a:pt x="2570" y="31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1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4992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499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7062840" y="401004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 txBox="1"/>
          <p:nvPr/>
        </p:nvSpPr>
        <p:spPr>
          <a:xfrm>
            <a:off x="2146320" y="4984920"/>
            <a:ext cx="421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line from point B that inters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intersection of the two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1" name=""/>
          <p:cNvSpPr txBox="1"/>
          <p:nvPr/>
        </p:nvSpPr>
        <p:spPr>
          <a:xfrm>
            <a:off x="623880" y="33638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2" name=""/>
          <p:cNvGrpSpPr/>
          <p:nvPr/>
        </p:nvGrpSpPr>
        <p:grpSpPr>
          <a:xfrm>
            <a:off x="5481720" y="2084400"/>
            <a:ext cx="2279520" cy="4064040"/>
            <a:chOff x="5481720" y="2084400"/>
            <a:chExt cx="2279520" cy="4064040"/>
          </a:xfrm>
        </p:grpSpPr>
        <p:grpSp>
          <p:nvGrpSpPr>
            <p:cNvPr id="5003" name=""/>
            <p:cNvGrpSpPr/>
            <p:nvPr/>
          </p:nvGrpSpPr>
          <p:grpSpPr>
            <a:xfrm>
              <a:off x="5481720" y="2084400"/>
              <a:ext cx="2279520" cy="3830760"/>
              <a:chOff x="5481720" y="2084400"/>
              <a:chExt cx="2279520" cy="3830760"/>
            </a:xfrm>
          </p:grpSpPr>
          <p:sp>
            <p:nvSpPr>
              <p:cNvPr id="5004" name=""/>
              <p:cNvSpPr/>
              <p:nvPr/>
            </p:nvSpPr>
            <p:spPr>
              <a:xfrm>
                <a:off x="5481720" y="2479680"/>
                <a:ext cx="985680" cy="343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6467400" y="2084400"/>
                <a:ext cx="1293840" cy="38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6" name=""/>
            <p:cNvSpPr txBox="1"/>
            <p:nvPr/>
          </p:nvSpPr>
          <p:spPr>
            <a:xfrm>
              <a:off x="6730920" y="5668920"/>
              <a:ext cx="434880" cy="4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7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0" name=""/>
          <p:cNvSpPr/>
          <p:nvPr/>
        </p:nvSpPr>
        <p:spPr>
          <a:xfrm>
            <a:off x="1590840" y="2830680"/>
            <a:ext cx="874440" cy="1124640"/>
          </a:xfrm>
          <a:custGeom>
            <a:avLst/>
            <a:gdLst/>
            <a:ahLst/>
            <a:rect l="0" t="0" r="r" b="b"/>
            <a:pathLst>
              <a:path fill="none" w="2429" h="3124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5" y="2102"/>
                  <a:pt x="1123" y="2509"/>
                  <a:pt x="1613" y="2792"/>
                </a:cubicBezTo>
                <a:cubicBezTo>
                  <a:pt x="1869" y="2939"/>
                  <a:pt x="2143" y="3051"/>
                  <a:pt x="2429" y="312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1" name=""/>
          <p:cNvSpPr/>
          <p:nvPr/>
        </p:nvSpPr>
        <p:spPr>
          <a:xfrm>
            <a:off x="5357160" y="457560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5705640" y="3646440"/>
            <a:ext cx="925200" cy="1136520"/>
          </a:xfrm>
          <a:custGeom>
            <a:avLst/>
            <a:gdLst/>
            <a:ahLst/>
            <a:rect l="0" t="0" r="r" b="b"/>
            <a:pathLst>
              <a:path fill="none" w="2570" h="3157">
                <a:moveTo>
                  <a:pt x="0" y="0"/>
                </a:moveTo>
                <a:lnTo>
                  <a:pt x="0" y="0"/>
                </a:lnTo>
                <a:cubicBezTo>
                  <a:pt x="0" y="566"/>
                  <a:pt x="149" y="1122"/>
                  <a:pt x="432" y="1612"/>
                </a:cubicBezTo>
                <a:cubicBezTo>
                  <a:pt x="716" y="2102"/>
                  <a:pt x="1123" y="2510"/>
                  <a:pt x="1614" y="2793"/>
                </a:cubicBezTo>
                <a:cubicBezTo>
                  <a:pt x="1911" y="2964"/>
                  <a:pt x="2234" y="3087"/>
                  <a:pt x="2570" y="31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3" name=""/>
          <p:cNvGrpSpPr/>
          <p:nvPr/>
        </p:nvGrpSpPr>
        <p:grpSpPr>
          <a:xfrm>
            <a:off x="6351480" y="5815080"/>
            <a:ext cx="233640" cy="210960"/>
            <a:chOff x="6351480" y="5815080"/>
            <a:chExt cx="233640" cy="210960"/>
          </a:xfrm>
        </p:grpSpPr>
        <p:sp>
          <p:nvSpPr>
            <p:cNvPr id="5014" name=""/>
            <p:cNvSpPr/>
            <p:nvPr/>
          </p:nvSpPr>
          <p:spPr>
            <a:xfrm>
              <a:off x="6469200" y="581508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6351480" y="5916600"/>
              <a:ext cx="23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1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9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/>
          <p:nvPr/>
        </p:nvSpPr>
        <p:spPr>
          <a:xfrm>
            <a:off x="7062840" y="401004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2" name=""/>
          <p:cNvSpPr txBox="1"/>
          <p:nvPr/>
        </p:nvSpPr>
        <p:spPr>
          <a:xfrm>
            <a:off x="765000" y="1062000"/>
            <a:ext cx="73245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equivalent of one-half of the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4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5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7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8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29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1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2" name=""/>
          <p:cNvSpPr txBox="1"/>
          <p:nvPr/>
        </p:nvSpPr>
        <p:spPr>
          <a:xfrm>
            <a:off x="765000" y="1062000"/>
            <a:ext cx="73245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equivalent of one-half of the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cation A to location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4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5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6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7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8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39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1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2" name=""/>
          <p:cNvSpPr txBox="1"/>
          <p:nvPr/>
        </p:nvSpPr>
        <p:spPr>
          <a:xfrm>
            <a:off x="765000" y="1062000"/>
            <a:ext cx="73245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equivalent of one-half of the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cation A to location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3" name=""/>
          <p:cNvSpPr txBox="1"/>
          <p:nvPr/>
        </p:nvSpPr>
        <p:spPr>
          <a:xfrm>
            <a:off x="1430280" y="4856040"/>
            <a:ext cx="4205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drawing an arc from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ntersects the two legs of 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006800" y="1835280"/>
            <a:ext cx="2121120" cy="237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14880" y="20527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1800" y="227160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37120" y="36496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24240" y="216072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689440" y="5300640"/>
            <a:ext cx="333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pre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to each of the chor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5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6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9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0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51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3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4" name=""/>
          <p:cNvSpPr txBox="1"/>
          <p:nvPr/>
        </p:nvSpPr>
        <p:spPr>
          <a:xfrm>
            <a:off x="1430280" y="4856040"/>
            <a:ext cx="4205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drawing an arc from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ntersects the two legs of 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6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7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8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9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0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62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4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5" name=""/>
          <p:cNvSpPr txBox="1"/>
          <p:nvPr/>
        </p:nvSpPr>
        <p:spPr>
          <a:xfrm>
            <a:off x="6504120" y="4578480"/>
            <a:ext cx="2328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point B,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c the same as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7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8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9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2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73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5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7" name=""/>
          <p:cNvSpPr txBox="1"/>
          <p:nvPr/>
        </p:nvSpPr>
        <p:spPr>
          <a:xfrm>
            <a:off x="6504120" y="4578480"/>
            <a:ext cx="2328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point B,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c the same as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9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0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8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7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9" name=""/>
          <p:cNvSpPr txBox="1"/>
          <p:nvPr/>
        </p:nvSpPr>
        <p:spPr>
          <a:xfrm>
            <a:off x="1922400" y="4513320"/>
            <a:ext cx="3703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s of the two legs of angl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equal arcs (this wi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arc at 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1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2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5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09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9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3" name=""/>
          <p:cNvSpPr txBox="1"/>
          <p:nvPr/>
        </p:nvSpPr>
        <p:spPr>
          <a:xfrm>
            <a:off x="1922400" y="4513320"/>
            <a:ext cx="3703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s of the two legs of angl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equal arcs (this wi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arc at 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5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6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0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11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3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9" name=""/>
          <p:cNvSpPr txBox="1"/>
          <p:nvPr/>
        </p:nvSpPr>
        <p:spPr>
          <a:xfrm>
            <a:off x="1922400" y="4513320"/>
            <a:ext cx="37036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on the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s of the two legs of angl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aw equal arcs (this wi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arc at 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2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9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5" name=""/>
          <p:cNvSpPr txBox="1"/>
          <p:nvPr/>
        </p:nvSpPr>
        <p:spPr>
          <a:xfrm>
            <a:off x="380880" y="1420920"/>
            <a:ext cx="318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intersec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7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8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2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43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5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2" name=""/>
          <p:cNvSpPr txBox="1"/>
          <p:nvPr/>
        </p:nvSpPr>
        <p:spPr>
          <a:xfrm>
            <a:off x="380880" y="1420920"/>
            <a:ext cx="318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intersec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4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5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9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60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2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6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7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8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9" name=""/>
          <p:cNvSpPr txBox="1"/>
          <p:nvPr/>
        </p:nvSpPr>
        <p:spPr>
          <a:xfrm>
            <a:off x="1440000" y="4984920"/>
            <a:ext cx="3851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second intersecting a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oint A, and transfer the arc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1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2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7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9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3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4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5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6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7" name=""/>
          <p:cNvSpPr txBox="1"/>
          <p:nvPr/>
        </p:nvSpPr>
        <p:spPr>
          <a:xfrm>
            <a:off x="1440000" y="4984920"/>
            <a:ext cx="3851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second intersecting a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oint A, and transfer the arc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006800" y="1835280"/>
            <a:ext cx="2121120" cy="237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527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1800" y="227160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37120" y="36496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4240" y="216072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945040" y="4516560"/>
            <a:ext cx="3005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c rule of geome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s that any two no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per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of an arc or circ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intersect at th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arc or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0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19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7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"/>
          <p:cNvSpPr txBox="1"/>
          <p:nvPr/>
        </p:nvSpPr>
        <p:spPr>
          <a:xfrm>
            <a:off x="1440000" y="4984920"/>
            <a:ext cx="3851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second intersecting a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oint A, and transfer the arc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8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9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1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3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214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6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9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0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3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4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5" name=""/>
          <p:cNvSpPr txBox="1"/>
          <p:nvPr/>
        </p:nvSpPr>
        <p:spPr>
          <a:xfrm>
            <a:off x="1130400" y="4984920"/>
            <a:ext cx="4740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enter the compass on the div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of angle A and the new arc with a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distance to the leg of 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7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8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9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0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1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2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233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5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8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0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1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2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3" name=""/>
          <p:cNvSpPr/>
          <p:nvPr/>
        </p:nvSpPr>
        <p:spPr>
          <a:xfrm>
            <a:off x="2602080" y="208908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4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5" name=""/>
          <p:cNvSpPr/>
          <p:nvPr/>
        </p:nvSpPr>
        <p:spPr>
          <a:xfrm>
            <a:off x="3321000" y="294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 txBox="1"/>
          <p:nvPr/>
        </p:nvSpPr>
        <p:spPr>
          <a:xfrm>
            <a:off x="1130400" y="4984920"/>
            <a:ext cx="4740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enter the compass on the div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of angle A and the new arc with a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distance to the leg of the 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8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9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0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1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2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3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254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6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9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0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1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4" name=""/>
          <p:cNvSpPr/>
          <p:nvPr/>
        </p:nvSpPr>
        <p:spPr>
          <a:xfrm>
            <a:off x="2602080" y="208908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5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6" name=""/>
          <p:cNvSpPr/>
          <p:nvPr/>
        </p:nvSpPr>
        <p:spPr>
          <a:xfrm>
            <a:off x="3321000" y="294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 txBox="1"/>
          <p:nvPr/>
        </p:nvSpPr>
        <p:spPr>
          <a:xfrm>
            <a:off x="6556320" y="4824360"/>
            <a:ext cx="2222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e radi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sam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ngle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9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0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2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3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4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275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7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2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3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4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5" name=""/>
          <p:cNvSpPr/>
          <p:nvPr/>
        </p:nvSpPr>
        <p:spPr>
          <a:xfrm>
            <a:off x="6597720" y="310032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/>
          <p:nvPr/>
        </p:nvSpPr>
        <p:spPr>
          <a:xfrm>
            <a:off x="2602080" y="208908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7" name=""/>
          <p:cNvSpPr/>
          <p:nvPr/>
        </p:nvSpPr>
        <p:spPr>
          <a:xfrm>
            <a:off x="5589720" y="268452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9" name=""/>
          <p:cNvSpPr/>
          <p:nvPr/>
        </p:nvSpPr>
        <p:spPr>
          <a:xfrm>
            <a:off x="3321000" y="294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1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2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4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5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6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297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3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6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>
            <a:off x="6597720" y="310032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2602080" y="208908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>
            <a:off x="5589720" y="268452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1" name=""/>
          <p:cNvSpPr/>
          <p:nvPr/>
        </p:nvSpPr>
        <p:spPr>
          <a:xfrm>
            <a:off x="3321000" y="294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"/>
          <p:cNvSpPr txBox="1"/>
          <p:nvPr/>
        </p:nvSpPr>
        <p:spPr>
          <a:xfrm>
            <a:off x="1954080" y="5133960"/>
            <a:ext cx="32446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point 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intersec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4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5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6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7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8" name=""/>
          <p:cNvSpPr/>
          <p:nvPr/>
        </p:nvSpPr>
        <p:spPr>
          <a:xfrm>
            <a:off x="977040" y="349488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320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2" name=""/>
          <p:cNvSpPr/>
          <p:nvPr/>
        </p:nvSpPr>
        <p:spPr>
          <a:xfrm>
            <a:off x="2692440" y="393696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2149560" y="2922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/>
          <p:nvPr/>
        </p:nvSpPr>
        <p:spPr>
          <a:xfrm>
            <a:off x="3324240" y="2192760"/>
            <a:ext cx="227520" cy="977400"/>
          </a:xfrm>
          <a:custGeom>
            <a:avLst/>
            <a:gdLst/>
            <a:ahLst/>
            <a:rect l="0" t="0" r="r" b="b"/>
            <a:pathLst>
              <a:path fill="none" w="632" h="2715">
                <a:moveTo>
                  <a:pt x="578" y="2715"/>
                </a:moveTo>
                <a:lnTo>
                  <a:pt x="578" y="2715"/>
                </a:lnTo>
                <a:cubicBezTo>
                  <a:pt x="614" y="2505"/>
                  <a:pt x="632" y="2293"/>
                  <a:pt x="632" y="2080"/>
                </a:cubicBezTo>
                <a:cubicBezTo>
                  <a:pt x="632" y="1423"/>
                  <a:pt x="459" y="777"/>
                  <a:pt x="129" y="207"/>
                </a:cubicBezTo>
                <a:cubicBezTo>
                  <a:pt x="88" y="137"/>
                  <a:pt x="45" y="68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5" name=""/>
          <p:cNvSpPr/>
          <p:nvPr/>
        </p:nvSpPr>
        <p:spPr>
          <a:xfrm>
            <a:off x="3303720" y="2735280"/>
            <a:ext cx="671040" cy="704880"/>
          </a:xfrm>
          <a:custGeom>
            <a:avLst/>
            <a:gdLst/>
            <a:ahLst/>
            <a:rect l="0" t="0" r="r" b="b"/>
            <a:pathLst>
              <a:path fill="none" w="1864" h="1958">
                <a:moveTo>
                  <a:pt x="1864" y="1958"/>
                </a:moveTo>
                <a:lnTo>
                  <a:pt x="1864" y="1958"/>
                </a:lnTo>
                <a:cubicBezTo>
                  <a:pt x="1801" y="1806"/>
                  <a:pt x="1728" y="1657"/>
                  <a:pt x="1646" y="1515"/>
                </a:cubicBezTo>
                <a:cubicBezTo>
                  <a:pt x="1317" y="945"/>
                  <a:pt x="844" y="473"/>
                  <a:pt x="275" y="144"/>
                </a:cubicBezTo>
                <a:cubicBezTo>
                  <a:pt x="185" y="92"/>
                  <a:pt x="94" y="44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6" name=""/>
          <p:cNvSpPr/>
          <p:nvPr/>
        </p:nvSpPr>
        <p:spPr>
          <a:xfrm>
            <a:off x="1011960" y="307980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7" name=""/>
          <p:cNvSpPr/>
          <p:nvPr/>
        </p:nvSpPr>
        <p:spPr>
          <a:xfrm>
            <a:off x="5068080" y="4588560"/>
            <a:ext cx="1659600" cy="956880"/>
          </a:xfrm>
          <a:custGeom>
            <a:avLst/>
            <a:gdLst/>
            <a:ahLst/>
            <a:rect l="0" t="0" r="r" b="b"/>
            <a:pathLst>
              <a:path fill="none" w="4610" h="2658">
                <a:moveTo>
                  <a:pt x="0" y="2658"/>
                </a:moveTo>
                <a:lnTo>
                  <a:pt x="0" y="2658"/>
                </a:lnTo>
                <a:lnTo>
                  <a:pt x="0" y="2658"/>
                </a:lnTo>
                <a:cubicBezTo>
                  <a:pt x="935" y="2658"/>
                  <a:pt x="1854" y="2412"/>
                  <a:pt x="2663" y="1944"/>
                </a:cubicBezTo>
                <a:cubicBezTo>
                  <a:pt x="3471" y="1478"/>
                  <a:pt x="4143" y="807"/>
                  <a:pt x="461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8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9" name=""/>
          <p:cNvSpPr/>
          <p:nvPr/>
        </p:nvSpPr>
        <p:spPr>
          <a:xfrm>
            <a:off x="4677480" y="3978360"/>
            <a:ext cx="2489400" cy="1435680"/>
          </a:xfrm>
          <a:custGeom>
            <a:avLst/>
            <a:gdLst/>
            <a:ahLst/>
            <a:rect l="0" t="0" r="r" b="b"/>
            <a:pathLst>
              <a:path fill="none" w="6915" h="3988">
                <a:moveTo>
                  <a:pt x="0" y="3988"/>
                </a:moveTo>
                <a:lnTo>
                  <a:pt x="0" y="3988"/>
                </a:lnTo>
                <a:cubicBezTo>
                  <a:pt x="1403" y="3988"/>
                  <a:pt x="2780" y="3619"/>
                  <a:pt x="3995" y="2917"/>
                </a:cubicBezTo>
                <a:cubicBezTo>
                  <a:pt x="5207" y="2217"/>
                  <a:pt x="6214" y="1211"/>
                  <a:pt x="691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6597720" y="310032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/>
          <p:nvPr/>
        </p:nvSpPr>
        <p:spPr>
          <a:xfrm>
            <a:off x="5738760" y="2305080"/>
            <a:ext cx="63720" cy="3543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2" name=""/>
          <p:cNvSpPr/>
          <p:nvPr/>
        </p:nvSpPr>
        <p:spPr>
          <a:xfrm>
            <a:off x="2602080" y="208764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3" name=""/>
          <p:cNvSpPr/>
          <p:nvPr/>
        </p:nvSpPr>
        <p:spPr>
          <a:xfrm>
            <a:off x="5589720" y="2684520"/>
            <a:ext cx="763920" cy="771120"/>
          </a:xfrm>
          <a:custGeom>
            <a:avLst/>
            <a:gdLst/>
            <a:ahLst/>
            <a:rect l="0" t="0" r="r" b="b"/>
            <a:pathLst>
              <a:path fill="none" w="2122" h="2142">
                <a:moveTo>
                  <a:pt x="2122" y="2142"/>
                </a:moveTo>
                <a:lnTo>
                  <a:pt x="2122" y="2142"/>
                </a:lnTo>
                <a:lnTo>
                  <a:pt x="2122" y="2142"/>
                </a:lnTo>
                <a:cubicBezTo>
                  <a:pt x="2122" y="1766"/>
                  <a:pt x="2024" y="1397"/>
                  <a:pt x="1838" y="1071"/>
                </a:cubicBezTo>
                <a:cubicBezTo>
                  <a:pt x="1651" y="745"/>
                  <a:pt x="1384" y="475"/>
                  <a:pt x="1061" y="287"/>
                </a:cubicBezTo>
                <a:cubicBezTo>
                  <a:pt x="738" y="99"/>
                  <a:pt x="372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5" name=""/>
          <p:cNvSpPr/>
          <p:nvPr/>
        </p:nvSpPr>
        <p:spPr>
          <a:xfrm>
            <a:off x="3321000" y="294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 txBox="1"/>
          <p:nvPr/>
        </p:nvSpPr>
        <p:spPr>
          <a:xfrm>
            <a:off x="1954080" y="5133960"/>
            <a:ext cx="32446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from point 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intersec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r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ing an Ang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8" name=""/>
          <p:cNvSpPr txBox="1"/>
          <p:nvPr/>
        </p:nvSpPr>
        <p:spPr>
          <a:xfrm>
            <a:off x="623880" y="3573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9" name=""/>
          <p:cNvSpPr txBox="1"/>
          <p:nvPr/>
        </p:nvSpPr>
        <p:spPr>
          <a:xfrm>
            <a:off x="6045120" y="5668920"/>
            <a:ext cx="434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820800" y="1793880"/>
            <a:ext cx="2525760" cy="2529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1" name=""/>
          <p:cNvSpPr/>
          <p:nvPr/>
        </p:nvSpPr>
        <p:spPr>
          <a:xfrm flipV="1">
            <a:off x="820800" y="3595680"/>
            <a:ext cx="3976560" cy="727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2" name=""/>
          <p:cNvGrpSpPr/>
          <p:nvPr/>
        </p:nvGrpSpPr>
        <p:grpSpPr>
          <a:xfrm>
            <a:off x="700200" y="4226040"/>
            <a:ext cx="233280" cy="210960"/>
            <a:chOff x="700200" y="4226040"/>
            <a:chExt cx="233280" cy="210960"/>
          </a:xfrm>
        </p:grpSpPr>
        <p:sp>
          <p:nvSpPr>
            <p:cNvPr id="5343" name=""/>
            <p:cNvSpPr/>
            <p:nvPr/>
          </p:nvSpPr>
          <p:spPr>
            <a:xfrm>
              <a:off x="817560" y="4226040"/>
              <a:ext cx="0" cy="2109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700200" y="4327560"/>
              <a:ext cx="23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5" name=""/>
          <p:cNvSpPr/>
          <p:nvPr/>
        </p:nvSpPr>
        <p:spPr>
          <a:xfrm flipV="1">
            <a:off x="5797440" y="2009880"/>
            <a:ext cx="1185840" cy="3830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6" name=""/>
          <p:cNvSpPr/>
          <p:nvPr/>
        </p:nvSpPr>
        <p:spPr>
          <a:xfrm flipV="1">
            <a:off x="847800" y="2438280"/>
            <a:ext cx="3548160" cy="18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7" name=""/>
          <p:cNvSpPr/>
          <p:nvPr/>
        </p:nvSpPr>
        <p:spPr>
          <a:xfrm>
            <a:off x="5738760" y="2305080"/>
            <a:ext cx="63720" cy="3543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"/>
          <p:cNvSpPr txBox="1"/>
          <p:nvPr/>
        </p:nvSpPr>
        <p:spPr>
          <a:xfrm>
            <a:off x="685800" y="25542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</a:t>
            </a:r>
            <a:br>
              <a:rPr sz="8800"/>
            </a:br>
            <a:r>
              <a:rPr b="1" lang="en-US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I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0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55680" y="2176560"/>
            <a:ext cx="3855960" cy="3855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566720" y="1909800"/>
            <a:ext cx="3664080" cy="170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08440" y="1625760"/>
            <a:ext cx="1206360" cy="263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92280" y="20113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54360" y="192096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38680" y="1828800"/>
            <a:ext cx="2790720" cy="242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006800" y="1835280"/>
            <a:ext cx="2121120" cy="237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14880" y="205272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4455"/>
                </a:moveTo>
                <a:lnTo>
                  <a:pt x="0" y="4455"/>
                </a:lnTo>
                <a:cubicBezTo>
                  <a:pt x="782" y="4455"/>
                  <a:pt x="1550" y="4249"/>
                  <a:pt x="2228" y="3858"/>
                </a:cubicBezTo>
                <a:cubicBezTo>
                  <a:pt x="2905" y="3467"/>
                  <a:pt x="3467" y="2905"/>
                  <a:pt x="3858" y="2227"/>
                </a:cubicBezTo>
                <a:cubicBezTo>
                  <a:pt x="4249" y="1550"/>
                  <a:pt x="4455" y="782"/>
                  <a:pt x="44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1800" y="2271600"/>
            <a:ext cx="1603800" cy="1603800"/>
          </a:xfrm>
          <a:custGeom>
            <a:avLst/>
            <a:gdLst/>
            <a:ahLst/>
            <a:rect l="0" t="0" r="r" b="b"/>
            <a:pathLst>
              <a:path fill="none" w="4455" h="4455">
                <a:moveTo>
                  <a:pt x="0" y="0"/>
                </a:moveTo>
                <a:lnTo>
                  <a:pt x="0" y="0"/>
                </a:lnTo>
                <a:cubicBezTo>
                  <a:pt x="0" y="782"/>
                  <a:pt x="206" y="1550"/>
                  <a:pt x="597" y="2228"/>
                </a:cubicBezTo>
                <a:cubicBezTo>
                  <a:pt x="988" y="2905"/>
                  <a:pt x="1550" y="3467"/>
                  <a:pt x="2228" y="3858"/>
                </a:cubicBezTo>
                <a:cubicBezTo>
                  <a:pt x="2905" y="4249"/>
                  <a:pt x="3673" y="4455"/>
                  <a:pt x="4455" y="4455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33640" y="3817800"/>
            <a:ext cx="415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40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 Cir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10080" y="22114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32080" y="322416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937120" y="364968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24240" y="2160720"/>
            <a:ext cx="50760" cy="52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945040" y="4516560"/>
            <a:ext cx="3005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c rule of geome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s that any two no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perpend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s of an arc or circ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intersect at th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arc or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2" name=""/>
          <p:cNvGrpSpPr/>
          <p:nvPr/>
        </p:nvGrpSpPr>
        <p:grpSpPr>
          <a:xfrm>
            <a:off x="2556000" y="5278320"/>
            <a:ext cx="4043160" cy="762120"/>
            <a:chOff x="2556000" y="5278320"/>
            <a:chExt cx="4043160" cy="762120"/>
          </a:xfrm>
        </p:grpSpPr>
        <p:sp>
          <p:nvSpPr>
            <p:cNvPr id="5353" name=""/>
            <p:cNvSpPr/>
            <p:nvPr/>
          </p:nvSpPr>
          <p:spPr>
            <a:xfrm>
              <a:off x="2556000" y="52783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556000" y="54309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556000" y="55832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556000" y="57355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556000" y="58881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556000" y="60404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9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2556000" y="5278320"/>
            <a:ext cx="4043160" cy="762120"/>
            <a:chOff x="2556000" y="5278320"/>
            <a:chExt cx="4043160" cy="762120"/>
          </a:xfrm>
        </p:grpSpPr>
        <p:sp>
          <p:nvSpPr>
            <p:cNvPr id="5362" name=""/>
            <p:cNvSpPr/>
            <p:nvPr/>
          </p:nvSpPr>
          <p:spPr>
            <a:xfrm>
              <a:off x="2556000" y="52783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556000" y="54309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556000" y="55832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556000" y="57355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556000" y="58881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556000" y="60404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8" name=""/>
          <p:cNvSpPr txBox="1"/>
          <p:nvPr/>
        </p:nvSpPr>
        <p:spPr>
          <a:xfrm>
            <a:off x="5675400" y="4492800"/>
            <a:ext cx="288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rizont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9" name=""/>
          <p:cNvSpPr/>
          <p:nvPr/>
        </p:nvSpPr>
        <p:spPr>
          <a:xfrm flipH="1">
            <a:off x="5479920" y="473544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 flipH="1">
            <a:off x="4948200" y="4735440"/>
            <a:ext cx="53172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1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3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4" name=""/>
          <p:cNvGrpSpPr/>
          <p:nvPr/>
        </p:nvGrpSpPr>
        <p:grpSpPr>
          <a:xfrm>
            <a:off x="2556000" y="5278320"/>
            <a:ext cx="4043160" cy="762120"/>
            <a:chOff x="2556000" y="5278320"/>
            <a:chExt cx="4043160" cy="762120"/>
          </a:xfrm>
        </p:grpSpPr>
        <p:sp>
          <p:nvSpPr>
            <p:cNvPr id="5375" name=""/>
            <p:cNvSpPr/>
            <p:nvPr/>
          </p:nvSpPr>
          <p:spPr>
            <a:xfrm>
              <a:off x="2556000" y="52783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556000" y="54309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556000" y="55832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556000" y="57355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56000" y="58881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556000" y="60404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1" name=""/>
          <p:cNvSpPr txBox="1"/>
          <p:nvPr/>
        </p:nvSpPr>
        <p:spPr>
          <a:xfrm>
            <a:off x="5675400" y="4492800"/>
            <a:ext cx="288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rizont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flipH="1">
            <a:off x="5479920" y="473544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5479920" y="4735440"/>
            <a:ext cx="919440" cy="542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4" name=""/>
          <p:cNvGrpSpPr/>
          <p:nvPr/>
        </p:nvGrpSpPr>
        <p:grpSpPr>
          <a:xfrm>
            <a:off x="2755800" y="5108400"/>
            <a:ext cx="3210120" cy="1155960"/>
            <a:chOff x="2755800" y="5108400"/>
            <a:chExt cx="3210120" cy="1155960"/>
          </a:xfrm>
        </p:grpSpPr>
        <p:grpSp>
          <p:nvGrpSpPr>
            <p:cNvPr id="5385" name=""/>
            <p:cNvGrpSpPr/>
            <p:nvPr/>
          </p:nvGrpSpPr>
          <p:grpSpPr>
            <a:xfrm>
              <a:off x="2755800" y="5111640"/>
              <a:ext cx="1524240" cy="1152720"/>
              <a:chOff x="2755800" y="5111640"/>
              <a:chExt cx="1524240" cy="1152720"/>
            </a:xfrm>
          </p:grpSpPr>
          <p:sp>
            <p:nvSpPr>
              <p:cNvPr id="5386" name=""/>
              <p:cNvSpPr/>
              <p:nvPr/>
            </p:nvSpPr>
            <p:spPr>
              <a:xfrm>
                <a:off x="27558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084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0607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2130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3656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35179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36702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38228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39751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1274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2800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7" name=""/>
            <p:cNvGrpSpPr/>
            <p:nvPr/>
          </p:nvGrpSpPr>
          <p:grpSpPr>
            <a:xfrm>
              <a:off x="4441680" y="5108400"/>
              <a:ext cx="1524240" cy="1152720"/>
              <a:chOff x="4441680" y="5108400"/>
              <a:chExt cx="1524240" cy="1152720"/>
            </a:xfrm>
          </p:grpSpPr>
          <p:sp>
            <p:nvSpPr>
              <p:cNvPr id="5398" name=""/>
              <p:cNvSpPr/>
              <p:nvPr/>
            </p:nvSpPr>
            <p:spPr>
              <a:xfrm>
                <a:off x="44416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5943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7466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988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515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2038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53560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55087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56610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58132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59659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0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1" name=""/>
          <p:cNvGrpSpPr/>
          <p:nvPr/>
        </p:nvGrpSpPr>
        <p:grpSpPr>
          <a:xfrm>
            <a:off x="2556000" y="5278320"/>
            <a:ext cx="4043160" cy="762120"/>
            <a:chOff x="2556000" y="5278320"/>
            <a:chExt cx="4043160" cy="762120"/>
          </a:xfrm>
        </p:grpSpPr>
        <p:sp>
          <p:nvSpPr>
            <p:cNvPr id="5412" name=""/>
            <p:cNvSpPr/>
            <p:nvPr/>
          </p:nvSpPr>
          <p:spPr>
            <a:xfrm>
              <a:off x="2556000" y="52783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556000" y="54309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556000" y="55832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556000" y="57355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556000" y="58881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556000" y="60404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8" name=""/>
          <p:cNvSpPr txBox="1"/>
          <p:nvPr/>
        </p:nvSpPr>
        <p:spPr>
          <a:xfrm>
            <a:off x="5675400" y="4492800"/>
            <a:ext cx="288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rizont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 flipH="1">
            <a:off x="5479920" y="473544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0" name=""/>
          <p:cNvSpPr/>
          <p:nvPr/>
        </p:nvSpPr>
        <p:spPr>
          <a:xfrm>
            <a:off x="5479920" y="4735440"/>
            <a:ext cx="919440" cy="542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1" name=""/>
          <p:cNvGrpSpPr/>
          <p:nvPr/>
        </p:nvGrpSpPr>
        <p:grpSpPr>
          <a:xfrm>
            <a:off x="2755800" y="5108400"/>
            <a:ext cx="3210120" cy="1155960"/>
            <a:chOff x="2755800" y="5108400"/>
            <a:chExt cx="3210120" cy="1155960"/>
          </a:xfrm>
        </p:grpSpPr>
        <p:grpSp>
          <p:nvGrpSpPr>
            <p:cNvPr id="5422" name=""/>
            <p:cNvGrpSpPr/>
            <p:nvPr/>
          </p:nvGrpSpPr>
          <p:grpSpPr>
            <a:xfrm>
              <a:off x="2755800" y="5111640"/>
              <a:ext cx="1524240" cy="1152720"/>
              <a:chOff x="2755800" y="5111640"/>
              <a:chExt cx="1524240" cy="1152720"/>
            </a:xfrm>
          </p:grpSpPr>
          <p:sp>
            <p:nvSpPr>
              <p:cNvPr id="5423" name=""/>
              <p:cNvSpPr/>
              <p:nvPr/>
            </p:nvSpPr>
            <p:spPr>
              <a:xfrm>
                <a:off x="27558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084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30607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32130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33656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35179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36702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38228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397512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12740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280040" y="511164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4" name=""/>
            <p:cNvGrpSpPr/>
            <p:nvPr/>
          </p:nvGrpSpPr>
          <p:grpSpPr>
            <a:xfrm>
              <a:off x="4441680" y="5108400"/>
              <a:ext cx="1524240" cy="1152720"/>
              <a:chOff x="4441680" y="5108400"/>
              <a:chExt cx="1524240" cy="1152720"/>
            </a:xfrm>
          </p:grpSpPr>
          <p:sp>
            <p:nvSpPr>
              <p:cNvPr id="5435" name=""/>
              <p:cNvSpPr/>
              <p:nvPr/>
            </p:nvSpPr>
            <p:spPr>
              <a:xfrm>
                <a:off x="44416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943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7466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988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0515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2038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53560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55087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566100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581328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965920" y="5108400"/>
                <a:ext cx="0" cy="1152720"/>
              </a:xfrm>
              <a:prstGeom prst="line">
                <a:avLst/>
              </a:prstGeom>
              <a:ln w="1260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46" name=""/>
          <p:cNvSpPr txBox="1"/>
          <p:nvPr/>
        </p:nvSpPr>
        <p:spPr>
          <a:xfrm>
            <a:off x="1090440" y="4503600"/>
            <a:ext cx="2562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ertic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3664080" y="4757760"/>
            <a:ext cx="264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3530520" y="4757760"/>
            <a:ext cx="398520" cy="398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2556000" y="5278320"/>
            <a:ext cx="4043160" cy="762120"/>
            <a:chOff x="2556000" y="5278320"/>
            <a:chExt cx="4043160" cy="762120"/>
          </a:xfrm>
        </p:grpSpPr>
        <p:sp>
          <p:nvSpPr>
            <p:cNvPr id="5451" name=""/>
            <p:cNvSpPr/>
            <p:nvPr/>
          </p:nvSpPr>
          <p:spPr>
            <a:xfrm>
              <a:off x="2556000" y="52783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556000" y="54309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556000" y="55832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556000" y="573552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556000" y="588816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556000" y="6040440"/>
              <a:ext cx="4043160" cy="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7" name=""/>
          <p:cNvSpPr txBox="1"/>
          <p:nvPr/>
        </p:nvSpPr>
        <p:spPr>
          <a:xfrm>
            <a:off x="5675400" y="4492800"/>
            <a:ext cx="288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rizont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8" name=""/>
          <p:cNvSpPr/>
          <p:nvPr/>
        </p:nvSpPr>
        <p:spPr>
          <a:xfrm flipH="1">
            <a:off x="5479920" y="473544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9" name=""/>
          <p:cNvSpPr/>
          <p:nvPr/>
        </p:nvSpPr>
        <p:spPr>
          <a:xfrm>
            <a:off x="5479920" y="4735440"/>
            <a:ext cx="930240" cy="542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0" name=""/>
          <p:cNvSpPr txBox="1"/>
          <p:nvPr/>
        </p:nvSpPr>
        <p:spPr>
          <a:xfrm>
            <a:off x="582480" y="1469880"/>
            <a:ext cx="81993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ed for freehand lettering on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s.  Even the most experienced engineers and draf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uidelines whenever freehand lettering must be don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s.  Guidelines are very light lines drawn horizontal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et.  Spacing between guidelines depends on the size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, and company standards, but usually lettering heigh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1/8 inch.  </a:t>
            </a:r>
            <a:r>
              <a:rPr b="0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Vertical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re also often used by n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fters and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1" name=""/>
          <p:cNvGrpSpPr/>
          <p:nvPr/>
        </p:nvGrpSpPr>
        <p:grpSpPr>
          <a:xfrm>
            <a:off x="2622600" y="5068800"/>
            <a:ext cx="1811160" cy="1150920"/>
            <a:chOff x="2622600" y="5068800"/>
            <a:chExt cx="1811160" cy="1150920"/>
          </a:xfrm>
        </p:grpSpPr>
        <p:sp>
          <p:nvSpPr>
            <p:cNvPr id="5462" name=""/>
            <p:cNvSpPr/>
            <p:nvPr/>
          </p:nvSpPr>
          <p:spPr>
            <a:xfrm flipH="1">
              <a:off x="262260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H="1">
              <a:off x="277488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H="1">
              <a:off x="292752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H="1">
              <a:off x="307980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323208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H="1">
              <a:off x="338472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H="1">
              <a:off x="353700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H="1">
              <a:off x="368928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H="1">
              <a:off x="384192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H="1">
              <a:off x="399420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4146480" y="506880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4297320" y="5076720"/>
            <a:ext cx="1811520" cy="1150920"/>
            <a:chOff x="4297320" y="5076720"/>
            <a:chExt cx="1811520" cy="1150920"/>
          </a:xfrm>
        </p:grpSpPr>
        <p:sp>
          <p:nvSpPr>
            <p:cNvPr id="5474" name=""/>
            <p:cNvSpPr/>
            <p:nvPr/>
          </p:nvSpPr>
          <p:spPr>
            <a:xfrm flipH="1">
              <a:off x="429732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H="1">
              <a:off x="4449600" y="5076720"/>
              <a:ext cx="28764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H="1">
              <a:off x="460224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H="1">
              <a:off x="475452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4906800" y="5076720"/>
              <a:ext cx="28764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H="1">
              <a:off x="505944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H="1">
              <a:off x="521172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 flipH="1">
              <a:off x="5364000" y="5076720"/>
              <a:ext cx="28764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551664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H="1">
              <a:off x="5668920" y="5076720"/>
              <a:ext cx="28728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H="1">
              <a:off x="5821200" y="5076720"/>
              <a:ext cx="287640" cy="1150920"/>
            </a:xfrm>
            <a:prstGeom prst="line">
              <a:avLst/>
            </a:prstGeom>
            <a:ln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5" name=""/>
          <p:cNvSpPr txBox="1"/>
          <p:nvPr/>
        </p:nvSpPr>
        <p:spPr>
          <a:xfrm>
            <a:off x="957240" y="4470480"/>
            <a:ext cx="257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lined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6" name=""/>
          <p:cNvSpPr/>
          <p:nvPr/>
        </p:nvSpPr>
        <p:spPr>
          <a:xfrm>
            <a:off x="3541680" y="4713120"/>
            <a:ext cx="21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7" name=""/>
          <p:cNvSpPr/>
          <p:nvPr/>
        </p:nvSpPr>
        <p:spPr>
          <a:xfrm>
            <a:off x="3753000" y="4713120"/>
            <a:ext cx="355320" cy="35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>
            <a:off x="1444680" y="1751040"/>
            <a:ext cx="1341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7" name=""/>
          <p:cNvSpPr txBox="1"/>
          <p:nvPr/>
        </p:nvSpPr>
        <p:spPr>
          <a:xfrm>
            <a:off x="1444680" y="1751040"/>
            <a:ext cx="1341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5" name=""/>
          <p:cNvSpPr txBox="1"/>
          <p:nvPr/>
        </p:nvSpPr>
        <p:spPr>
          <a:xfrm>
            <a:off x="1444680" y="1751040"/>
            <a:ext cx="1962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3" name=""/>
          <p:cNvSpPr txBox="1"/>
          <p:nvPr/>
        </p:nvSpPr>
        <p:spPr>
          <a:xfrm>
            <a:off x="1444680" y="1751040"/>
            <a:ext cx="28098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1" name=""/>
          <p:cNvSpPr txBox="1"/>
          <p:nvPr/>
        </p:nvSpPr>
        <p:spPr>
          <a:xfrm>
            <a:off x="1444680" y="1751040"/>
            <a:ext cx="5519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6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63480" y="27936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able of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3480" y="111456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n arc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ing the center of an arc or circ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 (Circles within a Circle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 (Circle through a point and tangent to a line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 (Circle within and circle without a larger circle--both tangent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 (Line tangent to a circle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ing a line into equal segment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ing a line proportionally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tangent to a line and a circ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 (equal radii with parallel stems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 (unequal radii with parllel stems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ee Curve (Unequal radii with non-parallel stems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 (Pentagon within a given circle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gons (Pentagon --one side known, no circle, no center point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se Construction (Concentric circles technique)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ing an angle to new loca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ring a fraction of an ang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27080" y="67932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2080" y="679320"/>
            <a:ext cx="159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ginning Slide #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6448320"/>
            <a:ext cx="2131920" cy="39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5881680"/>
            <a:ext cx="7912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en in “Slide Show” mode, key in the specific slide number and ENTER (carriage return), to go to tha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73960" y="6492960"/>
            <a:ext cx="2457360" cy="35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9" name=""/>
          <p:cNvSpPr txBox="1"/>
          <p:nvPr/>
        </p:nvSpPr>
        <p:spPr>
          <a:xfrm>
            <a:off x="1444680" y="1751040"/>
            <a:ext cx="61689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0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1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7" name=""/>
          <p:cNvSpPr txBox="1"/>
          <p:nvPr/>
        </p:nvSpPr>
        <p:spPr>
          <a:xfrm>
            <a:off x="1444680" y="1751040"/>
            <a:ext cx="6168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1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2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3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5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8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3" name=""/>
          <p:cNvSpPr txBox="1"/>
          <p:nvPr/>
        </p:nvSpPr>
        <p:spPr>
          <a:xfrm>
            <a:off x="1444680" y="1751040"/>
            <a:ext cx="6168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4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5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6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7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8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1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2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3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4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5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6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7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9" name=""/>
          <p:cNvSpPr txBox="1"/>
          <p:nvPr/>
        </p:nvSpPr>
        <p:spPr>
          <a:xfrm>
            <a:off x="1444680" y="1751040"/>
            <a:ext cx="6168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2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3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4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5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7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5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3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1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9" name=""/>
          <p:cNvSpPr txBox="1"/>
          <p:nvPr/>
        </p:nvSpPr>
        <p:spPr>
          <a:xfrm>
            <a:off x="1444680" y="1751040"/>
            <a:ext cx="6168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7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5" name=""/>
          <p:cNvSpPr txBox="1"/>
          <p:nvPr/>
        </p:nvSpPr>
        <p:spPr>
          <a:xfrm>
            <a:off x="1444680" y="1751040"/>
            <a:ext cx="6168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NC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1444680" y="1751040"/>
            <a:ext cx="6168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NC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hand Let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1" name=""/>
          <p:cNvSpPr txBox="1"/>
          <p:nvPr/>
        </p:nvSpPr>
        <p:spPr>
          <a:xfrm>
            <a:off x="1444680" y="1751040"/>
            <a:ext cx="6168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IS IS AN EXERCISE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REEHAND LETTE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250 - 20 UNC - 2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1316160" y="1866960"/>
            <a:ext cx="6600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1316160" y="2255760"/>
            <a:ext cx="68436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1305000" y="2487600"/>
            <a:ext cx="62913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1305000" y="2863800"/>
            <a:ext cx="68119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1449360" y="3705120"/>
            <a:ext cx="504972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1427040" y="4094280"/>
            <a:ext cx="5426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"/>
          <p:cNvSpPr/>
          <p:nvPr/>
        </p:nvSpPr>
        <p:spPr>
          <a:xfrm>
            <a:off x="174600" y="6330960"/>
            <a:ext cx="883908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92600" y="4030560"/>
            <a:ext cx="41274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roblem requires that the ta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(the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which is sh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mon between a line and a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between two arcs or circles),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ed and prov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n a line dra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oint P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771640" y="1339920"/>
            <a:ext cx="5938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 by constructing a line from the center of the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oint 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92600" y="4030560"/>
            <a:ext cx="41274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is problem requires that the ta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int (the 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single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int which is sh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n common between a line and a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 between two arcs or circles),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dentified and proven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, on a line dra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rom point P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295960" y="4394160"/>
            <a:ext cx="3371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, construct a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or to th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88640" y="3095640"/>
            <a:ext cx="1949040" cy="1815480"/>
          </a:xfrm>
          <a:custGeom>
            <a:avLst/>
            <a:gdLst/>
            <a:ahLst/>
            <a:rect l="0" t="0" r="r" b="b"/>
            <a:pathLst>
              <a:path fill="none" w="5414" h="5043">
                <a:moveTo>
                  <a:pt x="0" y="5043"/>
                </a:moveTo>
                <a:lnTo>
                  <a:pt x="0" y="5043"/>
                </a:lnTo>
                <a:cubicBezTo>
                  <a:pt x="852" y="4949"/>
                  <a:pt x="1675" y="4679"/>
                  <a:pt x="2417" y="4250"/>
                </a:cubicBezTo>
                <a:cubicBezTo>
                  <a:pt x="3359" y="3707"/>
                  <a:pt x="4141" y="2924"/>
                  <a:pt x="4685" y="1982"/>
                </a:cubicBezTo>
                <a:cubicBezTo>
                  <a:pt x="5040" y="1368"/>
                  <a:pt x="5286" y="698"/>
                  <a:pt x="541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88640" y="3095640"/>
            <a:ext cx="1949040" cy="1815480"/>
          </a:xfrm>
          <a:custGeom>
            <a:avLst/>
            <a:gdLst/>
            <a:ahLst/>
            <a:rect l="0" t="0" r="r" b="b"/>
            <a:pathLst>
              <a:path fill="none" w="5414" h="5043">
                <a:moveTo>
                  <a:pt x="0" y="5043"/>
                </a:moveTo>
                <a:lnTo>
                  <a:pt x="0" y="5043"/>
                </a:lnTo>
                <a:cubicBezTo>
                  <a:pt x="852" y="4949"/>
                  <a:pt x="1675" y="4679"/>
                  <a:pt x="2417" y="4250"/>
                </a:cubicBezTo>
                <a:cubicBezTo>
                  <a:pt x="3359" y="3707"/>
                  <a:pt x="4141" y="2924"/>
                  <a:pt x="4685" y="1982"/>
                </a:cubicBezTo>
                <a:cubicBezTo>
                  <a:pt x="5040" y="1368"/>
                  <a:pt x="5286" y="698"/>
                  <a:pt x="5414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40240" y="2830680"/>
            <a:ext cx="1949040" cy="1815480"/>
          </a:xfrm>
          <a:custGeom>
            <a:avLst/>
            <a:gdLst/>
            <a:ahLst/>
            <a:rect l="0" t="0" r="r" b="b"/>
            <a:pathLst>
              <a:path fill="none" w="5414" h="5043">
                <a:moveTo>
                  <a:pt x="0" y="0"/>
                </a:moveTo>
                <a:lnTo>
                  <a:pt x="0" y="0"/>
                </a:lnTo>
                <a:cubicBezTo>
                  <a:pt x="128" y="698"/>
                  <a:pt x="374" y="1368"/>
                  <a:pt x="729" y="1982"/>
                </a:cubicBezTo>
                <a:cubicBezTo>
                  <a:pt x="1273" y="2924"/>
                  <a:pt x="2055" y="3707"/>
                  <a:pt x="2997" y="4250"/>
                </a:cubicBezTo>
                <a:cubicBezTo>
                  <a:pt x="3739" y="4679"/>
                  <a:pt x="4562" y="4949"/>
                  <a:pt x="5414" y="504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20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30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41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961240" y="3986280"/>
            <a:ext cx="3027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center point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, draw a semi-circle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connect the two e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f th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53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961240" y="3986280"/>
            <a:ext cx="3027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center point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, draw a semi-circle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connect the two e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f th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67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28760" y="1415880"/>
            <a:ext cx="3513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mi-circle intersect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 at the point at wh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ight line from point P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81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28760" y="1415880"/>
            <a:ext cx="3513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mi-circle intersect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 at the point at wh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ight line from point P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496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57520" y="2914560"/>
            <a:ext cx="4678200" cy="37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28760" y="1415880"/>
            <a:ext cx="35132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mi-circle intersect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 at the point at wh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ight line from point P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tangent to the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512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57520" y="2914560"/>
            <a:ext cx="4678200" cy="37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88040" y="4440240"/>
            <a:ext cx="2955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he center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to the tangent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straight (radial)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528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57520" y="2914560"/>
            <a:ext cx="4678200" cy="37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289320" y="2749680"/>
            <a:ext cx="127080" cy="167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188040" y="4440240"/>
            <a:ext cx="2955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he center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 to the tangent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straight (radial)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545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57520" y="2914560"/>
            <a:ext cx="4678200" cy="37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289320" y="2749680"/>
            <a:ext cx="127080" cy="167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90840" y="2979720"/>
            <a:ext cx="22716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88040" y="4440240"/>
            <a:ext cx="2955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nect the center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ircle to the tangent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ith a straight (radial)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379600" y="5664240"/>
            <a:ext cx="6257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ometric proof of the location of the tangent point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right-angle triangle can be enclosed within a semi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le, and . 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ing 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94040" y="2967120"/>
            <a:ext cx="2554200" cy="2554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664320" y="30384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765840" y="2751120"/>
            <a:ext cx="36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130560" y="4014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895480" y="3098880"/>
            <a:ext cx="4486320" cy="12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788640" y="2397240"/>
            <a:ext cx="2600640" cy="2728800"/>
            <a:chOff x="3788640" y="2397240"/>
            <a:chExt cx="2600640" cy="2728800"/>
          </a:xfrm>
        </p:grpSpPr>
        <p:sp>
          <p:nvSpPr>
            <p:cNvPr id="564" name=""/>
            <p:cNvSpPr/>
            <p:nvPr/>
          </p:nvSpPr>
          <p:spPr>
            <a:xfrm>
              <a:off x="3788640" y="309564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5043"/>
                  </a:moveTo>
                  <a:lnTo>
                    <a:pt x="0" y="5043"/>
                  </a:lnTo>
                  <a:cubicBezTo>
                    <a:pt x="852" y="4949"/>
                    <a:pt x="1675" y="4679"/>
                    <a:pt x="2417" y="4250"/>
                  </a:cubicBezTo>
                  <a:cubicBezTo>
                    <a:pt x="3359" y="3707"/>
                    <a:pt x="4141" y="2924"/>
                    <a:pt x="4685" y="1982"/>
                  </a:cubicBezTo>
                  <a:cubicBezTo>
                    <a:pt x="5040" y="1368"/>
                    <a:pt x="5286" y="698"/>
                    <a:pt x="5414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40240" y="2830680"/>
              <a:ext cx="1949040" cy="1815480"/>
            </a:xfrm>
            <a:custGeom>
              <a:avLst/>
              <a:gdLst/>
              <a:ahLst/>
              <a:rect l="0" t="0" r="r" b="b"/>
              <a:pathLst>
                <a:path fill="none" w="5414" h="5043">
                  <a:moveTo>
                    <a:pt x="0" y="0"/>
                  </a:moveTo>
                  <a:lnTo>
                    <a:pt x="0" y="0"/>
                  </a:lnTo>
                  <a:cubicBezTo>
                    <a:pt x="128" y="698"/>
                    <a:pt x="374" y="1368"/>
                    <a:pt x="729" y="1982"/>
                  </a:cubicBezTo>
                  <a:cubicBezTo>
                    <a:pt x="1273" y="2924"/>
                    <a:pt x="2055" y="3707"/>
                    <a:pt x="2997" y="4250"/>
                  </a:cubicBezTo>
                  <a:cubicBezTo>
                    <a:pt x="3739" y="4679"/>
                    <a:pt x="4562" y="4949"/>
                    <a:pt x="5414" y="5043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13120" y="2397240"/>
              <a:ext cx="811440" cy="27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25800" y="2128680"/>
            <a:ext cx="1881720" cy="1881720"/>
          </a:xfrm>
          <a:custGeom>
            <a:avLst/>
            <a:gdLst/>
            <a:ahLst/>
            <a:rect l="0" t="0" r="r" b="b"/>
            <a:pathLst>
              <a:path fill="none" w="5227" h="5227">
                <a:moveTo>
                  <a:pt x="0" y="0"/>
                </a:moveTo>
                <a:lnTo>
                  <a:pt x="0" y="0"/>
                </a:lnTo>
                <a:cubicBezTo>
                  <a:pt x="0" y="918"/>
                  <a:pt x="242" y="1819"/>
                  <a:pt x="700" y="2614"/>
                </a:cubicBezTo>
                <a:cubicBezTo>
                  <a:pt x="1159" y="3408"/>
                  <a:pt x="1819" y="4068"/>
                  <a:pt x="2614" y="4527"/>
                </a:cubicBezTo>
                <a:cubicBezTo>
                  <a:pt x="3408" y="4985"/>
                  <a:pt x="4309" y="5227"/>
                  <a:pt x="5227" y="522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30760" y="1760400"/>
            <a:ext cx="1878480" cy="1776960"/>
          </a:xfrm>
          <a:custGeom>
            <a:avLst/>
            <a:gdLst/>
            <a:ahLst/>
            <a:rect l="0" t="0" r="r" b="b"/>
            <a:pathLst>
              <a:path fill="none" w="5218" h="4936">
                <a:moveTo>
                  <a:pt x="0" y="4936"/>
                </a:moveTo>
                <a:lnTo>
                  <a:pt x="0" y="4936"/>
                </a:lnTo>
                <a:lnTo>
                  <a:pt x="0" y="4936"/>
                </a:lnTo>
                <a:cubicBezTo>
                  <a:pt x="917" y="4936"/>
                  <a:pt x="1819" y="4694"/>
                  <a:pt x="2613" y="4236"/>
                </a:cubicBezTo>
                <a:cubicBezTo>
                  <a:pt x="3408" y="3777"/>
                  <a:pt x="4067" y="3117"/>
                  <a:pt x="4526" y="2322"/>
                </a:cubicBezTo>
                <a:cubicBezTo>
                  <a:pt x="4935" y="1613"/>
                  <a:pt x="5172" y="818"/>
                  <a:pt x="521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57520" y="2914560"/>
            <a:ext cx="4678200" cy="37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289320" y="2749680"/>
            <a:ext cx="127080" cy="1676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90840" y="2979720"/>
            <a:ext cx="22716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27480" y="2895480"/>
            <a:ext cx="146160" cy="1461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65560" y="3691080"/>
            <a:ext cx="8244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773440" y="5546880"/>
            <a:ext cx="57913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. . any triangle formed by lines connecting an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with the center of a circle and a tangent po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circle, will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way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 right-angle triang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62200" y="3822840"/>
            <a:ext cx="4944960" cy="47520"/>
            <a:chOff x="1762200" y="3822840"/>
            <a:chExt cx="4944960" cy="47520"/>
          </a:xfrm>
        </p:grpSpPr>
        <p:sp>
          <p:nvSpPr>
            <p:cNvPr id="61" name=""/>
            <p:cNvSpPr/>
            <p:nvPr/>
          </p:nvSpPr>
          <p:spPr>
            <a:xfrm>
              <a:off x="1784520" y="3846600"/>
              <a:ext cx="490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3822840"/>
              <a:ext cx="4608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62200" y="3824280"/>
              <a:ext cx="4608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6000" y="1400040"/>
            <a:ext cx="864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problem, we are to construct a circle of a given diameter that will be ta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oth given circles and will also contain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49560" y="5105520"/>
            <a:ext cx="566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 by constructing a line through the center of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circles.  The angle is arbitr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16000" y="1400040"/>
            <a:ext cx="8640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n this problem, we are to construct a circle of a given diameter that will be tan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both given circles and will also contain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479760" y="3033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230560" y="2319480"/>
            <a:ext cx="2925720" cy="180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479760" y="3033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230560" y="2319480"/>
            <a:ext cx="2925720" cy="180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23800" y="4908600"/>
            <a:ext cx="8400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your compass to the known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ad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containing circle, and po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t one of the intersections of the line on the </a:t>
            </a:r>
            <a:r>
              <a:rPr b="1" i="1" lang="en-US" sz="2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ircumfera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circle. 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c across the construction 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479760" y="3033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64520" y="2325600"/>
            <a:ext cx="404640" cy="273960"/>
          </a:xfrm>
          <a:custGeom>
            <a:avLst/>
            <a:gdLst/>
            <a:ahLst/>
            <a:rect l="0" t="0" r="r" b="b"/>
            <a:pathLst>
              <a:path fill="none" w="1124" h="761">
                <a:moveTo>
                  <a:pt x="1124" y="0"/>
                </a:moveTo>
                <a:lnTo>
                  <a:pt x="1124" y="0"/>
                </a:lnTo>
                <a:cubicBezTo>
                  <a:pt x="986" y="55"/>
                  <a:pt x="851" y="120"/>
                  <a:pt x="722" y="194"/>
                </a:cubicBezTo>
                <a:cubicBezTo>
                  <a:pt x="455" y="347"/>
                  <a:pt x="211" y="538"/>
                  <a:pt x="0" y="7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30560" y="232560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73240" y="3629160"/>
            <a:ext cx="5868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479760" y="303372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64520" y="2325600"/>
            <a:ext cx="404640" cy="273960"/>
          </a:xfrm>
          <a:custGeom>
            <a:avLst/>
            <a:gdLst/>
            <a:ahLst/>
            <a:rect l="0" t="0" r="r" b="b"/>
            <a:pathLst>
              <a:path fill="none" w="1124" h="761">
                <a:moveTo>
                  <a:pt x="1124" y="0"/>
                </a:moveTo>
                <a:lnTo>
                  <a:pt x="1124" y="0"/>
                </a:lnTo>
                <a:cubicBezTo>
                  <a:pt x="986" y="55"/>
                  <a:pt x="851" y="120"/>
                  <a:pt x="722" y="194"/>
                </a:cubicBezTo>
                <a:cubicBezTo>
                  <a:pt x="455" y="347"/>
                  <a:pt x="211" y="538"/>
                  <a:pt x="0" y="761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246400" y="2316240"/>
            <a:ext cx="2925720" cy="180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857840" y="4938840"/>
            <a:ext cx="4253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compass to the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le, and extend the arc parallel 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230560" y="2311560"/>
            <a:ext cx="2925720" cy="180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230560" y="2311560"/>
            <a:ext cx="2925720" cy="180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222800" y="5149800"/>
            <a:ext cx="4633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within the secon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879560" y="5180040"/>
            <a:ext cx="6926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n arbitrary line through the center of the circle. 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known radius of the larger, enscribing circle, and centering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ss on one intersection, draw a defining ar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886280" y="2919240"/>
            <a:ext cx="1374840" cy="177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28320" y="4539600"/>
            <a:ext cx="217080" cy="163080"/>
          </a:xfrm>
          <a:custGeom>
            <a:avLst/>
            <a:gdLst/>
            <a:ahLst/>
            <a:rect l="0" t="0" r="r" b="b"/>
            <a:pathLst>
              <a:path fill="none" w="603" h="453">
                <a:moveTo>
                  <a:pt x="0" y="0"/>
                </a:moveTo>
                <a:lnTo>
                  <a:pt x="0" y="0"/>
                </a:lnTo>
                <a:cubicBezTo>
                  <a:pt x="184" y="172"/>
                  <a:pt x="386" y="324"/>
                  <a:pt x="603" y="45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8120" y="3159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62200" y="3822840"/>
            <a:ext cx="4944960" cy="47520"/>
            <a:chOff x="1762200" y="3822840"/>
            <a:chExt cx="4944960" cy="47520"/>
          </a:xfrm>
        </p:grpSpPr>
        <p:sp>
          <p:nvSpPr>
            <p:cNvPr id="68" name=""/>
            <p:cNvSpPr/>
            <p:nvPr/>
          </p:nvSpPr>
          <p:spPr>
            <a:xfrm>
              <a:off x="1784520" y="3846600"/>
              <a:ext cx="490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61080" y="3822840"/>
              <a:ext cx="4608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2200" y="3824280"/>
              <a:ext cx="4608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28320" y="4539600"/>
            <a:ext cx="217080" cy="163080"/>
          </a:xfrm>
          <a:custGeom>
            <a:avLst/>
            <a:gdLst/>
            <a:ahLst/>
            <a:rect l="0" t="0" r="r" b="b"/>
            <a:pathLst>
              <a:path fill="none" w="603" h="453">
                <a:moveTo>
                  <a:pt x="0" y="0"/>
                </a:moveTo>
                <a:lnTo>
                  <a:pt x="0" y="0"/>
                </a:lnTo>
                <a:cubicBezTo>
                  <a:pt x="184" y="172"/>
                  <a:pt x="386" y="324"/>
                  <a:pt x="603" y="453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886280" y="2919240"/>
            <a:ext cx="1374840" cy="177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18120" y="315900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122560" y="5029200"/>
            <a:ext cx="58672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e the compass at the center of the circle,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tended arc parallel to the circle.  Extend the arc f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ugh that an intersection will be formed with the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 dra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611520" y="3219480"/>
            <a:ext cx="69840" cy="6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879800" y="2919240"/>
            <a:ext cx="1374840" cy="177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40480" y="3645000"/>
            <a:ext cx="5868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681280" y="5210280"/>
            <a:ext cx="5862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ntersection will be the center of a circle (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diameter) that will be tangent to both circle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 both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479760" y="302580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9720" y="2739960"/>
            <a:ext cx="1740240" cy="473040"/>
          </a:xfrm>
          <a:custGeom>
            <a:avLst/>
            <a:gdLst/>
            <a:ahLst/>
            <a:rect l="0" t="0" r="r" b="b"/>
            <a:pathLst>
              <a:path fill="none" w="4834" h="1314">
                <a:moveTo>
                  <a:pt x="4834" y="1314"/>
                </a:moveTo>
                <a:lnTo>
                  <a:pt x="4834" y="1314"/>
                </a:lnTo>
                <a:cubicBezTo>
                  <a:pt x="4572" y="949"/>
                  <a:pt x="4234" y="643"/>
                  <a:pt x="3843" y="419"/>
                </a:cubicBezTo>
                <a:cubicBezTo>
                  <a:pt x="3364" y="145"/>
                  <a:pt x="2821" y="0"/>
                  <a:pt x="2268" y="0"/>
                </a:cubicBezTo>
                <a:cubicBezTo>
                  <a:pt x="1715" y="0"/>
                  <a:pt x="1172" y="145"/>
                  <a:pt x="693" y="419"/>
                </a:cubicBezTo>
                <a:cubicBezTo>
                  <a:pt x="438" y="565"/>
                  <a:pt x="205" y="747"/>
                  <a:pt x="0" y="957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230560" y="2306520"/>
            <a:ext cx="2925720" cy="180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886280" y="2919240"/>
            <a:ext cx="1374840" cy="177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697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640480" y="3645000"/>
            <a:ext cx="5868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544840" y="5226120"/>
            <a:ext cx="4070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the compass at the inter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two parallel arcs, with a set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the required radius and 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quire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10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21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 txBox="1"/>
          <p:nvPr/>
        </p:nvSpPr>
        <p:spPr>
          <a:xfrm>
            <a:off x="519120" y="1279440"/>
            <a:ext cx="8112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824200" y="2467080"/>
            <a:ext cx="166680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34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"/>
          <p:cNvSpPr txBox="1"/>
          <p:nvPr/>
        </p:nvSpPr>
        <p:spPr>
          <a:xfrm>
            <a:off x="519120" y="1279440"/>
            <a:ext cx="8112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2824200" y="2467080"/>
            <a:ext cx="166680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21120" y="263520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48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 txBox="1"/>
          <p:nvPr/>
        </p:nvSpPr>
        <p:spPr>
          <a:xfrm>
            <a:off x="519120" y="1279440"/>
            <a:ext cx="8112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2824200" y="2467080"/>
            <a:ext cx="166680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21120" y="263520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62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"/>
          <p:cNvSpPr txBox="1"/>
          <p:nvPr/>
        </p:nvSpPr>
        <p:spPr>
          <a:xfrm>
            <a:off x="6234120" y="5195880"/>
            <a:ext cx="2448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19120" y="1279440"/>
            <a:ext cx="8112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491000" y="3438360"/>
            <a:ext cx="2052720" cy="5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2824200" y="2467080"/>
            <a:ext cx="166680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21120" y="263520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78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"/>
          <p:cNvSpPr txBox="1"/>
          <p:nvPr/>
        </p:nvSpPr>
        <p:spPr>
          <a:xfrm>
            <a:off x="1214280" y="1301760"/>
            <a:ext cx="7318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234120" y="5195880"/>
            <a:ext cx="2448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491000" y="3438360"/>
            <a:ext cx="2052720" cy="557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176880" y="344808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2824200" y="2467080"/>
            <a:ext cx="1666800" cy="15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021120" y="263520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435560" y="3632040"/>
            <a:ext cx="609840" cy="1070640"/>
          </a:xfrm>
          <a:custGeom>
            <a:avLst/>
            <a:gdLst/>
            <a:ahLst/>
            <a:rect l="0" t="0" r="r" b="b"/>
            <a:pathLst>
              <a:path fill="none" w="1694" h="2974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cubicBezTo>
                  <a:pt x="0" y="608"/>
                  <a:pt x="160" y="1204"/>
                  <a:pt x="464" y="1730"/>
                </a:cubicBezTo>
                <a:cubicBezTo>
                  <a:pt x="760" y="2243"/>
                  <a:pt x="1184" y="2671"/>
                  <a:pt x="1694" y="2974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43200" y="3252960"/>
            <a:ext cx="1134000" cy="1124280"/>
          </a:xfrm>
          <a:custGeom>
            <a:avLst/>
            <a:gdLst/>
            <a:ahLst/>
            <a:rect l="0" t="0" r="r" b="b"/>
            <a:pathLst>
              <a:path fill="none" w="3150" h="3123">
                <a:moveTo>
                  <a:pt x="3150" y="3123"/>
                </a:moveTo>
                <a:lnTo>
                  <a:pt x="3150" y="3123"/>
                </a:lnTo>
                <a:lnTo>
                  <a:pt x="3150" y="3123"/>
                </a:lnTo>
                <a:cubicBezTo>
                  <a:pt x="3150" y="2575"/>
                  <a:pt x="3004" y="2036"/>
                  <a:pt x="2728" y="1561"/>
                </a:cubicBezTo>
                <a:cubicBezTo>
                  <a:pt x="2452" y="1087"/>
                  <a:pt x="2054" y="693"/>
                  <a:pt x="1575" y="418"/>
                </a:cubicBezTo>
                <a:cubicBezTo>
                  <a:pt x="1096" y="144"/>
                  <a:pt x="55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795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1214280" y="1301760"/>
            <a:ext cx="7318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identify the location of their tangent points, connect the large circle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ith the smaller circle center and extend the line to the intersection of bo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234120" y="5195880"/>
            <a:ext cx="2448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62520" y="5132520"/>
            <a:ext cx="5064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your compass at point A (with a ra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setting greater than one-half the dist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oints A and B), and draw an arc inter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ng line A,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97040" y="2103480"/>
            <a:ext cx="3716280" cy="371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76400" y="2451240"/>
            <a:ext cx="1581120" cy="1581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18040" y="3035160"/>
            <a:ext cx="1254240" cy="12542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479760" y="30146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502240" y="3457440"/>
            <a:ext cx="35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176880" y="344808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021120" y="2635200"/>
            <a:ext cx="142920" cy="133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402080" y="3902040"/>
            <a:ext cx="182520" cy="174600"/>
            <a:chOff x="4402080" y="3902040"/>
            <a:chExt cx="182520" cy="174600"/>
          </a:xfrm>
        </p:grpSpPr>
        <p:sp>
          <p:nvSpPr>
            <p:cNvPr id="808" name=""/>
            <p:cNvSpPr/>
            <p:nvPr/>
          </p:nvSpPr>
          <p:spPr>
            <a:xfrm>
              <a:off x="4494240" y="390204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02080" y="399096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95440" y="1717560"/>
            <a:ext cx="5219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 circle of a specified radius that is tang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line and passes through 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39720" y="2716200"/>
            <a:ext cx="4254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perpendicular 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tersects the given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595440" y="1717560"/>
            <a:ext cx="5219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raw a circle of a specified radius that is tang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the line and passes through 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39720" y="2716200"/>
            <a:ext cx="4254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a line that is perpendicular 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tersects the given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81600" y="5891040"/>
            <a:ext cx="4133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 process and create a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39720" y="2716200"/>
            <a:ext cx="4254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nstruct a line that is perpendicular 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nd intersects the given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75320" y="54752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5320" y="54752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20800" y="1309680"/>
            <a:ext cx="4713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 an arbitrary straight line from 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857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866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8" name=""/>
          <p:cNvSpPr txBox="1"/>
          <p:nvPr/>
        </p:nvSpPr>
        <p:spPr>
          <a:xfrm>
            <a:off x="246240" y="1747800"/>
            <a:ext cx="42530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your compass equal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radius of the desired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the compass at point A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be a measuring arc.  Do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each intersection of the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3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ecting a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76360" y="2281320"/>
            <a:ext cx="3091320" cy="3091320"/>
          </a:xfrm>
          <a:custGeom>
            <a:avLst/>
            <a:gdLst/>
            <a:ahLst/>
            <a:rect l="0" t="0" r="r" b="b"/>
            <a:pathLst>
              <a:path fill="none" w="8587" h="8587">
                <a:moveTo>
                  <a:pt x="0" y="8587"/>
                </a:moveTo>
                <a:lnTo>
                  <a:pt x="0" y="8587"/>
                </a:lnTo>
                <a:cubicBezTo>
                  <a:pt x="1507" y="8587"/>
                  <a:pt x="2988" y="8190"/>
                  <a:pt x="4294" y="7437"/>
                </a:cubicBezTo>
                <a:cubicBezTo>
                  <a:pt x="5599" y="6683"/>
                  <a:pt x="6683" y="5599"/>
                  <a:pt x="7437" y="4293"/>
                </a:cubicBezTo>
                <a:cubicBezTo>
                  <a:pt x="8190" y="2988"/>
                  <a:pt x="8587" y="1507"/>
                  <a:pt x="8587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84520" y="3846600"/>
            <a:ext cx="490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22520" y="34322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24640" y="34545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29040" y="4338720"/>
            <a:ext cx="39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61080" y="3822840"/>
            <a:ext cx="460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2200" y="3824280"/>
            <a:ext cx="46080" cy="46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844160" y="1263960"/>
            <a:ext cx="643320" cy="380520"/>
          </a:xfrm>
          <a:custGeom>
            <a:avLst/>
            <a:gdLst/>
            <a:ahLst/>
            <a:rect l="0" t="0" r="r" b="b"/>
            <a:pathLst>
              <a:path fill="none" w="1787" h="1057">
                <a:moveTo>
                  <a:pt x="1787" y="1057"/>
                </a:moveTo>
                <a:lnTo>
                  <a:pt x="1787" y="1057"/>
                </a:lnTo>
                <a:cubicBezTo>
                  <a:pt x="1510" y="815"/>
                  <a:pt x="1210" y="601"/>
                  <a:pt x="892" y="417"/>
                </a:cubicBezTo>
                <a:cubicBezTo>
                  <a:pt x="607" y="252"/>
                  <a:pt x="309" y="11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879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844160" y="1263960"/>
            <a:ext cx="643320" cy="380520"/>
          </a:xfrm>
          <a:custGeom>
            <a:avLst/>
            <a:gdLst/>
            <a:ahLst/>
            <a:rect l="0" t="0" r="r" b="b"/>
            <a:pathLst>
              <a:path fill="none" w="1787" h="1057">
                <a:moveTo>
                  <a:pt x="1787" y="1057"/>
                </a:moveTo>
                <a:lnTo>
                  <a:pt x="1787" y="1057"/>
                </a:lnTo>
                <a:cubicBezTo>
                  <a:pt x="1510" y="815"/>
                  <a:pt x="1210" y="601"/>
                  <a:pt x="892" y="417"/>
                </a:cubicBezTo>
                <a:cubicBezTo>
                  <a:pt x="607" y="252"/>
                  <a:pt x="309" y="11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891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3" name=""/>
          <p:cNvSpPr txBox="1"/>
          <p:nvPr/>
        </p:nvSpPr>
        <p:spPr>
          <a:xfrm>
            <a:off x="503280" y="1550880"/>
            <a:ext cx="3027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he intersection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pendicular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44160" y="1263960"/>
            <a:ext cx="643320" cy="380520"/>
          </a:xfrm>
          <a:custGeom>
            <a:avLst/>
            <a:gdLst/>
            <a:ahLst/>
            <a:rect l="0" t="0" r="r" b="b"/>
            <a:pathLst>
              <a:path fill="none" w="1787" h="1057">
                <a:moveTo>
                  <a:pt x="1787" y="1057"/>
                </a:moveTo>
                <a:lnTo>
                  <a:pt x="1787" y="1057"/>
                </a:lnTo>
                <a:cubicBezTo>
                  <a:pt x="1510" y="815"/>
                  <a:pt x="1210" y="601"/>
                  <a:pt x="892" y="417"/>
                </a:cubicBezTo>
                <a:cubicBezTo>
                  <a:pt x="607" y="252"/>
                  <a:pt x="309" y="11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05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844160" y="1263960"/>
            <a:ext cx="643320" cy="380520"/>
          </a:xfrm>
          <a:custGeom>
            <a:avLst/>
            <a:gdLst/>
            <a:ahLst/>
            <a:rect l="0" t="0" r="r" b="b"/>
            <a:pathLst>
              <a:path fill="none" w="1787" h="1057">
                <a:moveTo>
                  <a:pt x="1787" y="1057"/>
                </a:moveTo>
                <a:lnTo>
                  <a:pt x="1787" y="1057"/>
                </a:lnTo>
                <a:cubicBezTo>
                  <a:pt x="1510" y="815"/>
                  <a:pt x="1210" y="601"/>
                  <a:pt x="892" y="417"/>
                </a:cubicBezTo>
                <a:cubicBezTo>
                  <a:pt x="607" y="252"/>
                  <a:pt x="309" y="11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18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0" name=""/>
          <p:cNvSpPr txBox="1"/>
          <p:nvPr/>
        </p:nvSpPr>
        <p:spPr>
          <a:xfrm>
            <a:off x="382680" y="1596960"/>
            <a:ext cx="34066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the arc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A, extending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 to form an inter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arc and the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33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945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50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2" name=""/>
          <p:cNvSpPr txBox="1"/>
          <p:nvPr/>
        </p:nvSpPr>
        <p:spPr>
          <a:xfrm>
            <a:off x="396720" y="1536840"/>
            <a:ext cx="29559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ntersection i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of a circle (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size), that will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t to the base line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through point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816200" y="1608120"/>
            <a:ext cx="4113360" cy="406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64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967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16200" y="1608120"/>
            <a:ext cx="4113360" cy="406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9536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3746520" y="1733400"/>
            <a:ext cx="2217600" cy="1403640"/>
            <a:chOff x="3746520" y="1733400"/>
            <a:chExt cx="2217600" cy="1403640"/>
          </a:xfrm>
        </p:grpSpPr>
        <p:sp>
          <p:nvSpPr>
            <p:cNvPr id="982" name=""/>
            <p:cNvSpPr/>
            <p:nvPr/>
          </p:nvSpPr>
          <p:spPr>
            <a:xfrm flipH="1" flipV="1">
              <a:off x="3746520" y="1733400"/>
              <a:ext cx="2016000" cy="1152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5234040" y="2679840"/>
              <a:ext cx="730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 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985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5856120" y="1247760"/>
            <a:ext cx="32446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y can be veri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nstructing a line th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through the center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ircle and is perpendi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base 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816200" y="1608120"/>
            <a:ext cx="4113360" cy="406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29860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3743280" y="1747800"/>
            <a:ext cx="2033640" cy="116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75040" y="3359160"/>
            <a:ext cx="0" cy="297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70360" y="5394240"/>
            <a:ext cx="277920" cy="277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1005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685800" y="3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5234040" y="2679840"/>
            <a:ext cx="73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997800" y="2628720"/>
            <a:ext cx="1511280" cy="668160"/>
          </a:xfrm>
          <a:custGeom>
            <a:avLst/>
            <a:gdLst/>
            <a:ahLst/>
            <a:rect l="0" t="0" r="r" b="b"/>
            <a:pathLst>
              <a:path fill="none" w="4198" h="1856">
                <a:moveTo>
                  <a:pt x="4198" y="0"/>
                </a:moveTo>
                <a:lnTo>
                  <a:pt x="4198" y="0"/>
                </a:lnTo>
                <a:lnTo>
                  <a:pt x="4198" y="0"/>
                </a:lnTo>
                <a:cubicBezTo>
                  <a:pt x="3201" y="0"/>
                  <a:pt x="2222" y="263"/>
                  <a:pt x="1359" y="761"/>
                </a:cubicBezTo>
                <a:cubicBezTo>
                  <a:pt x="852" y="1054"/>
                  <a:pt x="394" y="1423"/>
                  <a:pt x="0" y="1856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16200" y="1608120"/>
            <a:ext cx="4113360" cy="40654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201760" y="5681520"/>
            <a:ext cx="471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178080" y="3405240"/>
            <a:ext cx="0" cy="24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77120" y="33829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98600" y="3638520"/>
            <a:ext cx="459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547380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184560" y="5462640"/>
            <a:ext cx="208080" cy="2095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3743280" y="1747800"/>
            <a:ext cx="2033640" cy="1160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957480" y="1476360"/>
            <a:ext cx="1592640" cy="385200"/>
          </a:xfrm>
          <a:custGeom>
            <a:avLst/>
            <a:gdLst/>
            <a:ahLst/>
            <a:rect l="0" t="0" r="r" b="b"/>
            <a:pathLst>
              <a:path fill="none" w="4424" h="1070">
                <a:moveTo>
                  <a:pt x="4424" y="1070"/>
                </a:moveTo>
                <a:lnTo>
                  <a:pt x="4424" y="1070"/>
                </a:lnTo>
                <a:cubicBezTo>
                  <a:pt x="4270" y="959"/>
                  <a:pt x="4110" y="856"/>
                  <a:pt x="3946" y="761"/>
                </a:cubicBezTo>
                <a:cubicBezTo>
                  <a:pt x="3083" y="262"/>
                  <a:pt x="2104" y="0"/>
                  <a:pt x="1107" y="0"/>
                </a:cubicBezTo>
                <a:cubicBezTo>
                  <a:pt x="736" y="0"/>
                  <a:pt x="365" y="37"/>
                  <a:pt x="0" y="109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875040" y="3359160"/>
            <a:ext cx="0" cy="2973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70360" y="5394240"/>
            <a:ext cx="277920" cy="277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82880" y="5587920"/>
            <a:ext cx="185760" cy="18576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3782880" y="3549600"/>
            <a:ext cx="182520" cy="174600"/>
            <a:chOff x="3782880" y="3549600"/>
            <a:chExt cx="182520" cy="174600"/>
          </a:xfrm>
        </p:grpSpPr>
        <p:sp>
          <p:nvSpPr>
            <p:cNvPr id="1025" name=""/>
            <p:cNvSpPr/>
            <p:nvPr/>
          </p:nvSpPr>
          <p:spPr>
            <a:xfrm>
              <a:off x="3875040" y="3549600"/>
              <a:ext cx="0" cy="174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782880" y="3638520"/>
              <a:ext cx="182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138560" y="420012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404120" y="4193640"/>
            <a:ext cx="65880" cy="941040"/>
          </a:xfrm>
          <a:custGeom>
            <a:avLst/>
            <a:gdLst/>
            <a:ahLst/>
            <a:rect l="0" t="0" r="r" b="b"/>
            <a:pathLst>
              <a:path fill="none" w="183" h="2614">
                <a:moveTo>
                  <a:pt x="0" y="2614"/>
                </a:moveTo>
                <a:lnTo>
                  <a:pt x="0" y="2614"/>
                </a:lnTo>
                <a:cubicBezTo>
                  <a:pt x="121" y="2150"/>
                  <a:pt x="183" y="1672"/>
                  <a:pt x="183" y="1193"/>
                </a:cubicBezTo>
                <a:cubicBezTo>
                  <a:pt x="183" y="792"/>
                  <a:pt x="140" y="392"/>
                  <a:pt x="55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geometric construction</dc:subject>
  <dc:title>ENGINEERING GRAPHICS</dc:title>
</cp:coreProperties>
</file>