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365040" y="6316560"/>
            <a:ext cx="1650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gham Young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257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259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"/>
          <p:cNvSpPr txBox="1"/>
          <p:nvPr/>
        </p:nvSpPr>
        <p:spPr>
          <a:xfrm>
            <a:off x="2017800" y="1393920"/>
            <a:ext cx="63216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</a:pPr>
            <a:r>
              <a:rPr b="1" lang="en-US" sz="3200" spc="-1" strike="noStrike" u="sng">
                <a:solidFill>
                  <a:srgbClr val="0101ff"/>
                </a:solidFill>
                <a:uFillTx/>
                <a:latin typeface="Times New Roman"/>
                <a:ea typeface="Times New Roman"/>
              </a:rPr>
              <a:t>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ik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lope Ang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icknes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ore vein.  Also,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rtest dista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rizontal dista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tical distanc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Point A to the v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271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274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277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280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283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286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289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292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295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298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311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313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"/>
          <p:cNvSpPr txBox="1"/>
          <p:nvPr/>
        </p:nvSpPr>
        <p:spPr>
          <a:xfrm>
            <a:off x="5216400" y="1704960"/>
            <a:ext cx="3875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 fold line between the views, thr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A (ground leve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324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327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330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333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336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339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342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345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348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351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364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369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371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"/>
          <p:cNvSpPr txBox="1"/>
          <p:nvPr/>
        </p:nvSpPr>
        <p:spPr>
          <a:xfrm>
            <a:off x="5216400" y="1704960"/>
            <a:ext cx="3875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 fold line between the views, thr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A (ground leve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382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385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388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391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394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397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400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403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406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409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422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427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429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439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442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445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448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451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454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457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460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463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466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479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484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486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"/>
          <p:cNvSpPr txBox="1"/>
          <p:nvPr/>
        </p:nvSpPr>
        <p:spPr>
          <a:xfrm>
            <a:off x="4522680" y="1531800"/>
            <a:ext cx="4270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 the points forming the plane, in each 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497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502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505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508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511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514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517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520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523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526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529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544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546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"/>
          <p:cNvSpPr txBox="1"/>
          <p:nvPr/>
        </p:nvSpPr>
        <p:spPr>
          <a:xfrm>
            <a:off x="4522680" y="1531800"/>
            <a:ext cx="4270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 the points forming the plane, in each 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557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562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565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568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571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574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577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580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583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586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589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606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608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"/>
          <p:cNvSpPr txBox="1"/>
          <p:nvPr/>
        </p:nvSpPr>
        <p:spPr>
          <a:xfrm>
            <a:off x="4522680" y="1531800"/>
            <a:ext cx="4270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 the points forming the plane, in each 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619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624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627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630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633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636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639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642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645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648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651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668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670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680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685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688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691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694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697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700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703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706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709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712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5411880" y="4815000"/>
            <a:ext cx="2679840" cy="18352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37c03"/>
                </a:solidFill>
                <a:uFillTx/>
                <a:latin typeface="Times New Roman"/>
                <a:ea typeface="Times New Roman"/>
              </a:rPr>
              <a:t>REQUIRED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Strike, Dip, Slope Ang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rtic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Perpendicular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730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732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742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747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750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753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756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759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762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765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768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771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774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791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793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1" name=""/>
          <p:cNvSpPr txBox="1"/>
          <p:nvPr/>
        </p:nvSpPr>
        <p:spPr>
          <a:xfrm>
            <a:off x="4522680" y="1271520"/>
            <a:ext cx="3903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ify the projection by drawing ex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between the view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804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809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812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815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818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821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824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827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830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833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836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858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860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870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875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878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881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884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887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890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893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896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899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902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924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926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4" name=""/>
          <p:cNvSpPr txBox="1"/>
          <p:nvPr/>
        </p:nvSpPr>
        <p:spPr>
          <a:xfrm>
            <a:off x="3916440" y="1380960"/>
            <a:ext cx="4259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 horizontal line in the Frontal 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937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942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945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948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951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954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957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960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963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966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969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2438280" y="5838840"/>
            <a:ext cx="16765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992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3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994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2" name=""/>
          <p:cNvSpPr txBox="1"/>
          <p:nvPr/>
        </p:nvSpPr>
        <p:spPr>
          <a:xfrm>
            <a:off x="3916440" y="1380960"/>
            <a:ext cx="4259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 horizontal line in the Frontal 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1005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1010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1013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1016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1019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1022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1025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1028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1031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1034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1037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2438280" y="5838840"/>
            <a:ext cx="16765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1060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1062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0" name=""/>
          <p:cNvSpPr txBox="1"/>
          <p:nvPr/>
        </p:nvSpPr>
        <p:spPr>
          <a:xfrm>
            <a:off x="4199040" y="1251000"/>
            <a:ext cx="4100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the  horizontal (Frontal) line in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zontal 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1073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1078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1081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1084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1087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1090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1093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1096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1099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1102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1105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2438280" y="5838840"/>
            <a:ext cx="16765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2533680" y="3114720"/>
            <a:ext cx="0" cy="2724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1129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0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1131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9" name=""/>
          <p:cNvSpPr txBox="1"/>
          <p:nvPr/>
        </p:nvSpPr>
        <p:spPr>
          <a:xfrm>
            <a:off x="4199040" y="1251000"/>
            <a:ext cx="4100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the  horizontal (Frontal) line in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zontal 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1142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1147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1150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1153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1156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1159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1162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1165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1168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1171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1174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2438280" y="5838840"/>
            <a:ext cx="16765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33680" y="3114720"/>
            <a:ext cx="0" cy="2724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1198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1200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8" name=""/>
          <p:cNvSpPr/>
          <p:nvPr/>
        </p:nvSpPr>
        <p:spPr>
          <a:xfrm flipH="1">
            <a:off x="2457360" y="2743200"/>
            <a:ext cx="1616040" cy="4348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4199040" y="1251000"/>
            <a:ext cx="4100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the  horizontal (Frontal) line in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zontal 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1212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1217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1220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1223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1226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1229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1232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1235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1238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1241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1244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6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2438280" y="5838840"/>
            <a:ext cx="16765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2533680" y="3114720"/>
            <a:ext cx="0" cy="2724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1268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9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1270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8" name=""/>
          <p:cNvSpPr/>
          <p:nvPr/>
        </p:nvSpPr>
        <p:spPr>
          <a:xfrm flipH="1">
            <a:off x="2457360" y="2743200"/>
            <a:ext cx="1616040" cy="4348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1281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1286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1289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1292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1295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1298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0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1301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1304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1307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9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1310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1313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5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2438280" y="5838840"/>
            <a:ext cx="16765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2533680" y="3114720"/>
            <a:ext cx="0" cy="2724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1337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8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1339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7" name=""/>
          <p:cNvSpPr/>
          <p:nvPr/>
        </p:nvSpPr>
        <p:spPr>
          <a:xfrm flipH="1">
            <a:off x="2457360" y="2743200"/>
            <a:ext cx="1616040" cy="4348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3397320" y="1900080"/>
            <a:ext cx="4367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 Length (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ve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Line in the Horizontal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H="1">
            <a:off x="3208320" y="2043000"/>
            <a:ext cx="19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2732040" y="2043000"/>
            <a:ext cx="476280" cy="1060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2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1353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1358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1361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3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1364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1367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9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1370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1373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1376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8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1379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1382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4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1385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2438280" y="5838840"/>
            <a:ext cx="16765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2533680" y="3114720"/>
            <a:ext cx="0" cy="2724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9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1410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1412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0" name=""/>
          <p:cNvSpPr/>
          <p:nvPr/>
        </p:nvSpPr>
        <p:spPr>
          <a:xfrm flipH="1">
            <a:off x="2457360" y="2743200"/>
            <a:ext cx="1616040" cy="4348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2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1423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1428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0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1431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3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1434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6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1437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9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1440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1443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1446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1449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1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1452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1455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 flipH="1">
            <a:off x="2438280" y="5838840"/>
            <a:ext cx="16765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2533680" y="3114720"/>
            <a:ext cx="0" cy="2724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5411880" y="4815000"/>
            <a:ext cx="2679840" cy="18352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37c03"/>
                </a:solidFill>
                <a:uFillTx/>
                <a:latin typeface="Times New Roman"/>
                <a:ea typeface="Times New Roman"/>
              </a:rPr>
              <a:t>REQUIRED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ike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, Dip, Slope Ang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rtic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Perpendicular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1481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2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1483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1" name=""/>
          <p:cNvSpPr/>
          <p:nvPr/>
        </p:nvSpPr>
        <p:spPr>
          <a:xfrm flipH="1">
            <a:off x="2457360" y="2743200"/>
            <a:ext cx="1616040" cy="4348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41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43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" name=""/>
          <p:cNvSpPr txBox="1"/>
          <p:nvPr/>
        </p:nvSpPr>
        <p:spPr>
          <a:xfrm>
            <a:off x="2060640" y="1805040"/>
            <a:ext cx="686268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re vein exists below the surface of the ground.  Sample holes have located the depth of the vein as shown at 1, 2, and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ike and D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440"/>
              </a:spcAft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rik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The compass bearing of 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ve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in the horizontal view of a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440"/>
              </a:spcAft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The angle that the edge view of a plane makes with the true horizontal, and its general compass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5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1496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1501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1504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1507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1510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1513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1516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1519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1522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1525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1528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0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 flipH="1">
            <a:off x="2438280" y="5838840"/>
            <a:ext cx="16765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 flipV="1">
            <a:off x="2533680" y="3114720"/>
            <a:ext cx="0" cy="2724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5411880" y="4815000"/>
            <a:ext cx="2679840" cy="18352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37c03"/>
                </a:solidFill>
                <a:uFillTx/>
                <a:latin typeface="Times New Roman"/>
                <a:ea typeface="Times New Roman"/>
              </a:rPr>
              <a:t>REQUIRED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ike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, Dip, Slope Ang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rtic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Perpendicular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1554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5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1556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4" name=""/>
          <p:cNvSpPr/>
          <p:nvPr/>
        </p:nvSpPr>
        <p:spPr>
          <a:xfrm flipH="1">
            <a:off x="2457360" y="2743200"/>
            <a:ext cx="1616040" cy="4348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6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1567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1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1572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4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1575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1578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1581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1584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1587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1590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1593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5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1596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1599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2438280" y="5838840"/>
            <a:ext cx="16765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V="1">
            <a:off x="2533680" y="3114720"/>
            <a:ext cx="0" cy="2724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5411880" y="4815000"/>
            <a:ext cx="2679840" cy="18352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37c03"/>
                </a:solidFill>
                <a:uFillTx/>
                <a:latin typeface="Times New Roman"/>
                <a:ea typeface="Times New Roman"/>
              </a:rPr>
              <a:t>REQUIRED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ike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, Dip, Slope Ang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rtic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Perpendicular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1625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6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1627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5" name=""/>
          <p:cNvSpPr/>
          <p:nvPr/>
        </p:nvSpPr>
        <p:spPr>
          <a:xfrm flipH="1">
            <a:off x="2457360" y="2743200"/>
            <a:ext cx="1616040" cy="4348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3403440" y="1957320"/>
            <a:ext cx="389160" cy="9525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3792600" y="1957320"/>
            <a:ext cx="19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3981600" y="1792440"/>
            <a:ext cx="714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1641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5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1646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1649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1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1652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1655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7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1658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1661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3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1664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1667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1670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2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1673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5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2438280" y="5838840"/>
            <a:ext cx="16765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2533680" y="3114720"/>
            <a:ext cx="0" cy="2724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 txBox="1"/>
          <p:nvPr/>
        </p:nvSpPr>
        <p:spPr>
          <a:xfrm>
            <a:off x="2747880" y="30510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5411880" y="4815000"/>
            <a:ext cx="2679840" cy="18352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37c03"/>
                </a:solidFill>
                <a:uFillTx/>
                <a:latin typeface="Times New Roman"/>
                <a:ea typeface="Times New Roman"/>
              </a:rPr>
              <a:t>REQUIRED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ike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, Dip, Slope Ang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rtic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Perpendicular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9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1700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1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1702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0" name=""/>
          <p:cNvSpPr/>
          <p:nvPr/>
        </p:nvSpPr>
        <p:spPr>
          <a:xfrm flipH="1">
            <a:off x="2457360" y="2743200"/>
            <a:ext cx="1616040" cy="4348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2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1713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1718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1721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3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1724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1727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1730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1733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1736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1739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1742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1745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7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H="1">
            <a:off x="2438280" y="5838840"/>
            <a:ext cx="16765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2533680" y="3114720"/>
            <a:ext cx="0" cy="2724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H="1">
            <a:off x="2457360" y="2736720"/>
            <a:ext cx="1641600" cy="4413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2747880" y="30510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5411880" y="4815000"/>
            <a:ext cx="2679840" cy="18352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37c03"/>
                </a:solidFill>
                <a:uFillTx/>
                <a:latin typeface="Times New Roman"/>
                <a:ea typeface="Times New Roman"/>
              </a:rPr>
              <a:t>REQUIRED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Strike,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p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, Slope Ang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rtic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Perpendicular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2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1773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4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1775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3" name=""/>
          <p:cNvSpPr txBox="1"/>
          <p:nvPr/>
        </p:nvSpPr>
        <p:spPr>
          <a:xfrm>
            <a:off x="3916440" y="1336680"/>
            <a:ext cx="50562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the dip by drawing a line perpendicular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ike.  The dip also has a general compass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d with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 is the angle that the edge view of a plane makes with true horizon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p angle lies in the primary auxiliary view projected from the top view.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dip direction is perpendicular to the strike and toward its low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1788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1793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1796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1799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1802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1805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1808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1811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1814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1817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1820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2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H="1">
            <a:off x="2438280" y="5838840"/>
            <a:ext cx="16765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 flipV="1">
            <a:off x="2533680" y="3114720"/>
            <a:ext cx="0" cy="2724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 flipH="1">
            <a:off x="2457360" y="2736720"/>
            <a:ext cx="1641600" cy="4413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 txBox="1"/>
          <p:nvPr/>
        </p:nvSpPr>
        <p:spPr>
          <a:xfrm>
            <a:off x="2747880" y="30510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 txBox="1"/>
          <p:nvPr/>
        </p:nvSpPr>
        <p:spPr>
          <a:xfrm>
            <a:off x="5411880" y="4815000"/>
            <a:ext cx="2679840" cy="18352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37c03"/>
                </a:solidFill>
                <a:uFillTx/>
                <a:latin typeface="Times New Roman"/>
                <a:ea typeface="Times New Roman"/>
              </a:rPr>
              <a:t>REQUIRED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Strike,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p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, Slope Ang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rtic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Perpendicular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7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1848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9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8" name=""/>
          <p:cNvSpPr txBox="1"/>
          <p:nvPr/>
        </p:nvSpPr>
        <p:spPr>
          <a:xfrm>
            <a:off x="3916440" y="1336680"/>
            <a:ext cx="50562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the dip by drawing a line perpendicular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ike.  The dip also has a general compass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d with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1861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5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1866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1869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1872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4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1875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7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1878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1881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1884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1887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1890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1893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 flipH="1">
            <a:off x="2438280" y="5838840"/>
            <a:ext cx="16765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2533680" y="3114720"/>
            <a:ext cx="0" cy="2724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>
            <a:off x="2457360" y="2730600"/>
            <a:ext cx="1660680" cy="4474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 txBox="1"/>
          <p:nvPr/>
        </p:nvSpPr>
        <p:spPr>
          <a:xfrm>
            <a:off x="2747880" y="30510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2797200" y="2368440"/>
            <a:ext cx="179280" cy="669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2835360" y="2251080"/>
            <a:ext cx="43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2781360" y="2889360"/>
            <a:ext cx="173160" cy="173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 txBox="1"/>
          <p:nvPr/>
        </p:nvSpPr>
        <p:spPr>
          <a:xfrm>
            <a:off x="5411880" y="4815000"/>
            <a:ext cx="2679840" cy="18352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37c03"/>
                </a:solidFill>
                <a:uFillTx/>
                <a:latin typeface="Times New Roman"/>
                <a:ea typeface="Times New Roman"/>
              </a:rPr>
              <a:t>REQUIRED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Strike,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p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, Slope Ang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rtic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Perpendicular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1924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5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1926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5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1936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0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1941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1944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6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1947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1950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2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1953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5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1956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8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1959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1962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1965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1968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0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 flipH="1">
            <a:off x="2438280" y="5838840"/>
            <a:ext cx="16765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V="1">
            <a:off x="2533680" y="3114720"/>
            <a:ext cx="0" cy="2724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 flipH="1">
            <a:off x="2457360" y="2730600"/>
            <a:ext cx="1660680" cy="4474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2747880" y="30510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797200" y="2368440"/>
            <a:ext cx="179280" cy="669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2835360" y="2251080"/>
            <a:ext cx="43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2781360" y="2889360"/>
            <a:ext cx="173160" cy="173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7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1998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9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2000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8" name=""/>
          <p:cNvSpPr txBox="1"/>
          <p:nvPr/>
        </p:nvSpPr>
        <p:spPr>
          <a:xfrm>
            <a:off x="4133880" y="1316160"/>
            <a:ext cx="4343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all points parallel to the strike (TL)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2011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5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2016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8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2019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1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2022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4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2025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7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2028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2031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2034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6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2037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9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2040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2043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 flipH="1">
            <a:off x="2438280" y="5838840"/>
            <a:ext cx="16765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 flipV="1">
            <a:off x="2533680" y="3114720"/>
            <a:ext cx="0" cy="2724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 flipH="1">
            <a:off x="2457360" y="2176560"/>
            <a:ext cx="3733920" cy="10015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2747880" y="30510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2797200" y="2368440"/>
            <a:ext cx="179280" cy="669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 txBox="1"/>
          <p:nvPr/>
        </p:nvSpPr>
        <p:spPr>
          <a:xfrm>
            <a:off x="2835360" y="2251080"/>
            <a:ext cx="43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2781360" y="2889360"/>
            <a:ext cx="173160" cy="173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2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2073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4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2075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83" name=""/>
          <p:cNvSpPr txBox="1"/>
          <p:nvPr/>
        </p:nvSpPr>
        <p:spPr>
          <a:xfrm>
            <a:off x="4133880" y="1316160"/>
            <a:ext cx="4343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all points parallel to the strike (TL)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55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58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61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64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66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5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2086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2091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2094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6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2097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9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2100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2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2103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2106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8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2109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2112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2115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2118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0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2438280" y="5838840"/>
            <a:ext cx="16765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 flipV="1">
            <a:off x="2533680" y="3114720"/>
            <a:ext cx="0" cy="2724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 flipH="1">
            <a:off x="2457360" y="2176560"/>
            <a:ext cx="3733920" cy="10015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 flipH="1">
            <a:off x="2352600" y="1720800"/>
            <a:ext cx="3765600" cy="100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 flipH="1">
            <a:off x="2890800" y="2889360"/>
            <a:ext cx="2798640" cy="75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 flipH="1">
            <a:off x="2290680" y="1733400"/>
            <a:ext cx="2470320" cy="66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 txBox="1"/>
          <p:nvPr/>
        </p:nvSpPr>
        <p:spPr>
          <a:xfrm>
            <a:off x="2747880" y="30510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2797200" y="2368440"/>
            <a:ext cx="179280" cy="669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 txBox="1"/>
          <p:nvPr/>
        </p:nvSpPr>
        <p:spPr>
          <a:xfrm>
            <a:off x="2835360" y="2251080"/>
            <a:ext cx="43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2781360" y="2889360"/>
            <a:ext cx="173160" cy="173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0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2151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2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2153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1" name=""/>
          <p:cNvSpPr/>
          <p:nvPr/>
        </p:nvSpPr>
        <p:spPr>
          <a:xfrm flipH="1">
            <a:off x="4419720" y="3181320"/>
            <a:ext cx="1603080" cy="43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 txBox="1"/>
          <p:nvPr/>
        </p:nvSpPr>
        <p:spPr>
          <a:xfrm>
            <a:off x="4133880" y="1316160"/>
            <a:ext cx="4343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all points parallel to the strike (TL)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4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2165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9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2170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2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2173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5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2176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2179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2182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4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2185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7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2188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2191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3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2194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6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2197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9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 flipH="1">
            <a:off x="2438280" y="5838840"/>
            <a:ext cx="16765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 flipV="1">
            <a:off x="2533680" y="3114720"/>
            <a:ext cx="0" cy="2724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 flipH="1">
            <a:off x="2457360" y="2176560"/>
            <a:ext cx="3733920" cy="10015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 flipH="1">
            <a:off x="2352600" y="1720800"/>
            <a:ext cx="3765600" cy="100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2890800" y="2889360"/>
            <a:ext cx="2798640" cy="75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2290680" y="1733400"/>
            <a:ext cx="2470320" cy="66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 txBox="1"/>
          <p:nvPr/>
        </p:nvSpPr>
        <p:spPr>
          <a:xfrm>
            <a:off x="2747880" y="30510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2797200" y="2368440"/>
            <a:ext cx="179280" cy="669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 txBox="1"/>
          <p:nvPr/>
        </p:nvSpPr>
        <p:spPr>
          <a:xfrm>
            <a:off x="2835360" y="2251080"/>
            <a:ext cx="43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2781360" y="2889360"/>
            <a:ext cx="173160" cy="173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9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2230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1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2232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40" name=""/>
          <p:cNvSpPr/>
          <p:nvPr/>
        </p:nvSpPr>
        <p:spPr>
          <a:xfrm flipH="1">
            <a:off x="4419720" y="3181320"/>
            <a:ext cx="1603080" cy="43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 txBox="1"/>
          <p:nvPr/>
        </p:nvSpPr>
        <p:spPr>
          <a:xfrm>
            <a:off x="4956120" y="1033560"/>
            <a:ext cx="349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n auxiliary viewing plane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3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2244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2249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2252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2255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7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2258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0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2261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3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2264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6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2267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9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2270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2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2273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5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2276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8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2438280" y="5838840"/>
            <a:ext cx="16765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 flipV="1">
            <a:off x="2533680" y="3114720"/>
            <a:ext cx="0" cy="2724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 flipH="1">
            <a:off x="2457360" y="2176560"/>
            <a:ext cx="3733920" cy="10015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 flipH="1">
            <a:off x="2352600" y="1720800"/>
            <a:ext cx="3765600" cy="100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 flipH="1">
            <a:off x="2890800" y="2889360"/>
            <a:ext cx="2798640" cy="75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 flipH="1">
            <a:off x="2290680" y="1733400"/>
            <a:ext cx="2470320" cy="66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4419720" y="3181320"/>
            <a:ext cx="1603080" cy="43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 txBox="1"/>
          <p:nvPr/>
        </p:nvSpPr>
        <p:spPr>
          <a:xfrm>
            <a:off x="2747880" y="30510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2797200" y="2368440"/>
            <a:ext cx="179280" cy="669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 txBox="1"/>
          <p:nvPr/>
        </p:nvSpPr>
        <p:spPr>
          <a:xfrm>
            <a:off x="2835360" y="2251080"/>
            <a:ext cx="43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2781360" y="2889360"/>
            <a:ext cx="173160" cy="173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9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2310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3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6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2317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8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2319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7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 txBox="1"/>
          <p:nvPr/>
        </p:nvSpPr>
        <p:spPr>
          <a:xfrm>
            <a:off x="4956120" y="1033560"/>
            <a:ext cx="3441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n auxiliary viewing pl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0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2331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2336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8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2339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1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2342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4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2345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7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2348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0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2351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3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2354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6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2357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9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2360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2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2363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5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H="1">
            <a:off x="2438280" y="5838840"/>
            <a:ext cx="16765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 flipV="1">
            <a:off x="2533680" y="3114720"/>
            <a:ext cx="0" cy="2724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 flipH="1">
            <a:off x="2457360" y="2176560"/>
            <a:ext cx="3733920" cy="10015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 flipH="1">
            <a:off x="2352600" y="1720800"/>
            <a:ext cx="3765600" cy="100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 flipH="1">
            <a:off x="2890800" y="2889360"/>
            <a:ext cx="2798640" cy="75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 flipH="1">
            <a:off x="2290680" y="1733400"/>
            <a:ext cx="2470320" cy="66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>
            <a:off x="4419720" y="3181320"/>
            <a:ext cx="1603080" cy="43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 txBox="1"/>
          <p:nvPr/>
        </p:nvSpPr>
        <p:spPr>
          <a:xfrm>
            <a:off x="2747880" y="30510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2797200" y="2368440"/>
            <a:ext cx="179280" cy="669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 txBox="1"/>
          <p:nvPr/>
        </p:nvSpPr>
        <p:spPr>
          <a:xfrm>
            <a:off x="2835360" y="2251080"/>
            <a:ext cx="43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2781360" y="2889360"/>
            <a:ext cx="173160" cy="173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6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2397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0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3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2404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5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2406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4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 txBox="1"/>
          <p:nvPr/>
        </p:nvSpPr>
        <p:spPr>
          <a:xfrm>
            <a:off x="5194440" y="905040"/>
            <a:ext cx="321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leop the edge view of the pl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7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2418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2423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5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2426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8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2429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1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2432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4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2435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7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2438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0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2441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3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2444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2447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9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2450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2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 flipH="1">
            <a:off x="2438280" y="5838840"/>
            <a:ext cx="16765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 flipV="1">
            <a:off x="2533680" y="3114720"/>
            <a:ext cx="0" cy="2724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 flipH="1">
            <a:off x="2457360" y="2176560"/>
            <a:ext cx="3733920" cy="10015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 flipH="1">
            <a:off x="2352600" y="1720800"/>
            <a:ext cx="3765600" cy="100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 flipH="1">
            <a:off x="2890800" y="2889360"/>
            <a:ext cx="2798640" cy="75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 flipH="1">
            <a:off x="2290680" y="1733400"/>
            <a:ext cx="2470320" cy="66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 flipH="1">
            <a:off x="4419720" y="3181320"/>
            <a:ext cx="1603080" cy="43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8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2469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2472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4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2475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7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2478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0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 txBox="1"/>
          <p:nvPr/>
        </p:nvSpPr>
        <p:spPr>
          <a:xfrm>
            <a:off x="2747880" y="30510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2797200" y="2368440"/>
            <a:ext cx="179280" cy="669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 txBox="1"/>
          <p:nvPr/>
        </p:nvSpPr>
        <p:spPr>
          <a:xfrm>
            <a:off x="2835360" y="2251080"/>
            <a:ext cx="43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2781360" y="2889360"/>
            <a:ext cx="173160" cy="173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5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2496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9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2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2503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4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2505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3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4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2515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7" name=""/>
          <p:cNvSpPr txBox="1"/>
          <p:nvPr/>
        </p:nvSpPr>
        <p:spPr>
          <a:xfrm>
            <a:off x="5194440" y="905040"/>
            <a:ext cx="321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leop the edge view of the pl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9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2520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4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2525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7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2528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0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2531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3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2534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6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2537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9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2540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2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2543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5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2546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8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2549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1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2552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4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 flipH="1">
            <a:off x="2457360" y="2176560"/>
            <a:ext cx="3733920" cy="10015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 flipH="1">
            <a:off x="2352600" y="1720800"/>
            <a:ext cx="3765600" cy="100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 flipH="1">
            <a:off x="2890800" y="2889360"/>
            <a:ext cx="2798640" cy="75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 flipH="1">
            <a:off x="2290680" y="1733400"/>
            <a:ext cx="2470320" cy="66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 flipH="1">
            <a:off x="4419720" y="3181320"/>
            <a:ext cx="1603080" cy="43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2569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2572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2575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7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2578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0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2581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3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 txBox="1"/>
          <p:nvPr/>
        </p:nvSpPr>
        <p:spPr>
          <a:xfrm>
            <a:off x="6276960" y="1623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 txBox="1"/>
          <p:nvPr/>
        </p:nvSpPr>
        <p:spPr>
          <a:xfrm>
            <a:off x="6059520" y="2206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 txBox="1"/>
          <p:nvPr/>
        </p:nvSpPr>
        <p:spPr>
          <a:xfrm>
            <a:off x="5821200" y="2813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 txBox="1"/>
          <p:nvPr/>
        </p:nvSpPr>
        <p:spPr>
          <a:xfrm>
            <a:off x="6146640" y="31813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 txBox="1"/>
          <p:nvPr/>
        </p:nvSpPr>
        <p:spPr>
          <a:xfrm>
            <a:off x="2747880" y="30510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2797200" y="2368440"/>
            <a:ext cx="179280" cy="669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 txBox="1"/>
          <p:nvPr/>
        </p:nvSpPr>
        <p:spPr>
          <a:xfrm>
            <a:off x="2835360" y="2251080"/>
            <a:ext cx="43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2781360" y="2889360"/>
            <a:ext cx="173160" cy="173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2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2603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6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9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2610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1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2612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0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 txBox="1"/>
          <p:nvPr/>
        </p:nvSpPr>
        <p:spPr>
          <a:xfrm>
            <a:off x="4502160" y="15145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 txBox="1"/>
          <p:nvPr/>
        </p:nvSpPr>
        <p:spPr>
          <a:xfrm>
            <a:off x="5194440" y="905040"/>
            <a:ext cx="321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leop the edge view of the pl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4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2625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9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2630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2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2633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5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2636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8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2639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1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2642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4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2645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7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2648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0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2651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3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2654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6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2657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9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 flipH="1">
            <a:off x="2457360" y="2176560"/>
            <a:ext cx="3733920" cy="10015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 flipH="1">
            <a:off x="2352600" y="1720800"/>
            <a:ext cx="3765600" cy="100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 flipH="1">
            <a:off x="2890800" y="2889360"/>
            <a:ext cx="2798640" cy="75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 flipH="1">
            <a:off x="2290680" y="1733400"/>
            <a:ext cx="2470320" cy="66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 flipH="1">
            <a:off x="4419720" y="3181320"/>
            <a:ext cx="1603080" cy="43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3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2674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2677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2680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2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2683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2686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8" name=""/>
          <p:cNvSpPr/>
          <p:nvPr/>
        </p:nvSpPr>
        <p:spPr>
          <a:xfrm flipH="1">
            <a:off x="5813280" y="1685880"/>
            <a:ext cx="425520" cy="117180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 txBox="1"/>
          <p:nvPr/>
        </p:nvSpPr>
        <p:spPr>
          <a:xfrm>
            <a:off x="6276960" y="1623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 txBox="1"/>
          <p:nvPr/>
        </p:nvSpPr>
        <p:spPr>
          <a:xfrm>
            <a:off x="6059520" y="2206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 txBox="1"/>
          <p:nvPr/>
        </p:nvSpPr>
        <p:spPr>
          <a:xfrm>
            <a:off x="5821200" y="2813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 txBox="1"/>
          <p:nvPr/>
        </p:nvSpPr>
        <p:spPr>
          <a:xfrm>
            <a:off x="6146640" y="31813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 txBox="1"/>
          <p:nvPr/>
        </p:nvSpPr>
        <p:spPr>
          <a:xfrm>
            <a:off x="2747880" y="30510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2797200" y="2368440"/>
            <a:ext cx="179280" cy="669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 txBox="1"/>
          <p:nvPr/>
        </p:nvSpPr>
        <p:spPr>
          <a:xfrm>
            <a:off x="2835360" y="2251080"/>
            <a:ext cx="43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2781360" y="2889360"/>
            <a:ext cx="173160" cy="173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8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2709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2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5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2716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7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2718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6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 txBox="1"/>
          <p:nvPr/>
        </p:nvSpPr>
        <p:spPr>
          <a:xfrm>
            <a:off x="4502160" y="15145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 txBox="1"/>
          <p:nvPr/>
        </p:nvSpPr>
        <p:spPr>
          <a:xfrm>
            <a:off x="5194440" y="905040"/>
            <a:ext cx="321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leop the edge view of the pl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0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2731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5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2736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2739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1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2742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4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2745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7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2748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0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2751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3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2754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6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2757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9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2760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2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2763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5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 flipH="1">
            <a:off x="2457360" y="2176560"/>
            <a:ext cx="3733920" cy="10015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 flipH="1">
            <a:off x="2352600" y="1720800"/>
            <a:ext cx="3765600" cy="100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 flipH="1">
            <a:off x="2890800" y="2889360"/>
            <a:ext cx="2798640" cy="75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 flipH="1">
            <a:off x="2290680" y="1733400"/>
            <a:ext cx="2470320" cy="66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 flipH="1">
            <a:off x="4419720" y="3181320"/>
            <a:ext cx="1603080" cy="43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9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2780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2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2783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5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2786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8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2789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1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2792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4" name=""/>
          <p:cNvSpPr/>
          <p:nvPr/>
        </p:nvSpPr>
        <p:spPr>
          <a:xfrm flipH="1">
            <a:off x="5813280" y="1685880"/>
            <a:ext cx="425520" cy="117180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 txBox="1"/>
          <p:nvPr/>
        </p:nvSpPr>
        <p:spPr>
          <a:xfrm>
            <a:off x="6276960" y="1623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 txBox="1"/>
          <p:nvPr/>
        </p:nvSpPr>
        <p:spPr>
          <a:xfrm>
            <a:off x="6059520" y="2206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 txBox="1"/>
          <p:nvPr/>
        </p:nvSpPr>
        <p:spPr>
          <a:xfrm>
            <a:off x="5821200" y="2813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 txBox="1"/>
          <p:nvPr/>
        </p:nvSpPr>
        <p:spPr>
          <a:xfrm>
            <a:off x="6146640" y="31813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 txBox="1"/>
          <p:nvPr/>
        </p:nvSpPr>
        <p:spPr>
          <a:xfrm>
            <a:off x="2747880" y="30510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2797200" y="2368440"/>
            <a:ext cx="179280" cy="669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 txBox="1"/>
          <p:nvPr/>
        </p:nvSpPr>
        <p:spPr>
          <a:xfrm>
            <a:off x="2835360" y="2251080"/>
            <a:ext cx="43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2781360" y="2889360"/>
            <a:ext cx="173160" cy="173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4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2815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8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1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2822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3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2824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32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4502160" y="15145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5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2836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0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2841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3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2844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6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2847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9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2850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2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2853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5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2856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8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2859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1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2862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4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2865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7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2868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0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 flipH="1">
            <a:off x="2457360" y="2176560"/>
            <a:ext cx="3733920" cy="10015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 flipH="1">
            <a:off x="2352600" y="1720800"/>
            <a:ext cx="3765600" cy="100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 flipH="1">
            <a:off x="2890800" y="2889360"/>
            <a:ext cx="2798640" cy="75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 flipH="1">
            <a:off x="2290680" y="1733400"/>
            <a:ext cx="2470320" cy="66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 flipH="1">
            <a:off x="4419720" y="3181320"/>
            <a:ext cx="1603080" cy="43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4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2885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7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2888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0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2891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2894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2897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9" name=""/>
          <p:cNvSpPr/>
          <p:nvPr/>
        </p:nvSpPr>
        <p:spPr>
          <a:xfrm flipH="1">
            <a:off x="5813280" y="1685880"/>
            <a:ext cx="425520" cy="117180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 txBox="1"/>
          <p:nvPr/>
        </p:nvSpPr>
        <p:spPr>
          <a:xfrm>
            <a:off x="6276960" y="1623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6059520" y="2206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 txBox="1"/>
          <p:nvPr/>
        </p:nvSpPr>
        <p:spPr>
          <a:xfrm>
            <a:off x="5821200" y="2813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 txBox="1"/>
          <p:nvPr/>
        </p:nvSpPr>
        <p:spPr>
          <a:xfrm>
            <a:off x="6146640" y="31813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 txBox="1"/>
          <p:nvPr/>
        </p:nvSpPr>
        <p:spPr>
          <a:xfrm>
            <a:off x="2747880" y="30510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2797200" y="2368440"/>
            <a:ext cx="179280" cy="669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 txBox="1"/>
          <p:nvPr/>
        </p:nvSpPr>
        <p:spPr>
          <a:xfrm>
            <a:off x="2835360" y="2251080"/>
            <a:ext cx="43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2781360" y="2889360"/>
            <a:ext cx="173160" cy="173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9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2920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3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6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2927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8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2929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7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 txBox="1"/>
          <p:nvPr/>
        </p:nvSpPr>
        <p:spPr>
          <a:xfrm>
            <a:off x="4502160" y="15145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 txBox="1"/>
          <p:nvPr/>
        </p:nvSpPr>
        <p:spPr>
          <a:xfrm>
            <a:off x="5064120" y="860400"/>
            <a:ext cx="3848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the plane of the primary auxili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1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2942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6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2947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9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2950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2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2953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5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2956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8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2959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1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2962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4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2965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7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2968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0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2971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3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2974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6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 flipH="1">
            <a:off x="2457360" y="2176560"/>
            <a:ext cx="3733920" cy="10015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 flipH="1">
            <a:off x="2352600" y="1720800"/>
            <a:ext cx="3765600" cy="100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 flipH="1">
            <a:off x="2890800" y="2889360"/>
            <a:ext cx="2798640" cy="75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 flipH="1">
            <a:off x="2290680" y="1733400"/>
            <a:ext cx="2470320" cy="66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 flipH="1">
            <a:off x="4419720" y="3181320"/>
            <a:ext cx="1603080" cy="43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0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2991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3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2994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6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2997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9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3000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2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3003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5" name=""/>
          <p:cNvSpPr/>
          <p:nvPr/>
        </p:nvSpPr>
        <p:spPr>
          <a:xfrm flipH="1">
            <a:off x="5813280" y="1685880"/>
            <a:ext cx="425520" cy="117180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 flipH="1">
            <a:off x="5376960" y="2852640"/>
            <a:ext cx="438120" cy="1209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 flipV="1">
            <a:off x="6253200" y="1128600"/>
            <a:ext cx="201600" cy="5572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 txBox="1"/>
          <p:nvPr/>
        </p:nvSpPr>
        <p:spPr>
          <a:xfrm>
            <a:off x="6276960" y="1623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 txBox="1"/>
          <p:nvPr/>
        </p:nvSpPr>
        <p:spPr>
          <a:xfrm>
            <a:off x="6059520" y="2206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 txBox="1"/>
          <p:nvPr/>
        </p:nvSpPr>
        <p:spPr>
          <a:xfrm>
            <a:off x="5821200" y="2813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 txBox="1"/>
          <p:nvPr/>
        </p:nvSpPr>
        <p:spPr>
          <a:xfrm>
            <a:off x="6146640" y="31813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 txBox="1"/>
          <p:nvPr/>
        </p:nvSpPr>
        <p:spPr>
          <a:xfrm>
            <a:off x="2747880" y="30510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2797200" y="2368440"/>
            <a:ext cx="179280" cy="669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 txBox="1"/>
          <p:nvPr/>
        </p:nvSpPr>
        <p:spPr>
          <a:xfrm>
            <a:off x="2835360" y="2251080"/>
            <a:ext cx="43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2781360" y="2889360"/>
            <a:ext cx="173160" cy="173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7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3028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1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4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3035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6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3037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5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 txBox="1"/>
          <p:nvPr/>
        </p:nvSpPr>
        <p:spPr>
          <a:xfrm>
            <a:off x="4502160" y="15145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 txBox="1"/>
          <p:nvPr/>
        </p:nvSpPr>
        <p:spPr>
          <a:xfrm>
            <a:off x="5064120" y="860400"/>
            <a:ext cx="3848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the plane of the primary auxili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78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80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" name=""/>
          <p:cNvSpPr txBox="1"/>
          <p:nvPr/>
        </p:nvSpPr>
        <p:spPr>
          <a:xfrm>
            <a:off x="2060640" y="1328760"/>
            <a:ext cx="686268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A is on the su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91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94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97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103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9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3050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4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3055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7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3058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0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3061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3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3064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6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3067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9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3070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2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3073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5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3076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8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3079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1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3082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4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 flipH="1">
            <a:off x="2457360" y="2176560"/>
            <a:ext cx="3733920" cy="1001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 flipH="1">
            <a:off x="2352600" y="1720800"/>
            <a:ext cx="3765600" cy="100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 flipH="1">
            <a:off x="2890800" y="2889360"/>
            <a:ext cx="2798640" cy="75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 flipH="1">
            <a:off x="2290680" y="1733400"/>
            <a:ext cx="2470320" cy="66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 flipH="1">
            <a:off x="4419720" y="3181320"/>
            <a:ext cx="1603080" cy="43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8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3099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1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3102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4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3105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7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3108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0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3111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3" name=""/>
          <p:cNvSpPr/>
          <p:nvPr/>
        </p:nvSpPr>
        <p:spPr>
          <a:xfrm flipH="1">
            <a:off x="5813280" y="1685880"/>
            <a:ext cx="425520" cy="117180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 flipH="1">
            <a:off x="5376960" y="2852640"/>
            <a:ext cx="438120" cy="1209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 flipV="1">
            <a:off x="6253200" y="1128600"/>
            <a:ext cx="201600" cy="5572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 txBox="1"/>
          <p:nvPr/>
        </p:nvSpPr>
        <p:spPr>
          <a:xfrm>
            <a:off x="6276960" y="1623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 txBox="1"/>
          <p:nvPr/>
        </p:nvSpPr>
        <p:spPr>
          <a:xfrm>
            <a:off x="6059520" y="2206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 txBox="1"/>
          <p:nvPr/>
        </p:nvSpPr>
        <p:spPr>
          <a:xfrm>
            <a:off x="5821200" y="2813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 txBox="1"/>
          <p:nvPr/>
        </p:nvSpPr>
        <p:spPr>
          <a:xfrm>
            <a:off x="6146640" y="31813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 txBox="1"/>
          <p:nvPr/>
        </p:nvSpPr>
        <p:spPr>
          <a:xfrm>
            <a:off x="2747880" y="30510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2797200" y="2368440"/>
            <a:ext cx="179280" cy="669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 txBox="1"/>
          <p:nvPr/>
        </p:nvSpPr>
        <p:spPr>
          <a:xfrm>
            <a:off x="2835360" y="2251080"/>
            <a:ext cx="43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2781360" y="2889360"/>
            <a:ext cx="173160" cy="173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 txBox="1"/>
          <p:nvPr/>
        </p:nvSpPr>
        <p:spPr>
          <a:xfrm>
            <a:off x="5411880" y="4815000"/>
            <a:ext cx="2679840" cy="18352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37c03"/>
                </a:solidFill>
                <a:uFillTx/>
                <a:latin typeface="Times New Roman"/>
                <a:ea typeface="Times New Roman"/>
              </a:rPr>
              <a:t>REQUIRED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Strike, Dip,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lope Angle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rtic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Perpendicular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6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3137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0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3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3144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5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3146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4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 txBox="1"/>
          <p:nvPr/>
        </p:nvSpPr>
        <p:spPr>
          <a:xfrm>
            <a:off x="4502160" y="15145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 txBox="1"/>
          <p:nvPr/>
        </p:nvSpPr>
        <p:spPr>
          <a:xfrm>
            <a:off x="4956120" y="731880"/>
            <a:ext cx="4067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the angle formed by the two pla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8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3159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3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3164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6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3167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9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3170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2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3173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5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3176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8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3179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1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3182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4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3185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7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3188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0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3191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3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 flipH="1">
            <a:off x="2457360" y="2176560"/>
            <a:ext cx="3733920" cy="1001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 flipH="1">
            <a:off x="2352600" y="1720800"/>
            <a:ext cx="3765600" cy="100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 flipH="1">
            <a:off x="2890800" y="2889360"/>
            <a:ext cx="2798640" cy="75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 flipH="1">
            <a:off x="2290680" y="1733400"/>
            <a:ext cx="2470320" cy="66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 flipH="1">
            <a:off x="4419720" y="3181320"/>
            <a:ext cx="1603080" cy="43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7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3208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0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3211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3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3214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6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3217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9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3220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2" name=""/>
          <p:cNvSpPr/>
          <p:nvPr/>
        </p:nvSpPr>
        <p:spPr>
          <a:xfrm flipH="1">
            <a:off x="5813280" y="1685880"/>
            <a:ext cx="425520" cy="117180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 flipH="1">
            <a:off x="5376960" y="2852640"/>
            <a:ext cx="438120" cy="1209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 flipV="1">
            <a:off x="6253200" y="1128600"/>
            <a:ext cx="201600" cy="5572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5100840" y="2584440"/>
            <a:ext cx="791280" cy="67320"/>
          </a:xfrm>
          <a:custGeom>
            <a:avLst/>
            <a:gdLst/>
            <a:ahLst/>
            <a:rect l="0" t="0" r="r" b="b"/>
            <a:pathLst>
              <a:path fill="none" w="2198" h="187">
                <a:moveTo>
                  <a:pt x="2198" y="187"/>
                </a:moveTo>
                <a:lnTo>
                  <a:pt x="2198" y="187"/>
                </a:lnTo>
                <a:cubicBezTo>
                  <a:pt x="1824" y="63"/>
                  <a:pt x="1434" y="0"/>
                  <a:pt x="1041" y="0"/>
                </a:cubicBezTo>
                <a:cubicBezTo>
                  <a:pt x="689" y="0"/>
                  <a:pt x="338" y="51"/>
                  <a:pt x="0" y="151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5888880" y="2653920"/>
            <a:ext cx="495720" cy="284040"/>
          </a:xfrm>
          <a:custGeom>
            <a:avLst/>
            <a:gdLst/>
            <a:ahLst/>
            <a:rect l="0" t="0" r="r" b="b"/>
            <a:pathLst>
              <a:path fill="none" w="1377" h="789">
                <a:moveTo>
                  <a:pt x="1377" y="789"/>
                </a:moveTo>
                <a:lnTo>
                  <a:pt x="1377" y="789"/>
                </a:lnTo>
                <a:cubicBezTo>
                  <a:pt x="1183" y="614"/>
                  <a:pt x="972" y="459"/>
                  <a:pt x="746" y="328"/>
                </a:cubicBezTo>
                <a:cubicBezTo>
                  <a:pt x="510" y="192"/>
                  <a:pt x="260" y="82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6380280" y="2940120"/>
            <a:ext cx="17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6568920" y="277344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p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6276960" y="1623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6059520" y="2206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 txBox="1"/>
          <p:nvPr/>
        </p:nvSpPr>
        <p:spPr>
          <a:xfrm>
            <a:off x="5821200" y="2813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 txBox="1"/>
          <p:nvPr/>
        </p:nvSpPr>
        <p:spPr>
          <a:xfrm>
            <a:off x="6146640" y="31813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 txBox="1"/>
          <p:nvPr/>
        </p:nvSpPr>
        <p:spPr>
          <a:xfrm>
            <a:off x="2747880" y="30510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2797200" y="2368440"/>
            <a:ext cx="179280" cy="669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 txBox="1"/>
          <p:nvPr/>
        </p:nvSpPr>
        <p:spPr>
          <a:xfrm>
            <a:off x="2835360" y="2251080"/>
            <a:ext cx="43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2781360" y="2889360"/>
            <a:ext cx="173160" cy="173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 txBox="1"/>
          <p:nvPr/>
        </p:nvSpPr>
        <p:spPr>
          <a:xfrm>
            <a:off x="5411880" y="4815000"/>
            <a:ext cx="2679840" cy="18352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37c03"/>
                </a:solidFill>
                <a:uFillTx/>
                <a:latin typeface="Times New Roman"/>
                <a:ea typeface="Times New Roman"/>
              </a:rPr>
              <a:t>REQUIRED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Strike, Dip,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lope Angle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rtic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Perpendicular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9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3250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3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6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3257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8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3259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67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 txBox="1"/>
          <p:nvPr/>
        </p:nvSpPr>
        <p:spPr>
          <a:xfrm>
            <a:off x="4502160" y="15145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 txBox="1"/>
          <p:nvPr/>
        </p:nvSpPr>
        <p:spPr>
          <a:xfrm>
            <a:off x="4956120" y="731880"/>
            <a:ext cx="4067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the angle formed by the two pla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0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1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3272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6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3277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9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3280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2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3283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5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3286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8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3289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1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3292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4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3295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7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3298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0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3301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3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3304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6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 flipH="1">
            <a:off x="2457360" y="2176560"/>
            <a:ext cx="3733920" cy="1001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 flipH="1">
            <a:off x="2352600" y="1720800"/>
            <a:ext cx="3765600" cy="100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 flipH="1">
            <a:off x="2890800" y="2889360"/>
            <a:ext cx="2798640" cy="75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 flipH="1">
            <a:off x="2290680" y="1733400"/>
            <a:ext cx="2470320" cy="66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 flipH="1">
            <a:off x="4419720" y="3181320"/>
            <a:ext cx="1603080" cy="43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0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3321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3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3324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6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3327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9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3330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2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3333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5" name=""/>
          <p:cNvSpPr/>
          <p:nvPr/>
        </p:nvSpPr>
        <p:spPr>
          <a:xfrm flipH="1">
            <a:off x="5813280" y="1685880"/>
            <a:ext cx="425520" cy="117180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 flipH="1">
            <a:off x="5376960" y="2852640"/>
            <a:ext cx="438120" cy="1209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 flipV="1">
            <a:off x="6253200" y="1128600"/>
            <a:ext cx="201600" cy="5572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>
            <a:off x="5100840" y="2584440"/>
            <a:ext cx="791280" cy="67320"/>
          </a:xfrm>
          <a:custGeom>
            <a:avLst/>
            <a:gdLst/>
            <a:ahLst/>
            <a:rect l="0" t="0" r="r" b="b"/>
            <a:pathLst>
              <a:path fill="none" w="2198" h="187">
                <a:moveTo>
                  <a:pt x="2198" y="187"/>
                </a:moveTo>
                <a:lnTo>
                  <a:pt x="2198" y="187"/>
                </a:lnTo>
                <a:cubicBezTo>
                  <a:pt x="1824" y="63"/>
                  <a:pt x="1434" y="0"/>
                  <a:pt x="1041" y="0"/>
                </a:cubicBezTo>
                <a:cubicBezTo>
                  <a:pt x="689" y="0"/>
                  <a:pt x="338" y="51"/>
                  <a:pt x="0" y="151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5888880" y="2653920"/>
            <a:ext cx="495720" cy="284040"/>
          </a:xfrm>
          <a:custGeom>
            <a:avLst/>
            <a:gdLst/>
            <a:ahLst/>
            <a:rect l="0" t="0" r="r" b="b"/>
            <a:pathLst>
              <a:path fill="none" w="1377" h="789">
                <a:moveTo>
                  <a:pt x="1377" y="789"/>
                </a:moveTo>
                <a:lnTo>
                  <a:pt x="1377" y="789"/>
                </a:lnTo>
                <a:cubicBezTo>
                  <a:pt x="1183" y="614"/>
                  <a:pt x="972" y="459"/>
                  <a:pt x="746" y="328"/>
                </a:cubicBezTo>
                <a:cubicBezTo>
                  <a:pt x="510" y="192"/>
                  <a:pt x="260" y="82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6380280" y="2940120"/>
            <a:ext cx="17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 txBox="1"/>
          <p:nvPr/>
        </p:nvSpPr>
        <p:spPr>
          <a:xfrm>
            <a:off x="6568920" y="277344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p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 txBox="1"/>
          <p:nvPr/>
        </p:nvSpPr>
        <p:spPr>
          <a:xfrm>
            <a:off x="6276960" y="1623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 txBox="1"/>
          <p:nvPr/>
        </p:nvSpPr>
        <p:spPr>
          <a:xfrm>
            <a:off x="6059520" y="2206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 txBox="1"/>
          <p:nvPr/>
        </p:nvSpPr>
        <p:spPr>
          <a:xfrm>
            <a:off x="5821200" y="2813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 txBox="1"/>
          <p:nvPr/>
        </p:nvSpPr>
        <p:spPr>
          <a:xfrm>
            <a:off x="6146640" y="31813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 txBox="1"/>
          <p:nvPr/>
        </p:nvSpPr>
        <p:spPr>
          <a:xfrm>
            <a:off x="2747880" y="30510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2797200" y="2368440"/>
            <a:ext cx="179280" cy="669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 txBox="1"/>
          <p:nvPr/>
        </p:nvSpPr>
        <p:spPr>
          <a:xfrm>
            <a:off x="2835360" y="2251080"/>
            <a:ext cx="43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2781360" y="2889360"/>
            <a:ext cx="173160" cy="173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1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3362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5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8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3369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0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3371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9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 txBox="1"/>
          <p:nvPr/>
        </p:nvSpPr>
        <p:spPr>
          <a:xfrm>
            <a:off x="4502160" y="15145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 txBox="1"/>
          <p:nvPr/>
        </p:nvSpPr>
        <p:spPr>
          <a:xfrm>
            <a:off x="4826160" y="817560"/>
            <a:ext cx="3852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 line parallel to the edge plan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Point 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3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3384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8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3389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1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3392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4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3395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7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3398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0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3401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3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3404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6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3407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9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3410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2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3413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5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3416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8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 flipH="1">
            <a:off x="2457360" y="2176560"/>
            <a:ext cx="3733920" cy="1001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 flipH="1">
            <a:off x="2352600" y="1720800"/>
            <a:ext cx="3765600" cy="100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 flipH="1">
            <a:off x="2890800" y="2889360"/>
            <a:ext cx="2798640" cy="75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 flipH="1">
            <a:off x="2290680" y="1733400"/>
            <a:ext cx="2470320" cy="66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 flipH="1">
            <a:off x="4419720" y="3181320"/>
            <a:ext cx="1603080" cy="43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2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3433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5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3436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8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3439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1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3442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4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3445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7" name=""/>
          <p:cNvSpPr/>
          <p:nvPr/>
        </p:nvSpPr>
        <p:spPr>
          <a:xfrm flipH="1">
            <a:off x="5813280" y="1685880"/>
            <a:ext cx="425520" cy="117180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 flipH="1">
            <a:off x="5376960" y="2852640"/>
            <a:ext cx="438120" cy="1209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 flipV="1">
            <a:off x="6253200" y="1128600"/>
            <a:ext cx="201600" cy="5572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>
            <a:off x="5100840" y="2584440"/>
            <a:ext cx="791280" cy="67320"/>
          </a:xfrm>
          <a:custGeom>
            <a:avLst/>
            <a:gdLst/>
            <a:ahLst/>
            <a:rect l="0" t="0" r="r" b="b"/>
            <a:pathLst>
              <a:path fill="none" w="2198" h="187">
                <a:moveTo>
                  <a:pt x="2198" y="187"/>
                </a:moveTo>
                <a:lnTo>
                  <a:pt x="2198" y="187"/>
                </a:lnTo>
                <a:cubicBezTo>
                  <a:pt x="1824" y="63"/>
                  <a:pt x="1434" y="0"/>
                  <a:pt x="1041" y="0"/>
                </a:cubicBezTo>
                <a:cubicBezTo>
                  <a:pt x="689" y="0"/>
                  <a:pt x="338" y="51"/>
                  <a:pt x="0" y="151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5888880" y="2653920"/>
            <a:ext cx="495720" cy="284040"/>
          </a:xfrm>
          <a:custGeom>
            <a:avLst/>
            <a:gdLst/>
            <a:ahLst/>
            <a:rect l="0" t="0" r="r" b="b"/>
            <a:pathLst>
              <a:path fill="none" w="1377" h="789">
                <a:moveTo>
                  <a:pt x="1377" y="789"/>
                </a:moveTo>
                <a:lnTo>
                  <a:pt x="1377" y="789"/>
                </a:lnTo>
                <a:cubicBezTo>
                  <a:pt x="1183" y="614"/>
                  <a:pt x="972" y="459"/>
                  <a:pt x="746" y="328"/>
                </a:cubicBezTo>
                <a:cubicBezTo>
                  <a:pt x="510" y="192"/>
                  <a:pt x="260" y="82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>
            <a:off x="6380280" y="2940120"/>
            <a:ext cx="17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 txBox="1"/>
          <p:nvPr/>
        </p:nvSpPr>
        <p:spPr>
          <a:xfrm>
            <a:off x="6568920" y="277344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p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 txBox="1"/>
          <p:nvPr/>
        </p:nvSpPr>
        <p:spPr>
          <a:xfrm>
            <a:off x="6276960" y="1623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 txBox="1"/>
          <p:nvPr/>
        </p:nvSpPr>
        <p:spPr>
          <a:xfrm>
            <a:off x="6059520" y="2206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 txBox="1"/>
          <p:nvPr/>
        </p:nvSpPr>
        <p:spPr>
          <a:xfrm>
            <a:off x="5821200" y="2813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 txBox="1"/>
          <p:nvPr/>
        </p:nvSpPr>
        <p:spPr>
          <a:xfrm>
            <a:off x="6146640" y="31813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 txBox="1"/>
          <p:nvPr/>
        </p:nvSpPr>
        <p:spPr>
          <a:xfrm>
            <a:off x="2747880" y="30510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2797200" y="2368440"/>
            <a:ext cx="179280" cy="669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 txBox="1"/>
          <p:nvPr/>
        </p:nvSpPr>
        <p:spPr>
          <a:xfrm>
            <a:off x="2835360" y="2251080"/>
            <a:ext cx="43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2781360" y="2889360"/>
            <a:ext cx="173160" cy="173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3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3474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7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0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3481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2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3483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1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 txBox="1"/>
          <p:nvPr/>
        </p:nvSpPr>
        <p:spPr>
          <a:xfrm>
            <a:off x="4502160" y="15145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 txBox="1"/>
          <p:nvPr/>
        </p:nvSpPr>
        <p:spPr>
          <a:xfrm>
            <a:off x="4826160" y="817560"/>
            <a:ext cx="3852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 line parallel to the edge plan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Point 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6081840" y="3106800"/>
            <a:ext cx="85680" cy="85680"/>
          </a:xfrm>
          <a:prstGeom prst="ellipse">
            <a:avLst/>
          </a:prstGeom>
          <a:noFill/>
          <a:ln w="12600">
            <a:solidFill>
              <a:srgbClr val="ff0000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6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3497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1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3502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4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3505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7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3508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0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3511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3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3514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6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3517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9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3520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2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3523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5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3526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8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3529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1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 flipH="1">
            <a:off x="2457360" y="2176560"/>
            <a:ext cx="3733920" cy="1001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 flipH="1">
            <a:off x="2352600" y="1720800"/>
            <a:ext cx="3765600" cy="100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 flipH="1">
            <a:off x="2890800" y="2889360"/>
            <a:ext cx="2798640" cy="75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 flipH="1">
            <a:off x="2290680" y="1733400"/>
            <a:ext cx="2470320" cy="66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 flipH="1">
            <a:off x="4419720" y="3181320"/>
            <a:ext cx="1603080" cy="43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5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3546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8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3549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1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3552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4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3555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7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3558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0" name=""/>
          <p:cNvSpPr/>
          <p:nvPr/>
        </p:nvSpPr>
        <p:spPr>
          <a:xfrm flipH="1">
            <a:off x="5813280" y="1685880"/>
            <a:ext cx="425520" cy="117180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 flipH="1">
            <a:off x="5376960" y="2852640"/>
            <a:ext cx="438120" cy="1209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 flipH="1">
            <a:off x="5729400" y="1565280"/>
            <a:ext cx="971280" cy="2676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 flipV="1">
            <a:off x="6253200" y="1128600"/>
            <a:ext cx="201600" cy="5572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5100840" y="2584440"/>
            <a:ext cx="791280" cy="67320"/>
          </a:xfrm>
          <a:custGeom>
            <a:avLst/>
            <a:gdLst/>
            <a:ahLst/>
            <a:rect l="0" t="0" r="r" b="b"/>
            <a:pathLst>
              <a:path fill="none" w="2198" h="187">
                <a:moveTo>
                  <a:pt x="2198" y="187"/>
                </a:moveTo>
                <a:lnTo>
                  <a:pt x="2198" y="187"/>
                </a:lnTo>
                <a:cubicBezTo>
                  <a:pt x="1824" y="63"/>
                  <a:pt x="1434" y="0"/>
                  <a:pt x="1041" y="0"/>
                </a:cubicBezTo>
                <a:cubicBezTo>
                  <a:pt x="689" y="0"/>
                  <a:pt x="338" y="51"/>
                  <a:pt x="0" y="151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5888880" y="2653920"/>
            <a:ext cx="495720" cy="284040"/>
          </a:xfrm>
          <a:custGeom>
            <a:avLst/>
            <a:gdLst/>
            <a:ahLst/>
            <a:rect l="0" t="0" r="r" b="b"/>
            <a:pathLst>
              <a:path fill="none" w="1377" h="789">
                <a:moveTo>
                  <a:pt x="1377" y="789"/>
                </a:moveTo>
                <a:lnTo>
                  <a:pt x="1377" y="789"/>
                </a:lnTo>
                <a:cubicBezTo>
                  <a:pt x="1183" y="614"/>
                  <a:pt x="972" y="459"/>
                  <a:pt x="746" y="328"/>
                </a:cubicBezTo>
                <a:cubicBezTo>
                  <a:pt x="510" y="192"/>
                  <a:pt x="260" y="82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6380280" y="2940120"/>
            <a:ext cx="17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 txBox="1"/>
          <p:nvPr/>
        </p:nvSpPr>
        <p:spPr>
          <a:xfrm>
            <a:off x="6568920" y="277344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p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 txBox="1"/>
          <p:nvPr/>
        </p:nvSpPr>
        <p:spPr>
          <a:xfrm>
            <a:off x="6276960" y="1623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 txBox="1"/>
          <p:nvPr/>
        </p:nvSpPr>
        <p:spPr>
          <a:xfrm>
            <a:off x="6059520" y="2206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 txBox="1"/>
          <p:nvPr/>
        </p:nvSpPr>
        <p:spPr>
          <a:xfrm>
            <a:off x="5821200" y="2813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 txBox="1"/>
          <p:nvPr/>
        </p:nvSpPr>
        <p:spPr>
          <a:xfrm>
            <a:off x="6146640" y="31813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 txBox="1"/>
          <p:nvPr/>
        </p:nvSpPr>
        <p:spPr>
          <a:xfrm>
            <a:off x="2747880" y="30510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2797200" y="2368440"/>
            <a:ext cx="179280" cy="669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 txBox="1"/>
          <p:nvPr/>
        </p:nvSpPr>
        <p:spPr>
          <a:xfrm>
            <a:off x="2835360" y="2251080"/>
            <a:ext cx="43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2781360" y="2889360"/>
            <a:ext cx="173160" cy="173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7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3588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1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4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3595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6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3597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5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4502160" y="15145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 txBox="1"/>
          <p:nvPr/>
        </p:nvSpPr>
        <p:spPr>
          <a:xfrm>
            <a:off x="4826160" y="817560"/>
            <a:ext cx="3852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 line parallel to the edge plan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Point 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6081840" y="3106800"/>
            <a:ext cx="85680" cy="85680"/>
          </a:xfrm>
          <a:prstGeom prst="ellipse">
            <a:avLst/>
          </a:prstGeom>
          <a:noFill/>
          <a:ln w="12600">
            <a:solidFill>
              <a:srgbClr val="ff0000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0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3611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3616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8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3619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1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3622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4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3625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7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3628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0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3631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3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3634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6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3637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9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3640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2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3643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5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 flipH="1">
            <a:off x="2457360" y="2176560"/>
            <a:ext cx="3733920" cy="1001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 flipH="1">
            <a:off x="2352600" y="1720800"/>
            <a:ext cx="3765600" cy="100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 flipH="1">
            <a:off x="2890800" y="2889360"/>
            <a:ext cx="2798640" cy="75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 flipH="1">
            <a:off x="2290680" y="1733400"/>
            <a:ext cx="2470320" cy="66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 flipH="1">
            <a:off x="4419720" y="3181320"/>
            <a:ext cx="1603080" cy="43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9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3660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2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3663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5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3666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8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3669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1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3672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4" name=""/>
          <p:cNvSpPr/>
          <p:nvPr/>
        </p:nvSpPr>
        <p:spPr>
          <a:xfrm flipH="1">
            <a:off x="5813280" y="1685880"/>
            <a:ext cx="425520" cy="117180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 flipH="1">
            <a:off x="5376960" y="2852640"/>
            <a:ext cx="438120" cy="1209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 flipH="1">
            <a:off x="5729400" y="1565280"/>
            <a:ext cx="971280" cy="2676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 flipV="1">
            <a:off x="6253200" y="1128600"/>
            <a:ext cx="201600" cy="5572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5100840" y="2584440"/>
            <a:ext cx="791280" cy="67320"/>
          </a:xfrm>
          <a:custGeom>
            <a:avLst/>
            <a:gdLst/>
            <a:ahLst/>
            <a:rect l="0" t="0" r="r" b="b"/>
            <a:pathLst>
              <a:path fill="none" w="2198" h="187">
                <a:moveTo>
                  <a:pt x="2198" y="187"/>
                </a:moveTo>
                <a:lnTo>
                  <a:pt x="2198" y="187"/>
                </a:lnTo>
                <a:cubicBezTo>
                  <a:pt x="1824" y="63"/>
                  <a:pt x="1434" y="0"/>
                  <a:pt x="1041" y="0"/>
                </a:cubicBezTo>
                <a:cubicBezTo>
                  <a:pt x="689" y="0"/>
                  <a:pt x="338" y="51"/>
                  <a:pt x="0" y="151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5888880" y="2653920"/>
            <a:ext cx="495720" cy="284040"/>
          </a:xfrm>
          <a:custGeom>
            <a:avLst/>
            <a:gdLst/>
            <a:ahLst/>
            <a:rect l="0" t="0" r="r" b="b"/>
            <a:pathLst>
              <a:path fill="none" w="1377" h="789">
                <a:moveTo>
                  <a:pt x="1377" y="789"/>
                </a:moveTo>
                <a:lnTo>
                  <a:pt x="1377" y="789"/>
                </a:lnTo>
                <a:cubicBezTo>
                  <a:pt x="1183" y="614"/>
                  <a:pt x="972" y="459"/>
                  <a:pt x="746" y="328"/>
                </a:cubicBezTo>
                <a:cubicBezTo>
                  <a:pt x="510" y="192"/>
                  <a:pt x="260" y="82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6380280" y="2940120"/>
            <a:ext cx="17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 txBox="1"/>
          <p:nvPr/>
        </p:nvSpPr>
        <p:spPr>
          <a:xfrm>
            <a:off x="6568920" y="277344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p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 txBox="1"/>
          <p:nvPr/>
        </p:nvSpPr>
        <p:spPr>
          <a:xfrm>
            <a:off x="6276960" y="1623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 txBox="1"/>
          <p:nvPr/>
        </p:nvSpPr>
        <p:spPr>
          <a:xfrm>
            <a:off x="6059520" y="2206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 txBox="1"/>
          <p:nvPr/>
        </p:nvSpPr>
        <p:spPr>
          <a:xfrm>
            <a:off x="5821200" y="2813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 txBox="1"/>
          <p:nvPr/>
        </p:nvSpPr>
        <p:spPr>
          <a:xfrm>
            <a:off x="6146640" y="31813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 txBox="1"/>
          <p:nvPr/>
        </p:nvSpPr>
        <p:spPr>
          <a:xfrm>
            <a:off x="2747880" y="30510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2797200" y="2368440"/>
            <a:ext cx="179280" cy="669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 txBox="1"/>
          <p:nvPr/>
        </p:nvSpPr>
        <p:spPr>
          <a:xfrm>
            <a:off x="2835360" y="2251080"/>
            <a:ext cx="43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2781360" y="2889360"/>
            <a:ext cx="173160" cy="173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1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3702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5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8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3709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0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3711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9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 txBox="1"/>
          <p:nvPr/>
        </p:nvSpPr>
        <p:spPr>
          <a:xfrm>
            <a:off x="4502160" y="15145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6081840" y="3106800"/>
            <a:ext cx="85680" cy="85680"/>
          </a:xfrm>
          <a:prstGeom prst="ellipse">
            <a:avLst/>
          </a:prstGeom>
          <a:noFill/>
          <a:ln w="12600">
            <a:solidFill>
              <a:srgbClr val="ff0000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3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3724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8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3729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3732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3735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3738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0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3741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3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3744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6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3747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9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3750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2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3753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5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3756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8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 flipH="1">
            <a:off x="2457360" y="2176560"/>
            <a:ext cx="3733920" cy="1001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 flipH="1">
            <a:off x="2352600" y="1720800"/>
            <a:ext cx="3765600" cy="100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 flipH="1">
            <a:off x="2890800" y="2889360"/>
            <a:ext cx="2798640" cy="75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 flipH="1">
            <a:off x="2290680" y="1733400"/>
            <a:ext cx="2470320" cy="66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 flipH="1">
            <a:off x="4419720" y="3181320"/>
            <a:ext cx="1603080" cy="43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2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3773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5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3776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8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3779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1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3782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4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3785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7" name=""/>
          <p:cNvSpPr/>
          <p:nvPr/>
        </p:nvSpPr>
        <p:spPr>
          <a:xfrm flipH="1">
            <a:off x="5813280" y="1685880"/>
            <a:ext cx="425520" cy="117180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 flipH="1">
            <a:off x="5376960" y="2852640"/>
            <a:ext cx="438120" cy="1209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 flipH="1">
            <a:off x="5729400" y="1565280"/>
            <a:ext cx="971280" cy="2676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 flipV="1">
            <a:off x="6253200" y="1128600"/>
            <a:ext cx="201600" cy="5572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5100840" y="2584440"/>
            <a:ext cx="791280" cy="67320"/>
          </a:xfrm>
          <a:custGeom>
            <a:avLst/>
            <a:gdLst/>
            <a:ahLst/>
            <a:rect l="0" t="0" r="r" b="b"/>
            <a:pathLst>
              <a:path fill="none" w="2198" h="187">
                <a:moveTo>
                  <a:pt x="2198" y="187"/>
                </a:moveTo>
                <a:lnTo>
                  <a:pt x="2198" y="187"/>
                </a:lnTo>
                <a:cubicBezTo>
                  <a:pt x="1824" y="63"/>
                  <a:pt x="1434" y="0"/>
                  <a:pt x="1041" y="0"/>
                </a:cubicBezTo>
                <a:cubicBezTo>
                  <a:pt x="689" y="0"/>
                  <a:pt x="338" y="51"/>
                  <a:pt x="0" y="151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>
            <a:off x="5888880" y="2653920"/>
            <a:ext cx="495720" cy="284040"/>
          </a:xfrm>
          <a:custGeom>
            <a:avLst/>
            <a:gdLst/>
            <a:ahLst/>
            <a:rect l="0" t="0" r="r" b="b"/>
            <a:pathLst>
              <a:path fill="none" w="1377" h="789">
                <a:moveTo>
                  <a:pt x="1377" y="789"/>
                </a:moveTo>
                <a:lnTo>
                  <a:pt x="1377" y="789"/>
                </a:lnTo>
                <a:cubicBezTo>
                  <a:pt x="1183" y="614"/>
                  <a:pt x="972" y="459"/>
                  <a:pt x="746" y="328"/>
                </a:cubicBezTo>
                <a:cubicBezTo>
                  <a:pt x="510" y="192"/>
                  <a:pt x="260" y="82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>
            <a:off x="6380280" y="2940120"/>
            <a:ext cx="17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 txBox="1"/>
          <p:nvPr/>
        </p:nvSpPr>
        <p:spPr>
          <a:xfrm>
            <a:off x="6568920" y="277344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p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7" name=""/>
          <p:cNvGrpSpPr/>
          <p:nvPr/>
        </p:nvGrpSpPr>
        <p:grpSpPr>
          <a:xfrm>
            <a:off x="6585120" y="1870200"/>
            <a:ext cx="1860480" cy="757440"/>
            <a:chOff x="6585120" y="1870200"/>
            <a:chExt cx="1860480" cy="757440"/>
          </a:xfrm>
        </p:grpSpPr>
        <p:sp>
          <p:nvSpPr>
            <p:cNvPr id="3798" name=""/>
            <p:cNvSpPr/>
            <p:nvPr/>
          </p:nvSpPr>
          <p:spPr>
            <a:xfrm>
              <a:off x="6585120" y="1870200"/>
              <a:ext cx="431640" cy="260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7016760" y="2130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 txBox="1"/>
            <p:nvPr/>
          </p:nvSpPr>
          <p:spPr>
            <a:xfrm>
              <a:off x="7162920" y="1986120"/>
              <a:ext cx="12826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in Lo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1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 txBox="1"/>
          <p:nvPr/>
        </p:nvSpPr>
        <p:spPr>
          <a:xfrm>
            <a:off x="6276960" y="1623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 txBox="1"/>
          <p:nvPr/>
        </p:nvSpPr>
        <p:spPr>
          <a:xfrm>
            <a:off x="6059520" y="2206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"/>
          <p:cNvSpPr txBox="1"/>
          <p:nvPr/>
        </p:nvSpPr>
        <p:spPr>
          <a:xfrm>
            <a:off x="5821200" y="2813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"/>
          <p:cNvSpPr txBox="1"/>
          <p:nvPr/>
        </p:nvSpPr>
        <p:spPr>
          <a:xfrm>
            <a:off x="6146640" y="31813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"/>
          <p:cNvSpPr txBox="1"/>
          <p:nvPr/>
        </p:nvSpPr>
        <p:spPr>
          <a:xfrm>
            <a:off x="3029040" y="27478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"/>
          <p:cNvSpPr txBox="1"/>
          <p:nvPr/>
        </p:nvSpPr>
        <p:spPr>
          <a:xfrm>
            <a:off x="2747880" y="30510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/>
          <p:cNvSpPr/>
          <p:nvPr/>
        </p:nvSpPr>
        <p:spPr>
          <a:xfrm>
            <a:off x="2797200" y="2368440"/>
            <a:ext cx="179280" cy="669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 txBox="1"/>
          <p:nvPr/>
        </p:nvSpPr>
        <p:spPr>
          <a:xfrm>
            <a:off x="2835360" y="2251080"/>
            <a:ext cx="43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2781360" y="2889360"/>
            <a:ext cx="173160" cy="173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8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3819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2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5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3826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7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3828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36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 txBox="1"/>
          <p:nvPr/>
        </p:nvSpPr>
        <p:spPr>
          <a:xfrm>
            <a:off x="4502160" y="15145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6081840" y="3106800"/>
            <a:ext cx="85680" cy="85680"/>
          </a:xfrm>
          <a:prstGeom prst="ellipse">
            <a:avLst/>
          </a:prstGeom>
          <a:noFill/>
          <a:ln w="12600">
            <a:solidFill>
              <a:srgbClr val="ff0000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0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3841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5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3846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8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3849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1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3852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4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3855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7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3858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0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3861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3864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6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3867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9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3870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2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3873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5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 flipH="1">
            <a:off x="2290680" y="1733400"/>
            <a:ext cx="2470320" cy="66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 flipH="1">
            <a:off x="4419720" y="3181320"/>
            <a:ext cx="1603080" cy="43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6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3887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9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3890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2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3893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5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3896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8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3899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1" name=""/>
          <p:cNvSpPr/>
          <p:nvPr/>
        </p:nvSpPr>
        <p:spPr>
          <a:xfrm flipH="1">
            <a:off x="5813280" y="1685880"/>
            <a:ext cx="425520" cy="117180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 flipH="1">
            <a:off x="5376960" y="2852640"/>
            <a:ext cx="438120" cy="1209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 flipH="1">
            <a:off x="5729400" y="1565280"/>
            <a:ext cx="971280" cy="2676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 flipV="1">
            <a:off x="6253200" y="1128600"/>
            <a:ext cx="201600" cy="5572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"/>
          <p:cNvSpPr/>
          <p:nvPr/>
        </p:nvSpPr>
        <p:spPr>
          <a:xfrm>
            <a:off x="5100840" y="2584440"/>
            <a:ext cx="791280" cy="67320"/>
          </a:xfrm>
          <a:custGeom>
            <a:avLst/>
            <a:gdLst/>
            <a:ahLst/>
            <a:rect l="0" t="0" r="r" b="b"/>
            <a:pathLst>
              <a:path fill="none" w="2198" h="187">
                <a:moveTo>
                  <a:pt x="2198" y="187"/>
                </a:moveTo>
                <a:lnTo>
                  <a:pt x="2198" y="187"/>
                </a:lnTo>
                <a:cubicBezTo>
                  <a:pt x="1824" y="63"/>
                  <a:pt x="1434" y="0"/>
                  <a:pt x="1041" y="0"/>
                </a:cubicBezTo>
                <a:cubicBezTo>
                  <a:pt x="689" y="0"/>
                  <a:pt x="338" y="51"/>
                  <a:pt x="0" y="151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"/>
          <p:cNvSpPr/>
          <p:nvPr/>
        </p:nvSpPr>
        <p:spPr>
          <a:xfrm>
            <a:off x="5888880" y="2653920"/>
            <a:ext cx="495720" cy="284040"/>
          </a:xfrm>
          <a:custGeom>
            <a:avLst/>
            <a:gdLst/>
            <a:ahLst/>
            <a:rect l="0" t="0" r="r" b="b"/>
            <a:pathLst>
              <a:path fill="none" w="1377" h="789">
                <a:moveTo>
                  <a:pt x="1377" y="789"/>
                </a:moveTo>
                <a:lnTo>
                  <a:pt x="1377" y="789"/>
                </a:lnTo>
                <a:cubicBezTo>
                  <a:pt x="1183" y="614"/>
                  <a:pt x="972" y="459"/>
                  <a:pt x="746" y="328"/>
                </a:cubicBezTo>
                <a:cubicBezTo>
                  <a:pt x="510" y="192"/>
                  <a:pt x="260" y="82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/>
          <p:cNvSpPr/>
          <p:nvPr/>
        </p:nvSpPr>
        <p:spPr>
          <a:xfrm>
            <a:off x="6380280" y="2940120"/>
            <a:ext cx="17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"/>
          <p:cNvSpPr txBox="1"/>
          <p:nvPr/>
        </p:nvSpPr>
        <p:spPr>
          <a:xfrm>
            <a:off x="6568920" y="277344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p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1" name=""/>
          <p:cNvGrpSpPr/>
          <p:nvPr/>
        </p:nvGrpSpPr>
        <p:grpSpPr>
          <a:xfrm>
            <a:off x="6585120" y="1870200"/>
            <a:ext cx="1860480" cy="757440"/>
            <a:chOff x="6585120" y="1870200"/>
            <a:chExt cx="1860480" cy="757440"/>
          </a:xfrm>
        </p:grpSpPr>
        <p:sp>
          <p:nvSpPr>
            <p:cNvPr id="3912" name=""/>
            <p:cNvSpPr/>
            <p:nvPr/>
          </p:nvSpPr>
          <p:spPr>
            <a:xfrm>
              <a:off x="6585120" y="1870200"/>
              <a:ext cx="431640" cy="260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7016760" y="2130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"/>
            <p:cNvSpPr txBox="1"/>
            <p:nvPr/>
          </p:nvSpPr>
          <p:spPr>
            <a:xfrm>
              <a:off x="7162920" y="1986120"/>
              <a:ext cx="12826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in Lo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5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"/>
          <p:cNvSpPr txBox="1"/>
          <p:nvPr/>
        </p:nvSpPr>
        <p:spPr>
          <a:xfrm>
            <a:off x="6276960" y="1623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 txBox="1"/>
          <p:nvPr/>
        </p:nvSpPr>
        <p:spPr>
          <a:xfrm>
            <a:off x="6059520" y="2206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 txBox="1"/>
          <p:nvPr/>
        </p:nvSpPr>
        <p:spPr>
          <a:xfrm>
            <a:off x="5821200" y="2813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 txBox="1"/>
          <p:nvPr/>
        </p:nvSpPr>
        <p:spPr>
          <a:xfrm>
            <a:off x="6146640" y="31813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7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3928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1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4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3935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6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3937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45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"/>
          <p:cNvSpPr txBox="1"/>
          <p:nvPr/>
        </p:nvSpPr>
        <p:spPr>
          <a:xfrm>
            <a:off x="4502160" y="15145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 txBox="1"/>
          <p:nvPr/>
        </p:nvSpPr>
        <p:spPr>
          <a:xfrm>
            <a:off x="4976640" y="857160"/>
            <a:ext cx="35020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the distance between parall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"/>
          <p:cNvSpPr txBox="1"/>
          <p:nvPr/>
        </p:nvSpPr>
        <p:spPr>
          <a:xfrm>
            <a:off x="5411880" y="4815000"/>
            <a:ext cx="2679840" cy="18352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37c03"/>
                </a:solidFill>
                <a:uFillTx/>
                <a:latin typeface="Times New Roman"/>
                <a:ea typeface="Times New Roman"/>
              </a:rPr>
              <a:t>REQUIRED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Strike, Dip, Slope Ang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rtic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Perpendicular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6081840" y="3106800"/>
            <a:ext cx="85680" cy="85680"/>
          </a:xfrm>
          <a:prstGeom prst="ellipse">
            <a:avLst/>
          </a:prstGeom>
          <a:noFill/>
          <a:ln w="12600">
            <a:solidFill>
              <a:srgbClr val="ff0000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1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3952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6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3957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9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3960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2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3963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5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3966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8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3969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1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3972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4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3975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7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3978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0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3981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3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3984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6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"/>
          <p:cNvSpPr/>
          <p:nvPr/>
        </p:nvSpPr>
        <p:spPr>
          <a:xfrm flipH="1">
            <a:off x="2290680" y="1733400"/>
            <a:ext cx="2470320" cy="66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"/>
          <p:cNvSpPr/>
          <p:nvPr/>
        </p:nvSpPr>
        <p:spPr>
          <a:xfrm flipH="1">
            <a:off x="4419720" y="3181320"/>
            <a:ext cx="1603080" cy="43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7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3998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0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4001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3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4004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6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4007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9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4010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2" name=""/>
          <p:cNvSpPr/>
          <p:nvPr/>
        </p:nvSpPr>
        <p:spPr>
          <a:xfrm flipH="1">
            <a:off x="5813280" y="1685880"/>
            <a:ext cx="425520" cy="117180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"/>
          <p:cNvSpPr/>
          <p:nvPr/>
        </p:nvSpPr>
        <p:spPr>
          <a:xfrm flipH="1">
            <a:off x="5376960" y="2852640"/>
            <a:ext cx="438120" cy="1209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"/>
          <p:cNvSpPr/>
          <p:nvPr/>
        </p:nvSpPr>
        <p:spPr>
          <a:xfrm flipH="1">
            <a:off x="5729400" y="1565280"/>
            <a:ext cx="971280" cy="2676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"/>
          <p:cNvSpPr/>
          <p:nvPr/>
        </p:nvSpPr>
        <p:spPr>
          <a:xfrm flipV="1">
            <a:off x="6253200" y="1128600"/>
            <a:ext cx="201600" cy="5572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"/>
          <p:cNvSpPr/>
          <p:nvPr/>
        </p:nvSpPr>
        <p:spPr>
          <a:xfrm>
            <a:off x="5100840" y="2584440"/>
            <a:ext cx="791280" cy="67320"/>
          </a:xfrm>
          <a:custGeom>
            <a:avLst/>
            <a:gdLst/>
            <a:ahLst/>
            <a:rect l="0" t="0" r="r" b="b"/>
            <a:pathLst>
              <a:path fill="none" w="2198" h="187">
                <a:moveTo>
                  <a:pt x="2198" y="187"/>
                </a:moveTo>
                <a:lnTo>
                  <a:pt x="2198" y="187"/>
                </a:lnTo>
                <a:cubicBezTo>
                  <a:pt x="1824" y="63"/>
                  <a:pt x="1434" y="0"/>
                  <a:pt x="1041" y="0"/>
                </a:cubicBezTo>
                <a:cubicBezTo>
                  <a:pt x="689" y="0"/>
                  <a:pt x="338" y="51"/>
                  <a:pt x="0" y="151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"/>
          <p:cNvSpPr/>
          <p:nvPr/>
        </p:nvSpPr>
        <p:spPr>
          <a:xfrm>
            <a:off x="5888880" y="2653920"/>
            <a:ext cx="495720" cy="284040"/>
          </a:xfrm>
          <a:custGeom>
            <a:avLst/>
            <a:gdLst/>
            <a:ahLst/>
            <a:rect l="0" t="0" r="r" b="b"/>
            <a:pathLst>
              <a:path fill="none" w="1377" h="789">
                <a:moveTo>
                  <a:pt x="1377" y="789"/>
                </a:moveTo>
                <a:lnTo>
                  <a:pt x="1377" y="789"/>
                </a:lnTo>
                <a:cubicBezTo>
                  <a:pt x="1183" y="614"/>
                  <a:pt x="972" y="459"/>
                  <a:pt x="746" y="328"/>
                </a:cubicBezTo>
                <a:cubicBezTo>
                  <a:pt x="510" y="192"/>
                  <a:pt x="260" y="82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"/>
          <p:cNvSpPr/>
          <p:nvPr/>
        </p:nvSpPr>
        <p:spPr>
          <a:xfrm>
            <a:off x="6380280" y="2940120"/>
            <a:ext cx="17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"/>
          <p:cNvSpPr txBox="1"/>
          <p:nvPr/>
        </p:nvSpPr>
        <p:spPr>
          <a:xfrm>
            <a:off x="6568920" y="277344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p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2" name=""/>
          <p:cNvGrpSpPr/>
          <p:nvPr/>
        </p:nvGrpSpPr>
        <p:grpSpPr>
          <a:xfrm>
            <a:off x="6585120" y="1870200"/>
            <a:ext cx="1860480" cy="757440"/>
            <a:chOff x="6585120" y="1870200"/>
            <a:chExt cx="1860480" cy="757440"/>
          </a:xfrm>
        </p:grpSpPr>
        <p:sp>
          <p:nvSpPr>
            <p:cNvPr id="4023" name=""/>
            <p:cNvSpPr/>
            <p:nvPr/>
          </p:nvSpPr>
          <p:spPr>
            <a:xfrm>
              <a:off x="6585120" y="1870200"/>
              <a:ext cx="431640" cy="260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7016760" y="2130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 txBox="1"/>
            <p:nvPr/>
          </p:nvSpPr>
          <p:spPr>
            <a:xfrm>
              <a:off x="7162920" y="1986120"/>
              <a:ext cx="12826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in Lo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6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"/>
          <p:cNvSpPr txBox="1"/>
          <p:nvPr/>
        </p:nvSpPr>
        <p:spPr>
          <a:xfrm>
            <a:off x="6276960" y="1623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"/>
          <p:cNvSpPr txBox="1"/>
          <p:nvPr/>
        </p:nvSpPr>
        <p:spPr>
          <a:xfrm>
            <a:off x="6059520" y="2206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"/>
          <p:cNvSpPr txBox="1"/>
          <p:nvPr/>
        </p:nvSpPr>
        <p:spPr>
          <a:xfrm>
            <a:off x="5821200" y="2813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"/>
          <p:cNvSpPr txBox="1"/>
          <p:nvPr/>
        </p:nvSpPr>
        <p:spPr>
          <a:xfrm>
            <a:off x="6146640" y="31813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8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4039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2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5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4046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7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4048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56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"/>
          <p:cNvSpPr txBox="1"/>
          <p:nvPr/>
        </p:nvSpPr>
        <p:spPr>
          <a:xfrm>
            <a:off x="4502160" y="15145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"/>
          <p:cNvSpPr txBox="1"/>
          <p:nvPr/>
        </p:nvSpPr>
        <p:spPr>
          <a:xfrm>
            <a:off x="4976640" y="857160"/>
            <a:ext cx="35020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the distance between parall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"/>
          <p:cNvSpPr txBox="1"/>
          <p:nvPr/>
        </p:nvSpPr>
        <p:spPr>
          <a:xfrm>
            <a:off x="5411880" y="4815000"/>
            <a:ext cx="2679840" cy="18352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37c03"/>
                </a:solidFill>
                <a:uFillTx/>
                <a:latin typeface="Times New Roman"/>
                <a:ea typeface="Times New Roman"/>
              </a:rPr>
              <a:t>REQUIRED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Strike, Dip, Slope Ang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rtic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Perpendicular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0" name=""/>
          <p:cNvGrpSpPr/>
          <p:nvPr/>
        </p:nvGrpSpPr>
        <p:grpSpPr>
          <a:xfrm>
            <a:off x="5153040" y="3309840"/>
            <a:ext cx="2987640" cy="663840"/>
            <a:chOff x="5153040" y="3309840"/>
            <a:chExt cx="2987640" cy="663840"/>
          </a:xfrm>
        </p:grpSpPr>
        <p:sp>
          <p:nvSpPr>
            <p:cNvPr id="4061" name=""/>
            <p:cNvSpPr/>
            <p:nvPr/>
          </p:nvSpPr>
          <p:spPr>
            <a:xfrm>
              <a:off x="6410160" y="37972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5153040" y="3309840"/>
              <a:ext cx="457200" cy="177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5948280" y="3614760"/>
              <a:ext cx="461880" cy="18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 txBox="1"/>
            <p:nvPr/>
          </p:nvSpPr>
          <p:spPr>
            <a:xfrm>
              <a:off x="6527880" y="3606840"/>
              <a:ext cx="16128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in Thick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5" name=""/>
          <p:cNvSpPr/>
          <p:nvPr/>
        </p:nvSpPr>
        <p:spPr>
          <a:xfrm>
            <a:off x="6081840" y="3106800"/>
            <a:ext cx="85680" cy="85680"/>
          </a:xfrm>
          <a:prstGeom prst="ellipse">
            <a:avLst/>
          </a:prstGeom>
          <a:noFill/>
          <a:ln w="12600">
            <a:solidFill>
              <a:srgbClr val="ff0000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7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4068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2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4073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5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4076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8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4079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1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4082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4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4085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7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4088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0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4091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3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4094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6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4097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9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4100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2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"/>
          <p:cNvSpPr/>
          <p:nvPr/>
        </p:nvSpPr>
        <p:spPr>
          <a:xfrm flipH="1">
            <a:off x="2290680" y="1733400"/>
            <a:ext cx="2470320" cy="66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"/>
          <p:cNvSpPr/>
          <p:nvPr/>
        </p:nvSpPr>
        <p:spPr>
          <a:xfrm flipH="1">
            <a:off x="4419720" y="3181320"/>
            <a:ext cx="1603080" cy="43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3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4114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6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4117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9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4120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2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4123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5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4126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8" name=""/>
          <p:cNvSpPr/>
          <p:nvPr/>
        </p:nvSpPr>
        <p:spPr>
          <a:xfrm flipH="1">
            <a:off x="5813280" y="1685880"/>
            <a:ext cx="425520" cy="117180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"/>
          <p:cNvSpPr/>
          <p:nvPr/>
        </p:nvSpPr>
        <p:spPr>
          <a:xfrm flipH="1">
            <a:off x="5376960" y="2852640"/>
            <a:ext cx="438120" cy="1209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"/>
          <p:cNvSpPr/>
          <p:nvPr/>
        </p:nvSpPr>
        <p:spPr>
          <a:xfrm flipH="1">
            <a:off x="5729400" y="1565280"/>
            <a:ext cx="971280" cy="2676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"/>
          <p:cNvSpPr/>
          <p:nvPr/>
        </p:nvSpPr>
        <p:spPr>
          <a:xfrm flipV="1">
            <a:off x="6253200" y="1128600"/>
            <a:ext cx="201600" cy="5572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2" name=""/>
          <p:cNvGrpSpPr/>
          <p:nvPr/>
        </p:nvGrpSpPr>
        <p:grpSpPr>
          <a:xfrm>
            <a:off x="5153040" y="3309840"/>
            <a:ext cx="2987640" cy="663840"/>
            <a:chOff x="5153040" y="3309840"/>
            <a:chExt cx="2987640" cy="663840"/>
          </a:xfrm>
        </p:grpSpPr>
        <p:sp>
          <p:nvSpPr>
            <p:cNvPr id="4133" name=""/>
            <p:cNvSpPr/>
            <p:nvPr/>
          </p:nvSpPr>
          <p:spPr>
            <a:xfrm>
              <a:off x="6410160" y="37972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5153040" y="3309840"/>
              <a:ext cx="457200" cy="177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5948280" y="3614760"/>
              <a:ext cx="461880" cy="18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 txBox="1"/>
            <p:nvPr/>
          </p:nvSpPr>
          <p:spPr>
            <a:xfrm>
              <a:off x="6527880" y="3606840"/>
              <a:ext cx="16128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in Thick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7" name=""/>
          <p:cNvSpPr/>
          <p:nvPr/>
        </p:nvSpPr>
        <p:spPr>
          <a:xfrm>
            <a:off x="5100840" y="2584440"/>
            <a:ext cx="791280" cy="67320"/>
          </a:xfrm>
          <a:custGeom>
            <a:avLst/>
            <a:gdLst/>
            <a:ahLst/>
            <a:rect l="0" t="0" r="r" b="b"/>
            <a:pathLst>
              <a:path fill="none" w="2198" h="187">
                <a:moveTo>
                  <a:pt x="2198" y="187"/>
                </a:moveTo>
                <a:lnTo>
                  <a:pt x="2198" y="187"/>
                </a:lnTo>
                <a:cubicBezTo>
                  <a:pt x="1824" y="63"/>
                  <a:pt x="1434" y="0"/>
                  <a:pt x="1041" y="0"/>
                </a:cubicBezTo>
                <a:cubicBezTo>
                  <a:pt x="689" y="0"/>
                  <a:pt x="338" y="51"/>
                  <a:pt x="0" y="151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"/>
          <p:cNvSpPr/>
          <p:nvPr/>
        </p:nvSpPr>
        <p:spPr>
          <a:xfrm>
            <a:off x="5888880" y="2653920"/>
            <a:ext cx="495720" cy="284040"/>
          </a:xfrm>
          <a:custGeom>
            <a:avLst/>
            <a:gdLst/>
            <a:ahLst/>
            <a:rect l="0" t="0" r="r" b="b"/>
            <a:pathLst>
              <a:path fill="none" w="1377" h="789">
                <a:moveTo>
                  <a:pt x="1377" y="789"/>
                </a:moveTo>
                <a:lnTo>
                  <a:pt x="1377" y="789"/>
                </a:lnTo>
                <a:cubicBezTo>
                  <a:pt x="1183" y="614"/>
                  <a:pt x="972" y="459"/>
                  <a:pt x="746" y="328"/>
                </a:cubicBezTo>
                <a:cubicBezTo>
                  <a:pt x="510" y="192"/>
                  <a:pt x="260" y="82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"/>
          <p:cNvSpPr/>
          <p:nvPr/>
        </p:nvSpPr>
        <p:spPr>
          <a:xfrm>
            <a:off x="6380280" y="2940120"/>
            <a:ext cx="17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"/>
          <p:cNvSpPr txBox="1"/>
          <p:nvPr/>
        </p:nvSpPr>
        <p:spPr>
          <a:xfrm>
            <a:off x="6568920" y="277344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p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3" name=""/>
          <p:cNvGrpSpPr/>
          <p:nvPr/>
        </p:nvGrpSpPr>
        <p:grpSpPr>
          <a:xfrm>
            <a:off x="6585120" y="1870200"/>
            <a:ext cx="1860480" cy="757440"/>
            <a:chOff x="6585120" y="1870200"/>
            <a:chExt cx="1860480" cy="757440"/>
          </a:xfrm>
        </p:grpSpPr>
        <p:sp>
          <p:nvSpPr>
            <p:cNvPr id="4144" name=""/>
            <p:cNvSpPr/>
            <p:nvPr/>
          </p:nvSpPr>
          <p:spPr>
            <a:xfrm>
              <a:off x="6585120" y="1870200"/>
              <a:ext cx="431640" cy="260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7016760" y="2130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 txBox="1"/>
            <p:nvPr/>
          </p:nvSpPr>
          <p:spPr>
            <a:xfrm>
              <a:off x="7162920" y="1986120"/>
              <a:ext cx="12826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in Lo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7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"/>
          <p:cNvSpPr txBox="1"/>
          <p:nvPr/>
        </p:nvSpPr>
        <p:spPr>
          <a:xfrm>
            <a:off x="6276960" y="1623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"/>
          <p:cNvSpPr txBox="1"/>
          <p:nvPr/>
        </p:nvSpPr>
        <p:spPr>
          <a:xfrm>
            <a:off x="6059520" y="2206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"/>
          <p:cNvSpPr txBox="1"/>
          <p:nvPr/>
        </p:nvSpPr>
        <p:spPr>
          <a:xfrm>
            <a:off x="5821200" y="2813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"/>
          <p:cNvSpPr txBox="1"/>
          <p:nvPr/>
        </p:nvSpPr>
        <p:spPr>
          <a:xfrm>
            <a:off x="6146640" y="31813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"/>
          <p:cNvSpPr txBox="1"/>
          <p:nvPr/>
        </p:nvSpPr>
        <p:spPr>
          <a:xfrm>
            <a:off x="5411880" y="4815000"/>
            <a:ext cx="2679840" cy="18352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37c03"/>
                </a:solidFill>
                <a:uFillTx/>
                <a:latin typeface="Times New Roman"/>
                <a:ea typeface="Times New Roman"/>
              </a:rPr>
              <a:t>REQUIRED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Strike, Dip, Slope Ang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rtic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Perpendicular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0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4161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4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7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4168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9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4170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78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"/>
          <p:cNvSpPr txBox="1"/>
          <p:nvPr/>
        </p:nvSpPr>
        <p:spPr>
          <a:xfrm>
            <a:off x="4502160" y="15145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"/>
          <p:cNvSpPr txBox="1"/>
          <p:nvPr/>
        </p:nvSpPr>
        <p:spPr>
          <a:xfrm>
            <a:off x="4916520" y="836640"/>
            <a:ext cx="3921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the distance fromPoint A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section of  the projected undergrou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107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109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"/>
          <p:cNvSpPr txBox="1"/>
          <p:nvPr/>
        </p:nvSpPr>
        <p:spPr>
          <a:xfrm>
            <a:off x="2060640" y="766800"/>
            <a:ext cx="686268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B is on the lower plane of the v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120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123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126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132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136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2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4183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7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4188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0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4191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3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4194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6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4197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9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4200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2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4203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5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4206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8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4209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1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4212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4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4215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7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 flipH="1">
            <a:off x="2290680" y="1733400"/>
            <a:ext cx="2470320" cy="66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"/>
          <p:cNvSpPr/>
          <p:nvPr/>
        </p:nvSpPr>
        <p:spPr>
          <a:xfrm flipH="1">
            <a:off x="4419720" y="3181320"/>
            <a:ext cx="1603080" cy="43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8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4229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1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4232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4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4235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7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4238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0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4241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3" name=""/>
          <p:cNvSpPr/>
          <p:nvPr/>
        </p:nvSpPr>
        <p:spPr>
          <a:xfrm flipH="1">
            <a:off x="5813280" y="1685880"/>
            <a:ext cx="425520" cy="117180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 flipH="1">
            <a:off x="5376960" y="2852640"/>
            <a:ext cx="438120" cy="1209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 flipH="1">
            <a:off x="5729400" y="1565280"/>
            <a:ext cx="971280" cy="2676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 flipV="1">
            <a:off x="6253200" y="1128600"/>
            <a:ext cx="201600" cy="5572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"/>
          <p:cNvSpPr/>
          <p:nvPr/>
        </p:nvSpPr>
        <p:spPr>
          <a:xfrm>
            <a:off x="6410160" y="3797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"/>
          <p:cNvSpPr/>
          <p:nvPr/>
        </p:nvSpPr>
        <p:spPr>
          <a:xfrm>
            <a:off x="5153040" y="3309840"/>
            <a:ext cx="457200" cy="177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"/>
          <p:cNvSpPr/>
          <p:nvPr/>
        </p:nvSpPr>
        <p:spPr>
          <a:xfrm>
            <a:off x="5948280" y="3614760"/>
            <a:ext cx="461880" cy="1825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"/>
          <p:cNvSpPr txBox="1"/>
          <p:nvPr/>
        </p:nvSpPr>
        <p:spPr>
          <a:xfrm>
            <a:off x="6527880" y="3606840"/>
            <a:ext cx="1612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>
            <a:off x="5100840" y="2584440"/>
            <a:ext cx="791280" cy="67320"/>
          </a:xfrm>
          <a:custGeom>
            <a:avLst/>
            <a:gdLst/>
            <a:ahLst/>
            <a:rect l="0" t="0" r="r" b="b"/>
            <a:pathLst>
              <a:path fill="none" w="2198" h="187">
                <a:moveTo>
                  <a:pt x="2198" y="187"/>
                </a:moveTo>
                <a:lnTo>
                  <a:pt x="2198" y="187"/>
                </a:lnTo>
                <a:cubicBezTo>
                  <a:pt x="1824" y="63"/>
                  <a:pt x="1434" y="0"/>
                  <a:pt x="1041" y="0"/>
                </a:cubicBezTo>
                <a:cubicBezTo>
                  <a:pt x="689" y="0"/>
                  <a:pt x="338" y="51"/>
                  <a:pt x="0" y="151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>
            <a:off x="5888880" y="2653920"/>
            <a:ext cx="495720" cy="284040"/>
          </a:xfrm>
          <a:custGeom>
            <a:avLst/>
            <a:gdLst/>
            <a:ahLst/>
            <a:rect l="0" t="0" r="r" b="b"/>
            <a:pathLst>
              <a:path fill="none" w="1377" h="789">
                <a:moveTo>
                  <a:pt x="1377" y="789"/>
                </a:moveTo>
                <a:lnTo>
                  <a:pt x="1377" y="789"/>
                </a:lnTo>
                <a:cubicBezTo>
                  <a:pt x="1183" y="614"/>
                  <a:pt x="972" y="459"/>
                  <a:pt x="746" y="328"/>
                </a:cubicBezTo>
                <a:cubicBezTo>
                  <a:pt x="510" y="192"/>
                  <a:pt x="260" y="82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>
            <a:off x="6380280" y="2940120"/>
            <a:ext cx="17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"/>
          <p:cNvSpPr txBox="1"/>
          <p:nvPr/>
        </p:nvSpPr>
        <p:spPr>
          <a:xfrm>
            <a:off x="6568920" y="277344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p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8" name=""/>
          <p:cNvGrpSpPr/>
          <p:nvPr/>
        </p:nvGrpSpPr>
        <p:grpSpPr>
          <a:xfrm>
            <a:off x="6585120" y="1870200"/>
            <a:ext cx="1860480" cy="757440"/>
            <a:chOff x="6585120" y="1870200"/>
            <a:chExt cx="1860480" cy="757440"/>
          </a:xfrm>
        </p:grpSpPr>
        <p:sp>
          <p:nvSpPr>
            <p:cNvPr id="4259" name=""/>
            <p:cNvSpPr/>
            <p:nvPr/>
          </p:nvSpPr>
          <p:spPr>
            <a:xfrm>
              <a:off x="6585120" y="1870200"/>
              <a:ext cx="431640" cy="260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7016760" y="2130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 txBox="1"/>
            <p:nvPr/>
          </p:nvSpPr>
          <p:spPr>
            <a:xfrm>
              <a:off x="7162920" y="1986120"/>
              <a:ext cx="12826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in Lo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2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 txBox="1"/>
          <p:nvPr/>
        </p:nvSpPr>
        <p:spPr>
          <a:xfrm>
            <a:off x="6276960" y="1623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"/>
          <p:cNvSpPr txBox="1"/>
          <p:nvPr/>
        </p:nvSpPr>
        <p:spPr>
          <a:xfrm>
            <a:off x="6059520" y="2206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 txBox="1"/>
          <p:nvPr/>
        </p:nvSpPr>
        <p:spPr>
          <a:xfrm>
            <a:off x="5821200" y="2813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"/>
          <p:cNvSpPr txBox="1"/>
          <p:nvPr/>
        </p:nvSpPr>
        <p:spPr>
          <a:xfrm>
            <a:off x="6146640" y="31813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"/>
          <p:cNvSpPr txBox="1"/>
          <p:nvPr/>
        </p:nvSpPr>
        <p:spPr>
          <a:xfrm>
            <a:off x="2293920" y="1401840"/>
            <a:ext cx="2019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"/>
          <p:cNvSpPr/>
          <p:nvPr/>
        </p:nvSpPr>
        <p:spPr>
          <a:xfrm>
            <a:off x="4280040" y="1611360"/>
            <a:ext cx="172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"/>
          <p:cNvSpPr/>
          <p:nvPr/>
        </p:nvSpPr>
        <p:spPr>
          <a:xfrm>
            <a:off x="4452840" y="1611360"/>
            <a:ext cx="432000" cy="30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"/>
          <p:cNvSpPr txBox="1"/>
          <p:nvPr/>
        </p:nvSpPr>
        <p:spPr>
          <a:xfrm>
            <a:off x="5411880" y="4815000"/>
            <a:ext cx="2679840" cy="18352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37c03"/>
                </a:solidFill>
                <a:uFillTx/>
                <a:latin typeface="Times New Roman"/>
                <a:ea typeface="Times New Roman"/>
              </a:rPr>
              <a:t>REQUIRED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Strike, Dip, Slope Ang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rtic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Perpendicular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8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4279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2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5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4286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7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4288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96" name=""/>
          <p:cNvSpPr txBox="1"/>
          <p:nvPr/>
        </p:nvSpPr>
        <p:spPr>
          <a:xfrm>
            <a:off x="4502160" y="15145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"/>
          <p:cNvSpPr txBox="1"/>
          <p:nvPr/>
        </p:nvSpPr>
        <p:spPr>
          <a:xfrm>
            <a:off x="4916520" y="836640"/>
            <a:ext cx="3921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the distance fromPoint A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section of  the projected undergrou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9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4300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4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4305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7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4308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0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4311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3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4314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6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4317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9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4320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2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4323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5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4326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8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4329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1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4332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4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3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4344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6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4347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9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4350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2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4353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5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4356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8" name=""/>
          <p:cNvSpPr/>
          <p:nvPr/>
        </p:nvSpPr>
        <p:spPr>
          <a:xfrm flipH="1">
            <a:off x="5813280" y="1685880"/>
            <a:ext cx="425520" cy="117180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"/>
          <p:cNvSpPr/>
          <p:nvPr/>
        </p:nvSpPr>
        <p:spPr>
          <a:xfrm flipH="1">
            <a:off x="5376960" y="2852640"/>
            <a:ext cx="438120" cy="1209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 flipH="1">
            <a:off x="5729400" y="1565280"/>
            <a:ext cx="971280" cy="2676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"/>
          <p:cNvSpPr/>
          <p:nvPr/>
        </p:nvSpPr>
        <p:spPr>
          <a:xfrm flipV="1">
            <a:off x="6253200" y="1128600"/>
            <a:ext cx="201600" cy="5572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"/>
          <p:cNvSpPr/>
          <p:nvPr/>
        </p:nvSpPr>
        <p:spPr>
          <a:xfrm>
            <a:off x="6410160" y="3797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"/>
          <p:cNvSpPr/>
          <p:nvPr/>
        </p:nvSpPr>
        <p:spPr>
          <a:xfrm>
            <a:off x="5153040" y="3309840"/>
            <a:ext cx="457200" cy="177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"/>
          <p:cNvSpPr/>
          <p:nvPr/>
        </p:nvSpPr>
        <p:spPr>
          <a:xfrm>
            <a:off x="5948280" y="3614760"/>
            <a:ext cx="461880" cy="1825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"/>
          <p:cNvSpPr txBox="1"/>
          <p:nvPr/>
        </p:nvSpPr>
        <p:spPr>
          <a:xfrm>
            <a:off x="6527880" y="3606840"/>
            <a:ext cx="1612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"/>
          <p:cNvSpPr/>
          <p:nvPr/>
        </p:nvSpPr>
        <p:spPr>
          <a:xfrm>
            <a:off x="5100840" y="2584440"/>
            <a:ext cx="791280" cy="67320"/>
          </a:xfrm>
          <a:custGeom>
            <a:avLst/>
            <a:gdLst/>
            <a:ahLst/>
            <a:rect l="0" t="0" r="r" b="b"/>
            <a:pathLst>
              <a:path fill="none" w="2198" h="187">
                <a:moveTo>
                  <a:pt x="2198" y="187"/>
                </a:moveTo>
                <a:lnTo>
                  <a:pt x="2198" y="187"/>
                </a:lnTo>
                <a:cubicBezTo>
                  <a:pt x="1824" y="63"/>
                  <a:pt x="1434" y="0"/>
                  <a:pt x="1041" y="0"/>
                </a:cubicBezTo>
                <a:cubicBezTo>
                  <a:pt x="689" y="0"/>
                  <a:pt x="338" y="51"/>
                  <a:pt x="0" y="151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"/>
          <p:cNvSpPr/>
          <p:nvPr/>
        </p:nvSpPr>
        <p:spPr>
          <a:xfrm>
            <a:off x="5888880" y="2653920"/>
            <a:ext cx="495720" cy="284040"/>
          </a:xfrm>
          <a:custGeom>
            <a:avLst/>
            <a:gdLst/>
            <a:ahLst/>
            <a:rect l="0" t="0" r="r" b="b"/>
            <a:pathLst>
              <a:path fill="none" w="1377" h="789">
                <a:moveTo>
                  <a:pt x="1377" y="789"/>
                </a:moveTo>
                <a:lnTo>
                  <a:pt x="1377" y="789"/>
                </a:lnTo>
                <a:cubicBezTo>
                  <a:pt x="1183" y="614"/>
                  <a:pt x="972" y="459"/>
                  <a:pt x="746" y="328"/>
                </a:cubicBezTo>
                <a:cubicBezTo>
                  <a:pt x="510" y="192"/>
                  <a:pt x="260" y="82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"/>
          <p:cNvSpPr/>
          <p:nvPr/>
        </p:nvSpPr>
        <p:spPr>
          <a:xfrm>
            <a:off x="6380280" y="2940120"/>
            <a:ext cx="17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"/>
          <p:cNvSpPr txBox="1"/>
          <p:nvPr/>
        </p:nvSpPr>
        <p:spPr>
          <a:xfrm>
            <a:off x="6568920" y="277344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p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3" name=""/>
          <p:cNvGrpSpPr/>
          <p:nvPr/>
        </p:nvGrpSpPr>
        <p:grpSpPr>
          <a:xfrm>
            <a:off x="6585120" y="1870200"/>
            <a:ext cx="1860480" cy="757440"/>
            <a:chOff x="6585120" y="1870200"/>
            <a:chExt cx="1860480" cy="757440"/>
          </a:xfrm>
        </p:grpSpPr>
        <p:sp>
          <p:nvSpPr>
            <p:cNvPr id="4374" name=""/>
            <p:cNvSpPr/>
            <p:nvPr/>
          </p:nvSpPr>
          <p:spPr>
            <a:xfrm>
              <a:off x="6585120" y="1870200"/>
              <a:ext cx="431640" cy="260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7016760" y="2130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"/>
            <p:cNvSpPr txBox="1"/>
            <p:nvPr/>
          </p:nvSpPr>
          <p:spPr>
            <a:xfrm>
              <a:off x="7162920" y="1986120"/>
              <a:ext cx="12826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in Lo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7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 txBox="1"/>
          <p:nvPr/>
        </p:nvSpPr>
        <p:spPr>
          <a:xfrm>
            <a:off x="6276960" y="1623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"/>
          <p:cNvSpPr txBox="1"/>
          <p:nvPr/>
        </p:nvSpPr>
        <p:spPr>
          <a:xfrm>
            <a:off x="6059520" y="2206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"/>
          <p:cNvSpPr txBox="1"/>
          <p:nvPr/>
        </p:nvSpPr>
        <p:spPr>
          <a:xfrm>
            <a:off x="5821200" y="2813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"/>
          <p:cNvSpPr txBox="1"/>
          <p:nvPr/>
        </p:nvSpPr>
        <p:spPr>
          <a:xfrm>
            <a:off x="6146640" y="31813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"/>
          <p:cNvSpPr txBox="1"/>
          <p:nvPr/>
        </p:nvSpPr>
        <p:spPr>
          <a:xfrm>
            <a:off x="2293920" y="1401840"/>
            <a:ext cx="2019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"/>
          <p:cNvSpPr/>
          <p:nvPr/>
        </p:nvSpPr>
        <p:spPr>
          <a:xfrm>
            <a:off x="4280040" y="1611360"/>
            <a:ext cx="172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"/>
          <p:cNvSpPr/>
          <p:nvPr/>
        </p:nvSpPr>
        <p:spPr>
          <a:xfrm>
            <a:off x="4452840" y="1611360"/>
            <a:ext cx="432000" cy="30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"/>
          <p:cNvSpPr txBox="1"/>
          <p:nvPr/>
        </p:nvSpPr>
        <p:spPr>
          <a:xfrm>
            <a:off x="5411880" y="4815000"/>
            <a:ext cx="2679840" cy="18352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37c03"/>
                </a:solidFill>
                <a:uFillTx/>
                <a:latin typeface="Times New Roman"/>
                <a:ea typeface="Times New Roman"/>
              </a:rPr>
              <a:t>REQUIRED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Strike, Dip, Slope Ang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rtic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Perpendicular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3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4394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7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0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4401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2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4403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11" name=""/>
          <p:cNvSpPr txBox="1"/>
          <p:nvPr/>
        </p:nvSpPr>
        <p:spPr>
          <a:xfrm>
            <a:off x="4502160" y="15145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3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4414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8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4419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1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4422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4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4425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7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4428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0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4431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3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4434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6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4437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9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4440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2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4443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5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4446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8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7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4458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0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4461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3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4464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6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4467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9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4470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2" name=""/>
          <p:cNvSpPr/>
          <p:nvPr/>
        </p:nvSpPr>
        <p:spPr>
          <a:xfrm flipH="1">
            <a:off x="5813280" y="1685880"/>
            <a:ext cx="425520" cy="117180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4" name=""/>
          <p:cNvSpPr/>
          <p:nvPr/>
        </p:nvSpPr>
        <p:spPr>
          <a:xfrm flipH="1">
            <a:off x="5376960" y="2852640"/>
            <a:ext cx="438120" cy="1209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"/>
          <p:cNvSpPr/>
          <p:nvPr/>
        </p:nvSpPr>
        <p:spPr>
          <a:xfrm flipH="1">
            <a:off x="5729400" y="1565280"/>
            <a:ext cx="971280" cy="2676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"/>
          <p:cNvSpPr/>
          <p:nvPr/>
        </p:nvSpPr>
        <p:spPr>
          <a:xfrm flipV="1">
            <a:off x="6253200" y="1128600"/>
            <a:ext cx="201600" cy="5572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"/>
          <p:cNvSpPr/>
          <p:nvPr/>
        </p:nvSpPr>
        <p:spPr>
          <a:xfrm>
            <a:off x="6410160" y="3797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"/>
          <p:cNvSpPr/>
          <p:nvPr/>
        </p:nvSpPr>
        <p:spPr>
          <a:xfrm>
            <a:off x="5153040" y="3309840"/>
            <a:ext cx="457200" cy="177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"/>
          <p:cNvSpPr/>
          <p:nvPr/>
        </p:nvSpPr>
        <p:spPr>
          <a:xfrm>
            <a:off x="5948280" y="3614760"/>
            <a:ext cx="461880" cy="1825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"/>
          <p:cNvSpPr txBox="1"/>
          <p:nvPr/>
        </p:nvSpPr>
        <p:spPr>
          <a:xfrm>
            <a:off x="6527880" y="3606840"/>
            <a:ext cx="1612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"/>
          <p:cNvSpPr/>
          <p:nvPr/>
        </p:nvSpPr>
        <p:spPr>
          <a:xfrm>
            <a:off x="5100840" y="2584440"/>
            <a:ext cx="791280" cy="67320"/>
          </a:xfrm>
          <a:custGeom>
            <a:avLst/>
            <a:gdLst/>
            <a:ahLst/>
            <a:rect l="0" t="0" r="r" b="b"/>
            <a:pathLst>
              <a:path fill="none" w="2198" h="187">
                <a:moveTo>
                  <a:pt x="2198" y="187"/>
                </a:moveTo>
                <a:lnTo>
                  <a:pt x="2198" y="187"/>
                </a:lnTo>
                <a:cubicBezTo>
                  <a:pt x="1824" y="63"/>
                  <a:pt x="1434" y="0"/>
                  <a:pt x="1041" y="0"/>
                </a:cubicBezTo>
                <a:cubicBezTo>
                  <a:pt x="689" y="0"/>
                  <a:pt x="338" y="51"/>
                  <a:pt x="0" y="151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"/>
          <p:cNvSpPr/>
          <p:nvPr/>
        </p:nvSpPr>
        <p:spPr>
          <a:xfrm>
            <a:off x="5888880" y="2653920"/>
            <a:ext cx="495720" cy="284040"/>
          </a:xfrm>
          <a:custGeom>
            <a:avLst/>
            <a:gdLst/>
            <a:ahLst/>
            <a:rect l="0" t="0" r="r" b="b"/>
            <a:pathLst>
              <a:path fill="none" w="1377" h="789">
                <a:moveTo>
                  <a:pt x="1377" y="789"/>
                </a:moveTo>
                <a:lnTo>
                  <a:pt x="1377" y="789"/>
                </a:lnTo>
                <a:cubicBezTo>
                  <a:pt x="1183" y="614"/>
                  <a:pt x="972" y="459"/>
                  <a:pt x="746" y="328"/>
                </a:cubicBezTo>
                <a:cubicBezTo>
                  <a:pt x="510" y="192"/>
                  <a:pt x="260" y="82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"/>
          <p:cNvSpPr/>
          <p:nvPr/>
        </p:nvSpPr>
        <p:spPr>
          <a:xfrm>
            <a:off x="6380280" y="2940120"/>
            <a:ext cx="17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"/>
          <p:cNvSpPr txBox="1"/>
          <p:nvPr/>
        </p:nvSpPr>
        <p:spPr>
          <a:xfrm>
            <a:off x="6568920" y="277344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p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7" name=""/>
          <p:cNvGrpSpPr/>
          <p:nvPr/>
        </p:nvGrpSpPr>
        <p:grpSpPr>
          <a:xfrm>
            <a:off x="6585120" y="1870200"/>
            <a:ext cx="1860480" cy="757440"/>
            <a:chOff x="6585120" y="1870200"/>
            <a:chExt cx="1860480" cy="757440"/>
          </a:xfrm>
        </p:grpSpPr>
        <p:sp>
          <p:nvSpPr>
            <p:cNvPr id="4488" name=""/>
            <p:cNvSpPr/>
            <p:nvPr/>
          </p:nvSpPr>
          <p:spPr>
            <a:xfrm>
              <a:off x="6585120" y="1870200"/>
              <a:ext cx="431640" cy="260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7016760" y="2130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"/>
            <p:cNvSpPr txBox="1"/>
            <p:nvPr/>
          </p:nvSpPr>
          <p:spPr>
            <a:xfrm>
              <a:off x="7162920" y="1986120"/>
              <a:ext cx="12826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in Lo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1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"/>
          <p:cNvSpPr txBox="1"/>
          <p:nvPr/>
        </p:nvSpPr>
        <p:spPr>
          <a:xfrm>
            <a:off x="6276960" y="1623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"/>
          <p:cNvSpPr txBox="1"/>
          <p:nvPr/>
        </p:nvSpPr>
        <p:spPr>
          <a:xfrm>
            <a:off x="6059520" y="2206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"/>
          <p:cNvSpPr txBox="1"/>
          <p:nvPr/>
        </p:nvSpPr>
        <p:spPr>
          <a:xfrm>
            <a:off x="5821200" y="2813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"/>
          <p:cNvSpPr txBox="1"/>
          <p:nvPr/>
        </p:nvSpPr>
        <p:spPr>
          <a:xfrm>
            <a:off x="6146640" y="31813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"/>
          <p:cNvSpPr txBox="1"/>
          <p:nvPr/>
        </p:nvSpPr>
        <p:spPr>
          <a:xfrm>
            <a:off x="2293920" y="1401840"/>
            <a:ext cx="2019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"/>
          <p:cNvSpPr/>
          <p:nvPr/>
        </p:nvSpPr>
        <p:spPr>
          <a:xfrm>
            <a:off x="4280040" y="1611360"/>
            <a:ext cx="172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"/>
          <p:cNvSpPr/>
          <p:nvPr/>
        </p:nvSpPr>
        <p:spPr>
          <a:xfrm>
            <a:off x="4452840" y="1611360"/>
            <a:ext cx="432000" cy="30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"/>
          <p:cNvSpPr txBox="1"/>
          <p:nvPr/>
        </p:nvSpPr>
        <p:spPr>
          <a:xfrm>
            <a:off x="5411880" y="4815000"/>
            <a:ext cx="2679840" cy="18352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37c03"/>
                </a:solidFill>
                <a:uFillTx/>
                <a:latin typeface="Times New Roman"/>
                <a:ea typeface="Times New Roman"/>
              </a:rPr>
              <a:t>REQUIRED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Strike, Dip, Slope Ang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rtic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pendicular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7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4508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1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4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4515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6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4517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25" name=""/>
          <p:cNvSpPr txBox="1"/>
          <p:nvPr/>
        </p:nvSpPr>
        <p:spPr>
          <a:xfrm>
            <a:off x="4502160" y="15145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"/>
          <p:cNvSpPr txBox="1"/>
          <p:nvPr/>
        </p:nvSpPr>
        <p:spPr>
          <a:xfrm>
            <a:off x="4597560" y="619200"/>
            <a:ext cx="4106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the perpendicular distance from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ge of the plane to Point 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8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4529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3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4534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6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4537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9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4540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2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4543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5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4546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8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4549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1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4552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4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4555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7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4558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0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4561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3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2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4573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5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4576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8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4579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1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4582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4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4585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7" name=""/>
          <p:cNvSpPr/>
          <p:nvPr/>
        </p:nvSpPr>
        <p:spPr>
          <a:xfrm flipH="1">
            <a:off x="5813280" y="1685880"/>
            <a:ext cx="425520" cy="117180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"/>
          <p:cNvSpPr/>
          <p:nvPr/>
        </p:nvSpPr>
        <p:spPr>
          <a:xfrm flipH="1">
            <a:off x="5376960" y="2852640"/>
            <a:ext cx="438120" cy="1209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"/>
          <p:cNvSpPr/>
          <p:nvPr/>
        </p:nvSpPr>
        <p:spPr>
          <a:xfrm flipH="1">
            <a:off x="5729400" y="1565280"/>
            <a:ext cx="971280" cy="2676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"/>
          <p:cNvSpPr/>
          <p:nvPr/>
        </p:nvSpPr>
        <p:spPr>
          <a:xfrm>
            <a:off x="5918040" y="1938240"/>
            <a:ext cx="187200" cy="1810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2" name=""/>
          <p:cNvSpPr/>
          <p:nvPr/>
        </p:nvSpPr>
        <p:spPr>
          <a:xfrm>
            <a:off x="4835520" y="1708200"/>
            <a:ext cx="1225440" cy="438120"/>
          </a:xfrm>
          <a:prstGeom prst="line">
            <a:avLst/>
          </a:prstGeom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3" name=""/>
          <p:cNvSpPr/>
          <p:nvPr/>
        </p:nvSpPr>
        <p:spPr>
          <a:xfrm flipV="1">
            <a:off x="6253200" y="1128600"/>
            <a:ext cx="201600" cy="5572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"/>
          <p:cNvSpPr/>
          <p:nvPr/>
        </p:nvSpPr>
        <p:spPr>
          <a:xfrm>
            <a:off x="6410160" y="3797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"/>
          <p:cNvSpPr/>
          <p:nvPr/>
        </p:nvSpPr>
        <p:spPr>
          <a:xfrm>
            <a:off x="5153040" y="3309840"/>
            <a:ext cx="457200" cy="177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"/>
          <p:cNvSpPr/>
          <p:nvPr/>
        </p:nvSpPr>
        <p:spPr>
          <a:xfrm>
            <a:off x="5948280" y="3614760"/>
            <a:ext cx="461880" cy="1825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"/>
          <p:cNvSpPr txBox="1"/>
          <p:nvPr/>
        </p:nvSpPr>
        <p:spPr>
          <a:xfrm>
            <a:off x="6527880" y="3606840"/>
            <a:ext cx="1612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8" name=""/>
          <p:cNvSpPr/>
          <p:nvPr/>
        </p:nvSpPr>
        <p:spPr>
          <a:xfrm>
            <a:off x="5100840" y="2584440"/>
            <a:ext cx="791280" cy="67320"/>
          </a:xfrm>
          <a:custGeom>
            <a:avLst/>
            <a:gdLst/>
            <a:ahLst/>
            <a:rect l="0" t="0" r="r" b="b"/>
            <a:pathLst>
              <a:path fill="none" w="2198" h="187">
                <a:moveTo>
                  <a:pt x="2198" y="187"/>
                </a:moveTo>
                <a:lnTo>
                  <a:pt x="2198" y="187"/>
                </a:lnTo>
                <a:cubicBezTo>
                  <a:pt x="1824" y="63"/>
                  <a:pt x="1434" y="0"/>
                  <a:pt x="1041" y="0"/>
                </a:cubicBezTo>
                <a:cubicBezTo>
                  <a:pt x="689" y="0"/>
                  <a:pt x="338" y="51"/>
                  <a:pt x="0" y="151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"/>
          <p:cNvSpPr/>
          <p:nvPr/>
        </p:nvSpPr>
        <p:spPr>
          <a:xfrm>
            <a:off x="5888880" y="2653920"/>
            <a:ext cx="495720" cy="284040"/>
          </a:xfrm>
          <a:custGeom>
            <a:avLst/>
            <a:gdLst/>
            <a:ahLst/>
            <a:rect l="0" t="0" r="r" b="b"/>
            <a:pathLst>
              <a:path fill="none" w="1377" h="789">
                <a:moveTo>
                  <a:pt x="1377" y="789"/>
                </a:moveTo>
                <a:lnTo>
                  <a:pt x="1377" y="789"/>
                </a:lnTo>
                <a:cubicBezTo>
                  <a:pt x="1183" y="614"/>
                  <a:pt x="972" y="459"/>
                  <a:pt x="746" y="328"/>
                </a:cubicBezTo>
                <a:cubicBezTo>
                  <a:pt x="510" y="192"/>
                  <a:pt x="260" y="82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"/>
          <p:cNvSpPr/>
          <p:nvPr/>
        </p:nvSpPr>
        <p:spPr>
          <a:xfrm>
            <a:off x="6380280" y="2940120"/>
            <a:ext cx="17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"/>
          <p:cNvSpPr txBox="1"/>
          <p:nvPr/>
        </p:nvSpPr>
        <p:spPr>
          <a:xfrm>
            <a:off x="6568920" y="277344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p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4" name=""/>
          <p:cNvGrpSpPr/>
          <p:nvPr/>
        </p:nvGrpSpPr>
        <p:grpSpPr>
          <a:xfrm>
            <a:off x="6585120" y="1870200"/>
            <a:ext cx="1860480" cy="757440"/>
            <a:chOff x="6585120" y="1870200"/>
            <a:chExt cx="1860480" cy="757440"/>
          </a:xfrm>
        </p:grpSpPr>
        <p:sp>
          <p:nvSpPr>
            <p:cNvPr id="4605" name=""/>
            <p:cNvSpPr/>
            <p:nvPr/>
          </p:nvSpPr>
          <p:spPr>
            <a:xfrm>
              <a:off x="6585120" y="1870200"/>
              <a:ext cx="431640" cy="260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7016760" y="2130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"/>
            <p:cNvSpPr txBox="1"/>
            <p:nvPr/>
          </p:nvSpPr>
          <p:spPr>
            <a:xfrm>
              <a:off x="7162920" y="1986120"/>
              <a:ext cx="12826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in Lo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8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"/>
          <p:cNvSpPr txBox="1"/>
          <p:nvPr/>
        </p:nvSpPr>
        <p:spPr>
          <a:xfrm>
            <a:off x="6276960" y="1623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"/>
          <p:cNvSpPr txBox="1"/>
          <p:nvPr/>
        </p:nvSpPr>
        <p:spPr>
          <a:xfrm>
            <a:off x="6059520" y="2206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"/>
          <p:cNvSpPr txBox="1"/>
          <p:nvPr/>
        </p:nvSpPr>
        <p:spPr>
          <a:xfrm>
            <a:off x="5821200" y="2813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"/>
          <p:cNvSpPr txBox="1"/>
          <p:nvPr/>
        </p:nvSpPr>
        <p:spPr>
          <a:xfrm>
            <a:off x="6146640" y="31813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"/>
          <p:cNvSpPr txBox="1"/>
          <p:nvPr/>
        </p:nvSpPr>
        <p:spPr>
          <a:xfrm>
            <a:off x="2293920" y="1401840"/>
            <a:ext cx="2019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/>
          <p:nvPr/>
        </p:nvSpPr>
        <p:spPr>
          <a:xfrm>
            <a:off x="4280040" y="1611360"/>
            <a:ext cx="172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2" name=""/>
          <p:cNvSpPr/>
          <p:nvPr/>
        </p:nvSpPr>
        <p:spPr>
          <a:xfrm>
            <a:off x="4452840" y="1611360"/>
            <a:ext cx="432000" cy="30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"/>
          <p:cNvSpPr txBox="1"/>
          <p:nvPr/>
        </p:nvSpPr>
        <p:spPr>
          <a:xfrm>
            <a:off x="5411880" y="4815000"/>
            <a:ext cx="2679840" cy="18352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37c03"/>
                </a:solidFill>
                <a:uFillTx/>
                <a:latin typeface="Times New Roman"/>
                <a:ea typeface="Times New Roman"/>
              </a:rPr>
              <a:t>REQUIRED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Strike, Dip, Slope Ang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rtic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pendicular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4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4625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8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1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4632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3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4634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42" name=""/>
          <p:cNvSpPr txBox="1"/>
          <p:nvPr/>
        </p:nvSpPr>
        <p:spPr>
          <a:xfrm>
            <a:off x="4502160" y="15145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3" name=""/>
          <p:cNvSpPr txBox="1"/>
          <p:nvPr/>
        </p:nvSpPr>
        <p:spPr>
          <a:xfrm>
            <a:off x="4597560" y="619200"/>
            <a:ext cx="4106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the perpendicular distance from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ge of the plane to Point 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4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5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4646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0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4651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3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4654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6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4657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9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4660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2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4663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5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4666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8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4669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1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4672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4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4675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7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4678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0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9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4690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2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4693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5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4696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8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4699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1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4702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4" name=""/>
          <p:cNvSpPr/>
          <p:nvPr/>
        </p:nvSpPr>
        <p:spPr>
          <a:xfrm flipH="1">
            <a:off x="5813280" y="1685880"/>
            <a:ext cx="425520" cy="117180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"/>
          <p:cNvSpPr/>
          <p:nvPr/>
        </p:nvSpPr>
        <p:spPr>
          <a:xfrm flipH="1">
            <a:off x="5376960" y="2852640"/>
            <a:ext cx="438120" cy="1209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"/>
          <p:cNvSpPr/>
          <p:nvPr/>
        </p:nvSpPr>
        <p:spPr>
          <a:xfrm flipH="1">
            <a:off x="5729400" y="1565280"/>
            <a:ext cx="971280" cy="2676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"/>
          <p:cNvSpPr/>
          <p:nvPr/>
        </p:nvSpPr>
        <p:spPr>
          <a:xfrm>
            <a:off x="5918040" y="1938240"/>
            <a:ext cx="187200" cy="1810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"/>
          <p:cNvSpPr/>
          <p:nvPr/>
        </p:nvSpPr>
        <p:spPr>
          <a:xfrm>
            <a:off x="4835520" y="1708200"/>
            <a:ext cx="1225440" cy="438120"/>
          </a:xfrm>
          <a:prstGeom prst="line">
            <a:avLst/>
          </a:prstGeom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"/>
          <p:cNvSpPr/>
          <p:nvPr/>
        </p:nvSpPr>
        <p:spPr>
          <a:xfrm flipV="1">
            <a:off x="6253200" y="1128600"/>
            <a:ext cx="201600" cy="5572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"/>
          <p:cNvSpPr/>
          <p:nvPr/>
        </p:nvSpPr>
        <p:spPr>
          <a:xfrm>
            <a:off x="6410160" y="3797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"/>
          <p:cNvSpPr/>
          <p:nvPr/>
        </p:nvSpPr>
        <p:spPr>
          <a:xfrm>
            <a:off x="5153040" y="3309840"/>
            <a:ext cx="457200" cy="177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"/>
          <p:cNvSpPr/>
          <p:nvPr/>
        </p:nvSpPr>
        <p:spPr>
          <a:xfrm>
            <a:off x="5948280" y="3614760"/>
            <a:ext cx="461880" cy="1825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"/>
          <p:cNvSpPr txBox="1"/>
          <p:nvPr/>
        </p:nvSpPr>
        <p:spPr>
          <a:xfrm>
            <a:off x="6527880" y="3606840"/>
            <a:ext cx="1612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"/>
          <p:cNvSpPr/>
          <p:nvPr/>
        </p:nvSpPr>
        <p:spPr>
          <a:xfrm>
            <a:off x="5100840" y="2584440"/>
            <a:ext cx="791280" cy="67320"/>
          </a:xfrm>
          <a:custGeom>
            <a:avLst/>
            <a:gdLst/>
            <a:ahLst/>
            <a:rect l="0" t="0" r="r" b="b"/>
            <a:pathLst>
              <a:path fill="none" w="2198" h="187">
                <a:moveTo>
                  <a:pt x="2198" y="187"/>
                </a:moveTo>
                <a:lnTo>
                  <a:pt x="2198" y="187"/>
                </a:lnTo>
                <a:cubicBezTo>
                  <a:pt x="1824" y="63"/>
                  <a:pt x="1434" y="0"/>
                  <a:pt x="1041" y="0"/>
                </a:cubicBezTo>
                <a:cubicBezTo>
                  <a:pt x="689" y="0"/>
                  <a:pt x="338" y="51"/>
                  <a:pt x="0" y="151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"/>
          <p:cNvSpPr/>
          <p:nvPr/>
        </p:nvSpPr>
        <p:spPr>
          <a:xfrm>
            <a:off x="5888880" y="2653920"/>
            <a:ext cx="495720" cy="284040"/>
          </a:xfrm>
          <a:custGeom>
            <a:avLst/>
            <a:gdLst/>
            <a:ahLst/>
            <a:rect l="0" t="0" r="r" b="b"/>
            <a:pathLst>
              <a:path fill="none" w="1377" h="789">
                <a:moveTo>
                  <a:pt x="1377" y="789"/>
                </a:moveTo>
                <a:lnTo>
                  <a:pt x="1377" y="789"/>
                </a:lnTo>
                <a:cubicBezTo>
                  <a:pt x="1183" y="614"/>
                  <a:pt x="972" y="459"/>
                  <a:pt x="746" y="328"/>
                </a:cubicBezTo>
                <a:cubicBezTo>
                  <a:pt x="510" y="192"/>
                  <a:pt x="260" y="82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"/>
          <p:cNvSpPr/>
          <p:nvPr/>
        </p:nvSpPr>
        <p:spPr>
          <a:xfrm>
            <a:off x="6380280" y="2940120"/>
            <a:ext cx="17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"/>
          <p:cNvSpPr txBox="1"/>
          <p:nvPr/>
        </p:nvSpPr>
        <p:spPr>
          <a:xfrm>
            <a:off x="6568920" y="277344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p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"/>
          <p:cNvSpPr/>
          <p:nvPr/>
        </p:nvSpPr>
        <p:spPr>
          <a:xfrm flipV="1">
            <a:off x="5127480" y="1362240"/>
            <a:ext cx="1649520" cy="43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"/>
          <p:cNvSpPr/>
          <p:nvPr/>
        </p:nvSpPr>
        <p:spPr>
          <a:xfrm>
            <a:off x="6799320" y="1362240"/>
            <a:ext cx="19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"/>
          <p:cNvSpPr txBox="1"/>
          <p:nvPr/>
        </p:nvSpPr>
        <p:spPr>
          <a:xfrm>
            <a:off x="7031160" y="1154160"/>
            <a:ext cx="1454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pend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4" name=""/>
          <p:cNvGrpSpPr/>
          <p:nvPr/>
        </p:nvGrpSpPr>
        <p:grpSpPr>
          <a:xfrm>
            <a:off x="6585120" y="1870200"/>
            <a:ext cx="1860480" cy="757440"/>
            <a:chOff x="6585120" y="1870200"/>
            <a:chExt cx="1860480" cy="757440"/>
          </a:xfrm>
        </p:grpSpPr>
        <p:sp>
          <p:nvSpPr>
            <p:cNvPr id="4725" name=""/>
            <p:cNvSpPr/>
            <p:nvPr/>
          </p:nvSpPr>
          <p:spPr>
            <a:xfrm>
              <a:off x="6585120" y="1870200"/>
              <a:ext cx="431640" cy="260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7016760" y="2130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"/>
            <p:cNvSpPr txBox="1"/>
            <p:nvPr/>
          </p:nvSpPr>
          <p:spPr>
            <a:xfrm>
              <a:off x="7162920" y="1986120"/>
              <a:ext cx="12826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in Lo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8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"/>
          <p:cNvSpPr txBox="1"/>
          <p:nvPr/>
        </p:nvSpPr>
        <p:spPr>
          <a:xfrm>
            <a:off x="6276960" y="1623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"/>
          <p:cNvSpPr txBox="1"/>
          <p:nvPr/>
        </p:nvSpPr>
        <p:spPr>
          <a:xfrm>
            <a:off x="6059520" y="2206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"/>
          <p:cNvSpPr txBox="1"/>
          <p:nvPr/>
        </p:nvSpPr>
        <p:spPr>
          <a:xfrm>
            <a:off x="5821200" y="2813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"/>
          <p:cNvSpPr txBox="1"/>
          <p:nvPr/>
        </p:nvSpPr>
        <p:spPr>
          <a:xfrm>
            <a:off x="6146640" y="31813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"/>
          <p:cNvSpPr txBox="1"/>
          <p:nvPr/>
        </p:nvSpPr>
        <p:spPr>
          <a:xfrm>
            <a:off x="2293920" y="1401840"/>
            <a:ext cx="2019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"/>
          <p:cNvSpPr/>
          <p:nvPr/>
        </p:nvSpPr>
        <p:spPr>
          <a:xfrm>
            <a:off x="4280040" y="1611360"/>
            <a:ext cx="172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"/>
          <p:cNvSpPr/>
          <p:nvPr/>
        </p:nvSpPr>
        <p:spPr>
          <a:xfrm>
            <a:off x="4452840" y="1611360"/>
            <a:ext cx="432000" cy="30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"/>
          <p:cNvSpPr txBox="1"/>
          <p:nvPr/>
        </p:nvSpPr>
        <p:spPr>
          <a:xfrm>
            <a:off x="5411880" y="4815000"/>
            <a:ext cx="2679840" cy="18352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37c03"/>
                </a:solidFill>
                <a:uFillTx/>
                <a:latin typeface="Times New Roman"/>
                <a:ea typeface="Times New Roman"/>
              </a:rPr>
              <a:t>REQUIRED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Strike, Dip, Slope Ang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rtic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pendicular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4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4745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8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1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4752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3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4754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62" name=""/>
          <p:cNvSpPr txBox="1"/>
          <p:nvPr/>
        </p:nvSpPr>
        <p:spPr>
          <a:xfrm>
            <a:off x="4502160" y="15145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"/>
          <p:cNvSpPr txBox="1"/>
          <p:nvPr/>
        </p:nvSpPr>
        <p:spPr>
          <a:xfrm>
            <a:off x="4597560" y="619200"/>
            <a:ext cx="4106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the perpendicular distance from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ge of the plane to Point 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5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4766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0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4771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3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4774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6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4777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9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4780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2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4783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5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4786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8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4789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1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4792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4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4795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7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4798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0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9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4810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2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4813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5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4816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8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4819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1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4822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4" name=""/>
          <p:cNvSpPr/>
          <p:nvPr/>
        </p:nvSpPr>
        <p:spPr>
          <a:xfrm flipH="1">
            <a:off x="5813280" y="1685880"/>
            <a:ext cx="425520" cy="117180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"/>
          <p:cNvSpPr/>
          <p:nvPr/>
        </p:nvSpPr>
        <p:spPr>
          <a:xfrm flipH="1">
            <a:off x="5376960" y="2852640"/>
            <a:ext cx="438120" cy="1209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"/>
          <p:cNvSpPr/>
          <p:nvPr/>
        </p:nvSpPr>
        <p:spPr>
          <a:xfrm flipH="1">
            <a:off x="5729400" y="1565280"/>
            <a:ext cx="971280" cy="2676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"/>
          <p:cNvSpPr/>
          <p:nvPr/>
        </p:nvSpPr>
        <p:spPr>
          <a:xfrm>
            <a:off x="5918040" y="1938240"/>
            <a:ext cx="187200" cy="1810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"/>
          <p:cNvSpPr/>
          <p:nvPr/>
        </p:nvSpPr>
        <p:spPr>
          <a:xfrm>
            <a:off x="4835520" y="1708200"/>
            <a:ext cx="1225440" cy="438120"/>
          </a:xfrm>
          <a:prstGeom prst="line">
            <a:avLst/>
          </a:prstGeom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"/>
          <p:cNvSpPr/>
          <p:nvPr/>
        </p:nvSpPr>
        <p:spPr>
          <a:xfrm flipV="1">
            <a:off x="6253200" y="1128600"/>
            <a:ext cx="201600" cy="5572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"/>
          <p:cNvSpPr/>
          <p:nvPr/>
        </p:nvSpPr>
        <p:spPr>
          <a:xfrm>
            <a:off x="6410160" y="3797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"/>
          <p:cNvSpPr/>
          <p:nvPr/>
        </p:nvSpPr>
        <p:spPr>
          <a:xfrm>
            <a:off x="5153040" y="3309840"/>
            <a:ext cx="457200" cy="177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3" name=""/>
          <p:cNvSpPr/>
          <p:nvPr/>
        </p:nvSpPr>
        <p:spPr>
          <a:xfrm>
            <a:off x="5948280" y="3614760"/>
            <a:ext cx="461880" cy="1825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"/>
          <p:cNvSpPr txBox="1"/>
          <p:nvPr/>
        </p:nvSpPr>
        <p:spPr>
          <a:xfrm>
            <a:off x="6527880" y="3606840"/>
            <a:ext cx="1612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"/>
          <p:cNvSpPr/>
          <p:nvPr/>
        </p:nvSpPr>
        <p:spPr>
          <a:xfrm>
            <a:off x="5100840" y="2584440"/>
            <a:ext cx="791280" cy="67320"/>
          </a:xfrm>
          <a:custGeom>
            <a:avLst/>
            <a:gdLst/>
            <a:ahLst/>
            <a:rect l="0" t="0" r="r" b="b"/>
            <a:pathLst>
              <a:path fill="none" w="2198" h="187">
                <a:moveTo>
                  <a:pt x="2198" y="187"/>
                </a:moveTo>
                <a:lnTo>
                  <a:pt x="2198" y="187"/>
                </a:lnTo>
                <a:cubicBezTo>
                  <a:pt x="1824" y="63"/>
                  <a:pt x="1434" y="0"/>
                  <a:pt x="1041" y="0"/>
                </a:cubicBezTo>
                <a:cubicBezTo>
                  <a:pt x="689" y="0"/>
                  <a:pt x="338" y="51"/>
                  <a:pt x="0" y="151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"/>
          <p:cNvSpPr/>
          <p:nvPr/>
        </p:nvSpPr>
        <p:spPr>
          <a:xfrm>
            <a:off x="5888880" y="2653920"/>
            <a:ext cx="495720" cy="284040"/>
          </a:xfrm>
          <a:custGeom>
            <a:avLst/>
            <a:gdLst/>
            <a:ahLst/>
            <a:rect l="0" t="0" r="r" b="b"/>
            <a:pathLst>
              <a:path fill="none" w="1377" h="789">
                <a:moveTo>
                  <a:pt x="1377" y="789"/>
                </a:moveTo>
                <a:lnTo>
                  <a:pt x="1377" y="789"/>
                </a:lnTo>
                <a:cubicBezTo>
                  <a:pt x="1183" y="614"/>
                  <a:pt x="972" y="459"/>
                  <a:pt x="746" y="328"/>
                </a:cubicBezTo>
                <a:cubicBezTo>
                  <a:pt x="510" y="192"/>
                  <a:pt x="260" y="82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"/>
          <p:cNvSpPr/>
          <p:nvPr/>
        </p:nvSpPr>
        <p:spPr>
          <a:xfrm>
            <a:off x="6380280" y="2940120"/>
            <a:ext cx="17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"/>
          <p:cNvSpPr txBox="1"/>
          <p:nvPr/>
        </p:nvSpPr>
        <p:spPr>
          <a:xfrm>
            <a:off x="6568920" y="277344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p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"/>
          <p:cNvSpPr/>
          <p:nvPr/>
        </p:nvSpPr>
        <p:spPr>
          <a:xfrm flipV="1">
            <a:off x="5127480" y="1362240"/>
            <a:ext cx="1649520" cy="43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"/>
          <p:cNvSpPr/>
          <p:nvPr/>
        </p:nvSpPr>
        <p:spPr>
          <a:xfrm>
            <a:off x="6799320" y="1362240"/>
            <a:ext cx="19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"/>
          <p:cNvSpPr txBox="1"/>
          <p:nvPr/>
        </p:nvSpPr>
        <p:spPr>
          <a:xfrm>
            <a:off x="7031160" y="1154160"/>
            <a:ext cx="1454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pend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3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4" name=""/>
          <p:cNvGrpSpPr/>
          <p:nvPr/>
        </p:nvGrpSpPr>
        <p:grpSpPr>
          <a:xfrm>
            <a:off x="6585120" y="1870200"/>
            <a:ext cx="1860480" cy="757440"/>
            <a:chOff x="6585120" y="1870200"/>
            <a:chExt cx="1860480" cy="757440"/>
          </a:xfrm>
        </p:grpSpPr>
        <p:sp>
          <p:nvSpPr>
            <p:cNvPr id="4845" name=""/>
            <p:cNvSpPr/>
            <p:nvPr/>
          </p:nvSpPr>
          <p:spPr>
            <a:xfrm>
              <a:off x="6585120" y="1870200"/>
              <a:ext cx="431640" cy="260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7016760" y="2130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"/>
            <p:cNvSpPr txBox="1"/>
            <p:nvPr/>
          </p:nvSpPr>
          <p:spPr>
            <a:xfrm>
              <a:off x="7162920" y="1986120"/>
              <a:ext cx="12826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in Lo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8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"/>
          <p:cNvSpPr txBox="1"/>
          <p:nvPr/>
        </p:nvSpPr>
        <p:spPr>
          <a:xfrm>
            <a:off x="6276960" y="1623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"/>
          <p:cNvSpPr txBox="1"/>
          <p:nvPr/>
        </p:nvSpPr>
        <p:spPr>
          <a:xfrm>
            <a:off x="6059520" y="2206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5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"/>
          <p:cNvSpPr txBox="1"/>
          <p:nvPr/>
        </p:nvSpPr>
        <p:spPr>
          <a:xfrm>
            <a:off x="5821200" y="2813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"/>
          <p:cNvSpPr txBox="1"/>
          <p:nvPr/>
        </p:nvSpPr>
        <p:spPr>
          <a:xfrm>
            <a:off x="6146640" y="31813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"/>
          <p:cNvSpPr txBox="1"/>
          <p:nvPr/>
        </p:nvSpPr>
        <p:spPr>
          <a:xfrm>
            <a:off x="2293920" y="1401840"/>
            <a:ext cx="2019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"/>
          <p:cNvSpPr/>
          <p:nvPr/>
        </p:nvSpPr>
        <p:spPr>
          <a:xfrm>
            <a:off x="4280040" y="1611360"/>
            <a:ext cx="172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"/>
          <p:cNvSpPr/>
          <p:nvPr/>
        </p:nvSpPr>
        <p:spPr>
          <a:xfrm>
            <a:off x="4452840" y="1611360"/>
            <a:ext cx="432000" cy="30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3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4864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7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9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0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4871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2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4873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81" name=""/>
          <p:cNvSpPr txBox="1"/>
          <p:nvPr/>
        </p:nvSpPr>
        <p:spPr>
          <a:xfrm>
            <a:off x="4502160" y="15145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2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3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4884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8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4889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1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4892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4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4895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7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4898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0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4901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3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4904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6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4907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9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4910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2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4913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5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4916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8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0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1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2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3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5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6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7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4928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0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4931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3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4934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6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4937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9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4940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2" name=""/>
          <p:cNvSpPr/>
          <p:nvPr/>
        </p:nvSpPr>
        <p:spPr>
          <a:xfrm flipH="1">
            <a:off x="5813280" y="1685880"/>
            <a:ext cx="425520" cy="117180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"/>
          <p:cNvSpPr/>
          <p:nvPr/>
        </p:nvSpPr>
        <p:spPr>
          <a:xfrm flipH="1">
            <a:off x="5376960" y="2852640"/>
            <a:ext cx="438120" cy="1209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"/>
          <p:cNvSpPr/>
          <p:nvPr/>
        </p:nvSpPr>
        <p:spPr>
          <a:xfrm flipH="1">
            <a:off x="5729400" y="1565280"/>
            <a:ext cx="971280" cy="2676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6" name=""/>
          <p:cNvSpPr/>
          <p:nvPr/>
        </p:nvSpPr>
        <p:spPr>
          <a:xfrm>
            <a:off x="5918040" y="1938240"/>
            <a:ext cx="187200" cy="1810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7" name=""/>
          <p:cNvSpPr/>
          <p:nvPr/>
        </p:nvSpPr>
        <p:spPr>
          <a:xfrm>
            <a:off x="4835520" y="1708200"/>
            <a:ext cx="1225440" cy="438120"/>
          </a:xfrm>
          <a:prstGeom prst="line">
            <a:avLst/>
          </a:prstGeom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"/>
          <p:cNvSpPr/>
          <p:nvPr/>
        </p:nvSpPr>
        <p:spPr>
          <a:xfrm flipV="1">
            <a:off x="6253200" y="1128600"/>
            <a:ext cx="201600" cy="5572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9" name=""/>
          <p:cNvSpPr/>
          <p:nvPr/>
        </p:nvSpPr>
        <p:spPr>
          <a:xfrm>
            <a:off x="6410160" y="3797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0" name=""/>
          <p:cNvSpPr/>
          <p:nvPr/>
        </p:nvSpPr>
        <p:spPr>
          <a:xfrm>
            <a:off x="5153040" y="3309840"/>
            <a:ext cx="457200" cy="177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1" name=""/>
          <p:cNvSpPr/>
          <p:nvPr/>
        </p:nvSpPr>
        <p:spPr>
          <a:xfrm>
            <a:off x="5948280" y="3614760"/>
            <a:ext cx="461880" cy="1825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2" name=""/>
          <p:cNvSpPr txBox="1"/>
          <p:nvPr/>
        </p:nvSpPr>
        <p:spPr>
          <a:xfrm>
            <a:off x="6527880" y="3606840"/>
            <a:ext cx="1612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"/>
          <p:cNvSpPr/>
          <p:nvPr/>
        </p:nvSpPr>
        <p:spPr>
          <a:xfrm>
            <a:off x="5100840" y="2584440"/>
            <a:ext cx="791280" cy="67320"/>
          </a:xfrm>
          <a:custGeom>
            <a:avLst/>
            <a:gdLst/>
            <a:ahLst/>
            <a:rect l="0" t="0" r="r" b="b"/>
            <a:pathLst>
              <a:path fill="none" w="2198" h="187">
                <a:moveTo>
                  <a:pt x="2198" y="187"/>
                </a:moveTo>
                <a:lnTo>
                  <a:pt x="2198" y="187"/>
                </a:lnTo>
                <a:cubicBezTo>
                  <a:pt x="1824" y="63"/>
                  <a:pt x="1434" y="0"/>
                  <a:pt x="1041" y="0"/>
                </a:cubicBezTo>
                <a:cubicBezTo>
                  <a:pt x="689" y="0"/>
                  <a:pt x="338" y="51"/>
                  <a:pt x="0" y="151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4" name=""/>
          <p:cNvSpPr/>
          <p:nvPr/>
        </p:nvSpPr>
        <p:spPr>
          <a:xfrm>
            <a:off x="5888880" y="2653920"/>
            <a:ext cx="495720" cy="284040"/>
          </a:xfrm>
          <a:custGeom>
            <a:avLst/>
            <a:gdLst/>
            <a:ahLst/>
            <a:rect l="0" t="0" r="r" b="b"/>
            <a:pathLst>
              <a:path fill="none" w="1377" h="789">
                <a:moveTo>
                  <a:pt x="1377" y="789"/>
                </a:moveTo>
                <a:lnTo>
                  <a:pt x="1377" y="789"/>
                </a:lnTo>
                <a:cubicBezTo>
                  <a:pt x="1183" y="614"/>
                  <a:pt x="972" y="459"/>
                  <a:pt x="746" y="328"/>
                </a:cubicBezTo>
                <a:cubicBezTo>
                  <a:pt x="510" y="192"/>
                  <a:pt x="260" y="82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"/>
          <p:cNvSpPr/>
          <p:nvPr/>
        </p:nvSpPr>
        <p:spPr>
          <a:xfrm>
            <a:off x="6380280" y="2940120"/>
            <a:ext cx="17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"/>
          <p:cNvSpPr txBox="1"/>
          <p:nvPr/>
        </p:nvSpPr>
        <p:spPr>
          <a:xfrm>
            <a:off x="6568920" y="277344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p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8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9" name=""/>
          <p:cNvGrpSpPr/>
          <p:nvPr/>
        </p:nvGrpSpPr>
        <p:grpSpPr>
          <a:xfrm>
            <a:off x="6585120" y="1870200"/>
            <a:ext cx="1860480" cy="757440"/>
            <a:chOff x="6585120" y="1870200"/>
            <a:chExt cx="1860480" cy="757440"/>
          </a:xfrm>
        </p:grpSpPr>
        <p:sp>
          <p:nvSpPr>
            <p:cNvPr id="4960" name=""/>
            <p:cNvSpPr/>
            <p:nvPr/>
          </p:nvSpPr>
          <p:spPr>
            <a:xfrm>
              <a:off x="6585120" y="1870200"/>
              <a:ext cx="431640" cy="260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7016760" y="2130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"/>
            <p:cNvSpPr txBox="1"/>
            <p:nvPr/>
          </p:nvSpPr>
          <p:spPr>
            <a:xfrm>
              <a:off x="7162920" y="1986120"/>
              <a:ext cx="12826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in Lo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3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4" name=""/>
          <p:cNvSpPr txBox="1"/>
          <p:nvPr/>
        </p:nvSpPr>
        <p:spPr>
          <a:xfrm>
            <a:off x="6276960" y="1623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6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7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8" name=""/>
          <p:cNvSpPr txBox="1"/>
          <p:nvPr/>
        </p:nvSpPr>
        <p:spPr>
          <a:xfrm>
            <a:off x="6059520" y="2206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9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0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1" name=""/>
          <p:cNvSpPr txBox="1"/>
          <p:nvPr/>
        </p:nvSpPr>
        <p:spPr>
          <a:xfrm>
            <a:off x="5821200" y="2813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2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3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4" name=""/>
          <p:cNvSpPr txBox="1"/>
          <p:nvPr/>
        </p:nvSpPr>
        <p:spPr>
          <a:xfrm>
            <a:off x="6146640" y="31813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"/>
          <p:cNvSpPr txBox="1"/>
          <p:nvPr/>
        </p:nvSpPr>
        <p:spPr>
          <a:xfrm>
            <a:off x="2293920" y="1401840"/>
            <a:ext cx="2019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6" name=""/>
          <p:cNvSpPr/>
          <p:nvPr/>
        </p:nvSpPr>
        <p:spPr>
          <a:xfrm>
            <a:off x="4280040" y="1611360"/>
            <a:ext cx="172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7" name=""/>
          <p:cNvSpPr/>
          <p:nvPr/>
        </p:nvSpPr>
        <p:spPr>
          <a:xfrm>
            <a:off x="4452840" y="1611360"/>
            <a:ext cx="432000" cy="30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5411880" y="4815000"/>
            <a:ext cx="2679840" cy="18352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37c03"/>
                </a:solidFill>
                <a:uFillTx/>
                <a:latin typeface="Times New Roman"/>
                <a:ea typeface="Times New Roman"/>
              </a:rPr>
              <a:t>REQUIRED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Strike, Dip, Slope Ang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tic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Perpendicular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9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4980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3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4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5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6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4987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8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4989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97" name=""/>
          <p:cNvSpPr txBox="1"/>
          <p:nvPr/>
        </p:nvSpPr>
        <p:spPr>
          <a:xfrm>
            <a:off x="4502160" y="15145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8" name=""/>
          <p:cNvSpPr txBox="1"/>
          <p:nvPr/>
        </p:nvSpPr>
        <p:spPr>
          <a:xfrm>
            <a:off x="5929200" y="4013280"/>
            <a:ext cx="27288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the vertical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Point A to the v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9" name=""/>
          <p:cNvSpPr/>
          <p:nvPr/>
        </p:nvSpPr>
        <p:spPr>
          <a:xfrm flipV="1">
            <a:off x="5127480" y="1362240"/>
            <a:ext cx="1649520" cy="43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0" name=""/>
          <p:cNvSpPr/>
          <p:nvPr/>
        </p:nvSpPr>
        <p:spPr>
          <a:xfrm>
            <a:off x="6799320" y="1362240"/>
            <a:ext cx="19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1" name=""/>
          <p:cNvSpPr txBox="1"/>
          <p:nvPr/>
        </p:nvSpPr>
        <p:spPr>
          <a:xfrm>
            <a:off x="7031160" y="1154160"/>
            <a:ext cx="1454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pend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3" name=""/>
          <p:cNvGrpSpPr/>
          <p:nvPr/>
        </p:nvGrpSpPr>
        <p:grpSpPr>
          <a:xfrm>
            <a:off x="1790640" y="4800600"/>
            <a:ext cx="3295800" cy="0"/>
            <a:chOff x="1790640" y="4800600"/>
            <a:chExt cx="3295800" cy="0"/>
          </a:xfrm>
        </p:grpSpPr>
        <p:sp>
          <p:nvSpPr>
            <p:cNvPr id="5004" name=""/>
            <p:cNvSpPr/>
            <p:nvPr/>
          </p:nvSpPr>
          <p:spPr>
            <a:xfrm>
              <a:off x="1790640" y="4800600"/>
              <a:ext cx="110484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30290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3257640" y="4800600"/>
              <a:ext cx="114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3505320" y="4800600"/>
              <a:ext cx="1581120" cy="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8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5009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1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5012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4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5015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7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5018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0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5021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3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5024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6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5027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9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5030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2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5033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5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5036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8" name=""/>
          <p:cNvSpPr/>
          <p:nvPr/>
        </p:nvSpPr>
        <p:spPr>
          <a:xfrm>
            <a:off x="2305080" y="282888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9" name=""/>
          <p:cNvSpPr/>
          <p:nvPr/>
        </p:nvSpPr>
        <p:spPr>
          <a:xfrm>
            <a:off x="2514600" y="25052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0" name=""/>
          <p:cNvSpPr/>
          <p:nvPr/>
        </p:nvSpPr>
        <p:spPr>
          <a:xfrm>
            <a:off x="2800440" y="389556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1" name=""/>
          <p:cNvSpPr/>
          <p:nvPr/>
        </p:nvSpPr>
        <p:spPr>
          <a:xfrm>
            <a:off x="4114800" y="3000240"/>
            <a:ext cx="0" cy="27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2" name=""/>
          <p:cNvSpPr/>
          <p:nvPr/>
        </p:nvSpPr>
        <p:spPr>
          <a:xfrm>
            <a:off x="4610160" y="3800520"/>
            <a:ext cx="0" cy="17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3" name=""/>
          <p:cNvSpPr/>
          <p:nvPr/>
        </p:nvSpPr>
        <p:spPr>
          <a:xfrm flipH="1">
            <a:off x="2305080" y="5838840"/>
            <a:ext cx="1809720" cy="3427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4" name=""/>
          <p:cNvSpPr/>
          <p:nvPr/>
        </p:nvSpPr>
        <p:spPr>
          <a:xfrm flipV="1">
            <a:off x="2305080" y="5477040"/>
            <a:ext cx="495360" cy="7045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5" name=""/>
          <p:cNvSpPr/>
          <p:nvPr/>
        </p:nvSpPr>
        <p:spPr>
          <a:xfrm>
            <a:off x="2305080" y="2733840"/>
            <a:ext cx="1809720" cy="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6" name=""/>
          <p:cNvSpPr/>
          <p:nvPr/>
        </p:nvSpPr>
        <p:spPr>
          <a:xfrm flipH="1" flipV="1">
            <a:off x="2305080" y="2733840"/>
            <a:ext cx="495360" cy="93312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7" name=""/>
          <p:cNvGrpSpPr/>
          <p:nvPr/>
        </p:nvGrpSpPr>
        <p:grpSpPr>
          <a:xfrm>
            <a:off x="4767120" y="1643040"/>
            <a:ext cx="147960" cy="136440"/>
            <a:chOff x="4767120" y="1643040"/>
            <a:chExt cx="147960" cy="136440"/>
          </a:xfrm>
        </p:grpSpPr>
        <p:sp>
          <p:nvSpPr>
            <p:cNvPr id="5048" name=""/>
            <p:cNvSpPr/>
            <p:nvPr/>
          </p:nvSpPr>
          <p:spPr>
            <a:xfrm>
              <a:off x="4842000" y="164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4767120" y="17114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0" name=""/>
          <p:cNvGrpSpPr/>
          <p:nvPr/>
        </p:nvGrpSpPr>
        <p:grpSpPr>
          <a:xfrm>
            <a:off x="6164280" y="1619280"/>
            <a:ext cx="147600" cy="136440"/>
            <a:chOff x="6164280" y="1619280"/>
            <a:chExt cx="147600" cy="136440"/>
          </a:xfrm>
        </p:grpSpPr>
        <p:sp>
          <p:nvSpPr>
            <p:cNvPr id="5051" name=""/>
            <p:cNvSpPr/>
            <p:nvPr/>
          </p:nvSpPr>
          <p:spPr>
            <a:xfrm>
              <a:off x="6238800" y="1619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6164280" y="16876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3" name=""/>
          <p:cNvGrpSpPr/>
          <p:nvPr/>
        </p:nvGrpSpPr>
        <p:grpSpPr>
          <a:xfrm>
            <a:off x="5967360" y="2151000"/>
            <a:ext cx="147600" cy="136440"/>
            <a:chOff x="5967360" y="2151000"/>
            <a:chExt cx="147600" cy="136440"/>
          </a:xfrm>
        </p:grpSpPr>
        <p:sp>
          <p:nvSpPr>
            <p:cNvPr id="5054" name=""/>
            <p:cNvSpPr/>
            <p:nvPr/>
          </p:nvSpPr>
          <p:spPr>
            <a:xfrm>
              <a:off x="6041880" y="21510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5967360" y="2219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6" name=""/>
          <p:cNvGrpSpPr/>
          <p:nvPr/>
        </p:nvGrpSpPr>
        <p:grpSpPr>
          <a:xfrm>
            <a:off x="5738760" y="2787480"/>
            <a:ext cx="147600" cy="136800"/>
            <a:chOff x="5738760" y="2787480"/>
            <a:chExt cx="147600" cy="136800"/>
          </a:xfrm>
        </p:grpSpPr>
        <p:sp>
          <p:nvSpPr>
            <p:cNvPr id="5057" name=""/>
            <p:cNvSpPr/>
            <p:nvPr/>
          </p:nvSpPr>
          <p:spPr>
            <a:xfrm>
              <a:off x="5813280" y="27874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5738760" y="2855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9" name=""/>
          <p:cNvGrpSpPr/>
          <p:nvPr/>
        </p:nvGrpSpPr>
        <p:grpSpPr>
          <a:xfrm>
            <a:off x="6049800" y="3083040"/>
            <a:ext cx="147960" cy="136440"/>
            <a:chOff x="6049800" y="3083040"/>
            <a:chExt cx="147960" cy="136440"/>
          </a:xfrm>
        </p:grpSpPr>
        <p:sp>
          <p:nvSpPr>
            <p:cNvPr id="5060" name=""/>
            <p:cNvSpPr/>
            <p:nvPr/>
          </p:nvSpPr>
          <p:spPr>
            <a:xfrm>
              <a:off x="6124680" y="30830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6049800" y="31510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2" name=""/>
          <p:cNvSpPr/>
          <p:nvPr/>
        </p:nvSpPr>
        <p:spPr>
          <a:xfrm flipH="1">
            <a:off x="5813280" y="1685880"/>
            <a:ext cx="425520" cy="1171800"/>
          </a:xfrm>
          <a:prstGeom prst="line">
            <a:avLst/>
          </a:prstGeom>
          <a:ln w="2556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3" name=""/>
          <p:cNvSpPr/>
          <p:nvPr/>
        </p:nvSpPr>
        <p:spPr>
          <a:xfrm>
            <a:off x="4838760" y="1697040"/>
            <a:ext cx="598320" cy="2233440"/>
          </a:xfrm>
          <a:prstGeom prst="line">
            <a:avLst/>
          </a:prstGeom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4" name=""/>
          <p:cNvSpPr/>
          <p:nvPr/>
        </p:nvSpPr>
        <p:spPr>
          <a:xfrm flipH="1">
            <a:off x="5376960" y="2852640"/>
            <a:ext cx="438120" cy="1209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5" name=""/>
          <p:cNvSpPr/>
          <p:nvPr/>
        </p:nvSpPr>
        <p:spPr>
          <a:xfrm flipH="1">
            <a:off x="5729400" y="1565280"/>
            <a:ext cx="971280" cy="267660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6" name=""/>
          <p:cNvSpPr/>
          <p:nvPr/>
        </p:nvSpPr>
        <p:spPr>
          <a:xfrm>
            <a:off x="5918040" y="1938240"/>
            <a:ext cx="187200" cy="1810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7" name=""/>
          <p:cNvSpPr/>
          <p:nvPr/>
        </p:nvSpPr>
        <p:spPr>
          <a:xfrm flipV="1">
            <a:off x="4915080" y="1298520"/>
            <a:ext cx="1474560" cy="390600"/>
          </a:xfrm>
          <a:prstGeom prst="line">
            <a:avLst/>
          </a:prstGeom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8" name=""/>
          <p:cNvSpPr/>
          <p:nvPr/>
        </p:nvSpPr>
        <p:spPr>
          <a:xfrm>
            <a:off x="4835520" y="1708200"/>
            <a:ext cx="1225440" cy="438120"/>
          </a:xfrm>
          <a:prstGeom prst="line">
            <a:avLst/>
          </a:prstGeom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9" name=""/>
          <p:cNvSpPr/>
          <p:nvPr/>
        </p:nvSpPr>
        <p:spPr>
          <a:xfrm flipV="1">
            <a:off x="6253200" y="1128600"/>
            <a:ext cx="201600" cy="55728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0" name=""/>
          <p:cNvSpPr/>
          <p:nvPr/>
        </p:nvSpPr>
        <p:spPr>
          <a:xfrm>
            <a:off x="6410160" y="3797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"/>
          <p:cNvSpPr/>
          <p:nvPr/>
        </p:nvSpPr>
        <p:spPr>
          <a:xfrm>
            <a:off x="5153040" y="3309840"/>
            <a:ext cx="457200" cy="177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2" name=""/>
          <p:cNvSpPr/>
          <p:nvPr/>
        </p:nvSpPr>
        <p:spPr>
          <a:xfrm>
            <a:off x="5948280" y="3614760"/>
            <a:ext cx="461880" cy="1825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"/>
          <p:cNvSpPr txBox="1"/>
          <p:nvPr/>
        </p:nvSpPr>
        <p:spPr>
          <a:xfrm>
            <a:off x="6527880" y="3606840"/>
            <a:ext cx="1612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"/>
          <p:cNvSpPr/>
          <p:nvPr/>
        </p:nvSpPr>
        <p:spPr>
          <a:xfrm>
            <a:off x="5100840" y="2584440"/>
            <a:ext cx="791280" cy="67320"/>
          </a:xfrm>
          <a:custGeom>
            <a:avLst/>
            <a:gdLst/>
            <a:ahLst/>
            <a:rect l="0" t="0" r="r" b="b"/>
            <a:pathLst>
              <a:path fill="none" w="2198" h="187">
                <a:moveTo>
                  <a:pt x="2198" y="187"/>
                </a:moveTo>
                <a:lnTo>
                  <a:pt x="2198" y="187"/>
                </a:lnTo>
                <a:cubicBezTo>
                  <a:pt x="1824" y="63"/>
                  <a:pt x="1434" y="0"/>
                  <a:pt x="1041" y="0"/>
                </a:cubicBezTo>
                <a:cubicBezTo>
                  <a:pt x="689" y="0"/>
                  <a:pt x="338" y="51"/>
                  <a:pt x="0" y="151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"/>
          <p:cNvSpPr/>
          <p:nvPr/>
        </p:nvSpPr>
        <p:spPr>
          <a:xfrm>
            <a:off x="5888880" y="2653920"/>
            <a:ext cx="495720" cy="284040"/>
          </a:xfrm>
          <a:custGeom>
            <a:avLst/>
            <a:gdLst/>
            <a:ahLst/>
            <a:rect l="0" t="0" r="r" b="b"/>
            <a:pathLst>
              <a:path fill="none" w="1377" h="789">
                <a:moveTo>
                  <a:pt x="1377" y="789"/>
                </a:moveTo>
                <a:lnTo>
                  <a:pt x="1377" y="789"/>
                </a:lnTo>
                <a:cubicBezTo>
                  <a:pt x="1183" y="614"/>
                  <a:pt x="972" y="459"/>
                  <a:pt x="746" y="328"/>
                </a:cubicBezTo>
                <a:cubicBezTo>
                  <a:pt x="510" y="192"/>
                  <a:pt x="260" y="82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"/>
          <p:cNvSpPr/>
          <p:nvPr/>
        </p:nvSpPr>
        <p:spPr>
          <a:xfrm>
            <a:off x="6380280" y="2940120"/>
            <a:ext cx="17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"/>
          <p:cNvSpPr txBox="1"/>
          <p:nvPr/>
        </p:nvSpPr>
        <p:spPr>
          <a:xfrm>
            <a:off x="6568920" y="277344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p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0" name=""/>
          <p:cNvGrpSpPr/>
          <p:nvPr/>
        </p:nvGrpSpPr>
        <p:grpSpPr>
          <a:xfrm>
            <a:off x="6585120" y="1870200"/>
            <a:ext cx="1860480" cy="757440"/>
            <a:chOff x="6585120" y="1870200"/>
            <a:chExt cx="1860480" cy="757440"/>
          </a:xfrm>
        </p:grpSpPr>
        <p:sp>
          <p:nvSpPr>
            <p:cNvPr id="5081" name=""/>
            <p:cNvSpPr/>
            <p:nvPr/>
          </p:nvSpPr>
          <p:spPr>
            <a:xfrm>
              <a:off x="6585120" y="1870200"/>
              <a:ext cx="431640" cy="260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7016760" y="2130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"/>
            <p:cNvSpPr txBox="1"/>
            <p:nvPr/>
          </p:nvSpPr>
          <p:spPr>
            <a:xfrm>
              <a:off x="7162920" y="1986120"/>
              <a:ext cx="12826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in Lo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4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5" name=""/>
          <p:cNvSpPr txBox="1"/>
          <p:nvPr/>
        </p:nvSpPr>
        <p:spPr>
          <a:xfrm>
            <a:off x="6276960" y="1623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6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9" name=""/>
          <p:cNvSpPr txBox="1"/>
          <p:nvPr/>
        </p:nvSpPr>
        <p:spPr>
          <a:xfrm>
            <a:off x="6059520" y="22068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"/>
          <p:cNvSpPr txBox="1"/>
          <p:nvPr/>
        </p:nvSpPr>
        <p:spPr>
          <a:xfrm>
            <a:off x="5821200" y="2813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4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"/>
          <p:cNvSpPr txBox="1"/>
          <p:nvPr/>
        </p:nvSpPr>
        <p:spPr>
          <a:xfrm>
            <a:off x="6146640" y="31813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"/>
          <p:cNvSpPr txBox="1"/>
          <p:nvPr/>
        </p:nvSpPr>
        <p:spPr>
          <a:xfrm>
            <a:off x="5000760" y="708120"/>
            <a:ext cx="1727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"/>
          <p:cNvSpPr/>
          <p:nvPr/>
        </p:nvSpPr>
        <p:spPr>
          <a:xfrm flipH="1">
            <a:off x="4897440" y="89676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"/>
          <p:cNvSpPr/>
          <p:nvPr/>
        </p:nvSpPr>
        <p:spPr>
          <a:xfrm>
            <a:off x="4897440" y="896760"/>
            <a:ext cx="627120" cy="627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"/>
          <p:cNvSpPr txBox="1"/>
          <p:nvPr/>
        </p:nvSpPr>
        <p:spPr>
          <a:xfrm>
            <a:off x="2293920" y="1401840"/>
            <a:ext cx="2019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"/>
          <p:cNvSpPr/>
          <p:nvPr/>
        </p:nvSpPr>
        <p:spPr>
          <a:xfrm>
            <a:off x="4280040" y="1611360"/>
            <a:ext cx="172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"/>
          <p:cNvSpPr/>
          <p:nvPr/>
        </p:nvSpPr>
        <p:spPr>
          <a:xfrm>
            <a:off x="4452840" y="1611360"/>
            <a:ext cx="432000" cy="30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2" name=""/>
          <p:cNvSpPr txBox="1"/>
          <p:nvPr/>
        </p:nvSpPr>
        <p:spPr>
          <a:xfrm>
            <a:off x="5411880" y="4815000"/>
            <a:ext cx="2679840" cy="18352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37c03"/>
                </a:solidFill>
                <a:uFillTx/>
                <a:latin typeface="Times New Roman"/>
                <a:ea typeface="Times New Roman"/>
              </a:rPr>
              <a:t>REQUIRED</a:t>
            </a: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Strike, Dip, Slope Ang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Horizont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tic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Perpendicular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37c03"/>
                </a:solidFill>
                <a:latin typeface="Times New Roman"/>
                <a:ea typeface="Times New Roman"/>
              </a:rPr>
              <a:t>Vein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3" name=""/>
          <p:cNvGrpSpPr/>
          <p:nvPr/>
        </p:nvGrpSpPr>
        <p:grpSpPr>
          <a:xfrm>
            <a:off x="4610160" y="874800"/>
            <a:ext cx="201600" cy="750960"/>
            <a:chOff x="4610160" y="874800"/>
            <a:chExt cx="201600" cy="750960"/>
          </a:xfrm>
        </p:grpSpPr>
        <p:sp>
          <p:nvSpPr>
            <p:cNvPr id="5104" name=""/>
            <p:cNvSpPr/>
            <p:nvPr/>
          </p:nvSpPr>
          <p:spPr>
            <a:xfrm>
              <a:off x="4610160" y="874800"/>
              <a:ext cx="115920" cy="43344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4738680" y="1352520"/>
              <a:ext cx="28440" cy="10656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4781520" y="1509840"/>
              <a:ext cx="30240" cy="115920"/>
            </a:xfrm>
            <a:prstGeom prst="line">
              <a:avLst/>
            </a:prstGeom>
            <a:ln w="12600">
              <a:solidFill>
                <a:srgbClr val="010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7" name=""/>
          <p:cNvSpPr/>
          <p:nvPr/>
        </p:nvSpPr>
        <p:spPr>
          <a:xfrm flipH="1" flipV="1">
            <a:off x="5540400" y="4351320"/>
            <a:ext cx="92160" cy="3351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8" name=""/>
          <p:cNvSpPr/>
          <p:nvPr/>
        </p:nvSpPr>
        <p:spPr>
          <a:xfrm flipH="1" flipV="1">
            <a:off x="5499000" y="4200480"/>
            <a:ext cx="28800" cy="10656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9" name=""/>
          <p:cNvSpPr/>
          <p:nvPr/>
        </p:nvSpPr>
        <p:spPr>
          <a:xfrm flipH="1" flipV="1">
            <a:off x="5454720" y="4033800"/>
            <a:ext cx="30240" cy="115920"/>
          </a:xfrm>
          <a:prstGeom prst="line">
            <a:avLst/>
          </a:prstGeom>
          <a:ln w="12600">
            <a:solidFill>
              <a:srgbClr val="010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0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5111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2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5113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21" name=""/>
          <p:cNvSpPr txBox="1"/>
          <p:nvPr/>
        </p:nvSpPr>
        <p:spPr>
          <a:xfrm>
            <a:off x="4502160" y="15145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"/>
          <p:cNvSpPr/>
          <p:nvPr/>
        </p:nvSpPr>
        <p:spPr>
          <a:xfrm flipV="1">
            <a:off x="5127480" y="1362240"/>
            <a:ext cx="1649520" cy="43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"/>
          <p:cNvSpPr/>
          <p:nvPr/>
        </p:nvSpPr>
        <p:spPr>
          <a:xfrm>
            <a:off x="6799320" y="1362240"/>
            <a:ext cx="19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4" name=""/>
          <p:cNvSpPr txBox="1"/>
          <p:nvPr/>
        </p:nvSpPr>
        <p:spPr>
          <a:xfrm>
            <a:off x="7031160" y="1154160"/>
            <a:ext cx="1454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pend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140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142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"/>
          <p:cNvSpPr txBox="1"/>
          <p:nvPr/>
        </p:nvSpPr>
        <p:spPr>
          <a:xfrm>
            <a:off x="2406600" y="1981080"/>
            <a:ext cx="6051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cation of the defining points is provided in the frontal vie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154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157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160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163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166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169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172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175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178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181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194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196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85800" y="160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nce to 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440080" y="2273400"/>
            <a:ext cx="147600" cy="136440"/>
            <a:chOff x="2440080" y="2273400"/>
            <a:chExt cx="147600" cy="136440"/>
          </a:xfrm>
        </p:grpSpPr>
        <p:sp>
          <p:nvSpPr>
            <p:cNvPr id="206" name=""/>
            <p:cNvSpPr/>
            <p:nvPr/>
          </p:nvSpPr>
          <p:spPr>
            <a:xfrm>
              <a:off x="2514600" y="2273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40080" y="23414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230560" y="2666880"/>
            <a:ext cx="147600" cy="136800"/>
            <a:chOff x="2230560" y="2666880"/>
            <a:chExt cx="147600" cy="136800"/>
          </a:xfrm>
        </p:grpSpPr>
        <p:sp>
          <p:nvSpPr>
            <p:cNvPr id="209" name=""/>
            <p:cNvSpPr/>
            <p:nvPr/>
          </p:nvSpPr>
          <p:spPr>
            <a:xfrm>
              <a:off x="230508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3056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725560" y="3606840"/>
            <a:ext cx="147960" cy="136440"/>
            <a:chOff x="2725560" y="3606840"/>
            <a:chExt cx="147960" cy="136440"/>
          </a:xfrm>
        </p:grpSpPr>
        <p:sp>
          <p:nvSpPr>
            <p:cNvPr id="212" name=""/>
            <p:cNvSpPr/>
            <p:nvPr/>
          </p:nvSpPr>
          <p:spPr>
            <a:xfrm>
              <a:off x="2800440" y="360684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25560" y="36752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040280" y="2666880"/>
            <a:ext cx="147600" cy="136800"/>
            <a:chOff x="4040280" y="2666880"/>
            <a:chExt cx="147600" cy="136800"/>
          </a:xfrm>
        </p:grpSpPr>
        <p:sp>
          <p:nvSpPr>
            <p:cNvPr id="215" name=""/>
            <p:cNvSpPr/>
            <p:nvPr/>
          </p:nvSpPr>
          <p:spPr>
            <a:xfrm>
              <a:off x="4114800" y="266688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40280" y="27352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440080" y="4730760"/>
            <a:ext cx="147600" cy="136440"/>
            <a:chOff x="2440080" y="4730760"/>
            <a:chExt cx="147600" cy="136440"/>
          </a:xfrm>
        </p:grpSpPr>
        <p:sp>
          <p:nvSpPr>
            <p:cNvPr id="218" name=""/>
            <p:cNvSpPr/>
            <p:nvPr/>
          </p:nvSpPr>
          <p:spPr>
            <a:xfrm>
              <a:off x="2514600" y="47307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40080" y="47991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725560" y="5397480"/>
            <a:ext cx="147960" cy="136440"/>
            <a:chOff x="2725560" y="5397480"/>
            <a:chExt cx="147960" cy="136440"/>
          </a:xfrm>
        </p:grpSpPr>
        <p:sp>
          <p:nvSpPr>
            <p:cNvPr id="221" name=""/>
            <p:cNvSpPr/>
            <p:nvPr/>
          </p:nvSpPr>
          <p:spPr>
            <a:xfrm>
              <a:off x="2800440" y="53974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25560" y="54658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230560" y="6102360"/>
            <a:ext cx="147600" cy="136440"/>
            <a:chOff x="2230560" y="6102360"/>
            <a:chExt cx="147600" cy="136440"/>
          </a:xfrm>
        </p:grpSpPr>
        <p:sp>
          <p:nvSpPr>
            <p:cNvPr id="224" name=""/>
            <p:cNvSpPr/>
            <p:nvPr/>
          </p:nvSpPr>
          <p:spPr>
            <a:xfrm>
              <a:off x="2305080" y="6102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30560" y="617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535640" y="5626080"/>
            <a:ext cx="147600" cy="136440"/>
            <a:chOff x="4535640" y="5626080"/>
            <a:chExt cx="147600" cy="136440"/>
          </a:xfrm>
        </p:grpSpPr>
        <p:sp>
          <p:nvSpPr>
            <p:cNvPr id="227" name=""/>
            <p:cNvSpPr/>
            <p:nvPr/>
          </p:nvSpPr>
          <p:spPr>
            <a:xfrm>
              <a:off x="4610160" y="56260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35640" y="56944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535640" y="3492360"/>
            <a:ext cx="147600" cy="136800"/>
            <a:chOff x="4535640" y="3492360"/>
            <a:chExt cx="147600" cy="136800"/>
          </a:xfrm>
        </p:grpSpPr>
        <p:sp>
          <p:nvSpPr>
            <p:cNvPr id="230" name=""/>
            <p:cNvSpPr/>
            <p:nvPr/>
          </p:nvSpPr>
          <p:spPr>
            <a:xfrm>
              <a:off x="4610160" y="3492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35640" y="3560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040280" y="5778360"/>
            <a:ext cx="147600" cy="136800"/>
            <a:chOff x="4040280" y="5778360"/>
            <a:chExt cx="147600" cy="136800"/>
          </a:xfrm>
        </p:grpSpPr>
        <p:sp>
          <p:nvSpPr>
            <p:cNvPr id="233" name=""/>
            <p:cNvSpPr/>
            <p:nvPr/>
          </p:nvSpPr>
          <p:spPr>
            <a:xfrm>
              <a:off x="4114800" y="577836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40280" y="584676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 txBox="1"/>
          <p:nvPr/>
        </p:nvSpPr>
        <p:spPr>
          <a:xfrm>
            <a:off x="2228760" y="20559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260440" y="47689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033640" y="26845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992240" y="5997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95560" y="24670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95560" y="5540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52760" y="36799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532240" y="532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653000" y="564984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30680" y="357192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14400" y="1262160"/>
            <a:ext cx="785880" cy="2035080"/>
            <a:chOff x="914400" y="1262160"/>
            <a:chExt cx="785880" cy="2035080"/>
          </a:xfrm>
        </p:grpSpPr>
        <p:sp>
          <p:nvSpPr>
            <p:cNvPr id="246" name=""/>
            <p:cNvSpPr txBox="1"/>
            <p:nvPr/>
          </p:nvSpPr>
          <p:spPr>
            <a:xfrm>
              <a:off x="914400" y="126216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1230480" y="1876320"/>
              <a:ext cx="469800" cy="1420920"/>
              <a:chOff x="1230480" y="1876320"/>
              <a:chExt cx="469800" cy="1420920"/>
            </a:xfrm>
          </p:grpSpPr>
          <p:sp>
            <p:nvSpPr>
              <p:cNvPr id="248" name=""/>
              <p:cNvSpPr/>
              <p:nvPr/>
            </p:nvSpPr>
            <p:spPr>
              <a:xfrm>
                <a:off x="1230480" y="1881360"/>
                <a:ext cx="469800" cy="13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30480" y="1876320"/>
                <a:ext cx="18396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1349280" y="2219400"/>
                <a:ext cx="6516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1571760" y="2952720"/>
                <a:ext cx="21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571760" y="3041640"/>
                <a:ext cx="8712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1652760" y="3193920"/>
                <a:ext cx="2376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374840" y="243216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338120" y="2468520"/>
                <a:ext cx="2034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Max Raisor</dc:creator>
  <dc:description/>
  <dc:language>en-US</dc:language>
  <cp:lastModifiedBy>E. Max Raisor</cp:lastModifiedBy>
  <cp:revision>0</cp:revision>
  <dc:subject>Distance to a plane, plus</dc:subject>
  <dc:title>Distance to a plane (Descript)</dc:title>
</cp:coreProperties>
</file>